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10026650" cy="1330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208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54760" y="6568920"/>
            <a:ext cx="363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宋体"/>
              </a:rPr>
              <a:t>Introduction to Embedd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esource Management - III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ecture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Deadlock Under BIP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operties of Basic Priority Inheritance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re will be no deadlock if there is no nested locks, or application level deadlock avoidance scheme such the ordering of resource is us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ined priority is fact of life. But a task is blocked at most by n lower priority tasks sharing resources with it, when there is no deadloc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riority inheritance protocol is supported in POSIX real time exten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easy to imp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supported by not only most RT OS vendors but also OS/2, Windows 95, Windows CE, AIX, HP/UX and Solar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iority Ceiling Protocol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priority cei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s assigned to each mutex, which is equal to the highest priority task that may use this mutex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task can lock a mutex if and only if its priority is higher than the priority ceilings of all mutexes locked by other task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a task is blocked by a lower priority task, the lower priority task inherits its prior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Blocked by At Most One Critical Section (PCP)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3152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Deadlock Avoidance: Using PCP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7958160" cy="45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 Sample Problem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39116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ample Problem: Using BIP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667640" cy="5173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486400" y="1600200"/>
            <a:ext cx="457200" cy="4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006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47545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chedulability Model Using BIP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oncepts and Definition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periodic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uns at irregular interva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periodic deadlin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ard, minimum inter­arrival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oft, best average respon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poradic Server (SS)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 provide on­demand service to aperiodic events, we can allocate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udget periodic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 A periodic event can execute as long as there is budget lef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deled as periodic tas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xed execution budget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plenishment interval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ority is based on T, just like periodic task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plenishment occurs one “period” after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u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Previou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we have learned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mbedded real time systems are an important class of proble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ey concepts in real time comput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ow to analyze the schedulability of independent periodic tas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(Dealing with transient 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Handling context-switching overh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 Sample Problem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62012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ample Problems: Aperiodic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mergency Server (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ecution Budget, C = 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plenish Interval, T= 5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l Aperiodic Server (GS) Design guidelin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ive it as high a priority as possible and as much “tickets” as possible, without causing regular periodic tasks to miss deadlin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ecution Budget, C = 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plenish Interval, T = 1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 and queuing theory using M/M/1 approximation indicate that the average response time is ~2 ms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e have review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basic concepts of real time compu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basics of GRMS theo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dependent tas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ynchroniz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eriodic tas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dditional Result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 networks, distributed scheduling decision must be made with incomplete information and yet the distributed decisions are coherent 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ossless communication of scheduling messages, distributed queue consistency, bounded priority inversion, and preemption contro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rom a software engineering perspective, software structures dealing with timing must be separated with construct dealing with functional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 deal with re­engineering, real time scheduling abstraction layer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rapp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are need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ld software packages and network hardware behavior can be made to look as if they are designed to support R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ecommended Study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) Use your schedulability program to verify that all the periodic tasks are still schedulable after adding the two sporadic task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) Study the slides on how to model interrupts and how to implement period transform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) Try to apply RMA to your lab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Implementing Period Transformation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call that period transformation is a useful technique to ensur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ability under transient overlo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mprove system schedulab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ut it is undesirable to slice up the program c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00"/>
                </a:solidFill>
                <a:latin typeface="Times New Roman"/>
                <a:ea typeface="宋体"/>
              </a:rPr>
              <a:t>Thou shalt separate timing concerns from functional concern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or example, a task with period T and exception time C, can be transformed into a sporadic task with a budget C/2 and periodic T/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is transparent to the applicati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the excep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Modeling Interrupt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hardware interrupt can have higher priority than softwa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an interrupt service routine, R, is used to capture data for longer period task, it will still preempt the execution of shorter period task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rom the perspective of RMA, the time spent in R is a form of priority inversion. Thus, we can add R into the blocking time from an analysis perspect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ry to do as little as possible in the interrupt handling rout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or example, if you need to capture data and filter it, do </a:t>
            </a:r>
            <a:r>
              <a:rPr b="0" i="1" lang="en-US" sz="1800" spc="-1" strike="noStrike">
                <a:solidFill>
                  <a:srgbClr val="990000"/>
                </a:solidFill>
                <a:latin typeface="Times New Roman"/>
                <a:ea typeface="宋体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do the data filtering within the interrupt rout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nchronization in real-tim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ority 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nbounded priority 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otocols to bound priority 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asic priority inheritance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iority ceiling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aling with Aperiodic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poradic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lving our example problem comple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arly dead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verage respons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Quote of the Day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560" y="2152800"/>
            <a:ext cx="6019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you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y achieving your goals is not as important as what you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ec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y achieving your go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宋体"/>
              </a:rPr>
              <a:t>Zig Zig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Outline of Lectures on Real-Time Systems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ctur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asic Definitions in Real-Tim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ctur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l time systems and yo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undamental concep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n Introduction to Rate-Monotonic Analysis: independent tas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cture 3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n Introduction to 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MA can be used to analyze ANY fixed-priority scheduling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ask synchronization and Aperiod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umm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iority Inversion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eally, under prioritized preemptive scheduling, higher priority tasks shoul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mmediat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reempt lower priority task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lower priority tasks cause higher priority tasks to wait (e.g. the locking of shared data),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priority inver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s said to occu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 seems reasonable to expected that the duration of priority inversion (also called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blocking 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should be a function of the duration of the critical sec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Critical 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duration of a task using a shared resour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Unbounded Priority Inversion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Basic Priority Inheritance Protocol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t the lower priority tas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use the highest priority of the higher priority tasks it blocks. In this way, the medium priority tasks can no longer preempt low priority tas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which has blocked the higher priority task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Priority inheritance is transi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A blocks B and B blocks C, A should execute at the priority of max(B,C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Basic Priority Inheritance Protocol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152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hained Blocking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7533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5:10:06Z</dcterms:created>
  <dc:creator>Raj Rajkumar</dc:creator>
  <dc:description/>
  <dc:language>en-US</dc:language>
  <cp:lastModifiedBy>jcao3</cp:lastModifiedBy>
  <cp:lastPrinted>2000-04-12T15:43:11Z</cp:lastPrinted>
  <dcterms:modified xsi:type="dcterms:W3CDTF">2004-08-29T17:07:12Z</dcterms:modified>
  <cp:revision>185</cp:revision>
  <dc:subject/>
  <dc:title>Introduction to Embedded Systems</dc:title>
</cp:coreProperties>
</file>