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54760" y="6568920"/>
            <a:ext cx="363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宋体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RM Exception Handling and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oftWare Interrupts (SWI)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宋体"/>
              </a:rPr>
              <a:t>Lecture #4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RM Processor Modes (of interest to us)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Use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: the “normal” program execution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RQ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: used for general-purpose interrupt handl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uperviso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: a protected mode for the operating system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there are also Abort, FIQ and Undef mo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e ARM Register Se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egisters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宋体"/>
              </a:rPr>
              <a:t>R0-R15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+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宋体"/>
              </a:rPr>
              <a:t>CPS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(Current Program Status Register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Stack Pointer (by conven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Link Register (hardwi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Program Counter where bits 0:1 are ignored (hardwi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erminology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e terms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exceptio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and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are often confused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Exceptio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usually refers to an internal CPU event such a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loating point overfl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MU fault (e.g., page faul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rap (SWI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rup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usually refers to an external I/O event such a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 device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 the ARM architecture manuals, the two terms </a:t>
            </a: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ar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mixed togeth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hat do SWIs do?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WIs (often called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oftware trap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) allow a user program to “call” the OS ­­ that is, SWIs are how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ystem call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are implemented.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en SWIs execute, the processor changes modes (from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Use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to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uperviso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mode on the ARM) and disables interrupts.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ypes of SWIs in ARM Angel (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axd or armsd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WI_WriteC(SWI 0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Write a byte to the debug chann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WI_Write0(SWI 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Write the null­terminated string to debug chann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WI_ReadC(SWI 4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a byte from the debug chann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WI_Exit(SWI 0x1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alt emulation ­ this is how a program exi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WI_EnterOS(SWI 0x16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ut the processor in supervisor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WI_Clock(SWI 0x6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 the number of centi­seco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WI_Time(SWI 0x63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turn the number of secs since Jan. 1, 197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ead more in Chapter 17 of the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JumpStart Reference Manua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e Recommended Rea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hat Happens on an </a:t>
            </a:r>
            <a:r>
              <a:rPr b="0" lang="en-US" sz="3600" spc="-1" strike="noStrike">
                <a:solidFill>
                  <a:srgbClr val="990000"/>
                </a:solidFill>
                <a:latin typeface="Courier New"/>
                <a:ea typeface="宋体"/>
              </a:rPr>
              <a:t>SWI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? (1)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0010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e ARM architecture defines a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Vector Tabl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indexed by exception typ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ne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SWI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, CPU does the following: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PC &lt;­­0x08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lso, sets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LR_svc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,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SPSR_svc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,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CPS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(supervisor mode, </a:t>
            </a: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  <a:ea typeface="宋体"/>
              </a:rPr>
              <a:t>no IRQ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01640" y="3104640"/>
            <a:ext cx="1549440" cy="1027440"/>
            <a:chOff x="701640" y="3104640"/>
            <a:chExt cx="1549440" cy="1027440"/>
          </a:xfrm>
        </p:grpSpPr>
        <p:sp>
          <p:nvSpPr>
            <p:cNvPr id="190" name=""/>
            <p:cNvSpPr/>
            <p:nvPr/>
          </p:nvSpPr>
          <p:spPr>
            <a:xfrm>
              <a:off x="701640" y="3419280"/>
              <a:ext cx="1549440" cy="71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ADD  r0,r0,r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WI  0x1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UB  r2,r2,r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720" y="3104640"/>
              <a:ext cx="144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SER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802960" y="2693520"/>
            <a:ext cx="3812760" cy="2301840"/>
            <a:chOff x="2802960" y="2693520"/>
            <a:chExt cx="3812760" cy="2301840"/>
          </a:xfrm>
        </p:grpSpPr>
        <p:sp>
          <p:nvSpPr>
            <p:cNvPr id="193" name=""/>
            <p:cNvSpPr/>
            <p:nvPr/>
          </p:nvSpPr>
          <p:spPr>
            <a:xfrm>
              <a:off x="3379680" y="3193920"/>
              <a:ext cx="1443960" cy="179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R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U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S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P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D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..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I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F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18880" y="2693520"/>
              <a:ext cx="2487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ector Table 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pring bo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rting at 0x00 in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2960" y="3189960"/>
              <a:ext cx="6073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8240" y="3196440"/>
              <a:ext cx="18874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Undef instr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SW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Prefetch abo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Data abo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Reserv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IR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FI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850080" y="3333240"/>
            <a:ext cx="1643040" cy="2283120"/>
            <a:chOff x="6850080" y="3333240"/>
            <a:chExt cx="1643040" cy="2283120"/>
          </a:xfrm>
        </p:grpSpPr>
        <p:sp>
          <p:nvSpPr>
            <p:cNvPr id="198" name=""/>
            <p:cNvSpPr/>
            <p:nvPr/>
          </p:nvSpPr>
          <p:spPr>
            <a:xfrm>
              <a:off x="6850080" y="3649320"/>
              <a:ext cx="1643040" cy="196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73920" y="3333240"/>
              <a:ext cx="125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WI Hand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757520" y="3778200"/>
            <a:ext cx="1079280" cy="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94240" y="3753000"/>
            <a:ext cx="1373400" cy="1080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5486400"/>
            <a:ext cx="0" cy="91440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80880" y="6400800"/>
            <a:ext cx="73152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80880" y="3962160"/>
            <a:ext cx="0" cy="24382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3984480"/>
            <a:ext cx="381240" cy="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43480" y="129852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5200" y="351648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hat Happens on an </a:t>
            </a:r>
            <a:r>
              <a:rPr b="0" lang="en-US" sz="3600" spc="-1" strike="noStrike">
                <a:solidFill>
                  <a:srgbClr val="990000"/>
                </a:solidFill>
                <a:latin typeface="Courier New"/>
                <a:ea typeface="宋体"/>
              </a:rPr>
              <a:t>SWI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? (2)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Not enough space in the table (only one instruction per entry) to hold all of the code for the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SWI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handler function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is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n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instruction must transfer control to appropriate SWI Handler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everal options are presented in the next slid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01640" y="3104640"/>
            <a:ext cx="1549440" cy="1027440"/>
            <a:chOff x="701640" y="3104640"/>
            <a:chExt cx="1549440" cy="1027440"/>
          </a:xfrm>
        </p:grpSpPr>
        <p:sp>
          <p:nvSpPr>
            <p:cNvPr id="211" name=""/>
            <p:cNvSpPr/>
            <p:nvPr/>
          </p:nvSpPr>
          <p:spPr>
            <a:xfrm>
              <a:off x="701640" y="3419280"/>
              <a:ext cx="1549440" cy="71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ADD  r0,r0,r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WI  0x1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UB  r2,r2,r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7720" y="3104640"/>
              <a:ext cx="144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SER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02960" y="2693520"/>
            <a:ext cx="3812760" cy="2301840"/>
            <a:chOff x="2802960" y="2693520"/>
            <a:chExt cx="3812760" cy="2301840"/>
          </a:xfrm>
        </p:grpSpPr>
        <p:sp>
          <p:nvSpPr>
            <p:cNvPr id="214" name=""/>
            <p:cNvSpPr/>
            <p:nvPr/>
          </p:nvSpPr>
          <p:spPr>
            <a:xfrm>
              <a:off x="3379680" y="3193920"/>
              <a:ext cx="1443960" cy="179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R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U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S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P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D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..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I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F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18880" y="2693520"/>
              <a:ext cx="2487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ector Table 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pring bo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rting at 0x00 in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02960" y="3189960"/>
              <a:ext cx="6073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28240" y="3196440"/>
              <a:ext cx="18874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Undef instr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SW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Prefetch abo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Data abo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Reserv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IR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FI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850080" y="3333240"/>
            <a:ext cx="1643040" cy="2283120"/>
            <a:chOff x="6850080" y="3333240"/>
            <a:chExt cx="1643040" cy="2283120"/>
          </a:xfrm>
        </p:grpSpPr>
        <p:sp>
          <p:nvSpPr>
            <p:cNvPr id="219" name=""/>
            <p:cNvSpPr/>
            <p:nvPr/>
          </p:nvSpPr>
          <p:spPr>
            <a:xfrm>
              <a:off x="6850080" y="3649320"/>
              <a:ext cx="1643040" cy="196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73920" y="3333240"/>
              <a:ext cx="125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WI Hand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757520" y="3778200"/>
            <a:ext cx="1079280" cy="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394240" y="3753000"/>
            <a:ext cx="1373400" cy="1080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5486400"/>
            <a:ext cx="0" cy="91440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80880" y="6400800"/>
            <a:ext cx="73152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80880" y="3962160"/>
            <a:ext cx="0" cy="24382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3984480"/>
            <a:ext cx="381240" cy="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5480" y="348444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18440" y="154944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“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Vectoring” Exceptions to Handler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ption of choic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: Load PC from jump table (shown below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nother option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: Direct branch (limited range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63560" y="2603160"/>
            <a:ext cx="1549440" cy="1027440"/>
            <a:chOff x="763560" y="2603160"/>
            <a:chExt cx="1549440" cy="1027440"/>
          </a:xfrm>
        </p:grpSpPr>
        <p:sp>
          <p:nvSpPr>
            <p:cNvPr id="232" name=""/>
            <p:cNvSpPr/>
            <p:nvPr/>
          </p:nvSpPr>
          <p:spPr>
            <a:xfrm>
              <a:off x="763560" y="2917800"/>
              <a:ext cx="1549440" cy="71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ADD  r0,r0,r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WI  0x1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UB  r2,r2,r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09640" y="2603160"/>
              <a:ext cx="144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SER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441600" y="2692440"/>
            <a:ext cx="1946520" cy="179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 pc, pc, 0x1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 pc, pc, 0x1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 pc, pc, 0x1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 pc, pc, 0x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 pc, pc, 0x1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 pc, pc, 0x1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 pc, pc, 0x1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 pc, pc, 0x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59000" y="2192040"/>
            <a:ext cx="2487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Vector Table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pring bo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tarting at 0x00 i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64880" y="2688120"/>
            <a:ext cx="607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0x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0x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0x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0x0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0x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0x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0x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0x1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12000" y="3147840"/>
            <a:ext cx="1643040" cy="196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480" y="2598840"/>
            <a:ext cx="14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WI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_Handl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19440" y="3276720"/>
            <a:ext cx="1079280" cy="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456160" y="3250800"/>
            <a:ext cx="1373400" cy="11160"/>
          </a:xfrm>
          <a:prstGeom prst="line">
            <a:avLst/>
          </a:prstGeom>
          <a:ln cap="rnd" w="19080">
            <a:solidFill>
              <a:srgbClr val="00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58000" y="4984920"/>
            <a:ext cx="0" cy="134460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2800" y="6329520"/>
            <a:ext cx="73152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42800" y="3460320"/>
            <a:ext cx="0" cy="287820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2800" y="3483000"/>
            <a:ext cx="381240" cy="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7400" y="298296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175560" y="4862160"/>
            <a:ext cx="2070360" cy="1382040"/>
            <a:chOff x="3175560" y="4862160"/>
            <a:chExt cx="2070360" cy="1382040"/>
          </a:xfrm>
        </p:grpSpPr>
        <p:sp>
          <p:nvSpPr>
            <p:cNvPr id="247" name=""/>
            <p:cNvSpPr/>
            <p:nvPr/>
          </p:nvSpPr>
          <p:spPr>
            <a:xfrm>
              <a:off x="3946320" y="5154840"/>
              <a:ext cx="1287720" cy="100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&amp;A_Handl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&amp;U_Handl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&amp;S_Handl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&amp;P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32640" y="4862160"/>
              <a:ext cx="131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Jump”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75560" y="5084640"/>
              <a:ext cx="714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0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637160" y="4573440"/>
            <a:ext cx="0" cy="29376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129280" y="3308040"/>
            <a:ext cx="1673280" cy="234468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77720" y="5510880"/>
            <a:ext cx="1747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Why 0x1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hat Happens on </a:t>
            </a:r>
            <a:r>
              <a:rPr b="0" lang="en-US" sz="3600" spc="-1" strike="noStrike">
                <a:solidFill>
                  <a:srgbClr val="990000"/>
                </a:solidFill>
                <a:latin typeface="Courier New"/>
                <a:ea typeface="宋体"/>
              </a:rPr>
              <a:t>SWI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Completion?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Vectoring to the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S_Handle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starts executing the SWI handler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en the handler is done, it returns to the program ­­ at the instruction following the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SWI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MOV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restores the original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CPSR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as well as changing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01640" y="3104640"/>
            <a:ext cx="1549440" cy="1027440"/>
            <a:chOff x="701640" y="3104640"/>
            <a:chExt cx="1549440" cy="1027440"/>
          </a:xfrm>
        </p:grpSpPr>
        <p:sp>
          <p:nvSpPr>
            <p:cNvPr id="256" name=""/>
            <p:cNvSpPr/>
            <p:nvPr/>
          </p:nvSpPr>
          <p:spPr>
            <a:xfrm>
              <a:off x="701640" y="3419280"/>
              <a:ext cx="1549440" cy="71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ADD  r0,r0,r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WI  0x1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UB  r2,r2,r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7720" y="3104640"/>
              <a:ext cx="144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SER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802960" y="2693520"/>
            <a:ext cx="3812760" cy="2301840"/>
            <a:chOff x="2802960" y="2693520"/>
            <a:chExt cx="3812760" cy="2301840"/>
          </a:xfrm>
        </p:grpSpPr>
        <p:sp>
          <p:nvSpPr>
            <p:cNvPr id="259" name=""/>
            <p:cNvSpPr/>
            <p:nvPr/>
          </p:nvSpPr>
          <p:spPr>
            <a:xfrm>
              <a:off x="3379680" y="3193920"/>
              <a:ext cx="1443960" cy="179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R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U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S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P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D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..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I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F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18880" y="2693520"/>
              <a:ext cx="2487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ector Table 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pring bo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rting at 0x00 in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02960" y="3189960"/>
              <a:ext cx="6073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8240" y="3196440"/>
              <a:ext cx="18874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Undef instr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SW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Prefetch abo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Data abo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Reserv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IR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FI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850080" y="3649680"/>
            <a:ext cx="1643040" cy="196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57520" y="3778200"/>
            <a:ext cx="1079280" cy="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94240" y="3753000"/>
            <a:ext cx="1373400" cy="1080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96080" y="5486400"/>
            <a:ext cx="0" cy="91440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80880" y="6400800"/>
            <a:ext cx="73152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80880" y="3962160"/>
            <a:ext cx="0" cy="24382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3984480"/>
            <a:ext cx="381240" cy="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61000" y="522432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92920" y="5172120"/>
            <a:ext cx="15494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OVS  pc, 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91200" y="189720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70320" y="3051000"/>
            <a:ext cx="14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WI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_Handl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How Do We Determine the SWI number?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</a:rPr>
              <a:t>All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  <a:ea typeface="宋体"/>
              </a:rPr>
              <a:t>SWI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s go to 0x08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701640" y="3104640"/>
            <a:ext cx="1549440" cy="1027440"/>
            <a:chOff x="701640" y="3104640"/>
            <a:chExt cx="1549440" cy="1027440"/>
          </a:xfrm>
        </p:grpSpPr>
        <p:sp>
          <p:nvSpPr>
            <p:cNvPr id="277" name=""/>
            <p:cNvSpPr/>
            <p:nvPr/>
          </p:nvSpPr>
          <p:spPr>
            <a:xfrm>
              <a:off x="701640" y="3419280"/>
              <a:ext cx="1549440" cy="71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ADD  r0,r0,r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WI  0x</a:t>
              </a:r>
              <a:r>
                <a:rPr b="1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UB  r2,r2,r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7720" y="3104640"/>
              <a:ext cx="144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SER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802960" y="2693520"/>
            <a:ext cx="3812760" cy="2301840"/>
            <a:chOff x="2802960" y="2693520"/>
            <a:chExt cx="3812760" cy="2301840"/>
          </a:xfrm>
        </p:grpSpPr>
        <p:sp>
          <p:nvSpPr>
            <p:cNvPr id="280" name=""/>
            <p:cNvSpPr/>
            <p:nvPr/>
          </p:nvSpPr>
          <p:spPr>
            <a:xfrm>
              <a:off x="3379680" y="3193920"/>
              <a:ext cx="1443960" cy="179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R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U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S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P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D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..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I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F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18880" y="2693520"/>
              <a:ext cx="2487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ector Table 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pring bo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rting at 0x00 in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02960" y="3189960"/>
              <a:ext cx="6073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28240" y="3196440"/>
              <a:ext cx="18874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Undef instr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SW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Prefetch abo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Data abo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Reserv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IR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FI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850080" y="3649680"/>
            <a:ext cx="1643040" cy="196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WI Handler mu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rve a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le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ou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for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W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87480" y="3778200"/>
            <a:ext cx="949320" cy="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394240" y="3753000"/>
            <a:ext cx="1373400" cy="1080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96080" y="5486400"/>
            <a:ext cx="0" cy="91440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80880" y="6400800"/>
            <a:ext cx="73152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80880" y="3962160"/>
            <a:ext cx="0" cy="24382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3984480"/>
            <a:ext cx="381240" cy="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92920" y="5172120"/>
            <a:ext cx="15494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OVS  pc, 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70320" y="3051000"/>
            <a:ext cx="14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WI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_Handl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48120" y="3048120"/>
            <a:ext cx="441936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4-bit “comment” field (ignored by process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76212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 1 1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urier New"/>
                <a:ea typeface="宋体"/>
              </a:rPr>
              <a:t>SWI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Instruction Format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Example: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SWI 0x18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3048120"/>
            <a:ext cx="76212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40320" y="2742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66400" y="274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37800" y="274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10760" y="274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449000" y="274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2160" y="274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88600" y="434232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SWI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952880" y="3504960"/>
            <a:ext cx="0" cy="6858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0100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urier New"/>
                <a:ea typeface="宋体"/>
              </a:rPr>
              <a:t>SWI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Handler Uses the “Comment” Field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1560" y="753840"/>
            <a:ext cx="510552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n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SWI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, the processo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74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1) copi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PS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PSR_SV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2) set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PS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mode bits to supervisor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3) sets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PSR IR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o dis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4) stores the value 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C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 in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R_SV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5) for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0x0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77960" y="3104640"/>
            <a:ext cx="1549440" cy="1027440"/>
            <a:chOff x="777960" y="3104640"/>
            <a:chExt cx="1549440" cy="1027440"/>
          </a:xfrm>
        </p:grpSpPr>
        <p:sp>
          <p:nvSpPr>
            <p:cNvPr id="309" name=""/>
            <p:cNvSpPr/>
            <p:nvPr/>
          </p:nvSpPr>
          <p:spPr>
            <a:xfrm>
              <a:off x="777960" y="3419280"/>
              <a:ext cx="1549440" cy="71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ADD  r0,r0,r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WI  0x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UB  r2,r2,r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24040" y="3104640"/>
              <a:ext cx="144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SER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879280" y="2693520"/>
            <a:ext cx="3812760" cy="2301840"/>
            <a:chOff x="2879280" y="2693520"/>
            <a:chExt cx="3812760" cy="2301840"/>
          </a:xfrm>
        </p:grpSpPr>
        <p:sp>
          <p:nvSpPr>
            <p:cNvPr id="312" name=""/>
            <p:cNvSpPr/>
            <p:nvPr/>
          </p:nvSpPr>
          <p:spPr>
            <a:xfrm>
              <a:off x="3456000" y="3193920"/>
              <a:ext cx="1443960" cy="179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R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U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S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P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D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..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I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F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95200" y="2693520"/>
              <a:ext cx="2487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ector Table 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pring bo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rting at 0x00 in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79280" y="3189960"/>
              <a:ext cx="6073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04560" y="3196440"/>
              <a:ext cx="18874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Undef instr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SW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Prefetch abo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Data abo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Reserv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IR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FI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6621480" y="3649680"/>
            <a:ext cx="2362320" cy="196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 r0,[lr,#­4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IC r0,r0,#0xff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宋体"/>
              </a:rPr>
              <a:t>R0 holds SWI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74960" y="3768840"/>
            <a:ext cx="938160" cy="9360"/>
          </a:xfrm>
          <a:prstGeom prst="line">
            <a:avLst/>
          </a:prstGeom>
          <a:ln cap="rnd" w="19080">
            <a:solidFill>
              <a:srgbClr val="00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470560" y="3754440"/>
            <a:ext cx="1150920" cy="936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72400" y="5486400"/>
            <a:ext cx="0" cy="91440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57200" y="6400800"/>
            <a:ext cx="73152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57200" y="3962160"/>
            <a:ext cx="0" cy="24382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3984480"/>
            <a:ext cx="380880" cy="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21480" y="5173560"/>
            <a:ext cx="1549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OVS  pc, 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10000" y="3040200"/>
            <a:ext cx="14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WI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_Handl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211400" y="1363320"/>
            <a:ext cx="304560" cy="2438280"/>
          </a:xfrm>
          <a:prstGeom prst="line">
            <a:avLst/>
          </a:prstGeom>
          <a:ln w="1908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06680" y="2658960"/>
            <a:ext cx="380880" cy="1067040"/>
          </a:xfrm>
          <a:prstGeom prst="line">
            <a:avLst/>
          </a:prstGeom>
          <a:ln w="1908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859360" y="1515960"/>
            <a:ext cx="3047760" cy="304920"/>
            <a:chOff x="5859360" y="1515960"/>
            <a:chExt cx="3047760" cy="304920"/>
          </a:xfrm>
        </p:grpSpPr>
        <p:sp>
          <p:nvSpPr>
            <p:cNvPr id="328" name=""/>
            <p:cNvSpPr/>
            <p:nvPr/>
          </p:nvSpPr>
          <p:spPr>
            <a:xfrm>
              <a:off x="6640560" y="1515960"/>
              <a:ext cx="22665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4-bit “comment” field (ignored by processo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49960" y="1515960"/>
              <a:ext cx="39060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1 1 1 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59360" y="1515960"/>
              <a:ext cx="39060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co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ecommended Readings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8080" y="92376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ections 5.1-5.4 (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Exception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) of the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RM Developer Guid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hapter 12 (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mplementing SWI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) of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Jumpstart Programming Techniqu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hapters 17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RM Demon Routines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f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Jumpstart Reference Manua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4720" y="436608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Catch up on your readin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0100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Use The </a:t>
            </a:r>
            <a:r>
              <a:rPr b="0" lang="en-US" sz="3200" spc="-1" strike="noStrike">
                <a:solidFill>
                  <a:srgbClr val="990000"/>
                </a:solidFill>
                <a:latin typeface="Courier New"/>
                <a:ea typeface="宋体"/>
              </a:rPr>
              <a:t>SWI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 # to Jump to “Service Routine”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717480"/>
            <a:ext cx="51055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n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SWI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, the processo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1) copi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PS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PSR_SV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2) set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PS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mode bits to supervisor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3) sets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PSR IR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o dis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4) stores the value 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C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 in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R_SV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5) for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0x0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85880" y="3068280"/>
            <a:ext cx="1549440" cy="1027440"/>
            <a:chOff x="785880" y="3068280"/>
            <a:chExt cx="1549440" cy="1027440"/>
          </a:xfrm>
        </p:grpSpPr>
        <p:sp>
          <p:nvSpPr>
            <p:cNvPr id="334" name=""/>
            <p:cNvSpPr/>
            <p:nvPr/>
          </p:nvSpPr>
          <p:spPr>
            <a:xfrm>
              <a:off x="785880" y="3382920"/>
              <a:ext cx="1549440" cy="71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ADD  r0,r0,r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WI  0x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UB  r2,r2,r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1960" y="3068280"/>
              <a:ext cx="144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SER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887200" y="2656800"/>
            <a:ext cx="3812760" cy="2301840"/>
            <a:chOff x="2887200" y="2656800"/>
            <a:chExt cx="3812760" cy="2301840"/>
          </a:xfrm>
        </p:grpSpPr>
        <p:sp>
          <p:nvSpPr>
            <p:cNvPr id="337" name=""/>
            <p:cNvSpPr/>
            <p:nvPr/>
          </p:nvSpPr>
          <p:spPr>
            <a:xfrm>
              <a:off x="3463920" y="3157200"/>
              <a:ext cx="1443960" cy="1798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R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U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S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P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D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..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I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F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3120" y="2656800"/>
              <a:ext cx="2487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ector Table 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pring bo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rting at 0x00 in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87200" y="3153240"/>
              <a:ext cx="6073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12480" y="3159720"/>
              <a:ext cx="18874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Undef instr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SW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Prefetch abo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Data abo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Reserv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IR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FI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629400" y="3613320"/>
            <a:ext cx="2362320" cy="19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 r0,[lr,#­4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IC r0,r0,#0xff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c3300"/>
                </a:solidFill>
                <a:latin typeface="Courier New"/>
                <a:ea typeface="宋体"/>
              </a:rPr>
              <a:t>switch (r0){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c3300"/>
                </a:solidFill>
                <a:latin typeface="Courier New"/>
                <a:ea typeface="宋体"/>
              </a:rPr>
              <a:t>case 0x00: service_SWI1()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c3300"/>
                </a:solidFill>
                <a:latin typeface="Courier New"/>
                <a:ea typeface="宋体"/>
              </a:rPr>
              <a:t>case 0x01: service_SWI2()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c3300"/>
                </a:solidFill>
                <a:latin typeface="Courier New"/>
                <a:ea typeface="宋体"/>
              </a:rPr>
              <a:t>case 0x02: service_SWI3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c3300"/>
                </a:solidFill>
                <a:latin typeface="Courier New"/>
                <a:ea typeface="宋体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cc3300"/>
                </a:solidFill>
                <a:latin typeface="Courier New"/>
                <a:ea typeface="宋体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41400" y="3741840"/>
            <a:ext cx="1079640" cy="0"/>
          </a:xfrm>
          <a:prstGeom prst="line">
            <a:avLst/>
          </a:prstGeom>
          <a:ln cap="rnd" w="19080">
            <a:solidFill>
              <a:srgbClr val="00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478480" y="3718080"/>
            <a:ext cx="1150920" cy="936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80320" y="5450040"/>
            <a:ext cx="0" cy="91440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65120" y="6364440"/>
            <a:ext cx="73152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65120" y="3925800"/>
            <a:ext cx="0" cy="24386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5120" y="3948120"/>
            <a:ext cx="380880" cy="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29400" y="5137200"/>
            <a:ext cx="1549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OVS  pc, 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117920" y="3003480"/>
            <a:ext cx="14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WI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_Handl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219320" y="1326960"/>
            <a:ext cx="304560" cy="2438280"/>
          </a:xfrm>
          <a:prstGeom prst="line">
            <a:avLst/>
          </a:prstGeom>
          <a:ln w="1908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14600" y="2622600"/>
            <a:ext cx="380880" cy="1066680"/>
          </a:xfrm>
          <a:prstGeom prst="line">
            <a:avLst/>
          </a:prstGeom>
          <a:ln w="1908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867280" y="1479600"/>
            <a:ext cx="3047760" cy="304920"/>
            <a:chOff x="5867280" y="1479600"/>
            <a:chExt cx="3047760" cy="304920"/>
          </a:xfrm>
        </p:grpSpPr>
        <p:sp>
          <p:nvSpPr>
            <p:cNvPr id="353" name=""/>
            <p:cNvSpPr/>
            <p:nvPr/>
          </p:nvSpPr>
          <p:spPr>
            <a:xfrm>
              <a:off x="6648480" y="1479600"/>
              <a:ext cx="22665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4-bit “comment” field (ignored by processo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57880" y="1479600"/>
              <a:ext cx="39060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1 1 1 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7280" y="1479600"/>
              <a:ext cx="39060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co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0100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roblem with The Current Handler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709560"/>
            <a:ext cx="49532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n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SWI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, the processo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1) copi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PS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PSR_SV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2) set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PS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mode bits to supervisor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3) sets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PSR IR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o dis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4) stores the value 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C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 in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R_SV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5) for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0x0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85880" y="3060360"/>
            <a:ext cx="1549440" cy="1027440"/>
            <a:chOff x="785880" y="3060360"/>
            <a:chExt cx="1549440" cy="1027440"/>
          </a:xfrm>
        </p:grpSpPr>
        <p:sp>
          <p:nvSpPr>
            <p:cNvPr id="359" name=""/>
            <p:cNvSpPr/>
            <p:nvPr/>
          </p:nvSpPr>
          <p:spPr>
            <a:xfrm>
              <a:off x="785880" y="3375000"/>
              <a:ext cx="1549440" cy="71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ADD  r0,r0,r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WI  0x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UB  r2,r2,r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31960" y="3060360"/>
              <a:ext cx="144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SER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887200" y="2648880"/>
            <a:ext cx="3812760" cy="2301840"/>
            <a:chOff x="2887200" y="2648880"/>
            <a:chExt cx="3812760" cy="2301840"/>
          </a:xfrm>
        </p:grpSpPr>
        <p:sp>
          <p:nvSpPr>
            <p:cNvPr id="362" name=""/>
            <p:cNvSpPr/>
            <p:nvPr/>
          </p:nvSpPr>
          <p:spPr>
            <a:xfrm>
              <a:off x="3463920" y="3149280"/>
              <a:ext cx="1443960" cy="1798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R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U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S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P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D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..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I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to F_Hand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03120" y="2648880"/>
              <a:ext cx="24879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ector Table 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pring bo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tarting at 0x00 in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87200" y="3145320"/>
              <a:ext cx="6073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0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0x1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12480" y="3151800"/>
              <a:ext cx="18874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Undef instr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SW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Prefetch abo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Data abo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Reserv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IR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(FI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6629400" y="3605040"/>
            <a:ext cx="2362320" cy="196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DR r0,[lr,#­4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IC r0,r0,#0xff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  <a:ea typeface="宋体"/>
              </a:rPr>
              <a:t>switch (r0){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  <a:ea typeface="宋体"/>
              </a:rPr>
              <a:t>case 0x00: service_SWI1()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  <a:ea typeface="宋体"/>
              </a:rPr>
              <a:t>case 0x01: service_SWI2()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  <a:ea typeface="宋体"/>
              </a:rPr>
              <a:t>case 0x02: service_SWI3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  <a:ea typeface="宋体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17720" y="3733920"/>
            <a:ext cx="1003320" cy="0"/>
          </a:xfrm>
          <a:prstGeom prst="line">
            <a:avLst/>
          </a:prstGeom>
          <a:ln cap="rnd" w="19080">
            <a:solidFill>
              <a:srgbClr val="00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478480" y="3710160"/>
            <a:ext cx="1150920" cy="936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780320" y="5442120"/>
            <a:ext cx="0" cy="91440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65120" y="6356520"/>
            <a:ext cx="73152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65120" y="3917880"/>
            <a:ext cx="0" cy="24386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120" y="3940200"/>
            <a:ext cx="380880" cy="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29400" y="5129280"/>
            <a:ext cx="1549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OVS  pc, 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17920" y="2995560"/>
            <a:ext cx="14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WI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_Handl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219320" y="1319040"/>
            <a:ext cx="304560" cy="2438640"/>
          </a:xfrm>
          <a:prstGeom prst="line">
            <a:avLst/>
          </a:prstGeom>
          <a:ln w="1908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14600" y="2614680"/>
            <a:ext cx="380880" cy="1066680"/>
          </a:xfrm>
          <a:prstGeom prst="line">
            <a:avLst/>
          </a:prstGeom>
          <a:ln w="1908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91320" y="1015560"/>
            <a:ext cx="320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What was in R0? User program may have been using this register. Therefore, cannot just use it ­ </a:t>
            </a: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ea typeface="宋体"/>
              </a:rPr>
              <a:t>must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 first save 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Full </a:t>
            </a:r>
            <a:r>
              <a:rPr b="0" lang="en-US" sz="3600" spc="-1" strike="noStrike">
                <a:solidFill>
                  <a:srgbClr val="990000"/>
                </a:solidFill>
                <a:latin typeface="Courier New"/>
                <a:ea typeface="宋体"/>
              </a:rPr>
              <a:t>SWI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Handler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809280"/>
            <a:ext cx="91440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S_Handler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8608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UB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p,sp, #4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leave room on stack for SPS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8608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TMF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p!, {r0­r12, lr} ;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store user's gp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8608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R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2, spsr[_csxf]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get SPSR into</a:t>
            </a:r>
            <a:r>
              <a:rPr b="0" lang="en-US" sz="2000" spc="-1" strike="noStrike">
                <a:solidFill>
                  <a:srgbClr val="cc3300"/>
                </a:solidFill>
                <a:latin typeface="Courier New"/>
                <a:ea typeface="宋体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gp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8608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T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2, [sp, #14*4]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store SPSR above</a:t>
            </a:r>
            <a:r>
              <a:rPr b="0" lang="en-US" sz="2000" spc="-1" strike="noStrike">
                <a:solidFill>
                  <a:srgbClr val="cc3300"/>
                </a:solidFill>
                <a:latin typeface="Courier New"/>
                <a:ea typeface="宋体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gp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8608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OV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1, sp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pointer to parameters on stac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8608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LD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0, [lr, #­4]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extract the SWI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8608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BIC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0,r0,#0xff000000 ;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get SWI # by bit-mas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8608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B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_SWI_handl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go to handler (see next slid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8608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LD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2, [sp, #14*4]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restore SPS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(NOT “sp!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48608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S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psr_csxf, r2     ;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  <a:ea typeface="宋体"/>
              </a:rPr>
              <a:t>csxf flags (see XScale QuickRef Car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8608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LDMF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p!, {r0­r12, lr} ;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unstack user's regis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8608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D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p, sp, #4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remove space used to store SPS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48608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OV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c, l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return from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8560" y="580932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g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= general-pur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920" y="5701680"/>
            <a:ext cx="52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Courier New"/>
                <a:ea typeface="宋体"/>
              </a:rPr>
              <a:t>SPSR</a:t>
            </a:r>
            <a:r>
              <a:rPr b="0" lang="en-US" sz="1800" spc="-1" strike="noStrike">
                <a:solidFill>
                  <a:srgbClr val="336600"/>
                </a:solidFill>
                <a:latin typeface="Times New Roman"/>
                <a:ea typeface="宋体"/>
              </a:rPr>
              <a:t> is stored above </a:t>
            </a:r>
            <a:r>
              <a:rPr b="0" lang="en-US" sz="1800" spc="-1" strike="noStrike">
                <a:solidFill>
                  <a:srgbClr val="336600"/>
                </a:solidFill>
                <a:latin typeface="Courier New"/>
                <a:ea typeface="宋体"/>
              </a:rPr>
              <a:t>gp</a:t>
            </a:r>
            <a:r>
              <a:rPr b="0" lang="en-US" sz="1800" spc="-1" strike="noStrike">
                <a:solidFill>
                  <a:srgbClr val="336600"/>
                </a:solidFill>
                <a:latin typeface="Times New Roman"/>
                <a:ea typeface="宋体"/>
              </a:rPr>
              <a:t> registers since the registers may contain system call parameters (</a:t>
            </a:r>
            <a:r>
              <a:rPr b="0" lang="en-US" sz="1800" spc="-1" strike="noStrike">
                <a:solidFill>
                  <a:srgbClr val="336600"/>
                </a:solidFill>
                <a:latin typeface="Courier New"/>
                <a:ea typeface="宋体"/>
              </a:rPr>
              <a:t>sp</a:t>
            </a:r>
            <a:r>
              <a:rPr b="0" lang="en-US" sz="1800" spc="-1" strike="noStrike">
                <a:solidFill>
                  <a:srgbClr val="336600"/>
                </a:solidFill>
                <a:latin typeface="Times New Roman"/>
                <a:ea typeface="宋体"/>
              </a:rPr>
              <a:t> in </a:t>
            </a:r>
            <a:r>
              <a:rPr b="0" lang="en-US" sz="1800" spc="-1" strike="noStrike">
                <a:solidFill>
                  <a:srgbClr val="336600"/>
                </a:solidFill>
                <a:latin typeface="Courier New"/>
                <a:ea typeface="宋体"/>
              </a:rPr>
              <a:t>r1</a:t>
            </a:r>
            <a:r>
              <a:rPr b="0" lang="en-US" sz="1800" spc="-1" strike="noStrike">
                <a:solidFill>
                  <a:srgbClr val="3366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_SWI_Handler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4320" y="1072800"/>
            <a:ext cx="824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void C_SWI_handler(unsigned number, unsigned *regs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witch (number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ase 0: /* SWI number 0 code */ break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ase 1: /* SWI number 1 code */ break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ase XXX: /* SWI number XXX code */ break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defaul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 /* end switch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C_SWI_handler() */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299360" y="1390680"/>
            <a:ext cx="1143000" cy="4930560"/>
            <a:chOff x="7299360" y="1390680"/>
            <a:chExt cx="1143000" cy="4930560"/>
          </a:xfrm>
        </p:grpSpPr>
        <p:sp>
          <p:nvSpPr>
            <p:cNvPr id="385" name=""/>
            <p:cNvSpPr/>
            <p:nvPr/>
          </p:nvSpPr>
          <p:spPr>
            <a:xfrm>
              <a:off x="7299360" y="1390680"/>
              <a:ext cx="0" cy="493056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42360" y="1390680"/>
              <a:ext cx="0" cy="493056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299360" y="1674720"/>
            <a:ext cx="1143000" cy="260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psr_sv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299360" y="1935000"/>
            <a:ext cx="1143000" cy="2606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r_sv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99360" y="4278240"/>
            <a:ext cx="1143000" cy="26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99360" y="4538520"/>
            <a:ext cx="1143000" cy="2606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299360" y="2195640"/>
            <a:ext cx="1143000" cy="26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299360" y="2455920"/>
            <a:ext cx="1143000" cy="26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99360" y="2716200"/>
            <a:ext cx="1143000" cy="26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99360" y="2976480"/>
            <a:ext cx="1143000" cy="26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99360" y="3236760"/>
            <a:ext cx="1143000" cy="2606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99360" y="3497400"/>
            <a:ext cx="1143000" cy="26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99360" y="3757680"/>
            <a:ext cx="1143000" cy="26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9360" y="4017960"/>
            <a:ext cx="1143000" cy="26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99360" y="4799160"/>
            <a:ext cx="1143000" cy="26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99360" y="5060880"/>
            <a:ext cx="1143000" cy="26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94680" y="5318280"/>
            <a:ext cx="1144440" cy="26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99360" y="5581800"/>
            <a:ext cx="1128600" cy="26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99360" y="5845320"/>
            <a:ext cx="1144440" cy="26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78400" y="1377720"/>
            <a:ext cx="167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宋体"/>
              </a:rPr>
              <a:t>Previous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sp_sv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01640" y="52160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sp_sv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19480" y="2196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regs[1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3240" y="5468400"/>
            <a:ext cx="261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regs[0] (also *re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80400" y="1550880"/>
            <a:ext cx="314280" cy="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96240" y="2332080"/>
            <a:ext cx="314280" cy="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91200" y="5487840"/>
            <a:ext cx="314640" cy="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oading the Vector Table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13920" y="884160"/>
            <a:ext cx="8612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/* For 18-349, the Vector Table will use the ``LDR PC, PC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* offset'' springboard approach */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unsigned Install_Handler(unsigned int routine, unsigned int *vector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int pcload_instr, old_handler, *soft_vector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cload_instr = *vector; </a:t>
            </a: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/* read the Vector Table instr (LDR ...)   */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cload_instr &amp;= 0xfff;  </a:t>
            </a: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/* compute offset of jump table entry      */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cload_instr += 0x8 + (unsigned)vector; </a:t>
            </a: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/* == offset adjusted by P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                                            </a:t>
            </a: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and prefetch           */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oft_vector = (unsigned *)pcload_instr; </a:t>
            </a: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/* address to load pc from */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ld_handler = *soft_vector;            </a:t>
            </a: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/* remember the old handle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soft_vector = routine;       </a:t>
            </a: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/* set up new handler in jump table  */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turn (old_handler);         </a:t>
            </a: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/* return old handler address        */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}                                 </a:t>
            </a: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/* end Install_Handler()             */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Called as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stall_Handler ((unsigned) C_SWI_Handler, swivec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where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nsigned *swivec = (unsigned *) 0x08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80010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Calling SWIs from C Code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79240" y="1514520"/>
            <a:ext cx="4568760" cy="46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char __swi(4) SWI_ReadC(void)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void readline (char *buffer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har ch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do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*buffer++ = ch = SWI_ReadC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while (ch != 13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*buffer = 0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readline() */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03800" y="1597680"/>
            <a:ext cx="3543480" cy="423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ead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TMD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p!,{lr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OV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r, a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eadag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WI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&amp;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TRB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1,[lr],#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MP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1,#&amp;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BN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eadag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OV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1,#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TRB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1, [lr, #0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DMI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p!, {pc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63840" y="118980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Assembly code produced by comp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3560" y="118980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Times New Roman"/>
                <a:ea typeface="宋体"/>
              </a:rPr>
              <a:t>User-Level C Sourc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oftware Interrupts (SWIs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an SW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happens on an SW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ectoring SW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happens on SWI comple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do SWIs 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Full SWI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_SWI_Handl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written in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oading Software Interrrupt Vector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Looking Ahead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rogram Monitor, Loading and Initializ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hought for the Day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3560" y="2360520"/>
            <a:ext cx="489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 can accept fail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veryone fails at some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ut I cannot accep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not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try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- Michael Jord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Summary of Previou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e ARM Programmer’s Mod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troduction to ARM Assembly Languag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ssembly Code from C Programs (7 Examples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Dealing With Structur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facing C Code with ARM Assembl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RM libraries and 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arms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Outline of This Lectu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Frame pointers and backtrace structur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Normal program flow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vs.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exception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ceptions vs. interru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oftware Interrup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an SW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happens on an SW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ectoring SW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happens on SWI comple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do SWIs 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Complete SWI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_SWI_Handl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(written in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oading the Software Interrupt Vector Tabl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The Frame Pointer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600" y="1218960"/>
            <a:ext cx="4937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f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points to top of the stack area for the current function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 zero if not being u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By using the frame pointer and storing it at the same offset for every function call, it creates a singly­linked list of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activation record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fp register points to the stack backtrace structure for the currently executing fun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saved fp value is (zero or) a pointer to a stack backtrace structure created by the function which called the current fun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saved fp value in this structure is a pointer to the stack backtrace structure for the function that called the function that called the current function; and so on back until the first fun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07000" y="9381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07000" y="124308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saved)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07000" y="154764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sav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07000" y="18525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av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423040" y="981000"/>
            <a:ext cx="1083600" cy="272880"/>
            <a:chOff x="5423040" y="981000"/>
            <a:chExt cx="1083600" cy="272880"/>
          </a:xfrm>
        </p:grpSpPr>
        <p:sp>
          <p:nvSpPr>
            <p:cNvPr id="59" name=""/>
            <p:cNvSpPr/>
            <p:nvPr/>
          </p:nvSpPr>
          <p:spPr>
            <a:xfrm>
              <a:off x="5423040" y="981000"/>
              <a:ext cx="769320" cy="272880"/>
            </a:xfrm>
            <a:prstGeom prst="rect">
              <a:avLst/>
            </a:prstGeom>
            <a:noFill/>
            <a:ln cap="rnd" w="936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SP</a:t>
              </a:r>
              <a:r>
                <a:rPr b="0" lang="en-US" sz="2000" spc="-1" strike="noStrike" baseline="-25000">
                  <a:solidFill>
                    <a:srgbClr val="cc3300"/>
                  </a:solidFill>
                  <a:latin typeface="Times New Roman"/>
                  <a:ea typeface="宋体"/>
                </a:rPr>
                <a:t>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02080" y="1083960"/>
              <a:ext cx="30456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33800" y="722160"/>
            <a:ext cx="11408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6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5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73560" y="785880"/>
            <a:ext cx="3543480" cy="55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07000" y="215748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sav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04120" y="246204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sav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04120" y="27669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04120" y="307188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04120" y="337644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04120" y="36813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02320" y="398952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02320" y="429408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02320" y="459900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02320" y="490392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02320" y="520848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08800" y="551664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08800" y="582120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450040" y="5864400"/>
            <a:ext cx="1063440" cy="334800"/>
            <a:chOff x="5450040" y="5864400"/>
            <a:chExt cx="1063440" cy="334800"/>
          </a:xfrm>
        </p:grpSpPr>
        <p:sp>
          <p:nvSpPr>
            <p:cNvPr id="77" name=""/>
            <p:cNvSpPr/>
            <p:nvPr/>
          </p:nvSpPr>
          <p:spPr>
            <a:xfrm>
              <a:off x="5450040" y="5864400"/>
              <a:ext cx="749160" cy="33480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SP</a:t>
              </a:r>
              <a:r>
                <a:rPr b="0" lang="en-US" sz="2000" spc="-1" strike="noStrike" baseline="-25000">
                  <a:solidFill>
                    <a:srgbClr val="cc3300"/>
                  </a:solidFill>
                  <a:latin typeface="Times New Roman"/>
                  <a:ea typeface="宋体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08560" y="5985000"/>
              <a:ext cx="3049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423040" y="1289160"/>
            <a:ext cx="1058400" cy="325440"/>
            <a:chOff x="5423040" y="1289160"/>
            <a:chExt cx="1058400" cy="325440"/>
          </a:xfrm>
        </p:grpSpPr>
        <p:sp>
          <p:nvSpPr>
            <p:cNvPr id="80" name=""/>
            <p:cNvSpPr/>
            <p:nvPr/>
          </p:nvSpPr>
          <p:spPr>
            <a:xfrm>
              <a:off x="5423040" y="1289160"/>
              <a:ext cx="705240" cy="32544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FP</a:t>
              </a:r>
              <a:r>
                <a:rPr b="0" lang="en-US" sz="2000" spc="-1" strike="noStrike" baseline="-25000">
                  <a:solidFill>
                    <a:srgbClr val="cc3300"/>
                  </a:solidFill>
                  <a:latin typeface="Times New Roman"/>
                  <a:ea typeface="宋体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55280" y="1414440"/>
              <a:ext cx="32616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Example Backtrac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031760" y="746280"/>
            <a:ext cx="7977240" cy="6084720"/>
            <a:chOff x="1031760" y="746280"/>
            <a:chExt cx="7977240" cy="6084720"/>
          </a:xfrm>
        </p:grpSpPr>
        <p:grpSp>
          <p:nvGrpSpPr>
            <p:cNvPr id="84" name=""/>
            <p:cNvGrpSpPr/>
            <p:nvPr/>
          </p:nvGrpSpPr>
          <p:grpSpPr>
            <a:xfrm>
              <a:off x="2282760" y="1947960"/>
              <a:ext cx="1149480" cy="4883040"/>
              <a:chOff x="2282760" y="1947960"/>
              <a:chExt cx="1149480" cy="4883040"/>
            </a:xfrm>
          </p:grpSpPr>
          <p:sp>
            <p:nvSpPr>
              <p:cNvPr id="85" name=""/>
              <p:cNvSpPr/>
              <p:nvPr/>
            </p:nvSpPr>
            <p:spPr>
              <a:xfrm>
                <a:off x="2287440" y="194796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saved) 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287440" y="225288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saved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l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87440" y="255744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aved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87440" y="286236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saved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84200" y="316728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saved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f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84200" y="347184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284200" y="377676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284200" y="408168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284200" y="438624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282760" y="469440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282760" y="499932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2760" y="530388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82760" y="560880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2760" y="591372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89240" y="622152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9240" y="652644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289400" y="1712880"/>
              <a:ext cx="1149480" cy="4883040"/>
              <a:chOff x="4289400" y="1712880"/>
              <a:chExt cx="1149480" cy="4883040"/>
            </a:xfrm>
          </p:grpSpPr>
          <p:sp>
            <p:nvSpPr>
              <p:cNvPr id="102" name=""/>
              <p:cNvSpPr/>
              <p:nvPr/>
            </p:nvSpPr>
            <p:spPr>
              <a:xfrm>
                <a:off x="4294080" y="171288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saved) 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94080" y="201780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saved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l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294080" y="232236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aved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294080" y="262728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saved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90840" y="293220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saved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f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90840" y="323676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90840" y="354168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90840" y="384660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90840" y="415116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89400" y="445932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289400" y="476424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289400" y="506880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89400" y="537372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289400" y="567864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95880" y="598644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95880" y="629136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440400" y="1238400"/>
              <a:ext cx="1149480" cy="4883040"/>
              <a:chOff x="6440400" y="1238400"/>
              <a:chExt cx="1149480" cy="4883040"/>
            </a:xfrm>
          </p:grpSpPr>
          <p:sp>
            <p:nvSpPr>
              <p:cNvPr id="119" name=""/>
              <p:cNvSpPr/>
              <p:nvPr/>
            </p:nvSpPr>
            <p:spPr>
              <a:xfrm>
                <a:off x="6445080" y="123840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saved) 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45080" y="154332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saved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l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45080" y="184788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aved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45080" y="215280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saved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41840" y="245772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saved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f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441840" y="276228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441840" y="306720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41840" y="337212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41840" y="367668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0400" y="398484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0400" y="428976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40400" y="459432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40400" y="489924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440400" y="520416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46880" y="5511960"/>
                <a:ext cx="1143000" cy="30492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446880" y="5816880"/>
                <a:ext cx="1143000" cy="30456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5" name=""/>
            <p:cNvCxnSpPr>
              <a:stCxn id="89" idx="3"/>
              <a:endCxn id="102" idx="1"/>
            </p:cNvCxnSpPr>
            <p:nvPr/>
          </p:nvCxnSpPr>
          <p:spPr>
            <a:xfrm flipV="1">
              <a:off x="3436560" y="1864800"/>
              <a:ext cx="848520" cy="14547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06" idx="3"/>
              <a:endCxn id="119" idx="1"/>
            </p:cNvCxnSpPr>
            <p:nvPr/>
          </p:nvCxnSpPr>
          <p:spPr>
            <a:xfrm flipV="1">
              <a:off x="5443560" y="1389960"/>
              <a:ext cx="992880" cy="1694520"/>
            </a:xfrm>
            <a:prstGeom prst="bentConnector3">
              <a:avLst>
                <a:gd name="adj1" fmla="val 49909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endCxn id="85" idx="1"/>
            </p:cNvCxnSpPr>
            <p:nvPr/>
          </p:nvCxnSpPr>
          <p:spPr>
            <a:xfrm>
              <a:off x="1386000" y="2099880"/>
              <a:ext cx="8928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" name=""/>
            <p:cNvSpPr/>
            <p:nvPr/>
          </p:nvSpPr>
          <p:spPr>
            <a:xfrm>
              <a:off x="1031760" y="18255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02680" y="136548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ba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’s 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33080" y="118908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fo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’s 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74640" y="746280"/>
              <a:ext cx="192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mai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’s 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23" idx="3"/>
            </p:cNvCxnSpPr>
            <p:nvPr/>
          </p:nvCxnSpPr>
          <p:spPr>
            <a:xfrm>
              <a:off x="7594560" y="2610000"/>
              <a:ext cx="1156320" cy="8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/>
            <p:nvPr/>
          </p:nvCxnSpPr>
          <p:spPr>
            <a:xfrm>
              <a:off x="8751600" y="2619000"/>
              <a:ext cx="1080" cy="159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grpSp>
          <p:nvGrpSpPr>
            <p:cNvPr id="144" name=""/>
            <p:cNvGrpSpPr/>
            <p:nvPr/>
          </p:nvGrpSpPr>
          <p:grpSpPr>
            <a:xfrm>
              <a:off x="8493120" y="2768760"/>
              <a:ext cx="515880" cy="190440"/>
              <a:chOff x="8493120" y="2768760"/>
              <a:chExt cx="515880" cy="190440"/>
            </a:xfrm>
          </p:grpSpPr>
          <p:sp>
            <p:nvSpPr>
              <p:cNvPr id="145" name=""/>
              <p:cNvSpPr/>
              <p:nvPr/>
            </p:nvSpPr>
            <p:spPr>
              <a:xfrm>
                <a:off x="8493120" y="2768760"/>
                <a:ext cx="51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588520" y="2863800"/>
                <a:ext cx="31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645400" y="2959200"/>
                <a:ext cx="20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4116600" y="177840"/>
            <a:ext cx="46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宋体"/>
              </a:rPr>
              <a:t>If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  <a:ea typeface="宋体"/>
              </a:rPr>
              <a:t>main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宋体"/>
              </a:rPr>
              <a:t> calls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  <a:ea typeface="宋体"/>
              </a:rPr>
              <a:t>foo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宋体"/>
              </a:rPr>
              <a:t> which calls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  <a:ea typeface="宋体"/>
              </a:rPr>
              <a:t>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Creating the “backtrace” structur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ip, sp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MFD sp!,{a1­a4,v1­v5,sb,fp,ip,lr,pc}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UB   fp, ip, #4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…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…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MFD fp, {fp,sp,sb,pc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7160" y="9381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7160" y="124308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saved)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7160" y="154764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sav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7160" y="18525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v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622840" y="981000"/>
            <a:ext cx="1084320" cy="272880"/>
            <a:chOff x="5622840" y="981000"/>
            <a:chExt cx="1084320" cy="272880"/>
          </a:xfrm>
        </p:grpSpPr>
        <p:sp>
          <p:nvSpPr>
            <p:cNvPr id="156" name=""/>
            <p:cNvSpPr/>
            <p:nvPr/>
          </p:nvSpPr>
          <p:spPr>
            <a:xfrm>
              <a:off x="5622840" y="981000"/>
              <a:ext cx="769680" cy="272880"/>
            </a:xfrm>
            <a:prstGeom prst="rect">
              <a:avLst/>
            </a:prstGeom>
            <a:noFill/>
            <a:ln cap="rnd" w="936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SP</a:t>
              </a:r>
              <a:r>
                <a:rPr b="0" lang="en-US" sz="2000" spc="-1" strike="noStrike" baseline="-25000">
                  <a:solidFill>
                    <a:srgbClr val="cc3300"/>
                  </a:solidFill>
                  <a:latin typeface="Times New Roman"/>
                  <a:ea typeface="宋体"/>
                </a:rPr>
                <a:t>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02240" y="1083960"/>
              <a:ext cx="3049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833960" y="722160"/>
            <a:ext cx="11408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6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5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73720" y="785880"/>
            <a:ext cx="3543120" cy="55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7160" y="215748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sav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3920" y="246204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sav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3920" y="27669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03920" y="307188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03920" y="337644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3920" y="36813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02480" y="398952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2480" y="429408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2480" y="459900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2480" y="490392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2480" y="520848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8600" y="551664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8600" y="582120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649840" y="5864400"/>
            <a:ext cx="1063440" cy="334800"/>
            <a:chOff x="5649840" y="5864400"/>
            <a:chExt cx="1063440" cy="334800"/>
          </a:xfrm>
        </p:grpSpPr>
        <p:sp>
          <p:nvSpPr>
            <p:cNvPr id="174" name=""/>
            <p:cNvSpPr/>
            <p:nvPr/>
          </p:nvSpPr>
          <p:spPr>
            <a:xfrm>
              <a:off x="5649840" y="5864400"/>
              <a:ext cx="749160" cy="33480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SP</a:t>
              </a:r>
              <a:r>
                <a:rPr b="0" lang="en-US" sz="2000" spc="-1" strike="noStrike" baseline="-25000">
                  <a:solidFill>
                    <a:srgbClr val="cc3300"/>
                  </a:solidFill>
                  <a:latin typeface="Times New Roman"/>
                  <a:ea typeface="宋体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8360" y="5985000"/>
              <a:ext cx="3049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622840" y="1289160"/>
            <a:ext cx="1058760" cy="325440"/>
            <a:chOff x="5622840" y="1289160"/>
            <a:chExt cx="1058760" cy="325440"/>
          </a:xfrm>
        </p:grpSpPr>
        <p:sp>
          <p:nvSpPr>
            <p:cNvPr id="177" name=""/>
            <p:cNvSpPr/>
            <p:nvPr/>
          </p:nvSpPr>
          <p:spPr>
            <a:xfrm>
              <a:off x="5622840" y="1289160"/>
              <a:ext cx="705240" cy="32544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FP</a:t>
              </a:r>
              <a:r>
                <a:rPr b="0" lang="en-US" sz="2000" spc="-1" strike="noStrike" baseline="-25000">
                  <a:solidFill>
                    <a:srgbClr val="cc3300"/>
                  </a:solidFill>
                  <a:latin typeface="Times New Roman"/>
                  <a:ea typeface="宋体"/>
                </a:rPr>
                <a:t>af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55080" y="1414440"/>
              <a:ext cx="3265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Normal Program Flow 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vs.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 Exceptions 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05920" y="847440"/>
            <a:ext cx="893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Normally, programs execute sequentially (with a few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branches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to make life interesting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82600" indent="-282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Normally, programs execute in user mode (see next slide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82600" indent="-282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Exceptions and interrupts break the sequential flow of a program, jumping to architecturally­defined memory location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82600" indent="-282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 ARM, SoftWare Interrupt (SWI) is the “system call” exception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82600" indent="-282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ypes of ARM exception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631800" indent="-174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when CPU reset pin is as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74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undefined instru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when CPU tries to execute an undefined op-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74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 interrup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when CPU executes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W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instru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74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refetch abor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when CPU tries to execute an instruction pre-fetched from an illegal add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74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abor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when data transfer instruction tries to read or write at an illegal addr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74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R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when CPU's external interrupt request pin is as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800" indent="-174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I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when CPU's external fast interrupt request pin is asser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8:01:33Z</dcterms:created>
  <dc:creator>Raj Rajkumar</dc:creator>
  <dc:description/>
  <dc:language>en-US</dc:language>
  <cp:lastModifiedBy>jjohnso2</cp:lastModifiedBy>
  <cp:lastPrinted>2000-02-02T19:18:48Z</cp:lastPrinted>
  <dcterms:modified xsi:type="dcterms:W3CDTF">2004-09-07T22:19:15Z</dcterms:modified>
  <cp:revision>170</cp:revision>
  <dc:subject/>
  <dc:title>Interfacing ARM Assembly Language and C</dc:title>
</cp:coreProperties>
</file>