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66732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880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9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9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80010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880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472080"/>
            <a:ext cx="8001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54760" y="6568920"/>
            <a:ext cx="3632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  <a:ea typeface="宋体"/>
              </a:rPr>
              <a:t>Introduction to Embedded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685800"/>
            <a:ext cx="8001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Profiling &amp; Code Optimization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  <a:ea typeface="宋体"/>
              </a:rPr>
              <a:t>Lecture 6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Profiling and Benchmark Analysis (cont’d)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How do we figure out where a program is spending its time?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f we could coun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宋体"/>
              </a:rPr>
              <a:t>static instru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we would know which routines (functions) were the bigge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ig deal, large functions that aren't executed often don't really mat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f we could count every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宋体"/>
              </a:rPr>
              <a:t>dynamic instru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we would know which routines executed the most instruc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xcellent! It tells us the “relative importance” of each fun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ut doesn't account for memory system (stall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f we could count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宋体"/>
              </a:rPr>
              <a:t>how many cycles were spent in each rout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we would know which routines took the most amount of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Profiling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Profiling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: collecting statistics from example executions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ery useful for estimating importance of each rout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mmon profiling approache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nstrument all procedure call/return points (expensive: e.g., 20% overhea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mpling PC every X milliseconds ­­ so long as program run is significantly longer than the sampling period, the accuracy of profiling is pretty goo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sually results in output such 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宋体"/>
              </a:rPr>
              <a:t>Routine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宋体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宋体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宋体"/>
              </a:rPr>
              <a:t>% of Execution Tim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function_a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60%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function_b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27%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function_c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4%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..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function_zzz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0.01%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ften over 80% of the time spent in less than 20% of the code (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宋体"/>
              </a:rPr>
              <a:t>80/20 ru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n now do more accurate profiling with on­chip counters and analysis too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lpha, Pentium, Pentium Pro, PowerP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EC Atom analysis too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oth are covered in Advanced Computer Architecture cour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04920" y="31680"/>
            <a:ext cx="853416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Timing execution with </a:t>
            </a:r>
            <a:r>
              <a:rPr b="0" lang="en-US" sz="3600" spc="-1" strike="noStrike">
                <a:solidFill>
                  <a:srgbClr val="990000"/>
                </a:solidFill>
                <a:latin typeface="Courier New"/>
                <a:ea typeface="宋体"/>
              </a:rPr>
              <a:t>armsd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The simulator simulates </a:t>
            </a:r>
            <a:r>
              <a:rPr b="0" i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every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cycl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an gathe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ve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ccurate timings for each fun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Run the simulator to determine total tim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ction 4.8 of th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RM Developer Suite AXD and armsd Debugger’s Gu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Compiler can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宋体"/>
              </a:rPr>
              <a:t>optimize for speed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08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prompt&gt; armcc ­Otime ­o sort sorts.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Can also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宋体"/>
              </a:rPr>
              <a:t>optimize for siz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prompt&gt; armcc ­Ospace ­o sort sorts.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Re­run the simulator to determine new total tim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ew time is 2,059,629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cs ­­ an improvement of 4.5% (compared to ­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Profiling with </a:t>
            </a:r>
            <a:r>
              <a:rPr b="0" lang="en-US" sz="3600" spc="-1" strike="noStrike">
                <a:solidFill>
                  <a:srgbClr val="990000"/>
                </a:solidFill>
                <a:latin typeface="Courier New"/>
                <a:ea typeface="宋体"/>
              </a:rPr>
              <a:t>armsd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No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compile­time options needed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Run the simulator to profile, capturing callgraph data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prompt&gt; arms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rmsd: load/callgraph sor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rmsd: Prof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rmsd: g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rmsd: ProfWrite sorts.pr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rmsd: qu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prompt&gt; armprof ­Parent sorts.prf &gt; prof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To profile for only samples, skip the “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/callgraph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” portion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voids the 20% overhead (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examp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ourier New"/>
                <a:ea typeface="宋体"/>
              </a:rPr>
              <a:t>armprof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 output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806560"/>
                <a:tab algn="l" pos="389412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Name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cum%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self%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desc%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calls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806560"/>
                <a:tab algn="l" pos="389412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main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96.4%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0.16%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95.88%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0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806560"/>
                <a:tab algn="l" pos="389412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qsort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0.44%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0.75%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1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806560"/>
                <a:tab algn="l" pos="389412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_printf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0.00%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0.00%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3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806560"/>
                <a:tab algn="l" pos="389412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clock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0.00%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0.00%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6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806560"/>
                <a:tab algn="l" pos="389412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_sprintf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0.34%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3.56%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1000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806560"/>
                <a:tab algn="l" pos="389412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randomise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0.12%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0.69%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1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806560"/>
                <a:tab algn="l" pos="389412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hell_sort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1.59%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3.43%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1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806560"/>
                <a:tab algn="l" pos="389412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insert_sort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19.91%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59.44%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1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806560"/>
                <a:tab algn="l" pos="389412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­­­­­­­­­­­­­­­­­­­­­­­­­­­­­­­­­­­­----------------­­­­­­­­­­­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806560"/>
                <a:tab algn="l" pos="389412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main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19.91%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59.44%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1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806560"/>
                <a:tab algn="l" pos="389412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insert_sort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79.35%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19.91%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59.44%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1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806560"/>
                <a:tab algn="l" pos="389412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strcmp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59.44%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0.00%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243432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806560"/>
                <a:tab algn="l" pos="389412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­­­­­­­­­­­­­­­­­­­­­­­­­­­­­­­­­­­­­­­­­­­­­­-----------------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806560"/>
                <a:tab algn="l" pos="389412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qs_string_compare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3.17%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0.00%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13021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806560"/>
                <a:tab algn="l" pos="389412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shell_sort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3.43%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0.00%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14059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806560"/>
                <a:tab algn="l" pos="389412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insert_sort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59.44%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0.00%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243432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806560"/>
                <a:tab algn="l" pos="389412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strcmp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66.05%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66.05%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0.00%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270512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Optimizing “</a:t>
            </a:r>
            <a:r>
              <a:rPr b="0" lang="en-US" sz="3600" spc="-1" strike="noStrike">
                <a:solidFill>
                  <a:srgbClr val="990000"/>
                </a:solidFill>
                <a:latin typeface="Courier New"/>
                <a:ea typeface="宋体"/>
              </a:rPr>
              <a:t>sorts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”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Almost 60% of time spent in </a:t>
            </a:r>
            <a:r>
              <a:rPr b="0" lang="en-US" sz="2000" spc="-1" strike="noStrike">
                <a:solidFill>
                  <a:srgbClr val="a50021"/>
                </a:solidFill>
                <a:latin typeface="Courier New"/>
                <a:ea typeface="宋体"/>
              </a:rPr>
              <a:t>strcmp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called by 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insert_sort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strcmp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compares two strings and returns int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 if equal, negative if first is ``less than'' second, positive otherwi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Replace “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strcmp(a,b)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” call with some </a:t>
            </a:r>
            <a:r>
              <a:rPr b="0" i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initial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compares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if (a[0] &lt; b[0]) 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result is ne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if (a[0] == b[0]) 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if (a[1] &lt; b[1]) 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14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result is ne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if (a[1] == b[1]) 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14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if (strcmp(a,b) &lt;= 0) 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9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result is neg or zer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14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Result of this change is 20% reduction in execution tim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voids some procedure call overheads (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宋体"/>
              </a:rPr>
              <a:t>in-lin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voids some loop control overheads (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宋体"/>
              </a:rPr>
              <a:t>loop unroll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宋体"/>
              </a:rPr>
              <a:t>Handles common cases efficientl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nd other cases correct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Improving Program Performance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Compiler writers try to apply several standard optimizations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o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lways succe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Compiler writers sometimes apply aggressive optimizations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ften not “informed” enough to know that change will help rather than hu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Optimizations based on specific architecture/implementation characteristics can be very helpful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uch harder for compiler writers because it requires multiple, generally very different, “back­end” implement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How can one help?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etter code, algorithms and data structures (of cours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­organize code to help compiler find opportunities for improve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place poorly optimized code with assembly code (i.e., bypass compil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tandard Compiler Optimizations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宋体"/>
              </a:rPr>
              <a:t>Common Sub-expression Elimination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ormally, “An occurrence of an expression E is called a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mmon sub-express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if E was previously computed, and the values of variables in E have not changed since the previous computation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ou can avoid re-computing the expression if we can use the previously computed o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imes New Roman"/>
                <a:ea typeface="宋体"/>
              </a:rPr>
              <a:t>Benef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: less code to be execu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Courier New"/>
                <a:ea typeface="宋体"/>
              </a:rPr>
              <a:t>  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  <a:ea typeface="宋体"/>
              </a:rPr>
              <a:t>Before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  <a:ea typeface="宋体"/>
              </a:rPr>
              <a:t>After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46760" y="3505320"/>
            <a:ext cx="2436120" cy="204084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t6 = 4* 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x  = a[t6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t8 = 4 * j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t9 = a[t8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a[t6] = t9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a[t8] =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go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0880" y="3506760"/>
            <a:ext cx="2923920" cy="252756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t6 = 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  <a:ea typeface="宋体"/>
              </a:rPr>
              <a:t>4 * 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x  = a[t6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t7 = 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  <a:ea typeface="宋体"/>
              </a:rPr>
              <a:t>4 * 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t8 =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  <a:ea typeface="宋体"/>
              </a:rPr>
              <a:t>4 * j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t9 = a[t8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a[t7]  = t9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t10    =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  <a:ea typeface="宋体"/>
              </a:rPr>
              <a:t>4 * j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a[t10] =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go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4419720"/>
            <a:ext cx="533160" cy="0"/>
          </a:xfrm>
          <a:prstGeom prst="line">
            <a:avLst/>
          </a:prstGeom>
          <a:ln w="1908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5410080"/>
            <a:ext cx="533160" cy="0"/>
          </a:xfrm>
          <a:prstGeom prst="line">
            <a:avLst/>
          </a:prstGeom>
          <a:ln w="1908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tandard Compiler Optimizations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宋体"/>
              </a:rPr>
              <a:t>Dead-Code Elimination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f code is definitely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going to be executed during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n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un of a program, then it is called dead code and can be remov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xampl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debug = 0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if (debug)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print ..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}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o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an help by using 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  <a:ea typeface="宋体"/>
              </a:rPr>
              <a:t>ASSER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and 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  <a:ea typeface="宋体"/>
              </a:rPr>
              <a:t>#ifdef</a:t>
            </a:r>
            <a:r>
              <a:rPr b="0" lang="en-US" sz="1800" spc="-1" strike="noStrike">
                <a:solidFill>
                  <a:srgbClr val="a50021"/>
                </a:solidFill>
                <a:latin typeface="Times New Roman"/>
                <a:ea typeface="宋体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o tell the compiler about dead co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t is often difficult for the compiler to identify dead code itse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Administrivia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Lecture first half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Quiz #1 for the second half of today’s lectur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tandard Compiler Optimizations (con't)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宋体"/>
              </a:rPr>
              <a:t>Induction Variables and Strength Reduction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 variable X is called an induction variable of a loop L if every time the variable X changed value, it is incremented or decremented by some consta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hen there are 2 or more induction variables in a loop, it may be possible to get rid of all but 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t is also frequently possible to perform strength reduction on induction varia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strength of an instruction corresponds to its execution co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imes New Roman"/>
                <a:ea typeface="宋体"/>
              </a:rPr>
              <a:t>Benef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: fewer and less expensive oper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Courier New"/>
                <a:ea typeface="宋体"/>
              </a:rPr>
              <a:t>Before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  <a:ea typeface="宋体"/>
              </a:rPr>
              <a:t>After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2760" y="4068720"/>
            <a:ext cx="3354480" cy="11898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t4 = 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abel_XXX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t4 +=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t5 = a[t4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f (t5 &gt; v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goto label_XX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2120" y="4019400"/>
            <a:ext cx="3411720" cy="137268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t4 = 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abel_XXX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a50021"/>
                </a:solidFill>
                <a:latin typeface="Courier New"/>
                <a:ea typeface="宋体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= j + 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a50021"/>
                </a:solidFill>
                <a:latin typeface="Courier New"/>
                <a:ea typeface="宋体"/>
              </a:rPr>
              <a:t>t4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= 4 * j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t5 = a[t4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f (t5 &gt; v) goto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abel_XX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Aggressive Compiler Optimizations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宋体"/>
              </a:rPr>
              <a:t>In-lining of functions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placing a call to a function with the function's code is called “in-lining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imes New Roman"/>
                <a:ea typeface="宋体"/>
              </a:rPr>
              <a:t>Benef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: reduction in procedure call overheads and opportunity for additional code optimiz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imes New Roman"/>
                <a:ea typeface="宋体"/>
              </a:rPr>
              <a:t>Dang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: code bloat and negative instruction cache effec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ppropriate when small and/or called from a small number of si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0021"/>
                </a:solidFill>
                <a:latin typeface="Courier New"/>
                <a:ea typeface="宋体"/>
              </a:rPr>
              <a:t>      </a:t>
            </a:r>
            <a:r>
              <a:rPr b="1" lang="en-US" sz="1400" spc="-1" strike="noStrike">
                <a:solidFill>
                  <a:srgbClr val="a50021"/>
                </a:solidFill>
                <a:latin typeface="Courier New"/>
                <a:ea typeface="宋体"/>
              </a:rPr>
              <a:t>Before                                                          After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927120" y="2759040"/>
            <a:ext cx="2131560" cy="58068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ADD  r5, r4, #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WI  0x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2739960"/>
            <a:ext cx="6569280" cy="325764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MOV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0, r4      ; r4 --&gt; r0 (param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MOV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1, #4      ; 4  --&gt; r1 (param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B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c_add       ; call c_a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MOV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5, r0      ; r0 (result) --&gt; r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WI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0x11        ; termin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c_ad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MOV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12, r13    ; save 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TMDB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13!, {r0,r1,r11,r12,r14,pc} ; save re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UB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11, r12, #4  ; (sp - 4) --&gt; r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MOV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2, r0      ; param 1 --&gt; 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AD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3, r2, r1  ; 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  <a:ea typeface="宋体"/>
              </a:rPr>
              <a:t>param 1 + param 2 --&gt; r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MOV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0, r3      ; move result to r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LDMDB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11, {r11, r13, pc} ; restore re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Aggressive Compiler Optimizations (2)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宋体"/>
              </a:rPr>
              <a:t>Loop Unrolling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oing multiple iterations of work in each iteration is called “loop unrolling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imes New Roman"/>
                <a:ea typeface="宋体"/>
              </a:rPr>
              <a:t>Benef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: reduction in looping overheads and opportunity for more code op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ng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: code bloat, negative instruction cache effects,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on­integral loop di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ppropriate when small and/or called from small number of si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Courier New"/>
                <a:ea typeface="宋体"/>
              </a:rPr>
              <a:t>Befor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88600" y="2438280"/>
            <a:ext cx="3519720" cy="393012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OV r4, #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ym1:CMP r4, 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  <a:ea typeface="宋体"/>
              </a:rPr>
              <a:t>#4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BLT sym3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B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ym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ym2:ADD r4, r4, #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  <a:ea typeface="宋体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B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ym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ym3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DR r1, [r13, r4, lsl #2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DD r0, r13, r4, lsl #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DR r0, [r0, #4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DD r1, r1, r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DD r0, r13, r4, lsl #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DR r0, [r0, #8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DD r1, r1, r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DD r0, r13, r4, lsl #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DR r0, [r0, #0xc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DD r6, r1, r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B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ym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ym4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54864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urier New"/>
                <a:ea typeface="宋体"/>
              </a:rPr>
              <a:t>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6920" y="2514600"/>
            <a:ext cx="4349160" cy="277092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MOV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4, #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ym1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CMP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4, #0x1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BL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ym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B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ym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ym2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AD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4, r4, #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B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ym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ym3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LD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0, [r13, r4, lsl #2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AD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5, r0, r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B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ym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ym4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1240" y="5883120"/>
            <a:ext cx="36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Loop in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宋体"/>
              </a:rPr>
              <a:t>sym3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 is unrolled 4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1880" y="3886200"/>
            <a:ext cx="228600" cy="228600"/>
          </a:xfrm>
          <a:prstGeom prst="ellipse">
            <a:avLst/>
          </a:pr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1880" y="4191120"/>
            <a:ext cx="228600" cy="228600"/>
          </a:xfrm>
          <a:prstGeom prst="ellipse">
            <a:avLst/>
          </a:pr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1880" y="4648320"/>
            <a:ext cx="228600" cy="228600"/>
          </a:xfrm>
          <a:prstGeom prst="ellipse">
            <a:avLst/>
          </a:pr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宋体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1880" y="5257800"/>
            <a:ext cx="228600" cy="228600"/>
          </a:xfrm>
          <a:prstGeom prst="ellipse">
            <a:avLst/>
          </a:pr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宋体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2280" y="-76320"/>
            <a:ext cx="8686800" cy="69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Architectural/Code Optimizations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Often, it is important to understand the architecture's implementation in order to effectively optimize cod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uch more difficult for compilers to do because it requires a different compiler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宋体"/>
              </a:rPr>
              <a:t>back-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for every 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One example of this is the ARM barrel shifter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an convert Y * Constant into series of adds and shif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 * 9 = Y * 8 + Y *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ssume R1 holds Y and R2 will hold the resul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DD R2, R1, R1, LSL #3 ; LSL #3 is same as * by 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Another example is the ARM 7500 write buffer specific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ARM Path to Memory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12444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Normally, a STR will write data directly to memory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Exampl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Courier New"/>
                <a:ea typeface="宋体"/>
              </a:rPr>
              <a:t>STR r1, SP!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rites contents of r1 to memo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quire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ycles, wher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is the time necessary to access memory (typically 5 ­ 100 cyc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Very costly to performance but doesn't really matter what the code looks li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0" y="914400"/>
            <a:ext cx="1676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ddress Regist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2286000"/>
            <a:ext cx="167652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gister Ban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4648320"/>
            <a:ext cx="167652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Mem Addr 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86400" y="4648320"/>
            <a:ext cx="167652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Write Data 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91520" y="4648320"/>
            <a:ext cx="167616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Read Data/ Instr Re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76920" y="5562720"/>
            <a:ext cx="266688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5880" y="1600200"/>
            <a:ext cx="99072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Incremen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72200" y="3200400"/>
            <a:ext cx="99072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Barrel Shift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3581280"/>
            <a:ext cx="1371600" cy="457200"/>
          </a:xfrm>
          <a:custGeom>
            <a:avLst/>
            <a:gdLst>
              <a:gd name="textAreaLeft" fmla="*/ 301680 w 1371600"/>
              <a:gd name="textAreaRight" fmla="*/ 1069920 w 137160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32-bit AL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4952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43800" y="5867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88600" y="58658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89320" y="49514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11430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91120" y="42670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248520" y="403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2880" y="1143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9112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528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1447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05720" y="1447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1143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7162920" y="2514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7162920" y="1143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86600" y="182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077320" y="30477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940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30481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294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8153280" y="4952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24320" y="515448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Courier New"/>
                <a:ea typeface="宋体"/>
              </a:rPr>
              <a:t>Dout[31: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91280" y="518148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Courier New"/>
                <a:ea typeface="宋体"/>
              </a:rPr>
              <a:t>Data[31: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88720" y="24066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Courier New"/>
                <a:ea typeface="宋体"/>
              </a:rPr>
              <a:t>ALU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106840" y="32767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Courier New"/>
                <a:ea typeface="宋体"/>
              </a:rPr>
              <a:t>B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50880" y="31687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Courier New"/>
                <a:ea typeface="宋体"/>
              </a:rPr>
              <a:t>A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61440" y="1600200"/>
            <a:ext cx="135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0021"/>
                </a:solidFill>
                <a:latin typeface="Courier New"/>
                <a:ea typeface="宋体"/>
              </a:rPr>
              <a:t>Increm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0021"/>
                </a:solidFill>
                <a:latin typeface="Courier New"/>
                <a:ea typeface="宋体"/>
              </a:rPr>
              <a:t>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400800" y="4266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00800" y="42670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29400" y="28195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0481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07732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ARM Write Buffer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2514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“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Write buffer” holds writes and slowly retires them to memory while processor continues to execute other instructions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Allows multiple writes to occur back­to­back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Now the order of code </a:t>
            </a: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does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matter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86400" y="990720"/>
            <a:ext cx="16765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ddress Regist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2362320"/>
            <a:ext cx="167652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gister Ban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81280" y="4724280"/>
            <a:ext cx="167652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Mem Addr 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86400" y="4724280"/>
            <a:ext cx="167652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Write Data 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4724280"/>
            <a:ext cx="167616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Read Data/Instr Re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76920" y="5638680"/>
            <a:ext cx="266688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1676520"/>
            <a:ext cx="99072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Incremen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72200" y="3276720"/>
            <a:ext cx="99072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Barrel Shift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3657600"/>
            <a:ext cx="1371600" cy="457200"/>
          </a:xfrm>
          <a:custGeom>
            <a:avLst/>
            <a:gdLst>
              <a:gd name="textAreaLeft" fmla="*/ 301680 w 1371600"/>
              <a:gd name="textAreaRight" fmla="*/ 1069920 w 137160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32-bit AL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5029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43800" y="5943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600" y="5942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89320" y="50277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52880" y="12193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1911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248520" y="4114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528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52880" y="2590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67280" y="2895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1523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0120" y="1219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716292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7162920" y="1219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86600" y="1905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8077320" y="3123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2895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294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29400" y="2971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3124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2940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8153280" y="5029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24320" y="523080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Courier New"/>
                <a:ea typeface="宋体"/>
              </a:rPr>
              <a:t>Dout[31: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91280" y="525780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Courier New"/>
                <a:ea typeface="宋体"/>
              </a:rPr>
              <a:t>Data[31: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88720" y="18288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Courier New"/>
                <a:ea typeface="宋体"/>
              </a:rPr>
              <a:t>ALU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106840" y="33526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Courier New"/>
                <a:ea typeface="宋体"/>
              </a:rPr>
              <a:t>B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50880" y="32446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Courier New"/>
                <a:ea typeface="宋体"/>
              </a:rPr>
              <a:t>A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61440" y="1676520"/>
            <a:ext cx="135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0021"/>
                </a:solidFill>
                <a:latin typeface="Courier New"/>
                <a:ea typeface="宋体"/>
              </a:rPr>
              <a:t>Increm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0021"/>
                </a:solidFill>
                <a:latin typeface="Courier New"/>
                <a:ea typeface="宋体"/>
              </a:rPr>
              <a:t>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352680" y="3200400"/>
            <a:ext cx="762120" cy="1143000"/>
            <a:chOff x="3352680" y="3200400"/>
            <a:chExt cx="762120" cy="1143000"/>
          </a:xfrm>
        </p:grpSpPr>
        <p:sp>
          <p:nvSpPr>
            <p:cNvPr id="194" name=""/>
            <p:cNvSpPr/>
            <p:nvPr/>
          </p:nvSpPr>
          <p:spPr>
            <a:xfrm>
              <a:off x="3352680" y="3200400"/>
              <a:ext cx="762120" cy="1143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606840" y="32004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60640" y="32004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 flipV="1">
            <a:off x="640080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00800" y="4343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43434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3886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718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718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71800" y="45720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19920" y="4572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1160" y="2514600"/>
            <a:ext cx="2053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  <a:ea typeface="宋体"/>
              </a:rPr>
              <a:t>Write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宋体"/>
              </a:rPr>
              <a:t>(holds address and dat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7732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Critical Thinking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5334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When is optimization a bad thing?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772400" y="152280"/>
            <a:ext cx="1204920" cy="21337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2514600" y="1600200"/>
            <a:ext cx="40813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ummary of Lectu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Profiling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mdahl’s L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80/20 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ofiling in the ARM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Improving program performanc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tandard compiler optimiz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mmon sub-expression elim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ead-code elim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nduction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ggressive compiler optimiz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n-lining of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oop unro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rchitectural code optimiz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And Now For Something Completely Different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Good luck for Quiz #1 !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ummary of Previous Lectu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Overview of the ARM Debug Monitor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Loading a Program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The ARM Image Forma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What happens on program startup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Outline of This Lectu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Profiling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mdahl’s 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e 80/20 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ofiling in the ARM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Improving program performanc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tandard compiler optimiz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ggressive compiler optimiz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rchitectural code optimiz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Quote of the Day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2144880"/>
            <a:ext cx="64771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宋体"/>
              </a:rPr>
              <a:t>I haven’t failed.  I’ve found 10,000 ways that won’t work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 algn="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enjamin Frankl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Profiling and Benchmark Analysis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宋体"/>
              </a:rPr>
              <a:t>Problem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: You're given a program's source code (which someone else wrote) and asked to improve its performance by at least 20%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Where do you begin?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ook  at source code and try to find inefficient C co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ry rewriting some of it in assemb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write using a different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Remove random portions of the code)  </a:t>
            </a:r>
            <a:r>
              <a:rPr b="0" lang="en-US" sz="2000" spc="-1" strike="noStrike">
                <a:solidFill>
                  <a:srgbClr val="993300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Gene Amdahl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4076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One of the original architects of the IBM 360 mainframe seri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Founded four compani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mdahl Corpo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rilogy Systems (Part of Elxs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ndor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mmercial Data Servers (CD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A relatively few sequential instructions might have a limiting factor on program speedup such that adding more processors may not make the program run faster.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876920" y="1219320"/>
            <a:ext cx="38955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Amdahl’s Law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01028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Profiling and Benchmark Analysis (cont’d)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Most important question ...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 is the program spending most of its time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宋体"/>
              </a:rPr>
              <a:t>Amdahl's Law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performance improvement gained from using some faster mode of execution is limited by the fraction of the total time the faster mode can be u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Example: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38280" y="3733920"/>
            <a:ext cx="15242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ptimiz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4572000"/>
            <a:ext cx="1524240" cy="1752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Unoptimiz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572000"/>
            <a:ext cx="1524240" cy="1752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Unoptimiz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4114800"/>
            <a:ext cx="152424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x Speed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7T05:10:06Z</dcterms:created>
  <dc:creator>Raj Rajkumar</dc:creator>
  <dc:description/>
  <dc:language>en-US</dc:language>
  <cp:lastModifiedBy>jjohnso2</cp:lastModifiedBy>
  <cp:lastPrinted>2001-01-31T16:38:40Z</cp:lastPrinted>
  <dcterms:modified xsi:type="dcterms:W3CDTF">2004-09-07T22:23:00Z</dcterms:modified>
  <cp:revision>132</cp:revision>
  <dc:subject>Om Anjaneya Namah</dc:subject>
  <dc:title>Vakratundam Mahakayam</dc:title>
</cp:coreProperties>
</file>