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32000" cy="484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76720" y="-360"/>
            <a:ext cx="3132000" cy="484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38040" y="725400"/>
            <a:ext cx="4833720" cy="36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05480"/>
            <a:ext cx="313200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76720" y="9105480"/>
            <a:ext cx="313200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1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75164B7-1E74-4FA9-AB5C-36ECF5C97D7A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B98D8ED-73B4-4382-8CE3-1A6C2C2B7FD8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05B13EC-ED95-4F8E-AD8D-8D5A64FF8919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3858C14-5998-48F9-852B-5EA2E5DE0E9F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27806BE-58C3-4814-8C33-E4685E24B4A4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F32926B-CCEB-4986-A3E7-3FF0EEF9BB89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5A9A977-9FEE-459E-BD33-80CA69C1A2E0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A636B5F-8DD5-45BB-9EE3-D996CFDE5541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F1C5C47-17DE-43C1-930F-3607FBBFA080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8BC9ACE-4F2A-47CF-9398-64E6A497C59B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7DF72FD-7497-4501-9A93-279E91C5790F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5E19539-C157-496A-A597-85BFE15E26FB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B75EDCC-7106-4087-8ED0-74F7DB9733B4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F224-F782-4BB5-A9D9-42210185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A76-EF58-4C1A-A109-2986ED44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B4CD-F401-4263-8F1C-80533DF7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A0B7-0EAF-49F7-B0B0-45725FEF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B93F-EA8E-4DAB-98AB-977B2FEB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E770-7A78-4FA6-9E3E-CAD69EFA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5145-58B0-46DC-BB11-6E65EC2D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49C8-E1AB-41E4-9060-2EE33071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642D-451B-4345-89B4-3412170B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03B7-BC86-40FC-8CC2-ADA47A74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14E0-EFA0-4DFA-99C8-72C830A1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24E2-B966-4E29-8471-72AE60E7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A998-DD17-481D-BBF2-08B7C3CD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AE2F-3870-4564-9266-A3159754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5197-9E80-42D6-BC2B-91E421FA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3798-114D-49EB-AAC2-D9E80BE7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A857-B16A-48A6-B552-91EEA540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E1F2-DE62-45BE-9676-FE5B268D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B60D-C020-45FE-9818-D8A45C2B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971B-9884-4390-9D59-24C17B90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E14D-B232-47CB-9AAA-B7483E4F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BB5-C49A-4F01-93AE-D9D8F9B5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8A67-3755-4BE4-BD8B-0B9DF741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5D15-FB2A-42D9-B7AE-EC42384D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33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33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Wireless Sensor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33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1EBB-3086-452D-9C68-3F809C57E19C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4771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ireless Sensor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0A7C-25DA-433C-8DBB-E7FC480E3F2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Wireless Sensor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AD51-024B-485B-8BDE-FB8372527759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Operating systems for embedded system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ded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they differ from desktop operating syst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concurrency handl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resource conflicts manag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/C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ity in the presence of interru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Wireless Sensor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32ED-759E-42FD-A0B5-1D8040B8A2C9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Handling concurrency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opera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854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threads or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854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854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emory and p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854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/output (buffering between CPU, memory, and I/O dev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854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 handling (mostly with I/O dev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854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allocation and arbi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854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interface (execution of progr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ded opera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854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weight th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854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854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854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guaran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Wireless Sensor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6446-B4D0-47D0-9BD2-F442A2D51032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mbedded operating system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weight th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context-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 for talking to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 handling (with I/O devices and U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 interrupts into events to be handled by user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 new tasks to run (reac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rantee task is called at a certai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rantee an interrupt will be handled within a certai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 or deadline driven scheduling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Wireless Sensor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29D0-EDEB-4E2D-8F0F-02143756B630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6172200" y="533520"/>
            <a:ext cx="2630520" cy="118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mbedded operating systems typically reside in ROM (flash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changed rar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Some Exampl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4288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3196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cket PC/WindowsCE/WindowsMo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920" indent="-26532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A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1920" indent="-26532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-off of Windows 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1920" indent="-26532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ble to a wide variety of processors (e.g., X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1920" indent="-26532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-featured OS modularized to only include feature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 River Systems Vx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920" indent="-26532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most popular embedded OS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1920" indent="-26532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portable to an even wider variety of processors (tiny to hu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1920" indent="-26532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arized even further than the ones above (basic system under 50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920" indent="-26532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source development environment specifically for small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1920" indent="-26532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(and tiny)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5960" indent="-21312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r/event model of concurrenc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5960" indent="-21312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components for efficient mod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5960" indent="-21312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encapsulation for resources of sensor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1920" indent="-26532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ing language and model – ne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9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  <a:ea typeface="宋体"/>
              </a:rPr>
              <a:t>Metrics in Real-Time Systems (1/2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宋体"/>
              </a:rPr>
              <a:t>End-to-end lat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.g. worst-case, average-case, variance,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an involve multiple hops (across nodes, links, switches and rou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ehavior in the presence or absence of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宋体"/>
              </a:rPr>
              <a:t>J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宋体"/>
              </a:rPr>
              <a:t>Throughp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ow many X can be process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ow many messages can be transmit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宋体"/>
              </a:rPr>
              <a:t>Surviv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ow many faults can be tolerated before system fail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at functionality gets compromis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  <a:ea typeface="宋体"/>
              </a:rPr>
              <a:t>Metrics in Real-Time Systems (2/2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Arial"/>
                <a:ea typeface="宋体"/>
              </a:rPr>
              <a:t>Secur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Can the system’s integrity be compromised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Can violations be detected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Arial"/>
                <a:ea typeface="宋体"/>
              </a:rPr>
              <a:t>Safe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Is the system “safe”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Can the system get into an ‘unsafe’ state? Has it been ‘certified’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Arial"/>
                <a:ea typeface="宋体"/>
              </a:rPr>
              <a:t>Maintainabil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How does one fix problem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How does the system get upgraded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Arial"/>
                <a:ea typeface="宋体"/>
              </a:rPr>
              <a:t>Dynamism and Adaptabil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What happens when the system mission change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What happens when individual elements fail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Can the system reconfigure itself dynamically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How does the system behave after re-configuration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  <a:ea typeface="宋体"/>
              </a:rPr>
              <a:t>RTOS Consideration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What processor(s) does it run 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8-bit, 16-bit, 32-bit,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Intel Pentium® Processor, PowerPC, Arm/StrongArm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 Intel Xscale®, MIPS, SuperH,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IBM and Intel® Network Processo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What board(s) does it run 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Complete software package for a particular hardware board is called a BSP (Board Support Packag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What is the software environmen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Compilers and debugg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I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Cross-compilation + symbolic debugging on target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Profilers (CPU, memory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Test coverage too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Native simulation/emulation support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宋体"/>
              </a:rPr>
              <a:t>Real-Time Operating System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Windows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Embedded XP, Windows CE, Pocket Window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VxWorks from Wind River Systems (www.windriver.c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inux vari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Blue Cat Linux (www.lynuxworks.com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(Embedded) Red Hat Linux (www.redhat.com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FSM RT-Linux (www.fsmlabs.com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Monta Vista Linux (www.mvista.com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TimeSys Linux (www.timesys.com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ynxOS (www.lynuxworks.c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QNX (www.qnx.c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Solaris real-time exten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TR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Embedded OS specification in Jap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Has multiple profiles for different classes of devic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  <a:ea typeface="宋体"/>
              </a:rPr>
              <a:t>Common RTOS Featur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ootstrapp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eadless”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Display not necessa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PIs (Application Programming Interfa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ultiple threads and/or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Fixed priority scheduling is most popul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utex/semaphore support likely with priority inheritan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er-process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Message queu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mers/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raphic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vice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twork protocol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  <a:ea typeface="宋体"/>
              </a:rPr>
              <a:t>Emerging RTOS Requiremen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010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ull-featured opera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pport for new processors and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pport for Internet protocol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pport for Multimedia protocol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pport for Fil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mory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source protection,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velopment tools and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UI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547640" y="5329080"/>
            <a:ext cx="6107400" cy="75564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is with low and predictable overhe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Wireless Sensor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38A3-D43B-4851-B1DC-E7EFB3A0F9FF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Garamond"/>
              </a:rPr>
              <a:t>Future???  Android Layer C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Content Placeholder 15" descr="system-architecture.jpg"/>
          <p:cNvPicPr/>
          <p:nvPr/>
        </p:nvPicPr>
        <p:blipFill>
          <a:blip r:embed="rId1"/>
          <a:stretch/>
        </p:blipFill>
        <p:spPr>
          <a:xfrm>
            <a:off x="609480" y="990720"/>
            <a:ext cx="792504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Wireless Sensor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F498-E966-4679-B080-13985471E5C0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mbedded Operating System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s of all operatin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ion of system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ing of system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ktop operatin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-purpose – all features may be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-scale resources – memory, disk,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edded operatin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-specific – just use features you need, sav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-scale resources – sensors, communication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Wireless Sensor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C4C9-4B19-4A39-A737-FB99A11BBFD2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System Resources on Typical Sensor Nod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Wireless Sensor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A56A-5AFD-4A62-9149-AF085B8C61D9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Abstraction of System Resourc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virtual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multiple timers from one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them to be shared by multiple threads of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two applications that want to share radio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drivers provide interface for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e frequently used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device state (if a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 interrupt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Wireless Sensor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0C8E-53A9-422A-BA63-284C03AA1722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Very simple device driv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LED on/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port_pin)     - specifies the port pin (e.g., port D pin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(port_p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if other devices want to use the same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Wireless Sensor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68C0-9AFE-4B68-9195-61298368028E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Simple device driv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ing an LED on and off at a fixed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 at which to blink 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(port_pin,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3184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es the port pin (e.g., port D pin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3184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es the rate to use in setting up the timer (what scale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(port_p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state and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track of state (on or off for a particular pin) of each 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upt service routine to handle timer 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Wireless Sensor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ADCC-A0B5-4753-9256-B5291FE9FCCD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nteresting interaction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other devices also need to use tim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, PWM device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r interrupts now need to be handled differently depending on which device’s alarm is going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of special-purpose output compare periph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compare pins used exclusively for one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compare has a separate interrupt handling 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we don’t have output compare capability or run out of output compare un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Wireless Sensor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AABC-EB36-4388-8B4F-0A0A71A94308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Sharing timer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5396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device driver for the timer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other devices to ask for time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 timer independently so that it can service multiple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wait, address to call when timer reaches tha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_timer(time_to_wait, call_back_add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318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call_back_address to correspond to time+time_to_w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318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 next alarm to sound and set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318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in interrupt service routine for next al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state and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alarms can the driver keep track of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re they organized? FIFO? priority que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Wireless Sensor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576E-A9A6-47ED-BE57-6970B7AD5070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oncurrency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25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6440" indent="-3164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rograms interleaved as if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gram requests access to devices/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62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timers, serial port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ve or concurrent access to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62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only one program at a time to access a device (e.g., serial 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62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te multiple accesses (e.g., ti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and arbitration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62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track of state of devices and concurrent programs using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62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te their accesses (order, fairness, exclusiv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62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s/locks (supported by primitive operations in ISA - test-and-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62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bling may effect timing of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62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ing enabled may cause unwanted inte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21:47:40Z</dcterms:created>
  <dc:creator>Bruce Hemingway</dc:creator>
  <dc:description/>
  <dc:language>en-US</dc:language>
  <cp:lastModifiedBy>Bruce Hemingway</cp:lastModifiedBy>
  <cp:lastPrinted>2007-10-23T23:31:01Z</cp:lastPrinted>
  <dcterms:modified xsi:type="dcterms:W3CDTF">2010-11-22T08:27:53Z</dcterms:modified>
  <cp:revision>82</cp:revision>
  <dc:subject/>
  <dc:title>CSE466 Syllabus</dc:title>
</cp:coreProperties>
</file>