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9.png" ContentType="image/png"/>
  <Override PartName="/ppt/media/image8.png" ContentType="image/pn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1231920" y="727200"/>
            <a:ext cx="4849920" cy="363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PTE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i S.Al-Wak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1A10-18D9-45F9-955F-843B8221D4F2}" type="slidenum">
              <a:rPr b="0" lang="ar-S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231920" y="727200"/>
            <a:ext cx="4849920" cy="36338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PTE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i S.Al-Wak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19E1-C399-45E1-838E-1E3E561053AF}" type="slidenum">
              <a:rPr b="0" lang="ar-S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231920" y="727200"/>
            <a:ext cx="4849920" cy="363384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PTE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i S.Al-Wak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7D13-DDCB-486D-9229-594BCA35F3FA}" type="slidenum">
              <a:rPr b="0" lang="ar-S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231920" y="727200"/>
            <a:ext cx="4849920" cy="363384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PTE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6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i S.Al-Wak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B232-FEB6-4D9D-A019-5F5BE30E0640}" type="slidenum">
              <a:rPr b="0" lang="ar-S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231920" y="727200"/>
            <a:ext cx="4849920" cy="36338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B45B-AC82-4F36-827C-87EEAD8F8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0724-FC3E-4049-8D51-29617BDD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4A6A-8B14-4AFB-BAF7-7106B99CF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CA1A-9F6B-474A-A475-2961C2345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0C37-FFAB-47F5-A5F6-E41EFA709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9161-AF24-4335-A20D-583E1143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73F0-1073-4664-91D4-CB3163AB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BAE2-80EC-4279-8B75-7394FBE2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59EF-6596-4C70-B493-37DB3722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5975-3F4A-45B3-906A-87F4FDD8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460B-93F4-4D7C-BBF5-80672604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E623-F295-43C7-86E2-FCA2C87E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55C7D-423C-4F91-A4C8-5176DCC8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C4C3-918A-4EB2-8F5D-DF639DA7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DC94-A3D5-4D36-A24C-26A64228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BAD1-A728-4EB4-84D7-E1D5BC0AA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DD1A9-7508-4B65-85F3-80A65E0B6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9508-35DD-4CF6-B000-9C038733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C6F7-E43A-4D45-9852-13A98DD1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F76C-4CEC-408B-8714-AA871680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2957-F5F5-4128-8051-C2624FA3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FE78-BEFE-49CA-8765-E7E66C97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30CF-E32F-4994-9AAB-CAB16869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05CF-6A5E-4999-AD0D-056E623F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66920" y="6329160"/>
            <a:ext cx="293688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2D6F-672B-4A85-A7B2-353AD9BF373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5920" y="231840"/>
            <a:ext cx="8343720" cy="61740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63680" y="6551640"/>
            <a:ext cx="834372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17400" y="1235160"/>
            <a:ext cx="8035920" cy="92556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D453-2486-46BB-843B-2BE69C2E544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2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ooter Placeholder 4"/>
          <p:cNvSpPr/>
          <p:nvPr/>
        </p:nvSpPr>
        <p:spPr>
          <a:xfrm>
            <a:off x="3166920" y="6329520"/>
            <a:ext cx="2936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C60F73D-E88A-4DEF-A479-E93ED638584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786280" y="5964120"/>
          <a:ext cx="2449800" cy="44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86280" y="5964120"/>
                    <a:ext cx="2449800" cy="4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5770440" y="4898880"/>
          <a:ext cx="2509920" cy="505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70440" y="4898880"/>
                    <a:ext cx="250992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5789520" y="5430960"/>
          <a:ext cx="2459160" cy="5220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89520" y="5430960"/>
                    <a:ext cx="245916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Communication methods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44080" cy="2666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mmunication method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 and signalling conventions used to transmit data between digital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physical layers methods includ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s, radio frequency (RF), optical (I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encoding schemes includ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plitude, frequency, and pulse-width mod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24"/>
          <p:cNvGrpSpPr/>
          <p:nvPr/>
        </p:nvGrpSpPr>
        <p:grpSpPr>
          <a:xfrm>
            <a:off x="5842080" y="4591080"/>
            <a:ext cx="2346840" cy="235440"/>
            <a:chOff x="5842080" y="4591080"/>
            <a:chExt cx="2346840" cy="235440"/>
          </a:xfrm>
        </p:grpSpPr>
        <p:sp>
          <p:nvSpPr>
            <p:cNvPr id="101" name="Line 25"/>
            <p:cNvSpPr/>
            <p:nvPr/>
          </p:nvSpPr>
          <p:spPr>
            <a:xfrm>
              <a:off x="5842080" y="4826520"/>
              <a:ext cx="234720" cy="0"/>
            </a:xfrm>
            <a:prstGeom prst="line">
              <a:avLst/>
            </a:prstGeom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26"/>
            <p:cNvSpPr/>
            <p:nvPr/>
          </p:nvSpPr>
          <p:spPr>
            <a:xfrm flipV="1">
              <a:off x="6076800" y="4591080"/>
              <a:ext cx="0" cy="235440"/>
            </a:xfrm>
            <a:prstGeom prst="line">
              <a:avLst/>
            </a:prstGeom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27"/>
            <p:cNvSpPr/>
            <p:nvPr/>
          </p:nvSpPr>
          <p:spPr>
            <a:xfrm>
              <a:off x="6076800" y="4591080"/>
              <a:ext cx="234720" cy="0"/>
            </a:xfrm>
            <a:prstGeom prst="line">
              <a:avLst/>
            </a:prstGeom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6311880" y="4591080"/>
              <a:ext cx="0" cy="235440"/>
            </a:xfrm>
            <a:prstGeom prst="line">
              <a:avLst/>
            </a:prstGeom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6311880" y="4826520"/>
              <a:ext cx="233640" cy="0"/>
            </a:xfrm>
            <a:prstGeom prst="line">
              <a:avLst/>
            </a:prstGeom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 flipV="1">
              <a:off x="6545880" y="4591080"/>
              <a:ext cx="0" cy="235440"/>
            </a:xfrm>
            <a:prstGeom prst="line">
              <a:avLst/>
            </a:prstGeom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31"/>
            <p:cNvSpPr/>
            <p:nvPr/>
          </p:nvSpPr>
          <p:spPr>
            <a:xfrm>
              <a:off x="6545880" y="4591080"/>
              <a:ext cx="469800" cy="0"/>
            </a:xfrm>
            <a:prstGeom prst="line">
              <a:avLst/>
            </a:prstGeom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32"/>
            <p:cNvSpPr/>
            <p:nvPr/>
          </p:nvSpPr>
          <p:spPr>
            <a:xfrm>
              <a:off x="7016040" y="4591080"/>
              <a:ext cx="0" cy="235440"/>
            </a:xfrm>
            <a:prstGeom prst="line">
              <a:avLst/>
            </a:prstGeom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33"/>
            <p:cNvSpPr/>
            <p:nvPr/>
          </p:nvSpPr>
          <p:spPr>
            <a:xfrm>
              <a:off x="7016040" y="4826520"/>
              <a:ext cx="233640" cy="0"/>
            </a:xfrm>
            <a:prstGeom prst="line">
              <a:avLst/>
            </a:prstGeom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34"/>
            <p:cNvSpPr/>
            <p:nvPr/>
          </p:nvSpPr>
          <p:spPr>
            <a:xfrm flipV="1">
              <a:off x="7250040" y="4591080"/>
              <a:ext cx="0" cy="235440"/>
            </a:xfrm>
            <a:prstGeom prst="line">
              <a:avLst/>
            </a:prstGeom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35"/>
            <p:cNvSpPr/>
            <p:nvPr/>
          </p:nvSpPr>
          <p:spPr>
            <a:xfrm>
              <a:off x="7250040" y="4591080"/>
              <a:ext cx="703800" cy="0"/>
            </a:xfrm>
            <a:prstGeom prst="line">
              <a:avLst/>
            </a:prstGeom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36"/>
            <p:cNvSpPr/>
            <p:nvPr/>
          </p:nvSpPr>
          <p:spPr>
            <a:xfrm>
              <a:off x="7954200" y="4591080"/>
              <a:ext cx="0" cy="235440"/>
            </a:xfrm>
            <a:prstGeom prst="line">
              <a:avLst/>
            </a:prstGeom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37"/>
            <p:cNvSpPr/>
            <p:nvPr/>
          </p:nvSpPr>
          <p:spPr>
            <a:xfrm>
              <a:off x="7954200" y="4826520"/>
              <a:ext cx="234720" cy="0"/>
            </a:xfrm>
            <a:prstGeom prst="line">
              <a:avLst/>
            </a:prstGeom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4" name=""/>
          <p:cNvGraphicFramePr/>
          <p:nvPr/>
        </p:nvGraphicFramePr>
        <p:xfrm>
          <a:off x="722160" y="4027320"/>
          <a:ext cx="7898040" cy="2360880"/>
        </p:xfrm>
        <a:graphic>
          <a:graphicData uri="http://schemas.openxmlformats.org/drawingml/2006/table">
            <a:tbl>
              <a:tblPr/>
              <a:tblGrid>
                <a:gridCol w="4500720"/>
                <a:gridCol w="3397320"/>
              </a:tblGrid>
              <a:tr h="40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ation Techn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vefo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18288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encoding (Baseban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18288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-Off Keying (OOK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18288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Shift Keying (FSK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18288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ary Phase Shift Keying (BPSK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3166920" y="6329520"/>
            <a:ext cx="2936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FC4F5E5-299E-4159-94AA-53089889134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Serial case studies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RS-232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IEEE standard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rial protocol for point-to-point, low-cost, low-speed applications for PC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I2C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Philips) TWI (Atmel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p to 400Kbits/sec, serial bus for connecting multiple compon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thernet (popularized by Xerox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st popular local area network protocol with distributed arbit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rDA (Infrared Data Association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p to 115kbps wireless serial (Fast IrDA up to 4Mb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rewire (Apple – now IEEE1394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2.5-50Mbytes/sec, consumer electronics (video cameras, TVs, audio, etc.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SPI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Motorola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0Mbits/sec, commonly used for microcontroller to peripheral connec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USB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Intel – followed by USB-2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2-480Mbits/sec, isochronous transfer, desktop devic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luetooth (Ericsson – cable replacement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700Kbits/sec, multiple portable devices, special support for audi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3"/>
          <p:cNvSpPr/>
          <p:nvPr/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3166920" y="6329520"/>
            <a:ext cx="2936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2E6A725-45F2-4AAE-AC7A-74D8BA21FD4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RS-232 (standard serial line)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-to-point, full-du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ous or asynchron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 baud (bit)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ap connections (low-quality and few wi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riations: parity bit; 1, 1.5, or 2 stop b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5"/>
          <p:cNvSpPr/>
          <p:nvPr/>
        </p:nvSpPr>
        <p:spPr>
          <a:xfrm>
            <a:off x="657360" y="4229280"/>
            <a:ext cx="901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6"/>
          <p:cNvSpPr/>
          <p:nvPr/>
        </p:nvSpPr>
        <p:spPr>
          <a:xfrm>
            <a:off x="1565280" y="42354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7"/>
          <p:cNvSpPr/>
          <p:nvPr/>
        </p:nvSpPr>
        <p:spPr>
          <a:xfrm>
            <a:off x="1571760" y="4457880"/>
            <a:ext cx="55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 flipV="1">
            <a:off x="2136600" y="4222800"/>
            <a:ext cx="0" cy="241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2143080" y="4457880"/>
            <a:ext cx="55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0"/>
          <p:cNvSpPr/>
          <p:nvPr/>
        </p:nvSpPr>
        <p:spPr>
          <a:xfrm>
            <a:off x="2143080" y="4229280"/>
            <a:ext cx="55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1"/>
          <p:cNvSpPr/>
          <p:nvPr/>
        </p:nvSpPr>
        <p:spPr>
          <a:xfrm flipV="1">
            <a:off x="2708280" y="4222800"/>
            <a:ext cx="0" cy="241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2"/>
          <p:cNvSpPr/>
          <p:nvPr/>
        </p:nvSpPr>
        <p:spPr>
          <a:xfrm>
            <a:off x="2714760" y="4457880"/>
            <a:ext cx="5601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3"/>
          <p:cNvSpPr/>
          <p:nvPr/>
        </p:nvSpPr>
        <p:spPr>
          <a:xfrm>
            <a:off x="2714760" y="4229280"/>
            <a:ext cx="5601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4"/>
          <p:cNvSpPr/>
          <p:nvPr/>
        </p:nvSpPr>
        <p:spPr>
          <a:xfrm flipV="1">
            <a:off x="3279600" y="4222800"/>
            <a:ext cx="0" cy="241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5"/>
          <p:cNvSpPr/>
          <p:nvPr/>
        </p:nvSpPr>
        <p:spPr>
          <a:xfrm>
            <a:off x="3286080" y="4457880"/>
            <a:ext cx="55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6"/>
          <p:cNvSpPr/>
          <p:nvPr/>
        </p:nvSpPr>
        <p:spPr>
          <a:xfrm>
            <a:off x="3286080" y="4229280"/>
            <a:ext cx="55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7"/>
          <p:cNvSpPr/>
          <p:nvPr/>
        </p:nvSpPr>
        <p:spPr>
          <a:xfrm flipV="1">
            <a:off x="3851280" y="4222800"/>
            <a:ext cx="0" cy="241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8"/>
          <p:cNvSpPr/>
          <p:nvPr/>
        </p:nvSpPr>
        <p:spPr>
          <a:xfrm>
            <a:off x="3857760" y="4457880"/>
            <a:ext cx="55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9"/>
          <p:cNvSpPr/>
          <p:nvPr/>
        </p:nvSpPr>
        <p:spPr>
          <a:xfrm>
            <a:off x="3857760" y="4229280"/>
            <a:ext cx="55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0"/>
          <p:cNvSpPr/>
          <p:nvPr/>
        </p:nvSpPr>
        <p:spPr>
          <a:xfrm flipV="1">
            <a:off x="4422600" y="4222800"/>
            <a:ext cx="0" cy="241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1"/>
          <p:cNvSpPr/>
          <p:nvPr/>
        </p:nvSpPr>
        <p:spPr>
          <a:xfrm>
            <a:off x="4429080" y="4457880"/>
            <a:ext cx="55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32"/>
          <p:cNvSpPr/>
          <p:nvPr/>
        </p:nvSpPr>
        <p:spPr>
          <a:xfrm>
            <a:off x="4429080" y="4229280"/>
            <a:ext cx="55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33"/>
          <p:cNvSpPr/>
          <p:nvPr/>
        </p:nvSpPr>
        <p:spPr>
          <a:xfrm flipV="1">
            <a:off x="4994280" y="4222800"/>
            <a:ext cx="0" cy="241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4"/>
          <p:cNvSpPr/>
          <p:nvPr/>
        </p:nvSpPr>
        <p:spPr>
          <a:xfrm>
            <a:off x="5000760" y="4457880"/>
            <a:ext cx="55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5"/>
          <p:cNvSpPr/>
          <p:nvPr/>
        </p:nvSpPr>
        <p:spPr>
          <a:xfrm>
            <a:off x="5000760" y="4229280"/>
            <a:ext cx="55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6"/>
          <p:cNvSpPr/>
          <p:nvPr/>
        </p:nvSpPr>
        <p:spPr>
          <a:xfrm flipV="1">
            <a:off x="5565600" y="4222800"/>
            <a:ext cx="0" cy="241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37"/>
          <p:cNvSpPr/>
          <p:nvPr/>
        </p:nvSpPr>
        <p:spPr>
          <a:xfrm>
            <a:off x="6143760" y="4457880"/>
            <a:ext cx="55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38"/>
          <p:cNvSpPr/>
          <p:nvPr/>
        </p:nvSpPr>
        <p:spPr>
          <a:xfrm>
            <a:off x="6143760" y="4229280"/>
            <a:ext cx="55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39"/>
          <p:cNvSpPr/>
          <p:nvPr/>
        </p:nvSpPr>
        <p:spPr>
          <a:xfrm flipV="1">
            <a:off x="6708600" y="4222800"/>
            <a:ext cx="0" cy="241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40"/>
          <p:cNvSpPr/>
          <p:nvPr/>
        </p:nvSpPr>
        <p:spPr>
          <a:xfrm>
            <a:off x="6715080" y="4457880"/>
            <a:ext cx="55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41"/>
          <p:cNvSpPr/>
          <p:nvPr/>
        </p:nvSpPr>
        <p:spPr>
          <a:xfrm>
            <a:off x="6715080" y="4229280"/>
            <a:ext cx="55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42"/>
          <p:cNvSpPr/>
          <p:nvPr/>
        </p:nvSpPr>
        <p:spPr>
          <a:xfrm flipV="1">
            <a:off x="7280280" y="4222800"/>
            <a:ext cx="0" cy="241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43"/>
          <p:cNvSpPr/>
          <p:nvPr/>
        </p:nvSpPr>
        <p:spPr>
          <a:xfrm>
            <a:off x="7286760" y="4229280"/>
            <a:ext cx="55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44"/>
          <p:cNvSpPr/>
          <p:nvPr/>
        </p:nvSpPr>
        <p:spPr>
          <a:xfrm>
            <a:off x="7858080" y="4229280"/>
            <a:ext cx="55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45"/>
          <p:cNvSpPr/>
          <p:nvPr/>
        </p:nvSpPr>
        <p:spPr>
          <a:xfrm>
            <a:off x="5572080" y="4457880"/>
            <a:ext cx="55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46"/>
          <p:cNvSpPr/>
          <p:nvPr/>
        </p:nvSpPr>
        <p:spPr>
          <a:xfrm>
            <a:off x="5572080" y="4229280"/>
            <a:ext cx="55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47"/>
          <p:cNvSpPr/>
          <p:nvPr/>
        </p:nvSpPr>
        <p:spPr>
          <a:xfrm flipV="1">
            <a:off x="6137280" y="4222800"/>
            <a:ext cx="0" cy="241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48"/>
          <p:cNvSpPr/>
          <p:nvPr/>
        </p:nvSpPr>
        <p:spPr>
          <a:xfrm>
            <a:off x="1565280" y="4692600"/>
            <a:ext cx="0" cy="101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49"/>
          <p:cNvSpPr/>
          <p:nvPr/>
        </p:nvSpPr>
        <p:spPr>
          <a:xfrm>
            <a:off x="2136600" y="4692600"/>
            <a:ext cx="0" cy="101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50"/>
          <p:cNvSpPr/>
          <p:nvPr/>
        </p:nvSpPr>
        <p:spPr>
          <a:xfrm>
            <a:off x="2708280" y="4692600"/>
            <a:ext cx="0" cy="101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51"/>
          <p:cNvSpPr/>
          <p:nvPr/>
        </p:nvSpPr>
        <p:spPr>
          <a:xfrm>
            <a:off x="3279600" y="4692600"/>
            <a:ext cx="0" cy="101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52"/>
          <p:cNvSpPr/>
          <p:nvPr/>
        </p:nvSpPr>
        <p:spPr>
          <a:xfrm>
            <a:off x="3851280" y="4692600"/>
            <a:ext cx="0" cy="101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53"/>
          <p:cNvSpPr/>
          <p:nvPr/>
        </p:nvSpPr>
        <p:spPr>
          <a:xfrm>
            <a:off x="4422600" y="4692600"/>
            <a:ext cx="0" cy="101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54"/>
          <p:cNvSpPr/>
          <p:nvPr/>
        </p:nvSpPr>
        <p:spPr>
          <a:xfrm>
            <a:off x="4994280" y="4692600"/>
            <a:ext cx="0" cy="101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55"/>
          <p:cNvSpPr/>
          <p:nvPr/>
        </p:nvSpPr>
        <p:spPr>
          <a:xfrm>
            <a:off x="5565600" y="4692600"/>
            <a:ext cx="0" cy="101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56"/>
          <p:cNvSpPr/>
          <p:nvPr/>
        </p:nvSpPr>
        <p:spPr>
          <a:xfrm>
            <a:off x="6137280" y="4692600"/>
            <a:ext cx="0" cy="101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57"/>
          <p:cNvSpPr/>
          <p:nvPr/>
        </p:nvSpPr>
        <p:spPr>
          <a:xfrm>
            <a:off x="6708600" y="4692600"/>
            <a:ext cx="0" cy="101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58"/>
          <p:cNvSpPr/>
          <p:nvPr/>
        </p:nvSpPr>
        <p:spPr>
          <a:xfrm>
            <a:off x="7280280" y="4692600"/>
            <a:ext cx="0" cy="101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59"/>
          <p:cNvSpPr/>
          <p:nvPr/>
        </p:nvSpPr>
        <p:spPr>
          <a:xfrm>
            <a:off x="7851600" y="4692600"/>
            <a:ext cx="0" cy="101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60"/>
          <p:cNvSpPr/>
          <p:nvPr/>
        </p:nvSpPr>
        <p:spPr>
          <a:xfrm>
            <a:off x="2143080" y="5035680"/>
            <a:ext cx="2273400" cy="215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61"/>
          <p:cNvSpPr/>
          <p:nvPr/>
        </p:nvSpPr>
        <p:spPr>
          <a:xfrm flipV="1">
            <a:off x="4429080" y="5022360"/>
            <a:ext cx="2273400" cy="241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2"/>
          <p:cNvSpPr/>
          <p:nvPr/>
        </p:nvSpPr>
        <p:spPr>
          <a:xfrm>
            <a:off x="1793880" y="5035680"/>
            <a:ext cx="0" cy="78732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63"/>
          <p:cNvSpPr/>
          <p:nvPr/>
        </p:nvSpPr>
        <p:spPr>
          <a:xfrm>
            <a:off x="4422600" y="5264280"/>
            <a:ext cx="0" cy="55872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64"/>
          <p:cNvSpPr/>
          <p:nvPr/>
        </p:nvSpPr>
        <p:spPr>
          <a:xfrm>
            <a:off x="6937200" y="5035680"/>
            <a:ext cx="0" cy="78732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5"/>
          <p:cNvSpPr/>
          <p:nvPr/>
        </p:nvSpPr>
        <p:spPr>
          <a:xfrm>
            <a:off x="7508880" y="5035680"/>
            <a:ext cx="0" cy="78732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6"/>
          <p:cNvSpPr/>
          <p:nvPr/>
        </p:nvSpPr>
        <p:spPr>
          <a:xfrm>
            <a:off x="1476360" y="5854680"/>
            <a:ext cx="69840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art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7"/>
          <p:cNvSpPr/>
          <p:nvPr/>
        </p:nvSpPr>
        <p:spPr>
          <a:xfrm>
            <a:off x="4029120" y="5829480"/>
            <a:ext cx="82548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8 data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8"/>
          <p:cNvSpPr/>
          <p:nvPr/>
        </p:nvSpPr>
        <p:spPr>
          <a:xfrm>
            <a:off x="6353280" y="5867280"/>
            <a:ext cx="74916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parity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9"/>
          <p:cNvSpPr/>
          <p:nvPr/>
        </p:nvSpPr>
        <p:spPr>
          <a:xfrm>
            <a:off x="7419960" y="5854680"/>
            <a:ext cx="5968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op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Date Placeholder 3"/>
          <p:cNvSpPr/>
          <p:nvPr/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ooter Placeholder 4"/>
          <p:cNvSpPr/>
          <p:nvPr/>
        </p:nvSpPr>
        <p:spPr>
          <a:xfrm>
            <a:off x="3166920" y="6329520"/>
            <a:ext cx="2936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5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40B387B-1584-4A38-AEB8-585568A40DC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5410080" y="2362320"/>
            <a:ext cx="3060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wires active low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"0" = -12v, "1" = 12v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al driver chips tha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nerate ±12v from 5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RS-232 wires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Tx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transmit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xC – transmit cl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TS – request to se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TS – clear to sen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Rx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receive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xC – receive cl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R – data set rea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TR – data terminal read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Gro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Date Placeholder 3"/>
          <p:cNvSpPr/>
          <p:nvPr/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ooter Placeholder 4"/>
          <p:cNvSpPr/>
          <p:nvPr/>
        </p:nvSpPr>
        <p:spPr>
          <a:xfrm>
            <a:off x="3166920" y="6329520"/>
            <a:ext cx="2936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5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363FF45-B3B6-413D-B1FA-52AD442A9D6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96"/>
          <p:cNvGrpSpPr/>
          <p:nvPr/>
        </p:nvGrpSpPr>
        <p:grpSpPr>
          <a:xfrm>
            <a:off x="787320" y="5156280"/>
            <a:ext cx="7759440" cy="698400"/>
            <a:chOff x="787320" y="5156280"/>
            <a:chExt cx="7759440" cy="698400"/>
          </a:xfrm>
        </p:grpSpPr>
        <p:sp>
          <p:nvSpPr>
            <p:cNvPr id="230" name="Line 9"/>
            <p:cNvSpPr/>
            <p:nvPr/>
          </p:nvSpPr>
          <p:spPr>
            <a:xfrm>
              <a:off x="787320" y="5162760"/>
              <a:ext cx="9014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0"/>
            <p:cNvSpPr/>
            <p:nvPr/>
          </p:nvSpPr>
          <p:spPr>
            <a:xfrm>
              <a:off x="1695240" y="5168880"/>
              <a:ext cx="0" cy="21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1"/>
            <p:cNvSpPr/>
            <p:nvPr/>
          </p:nvSpPr>
          <p:spPr>
            <a:xfrm>
              <a:off x="1701720" y="5391360"/>
              <a:ext cx="558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2"/>
            <p:cNvSpPr/>
            <p:nvPr/>
          </p:nvSpPr>
          <p:spPr>
            <a:xfrm flipV="1">
              <a:off x="2266920" y="5156280"/>
              <a:ext cx="0" cy="241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3"/>
            <p:cNvSpPr/>
            <p:nvPr/>
          </p:nvSpPr>
          <p:spPr>
            <a:xfrm>
              <a:off x="2273040" y="5391360"/>
              <a:ext cx="558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4"/>
            <p:cNvSpPr/>
            <p:nvPr/>
          </p:nvSpPr>
          <p:spPr>
            <a:xfrm>
              <a:off x="2273040" y="5162760"/>
              <a:ext cx="558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5"/>
            <p:cNvSpPr/>
            <p:nvPr/>
          </p:nvSpPr>
          <p:spPr>
            <a:xfrm flipV="1">
              <a:off x="2838240" y="5156280"/>
              <a:ext cx="0" cy="241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6"/>
            <p:cNvSpPr/>
            <p:nvPr/>
          </p:nvSpPr>
          <p:spPr>
            <a:xfrm>
              <a:off x="2844720" y="5391360"/>
              <a:ext cx="558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7"/>
            <p:cNvSpPr/>
            <p:nvPr/>
          </p:nvSpPr>
          <p:spPr>
            <a:xfrm>
              <a:off x="2844720" y="5162760"/>
              <a:ext cx="558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8"/>
            <p:cNvSpPr/>
            <p:nvPr/>
          </p:nvSpPr>
          <p:spPr>
            <a:xfrm flipV="1">
              <a:off x="3409920" y="5156280"/>
              <a:ext cx="0" cy="241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9"/>
            <p:cNvSpPr/>
            <p:nvPr/>
          </p:nvSpPr>
          <p:spPr>
            <a:xfrm>
              <a:off x="3416040" y="5391360"/>
              <a:ext cx="558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0"/>
            <p:cNvSpPr/>
            <p:nvPr/>
          </p:nvSpPr>
          <p:spPr>
            <a:xfrm>
              <a:off x="3416040" y="5162760"/>
              <a:ext cx="558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1"/>
            <p:cNvSpPr/>
            <p:nvPr/>
          </p:nvSpPr>
          <p:spPr>
            <a:xfrm flipV="1">
              <a:off x="3981240" y="5156280"/>
              <a:ext cx="0" cy="241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2"/>
            <p:cNvSpPr/>
            <p:nvPr/>
          </p:nvSpPr>
          <p:spPr>
            <a:xfrm>
              <a:off x="3987720" y="5391360"/>
              <a:ext cx="558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3"/>
            <p:cNvSpPr/>
            <p:nvPr/>
          </p:nvSpPr>
          <p:spPr>
            <a:xfrm>
              <a:off x="3987720" y="5162760"/>
              <a:ext cx="558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4"/>
            <p:cNvSpPr/>
            <p:nvPr/>
          </p:nvSpPr>
          <p:spPr>
            <a:xfrm flipV="1">
              <a:off x="4552920" y="5156280"/>
              <a:ext cx="0" cy="241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5"/>
            <p:cNvSpPr/>
            <p:nvPr/>
          </p:nvSpPr>
          <p:spPr>
            <a:xfrm>
              <a:off x="4559040" y="5391360"/>
              <a:ext cx="558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26"/>
            <p:cNvSpPr/>
            <p:nvPr/>
          </p:nvSpPr>
          <p:spPr>
            <a:xfrm>
              <a:off x="4559040" y="5162760"/>
              <a:ext cx="558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27"/>
            <p:cNvSpPr/>
            <p:nvPr/>
          </p:nvSpPr>
          <p:spPr>
            <a:xfrm flipV="1">
              <a:off x="5124240" y="5156280"/>
              <a:ext cx="0" cy="241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28"/>
            <p:cNvSpPr/>
            <p:nvPr/>
          </p:nvSpPr>
          <p:spPr>
            <a:xfrm>
              <a:off x="5130720" y="5391360"/>
              <a:ext cx="558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29"/>
            <p:cNvSpPr/>
            <p:nvPr/>
          </p:nvSpPr>
          <p:spPr>
            <a:xfrm>
              <a:off x="5130720" y="5162760"/>
              <a:ext cx="558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30"/>
            <p:cNvSpPr/>
            <p:nvPr/>
          </p:nvSpPr>
          <p:spPr>
            <a:xfrm flipV="1">
              <a:off x="5695920" y="5156280"/>
              <a:ext cx="0" cy="241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31"/>
            <p:cNvSpPr/>
            <p:nvPr/>
          </p:nvSpPr>
          <p:spPr>
            <a:xfrm>
              <a:off x="6273720" y="5391360"/>
              <a:ext cx="558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32"/>
            <p:cNvSpPr/>
            <p:nvPr/>
          </p:nvSpPr>
          <p:spPr>
            <a:xfrm>
              <a:off x="6273720" y="5162760"/>
              <a:ext cx="558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33"/>
            <p:cNvSpPr/>
            <p:nvPr/>
          </p:nvSpPr>
          <p:spPr>
            <a:xfrm flipV="1">
              <a:off x="6838920" y="5156280"/>
              <a:ext cx="0" cy="241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34"/>
            <p:cNvSpPr/>
            <p:nvPr/>
          </p:nvSpPr>
          <p:spPr>
            <a:xfrm>
              <a:off x="6845040" y="5391360"/>
              <a:ext cx="558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35"/>
            <p:cNvSpPr/>
            <p:nvPr/>
          </p:nvSpPr>
          <p:spPr>
            <a:xfrm>
              <a:off x="6845040" y="5162760"/>
              <a:ext cx="558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36"/>
            <p:cNvSpPr/>
            <p:nvPr/>
          </p:nvSpPr>
          <p:spPr>
            <a:xfrm flipV="1">
              <a:off x="7410240" y="5156280"/>
              <a:ext cx="0" cy="241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37"/>
            <p:cNvSpPr/>
            <p:nvPr/>
          </p:nvSpPr>
          <p:spPr>
            <a:xfrm>
              <a:off x="7416720" y="5162760"/>
              <a:ext cx="558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38"/>
            <p:cNvSpPr/>
            <p:nvPr/>
          </p:nvSpPr>
          <p:spPr>
            <a:xfrm>
              <a:off x="7988040" y="5162760"/>
              <a:ext cx="558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39"/>
            <p:cNvSpPr/>
            <p:nvPr/>
          </p:nvSpPr>
          <p:spPr>
            <a:xfrm>
              <a:off x="5702040" y="5391360"/>
              <a:ext cx="558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40"/>
            <p:cNvSpPr/>
            <p:nvPr/>
          </p:nvSpPr>
          <p:spPr>
            <a:xfrm>
              <a:off x="5702040" y="5162760"/>
              <a:ext cx="558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41"/>
            <p:cNvSpPr/>
            <p:nvPr/>
          </p:nvSpPr>
          <p:spPr>
            <a:xfrm flipV="1">
              <a:off x="6267240" y="5156280"/>
              <a:ext cx="0" cy="241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42"/>
            <p:cNvSpPr/>
            <p:nvPr/>
          </p:nvSpPr>
          <p:spPr>
            <a:xfrm>
              <a:off x="787320" y="5619960"/>
              <a:ext cx="279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43"/>
            <p:cNvSpPr/>
            <p:nvPr/>
          </p:nvSpPr>
          <p:spPr>
            <a:xfrm>
              <a:off x="1072800" y="5626080"/>
              <a:ext cx="0" cy="21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44"/>
            <p:cNvSpPr/>
            <p:nvPr/>
          </p:nvSpPr>
          <p:spPr>
            <a:xfrm>
              <a:off x="1079280" y="5848560"/>
              <a:ext cx="266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45"/>
            <p:cNvSpPr/>
            <p:nvPr/>
          </p:nvSpPr>
          <p:spPr>
            <a:xfrm flipV="1">
              <a:off x="1352520" y="5613480"/>
              <a:ext cx="0" cy="241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46"/>
            <p:cNvSpPr/>
            <p:nvPr/>
          </p:nvSpPr>
          <p:spPr>
            <a:xfrm>
              <a:off x="1358640" y="5619960"/>
              <a:ext cx="279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47"/>
            <p:cNvSpPr/>
            <p:nvPr/>
          </p:nvSpPr>
          <p:spPr>
            <a:xfrm>
              <a:off x="1644480" y="5626080"/>
              <a:ext cx="0" cy="21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48"/>
            <p:cNvSpPr/>
            <p:nvPr/>
          </p:nvSpPr>
          <p:spPr>
            <a:xfrm>
              <a:off x="1650960" y="5848560"/>
              <a:ext cx="266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49"/>
            <p:cNvSpPr/>
            <p:nvPr/>
          </p:nvSpPr>
          <p:spPr>
            <a:xfrm flipV="1">
              <a:off x="1923840" y="5613480"/>
              <a:ext cx="0" cy="241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50"/>
            <p:cNvSpPr/>
            <p:nvPr/>
          </p:nvSpPr>
          <p:spPr>
            <a:xfrm>
              <a:off x="1930320" y="5619960"/>
              <a:ext cx="279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51"/>
            <p:cNvSpPr/>
            <p:nvPr/>
          </p:nvSpPr>
          <p:spPr>
            <a:xfrm>
              <a:off x="2215800" y="5626080"/>
              <a:ext cx="0" cy="21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52"/>
            <p:cNvSpPr/>
            <p:nvPr/>
          </p:nvSpPr>
          <p:spPr>
            <a:xfrm>
              <a:off x="2222280" y="5848560"/>
              <a:ext cx="266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53"/>
            <p:cNvSpPr/>
            <p:nvPr/>
          </p:nvSpPr>
          <p:spPr>
            <a:xfrm flipV="1">
              <a:off x="2495520" y="5613480"/>
              <a:ext cx="0" cy="241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54"/>
            <p:cNvSpPr/>
            <p:nvPr/>
          </p:nvSpPr>
          <p:spPr>
            <a:xfrm>
              <a:off x="2501640" y="5619960"/>
              <a:ext cx="279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55"/>
            <p:cNvSpPr/>
            <p:nvPr/>
          </p:nvSpPr>
          <p:spPr>
            <a:xfrm>
              <a:off x="2787480" y="5626080"/>
              <a:ext cx="0" cy="21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56"/>
            <p:cNvSpPr/>
            <p:nvPr/>
          </p:nvSpPr>
          <p:spPr>
            <a:xfrm>
              <a:off x="2793960" y="5848560"/>
              <a:ext cx="266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57"/>
            <p:cNvSpPr/>
            <p:nvPr/>
          </p:nvSpPr>
          <p:spPr>
            <a:xfrm flipV="1">
              <a:off x="3066840" y="5613480"/>
              <a:ext cx="0" cy="241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58"/>
            <p:cNvSpPr/>
            <p:nvPr/>
          </p:nvSpPr>
          <p:spPr>
            <a:xfrm>
              <a:off x="3073320" y="5619960"/>
              <a:ext cx="279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59"/>
            <p:cNvSpPr/>
            <p:nvPr/>
          </p:nvSpPr>
          <p:spPr>
            <a:xfrm>
              <a:off x="3358800" y="5626080"/>
              <a:ext cx="0" cy="21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60"/>
            <p:cNvSpPr/>
            <p:nvPr/>
          </p:nvSpPr>
          <p:spPr>
            <a:xfrm>
              <a:off x="3365280" y="5848560"/>
              <a:ext cx="266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61"/>
            <p:cNvSpPr/>
            <p:nvPr/>
          </p:nvSpPr>
          <p:spPr>
            <a:xfrm flipV="1">
              <a:off x="3638520" y="5613480"/>
              <a:ext cx="0" cy="241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62"/>
            <p:cNvSpPr/>
            <p:nvPr/>
          </p:nvSpPr>
          <p:spPr>
            <a:xfrm>
              <a:off x="3644640" y="5619960"/>
              <a:ext cx="279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63"/>
            <p:cNvSpPr/>
            <p:nvPr/>
          </p:nvSpPr>
          <p:spPr>
            <a:xfrm>
              <a:off x="3930480" y="5626080"/>
              <a:ext cx="0" cy="21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64"/>
            <p:cNvSpPr/>
            <p:nvPr/>
          </p:nvSpPr>
          <p:spPr>
            <a:xfrm>
              <a:off x="3936960" y="5848560"/>
              <a:ext cx="266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65"/>
            <p:cNvSpPr/>
            <p:nvPr/>
          </p:nvSpPr>
          <p:spPr>
            <a:xfrm flipV="1">
              <a:off x="4209840" y="5613480"/>
              <a:ext cx="0" cy="241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66"/>
            <p:cNvSpPr/>
            <p:nvPr/>
          </p:nvSpPr>
          <p:spPr>
            <a:xfrm>
              <a:off x="4216320" y="5619960"/>
              <a:ext cx="279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67"/>
            <p:cNvSpPr/>
            <p:nvPr/>
          </p:nvSpPr>
          <p:spPr>
            <a:xfrm>
              <a:off x="4501800" y="5626080"/>
              <a:ext cx="0" cy="21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68"/>
            <p:cNvSpPr/>
            <p:nvPr/>
          </p:nvSpPr>
          <p:spPr>
            <a:xfrm>
              <a:off x="4508280" y="5848560"/>
              <a:ext cx="266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69"/>
            <p:cNvSpPr/>
            <p:nvPr/>
          </p:nvSpPr>
          <p:spPr>
            <a:xfrm flipV="1">
              <a:off x="4781520" y="5613480"/>
              <a:ext cx="0" cy="241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70"/>
            <p:cNvSpPr/>
            <p:nvPr/>
          </p:nvSpPr>
          <p:spPr>
            <a:xfrm>
              <a:off x="4787640" y="5619960"/>
              <a:ext cx="279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71"/>
            <p:cNvSpPr/>
            <p:nvPr/>
          </p:nvSpPr>
          <p:spPr>
            <a:xfrm>
              <a:off x="5073480" y="5626080"/>
              <a:ext cx="0" cy="21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72"/>
            <p:cNvSpPr/>
            <p:nvPr/>
          </p:nvSpPr>
          <p:spPr>
            <a:xfrm>
              <a:off x="5079960" y="5848560"/>
              <a:ext cx="266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73"/>
            <p:cNvSpPr/>
            <p:nvPr/>
          </p:nvSpPr>
          <p:spPr>
            <a:xfrm flipV="1">
              <a:off x="5352840" y="5613480"/>
              <a:ext cx="0" cy="241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74"/>
            <p:cNvSpPr/>
            <p:nvPr/>
          </p:nvSpPr>
          <p:spPr>
            <a:xfrm>
              <a:off x="5359320" y="5619960"/>
              <a:ext cx="279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75"/>
            <p:cNvSpPr/>
            <p:nvPr/>
          </p:nvSpPr>
          <p:spPr>
            <a:xfrm>
              <a:off x="5644800" y="5626080"/>
              <a:ext cx="0" cy="21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76"/>
            <p:cNvSpPr/>
            <p:nvPr/>
          </p:nvSpPr>
          <p:spPr>
            <a:xfrm>
              <a:off x="5651280" y="5848560"/>
              <a:ext cx="266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77"/>
            <p:cNvSpPr/>
            <p:nvPr/>
          </p:nvSpPr>
          <p:spPr>
            <a:xfrm flipV="1">
              <a:off x="5924520" y="5613480"/>
              <a:ext cx="0" cy="241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78"/>
            <p:cNvSpPr/>
            <p:nvPr/>
          </p:nvSpPr>
          <p:spPr>
            <a:xfrm>
              <a:off x="5930640" y="5619960"/>
              <a:ext cx="279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79"/>
            <p:cNvSpPr/>
            <p:nvPr/>
          </p:nvSpPr>
          <p:spPr>
            <a:xfrm>
              <a:off x="6216480" y="5626080"/>
              <a:ext cx="0" cy="21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80"/>
            <p:cNvSpPr/>
            <p:nvPr/>
          </p:nvSpPr>
          <p:spPr>
            <a:xfrm>
              <a:off x="6222960" y="5848560"/>
              <a:ext cx="266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81"/>
            <p:cNvSpPr/>
            <p:nvPr/>
          </p:nvSpPr>
          <p:spPr>
            <a:xfrm flipV="1">
              <a:off x="6495840" y="5613480"/>
              <a:ext cx="0" cy="241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82"/>
            <p:cNvSpPr/>
            <p:nvPr/>
          </p:nvSpPr>
          <p:spPr>
            <a:xfrm>
              <a:off x="6502320" y="5619960"/>
              <a:ext cx="279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83"/>
            <p:cNvSpPr/>
            <p:nvPr/>
          </p:nvSpPr>
          <p:spPr>
            <a:xfrm>
              <a:off x="6787800" y="5626080"/>
              <a:ext cx="0" cy="21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84"/>
            <p:cNvSpPr/>
            <p:nvPr/>
          </p:nvSpPr>
          <p:spPr>
            <a:xfrm>
              <a:off x="6794280" y="5848560"/>
              <a:ext cx="266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85"/>
            <p:cNvSpPr/>
            <p:nvPr/>
          </p:nvSpPr>
          <p:spPr>
            <a:xfrm flipV="1">
              <a:off x="7067520" y="5613480"/>
              <a:ext cx="0" cy="241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86"/>
            <p:cNvSpPr/>
            <p:nvPr/>
          </p:nvSpPr>
          <p:spPr>
            <a:xfrm>
              <a:off x="7073640" y="5619960"/>
              <a:ext cx="279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87"/>
            <p:cNvSpPr/>
            <p:nvPr/>
          </p:nvSpPr>
          <p:spPr>
            <a:xfrm>
              <a:off x="7359480" y="5626080"/>
              <a:ext cx="0" cy="21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88"/>
            <p:cNvSpPr/>
            <p:nvPr/>
          </p:nvSpPr>
          <p:spPr>
            <a:xfrm>
              <a:off x="7365960" y="5848560"/>
              <a:ext cx="266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89"/>
            <p:cNvSpPr/>
            <p:nvPr/>
          </p:nvSpPr>
          <p:spPr>
            <a:xfrm flipV="1">
              <a:off x="7638840" y="5613480"/>
              <a:ext cx="0" cy="241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90"/>
            <p:cNvSpPr/>
            <p:nvPr/>
          </p:nvSpPr>
          <p:spPr>
            <a:xfrm flipV="1">
              <a:off x="7638840" y="5613480"/>
              <a:ext cx="0" cy="241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91"/>
            <p:cNvSpPr/>
            <p:nvPr/>
          </p:nvSpPr>
          <p:spPr>
            <a:xfrm>
              <a:off x="7645320" y="5619960"/>
              <a:ext cx="279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92"/>
            <p:cNvSpPr/>
            <p:nvPr/>
          </p:nvSpPr>
          <p:spPr>
            <a:xfrm>
              <a:off x="7930800" y="5626080"/>
              <a:ext cx="0" cy="21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93"/>
            <p:cNvSpPr/>
            <p:nvPr/>
          </p:nvSpPr>
          <p:spPr>
            <a:xfrm>
              <a:off x="7937280" y="5848560"/>
              <a:ext cx="266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94"/>
            <p:cNvSpPr/>
            <p:nvPr/>
          </p:nvSpPr>
          <p:spPr>
            <a:xfrm flipV="1">
              <a:off x="8210520" y="5613480"/>
              <a:ext cx="0" cy="241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95"/>
            <p:cNvSpPr/>
            <p:nvPr/>
          </p:nvSpPr>
          <p:spPr>
            <a:xfrm>
              <a:off x="8216640" y="5619960"/>
              <a:ext cx="279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Transfer modes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94800" y="1698480"/>
            <a:ext cx="8207640" cy="4167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 signal wire is used by both receiver and sender to 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clock signal in com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must be oversampled (16x is typical) to find bit bound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shaking signals to control rate of transf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3"/>
          <p:cNvSpPr/>
          <p:nvPr/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ooter Placeholder 4"/>
          <p:cNvSpPr/>
          <p:nvPr/>
        </p:nvSpPr>
        <p:spPr>
          <a:xfrm>
            <a:off x="3166920" y="6329520"/>
            <a:ext cx="2936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5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C2E3569-D737-4CB8-83E2-E9212B16DF4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9"/>
          <p:cNvSpPr/>
          <p:nvPr/>
        </p:nvSpPr>
        <p:spPr>
          <a:xfrm>
            <a:off x="1538280" y="4449600"/>
            <a:ext cx="6489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0"/>
          <p:cNvSpPr/>
          <p:nvPr/>
        </p:nvSpPr>
        <p:spPr>
          <a:xfrm>
            <a:off x="1538280" y="4906800"/>
            <a:ext cx="6489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8"/>
          <p:cNvGrpSpPr/>
          <p:nvPr/>
        </p:nvGrpSpPr>
        <p:grpSpPr>
          <a:xfrm>
            <a:off x="7005600" y="3656160"/>
            <a:ext cx="241200" cy="787320"/>
            <a:chOff x="7005600" y="3656160"/>
            <a:chExt cx="241200" cy="787320"/>
          </a:xfrm>
        </p:grpSpPr>
        <p:sp>
          <p:nvSpPr>
            <p:cNvPr id="325" name="Line 11"/>
            <p:cNvSpPr/>
            <p:nvPr/>
          </p:nvSpPr>
          <p:spPr>
            <a:xfrm>
              <a:off x="7126200" y="365616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12"/>
            <p:cNvSpPr/>
            <p:nvPr/>
          </p:nvSpPr>
          <p:spPr>
            <a:xfrm flipH="1">
              <a:off x="7005600" y="3770640"/>
              <a:ext cx="12672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13"/>
            <p:cNvSpPr/>
            <p:nvPr/>
          </p:nvSpPr>
          <p:spPr>
            <a:xfrm>
              <a:off x="7018200" y="3884760"/>
              <a:ext cx="21600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14"/>
            <p:cNvSpPr/>
            <p:nvPr/>
          </p:nvSpPr>
          <p:spPr>
            <a:xfrm flipH="1">
              <a:off x="7005600" y="3999240"/>
              <a:ext cx="24120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5"/>
            <p:cNvSpPr/>
            <p:nvPr/>
          </p:nvSpPr>
          <p:spPr>
            <a:xfrm>
              <a:off x="7018200" y="4113360"/>
              <a:ext cx="21600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16"/>
            <p:cNvSpPr/>
            <p:nvPr/>
          </p:nvSpPr>
          <p:spPr>
            <a:xfrm flipH="1">
              <a:off x="7119360" y="4227840"/>
              <a:ext cx="12708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17"/>
            <p:cNvSpPr/>
            <p:nvPr/>
          </p:nvSpPr>
          <p:spPr>
            <a:xfrm>
              <a:off x="7126200" y="434196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26"/>
          <p:cNvGrpSpPr/>
          <p:nvPr/>
        </p:nvGrpSpPr>
        <p:grpSpPr>
          <a:xfrm>
            <a:off x="7576920" y="3656160"/>
            <a:ext cx="241560" cy="787320"/>
            <a:chOff x="7576920" y="3656160"/>
            <a:chExt cx="241560" cy="787320"/>
          </a:xfrm>
        </p:grpSpPr>
        <p:sp>
          <p:nvSpPr>
            <p:cNvPr id="333" name="Line 19"/>
            <p:cNvSpPr/>
            <p:nvPr/>
          </p:nvSpPr>
          <p:spPr>
            <a:xfrm>
              <a:off x="7697880" y="365616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20"/>
            <p:cNvSpPr/>
            <p:nvPr/>
          </p:nvSpPr>
          <p:spPr>
            <a:xfrm flipH="1">
              <a:off x="7576920" y="3770640"/>
              <a:ext cx="12708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21"/>
            <p:cNvSpPr/>
            <p:nvPr/>
          </p:nvSpPr>
          <p:spPr>
            <a:xfrm>
              <a:off x="7589880" y="3884760"/>
              <a:ext cx="21600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22"/>
            <p:cNvSpPr/>
            <p:nvPr/>
          </p:nvSpPr>
          <p:spPr>
            <a:xfrm flipH="1">
              <a:off x="7577280" y="3999240"/>
              <a:ext cx="24120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23"/>
            <p:cNvSpPr/>
            <p:nvPr/>
          </p:nvSpPr>
          <p:spPr>
            <a:xfrm>
              <a:off x="7589880" y="4113360"/>
              <a:ext cx="21600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24"/>
            <p:cNvSpPr/>
            <p:nvPr/>
          </p:nvSpPr>
          <p:spPr>
            <a:xfrm flipH="1">
              <a:off x="7691760" y="4227840"/>
              <a:ext cx="12672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25"/>
            <p:cNvSpPr/>
            <p:nvPr/>
          </p:nvSpPr>
          <p:spPr>
            <a:xfrm>
              <a:off x="7697880" y="434196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Line 27"/>
          <p:cNvSpPr/>
          <p:nvPr/>
        </p:nvSpPr>
        <p:spPr>
          <a:xfrm>
            <a:off x="7697880" y="445608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8"/>
          <p:cNvSpPr/>
          <p:nvPr/>
        </p:nvSpPr>
        <p:spPr>
          <a:xfrm>
            <a:off x="7107120" y="4417920"/>
            <a:ext cx="50760" cy="507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9"/>
          <p:cNvSpPr/>
          <p:nvPr/>
        </p:nvSpPr>
        <p:spPr>
          <a:xfrm>
            <a:off x="7666200" y="4875120"/>
            <a:ext cx="63360" cy="6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30"/>
          <p:cNvSpPr/>
          <p:nvPr/>
        </p:nvSpPr>
        <p:spPr>
          <a:xfrm>
            <a:off x="7018200" y="3649680"/>
            <a:ext cx="90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1"/>
          <p:cNvSpPr/>
          <p:nvPr/>
        </p:nvSpPr>
        <p:spPr>
          <a:xfrm>
            <a:off x="7975440" y="3459240"/>
            <a:ext cx="571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V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32"/>
          <p:cNvSpPr/>
          <p:nvPr/>
        </p:nvSpPr>
        <p:spPr>
          <a:xfrm>
            <a:off x="2332080" y="5342040"/>
            <a:ext cx="102852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554200" y="445608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>
            <a:off x="3125880" y="491328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5"/>
          <p:cNvSpPr/>
          <p:nvPr/>
        </p:nvSpPr>
        <p:spPr>
          <a:xfrm>
            <a:off x="2440080" y="5452920"/>
            <a:ext cx="787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37"/>
          <p:cNvSpPr/>
          <p:nvPr/>
        </p:nvSpPr>
        <p:spPr>
          <a:xfrm>
            <a:off x="3817800" y="5342040"/>
            <a:ext cx="10288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38"/>
          <p:cNvSpPr/>
          <p:nvPr/>
        </p:nvSpPr>
        <p:spPr>
          <a:xfrm>
            <a:off x="4040280" y="445608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39"/>
          <p:cNvSpPr/>
          <p:nvPr/>
        </p:nvSpPr>
        <p:spPr>
          <a:xfrm>
            <a:off x="4611600" y="491328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0"/>
          <p:cNvSpPr/>
          <p:nvPr/>
        </p:nvSpPr>
        <p:spPr>
          <a:xfrm>
            <a:off x="3925800" y="5452920"/>
            <a:ext cx="787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42"/>
          <p:cNvSpPr/>
          <p:nvPr/>
        </p:nvSpPr>
        <p:spPr>
          <a:xfrm>
            <a:off x="5875200" y="5342040"/>
            <a:ext cx="10288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43"/>
          <p:cNvSpPr/>
          <p:nvPr/>
        </p:nvSpPr>
        <p:spPr>
          <a:xfrm>
            <a:off x="6097680" y="445608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44"/>
          <p:cNvSpPr/>
          <p:nvPr/>
        </p:nvSpPr>
        <p:spPr>
          <a:xfrm>
            <a:off x="6669000" y="491328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45"/>
          <p:cNvSpPr/>
          <p:nvPr/>
        </p:nvSpPr>
        <p:spPr>
          <a:xfrm>
            <a:off x="5983200" y="5452920"/>
            <a:ext cx="787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47"/>
          <p:cNvSpPr/>
          <p:nvPr/>
        </p:nvSpPr>
        <p:spPr>
          <a:xfrm>
            <a:off x="5068800" y="5821200"/>
            <a:ext cx="0" cy="0"/>
          </a:xfrm>
          <a:prstGeom prst="line">
            <a:avLst/>
          </a:prstGeom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48"/>
          <p:cNvSpPr/>
          <p:nvPr/>
        </p:nvSpPr>
        <p:spPr>
          <a:xfrm>
            <a:off x="5297400" y="5821200"/>
            <a:ext cx="0" cy="0"/>
          </a:xfrm>
          <a:prstGeom prst="line">
            <a:avLst/>
          </a:prstGeom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49"/>
          <p:cNvSpPr/>
          <p:nvPr/>
        </p:nvSpPr>
        <p:spPr>
          <a:xfrm>
            <a:off x="5526000" y="5821200"/>
            <a:ext cx="0" cy="0"/>
          </a:xfrm>
          <a:prstGeom prst="line">
            <a:avLst/>
          </a:prstGeom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0"/>
          <p:cNvSpPr/>
          <p:nvPr/>
        </p:nvSpPr>
        <p:spPr>
          <a:xfrm>
            <a:off x="725400" y="4297320"/>
            <a:ext cx="8892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51"/>
          <p:cNvSpPr/>
          <p:nvPr/>
        </p:nvSpPr>
        <p:spPr>
          <a:xfrm>
            <a:off x="738360" y="4741920"/>
            <a:ext cx="914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Inter-Integrated Circuit Bus (I2C)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3754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connections on a printed circuit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point connections (needs address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ous transfer (but adapts to slowest dev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to Controller Area Network (CAN) protoc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utomotive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to TWI (Two-Wire Interface) on ATme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Date Placeholder 3"/>
          <p:cNvSpPr/>
          <p:nvPr/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oter Placeholder 4"/>
          <p:cNvSpPr/>
          <p:nvPr/>
        </p:nvSpPr>
        <p:spPr>
          <a:xfrm>
            <a:off x="3166920" y="6329520"/>
            <a:ext cx="2936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5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9D0BB3C-B460-47CE-A263-89834EE5BCA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40"/>
          <p:cNvSpPr/>
          <p:nvPr/>
        </p:nvSpPr>
        <p:spPr>
          <a:xfrm>
            <a:off x="2687760" y="3932280"/>
            <a:ext cx="466560" cy="15526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1"/>
          <p:cNvSpPr/>
          <p:nvPr/>
        </p:nvSpPr>
        <p:spPr>
          <a:xfrm>
            <a:off x="6724800" y="3932280"/>
            <a:ext cx="465120" cy="15526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37"/>
          <p:cNvGrpSpPr/>
          <p:nvPr/>
        </p:nvGrpSpPr>
        <p:grpSpPr>
          <a:xfrm>
            <a:off x="2066760" y="4087800"/>
            <a:ext cx="5727600" cy="999360"/>
            <a:chOff x="2066760" y="4087800"/>
            <a:chExt cx="5727600" cy="999360"/>
          </a:xfrm>
        </p:grpSpPr>
        <p:sp>
          <p:nvSpPr>
            <p:cNvPr id="370" name="Line 9"/>
            <p:cNvSpPr/>
            <p:nvPr/>
          </p:nvSpPr>
          <p:spPr>
            <a:xfrm>
              <a:off x="2066760" y="4147560"/>
              <a:ext cx="75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10"/>
            <p:cNvSpPr/>
            <p:nvPr/>
          </p:nvSpPr>
          <p:spPr>
            <a:xfrm>
              <a:off x="2842560" y="4156560"/>
              <a:ext cx="138240" cy="29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11"/>
            <p:cNvSpPr/>
            <p:nvPr/>
          </p:nvSpPr>
          <p:spPr>
            <a:xfrm>
              <a:off x="2998080" y="445824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12"/>
            <p:cNvSpPr/>
            <p:nvPr/>
          </p:nvSpPr>
          <p:spPr>
            <a:xfrm flipV="1">
              <a:off x="3929760" y="4138920"/>
              <a:ext cx="137880" cy="327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13"/>
            <p:cNvSpPr/>
            <p:nvPr/>
          </p:nvSpPr>
          <p:spPr>
            <a:xfrm>
              <a:off x="4084920" y="4147560"/>
              <a:ext cx="759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14"/>
            <p:cNvSpPr/>
            <p:nvPr/>
          </p:nvSpPr>
          <p:spPr>
            <a:xfrm>
              <a:off x="5172120" y="4147560"/>
              <a:ext cx="60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15"/>
            <p:cNvSpPr/>
            <p:nvPr/>
          </p:nvSpPr>
          <p:spPr>
            <a:xfrm>
              <a:off x="5793120" y="4156560"/>
              <a:ext cx="137880" cy="29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16"/>
            <p:cNvSpPr/>
            <p:nvPr/>
          </p:nvSpPr>
          <p:spPr>
            <a:xfrm>
              <a:off x="5948280" y="445824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17"/>
            <p:cNvSpPr/>
            <p:nvPr/>
          </p:nvSpPr>
          <p:spPr>
            <a:xfrm flipV="1">
              <a:off x="6879960" y="4138920"/>
              <a:ext cx="138240" cy="327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18"/>
            <p:cNvSpPr/>
            <p:nvPr/>
          </p:nvSpPr>
          <p:spPr>
            <a:xfrm>
              <a:off x="7035480" y="4147560"/>
              <a:ext cx="75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19"/>
            <p:cNvSpPr/>
            <p:nvPr/>
          </p:nvSpPr>
          <p:spPr>
            <a:xfrm>
              <a:off x="2066760" y="4768560"/>
              <a:ext cx="1225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20"/>
            <p:cNvSpPr/>
            <p:nvPr/>
          </p:nvSpPr>
          <p:spPr>
            <a:xfrm>
              <a:off x="3308760" y="4777200"/>
              <a:ext cx="137880" cy="29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21"/>
            <p:cNvSpPr/>
            <p:nvPr/>
          </p:nvSpPr>
          <p:spPr>
            <a:xfrm>
              <a:off x="3463920" y="507888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22"/>
            <p:cNvSpPr/>
            <p:nvPr/>
          </p:nvSpPr>
          <p:spPr>
            <a:xfrm flipV="1">
              <a:off x="4395600" y="4759920"/>
              <a:ext cx="138240" cy="327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23"/>
            <p:cNvSpPr/>
            <p:nvPr/>
          </p:nvSpPr>
          <p:spPr>
            <a:xfrm>
              <a:off x="4551120" y="4768560"/>
              <a:ext cx="29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24"/>
            <p:cNvSpPr/>
            <p:nvPr/>
          </p:nvSpPr>
          <p:spPr>
            <a:xfrm>
              <a:off x="5172120" y="4768560"/>
              <a:ext cx="29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25"/>
            <p:cNvSpPr/>
            <p:nvPr/>
          </p:nvSpPr>
          <p:spPr>
            <a:xfrm>
              <a:off x="5482800" y="4777200"/>
              <a:ext cx="137880" cy="29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26"/>
            <p:cNvSpPr/>
            <p:nvPr/>
          </p:nvSpPr>
          <p:spPr>
            <a:xfrm>
              <a:off x="5637600" y="5078880"/>
              <a:ext cx="759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27"/>
            <p:cNvSpPr/>
            <p:nvPr/>
          </p:nvSpPr>
          <p:spPr>
            <a:xfrm flipV="1">
              <a:off x="6414120" y="4759920"/>
              <a:ext cx="137880" cy="327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28"/>
            <p:cNvSpPr/>
            <p:nvPr/>
          </p:nvSpPr>
          <p:spPr>
            <a:xfrm>
              <a:off x="6569280" y="4768560"/>
              <a:ext cx="1225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9"/>
            <p:cNvSpPr/>
            <p:nvPr/>
          </p:nvSpPr>
          <p:spPr>
            <a:xfrm>
              <a:off x="3929760" y="445824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30"/>
            <p:cNvSpPr/>
            <p:nvPr/>
          </p:nvSpPr>
          <p:spPr>
            <a:xfrm>
              <a:off x="5172120" y="4458240"/>
              <a:ext cx="75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31"/>
            <p:cNvSpPr/>
            <p:nvPr/>
          </p:nvSpPr>
          <p:spPr>
            <a:xfrm flipH="1">
              <a:off x="4844520" y="4087800"/>
              <a:ext cx="51120" cy="137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32"/>
            <p:cNvSpPr/>
            <p:nvPr/>
          </p:nvSpPr>
          <p:spPr>
            <a:xfrm flipH="1">
              <a:off x="5137200" y="4087800"/>
              <a:ext cx="51840" cy="137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33"/>
            <p:cNvSpPr/>
            <p:nvPr/>
          </p:nvSpPr>
          <p:spPr>
            <a:xfrm flipH="1">
              <a:off x="4826880" y="4380480"/>
              <a:ext cx="5184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34"/>
            <p:cNvSpPr/>
            <p:nvPr/>
          </p:nvSpPr>
          <p:spPr>
            <a:xfrm flipH="1">
              <a:off x="5120280" y="4380480"/>
              <a:ext cx="5184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35"/>
            <p:cNvSpPr/>
            <p:nvPr/>
          </p:nvSpPr>
          <p:spPr>
            <a:xfrm flipH="1">
              <a:off x="4844520" y="4690800"/>
              <a:ext cx="5112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36"/>
            <p:cNvSpPr/>
            <p:nvPr/>
          </p:nvSpPr>
          <p:spPr>
            <a:xfrm flipH="1">
              <a:off x="5137200" y="4690800"/>
              <a:ext cx="5184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Rectangle 38"/>
          <p:cNvSpPr/>
          <p:nvPr/>
        </p:nvSpPr>
        <p:spPr>
          <a:xfrm>
            <a:off x="1368360" y="4118040"/>
            <a:ext cx="1000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9"/>
          <p:cNvSpPr/>
          <p:nvPr/>
        </p:nvSpPr>
        <p:spPr>
          <a:xfrm>
            <a:off x="1403280" y="4751280"/>
            <a:ext cx="77652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42"/>
          <p:cNvSpPr/>
          <p:nvPr/>
        </p:nvSpPr>
        <p:spPr>
          <a:xfrm>
            <a:off x="2471760" y="5492880"/>
            <a:ext cx="138096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43"/>
          <p:cNvSpPr/>
          <p:nvPr/>
        </p:nvSpPr>
        <p:spPr>
          <a:xfrm>
            <a:off x="6578640" y="5492880"/>
            <a:ext cx="124128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Serial data format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58996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A going low while SCL high signals start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A going high while SCL high signals end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A can change when SCL 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L high (after start and before end) signals that a data bit can be 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3"/>
          <p:cNvSpPr/>
          <p:nvPr/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ooter Placeholder 4"/>
          <p:cNvSpPr/>
          <p:nvPr/>
        </p:nvSpPr>
        <p:spPr>
          <a:xfrm>
            <a:off x="3166920" y="6329520"/>
            <a:ext cx="2936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lide Number Placeholder 5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0AEC651-110C-4568-8A2E-BB6BA5BEF29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1716120" y="3425760"/>
            <a:ext cx="736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"/>
          <p:cNvSpPr/>
          <p:nvPr/>
        </p:nvSpPr>
        <p:spPr>
          <a:xfrm>
            <a:off x="1731960" y="3930480"/>
            <a:ext cx="571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1"/>
          <p:cNvSpPr/>
          <p:nvPr/>
        </p:nvSpPr>
        <p:spPr>
          <a:xfrm>
            <a:off x="2382840" y="347652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2"/>
          <p:cNvSpPr/>
          <p:nvPr/>
        </p:nvSpPr>
        <p:spPr>
          <a:xfrm>
            <a:off x="2611440" y="3483000"/>
            <a:ext cx="10152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3"/>
          <p:cNvSpPr/>
          <p:nvPr/>
        </p:nvSpPr>
        <p:spPr>
          <a:xfrm>
            <a:off x="2725560" y="370512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4"/>
          <p:cNvSpPr/>
          <p:nvPr/>
        </p:nvSpPr>
        <p:spPr>
          <a:xfrm flipV="1">
            <a:off x="3068640" y="3470400"/>
            <a:ext cx="10152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5"/>
          <p:cNvSpPr/>
          <p:nvPr/>
        </p:nvSpPr>
        <p:spPr>
          <a:xfrm>
            <a:off x="3182760" y="347652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6"/>
          <p:cNvSpPr/>
          <p:nvPr/>
        </p:nvSpPr>
        <p:spPr>
          <a:xfrm>
            <a:off x="3525840" y="3483000"/>
            <a:ext cx="10152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7"/>
          <p:cNvSpPr/>
          <p:nvPr/>
        </p:nvSpPr>
        <p:spPr>
          <a:xfrm>
            <a:off x="3639960" y="370512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8"/>
          <p:cNvSpPr/>
          <p:nvPr/>
        </p:nvSpPr>
        <p:spPr>
          <a:xfrm flipV="1">
            <a:off x="3983040" y="3470400"/>
            <a:ext cx="10152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9"/>
          <p:cNvSpPr/>
          <p:nvPr/>
        </p:nvSpPr>
        <p:spPr>
          <a:xfrm>
            <a:off x="4097160" y="347652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20"/>
          <p:cNvSpPr/>
          <p:nvPr/>
        </p:nvSpPr>
        <p:spPr>
          <a:xfrm>
            <a:off x="4440240" y="3483000"/>
            <a:ext cx="10152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21"/>
          <p:cNvSpPr/>
          <p:nvPr/>
        </p:nvSpPr>
        <p:spPr>
          <a:xfrm>
            <a:off x="4554360" y="370512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22"/>
          <p:cNvSpPr/>
          <p:nvPr/>
        </p:nvSpPr>
        <p:spPr>
          <a:xfrm flipV="1">
            <a:off x="4897440" y="3470400"/>
            <a:ext cx="10152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3"/>
          <p:cNvSpPr/>
          <p:nvPr/>
        </p:nvSpPr>
        <p:spPr>
          <a:xfrm>
            <a:off x="5011560" y="347652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24"/>
          <p:cNvSpPr/>
          <p:nvPr/>
        </p:nvSpPr>
        <p:spPr>
          <a:xfrm>
            <a:off x="5354640" y="3483000"/>
            <a:ext cx="10152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25"/>
          <p:cNvSpPr/>
          <p:nvPr/>
        </p:nvSpPr>
        <p:spPr>
          <a:xfrm>
            <a:off x="5468760" y="370512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26"/>
          <p:cNvSpPr/>
          <p:nvPr/>
        </p:nvSpPr>
        <p:spPr>
          <a:xfrm flipV="1">
            <a:off x="5811840" y="3470400"/>
            <a:ext cx="10152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27"/>
          <p:cNvSpPr/>
          <p:nvPr/>
        </p:nvSpPr>
        <p:spPr>
          <a:xfrm>
            <a:off x="5925960" y="347652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28"/>
          <p:cNvSpPr/>
          <p:nvPr/>
        </p:nvSpPr>
        <p:spPr>
          <a:xfrm>
            <a:off x="6269040" y="3483000"/>
            <a:ext cx="10152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29"/>
          <p:cNvSpPr/>
          <p:nvPr/>
        </p:nvSpPr>
        <p:spPr>
          <a:xfrm>
            <a:off x="6383160" y="370512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30"/>
          <p:cNvSpPr/>
          <p:nvPr/>
        </p:nvSpPr>
        <p:spPr>
          <a:xfrm>
            <a:off x="3068640" y="370512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31"/>
          <p:cNvSpPr/>
          <p:nvPr/>
        </p:nvSpPr>
        <p:spPr>
          <a:xfrm flipV="1">
            <a:off x="3525840" y="3470400"/>
            <a:ext cx="10152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32"/>
          <p:cNvSpPr/>
          <p:nvPr/>
        </p:nvSpPr>
        <p:spPr>
          <a:xfrm>
            <a:off x="3639960" y="347652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33"/>
          <p:cNvSpPr/>
          <p:nvPr/>
        </p:nvSpPr>
        <p:spPr>
          <a:xfrm>
            <a:off x="3983040" y="3483000"/>
            <a:ext cx="10152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34"/>
          <p:cNvSpPr/>
          <p:nvPr/>
        </p:nvSpPr>
        <p:spPr>
          <a:xfrm>
            <a:off x="4097160" y="370512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35"/>
          <p:cNvSpPr/>
          <p:nvPr/>
        </p:nvSpPr>
        <p:spPr>
          <a:xfrm flipV="1">
            <a:off x="4440240" y="3470400"/>
            <a:ext cx="10152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36"/>
          <p:cNvSpPr/>
          <p:nvPr/>
        </p:nvSpPr>
        <p:spPr>
          <a:xfrm>
            <a:off x="4554360" y="347652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37"/>
          <p:cNvSpPr/>
          <p:nvPr/>
        </p:nvSpPr>
        <p:spPr>
          <a:xfrm>
            <a:off x="4897440" y="3483000"/>
            <a:ext cx="10152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38"/>
          <p:cNvSpPr/>
          <p:nvPr/>
        </p:nvSpPr>
        <p:spPr>
          <a:xfrm>
            <a:off x="5011560" y="370512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39"/>
          <p:cNvSpPr/>
          <p:nvPr/>
        </p:nvSpPr>
        <p:spPr>
          <a:xfrm flipV="1">
            <a:off x="5354640" y="3470400"/>
            <a:ext cx="10152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40"/>
          <p:cNvSpPr/>
          <p:nvPr/>
        </p:nvSpPr>
        <p:spPr>
          <a:xfrm>
            <a:off x="5468760" y="347652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41"/>
          <p:cNvSpPr/>
          <p:nvPr/>
        </p:nvSpPr>
        <p:spPr>
          <a:xfrm>
            <a:off x="5811840" y="3483000"/>
            <a:ext cx="10152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42"/>
          <p:cNvSpPr/>
          <p:nvPr/>
        </p:nvSpPr>
        <p:spPr>
          <a:xfrm>
            <a:off x="5925960" y="370512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43"/>
          <p:cNvSpPr/>
          <p:nvPr/>
        </p:nvSpPr>
        <p:spPr>
          <a:xfrm flipV="1">
            <a:off x="6269040" y="3470400"/>
            <a:ext cx="10152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44"/>
          <p:cNvSpPr/>
          <p:nvPr/>
        </p:nvSpPr>
        <p:spPr>
          <a:xfrm>
            <a:off x="6383160" y="347652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45"/>
          <p:cNvSpPr/>
          <p:nvPr/>
        </p:nvSpPr>
        <p:spPr>
          <a:xfrm>
            <a:off x="6726240" y="3483000"/>
            <a:ext cx="10152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46"/>
          <p:cNvSpPr/>
          <p:nvPr/>
        </p:nvSpPr>
        <p:spPr>
          <a:xfrm>
            <a:off x="6726240" y="370512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47"/>
          <p:cNvSpPr/>
          <p:nvPr/>
        </p:nvSpPr>
        <p:spPr>
          <a:xfrm>
            <a:off x="6840360" y="370512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48"/>
          <p:cNvSpPr/>
          <p:nvPr/>
        </p:nvSpPr>
        <p:spPr>
          <a:xfrm flipV="1">
            <a:off x="7183440" y="3470400"/>
            <a:ext cx="10152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49"/>
          <p:cNvSpPr/>
          <p:nvPr/>
        </p:nvSpPr>
        <p:spPr>
          <a:xfrm>
            <a:off x="7297560" y="347652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50"/>
          <p:cNvSpPr/>
          <p:nvPr/>
        </p:nvSpPr>
        <p:spPr>
          <a:xfrm>
            <a:off x="2382840" y="3933720"/>
            <a:ext cx="444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51"/>
          <p:cNvSpPr/>
          <p:nvPr/>
        </p:nvSpPr>
        <p:spPr>
          <a:xfrm>
            <a:off x="2838600" y="3940200"/>
            <a:ext cx="10296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52"/>
          <p:cNvSpPr/>
          <p:nvPr/>
        </p:nvSpPr>
        <p:spPr>
          <a:xfrm>
            <a:off x="2954160" y="4162320"/>
            <a:ext cx="216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53"/>
          <p:cNvSpPr/>
          <p:nvPr/>
        </p:nvSpPr>
        <p:spPr>
          <a:xfrm flipV="1">
            <a:off x="3182760" y="3927600"/>
            <a:ext cx="1018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54"/>
          <p:cNvSpPr/>
          <p:nvPr/>
        </p:nvSpPr>
        <p:spPr>
          <a:xfrm>
            <a:off x="3411360" y="3940200"/>
            <a:ext cx="10188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55"/>
          <p:cNvSpPr/>
          <p:nvPr/>
        </p:nvSpPr>
        <p:spPr>
          <a:xfrm>
            <a:off x="3525840" y="416232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56"/>
          <p:cNvSpPr/>
          <p:nvPr/>
        </p:nvSpPr>
        <p:spPr>
          <a:xfrm>
            <a:off x="3297240" y="393372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57"/>
          <p:cNvSpPr/>
          <p:nvPr/>
        </p:nvSpPr>
        <p:spPr>
          <a:xfrm flipV="1">
            <a:off x="3639960" y="3927600"/>
            <a:ext cx="1018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58"/>
          <p:cNvSpPr/>
          <p:nvPr/>
        </p:nvSpPr>
        <p:spPr>
          <a:xfrm>
            <a:off x="3868560" y="3940200"/>
            <a:ext cx="10188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59"/>
          <p:cNvSpPr/>
          <p:nvPr/>
        </p:nvSpPr>
        <p:spPr>
          <a:xfrm>
            <a:off x="3983040" y="416232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60"/>
          <p:cNvSpPr/>
          <p:nvPr/>
        </p:nvSpPr>
        <p:spPr>
          <a:xfrm>
            <a:off x="3754440" y="393372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61"/>
          <p:cNvSpPr/>
          <p:nvPr/>
        </p:nvSpPr>
        <p:spPr>
          <a:xfrm flipV="1">
            <a:off x="4097160" y="3927600"/>
            <a:ext cx="1018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62"/>
          <p:cNvSpPr/>
          <p:nvPr/>
        </p:nvSpPr>
        <p:spPr>
          <a:xfrm>
            <a:off x="4325760" y="3940200"/>
            <a:ext cx="10188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63"/>
          <p:cNvSpPr/>
          <p:nvPr/>
        </p:nvSpPr>
        <p:spPr>
          <a:xfrm>
            <a:off x="4440240" y="416232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64"/>
          <p:cNvSpPr/>
          <p:nvPr/>
        </p:nvSpPr>
        <p:spPr>
          <a:xfrm>
            <a:off x="4211640" y="393372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65"/>
          <p:cNvSpPr/>
          <p:nvPr/>
        </p:nvSpPr>
        <p:spPr>
          <a:xfrm flipV="1">
            <a:off x="4554360" y="3927600"/>
            <a:ext cx="1018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66"/>
          <p:cNvSpPr/>
          <p:nvPr/>
        </p:nvSpPr>
        <p:spPr>
          <a:xfrm>
            <a:off x="4782960" y="3940200"/>
            <a:ext cx="10188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67"/>
          <p:cNvSpPr/>
          <p:nvPr/>
        </p:nvSpPr>
        <p:spPr>
          <a:xfrm>
            <a:off x="4897440" y="416232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4668840" y="393372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69"/>
          <p:cNvSpPr/>
          <p:nvPr/>
        </p:nvSpPr>
        <p:spPr>
          <a:xfrm flipV="1">
            <a:off x="5011560" y="3927600"/>
            <a:ext cx="1018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70"/>
          <p:cNvSpPr/>
          <p:nvPr/>
        </p:nvSpPr>
        <p:spPr>
          <a:xfrm>
            <a:off x="5240160" y="3940200"/>
            <a:ext cx="10188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5354640" y="416232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5126040" y="393372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73"/>
          <p:cNvSpPr/>
          <p:nvPr/>
        </p:nvSpPr>
        <p:spPr>
          <a:xfrm flipV="1">
            <a:off x="5468760" y="3927600"/>
            <a:ext cx="1018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74"/>
          <p:cNvSpPr/>
          <p:nvPr/>
        </p:nvSpPr>
        <p:spPr>
          <a:xfrm>
            <a:off x="5697360" y="3940200"/>
            <a:ext cx="10188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75"/>
          <p:cNvSpPr/>
          <p:nvPr/>
        </p:nvSpPr>
        <p:spPr>
          <a:xfrm>
            <a:off x="5811840" y="416232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76"/>
          <p:cNvSpPr/>
          <p:nvPr/>
        </p:nvSpPr>
        <p:spPr>
          <a:xfrm>
            <a:off x="5583240" y="393372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77"/>
          <p:cNvSpPr/>
          <p:nvPr/>
        </p:nvSpPr>
        <p:spPr>
          <a:xfrm flipV="1">
            <a:off x="5925960" y="3927600"/>
            <a:ext cx="1018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78"/>
          <p:cNvSpPr/>
          <p:nvPr/>
        </p:nvSpPr>
        <p:spPr>
          <a:xfrm>
            <a:off x="6154560" y="3940200"/>
            <a:ext cx="10188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79"/>
          <p:cNvSpPr/>
          <p:nvPr/>
        </p:nvSpPr>
        <p:spPr>
          <a:xfrm>
            <a:off x="6269040" y="416232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80"/>
          <p:cNvSpPr/>
          <p:nvPr/>
        </p:nvSpPr>
        <p:spPr>
          <a:xfrm>
            <a:off x="6040440" y="393372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81"/>
          <p:cNvSpPr/>
          <p:nvPr/>
        </p:nvSpPr>
        <p:spPr>
          <a:xfrm flipV="1">
            <a:off x="6383160" y="3927600"/>
            <a:ext cx="1018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82"/>
          <p:cNvSpPr/>
          <p:nvPr/>
        </p:nvSpPr>
        <p:spPr>
          <a:xfrm>
            <a:off x="6611760" y="3940200"/>
            <a:ext cx="10188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83"/>
          <p:cNvSpPr/>
          <p:nvPr/>
        </p:nvSpPr>
        <p:spPr>
          <a:xfrm>
            <a:off x="6726240" y="416232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84"/>
          <p:cNvSpPr/>
          <p:nvPr/>
        </p:nvSpPr>
        <p:spPr>
          <a:xfrm>
            <a:off x="6497640" y="393372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85"/>
          <p:cNvSpPr/>
          <p:nvPr/>
        </p:nvSpPr>
        <p:spPr>
          <a:xfrm flipV="1">
            <a:off x="6840360" y="3927600"/>
            <a:ext cx="1018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86"/>
          <p:cNvSpPr/>
          <p:nvPr/>
        </p:nvSpPr>
        <p:spPr>
          <a:xfrm>
            <a:off x="7068960" y="3940200"/>
            <a:ext cx="10188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87"/>
          <p:cNvSpPr/>
          <p:nvPr/>
        </p:nvSpPr>
        <p:spPr>
          <a:xfrm>
            <a:off x="7183440" y="416232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88"/>
          <p:cNvSpPr/>
          <p:nvPr/>
        </p:nvSpPr>
        <p:spPr>
          <a:xfrm>
            <a:off x="6954840" y="393372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89"/>
          <p:cNvSpPr/>
          <p:nvPr/>
        </p:nvSpPr>
        <p:spPr>
          <a:xfrm>
            <a:off x="3265560" y="3457440"/>
            <a:ext cx="520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90"/>
          <p:cNvSpPr/>
          <p:nvPr/>
        </p:nvSpPr>
        <p:spPr>
          <a:xfrm>
            <a:off x="4205160" y="3457440"/>
            <a:ext cx="5209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91"/>
          <p:cNvSpPr/>
          <p:nvPr/>
        </p:nvSpPr>
        <p:spPr>
          <a:xfrm>
            <a:off x="4637160" y="3444840"/>
            <a:ext cx="5191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92"/>
          <p:cNvSpPr/>
          <p:nvPr/>
        </p:nvSpPr>
        <p:spPr>
          <a:xfrm>
            <a:off x="5119560" y="3457440"/>
            <a:ext cx="5209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93"/>
          <p:cNvSpPr/>
          <p:nvPr/>
        </p:nvSpPr>
        <p:spPr>
          <a:xfrm>
            <a:off x="5564160" y="3457440"/>
            <a:ext cx="5191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94"/>
          <p:cNvSpPr/>
          <p:nvPr/>
        </p:nvSpPr>
        <p:spPr>
          <a:xfrm>
            <a:off x="6033960" y="3457440"/>
            <a:ext cx="5209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95"/>
          <p:cNvSpPr/>
          <p:nvPr/>
        </p:nvSpPr>
        <p:spPr>
          <a:xfrm>
            <a:off x="6491160" y="3457440"/>
            <a:ext cx="5209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96"/>
          <p:cNvSpPr/>
          <p:nvPr/>
        </p:nvSpPr>
        <p:spPr>
          <a:xfrm>
            <a:off x="6846840" y="3444840"/>
            <a:ext cx="7239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97"/>
          <p:cNvSpPr/>
          <p:nvPr/>
        </p:nvSpPr>
        <p:spPr>
          <a:xfrm>
            <a:off x="3735360" y="3457440"/>
            <a:ext cx="520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Byte transfer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95160" y="1698480"/>
            <a:ext cx="8361360" cy="4167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te followed by a 1 bit acknowledge from rece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-collector w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 allows SDA to 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 pulls low to acknowledge after 8 bits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byte trans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byte contains address of 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devices check address to determine if following data is for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yte usually contains address of s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Date Placeholder 3"/>
          <p:cNvSpPr/>
          <p:nvPr/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ooter Placeholder 4"/>
          <p:cNvSpPr/>
          <p:nvPr/>
        </p:nvSpPr>
        <p:spPr>
          <a:xfrm>
            <a:off x="3166920" y="6329520"/>
            <a:ext cx="2936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5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D831C47-83FD-4202-8C7C-D0AA54AC451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9"/>
          <p:cNvSpPr/>
          <p:nvPr/>
        </p:nvSpPr>
        <p:spPr>
          <a:xfrm>
            <a:off x="1847880" y="4525920"/>
            <a:ext cx="787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0"/>
          <p:cNvSpPr/>
          <p:nvPr/>
        </p:nvSpPr>
        <p:spPr>
          <a:xfrm>
            <a:off x="2647800" y="4532400"/>
            <a:ext cx="10188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1"/>
          <p:cNvSpPr/>
          <p:nvPr/>
        </p:nvSpPr>
        <p:spPr>
          <a:xfrm>
            <a:off x="2762280" y="4754520"/>
            <a:ext cx="67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2"/>
          <p:cNvSpPr/>
          <p:nvPr/>
        </p:nvSpPr>
        <p:spPr>
          <a:xfrm flipV="1">
            <a:off x="3448080" y="4519080"/>
            <a:ext cx="101520" cy="241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3"/>
          <p:cNvSpPr/>
          <p:nvPr/>
        </p:nvSpPr>
        <p:spPr>
          <a:xfrm>
            <a:off x="3562200" y="4525920"/>
            <a:ext cx="101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4"/>
          <p:cNvSpPr/>
          <p:nvPr/>
        </p:nvSpPr>
        <p:spPr>
          <a:xfrm>
            <a:off x="3790800" y="4525920"/>
            <a:ext cx="101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15"/>
          <p:cNvSpPr/>
          <p:nvPr/>
        </p:nvSpPr>
        <p:spPr>
          <a:xfrm>
            <a:off x="4019400" y="4525920"/>
            <a:ext cx="101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16"/>
          <p:cNvSpPr/>
          <p:nvPr/>
        </p:nvSpPr>
        <p:spPr>
          <a:xfrm>
            <a:off x="4248000" y="4525920"/>
            <a:ext cx="101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17"/>
          <p:cNvSpPr/>
          <p:nvPr/>
        </p:nvSpPr>
        <p:spPr>
          <a:xfrm>
            <a:off x="4476600" y="4525920"/>
            <a:ext cx="101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18"/>
          <p:cNvSpPr/>
          <p:nvPr/>
        </p:nvSpPr>
        <p:spPr>
          <a:xfrm>
            <a:off x="4705200" y="4525920"/>
            <a:ext cx="101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9"/>
          <p:cNvSpPr/>
          <p:nvPr/>
        </p:nvSpPr>
        <p:spPr>
          <a:xfrm>
            <a:off x="4933800" y="4525920"/>
            <a:ext cx="101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0"/>
          <p:cNvSpPr/>
          <p:nvPr/>
        </p:nvSpPr>
        <p:spPr>
          <a:xfrm>
            <a:off x="5162400" y="4525920"/>
            <a:ext cx="101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21"/>
          <p:cNvSpPr/>
          <p:nvPr/>
        </p:nvSpPr>
        <p:spPr>
          <a:xfrm>
            <a:off x="5391000" y="4525920"/>
            <a:ext cx="101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22"/>
          <p:cNvSpPr/>
          <p:nvPr/>
        </p:nvSpPr>
        <p:spPr>
          <a:xfrm>
            <a:off x="5619600" y="4525920"/>
            <a:ext cx="101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23"/>
          <p:cNvSpPr/>
          <p:nvPr/>
        </p:nvSpPr>
        <p:spPr>
          <a:xfrm>
            <a:off x="5848200" y="4525920"/>
            <a:ext cx="101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24"/>
          <p:cNvSpPr/>
          <p:nvPr/>
        </p:nvSpPr>
        <p:spPr>
          <a:xfrm>
            <a:off x="6076800" y="4525920"/>
            <a:ext cx="560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25"/>
          <p:cNvSpPr/>
          <p:nvPr/>
        </p:nvSpPr>
        <p:spPr>
          <a:xfrm>
            <a:off x="6648480" y="4532400"/>
            <a:ext cx="10152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26"/>
          <p:cNvSpPr/>
          <p:nvPr/>
        </p:nvSpPr>
        <p:spPr>
          <a:xfrm>
            <a:off x="6762600" y="4754520"/>
            <a:ext cx="901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27"/>
          <p:cNvSpPr/>
          <p:nvPr/>
        </p:nvSpPr>
        <p:spPr>
          <a:xfrm>
            <a:off x="1847880" y="5097600"/>
            <a:ext cx="1130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28"/>
          <p:cNvSpPr/>
          <p:nvPr/>
        </p:nvSpPr>
        <p:spPr>
          <a:xfrm>
            <a:off x="2990880" y="5103720"/>
            <a:ext cx="10152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29"/>
          <p:cNvSpPr/>
          <p:nvPr/>
        </p:nvSpPr>
        <p:spPr>
          <a:xfrm>
            <a:off x="3105000" y="5326200"/>
            <a:ext cx="2845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30"/>
          <p:cNvSpPr/>
          <p:nvPr/>
        </p:nvSpPr>
        <p:spPr>
          <a:xfrm flipV="1">
            <a:off x="5962680" y="5092560"/>
            <a:ext cx="101520" cy="239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31"/>
          <p:cNvSpPr/>
          <p:nvPr/>
        </p:nvSpPr>
        <p:spPr>
          <a:xfrm>
            <a:off x="6076800" y="5097600"/>
            <a:ext cx="901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32"/>
          <p:cNvSpPr/>
          <p:nvPr/>
        </p:nvSpPr>
        <p:spPr>
          <a:xfrm>
            <a:off x="6991200" y="5103720"/>
            <a:ext cx="10188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33"/>
          <p:cNvSpPr/>
          <p:nvPr/>
        </p:nvSpPr>
        <p:spPr>
          <a:xfrm>
            <a:off x="7105680" y="5326200"/>
            <a:ext cx="55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34"/>
          <p:cNvSpPr/>
          <p:nvPr/>
        </p:nvSpPr>
        <p:spPr>
          <a:xfrm>
            <a:off x="1847880" y="5668920"/>
            <a:ext cx="787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35"/>
          <p:cNvSpPr/>
          <p:nvPr/>
        </p:nvSpPr>
        <p:spPr>
          <a:xfrm>
            <a:off x="2647800" y="5675400"/>
            <a:ext cx="10188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36"/>
          <p:cNvSpPr/>
          <p:nvPr/>
        </p:nvSpPr>
        <p:spPr>
          <a:xfrm>
            <a:off x="2762280" y="5897520"/>
            <a:ext cx="3187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37"/>
          <p:cNvSpPr/>
          <p:nvPr/>
        </p:nvSpPr>
        <p:spPr>
          <a:xfrm flipV="1">
            <a:off x="5962680" y="5662080"/>
            <a:ext cx="101520" cy="241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38"/>
          <p:cNvSpPr/>
          <p:nvPr/>
        </p:nvSpPr>
        <p:spPr>
          <a:xfrm>
            <a:off x="6076800" y="5668920"/>
            <a:ext cx="560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39"/>
          <p:cNvSpPr/>
          <p:nvPr/>
        </p:nvSpPr>
        <p:spPr>
          <a:xfrm>
            <a:off x="6648480" y="5675400"/>
            <a:ext cx="10152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40"/>
          <p:cNvSpPr/>
          <p:nvPr/>
        </p:nvSpPr>
        <p:spPr>
          <a:xfrm>
            <a:off x="6762600" y="5897520"/>
            <a:ext cx="901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41"/>
          <p:cNvSpPr/>
          <p:nvPr/>
        </p:nvSpPr>
        <p:spPr>
          <a:xfrm>
            <a:off x="1244520" y="4500720"/>
            <a:ext cx="93996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k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42"/>
          <p:cNvSpPr/>
          <p:nvPr/>
        </p:nvSpPr>
        <p:spPr>
          <a:xfrm>
            <a:off x="1231920" y="5059440"/>
            <a:ext cx="93996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k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43"/>
          <p:cNvSpPr/>
          <p:nvPr/>
        </p:nvSpPr>
        <p:spPr>
          <a:xfrm>
            <a:off x="1320840" y="5618160"/>
            <a:ext cx="87624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Clock synchronization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6151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ous data transfer with variable speed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as fast as the slowest device involved in transf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device looks at the SCL line as an input as well as drivin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clock stays low even when being driven high then another device needs more time, so wait for it to finish before continu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ing clock edges are synchroniz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Date Placeholder 3"/>
          <p:cNvSpPr/>
          <p:nvPr/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ooter Placeholder 4"/>
          <p:cNvSpPr/>
          <p:nvPr/>
        </p:nvSpPr>
        <p:spPr>
          <a:xfrm>
            <a:off x="3166920" y="6329520"/>
            <a:ext cx="2936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lide Number Placeholder 5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1FEB3B5-91EE-4196-BFA1-46E4CD3D918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Arbitration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63680" y="1620360"/>
            <a:ext cx="819936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ices can start transmitting at any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 until lines are both high for some minimum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devices may start together - clocks will be synchron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enders will think they are sending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y slowed down by receiver (or another 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ender keeps watching SDA - if ever differ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riving high, but its really low) then there is another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 that detects difference gets off the bus and aborts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ice priority given to devices with early 0s in their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….111 has higher priority than 01…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Date Placeholder 3"/>
          <p:cNvSpPr/>
          <p:nvPr/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ooter Placeholder 4"/>
          <p:cNvSpPr/>
          <p:nvPr/>
        </p:nvSpPr>
        <p:spPr>
          <a:xfrm>
            <a:off x="3166920" y="6329520"/>
            <a:ext cx="2936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5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EC3B911-9C52-4BE7-989F-BDABCF4521D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Inter-Integrated Circuit Bus (I2C)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data transfers from 0 to 400K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ilips (and others) provide many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controllers with built-in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/D and D/A conver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llel I/O 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CD dr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clock/calend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MF deco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synthesiz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deo/audio proces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3166920" y="6329520"/>
            <a:ext cx="2936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6D4A43A-D70F-42E1-B297-73EAA697A33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Communication methods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imensions to consid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 – number of wires – serial/parall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ed – bits/bytes/words per sec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 methodology – synchronous or asynchron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destinations/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bitration scheme – daisy-chain, centralized, distrib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s – provide some guarantees as to correct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Date Placeholder 3"/>
          <p:cNvSpPr/>
          <p:nvPr/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ooter Placeholder 4"/>
          <p:cNvSpPr/>
          <p:nvPr/>
        </p:nvSpPr>
        <p:spPr>
          <a:xfrm>
            <a:off x="3166920" y="6329520"/>
            <a:ext cx="2936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lide Number Placeholder 5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AF29DB4-1B71-4530-8421-385701C0083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Ethernet (Xerox local area network)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area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 to 1024 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 to 2.8 km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Mbits/sec serially on shielded co-axial c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Mbits/sec on twisted pair of copper p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by Xerox in late 70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ll most common LAN right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ng displaced by fiber-optics (can't handle video/audio rates or make required service guarante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-level protocols to ensure reliable data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MA-CD: carrier sense multiple access with collision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Slide Number Placeholder 4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9AE7-5CA4-4C59-97BA-DECC02109D29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The ISO OSI Reference Model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555" name="Group 3"/>
          <p:cNvGrpSpPr/>
          <p:nvPr/>
        </p:nvGrpSpPr>
        <p:grpSpPr>
          <a:xfrm>
            <a:off x="2654280" y="1339920"/>
            <a:ext cx="4663440" cy="4974840"/>
            <a:chOff x="2654280" y="1339920"/>
            <a:chExt cx="4663440" cy="4974840"/>
          </a:xfrm>
        </p:grpSpPr>
        <p:grpSp>
          <p:nvGrpSpPr>
            <p:cNvPr id="556" name="Group 4"/>
            <p:cNvGrpSpPr/>
            <p:nvPr/>
          </p:nvGrpSpPr>
          <p:grpSpPr>
            <a:xfrm>
              <a:off x="5886720" y="1711800"/>
              <a:ext cx="1431000" cy="3808080"/>
              <a:chOff x="5886720" y="1711800"/>
              <a:chExt cx="1431000" cy="3808080"/>
            </a:xfrm>
          </p:grpSpPr>
          <p:sp>
            <p:nvSpPr>
              <p:cNvPr id="557" name="Text Box 5"/>
              <p:cNvSpPr/>
              <p:nvPr/>
            </p:nvSpPr>
            <p:spPr>
              <a:xfrm>
                <a:off x="5899680" y="1711800"/>
                <a:ext cx="1418040" cy="3466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pplic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Text Box 6"/>
              <p:cNvSpPr/>
              <p:nvPr/>
            </p:nvSpPr>
            <p:spPr>
              <a:xfrm>
                <a:off x="5899680" y="4587120"/>
                <a:ext cx="1416600" cy="368280"/>
              </a:xfrm>
              <a:prstGeom prst="rect">
                <a:avLst/>
              </a:prstGeom>
              <a:solidFill>
                <a:srgbClr val="efe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ata Lin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Text Box 7"/>
              <p:cNvSpPr/>
              <p:nvPr/>
            </p:nvSpPr>
            <p:spPr>
              <a:xfrm>
                <a:off x="5901480" y="2287440"/>
                <a:ext cx="1416240" cy="3466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Present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8"/>
              <p:cNvSpPr/>
              <p:nvPr/>
            </p:nvSpPr>
            <p:spPr>
              <a:xfrm>
                <a:off x="5888160" y="4004280"/>
                <a:ext cx="1413360" cy="3682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Networ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9"/>
              <p:cNvSpPr/>
              <p:nvPr/>
            </p:nvSpPr>
            <p:spPr>
              <a:xfrm>
                <a:off x="5886720" y="5151600"/>
                <a:ext cx="1418040" cy="368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Physic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Text Box 10"/>
              <p:cNvSpPr/>
              <p:nvPr/>
            </p:nvSpPr>
            <p:spPr>
              <a:xfrm>
                <a:off x="5901480" y="2841840"/>
                <a:ext cx="1416240" cy="3466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Text Box 11"/>
              <p:cNvSpPr/>
              <p:nvPr/>
            </p:nvSpPr>
            <p:spPr>
              <a:xfrm>
                <a:off x="5901480" y="3424320"/>
                <a:ext cx="1416240" cy="368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Transpo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Line 12"/>
              <p:cNvSpPr/>
              <p:nvPr/>
            </p:nvSpPr>
            <p:spPr>
              <a:xfrm>
                <a:off x="6590880" y="4900680"/>
                <a:ext cx="0" cy="25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Line 13"/>
              <p:cNvSpPr/>
              <p:nvPr/>
            </p:nvSpPr>
            <p:spPr>
              <a:xfrm>
                <a:off x="6584400" y="4329000"/>
                <a:ext cx="0" cy="25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Line 14"/>
              <p:cNvSpPr/>
              <p:nvPr/>
            </p:nvSpPr>
            <p:spPr>
              <a:xfrm>
                <a:off x="6584400" y="3751920"/>
                <a:ext cx="0" cy="25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Line 15"/>
              <p:cNvSpPr/>
              <p:nvPr/>
            </p:nvSpPr>
            <p:spPr>
              <a:xfrm>
                <a:off x="6584400" y="3153960"/>
                <a:ext cx="0" cy="25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Line 16"/>
              <p:cNvSpPr/>
              <p:nvPr/>
            </p:nvSpPr>
            <p:spPr>
              <a:xfrm>
                <a:off x="6584400" y="2576880"/>
                <a:ext cx="0" cy="25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Line 17"/>
              <p:cNvSpPr/>
              <p:nvPr/>
            </p:nvSpPr>
            <p:spPr>
              <a:xfrm>
                <a:off x="6579360" y="2024280"/>
                <a:ext cx="0" cy="25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" name="Rectangle 18"/>
            <p:cNvSpPr/>
            <p:nvPr/>
          </p:nvSpPr>
          <p:spPr>
            <a:xfrm>
              <a:off x="2682720" y="5801400"/>
              <a:ext cx="4632120" cy="513360"/>
            </a:xfrm>
            <a:prstGeom prst="rect">
              <a:avLst/>
            </a:prstGeom>
            <a:gradFill rotWithShape="0">
              <a:gsLst>
                <a:gs pos="0">
                  <a:srgbClr val="d5c4f6"/>
                </a:gs>
                <a:gs pos="100000">
                  <a:srgbClr val="cdf8f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hysical Med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" name="Group 19"/>
            <p:cNvGrpSpPr/>
            <p:nvPr/>
          </p:nvGrpSpPr>
          <p:grpSpPr>
            <a:xfrm>
              <a:off x="2654280" y="1702440"/>
              <a:ext cx="1431000" cy="4069440"/>
              <a:chOff x="2654280" y="1702440"/>
              <a:chExt cx="1431000" cy="4069440"/>
            </a:xfrm>
          </p:grpSpPr>
          <p:sp>
            <p:nvSpPr>
              <p:cNvPr id="572" name="Text Box 20"/>
              <p:cNvSpPr/>
              <p:nvPr/>
            </p:nvSpPr>
            <p:spPr>
              <a:xfrm>
                <a:off x="2666520" y="1702440"/>
                <a:ext cx="1418760" cy="3466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pplic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Text Box 21"/>
              <p:cNvSpPr/>
              <p:nvPr/>
            </p:nvSpPr>
            <p:spPr>
              <a:xfrm>
                <a:off x="2666520" y="4577040"/>
                <a:ext cx="1416960" cy="368280"/>
              </a:xfrm>
              <a:prstGeom prst="rect">
                <a:avLst/>
              </a:prstGeom>
              <a:solidFill>
                <a:srgbClr val="efe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ata Lin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Text Box 22"/>
              <p:cNvSpPr/>
              <p:nvPr/>
            </p:nvSpPr>
            <p:spPr>
              <a:xfrm>
                <a:off x="2669760" y="2277360"/>
                <a:ext cx="1415520" cy="3466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Present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23"/>
              <p:cNvSpPr/>
              <p:nvPr/>
            </p:nvSpPr>
            <p:spPr>
              <a:xfrm>
                <a:off x="2655720" y="3994200"/>
                <a:ext cx="1415160" cy="3682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Networ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Text Box 24"/>
              <p:cNvSpPr/>
              <p:nvPr/>
            </p:nvSpPr>
            <p:spPr>
              <a:xfrm>
                <a:off x="2654280" y="5146200"/>
                <a:ext cx="1418400" cy="368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Physic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Text Box 25"/>
              <p:cNvSpPr/>
              <p:nvPr/>
            </p:nvSpPr>
            <p:spPr>
              <a:xfrm>
                <a:off x="2669760" y="2833920"/>
                <a:ext cx="1415520" cy="3466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26"/>
              <p:cNvSpPr/>
              <p:nvPr/>
            </p:nvSpPr>
            <p:spPr>
              <a:xfrm>
                <a:off x="2669760" y="3415320"/>
                <a:ext cx="1415520" cy="368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Transpo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27"/>
              <p:cNvSpPr/>
              <p:nvPr/>
            </p:nvSpPr>
            <p:spPr>
              <a:xfrm>
                <a:off x="3357720" y="4890960"/>
                <a:ext cx="0" cy="25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Line 28"/>
              <p:cNvSpPr/>
              <p:nvPr/>
            </p:nvSpPr>
            <p:spPr>
              <a:xfrm>
                <a:off x="3351600" y="4318560"/>
                <a:ext cx="0" cy="25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29"/>
              <p:cNvSpPr/>
              <p:nvPr/>
            </p:nvSpPr>
            <p:spPr>
              <a:xfrm>
                <a:off x="3351600" y="3741840"/>
                <a:ext cx="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Line 30"/>
              <p:cNvSpPr/>
              <p:nvPr/>
            </p:nvSpPr>
            <p:spPr>
              <a:xfrm>
                <a:off x="3351600" y="3142800"/>
                <a:ext cx="0" cy="25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Line 31"/>
              <p:cNvSpPr/>
              <p:nvPr/>
            </p:nvSpPr>
            <p:spPr>
              <a:xfrm>
                <a:off x="3351600" y="2565720"/>
                <a:ext cx="0" cy="25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Line 32"/>
              <p:cNvSpPr/>
              <p:nvPr/>
            </p:nvSpPr>
            <p:spPr>
              <a:xfrm>
                <a:off x="3346920" y="2012760"/>
                <a:ext cx="0" cy="25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Line 33"/>
              <p:cNvSpPr/>
              <p:nvPr/>
            </p:nvSpPr>
            <p:spPr>
              <a:xfrm>
                <a:off x="3351600" y="5515200"/>
                <a:ext cx="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Line 34"/>
            <p:cNvSpPr/>
            <p:nvPr/>
          </p:nvSpPr>
          <p:spPr>
            <a:xfrm>
              <a:off x="6581160" y="5548680"/>
              <a:ext cx="1440" cy="25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Text Box 55"/>
            <p:cNvSpPr/>
            <p:nvPr/>
          </p:nvSpPr>
          <p:spPr>
            <a:xfrm>
              <a:off x="2879280" y="1339920"/>
              <a:ext cx="94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ost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 Box 56"/>
            <p:cNvSpPr/>
            <p:nvPr/>
          </p:nvSpPr>
          <p:spPr>
            <a:xfrm>
              <a:off x="6164280" y="1353960"/>
              <a:ext cx="94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ost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Slide Number Placeholder 4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CAB4-0F33-405D-96A8-3246567A5129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The ISO OSI Reference Model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591" name="Group 3"/>
          <p:cNvGrpSpPr/>
          <p:nvPr/>
        </p:nvGrpSpPr>
        <p:grpSpPr>
          <a:xfrm>
            <a:off x="977760" y="1339920"/>
            <a:ext cx="6332040" cy="4974840"/>
            <a:chOff x="977760" y="1339920"/>
            <a:chExt cx="6332040" cy="4974840"/>
          </a:xfrm>
        </p:grpSpPr>
        <p:grpSp>
          <p:nvGrpSpPr>
            <p:cNvPr id="592" name="Group 4"/>
            <p:cNvGrpSpPr/>
            <p:nvPr/>
          </p:nvGrpSpPr>
          <p:grpSpPr>
            <a:xfrm>
              <a:off x="5878800" y="1711800"/>
              <a:ext cx="1431000" cy="3808080"/>
              <a:chOff x="5878800" y="1711800"/>
              <a:chExt cx="1431000" cy="3808080"/>
            </a:xfrm>
          </p:grpSpPr>
          <p:sp>
            <p:nvSpPr>
              <p:cNvPr id="593" name="Text Box 5"/>
              <p:cNvSpPr/>
              <p:nvPr/>
            </p:nvSpPr>
            <p:spPr>
              <a:xfrm>
                <a:off x="5891760" y="1711800"/>
                <a:ext cx="1418040" cy="3466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pplic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Text Box 6"/>
              <p:cNvSpPr/>
              <p:nvPr/>
            </p:nvSpPr>
            <p:spPr>
              <a:xfrm>
                <a:off x="5891760" y="4587120"/>
                <a:ext cx="1416600" cy="368280"/>
              </a:xfrm>
              <a:prstGeom prst="rect">
                <a:avLst/>
              </a:prstGeom>
              <a:solidFill>
                <a:srgbClr val="efe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ata Lin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Text Box 7"/>
              <p:cNvSpPr/>
              <p:nvPr/>
            </p:nvSpPr>
            <p:spPr>
              <a:xfrm>
                <a:off x="5893560" y="2287440"/>
                <a:ext cx="1416240" cy="3466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Present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Text Box 8"/>
              <p:cNvSpPr/>
              <p:nvPr/>
            </p:nvSpPr>
            <p:spPr>
              <a:xfrm>
                <a:off x="5880240" y="4004280"/>
                <a:ext cx="1413360" cy="3682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Networ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Text Box 9"/>
              <p:cNvSpPr/>
              <p:nvPr/>
            </p:nvSpPr>
            <p:spPr>
              <a:xfrm>
                <a:off x="5878800" y="5151600"/>
                <a:ext cx="1418040" cy="368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Physic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Text Box 10"/>
              <p:cNvSpPr/>
              <p:nvPr/>
            </p:nvSpPr>
            <p:spPr>
              <a:xfrm>
                <a:off x="5893560" y="2841840"/>
                <a:ext cx="1416240" cy="3466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Text Box 11"/>
              <p:cNvSpPr/>
              <p:nvPr/>
            </p:nvSpPr>
            <p:spPr>
              <a:xfrm>
                <a:off x="5893560" y="3424320"/>
                <a:ext cx="1416240" cy="368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Transpo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Line 12"/>
              <p:cNvSpPr/>
              <p:nvPr/>
            </p:nvSpPr>
            <p:spPr>
              <a:xfrm>
                <a:off x="6582960" y="4900680"/>
                <a:ext cx="0" cy="25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Line 13"/>
              <p:cNvSpPr/>
              <p:nvPr/>
            </p:nvSpPr>
            <p:spPr>
              <a:xfrm>
                <a:off x="6576480" y="4329000"/>
                <a:ext cx="0" cy="25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Line 14"/>
              <p:cNvSpPr/>
              <p:nvPr/>
            </p:nvSpPr>
            <p:spPr>
              <a:xfrm>
                <a:off x="6576480" y="3751920"/>
                <a:ext cx="0" cy="25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Line 15"/>
              <p:cNvSpPr/>
              <p:nvPr/>
            </p:nvSpPr>
            <p:spPr>
              <a:xfrm>
                <a:off x="6576480" y="3153960"/>
                <a:ext cx="0" cy="25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Line 16"/>
              <p:cNvSpPr/>
              <p:nvPr/>
            </p:nvSpPr>
            <p:spPr>
              <a:xfrm>
                <a:off x="6576480" y="2576880"/>
                <a:ext cx="0" cy="25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Line 17"/>
              <p:cNvSpPr/>
              <p:nvPr/>
            </p:nvSpPr>
            <p:spPr>
              <a:xfrm>
                <a:off x="6571440" y="2024280"/>
                <a:ext cx="0" cy="25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6" name="Rectangle 18"/>
            <p:cNvSpPr/>
            <p:nvPr/>
          </p:nvSpPr>
          <p:spPr>
            <a:xfrm>
              <a:off x="2675160" y="5801400"/>
              <a:ext cx="4631760" cy="513360"/>
            </a:xfrm>
            <a:prstGeom prst="rect">
              <a:avLst/>
            </a:prstGeom>
            <a:gradFill rotWithShape="0">
              <a:gsLst>
                <a:gs pos="0">
                  <a:srgbClr val="d5c4f6"/>
                </a:gs>
                <a:gs pos="100000">
                  <a:srgbClr val="cdf8f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hysical Med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7" name="Group 19"/>
            <p:cNvGrpSpPr/>
            <p:nvPr/>
          </p:nvGrpSpPr>
          <p:grpSpPr>
            <a:xfrm>
              <a:off x="2646360" y="1702440"/>
              <a:ext cx="1431000" cy="4069440"/>
              <a:chOff x="2646360" y="1702440"/>
              <a:chExt cx="1431000" cy="4069440"/>
            </a:xfrm>
          </p:grpSpPr>
          <p:sp>
            <p:nvSpPr>
              <p:cNvPr id="608" name="Text Box 20"/>
              <p:cNvSpPr/>
              <p:nvPr/>
            </p:nvSpPr>
            <p:spPr>
              <a:xfrm>
                <a:off x="2658600" y="1702440"/>
                <a:ext cx="1418760" cy="3466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pplic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Text Box 21"/>
              <p:cNvSpPr/>
              <p:nvPr/>
            </p:nvSpPr>
            <p:spPr>
              <a:xfrm>
                <a:off x="2658600" y="4577040"/>
                <a:ext cx="1416960" cy="368280"/>
              </a:xfrm>
              <a:prstGeom prst="rect">
                <a:avLst/>
              </a:prstGeom>
              <a:solidFill>
                <a:srgbClr val="efe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ata Lin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Text Box 22"/>
              <p:cNvSpPr/>
              <p:nvPr/>
            </p:nvSpPr>
            <p:spPr>
              <a:xfrm>
                <a:off x="2661840" y="2277360"/>
                <a:ext cx="1415520" cy="3466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Present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Text Box 23"/>
              <p:cNvSpPr/>
              <p:nvPr/>
            </p:nvSpPr>
            <p:spPr>
              <a:xfrm>
                <a:off x="2647800" y="3994200"/>
                <a:ext cx="1415160" cy="3682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Networ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Text Box 24"/>
              <p:cNvSpPr/>
              <p:nvPr/>
            </p:nvSpPr>
            <p:spPr>
              <a:xfrm>
                <a:off x="2646360" y="5146200"/>
                <a:ext cx="1418400" cy="368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Physic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Text Box 25"/>
              <p:cNvSpPr/>
              <p:nvPr/>
            </p:nvSpPr>
            <p:spPr>
              <a:xfrm>
                <a:off x="2661840" y="2833920"/>
                <a:ext cx="1415520" cy="3466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Text Box 26"/>
              <p:cNvSpPr/>
              <p:nvPr/>
            </p:nvSpPr>
            <p:spPr>
              <a:xfrm>
                <a:off x="2661840" y="3415320"/>
                <a:ext cx="1415520" cy="368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Transpo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Line 27"/>
              <p:cNvSpPr/>
              <p:nvPr/>
            </p:nvSpPr>
            <p:spPr>
              <a:xfrm>
                <a:off x="3349800" y="4890960"/>
                <a:ext cx="0" cy="25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Line 28"/>
              <p:cNvSpPr/>
              <p:nvPr/>
            </p:nvSpPr>
            <p:spPr>
              <a:xfrm>
                <a:off x="3343680" y="4318560"/>
                <a:ext cx="0" cy="25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Line 29"/>
              <p:cNvSpPr/>
              <p:nvPr/>
            </p:nvSpPr>
            <p:spPr>
              <a:xfrm>
                <a:off x="3343680" y="3741840"/>
                <a:ext cx="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Line 30"/>
              <p:cNvSpPr/>
              <p:nvPr/>
            </p:nvSpPr>
            <p:spPr>
              <a:xfrm>
                <a:off x="3343680" y="3142800"/>
                <a:ext cx="0" cy="25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Line 31"/>
              <p:cNvSpPr/>
              <p:nvPr/>
            </p:nvSpPr>
            <p:spPr>
              <a:xfrm>
                <a:off x="3343680" y="2565720"/>
                <a:ext cx="0" cy="25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Line 32"/>
              <p:cNvSpPr/>
              <p:nvPr/>
            </p:nvSpPr>
            <p:spPr>
              <a:xfrm>
                <a:off x="3339000" y="2012760"/>
                <a:ext cx="0" cy="25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Line 33"/>
              <p:cNvSpPr/>
              <p:nvPr/>
            </p:nvSpPr>
            <p:spPr>
              <a:xfrm>
                <a:off x="3343680" y="5515200"/>
                <a:ext cx="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2" name="Line 34"/>
            <p:cNvSpPr/>
            <p:nvPr/>
          </p:nvSpPr>
          <p:spPr>
            <a:xfrm>
              <a:off x="6573240" y="5548680"/>
              <a:ext cx="1440" cy="25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35"/>
            <p:cNvSpPr/>
            <p:nvPr/>
          </p:nvSpPr>
          <p:spPr>
            <a:xfrm>
              <a:off x="4074840" y="1872720"/>
              <a:ext cx="17931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36"/>
            <p:cNvSpPr/>
            <p:nvPr/>
          </p:nvSpPr>
          <p:spPr>
            <a:xfrm>
              <a:off x="4068360" y="2477880"/>
              <a:ext cx="17931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37"/>
            <p:cNvSpPr/>
            <p:nvPr/>
          </p:nvSpPr>
          <p:spPr>
            <a:xfrm>
              <a:off x="4087080" y="2990160"/>
              <a:ext cx="17931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38"/>
            <p:cNvSpPr/>
            <p:nvPr/>
          </p:nvSpPr>
          <p:spPr>
            <a:xfrm>
              <a:off x="4087080" y="3603600"/>
              <a:ext cx="17931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39"/>
            <p:cNvSpPr/>
            <p:nvPr/>
          </p:nvSpPr>
          <p:spPr>
            <a:xfrm>
              <a:off x="4066920" y="4175640"/>
              <a:ext cx="17928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40"/>
            <p:cNvSpPr/>
            <p:nvPr/>
          </p:nvSpPr>
          <p:spPr>
            <a:xfrm>
              <a:off x="4066920" y="4787280"/>
              <a:ext cx="17928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41"/>
            <p:cNvSpPr/>
            <p:nvPr/>
          </p:nvSpPr>
          <p:spPr>
            <a:xfrm>
              <a:off x="4085640" y="5320440"/>
              <a:ext cx="179280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42"/>
            <p:cNvSpPr/>
            <p:nvPr/>
          </p:nvSpPr>
          <p:spPr>
            <a:xfrm>
              <a:off x="4211640" y="1557360"/>
              <a:ext cx="179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ayer 7 Protoco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 Box 43"/>
            <p:cNvSpPr/>
            <p:nvPr/>
          </p:nvSpPr>
          <p:spPr>
            <a:xfrm>
              <a:off x="4206960" y="4965840"/>
              <a:ext cx="179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ayer 1 Protoco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 Box 44"/>
            <p:cNvSpPr/>
            <p:nvPr/>
          </p:nvSpPr>
          <p:spPr>
            <a:xfrm>
              <a:off x="4202280" y="4464360"/>
              <a:ext cx="179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ayer 2 Protoco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 Box 45"/>
            <p:cNvSpPr/>
            <p:nvPr/>
          </p:nvSpPr>
          <p:spPr>
            <a:xfrm>
              <a:off x="4199040" y="3814920"/>
              <a:ext cx="179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ayer 3 Protoco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 Box 46"/>
            <p:cNvSpPr/>
            <p:nvPr/>
          </p:nvSpPr>
          <p:spPr>
            <a:xfrm>
              <a:off x="4199040" y="3261600"/>
              <a:ext cx="179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ayer 4 Protoco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Text Box 47"/>
            <p:cNvSpPr/>
            <p:nvPr/>
          </p:nvSpPr>
          <p:spPr>
            <a:xfrm>
              <a:off x="4199040" y="2649960"/>
              <a:ext cx="179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ayer 5 Protoco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 Box 48"/>
            <p:cNvSpPr/>
            <p:nvPr/>
          </p:nvSpPr>
          <p:spPr>
            <a:xfrm>
              <a:off x="4194360" y="2148480"/>
              <a:ext cx="179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ayer 6 Protoco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Text Box 49"/>
            <p:cNvSpPr/>
            <p:nvPr/>
          </p:nvSpPr>
          <p:spPr>
            <a:xfrm>
              <a:off x="977760" y="1992600"/>
              <a:ext cx="18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ayer 6/7 Interf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Text Box 50"/>
            <p:cNvSpPr/>
            <p:nvPr/>
          </p:nvSpPr>
          <p:spPr>
            <a:xfrm>
              <a:off x="990000" y="2557080"/>
              <a:ext cx="18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ayer 5/6 Interf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 Box 51"/>
            <p:cNvSpPr/>
            <p:nvPr/>
          </p:nvSpPr>
          <p:spPr>
            <a:xfrm>
              <a:off x="983880" y="3102120"/>
              <a:ext cx="18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ayer 4/5 Interf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52"/>
            <p:cNvSpPr/>
            <p:nvPr/>
          </p:nvSpPr>
          <p:spPr>
            <a:xfrm>
              <a:off x="977760" y="3705840"/>
              <a:ext cx="18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ayer 3/4 Interf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53"/>
            <p:cNvSpPr/>
            <p:nvPr/>
          </p:nvSpPr>
          <p:spPr>
            <a:xfrm>
              <a:off x="991800" y="4273560"/>
              <a:ext cx="18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ayer 2/3 Interf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 Box 54"/>
            <p:cNvSpPr/>
            <p:nvPr/>
          </p:nvSpPr>
          <p:spPr>
            <a:xfrm>
              <a:off x="983880" y="4879080"/>
              <a:ext cx="18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ayer 1/2 Interf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 Box 55"/>
            <p:cNvSpPr/>
            <p:nvPr/>
          </p:nvSpPr>
          <p:spPr>
            <a:xfrm>
              <a:off x="2871720" y="1339920"/>
              <a:ext cx="94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ost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 Box 56"/>
            <p:cNvSpPr/>
            <p:nvPr/>
          </p:nvSpPr>
          <p:spPr>
            <a:xfrm>
              <a:off x="6156360" y="1353960"/>
              <a:ext cx="94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ost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Slide Number Placeholder 5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2EC8-B45A-4373-B8FA-CA89E5D5C4C4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The ISO OSI Reference Model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76770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 algn="just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Interfac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defines which primitive operations and services the lower layer offers to the upper lay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 algn="just">
              <a:lnSpc>
                <a:spcPct val="90000"/>
              </a:lnSpc>
              <a:spcBef>
                <a:spcPts val="176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 algn="just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Peer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he similar layer on a different machi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 algn="just">
              <a:lnSpc>
                <a:spcPct val="90000"/>
              </a:lnSpc>
              <a:spcBef>
                <a:spcPts val="176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 algn="just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Protocol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t is a set of rules and conventions used by the layer to communicate with similar peer layer in another (remote) syste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 algn="just">
              <a:lnSpc>
                <a:spcPct val="90000"/>
              </a:lnSpc>
              <a:spcBef>
                <a:spcPts val="176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 algn="just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eer processes communicate with each other using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toc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 algn="just">
              <a:lnSpc>
                <a:spcPct val="90000"/>
              </a:lnSpc>
              <a:spcBef>
                <a:spcPts val="176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 algn="just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t of layers and protocols is called a 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network archit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Slide Number Placeholder 5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6ED7-0263-470F-906A-9B4F9CB66220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The ISO OSI Reference Model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 algn="just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reality, no data are directly transferred from lay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one machine to lay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another machine.    Instead, each layer passes data and control information to the layer immediately below it, until the lowest layer is reached. Below layer 1 is the physical medium through which actual communication occu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Group 4"/>
          <p:cNvGrpSpPr/>
          <p:nvPr/>
        </p:nvGrpSpPr>
        <p:grpSpPr>
          <a:xfrm>
            <a:off x="1236600" y="4168800"/>
            <a:ext cx="7026120" cy="1735200"/>
            <a:chOff x="1236600" y="4168800"/>
            <a:chExt cx="7026120" cy="1735200"/>
          </a:xfrm>
        </p:grpSpPr>
        <p:sp>
          <p:nvSpPr>
            <p:cNvPr id="652" name="Rectangle 5"/>
            <p:cNvSpPr/>
            <p:nvPr/>
          </p:nvSpPr>
          <p:spPr>
            <a:xfrm>
              <a:off x="1236600" y="4598280"/>
              <a:ext cx="2256120" cy="74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end-To-Other-side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( 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6"/>
            <p:cNvSpPr/>
            <p:nvPr/>
          </p:nvSpPr>
          <p:spPr>
            <a:xfrm>
              <a:off x="6006240" y="4572360"/>
              <a:ext cx="2256480" cy="74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t-From-Other-side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( 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7"/>
            <p:cNvSpPr/>
            <p:nvPr/>
          </p:nvSpPr>
          <p:spPr>
            <a:xfrm>
              <a:off x="3515040" y="4940640"/>
              <a:ext cx="249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8"/>
            <p:cNvSpPr/>
            <p:nvPr/>
          </p:nvSpPr>
          <p:spPr>
            <a:xfrm>
              <a:off x="4099320" y="4517640"/>
              <a:ext cx="102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rotoc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Text Box 9"/>
            <p:cNvSpPr/>
            <p:nvPr/>
          </p:nvSpPr>
          <p:spPr>
            <a:xfrm>
              <a:off x="3286800" y="5535720"/>
              <a:ext cx="316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Virtual Communicatio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10"/>
            <p:cNvSpPr/>
            <p:nvPr/>
          </p:nvSpPr>
          <p:spPr>
            <a:xfrm>
              <a:off x="1801440" y="421524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ost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11"/>
            <p:cNvSpPr/>
            <p:nvPr/>
          </p:nvSpPr>
          <p:spPr>
            <a:xfrm>
              <a:off x="6609960" y="416880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ost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12"/>
            <p:cNvSpPr/>
            <p:nvPr/>
          </p:nvSpPr>
          <p:spPr>
            <a:xfrm>
              <a:off x="1884960" y="540216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ayer 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 Box 13"/>
            <p:cNvSpPr/>
            <p:nvPr/>
          </p:nvSpPr>
          <p:spPr>
            <a:xfrm>
              <a:off x="6716160" y="537660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ayer 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Date Placeholder 3"/>
          <p:cNvSpPr/>
          <p:nvPr/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ooter Placeholder 4"/>
          <p:cNvSpPr/>
          <p:nvPr/>
        </p:nvSpPr>
        <p:spPr>
          <a:xfrm>
            <a:off x="3166920" y="6329520"/>
            <a:ext cx="2936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5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33361A1-D225-49F9-9B33-BDABBA78553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23"/>
          <p:cNvSpPr/>
          <p:nvPr/>
        </p:nvSpPr>
        <p:spPr>
          <a:xfrm flipV="1">
            <a:off x="879480" y="4971960"/>
            <a:ext cx="723744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9"/>
          <p:cNvSpPr/>
          <p:nvPr/>
        </p:nvSpPr>
        <p:spPr>
          <a:xfrm>
            <a:off x="6529320" y="4470480"/>
            <a:ext cx="1028880" cy="102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10"/>
          <p:cNvSpPr/>
          <p:nvPr/>
        </p:nvSpPr>
        <p:spPr>
          <a:xfrm>
            <a:off x="5272200" y="4470480"/>
            <a:ext cx="1028520" cy="102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11"/>
          <p:cNvSpPr/>
          <p:nvPr/>
        </p:nvSpPr>
        <p:spPr>
          <a:xfrm>
            <a:off x="4014720" y="4470480"/>
            <a:ext cx="1028880" cy="102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12"/>
          <p:cNvSpPr/>
          <p:nvPr/>
        </p:nvSpPr>
        <p:spPr>
          <a:xfrm>
            <a:off x="2757600" y="4470480"/>
            <a:ext cx="1028520" cy="102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13"/>
          <p:cNvSpPr/>
          <p:nvPr/>
        </p:nvSpPr>
        <p:spPr>
          <a:xfrm>
            <a:off x="1469880" y="4470480"/>
            <a:ext cx="1028880" cy="102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14"/>
          <p:cNvSpPr/>
          <p:nvPr/>
        </p:nvSpPr>
        <p:spPr>
          <a:xfrm>
            <a:off x="6713640" y="4565520"/>
            <a:ext cx="6728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15"/>
          <p:cNvSpPr/>
          <p:nvPr/>
        </p:nvSpPr>
        <p:spPr>
          <a:xfrm>
            <a:off x="5519880" y="4616280"/>
            <a:ext cx="5587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6"/>
          <p:cNvSpPr/>
          <p:nvPr/>
        </p:nvSpPr>
        <p:spPr>
          <a:xfrm>
            <a:off x="4084560" y="478152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17"/>
          <p:cNvSpPr/>
          <p:nvPr/>
        </p:nvSpPr>
        <p:spPr>
          <a:xfrm>
            <a:off x="2814480" y="4768920"/>
            <a:ext cx="927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25"/>
          <p:cNvSpPr/>
          <p:nvPr/>
        </p:nvSpPr>
        <p:spPr>
          <a:xfrm>
            <a:off x="8123400" y="4375080"/>
            <a:ext cx="0" cy="1206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26"/>
          <p:cNvSpPr/>
          <p:nvPr/>
        </p:nvSpPr>
        <p:spPr>
          <a:xfrm>
            <a:off x="6523200" y="561348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27"/>
          <p:cNvSpPr/>
          <p:nvPr/>
        </p:nvSpPr>
        <p:spPr>
          <a:xfrm>
            <a:off x="6529320" y="5721480"/>
            <a:ext cx="10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28"/>
          <p:cNvSpPr/>
          <p:nvPr/>
        </p:nvSpPr>
        <p:spPr>
          <a:xfrm flipV="1">
            <a:off x="7551720" y="5600880"/>
            <a:ext cx="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29"/>
          <p:cNvSpPr/>
          <p:nvPr/>
        </p:nvSpPr>
        <p:spPr>
          <a:xfrm>
            <a:off x="6294600" y="561348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30"/>
          <p:cNvSpPr/>
          <p:nvPr/>
        </p:nvSpPr>
        <p:spPr>
          <a:xfrm flipH="1">
            <a:off x="2744640" y="5721480"/>
            <a:ext cx="355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31"/>
          <p:cNvSpPr/>
          <p:nvPr/>
        </p:nvSpPr>
        <p:spPr>
          <a:xfrm flipH="1">
            <a:off x="1487520" y="5721480"/>
            <a:ext cx="1270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32"/>
          <p:cNvSpPr/>
          <p:nvPr/>
        </p:nvSpPr>
        <p:spPr>
          <a:xfrm flipV="1">
            <a:off x="1494000" y="5600880"/>
            <a:ext cx="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33"/>
          <p:cNvSpPr/>
          <p:nvPr/>
        </p:nvSpPr>
        <p:spPr>
          <a:xfrm flipV="1">
            <a:off x="5265720" y="4229280"/>
            <a:ext cx="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34"/>
          <p:cNvSpPr/>
          <p:nvPr/>
        </p:nvSpPr>
        <p:spPr>
          <a:xfrm>
            <a:off x="5272200" y="4235400"/>
            <a:ext cx="318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35"/>
          <p:cNvSpPr/>
          <p:nvPr/>
        </p:nvSpPr>
        <p:spPr>
          <a:xfrm>
            <a:off x="8466120" y="424188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36"/>
          <p:cNvSpPr/>
          <p:nvPr/>
        </p:nvSpPr>
        <p:spPr>
          <a:xfrm flipV="1">
            <a:off x="5037120" y="4229280"/>
            <a:ext cx="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37"/>
          <p:cNvSpPr/>
          <p:nvPr/>
        </p:nvSpPr>
        <p:spPr>
          <a:xfrm flipH="1">
            <a:off x="2744640" y="4235400"/>
            <a:ext cx="229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38"/>
          <p:cNvSpPr/>
          <p:nvPr/>
        </p:nvSpPr>
        <p:spPr>
          <a:xfrm>
            <a:off x="2751120" y="424188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39"/>
          <p:cNvSpPr/>
          <p:nvPr/>
        </p:nvSpPr>
        <p:spPr>
          <a:xfrm flipV="1">
            <a:off x="2522520" y="4229280"/>
            <a:ext cx="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40"/>
          <p:cNvSpPr/>
          <p:nvPr/>
        </p:nvSpPr>
        <p:spPr>
          <a:xfrm flipH="1">
            <a:off x="915480" y="4235400"/>
            <a:ext cx="161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41"/>
          <p:cNvSpPr/>
          <p:nvPr/>
        </p:nvSpPr>
        <p:spPr>
          <a:xfrm>
            <a:off x="6154560" y="3981600"/>
            <a:ext cx="14734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Cha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42"/>
          <p:cNvSpPr/>
          <p:nvPr/>
        </p:nvSpPr>
        <p:spPr>
          <a:xfrm>
            <a:off x="3157560" y="3981600"/>
            <a:ext cx="16002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-link Contro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43"/>
          <p:cNvSpPr/>
          <p:nvPr/>
        </p:nvSpPr>
        <p:spPr>
          <a:xfrm>
            <a:off x="2890800" y="5823000"/>
            <a:ext cx="19810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ernet Controller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44"/>
          <p:cNvSpPr/>
          <p:nvPr/>
        </p:nvSpPr>
        <p:spPr>
          <a:xfrm>
            <a:off x="6497640" y="5823000"/>
            <a:ext cx="11430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e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45"/>
          <p:cNvSpPr/>
          <p:nvPr/>
        </p:nvSpPr>
        <p:spPr>
          <a:xfrm>
            <a:off x="757080" y="3981600"/>
            <a:ext cx="1803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t-specific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46"/>
          <p:cNvSpPr/>
          <p:nvPr/>
        </p:nvSpPr>
        <p:spPr>
          <a:xfrm>
            <a:off x="249120" y="3981600"/>
            <a:ext cx="698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47"/>
          <p:cNvSpPr/>
          <p:nvPr/>
        </p:nvSpPr>
        <p:spPr>
          <a:xfrm>
            <a:off x="7970760" y="4756320"/>
            <a:ext cx="1067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ern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48"/>
          <p:cNvSpPr/>
          <p:nvPr/>
        </p:nvSpPr>
        <p:spPr>
          <a:xfrm flipH="1">
            <a:off x="4465440" y="2292480"/>
            <a:ext cx="4680" cy="1269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49"/>
          <p:cNvSpPr/>
          <p:nvPr/>
        </p:nvSpPr>
        <p:spPr>
          <a:xfrm>
            <a:off x="4446720" y="3543480"/>
            <a:ext cx="1749240" cy="6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50"/>
          <p:cNvSpPr/>
          <p:nvPr/>
        </p:nvSpPr>
        <p:spPr>
          <a:xfrm flipV="1">
            <a:off x="6180120" y="2266920"/>
            <a:ext cx="0" cy="13082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51"/>
          <p:cNvSpPr/>
          <p:nvPr/>
        </p:nvSpPr>
        <p:spPr>
          <a:xfrm flipH="1">
            <a:off x="4440240" y="3206880"/>
            <a:ext cx="17654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52"/>
          <p:cNvSpPr/>
          <p:nvPr/>
        </p:nvSpPr>
        <p:spPr>
          <a:xfrm>
            <a:off x="4491000" y="2863800"/>
            <a:ext cx="16635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53"/>
          <p:cNvSpPr/>
          <p:nvPr/>
        </p:nvSpPr>
        <p:spPr>
          <a:xfrm flipH="1">
            <a:off x="4440240" y="2521080"/>
            <a:ext cx="17654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54"/>
          <p:cNvSpPr/>
          <p:nvPr/>
        </p:nvSpPr>
        <p:spPr>
          <a:xfrm>
            <a:off x="4681440" y="3244680"/>
            <a:ext cx="132084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55"/>
          <p:cNvSpPr/>
          <p:nvPr/>
        </p:nvSpPr>
        <p:spPr>
          <a:xfrm>
            <a:off x="4656240" y="2901960"/>
            <a:ext cx="1346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-lin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56"/>
          <p:cNvSpPr/>
          <p:nvPr/>
        </p:nvSpPr>
        <p:spPr>
          <a:xfrm>
            <a:off x="4643280" y="2558880"/>
            <a:ext cx="13971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57"/>
          <p:cNvSpPr/>
          <p:nvPr/>
        </p:nvSpPr>
        <p:spPr>
          <a:xfrm>
            <a:off x="4757760" y="2216160"/>
            <a:ext cx="11682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58"/>
          <p:cNvSpPr/>
          <p:nvPr/>
        </p:nvSpPr>
        <p:spPr>
          <a:xfrm>
            <a:off x="5983200" y="3397320"/>
            <a:ext cx="90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59"/>
          <p:cNvSpPr/>
          <p:nvPr/>
        </p:nvSpPr>
        <p:spPr>
          <a:xfrm>
            <a:off x="6891480" y="3403440"/>
            <a:ext cx="0" cy="57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60"/>
          <p:cNvSpPr/>
          <p:nvPr/>
        </p:nvSpPr>
        <p:spPr>
          <a:xfrm flipH="1">
            <a:off x="3912840" y="302904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61"/>
          <p:cNvSpPr/>
          <p:nvPr/>
        </p:nvSpPr>
        <p:spPr>
          <a:xfrm>
            <a:off x="3919680" y="3035160"/>
            <a:ext cx="0" cy="92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62"/>
          <p:cNvSpPr/>
          <p:nvPr/>
        </p:nvSpPr>
        <p:spPr>
          <a:xfrm flipV="1">
            <a:off x="5151600" y="5028840"/>
            <a:ext cx="0" cy="138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63"/>
          <p:cNvSpPr/>
          <p:nvPr/>
        </p:nvSpPr>
        <p:spPr>
          <a:xfrm flipV="1">
            <a:off x="2637000" y="5028840"/>
            <a:ext cx="0" cy="138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64"/>
          <p:cNvSpPr/>
          <p:nvPr/>
        </p:nvSpPr>
        <p:spPr>
          <a:xfrm>
            <a:off x="2496960" y="6280200"/>
            <a:ext cx="11685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65"/>
          <p:cNvSpPr/>
          <p:nvPr/>
        </p:nvSpPr>
        <p:spPr>
          <a:xfrm>
            <a:off x="5037120" y="6254640"/>
            <a:ext cx="1066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1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al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Ethernet layered organization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and data-link layers are our foc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Date Placeholder 3"/>
          <p:cNvSpPr/>
          <p:nvPr/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ooter Placeholder 4"/>
          <p:cNvSpPr/>
          <p:nvPr/>
        </p:nvSpPr>
        <p:spPr>
          <a:xfrm>
            <a:off x="3166920" y="6329520"/>
            <a:ext cx="2936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Slide Number Placeholder 5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2C8182E-DAB5-493F-9C45-FE75E3F5A6A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9"/>
          <p:cNvSpPr/>
          <p:nvPr/>
        </p:nvSpPr>
        <p:spPr>
          <a:xfrm>
            <a:off x="1200240" y="3424320"/>
            <a:ext cx="90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10"/>
          <p:cNvSpPr/>
          <p:nvPr/>
        </p:nvSpPr>
        <p:spPr>
          <a:xfrm>
            <a:off x="2114640" y="3430440"/>
            <a:ext cx="10152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11"/>
          <p:cNvSpPr/>
          <p:nvPr/>
        </p:nvSpPr>
        <p:spPr>
          <a:xfrm>
            <a:off x="2228760" y="3652920"/>
            <a:ext cx="55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12"/>
          <p:cNvSpPr/>
          <p:nvPr/>
        </p:nvSpPr>
        <p:spPr>
          <a:xfrm flipV="1">
            <a:off x="2800440" y="3417840"/>
            <a:ext cx="101520" cy="241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13"/>
          <p:cNvSpPr/>
          <p:nvPr/>
        </p:nvSpPr>
        <p:spPr>
          <a:xfrm>
            <a:off x="2914560" y="3424320"/>
            <a:ext cx="55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14"/>
          <p:cNvSpPr/>
          <p:nvPr/>
        </p:nvSpPr>
        <p:spPr>
          <a:xfrm>
            <a:off x="3486240" y="3430440"/>
            <a:ext cx="10152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15"/>
          <p:cNvSpPr/>
          <p:nvPr/>
        </p:nvSpPr>
        <p:spPr>
          <a:xfrm>
            <a:off x="3600360" y="3652920"/>
            <a:ext cx="55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16"/>
          <p:cNvSpPr/>
          <p:nvPr/>
        </p:nvSpPr>
        <p:spPr>
          <a:xfrm flipV="1">
            <a:off x="4172040" y="3417840"/>
            <a:ext cx="101520" cy="241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17"/>
          <p:cNvSpPr/>
          <p:nvPr/>
        </p:nvSpPr>
        <p:spPr>
          <a:xfrm>
            <a:off x="4286160" y="3424320"/>
            <a:ext cx="55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18"/>
          <p:cNvSpPr/>
          <p:nvPr/>
        </p:nvSpPr>
        <p:spPr>
          <a:xfrm>
            <a:off x="4857840" y="3430440"/>
            <a:ext cx="10152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19"/>
          <p:cNvSpPr/>
          <p:nvPr/>
        </p:nvSpPr>
        <p:spPr>
          <a:xfrm>
            <a:off x="4971960" y="3652920"/>
            <a:ext cx="55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20"/>
          <p:cNvSpPr/>
          <p:nvPr/>
        </p:nvSpPr>
        <p:spPr>
          <a:xfrm>
            <a:off x="2451240" y="377352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21"/>
          <p:cNvSpPr/>
          <p:nvPr/>
        </p:nvSpPr>
        <p:spPr>
          <a:xfrm>
            <a:off x="3137040" y="377352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22"/>
          <p:cNvSpPr/>
          <p:nvPr/>
        </p:nvSpPr>
        <p:spPr>
          <a:xfrm>
            <a:off x="1765440" y="377352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23"/>
          <p:cNvSpPr/>
          <p:nvPr/>
        </p:nvSpPr>
        <p:spPr>
          <a:xfrm>
            <a:off x="2451240" y="377352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24"/>
          <p:cNvSpPr/>
          <p:nvPr/>
        </p:nvSpPr>
        <p:spPr>
          <a:xfrm>
            <a:off x="3822840" y="377352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25"/>
          <p:cNvSpPr/>
          <p:nvPr/>
        </p:nvSpPr>
        <p:spPr>
          <a:xfrm>
            <a:off x="4508640" y="377352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26"/>
          <p:cNvSpPr/>
          <p:nvPr/>
        </p:nvSpPr>
        <p:spPr>
          <a:xfrm>
            <a:off x="5194440" y="377352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27"/>
          <p:cNvSpPr/>
          <p:nvPr/>
        </p:nvSpPr>
        <p:spPr>
          <a:xfrm>
            <a:off x="5880240" y="377352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28"/>
          <p:cNvSpPr/>
          <p:nvPr/>
        </p:nvSpPr>
        <p:spPr>
          <a:xfrm flipV="1">
            <a:off x="5543640" y="3417840"/>
            <a:ext cx="101520" cy="241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29"/>
          <p:cNvSpPr/>
          <p:nvPr/>
        </p:nvSpPr>
        <p:spPr>
          <a:xfrm>
            <a:off x="5657760" y="342432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30"/>
          <p:cNvSpPr/>
          <p:nvPr/>
        </p:nvSpPr>
        <p:spPr>
          <a:xfrm>
            <a:off x="5886360" y="3430440"/>
            <a:ext cx="10152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31"/>
          <p:cNvSpPr/>
          <p:nvPr/>
        </p:nvSpPr>
        <p:spPr>
          <a:xfrm>
            <a:off x="6000840" y="365292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32"/>
          <p:cNvSpPr/>
          <p:nvPr/>
        </p:nvSpPr>
        <p:spPr>
          <a:xfrm flipV="1">
            <a:off x="6229440" y="3417840"/>
            <a:ext cx="101520" cy="241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33"/>
          <p:cNvSpPr/>
          <p:nvPr/>
        </p:nvSpPr>
        <p:spPr>
          <a:xfrm>
            <a:off x="6343560" y="3424320"/>
            <a:ext cx="55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34"/>
          <p:cNvSpPr/>
          <p:nvPr/>
        </p:nvSpPr>
        <p:spPr>
          <a:xfrm>
            <a:off x="5880240" y="377352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35"/>
          <p:cNvSpPr/>
          <p:nvPr/>
        </p:nvSpPr>
        <p:spPr>
          <a:xfrm>
            <a:off x="6566040" y="377352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36"/>
          <p:cNvSpPr/>
          <p:nvPr/>
        </p:nvSpPr>
        <p:spPr>
          <a:xfrm>
            <a:off x="6915240" y="3430440"/>
            <a:ext cx="10152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37"/>
          <p:cNvSpPr/>
          <p:nvPr/>
        </p:nvSpPr>
        <p:spPr>
          <a:xfrm>
            <a:off x="7029360" y="365292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38"/>
          <p:cNvSpPr/>
          <p:nvPr/>
        </p:nvSpPr>
        <p:spPr>
          <a:xfrm flipV="1">
            <a:off x="7257960" y="3417840"/>
            <a:ext cx="101520" cy="241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39"/>
          <p:cNvSpPr/>
          <p:nvPr/>
        </p:nvSpPr>
        <p:spPr>
          <a:xfrm>
            <a:off x="7372440" y="342432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40"/>
          <p:cNvSpPr/>
          <p:nvPr/>
        </p:nvSpPr>
        <p:spPr>
          <a:xfrm>
            <a:off x="7601040" y="3430440"/>
            <a:ext cx="10152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41"/>
          <p:cNvSpPr/>
          <p:nvPr/>
        </p:nvSpPr>
        <p:spPr>
          <a:xfrm>
            <a:off x="7715160" y="365292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42"/>
          <p:cNvSpPr/>
          <p:nvPr/>
        </p:nvSpPr>
        <p:spPr>
          <a:xfrm flipV="1">
            <a:off x="7943760" y="3417840"/>
            <a:ext cx="101520" cy="241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43"/>
          <p:cNvSpPr/>
          <p:nvPr/>
        </p:nvSpPr>
        <p:spPr>
          <a:xfrm>
            <a:off x="8058240" y="342432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44"/>
          <p:cNvSpPr/>
          <p:nvPr/>
        </p:nvSpPr>
        <p:spPr>
          <a:xfrm>
            <a:off x="6566040" y="377352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45"/>
          <p:cNvSpPr/>
          <p:nvPr/>
        </p:nvSpPr>
        <p:spPr>
          <a:xfrm>
            <a:off x="6566040" y="377352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46"/>
          <p:cNvSpPr/>
          <p:nvPr/>
        </p:nvSpPr>
        <p:spPr>
          <a:xfrm>
            <a:off x="7251840" y="377352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47"/>
          <p:cNvSpPr/>
          <p:nvPr/>
        </p:nvSpPr>
        <p:spPr>
          <a:xfrm>
            <a:off x="7251840" y="377352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48"/>
          <p:cNvSpPr/>
          <p:nvPr/>
        </p:nvSpPr>
        <p:spPr>
          <a:xfrm>
            <a:off x="7251840" y="377352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49"/>
          <p:cNvSpPr/>
          <p:nvPr/>
        </p:nvSpPr>
        <p:spPr>
          <a:xfrm>
            <a:off x="7937640" y="377352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50"/>
          <p:cNvSpPr/>
          <p:nvPr/>
        </p:nvSpPr>
        <p:spPr>
          <a:xfrm>
            <a:off x="1828800" y="3767040"/>
            <a:ext cx="558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51"/>
          <p:cNvSpPr/>
          <p:nvPr/>
        </p:nvSpPr>
        <p:spPr>
          <a:xfrm>
            <a:off x="2527200" y="3767040"/>
            <a:ext cx="559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52"/>
          <p:cNvSpPr/>
          <p:nvPr/>
        </p:nvSpPr>
        <p:spPr>
          <a:xfrm>
            <a:off x="3213000" y="3767040"/>
            <a:ext cx="559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53"/>
          <p:cNvSpPr/>
          <p:nvPr/>
        </p:nvSpPr>
        <p:spPr>
          <a:xfrm>
            <a:off x="3911760" y="3767040"/>
            <a:ext cx="558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54"/>
          <p:cNvSpPr/>
          <p:nvPr/>
        </p:nvSpPr>
        <p:spPr>
          <a:xfrm>
            <a:off x="4584600" y="3767040"/>
            <a:ext cx="559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55"/>
          <p:cNvSpPr/>
          <p:nvPr/>
        </p:nvSpPr>
        <p:spPr>
          <a:xfrm>
            <a:off x="7302600" y="3767040"/>
            <a:ext cx="558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56"/>
          <p:cNvSpPr/>
          <p:nvPr/>
        </p:nvSpPr>
        <p:spPr>
          <a:xfrm>
            <a:off x="5245200" y="3767040"/>
            <a:ext cx="558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57"/>
          <p:cNvSpPr/>
          <p:nvPr/>
        </p:nvSpPr>
        <p:spPr>
          <a:xfrm>
            <a:off x="5943600" y="3767040"/>
            <a:ext cx="558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58"/>
          <p:cNvSpPr/>
          <p:nvPr/>
        </p:nvSpPr>
        <p:spPr>
          <a:xfrm>
            <a:off x="6629400" y="3767040"/>
            <a:ext cx="558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Serial data format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5867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chester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 and clock on one wire (XORed togeth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0" = low-going 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1" = high-going transition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 transitions between 00 and 11 need to be filte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amble at beginning of data packet contains alternating 1s and 0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receivers to get used to where important transitions should be and ignore extra ones (this is how synchronization is achiev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amble is 48 bits long: 10101. . . 01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Date Placeholder 3"/>
          <p:cNvSpPr/>
          <p:nvPr/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Footer Placeholder 4"/>
          <p:cNvSpPr/>
          <p:nvPr/>
        </p:nvSpPr>
        <p:spPr>
          <a:xfrm>
            <a:off x="3166920" y="6329520"/>
            <a:ext cx="2936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Slide Number Placeholder 5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F8A8EA7-BF56-47A1-8F4D-07765C18B9C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9"/>
          <p:cNvSpPr/>
          <p:nvPr/>
        </p:nvSpPr>
        <p:spPr>
          <a:xfrm>
            <a:off x="1808280" y="2451240"/>
            <a:ext cx="1485720" cy="114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10"/>
          <p:cNvSpPr/>
          <p:nvPr/>
        </p:nvSpPr>
        <p:spPr>
          <a:xfrm>
            <a:off x="1808280" y="2565360"/>
            <a:ext cx="1485720" cy="114480"/>
          </a:xfrm>
          <a:prstGeom prst="rect">
            <a:avLst/>
          </a:prstGeom>
          <a:noFill/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11"/>
          <p:cNvSpPr/>
          <p:nvPr/>
        </p:nvSpPr>
        <p:spPr>
          <a:xfrm>
            <a:off x="1808280" y="2679840"/>
            <a:ext cx="1485720" cy="114120"/>
          </a:xfrm>
          <a:prstGeom prst="rect">
            <a:avLst/>
          </a:prstGeom>
          <a:noFill/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12"/>
          <p:cNvSpPr/>
          <p:nvPr/>
        </p:nvSpPr>
        <p:spPr>
          <a:xfrm>
            <a:off x="1808280" y="2793960"/>
            <a:ext cx="1485720" cy="114480"/>
          </a:xfrm>
          <a:prstGeom prst="rect">
            <a:avLst/>
          </a:prstGeom>
          <a:noFill/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13"/>
          <p:cNvSpPr/>
          <p:nvPr/>
        </p:nvSpPr>
        <p:spPr>
          <a:xfrm>
            <a:off x="1808280" y="2908440"/>
            <a:ext cx="1485720" cy="114120"/>
          </a:xfrm>
          <a:prstGeom prst="rect">
            <a:avLst/>
          </a:prstGeom>
          <a:noFill/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14"/>
          <p:cNvSpPr/>
          <p:nvPr/>
        </p:nvSpPr>
        <p:spPr>
          <a:xfrm>
            <a:off x="1808280" y="3022560"/>
            <a:ext cx="1485720" cy="114480"/>
          </a:xfrm>
          <a:prstGeom prst="rect">
            <a:avLst/>
          </a:prstGeom>
          <a:noFill/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16"/>
          <p:cNvSpPr/>
          <p:nvPr/>
        </p:nvSpPr>
        <p:spPr>
          <a:xfrm>
            <a:off x="1808280" y="3137040"/>
            <a:ext cx="1485720" cy="114120"/>
          </a:xfrm>
          <a:prstGeom prst="rect">
            <a:avLst/>
          </a:prstGeom>
          <a:noFill/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17"/>
          <p:cNvSpPr/>
          <p:nvPr/>
        </p:nvSpPr>
        <p:spPr>
          <a:xfrm>
            <a:off x="1808280" y="3251160"/>
            <a:ext cx="1485720" cy="114480"/>
          </a:xfrm>
          <a:prstGeom prst="rect">
            <a:avLst/>
          </a:prstGeom>
          <a:noFill/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18"/>
          <p:cNvSpPr/>
          <p:nvPr/>
        </p:nvSpPr>
        <p:spPr>
          <a:xfrm>
            <a:off x="1808280" y="3365640"/>
            <a:ext cx="1485720" cy="114120"/>
          </a:xfrm>
          <a:prstGeom prst="rect">
            <a:avLst/>
          </a:prstGeom>
          <a:noFill/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19"/>
          <p:cNvSpPr/>
          <p:nvPr/>
        </p:nvSpPr>
        <p:spPr>
          <a:xfrm>
            <a:off x="1808280" y="3479760"/>
            <a:ext cx="1485720" cy="114480"/>
          </a:xfrm>
          <a:prstGeom prst="rect">
            <a:avLst/>
          </a:prstGeom>
          <a:noFill/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20"/>
          <p:cNvSpPr/>
          <p:nvPr/>
        </p:nvSpPr>
        <p:spPr>
          <a:xfrm>
            <a:off x="1808280" y="3594240"/>
            <a:ext cx="1485720" cy="114120"/>
          </a:xfrm>
          <a:prstGeom prst="rect">
            <a:avLst/>
          </a:prstGeom>
          <a:noFill/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21"/>
          <p:cNvSpPr/>
          <p:nvPr/>
        </p:nvSpPr>
        <p:spPr>
          <a:xfrm>
            <a:off x="1808280" y="3708360"/>
            <a:ext cx="1485720" cy="114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23"/>
          <p:cNvSpPr/>
          <p:nvPr/>
        </p:nvSpPr>
        <p:spPr>
          <a:xfrm>
            <a:off x="1808280" y="3822840"/>
            <a:ext cx="1485720" cy="114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24"/>
          <p:cNvSpPr/>
          <p:nvPr/>
        </p:nvSpPr>
        <p:spPr>
          <a:xfrm>
            <a:off x="1808280" y="3936960"/>
            <a:ext cx="1485720" cy="114480"/>
          </a:xfrm>
          <a:prstGeom prst="rect">
            <a:avLst/>
          </a:prstGeom>
          <a:noFill/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25"/>
          <p:cNvSpPr/>
          <p:nvPr/>
        </p:nvSpPr>
        <p:spPr>
          <a:xfrm>
            <a:off x="1808280" y="4051440"/>
            <a:ext cx="1485720" cy="114120"/>
          </a:xfrm>
          <a:prstGeom prst="rect">
            <a:avLst/>
          </a:prstGeom>
          <a:noFill/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26"/>
          <p:cNvSpPr/>
          <p:nvPr/>
        </p:nvSpPr>
        <p:spPr>
          <a:xfrm>
            <a:off x="1808280" y="4165560"/>
            <a:ext cx="1485720" cy="112680"/>
          </a:xfrm>
          <a:prstGeom prst="rect">
            <a:avLst/>
          </a:prstGeom>
          <a:noFill/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27"/>
          <p:cNvSpPr/>
          <p:nvPr/>
        </p:nvSpPr>
        <p:spPr>
          <a:xfrm>
            <a:off x="1808280" y="4278240"/>
            <a:ext cx="1485720" cy="115920"/>
          </a:xfrm>
          <a:prstGeom prst="rect">
            <a:avLst/>
          </a:prstGeom>
          <a:noFill/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28"/>
          <p:cNvSpPr/>
          <p:nvPr/>
        </p:nvSpPr>
        <p:spPr>
          <a:xfrm>
            <a:off x="1808280" y="4394160"/>
            <a:ext cx="1485720" cy="114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30"/>
          <p:cNvSpPr/>
          <p:nvPr/>
        </p:nvSpPr>
        <p:spPr>
          <a:xfrm>
            <a:off x="1808280" y="4508640"/>
            <a:ext cx="1485720" cy="114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31"/>
          <p:cNvSpPr/>
          <p:nvPr/>
        </p:nvSpPr>
        <p:spPr>
          <a:xfrm>
            <a:off x="1808280" y="4622760"/>
            <a:ext cx="1485720" cy="114480"/>
          </a:xfrm>
          <a:prstGeom prst="rect">
            <a:avLst/>
          </a:prstGeom>
          <a:noFill/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34"/>
          <p:cNvSpPr/>
          <p:nvPr/>
        </p:nvSpPr>
        <p:spPr>
          <a:xfrm>
            <a:off x="1808280" y="4737240"/>
            <a:ext cx="1485720" cy="114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35"/>
          <p:cNvSpPr/>
          <p:nvPr/>
        </p:nvSpPr>
        <p:spPr>
          <a:xfrm>
            <a:off x="1808280" y="4851360"/>
            <a:ext cx="1485720" cy="114480"/>
          </a:xfrm>
          <a:prstGeom prst="rect">
            <a:avLst/>
          </a:prstGeom>
          <a:noFill/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36"/>
          <p:cNvSpPr/>
          <p:nvPr/>
        </p:nvSpPr>
        <p:spPr>
          <a:xfrm>
            <a:off x="1808280" y="5765760"/>
            <a:ext cx="1485720" cy="114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37"/>
          <p:cNvSpPr/>
          <p:nvPr/>
        </p:nvSpPr>
        <p:spPr>
          <a:xfrm>
            <a:off x="1808280" y="5651640"/>
            <a:ext cx="1485720" cy="114120"/>
          </a:xfrm>
          <a:prstGeom prst="rect">
            <a:avLst/>
          </a:prstGeom>
          <a:noFill/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38"/>
          <p:cNvSpPr/>
          <p:nvPr/>
        </p:nvSpPr>
        <p:spPr>
          <a:xfrm>
            <a:off x="1808280" y="4965840"/>
            <a:ext cx="1485720" cy="114120"/>
          </a:xfrm>
          <a:prstGeom prst="rect">
            <a:avLst/>
          </a:prstGeom>
          <a:noFill/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39"/>
          <p:cNvSpPr/>
          <p:nvPr/>
        </p:nvSpPr>
        <p:spPr>
          <a:xfrm>
            <a:off x="1808280" y="5880240"/>
            <a:ext cx="1485720" cy="114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40"/>
          <p:cNvSpPr/>
          <p:nvPr/>
        </p:nvSpPr>
        <p:spPr>
          <a:xfrm>
            <a:off x="1808280" y="5994360"/>
            <a:ext cx="1485720" cy="114480"/>
          </a:xfrm>
          <a:prstGeom prst="rect">
            <a:avLst/>
          </a:prstGeom>
          <a:noFill/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41"/>
          <p:cNvSpPr/>
          <p:nvPr/>
        </p:nvSpPr>
        <p:spPr>
          <a:xfrm>
            <a:off x="1808280" y="6108840"/>
            <a:ext cx="1485720" cy="114120"/>
          </a:xfrm>
          <a:prstGeom prst="rect">
            <a:avLst/>
          </a:prstGeom>
          <a:noFill/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42"/>
          <p:cNvSpPr/>
          <p:nvPr/>
        </p:nvSpPr>
        <p:spPr>
          <a:xfrm>
            <a:off x="1808280" y="6222960"/>
            <a:ext cx="1485720" cy="114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44"/>
          <p:cNvSpPr/>
          <p:nvPr/>
        </p:nvSpPr>
        <p:spPr>
          <a:xfrm>
            <a:off x="3294000" y="2451240"/>
            <a:ext cx="558720" cy="21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45"/>
          <p:cNvSpPr/>
          <p:nvPr/>
        </p:nvSpPr>
        <p:spPr>
          <a:xfrm flipV="1">
            <a:off x="3294000" y="2895120"/>
            <a:ext cx="55872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46"/>
          <p:cNvSpPr/>
          <p:nvPr/>
        </p:nvSpPr>
        <p:spPr>
          <a:xfrm>
            <a:off x="3294000" y="3137040"/>
            <a:ext cx="55872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47"/>
          <p:cNvSpPr/>
          <p:nvPr/>
        </p:nvSpPr>
        <p:spPr>
          <a:xfrm flipV="1">
            <a:off x="3294000" y="3580920"/>
            <a:ext cx="55872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48"/>
          <p:cNvSpPr/>
          <p:nvPr/>
        </p:nvSpPr>
        <p:spPr>
          <a:xfrm>
            <a:off x="3294000" y="3822840"/>
            <a:ext cx="55872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49"/>
          <p:cNvSpPr/>
          <p:nvPr/>
        </p:nvSpPr>
        <p:spPr>
          <a:xfrm flipV="1">
            <a:off x="3294000" y="4266720"/>
            <a:ext cx="55872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50"/>
          <p:cNvSpPr/>
          <p:nvPr/>
        </p:nvSpPr>
        <p:spPr>
          <a:xfrm>
            <a:off x="3294000" y="4508640"/>
            <a:ext cx="558720" cy="3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51"/>
          <p:cNvSpPr/>
          <p:nvPr/>
        </p:nvSpPr>
        <p:spPr>
          <a:xfrm flipV="1">
            <a:off x="3294000" y="4673160"/>
            <a:ext cx="558720" cy="6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52"/>
          <p:cNvSpPr/>
          <p:nvPr/>
        </p:nvSpPr>
        <p:spPr>
          <a:xfrm>
            <a:off x="3294000" y="4737240"/>
            <a:ext cx="55872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53"/>
          <p:cNvSpPr/>
          <p:nvPr/>
        </p:nvSpPr>
        <p:spPr>
          <a:xfrm flipV="1">
            <a:off x="3294000" y="5410080"/>
            <a:ext cx="558720" cy="47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54"/>
          <p:cNvSpPr/>
          <p:nvPr/>
        </p:nvSpPr>
        <p:spPr>
          <a:xfrm>
            <a:off x="3294000" y="5880240"/>
            <a:ext cx="55872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55"/>
          <p:cNvSpPr/>
          <p:nvPr/>
        </p:nvSpPr>
        <p:spPr>
          <a:xfrm flipV="1">
            <a:off x="3294000" y="6210000"/>
            <a:ext cx="55872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56"/>
          <p:cNvSpPr/>
          <p:nvPr/>
        </p:nvSpPr>
        <p:spPr>
          <a:xfrm>
            <a:off x="3935520" y="2610000"/>
            <a:ext cx="1854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amble  (6 by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57"/>
          <p:cNvSpPr/>
          <p:nvPr/>
        </p:nvSpPr>
        <p:spPr>
          <a:xfrm>
            <a:off x="3922560" y="3321000"/>
            <a:ext cx="26924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tination address (6 by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58"/>
          <p:cNvSpPr/>
          <p:nvPr/>
        </p:nvSpPr>
        <p:spPr>
          <a:xfrm>
            <a:off x="3922560" y="3994200"/>
            <a:ext cx="23371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 address (6 by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59"/>
          <p:cNvSpPr/>
          <p:nvPr/>
        </p:nvSpPr>
        <p:spPr>
          <a:xfrm>
            <a:off x="3935520" y="4464000"/>
            <a:ext cx="13716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 (2 by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60"/>
          <p:cNvSpPr/>
          <p:nvPr/>
        </p:nvSpPr>
        <p:spPr>
          <a:xfrm>
            <a:off x="3948120" y="5137200"/>
            <a:ext cx="26161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(46-1500 by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61"/>
          <p:cNvSpPr/>
          <p:nvPr/>
        </p:nvSpPr>
        <p:spPr>
          <a:xfrm>
            <a:off x="3935520" y="5937120"/>
            <a:ext cx="3924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cksum (4 bytes) compute from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Line 62"/>
          <p:cNvSpPr/>
          <p:nvPr/>
        </p:nvSpPr>
        <p:spPr>
          <a:xfrm>
            <a:off x="2487600" y="5187960"/>
            <a:ext cx="0" cy="0"/>
          </a:xfrm>
          <a:prstGeom prst="line">
            <a:avLst/>
          </a:prstGeom>
          <a:ln w="507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63"/>
          <p:cNvSpPr/>
          <p:nvPr/>
        </p:nvSpPr>
        <p:spPr>
          <a:xfrm>
            <a:off x="2487600" y="5302080"/>
            <a:ext cx="0" cy="0"/>
          </a:xfrm>
          <a:prstGeom prst="line">
            <a:avLst/>
          </a:prstGeom>
          <a:ln w="507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Line 64"/>
          <p:cNvSpPr/>
          <p:nvPr/>
        </p:nvSpPr>
        <p:spPr>
          <a:xfrm>
            <a:off x="2487600" y="5416560"/>
            <a:ext cx="0" cy="0"/>
          </a:xfrm>
          <a:prstGeom prst="line">
            <a:avLst/>
          </a:prstGeom>
          <a:ln w="507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65"/>
          <p:cNvSpPr/>
          <p:nvPr/>
        </p:nvSpPr>
        <p:spPr>
          <a:xfrm>
            <a:off x="2487600" y="5530680"/>
            <a:ext cx="0" cy="0"/>
          </a:xfrm>
          <a:prstGeom prst="line">
            <a:avLst/>
          </a:prstGeom>
          <a:ln w="507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Ethernet packet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95160" y="1698480"/>
            <a:ext cx="8329680" cy="4167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s size: 64 to 1518 bytes + 6 bytes of pream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14400" y="2457360"/>
            <a:ext cx="1473480" cy="6732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22"/>
          <p:cNvSpPr/>
          <p:nvPr/>
        </p:nvSpPr>
        <p:spPr>
          <a:xfrm>
            <a:off x="1814400" y="3143160"/>
            <a:ext cx="1473480" cy="6732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29"/>
          <p:cNvSpPr/>
          <p:nvPr/>
        </p:nvSpPr>
        <p:spPr>
          <a:xfrm>
            <a:off x="1814400" y="3828960"/>
            <a:ext cx="1473480" cy="6732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32"/>
          <p:cNvSpPr/>
          <p:nvPr/>
        </p:nvSpPr>
        <p:spPr>
          <a:xfrm>
            <a:off x="1814400" y="4514760"/>
            <a:ext cx="1473480" cy="216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33"/>
          <p:cNvSpPr/>
          <p:nvPr/>
        </p:nvSpPr>
        <p:spPr>
          <a:xfrm>
            <a:off x="1814400" y="4743360"/>
            <a:ext cx="1473480" cy="1130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43"/>
          <p:cNvSpPr/>
          <p:nvPr/>
        </p:nvSpPr>
        <p:spPr>
          <a:xfrm>
            <a:off x="1814400" y="5886360"/>
            <a:ext cx="1473480" cy="444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Date Placeholder 3"/>
          <p:cNvSpPr/>
          <p:nvPr/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Footer Placeholder 4"/>
          <p:cNvSpPr/>
          <p:nvPr/>
        </p:nvSpPr>
        <p:spPr>
          <a:xfrm>
            <a:off x="3166920" y="6329520"/>
            <a:ext cx="2936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lide Number Placeholder 5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966A673-4A2D-40AB-AE57-D79203CDC58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Arbitration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for line to be quiet for a while then trans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 coll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value on wire should be exactly between 1 and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ot, then two transmitters are trying to transmi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collision, stop transmi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 a random amount of time and 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collide again, pick a random numb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a larger range (2x) and 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nential backoff on collision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 up to 16 times before reporting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Date Placeholder 3"/>
          <p:cNvSpPr/>
          <p:nvPr/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ooter Placeholder 4"/>
          <p:cNvSpPr/>
          <p:nvPr/>
        </p:nvSpPr>
        <p:spPr>
          <a:xfrm>
            <a:off x="3166920" y="6329520"/>
            <a:ext cx="2936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Slide Number Placeholder 5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6A0545F-968C-402E-AF84-0D212F8976B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9"/>
          <p:cNvSpPr/>
          <p:nvPr/>
        </p:nvSpPr>
        <p:spPr>
          <a:xfrm>
            <a:off x="3481560" y="5521320"/>
            <a:ext cx="2234880" cy="0"/>
          </a:xfrm>
          <a:prstGeom prst="line">
            <a:avLst/>
          </a:prstGeom>
          <a:ln w="507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Line 10"/>
          <p:cNvSpPr/>
          <p:nvPr/>
        </p:nvSpPr>
        <p:spPr>
          <a:xfrm>
            <a:off x="5052960" y="4400640"/>
            <a:ext cx="2463840" cy="0"/>
          </a:xfrm>
          <a:prstGeom prst="line">
            <a:avLst/>
          </a:prstGeom>
          <a:ln w="507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11"/>
          <p:cNvSpPr/>
          <p:nvPr/>
        </p:nvSpPr>
        <p:spPr>
          <a:xfrm>
            <a:off x="8342280" y="3397320"/>
            <a:ext cx="0" cy="2235240"/>
          </a:xfrm>
          <a:prstGeom prst="line">
            <a:avLst/>
          </a:prstGeom>
          <a:ln w="507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12"/>
          <p:cNvSpPr/>
          <p:nvPr/>
        </p:nvSpPr>
        <p:spPr>
          <a:xfrm flipV="1">
            <a:off x="3684600" y="5284800"/>
            <a:ext cx="0" cy="24120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Line 13"/>
          <p:cNvSpPr/>
          <p:nvPr/>
        </p:nvSpPr>
        <p:spPr>
          <a:xfrm>
            <a:off x="4027320" y="5526000"/>
            <a:ext cx="0" cy="21600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Line 14"/>
          <p:cNvSpPr/>
          <p:nvPr/>
        </p:nvSpPr>
        <p:spPr>
          <a:xfrm>
            <a:off x="5513400" y="5526000"/>
            <a:ext cx="0" cy="10152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Line 15"/>
          <p:cNvSpPr/>
          <p:nvPr/>
        </p:nvSpPr>
        <p:spPr>
          <a:xfrm flipV="1">
            <a:off x="5513400" y="5855760"/>
            <a:ext cx="0" cy="12708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Line 16"/>
          <p:cNvSpPr/>
          <p:nvPr/>
        </p:nvSpPr>
        <p:spPr>
          <a:xfrm>
            <a:off x="5713560" y="4406760"/>
            <a:ext cx="0" cy="21600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Line 17"/>
          <p:cNvSpPr/>
          <p:nvPr/>
        </p:nvSpPr>
        <p:spPr>
          <a:xfrm>
            <a:off x="6284880" y="4406760"/>
            <a:ext cx="0" cy="21600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18"/>
          <p:cNvSpPr/>
          <p:nvPr/>
        </p:nvSpPr>
        <p:spPr>
          <a:xfrm flipV="1">
            <a:off x="6856560" y="4051080"/>
            <a:ext cx="0" cy="35532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19"/>
          <p:cNvSpPr/>
          <p:nvPr/>
        </p:nvSpPr>
        <p:spPr>
          <a:xfrm>
            <a:off x="7313760" y="4406760"/>
            <a:ext cx="0" cy="55908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20"/>
          <p:cNvSpPr/>
          <p:nvPr/>
        </p:nvSpPr>
        <p:spPr>
          <a:xfrm>
            <a:off x="7548480" y="5200560"/>
            <a:ext cx="78732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21"/>
          <p:cNvSpPr/>
          <p:nvPr/>
        </p:nvSpPr>
        <p:spPr>
          <a:xfrm>
            <a:off x="3576600" y="5068800"/>
            <a:ext cx="2286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22"/>
          <p:cNvSpPr/>
          <p:nvPr/>
        </p:nvSpPr>
        <p:spPr>
          <a:xfrm>
            <a:off x="3919680" y="5754600"/>
            <a:ext cx="2286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23"/>
          <p:cNvSpPr/>
          <p:nvPr/>
        </p:nvSpPr>
        <p:spPr>
          <a:xfrm>
            <a:off x="5605560" y="4635360"/>
            <a:ext cx="2286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24"/>
          <p:cNvSpPr/>
          <p:nvPr/>
        </p:nvSpPr>
        <p:spPr>
          <a:xfrm>
            <a:off x="6176880" y="4635360"/>
            <a:ext cx="2286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25"/>
          <p:cNvSpPr/>
          <p:nvPr/>
        </p:nvSpPr>
        <p:spPr>
          <a:xfrm>
            <a:off x="6748560" y="3835440"/>
            <a:ext cx="2286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AutoShape 26"/>
          <p:cNvSpPr/>
          <p:nvPr/>
        </p:nvSpPr>
        <p:spPr>
          <a:xfrm>
            <a:off x="7091280" y="4978440"/>
            <a:ext cx="457200" cy="457200"/>
          </a:xfrm>
          <a:prstGeom prst="roundRect">
            <a:avLst>
              <a:gd name="adj" fmla="val 24319"/>
            </a:avLst>
          </a:prstGeom>
          <a:solidFill>
            <a:srgbClr val="cc9900"/>
          </a:solidFill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27"/>
          <p:cNvSpPr/>
          <p:nvPr/>
        </p:nvSpPr>
        <p:spPr>
          <a:xfrm>
            <a:off x="5405400" y="5640480"/>
            <a:ext cx="228600" cy="228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28"/>
          <p:cNvSpPr/>
          <p:nvPr/>
        </p:nvSpPr>
        <p:spPr>
          <a:xfrm>
            <a:off x="7313760" y="5435640"/>
            <a:ext cx="0" cy="55872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29"/>
          <p:cNvSpPr/>
          <p:nvPr/>
        </p:nvSpPr>
        <p:spPr>
          <a:xfrm>
            <a:off x="5396040" y="6000840"/>
            <a:ext cx="2463840" cy="0"/>
          </a:xfrm>
          <a:prstGeom prst="line">
            <a:avLst/>
          </a:prstGeom>
          <a:ln w="507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30"/>
          <p:cNvSpPr/>
          <p:nvPr/>
        </p:nvSpPr>
        <p:spPr>
          <a:xfrm>
            <a:off x="8348760" y="3828960"/>
            <a:ext cx="21564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31"/>
          <p:cNvSpPr/>
          <p:nvPr/>
        </p:nvSpPr>
        <p:spPr>
          <a:xfrm>
            <a:off x="8348760" y="4286160"/>
            <a:ext cx="215640" cy="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32"/>
          <p:cNvSpPr/>
          <p:nvPr/>
        </p:nvSpPr>
        <p:spPr>
          <a:xfrm>
            <a:off x="6513480" y="6006960"/>
            <a:ext cx="0" cy="21600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33"/>
          <p:cNvSpPr/>
          <p:nvPr/>
        </p:nvSpPr>
        <p:spPr>
          <a:xfrm flipV="1">
            <a:off x="5881680" y="4127040"/>
            <a:ext cx="0" cy="24156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34"/>
          <p:cNvSpPr/>
          <p:nvPr/>
        </p:nvSpPr>
        <p:spPr>
          <a:xfrm>
            <a:off x="5713560" y="6006960"/>
            <a:ext cx="0" cy="21600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35"/>
          <p:cNvSpPr/>
          <p:nvPr/>
        </p:nvSpPr>
        <p:spPr>
          <a:xfrm>
            <a:off x="7770960" y="6006960"/>
            <a:ext cx="0" cy="216000"/>
          </a:xfrm>
          <a:prstGeom prst="line">
            <a:avLst/>
          </a:prstGeom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36"/>
          <p:cNvSpPr/>
          <p:nvPr/>
        </p:nvSpPr>
        <p:spPr>
          <a:xfrm>
            <a:off x="8577360" y="3720960"/>
            <a:ext cx="2286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37"/>
          <p:cNvSpPr/>
          <p:nvPr/>
        </p:nvSpPr>
        <p:spPr>
          <a:xfrm>
            <a:off x="8577360" y="4178160"/>
            <a:ext cx="2286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38"/>
          <p:cNvSpPr/>
          <p:nvPr/>
        </p:nvSpPr>
        <p:spPr>
          <a:xfrm>
            <a:off x="7662960" y="6235560"/>
            <a:ext cx="2286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39"/>
          <p:cNvSpPr/>
          <p:nvPr/>
        </p:nvSpPr>
        <p:spPr>
          <a:xfrm>
            <a:off x="6405480" y="6235560"/>
            <a:ext cx="2286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40"/>
          <p:cNvSpPr/>
          <p:nvPr/>
        </p:nvSpPr>
        <p:spPr>
          <a:xfrm>
            <a:off x="5773680" y="3911760"/>
            <a:ext cx="2286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41"/>
          <p:cNvSpPr/>
          <p:nvPr/>
        </p:nvSpPr>
        <p:spPr>
          <a:xfrm>
            <a:off x="5605560" y="6235560"/>
            <a:ext cx="2286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Extending Ethernet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63680" y="1620360"/>
            <a:ext cx="86040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ments, repeaters, and gate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: a single c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er: transfers all messages on one segment to another and vice-ver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way: selectively forwards messages to other segments and helps isolate 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Group 54"/>
          <p:cNvGrpSpPr/>
          <p:nvPr/>
        </p:nvGrpSpPr>
        <p:grpSpPr>
          <a:xfrm>
            <a:off x="252360" y="4384800"/>
            <a:ext cx="2787480" cy="1885680"/>
            <a:chOff x="252360" y="4384800"/>
            <a:chExt cx="2787480" cy="1885680"/>
          </a:xfrm>
        </p:grpSpPr>
        <p:grpSp>
          <p:nvGrpSpPr>
            <p:cNvPr id="878" name="Group 52"/>
            <p:cNvGrpSpPr/>
            <p:nvPr/>
          </p:nvGrpSpPr>
          <p:grpSpPr>
            <a:xfrm>
              <a:off x="252360" y="4444560"/>
              <a:ext cx="2787480" cy="1629720"/>
              <a:chOff x="252360" y="4444560"/>
              <a:chExt cx="2787480" cy="1629720"/>
            </a:xfrm>
          </p:grpSpPr>
          <p:sp>
            <p:nvSpPr>
              <p:cNvPr id="879" name="AutoShape 48"/>
              <p:cNvSpPr/>
              <p:nvPr/>
            </p:nvSpPr>
            <p:spPr>
              <a:xfrm>
                <a:off x="1820880" y="5617440"/>
                <a:ext cx="455400" cy="456840"/>
              </a:xfrm>
              <a:custGeom>
                <a:avLst/>
                <a:gdLst>
                  <a:gd name="textAreaLeft" fmla="*/ 32400 w 455400"/>
                  <a:gd name="textAreaRight" fmla="*/ 423000 w 455400"/>
                  <a:gd name="textAreaTop" fmla="*/ 32400 h 456840"/>
                  <a:gd name="textAreaBottom" fmla="*/ 424440 h 456840"/>
                </a:gdLst>
                <a:ahLst/>
                <a:rect l="textAreaLeft" t="textAreaTop" r="textAreaRight" b="textAreaBottom"/>
                <a:pathLst>
                  <a:path w="21600" h="21668">
                    <a:moveTo>
                      <a:pt x="5253" y="0"/>
                    </a:moveTo>
                    <a:arcTo wR="5253" hR="5253" stAng="16200000" swAng="-5400000"/>
                    <a:lnTo>
                      <a:pt x="0" y="16415"/>
                    </a:lnTo>
                    <a:arcTo wR="5253" hR="5253" stAng="10800000" swAng="-5400000"/>
                    <a:lnTo>
                      <a:pt x="16347" y="21668"/>
                    </a:lnTo>
                    <a:arcTo wR="5253" hR="5253" stAng="5400000" swAng="-5400000"/>
                    <a:lnTo>
                      <a:pt x="21600" y="5253"/>
                    </a:lnTo>
                    <a:arcTo wR="5253" hR="5253" stAng="0" swAng="-5400000"/>
                    <a:close/>
                  </a:path>
                </a:pathLst>
              </a:custGeom>
              <a:solidFill>
                <a:srgbClr val="cc9900"/>
              </a:solidFill>
              <a:ln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Oval 49"/>
              <p:cNvSpPr/>
              <p:nvPr/>
            </p:nvSpPr>
            <p:spPr>
              <a:xfrm>
                <a:off x="1912680" y="5103000"/>
                <a:ext cx="228600" cy="2282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Line 50"/>
              <p:cNvSpPr/>
              <p:nvPr/>
            </p:nvSpPr>
            <p:spPr>
              <a:xfrm>
                <a:off x="1779480" y="4625280"/>
                <a:ext cx="461880" cy="0"/>
              </a:xfrm>
              <a:prstGeom prst="line">
                <a:avLst/>
              </a:prstGeom>
              <a:ln w="507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Rectangle 51"/>
              <p:cNvSpPr/>
              <p:nvPr/>
            </p:nvSpPr>
            <p:spPr>
              <a:xfrm>
                <a:off x="252360" y="4444560"/>
                <a:ext cx="2787480" cy="110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520" rIns="92520" tIns="46440" bIns="46440" anchor="t">
                <a:noAutofit/>
              </a:bodyPr>
              <a:p>
                <a:pPr lvl="1" marL="679320" indent="-33012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Segment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679320" indent="-33012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Repeater</a:t>
                </a:r>
                <a:br>
                  <a:rPr sz="1800"/>
                </a:b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679320" indent="-33012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Gateway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3" name="Rectangle 53"/>
            <p:cNvSpPr/>
            <p:nvPr/>
          </p:nvSpPr>
          <p:spPr>
            <a:xfrm>
              <a:off x="609480" y="4384800"/>
              <a:ext cx="1828800" cy="18856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3166920" y="6329520"/>
            <a:ext cx="2936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BE32F6E-8091-418C-A7B2-C1F63490C98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Bandwidth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3320" y="1506600"/>
            <a:ext cx="8343720" cy="4589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0000"/>
          </a:bodyPr>
          <a:p>
            <a:pPr marL="312840" indent="-3128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1280" indent="-29700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wire or channel to trasmit information one bit at a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1280" indent="-29700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synchronization between sender and 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1280" indent="-29700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imes includes extra wires for clock and/or handsha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1280" indent="-29700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for inexpensive connections (e.g., termina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1280" indent="-29700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for long-distance connections (e.g., LA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1280" indent="-29700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: RS-232, Ethernet, I2C, IrDA, USB, Firewire, Blueto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1280" indent="-29700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wires to transmit information one byte or word at a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1280" indent="-29700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for high-bandwidth requirements (CPU to dis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1280" indent="-29700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expensive wiring/connectors/current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1280" indent="-29700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: SCSI-2, PCI bus (PC), PCMCIA (Compact Fla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1280" indent="-29700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ding, data transfer rates, cost of connectors and wires, modularity, error detection and/or cor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Date Placeholder 3"/>
          <p:cNvSpPr/>
          <p:nvPr/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Footer Placeholder 4"/>
          <p:cNvSpPr/>
          <p:nvPr/>
        </p:nvSpPr>
        <p:spPr>
          <a:xfrm>
            <a:off x="3166920" y="6329520"/>
            <a:ext cx="2936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Slide Number Placeholder 5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90338C6-10AE-4397-A89C-AB074472075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Infrared Data Association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5248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ortium of over 160 compa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t needs of the “mobile professiona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interactions with other devices (file transfer, print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y using others’ peripherals (visiting a customer’s off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itable replacement for cab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oper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al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-and-shoot” model (intended use and to reduce interfere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standard developed in 1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ions as recently as late 1998 (i.e., still act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Date Placeholder 3"/>
          <p:cNvSpPr/>
          <p:nvPr/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Footer Placeholder 4"/>
          <p:cNvSpPr/>
          <p:nvPr/>
        </p:nvSpPr>
        <p:spPr>
          <a:xfrm>
            <a:off x="3166920" y="6329520"/>
            <a:ext cx="2936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Slide Number Placeholder 5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2F45B95-8CF4-4A4F-BA0B-CA2A833BE8D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Group 6"/>
          <p:cNvGrpSpPr/>
          <p:nvPr/>
        </p:nvGrpSpPr>
        <p:grpSpPr>
          <a:xfrm>
            <a:off x="582120" y="3843360"/>
            <a:ext cx="7860240" cy="617040"/>
            <a:chOff x="582120" y="3843360"/>
            <a:chExt cx="7860240" cy="617040"/>
          </a:xfrm>
        </p:grpSpPr>
        <p:sp>
          <p:nvSpPr>
            <p:cNvPr id="893" name="Line 7"/>
            <p:cNvSpPr/>
            <p:nvPr/>
          </p:nvSpPr>
          <p:spPr>
            <a:xfrm flipH="1">
              <a:off x="1056960" y="4383360"/>
              <a:ext cx="618120" cy="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-57240" bIns="-57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Line 8"/>
            <p:cNvSpPr/>
            <p:nvPr/>
          </p:nvSpPr>
          <p:spPr>
            <a:xfrm flipV="1">
              <a:off x="1675440" y="4306320"/>
              <a:ext cx="0" cy="15408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57240" bIns="57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Line 9"/>
            <p:cNvSpPr/>
            <p:nvPr/>
          </p:nvSpPr>
          <p:spPr>
            <a:xfrm flipH="1">
              <a:off x="979920" y="4383360"/>
              <a:ext cx="76680" cy="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-57240" bIns="-57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Line 10"/>
            <p:cNvSpPr/>
            <p:nvPr/>
          </p:nvSpPr>
          <p:spPr>
            <a:xfrm>
              <a:off x="1675440" y="4151520"/>
              <a:ext cx="1622160" cy="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-57240" bIns="-57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Line 11"/>
            <p:cNvSpPr/>
            <p:nvPr/>
          </p:nvSpPr>
          <p:spPr>
            <a:xfrm>
              <a:off x="3297960" y="4383360"/>
              <a:ext cx="1081440" cy="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-57240" bIns="-57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Line 12"/>
            <p:cNvSpPr/>
            <p:nvPr/>
          </p:nvSpPr>
          <p:spPr>
            <a:xfrm>
              <a:off x="4920480" y="4074840"/>
              <a:ext cx="0" cy="15408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57240" bIns="57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Line 13"/>
            <p:cNvSpPr/>
            <p:nvPr/>
          </p:nvSpPr>
          <p:spPr>
            <a:xfrm>
              <a:off x="4379400" y="4306320"/>
              <a:ext cx="0" cy="15408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57240" bIns="57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Line 14"/>
            <p:cNvSpPr/>
            <p:nvPr/>
          </p:nvSpPr>
          <p:spPr>
            <a:xfrm>
              <a:off x="6001920" y="4306320"/>
              <a:ext cx="0" cy="15408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57240" bIns="57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Line 15"/>
            <p:cNvSpPr/>
            <p:nvPr/>
          </p:nvSpPr>
          <p:spPr>
            <a:xfrm>
              <a:off x="7624080" y="4074840"/>
              <a:ext cx="0" cy="15408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57240" bIns="57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Line 16"/>
            <p:cNvSpPr/>
            <p:nvPr/>
          </p:nvSpPr>
          <p:spPr>
            <a:xfrm>
              <a:off x="4379400" y="4151520"/>
              <a:ext cx="540720" cy="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-57240" bIns="-57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Line 17"/>
            <p:cNvSpPr/>
            <p:nvPr/>
          </p:nvSpPr>
          <p:spPr>
            <a:xfrm flipH="1">
              <a:off x="4920480" y="4383360"/>
              <a:ext cx="1081440" cy="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-57240" bIns="-57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Line 18"/>
            <p:cNvSpPr/>
            <p:nvPr/>
          </p:nvSpPr>
          <p:spPr>
            <a:xfrm flipH="1">
              <a:off x="6001920" y="4151520"/>
              <a:ext cx="1622160" cy="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-57240" bIns="-57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Line 19"/>
            <p:cNvSpPr/>
            <p:nvPr/>
          </p:nvSpPr>
          <p:spPr>
            <a:xfrm flipH="1">
              <a:off x="7624080" y="4383360"/>
              <a:ext cx="617760" cy="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-57240" bIns="-57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Line 20"/>
            <p:cNvSpPr/>
            <p:nvPr/>
          </p:nvSpPr>
          <p:spPr>
            <a:xfrm>
              <a:off x="8242200" y="4383360"/>
              <a:ext cx="77040" cy="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-57240" bIns="-57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Line 21"/>
            <p:cNvSpPr/>
            <p:nvPr/>
          </p:nvSpPr>
          <p:spPr>
            <a:xfrm>
              <a:off x="3297960" y="4074840"/>
              <a:ext cx="0" cy="15408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57240" bIns="57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Text Box 22"/>
            <p:cNvSpPr/>
            <p:nvPr/>
          </p:nvSpPr>
          <p:spPr>
            <a:xfrm>
              <a:off x="582120" y="4074840"/>
              <a:ext cx="10616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4480" rIns="114480" tIns="57240" bIns="57240" anchor="t">
              <a:spAutoFit/>
            </a:bodyPr>
            <a:p>
              <a:pPr algn="ctr">
                <a:tabLst>
                  <a:tab algn="l" pos="0"/>
                  <a:tab algn="l" pos="927000"/>
                  <a:tab algn="l" pos="1854360"/>
                  <a:tab algn="l" pos="2781360"/>
                  <a:tab algn="l" pos="3708360"/>
                  <a:tab algn="l" pos="4635360"/>
                  <a:tab algn="l" pos="5562720"/>
                  <a:tab algn="l" pos="6489720"/>
                  <a:tab algn="l" pos="7416720"/>
                  <a:tab algn="l" pos="8344080"/>
                  <a:tab algn="l" pos="9271080"/>
                  <a:tab algn="l" pos="10198080"/>
                </a:tabLst>
              </a:pPr>
              <a:r>
                <a:rPr b="1" lang="en-US" sz="1300" spc="-1" strike="noStrike">
                  <a:solidFill>
                    <a:srgbClr val="5f5f5f"/>
                  </a:solidFill>
                  <a:latin typeface="Arial"/>
                </a:rPr>
                <a:t>Radio (RF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Text Box 23"/>
            <p:cNvSpPr/>
            <p:nvPr/>
          </p:nvSpPr>
          <p:spPr>
            <a:xfrm>
              <a:off x="1895400" y="3843360"/>
              <a:ext cx="11624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4480" rIns="114480" tIns="57240" bIns="57240" anchor="t">
              <a:spAutoFit/>
            </a:bodyPr>
            <a:p>
              <a:pPr algn="ctr">
                <a:tabLst>
                  <a:tab algn="l" pos="0"/>
                  <a:tab algn="l" pos="927000"/>
                  <a:tab algn="l" pos="1854360"/>
                  <a:tab algn="l" pos="2781360"/>
                  <a:tab algn="l" pos="3708360"/>
                  <a:tab algn="l" pos="4635360"/>
                  <a:tab algn="l" pos="5562720"/>
                  <a:tab algn="l" pos="6489720"/>
                  <a:tab algn="l" pos="7416720"/>
                  <a:tab algn="l" pos="8344080"/>
                  <a:tab algn="l" pos="9271080"/>
                  <a:tab algn="l" pos="10198080"/>
                </a:tabLst>
              </a:pPr>
              <a:r>
                <a:rPr b="1" lang="en-US" sz="1300" spc="-1" strike="noStrike">
                  <a:solidFill>
                    <a:srgbClr val="5f5f5f"/>
                  </a:solidFill>
                  <a:latin typeface="Arial"/>
                </a:rPr>
                <a:t>Microwav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Text Box 24"/>
            <p:cNvSpPr/>
            <p:nvPr/>
          </p:nvSpPr>
          <p:spPr>
            <a:xfrm>
              <a:off x="3285360" y="4074840"/>
              <a:ext cx="11624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4480" rIns="114480" tIns="57240" bIns="57240" anchor="t">
              <a:spAutoFit/>
            </a:bodyPr>
            <a:p>
              <a:pPr algn="ctr">
                <a:tabLst>
                  <a:tab algn="l" pos="0"/>
                  <a:tab algn="l" pos="927000"/>
                  <a:tab algn="l" pos="1854360"/>
                  <a:tab algn="l" pos="2781360"/>
                  <a:tab algn="l" pos="3708360"/>
                  <a:tab algn="l" pos="4635360"/>
                  <a:tab algn="l" pos="5562720"/>
                  <a:tab algn="l" pos="6489720"/>
                  <a:tab algn="l" pos="7416720"/>
                  <a:tab algn="l" pos="8344080"/>
                  <a:tab algn="l" pos="9271080"/>
                  <a:tab algn="l" pos="10198080"/>
                </a:tabLst>
              </a:pPr>
              <a:r>
                <a:rPr b="1" lang="en-US" sz="1300" spc="-1" strike="noStrike">
                  <a:solidFill>
                    <a:srgbClr val="5f5f5f"/>
                  </a:solidFill>
                  <a:latin typeface="Arial"/>
                </a:rPr>
                <a:t>Infrared (IR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Text Box 25"/>
            <p:cNvSpPr/>
            <p:nvPr/>
          </p:nvSpPr>
          <p:spPr>
            <a:xfrm>
              <a:off x="4208400" y="3843360"/>
              <a:ext cx="7599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4480" rIns="114480" tIns="57240" bIns="57240" anchor="t">
              <a:spAutoFit/>
            </a:bodyPr>
            <a:p>
              <a:pPr algn="ctr">
                <a:tabLst>
                  <a:tab algn="l" pos="0"/>
                  <a:tab algn="l" pos="927000"/>
                  <a:tab algn="l" pos="1854360"/>
                  <a:tab algn="l" pos="2781360"/>
                  <a:tab algn="l" pos="3708360"/>
                  <a:tab algn="l" pos="4635360"/>
                  <a:tab algn="l" pos="5562720"/>
                  <a:tab algn="l" pos="6489720"/>
                  <a:tab algn="l" pos="7416720"/>
                  <a:tab algn="l" pos="8344080"/>
                  <a:tab algn="l" pos="9271080"/>
                  <a:tab algn="l" pos="10198080"/>
                </a:tabLst>
              </a:pPr>
              <a:r>
                <a:rPr b="1" lang="en-US" sz="1300" spc="-1" strike="noStrike">
                  <a:solidFill>
                    <a:srgbClr val="5f5f5f"/>
                  </a:solidFill>
                  <a:latin typeface="Arial"/>
                </a:rPr>
                <a:t>Visibl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Text Box 26"/>
            <p:cNvSpPr/>
            <p:nvPr/>
          </p:nvSpPr>
          <p:spPr>
            <a:xfrm>
              <a:off x="4985640" y="4074840"/>
              <a:ext cx="10342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4480" rIns="114480" tIns="57240" bIns="57240" anchor="t">
              <a:spAutoFit/>
            </a:bodyPr>
            <a:p>
              <a:pPr algn="ctr">
                <a:tabLst>
                  <a:tab algn="l" pos="0"/>
                  <a:tab algn="l" pos="927000"/>
                  <a:tab algn="l" pos="1854360"/>
                  <a:tab algn="l" pos="2781360"/>
                  <a:tab algn="l" pos="3708360"/>
                  <a:tab algn="l" pos="4635360"/>
                  <a:tab algn="l" pos="5562720"/>
                  <a:tab algn="l" pos="6489720"/>
                  <a:tab algn="l" pos="7416720"/>
                  <a:tab algn="l" pos="8344080"/>
                  <a:tab algn="l" pos="9271080"/>
                  <a:tab algn="l" pos="10198080"/>
                </a:tabLst>
              </a:pPr>
              <a:r>
                <a:rPr b="1" lang="en-US" sz="1300" spc="-1" strike="noStrike">
                  <a:solidFill>
                    <a:srgbClr val="5f5f5f"/>
                  </a:solidFill>
                  <a:latin typeface="Arial"/>
                </a:rPr>
                <a:t>Ultraviole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Text Box 27"/>
            <p:cNvSpPr/>
            <p:nvPr/>
          </p:nvSpPr>
          <p:spPr>
            <a:xfrm>
              <a:off x="6372360" y="3843360"/>
              <a:ext cx="78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4480" rIns="114480" tIns="57240" bIns="57240" anchor="t">
              <a:spAutoFit/>
            </a:bodyPr>
            <a:p>
              <a:pPr algn="ctr">
                <a:tabLst>
                  <a:tab algn="l" pos="0"/>
                  <a:tab algn="l" pos="927000"/>
                  <a:tab algn="l" pos="1854360"/>
                  <a:tab algn="l" pos="2781360"/>
                  <a:tab algn="l" pos="3708360"/>
                  <a:tab algn="l" pos="4635360"/>
                  <a:tab algn="l" pos="5562720"/>
                  <a:tab algn="l" pos="6489720"/>
                  <a:tab algn="l" pos="7416720"/>
                  <a:tab algn="l" pos="8344080"/>
                  <a:tab algn="l" pos="9271080"/>
                  <a:tab algn="l" pos="10198080"/>
                </a:tabLst>
              </a:pPr>
              <a:r>
                <a:rPr b="1" lang="en-US" sz="1300" spc="-1" strike="noStrike">
                  <a:solidFill>
                    <a:srgbClr val="5f5f5f"/>
                  </a:solidFill>
                  <a:latin typeface="Arial"/>
                </a:rPr>
                <a:t>X-Ray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Text Box 28"/>
            <p:cNvSpPr/>
            <p:nvPr/>
          </p:nvSpPr>
          <p:spPr>
            <a:xfrm>
              <a:off x="7609320" y="3843360"/>
              <a:ext cx="83304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4480" rIns="114480" tIns="57240" bIns="57240" anchor="t">
              <a:spAutoFit/>
            </a:bodyPr>
            <a:p>
              <a:pPr algn="ctr">
                <a:tabLst>
                  <a:tab algn="l" pos="0"/>
                  <a:tab algn="l" pos="927000"/>
                  <a:tab algn="l" pos="1854360"/>
                  <a:tab algn="l" pos="2781360"/>
                  <a:tab algn="l" pos="3708360"/>
                  <a:tab algn="l" pos="4635360"/>
                  <a:tab algn="l" pos="5562720"/>
                  <a:tab algn="l" pos="6489720"/>
                  <a:tab algn="l" pos="7416720"/>
                  <a:tab algn="l" pos="8344080"/>
                  <a:tab algn="l" pos="9271080"/>
                  <a:tab algn="l" pos="10198080"/>
                </a:tabLst>
              </a:pPr>
              <a:r>
                <a:rPr b="1" lang="en-US" sz="1300" spc="-1" strike="noStrike">
                  <a:solidFill>
                    <a:srgbClr val="5f5f5f"/>
                  </a:solidFill>
                  <a:latin typeface="Arial"/>
                </a:rPr>
                <a:t>Gamm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27000"/>
                  <a:tab algn="l" pos="1854360"/>
                  <a:tab algn="l" pos="2781360"/>
                  <a:tab algn="l" pos="3708360"/>
                  <a:tab algn="l" pos="4635360"/>
                  <a:tab algn="l" pos="5562720"/>
                  <a:tab algn="l" pos="6489720"/>
                  <a:tab algn="l" pos="7416720"/>
                  <a:tab algn="l" pos="8344080"/>
                  <a:tab algn="l" pos="9271080"/>
                  <a:tab algn="l" pos="10198080"/>
                </a:tabLst>
              </a:pPr>
              <a:r>
                <a:rPr b="1" lang="en-US" sz="1300" spc="-1" strike="noStrike">
                  <a:solidFill>
                    <a:srgbClr val="5f5f5f"/>
                  </a:solidFill>
                  <a:latin typeface="Arial"/>
                </a:rPr>
                <a:t>Ray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Group 32"/>
          <p:cNvGrpSpPr/>
          <p:nvPr/>
        </p:nvGrpSpPr>
        <p:grpSpPr>
          <a:xfrm>
            <a:off x="3067200" y="5294160"/>
            <a:ext cx="568080" cy="361800"/>
            <a:chOff x="3067200" y="5294160"/>
            <a:chExt cx="568080" cy="361800"/>
          </a:xfrm>
        </p:grpSpPr>
        <p:sp>
          <p:nvSpPr>
            <p:cNvPr id="916" name="Text Box 33"/>
            <p:cNvSpPr/>
            <p:nvPr/>
          </p:nvSpPr>
          <p:spPr>
            <a:xfrm>
              <a:off x="3067200" y="5294160"/>
              <a:ext cx="5680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4480" rIns="114480" tIns="57240" bIns="57240" anchor="t">
              <a:spAutoFit/>
            </a:bodyPr>
            <a:p>
              <a:pPr>
                <a:tabLst>
                  <a:tab algn="l" pos="0"/>
                  <a:tab algn="l" pos="927000"/>
                  <a:tab algn="l" pos="1854360"/>
                  <a:tab algn="l" pos="2781360"/>
                  <a:tab algn="l" pos="3708360"/>
                  <a:tab algn="l" pos="4635360"/>
                  <a:tab algn="l" pos="5562720"/>
                  <a:tab algn="l" pos="6489720"/>
                  <a:tab algn="l" pos="7416720"/>
                  <a:tab algn="l" pos="8344080"/>
                  <a:tab algn="l" pos="9271080"/>
                  <a:tab algn="l" pos="1019808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FCC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Line 34"/>
            <p:cNvSpPr/>
            <p:nvPr/>
          </p:nvSpPr>
          <p:spPr>
            <a:xfrm flipH="1">
              <a:off x="3082680" y="5655960"/>
              <a:ext cx="46188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-57240" bIns="-57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8" name="Group 35"/>
          <p:cNvGrpSpPr/>
          <p:nvPr/>
        </p:nvGrpSpPr>
        <p:grpSpPr>
          <a:xfrm>
            <a:off x="1674720" y="5156280"/>
            <a:ext cx="475920" cy="510840"/>
            <a:chOff x="1674720" y="5156280"/>
            <a:chExt cx="475920" cy="510840"/>
          </a:xfrm>
        </p:grpSpPr>
        <p:sp>
          <p:nvSpPr>
            <p:cNvPr id="919" name="Text Box 36"/>
            <p:cNvSpPr/>
            <p:nvPr/>
          </p:nvSpPr>
          <p:spPr>
            <a:xfrm>
              <a:off x="1751760" y="5156280"/>
              <a:ext cx="39888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4480" rIns="114480" tIns="57240" bIns="57240" anchor="t">
              <a:spAutoFit/>
            </a:bodyPr>
            <a:p>
              <a:pPr>
                <a:tabLst>
                  <a:tab algn="l" pos="0"/>
                  <a:tab algn="l" pos="927000"/>
                  <a:tab algn="l" pos="1854360"/>
                  <a:tab algn="l" pos="2781360"/>
                  <a:tab algn="l" pos="3708360"/>
                  <a:tab algn="l" pos="4635360"/>
                  <a:tab algn="l" pos="5562720"/>
                  <a:tab algn="l" pos="6489720"/>
                  <a:tab algn="l" pos="7416720"/>
                  <a:tab algn="l" pos="8344080"/>
                  <a:tab algn="l" pos="9271080"/>
                  <a:tab algn="l" pos="1019808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Line 37"/>
            <p:cNvSpPr/>
            <p:nvPr/>
          </p:nvSpPr>
          <p:spPr>
            <a:xfrm>
              <a:off x="1674720" y="5667120"/>
              <a:ext cx="464760" cy="0"/>
            </a:xfrm>
            <a:prstGeom prst="line">
              <a:avLst/>
            </a:prstGeom>
            <a:ln cap="sq"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-57240" bIns="-57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1" name="Group 38"/>
          <p:cNvGrpSpPr/>
          <p:nvPr/>
        </p:nvGrpSpPr>
        <p:grpSpPr>
          <a:xfrm>
            <a:off x="1289160" y="4692600"/>
            <a:ext cx="7372080" cy="666720"/>
            <a:chOff x="1289160" y="4692600"/>
            <a:chExt cx="7372080" cy="666720"/>
          </a:xfrm>
        </p:grpSpPr>
        <p:sp>
          <p:nvSpPr>
            <p:cNvPr id="922" name="Line 39"/>
            <p:cNvSpPr/>
            <p:nvPr/>
          </p:nvSpPr>
          <p:spPr>
            <a:xfrm>
              <a:off x="1289160" y="4846680"/>
              <a:ext cx="6721920" cy="0"/>
            </a:xfrm>
            <a:prstGeom prst="line">
              <a:avLst/>
            </a:prstGeom>
            <a:ln cap="sq"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-57240" bIns="-57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Line 40"/>
            <p:cNvSpPr/>
            <p:nvPr/>
          </p:nvSpPr>
          <p:spPr>
            <a:xfrm>
              <a:off x="1675440" y="4692600"/>
              <a:ext cx="0" cy="308520"/>
            </a:xfrm>
            <a:prstGeom prst="line">
              <a:avLst/>
            </a:prstGeom>
            <a:ln cap="sq"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57240" bIns="57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Line 41"/>
            <p:cNvSpPr/>
            <p:nvPr/>
          </p:nvSpPr>
          <p:spPr>
            <a:xfrm>
              <a:off x="2216160" y="4692600"/>
              <a:ext cx="0" cy="308520"/>
            </a:xfrm>
            <a:prstGeom prst="line">
              <a:avLst/>
            </a:prstGeom>
            <a:ln cap="sq"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57240" bIns="57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Line 42"/>
            <p:cNvSpPr/>
            <p:nvPr/>
          </p:nvSpPr>
          <p:spPr>
            <a:xfrm>
              <a:off x="2757240" y="4692600"/>
              <a:ext cx="0" cy="308520"/>
            </a:xfrm>
            <a:prstGeom prst="line">
              <a:avLst/>
            </a:prstGeom>
            <a:ln cap="sq"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57240" bIns="57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Line 43"/>
            <p:cNvSpPr/>
            <p:nvPr/>
          </p:nvSpPr>
          <p:spPr>
            <a:xfrm>
              <a:off x="3297960" y="4692600"/>
              <a:ext cx="0" cy="308520"/>
            </a:xfrm>
            <a:prstGeom prst="line">
              <a:avLst/>
            </a:prstGeom>
            <a:ln cap="sq"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57240" bIns="57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Line 44"/>
            <p:cNvSpPr/>
            <p:nvPr/>
          </p:nvSpPr>
          <p:spPr>
            <a:xfrm>
              <a:off x="3838680" y="4692600"/>
              <a:ext cx="0" cy="308520"/>
            </a:xfrm>
            <a:prstGeom prst="line">
              <a:avLst/>
            </a:prstGeom>
            <a:ln cap="sq"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57240" bIns="57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Line 45"/>
            <p:cNvSpPr/>
            <p:nvPr/>
          </p:nvSpPr>
          <p:spPr>
            <a:xfrm>
              <a:off x="4379760" y="4692600"/>
              <a:ext cx="0" cy="308520"/>
            </a:xfrm>
            <a:prstGeom prst="line">
              <a:avLst/>
            </a:prstGeom>
            <a:ln cap="sq"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57240" bIns="57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Line 46"/>
            <p:cNvSpPr/>
            <p:nvPr/>
          </p:nvSpPr>
          <p:spPr>
            <a:xfrm>
              <a:off x="4920840" y="4692600"/>
              <a:ext cx="0" cy="308520"/>
            </a:xfrm>
            <a:prstGeom prst="line">
              <a:avLst/>
            </a:prstGeom>
            <a:ln cap="sq"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57240" bIns="57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Line 47"/>
            <p:cNvSpPr/>
            <p:nvPr/>
          </p:nvSpPr>
          <p:spPr>
            <a:xfrm>
              <a:off x="5461200" y="4692600"/>
              <a:ext cx="0" cy="308520"/>
            </a:xfrm>
            <a:prstGeom prst="line">
              <a:avLst/>
            </a:prstGeom>
            <a:ln cap="sq"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57240" bIns="57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Line 48"/>
            <p:cNvSpPr/>
            <p:nvPr/>
          </p:nvSpPr>
          <p:spPr>
            <a:xfrm>
              <a:off x="6002280" y="4692600"/>
              <a:ext cx="0" cy="308520"/>
            </a:xfrm>
            <a:prstGeom prst="line">
              <a:avLst/>
            </a:prstGeom>
            <a:ln cap="sq"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57240" bIns="57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Line 49"/>
            <p:cNvSpPr/>
            <p:nvPr/>
          </p:nvSpPr>
          <p:spPr>
            <a:xfrm>
              <a:off x="6543360" y="4692600"/>
              <a:ext cx="0" cy="308520"/>
            </a:xfrm>
            <a:prstGeom prst="line">
              <a:avLst/>
            </a:prstGeom>
            <a:ln cap="sq"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57240" bIns="57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Line 50"/>
            <p:cNvSpPr/>
            <p:nvPr/>
          </p:nvSpPr>
          <p:spPr>
            <a:xfrm>
              <a:off x="7083720" y="4692600"/>
              <a:ext cx="0" cy="308520"/>
            </a:xfrm>
            <a:prstGeom prst="line">
              <a:avLst/>
            </a:prstGeom>
            <a:ln cap="sq"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57240" bIns="57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Line 51"/>
            <p:cNvSpPr/>
            <p:nvPr/>
          </p:nvSpPr>
          <p:spPr>
            <a:xfrm>
              <a:off x="7624800" y="4692600"/>
              <a:ext cx="0" cy="308520"/>
            </a:xfrm>
            <a:prstGeom prst="line">
              <a:avLst/>
            </a:prstGeom>
            <a:ln cap="sq"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57240" bIns="57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Text Box 52"/>
            <p:cNvSpPr/>
            <p:nvPr/>
          </p:nvSpPr>
          <p:spPr>
            <a:xfrm>
              <a:off x="1448640" y="5001120"/>
              <a:ext cx="52092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4480" rIns="114480" tIns="57240" bIns="57240" anchor="t">
              <a:spAutoFit/>
            </a:bodyPr>
            <a:p>
              <a:pPr>
                <a:tabLst>
                  <a:tab algn="l" pos="0"/>
                  <a:tab algn="l" pos="927000"/>
                  <a:tab algn="l" pos="1854360"/>
                  <a:tab algn="l" pos="2781360"/>
                  <a:tab algn="l" pos="3708360"/>
                  <a:tab algn="l" pos="4635360"/>
                  <a:tab algn="l" pos="5562720"/>
                  <a:tab algn="l" pos="6489720"/>
                  <a:tab algn="l" pos="7416720"/>
                  <a:tab algn="l" pos="8344080"/>
                  <a:tab algn="l" pos="9271080"/>
                  <a:tab algn="l" pos="1019808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Arial"/>
                </a:rPr>
                <a:t>10</a:t>
              </a:r>
              <a:r>
                <a:rPr b="0" lang="en-US" sz="1600" spc="-1" strike="noStrike" baseline="30000">
                  <a:solidFill>
                    <a:srgbClr val="5f5f5f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Text Box 53"/>
            <p:cNvSpPr/>
            <p:nvPr/>
          </p:nvSpPr>
          <p:spPr>
            <a:xfrm>
              <a:off x="3077280" y="5001120"/>
              <a:ext cx="58644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4480" rIns="114480" tIns="57240" bIns="57240" anchor="t">
              <a:spAutoFit/>
            </a:bodyPr>
            <a:p>
              <a:pPr>
                <a:tabLst>
                  <a:tab algn="l" pos="0"/>
                  <a:tab algn="l" pos="927000"/>
                  <a:tab algn="l" pos="1854360"/>
                  <a:tab algn="l" pos="2781360"/>
                  <a:tab algn="l" pos="3708360"/>
                  <a:tab algn="l" pos="4635360"/>
                  <a:tab algn="l" pos="5562720"/>
                  <a:tab algn="l" pos="6489720"/>
                  <a:tab algn="l" pos="7416720"/>
                  <a:tab algn="l" pos="8344080"/>
                  <a:tab algn="l" pos="9271080"/>
                  <a:tab algn="l" pos="1019808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Arial"/>
                </a:rPr>
                <a:t>10</a:t>
              </a:r>
              <a:r>
                <a:rPr b="0" lang="en-US" sz="1600" spc="-1" strike="noStrike" baseline="30000">
                  <a:solidFill>
                    <a:srgbClr val="5f5f5f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Text Box 54"/>
            <p:cNvSpPr/>
            <p:nvPr/>
          </p:nvSpPr>
          <p:spPr>
            <a:xfrm>
              <a:off x="4159440" y="5001120"/>
              <a:ext cx="58644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4480" rIns="114480" tIns="57240" bIns="57240" anchor="t">
              <a:spAutoFit/>
            </a:bodyPr>
            <a:p>
              <a:pPr>
                <a:tabLst>
                  <a:tab algn="l" pos="0"/>
                  <a:tab algn="l" pos="927000"/>
                  <a:tab algn="l" pos="1854360"/>
                  <a:tab algn="l" pos="2781360"/>
                  <a:tab algn="l" pos="3708360"/>
                  <a:tab algn="l" pos="4635360"/>
                  <a:tab algn="l" pos="5562720"/>
                  <a:tab algn="l" pos="6489720"/>
                  <a:tab algn="l" pos="7416720"/>
                  <a:tab algn="l" pos="8344080"/>
                  <a:tab algn="l" pos="9271080"/>
                  <a:tab algn="l" pos="1019808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Arial"/>
                </a:rPr>
                <a:t>10</a:t>
              </a:r>
              <a:r>
                <a:rPr b="0" lang="en-US" sz="1600" spc="-1" strike="noStrike" baseline="30000">
                  <a:solidFill>
                    <a:srgbClr val="5f5f5f"/>
                  </a:solidFill>
                  <a:latin typeface="Arial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Text Box 55"/>
            <p:cNvSpPr/>
            <p:nvPr/>
          </p:nvSpPr>
          <p:spPr>
            <a:xfrm>
              <a:off x="4699080" y="5001120"/>
              <a:ext cx="58644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4480" rIns="114480" tIns="57240" bIns="57240" anchor="t">
              <a:spAutoFit/>
            </a:bodyPr>
            <a:p>
              <a:pPr>
                <a:tabLst>
                  <a:tab algn="l" pos="0"/>
                  <a:tab algn="l" pos="927000"/>
                  <a:tab algn="l" pos="1854360"/>
                  <a:tab algn="l" pos="2781360"/>
                  <a:tab algn="l" pos="3708360"/>
                  <a:tab algn="l" pos="4635360"/>
                  <a:tab algn="l" pos="5562720"/>
                  <a:tab algn="l" pos="6489720"/>
                  <a:tab algn="l" pos="7416720"/>
                  <a:tab algn="l" pos="8344080"/>
                  <a:tab algn="l" pos="9271080"/>
                  <a:tab algn="l" pos="1019808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Arial"/>
                </a:rPr>
                <a:t>10</a:t>
              </a:r>
              <a:r>
                <a:rPr b="0" lang="en-US" sz="1600" spc="-1" strike="noStrike" baseline="30000">
                  <a:solidFill>
                    <a:srgbClr val="5f5f5f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Text Box 56"/>
            <p:cNvSpPr/>
            <p:nvPr/>
          </p:nvSpPr>
          <p:spPr>
            <a:xfrm>
              <a:off x="5781960" y="5001120"/>
              <a:ext cx="58644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4480" rIns="114480" tIns="57240" bIns="57240" anchor="t">
              <a:spAutoFit/>
            </a:bodyPr>
            <a:p>
              <a:pPr>
                <a:tabLst>
                  <a:tab algn="l" pos="0"/>
                  <a:tab algn="l" pos="927000"/>
                  <a:tab algn="l" pos="1854360"/>
                  <a:tab algn="l" pos="2781360"/>
                  <a:tab algn="l" pos="3708360"/>
                  <a:tab algn="l" pos="4635360"/>
                  <a:tab algn="l" pos="5562720"/>
                  <a:tab algn="l" pos="6489720"/>
                  <a:tab algn="l" pos="7416720"/>
                  <a:tab algn="l" pos="8344080"/>
                  <a:tab algn="l" pos="9271080"/>
                  <a:tab algn="l" pos="1019808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Arial"/>
                </a:rPr>
                <a:t>10</a:t>
              </a:r>
              <a:r>
                <a:rPr b="0" lang="en-US" sz="1600" spc="-1" strike="noStrike" baseline="30000">
                  <a:solidFill>
                    <a:srgbClr val="5f5f5f"/>
                  </a:solidFill>
                  <a:latin typeface="Arial"/>
                </a:rPr>
                <a:t>1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Text Box 57"/>
            <p:cNvSpPr/>
            <p:nvPr/>
          </p:nvSpPr>
          <p:spPr>
            <a:xfrm>
              <a:off x="7404480" y="5001120"/>
              <a:ext cx="58644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4480" rIns="114480" tIns="57240" bIns="57240" anchor="t">
              <a:spAutoFit/>
            </a:bodyPr>
            <a:p>
              <a:pPr>
                <a:tabLst>
                  <a:tab algn="l" pos="0"/>
                  <a:tab algn="l" pos="927000"/>
                  <a:tab algn="l" pos="1854360"/>
                  <a:tab algn="l" pos="2781360"/>
                  <a:tab algn="l" pos="3708360"/>
                  <a:tab algn="l" pos="4635360"/>
                  <a:tab algn="l" pos="5562720"/>
                  <a:tab algn="l" pos="6489720"/>
                  <a:tab algn="l" pos="7416720"/>
                  <a:tab algn="l" pos="8344080"/>
                  <a:tab algn="l" pos="9271080"/>
                  <a:tab algn="l" pos="1019808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Arial"/>
                </a:rPr>
                <a:t>10</a:t>
              </a:r>
              <a:r>
                <a:rPr b="0" lang="en-US" sz="1600" spc="-1" strike="noStrike" baseline="30000">
                  <a:solidFill>
                    <a:srgbClr val="5f5f5f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Text Box 58"/>
            <p:cNvSpPr/>
            <p:nvPr/>
          </p:nvSpPr>
          <p:spPr>
            <a:xfrm>
              <a:off x="8058240" y="4692600"/>
              <a:ext cx="603000" cy="47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4480" rIns="114480" tIns="57240" bIns="57240" anchor="t">
              <a:spAutoFit/>
            </a:bodyPr>
            <a:p>
              <a:pPr algn="ctr">
                <a:tabLst>
                  <a:tab algn="l" pos="0"/>
                  <a:tab algn="l" pos="927000"/>
                  <a:tab algn="l" pos="1854360"/>
                  <a:tab algn="l" pos="2781360"/>
                  <a:tab algn="l" pos="3708360"/>
                  <a:tab algn="l" pos="4635360"/>
                  <a:tab algn="l" pos="5562720"/>
                  <a:tab algn="l" pos="6489720"/>
                  <a:tab algn="l" pos="7416720"/>
                  <a:tab algn="l" pos="8344080"/>
                  <a:tab algn="l" pos="9271080"/>
                  <a:tab algn="l" pos="10198080"/>
                </a:tabLst>
              </a:pPr>
              <a:r>
                <a:rPr b="1" lang="en-US" sz="1200" spc="-1" strike="noStrike">
                  <a:solidFill>
                    <a:srgbClr val="5f5f5f"/>
                  </a:solidFill>
                  <a:latin typeface="Arial"/>
                </a:rPr>
                <a:t>Freq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27000"/>
                  <a:tab algn="l" pos="1854360"/>
                  <a:tab algn="l" pos="2781360"/>
                  <a:tab algn="l" pos="3708360"/>
                  <a:tab algn="l" pos="4635360"/>
                  <a:tab algn="l" pos="5562720"/>
                  <a:tab algn="l" pos="6489720"/>
                  <a:tab algn="l" pos="7416720"/>
                  <a:tab algn="l" pos="8344080"/>
                  <a:tab algn="l" pos="9271080"/>
                  <a:tab algn="l" pos="10198080"/>
                </a:tabLst>
              </a:pPr>
              <a:r>
                <a:rPr b="1" lang="en-US" sz="1200" spc="-1" strike="noStrike">
                  <a:solidFill>
                    <a:srgbClr val="5f5f5f"/>
                  </a:solidFill>
                  <a:latin typeface="Arial"/>
                </a:rPr>
                <a:t>(Hz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80740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700" spc="-1" strike="noStrike">
                <a:solidFill>
                  <a:srgbClr val="006633"/>
                </a:solidFill>
                <a:latin typeface="Garamond"/>
              </a:rPr>
              <a:t>IrDA: </a:t>
            </a: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Infrared Data Association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stics of I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costs rise significantly around 1-10 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important exception is IR at around 100 THz – very inexpen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s above 100 GHz cannot penetrate w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signals below 300 GHz are regulated by the F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Date Placeholder 3"/>
          <p:cNvSpPr/>
          <p:nvPr/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Footer Placeholder 4"/>
          <p:cNvSpPr/>
          <p:nvPr/>
        </p:nvSpPr>
        <p:spPr>
          <a:xfrm>
            <a:off x="3166920" y="6329520"/>
            <a:ext cx="2936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Slide Number Placeholder 5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4FE50B4-A8D9-4438-9F84-90938C43784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Speed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s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tter (LED) and paired receiver (photodio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DA supports wide range of sp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00 bps to 4 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ct physical-layer protocol used depends on speed of IrDA 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highest speed available on both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ed when connection is establish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ture promises even higher spee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-50 Mbps is not too far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son to other wireless technolog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-power RF (e.g., Bluetooth) slightly slower (.5 - 2 Mbps ma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und by walls, easy to control, intentional asp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h lower-power than high-speed RF (e.g., 802.11a at 50Mb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Date Placeholder 3"/>
          <p:cNvSpPr/>
          <p:nvPr/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Footer Placeholder 4"/>
          <p:cNvSpPr/>
          <p:nvPr/>
        </p:nvSpPr>
        <p:spPr>
          <a:xfrm>
            <a:off x="3166920" y="6329520"/>
            <a:ext cx="2936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Slide Number Placeholder 5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169D6B2-F521-4B79-AAC7-AB684A873FF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2" name="Picture 8" descr="ibm-sir2"/>
          <p:cNvPicPr/>
          <p:nvPr/>
        </p:nvPicPr>
        <p:blipFill>
          <a:blip r:embed="rId1"/>
          <a:stretch/>
        </p:blipFill>
        <p:spPr>
          <a:xfrm>
            <a:off x="6249960" y="1482840"/>
            <a:ext cx="2679840" cy="1457280"/>
          </a:xfrm>
          <a:prstGeom prst="rect">
            <a:avLst/>
          </a:prstGeom>
          <a:ln w="0">
            <a:noFill/>
          </a:ln>
        </p:spPr>
      </p:pic>
      <p:sp>
        <p:nvSpPr>
          <p:cNvPr id="953" name="Text Box 10"/>
          <p:cNvSpPr/>
          <p:nvPr/>
        </p:nvSpPr>
        <p:spPr>
          <a:xfrm>
            <a:off x="6758280" y="2108160"/>
            <a:ext cx="26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0" bIns="0" anchor="t">
            <a:sp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11"/>
          <p:cNvSpPr/>
          <p:nvPr/>
        </p:nvSpPr>
        <p:spPr>
          <a:xfrm>
            <a:off x="6950520" y="2108160"/>
            <a:ext cx="26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0" bIns="0" anchor="t">
            <a:sp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 Box 12"/>
          <p:cNvSpPr/>
          <p:nvPr/>
        </p:nvSpPr>
        <p:spPr>
          <a:xfrm>
            <a:off x="7166520" y="2108160"/>
            <a:ext cx="26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0" bIns="0" anchor="t">
            <a:sp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13"/>
          <p:cNvSpPr/>
          <p:nvPr/>
        </p:nvSpPr>
        <p:spPr>
          <a:xfrm>
            <a:off x="7374240" y="2108160"/>
            <a:ext cx="26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0" bIns="0" anchor="t">
            <a:sp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 Box 14"/>
          <p:cNvSpPr/>
          <p:nvPr/>
        </p:nvSpPr>
        <p:spPr>
          <a:xfrm>
            <a:off x="7564680" y="2108160"/>
            <a:ext cx="26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0" bIns="0" anchor="t">
            <a:sp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15"/>
          <p:cNvSpPr/>
          <p:nvPr/>
        </p:nvSpPr>
        <p:spPr>
          <a:xfrm>
            <a:off x="6561360" y="2106720"/>
            <a:ext cx="26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0" bIns="0" anchor="t">
            <a:sp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Low-speed Modulation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6328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ed: 2400 bps - 115 kbps (“Serial Infrared”, or SI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nly 0’s require pulse (and thus power) ; pulse &lt; full bit ti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ndard UART byte fram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ulse is constant 1.6 </a:t>
            </a:r>
            <a:r>
              <a:rPr b="0" lang="en-US" sz="13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 long (so duty cycle varies with spee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verage duty cycle:  </a:t>
            </a:r>
            <a:r>
              <a:rPr b="0" lang="en-US" sz="13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9%</a:t>
            </a:r>
            <a:br>
              <a:rPr sz="1300"/>
            </a:b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ed: 576 kbps - 1 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to SIR (pulse only for 0’s ; pulse &lt; full bit 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se lasts 1/4 of bit time (so pulse varies with spe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verage duty cycle:  12.5%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326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ed: 4 Mbps (“Fast Infrared”, or FI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ses four-pulse-position-modulation scheme (4PPM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ulse during exactly 1/4 of each symbol bound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PPM makes synchronization easier to mainta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uty cycle: 25% (independent of data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owest power/bi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34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1" name="Picture 19" descr="ibm-mir2"/>
          <p:cNvPicPr/>
          <p:nvPr/>
        </p:nvPicPr>
        <p:blipFill>
          <a:blip r:embed="rId2"/>
          <a:stretch/>
        </p:blipFill>
        <p:spPr>
          <a:xfrm>
            <a:off x="6267600" y="3182760"/>
            <a:ext cx="2717640" cy="959040"/>
          </a:xfrm>
          <a:prstGeom prst="rect">
            <a:avLst/>
          </a:prstGeom>
          <a:ln w="0">
            <a:noFill/>
          </a:ln>
        </p:spPr>
      </p:pic>
      <p:sp>
        <p:nvSpPr>
          <p:cNvPr id="962" name="Text Box 27"/>
          <p:cNvSpPr/>
          <p:nvPr/>
        </p:nvSpPr>
        <p:spPr>
          <a:xfrm>
            <a:off x="6855120" y="3956040"/>
            <a:ext cx="26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0" bIns="0" anchor="t">
            <a:sp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28"/>
          <p:cNvSpPr/>
          <p:nvPr/>
        </p:nvSpPr>
        <p:spPr>
          <a:xfrm>
            <a:off x="7047360" y="3956040"/>
            <a:ext cx="26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0" bIns="0" anchor="t">
            <a:sp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29"/>
          <p:cNvSpPr/>
          <p:nvPr/>
        </p:nvSpPr>
        <p:spPr>
          <a:xfrm>
            <a:off x="7263360" y="3956040"/>
            <a:ext cx="26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0" bIns="0" anchor="t">
            <a:sp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30"/>
          <p:cNvSpPr/>
          <p:nvPr/>
        </p:nvSpPr>
        <p:spPr>
          <a:xfrm>
            <a:off x="7471080" y="3956040"/>
            <a:ext cx="26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0" bIns="0" anchor="t">
            <a:sp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31"/>
          <p:cNvSpPr/>
          <p:nvPr/>
        </p:nvSpPr>
        <p:spPr>
          <a:xfrm>
            <a:off x="7661520" y="3956040"/>
            <a:ext cx="26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0" bIns="0" anchor="t">
            <a:sp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32"/>
          <p:cNvSpPr/>
          <p:nvPr/>
        </p:nvSpPr>
        <p:spPr>
          <a:xfrm>
            <a:off x="6658200" y="3954600"/>
            <a:ext cx="26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0" bIns="0" anchor="t">
            <a:sp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8" name="Picture 34" descr="ibm-fir2"/>
          <p:cNvPicPr/>
          <p:nvPr/>
        </p:nvPicPr>
        <p:blipFill>
          <a:blip r:embed="rId3"/>
          <a:stretch/>
        </p:blipFill>
        <p:spPr>
          <a:xfrm>
            <a:off x="6059520" y="4511520"/>
            <a:ext cx="3002040" cy="1791000"/>
          </a:xfrm>
          <a:prstGeom prst="rect">
            <a:avLst/>
          </a:prstGeom>
          <a:ln w="0">
            <a:noFill/>
          </a:ln>
        </p:spPr>
      </p:pic>
      <p:grpSp>
        <p:nvGrpSpPr>
          <p:cNvPr id="969" name="Group 35"/>
          <p:cNvGrpSpPr/>
          <p:nvPr/>
        </p:nvGrpSpPr>
        <p:grpSpPr>
          <a:xfrm>
            <a:off x="6538320" y="4357800"/>
            <a:ext cx="1668240" cy="213480"/>
            <a:chOff x="6538320" y="4357800"/>
            <a:chExt cx="1668240" cy="213480"/>
          </a:xfrm>
        </p:grpSpPr>
        <p:sp>
          <p:nvSpPr>
            <p:cNvPr id="970" name="Text Box 36"/>
            <p:cNvSpPr/>
            <p:nvPr/>
          </p:nvSpPr>
          <p:spPr>
            <a:xfrm>
              <a:off x="6538320" y="4357800"/>
              <a:ext cx="30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0" bIns="0" anchor="t">
              <a:spAutoFit/>
            </a:bodyPr>
            <a:p>
              <a:pPr>
                <a:tabLst>
                  <a:tab algn="l" pos="0"/>
                  <a:tab algn="l" pos="927000"/>
                  <a:tab algn="l" pos="1854360"/>
                  <a:tab algn="l" pos="2781360"/>
                  <a:tab algn="l" pos="3708360"/>
                  <a:tab algn="l" pos="4635360"/>
                  <a:tab algn="l" pos="5562720"/>
                  <a:tab algn="l" pos="6489720"/>
                  <a:tab algn="l" pos="7416720"/>
                  <a:tab algn="l" pos="8344080"/>
                  <a:tab algn="l" pos="9271080"/>
                  <a:tab algn="l" pos="1019808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Text Box 37"/>
            <p:cNvSpPr/>
            <p:nvPr/>
          </p:nvSpPr>
          <p:spPr>
            <a:xfrm>
              <a:off x="6721200" y="4357800"/>
              <a:ext cx="30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0" bIns="0" anchor="t">
              <a:spAutoFit/>
            </a:bodyPr>
            <a:p>
              <a:pPr>
                <a:tabLst>
                  <a:tab algn="l" pos="0"/>
                  <a:tab algn="l" pos="927000"/>
                  <a:tab algn="l" pos="1854360"/>
                  <a:tab algn="l" pos="2781360"/>
                  <a:tab algn="l" pos="3708360"/>
                  <a:tab algn="l" pos="4635360"/>
                  <a:tab algn="l" pos="5562720"/>
                  <a:tab algn="l" pos="6489720"/>
                  <a:tab algn="l" pos="7416720"/>
                  <a:tab algn="l" pos="8344080"/>
                  <a:tab algn="l" pos="9271080"/>
                  <a:tab algn="l" pos="1019808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Text Box 38"/>
            <p:cNvSpPr/>
            <p:nvPr/>
          </p:nvSpPr>
          <p:spPr>
            <a:xfrm>
              <a:off x="6949440" y="4357800"/>
              <a:ext cx="30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0" bIns="0" anchor="t">
              <a:spAutoFit/>
            </a:bodyPr>
            <a:p>
              <a:pPr>
                <a:tabLst>
                  <a:tab algn="l" pos="0"/>
                  <a:tab algn="l" pos="927000"/>
                  <a:tab algn="l" pos="1854360"/>
                  <a:tab algn="l" pos="2781360"/>
                  <a:tab algn="l" pos="3708360"/>
                  <a:tab algn="l" pos="4635360"/>
                  <a:tab algn="l" pos="5562720"/>
                  <a:tab algn="l" pos="6489720"/>
                  <a:tab algn="l" pos="7416720"/>
                  <a:tab algn="l" pos="8344080"/>
                  <a:tab algn="l" pos="9271080"/>
                  <a:tab algn="l" pos="1019808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Text Box 39"/>
            <p:cNvSpPr/>
            <p:nvPr/>
          </p:nvSpPr>
          <p:spPr>
            <a:xfrm>
              <a:off x="7128360" y="4357800"/>
              <a:ext cx="30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0" bIns="0" anchor="t">
              <a:spAutoFit/>
            </a:bodyPr>
            <a:p>
              <a:pPr>
                <a:tabLst>
                  <a:tab algn="l" pos="0"/>
                  <a:tab algn="l" pos="927000"/>
                  <a:tab algn="l" pos="1854360"/>
                  <a:tab algn="l" pos="2781360"/>
                  <a:tab algn="l" pos="3708360"/>
                  <a:tab algn="l" pos="4635360"/>
                  <a:tab algn="l" pos="5562720"/>
                  <a:tab algn="l" pos="6489720"/>
                  <a:tab algn="l" pos="7416720"/>
                  <a:tab algn="l" pos="8344080"/>
                  <a:tab algn="l" pos="9271080"/>
                  <a:tab algn="l" pos="1019808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Text Box 40"/>
            <p:cNvSpPr/>
            <p:nvPr/>
          </p:nvSpPr>
          <p:spPr>
            <a:xfrm>
              <a:off x="7312680" y="4357800"/>
              <a:ext cx="30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0" bIns="0" anchor="t">
              <a:spAutoFit/>
            </a:bodyPr>
            <a:p>
              <a:pPr>
                <a:tabLst>
                  <a:tab algn="l" pos="0"/>
                  <a:tab algn="l" pos="927000"/>
                  <a:tab algn="l" pos="1854360"/>
                  <a:tab algn="l" pos="2781360"/>
                  <a:tab algn="l" pos="3708360"/>
                  <a:tab algn="l" pos="4635360"/>
                  <a:tab algn="l" pos="5562720"/>
                  <a:tab algn="l" pos="6489720"/>
                  <a:tab algn="l" pos="7416720"/>
                  <a:tab algn="l" pos="8344080"/>
                  <a:tab algn="l" pos="9271080"/>
                  <a:tab algn="l" pos="1019808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Text Box 41"/>
            <p:cNvSpPr/>
            <p:nvPr/>
          </p:nvSpPr>
          <p:spPr>
            <a:xfrm>
              <a:off x="7493760" y="4357800"/>
              <a:ext cx="30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0" bIns="0" anchor="t">
              <a:spAutoFit/>
            </a:bodyPr>
            <a:p>
              <a:pPr>
                <a:tabLst>
                  <a:tab algn="l" pos="0"/>
                  <a:tab algn="l" pos="927000"/>
                  <a:tab algn="l" pos="1854360"/>
                  <a:tab algn="l" pos="2781360"/>
                  <a:tab algn="l" pos="3708360"/>
                  <a:tab algn="l" pos="4635360"/>
                  <a:tab algn="l" pos="5562720"/>
                  <a:tab algn="l" pos="6489720"/>
                  <a:tab algn="l" pos="7416720"/>
                  <a:tab algn="l" pos="8344080"/>
                  <a:tab algn="l" pos="9271080"/>
                  <a:tab algn="l" pos="1019808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Text Box 42"/>
            <p:cNvSpPr/>
            <p:nvPr/>
          </p:nvSpPr>
          <p:spPr>
            <a:xfrm>
              <a:off x="7719120" y="4357800"/>
              <a:ext cx="30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0" bIns="0" anchor="t">
              <a:spAutoFit/>
            </a:bodyPr>
            <a:p>
              <a:pPr>
                <a:tabLst>
                  <a:tab algn="l" pos="0"/>
                  <a:tab algn="l" pos="927000"/>
                  <a:tab algn="l" pos="1854360"/>
                  <a:tab algn="l" pos="2781360"/>
                  <a:tab algn="l" pos="3708360"/>
                  <a:tab algn="l" pos="4635360"/>
                  <a:tab algn="l" pos="5562720"/>
                  <a:tab algn="l" pos="6489720"/>
                  <a:tab algn="l" pos="7416720"/>
                  <a:tab algn="l" pos="8344080"/>
                  <a:tab algn="l" pos="9271080"/>
                  <a:tab algn="l" pos="1019808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 Box 43"/>
            <p:cNvSpPr/>
            <p:nvPr/>
          </p:nvSpPr>
          <p:spPr>
            <a:xfrm>
              <a:off x="7903800" y="4357800"/>
              <a:ext cx="30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0" bIns="0" anchor="t">
              <a:spAutoFit/>
            </a:bodyPr>
            <a:p>
              <a:pPr>
                <a:tabLst>
                  <a:tab algn="l" pos="0"/>
                  <a:tab algn="l" pos="927000"/>
                  <a:tab algn="l" pos="1854360"/>
                  <a:tab algn="l" pos="2781360"/>
                  <a:tab algn="l" pos="3708360"/>
                  <a:tab algn="l" pos="4635360"/>
                  <a:tab algn="l" pos="5562720"/>
                  <a:tab algn="l" pos="6489720"/>
                  <a:tab algn="l" pos="7416720"/>
                  <a:tab algn="l" pos="8344080"/>
                  <a:tab algn="l" pos="9271080"/>
                  <a:tab algn="l" pos="1019808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Date Placeholder 3"/>
          <p:cNvSpPr/>
          <p:nvPr/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Footer Placeholder 4"/>
          <p:cNvSpPr/>
          <p:nvPr/>
        </p:nvSpPr>
        <p:spPr>
          <a:xfrm>
            <a:off x="3166920" y="6329520"/>
            <a:ext cx="2936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Slide Number Placeholder 5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53B6156-1305-4242-8CB0-950F7434C9A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1" name="Group 4"/>
          <p:cNvGrpSpPr/>
          <p:nvPr/>
        </p:nvGrpSpPr>
        <p:grpSpPr>
          <a:xfrm>
            <a:off x="927000" y="4322880"/>
            <a:ext cx="7184880" cy="2050200"/>
            <a:chOff x="927000" y="4322880"/>
            <a:chExt cx="7184880" cy="2050200"/>
          </a:xfrm>
        </p:grpSpPr>
        <p:pic>
          <p:nvPicPr>
            <p:cNvPr id="982" name="Picture 5" descr="angle2"/>
            <p:cNvPicPr/>
            <p:nvPr/>
          </p:nvPicPr>
          <p:blipFill>
            <a:blip r:embed="rId1"/>
            <a:stretch/>
          </p:blipFill>
          <p:spPr>
            <a:xfrm>
              <a:off x="927000" y="4322880"/>
              <a:ext cx="7184880" cy="200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83" name="Group 6"/>
            <p:cNvGrpSpPr/>
            <p:nvPr/>
          </p:nvGrpSpPr>
          <p:grpSpPr>
            <a:xfrm>
              <a:off x="2471760" y="6097320"/>
              <a:ext cx="4094640" cy="275760"/>
              <a:chOff x="2471760" y="6097320"/>
              <a:chExt cx="4094640" cy="275760"/>
            </a:xfrm>
          </p:grpSpPr>
          <p:sp>
            <p:nvSpPr>
              <p:cNvPr id="984" name="Line 7"/>
              <p:cNvSpPr/>
              <p:nvPr/>
            </p:nvSpPr>
            <p:spPr>
              <a:xfrm>
                <a:off x="2471760" y="6174360"/>
                <a:ext cx="0" cy="154080"/>
              </a:xfrm>
              <a:prstGeom prst="line">
                <a:avLst/>
              </a:prstGeom>
              <a:ln cap="sq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520" rIns="9252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Line 8"/>
              <p:cNvSpPr/>
              <p:nvPr/>
            </p:nvSpPr>
            <p:spPr>
              <a:xfrm flipH="1">
                <a:off x="2471760" y="6251760"/>
                <a:ext cx="1776960" cy="0"/>
              </a:xfrm>
              <a:prstGeom prst="line">
                <a:avLst/>
              </a:prstGeom>
              <a:ln cap="sq" w="12600">
                <a:solidFill>
                  <a:srgbClr val="5f5f5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520" rIns="9252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Line 9"/>
              <p:cNvSpPr/>
              <p:nvPr/>
            </p:nvSpPr>
            <p:spPr>
              <a:xfrm>
                <a:off x="4866840" y="6251760"/>
                <a:ext cx="1699560" cy="0"/>
              </a:xfrm>
              <a:prstGeom prst="line">
                <a:avLst/>
              </a:prstGeom>
              <a:ln cap="sq" w="12600">
                <a:solidFill>
                  <a:srgbClr val="5f5f5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520" rIns="9252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Line 10"/>
              <p:cNvSpPr/>
              <p:nvPr/>
            </p:nvSpPr>
            <p:spPr>
              <a:xfrm>
                <a:off x="6566400" y="6174360"/>
                <a:ext cx="0" cy="154080"/>
              </a:xfrm>
              <a:prstGeom prst="line">
                <a:avLst/>
              </a:prstGeom>
              <a:ln cap="sq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520" rIns="9252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Text Box 11"/>
              <p:cNvSpPr/>
              <p:nvPr/>
            </p:nvSpPr>
            <p:spPr>
              <a:xfrm>
                <a:off x="4226760" y="6097320"/>
                <a:ext cx="661320" cy="27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520" rIns="92520" tIns="46440" bIns="46440" anchor="t">
                <a:spAutoFit/>
              </a:bodyPr>
              <a:p>
                <a:pPr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0" lang="en-US" sz="1200" spc="-1" strike="noStrike">
                    <a:solidFill>
                      <a:srgbClr val="5f5f5f"/>
                    </a:solidFill>
                    <a:latin typeface="Arial"/>
                  </a:rPr>
                  <a:t>0 - 1 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Range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DA standard requires 0-1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istically, some transceivers work at up to 1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ul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to a narrow cone (15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lf-ang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e to help reduce interference between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Date Placeholder 3"/>
          <p:cNvSpPr/>
          <p:nvPr/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Footer Placeholder 4"/>
          <p:cNvSpPr/>
          <p:nvPr/>
        </p:nvSpPr>
        <p:spPr>
          <a:xfrm>
            <a:off x="3166920" y="6329520"/>
            <a:ext cx="2936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Slide Number Placeholder 5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BDF27B3-C1D8-48CD-B0C1-0173E80CA19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903240" y="3890880"/>
            <a:ext cx="1776600" cy="1544760"/>
          </a:xfrm>
          <a:prstGeom prst="rect">
            <a:avLst/>
          </a:prstGeom>
          <a:solidFill>
            <a:srgbClr val="3b812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7"/>
          <p:cNvSpPr/>
          <p:nvPr/>
        </p:nvSpPr>
        <p:spPr>
          <a:xfrm>
            <a:off x="671400" y="5126040"/>
            <a:ext cx="2239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Physical La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8"/>
          <p:cNvSpPr/>
          <p:nvPr/>
        </p:nvSpPr>
        <p:spPr>
          <a:xfrm>
            <a:off x="671400" y="4818240"/>
            <a:ext cx="2239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Data-link La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9"/>
          <p:cNvSpPr/>
          <p:nvPr/>
        </p:nvSpPr>
        <p:spPr>
          <a:xfrm>
            <a:off x="671400" y="4508640"/>
            <a:ext cx="2239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Network La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10"/>
          <p:cNvSpPr/>
          <p:nvPr/>
        </p:nvSpPr>
        <p:spPr>
          <a:xfrm>
            <a:off x="671400" y="4200480"/>
            <a:ext cx="2239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Transport La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 Box 11"/>
          <p:cNvSpPr/>
          <p:nvPr/>
        </p:nvSpPr>
        <p:spPr>
          <a:xfrm>
            <a:off x="671400" y="3890880"/>
            <a:ext cx="2239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Application La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Line 12"/>
          <p:cNvSpPr/>
          <p:nvPr/>
        </p:nvSpPr>
        <p:spPr>
          <a:xfrm>
            <a:off x="903240" y="4200480"/>
            <a:ext cx="1776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000" rIns="99000" tIns="-49320" bIns="-49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Line 13"/>
          <p:cNvSpPr/>
          <p:nvPr/>
        </p:nvSpPr>
        <p:spPr>
          <a:xfrm>
            <a:off x="903240" y="4508640"/>
            <a:ext cx="1776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000" rIns="99000" tIns="-49320" bIns="-49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Line 14"/>
          <p:cNvSpPr/>
          <p:nvPr/>
        </p:nvSpPr>
        <p:spPr>
          <a:xfrm>
            <a:off x="903240" y="4818240"/>
            <a:ext cx="1776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000" rIns="99000" tIns="-49320" bIns="-49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Line 15"/>
          <p:cNvSpPr/>
          <p:nvPr/>
        </p:nvSpPr>
        <p:spPr>
          <a:xfrm>
            <a:off x="903240" y="5126040"/>
            <a:ext cx="1776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000" rIns="99000" tIns="-49320" bIns="-49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16"/>
          <p:cNvSpPr/>
          <p:nvPr/>
        </p:nvSpPr>
        <p:spPr>
          <a:xfrm>
            <a:off x="887400" y="5546880"/>
            <a:ext cx="188136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spAutoFit/>
          </a:bodyPr>
          <a:p>
            <a:pPr algn="ct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Network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18"/>
          <p:cNvSpPr/>
          <p:nvPr/>
        </p:nvSpPr>
        <p:spPr>
          <a:xfrm>
            <a:off x="3470400" y="3273480"/>
            <a:ext cx="463320" cy="925560"/>
          </a:xfrm>
          <a:prstGeom prst="rect">
            <a:avLst/>
          </a:prstGeom>
          <a:solidFill>
            <a:srgbClr val="3b812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19"/>
          <p:cNvSpPr/>
          <p:nvPr/>
        </p:nvSpPr>
        <p:spPr>
          <a:xfrm>
            <a:off x="4397400" y="3273480"/>
            <a:ext cx="461880" cy="925560"/>
          </a:xfrm>
          <a:prstGeom prst="rect">
            <a:avLst/>
          </a:prstGeom>
          <a:solidFill>
            <a:srgbClr val="3b812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Rectangle 20"/>
          <p:cNvSpPr/>
          <p:nvPr/>
        </p:nvSpPr>
        <p:spPr>
          <a:xfrm>
            <a:off x="3933720" y="3273480"/>
            <a:ext cx="463680" cy="925560"/>
          </a:xfrm>
          <a:prstGeom prst="rect">
            <a:avLst/>
          </a:prstGeom>
          <a:solidFill>
            <a:srgbClr val="3b812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21"/>
          <p:cNvSpPr/>
          <p:nvPr/>
        </p:nvSpPr>
        <p:spPr>
          <a:xfrm>
            <a:off x="3470400" y="4199040"/>
            <a:ext cx="1388880" cy="309600"/>
          </a:xfrm>
          <a:prstGeom prst="rect">
            <a:avLst/>
          </a:prstGeom>
          <a:solidFill>
            <a:srgbClr val="3b812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22"/>
          <p:cNvSpPr/>
          <p:nvPr/>
        </p:nvSpPr>
        <p:spPr>
          <a:xfrm>
            <a:off x="3470400" y="4508640"/>
            <a:ext cx="1388880" cy="307800"/>
          </a:xfrm>
          <a:prstGeom prst="rect">
            <a:avLst/>
          </a:prstGeom>
          <a:solidFill>
            <a:srgbClr val="3b812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23"/>
          <p:cNvSpPr/>
          <p:nvPr/>
        </p:nvSpPr>
        <p:spPr>
          <a:xfrm>
            <a:off x="3470400" y="4816440"/>
            <a:ext cx="1388880" cy="309600"/>
          </a:xfrm>
          <a:prstGeom prst="rect">
            <a:avLst/>
          </a:prstGeom>
          <a:solidFill>
            <a:srgbClr val="3b812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24"/>
          <p:cNvSpPr/>
          <p:nvPr/>
        </p:nvSpPr>
        <p:spPr>
          <a:xfrm>
            <a:off x="3470400" y="5126040"/>
            <a:ext cx="1388880" cy="307800"/>
          </a:xfrm>
          <a:prstGeom prst="rect">
            <a:avLst/>
          </a:prstGeom>
          <a:solidFill>
            <a:srgbClr val="3b812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25"/>
          <p:cNvSpPr/>
          <p:nvPr/>
        </p:nvSpPr>
        <p:spPr>
          <a:xfrm>
            <a:off x="3386160" y="5511960"/>
            <a:ext cx="15372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DA Protocol St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26"/>
          <p:cNvSpPr/>
          <p:nvPr/>
        </p:nvSpPr>
        <p:spPr>
          <a:xfrm>
            <a:off x="3437640" y="5126040"/>
            <a:ext cx="14533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Physical La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27"/>
          <p:cNvSpPr/>
          <p:nvPr/>
        </p:nvSpPr>
        <p:spPr>
          <a:xfrm>
            <a:off x="3825000" y="4816440"/>
            <a:ext cx="6793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IrL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28"/>
          <p:cNvSpPr/>
          <p:nvPr/>
        </p:nvSpPr>
        <p:spPr>
          <a:xfrm>
            <a:off x="3815280" y="4508640"/>
            <a:ext cx="6991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IrL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 Box 29"/>
          <p:cNvSpPr/>
          <p:nvPr/>
        </p:nvSpPr>
        <p:spPr>
          <a:xfrm>
            <a:off x="3764880" y="4199040"/>
            <a:ext cx="79668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Tiny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30"/>
          <p:cNvSpPr/>
          <p:nvPr/>
        </p:nvSpPr>
        <p:spPr>
          <a:xfrm rot="16200000">
            <a:off x="3262320" y="3616560"/>
            <a:ext cx="88668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IrCO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31"/>
          <p:cNvSpPr/>
          <p:nvPr/>
        </p:nvSpPr>
        <p:spPr>
          <a:xfrm rot="16200000">
            <a:off x="3824640" y="3611880"/>
            <a:ext cx="6883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Ir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32"/>
          <p:cNvSpPr/>
          <p:nvPr/>
        </p:nvSpPr>
        <p:spPr>
          <a:xfrm rot="16200000">
            <a:off x="4216680" y="3616920"/>
            <a:ext cx="8287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IrOB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IrDA Protocol Stack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ogous to the standard layered network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sts of both required and optional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35"/>
          <p:cNvSpPr/>
          <p:nvPr/>
        </p:nvSpPr>
        <p:spPr>
          <a:xfrm>
            <a:off x="5381640" y="5605560"/>
            <a:ext cx="3711600" cy="520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e connections/disconn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lement reliable 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36"/>
          <p:cNvSpPr/>
          <p:nvPr/>
        </p:nvSpPr>
        <p:spPr>
          <a:xfrm>
            <a:off x="5381640" y="4748040"/>
            <a:ext cx="3711600" cy="7333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plexes several “virtual” connections on a single IrLAP connection (logical service access points – LSAP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37"/>
          <p:cNvSpPr/>
          <p:nvPr/>
        </p:nvSpPr>
        <p:spPr>
          <a:xfrm>
            <a:off x="5381640" y="3635280"/>
            <a:ext cx="3711600" cy="990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gmentation and re-assembly automatically break-up large packe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nd put back together correct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-channel flow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38"/>
          <p:cNvSpPr/>
          <p:nvPr/>
        </p:nvSpPr>
        <p:spPr>
          <a:xfrm>
            <a:off x="5381640" y="2692440"/>
            <a:ext cx="3711600" cy="8218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and parallel port em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rDA interface acts as a local-area 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R “Object Exchange” – transfer of ob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39"/>
          <p:cNvSpPr/>
          <p:nvPr/>
        </p:nvSpPr>
        <p:spPr>
          <a:xfrm flipV="1">
            <a:off x="4862520" y="3100320"/>
            <a:ext cx="501480" cy="6127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49"/>
          <p:cNvSpPr/>
          <p:nvPr/>
        </p:nvSpPr>
        <p:spPr>
          <a:xfrm flipV="1">
            <a:off x="4846680" y="4156200"/>
            <a:ext cx="512640" cy="18864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50"/>
          <p:cNvSpPr/>
          <p:nvPr/>
        </p:nvSpPr>
        <p:spPr>
          <a:xfrm>
            <a:off x="4876920" y="4664160"/>
            <a:ext cx="490320" cy="4363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51"/>
          <p:cNvSpPr/>
          <p:nvPr/>
        </p:nvSpPr>
        <p:spPr>
          <a:xfrm>
            <a:off x="4851360" y="4973760"/>
            <a:ext cx="512640" cy="8935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Date Placeholder 3"/>
          <p:cNvSpPr/>
          <p:nvPr/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Footer Placeholder 4"/>
          <p:cNvSpPr/>
          <p:nvPr/>
        </p:nvSpPr>
        <p:spPr>
          <a:xfrm>
            <a:off x="3166920" y="6329520"/>
            <a:ext cx="2936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Slide Number Placeholder 5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3A5B666-3EED-4D45-ACF0-D5D4D048F5C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3" name="Group 4"/>
          <p:cNvGrpSpPr/>
          <p:nvPr/>
        </p:nvGrpSpPr>
        <p:grpSpPr>
          <a:xfrm>
            <a:off x="4205160" y="2225520"/>
            <a:ext cx="1564560" cy="792360"/>
            <a:chOff x="4205160" y="2225520"/>
            <a:chExt cx="1564560" cy="792360"/>
          </a:xfrm>
        </p:grpSpPr>
        <p:sp>
          <p:nvSpPr>
            <p:cNvPr id="1034" name="AutoShape 5"/>
            <p:cNvSpPr/>
            <p:nvPr/>
          </p:nvSpPr>
          <p:spPr>
            <a:xfrm>
              <a:off x="4205160" y="2225520"/>
              <a:ext cx="231480" cy="792360"/>
            </a:xfrm>
            <a:custGeom>
              <a:avLst/>
              <a:gdLst>
                <a:gd name="textAreaLeft" fmla="*/ 0 w 231480"/>
                <a:gd name="textAreaRight" fmla="*/ 83520 w 231480"/>
                <a:gd name="textAreaTop" fmla="*/ 20520 h 792360"/>
                <a:gd name="textAreaBottom" fmla="*/ 77184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520" rIns="92520" tIns="46440" bIns="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Text Box 6"/>
            <p:cNvSpPr/>
            <p:nvPr/>
          </p:nvSpPr>
          <p:spPr>
            <a:xfrm>
              <a:off x="4509720" y="2470320"/>
              <a:ext cx="12600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520" rIns="92520" tIns="46440" bIns="46440" anchor="t">
              <a:spAutoFit/>
            </a:bodyPr>
            <a:p>
              <a:pPr>
                <a:tabLst>
                  <a:tab algn="l" pos="0"/>
                  <a:tab algn="l" pos="927000"/>
                  <a:tab algn="l" pos="1854360"/>
                  <a:tab algn="l" pos="2781360"/>
                  <a:tab algn="l" pos="3708360"/>
                  <a:tab algn="l" pos="4635360"/>
                  <a:tab algn="l" pos="5562720"/>
                  <a:tab algn="l" pos="6489720"/>
                  <a:tab algn="l" pos="7416720"/>
                  <a:tab algn="l" pos="8344080"/>
                  <a:tab algn="l" pos="9271080"/>
                  <a:tab algn="l" pos="10198080"/>
                </a:tabLst>
              </a:pPr>
              <a:r>
                <a:rPr b="0" lang="en-US" sz="1400" spc="-1" strike="noStrike" u="sng">
                  <a:solidFill>
                    <a:srgbClr val="ff0000"/>
                  </a:solidFill>
                  <a:uFillTx/>
                  <a:latin typeface="Arial"/>
                </a:rPr>
                <a:t>Total: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 5 by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6" name="Group 7"/>
          <p:cNvGrpSpPr/>
          <p:nvPr/>
        </p:nvGrpSpPr>
        <p:grpSpPr>
          <a:xfrm>
            <a:off x="4227480" y="3311640"/>
            <a:ext cx="2688840" cy="792000"/>
            <a:chOff x="4227480" y="3311640"/>
            <a:chExt cx="2688840" cy="792000"/>
          </a:xfrm>
        </p:grpSpPr>
        <p:sp>
          <p:nvSpPr>
            <p:cNvPr id="1037" name="AutoShape 8"/>
            <p:cNvSpPr/>
            <p:nvPr/>
          </p:nvSpPr>
          <p:spPr>
            <a:xfrm>
              <a:off x="4227480" y="3311640"/>
              <a:ext cx="231480" cy="792000"/>
            </a:xfrm>
            <a:custGeom>
              <a:avLst/>
              <a:gdLst>
                <a:gd name="textAreaLeft" fmla="*/ 0 w 231480"/>
                <a:gd name="textAreaRight" fmla="*/ 83520 w 231480"/>
                <a:gd name="textAreaTop" fmla="*/ 20520 h 792000"/>
                <a:gd name="textAreaBottom" fmla="*/ 77148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520" rIns="92520" tIns="46440" bIns="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Text Box 9"/>
            <p:cNvSpPr/>
            <p:nvPr/>
          </p:nvSpPr>
          <p:spPr>
            <a:xfrm>
              <a:off x="4536360" y="3556440"/>
              <a:ext cx="237996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520" rIns="92520" tIns="46440" bIns="46440" anchor="t">
              <a:spAutoFit/>
            </a:bodyPr>
            <a:p>
              <a:pPr>
                <a:tabLst>
                  <a:tab algn="l" pos="0"/>
                  <a:tab algn="l" pos="927000"/>
                  <a:tab algn="l" pos="1854360"/>
                  <a:tab algn="l" pos="2781360"/>
                  <a:tab algn="l" pos="3708360"/>
                  <a:tab algn="l" pos="4635360"/>
                  <a:tab algn="l" pos="5562720"/>
                  <a:tab algn="l" pos="6489720"/>
                  <a:tab algn="l" pos="7416720"/>
                  <a:tab algn="l" pos="8344080"/>
                  <a:tab algn="l" pos="9271080"/>
                  <a:tab algn="l" pos="10198080"/>
                </a:tabLst>
              </a:pPr>
              <a:r>
                <a:rPr b="0" lang="en-US" sz="1400" spc="-1" strike="noStrike" u="sng">
                  <a:solidFill>
                    <a:srgbClr val="ff0000"/>
                  </a:solidFill>
                  <a:uFillTx/>
                  <a:latin typeface="Arial"/>
                </a:rPr>
                <a:t>Total: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 58 bytes (minimum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Protocol Overhead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simple model (point-to-point), so can expect reduced protocol overh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layers in IrDA protocol stack, overhead per packet/frame i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3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rLAP = 2 by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3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rLMP = 2 by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3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nyTP = 1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perspective, compare to TCP/IP over Etherne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3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hernet = 18 bytes minim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3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 = 20 by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3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P = 20 by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rDA takes advantage of its simpler model, and keeps protocol overhead very l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Date Placeholder 3"/>
          <p:cNvSpPr/>
          <p:nvPr/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Footer Placeholder 4"/>
          <p:cNvSpPr/>
          <p:nvPr/>
        </p:nvSpPr>
        <p:spPr>
          <a:xfrm>
            <a:off x="3166920" y="6329520"/>
            <a:ext cx="2936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Slide Number Placeholder 5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24784FC-DC49-4A44-AE7C-47B172AFA02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Firewire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onnection for high-bandwidth consumer electronic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still and video cameras, MP3 players, digital video rec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1394a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-400 Mbits/sec (800 Mbits/sec with 1394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st consumer devices use 100 Mbits/s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 to 63 devices connected at once on 4.5m c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 to 16 cables can be daisy-chained to 72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ces connect for power as well as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t-swappable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 and isochronous data transf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Date Placeholder 3"/>
          <p:cNvSpPr/>
          <p:nvPr/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Footer Placeholder 4"/>
          <p:cNvSpPr/>
          <p:nvPr/>
        </p:nvSpPr>
        <p:spPr>
          <a:xfrm>
            <a:off x="3166920" y="6329520"/>
            <a:ext cx="2936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Slide Number Placeholder 5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660B280-20C9-4BAB-A6FB-2D332FA14EA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9" name="Picture 5" descr="U2stan01"/>
          <p:cNvPicPr/>
          <p:nvPr/>
        </p:nvPicPr>
        <p:blipFill>
          <a:blip r:embed="rId1"/>
          <a:srcRect l="27743" t="0" r="0" b="0"/>
          <a:stretch/>
        </p:blipFill>
        <p:spPr>
          <a:xfrm>
            <a:off x="6464160" y="1500120"/>
            <a:ext cx="2362320" cy="1690920"/>
          </a:xfrm>
          <a:prstGeom prst="rect">
            <a:avLst/>
          </a:prstGeom>
          <a:ln w="0">
            <a:noFill/>
          </a:ln>
        </p:spPr>
      </p:pic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Firewire Electrical/Mechanical Spec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4408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-6 wires depending on whether device needs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e arran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branch is bandwidth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2" name="Picture 4" descr="firepatha"/>
          <p:cNvPicPr/>
          <p:nvPr/>
        </p:nvPicPr>
        <p:blipFill>
          <a:blip r:embed="rId2"/>
          <a:stretch/>
        </p:blipFill>
        <p:spPr>
          <a:xfrm>
            <a:off x="5194440" y="3335400"/>
            <a:ext cx="3565440" cy="2987640"/>
          </a:xfrm>
          <a:prstGeom prst="rect">
            <a:avLst/>
          </a:prstGeom>
          <a:ln w="0">
            <a:noFill/>
          </a:ln>
        </p:spPr>
      </p:pic>
      <p:sp>
        <p:nvSpPr>
          <p:cNvPr id="1053" name="Rectangle 7"/>
          <p:cNvSpPr/>
          <p:nvPr/>
        </p:nvSpPr>
        <p:spPr>
          <a:xfrm>
            <a:off x="2819520" y="3886200"/>
            <a:ext cx="1066680" cy="533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VC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8"/>
          <p:cNvSpPr/>
          <p:nvPr/>
        </p:nvSpPr>
        <p:spPr>
          <a:xfrm>
            <a:off x="2971800" y="4343400"/>
            <a:ext cx="152280" cy="152280"/>
          </a:xfrm>
          <a:prstGeom prst="rect">
            <a:avLst/>
          </a:pr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9"/>
          <p:cNvSpPr/>
          <p:nvPr/>
        </p:nvSpPr>
        <p:spPr>
          <a:xfrm>
            <a:off x="3276720" y="4343400"/>
            <a:ext cx="152280" cy="152280"/>
          </a:xfrm>
          <a:prstGeom prst="rect">
            <a:avLst/>
          </a:pr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ctangle 10"/>
          <p:cNvSpPr/>
          <p:nvPr/>
        </p:nvSpPr>
        <p:spPr>
          <a:xfrm>
            <a:off x="3581280" y="4343400"/>
            <a:ext cx="152640" cy="152280"/>
          </a:xfrm>
          <a:prstGeom prst="rect">
            <a:avLst/>
          </a:pr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ectangle 11"/>
          <p:cNvSpPr/>
          <p:nvPr/>
        </p:nvSpPr>
        <p:spPr>
          <a:xfrm>
            <a:off x="2209680" y="5181480"/>
            <a:ext cx="1067040" cy="533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mcor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12"/>
          <p:cNvSpPr/>
          <p:nvPr/>
        </p:nvSpPr>
        <p:spPr>
          <a:xfrm>
            <a:off x="2362320" y="5638680"/>
            <a:ext cx="152280" cy="152640"/>
          </a:xfrm>
          <a:prstGeom prst="rect">
            <a:avLst/>
          </a:pr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Rectangle 13"/>
          <p:cNvSpPr/>
          <p:nvPr/>
        </p:nvSpPr>
        <p:spPr>
          <a:xfrm>
            <a:off x="2666880" y="5638680"/>
            <a:ext cx="152640" cy="152640"/>
          </a:xfrm>
          <a:prstGeom prst="rect">
            <a:avLst/>
          </a:pr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Rectangle 14"/>
          <p:cNvSpPr/>
          <p:nvPr/>
        </p:nvSpPr>
        <p:spPr>
          <a:xfrm>
            <a:off x="2971800" y="5638680"/>
            <a:ext cx="152280" cy="152640"/>
          </a:xfrm>
          <a:prstGeom prst="rect">
            <a:avLst/>
          </a:pr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Rectangle 15"/>
          <p:cNvSpPr/>
          <p:nvPr/>
        </p:nvSpPr>
        <p:spPr>
          <a:xfrm>
            <a:off x="3733920" y="5181480"/>
            <a:ext cx="1066680" cy="533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mcor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ectangle 16"/>
          <p:cNvSpPr/>
          <p:nvPr/>
        </p:nvSpPr>
        <p:spPr>
          <a:xfrm>
            <a:off x="3886200" y="5638680"/>
            <a:ext cx="152280" cy="152640"/>
          </a:xfrm>
          <a:prstGeom prst="rect">
            <a:avLst/>
          </a:pr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17"/>
          <p:cNvSpPr/>
          <p:nvPr/>
        </p:nvSpPr>
        <p:spPr>
          <a:xfrm>
            <a:off x="4191120" y="5638680"/>
            <a:ext cx="152280" cy="152640"/>
          </a:xfrm>
          <a:prstGeom prst="rect">
            <a:avLst/>
          </a:pr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18"/>
          <p:cNvSpPr/>
          <p:nvPr/>
        </p:nvSpPr>
        <p:spPr>
          <a:xfrm>
            <a:off x="4495680" y="5638680"/>
            <a:ext cx="152640" cy="152640"/>
          </a:xfrm>
          <a:prstGeom prst="rect">
            <a:avLst/>
          </a:pr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5" name="AutoShape 19"/>
          <p:cNvCxnSpPr>
            <a:stCxn id="1063" idx="2"/>
            <a:endCxn id="1056" idx="2"/>
          </p:cNvCxnSpPr>
          <p:nvPr/>
        </p:nvCxnSpPr>
        <p:spPr>
          <a:xfrm flipV="1" rot="16200000">
            <a:off x="3313800" y="4838040"/>
            <a:ext cx="1296360" cy="610200"/>
          </a:xfrm>
          <a:prstGeom prst="bentConnector3">
            <a:avLst>
              <a:gd name="adj1" fmla="val -17638"/>
            </a:avLst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6" name="AutoShape 20"/>
          <p:cNvCxnSpPr>
            <a:stCxn id="1059" idx="2"/>
            <a:endCxn id="1055" idx="2"/>
          </p:cNvCxnSpPr>
          <p:nvPr/>
        </p:nvCxnSpPr>
        <p:spPr>
          <a:xfrm flipH="1" flipV="1" rot="5400000">
            <a:off x="2399040" y="4838040"/>
            <a:ext cx="1296360" cy="610200"/>
          </a:xfrm>
          <a:prstGeom prst="bentConnector3">
            <a:avLst>
              <a:gd name="adj1" fmla="val -17638"/>
            </a:avLst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7" name="Rectangle 21"/>
          <p:cNvSpPr/>
          <p:nvPr/>
        </p:nvSpPr>
        <p:spPr>
          <a:xfrm>
            <a:off x="1981080" y="3048120"/>
            <a:ext cx="1067040" cy="5331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V Moni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22"/>
          <p:cNvSpPr/>
          <p:nvPr/>
        </p:nvSpPr>
        <p:spPr>
          <a:xfrm>
            <a:off x="2133720" y="3505320"/>
            <a:ext cx="152280" cy="152280"/>
          </a:xfrm>
          <a:prstGeom prst="rect">
            <a:avLst/>
          </a:pr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23"/>
          <p:cNvSpPr/>
          <p:nvPr/>
        </p:nvSpPr>
        <p:spPr>
          <a:xfrm>
            <a:off x="2438280" y="3505320"/>
            <a:ext cx="152640" cy="152280"/>
          </a:xfrm>
          <a:prstGeom prst="rect">
            <a:avLst/>
          </a:pr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24"/>
          <p:cNvSpPr/>
          <p:nvPr/>
        </p:nvSpPr>
        <p:spPr>
          <a:xfrm>
            <a:off x="2743200" y="3505320"/>
            <a:ext cx="152280" cy="152280"/>
          </a:xfrm>
          <a:prstGeom prst="rect">
            <a:avLst/>
          </a:pr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1" name="AutoShape 25"/>
          <p:cNvCxnSpPr>
            <a:stCxn id="1054" idx="2"/>
            <a:endCxn id="1069" idx="2"/>
          </p:cNvCxnSpPr>
          <p:nvPr/>
        </p:nvCxnSpPr>
        <p:spPr>
          <a:xfrm flipV="1" rot="16200000">
            <a:off x="2361960" y="3809160"/>
            <a:ext cx="838800" cy="534240"/>
          </a:xfrm>
          <a:prstGeom prst="bentConnector3">
            <a:avLst>
              <a:gd name="adj1" fmla="val -27264"/>
            </a:avLst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2" name="Rectangle 26"/>
          <p:cNvSpPr/>
          <p:nvPr/>
        </p:nvSpPr>
        <p:spPr>
          <a:xfrm>
            <a:off x="533520" y="3733920"/>
            <a:ext cx="1066680" cy="9144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 with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EE 13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27"/>
          <p:cNvSpPr/>
          <p:nvPr/>
        </p:nvSpPr>
        <p:spPr>
          <a:xfrm>
            <a:off x="685800" y="4572000"/>
            <a:ext cx="152280" cy="152280"/>
          </a:xfrm>
          <a:prstGeom prst="rect">
            <a:avLst/>
          </a:pr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28"/>
          <p:cNvSpPr/>
          <p:nvPr/>
        </p:nvSpPr>
        <p:spPr>
          <a:xfrm>
            <a:off x="990720" y="4572000"/>
            <a:ext cx="152280" cy="152280"/>
          </a:xfrm>
          <a:prstGeom prst="rect">
            <a:avLst/>
          </a:pr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29"/>
          <p:cNvSpPr/>
          <p:nvPr/>
        </p:nvSpPr>
        <p:spPr>
          <a:xfrm>
            <a:off x="1295280" y="4572000"/>
            <a:ext cx="152640" cy="152280"/>
          </a:xfrm>
          <a:prstGeom prst="rect">
            <a:avLst/>
          </a:pr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6" name="AutoShape 30"/>
          <p:cNvCxnSpPr>
            <a:stCxn id="1075" idx="2"/>
            <a:endCxn id="1068" idx="2"/>
          </p:cNvCxnSpPr>
          <p:nvPr/>
        </p:nvCxnSpPr>
        <p:spPr>
          <a:xfrm flipH="1" flipV="1" rot="5400000">
            <a:off x="1257120" y="3771360"/>
            <a:ext cx="1067400" cy="838800"/>
          </a:xfrm>
          <a:prstGeom prst="bentConnector3">
            <a:avLst>
              <a:gd name="adj1" fmla="val -21423"/>
            </a:avLst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7" name="AutoShape 31"/>
          <p:cNvCxnSpPr>
            <a:stCxn id="1078" idx="2"/>
            <a:endCxn id="1073" idx="2"/>
          </p:cNvCxnSpPr>
          <p:nvPr/>
        </p:nvCxnSpPr>
        <p:spPr>
          <a:xfrm flipV="1" rot="16200000">
            <a:off x="380520" y="5104800"/>
            <a:ext cx="1067760" cy="305280"/>
          </a:xfrm>
          <a:prstGeom prst="bentConnector3">
            <a:avLst>
              <a:gd name="adj1" fmla="val -21416"/>
            </a:avLst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9" name="Rectangle 32"/>
          <p:cNvSpPr/>
          <p:nvPr/>
        </p:nvSpPr>
        <p:spPr>
          <a:xfrm>
            <a:off x="838080" y="5181480"/>
            <a:ext cx="1067040" cy="533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EE 1394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d Dr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ctangle 33"/>
          <p:cNvSpPr/>
          <p:nvPr/>
        </p:nvSpPr>
        <p:spPr>
          <a:xfrm>
            <a:off x="990720" y="5638680"/>
            <a:ext cx="152280" cy="152640"/>
          </a:xfrm>
          <a:prstGeom prst="rect">
            <a:avLst/>
          </a:pr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Rectangle 34"/>
          <p:cNvSpPr/>
          <p:nvPr/>
        </p:nvSpPr>
        <p:spPr>
          <a:xfrm>
            <a:off x="1295280" y="5638680"/>
            <a:ext cx="152640" cy="152640"/>
          </a:xfrm>
          <a:prstGeom prst="rect">
            <a:avLst/>
          </a:pr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Rectangle 35"/>
          <p:cNvSpPr/>
          <p:nvPr/>
        </p:nvSpPr>
        <p:spPr>
          <a:xfrm>
            <a:off x="1600200" y="5638680"/>
            <a:ext cx="152280" cy="152640"/>
          </a:xfrm>
          <a:prstGeom prst="rect">
            <a:avLst/>
          </a:pr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Date Placeholder 3"/>
          <p:cNvSpPr/>
          <p:nvPr/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Footer Placeholder 4"/>
          <p:cNvSpPr/>
          <p:nvPr/>
        </p:nvSpPr>
        <p:spPr>
          <a:xfrm>
            <a:off x="3166920" y="6329520"/>
            <a:ext cx="2936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Slide Number Placeholder 5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44C719B-7436-4454-A831-C9CD1AA8E3E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Firewire data format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9000"/>
          </a:bodyPr>
          <a:p>
            <a:pPr marL="344160" indent="-3441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is transferred in addressed packets, and is transaction-ba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fers can be asynchronous or isochrono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transfers are used mainly for bus configuration, setting 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s and handshaking, but are also used for bulk data transfer to and from hard disk drive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chronous transfers are used for transporting time-sensitive data like digital video and a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packets have a 64-bit address hea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bit network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-bit node addr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8 bits for data memory addresses at the receiving 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address 1023 networks of 63 nodes, each with up to 281TB (terabytes) of data addr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3166920" y="6329520"/>
            <a:ext cx="2936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FABED68-04FA-436B-9FF5-4F562AD855E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Speed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-speed, cheap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S-232 1K–20K bits/sec, copper w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-speed efficient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2C 10K-400K bits/sec, board tr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rDA 9.6K-4M bits/sec, line-of-sight, 0.5-6.0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-speed, expensive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B 1.5M bytes/sec, USB2 60M bytes/se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hernet 1.5M-1G bits/sec, twisted-pair or co-ax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ewire 12.5-50M bytes/s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-speed, not too w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SI-2 10M bytes/sec, 8 bits w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I bus, 250M bytes/sec, 32 bits w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MCIA (CF+), 9-10M bytes/sec, 16 bits w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-speed, very wide – memory systems in large multi-proces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M-2G bytes/sec, 128-256 bits w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Date Placeholder 3"/>
          <p:cNvSpPr/>
          <p:nvPr/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Footer Placeholder 4"/>
          <p:cNvSpPr/>
          <p:nvPr/>
        </p:nvSpPr>
        <p:spPr>
          <a:xfrm>
            <a:off x="3166920" y="6329520"/>
            <a:ext cx="2936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Slide Number Placeholder 5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862A640-FE6E-4D33-A04B-0A7919F9DE8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Firewire data format (cont’d)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6000"/>
          </a:bodyPr>
          <a:p>
            <a:pPr marL="333720" indent="-33372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s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device on the bus (usually a P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chronous resource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es bus bandwidth for isochronous data transfers based on time-domain multiplexing (TDM) that guarantees a proportion of the total time slots to each 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5040" indent="-3412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dwidth allocation unit is 20.3ns, 6144 of them in a basic cycle of 125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5040" indent="-3412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us of every cycle is always reserved for asynchronous control data transfers, so a maximum of 4195 units is available for isochronous transf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5040" indent="-3412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a stream from a DV camcorder to a PC or digital VCR might need to be allocated a channel of ~1800 bandwidth units, for about 30Mb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transfers can have multiple data packets per basic cycle, within the 25us reserved for this type of signa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Date Placeholder 3"/>
          <p:cNvSpPr/>
          <p:nvPr/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Footer Placeholder 4"/>
          <p:cNvSpPr/>
          <p:nvPr/>
        </p:nvSpPr>
        <p:spPr>
          <a:xfrm>
            <a:off x="3166920" y="6329520"/>
            <a:ext cx="2936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Slide Number Placeholder 5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63227C3-0068-4C1F-AEC0-343FB7E1912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Firewire signalling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12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-strobe signa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12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s two signals where both change at the sam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12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s noise levels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2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be easily derived at transmi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12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be = Clock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x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2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ck is easily recovered at rece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12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 = Dat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x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ro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6"/>
          <p:cNvSpPr/>
          <p:nvPr/>
        </p:nvSpPr>
        <p:spPr>
          <a:xfrm flipV="1">
            <a:off x="6095880" y="4572000"/>
            <a:ext cx="76320" cy="38088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7"/>
          <p:cNvSpPr/>
          <p:nvPr/>
        </p:nvSpPr>
        <p:spPr>
          <a:xfrm>
            <a:off x="6172200" y="4572000"/>
            <a:ext cx="22860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8"/>
          <p:cNvSpPr/>
          <p:nvPr/>
        </p:nvSpPr>
        <p:spPr>
          <a:xfrm>
            <a:off x="6400800" y="4572000"/>
            <a:ext cx="76320" cy="38088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9"/>
          <p:cNvSpPr/>
          <p:nvPr/>
        </p:nvSpPr>
        <p:spPr>
          <a:xfrm>
            <a:off x="6477120" y="4952880"/>
            <a:ext cx="22860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Line 10"/>
          <p:cNvSpPr/>
          <p:nvPr/>
        </p:nvSpPr>
        <p:spPr>
          <a:xfrm flipV="1">
            <a:off x="6705720" y="4572000"/>
            <a:ext cx="75960" cy="38088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11"/>
          <p:cNvSpPr/>
          <p:nvPr/>
        </p:nvSpPr>
        <p:spPr>
          <a:xfrm>
            <a:off x="6781680" y="4572000"/>
            <a:ext cx="304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12"/>
          <p:cNvSpPr/>
          <p:nvPr/>
        </p:nvSpPr>
        <p:spPr>
          <a:xfrm>
            <a:off x="7086600" y="4572000"/>
            <a:ext cx="22860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13"/>
          <p:cNvSpPr/>
          <p:nvPr/>
        </p:nvSpPr>
        <p:spPr>
          <a:xfrm>
            <a:off x="7315200" y="4572000"/>
            <a:ext cx="76320" cy="38088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14"/>
          <p:cNvSpPr/>
          <p:nvPr/>
        </p:nvSpPr>
        <p:spPr>
          <a:xfrm>
            <a:off x="7391520" y="4952880"/>
            <a:ext cx="22860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15"/>
          <p:cNvSpPr/>
          <p:nvPr/>
        </p:nvSpPr>
        <p:spPr>
          <a:xfrm flipV="1">
            <a:off x="7620120" y="4572000"/>
            <a:ext cx="75960" cy="38088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16"/>
          <p:cNvSpPr/>
          <p:nvPr/>
        </p:nvSpPr>
        <p:spPr>
          <a:xfrm>
            <a:off x="7696080" y="4572000"/>
            <a:ext cx="304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17"/>
          <p:cNvSpPr/>
          <p:nvPr/>
        </p:nvSpPr>
        <p:spPr>
          <a:xfrm>
            <a:off x="7924680" y="4572000"/>
            <a:ext cx="304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18"/>
          <p:cNvSpPr/>
          <p:nvPr/>
        </p:nvSpPr>
        <p:spPr>
          <a:xfrm>
            <a:off x="8229600" y="4572000"/>
            <a:ext cx="76320" cy="38088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22"/>
          <p:cNvSpPr/>
          <p:nvPr/>
        </p:nvSpPr>
        <p:spPr>
          <a:xfrm>
            <a:off x="6095880" y="5486400"/>
            <a:ext cx="91440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23"/>
          <p:cNvSpPr/>
          <p:nvPr/>
        </p:nvSpPr>
        <p:spPr>
          <a:xfrm flipV="1">
            <a:off x="7010280" y="5105520"/>
            <a:ext cx="76320" cy="38088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24"/>
          <p:cNvSpPr/>
          <p:nvPr/>
        </p:nvSpPr>
        <p:spPr>
          <a:xfrm>
            <a:off x="7086600" y="5105520"/>
            <a:ext cx="83808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25"/>
          <p:cNvSpPr/>
          <p:nvPr/>
        </p:nvSpPr>
        <p:spPr>
          <a:xfrm>
            <a:off x="7924680" y="5105520"/>
            <a:ext cx="76320" cy="38088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26"/>
          <p:cNvSpPr/>
          <p:nvPr/>
        </p:nvSpPr>
        <p:spPr>
          <a:xfrm>
            <a:off x="8001000" y="5486400"/>
            <a:ext cx="304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27"/>
          <p:cNvSpPr/>
          <p:nvPr/>
        </p:nvSpPr>
        <p:spPr>
          <a:xfrm flipV="1">
            <a:off x="6095880" y="5638320"/>
            <a:ext cx="76320" cy="38124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28"/>
          <p:cNvSpPr/>
          <p:nvPr/>
        </p:nvSpPr>
        <p:spPr>
          <a:xfrm>
            <a:off x="6172200" y="5638680"/>
            <a:ext cx="22860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29"/>
          <p:cNvSpPr/>
          <p:nvPr/>
        </p:nvSpPr>
        <p:spPr>
          <a:xfrm>
            <a:off x="6400800" y="5638680"/>
            <a:ext cx="76320" cy="38124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30"/>
          <p:cNvSpPr/>
          <p:nvPr/>
        </p:nvSpPr>
        <p:spPr>
          <a:xfrm>
            <a:off x="6477120" y="6019920"/>
            <a:ext cx="22860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31"/>
          <p:cNvSpPr/>
          <p:nvPr/>
        </p:nvSpPr>
        <p:spPr>
          <a:xfrm flipV="1">
            <a:off x="6705720" y="5638320"/>
            <a:ext cx="75960" cy="38124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32"/>
          <p:cNvSpPr/>
          <p:nvPr/>
        </p:nvSpPr>
        <p:spPr>
          <a:xfrm>
            <a:off x="6781680" y="5638680"/>
            <a:ext cx="22860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33"/>
          <p:cNvSpPr/>
          <p:nvPr/>
        </p:nvSpPr>
        <p:spPr>
          <a:xfrm>
            <a:off x="7010280" y="5638680"/>
            <a:ext cx="76320" cy="38124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34"/>
          <p:cNvSpPr/>
          <p:nvPr/>
        </p:nvSpPr>
        <p:spPr>
          <a:xfrm>
            <a:off x="7086600" y="6019920"/>
            <a:ext cx="22860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35"/>
          <p:cNvSpPr/>
          <p:nvPr/>
        </p:nvSpPr>
        <p:spPr>
          <a:xfrm flipV="1">
            <a:off x="7315200" y="5638320"/>
            <a:ext cx="76320" cy="38124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36"/>
          <p:cNvSpPr/>
          <p:nvPr/>
        </p:nvSpPr>
        <p:spPr>
          <a:xfrm>
            <a:off x="7391520" y="5638680"/>
            <a:ext cx="22860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37"/>
          <p:cNvSpPr/>
          <p:nvPr/>
        </p:nvSpPr>
        <p:spPr>
          <a:xfrm>
            <a:off x="7620120" y="5638680"/>
            <a:ext cx="75960" cy="38124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38"/>
          <p:cNvSpPr/>
          <p:nvPr/>
        </p:nvSpPr>
        <p:spPr>
          <a:xfrm>
            <a:off x="7696080" y="6019920"/>
            <a:ext cx="22860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39"/>
          <p:cNvSpPr/>
          <p:nvPr/>
        </p:nvSpPr>
        <p:spPr>
          <a:xfrm flipV="1">
            <a:off x="7924680" y="5638320"/>
            <a:ext cx="76320" cy="38124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Line 40"/>
          <p:cNvSpPr/>
          <p:nvPr/>
        </p:nvSpPr>
        <p:spPr>
          <a:xfrm>
            <a:off x="8001000" y="5638680"/>
            <a:ext cx="22860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Line 41"/>
          <p:cNvSpPr/>
          <p:nvPr/>
        </p:nvSpPr>
        <p:spPr>
          <a:xfrm>
            <a:off x="8229600" y="5638680"/>
            <a:ext cx="76320" cy="38124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 Box 43"/>
          <p:cNvSpPr/>
          <p:nvPr/>
        </p:nvSpPr>
        <p:spPr>
          <a:xfrm>
            <a:off x="5107680" y="4343400"/>
            <a:ext cx="852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b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Line 44"/>
          <p:cNvSpPr/>
          <p:nvPr/>
        </p:nvSpPr>
        <p:spPr>
          <a:xfrm>
            <a:off x="6095880" y="4191120"/>
            <a:ext cx="0" cy="213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Line 45"/>
          <p:cNvSpPr/>
          <p:nvPr/>
        </p:nvSpPr>
        <p:spPr>
          <a:xfrm>
            <a:off x="6400800" y="4191120"/>
            <a:ext cx="0" cy="213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Line 46"/>
          <p:cNvSpPr/>
          <p:nvPr/>
        </p:nvSpPr>
        <p:spPr>
          <a:xfrm>
            <a:off x="6705720" y="4191120"/>
            <a:ext cx="0" cy="213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Line 47"/>
          <p:cNvSpPr/>
          <p:nvPr/>
        </p:nvSpPr>
        <p:spPr>
          <a:xfrm>
            <a:off x="7010280" y="4191120"/>
            <a:ext cx="0" cy="213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Line 48"/>
          <p:cNvSpPr/>
          <p:nvPr/>
        </p:nvSpPr>
        <p:spPr>
          <a:xfrm>
            <a:off x="7315200" y="4191120"/>
            <a:ext cx="0" cy="213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Line 49"/>
          <p:cNvSpPr/>
          <p:nvPr/>
        </p:nvSpPr>
        <p:spPr>
          <a:xfrm>
            <a:off x="7620120" y="4191120"/>
            <a:ext cx="0" cy="213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Line 50"/>
          <p:cNvSpPr/>
          <p:nvPr/>
        </p:nvSpPr>
        <p:spPr>
          <a:xfrm>
            <a:off x="7924680" y="4191120"/>
            <a:ext cx="0" cy="213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Line 51"/>
          <p:cNvSpPr/>
          <p:nvPr/>
        </p:nvSpPr>
        <p:spPr>
          <a:xfrm>
            <a:off x="8229600" y="4191120"/>
            <a:ext cx="0" cy="213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 Box 52"/>
          <p:cNvSpPr/>
          <p:nvPr/>
        </p:nvSpPr>
        <p:spPr>
          <a:xfrm>
            <a:off x="6120720" y="3886200"/>
            <a:ext cx="20934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   0   1   1   0   1   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Date Placeholder 3"/>
          <p:cNvSpPr/>
          <p:nvPr/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Footer Placeholder 4"/>
          <p:cNvSpPr/>
          <p:nvPr/>
        </p:nvSpPr>
        <p:spPr>
          <a:xfrm>
            <a:off x="3166920" y="6329520"/>
            <a:ext cx="2936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Slide Number Placeholder 5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C0C8EC1-E716-4AE1-A124-760E8D8C781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Serial Peripheral Interface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12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on serial interface on many microcontro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2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e 8-bit exchange between two de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12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 initiates transfer and generates clock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12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ave device selected by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2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-byte at a time transf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12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protocols are defined by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12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be in agreement across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Date Placeholder 3"/>
          <p:cNvSpPr/>
          <p:nvPr/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Footer Placeholder 4"/>
          <p:cNvSpPr/>
          <p:nvPr/>
        </p:nvSpPr>
        <p:spPr>
          <a:xfrm>
            <a:off x="3166920" y="6329520"/>
            <a:ext cx="2936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Slide Number Placeholder 5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35BEFE8-1A87-4878-ADC4-A5C076606D7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SPI Block Diagram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-bits transferred in each direction every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ter generates c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ft enable used to select one of many sl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0" name="Picture 4" descr=""/>
          <p:cNvPicPr/>
          <p:nvPr/>
        </p:nvPicPr>
        <p:blipFill>
          <a:blip r:embed="rId1"/>
          <a:srcRect l="28335" t="43417" r="8332" b="25859"/>
          <a:stretch/>
        </p:blipFill>
        <p:spPr>
          <a:xfrm>
            <a:off x="1130400" y="3549600"/>
            <a:ext cx="701028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63680" y="307800"/>
            <a:ext cx="7981920" cy="849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MSP430 USART (larger MSPs)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52" name="Picture 5" descr="D:\Pumpkin\Salvo Secrets\doc\Images\press\msp430f169-UARTBD.gif"/>
          <p:cNvPicPr/>
          <p:nvPr/>
        </p:nvPicPr>
        <p:blipFill>
          <a:blip r:embed="rId1"/>
          <a:stretch/>
        </p:blipFill>
        <p:spPr>
          <a:xfrm>
            <a:off x="2044800" y="1111320"/>
            <a:ext cx="552456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Picture 7" descr="f10-08-H8276.jpg"/>
          <p:cNvPicPr/>
          <p:nvPr/>
        </p:nvPicPr>
        <p:blipFill>
          <a:blip r:embed="rId1"/>
          <a:stretch/>
        </p:blipFill>
        <p:spPr>
          <a:xfrm>
            <a:off x="3492360" y="1263600"/>
            <a:ext cx="5334120" cy="3645000"/>
          </a:xfrm>
          <a:prstGeom prst="rect">
            <a:avLst/>
          </a:prstGeom>
          <a:ln w="0">
            <a:noFill/>
          </a:ln>
        </p:spPr>
      </p:pic>
      <p:sp>
        <p:nvSpPr>
          <p:cNvPr id="1154" name="Date Placeholder 3"/>
          <p:cNvSpPr/>
          <p:nvPr/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Footer Placeholder 4"/>
          <p:cNvSpPr/>
          <p:nvPr/>
        </p:nvSpPr>
        <p:spPr>
          <a:xfrm>
            <a:off x="3166920" y="6329520"/>
            <a:ext cx="2936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Slide Number Placeholder 5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85C3DA5-7735-4953-9F7C-753C859E6C1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SPI on the MS430 USART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348588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caler f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ock r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rupt 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eive and on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nd comple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XMT and RCV are separate regis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63320" y="307800"/>
            <a:ext cx="6180120" cy="849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MSP430F2013  USI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60" name="Picture 3" descr="f10-05-H8276.jpg"/>
          <p:cNvPicPr/>
          <p:nvPr/>
        </p:nvPicPr>
        <p:blipFill>
          <a:blip r:embed="rId1"/>
          <a:stretch/>
        </p:blipFill>
        <p:spPr>
          <a:xfrm>
            <a:off x="825480" y="1187280"/>
            <a:ext cx="7597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Date Placeholder 2"/>
          <p:cNvSpPr/>
          <p:nvPr/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ooter Placeholder 3"/>
          <p:cNvSpPr/>
          <p:nvPr/>
        </p:nvSpPr>
        <p:spPr>
          <a:xfrm>
            <a:off x="3166920" y="6329520"/>
            <a:ext cx="2936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Slide Number Placeholder 4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1E48D28-0294-4143-8DF7-0094CA965C5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Using SPI as a Master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596880" y="10350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 MSP430F20x2/3 Demo - SPI full-Duplex 3-wire 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 Description: SPI Master communicates full-duplex with SPI Slave u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 3-wire mode. The level on P1.4 is TX'ed and RX'ed to P1.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 Master will pulse slave reset for synch sta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 ACLK = n/a, MCLK = SMCLK = Default D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               Slave                      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              MSP430F20x2/3              MSP430F20x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            -----------------          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           |              XIN|-    /|\|              XIN|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           |                 |      | |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           |             XOUT|-     --|RST          XOUT|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           |                 | /|\    |    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           |          RST/NMI|--+&lt;----|P1.2 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     LED &lt;-|P1.0             |        |             P1.4|&lt;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         -&gt;|P1.4             |        |             P1.0|-&gt; 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           |         SDI/P1.7|&lt;-------|P1.6/SDO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           |         SDO/P1.6|-------&gt;|P1.7/SDI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           |        SCLK/P1.5|&lt;-------|P1.5/SCLK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Date Placeholder 2"/>
          <p:cNvSpPr/>
          <p:nvPr/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Footer Placeholder 3"/>
          <p:cNvSpPr/>
          <p:nvPr/>
        </p:nvSpPr>
        <p:spPr>
          <a:xfrm>
            <a:off x="3166920" y="6329520"/>
            <a:ext cx="2936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Slide Number Placeholder 4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8ABA8CC-8B5A-41BE-9894-E042A323F6C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Using SPI as a Master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130400" y="118728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lnSpc>
                <a:spcPct val="60000"/>
              </a:lnSpc>
              <a:spcBef>
                <a:spcPts val="275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#include &lt;msp430x20x3.h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275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275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void main(voi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275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275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volatile unsigned int i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275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275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WDTCTL = WDTPW + WDTHOLD;             // Stop watchdog tim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275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P1OUT =  0x10;                        // P1.4 set, else res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275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P1REN |= 0x10;                        // P1.4 pullu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275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P1DIR = 0x01;                         // P1.0 output, else inpu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275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USICTL0 |= USIPE7 +  USIPE6 + USIPE5 + USIMST + USIOE; // Port, SPI mas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275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USICTL1 |= USIIE;                     // Counter interrupt, flag remains s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275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USICKCTL = USIDIV_4 + USISSEL_2;      // /16 SMCL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275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USICTL0 &amp;= ~USISWRST;                 // USI released for ope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275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USISRL = P1IN;                        // init-load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275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275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P1DIR |= 0x04;                        // Reset Slav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275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P1DIR &amp;= ~0x04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275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for (i = 0xFFF; i &gt; 0; i--);          // Time for slave to read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275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USICNT = 8;                           // init-load cou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275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_BIS_SR(LPM0_bits + GIE);             // Enter LPM0 w/ interru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275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275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275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// USI interrupt service routi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275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#pragma vector=USI_VECT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275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__interrupt void universal_serial_interface(voi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275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275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if (0x10 &amp; USISR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275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P1OUT |= 0x0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275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275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P1OUT &amp;= ~0x0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275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USISRL = P1I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275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USICNT = 8;                           // re-load cou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275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Date Placeholder 2"/>
          <p:cNvSpPr/>
          <p:nvPr/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Footer Placeholder 3"/>
          <p:cNvSpPr/>
          <p:nvPr/>
        </p:nvSpPr>
        <p:spPr>
          <a:xfrm>
            <a:off x="3166920" y="6329520"/>
            <a:ext cx="2936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Slide Number Placeholder 4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2C37016-8025-4CDA-9466-A2070F6B8E0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Using SPI as a Slave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1130400" y="118728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include &lt;msp430x20x3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main(voi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DTCTL = WDTPW + WDTHOLD;             // Stop watchdog t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1OUT =  0x10;                        // P1.4 set, else 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1REN |= 0x10;                        // P1.4 pull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1DIR = 0x01;                         // P1.0 output, else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SICTL0 |= USIPE7 + USIPE6 + USIPE5 + USIOE; // Port, SPI sl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SICTL1 |= USIIE;                     // Counter interrupt, flag remains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SICTL0 &amp;= ~USISWRST;                 // USI released for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SISRL = P1IN;                        // init-loa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SICNT = 8;                           // init-load cou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_BIS_SR(LPM0_bits + GIE);             // Enter LPM0 w/ interru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USI interrupt service rout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pragma vector=USI_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__interrupt void universal_serial_interface(voi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0x10 &amp; USISR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1OUT |= 0x0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1OUT &amp;= ~0x0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SISRL = P1I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SICNT = 8;                           // re-load cou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3166920" y="6329520"/>
            <a:ext cx="2936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2685416-5A51-4B38-A225-212A9A6CADD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Speed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13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 of the wires (attenuation, noise, capacit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13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ors (conductors and/or transduc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13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ironment (RF/IR interference, noi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13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switching (spikes on supply volt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13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and types of wires (cost of connectors, cross-tal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13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-control (if communicating device can’t keep 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Date Placeholder 3"/>
          <p:cNvSpPr/>
          <p:nvPr/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Footer Placeholder 4"/>
          <p:cNvSpPr/>
          <p:nvPr/>
        </p:nvSpPr>
        <p:spPr>
          <a:xfrm>
            <a:off x="3166920" y="6329520"/>
            <a:ext cx="2936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Slide Number Placeholder 5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3149004-2B57-475E-9526-DE7F1838D89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Data Payload on SPI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ata is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exchanged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between master and slav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 always initi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need to poll slave (or interrupt-driv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cide on how many bytes of data have to move in each direc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 the maximum for both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ide may get more than it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cide on format of bytes in packe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ing byte and/or ending by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they be distinguished from data in paylo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gth information or fixed siz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PI buff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into buffer, specify length, master sends it out, gets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data arrives at slave, slave interrupted, provides data to go to master, reads data from master in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Date Placeholder 3"/>
          <p:cNvSpPr/>
          <p:nvPr/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3166920" y="6329520"/>
            <a:ext cx="2936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2922CB0-F595-4A80-91CC-D97CE6D2A1B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Universal Serial Bus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necting peripherals to P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se-of-u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w-cos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 to 127 devices (optionally powered through bu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fer rates up to 480 Mb/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 speeds and packet si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support for real-time data for voice, audio, and vi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 flexibility for mixed-mode isochronous data transfers and asynchronous mess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C manages bus and allocates slots (host controll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have multiple host controllers on one 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more devices than 1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Date Placeholder 2"/>
          <p:cNvSpPr/>
          <p:nvPr/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Footer Placeholder 3"/>
          <p:cNvSpPr/>
          <p:nvPr/>
        </p:nvSpPr>
        <p:spPr>
          <a:xfrm>
            <a:off x="3166920" y="6329520"/>
            <a:ext cx="2936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Slide Number Placeholder 4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D7E7407-7117-4902-99F5-D2FA071EC01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USB Peripherals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90" name="Picture 4" descr=""/>
          <p:cNvPicPr/>
          <p:nvPr/>
        </p:nvPicPr>
        <p:blipFill>
          <a:blip r:embed="rId1"/>
          <a:srcRect l="39711" t="19421" r="3971" b="15841"/>
          <a:stretch/>
        </p:blipFill>
        <p:spPr>
          <a:xfrm>
            <a:off x="1739880" y="1111320"/>
            <a:ext cx="59436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Date Placeholder 3"/>
          <p:cNvSpPr/>
          <p:nvPr/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Footer Placeholder 4"/>
          <p:cNvSpPr/>
          <p:nvPr/>
        </p:nvSpPr>
        <p:spPr>
          <a:xfrm>
            <a:off x="3166920" y="6329520"/>
            <a:ext cx="2936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Slide Number Placeholder 5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11AC444-4401-414F-9A61-F9438E5AB22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USB 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ee of devic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one root control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6" name="Picture 5" descr=""/>
          <p:cNvPicPr/>
          <p:nvPr/>
        </p:nvPicPr>
        <p:blipFill>
          <a:blip r:embed="rId1"/>
          <a:srcRect l="39110" t="19421" r="11913" b="17690"/>
          <a:stretch/>
        </p:blipFill>
        <p:spPr>
          <a:xfrm>
            <a:off x="3797280" y="958680"/>
            <a:ext cx="51688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Date Placeholder 3"/>
          <p:cNvSpPr/>
          <p:nvPr/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Footer Placeholder 4"/>
          <p:cNvSpPr/>
          <p:nvPr/>
        </p:nvSpPr>
        <p:spPr>
          <a:xfrm>
            <a:off x="3166920" y="6329520"/>
            <a:ext cx="2936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Slide Number Placeholder 5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E510320-434F-4823-87EB-C22BF1A51A0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USB Data Transfer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5914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transfer spee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 is &lt;0.8v, high is &gt;2.0v different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80Mb/sec, 12Mb/sec, 1.5Mb/se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NRZI encoded (data and clock on one wi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NC at beginning of every pack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2" name="Picture 4" descr=""/>
          <p:cNvPicPr/>
          <p:nvPr/>
        </p:nvPicPr>
        <p:blipFill>
          <a:blip r:embed="rId1"/>
          <a:srcRect l="36825" t="40694" r="10470" b="39886"/>
          <a:stretch/>
        </p:blipFill>
        <p:spPr>
          <a:xfrm>
            <a:off x="1968480" y="4235400"/>
            <a:ext cx="5562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Date Placeholder 3"/>
          <p:cNvSpPr/>
          <p:nvPr/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Footer Placeholder 4"/>
          <p:cNvSpPr/>
          <p:nvPr/>
        </p:nvSpPr>
        <p:spPr>
          <a:xfrm>
            <a:off x="3166920" y="6329520"/>
            <a:ext cx="2936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Slide Number Placeholder 5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29EB2F5-CBCC-4BB6-854C-35592BC75DD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NRZI Encoding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RZI – Non-return to zero invert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ggles a signal to transmit a “0” and leaves the signal unchanged for a “1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called transition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string of 0s generates a regular waveform with a frequency half the bit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string of 1s generates a flat waveform – bit stuff a 0 every 6 consecutive 1s  to guarantee activity on wave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8" name="Picture 4" descr=""/>
          <p:cNvPicPr/>
          <p:nvPr/>
        </p:nvPicPr>
        <p:blipFill>
          <a:blip r:embed="rId1"/>
          <a:srcRect l="31127" t="32430" r="5299" b="51409"/>
          <a:stretch/>
        </p:blipFill>
        <p:spPr>
          <a:xfrm>
            <a:off x="977760" y="4768920"/>
            <a:ext cx="731520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Date Placeholder 2"/>
          <p:cNvSpPr/>
          <p:nvPr/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Footer Placeholder 3"/>
          <p:cNvSpPr/>
          <p:nvPr/>
        </p:nvSpPr>
        <p:spPr>
          <a:xfrm>
            <a:off x="3166920" y="6329520"/>
            <a:ext cx="2936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Slide Number Placeholder 4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0417F8B-C47A-48A0-8ACA-62B9CB5641A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NRZI Encoding (cont’d)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13" name="Picture 4" descr=""/>
          <p:cNvPicPr/>
          <p:nvPr/>
        </p:nvPicPr>
        <p:blipFill>
          <a:blip r:embed="rId1"/>
          <a:srcRect l="34440" t="41620" r="7286" b="32487"/>
          <a:stretch/>
        </p:blipFill>
        <p:spPr>
          <a:xfrm>
            <a:off x="444600" y="1263600"/>
            <a:ext cx="8458200" cy="2691000"/>
          </a:xfrm>
          <a:prstGeom prst="rect">
            <a:avLst/>
          </a:prstGeom>
          <a:ln w="0">
            <a:noFill/>
          </a:ln>
        </p:spPr>
      </p:pic>
      <p:pic>
        <p:nvPicPr>
          <p:cNvPr id="1214" name="Picture 5" descr=""/>
          <p:cNvPicPr/>
          <p:nvPr/>
        </p:nvPicPr>
        <p:blipFill>
          <a:blip r:embed="rId2"/>
          <a:srcRect l="23488" t="59631" r="9772" b="16561"/>
          <a:stretch/>
        </p:blipFill>
        <p:spPr>
          <a:xfrm>
            <a:off x="4406760" y="4568760"/>
            <a:ext cx="4419720" cy="1724040"/>
          </a:xfrm>
          <a:prstGeom prst="rect">
            <a:avLst/>
          </a:prstGeom>
          <a:ln w="0">
            <a:noFill/>
          </a:ln>
        </p:spPr>
      </p:pic>
      <p:pic>
        <p:nvPicPr>
          <p:cNvPr id="1215" name="Picture 6" descr=""/>
          <p:cNvPicPr/>
          <p:nvPr/>
        </p:nvPicPr>
        <p:blipFill>
          <a:blip r:embed="rId3"/>
          <a:srcRect l="23488" t="34955" r="19539" b="45704"/>
          <a:stretch/>
        </p:blipFill>
        <p:spPr>
          <a:xfrm>
            <a:off x="291960" y="4540320"/>
            <a:ext cx="381024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Date Placeholder 3"/>
          <p:cNvSpPr/>
          <p:nvPr/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Footer Placeholder 4"/>
          <p:cNvSpPr/>
          <p:nvPr/>
        </p:nvSpPr>
        <p:spPr>
          <a:xfrm>
            <a:off x="3166920" y="6329520"/>
            <a:ext cx="2936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Slide Number Placeholder 5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1E50C72-DA93-4A1F-9C3A-46116C7E3BE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USB Data Transfer Types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ntrol Transfers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configure a device at attach time and can be used for other device-specific purposes, including control of other pipes on the dev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ulk Data Transfers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d or consumed in relatively large and bursty quantities and have wide dynamic latitude in transmission constra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terrupt Data Transfers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for timely but reliable delivery of data, for example, characters or coordinates with human-perceptible echo or feedback response characteris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sochronous Data Transfers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cupy a prenegotiated amount of USB bandwidth with a prenegotiated delivery latency. (Also called streaming real time transf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Date Placeholder 3"/>
          <p:cNvSpPr/>
          <p:nvPr/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Footer Placeholder 4"/>
          <p:cNvSpPr/>
          <p:nvPr/>
        </p:nvSpPr>
        <p:spPr>
          <a:xfrm>
            <a:off x="3166920" y="6329520"/>
            <a:ext cx="2936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Slide Number Placeholder 5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6E07F11-1653-4DCF-8C64-04B58A0DA57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USB Packet Format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nc + PID + data + CR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ic data packe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nc: 8 bits (0000000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ID: 8 bits (packet id – typ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: 8-8192 bits (1K byt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C: 16 bits (cyclic redundancy check su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data packets vary in si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 be as short as only 8 bits of P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Date Placeholder 3"/>
          <p:cNvSpPr/>
          <p:nvPr/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Footer Placeholder 4"/>
          <p:cNvSpPr/>
          <p:nvPr/>
        </p:nvSpPr>
        <p:spPr>
          <a:xfrm>
            <a:off x="3166920" y="6329520"/>
            <a:ext cx="2936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Slide Number Placeholder 5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EE4CDED-AD4C-4751-9DFC-49264EB6168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USB Protocol Stack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TDI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B chip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ght s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physical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ic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rough S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Picture 4" descr=""/>
          <p:cNvPicPr/>
          <p:nvPr/>
        </p:nvPicPr>
        <p:blipFill>
          <a:blip r:embed="rId1"/>
          <a:srcRect l="47656" t="39772" r="14080" b="20465"/>
          <a:stretch/>
        </p:blipFill>
        <p:spPr>
          <a:xfrm>
            <a:off x="2793960" y="1187280"/>
            <a:ext cx="64771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3166920" y="6329520"/>
            <a:ext cx="2936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D4FFCF9-9FE4-4BBA-97CC-F7BDDA976A2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Timing methodology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11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11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 wires (no clo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11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kew conc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11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ization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11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priate for loosely-coupled systems (CPU and periphera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11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in serial sche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1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11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 wires and skew conc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11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ynchronization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11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high-speed if delays are small and can be contro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11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priate for tightly-couple systems (CPU and memory/dis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11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in parallel sche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Date Placeholder 3"/>
          <p:cNvSpPr/>
          <p:nvPr/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Footer Placeholder 4"/>
          <p:cNvSpPr/>
          <p:nvPr/>
        </p:nvSpPr>
        <p:spPr>
          <a:xfrm>
            <a:off x="3166920" y="6329520"/>
            <a:ext cx="2936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Slide Number Placeholder 5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9E1AF08-F758-4609-9042-E12B3A8C282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More Communication Later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pular radio frequency protoc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’ll discuss after looking at wireless sens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CMCIA/CompactFlas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pular parallel bus protoc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’ll discuss (time permitting) at end of quar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3166920" y="6329520"/>
            <a:ext cx="2936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0ED5AA3-8FCC-446A-A251-D0F5E2B8E7C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Timing methodology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12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12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 period and wire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12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ization and sk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12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ding of timing and data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12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sha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12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-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12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consum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3"/>
          <p:cNvSpPr/>
          <p:nvPr/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3166920" y="6329520"/>
            <a:ext cx="2936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5A447B1-1BFC-4DED-9229-4851C0FA2EC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Number of devices communicating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3320" y="16347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source – single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-to-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ap connections, no tri-stating 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source – multiple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nout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ing scheme to direct data to one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source – multiple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tion between sen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-stating capability is 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ision dete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ing 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ity 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rness consid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3"/>
          <p:cNvSpPr/>
          <p:nvPr/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3166920" y="6329520"/>
            <a:ext cx="2936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5"/>
          <p:cNvSpPr/>
          <p:nvPr/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E37CDDA-3106-402A-BE7D-D1AD374EA34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Arbitration schemes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0720" y="1417680"/>
            <a:ext cx="8305920" cy="50767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isy-chain or token pa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ces either act or pass to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ed priorit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many wires as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rness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 to central arb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 arbiter implements priority 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s from/to each device can be cos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dynamically changing priority/fair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central arb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set of wires (or ether) observed by all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ed priority/fairness 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1T22:41:30Z</dcterms:created>
  <dc:creator>Gaetano Borriello</dc:creator>
  <dc:description/>
  <cp:keywords/>
  <dc:language>en-US</dc:language>
  <cp:lastModifiedBy>Bruce Hemingway</cp:lastModifiedBy>
  <cp:lastPrinted>1999-10-13T17:15:14Z</cp:lastPrinted>
  <dcterms:modified xsi:type="dcterms:W3CDTF">2010-11-03T17:22:29Z</dcterms:modified>
  <cp:revision>55</cp:revision>
  <dc:subject/>
  <dc:title>Transfer mod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education/courses/cse477/Winter98/</vt:lpwstr>
  </property>
  <property fmtid="{D5CDD505-2E9C-101B-9397-08002B2CF9AE}" pid="9" name="LinkColor">
    <vt:r8>16711782</vt:r8>
  </property>
  <property fmtid="{D5CDD505-2E9C-101B-9397-08002B2CF9AE}" pid="10" name="MailAddress">
    <vt:lpwstr>cse477-webmaster@cs.washington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gaetano\Classes\cse477_w98\web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