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7672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1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38040" y="725400"/>
            <a:ext cx="4833720" cy="36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1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7672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1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F4702A-DF12-452C-A274-86B089DF245A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17672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0CE27B4-1658-437F-AF6A-0DF1DEBE82A6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17672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17672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29C9210-03C1-480D-9B38-D107A554D43A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17672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17672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374B498-5C39-4DFE-9687-FE7D645E67F3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17672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17672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2F2CBE-D94B-4160-8227-D8D7770BE8D7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7672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17672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CBF52D3-A1A0-48BA-8F5E-2A89044136BE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17672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F86-6EBF-459B-BEC9-681B7BC4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072-E0C8-4911-B1C9-9FF0733B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133-F526-43C7-866B-890F3AAD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2E8-D8D6-4ACB-A15E-D93EB98B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7682-48E6-47FF-A2DF-FE9F6770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11DB-4F78-425D-872F-46284218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70F4-30BE-4037-AA3A-3C4D294B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613A-7E0F-445C-A319-FB41944B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643F-7858-4168-AC06-87F25A13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84D4-909F-4740-A68E-46FA33FA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71CC-B6B9-4CEE-A027-FC8BFA0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0E9-B815-42D0-836F-08B1859A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E486-0D7F-474E-AE5C-6012CDD1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B6FC-B7DB-49F8-87F4-0A59404A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10E3-C97A-4837-9A72-3F234F27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C4F7-1F21-4DBB-8AD7-1835442C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1A58-0954-4F89-AF62-DC43AA16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366-7C26-4E83-96D7-E6F8E553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634-1C67-490F-8A14-30331EF6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BC0-B99B-42AF-A075-43BC5C2C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2E3-5676-4135-AE5F-6F77322E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D77-7C43-43F8-BE93-0F0CC48B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822-0DA4-42A6-B95B-F0D33C54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40C-AA13-406E-A93B-68B0C9F4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EBF8-87E7-4264-AE8A-B58766727E64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F64E-251E-4BFE-93A4-A09DBE27674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concept in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execution of a program to “handle” an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have to rely on program relinquishing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ode program without worrying about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interrupt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the code that knows what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does it take to handle interrup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n interruption be, in turn, interrup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e interrupt handling code communicate its resul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data shared between interrupt handlers and progra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E34-CA27-46F7-BB12-03D9059BC0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hain of Events on Interrup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executing current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all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 program counter on to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interrupt vector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start of complete I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ny context that ISR may otherwis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and flags must be saved within ISR and restored before it returns –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s is very import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nable interrupts if nested interrupt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ISR’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nable interrupts upon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back to next instruction before inte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17960" y="1666800"/>
            <a:ext cx="260028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338720" y="2065320"/>
            <a:ext cx="3189240" cy="89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6080" y="5172120"/>
            <a:ext cx="260028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423120" y="5570280"/>
            <a:ext cx="912600" cy="28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36600" y="1906560"/>
            <a:ext cx="119556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43640" y="5411880"/>
            <a:ext cx="70200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R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29000" y="3070080"/>
            <a:ext cx="331164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249960" y="3163680"/>
            <a:ext cx="140004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69080" y="2932200"/>
            <a:ext cx="109224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29440" y="4183200"/>
            <a:ext cx="54936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0" y="1978200"/>
            <a:ext cx="53568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023-7480-4087-B87F-E4415A08E8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hared Data Problem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use interrupts you create the opportunity for multiple sections of code to update a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ight cause a problems in your logic if an interrupt updates a variable between two lines of code that are directly dependent on each other (e.g. if stat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lution is to create critical sections where you disable the interrupts for a short period of time while you complete your logic on the shared vari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.critical section code goes here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766-C076-44BC-9930-11E8F589A6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ternal Interrupts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9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ins: INT0, INT1, IN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nterrupt on edge or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terrupt even if set to be outpu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 “software interrupts” by setting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43880" t="69339" r="5650" b="14316"/>
          <a:stretch/>
        </p:blipFill>
        <p:spPr>
          <a:xfrm>
            <a:off x="2027160" y="4694400"/>
            <a:ext cx="6827760" cy="159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29334" t="56892" r="3184" b="30533"/>
          <a:stretch/>
        </p:blipFill>
        <p:spPr>
          <a:xfrm>
            <a:off x="1436760" y="915840"/>
            <a:ext cx="7364520" cy="992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rcRect l="28845" t="38145" r="2547" b="46750"/>
          <a:stretch/>
        </p:blipFill>
        <p:spPr>
          <a:xfrm>
            <a:off x="1268280" y="3511440"/>
            <a:ext cx="7450200" cy="118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D68-8AA3-48C7-A681-C50B8E4E13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oser Look at a Timer/Coun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0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0/Counte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timer on compare match (auto relo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caler (divide clock by up to 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flow and comp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compar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43653" t="44468" r="5789" b="10890"/>
          <a:stretch/>
        </p:blipFill>
        <p:spPr>
          <a:xfrm>
            <a:off x="3373560" y="2333520"/>
            <a:ext cx="5770440" cy="40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B61-D1C8-426F-B7A5-6B28024626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imer/Counter Regist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/Coun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Regis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C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45342" t="10432" r="2896" b="12548"/>
          <a:stretch/>
        </p:blipFill>
        <p:spPr>
          <a:xfrm>
            <a:off x="4203720" y="969840"/>
            <a:ext cx="4541760" cy="538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807-7108-47BC-92B6-69EF63A1D2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imer/Counter Registers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/Coun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Regis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C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42096" t="52003" r="5660" b="36299"/>
          <a:stretch/>
        </p:blipFill>
        <p:spPr>
          <a:xfrm>
            <a:off x="2305080" y="2725560"/>
            <a:ext cx="6389640" cy="114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44860" t="11654" r="5309" b="64827"/>
          <a:stretch/>
        </p:blipFill>
        <p:spPr>
          <a:xfrm>
            <a:off x="2387520" y="3851280"/>
            <a:ext cx="6307200" cy="237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F75-1E2F-49E8-8979-9C686A1996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imer/Counter Registers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/Coun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Regis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C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44510" t="12858" r="5062" b="47333"/>
          <a:stretch/>
        </p:blipFill>
        <p:spPr>
          <a:xfrm>
            <a:off x="2471760" y="2478240"/>
            <a:ext cx="6167520" cy="38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E79-5DA2-4FA1-8675-1711B6F57E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imer/Counter Registers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26533" t="44782" r="5074" b="44453"/>
          <a:stretch/>
        </p:blipFill>
        <p:spPr>
          <a:xfrm>
            <a:off x="762120" y="2568600"/>
            <a:ext cx="7611840" cy="95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26683" t="40529" r="7114" b="47935"/>
          <a:stretch/>
        </p:blipFill>
        <p:spPr>
          <a:xfrm>
            <a:off x="735120" y="4952880"/>
            <a:ext cx="7480080" cy="1040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rcRect l="26533" t="22673" r="5074" b="66706"/>
          <a:stretch/>
        </p:blipFill>
        <p:spPr>
          <a:xfrm>
            <a:off x="762120" y="1438200"/>
            <a:ext cx="7611840" cy="943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26533" t="62723" r="5074" b="25833"/>
          <a:stretch/>
        </p:blipFill>
        <p:spPr>
          <a:xfrm>
            <a:off x="762120" y="3708360"/>
            <a:ext cx="761184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967-B6A4-4516-B7CF-BA93CB9E73D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etting Register Valu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names for each register and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imer to clear on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prescaler to 1024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CR0 = (1&lt;&lt;WGM01) | (1&lt;&lt;CS02) | (1&lt;&lt;CS00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unt value to compare agains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R0 = 15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imer to interrupt when it reaches coun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SK = (1&lt;&lt;OCIE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CA5-361F-4BDB-9B98-4FF644B636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riting an Interrupt Handler in C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nd clear interrupt e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(SIG_OUTPUT_COMPARE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++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I/O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CR0 = (1&lt;&lt;WGM01) | (1&lt;&lt;CS02) | (1&lt;&lt;CS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specific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SK = (1&lt;&lt;OCIE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C66-B430-43D4-8B75-E71FBDD740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hat is an Interrupt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to something in I/O (human, comm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synchronous to processo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handler” or “interrupt service routine” (ISR) invoked to take care of condition causing 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value of internal variable (cou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 data value (sensor, rece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data value (actuator, sen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3800" y="4627440"/>
            <a:ext cx="14940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6840" y="4586400"/>
            <a:ext cx="177948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-30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ve st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-30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-30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-30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-30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-30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tore st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-30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turn from Interru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291280" y="5324040"/>
            <a:ext cx="1830240" cy="90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297400" y="4925520"/>
            <a:ext cx="148428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652-2B2A-41AE-A66F-FD758AA306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Switch Debouncing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 Switch is Pressed, So What??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816200" y="5643720"/>
            <a:ext cx="601560" cy="328320"/>
            <a:chOff x="1816200" y="5643720"/>
            <a:chExt cx="601560" cy="328320"/>
          </a:xfrm>
        </p:grpSpPr>
        <p:sp>
          <p:nvSpPr>
            <p:cNvPr id="162" name=""/>
            <p:cNvSpPr/>
            <p:nvPr/>
          </p:nvSpPr>
          <p:spPr>
            <a:xfrm>
              <a:off x="1816200" y="5643720"/>
              <a:ext cx="60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29600" y="5759640"/>
              <a:ext cx="3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01240" y="587448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04920" y="5972040"/>
              <a:ext cx="2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6" name=""/>
          <p:cNvCxnSpPr/>
          <p:nvPr/>
        </p:nvCxnSpPr>
        <p:spPr>
          <a:xfrm flipV="1">
            <a:off x="1127160" y="3574800"/>
            <a:ext cx="9849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67" name=""/>
          <p:cNvGrpSpPr/>
          <p:nvPr/>
        </p:nvGrpSpPr>
        <p:grpSpPr>
          <a:xfrm>
            <a:off x="2117880" y="4002120"/>
            <a:ext cx="180360" cy="952560"/>
            <a:chOff x="2117880" y="4002120"/>
            <a:chExt cx="180360" cy="952560"/>
          </a:xfrm>
        </p:grpSpPr>
        <p:sp>
          <p:nvSpPr>
            <p:cNvPr id="168" name=""/>
            <p:cNvSpPr/>
            <p:nvPr/>
          </p:nvSpPr>
          <p:spPr>
            <a:xfrm>
              <a:off x="2117880" y="4002120"/>
              <a:ext cx="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17880" y="4576680"/>
              <a:ext cx="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09680" y="4249800"/>
              <a:ext cx="88560" cy="4698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116080" y="4925880"/>
            <a:ext cx="0" cy="7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637280" y="966960"/>
            <a:ext cx="1107360" cy="718920"/>
            <a:chOff x="1637280" y="966960"/>
            <a:chExt cx="1107360" cy="718920"/>
          </a:xfrm>
        </p:grpSpPr>
        <p:sp>
          <p:nvSpPr>
            <p:cNvPr id="173" name=""/>
            <p:cNvSpPr/>
            <p:nvPr/>
          </p:nvSpPr>
          <p:spPr>
            <a:xfrm>
              <a:off x="2560680" y="1109880"/>
              <a:ext cx="183960" cy="18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116080" y="1201680"/>
              <a:ext cx="53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16080" y="1201680"/>
              <a:ext cx="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7280" y="9669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89000" y="2570400"/>
            <a:ext cx="223920" cy="1004760"/>
            <a:chOff x="1989000" y="2570400"/>
            <a:chExt cx="223920" cy="1004760"/>
          </a:xfrm>
        </p:grpSpPr>
        <p:sp>
          <p:nvSpPr>
            <p:cNvPr id="178" name=""/>
            <p:cNvSpPr/>
            <p:nvPr/>
          </p:nvSpPr>
          <p:spPr>
            <a:xfrm rot="16200000">
              <a:off x="1609560" y="3051360"/>
              <a:ext cx="1004760" cy="4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1775520" y="2961360"/>
              <a:ext cx="652320" cy="22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2054160" y="2722680"/>
              <a:ext cx="93600" cy="223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1" name=""/>
          <p:cNvCxnSpPr>
            <a:stCxn id="178" idx="3"/>
            <a:endCxn id="175" idx="0"/>
          </p:cNvCxnSpPr>
          <p:nvPr/>
        </p:nvCxnSpPr>
        <p:spPr>
          <a:xfrm flipH="1" flipV="1" rot="5400000">
            <a:off x="1670400" y="2125800"/>
            <a:ext cx="886680" cy="5400"/>
          </a:xfrm>
          <a:prstGeom prst="bentConnector3">
            <a:avLst>
              <a:gd name="adj1" fmla="val 5016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883080" y="351468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81000" y="39052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159000" y="965160"/>
            <a:ext cx="4721400" cy="3320280"/>
            <a:chOff x="3159000" y="965160"/>
            <a:chExt cx="4721400" cy="3320280"/>
          </a:xfrm>
        </p:grpSpPr>
        <p:sp>
          <p:nvSpPr>
            <p:cNvPr id="185" name=""/>
            <p:cNvSpPr/>
            <p:nvPr/>
          </p:nvSpPr>
          <p:spPr>
            <a:xfrm flipV="1">
              <a:off x="3551040" y="1199880"/>
              <a:ext cx="0" cy="28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51040" y="4086000"/>
              <a:ext cx="40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14360" y="3825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54640" y="965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59000" y="1589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59000" y="37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551040" y="1787400"/>
              <a:ext cx="3774240" cy="2273400"/>
              <a:chOff x="3551040" y="1787400"/>
              <a:chExt cx="3774240" cy="22734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551040" y="1787400"/>
                <a:ext cx="2769480" cy="2273400"/>
                <a:chOff x="3551040" y="1787400"/>
                <a:chExt cx="2769480" cy="22734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551040" y="1787400"/>
                  <a:ext cx="2625480" cy="2273400"/>
                </a:xfrm>
                <a:custGeom>
                  <a:avLst/>
                  <a:gdLst/>
                  <a:ahLst/>
                  <a:rect l="l" t="t" r="r" b="b"/>
                  <a:pathLst>
                    <a:path w="1654" h="1432">
                      <a:moveTo>
                        <a:pt x="0" y="33"/>
                      </a:moveTo>
                      <a:lnTo>
                        <a:pt x="329" y="33"/>
                      </a:lnTo>
                      <a:lnTo>
                        <a:pt x="329" y="1432"/>
                      </a:lnTo>
                      <a:lnTo>
                        <a:pt x="790" y="1432"/>
                      </a:lnTo>
                      <a:lnTo>
                        <a:pt x="790" y="25"/>
                      </a:lnTo>
                      <a:lnTo>
                        <a:pt x="1128" y="25"/>
                      </a:lnTo>
                      <a:lnTo>
                        <a:pt x="1128" y="1424"/>
                      </a:lnTo>
                      <a:lnTo>
                        <a:pt x="1358" y="1424"/>
                      </a:lnTo>
                      <a:lnTo>
                        <a:pt x="1358" y="9"/>
                      </a:lnTo>
                      <a:lnTo>
                        <a:pt x="1580" y="9"/>
                      </a:lnTo>
                      <a:lnTo>
                        <a:pt x="1580" y="1424"/>
                      </a:lnTo>
                      <a:lnTo>
                        <a:pt x="1654" y="1424"/>
                      </a:lnTo>
                      <a:lnTo>
                        <a:pt x="165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190560" y="1787400"/>
                  <a:ext cx="129960" cy="2260440"/>
                </a:xfrm>
                <a:custGeom>
                  <a:avLst/>
                  <a:gdLst/>
                  <a:ahLst/>
                  <a:rect l="l" t="t" r="r" b="b"/>
                  <a:pathLst>
                    <a:path w="82" h="1424">
                      <a:moveTo>
                        <a:pt x="0" y="0"/>
                      </a:moveTo>
                      <a:lnTo>
                        <a:pt x="82" y="0"/>
                      </a:lnTo>
                      <a:lnTo>
                        <a:pt x="82" y="142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6333480" y="4047840"/>
                <a:ext cx="9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4233240" y="102564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 Switch Bou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400560" y="4243320"/>
            <a:ext cx="1355760" cy="1315080"/>
            <a:chOff x="3400560" y="4243320"/>
            <a:chExt cx="1355760" cy="1315080"/>
          </a:xfrm>
        </p:grpSpPr>
        <p:sp>
          <p:nvSpPr>
            <p:cNvPr id="198" name=""/>
            <p:cNvSpPr/>
            <p:nvPr/>
          </p:nvSpPr>
          <p:spPr>
            <a:xfrm>
              <a:off x="3400560" y="4854600"/>
              <a:ext cx="1355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079880" y="424332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521320" y="4243320"/>
            <a:ext cx="1742760" cy="1315080"/>
            <a:chOff x="5521320" y="4243320"/>
            <a:chExt cx="1742760" cy="1315080"/>
          </a:xfrm>
        </p:grpSpPr>
        <p:sp>
          <p:nvSpPr>
            <p:cNvPr id="201" name=""/>
            <p:cNvSpPr/>
            <p:nvPr/>
          </p:nvSpPr>
          <p:spPr>
            <a:xfrm>
              <a:off x="5521320" y="4854600"/>
              <a:ext cx="1742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nal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act Clos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391440" y="424332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021200" y="5522400"/>
            <a:ext cx="2641680" cy="1050840"/>
            <a:chOff x="4021200" y="5522400"/>
            <a:chExt cx="2641680" cy="1050840"/>
          </a:xfrm>
        </p:grpSpPr>
        <p:sp>
          <p:nvSpPr>
            <p:cNvPr id="204" name=""/>
            <p:cNvSpPr/>
            <p:nvPr/>
          </p:nvSpPr>
          <p:spPr>
            <a:xfrm rot="16200000">
              <a:off x="5037840" y="4505400"/>
              <a:ext cx="406440" cy="2440080"/>
            </a:xfrm>
            <a:custGeom>
              <a:avLst/>
              <a:gdLst>
                <a:gd name="textAreaLeft" fmla="*/ 259560 w 406440"/>
                <a:gd name="textAreaRight" fmla="*/ 406800 w 406440"/>
                <a:gd name="textAreaTop" fmla="*/ 63360 h 2440080"/>
                <a:gd name="textAreaBottom" fmla="*/ 2376720 h 244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67360" y="611352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ypically 10-20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043000" y="4378320"/>
            <a:ext cx="11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38320" y="456732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3BD-D557-4018-A1B5-24EDC76C6A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33"/>
                </a:solidFill>
                <a:latin typeface="Garamond"/>
              </a:rPr>
              <a:t>Debounc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334120"/>
          </a:xfrm>
          <a:prstGeom prst="rect">
            <a:avLst/>
          </a:prstGeom>
          <a:noFill/>
          <a:ln w="28440">
            <a:solidFill>
              <a:srgbClr val="00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When a switch (any type) changes state (on -&gt; off or off -&gt; on), it presents a mechanical bouncing which generates a signal similar to the one shown at the rig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he resistor R is needed because the signal S can not be left “floating” in an undefined state when the switch changes from state 1 to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Without debouncing the signal can generate several interrupts (or status changes) corresponding to just one 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bouncing consists in “Filtering” the signal S so that a proper operation of the switch action is sen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ouncing can be done in hardware of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2920" y="1523880"/>
            <a:ext cx="1828800" cy="1078200"/>
          </a:xfrm>
          <a:prstGeom prst="rect">
            <a:avLst/>
          </a:prstGeom>
          <a:solidFill>
            <a:srgbClr val="ccecff"/>
          </a:solidFill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f5f5f"/>
                </a:solidFill>
                <a:latin typeface="Arial"/>
              </a:rPr>
              <a:t>Micro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76920" y="1066680"/>
            <a:ext cx="2438280" cy="1752840"/>
            <a:chOff x="4876920" y="1066680"/>
            <a:chExt cx="2438280" cy="1752840"/>
          </a:xfrm>
        </p:grpSpPr>
        <p:sp>
          <p:nvSpPr>
            <p:cNvPr id="212" name=""/>
            <p:cNvSpPr/>
            <p:nvPr/>
          </p:nvSpPr>
          <p:spPr>
            <a:xfrm>
              <a:off x="5791320" y="1981080"/>
              <a:ext cx="152280" cy="152640"/>
            </a:xfrm>
            <a:prstGeom prst="ellipse">
              <a:avLst/>
            </a:prstGeom>
            <a:noFill/>
            <a:ln cap="sq"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480" y="1981080"/>
              <a:ext cx="152640" cy="152640"/>
            </a:xfrm>
            <a:prstGeom prst="ellipse">
              <a:avLst/>
            </a:prstGeom>
            <a:noFill/>
            <a:ln cap="sq"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5880" y="2438280"/>
              <a:ext cx="152640" cy="152640"/>
            </a:xfrm>
            <a:prstGeom prst="ellipse">
              <a:avLst/>
            </a:prstGeom>
            <a:noFill/>
            <a:ln cap="sq"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171840" y="2133720"/>
              <a:ext cx="152280" cy="304560"/>
            </a:xfrm>
            <a:prstGeom prst="line">
              <a:avLst/>
            </a:prstGeom>
            <a:ln cap="sq" w="28440">
              <a:solidFill>
                <a:srgbClr val="0066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943600" y="2057400"/>
              <a:ext cx="380880" cy="0"/>
            </a:xfrm>
            <a:prstGeom prst="line">
              <a:avLst/>
            </a:prstGeom>
            <a:ln w="28440">
              <a:solidFill>
                <a:srgbClr val="006633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15000" y="1676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6633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8520" y="23623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6633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722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6633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86400" y="2057400"/>
              <a:ext cx="304920" cy="0"/>
            </a:xfrm>
            <a:prstGeom prst="line">
              <a:avLst/>
            </a:prstGeom>
            <a:ln cap="sq"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86400" y="2514600"/>
              <a:ext cx="609480" cy="0"/>
            </a:xfrm>
            <a:prstGeom prst="line">
              <a:avLst/>
            </a:prstGeom>
            <a:ln cap="sq"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7120" y="2057400"/>
              <a:ext cx="685800" cy="0"/>
            </a:xfrm>
            <a:prstGeom prst="line">
              <a:avLst/>
            </a:prstGeom>
            <a:ln cap="sq" w="381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1447920"/>
              <a:ext cx="152640" cy="304560"/>
            </a:xfrm>
            <a:prstGeom prst="rect">
              <a:avLst/>
            </a:prstGeom>
            <a:noFill/>
            <a:ln cap="sq"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29400" y="1752480"/>
              <a:ext cx="0" cy="304920"/>
            </a:xfrm>
            <a:prstGeom prst="line">
              <a:avLst/>
            </a:prstGeom>
            <a:ln cap="sq"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1219320"/>
              <a:ext cx="0" cy="228600"/>
            </a:xfrm>
            <a:prstGeom prst="line">
              <a:avLst/>
            </a:prstGeom>
            <a:ln cap="sq"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1066680"/>
              <a:ext cx="152640" cy="152640"/>
            </a:xfrm>
            <a:prstGeom prst="ellipse">
              <a:avLst/>
            </a:prstGeom>
            <a:noFill/>
            <a:ln cap="sq"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10666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5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2200" y="1371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86400" y="2514600"/>
              <a:ext cx="0" cy="228600"/>
            </a:xfrm>
            <a:prstGeom prst="line">
              <a:avLst/>
            </a:prstGeom>
            <a:ln cap="sq"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34120" y="2743200"/>
              <a:ext cx="304560" cy="0"/>
            </a:xfrm>
            <a:prstGeom prst="line">
              <a:avLst/>
            </a:prstGeom>
            <a:ln cap="sq"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10080" y="2819520"/>
              <a:ext cx="152640" cy="0"/>
            </a:xfrm>
            <a:prstGeom prst="line">
              <a:avLst/>
            </a:prstGeom>
            <a:ln cap="sq"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4120" y="1981080"/>
              <a:ext cx="152280" cy="152640"/>
            </a:xfrm>
            <a:prstGeom prst="ellipse">
              <a:avLst/>
            </a:prstGeom>
            <a:noFill/>
            <a:ln cap="sq" w="284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69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5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37240" y="1793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580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05520" y="3124080"/>
            <a:ext cx="380880" cy="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581280"/>
            <a:ext cx="76320" cy="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3124080"/>
            <a:ext cx="0" cy="45720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124080"/>
            <a:ext cx="0" cy="45720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5000" y="3124080"/>
            <a:ext cx="0" cy="45720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3124080"/>
            <a:ext cx="0" cy="45720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3124080"/>
            <a:ext cx="152280" cy="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3581280"/>
            <a:ext cx="152280" cy="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3124080"/>
            <a:ext cx="152640" cy="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3581280"/>
            <a:ext cx="1828800" cy="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3124080"/>
            <a:ext cx="0" cy="45720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4680" y="3124080"/>
            <a:ext cx="0" cy="45720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3124080"/>
            <a:ext cx="0" cy="45720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3124080"/>
            <a:ext cx="75960" cy="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24680" y="3581280"/>
            <a:ext cx="152640" cy="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77320" y="3124080"/>
            <a:ext cx="75960" cy="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53280" y="3124080"/>
            <a:ext cx="0" cy="45720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1880" y="3124080"/>
            <a:ext cx="0" cy="45720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53280" y="3581280"/>
            <a:ext cx="228600" cy="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3124080"/>
            <a:ext cx="381240" cy="0"/>
          </a:xfrm>
          <a:prstGeom prst="line">
            <a:avLst/>
          </a:prstGeom>
          <a:ln cap="sq"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857640" y="2209680"/>
            <a:ext cx="152280" cy="838440"/>
          </a:xfrm>
          <a:prstGeom prst="line">
            <a:avLst/>
          </a:prstGeom>
          <a:ln cap="sq" w="381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365760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ad Key  (should be st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4267080"/>
            <a:ext cx="4114800" cy="2051640"/>
          </a:xfrm>
          <a:prstGeom prst="rect">
            <a:avLst/>
          </a:prstGeom>
          <a:noFill/>
          <a:ln cap="sq" w="126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Techniques that can be us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66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I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atus loop</a:t>
            </a: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: after first status change, program timer and after elapsed time read key stat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66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I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terrupt: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on first interrupt program timer which will interrupt after elapsed time.  Then read key stat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486040" y="3657600"/>
            <a:ext cx="762480" cy="457200"/>
            <a:chOff x="5486040" y="3657600"/>
            <a:chExt cx="762480" cy="457200"/>
          </a:xfrm>
        </p:grpSpPr>
        <p:sp>
          <p:nvSpPr>
            <p:cNvPr id="261" name=""/>
            <p:cNvSpPr/>
            <p:nvPr/>
          </p:nvSpPr>
          <p:spPr>
            <a:xfrm>
              <a:off x="6248520" y="3657600"/>
              <a:ext cx="0" cy="380880"/>
            </a:xfrm>
            <a:prstGeom prst="line">
              <a:avLst/>
            </a:prstGeom>
            <a:ln cap="sq" w="28440">
              <a:solidFill>
                <a:srgbClr val="00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8640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486040" y="3962520"/>
              <a:ext cx="762120" cy="0"/>
            </a:xfrm>
            <a:prstGeom prst="line">
              <a:avLst/>
            </a:prstGeom>
            <a:ln w="28440">
              <a:solidFill>
                <a:srgbClr val="006633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8680" y="3657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848720" y="3657600"/>
            <a:ext cx="761760" cy="457200"/>
            <a:chOff x="7848720" y="3657600"/>
            <a:chExt cx="761760" cy="457200"/>
          </a:xfrm>
        </p:grpSpPr>
        <p:sp>
          <p:nvSpPr>
            <p:cNvPr id="266" name=""/>
            <p:cNvSpPr/>
            <p:nvPr/>
          </p:nvSpPr>
          <p:spPr>
            <a:xfrm>
              <a:off x="8610480" y="3657600"/>
              <a:ext cx="0" cy="380880"/>
            </a:xfrm>
            <a:prstGeom prst="line">
              <a:avLst/>
            </a:prstGeom>
            <a:ln cap="sq" w="28440">
              <a:solidFill>
                <a:srgbClr val="00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4872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848720" y="3962520"/>
              <a:ext cx="761760" cy="0"/>
            </a:xfrm>
            <a:prstGeom prst="line">
              <a:avLst/>
            </a:prstGeom>
            <a:ln w="28440">
              <a:solidFill>
                <a:srgbClr val="006633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00640" y="365760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59E-5CD8-4A42-B195-D45CD56DE6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Light Dependent Resistors (LDRs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Light Dependent Resistors (LDRs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whose resistance changes (usually decreases) with light strik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so called photocells, photoconduc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striking a semiconducting material can provide sufficient energy to cause electrons to break away from at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electrons and holes can be created which causes resistance to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FDF-D117-4FFA-80C7-1E1545F60F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Light Dependent Resistors (LDR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materials used are Cadmium Sulphide (CdS), Cadmium Selenide (CdSe), Lead Sulphi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o illumination, resistance can be greater than  1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ark resistanc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varies inversely proportional to light intensi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down to 10-100s oh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ms/10ms respon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0FE-8B1D-40F4-94BD-E8C5EB92BE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Light Dependent Resistors (LDR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95280" y="2347920"/>
            <a:ext cx="873360" cy="873000"/>
            <a:chOff x="1295280" y="2347920"/>
            <a:chExt cx="873360" cy="873000"/>
          </a:xfrm>
        </p:grpSpPr>
        <p:sp>
          <p:nvSpPr>
            <p:cNvPr id="278" name=""/>
            <p:cNvSpPr/>
            <p:nvPr/>
          </p:nvSpPr>
          <p:spPr>
            <a:xfrm>
              <a:off x="1295280" y="2347920"/>
              <a:ext cx="873360" cy="87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392840" y="2530440"/>
              <a:ext cx="226080" cy="366840"/>
              <a:chOff x="1392840" y="2530440"/>
              <a:chExt cx="226080" cy="366840"/>
            </a:xfrm>
          </p:grpSpPr>
          <p:sp>
            <p:nvSpPr>
              <p:cNvPr id="280" name=""/>
              <p:cNvSpPr/>
              <p:nvPr/>
            </p:nvSpPr>
            <p:spPr>
              <a:xfrm>
                <a:off x="1392840" y="2643120"/>
                <a:ext cx="56520" cy="254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392840" y="2530440"/>
                <a:ext cx="226080" cy="226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562400" y="2643480"/>
              <a:ext cx="226080" cy="366840"/>
              <a:chOff x="1562400" y="2643480"/>
              <a:chExt cx="226080" cy="366840"/>
            </a:xfrm>
          </p:grpSpPr>
          <p:sp>
            <p:nvSpPr>
              <p:cNvPr id="283" name=""/>
              <p:cNvSpPr/>
              <p:nvPr/>
            </p:nvSpPr>
            <p:spPr>
              <a:xfrm flipV="1">
                <a:off x="1562400" y="2643480"/>
                <a:ext cx="56520" cy="254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1562400" y="2784240"/>
                <a:ext cx="226080" cy="226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732320" y="2530440"/>
              <a:ext cx="226080" cy="366840"/>
              <a:chOff x="1732320" y="2530440"/>
              <a:chExt cx="226080" cy="366840"/>
            </a:xfrm>
          </p:grpSpPr>
          <p:sp>
            <p:nvSpPr>
              <p:cNvPr id="286" name=""/>
              <p:cNvSpPr/>
              <p:nvPr/>
            </p:nvSpPr>
            <p:spPr>
              <a:xfrm>
                <a:off x="1732320" y="2643120"/>
                <a:ext cx="56520" cy="254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32320" y="2530440"/>
                <a:ext cx="226080" cy="226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901880" y="2643480"/>
              <a:ext cx="226080" cy="366840"/>
              <a:chOff x="1901880" y="2643480"/>
              <a:chExt cx="226080" cy="366840"/>
            </a:xfrm>
          </p:grpSpPr>
          <p:sp>
            <p:nvSpPr>
              <p:cNvPr id="289" name=""/>
              <p:cNvSpPr/>
              <p:nvPr/>
            </p:nvSpPr>
            <p:spPr>
              <a:xfrm flipV="1">
                <a:off x="1901880" y="2643480"/>
                <a:ext cx="56520" cy="254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1901880" y="2784240"/>
                <a:ext cx="226080" cy="226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5105520" y="1960560"/>
            <a:ext cx="0" cy="29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5520" y="494676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41880" y="2143080"/>
            <a:ext cx="2325600" cy="26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715000" y="4794120"/>
            <a:ext cx="1217520" cy="152640"/>
            <a:chOff x="5715000" y="4794120"/>
            <a:chExt cx="1217520" cy="152640"/>
          </a:xfrm>
        </p:grpSpPr>
        <p:sp>
          <p:nvSpPr>
            <p:cNvPr id="295" name=""/>
            <p:cNvSpPr/>
            <p:nvPr/>
          </p:nvSpPr>
          <p:spPr>
            <a:xfrm flipV="1">
              <a:off x="5715000" y="47941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932520" y="47941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323040" y="47941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105520" y="342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4489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05520" y="3956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26040" y="2143080"/>
            <a:ext cx="90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0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69520" y="509904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    10      100   1000    lm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96400" y="5511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lu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3300480" y="36576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59840" y="3425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S L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21360" y="2836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05520" y="2257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DE3-4A20-4F68-ABA3-25132674B2E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Light Dependent Resistors (LDRs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Rs have a low energy g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 over a wide wavelengths (some, into infrar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um antimonide is good for IR. When cooled is very sensitive, used for thermal scanning of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113-1652-48CD-976D-BC56791888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Analog to Digital Conversi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Verdana"/>
              </a:rPr>
              <a:t>Basic ADC circuits (1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8280" y="4011480"/>
            <a:ext cx="801396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gitizing begins with a ‘start’ pu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C is ramped up from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nter stopped by comparator when Vin = DAC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C output is counter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cking 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836640" y="1535040"/>
            <a:ext cx="5526000" cy="21574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148760" y="115236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imple ramp and comparator A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12720" y="36972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27640" y="369720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nar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0960" y="2484360"/>
            <a:ext cx="86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BF0-FE2A-4D9F-96CD-E18C45AC98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ample that does not 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_SlaveReceive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Wait for reception complet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!(SPSR &amp; (1&lt;&lt;SPIF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Return data regist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busy waiting until a byte is received the processor can generate an interrupt when it sets SP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(SIG_SPI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_Byte = SP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CEF-4A12-4586-A851-B7A8F7FF99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Verdana"/>
              </a:rPr>
              <a:t>Basic ADC circuits (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17480" y="1224000"/>
            <a:ext cx="75852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ADC circuit is limited and rarely us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Verdana"/>
              </a:rPr>
              <a:t>WHY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 time to giv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 signal can vary during digiti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ccessive Approximation ADC solves these problems -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x logic to test and retain each DAC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ample and hold circuit ahead of the compa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0F5-EAB5-4F3F-BA28-F6B3DACA9A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Verdana"/>
              </a:rPr>
              <a:t>Successive Approximation ADC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-360" y="2529000"/>
            <a:ext cx="383868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t process - 1 - 100µsec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ult always n clocks after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d extensively for 12-16bit DAQ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889440" y="1606680"/>
            <a:ext cx="5072040" cy="42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BD6-E18A-4E10-A05D-B3E274F40F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46120" y="1571760"/>
            <a:ext cx="4613400" cy="34066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60720" y="496800"/>
            <a:ext cx="389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Verdana"/>
              </a:rPr>
              <a:t>Flash ADC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60" y="4897440"/>
            <a:ext cx="53737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7600" indent="-28548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astest process &lt;50nse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28548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mited resolution typically 8 - 10b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28548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alf-flash technique is cheap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708520" y="695160"/>
            <a:ext cx="3141720" cy="5481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733440" y="654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8320" y="1044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alf-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38160" y="4726080"/>
            <a:ext cx="432000" cy="25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4800" y="2141640"/>
            <a:ext cx="506520" cy="13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1360" y="2062080"/>
            <a:ext cx="64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15080" y="5418000"/>
            <a:ext cx="2221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96040" y="5261040"/>
            <a:ext cx="64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36760" y="1708200"/>
            <a:ext cx="297000" cy="11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37120" y="717480"/>
            <a:ext cx="397080" cy="16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76280" y="5857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56840" y="15573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257-BDBF-4228-ACCE-711B50A511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-to-D Conversion Erro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rcRect l="44397" t="17605" r="10874" b="48964"/>
          <a:stretch/>
        </p:blipFill>
        <p:spPr>
          <a:xfrm>
            <a:off x="4838760" y="817560"/>
            <a:ext cx="3994200" cy="27781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rcRect l="44754" t="61295" r="12679" b="5790"/>
          <a:stretch/>
        </p:blipFill>
        <p:spPr>
          <a:xfrm>
            <a:off x="4702320" y="3637080"/>
            <a:ext cx="3863880" cy="278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rcRect l="44503" t="52698" r="13990" b="16968"/>
          <a:stretch/>
        </p:blipFill>
        <p:spPr>
          <a:xfrm>
            <a:off x="382680" y="3625920"/>
            <a:ext cx="4140000" cy="2816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rcRect l="44503" t="13238" r="13990" b="56496"/>
          <a:stretch/>
        </p:blipFill>
        <p:spPr>
          <a:xfrm>
            <a:off x="385920" y="812880"/>
            <a:ext cx="4100400" cy="2782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68200" y="3633840"/>
            <a:ext cx="24444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2880" y="836640"/>
            <a:ext cx="244800" cy="20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2E2-A42A-4DE4-BCC0-582ADECC6E4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Tmega16 A-to-D Convers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3160" y="1280880"/>
            <a:ext cx="357480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a compara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D-to-A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 to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genera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nversion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rcRect l="37572" t="22105" r="7288" b="10343"/>
          <a:stretch/>
        </p:blipFill>
        <p:spPr>
          <a:xfrm>
            <a:off x="3713040" y="860400"/>
            <a:ext cx="5259600" cy="599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9B3-1FBA-429A-A22D-BB97FB8AF8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-to-D Conversion on the ATmega16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bit resolution (adjusted to 8 bits as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-260 usec convers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ultiplexed inpu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do differential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of two p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 gain on differential signal (amplifies differ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on completion of A-to-D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*LSB accuracy (2 * 1/1024 = ~0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ceptible to noise – special analog supply pin (AVCC) and capacitor connection for reference voltage (AR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237-2EAF-4526-8ADD-354D2CEF44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-to-D Conversion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rcRect l="19611" t="40230" r="11729" b="17355"/>
          <a:stretch/>
        </p:blipFill>
        <p:spPr>
          <a:xfrm>
            <a:off x="1023840" y="1014480"/>
            <a:ext cx="6997680" cy="40240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rcRect l="35049" t="20432" r="11012" b="75956"/>
          <a:stretch/>
        </p:blipFill>
        <p:spPr>
          <a:xfrm>
            <a:off x="2602080" y="5024520"/>
            <a:ext cx="5497200" cy="34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875-A60A-4CBE-90C3-109A9A8FD23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564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-to-D Conversion 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(cont’d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7724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or 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f 8 single-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x – ADC1 at 1x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{0,1} – ADC0 at 10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{0,1} – ADC0 at 200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{2,3} – ADC2 at 10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{2,3} – ADC3 at 200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{0,1,2,3,4,5} – ADC2 at 1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39115" t="11815" r="11012" b="7611"/>
          <a:stretch/>
        </p:blipFill>
        <p:spPr>
          <a:xfrm>
            <a:off x="4813200" y="298440"/>
            <a:ext cx="3996000" cy="600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464-A513-467D-9A92-2C0BEAA90F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-to-D Conversion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9378" t="50235" r="12322" b="12066"/>
          <a:stretch/>
        </p:blipFill>
        <p:spPr>
          <a:xfrm>
            <a:off x="1060560" y="1778040"/>
            <a:ext cx="6960960" cy="35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366-DCD2-46A4-811E-2531DFCB214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-to-D Conversion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19738" t="18508" r="11012" b="69665"/>
          <a:stretch/>
        </p:blipFill>
        <p:spPr>
          <a:xfrm>
            <a:off x="1085760" y="1746360"/>
            <a:ext cx="7058160" cy="11221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rcRect l="19738" t="35593" r="11012" b="62335"/>
          <a:stretch/>
        </p:blipFill>
        <p:spPr>
          <a:xfrm>
            <a:off x="1090440" y="2897280"/>
            <a:ext cx="7058160" cy="196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rcRect l="19738" t="51540" r="11012" b="46138"/>
          <a:stretch/>
        </p:blipFill>
        <p:spPr>
          <a:xfrm>
            <a:off x="1082520" y="3108240"/>
            <a:ext cx="7058160" cy="2206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rcRect l="19738" t="60662" r="11012" b="37517"/>
          <a:stretch/>
        </p:blipFill>
        <p:spPr>
          <a:xfrm>
            <a:off x="1087560" y="3357720"/>
            <a:ext cx="7057800" cy="1728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rcRect l="19738" t="74165" r="11012" b="23645"/>
          <a:stretch/>
        </p:blipFill>
        <p:spPr>
          <a:xfrm>
            <a:off x="1090440" y="3571920"/>
            <a:ext cx="7058160" cy="2080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6"/>
          <a:srcRect l="38769" t="20299" r="11090" b="77781"/>
          <a:stretch/>
        </p:blipFill>
        <p:spPr>
          <a:xfrm>
            <a:off x="3030480" y="3782880"/>
            <a:ext cx="5110200" cy="182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7"/>
          <a:srcRect l="39115" t="28513" r="10655" b="50004"/>
          <a:stretch/>
        </p:blipFill>
        <p:spPr>
          <a:xfrm>
            <a:off x="3090960" y="4076640"/>
            <a:ext cx="5119560" cy="203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4DE-2F1B-4DA4-AAEA-0B306CA24CD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aving and Restoring Contex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and compiler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find ISR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terrupts have separate IS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oes dispatc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address for each interrupt 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directly by process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op-level IS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statement on interrup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x of these two extre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201-422A-4C57-A46F-FCAE239A09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-to-D Conversion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rcRect l="19752" t="26992" r="11354" b="17856"/>
          <a:stretch/>
        </p:blipFill>
        <p:spPr>
          <a:xfrm>
            <a:off x="905040" y="1062000"/>
            <a:ext cx="7021440" cy="523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13E-5A62-4C23-B93E-E59C93B9EAF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riting an Interrupt Handler in C (again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main program sets up all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interrupts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global interrupts (S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handler routine for each enabled 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an interrupt occurs and a handler isn’t defi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routine does not disrupt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har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ny state that might be changed (done by compi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enable interrupts upon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by compiler with 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9FE-6F7E-4A6C-A6EB-F9B8279C8DA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Sleep mod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ower mod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can go to “sleep” and sav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modes put different sets of modules to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ne to use depends on which modules are needed to wake up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s, external interrupts, ADC, serial communication lin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_sleep_mode (mod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ep_mode 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948-2D51-4633-9C8D-0A66D039BA5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ower modes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4408" t="37919" r="6589" b="7581"/>
          <a:stretch/>
        </p:blipFill>
        <p:spPr>
          <a:xfrm>
            <a:off x="1076400" y="1015920"/>
            <a:ext cx="7032600" cy="517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6C7-1841-4890-9BF0-8A017045A7D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ower modes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 up sources and active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rcRect l="24892" t="47560" r="6931" b="15814"/>
          <a:stretch/>
        </p:blipFill>
        <p:spPr>
          <a:xfrm>
            <a:off x="1085760" y="2563920"/>
            <a:ext cx="6948720" cy="34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C4B-E267-4818-A8E5-4A60532EB7D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aving and Restoring Contex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ontext to s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, flags, program count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ll or part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needed between ISR and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should it be sa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, special memory locations, shadow registe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room will be needed on the st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 interrupts may make stack reach its limit – what t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e context when ISR compl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715-2B37-4BF8-B4EC-C0EEC9C0D4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gnoring 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terrupts be igno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pends on the cause of the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, for nuclear power plant temperature w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or keypad on cell phone (human timescale is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ervicing another 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others un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take too long – keep ISRs as short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3261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do a quick count, or read, or write – not a long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disa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ignored interrupt “stick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3261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edge sets a flip-fl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will it be gone when you get to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3261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hanges again and its as if it never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to re-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952-7C17-4D2D-8C00-63343B6F52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rioritizing 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ultiple interrupts happen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serviced fir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or flexible prior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riority can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priority ca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able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bother me with that right n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interrupts are maskable, some are non-mask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7F4-DDB4-4302-A655-C3BE0CF3BC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s in the ATmega16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/O pins of micro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com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ing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 s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8BA-162E-4A3B-BFEE-8157EA550A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 Jump Vector Tabl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emory to f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nstruction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oom for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MP to lo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mplete I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46183" t="23716" r="6268" b="8738"/>
          <a:stretch/>
        </p:blipFill>
        <p:spPr>
          <a:xfrm>
            <a:off x="3606840" y="930240"/>
            <a:ext cx="5253120" cy="53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ru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8DF-CF5A-4954-936D-141979048F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SE 46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00:52:13Z</dcterms:created>
  <dc:creator>Bruce Hemingway</dc:creator>
  <dc:description/>
  <dc:language>en-US</dc:language>
  <cp:lastModifiedBy>Bruce Hemingway</cp:lastModifiedBy>
  <dcterms:modified xsi:type="dcterms:W3CDTF">2006-04-10T15:46:12Z</dcterms:modified>
  <cp:revision>68</cp:revision>
  <dc:subject/>
  <dc:title>CSE466 Syllabus</dc:title>
</cp:coreProperties>
</file>