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3667320"/>
            <a:ext cx="8001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8800" y="76176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366732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8800" y="366732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257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4520" y="761760"/>
            <a:ext cx="257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920" y="761760"/>
            <a:ext cx="257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3667320"/>
            <a:ext cx="257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4520" y="3667320"/>
            <a:ext cx="257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920" y="3667320"/>
            <a:ext cx="257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3904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8800" y="761760"/>
            <a:ext cx="3904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80010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8800" y="761760"/>
            <a:ext cx="3904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366732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3904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8800" y="76176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8800" y="366732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8800" y="76176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3667320"/>
            <a:ext cx="8001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3" marL="142884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4" marL="17715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5" marL="17715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6" marL="17715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6472080"/>
            <a:ext cx="8001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054760" y="6568920"/>
            <a:ext cx="3632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  <a:ea typeface="SimSun"/>
              </a:rPr>
              <a:t>Introduction to Embedded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685800"/>
            <a:ext cx="8001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Times New Roman"/>
                <a:ea typeface="SimSun"/>
              </a:rPr>
              <a:t>Basics of Signal Processing</a:t>
            </a:r>
            <a:endParaRPr b="0" lang="en-US" sz="4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  <a:ea typeface="SimSun"/>
              </a:rPr>
              <a:t>Lecture 22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SimSun"/>
              </a:rPr>
              <a:t>Key Concepts in Sampling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Nyquist rate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o correctly capture an analog signal digitally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0000"/>
                </a:solidFill>
                <a:latin typeface="Times New Roman"/>
              </a:rPr>
              <a:t>The sampling rate must be at least twice the bandwidth of the sig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his “2 times” result assumes perfection in the sampling and filtering proces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You will </a:t>
            </a:r>
            <a:r>
              <a:rPr b="0" i="1" lang="en-US" sz="2400" spc="-1" strike="noStrike">
                <a:solidFill>
                  <a:srgbClr val="990000"/>
                </a:solidFill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 have it in practice. So the practical rule of thumb is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0000"/>
                </a:solidFill>
                <a:latin typeface="Times New Roman"/>
              </a:rPr>
              <a:t>At least 3 tim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990000"/>
                </a:solidFill>
                <a:latin typeface="Times New Roman"/>
              </a:rPr>
              <a:t>preferably 5 tim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f you can afford 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14360" y="4687920"/>
            <a:ext cx="821700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SimSun"/>
              </a:rPr>
              <a:t>Aliasing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1075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  <a:ea typeface="SimSun"/>
              </a:rPr>
              <a:t>Aliasing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SimSun"/>
              </a:rPr>
              <a:t>: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If you sample too slow, the high frequency components will become irregular noise at the sampling frequ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They are noises that are in the same frequency range of your signal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402000" y="2550960"/>
            <a:ext cx="5742000" cy="43070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89000" y="2652840"/>
            <a:ext cx="3071880" cy="35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Look at the samples al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Can you tell which of the two frequencies the sampled series represent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Either of the two signals could produce the samples, i.e., the signals are “aliases” of each 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SimSun"/>
              </a:rPr>
              <a:t>Wagon Wheel Effect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9376" t="36255" r="11252" b="13752"/>
          <a:stretch/>
        </p:blipFill>
        <p:spPr>
          <a:xfrm>
            <a:off x="100080" y="1135080"/>
            <a:ext cx="886932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SimSun"/>
              </a:rPr>
              <a:t>Applications of Nyquist Theorem - 1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Signal is in the eye of the beholder”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Nyquist was interested in digital samples that capture all the information in the electrical waveform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he term signal in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Nyquist theorem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 means the total information in the waveform. His signal means the sum of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“real signal” that you love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noise that you h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his “</a:t>
            </a:r>
            <a:r>
              <a:rPr b="0" i="1" lang="en-US" sz="2400" spc="-1" strike="noStrike">
                <a:solidFill>
                  <a:srgbClr val="003300"/>
                </a:solidFill>
                <a:latin typeface="Times New Roman"/>
              </a:rPr>
              <a:t>love-hate situation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” makes the correct application of the Nyquist theorem interesting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Suppose that we have a signal which has frequency components in the range of 10 to 60 Hz while noise ranges from 100 to 500 Hz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 a practical lower bound for sampling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SimSun"/>
              </a:rPr>
              <a:t>Applications of Nyquist Theorem - 2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f you are sampling below 1500 Hz, a significant portion of the 500 Hz noise will be transformed into lower frequency noises that you cannot filter away using classical frequency domain filters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1500 Hz is way too fast for a standard PC with a normal 10 </a:t>
            </a:r>
            <a:r>
              <a:rPr b="0" i="1" lang="en-US" sz="2400" spc="-1" strike="noStrike">
                <a:solidFill>
                  <a:srgbClr val="003300"/>
                </a:solidFill>
                <a:latin typeface="Times New Roman"/>
              </a:rPr>
              <a:t>ms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 timer resolution. You need DSP hardware if you want to digitally filter out the noise after sampling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Another way is to use an </a:t>
            </a:r>
            <a:r>
              <a:rPr b="0" i="1" lang="en-US" sz="2400" spc="-1" strike="noStrike">
                <a:solidFill>
                  <a:srgbClr val="990000"/>
                </a:solidFill>
                <a:latin typeface="Times New Roman"/>
              </a:rPr>
              <a:t>anti-aliasing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 filter.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imple hardware analog filter before the sampling proce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961920" y="4883040"/>
            <a:ext cx="7543800" cy="11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SimSun"/>
              </a:rPr>
              <a:t>A/D Sampling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00"/>
                </a:solidFill>
                <a:latin typeface="Times New Roman"/>
              </a:rPr>
              <a:t>S(t)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 is a rectangular pulse train, where </a:t>
            </a:r>
            <a:r>
              <a:rPr b="0" lang="en-US" sz="2400" spc="-1" strike="noStrike">
                <a:solidFill>
                  <a:srgbClr val="0033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  is the contact time and </a:t>
            </a:r>
            <a:r>
              <a:rPr b="0" lang="en-US" sz="2400" spc="-1" strike="noStrike">
                <a:solidFill>
                  <a:srgbClr val="0033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33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 is the sampling rate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932040" y="1300320"/>
            <a:ext cx="709920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SimSun"/>
              </a:rPr>
              <a:t>Modulation Theorem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he effect of chopper sampling is to multiply a harmonic series of cosine functions to the signal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By the Modulation Theorem, the cosine function splits and frequency-shifts the signal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he higher the sampling rate, the bigger is the frequency shift and the separation between the shifted signals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SimSun"/>
              </a:rPr>
              <a:t>Basic Signal Processing Concepts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Modulation Theorem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Multiply a signal </a:t>
            </a:r>
            <a:r>
              <a:rPr b="0" i="1" lang="en-US" sz="2400" spc="-1" strike="noStrike">
                <a:solidFill>
                  <a:srgbClr val="003300"/>
                </a:solidFill>
                <a:latin typeface="Times New Roman"/>
              </a:rPr>
              <a:t>v(t)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 by a cosine function with frequency </a:t>
            </a:r>
            <a:r>
              <a:rPr b="0" i="1" lang="en-US" sz="2400" spc="-1" strike="noStrike">
                <a:solidFill>
                  <a:srgbClr val="0033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33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 splits the signal into two parts and frequency shifted by</a:t>
            </a:r>
            <a:r>
              <a:rPr b="0" i="1" lang="en-US" sz="2400" spc="-1" strike="noStrike">
                <a:solidFill>
                  <a:srgbClr val="003300"/>
                </a:solidFill>
                <a:latin typeface="Times New Roman"/>
              </a:rPr>
              <a:t> f</a:t>
            </a:r>
            <a:r>
              <a:rPr b="0" lang="en-US" sz="2400" spc="-1" strike="noStrike" baseline="-25000">
                <a:solidFill>
                  <a:srgbClr val="0033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 and -</a:t>
            </a:r>
            <a:r>
              <a:rPr b="0" i="1" lang="en-US" sz="2400" spc="-1" strike="noStrike">
                <a:solidFill>
                  <a:srgbClr val="0033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33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517760" y="4249800"/>
            <a:ext cx="6276960" cy="18572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660680" y="1278000"/>
            <a:ext cx="5857560" cy="9144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558800" y="1747800"/>
            <a:ext cx="189000" cy="32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SimSun"/>
              </a:rPr>
              <a:t>Nyquist Rate and Aliasing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For a signal with bandwidth W, the amount of frequency shift, </a:t>
            </a:r>
            <a:r>
              <a:rPr b="0" i="1" lang="en-US" sz="2400" spc="-1" strike="noStrike">
                <a:solidFill>
                  <a:srgbClr val="0033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33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 , must be greater than </a:t>
            </a:r>
            <a:r>
              <a:rPr b="0" i="1" lang="en-US" sz="2400" spc="-1" strike="noStrike">
                <a:solidFill>
                  <a:srgbClr val="003300"/>
                </a:solidFill>
                <a:latin typeface="Times New Roman"/>
              </a:rPr>
              <a:t>2W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 or there will be an overlap between the spectra of the shifted signals.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he overlap, if any, is called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aliasing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t follows that the sampling rate must be at least two times the bandwidth, the highest frequency in the signal, to avoid aliasing. This is known as the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Nyquist rate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here is no aliasing, then the signal can be recovered perfectly in theory using ideal low-pass filt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032280" y="2336760"/>
            <a:ext cx="2570040" cy="16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SimSun"/>
              </a:rPr>
              <a:t>Overview of Remainder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Let’s look at the basics of a low-pass filter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t is reasonable to expect that you can design simple analog filters and simple software digital filters using tools like MATLAB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SimSun"/>
              </a:rPr>
              <a:t>Previous Lecture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SimSun"/>
              </a:rPr>
              <a:t>Feedback control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St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Inst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Marginal st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SimSun"/>
              </a:rPr>
              <a:t>Feedback controller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Proportional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Proportional + Derivative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Proportional + Derivative + Integral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SimSun"/>
              </a:rPr>
              <a:t>Simulation diagram concept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SimSun"/>
              </a:rPr>
              <a:t>Frequency Domain View of Signals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Fourier discovered that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any waveform can be represented as the sum of sinusoids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1: what does </a:t>
            </a:r>
            <a:r>
              <a:rPr b="0" i="1" lang="en-US" sz="2000" spc="-1" strike="noStrike">
                <a:solidFill>
                  <a:srgbClr val="990000"/>
                </a:solidFill>
                <a:latin typeface="Times New Roman"/>
              </a:rPr>
              <a:t>bandwid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ea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2: Which figure represents a periodic signal and which represents a non-periodic signal (also called </a:t>
            </a: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energy sig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160640" y="3201840"/>
            <a:ext cx="6649920" cy="29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SimSun"/>
              </a:rPr>
              <a:t>Review Sampling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According to Nyquist, how fast should you sample?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 the rule of thumb in practic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f you have signal ranges from 1 - 10 Hz and noise ranges from 50 to 1000 Hz, what is the correct practical lower bound in sampling rate if you decide to process the signal digitally?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20 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60 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150 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. 3000 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 5000 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SimSun"/>
              </a:rPr>
              <a:t>Low Pass Filters – I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Signals are often contaminated by high-frequency noises that need to be removed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he following is a simple </a:t>
            </a:r>
            <a:r>
              <a:rPr b="0" i="1" lang="en-US" sz="2400" spc="-1" strike="noStrike">
                <a:solidFill>
                  <a:srgbClr val="990000"/>
                </a:solidFill>
                <a:latin typeface="Times New Roman"/>
              </a:rPr>
              <a:t>two-stage active filter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he Op-Amp isolates the interactions between two RC circuits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his allows a simple analysis. You can get such filters on a chip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992160" y="2359080"/>
            <a:ext cx="768024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SimSun"/>
              </a:rPr>
              <a:t>Low Pass Filters – 2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he more the number of stages, the sharper is the rate of reduction of the signal after the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cut-off frequency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. If you want a sharper rate of reduction, you need more stages.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filter literature, the number of stages is called the </a:t>
            </a: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order of the fil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38240" y="3305160"/>
            <a:ext cx="87771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SimSun"/>
              </a:rPr>
              <a:t>Low Pass Filters – 3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he magnitude attenuation and the phase delay of a N-stage filter illustrated earlier are as follows, where </a:t>
            </a:r>
            <a:r>
              <a:rPr b="0" lang="en-US" sz="2400" spc="-1" strike="noStrike">
                <a:solidFill>
                  <a:srgbClr val="0033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3300"/>
                </a:solidFill>
                <a:latin typeface="Times New Roman"/>
              </a:rPr>
              <a:t>cutoff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 = R</a:t>
            </a:r>
            <a:r>
              <a:rPr b="0" lang="en-US" sz="2400" spc="-1" strike="noStrike" baseline="-25000">
                <a:solidFill>
                  <a:srgbClr val="0033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33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 = R</a:t>
            </a:r>
            <a:r>
              <a:rPr b="0" lang="en-US" sz="2400" spc="-1" strike="noStrike" baseline="-25000">
                <a:solidFill>
                  <a:srgbClr val="0033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33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 = …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he formula for the commonly used Butterworth filter i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QRT(1 /(1 +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utof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24000" y="2066760"/>
            <a:ext cx="8634240" cy="32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SimSun"/>
              </a:rPr>
              <a:t>Application Notes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We have two control variables, the cut-off frequency and the order of the filter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800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 The lower the cutoff frequency, the more effective is the filtering. But if the cutoff frequency is too close to the useful signal, the signal will also be reduc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higher the order, the more powerful is the fil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he design of a filter is iterative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u may need to adjust the cutoff frequency and the order of the filter until the requirements are m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046840" y="3660840"/>
            <a:ext cx="4124160" cy="24858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SimSun"/>
              </a:rPr>
              <a:t>Application Example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37600" y="761760"/>
            <a:ext cx="864396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he frequencies of interest in the signal are from 10 to 60 Hz. There is significant noise with frequencies in the range 500 - 1000 Hz seen on the scope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i="1" lang="en-US" sz="2000" spc="-1" strike="noStrike">
                <a:solidFill>
                  <a:srgbClr val="990000"/>
                </a:solidFill>
                <a:latin typeface="Times New Roman"/>
              </a:rPr>
              <a:t>anti-aliasing fil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used to filter out the high-frequency noi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Suppose that we pick a cut-off frequency at 100 Hz. What should be the order (stages) of the filter so that the signal will be reduced no more than 30% while the noise will be reduced at least 96%?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Max. magnitude reduction in signal: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Min. magnitude reduction in noise: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SimSun"/>
              </a:rPr>
              <a:t>Design a Digital Low Pass Filter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he general structure of a digital filter is: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0000"/>
                </a:solidFill>
                <a:latin typeface="Times New Roman"/>
              </a:rPr>
              <a:t>y = a</a:t>
            </a:r>
            <a:r>
              <a:rPr b="0" i="1" lang="en-US" sz="2000" spc="-1" strike="noStrike" baseline="-25000">
                <a:solidFill>
                  <a:srgbClr val="99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990000"/>
                </a:solidFill>
                <a:latin typeface="Times New Roman"/>
              </a:rPr>
              <a:t>*y</a:t>
            </a:r>
            <a:r>
              <a:rPr b="0" i="1" lang="en-US" sz="2000" spc="-1" strike="noStrike" baseline="-25000">
                <a:solidFill>
                  <a:srgbClr val="99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990000"/>
                </a:solidFill>
                <a:latin typeface="Times New Roman"/>
              </a:rPr>
              <a:t> + a</a:t>
            </a:r>
            <a:r>
              <a:rPr b="0" i="1" lang="en-US" sz="2000" spc="-1" strike="noStrike" baseline="-25000">
                <a:solidFill>
                  <a:srgbClr val="99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990000"/>
                </a:solidFill>
                <a:latin typeface="Times New Roman"/>
              </a:rPr>
              <a:t>*y</a:t>
            </a:r>
            <a:r>
              <a:rPr b="0" i="1" lang="en-US" sz="2000" spc="-1" strike="noStrike" baseline="-25000">
                <a:solidFill>
                  <a:srgbClr val="99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990000"/>
                </a:solidFill>
                <a:latin typeface="Times New Roman"/>
              </a:rPr>
              <a:t> + .. + b</a:t>
            </a:r>
            <a:r>
              <a:rPr b="0" i="1" lang="en-US" sz="2000" spc="-1" strike="noStrike" baseline="-25000">
                <a:solidFill>
                  <a:srgbClr val="99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990000"/>
                </a:solidFill>
                <a:latin typeface="Times New Roman"/>
              </a:rPr>
              <a:t>*x + b</a:t>
            </a:r>
            <a:r>
              <a:rPr b="0" i="1" lang="en-US" sz="2000" spc="-1" strike="noStrike" baseline="-25000">
                <a:solidFill>
                  <a:srgbClr val="99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990000"/>
                </a:solidFill>
                <a:latin typeface="Times New Roman"/>
              </a:rPr>
              <a:t>*x</a:t>
            </a:r>
            <a:r>
              <a:rPr b="0" i="1" lang="en-US" sz="2000" spc="-1" strike="noStrike" baseline="-25000">
                <a:solidFill>
                  <a:srgbClr val="99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990000"/>
                </a:solidFill>
                <a:latin typeface="Times New Roman"/>
              </a:rPr>
              <a:t> + b</a:t>
            </a:r>
            <a:r>
              <a:rPr b="0" i="1" lang="en-US" sz="2000" spc="-1" strike="noStrike" baseline="-25000">
                <a:solidFill>
                  <a:srgbClr val="99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990000"/>
                </a:solidFill>
                <a:latin typeface="Times New Roman"/>
              </a:rPr>
              <a:t>*x</a:t>
            </a:r>
            <a:r>
              <a:rPr b="0" i="1" lang="en-US" sz="2000" spc="-1" strike="noStrike" baseline="-25000">
                <a:solidFill>
                  <a:srgbClr val="99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current (filtered) output that you want to comp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current raw input before fil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e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previous output and input respectiv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You can find the </a:t>
            </a:r>
            <a:r>
              <a:rPr b="0" i="1" lang="en-US" sz="2400" spc="-1" strike="noStrike">
                <a:solidFill>
                  <a:srgbClr val="0033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’ s and </a:t>
            </a:r>
            <a:r>
              <a:rPr b="0" i="1" lang="en-US" sz="2400" spc="-1" strike="noStrike">
                <a:solidFill>
                  <a:srgbClr val="0033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’ s using tools like MATLAB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00"/>
                </a:solidFill>
                <a:latin typeface="Times New Roman"/>
              </a:rPr>
              <a:t>[b, a] = butter[n, w</a:t>
            </a:r>
            <a:r>
              <a:rPr b="0" i="1" lang="en-US" sz="2400" spc="-1" strike="noStrike" baseline="-25000">
                <a:solidFill>
                  <a:srgbClr val="99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990000"/>
                </a:solidFill>
                <a:latin typeface="Times New Roman"/>
              </a:rPr>
              <a:t>]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 gives an </a:t>
            </a:r>
            <a:r>
              <a:rPr b="0" i="1" lang="en-US" sz="2400" spc="-1" strike="noStrike">
                <a:solidFill>
                  <a:srgbClr val="003300"/>
                </a:solidFill>
                <a:latin typeface="Times New Roman"/>
              </a:rPr>
              <a:t>n</a:t>
            </a:r>
            <a:r>
              <a:rPr b="0" lang="en-US" sz="2400" spc="-1" strike="noStrike" baseline="30000">
                <a:solidFill>
                  <a:srgbClr val="0033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 order (</a:t>
            </a:r>
            <a:r>
              <a:rPr b="0" i="1" lang="en-US" sz="2400" spc="-1" strike="noStrike">
                <a:solidFill>
                  <a:srgbClr val="0033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-stage) Butterworth filter with cut-off frequency </a:t>
            </a:r>
            <a:r>
              <a:rPr b="0" i="1" lang="en-US" sz="2400" spc="-1" strike="noStrike">
                <a:solidFill>
                  <a:srgbClr val="003300"/>
                </a:solidFill>
                <a:latin typeface="Times New Roman"/>
              </a:rPr>
              <a:t>w</a:t>
            </a:r>
            <a:r>
              <a:rPr b="0" i="1" lang="en-US" sz="2400" spc="-1" strike="noStrike" baseline="-25000">
                <a:solidFill>
                  <a:srgbClr val="0033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ust be in the form of percentage of the Nyquist frequency, which is defined as 0.5 of the sampling r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Suppose that the sampling rate is 200 Hz and the cut-off frequency is 20, then the Nyquist frequency is 200/2 = 100 Hz and </a:t>
            </a:r>
            <a:r>
              <a:rPr b="0" i="1" lang="en-US" sz="2400" spc="-1" strike="noStrike">
                <a:solidFill>
                  <a:srgbClr val="003300"/>
                </a:solidFill>
                <a:latin typeface="Times New Roman"/>
              </a:rPr>
              <a:t>w</a:t>
            </a:r>
            <a:r>
              <a:rPr b="0" i="1" lang="en-US" sz="2400" spc="-1" strike="noStrike" baseline="-25000">
                <a:solidFill>
                  <a:srgbClr val="0033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 = 20/100 = 0.2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SimSun"/>
              </a:rPr>
              <a:t>Digital Filter Design Example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[b,a] = butter[2, 0.2]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 = 0.0675     0.1349     0.06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= 1.0000     -1.1430    0.41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 = -1.143*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0.4128*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0.0675*x + 0.1349*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0.0675*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freqz[b,a]       // decibel 20 log (v</a:t>
            </a:r>
            <a:r>
              <a:rPr b="0" lang="en-US" sz="2400" spc="-1" strike="noStrike" baseline="-25000">
                <a:solidFill>
                  <a:srgbClr val="0033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/v</a:t>
            </a:r>
            <a:r>
              <a:rPr b="0" lang="en-US" sz="2400" spc="-1" strike="noStrike" baseline="-25000">
                <a:solidFill>
                  <a:srgbClr val="0033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), the base is 10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99960" y="2973240"/>
            <a:ext cx="862344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SimSun"/>
              </a:rPr>
              <a:t>Summary of Lecture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SimSun"/>
              </a:rPr>
              <a:t>Source of deterministic errors and random noise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SimSun"/>
              </a:rPr>
              <a:t>Basics of signal spectrum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Nyquist samp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Fourier trans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SimSun"/>
              </a:rPr>
              <a:t>Basic filter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What you can do and when you should ask for hel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SimSun"/>
              </a:rPr>
              <a:t>Outline of This Lecture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Signal and data are at the interface of embedded software engineering and ECE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Objective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derstand the basic concep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ster issues that a software engineer should do and can 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k for expert-help intelligent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Today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: Signals and data acquisitio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urce of deterministic errors and random noi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ics of signal spectr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ic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you can do and when you should ask for hel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SimSun"/>
              </a:rPr>
              <a:t>Deterministic Errors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Bias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 adds an offset to the true value. Most analog components have this problem over time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00"/>
                </a:solidFill>
                <a:latin typeface="Times New Roman"/>
              </a:rPr>
              <a:t>Solution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calibration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 adjusting resistors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 compensating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e bias in softwa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Quantization errors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: the resolution is not fine enough for the application needs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er configuration of voltage ranges in A/D and D/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 you still remember how to do i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 A/D and D/A card gives 12-bit resolution over a given range. However, higher resolution ones are also availa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Aliasing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: discussed briefly before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SimSun"/>
              </a:rPr>
              <a:t>Sources of Random Noises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Noise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is the electrical signal that you do </a:t>
            </a:r>
            <a:r>
              <a:rPr b="0" i="1" lang="en-US" sz="2000" spc="-1" strike="noStrike">
                <a:solidFill>
                  <a:srgbClr val="003300"/>
                </a:solidFill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want.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fact, the music broadcast from radio stations is a common source of EMI proble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Internal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from the electronics of the A/D - D/A card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 is usually very smal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Environmental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: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ise from </a:t>
            </a:r>
            <a:r>
              <a:rPr b="1" lang="en-US" sz="1800" spc="-1" strike="noStrike">
                <a:solidFill>
                  <a:srgbClr val="990000"/>
                </a:solidFill>
                <a:latin typeface="Times New Roman"/>
              </a:rPr>
              <a:t>equipment power transformer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Switching transformers are cheap. The very inexpensive ones are quite noisy. A linear transformer is heavy, expensive but quie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ise from the </a:t>
            </a:r>
            <a:r>
              <a:rPr b="1" lang="en-US" sz="1800" spc="-1" strike="noStrike">
                <a:solidFill>
                  <a:srgbClr val="990000"/>
                </a:solidFill>
                <a:latin typeface="Times New Roman"/>
              </a:rPr>
              <a:t>power li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due to power tools, elevators etc. Buy line voltage conditioner or move to another place to do your wor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EMI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: electrical shielding and/or using differential mode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 you still remember differential mode input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oscilloscop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s your best friend to identify the source of no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Poor grounding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is a common source of noise problems. Before trying anything fancy, make sure that your equipment is properly grounded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SimSun"/>
              </a:rPr>
              <a:t>Key Concepts in Signal Processing - 1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47293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Fourier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 discovered that </a:t>
            </a:r>
            <a:r>
              <a:rPr b="0" i="1" lang="en-US" sz="2400" spc="-1" strike="noStrike">
                <a:solidFill>
                  <a:srgbClr val="990000"/>
                </a:solidFill>
                <a:latin typeface="Times New Roman"/>
              </a:rPr>
              <a:t>a signal can be decomposed into a sum of sinusoids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f you have a set of samples, you can use FFT in tools like MATLAB to take a look at its frequency components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Bandwidth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 refers to the frequency components of a signal that have non-negligible magnitudes with respect to the application at hand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465880" y="1430280"/>
            <a:ext cx="3403440" cy="4140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706360" y="5624640"/>
            <a:ext cx="29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oseph Fourier, 1768-18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SimSun"/>
              </a:rPr>
              <a:t>Key Concepts in Signal Processing - 1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37760" y="761760"/>
            <a:ext cx="825804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he most common noises are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high-frequency noises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 and, thus, the popularity of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low-pass filters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Noise in the same frequency range as the signal can only be filtered by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model-based filtering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, e.g., </a:t>
            </a: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Kalman filter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f you have significant noise in your signal range, try to prevent them at the source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ielding, differential inputs, better transformers, proper grounding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f this still does not work, ask a professional in signal processing to help. (How can you know if you have this problem?)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SimSun"/>
              </a:rPr>
              <a:t>Basic Signal Processing Concepts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Fourier Series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or any periodic function, whose period is </a:t>
            </a:r>
            <a:r>
              <a:rPr b="0" i="1" lang="en-US" sz="2000" spc="-1" strike="noStrike">
                <a:solidFill>
                  <a:srgbClr val="0033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= 1/ f</a:t>
            </a:r>
            <a:r>
              <a:rPr b="0" lang="en-US" sz="2000" spc="-1" strike="noStrike" baseline="-25000">
                <a:solidFill>
                  <a:srgbClr val="0033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893880" y="1955880"/>
            <a:ext cx="7581960" cy="39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SimSun"/>
              </a:rPr>
              <a:t>Basic Signal Processing Concepts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  <a:ea typeface="SimSun"/>
              </a:rPr>
              <a:t>Fourier Transform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SimSun"/>
              </a:rPr>
              <a:t>The </a:t>
            </a:r>
            <a:r>
              <a:rPr b="1" lang="en-US" sz="2000" spc="-1" strike="noStrike">
                <a:solidFill>
                  <a:srgbClr val="990000"/>
                </a:solidFill>
                <a:latin typeface="Times New Roman"/>
                <a:ea typeface="SimSun"/>
              </a:rPr>
              <a:t>fourier transform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SimSun"/>
              </a:rPr>
              <a:t> of the signal i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TimesNew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0000"/>
                </a:solidFill>
                <a:latin typeface="TimesNewRoman"/>
                <a:ea typeface="SimSun"/>
              </a:rPr>
              <a:t>Key observation</a:t>
            </a:r>
            <a:r>
              <a:rPr b="0" lang="en-US" sz="2000" spc="-1" strike="noStrike">
                <a:solidFill>
                  <a:srgbClr val="003300"/>
                </a:solidFill>
                <a:latin typeface="TimesNewRoman"/>
                <a:ea typeface="SimSun"/>
              </a:rPr>
              <a:t>: the narrower the pulse, the wider is the frequency range due to the role played by pulse width </a:t>
            </a:r>
            <a:r>
              <a:rPr b="0" i="1" lang="en-US" sz="2000" spc="-1" strike="noStrike">
                <a:solidFill>
                  <a:srgbClr val="003300"/>
                </a:solidFill>
                <a:latin typeface="EBZZZZ+Math1"/>
                <a:ea typeface="SimSun"/>
              </a:rPr>
              <a:t>t</a:t>
            </a:r>
            <a:r>
              <a:rPr b="0" lang="en-US" sz="2000" spc="-1" strike="noStrike">
                <a:solidFill>
                  <a:srgbClr val="003300"/>
                </a:solidFill>
                <a:latin typeface="EBZZZZ+Math1"/>
                <a:ea typeface="SimSun"/>
              </a:rPr>
              <a:t> </a:t>
            </a:r>
            <a:r>
              <a:rPr b="0" lang="en-US" sz="2000" spc="-1" strike="noStrike">
                <a:solidFill>
                  <a:srgbClr val="003300"/>
                </a:solidFill>
                <a:latin typeface="TimesNewRoman"/>
                <a:ea typeface="SimSun"/>
              </a:rPr>
              <a:t>in the transformation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028960" y="3530520"/>
            <a:ext cx="5746680" cy="1662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154160" y="1424160"/>
            <a:ext cx="6619680" cy="5824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4618080" y="2771640"/>
            <a:ext cx="2609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7T05:10:06Z</dcterms:created>
  <dc:creator>Raj Rajkumar</dc:creator>
  <dc:description/>
  <dc:language>en-US</dc:language>
  <cp:lastModifiedBy>jjohnso2</cp:lastModifiedBy>
  <cp:lastPrinted>2001-04-23T14:00:43Z</cp:lastPrinted>
  <dcterms:modified xsi:type="dcterms:W3CDTF">2004-09-07T22:42:21Z</dcterms:modified>
  <cp:revision>264</cp:revision>
  <dc:subject/>
  <dc:title>Introduction to Embedded Systems</dc:title>
</cp:coreProperties>
</file>