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A/D &amp; D/A Conversion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Lecture 20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Digital Representation of Analog Voltage - 1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 = 12 bits can be configured by jumpers/switches or software to represent different analog voltage ranges, e.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2.5 V to +2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5 V to +5 V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10 V to +10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se ranges for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should be the rule in picking a range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The General Conversion Rul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verting the analog voltages to a N-bit digital representation is a special case of measurement conversion. The general rule i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measure_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Measure_1_Lower_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/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range_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*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ge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easure_2_Lower_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t’ s take the range between water freezing and boiling points at sea level. The measure using Celsius is from 0 to 100 while the measure using Fahrenheit is from 32 to 212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convert 60</a:t>
            </a:r>
            <a:r>
              <a:rPr b="0" lang="en-US" sz="1800" spc="-1" strike="noStrike" baseline="34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to Fahrenheit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60/(100 - 0))*(212 - 32) + 32 = 60 (180/100) + 32 = 60 * 9/5 + 32  </a:t>
            </a:r>
            <a:r>
              <a:rPr b="0" lang="en-US" sz="1600" spc="-1" strike="noStrike" baseline="34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general conversion rule is derived from the observation that since two different measures measure the same physical quantity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in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measure_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ust correspond to 50% i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measure_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A/D and D/A Mapp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/D: ((_______ - _______)/(________))*(__________) + __________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V_lower_lim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/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nalog_r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)*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igital_r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igital_lower_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/A: ((________ - _______)/(________))*(__________) + __________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igital_lev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digital_r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*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analog_ran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V_lower_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na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voltage range is -1 to +2v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nalog range is 2 – (-1) = 3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Digit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s are from 0 to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- 1) = 3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igital range is 3 - 0 = 3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A/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 V = 1 maps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(1 – (-1))/3)*3 = 2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10b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D/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  10b map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/3)*3 + (-1) = 1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Single-Ended Inpu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ternal voltage can be connected with A/D cards via single-ended inputs or differential input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-ended input measures the difference between ground and the input signal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susceptible to EMI inter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susceptible to voltage differences between grounds of the A/D card and the ground of the signal 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are fine in a low-noise lab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0552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Differential Inpu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connections are insensitive (e.g. up to 10 v) to ground differences and EM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ever, electronically differential connections require twice the number of input lines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xample,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S 1600 may have 16 single-ended A/D inputs or 8 differential A/D in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5252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Simultaneous A/D Convert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9067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Stair-Step A/D Converter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89917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racking A/D Convert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8991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eighted D/A Convert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8915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Ladder D/A Convert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83944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oving on...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888200"/>
            <a:ext cx="7010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9920" indent="-16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move on from OS constructs to higher-level constructs for embedd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-169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minor detour through D/A and A/D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Periodic Task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eriodic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commonly used in embedded real time systems,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a 10 Hz task updates the display and a 20 Hz task for sampling th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ate-Monotonic Schedu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 algorithm is commonly used in practice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MS assigns high priorities to tasks with higher ra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the 20 Hz task should be given higher priority than the 10 Hz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every instance of a periodic task has the same priority, it is called a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fixed-priority schedu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metho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mmercial RTOSs typically support only fixed priority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MS is an optimal fixed priority scheduling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iming behavior of a real time system scheduled by RMS, can be fully analyzed and predicted by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ate-Monotonic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. We will study this subject in depth later (done already!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will study the design and implementation of periodic tasks to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Periodic Task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periodic task should repeat regularly according to a given period. For example, a periodic task with period 10 starting at t = 0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129440" cy="273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3840" y="5562720"/>
            <a:ext cx="793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rift can be eliminated completely but one can only hope to min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jitter in ge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Preemption: Potential Cause of Jitter &amp; Drif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s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re supposed to be ready to execute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= 0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15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Evaluation: Sources of Jitter and Drif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se that we want to control a device using a 20 msec task starting at START_TIM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1.  current_time = read_clock(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2.  If (START_TIME - current_time &lt; 10 msec) {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report too late and exit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3. sleep(START_TIME - current_tim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oo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4.   current_time = read_clock(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5.   wake_up_time = current_time + 20 msec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6.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read sensor data from the dev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7.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do wor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8.   current_time = read_clock(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9.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send control data to the dev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10.  sleep(wake_up_time - current_tim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end_loo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you identify the 6 places that can introduce drift or jitter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H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think of paging, multi-tasking and preemptio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Potential Timing Problem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1. It could be swapped out of memory (drift and jitter) pin it down in memory!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1. current_time = read_clock(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2. If (START_TIME - current_time &lt; 10 msec)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{//report too late and exi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3. sleep(START_TIME - current_time)    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2: if preempted, drif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oo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4. current_time = read_clock()       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3: if preempted, drif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5. wake_up_time = current_time + 20 msec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6. Read sensor data                  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4: if preempted input jit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7.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do wor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8. current_time = read_clock(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9.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/ send control data to the devi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5: output jitter (caused by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              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preemption or variable execution tim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10.sleep(wake_up_time - current_time)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E6: if preempted, drif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end_loo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Solution Approach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solve the drift problem, use a periodic, hardware-based timer to kick-start each instance of a periodic task.  It will be ready at the correct time insta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solve the jitter problem, do the I/O in the timer interrupt handler. As long as each task finishes before its end of period, I/O can be done at the regular instants of timer interrupt, the highest regularity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imer_interrupt handler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y conven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, executes before application task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do I/O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NLY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  // why not do both work and I/O in handler?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sk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o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wait for timer interrup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do comput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nd_loo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POSIX RT Time and Clock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POSIX-RT defines the structure of time representation. There must be at least 1 real-time clock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: IEEE 1003.1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table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rating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stem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terface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 resolution is hardware-dependent (typically 10 msec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#include time.h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ruct timespec current_time, clock_resolu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turn_code = clock_gettime(CLOCK_REALTIME, &amp;current_time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check return_code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intf(“%d %d current time in CLOCK_REAL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 \n”,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urrent_time.tv_sec,   // the seconds por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urrent_time.tv_nsec); // the nanoseconds portion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turn_code = clock_getres(CLOCK_REALTIME, &amp;clock_resolution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check return_code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intf(“%d %d CLOCK_REALTIME’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solution is \n”,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lock_resolution.tv_sec, clock_resolution.tv_nsec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enturySchoolbook,Italic"/>
                <a:ea typeface="宋体"/>
              </a:rPr>
              <a:t>POSIX RT Interval Timer (itimer) Stru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#include &lt;signal.h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#include &lt;time.h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uct timer_t timer_id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under POSIX, each thread defines its own timer for itself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uct itimerspec timer_spec, old_timer_spec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old timer allows saving old timer definition to simulate multiple timer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return_code = timer_create(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CLOCK_REALTIME, NULL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, &amp;timer_1_id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NULL: “no signal” mask used to block other signals, if any, sent to this task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imer_1_spec.it_value.tv_sec = 10;   // 1st expiration time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imer_1_spec.it_value.tv_nsec = 0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imer_1_spec.it_interval.tv_sec = 0; // task period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imer_1_spec.it_interval.tv_nsec = 20000000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imer_settime(timer_1_id, 0, &amp;timer_spec, &amp;old_timer_spec) //initialize the periodic tim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enturySchoolbook,Italic"/>
                <a:ea typeface="宋体"/>
              </a:rPr>
              <a:t>POSIX RT Timer Interrupt Handl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Timer generates signal (software interrupts), SIGALRM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 (ISR) for SIGALRM is therefore needed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 POSIX coding conventions, you define a generic action and then bind the action to a specific handler you wrot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ruct sigaction action, old_action //actions to catch a given signal arrive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establish signal handler for SIGALR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mset(&amp;action, 0, sizeof(action)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clear up the memory location to install the handl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tion.sa_handler = (void *) timer_handl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the action is to be performed by timer_handl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turn_code = sigaction(SIGALRM, &amp;action, &amp;old_action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// binding the action to signal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Schoolbook,Italic"/>
                <a:ea typeface="宋体"/>
              </a:rPr>
              <a:t>Putting it Togeth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include header files signal.h, time.h, errno.h, stdio.h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errno.h allows decoding of the return code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imer_handler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( 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it is invoked by the timer, not called by your software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{ do your device I/O } // use global variables to communicate between main and handl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main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()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ask user to input the task rate, max volt and min volt.  Check for validity whether the resolution is too high and whether the voltages are too high/low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create your timer and initialize i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set up your SIGALRM handl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while (1)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igpause(SIGALRM); // wait for signal SIGALR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// do your computation, make the handler code as small as  possible to reduce jitter.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raditional Unix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alog to Digital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gital to Analog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eriodic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ift and jitt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ing problems in “traditional”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alog to Digital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-ended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gital to Analog Convers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oltage ranges and conversion between re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eriodic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ate-Monotonic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rift and j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ing problems in “traditional”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timers and c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IX interval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ack to Basic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 A/D converter is a circuit that changes analog signals to digital signal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y do we need 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D/A converter is a circuit that changes digital signals to analog signal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Sampling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o recover a signal function exactly, it is necessary to sample the signal at a rate greater than twice its highest frequency compone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s the fancy term for this sampling frequ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f we don’t respect thi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ia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Frequency may be mistaken for another when signal is re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Real-world signals contain a spectrum of frequenc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overing such signals would require unreasonably high sample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 we get around thi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econdition the signal to prevent 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nd-limiting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875" t="32505" r="2813" b="56258"/>
          <a:stretch/>
        </p:blipFill>
        <p:spPr>
          <a:xfrm>
            <a:off x="0" y="2590920"/>
            <a:ext cx="9296280" cy="1371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he Big Pi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/D and D/A Card Archit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modern A/D and D/A card has multiple ports starting from a selectable base address. These ports are organized a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DAS-1600 Card’s base address may be set at 300H (using jumpers). Some of the entries in the port function table can be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Addres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Read Function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Write Fun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/D (bits 0 - 3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s A/D convers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tores in bits 4..7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/D (bits 4 - 11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/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tores in bits 0..7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hannel Mux selection Se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hannel Mux selec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/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/A Ch 0 bits 0 - 3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N/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/A Ch 0 bits 4 - 1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ear interrup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ts card configur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igh Byte and Low Byt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/D and D/A conversion logic may support 12-bit conversion.  However, its data register is only 8 bits wide. Thus, it uses 2 registers. For example, input Ch 0’s 12 bits are stored in Base and Base + 1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3  2 1 0 x x x x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ase + 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11 10 9 8 7 6 5 4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need t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t HighByte from base+1 (bits 4 .. 11 of the 12 bit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= (HighByte &lt;&lt; 8) to move the data into high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11 10 9 8 7 6 5 4 x x x x x x x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t LowByte from base (bits 0 .. 3 of the 12 bit data plus 4 bits of j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= (HighByte | LowBy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11 10 9 8 7 6 5 4 3 2 1 0 x x x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 = (data &gt;&gt; 4) to get rid of the 4 bits of j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0 0 0 0 11 10 9 8 7 6 5 4 3 2 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Control and Status Regist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need to initialize the car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 BASEADDR+9 to 0 disables interrupt and D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 BASEADDR+8 to 0 clears trigger-flip flop for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 BASEADDR+2 to 0 selects analog input channel 0 (pin 37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sample the analog voltage and start the A/D conver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 BASEADDR to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ce the A/D conversion starts, your program must wait for the A/D conversion to complet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t 7 of BASEADDR+8 says whether the conversion is complete. Thus we AND the value with 0x80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) to get Bit 7 and wait until the conversion is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 (hw_input(BaseADDR+8) &amp; 0x80 != 0) {}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for certain cards, you may need to re-initialize i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read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cao3</cp:lastModifiedBy>
  <cp:lastPrinted>2001-03-19T17:31:00Z</cp:lastPrinted>
  <dcterms:modified xsi:type="dcterms:W3CDTF">2004-08-29T17:07:37Z</dcterms:modified>
  <cp:revision>186</cp:revision>
  <dc:subject>Karanji Anjaneya Swamy</dc:subject>
  <dc:title>Vakratundam Mahakayam</dc:title>
</cp:coreProperties>
</file>