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5.gif" ContentType="image/gi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0CD-468E-4738-ADA7-5E15577A4F7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080-685A-4388-AB6C-E5B373157AC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298-DA90-498B-B30C-26312B376A1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BF30-E5D5-4EBB-998B-43F064D2CE2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2FF-A6EE-4565-8A36-819A8B12B2C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6E8A-C541-4115-AC94-438D34E9638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876-986E-4BBA-A1B3-C15DAE0FF4E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A44-743D-4304-B71F-ADAFEF58C70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2FC-EBDF-434F-AFD8-4E5C8D5498B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E139-BF4B-4345-ACC6-5A175337EA0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B997-8ED3-405B-9D15-016E7BC5155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1A64-EBCB-4AC8-A117-A8377F2F7AF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0F0-D9F6-462C-BB98-ECD823CF396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73A-9A33-4C87-AB60-ED708DE9559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AAE-0C99-48A5-AA76-127C1B8124D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50F-33FD-4D81-B237-DB29E22B6F3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33D-3692-4E38-B032-98F5E31099B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DFE-D3EE-4A71-BE1F-4ED6F0449EB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390-99C8-48BD-BA44-AFBBF58D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0CF-ED31-426A-8B5D-BD0D3B9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AC4-1CA3-4787-B9BE-1C7B74E2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B64-E06D-4D21-BBDD-B257D1C5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956-F50E-4CD5-915F-5EBDBF6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6F8-DFDB-4809-986B-FB483C2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3EA-EF7C-429B-BE4D-0C537B0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607-DDCF-4821-8001-1821278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662-274A-46AD-B2DE-A8EF59F7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92D-BF3F-4F8A-8D35-575A892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E3E-5958-4045-9B01-10FB05A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207-831C-4E15-94F8-2295DB79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0AFB-3A88-49D9-9964-F8A129514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perception usually involves three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stinguishes between colors like red, green, blu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ow far the color is from a gray of equal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ght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erceived intensity of a reflecting ob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lightnes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ight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object is emitting light instead of reflecting i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use color precisely in computer graphics, we need to be able to specify and measure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olorWheel"/>
          <p:cNvPicPr/>
          <p:nvPr/>
        </p:nvPicPr>
        <p:blipFill>
          <a:blip r:embed="rId1"/>
          <a:stretch/>
        </p:blipFill>
        <p:spPr>
          <a:xfrm>
            <a:off x="59436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RGB_Space"/>
          <p:cNvPicPr/>
          <p:nvPr/>
        </p:nvPicPr>
        <p:blipFill>
          <a:blip r:embed="rId2"/>
          <a:stretch/>
        </p:blipFill>
        <p:spPr>
          <a:xfrm>
            <a:off x="228600" y="152280"/>
            <a:ext cx="2819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Artists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12440"/>
            <a:ext cx="8566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tists often specify color as tints, shades, and tones of saturated (pure) pig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Tin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otten by adding white to a pure pigment, decreasing satur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had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otten b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ing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ack to a pure pigment,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creasing lightn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Ton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otten by adding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ite and black to a pure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ig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850000" y="4419720"/>
            <a:ext cx="1827000" cy="1773000"/>
          </a:xfrm>
          <a:prstGeom prst="pie">
            <a:avLst/>
          </a:prstGeom>
          <a:noFill/>
          <a:ln w="93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950360" y="4038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536600" y="4952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Co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059080" y="60530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878360" y="5035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9"/>
          <p:cNvSpPr/>
          <p:nvPr/>
        </p:nvSpPr>
        <p:spPr>
          <a:xfrm rot="1408200">
            <a:off x="642528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0"/>
          <p:cNvSpPr/>
          <p:nvPr/>
        </p:nvSpPr>
        <p:spPr>
          <a:xfrm rot="20071800">
            <a:off x="6411960" y="5562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011640" y="50292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V Color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tists frequently use an intuitive color space that corresponds to tint, shade, and t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color we see (red, green, pur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How far is the color from gray (pink is less saturated than red, sky blue is less saturated than royal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ness (Luminan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How bright is the color (how bright are the lights illuminating the objec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81952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SV Color 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6" descr="HSV_cone"/>
          <p:cNvPicPr/>
          <p:nvPr/>
        </p:nvPicPr>
        <p:blipFill>
          <a:blip r:embed="rId2"/>
          <a:stretch/>
        </p:blipFill>
        <p:spPr>
          <a:xfrm>
            <a:off x="228600" y="2438280"/>
            <a:ext cx="27702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V Col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sv"/>
          <p:cNvPicPr/>
          <p:nvPr/>
        </p:nvPicPr>
        <p:blipFill>
          <a:blip r:embed="rId1"/>
          <a:stretch/>
        </p:blipFill>
        <p:spPr>
          <a:xfrm>
            <a:off x="304920" y="1600200"/>
            <a:ext cx="4216320" cy="4267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4775040" y="1600200"/>
            <a:ext cx="4368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ue (H) is the angle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ound the vertical 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aturation (S) is a valu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om 0 to 1 indicat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far from the vertical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xis the color l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(V) is the height of the hexcone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V Color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intuitive color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alue (or bright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sv_model"/>
          <p:cNvPicPr/>
          <p:nvPr/>
        </p:nvPicPr>
        <p:blipFill>
          <a:blip r:embed="rId1"/>
          <a:stretch/>
        </p:blipFill>
        <p:spPr>
          <a:xfrm>
            <a:off x="762120" y="3352680"/>
            <a:ext cx="2781360" cy="277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sv_usr"/>
          <p:cNvPicPr/>
          <p:nvPr/>
        </p:nvPicPr>
        <p:blipFill>
          <a:blip r:embed="rId2"/>
          <a:stretch/>
        </p:blipFill>
        <p:spPr>
          <a:xfrm>
            <a:off x="4952880" y="1676520"/>
            <a:ext cx="3971880" cy="4513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620720" y="6232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152280" y="6324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cs.rit.edu/~ncs/color/a_spaces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 represented as a cone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xc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 is the angle around the circle or the regular hexagon; 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≤ H ≤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s the distance from the center; 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≤ S ≤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s the position along the axis of the cone or hexcone; 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≤ V ≤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s not perceptually-based, so colors of the same value may have slightly different brigh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axis is gre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981080" y="457200"/>
            <a:ext cx="4648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SV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514600" y="228600"/>
            <a:ext cx="66294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( S == 0 )                       //HSV values = From 0 to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 = V * 255                      //RGB results = From 0 to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V *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 = V *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_h = H * 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_i = int( var_h )             //Or ... var_i = floor( var_h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_1 = V * ( 1 - 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_2 = V * ( 1 - S * ( var_h - var_i )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_3 = V * ( 1 - S * ( 1 - ( var_h - var_i ) )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       ( var_i == 0 ) { var_r = V        ; var_g = var_3 ; var_b = var_1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 if ( var_i == 1 ) { var_r = var_2 ; var_g = V        ; var_b = var_1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 if ( var_i == 2 ) { var_r = var_1 ; var_g = V        ; var_b = var_3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 if ( var_i == 3 ) { var_r = var_1 ; var_g = var_2 ; var_b = V       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 if ( var_i == 4 ) { var_r = var_3 ; var_g = var_1 ; var_b = V       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lse                          { var_r = V       ; var_g = var_1 ; var_b = var_2 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 = var_r * 255                  //RGB results = From 0 to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var_g *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 = var_b * 2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hsv_model"/>
          <p:cNvPicPr/>
          <p:nvPr/>
        </p:nvPicPr>
        <p:blipFill>
          <a:blip r:embed="rId1"/>
          <a:stretch/>
        </p:blipFill>
        <p:spPr>
          <a:xfrm>
            <a:off x="0" y="1752480"/>
            <a:ext cx="2552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22200" y="63504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SV to RG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4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his lab is to implement a virtual knob in HSV color space to generate the majority of colors using a tri-color LED in RGB color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determine the movement of the virtual knob by utilizing the Chronos accelerome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, you will also use pulse width modulation to control the brightness of the LEDs on your Amber radio modu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umerous Color Spa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04920" y="1676520"/>
            <a:ext cx="8839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GB, CMY, XYZ; HSV, HLS; Lab, UVW, YUV, YCrCb, Luv, 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erent Purposes: display, editing, computation, compression, 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lly distant colors may not be equally perceiv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paration of luminance and chromaticity (YI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RGB_Space"/>
          <p:cNvPicPr/>
          <p:nvPr/>
        </p:nvPicPr>
        <p:blipFill>
          <a:blip r:embed="rId1"/>
          <a:stretch/>
        </p:blipFill>
        <p:spPr>
          <a:xfrm>
            <a:off x="609480" y="0"/>
            <a:ext cx="2592360" cy="2400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4440" y="3805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Mode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GB Syste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86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, G, B normalized on orthogona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presentable colors inside the unit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Monitors mix R, G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cameras pick up R, G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 (Commission Internationale de l’Eclairage) standardized in 1931: B: 435.8 nm, G: 546.1 nm, R: 700 n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fixed components acting alone can’t generate all spectrum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200400" cy="318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4883040" y="1295280"/>
            <a:ext cx="426096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GB Color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rgb_animated"/>
          <p:cNvPicPr/>
          <p:nvPr/>
        </p:nvPicPr>
        <p:blipFill>
          <a:blip r:embed="rId3"/>
          <a:stretch/>
        </p:blipFill>
        <p:spPr>
          <a:xfrm>
            <a:off x="99072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4"/>
          <a:stretch/>
        </p:blipFill>
        <p:spPr>
          <a:xfrm>
            <a:off x="0" y="152280"/>
            <a:ext cx="37558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ems with RG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range of potential perceivable colors (particularly for monitor RGB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n’t easy for humans to say how much of RGB to use to get a give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R, G and B is there in “brown”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ually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oints, a certain distance apart, may be perceptually different in one part of the space, but could be same in another part of th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ractive model (CMY Syste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results from removal of light from the illumination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ments absorb R, G or B and so give C, M 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deskjet/ inkjet pr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nk (pigment) =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ubtractive"/>
          <p:cNvPicPr/>
          <p:nvPr/>
        </p:nvPicPr>
        <p:blipFill>
          <a:blip r:embed="rId1"/>
          <a:stretch/>
        </p:blipFill>
        <p:spPr>
          <a:xfrm flipH="1" rot="16200000">
            <a:off x="5915880" y="3630600"/>
            <a:ext cx="3429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Y Color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mycolorcube"/>
          <p:cNvPicPr/>
          <p:nvPr/>
        </p:nvPicPr>
        <p:blipFill>
          <a:blip r:embed="rId1"/>
          <a:stretch/>
        </p:blipFill>
        <p:spPr>
          <a:xfrm>
            <a:off x="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my_animated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subtractive"/>
          <p:cNvPicPr/>
          <p:nvPr/>
        </p:nvPicPr>
        <p:blipFill>
          <a:blip r:embed="rId3"/>
          <a:stretch/>
        </p:blipFill>
        <p:spPr>
          <a:xfrm flipH="1" rot="16200000">
            <a:off x="102600" y="49320"/>
            <a:ext cx="34290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olor_cube"/>
          <p:cNvPicPr/>
          <p:nvPr/>
        </p:nvPicPr>
        <p:blipFill>
          <a:blip r:embed="rId1"/>
          <a:stretch/>
        </p:blipFill>
        <p:spPr>
          <a:xfrm>
            <a:off x="0" y="914400"/>
            <a:ext cx="6095880" cy="3465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14300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verting between RGB and C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Picture 7" descr="CMY1"/>
          <p:cNvPicPr/>
          <p:nvPr/>
        </p:nvPicPr>
        <p:blipFill>
          <a:blip r:embed="rId2"/>
          <a:stretch/>
        </p:blipFill>
        <p:spPr>
          <a:xfrm>
            <a:off x="6095880" y="1295280"/>
            <a:ext cx="222912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MY2"/>
          <p:cNvPicPr/>
          <p:nvPr/>
        </p:nvPicPr>
        <p:blipFill>
          <a:blip r:embed="rId3"/>
          <a:stretch/>
        </p:blipFill>
        <p:spPr>
          <a:xfrm>
            <a:off x="6095880" y="2438280"/>
            <a:ext cx="2229120" cy="87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dditive"/>
          <p:cNvPicPr/>
          <p:nvPr/>
        </p:nvPicPr>
        <p:blipFill>
          <a:blip r:embed="rId4"/>
          <a:stretch/>
        </p:blipFill>
        <p:spPr>
          <a:xfrm>
            <a:off x="228600" y="434340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subtractive"/>
          <p:cNvPicPr/>
          <p:nvPr/>
        </p:nvPicPr>
        <p:blipFill>
          <a:blip r:embed="rId5"/>
          <a:stretch/>
        </p:blipFill>
        <p:spPr>
          <a:xfrm>
            <a:off x="3200400" y="4419720"/>
            <a:ext cx="24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ying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12800"/>
            <a:ext cx="85662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perception usually involves three quant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stinguishes between colors like red, green, blu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far the color is from a gray of equal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ght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erceived intensity of a reflecting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lightnes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ght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bject is emitting light instead of reflecting i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0:43:03Z</dcterms:created>
  <dc:creator>Guest</dc:creator>
  <dc:description/>
  <dc:language>en-US</dc:language>
  <cp:lastModifiedBy>Bruce Hemingway</cp:lastModifiedBy>
  <dcterms:modified xsi:type="dcterms:W3CDTF">2010-11-04T00:46:44Z</dcterms:modified>
  <cp:revision>87</cp:revision>
  <dc:subject/>
  <dc:title>Slide 1</dc:title>
</cp:coreProperties>
</file>