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Scheduling &amp; Concurrency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Lecture 13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ady List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362320"/>
            <a:ext cx="129564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981080"/>
            <a:ext cx="129564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98108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90760" y="3900600"/>
            <a:ext cx="95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362320"/>
            <a:ext cx="129528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9810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198108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71840" y="3900600"/>
            <a:ext cx="95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2362320"/>
            <a:ext cx="129528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9810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198108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2920" y="3900600"/>
            <a:ext cx="95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81080"/>
            <a:ext cx="685800" cy="0"/>
          </a:xfrm>
          <a:prstGeom prst="line">
            <a:avLst/>
          </a:prstGeom>
          <a:ln w="93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440" y="1600200"/>
            <a:ext cx="9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49680" y="1752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s th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schedul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t of the operating system that decides which process/task to run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a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scheduling algorith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hat enforces some kind of policy that is designed to meet some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riteria may var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U uti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keep the CPU as busy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maximize the number of processes completed per time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urnaround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minimize a process’ latency (run time), i.e., time between task submission and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ponse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minimize the wait time for interactive proce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must meet specific deadlines to prevent “bad things” from happe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CFS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irst­come, first­serv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FCFS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first task that arrives at the request queue is executed first, the second task is executed second and so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ust like standing in line for a roller­coaster r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CFS can make the wait time for a process very lo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ces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otal Run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1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2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3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8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724280"/>
            <a:ext cx="26668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5791320"/>
            <a:ext cx="266724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7242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579132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2210040" cy="457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5791320"/>
            <a:ext cx="2209680" cy="457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19880" y="4308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39240" y="4308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3840" y="4308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7848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29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4244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200" y="480060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If arrival order is P1, P2, 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200" y="579132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If arrival order is P2, P3,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hortest­Job­First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chedule processes according to their run-tim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ces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Total Run 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sec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 seco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ay be run­time or CPU burst­time of a proc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CPU burst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he time a process spends executing in-between I/O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 difficult to know the run-time of a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32320"/>
            <a:ext cx="3049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532320"/>
            <a:ext cx="9903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3532320"/>
            <a:ext cx="2438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2160" y="32004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42680" y="32004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09360" y="32004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532320"/>
            <a:ext cx="1600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3440" y="32004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hortest­Job­First is a special case of priority scheduli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iority schedul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ssigns a priority to each process. Those with higher priorities are run first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ies are generally represented by numbers, e.g., 0..7, 0..409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 general rule about whether zero represents high or low prio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'll assume that higher numbers represent higher pri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ces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urstTim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seco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 seco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 seco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 seco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86400"/>
            <a:ext cx="30456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5486400"/>
            <a:ext cx="990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5486400"/>
            <a:ext cx="1752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9880" y="5181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90040" y="5181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9560" y="5181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5486400"/>
            <a:ext cx="24386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6960" y="5181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iority Scheduling (con't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o picks the priority of a process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to low­priority jobs if there are lots of high­priority jobs in the queue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3986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ulti­level Round­Robin Schedul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process at a given priority is executed for a small amount of time called a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time-slic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or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time quantum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the time slice expires, the next process in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ound­robi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order at the same priority is executed ­­ unless there is now a higher priority process ready to execut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time slice is often several timer tick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ocess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urstTime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 seco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 seco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 secon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 seco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uantum is 1 “unit” of time (10ms, 20ms, 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5638680"/>
            <a:ext cx="30456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5638680"/>
            <a:ext cx="3049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563868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6040" y="53816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096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352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5638680"/>
            <a:ext cx="304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0844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5638680"/>
            <a:ext cx="30492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5638680"/>
            <a:ext cx="304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5638680"/>
            <a:ext cx="3049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8680"/>
            <a:ext cx="3049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5638680"/>
            <a:ext cx="304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5638680"/>
            <a:ext cx="304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5638680"/>
            <a:ext cx="304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5638680"/>
            <a:ext cx="304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912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9404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9860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8420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1300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2284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3232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924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27400" y="53784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Up Next: Interactions Between Process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ultitasking </a:t>
            </a:r>
            <a:r>
              <a:rPr b="0" lang="en-US" sz="2400" spc="-1" strike="noStrike">
                <a:solidFill>
                  <a:srgbClr val="00330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multiple processes/tasks providing the illusion of  “running in parallel”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erhaps really running in parallel if there are multiple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process/task can be stopped at any point so that some other process/task can run on the CPU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t the same time, these processes/tasks running on the same system might interac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ed to make sure that processes do not get in each other’s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ed to ensure proper sequencing when dependencies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t of lec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how do we deal wit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shared st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tween processes/tasks running on the same process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Sec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iece of code that must appear as an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atomic a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Atomic A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­ action that “appears” to take place in a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single indivisible opera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 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process one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process two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while (1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x = x +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 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f “x=x+1” can execute atomically, then there is no race condi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Race condi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­ outcome depends on the particular order in which the operations takes pla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Sec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5181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7200" y="6019920"/>
            <a:ext cx="1828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MA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ingle vs. Double buffer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roduction to Proc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eground/Backgrou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Control Block (P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267080" y="3581280"/>
            <a:ext cx="160020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581280"/>
            <a:ext cx="160020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1 – Taking Tur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se a shared variable to keep track of whose turn it i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f a process, P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Times New Roman"/>
                <a:ea typeface="宋体"/>
              </a:rPr>
              <a:t>i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, is executing in its critical section, then no other process can be executing in its critical sec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olution 1 (key is initially set to 1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rocess 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(key != 1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 (key != 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 = 2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 = 1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mmm…..what if Process 1 turns the key over to Process 2, which then never enters the critical sectio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e have mutual exclusion, but do we have progress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1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0100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571500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588960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3733920"/>
            <a:ext cx="1600200" cy="3808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733920"/>
            <a:ext cx="1600200" cy="3808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ip Van Winkle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Syndrom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Problem with Solution 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What if one process sleeps forever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while (1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(key != 1)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key != 2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= 2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=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leep (forever)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Problem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the right to enter the critical section is being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explicitl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passed from one process to anoth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process controls the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ke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to enter the critical sec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64008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867280" y="2895480"/>
            <a:ext cx="221004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2895480"/>
            <a:ext cx="221004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2 – Status Flag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ave each process check to make sure no other process is in the critical sec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rocess 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(P2inCrit == 1)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P1inCrit == 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1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P2inCrit =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                     x = x +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0;                   P2inCrit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                                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initiall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      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P1inCrit = P2inCrit = 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o, we have progress, but how about mutual exclusio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2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73320" y="1679400"/>
            <a:ext cx="5572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676520" y="2133720"/>
            <a:ext cx="2133360" cy="3808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2133720"/>
            <a:ext cx="2133720" cy="3808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2 Does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not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Guarantee Mutual Exclusion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  process tw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while (1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(P2inCrit == 1);     while (P1inCrit == 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1;             P2inCrit =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               x = x +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0;             P2inCrit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                    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2inCrit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itially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1 checks P2inCrit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2 checks P1inCrit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1 sets P1inCrit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2 sets P2inCrit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1 enters crit. section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 2 enters crit. Section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1447920"/>
            <a:ext cx="1600200" cy="761760"/>
          </a:xfrm>
          <a:prstGeom prst="rightArrowCallout">
            <a:avLst>
              <a:gd name="adj1" fmla="val 13779"/>
              <a:gd name="adj2" fmla="val 13958"/>
              <a:gd name="adj3" fmla="val 37082"/>
              <a:gd name="adj4" fmla="val 6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2 exec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62240" y="1760400"/>
            <a:ext cx="160020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95840" y="1760400"/>
            <a:ext cx="1600200" cy="38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3: Enter the Critical Section 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irs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t your own flag before testing the other o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process two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1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P2inCrit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P2inCrit == 1);     while (P1inCrit ==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x = x +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P2inCrit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     P2inCrit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itially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0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set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sets P2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checks P2inCr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check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process waits indefinitely for the other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5562720"/>
            <a:ext cx="2590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adlock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­ when the computer can do no more usefu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2590920" cy="2409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-76320" y="1752480"/>
            <a:ext cx="1600200" cy="762120"/>
          </a:xfrm>
          <a:prstGeom prst="rightArrowCallout">
            <a:avLst>
              <a:gd name="adj1" fmla="val 13779"/>
              <a:gd name="adj2" fmla="val 13958"/>
              <a:gd name="adj3" fmla="val 37065"/>
              <a:gd name="adj4" fmla="val 6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2 exec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402160" y="1797120"/>
            <a:ext cx="2438640" cy="13716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68600" y="1797120"/>
            <a:ext cx="2504880" cy="137160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lution 4 ­ Relinquish Crit. Sec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process on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process tw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1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P2inCrit =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hile (P2inCrit == 1)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while (P1inCrit == 1)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0;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P2inCrit = 0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leep(x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sleep(y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P2inCrit =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x = x +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inCrit = 0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P2inCrit = 0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inCrit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itially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set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sets P2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checks P2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check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set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sets P2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0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1 sets P1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P2 sets P2inCrit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1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1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4267080"/>
            <a:ext cx="199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tarvation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­ when some process(es) can make progress, but some identifiable process is being indefinitely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3400" y="658800"/>
            <a:ext cx="73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eriodically clear and reset your own flag before testing the other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466760" y="1295280"/>
            <a:ext cx="1600200" cy="762120"/>
          </a:xfrm>
          <a:prstGeom prst="rightArrowCallout">
            <a:avLst>
              <a:gd name="adj1" fmla="val 13779"/>
              <a:gd name="adj2" fmla="val 13958"/>
              <a:gd name="adj3" fmla="val 37065"/>
              <a:gd name="adj4" fmla="val 6666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45360" y="1231920"/>
            <a:ext cx="199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2 ent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gai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1 sle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Dekker's Algorithm – Take Turns &amp; Use Status Flag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Courier New"/>
                <a:ea typeface="宋体"/>
              </a:rPr>
              <a:t>process two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while (1){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while (1){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= 1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P2inCrit = 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while (P2inCrit == 1){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while (P1inCrit == 1){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if (turn == 2){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if (turn == 1){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= 0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2inCrit = 0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while (turn == 2)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while (turn == 1)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= 1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2inCrit = 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  }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}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x = x + 1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x = x + 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turn = 2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turn = 1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P1inCrit = 0;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  P2inCrit = 0;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ly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tur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1 and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P1inCri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P2inCri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0;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ekker's Algorith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572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FOCUS: Multiple processes/tasks running on the same CP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text switch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alternating between the different processes or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chedul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deciding which task/process to run nex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ous scheduling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ritical section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providing adequate memory-protection when multiple tasks/processes run concurrentl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ous solutions to dealing with critical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utual Exclus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24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Simples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form of concurrent programmi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ekker's algorithm is difficult to extend to 3 or more process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emaphores are a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much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easier mechanism to us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1600" y="4040280"/>
            <a:ext cx="1981080" cy="1963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maphor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Semaphor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­ an integer variable (&gt; 0) that normally can take on only non­zero valu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ly three operations can be performed on a semaphore ­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all operations are atomic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init(s, #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s semaphor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to an initial value #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ait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 &gt;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 = s ­ 1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lse suspend the process that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a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ignal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 = s + 1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some process P has been suspended by a previou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ait(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ake up 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norm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the process waiting the longest gets woken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utual Exclusion with Semaphor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process on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process tw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ait(s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wait(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x = x + 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x = x +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ignal(s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signal(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ly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 = 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this is called 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inary semaphor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utual Exclusion with Semaphor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62000" y="1433520"/>
            <a:ext cx="7020000" cy="3990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6440" y="529596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mplementing Semaphor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sable interrupt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works on unipro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ardware suppor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­ 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  <a:ea typeface="宋体"/>
              </a:rPr>
              <a:t>Test and Set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宋体"/>
              </a:rPr>
              <a:t>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following steps are executed atomic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ST the operand and set the CPU status flags so that they reflect whether it is zero or non­z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 the operand, so that it is non­z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LOOP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TAS lockby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NZ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Courier New"/>
                <a:ea typeface="宋体"/>
              </a:rPr>
              <a:t>critical sec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LR lock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8400" y="5715000"/>
            <a:ext cx="236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busy-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a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pin-l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Producer­Consumer Proble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e process produces data, the other consumes 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e.g., I/O from keyboard to termi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roducer(){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consumer(){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while(1){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while(1)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roduce;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宋体"/>
              </a:rPr>
              <a:t>wait(n);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appendToBuffer;   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takeFromBuffer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2000" spc="-1" strike="noStrike">
                <a:solidFill>
                  <a:srgbClr val="990000"/>
                </a:solidFill>
                <a:latin typeface="Courier New"/>
                <a:ea typeface="宋体"/>
              </a:rPr>
              <a:t>signal(n);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  consume()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 }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ly, n = 0;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nother Producer/Consum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f both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appendToBuffer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d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takeFrom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canno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overlap in execu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xample, if buffer is a linked list &amp; a free p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, multiple producers and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ducer() 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nsum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(1){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while(1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duce;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  <a:ea typeface="宋体"/>
              </a:rPr>
              <a:t>wait(n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wait(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wait(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ppendToBuffer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akeFromBuff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signal(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宋体"/>
              </a:rPr>
              <a:t>signal(s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  <a:ea typeface="宋体"/>
              </a:rPr>
              <a:t>signal(n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consu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ly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= 1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0;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ounded Buffer Proble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ssume a single buffer of fixed siz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umer blocks (sleeps) when buffer is emp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r blocks (sleeps) when the buffer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roducer() {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onsumer() 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while(1) {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while(1)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roduce;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wait(itemReady);</a:t>
            </a:r>
            <a:r>
              <a:rPr b="0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  <a:ea typeface="宋体"/>
              </a:rPr>
              <a:t>wait(spacesLeft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宋体"/>
              </a:rPr>
              <a:t>wait(mutex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宋体"/>
              </a:rPr>
              <a:t>wait(Mutex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takeFromBuffer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ppendToBuffer;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宋体"/>
              </a:rPr>
              <a:t>signal(mutex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宋体"/>
              </a:rPr>
              <a:t>signal(Mutex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  <a:ea typeface="宋体"/>
              </a:rPr>
              <a:t>signal(spacesLeft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signal(itemReady);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consume(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ly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1,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0;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 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izeOf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;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886200" y="3047760"/>
            <a:ext cx="914400" cy="14475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3733560" y="3352320"/>
            <a:ext cx="1066680" cy="685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295280" y="3581280"/>
            <a:ext cx="609120" cy="609480"/>
            <a:chOff x="1295280" y="3581280"/>
            <a:chExt cx="609120" cy="609480"/>
          </a:xfrm>
        </p:grpSpPr>
        <p:sp>
          <p:nvSpPr>
            <p:cNvPr id="341" name=""/>
            <p:cNvSpPr/>
            <p:nvPr/>
          </p:nvSpPr>
          <p:spPr>
            <a:xfrm flipH="1">
              <a:off x="1295280" y="3581280"/>
              <a:ext cx="609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1295280" y="3580920"/>
              <a:ext cx="6091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869080" y="3276720"/>
            <a:ext cx="1522080" cy="609480"/>
            <a:chOff x="5869080" y="3276720"/>
            <a:chExt cx="1522080" cy="609480"/>
          </a:xfrm>
        </p:grpSpPr>
        <p:sp>
          <p:nvSpPr>
            <p:cNvPr id="344" name=""/>
            <p:cNvSpPr/>
            <p:nvPr/>
          </p:nvSpPr>
          <p:spPr>
            <a:xfrm>
              <a:off x="5869080" y="3276720"/>
              <a:ext cx="15220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869080" y="3276360"/>
              <a:ext cx="15220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ood for Though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akery Algorithm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 arrival at a bakery, the customer picks a token with a number and waits until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baker serves the customer waiting with the lowes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the same applies today at jewelry shop and AAA ;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ar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condition variabl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es the producer block when the buffer is ful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s there any way to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void busy-waits in multiprocessor environments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405160" cy="1785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396040" y="762120"/>
            <a:ext cx="185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tomic SWAP Instruction on the AR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WP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combines a load and a store in a single, atomic opera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DR    r0, semaph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WPB   r1, r1,[r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W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oads the word (or byte) from memory location address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stores the same data type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to the same mem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WP&lt;cond&gt; {B} Rd, Rm, [R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Big Pictur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838080"/>
            <a:ext cx="8077320" cy="5564160"/>
            <a:chOff x="457200" y="838080"/>
            <a:chExt cx="8077320" cy="5564160"/>
          </a:xfrm>
        </p:grpSpPr>
        <p:grpSp>
          <p:nvGrpSpPr>
            <p:cNvPr id="49" name=""/>
            <p:cNvGrpSpPr/>
            <p:nvPr/>
          </p:nvGrpSpPr>
          <p:grpSpPr>
            <a:xfrm>
              <a:off x="3733920" y="4800600"/>
              <a:ext cx="1066680" cy="1219320"/>
              <a:chOff x="3733920" y="4800600"/>
              <a:chExt cx="1066680" cy="1219320"/>
            </a:xfrm>
          </p:grpSpPr>
          <p:sp>
            <p:nvSpPr>
              <p:cNvPr id="50" name=""/>
              <p:cNvSpPr/>
              <p:nvPr/>
            </p:nvSpPr>
            <p:spPr>
              <a:xfrm>
                <a:off x="3733920" y="48006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33920" y="49528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33920" y="510552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33920" y="52578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33920" y="54100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33920" y="556272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33920" y="57150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33920" y="58672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600200" y="2590920"/>
              <a:ext cx="1066680" cy="1218600"/>
              <a:chOff x="1600200" y="2590920"/>
              <a:chExt cx="1066680" cy="1218600"/>
            </a:xfrm>
          </p:grpSpPr>
          <p:sp>
            <p:nvSpPr>
              <p:cNvPr id="59" name=""/>
              <p:cNvSpPr/>
              <p:nvPr/>
            </p:nvSpPr>
            <p:spPr>
              <a:xfrm>
                <a:off x="1600200" y="259092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00200" y="27428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00200" y="28954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00200" y="30477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00200" y="32000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00200" y="33526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00200" y="35049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00200" y="36572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600200" y="838080"/>
              <a:ext cx="1066680" cy="533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0200" y="1676520"/>
              <a:ext cx="1066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08400" y="184320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task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666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66680" y="10663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1066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9000" y="3882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82360" y="6033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" y="4419720"/>
              <a:ext cx="807732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9720" y="44197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9720" y="4038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200400" y="855720"/>
              <a:ext cx="1839960" cy="3413160"/>
              <a:chOff x="3200400" y="855720"/>
              <a:chExt cx="1839960" cy="341316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3733920" y="2608200"/>
                <a:ext cx="1066680" cy="1219320"/>
                <a:chOff x="3733920" y="2608200"/>
                <a:chExt cx="1066680" cy="12193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33920" y="26082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33920" y="27604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33920" y="291312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33920" y="30654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33920" y="32176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33920" y="337032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33920" y="35226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3920" y="36748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3733920" y="855720"/>
                <a:ext cx="1066680" cy="53352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33920" y="1693800"/>
                <a:ext cx="106668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41760" y="1860480"/>
                <a:ext cx="129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00"/>
                    </a:solidFill>
                    <a:latin typeface="Times New Roman"/>
                  </a:rPr>
                  <a:t>task prior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200400" y="1084320"/>
                <a:ext cx="533520" cy="1752480"/>
                <a:chOff x="3200400" y="1084320"/>
                <a:chExt cx="533520" cy="175248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3200400" y="28368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200400" y="10843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200400" y="10843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582360" y="3900600"/>
                <a:ext cx="145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50021"/>
                    </a:solidFill>
                    <a:latin typeface="Times New Roman"/>
                  </a:rPr>
                  <a:t>CPU regis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934320" y="2590920"/>
              <a:ext cx="1066680" cy="1218600"/>
              <a:chOff x="6934320" y="2590920"/>
              <a:chExt cx="1066680" cy="1218600"/>
            </a:xfrm>
          </p:grpSpPr>
          <p:sp>
            <p:nvSpPr>
              <p:cNvPr id="97" name=""/>
              <p:cNvSpPr/>
              <p:nvPr/>
            </p:nvSpPr>
            <p:spPr>
              <a:xfrm>
                <a:off x="6934320" y="259092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34320" y="27428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34320" y="28954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34320" y="30477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934320" y="32000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34320" y="33526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34320" y="35049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934320" y="36572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934320" y="838080"/>
              <a:ext cx="1066680" cy="533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1676520"/>
              <a:ext cx="1066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2160" y="184320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task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477120" y="1066320"/>
              <a:ext cx="457200" cy="1753200"/>
              <a:chOff x="6477120" y="1066320"/>
              <a:chExt cx="457200" cy="175320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6477120" y="2819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477120" y="1066320"/>
                <a:ext cx="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77120" y="1066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782760" y="3882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19720" y="180324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0000"/>
                  </a:solidFill>
                  <a:latin typeface="Times New Roman"/>
                </a:rPr>
                <a:t>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2000" y="4540320"/>
              <a:ext cx="58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2920" y="51814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text switch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alternating between the different processes or task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chedul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deciding which task/process to ru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-come first-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und-ro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ority-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ritical section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= providing adequate memory-protection when multiple tasks/processes run concurrentl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arious solutions to dealing with critical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erminolog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Batch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system </a:t>
            </a:r>
            <a:r>
              <a:rPr b="0" lang="en-US" sz="2000" spc="-1" strike="noStrike">
                <a:solidFill>
                  <a:srgbClr val="0033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operating system technique where one job completes before the next one star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Multi-task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operating system technique for sharing a single processor between multiple independent task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Cooperative multi-tas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unning task decides when to yield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Preemptive multi-tas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other entity (the scheduler) decides when to make a running task yield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 both cooperative and preemptive ca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heduler decides the next task to run on the CPU, and starts this next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 interrupts and high-priority tasks might cause a task to yield the CPU prematur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ltitasking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s.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batch syste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12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tasking has more overheads – saving the current task, selecting the next task, loading the next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125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tasking needs to provide for inter-task memory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99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tasking allows for concurrency – if a task is waiting for an event, another task can grab the CPU and get some work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text Switch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Note: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I will use the work “task” interchangeably with “process” in this lectu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CPU’s replacement of the currently running task with a new one is called a 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context switch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”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imply saves the old context and “restores” the new o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 task is inter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’s registers for that particular task are saved in a task-specif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sk is placed on the “ready” list to await the next time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sk control block stores memory usage, priority level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w task’s registers and status are loaded into the proces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w task starts to 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generally includes changing the stack pointer, the PC and the PSR (program status register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en </a:t>
            </a:r>
            <a:r>
              <a:rPr b="0" i="1" lang="en-US" sz="3600" spc="-1" strike="noStrike" u="sng">
                <a:solidFill>
                  <a:srgbClr val="990000"/>
                </a:solidFill>
                <a:uFillTx/>
                <a:latin typeface="Times New Roman"/>
                <a:ea typeface="宋体"/>
              </a:rPr>
              <a:t>Can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A Context-Switch Occur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ime-slic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-slice: period of time a task can run before a context-switch can replac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riven by periodic hardware interrupts from the system 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uring a clock interrupt, the kernel’s scheduler can determine if another process should run and perform a context-swi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f course, this doesn’t mean that there is a context-switch at every time-sl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eemp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ly running task can be halted and switched out by a higher-priority active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 need to wait until the end of the time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7800" y="1447920"/>
            <a:ext cx="3413880" cy="1906920"/>
            <a:chOff x="5257800" y="1447920"/>
            <a:chExt cx="3413880" cy="1906920"/>
          </a:xfrm>
        </p:grpSpPr>
        <p:grpSp>
          <p:nvGrpSpPr>
            <p:cNvPr id="123" name=""/>
            <p:cNvGrpSpPr/>
            <p:nvPr/>
          </p:nvGrpSpPr>
          <p:grpSpPr>
            <a:xfrm>
              <a:off x="5257800" y="1981080"/>
              <a:ext cx="3200400" cy="532800"/>
              <a:chOff x="5257800" y="1981080"/>
              <a:chExt cx="3200400" cy="532800"/>
            </a:xfrm>
          </p:grpSpPr>
          <p:sp>
            <p:nvSpPr>
              <p:cNvPr id="124" name=""/>
              <p:cNvSpPr/>
              <p:nvPr/>
            </p:nvSpPr>
            <p:spPr>
              <a:xfrm>
                <a:off x="5257800" y="1981080"/>
                <a:ext cx="457200" cy="53280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15000" y="1981080"/>
                <a:ext cx="457200" cy="53280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72200" y="1981080"/>
                <a:ext cx="457200" cy="532800"/>
              </a:xfrm>
              <a:prstGeom prst="rect">
                <a:avLst/>
              </a:prstGeom>
              <a:solidFill>
                <a:srgbClr val="cc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81080"/>
                <a:ext cx="457200" cy="532800"/>
              </a:xfrm>
              <a:prstGeom prst="rect">
                <a:avLst/>
              </a:prstGeom>
              <a:solidFill>
                <a:srgbClr val="00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86600" y="1981080"/>
                <a:ext cx="457200" cy="5328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543800" y="1981080"/>
                <a:ext cx="457200" cy="5328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01000" y="1981080"/>
                <a:ext cx="457200" cy="53280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954920" y="18284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25960" y="1447920"/>
              <a:ext cx="94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-s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2080" y="2590560"/>
              <a:ext cx="22860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3320" y="259056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811560" y="2590560"/>
              <a:ext cx="22860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964200" y="2590560"/>
              <a:ext cx="99072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48000" y="3047760"/>
              <a:ext cx="141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xt swi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34120" y="4419720"/>
            <a:ext cx="3200400" cy="1373760"/>
            <a:chOff x="5334120" y="4419720"/>
            <a:chExt cx="3200400" cy="1373760"/>
          </a:xfrm>
        </p:grpSpPr>
        <p:sp>
          <p:nvSpPr>
            <p:cNvPr id="139" name=""/>
            <p:cNvSpPr/>
            <p:nvPr/>
          </p:nvSpPr>
          <p:spPr>
            <a:xfrm>
              <a:off x="5334120" y="4419720"/>
              <a:ext cx="685800" cy="533160"/>
            </a:xfrm>
            <a:prstGeom prst="rect">
              <a:avLst/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05720" y="4419720"/>
              <a:ext cx="457200" cy="533160"/>
            </a:xfrm>
            <a:prstGeom prst="rect">
              <a:avLst/>
            </a:prstGeom>
            <a:solidFill>
              <a:srgbClr val="00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77320" y="4419720"/>
              <a:ext cx="457200" cy="533160"/>
            </a:xfrm>
            <a:prstGeom prst="rect">
              <a:avLst/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19920" y="5029200"/>
              <a:ext cx="487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659280" y="5029200"/>
              <a:ext cx="2746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87880" y="5029200"/>
              <a:ext cx="2286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40160" y="5029200"/>
              <a:ext cx="13417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4320" y="5486400"/>
              <a:ext cx="141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xt swi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4419720"/>
              <a:ext cx="914400" cy="533160"/>
            </a:xfrm>
            <a:prstGeom prst="rect">
              <a:avLst/>
            </a:prstGeom>
            <a:solidFill>
              <a:srgbClr val="cc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4419720"/>
              <a:ext cx="1219320" cy="5331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text Switch Overhead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often do context switches occu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practi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depends – on wh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ystem context-switch vs. processor context-swit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text-switch = amount of time for the CPU to save the current task’s context and restore the next task’s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text-switch = amount of time from the point that the task was ready for context-switching to when it was actually swapp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long does a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ystem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context-switch take?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context-switch time is a measure of respons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-slicing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-slice period + processor context-switch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eemptive 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processor context-switch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eemption is mostly preferred because it is more responsive  (system context-switch = processor context-swit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Stat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process can be in any one of many different stat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447920"/>
            <a:ext cx="121932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666880"/>
            <a:ext cx="1219320" cy="762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267080"/>
            <a:ext cx="121896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rm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191120"/>
            <a:ext cx="121932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14800"/>
            <a:ext cx="121896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5562720"/>
            <a:ext cx="121932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00000">
            <a:off x="2362680" y="4190760"/>
            <a:ext cx="39614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09680" y="4343400"/>
            <a:ext cx="44193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87692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432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714640" y="34286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419360" y="34282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90920" y="3048120"/>
            <a:ext cx="2209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33720" y="1827360"/>
            <a:ext cx="5333040" cy="442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709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7095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31680" y="24382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9080" y="5029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interrup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73000" y="464832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task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90600" y="3276720"/>
            <a:ext cx="66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683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task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616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3526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exp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1337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occ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2666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wai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01480" y="1981080"/>
            <a:ext cx="154908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267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26763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16200000">
            <a:off x="1343160" y="1765080"/>
            <a:ext cx="629820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8124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812463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352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delay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for </a:t>
            </a:r>
            <a:r>
              <a:rPr b="0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 ti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725560" y="4540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70840" y="4235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task 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johnso2</cp:lastModifiedBy>
  <cp:lastPrinted>2001-10-05T23:54:49Z</cp:lastPrinted>
  <dcterms:modified xsi:type="dcterms:W3CDTF">2004-09-07T22:35:39Z</dcterms:modified>
  <cp:revision>333</cp:revision>
  <dc:subject>Karanji Anjaneyaswamy</dc:subject>
  <dc:title>Vakratundam Mahakayam</dc:title>
</cp:coreProperties>
</file>