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00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60840" y="6568920"/>
            <a:ext cx="363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  <a:ea typeface="宋体"/>
              </a:rPr>
              <a:t>18-349: Introduction to Embedde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  <a:ea typeface="宋体"/>
              </a:rPr>
              <a:t>Embedded Middleware</a:t>
            </a:r>
            <a:endParaRPr b="0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cture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CORB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(Common Object Request Broker Architecture)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0360" y="761760"/>
            <a:ext cx="8001000" cy="57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ddleware for interoperability from                                                                                       the Object Manage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U is a member of the OMG, along                                                                                                 with 800 other companies/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key component is the “broker” (O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hields the client and the server from                                                                                                        each other’s dif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’s the CORBA client-server mod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宋体"/>
              </a:rPr>
              <a:t>Languag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Clients and servers can be written in different programming langu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宋体"/>
              </a:rPr>
              <a:t>Lo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Client and server don’t care about each other’s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宋体"/>
              </a:rPr>
              <a:t>Interoper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Clients and servers can run on different hardware, operating systems and still be able to talk to each other using a protocol called 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 support for distributed garbag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Real-Time CORBA standard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55120" y="75960"/>
            <a:ext cx="8471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CORBA - Putting All The Pieces Togeth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3600" y="852480"/>
            <a:ext cx="7255080" cy="53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J2E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(Java 2 Enterprise Edition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360" y="863280"/>
            <a:ext cx="908064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n Microsystems’ Java-based 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mplicitly has all of Java’s portability 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onent: application-level software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ainer: runtime support/services for a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 the client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lets, application clients executing in their own J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 the server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eb compon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rvlets and Java Server Pages (J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prise Java Beans (EJB) components can contain two kinds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ssion beans: valid for the duration of a client-server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ntity beans: valid for the lifetime of the persistent data that it man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makes J2EE powerfu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n interface to multiple existing back-end systems and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of Java’s intrinsic portability, graphical, web &amp; garbage collection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Real-Time Java standard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J2EE - Putting All The Pieces Togeth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6160" y="728640"/>
            <a:ext cx="6707160" cy="56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DCOM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(Distributed Component Object Model)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360" y="863640"/>
            <a:ext cx="9080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soft’s 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COM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ody of code containing multipl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object can support multiple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n be written in Java, C++, Pa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COM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ets a pointer to one of the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alks to the server over that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esn’t care if the server is local or 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ient-server commun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ccurs over the Object Remote Procedure Call (OR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iginates from DCE’s RPC (where Distributed Computing Environment, or DCE, was one of the earliest middleware platfo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broker is called the Service Control Manager (S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me support for distributed garbage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DCOM - Putting All The Pieces Togeth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5120" y="920880"/>
            <a:ext cx="8377200" cy="52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Critical Think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What are the differences between DCOM, EJB and COR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Overview of CORBA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96920" y="939960"/>
            <a:ext cx="7551720" cy="3809880"/>
            <a:chOff x="1096920" y="939960"/>
            <a:chExt cx="7551720" cy="3809880"/>
          </a:xfrm>
        </p:grpSpPr>
        <p:sp>
          <p:nvSpPr>
            <p:cNvPr id="131" name=""/>
            <p:cNvSpPr/>
            <p:nvPr/>
          </p:nvSpPr>
          <p:spPr>
            <a:xfrm>
              <a:off x="1494000" y="1679400"/>
              <a:ext cx="1771560" cy="252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96920" y="1138320"/>
              <a:ext cx="11984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CORBA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07080" y="1482840"/>
              <a:ext cx="2438280" cy="3267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74080" y="939960"/>
              <a:ext cx="1474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COR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824120" y="944640"/>
            <a:ext cx="5007960" cy="2428200"/>
            <a:chOff x="1824120" y="944640"/>
            <a:chExt cx="5007960" cy="2428200"/>
          </a:xfrm>
        </p:grpSpPr>
        <p:sp>
          <p:nvSpPr>
            <p:cNvPr id="136" name=""/>
            <p:cNvSpPr/>
            <p:nvPr/>
          </p:nvSpPr>
          <p:spPr>
            <a:xfrm>
              <a:off x="5799240" y="2610000"/>
              <a:ext cx="987480" cy="5950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ff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7200" y="2776680"/>
              <a:ext cx="958680" cy="59508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00ff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endCxn id="137" idx="3"/>
            </p:cNvCxnSpPr>
            <p:nvPr/>
          </p:nvCxnSpPr>
          <p:spPr>
            <a:xfrm rot="5400000">
              <a:off x="2616840" y="1182600"/>
              <a:ext cx="2131200" cy="165492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4543560" y="3071880"/>
              <a:ext cx="1306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7920" y="1938240"/>
              <a:ext cx="1508040" cy="581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57600" y="1967040"/>
              <a:ext cx="17748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IDL-to-Java/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4120" y="2813040"/>
              <a:ext cx="10630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ava/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St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69000" y="2627280"/>
              <a:ext cx="10630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ava/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Skele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44440" y="896760"/>
            <a:ext cx="1381680" cy="559800"/>
            <a:chOff x="3844440" y="896760"/>
            <a:chExt cx="1381680" cy="559800"/>
          </a:xfrm>
        </p:grpSpPr>
        <p:sp>
          <p:nvSpPr>
            <p:cNvPr id="145" name=""/>
            <p:cNvSpPr/>
            <p:nvPr/>
          </p:nvSpPr>
          <p:spPr>
            <a:xfrm>
              <a:off x="3917880" y="907920"/>
              <a:ext cx="1262160" cy="53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44440" y="896760"/>
              <a:ext cx="13816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imes New Roman"/>
                </a:rPr>
                <a:t>Server’s 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898560" y="4054320"/>
            <a:ext cx="7264440" cy="2372040"/>
            <a:chOff x="898560" y="4054320"/>
            <a:chExt cx="7264440" cy="2372040"/>
          </a:xfrm>
        </p:grpSpPr>
        <p:sp>
          <p:nvSpPr>
            <p:cNvPr id="148" name=""/>
            <p:cNvSpPr/>
            <p:nvPr/>
          </p:nvSpPr>
          <p:spPr>
            <a:xfrm>
              <a:off x="5116680" y="5316480"/>
              <a:ext cx="3046320" cy="566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33333"/>
                </a:gs>
                <a:gs pos="50000">
                  <a:srgbClr val="b2b2b2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50" idx="2"/>
            </p:cNvCxnSpPr>
            <p:nvPr/>
          </p:nvCxnSpPr>
          <p:spPr>
            <a:xfrm flipH="1" flipV="1" rot="5400000">
              <a:off x="4487400" y="3654720"/>
              <a:ext cx="7200" cy="4358520"/>
            </a:xfrm>
            <a:prstGeom prst="bentConnector3">
              <a:avLst>
                <a:gd name="adj1" fmla="val -360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898560" y="5308560"/>
              <a:ext cx="3046320" cy="566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33333"/>
                </a:gs>
                <a:gs pos="50000">
                  <a:srgbClr val="b2b2b2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76960" y="544032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t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93920" y="4054320"/>
              <a:ext cx="0" cy="12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522840" y="4635360"/>
              <a:ext cx="14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6680" y="6058080"/>
              <a:ext cx="34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Times New Roman"/>
                </a:rPr>
                <a:t>IIOP (Internet Inter-ORB Protoco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6760" y="546084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t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494400" y="1631880"/>
            <a:ext cx="1619280" cy="2277000"/>
            <a:chOff x="6494400" y="1631880"/>
            <a:chExt cx="1619280" cy="2277000"/>
          </a:xfrm>
        </p:grpSpPr>
        <p:sp>
          <p:nvSpPr>
            <p:cNvPr id="157" name=""/>
            <p:cNvSpPr/>
            <p:nvPr/>
          </p:nvSpPr>
          <p:spPr>
            <a:xfrm>
              <a:off x="6494400" y="3441600"/>
              <a:ext cx="1522440" cy="436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6600"/>
                </a:gs>
                <a:gs pos="50000">
                  <a:srgbClr val="00ff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1240" y="3094200"/>
              <a:ext cx="44928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39160" y="2076480"/>
              <a:ext cx="664920" cy="7095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86274"/>
                  </a:srgbClr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48400" y="1631880"/>
              <a:ext cx="665280" cy="7095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86274"/>
                  </a:srgbClr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8800" y="351000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P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40560" y="2681280"/>
              <a:ext cx="13032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762680" y="2352600"/>
              <a:ext cx="145800" cy="11178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3800" y="1582560"/>
            <a:ext cx="4928400" cy="1211400"/>
            <a:chOff x="1963800" y="1582560"/>
            <a:chExt cx="4928400" cy="1211400"/>
          </a:xfrm>
        </p:grpSpPr>
        <p:grpSp>
          <p:nvGrpSpPr>
            <p:cNvPr id="165" name=""/>
            <p:cNvGrpSpPr/>
            <p:nvPr/>
          </p:nvGrpSpPr>
          <p:grpSpPr>
            <a:xfrm>
              <a:off x="1963800" y="1582560"/>
              <a:ext cx="4843440" cy="1211400"/>
              <a:chOff x="1963800" y="1582560"/>
              <a:chExt cx="4843440" cy="1211400"/>
            </a:xfrm>
          </p:grpSpPr>
          <p:sp>
            <p:nvSpPr>
              <p:cNvPr id="166" name=""/>
              <p:cNvSpPr/>
              <p:nvPr/>
            </p:nvSpPr>
            <p:spPr>
              <a:xfrm>
                <a:off x="6141960" y="1582560"/>
                <a:ext cx="665280" cy="709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6521040" y="2149200"/>
                <a:ext cx="1260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98720" y="1779480"/>
                <a:ext cx="6652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63800" y="1882800"/>
                <a:ext cx="70956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Logi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36760" y="2284560"/>
                <a:ext cx="0" cy="50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034680" y="1771560"/>
              <a:ext cx="8575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Serv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590840" y="3246480"/>
            <a:ext cx="6441840" cy="1395360"/>
            <a:chOff x="1590840" y="3246480"/>
            <a:chExt cx="6441840" cy="1395360"/>
          </a:xfrm>
        </p:grpSpPr>
        <p:sp>
          <p:nvSpPr>
            <p:cNvPr id="173" name=""/>
            <p:cNvSpPr/>
            <p:nvPr/>
          </p:nvSpPr>
          <p:spPr>
            <a:xfrm>
              <a:off x="1590840" y="3510000"/>
              <a:ext cx="1522080" cy="566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57920" y="4075200"/>
              <a:ext cx="2174760" cy="566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76600" y="3246480"/>
              <a:ext cx="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84800" y="424188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O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52200" y="363996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O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415280" y="3701880"/>
              <a:ext cx="1440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Interface Definition Language (IDL)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3440" y="734760"/>
            <a:ext cx="879624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ed to 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faces: methods or behavior (but not attributes or state) of a serv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dules: packages of related interfaces and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L is not a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 conditional constructs such a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if, else, then, while, do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IDL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vided with every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put  =  Server’s interface in 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utput  =  Skeleton and stub in a programming language (Java, C++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are the IDL typ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asic type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octet, char, short, long,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ructured type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someOtherType&gt;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union, str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bitrary type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r-defined types: e.g.,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4314960" y="3452760"/>
            <a:ext cx="1233360" cy="1828800"/>
            <a:chOff x="4314960" y="3452760"/>
            <a:chExt cx="1233360" cy="1828800"/>
          </a:xfrm>
        </p:grpSpPr>
        <p:sp>
          <p:nvSpPr>
            <p:cNvPr id="182" name=""/>
            <p:cNvSpPr/>
            <p:nvPr/>
          </p:nvSpPr>
          <p:spPr>
            <a:xfrm>
              <a:off x="5241960" y="4948200"/>
              <a:ext cx="306360" cy="333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2760" y="4545000"/>
              <a:ext cx="754200" cy="37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1000" y="4175280"/>
              <a:ext cx="463680" cy="36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95680" y="3865680"/>
              <a:ext cx="333360" cy="36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14960" y="3452760"/>
              <a:ext cx="333360" cy="36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Example of an IDL Interface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8760" y="819000"/>
            <a:ext cx="786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Balance {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def sequence&lt;double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ositHisto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tBalance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unt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ositMoney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unt,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 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la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out DepositHis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te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drawMoney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raise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eroBala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Previous Lecture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ource of deterministic errors and random no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ics of signal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yquist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ic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you can do and when you should ask for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Stubs and Skeleton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0800" y="761760"/>
            <a:ext cx="462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a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st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utomatically generated by the IDL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ient-side glue in Java/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rshals (packages) parameters from the client into a message to be sent to th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marshals results from the respons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a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skele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utomatically generated by the IDL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rver-side glue in Java/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marshals (unpackages) messages into the parameters that the client                intended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rshals results into a respons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Portable Object Adapter (POA)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ists only within CORBA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patches incoming requests to the right target serv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so acts as a namespace for the collection of servants it man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ditional policies that you can use to customize a PO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th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ctivation on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ersistent references (lifespan of obje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ique object ident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server process can have multiple POAs, each configured differently, and each responsible for a certain set of serv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CORBA’s Protocol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General Inter-ORB Protocol (GI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fication of a protocol, and not the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ight message formats: Request, Reply, LocateRequest, LocateReply, CancelRequest, MessageError, CloseConnection, Fra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ll-defined headers for every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rries the sender’s byte or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be mapped onto any “real” protocol that is connection-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Internet Inter-ORB Protocol (II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crete implementation of GIOP specification onto 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st be supported by every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ows objects to communicate without caring about their operating systems,   hardware architectur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Other CORBA Component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Implementation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ores location of the executables in your fil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un-time registry of servers and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pecific to the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Interfac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ores the type information of all CORBA objects in you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ynamic invocation interface implies that you don’t know your types ahead of time, and you can look these up at run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Nam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gistry of user-friendly names associated with object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rvants can bind references by a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ients can look up references by tha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Interoperable Object References (IORs)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ringified format of a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be stored in a file, sent across the network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ains server’s hostname, port number, object ke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mple IOR 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OR:010000001000000049444c3a4163636f756e743a312e30000200000000000000300000000101000013000000752d6d61792e7468696e6b6f6e652e636f6d00007b0900000c000000424f410a20b0530000055030100000024000000010000000100000001000000140000000100000001000100000000000901010000000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305000" y="4340160"/>
            <a:ext cx="3919320" cy="1916280"/>
            <a:chOff x="1305000" y="4340160"/>
            <a:chExt cx="3919320" cy="1916280"/>
          </a:xfrm>
        </p:grpSpPr>
        <p:sp>
          <p:nvSpPr>
            <p:cNvPr id="200" name=""/>
            <p:cNvSpPr/>
            <p:nvPr/>
          </p:nvSpPr>
          <p:spPr>
            <a:xfrm>
              <a:off x="1973160" y="4340160"/>
              <a:ext cx="944640" cy="928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3200" y="5935680"/>
              <a:ext cx="1581120" cy="320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80640" y="593712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OR:0100…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89080" y="462132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05000" y="5599080"/>
              <a:ext cx="19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ect_to_string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55720" y="5122800"/>
              <a:ext cx="101628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094360" y="4317840"/>
            <a:ext cx="2266920" cy="1617840"/>
            <a:chOff x="5094360" y="4317840"/>
            <a:chExt cx="2266920" cy="1617840"/>
          </a:xfrm>
        </p:grpSpPr>
        <p:sp>
          <p:nvSpPr>
            <p:cNvPr id="207" name=""/>
            <p:cNvSpPr/>
            <p:nvPr/>
          </p:nvSpPr>
          <p:spPr>
            <a:xfrm>
              <a:off x="5492880" y="4317840"/>
              <a:ext cx="944280" cy="9288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c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23920" y="46260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30960" y="5562720"/>
              <a:ext cx="19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tring_to_object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094360" y="5122800"/>
              <a:ext cx="798480" cy="81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System and User Exception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ception – Something bad/illegal/undesirable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System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fined within the CORBA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alert the application of communication errors, resource exhaustion,            invalid object references, host cr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ually raised by the ORB before the request gets to the ser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 of a System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nor code: Identifies the source of the problem (e.g., COMM_FAIL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etion status: COMPLETED_YES, COMPLETED_NO, COMPLETED_MAY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ke sure that your CORBA clients catch system excep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User Exce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be defined within IDL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method of an interface can raise excep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57160" y="-4680"/>
            <a:ext cx="7669440" cy="68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640" y="-66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Inside Your Netscape Browser</a:t>
            </a:r>
            <a:endParaRPr b="0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6880" y="431640"/>
            <a:ext cx="8568000" cy="6426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773600" y="3735360"/>
            <a:ext cx="3905280" cy="9302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Middleware in Embedded System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ed resources: Smaller footprint (requires less code-blo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support (available in Real-Time CORBA spec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ll CORBA implementation: 150 Kbytes – 5 Mbyt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are your op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nimal CORBA: Throw out some of the heavyweight CORBA mechanisms (~ 30-60 K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IOP Engine: Use a library that keeps only the IIOP protocol part             (~ 15 K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RBA Gateways: TCP bridge from the embedded processors to a CORBA gateway that talks to the rest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Using CORBA Gatewa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1480" y="1281240"/>
            <a:ext cx="80870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Overview of Today’s Lecture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middlew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R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ava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ring different 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t to know one middleware (CORBA) in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ddleware in embed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are the criter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middlew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R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ava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re the different 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t to know one middleware (CORBA) really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iddleware in embed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are the criter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Moving Beyond A Single Processo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o far, we’ve only dealt with the issues of a single  embedded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f we want to get embedded processors to run applications that communicate across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etworked/distributed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es that communicate over the network (or on the same mach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– piece of code that requests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– piece of code that provides th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Writing Distributed Program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160" y="761760"/>
            <a:ext cx="890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mon ways of writing distributed client-serv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w-level interface to the operating system for TCP and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ven lower-level interface within the kernel (almost device-driver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Shared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w-level interface for clients and servers on the same machine to communicate using a chunk of memory that they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Shared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ients and servers exchange information through a shared fil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RPC (Remote Procedure C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ients communicate with long-lived server processes (daemons) over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927840" y="4676760"/>
            <a:ext cx="1727280" cy="6094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cccc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Socket Programm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3934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rver’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8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inds to an Internet (IP)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8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istens for clients on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8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vides services to clients that connect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ient’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8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nows the server’s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8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cts to th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80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nds service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ient and server exchange messages over TCP or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cket/networking code mixed with “real” client and server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94120" y="4689360"/>
            <a:ext cx="1727280" cy="609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50000">
                <a:srgbClr val="cccc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00560" y="2301840"/>
            <a:ext cx="723960" cy="7239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46880" y="2073240"/>
            <a:ext cx="952560" cy="9777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35040" y="179532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07000" y="15667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85320" y="2847960"/>
            <a:ext cx="24120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6628320" y="1869840"/>
            <a:ext cx="26280" cy="2261160"/>
          </a:xfrm>
          <a:prstGeom prst="curvedConnector5">
            <a:avLst>
              <a:gd name="adj1" fmla="val 9543055"/>
              <a:gd name="adj2" fmla="val 50000"/>
              <a:gd name="adj3" fmla="val 9543055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520960" y="5467320"/>
            <a:ext cx="26816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hange of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n establishe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93280" y="3714840"/>
            <a:ext cx="11775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ste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67840" y="49039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 or 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33200" y="486576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 or 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79920" y="2784600"/>
            <a:ext cx="216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77000" y="2809800"/>
            <a:ext cx="216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70840" y="2619360"/>
            <a:ext cx="216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Low-level Network Programm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8236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efficient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le on almost every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andardized application programming interface (A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n be used for clients and servers to communicate on the same machine and across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But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oses too many low-level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cation writer must be able to debug network-level issues and probl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xes application logic with networking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ients must know where servers 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client and server run on different byte-ordered machines, they must be aware of these differences in talking to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…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.. And Middleware was Bor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9760" y="762120"/>
            <a:ext cx="838044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ayer between the operating system and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des the operating system’s details from the application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RBA, EJB, D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do we need/have middlew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makes it easier to write distribut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akes care of all the networking code and the 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aves you free to focus on writing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68520" y="4049640"/>
            <a:ext cx="60944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High-Level Overview of Middleware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63400" y="2444760"/>
            <a:ext cx="2702160" cy="1539720"/>
            <a:chOff x="563400" y="2444760"/>
            <a:chExt cx="2702160" cy="1539720"/>
          </a:xfrm>
        </p:grpSpPr>
        <p:sp>
          <p:nvSpPr>
            <p:cNvPr id="75" name=""/>
            <p:cNvSpPr/>
            <p:nvPr/>
          </p:nvSpPr>
          <p:spPr>
            <a:xfrm>
              <a:off x="1494000" y="2444760"/>
              <a:ext cx="1771560" cy="1539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3400" y="3059280"/>
              <a:ext cx="10242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07080" y="2479680"/>
            <a:ext cx="2828880" cy="1555920"/>
            <a:chOff x="5707080" y="2479680"/>
            <a:chExt cx="2828880" cy="1555920"/>
          </a:xfrm>
        </p:grpSpPr>
        <p:sp>
          <p:nvSpPr>
            <p:cNvPr id="78" name=""/>
            <p:cNvSpPr/>
            <p:nvPr/>
          </p:nvSpPr>
          <p:spPr>
            <a:xfrm>
              <a:off x="5707080" y="2479680"/>
              <a:ext cx="1814400" cy="1555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12120" y="3095640"/>
              <a:ext cx="10238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509160" y="1685880"/>
            <a:ext cx="2553480" cy="1604880"/>
            <a:chOff x="6509160" y="1685880"/>
            <a:chExt cx="2553480" cy="1604880"/>
          </a:xfrm>
        </p:grpSpPr>
        <p:sp>
          <p:nvSpPr>
            <p:cNvPr id="81" name=""/>
            <p:cNvSpPr/>
            <p:nvPr/>
          </p:nvSpPr>
          <p:spPr>
            <a:xfrm>
              <a:off x="6754680" y="2581200"/>
              <a:ext cx="665280" cy="7095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015320" y="2174760"/>
              <a:ext cx="52200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9160" y="1685880"/>
              <a:ext cx="25534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ver’s real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 a programming langua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30320" y="1779480"/>
            <a:ext cx="2553480" cy="1460520"/>
            <a:chOff x="130320" y="1779480"/>
            <a:chExt cx="2553480" cy="1460520"/>
          </a:xfrm>
        </p:grpSpPr>
        <p:sp>
          <p:nvSpPr>
            <p:cNvPr id="85" name=""/>
            <p:cNvSpPr/>
            <p:nvPr/>
          </p:nvSpPr>
          <p:spPr>
            <a:xfrm>
              <a:off x="1625760" y="2558880"/>
              <a:ext cx="653760" cy="68112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44520" y="2313000"/>
              <a:ext cx="56664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0320" y="1779480"/>
              <a:ext cx="25534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’s real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 a programming langua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98560" y="3152880"/>
            <a:ext cx="7191360" cy="3058920"/>
            <a:chOff x="898560" y="3152880"/>
            <a:chExt cx="7191360" cy="3058920"/>
          </a:xfrm>
        </p:grpSpPr>
        <p:grpSp>
          <p:nvGrpSpPr>
            <p:cNvPr id="89" name=""/>
            <p:cNvGrpSpPr/>
            <p:nvPr/>
          </p:nvGrpSpPr>
          <p:grpSpPr>
            <a:xfrm>
              <a:off x="898560" y="4830840"/>
              <a:ext cx="7191360" cy="796320"/>
              <a:chOff x="898560" y="4830840"/>
              <a:chExt cx="7191360" cy="796320"/>
            </a:xfrm>
          </p:grpSpPr>
          <p:cxnSp>
            <p:nvCxnSpPr>
              <p:cNvPr id="90" name=""/>
              <p:cNvCxnSpPr>
                <a:stCxn id="91" idx="2"/>
                <a:endCxn id="92" idx="2"/>
              </p:cNvCxnSpPr>
              <p:nvPr/>
            </p:nvCxnSpPr>
            <p:spPr>
              <a:xfrm flipH="1" flipV="1" rot="5400000">
                <a:off x="4458240" y="3296520"/>
                <a:ext cx="6840" cy="4188600"/>
              </a:xfrm>
              <a:prstGeom prst="bentConnector3">
                <a:avLst>
                  <a:gd name="adj1" fmla="val -3600000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93" name=""/>
              <p:cNvSpPr/>
              <p:nvPr/>
            </p:nvSpPr>
            <p:spPr>
              <a:xfrm>
                <a:off x="898560" y="4851360"/>
                <a:ext cx="3046320" cy="566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043600" y="4830840"/>
                <a:ext cx="3046320" cy="5950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620720" y="4997520"/>
                <a:ext cx="149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ddle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08600" y="4991040"/>
                <a:ext cx="149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ddle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727280" y="3152880"/>
              <a:ext cx="46512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00360" y="3849840"/>
              <a:ext cx="0" cy="10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394320" y="3871800"/>
              <a:ext cx="14400" cy="10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799320" y="3204720"/>
              <a:ext cx="3650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99840" y="584352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me protocol over 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132280" y="1458720"/>
            <a:ext cx="4765680" cy="2830320"/>
            <a:chOff x="2132280" y="1458720"/>
            <a:chExt cx="4765680" cy="2830320"/>
          </a:xfrm>
        </p:grpSpPr>
        <p:sp>
          <p:nvSpPr>
            <p:cNvPr id="101" name=""/>
            <p:cNvSpPr/>
            <p:nvPr/>
          </p:nvSpPr>
          <p:spPr>
            <a:xfrm>
              <a:off x="5875200" y="3316320"/>
              <a:ext cx="987480" cy="59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ff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97080" y="3290760"/>
              <a:ext cx="959040" cy="5954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50000">
                  <a:srgbClr val="00ff00"/>
                </a:gs>
                <a:gs pos="100000">
                  <a:srgbClr val="00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endCxn id="102" idx="3"/>
            </p:cNvCxnSpPr>
            <p:nvPr/>
          </p:nvCxnSpPr>
          <p:spPr>
            <a:xfrm rot="5400000">
              <a:off x="2787120" y="1827000"/>
              <a:ext cx="2130840" cy="139428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4557600" y="3591000"/>
              <a:ext cx="130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87920" y="2181240"/>
              <a:ext cx="1508040" cy="581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91320" y="2181240"/>
              <a:ext cx="10465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2280" y="3305160"/>
              <a:ext cx="1072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ient-s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lu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3840" y="3341520"/>
              <a:ext cx="11041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ver-s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lu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57000" y="3575160"/>
              <a:ext cx="228672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ten i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gramming languag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t independent of 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917880" y="979560"/>
            <a:ext cx="4974480" cy="720000"/>
            <a:chOff x="3917880" y="979560"/>
            <a:chExt cx="4974480" cy="720000"/>
          </a:xfrm>
        </p:grpSpPr>
        <p:sp>
          <p:nvSpPr>
            <p:cNvPr id="111" name=""/>
            <p:cNvSpPr/>
            <p:nvPr/>
          </p:nvSpPr>
          <p:spPr>
            <a:xfrm>
              <a:off x="3917880" y="1150920"/>
              <a:ext cx="1262160" cy="53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7400" y="1139760"/>
              <a:ext cx="996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253120" y="1278000"/>
              <a:ext cx="88560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69880" y="979560"/>
              <a:ext cx="29224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ten in some neutral Interfa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Language (ID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Priya Narasimhan</dc:creator>
  <dc:description/>
  <dc:language>en-US</dc:language>
  <cp:lastModifiedBy>jjohnso2</cp:lastModifiedBy>
  <cp:lastPrinted>2001-04-25T16:32:57Z</cp:lastPrinted>
  <dcterms:modified xsi:type="dcterms:W3CDTF">2004-09-07T22:43:55Z</dcterms:modified>
  <cp:revision>415</cp:revision>
  <dc:subject>Karanji Anjaneya Swamy</dc:subject>
  <dc:title>Vakratundam Mahakayam</dc:title>
</cp:coreProperties>
</file>