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  <p:sldId id="26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slide" Target="slides/slide1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3E9FF-E08A-401D-A588-589049C7F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E576F-2442-4312-8DD9-5B8AFFFD5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DADEA3D-0044-4D60-8213-B581EAA12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E8D4017-7D2E-40D3-B5E8-3AA7858D9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FA99977-00E7-48C0-BFE9-3345331FB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6ED07D7-B9D8-44E8-BA34-C6C4D36DF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20C20DC-CEAF-461F-BCC2-1EF3ACAF9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7204FE4-638F-45AC-8C53-A1C39B151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6A716F1-416B-4A7E-8624-87BA3DE2B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41C760A-AC92-4CB0-A5E1-EF6FE8A3D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90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91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D3D43D6-0594-4F3F-A9A5-E4975BA12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0938E73-A7F6-473C-A342-DFFAF9E88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BC94B-282A-4ED1-AB09-3CAAA49A2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F602C61-C3AD-4E06-A198-DFD276187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9176A84-11E9-4387-BD56-9A4B5CF36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1839DE4-C1C4-4843-9DA0-AF2ED7067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DFF6541-8468-4E59-AEFA-A348E119A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5E6A843-D324-4BAE-BCBB-AE4B79F1C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4FBBB5D-BA4E-4E00-A228-610293DFA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149B43A-8B1A-41F7-86D0-930A07F50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8BC4BD5-2740-4B4C-85D0-6D333C930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43128DC-9F2A-44DC-BBFE-009935BB1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2626A14-8684-4647-88B2-FE46A3D89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657E4-9D92-454A-B388-51DE76E2D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33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34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6CCC12D-52CB-4E69-979B-7757B6259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ED3CA56-89D8-47D5-B1A9-0FCD3D77B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FB75011-E9CD-4A7B-8A3C-240F3BAB1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3F575AF-1349-4BF6-A392-F8B332473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323A972-3249-495F-AF47-FA7C243F1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D630A56-4C61-4AF6-A85F-374F91F3F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377670E-C342-4727-B78A-839B54329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12F8337-828E-46D1-882D-DAAF91300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83EB3E1-EC1D-4E7B-AB41-3DC6CDDBB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A18603A-FD85-436A-99B1-4ABED7CD0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B0B53D3-8B49-424B-B1F9-D2D724F4B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FE60BEE-69AD-4317-8AB1-71F64C5C6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76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77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5FC5176-3685-4E9B-890A-7CAE57E56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F494AEE-D4D5-47E5-A6D1-7BD2C13FE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2AC53BD-5CA9-47B4-82D1-D7A0CB80C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836CA60-BF26-4AF1-A613-2E8E45821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F3C951D-8502-4A62-B345-00E860167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ABA08AA-6E3A-4ACD-A2B3-0A507A147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42B2FF1-12C9-4B9C-BA70-7785D5508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52BD9DD-6B40-4D9F-AF1D-0EDF801E0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F7C8AD0-54A6-497D-9C25-40F61ABE9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86B6AE8-FE7B-4B42-98D4-0BB95F422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E049C8E-1187-4934-801D-01F9922C9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E81D03A-BE89-4300-9C52-F2F866AC6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19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20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A11DAA3-0C95-4E14-B5FD-C5ED7E3B1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A5AACC77-5E58-4434-9537-597866DA1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CFC32237-C633-4C7F-9D28-2764A1DD9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F79D4467-0BB0-48BC-A8F8-C468EF952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A243EA44-B189-47EE-8F75-749208729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7A4EE16B-D6B4-413A-B7BB-6D73E760D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214921AD-0564-4BA9-8AFF-E7CC84AF4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869CAF54-CDB5-43DB-9ED5-FE5823B35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A1498F66-DD4C-43AF-921E-EB16882DC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B3A89412-3136-4D47-9E1C-15B50AD59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D8428709-4179-4C9F-8779-BD355C81B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D78FA0FF-BF0D-45A0-94A9-2C739791C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6621E678-068A-4280-8A60-281B23335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3BC0742-0E86-4E5E-947E-3CD53CA1A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A3BD734-3591-43AB-892B-579265738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40C2872-A0AB-499C-865B-B4A04D4D3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5EB265B-BBA3-41B1-BADA-45F096A12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2E08AE0-DD0F-4559-952C-8946AE60A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14D0B5A-DB38-4271-AAA0-52EB26EB6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E7DC654-B04F-44C8-95F5-CCE33336F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D92B5B3-83B6-461E-82A7-0ED5942A2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0011422-BD9F-4685-8D87-548008147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83F59EC-C60E-485F-AF4C-13A69F9DC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FBFDF42-F78A-461A-8E82-0A2212FAF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46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47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BF4C43D-D6BA-4E42-A236-8065CA358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42A637B-D3B5-4E78-A82A-DC6A265A2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2F932FC-613D-426F-A8DE-08B5103FD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FE77132-96AA-46EF-B176-3100F55E5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8B3F78A-D954-4A6E-9490-7491D37B6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06077B8-7363-4D7B-B55A-620648C7F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4725AC7-4EB9-44E4-9ADA-D96470A1A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7014BDD-D4BB-4F28-A330-946DE569D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4F56F9A-17C4-4B53-A8C2-8E5E5CBDC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6F4F411-590F-4DA4-8245-DA451FD47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EF90295-DC5E-447C-97AA-9708006A8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2DDD31E-45D2-4C81-BCEC-DCD4536A0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90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91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2EA1695-CE98-43B8-A032-DB067A237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98FF29D-0DCE-48B9-8DF8-1BC640AB5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463C65A-339B-4F3A-B89D-4F541CBA4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8BE60C6-590C-4E17-B7C2-BDC02FA74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75D546C-A0EE-406A-95DA-6E3737B5A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796E5C2-7872-4B4C-BCBE-4469A7D6E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D5181CA-DD13-4FC8-849E-1980CE36E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AE7C42E-AC2A-4780-80FF-7812E505E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732AD-F16E-4523-9338-5FFB2D263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04198FF-2AAE-418C-A1EB-F7A72AAB1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EA4E339-4092-441E-8847-A69E38375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8890284-6193-4AEE-8BC1-E6DF803B8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875DF66-BB7B-4C12-94EB-93BD8162A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34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35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B01FE9F-543D-4A5E-B3AE-F65894911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D6038A2-F584-4288-AEBD-D09839AB1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98E7B87-E40A-4531-9EEA-A765588E0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A44A9C5-4FB3-41BF-9D69-062BF218D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00D34D2-BF35-4397-8518-C8C6FD010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39B7ACE-3D6F-404D-BF8B-819B8E3B0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33397FA-F7E8-4A3A-801C-485CA2B3E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3448B2F-4CE5-4D21-84A3-65823F28F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743A34C-CE1C-4354-8C06-2468728F1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CFF05E7-7CD9-44B2-A19B-3938DBADC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98D2637-39F0-4E3D-AC56-85D6E33ED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64D4455-304F-4B2B-9DE3-0996614A3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AB96E5B-9206-4535-85FD-71A2452DA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BAD8B9D-58B1-4DCE-B422-CDB44D0AF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2252888-156C-4B8D-B8E7-13B7EEE30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EAD5667-0F24-4BD1-9DEE-26B2B0E01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21E3386-B829-44C3-9496-ACCB845A9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AFAA578-5C75-4961-B9CA-21AE7B9FB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57B2D9B-2728-4E84-9EEA-E681D9865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C3AF568-B5FD-46D8-A210-48D376F19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A4A4FEB-64FE-4CEE-856D-FD3A0D8C4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08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8835D32-275B-4894-BEF7-029A7A23C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4EAB433-5B82-4283-85BD-A0B1C3030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972ABC5-E278-4CDE-B4BF-3B39FE4F9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21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22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23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8C3AA88-3A66-48BE-9D3C-6C2A802DC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67981D9-A709-43C8-9E18-2A4B5C0B8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8777B3D-3277-43BA-A6FD-0288A20F9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3091113-E522-42A0-88FE-1F930375B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B17C727-55A3-493D-A66F-F65968DDB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19C34DF-8F6C-456C-A188-31A91CAE9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72DC6E0-6C2F-403C-8A0F-CB8DEFD23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040EF32-0882-46A3-B7A0-094DE2914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28AC250-1351-4DDB-862C-A9B5CB462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330B260-A0EB-418B-9BC1-E09D234A4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7CE7056-5797-4627-BCE5-B8B49B35B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58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59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62BC5CC-B59E-4CE9-87BB-10716FC60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64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65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66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0DA5839-DEA9-4195-AE27-9A5242210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CAE7E29-B29D-429A-866C-68049C6ED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E1DD5AB-F362-40DB-9855-DF05D9703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CBE5A69-B0B2-4FB5-A668-42BED845A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774F890-EE4E-409B-A2F3-1F3E97A76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89CEA64-0D10-46F9-A319-14A2043FD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8CA8639-8A13-47D8-96F9-B9EE598B7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F4B103F-9BF4-4FB4-8C1A-04BDE227D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90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DEBCC63-D3DA-421F-8CEE-A0F9E33AF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B8A14F8-990E-42E2-A11C-63A525BDA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A83742E-5049-4D94-8C3F-7342529A4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BD5DCA1-5061-4134-B982-EEA95EBB0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02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8F0139D-4800-4F2D-B62A-4D23E2AF6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08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09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65015C2-066A-4920-B603-448C4B6F0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1303945-F4A1-4347-87B8-1191D8F1C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2431766-6B2D-4C9A-988A-1A77EF0FF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B71F5C4-37A9-43ED-BDB0-ED26D22EA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365005-BA0B-470C-A1C8-836946BEF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7C339-09F4-4FAD-9031-8CABBA60D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1FDB5B3-9376-4D1F-89C0-F340AA9D1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DF9C7EB-5FA3-44F4-95EC-E786E1420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452DBF-392A-42F9-A6D7-0B42D6C73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AC57D58-8B16-4344-A130-58A528595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F9D4DA-6758-491F-844D-60DD641D0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826DB60-75CC-4B11-80F0-008516D1B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3E149E4-8D5E-415D-A226-7A396B268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7B88473-8957-47D8-BB48-039F81BDC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33BCD5F-122E-4A3B-AE26-8FB5550B1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D2C039F-5FBC-4643-8BDF-45CA1CC87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692C1-B29C-45CF-894F-F49C9685D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561BDEB-8ED6-47D9-9BAB-5D50B6625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84B24C9-150C-42C7-9AA2-5025DB4BE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499F85E-F3B6-441F-AEF1-DB2B1803C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3256349-C014-44D7-A600-49C348E85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8C65F86-7F5A-459C-9DB5-6576AD0B2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547EEC6-EF38-4B1A-A076-AB151009B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9303A09-1D4F-4529-8854-2323A1AD7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208C05A-2232-4080-BA34-6BA9D8F3D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CC99E73-C644-4690-8DCC-239091A4B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F3F17-FAC0-419B-97C4-273E70FA5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B752B-E809-4147-B7FB-1B712D15B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6CB7ECA-F69A-46FA-8254-1DDD66818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49B02C1-C2AC-43C2-9F3D-F88837778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97A8618-6F06-427A-B512-D51139EEC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80664CF-BD79-49EE-8835-CCFCFF004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A2BF7D9-4250-4FC2-97F1-EF33DCC08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9E0F382-E286-49FA-A706-A19776624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D3E88DE-A9C1-4D0B-A40B-0C9C3E67C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0B0EABD-6621-4A73-AC8B-F4F6B777C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0395719-BC41-4C49-8688-600C4DFE7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8D88D-F141-48D7-9CAA-FF954DFD5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CAA14D9-043F-479B-9FC5-FCBD86B41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73C2DCC-F12F-4388-AF2D-FBC11AB80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14AD8A8-9AD3-496C-91B4-8D3DBEADB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577A650-2B25-4FC8-8D9B-CFBDF4811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A915F55-3360-408A-BB1A-3CE4E0822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7A08FC7-C3FE-4672-AD38-52AC3087D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3BD2DC6-9D50-4171-AC8A-D5B64506F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19F3B50-6986-4D74-8E75-05F332E75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80B097C-9DDD-451E-B76D-236FE1AC3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D8D785F-22DB-4428-98C9-2181928DA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3D818-AC38-4DC3-BDC7-C1F8090AE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0C4D688-B1B7-42FE-960E-A63C5F65A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377801F-5189-4F1E-96D5-C5A74FDA0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11446BD-FB6A-4C24-B36A-A367EF1F4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60DD6A6-C9A6-4C23-8708-B8C58CE37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95A55A0-8042-46E1-BCCC-8E6FD70DA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55F2F11-3325-41C2-9123-A74884AF9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918ACA5-4AD4-4A50-B2F6-5AB7D76DA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9462889-096A-4FBC-ABF2-E60184DF7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B3063E8-B96F-4400-A676-BCB57B96D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572C7F2-AA6C-4BA8-9472-763455B01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11F6D-9B50-4A92-9A57-2914EF08B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799022A-153F-40D4-A357-F79CDE2CB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9516974-BA4A-4A4C-938F-FB5708396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8C406FB-3240-48F4-A477-0538E1708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19F918A-5A8A-4AF1-91EF-DEE977DCE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F9C249C-2F5C-4977-8782-0BAC0F7D9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CAD8202-B695-49CB-AE35-499B35EBE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BD04DCE-DFEC-46B4-AD2D-7CFC35373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FE8B8E6-BBEF-43CF-9068-2268CFF0A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55BFB8C-DF83-45D3-9607-DC9B79543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BB316C7-A1DC-44A0-8270-DBDC31C25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595959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9D68F52-4D5B-4319-9BE6-F1493255E4ED}" type="datetime">
              <a:rPr b="0" lang="en-US" sz="1100" spc="-1" strike="noStrike">
                <a:solidFill>
                  <a:srgbClr val="595959"/>
                </a:solidFill>
                <a:latin typeface="Rockwell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D1B624-0F0D-48B5-A064-AF28FF4BA624}" type="slidenum">
              <a:rPr b="0" lang="en-US" sz="14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6"/>
          <p:cNvSpPr/>
          <p:nvPr/>
        </p:nvSpPr>
        <p:spPr>
          <a:xfrm>
            <a:off x="8166240" y="282600"/>
            <a:ext cx="685800" cy="160020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Box 7"/>
          <p:cNvSpPr/>
          <p:nvPr/>
        </p:nvSpPr>
        <p:spPr>
          <a:xfrm>
            <a:off x="223920" y="228600"/>
            <a:ext cx="2602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b870b8"/>
                </a:solidFill>
                <a:latin typeface="Rockwel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 type="dt" idx="26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595959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CE4ECD-4851-4B4E-A640-1F527A2AD2C2}" type="datetime">
              <a:rPr b="0" lang="en-US" sz="1100" spc="-1" strike="noStrike">
                <a:solidFill>
                  <a:srgbClr val="595959"/>
                </a:solidFill>
                <a:latin typeface="Rockwell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 type="ftr" idx="27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 type="sldNum" idx="28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99F019B-F251-488F-86A6-326A80E04C70}" type="slidenum">
              <a:rPr b="0" lang="en-US" sz="14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6"/>
          <p:cNvSpPr/>
          <p:nvPr/>
        </p:nvSpPr>
        <p:spPr>
          <a:xfrm>
            <a:off x="8166240" y="282600"/>
            <a:ext cx="685800" cy="160020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Box 7"/>
          <p:cNvSpPr/>
          <p:nvPr/>
        </p:nvSpPr>
        <p:spPr>
          <a:xfrm>
            <a:off x="223920" y="228600"/>
            <a:ext cx="2602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b870b8"/>
                </a:solidFill>
                <a:latin typeface="Rockwel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 type="dt" idx="29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595959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9C0F17-6583-451F-A136-80F9C794378A}" type="datetime">
              <a:rPr b="0" lang="en-US" sz="1100" spc="-1" strike="noStrike">
                <a:solidFill>
                  <a:srgbClr val="595959"/>
                </a:solidFill>
                <a:latin typeface="Rockwell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 type="ftr" idx="30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 type="sldNum" idx="31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144A1F-8050-46AE-8851-7863DB1A8ACD}" type="slidenum">
              <a:rPr b="0" lang="en-US" sz="14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6"/>
          <p:cNvSpPr/>
          <p:nvPr/>
        </p:nvSpPr>
        <p:spPr>
          <a:xfrm>
            <a:off x="8166240" y="282600"/>
            <a:ext cx="685800" cy="160020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Box 7"/>
          <p:cNvSpPr/>
          <p:nvPr/>
        </p:nvSpPr>
        <p:spPr>
          <a:xfrm>
            <a:off x="223920" y="228600"/>
            <a:ext cx="2602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b870b8"/>
                </a:solidFill>
                <a:latin typeface="Rockwel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 type="dt" idx="32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595959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21EF272-DF29-40C5-816B-E635B28E873C}" type="datetime">
              <a:rPr b="0" lang="en-US" sz="1100" spc="-1" strike="noStrike">
                <a:solidFill>
                  <a:srgbClr val="595959"/>
                </a:solidFill>
                <a:latin typeface="Rockwell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 type="ftr" idx="33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 type="sldNum" idx="34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1CF979-6BE6-4C89-84F8-CA79DE5E0941}" type="slidenum">
              <a:rPr b="0" lang="en-US" sz="14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6"/>
          <p:cNvSpPr/>
          <p:nvPr/>
        </p:nvSpPr>
        <p:spPr>
          <a:xfrm>
            <a:off x="8166240" y="282600"/>
            <a:ext cx="685800" cy="30168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 type="dt" idx="35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595959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2205B77-0625-44CF-91EE-06FF36337A2C}" type="datetime">
              <a:rPr b="0" lang="en-US" sz="1100" spc="-1" strike="noStrike">
                <a:solidFill>
                  <a:srgbClr val="595959"/>
                </a:solidFill>
                <a:latin typeface="Rockwell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 type="ftr" idx="36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 type="sldNum" idx="37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1BF7AB-75DA-4EEA-BADA-8F4B91ECD277}" type="slidenum">
              <a:rPr b="0" lang="en-US" sz="14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ectangle 6"/>
          <p:cNvSpPr/>
          <p:nvPr/>
        </p:nvSpPr>
        <p:spPr>
          <a:xfrm>
            <a:off x="282600" y="228600"/>
            <a:ext cx="3451320" cy="634536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Box 7"/>
          <p:cNvSpPr/>
          <p:nvPr/>
        </p:nvSpPr>
        <p:spPr>
          <a:xfrm>
            <a:off x="425520" y="174600"/>
            <a:ext cx="41256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b870b8"/>
                </a:solidFill>
                <a:latin typeface="Rockwell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dt" idx="38"/>
          </p:nvPr>
        </p:nvSpPr>
        <p:spPr>
          <a:xfrm>
            <a:off x="7391520" y="6423120"/>
            <a:ext cx="153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595959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99230C-561E-4BED-9DC3-55D511B66E1F}" type="datetime">
              <a:rPr b="0" lang="en-US" sz="1100" spc="-1" strike="noStrike">
                <a:solidFill>
                  <a:srgbClr val="595959"/>
                </a:solidFill>
                <a:latin typeface="Rockwell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ftr" idx="39"/>
          </p:nvPr>
        </p:nvSpPr>
        <p:spPr>
          <a:xfrm>
            <a:off x="3859200" y="6423120"/>
            <a:ext cx="3316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Rectangle 6"/>
          <p:cNvSpPr/>
          <p:nvPr/>
        </p:nvSpPr>
        <p:spPr>
          <a:xfrm>
            <a:off x="8166240" y="282600"/>
            <a:ext cx="685800" cy="30168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TextBox 7"/>
          <p:cNvSpPr/>
          <p:nvPr/>
        </p:nvSpPr>
        <p:spPr>
          <a:xfrm>
            <a:off x="3989520" y="3370320"/>
            <a:ext cx="220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b870b8"/>
                </a:solidFill>
                <a:latin typeface="Rockwell"/>
              </a:rPr>
              <a:t>+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dt" idx="40"/>
          </p:nvPr>
        </p:nvSpPr>
        <p:spPr>
          <a:xfrm>
            <a:off x="7391520" y="6423120"/>
            <a:ext cx="153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595959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D13EF71-D421-4EB5-ACFB-61B4EF3D423F}" type="datetime">
              <a:rPr b="0" lang="en-US" sz="1100" spc="-1" strike="noStrike">
                <a:solidFill>
                  <a:srgbClr val="595959"/>
                </a:solidFill>
                <a:latin typeface="Rockwell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ftr" idx="41"/>
          </p:nvPr>
        </p:nvSpPr>
        <p:spPr>
          <a:xfrm>
            <a:off x="4190760" y="6423120"/>
            <a:ext cx="3004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sldNum" idx="42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B8738B-710D-47DF-8900-74BBA34595B1}" type="slidenum">
              <a:rPr b="0" lang="en-US" sz="14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Rectangle 6"/>
          <p:cNvSpPr/>
          <p:nvPr/>
        </p:nvSpPr>
        <p:spPr>
          <a:xfrm>
            <a:off x="6802560" y="228600"/>
            <a:ext cx="2057400" cy="2038320"/>
          </a:xfrm>
          <a:prstGeom prst="rect">
            <a:avLst/>
          </a:prstGeom>
          <a:solidFill>
            <a:srgbClr val="99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Rectangle 7"/>
          <p:cNvSpPr/>
          <p:nvPr/>
        </p:nvSpPr>
        <p:spPr>
          <a:xfrm>
            <a:off x="6802560" y="2378160"/>
            <a:ext cx="2057400" cy="203832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TextBox 8"/>
          <p:cNvSpPr/>
          <p:nvPr/>
        </p:nvSpPr>
        <p:spPr>
          <a:xfrm>
            <a:off x="326880" y="4632480"/>
            <a:ext cx="220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b870b8"/>
                </a:solidFill>
                <a:latin typeface="Rockwell"/>
              </a:rPr>
              <a:t>+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 type="dt" idx="43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595959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1AA0733-1984-4CD4-974E-B07CCCFDF247}" type="datetime">
              <a:rPr b="0" lang="en-US" sz="1100" spc="-1" strike="noStrike">
                <a:solidFill>
                  <a:srgbClr val="595959"/>
                </a:solidFill>
                <a:latin typeface="Rockwell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 type="ftr" idx="44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 type="sldNum" idx="45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C02F449-4B45-4DB4-84C5-626E1B13D490}" type="slidenum">
              <a:rPr b="0" lang="en-US" sz="14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Rectangle 6"/>
          <p:cNvSpPr/>
          <p:nvPr/>
        </p:nvSpPr>
        <p:spPr>
          <a:xfrm>
            <a:off x="282600" y="228600"/>
            <a:ext cx="6386400" cy="634536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TextBox 7"/>
          <p:cNvSpPr/>
          <p:nvPr/>
        </p:nvSpPr>
        <p:spPr>
          <a:xfrm>
            <a:off x="425520" y="174600"/>
            <a:ext cx="41256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b870b8"/>
                </a:solidFill>
                <a:latin typeface="Rockwell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Rectangle 8"/>
          <p:cNvSpPr/>
          <p:nvPr/>
        </p:nvSpPr>
        <p:spPr>
          <a:xfrm>
            <a:off x="6802560" y="228600"/>
            <a:ext cx="2057400" cy="203832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 type="dt" idx="46"/>
          </p:nvPr>
        </p:nvSpPr>
        <p:spPr>
          <a:xfrm>
            <a:off x="5211720" y="6235200"/>
            <a:ext cx="1349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19FA0F-8640-4F92-AB05-BFCB303B11CF}" type="datetime">
              <a:rPr b="0" lang="en-US" sz="1100" spc="-1" strike="noStrike">
                <a:solidFill>
                  <a:srgbClr val="ffffff"/>
                </a:solidFill>
                <a:latin typeface="Rockwell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 type="ftr" idx="47"/>
          </p:nvPr>
        </p:nvSpPr>
        <p:spPr>
          <a:xfrm>
            <a:off x="380880" y="6235200"/>
            <a:ext cx="4648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 type="sldNum" idx="48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A3AB83-75F9-4211-B790-65514E6D7FD8}" type="slidenum">
              <a:rPr b="0" lang="en-US" sz="14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Rectangle 6"/>
          <p:cNvSpPr/>
          <p:nvPr/>
        </p:nvSpPr>
        <p:spPr>
          <a:xfrm>
            <a:off x="282600" y="228600"/>
            <a:ext cx="4235400" cy="634536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TextBox 7"/>
          <p:cNvSpPr/>
          <p:nvPr/>
        </p:nvSpPr>
        <p:spPr>
          <a:xfrm>
            <a:off x="425520" y="174600"/>
            <a:ext cx="41256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b870b8"/>
                </a:solidFill>
                <a:latin typeface="Rockwell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Rectangle 8"/>
          <p:cNvSpPr/>
          <p:nvPr/>
        </p:nvSpPr>
        <p:spPr>
          <a:xfrm>
            <a:off x="6802560" y="228600"/>
            <a:ext cx="2057400" cy="203832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Rectangle 9"/>
          <p:cNvSpPr/>
          <p:nvPr/>
        </p:nvSpPr>
        <p:spPr>
          <a:xfrm>
            <a:off x="4624560" y="4535640"/>
            <a:ext cx="2057400" cy="2038320"/>
          </a:xfrm>
          <a:prstGeom prst="rect">
            <a:avLst/>
          </a:prstGeom>
          <a:solidFill>
            <a:srgbClr val="99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dt" idx="49"/>
          </p:nvPr>
        </p:nvSpPr>
        <p:spPr>
          <a:xfrm>
            <a:off x="3048120" y="6235200"/>
            <a:ext cx="13478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0DE586F-590B-4003-B564-44B936E29001}" type="datetime">
              <a:rPr b="0" lang="en-US" sz="1100" spc="-1" strike="noStrike">
                <a:solidFill>
                  <a:srgbClr val="ffffff"/>
                </a:solidFill>
                <a:latin typeface="Rockwell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ftr" idx="50"/>
          </p:nvPr>
        </p:nvSpPr>
        <p:spPr>
          <a:xfrm>
            <a:off x="380520" y="6235200"/>
            <a:ext cx="25909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sldNum" idx="51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5F5BAE8-6C6B-40BE-A6BC-6C4A03432151}" type="slidenum">
              <a:rPr b="0" lang="en-US" sz="14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Rectangle 6"/>
          <p:cNvSpPr/>
          <p:nvPr/>
        </p:nvSpPr>
        <p:spPr>
          <a:xfrm>
            <a:off x="8166240" y="282600"/>
            <a:ext cx="685800" cy="30168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TextBox 7"/>
          <p:cNvSpPr/>
          <p:nvPr/>
        </p:nvSpPr>
        <p:spPr>
          <a:xfrm>
            <a:off x="4749840" y="3370320"/>
            <a:ext cx="220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b870b8"/>
                </a:solidFill>
                <a:latin typeface="Rockwell"/>
              </a:rPr>
              <a:t>+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 type="dt" idx="52"/>
          </p:nvPr>
        </p:nvSpPr>
        <p:spPr>
          <a:xfrm>
            <a:off x="7391520" y="6423120"/>
            <a:ext cx="153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595959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B71186-7642-4F05-B4C0-BC39134C84D2}" type="datetime">
              <a:rPr b="0" lang="en-US" sz="1100" spc="-1" strike="noStrike">
                <a:solidFill>
                  <a:srgbClr val="595959"/>
                </a:solidFill>
                <a:latin typeface="Rockwell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 type="ftr" idx="53"/>
          </p:nvPr>
        </p:nvSpPr>
        <p:spPr>
          <a:xfrm>
            <a:off x="4190760" y="6423120"/>
            <a:ext cx="3004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5"/>
          <p:cNvSpPr>
            <a:spLocks noGrp="1"/>
          </p:cNvSpPr>
          <p:nvPr>
            <p:ph type="sldNum" idx="54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493A7F-D720-4CEA-A2A4-66E34E945D33}" type="slidenum">
              <a:rPr b="0" lang="en-US" sz="14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282600" y="228600"/>
            <a:ext cx="4235400" cy="418788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7"/>
          <p:cNvSpPr/>
          <p:nvPr/>
        </p:nvSpPr>
        <p:spPr>
          <a:xfrm>
            <a:off x="6802560" y="228600"/>
            <a:ext cx="2057400" cy="203832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8"/>
          <p:cNvSpPr/>
          <p:nvPr/>
        </p:nvSpPr>
        <p:spPr>
          <a:xfrm>
            <a:off x="4624560" y="2378160"/>
            <a:ext cx="2057400" cy="2038320"/>
          </a:xfrm>
          <a:prstGeom prst="rect">
            <a:avLst/>
          </a:prstGeom>
          <a:solidFill>
            <a:srgbClr val="99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9"/>
          <p:cNvSpPr/>
          <p:nvPr/>
        </p:nvSpPr>
        <p:spPr>
          <a:xfrm>
            <a:off x="425520" y="174600"/>
            <a:ext cx="41256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b870b8"/>
                </a:solidFill>
                <a:latin typeface="Rockwell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4624560" y="228600"/>
            <a:ext cx="2057400" cy="2038320"/>
          </a:xfrm>
          <a:prstGeom prst="rect">
            <a:avLst/>
          </a:prstGeom>
          <a:solidFill>
            <a:srgbClr val="a3a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6802560" y="2378160"/>
            <a:ext cx="2057400" cy="2038320"/>
          </a:xfrm>
          <a:prstGeom prst="rect">
            <a:avLst/>
          </a:prstGeom>
          <a:solidFill>
            <a:srgbClr val="330f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800600" y="6426360"/>
            <a:ext cx="1231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595959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C226124-0BA6-4124-B355-5373962F0811}" type="datetime">
              <a:rPr b="0" lang="en-US" sz="1100" spc="-1" strike="noStrike">
                <a:solidFill>
                  <a:srgbClr val="595959"/>
                </a:solidFill>
                <a:latin typeface="Rockwell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6311520" y="6426360"/>
            <a:ext cx="261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Rectangle 6"/>
          <p:cNvSpPr/>
          <p:nvPr/>
        </p:nvSpPr>
        <p:spPr>
          <a:xfrm>
            <a:off x="8166240" y="282600"/>
            <a:ext cx="685800" cy="160020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TextBox 7"/>
          <p:cNvSpPr/>
          <p:nvPr/>
        </p:nvSpPr>
        <p:spPr>
          <a:xfrm>
            <a:off x="223920" y="228600"/>
            <a:ext cx="2602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b870b8"/>
                </a:solidFill>
                <a:latin typeface="Rockwel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 type="dt" idx="55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595959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8BE1FBF-5B97-4C40-9633-462B4497C902}" type="datetime">
              <a:rPr b="0" lang="en-US" sz="1100" spc="-1" strike="noStrike">
                <a:solidFill>
                  <a:srgbClr val="595959"/>
                </a:solidFill>
                <a:latin typeface="Rockwell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 type="ftr" idx="56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5"/>
          <p:cNvSpPr>
            <a:spLocks noGrp="1"/>
          </p:cNvSpPr>
          <p:nvPr>
            <p:ph type="sldNum" idx="57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63FE41A-C597-49B5-ADCB-A53CFB3653D5}" type="slidenum">
              <a:rPr b="0" lang="en-US" sz="14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Rectangle 6"/>
          <p:cNvSpPr/>
          <p:nvPr/>
        </p:nvSpPr>
        <p:spPr>
          <a:xfrm>
            <a:off x="8166240" y="282600"/>
            <a:ext cx="685800" cy="30168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TextBox 7"/>
          <p:cNvSpPr/>
          <p:nvPr/>
        </p:nvSpPr>
        <p:spPr>
          <a:xfrm rot="16200000">
            <a:off x="8591400" y="563400"/>
            <a:ext cx="2602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b870b8"/>
                </a:solidFill>
                <a:latin typeface="Rockwel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 type="dt" idx="58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595959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14E6AD-581B-473D-9227-25951B83FFB1}" type="datetime">
              <a:rPr b="0" lang="en-US" sz="1100" spc="-1" strike="noStrike">
                <a:solidFill>
                  <a:srgbClr val="595959"/>
                </a:solidFill>
                <a:latin typeface="Rockwell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 type="ftr" idx="59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 type="sldNum" idx="60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BBF3D4-565B-403A-A77F-226AD43A253F}" type="slidenum">
              <a:rPr b="0" lang="en-US" sz="14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6"/>
          <p:cNvSpPr/>
          <p:nvPr/>
        </p:nvSpPr>
        <p:spPr>
          <a:xfrm>
            <a:off x="8210520" y="282600"/>
            <a:ext cx="641520" cy="160020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7"/>
          <p:cNvSpPr/>
          <p:nvPr/>
        </p:nvSpPr>
        <p:spPr>
          <a:xfrm>
            <a:off x="223920" y="228600"/>
            <a:ext cx="2602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b870b8"/>
                </a:solidFill>
                <a:latin typeface="Rockwel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8"/>
          <p:cNvSpPr/>
          <p:nvPr/>
        </p:nvSpPr>
        <p:spPr>
          <a:xfrm>
            <a:off x="8067600" y="282600"/>
            <a:ext cx="92160" cy="160020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6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595959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453EAD0-BF5E-4627-A87C-BAA74DFE664D}" type="datetime">
              <a:rPr b="0" lang="en-US" sz="1100" spc="-1" strike="noStrike">
                <a:solidFill>
                  <a:srgbClr val="595959"/>
                </a:solidFill>
                <a:latin typeface="Rockwell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7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8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C328BE-F27B-4503-B143-8BAB5B3940DD}" type="slidenum">
              <a:rPr b="0" lang="en-US" sz="14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6"/>
          <p:cNvSpPr/>
          <p:nvPr/>
        </p:nvSpPr>
        <p:spPr>
          <a:xfrm>
            <a:off x="8166240" y="282600"/>
            <a:ext cx="685800" cy="160020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7"/>
          <p:cNvSpPr/>
          <p:nvPr/>
        </p:nvSpPr>
        <p:spPr>
          <a:xfrm>
            <a:off x="223920" y="228600"/>
            <a:ext cx="2602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b870b8"/>
                </a:solidFill>
                <a:latin typeface="Rockwel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dt" idx="9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595959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6D3F3B-207A-4A64-8CDA-E2EAD129E8EE}" type="datetime">
              <a:rPr b="0" lang="en-US" sz="1100" spc="-1" strike="noStrike">
                <a:solidFill>
                  <a:srgbClr val="595959"/>
                </a:solidFill>
                <a:latin typeface="Rockwell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ftr" idx="10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sldNum" idx="11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E499D6-FF1B-4AEA-BCBF-D7B4C0DDB39C}" type="slidenum">
              <a:rPr b="0" lang="en-US" sz="14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6"/>
          <p:cNvSpPr/>
          <p:nvPr/>
        </p:nvSpPr>
        <p:spPr>
          <a:xfrm>
            <a:off x="282600" y="228600"/>
            <a:ext cx="4235400" cy="418788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7"/>
          <p:cNvSpPr/>
          <p:nvPr/>
        </p:nvSpPr>
        <p:spPr>
          <a:xfrm>
            <a:off x="6802560" y="228600"/>
            <a:ext cx="2057400" cy="203832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8"/>
          <p:cNvSpPr/>
          <p:nvPr/>
        </p:nvSpPr>
        <p:spPr>
          <a:xfrm>
            <a:off x="4624560" y="2378160"/>
            <a:ext cx="2057400" cy="2038320"/>
          </a:xfrm>
          <a:prstGeom prst="rect">
            <a:avLst/>
          </a:prstGeom>
          <a:solidFill>
            <a:srgbClr val="99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9"/>
          <p:cNvSpPr/>
          <p:nvPr/>
        </p:nvSpPr>
        <p:spPr>
          <a:xfrm>
            <a:off x="425520" y="174600"/>
            <a:ext cx="41256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b870b8"/>
                </a:solidFill>
                <a:latin typeface="Rockwell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2"/>
          </p:nvPr>
        </p:nvSpPr>
        <p:spPr>
          <a:xfrm>
            <a:off x="4800600" y="6426360"/>
            <a:ext cx="1231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595959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49BF4F7-CFEE-438F-A8E4-F2E19B8A367C}" type="datetime">
              <a:rPr b="0" lang="en-US" sz="1100" spc="-1" strike="noStrike">
                <a:solidFill>
                  <a:srgbClr val="595959"/>
                </a:solidFill>
                <a:latin typeface="Rockwell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3"/>
          </p:nvPr>
        </p:nvSpPr>
        <p:spPr>
          <a:xfrm>
            <a:off x="6311520" y="6426360"/>
            <a:ext cx="261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6"/>
          <p:cNvSpPr/>
          <p:nvPr/>
        </p:nvSpPr>
        <p:spPr>
          <a:xfrm>
            <a:off x="658800" y="228600"/>
            <a:ext cx="8201160" cy="634536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Box 7"/>
          <p:cNvSpPr/>
          <p:nvPr/>
        </p:nvSpPr>
        <p:spPr>
          <a:xfrm>
            <a:off x="2003400" y="3111480"/>
            <a:ext cx="2602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b870b8"/>
                </a:solidFill>
                <a:latin typeface="Rockwell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8"/>
          <p:cNvSpPr/>
          <p:nvPr/>
        </p:nvSpPr>
        <p:spPr>
          <a:xfrm>
            <a:off x="285840" y="228600"/>
            <a:ext cx="212760" cy="6345360"/>
          </a:xfrm>
          <a:prstGeom prst="rect">
            <a:avLst/>
          </a:prstGeom>
          <a:solidFill>
            <a:srgbClr val="99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dt" idx="14"/>
          </p:nvPr>
        </p:nvSpPr>
        <p:spPr>
          <a:xfrm>
            <a:off x="658440" y="6248520"/>
            <a:ext cx="1474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2DAC03-EA79-42E0-BC27-A6BE71FD5D68}" type="datetime">
              <a:rPr b="0" lang="en-US" sz="1100" spc="-1" strike="noStrike">
                <a:solidFill>
                  <a:srgbClr val="ffffff"/>
                </a:solidFill>
                <a:latin typeface="Rockwell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ftr" idx="15"/>
          </p:nvPr>
        </p:nvSpPr>
        <p:spPr>
          <a:xfrm>
            <a:off x="2285640" y="6248520"/>
            <a:ext cx="5638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sldNum" idx="16"/>
          </p:nvPr>
        </p:nvSpPr>
        <p:spPr>
          <a:xfrm>
            <a:off x="8305560" y="624852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5885DE-8E69-45E8-8D82-D9B45DB0CBF8}" type="slidenum">
              <a:rPr b="0" lang="en-US" sz="14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6"/>
          <p:cNvSpPr/>
          <p:nvPr/>
        </p:nvSpPr>
        <p:spPr>
          <a:xfrm>
            <a:off x="8210520" y="282600"/>
            <a:ext cx="641520" cy="160020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7"/>
          <p:cNvSpPr/>
          <p:nvPr/>
        </p:nvSpPr>
        <p:spPr>
          <a:xfrm>
            <a:off x="8067600" y="282600"/>
            <a:ext cx="92160" cy="160020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Box 8"/>
          <p:cNvSpPr/>
          <p:nvPr/>
        </p:nvSpPr>
        <p:spPr>
          <a:xfrm>
            <a:off x="223920" y="228600"/>
            <a:ext cx="2602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b870b8"/>
                </a:solidFill>
                <a:latin typeface="Rockwel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7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595959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8F1EC4-D3C9-4FF0-BD1A-956363450F65}" type="datetime">
              <a:rPr b="0" lang="en-US" sz="1100" spc="-1" strike="noStrike">
                <a:solidFill>
                  <a:srgbClr val="595959"/>
                </a:solidFill>
                <a:latin typeface="Rockwell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ftr" idx="18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sldNum" idx="19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19F8900-AFC4-440E-B38B-EE325298BF51}" type="slidenum">
              <a:rPr b="0" lang="en-US" sz="14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6"/>
          <p:cNvSpPr/>
          <p:nvPr/>
        </p:nvSpPr>
        <p:spPr>
          <a:xfrm>
            <a:off x="8166240" y="282600"/>
            <a:ext cx="685800" cy="160020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Box 7"/>
          <p:cNvSpPr/>
          <p:nvPr/>
        </p:nvSpPr>
        <p:spPr>
          <a:xfrm>
            <a:off x="223920" y="228600"/>
            <a:ext cx="2602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b870b8"/>
                </a:solidFill>
                <a:latin typeface="Rockwel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20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595959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0CD84E-00EC-4DD2-90A8-5E430A2A7642}" type="datetime">
              <a:rPr b="0" lang="en-US" sz="1100" spc="-1" strike="noStrike">
                <a:solidFill>
                  <a:srgbClr val="595959"/>
                </a:solidFill>
                <a:latin typeface="Rockwell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ftr" idx="21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 type="sldNum" idx="22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D958BB-8272-4A6C-8017-D10EB63A8D01}" type="slidenum">
              <a:rPr b="0" lang="en-US" sz="14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TextBox 6"/>
          <p:cNvSpPr/>
          <p:nvPr/>
        </p:nvSpPr>
        <p:spPr>
          <a:xfrm>
            <a:off x="223920" y="228600"/>
            <a:ext cx="2602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b870b8"/>
                </a:solidFill>
                <a:latin typeface="Rockwel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7"/>
          <p:cNvSpPr/>
          <p:nvPr/>
        </p:nvSpPr>
        <p:spPr>
          <a:xfrm>
            <a:off x="8166240" y="282600"/>
            <a:ext cx="685800" cy="160020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dt" idx="23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595959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1941AB6-00AB-4EBF-825E-16B09CA2F5C8}" type="datetime">
              <a:rPr b="0" lang="en-US" sz="1100" spc="-1" strike="noStrike">
                <a:solidFill>
                  <a:srgbClr val="595959"/>
                </a:solidFill>
                <a:latin typeface="Rockwell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ftr" idx="24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sldNum" idx="25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5FA568D-FB5C-481F-923F-24CBB3531188}" type="slidenum">
              <a:rPr b="0" lang="en-US" sz="14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4800600" y="4624560"/>
            <a:ext cx="4038480" cy="93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63366"/>
                </a:solidFill>
                <a:latin typeface="Rockwell"/>
              </a:rPr>
              <a:t>Debugging: the View from Above</a:t>
            </a:r>
            <a:endParaRPr b="0" lang="en-US" sz="25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 type="subTitle"/>
          </p:nvPr>
        </p:nvSpPr>
        <p:spPr>
          <a:xfrm>
            <a:off x="4800600" y="5562360"/>
            <a:ext cx="4038480" cy="74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98989"/>
                </a:solidFill>
                <a:latin typeface="Rockwell"/>
              </a:rPr>
              <a:t>Adapted from David J. Agans</a:t>
            </a:r>
            <a:endParaRPr b="0" lang="en-US" sz="1400" spc="-1" strike="noStrike">
              <a:solidFill>
                <a:srgbClr val="595959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Get A Fresh View </a:t>
            </a:r>
            <a:br>
              <a:rPr sz="3600"/>
            </a:b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Ask for fresh insights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ap expertise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Listen to experience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Know that help is around you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Don’t be proud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Report symptoms, not theories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Realize that you don’t have to be sure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If You Didn’t Fix It, It Ain’t Fixed </a:t>
            </a:r>
            <a:br>
              <a:rPr sz="3600"/>
            </a:b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932" name=""/>
          <p:cNvSpPr txBox="1"/>
          <p:nvPr/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heck that it’s really fixed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heck that it’s really your fix that fixed i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Know that it </a:t>
            </a:r>
            <a:r>
              <a:rPr b="1" i="1" lang="en-US" sz="2400" spc="-1" strike="noStrike">
                <a:solidFill>
                  <a:srgbClr val="595959"/>
                </a:solidFill>
                <a:latin typeface="Rockwell"/>
              </a:rPr>
              <a:t>never </a:t>
            </a: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goes away by itself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x the cause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x the process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3" name="Picture 6" descr=""/>
          <p:cNvPicPr/>
          <p:nvPr/>
        </p:nvPicPr>
        <p:blipFill>
          <a:blip r:embed="rId1"/>
          <a:stretch/>
        </p:blipFill>
        <p:spPr>
          <a:xfrm>
            <a:off x="3825720" y="239760"/>
            <a:ext cx="4929480" cy="6275520"/>
          </a:xfrm>
          <a:prstGeom prst="rect">
            <a:avLst/>
          </a:prstGeom>
          <a:ln w="0">
            <a:noFill/>
          </a:ln>
        </p:spPr>
      </p:pic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380880" y="2571840"/>
            <a:ext cx="325440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Get it at Amazon!</a:t>
            </a:r>
            <a:endParaRPr b="0" lang="en-US" sz="2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380520" y="3733560"/>
            <a:ext cx="3256200" cy="239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Rockwell"/>
              </a:rPr>
              <a:t>ISBN-10:</a:t>
            </a:r>
            <a:r>
              <a:rPr b="0" lang="en-US" sz="1400" spc="-1" strike="noStrike">
                <a:solidFill>
                  <a:srgbClr val="ffffff"/>
                </a:solidFill>
                <a:latin typeface="Rockwell"/>
              </a:rPr>
              <a:t> 0814474578</a:t>
            </a:r>
            <a:endParaRPr b="0" lang="en-US" sz="1400" spc="-1" strike="noStrike">
              <a:solidFill>
                <a:srgbClr val="595959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98600" y="134640"/>
            <a:ext cx="7556400" cy="995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Debugging: the View from Above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913" name=""/>
          <p:cNvSpPr txBox="1"/>
          <p:nvPr/>
        </p:nvSpPr>
        <p:spPr>
          <a:xfrm>
            <a:off x="1819080" y="2070000"/>
            <a:ext cx="5521320" cy="429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80000"/>
              </a:lnSpc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595959"/>
                </a:solidFill>
                <a:latin typeface="Rockwell"/>
              </a:rPr>
              <a:t>Understand The System </a:t>
            </a:r>
            <a:endParaRPr b="0" lang="en-US" sz="19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lnSpc>
                <a:spcPct val="80000"/>
              </a:lnSpc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595959"/>
                </a:solidFill>
                <a:latin typeface="Rockwell"/>
              </a:rPr>
              <a:t>Make It Fail </a:t>
            </a:r>
            <a:endParaRPr b="0" lang="en-US" sz="19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lnSpc>
                <a:spcPct val="80000"/>
              </a:lnSpc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595959"/>
                </a:solidFill>
                <a:latin typeface="Rockwell"/>
              </a:rPr>
              <a:t>Quit Thinking and Look </a:t>
            </a:r>
            <a:endParaRPr b="0" lang="en-US" sz="19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lnSpc>
                <a:spcPct val="80000"/>
              </a:lnSpc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595959"/>
                </a:solidFill>
                <a:latin typeface="Rockwell"/>
              </a:rPr>
              <a:t>Divide and Conquer </a:t>
            </a:r>
            <a:endParaRPr b="0" lang="en-US" sz="19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lnSpc>
                <a:spcPct val="80000"/>
              </a:lnSpc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595959"/>
                </a:solidFill>
                <a:latin typeface="Rockwell"/>
              </a:rPr>
              <a:t>Change One Thing At A Time </a:t>
            </a:r>
            <a:endParaRPr b="0" lang="en-US" sz="19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lnSpc>
                <a:spcPct val="80000"/>
              </a:lnSpc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595959"/>
                </a:solidFill>
                <a:latin typeface="Rockwell"/>
              </a:rPr>
              <a:t>Keep An Audit Trail </a:t>
            </a:r>
            <a:endParaRPr b="0" lang="en-US" sz="19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lnSpc>
                <a:spcPct val="80000"/>
              </a:lnSpc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595959"/>
                </a:solidFill>
                <a:latin typeface="Rockwell"/>
              </a:rPr>
              <a:t>Check The Plug </a:t>
            </a:r>
            <a:endParaRPr b="0" lang="en-US" sz="19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lnSpc>
                <a:spcPct val="80000"/>
              </a:lnSpc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595959"/>
                </a:solidFill>
                <a:latin typeface="Rockwell"/>
              </a:rPr>
              <a:t>Get A Fresh View </a:t>
            </a:r>
            <a:endParaRPr b="0" lang="en-US" sz="19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lnSpc>
                <a:spcPct val="80000"/>
              </a:lnSpc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595959"/>
                </a:solidFill>
                <a:latin typeface="Rockwell"/>
              </a:rPr>
              <a:t>If You Didn’t Fix It, It Ain’t Fixed </a:t>
            </a:r>
            <a:endParaRPr b="0" lang="en-US" sz="19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98240" y="1130400"/>
            <a:ext cx="7559640" cy="77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99"/>
                </a:solidFill>
                <a:latin typeface="Rockwell"/>
              </a:rPr>
              <a:t>9 Indispensable Rules for Finding the Most Elusive Software and Hardware Problems</a:t>
            </a:r>
            <a:endParaRPr b="0" lang="en-US" sz="2400" spc="-1" strike="noStrike">
              <a:solidFill>
                <a:srgbClr val="595959"/>
              </a:solidFill>
              <a:latin typeface="Rockwell"/>
            </a:endParaRPr>
          </a:p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Understand The System </a:t>
            </a:r>
            <a:br>
              <a:rPr sz="3600"/>
            </a:b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916" name=""/>
          <p:cNvSpPr txBox="1"/>
          <p:nvPr/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Read the Manual (Datasheet)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Read everything in depth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Know the Fundamentals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Know the Road Map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Understand your tools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Look up the details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Make It Fail </a:t>
            </a:r>
            <a:br>
              <a:rPr sz="3600"/>
            </a:b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918" name=""/>
          <p:cNvSpPr txBox="1"/>
          <p:nvPr/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Do it again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tart at the beginning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timulate, not simulate, the failure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hake, rattle, and rol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Record everything: find the signature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Don’t trust statistics too much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Never throw away a debugging too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Quit Thinking and Look </a:t>
            </a:r>
            <a:br>
              <a:rPr sz="3600"/>
            </a:b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920" name=""/>
          <p:cNvSpPr txBox="1"/>
          <p:nvPr/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e the failure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e the details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Build instrumentation in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Add instrumentation on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Don’t be afraid to dive in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Watch out for Heisenberg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Guess only to focus the search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Divide and Conquer </a:t>
            </a:r>
            <a:br>
              <a:rPr sz="3600"/>
            </a:b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922" name=""/>
          <p:cNvSpPr txBox="1"/>
          <p:nvPr/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Narrow the search– successive approximation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Get the range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Upstream or Downstream?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Easy-to-spot test patterns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tart with the bad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x what you know abou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Don’t fix what ain’t broken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hange One Thing At A Time </a:t>
            </a:r>
            <a:br>
              <a:rPr sz="3600"/>
            </a:b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924" name=""/>
          <p:cNvSpPr txBox="1"/>
          <p:nvPr/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Isolate the key factor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Grab the brass bar with both hands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hange one test at a time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ompare it with a good one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Determine what you changed since the last time it worked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Keep An Audit Trail </a:t>
            </a:r>
            <a:br>
              <a:rPr sz="3600"/>
            </a:b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926" name=""/>
          <p:cNvSpPr txBox="1"/>
          <p:nvPr/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Write down what you did, in what order, and what happened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Understand that any detail could be importan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orrelate events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Design audit trails are also good for testing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Write it down!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heck The Plug </a:t>
            </a:r>
            <a:br>
              <a:rPr sz="3600"/>
            </a:b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928" name=""/>
          <p:cNvSpPr txBox="1"/>
          <p:nvPr/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Question your assumptions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tart at the beginning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est the too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5T07:29:13Z</dcterms:created>
  <dc:creator>Bruce Hemingway</dc:creator>
  <dc:description/>
  <dc:language>en-US</dc:language>
  <cp:lastModifiedBy>Bruce Hemingway</cp:lastModifiedBy>
  <dcterms:modified xsi:type="dcterms:W3CDTF">2010-02-05T20:28:44Z</dcterms:modified>
  <cp:revision>14</cp:revision>
  <dc:subject/>
  <dc:title>Debugging: the View from Afar</dc:title>
</cp:coreProperties>
</file>