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76720" y="-360"/>
            <a:ext cx="3132000" cy="484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38040" y="725400"/>
            <a:ext cx="483372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76720" y="9105480"/>
            <a:ext cx="313200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1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E9E946E-BD84-4607-AA22-1B9038389A69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024B9D-CFAE-4380-A721-8F52554680D9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7CF376F-4851-4B4A-9D59-6D5082FB752B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966B75F-AEA9-4224-8F37-6E347E4B5681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152D1C-55A6-40B7-AD04-6660975FF655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67A8D5-C972-46E0-B173-638F70CB6B44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B9388F7-C407-43BE-9207-4E6756363E32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27BB5E-9983-4670-85C3-EB6A4F1DBFF3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FC39DF-5022-4750-8664-89642C6BC95B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D830BED-6214-4476-887C-FA4749356669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64876F-65EC-4864-89D3-0ADFCEBC7BFD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6F15CA-CA73-4DB3-A44A-64140F4D8919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C3558B-FD1B-49F4-AC9D-0A0E490EF056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1133CCC-D23A-45D7-ACF4-6365A2161635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1ED760-7848-4023-B121-2057E6E6BAAB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69F9A4-3403-4E5A-ACF6-BCC616D63E67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0FF738-77C5-4020-983E-617E5976B708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660950-1A34-4EE8-8038-0977BD17D30B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C5A62CD-2A51-4AC2-8312-02905698A7BB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3463EF7-CD95-43FD-9BCD-106DF1DA4E47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176720" y="9105840"/>
            <a:ext cx="313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A4A720-5F8D-4A22-931C-8F885E8C721A}" type="slidenum"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38400" y="725400"/>
            <a:ext cx="4833720" cy="3625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61920" y="459252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46B-D962-4C68-82AE-F3B1B751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228-6742-409F-9941-5B4F5113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358-38E1-4614-A0E2-57A98D52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99A-5327-4065-9229-1D06DD33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BE24-5167-49D2-8A08-9D42F04A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ACAF-993D-4B82-B2E7-3E9480B8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6D80-0CAE-49DE-AA9F-FD577597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A255-42FD-44B3-B61F-D5935B72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B5F8-42B7-444A-AFE4-42978FDC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FDBB-D9F8-4C4F-898E-82819101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99D6-F51C-49CE-A198-DA791902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9C7-8A8C-4DBE-B233-70F12C8D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8214-AA38-486D-8DE0-6FAA8FA6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2EE2-12BA-47D2-86DB-1F434DCE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73B4-82DD-4E57-AAE9-80A4517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4DDC-6E5F-4239-8908-6332F428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D1FB-A82E-4314-ABB5-F178846A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5E0-E55E-48F8-926D-D8809325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DFB-3B4C-49A5-A9AF-160296A8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18F-3D1E-4B2D-A947-B05D161A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F23-7D5E-4ECC-AF3F-957BD440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F21-3BA5-4BBC-96D0-9DE466C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1A1-DC86-4DB4-8334-3FF2E88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02D-86A8-4E1C-974F-A320F919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6633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E056-7304-4BE1-BF05-D5F918EFC826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548E-A525-40BD-B586-D10639F37E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uceh@cs.washington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466/09wi/" TargetMode="External"/><Relationship Id="rId2" Type="http://schemas.openxmlformats.org/officeDocument/2006/relationships/hyperlink" Target="http://www.cs.washington.edu/education/courses/cse466/09wi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i.com/litv/pdf/slau144e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6681-10B5-4B2B-8774-AD31B65AE81B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SE 466 – Software for Embedded System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uce Heming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E 464, Office Hours: 1:30-2:30 p.m., Monday, Wednes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whenever the door is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bruceh@cs.washington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Sommerv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2ECC-BEB7-4E8D-BCB4-4D9447C8D746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hat do these differences imply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mphasi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al us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linking and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, protection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s an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mphasi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support, interrupts (very small OS, if we’re luc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(threa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communication primi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-purpose input/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-digital/digital-analog conve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ca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-width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-in communication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74FA-5C0E-42FF-939B-82A296418A6B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hat is an embedded system?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05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s of merit for embedded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 – it should never cr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– controls things that move and can harm/kill 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consumption – may run on limited pow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– engineering cost, manufacturing cost, schedule trade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life cycle – maintainability, upgradeability, servic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– real-time requirements, power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0485-D218-4E93-BBDC-2D4A959D151A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xample: a temperature controll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2" name="Group 51"/>
          <p:cNvGrpSpPr/>
          <p:nvPr/>
        </p:nvGrpSpPr>
        <p:grpSpPr>
          <a:xfrm>
            <a:off x="765000" y="1066680"/>
            <a:ext cx="7715160" cy="1983960"/>
            <a:chOff x="765000" y="1066680"/>
            <a:chExt cx="7715160" cy="1983960"/>
          </a:xfrm>
        </p:grpSpPr>
        <p:sp>
          <p:nvSpPr>
            <p:cNvPr id="163" name="Text Box 4"/>
            <p:cNvSpPr/>
            <p:nvPr/>
          </p:nvSpPr>
          <p:spPr>
            <a:xfrm>
              <a:off x="765000" y="237852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rmi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"/>
            <p:cNvSpPr/>
            <p:nvPr/>
          </p:nvSpPr>
          <p:spPr>
            <a:xfrm>
              <a:off x="3623040" y="1487520"/>
              <a:ext cx="1414080" cy="120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 rot="2265000">
              <a:off x="6451920" y="2148480"/>
              <a:ext cx="337680" cy="6606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 rot="2265000">
              <a:off x="7193520" y="1366200"/>
              <a:ext cx="336240" cy="662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6654960" y="1787400"/>
              <a:ext cx="739800" cy="600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9"/>
            <p:cNvGrpSpPr/>
            <p:nvPr/>
          </p:nvGrpSpPr>
          <p:grpSpPr>
            <a:xfrm>
              <a:off x="5037480" y="1907640"/>
              <a:ext cx="1684800" cy="180720"/>
              <a:chOff x="5037480" y="1907640"/>
              <a:chExt cx="1684800" cy="180720"/>
            </a:xfrm>
          </p:grpSpPr>
          <p:sp>
            <p:nvSpPr>
              <p:cNvPr id="169" name="Line 10"/>
              <p:cNvSpPr/>
              <p:nvPr/>
            </p:nvSpPr>
            <p:spPr>
              <a:xfrm flipH="1">
                <a:off x="5037480" y="1907640"/>
                <a:ext cx="168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1"/>
              <p:cNvSpPr/>
              <p:nvPr/>
            </p:nvSpPr>
            <p:spPr>
              <a:xfrm>
                <a:off x="5037480" y="2088360"/>
                <a:ext cx="164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12"/>
            <p:cNvSpPr/>
            <p:nvPr/>
          </p:nvSpPr>
          <p:spPr>
            <a:xfrm>
              <a:off x="5118840" y="167616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CH (pw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5109840" y="2075760"/>
              <a:ext cx="138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D (pw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14"/>
            <p:cNvCxnSpPr>
              <a:stCxn id="174" idx="0"/>
              <a:endCxn id="164" idx="1"/>
            </p:cNvCxnSpPr>
            <p:nvPr/>
          </p:nvCxnSpPr>
          <p:spPr>
            <a:xfrm>
              <a:off x="2954160" y="2086920"/>
              <a:ext cx="66924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5" name="Line 15"/>
            <p:cNvSpPr/>
            <p:nvPr/>
          </p:nvSpPr>
          <p:spPr>
            <a:xfrm>
              <a:off x="1870920" y="1967040"/>
              <a:ext cx="60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1736280" y="1246320"/>
              <a:ext cx="268920" cy="720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1736280" y="1967040"/>
              <a:ext cx="268920" cy="722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 flipV="1">
              <a:off x="1534320" y="2208240"/>
              <a:ext cx="60696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1668960" y="2689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1753560" y="2749680"/>
              <a:ext cx="20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21"/>
            <p:cNvSpPr/>
            <p:nvPr/>
          </p:nvSpPr>
          <p:spPr>
            <a:xfrm>
              <a:off x="1803600" y="1186560"/>
              <a:ext cx="134640" cy="5940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2343240" y="2088360"/>
              <a:ext cx="94320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23"/>
            <p:cNvSpPr/>
            <p:nvPr/>
          </p:nvSpPr>
          <p:spPr>
            <a:xfrm>
              <a:off x="4228560" y="1186560"/>
              <a:ext cx="135720" cy="5940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4295880" y="124632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>
              <a:off x="4093920" y="292932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>
              <a:off x="4178520" y="2989440"/>
              <a:ext cx="20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>
              <a:off x="4295880" y="268956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3624120" y="20142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C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9"/>
            <p:cNvSpPr/>
            <p:nvPr/>
          </p:nvSpPr>
          <p:spPr>
            <a:xfrm>
              <a:off x="4410720" y="17740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1870920" y="1366200"/>
              <a:ext cx="1752120" cy="36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3625200" y="15958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2"/>
            <p:cNvSpPr/>
            <p:nvPr/>
          </p:nvSpPr>
          <p:spPr>
            <a:xfrm>
              <a:off x="4500720" y="201420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33"/>
            <p:cNvSpPr/>
            <p:nvPr/>
          </p:nvSpPr>
          <p:spPr>
            <a:xfrm>
              <a:off x="2679480" y="1667520"/>
              <a:ext cx="134640" cy="5976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2746800" y="172728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2545200" y="24483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>
              <a:off x="2628360" y="250848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>
              <a:off x="2746800" y="220860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8"/>
            <p:cNvSpPr/>
            <p:nvPr/>
          </p:nvSpPr>
          <p:spPr>
            <a:xfrm rot="5400000">
              <a:off x="2387160" y="1848600"/>
              <a:ext cx="656280" cy="47520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9"/>
            <p:cNvSpPr/>
            <p:nvPr/>
          </p:nvSpPr>
          <p:spPr>
            <a:xfrm>
              <a:off x="4970160" y="1066680"/>
              <a:ext cx="2223000" cy="299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1"/>
            <p:cNvSpPr/>
            <p:nvPr/>
          </p:nvSpPr>
          <p:spPr>
            <a:xfrm>
              <a:off x="3421080" y="2448360"/>
              <a:ext cx="201960" cy="60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2"/>
            <p:cNvSpPr/>
            <p:nvPr/>
          </p:nvSpPr>
          <p:spPr>
            <a:xfrm>
              <a:off x="3624480" y="231516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5"/>
            <p:cNvSpPr/>
            <p:nvPr/>
          </p:nvSpPr>
          <p:spPr>
            <a:xfrm>
              <a:off x="7146000" y="249192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WM sig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5040360" y="2769840"/>
              <a:ext cx="3439800" cy="280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47"/>
          <p:cNvSpPr/>
          <p:nvPr/>
        </p:nvSpPr>
        <p:spPr>
          <a:xfrm>
            <a:off x="380880" y="3328920"/>
            <a:ext cx="5105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</a:rPr>
              <a:t>Task: Tachometer (external interru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now = getTime();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period = then - now; //overfl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then = 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</a:rPr>
              <a:t>Task: FanPWM (periodic, hard constra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(count == 0) PD6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(count &gt; Thi) PD6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8"/>
          <p:cNvSpPr/>
          <p:nvPr/>
        </p:nvSpPr>
        <p:spPr>
          <a:xfrm>
            <a:off x="4425480" y="3352680"/>
            <a:ext cx="4152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</a:rPr>
              <a:t>Task: TempControl (periodic, soft constra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 (Temp &gt; setpoint) Th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 (Temp &lt; setpoint) Thi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 (period&lt;min || period&gt;max) PD0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4423680" y="4800600"/>
            <a:ext cx="300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</a:rPr>
              <a:t>Task: 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Thi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setup timer for 1ms interrup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setup timer for 100ms interrup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while (1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9412-2AE4-4681-BABA-8139919AC918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apacity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Hz processor @ one instruction/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an runs between 30Hz and 6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256ms period on speed control PWM, with 1ms re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percent of the the available cycles are used for the temperature controll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tal instructions in one second] / (8MInstr/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RAM do you n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70E1-7088-49D4-8A35-D7947DC6F347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source analysis of temp controll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09480" y="3962520"/>
          <a:ext cx="8001000" cy="1484280"/>
        </p:xfrm>
        <a:graphic>
          <a:graphicData uri="http://schemas.openxmlformats.org/drawingml/2006/table">
            <a:tbl>
              <a:tblPr/>
              <a:tblGrid>
                <a:gridCol w="2000520"/>
                <a:gridCol w="2000160"/>
                <a:gridCol w="1888920"/>
                <a:gridCol w="2111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/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~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2 (period, th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4 * 60 = 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PW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~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 (cou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8 * 1000 = 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~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 (TH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0 * 2 =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61"/>
          <p:cNvSpPr/>
          <p:nvPr/>
        </p:nvSpPr>
        <p:spPr>
          <a:xfrm>
            <a:off x="380880" y="5638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Instructions/Sec 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</a:rPr>
              <a:t>= 826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at 8MIPS, that’s only 0.1% utiliz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resources? 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</a:rPr>
              <a:t>local variables,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9"/>
          <p:cNvSpPr/>
          <p:nvPr/>
        </p:nvSpPr>
        <p:spPr>
          <a:xfrm>
            <a:off x="533520" y="990720"/>
            <a:ext cx="5105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</a:rPr>
              <a:t>Task: Tachometer (external interru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now = getTime();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period = then - now; //overfl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then = 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</a:rPr>
              <a:t>Task: FanPWM (periodic, hard constra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(count == 0) GP0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(count &gt; Thi) GP0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0"/>
          <p:cNvSpPr/>
          <p:nvPr/>
        </p:nvSpPr>
        <p:spPr>
          <a:xfrm>
            <a:off x="4577760" y="1014480"/>
            <a:ext cx="4152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</a:rPr>
              <a:t>Task: TempControl (periodic, soft constrai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 (Temp &gt; setpoint) Thi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 (Temp &lt; setpoint) Thi-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if  (period&lt;min || period&gt;max) GP4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1"/>
          <p:cNvSpPr/>
          <p:nvPr/>
        </p:nvSpPr>
        <p:spPr>
          <a:xfrm>
            <a:off x="4575960" y="2514600"/>
            <a:ext cx="3000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</a:rPr>
              <a:t>Task: 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Thi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setup timer for 1ms interrup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setup timer for 100ms interrup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Arial"/>
                <a:ea typeface="MS Gothic"/>
              </a:rPr>
              <a:t>while (1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0594-8C0B-4955-833B-1940BF90C8AA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ass logistics – see course web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cs.washington.edu/education/courses/cse466/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0au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’ll b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7500-2F4F-4FAE-AB22-A388CE4AAEDB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ass structur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ly linked to laboratory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main concepts, introduce laborator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two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reports due prior with 30 minutes of start of next lab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, based on lecture, lab, and datashee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datasheets, open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last class time – particip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7ED3-07FB-4B72-A740-75B4AF1A5B18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Business Matt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slides will be on line after class (links in several plac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lab partner assignments, changed mid-quar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up for CSE466 mailing list (so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9CCA-336A-42DB-BD6D-24D42F3666F5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Grad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report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(s)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 answers to questions embedded in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hand-i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ith your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: 5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s: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: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Participation: 2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2FE-3BE1-4A33-B521-98745FC8832C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SE466 Lab Project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ulti-week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lab assignmen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lab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ze with low-power micro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how to interface various devices, including Ch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and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energy harvesting with MSP4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-9 with touch-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Linux talks to Ch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aybe And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an 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EF7E-4E4C-471C-8685-4B0E89ED3917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SE 466 – Software for Embedded System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eeting Times and Loc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: EEB 045, MWF 10:30-11: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: CSE 003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/Thursday, 2:30-5:2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term: Wednesday, 10 November, EEB 045, 10:30-11: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: Monday, December 13, 2010, 830-1020, EEB 0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3CA6-403B-445A-A9A7-04E8BA937875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Project 1 – power-harvesting  w. Chrono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4495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: MSP430 micro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ed via Solar cell- read senso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data to Chronos via 915 MHz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nos collects data, then dumps it to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"/>
          <p:cNvPicPr/>
          <p:nvPr/>
        </p:nvPicPr>
        <p:blipFill>
          <a:blip r:embed="rId1"/>
          <a:srcRect l="0" t="0" r="10748" b="3751"/>
          <a:stretch/>
        </p:blipFill>
        <p:spPr>
          <a:xfrm>
            <a:off x="5749920" y="1143000"/>
            <a:ext cx="3394080" cy="4495680"/>
          </a:xfrm>
          <a:prstGeom prst="rect">
            <a:avLst/>
          </a:prstGeom>
          <a:ln w="0">
            <a:noFill/>
          </a:ln>
        </p:spPr>
      </p:pic>
      <p:sp>
        <p:nvSpPr>
          <p:cNvPr id="25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B51-2582-4168-9C29-3F4782E5D8CA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SE466 Lab Projects (cont’d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2 – Using the Micro24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: 405 MHz Samsung S3C2440A ARM920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 64 MBytes SDRAM,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 1 GByte of N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ytes of NOR with B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USB Host conn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USB Device conn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 Stereo Out with mini phone jac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 In with cable connector on PC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enser Mic on PC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ndard SD Card sock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Ethernet RJ-45 10/100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RTC Built in Real Time Clock with ba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Linux 2.6.31, Android, WinCE, and uC/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D NEC 3.5 inch with Touch Screen, 240x32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ssignment for Friday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e MSP430x2xx Fami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r’s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pter 1: Introduc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pter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terrupts, and 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ti.com/litv/pdf/slau144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ink is on the Textbook page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0F37-EE26-4B5D-840A-3E1896F5D1B1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D82-9B4A-48E3-A32E-43E09A7539F0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SE 466 – Software for Embedded System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ill be two exams, as shown on the class sche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reports:  Demo usually required, sometimes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: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s total: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: 10% (repo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Participation: 2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Recommended Textbook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52388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P430 Microcontroller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ohn H. 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nes (2008) - Paperback - 668 pages - ISBN 0750682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Bookstore doesn’t ha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C721-C911-4F0F-949C-BDC62DC4876C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2260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F7BD-A4C0-4B3C-B0D2-BD900FADD2F5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mbedded system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4" descr="photo_3"/>
          <p:cNvPicPr/>
          <p:nvPr/>
        </p:nvPicPr>
        <p:blipFill>
          <a:blip r:embed="rId1"/>
          <a:stretch/>
        </p:blipFill>
        <p:spPr>
          <a:xfrm>
            <a:off x="3276720" y="4952880"/>
            <a:ext cx="3047760" cy="1197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15180-sonye8p"/>
          <p:cNvPicPr/>
          <p:nvPr/>
        </p:nvPicPr>
        <p:blipFill>
          <a:blip r:embed="rId2"/>
          <a:stretch/>
        </p:blipFill>
        <p:spPr>
          <a:xfrm>
            <a:off x="4876920" y="2666880"/>
            <a:ext cx="22096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6553080" y="4419720"/>
            <a:ext cx="1828800" cy="1752120"/>
            <a:chOff x="6553080" y="4419720"/>
            <a:chExt cx="1828800" cy="1752120"/>
          </a:xfrm>
        </p:grpSpPr>
        <p:pic>
          <p:nvPicPr>
            <p:cNvPr id="121" name="Picture 7" descr="sphone_bottom"/>
            <p:cNvPicPr/>
            <p:nvPr/>
          </p:nvPicPr>
          <p:blipFill>
            <a:blip r:embed="rId3"/>
            <a:srcRect l="0" t="0" r="24800" b="16220"/>
            <a:stretch/>
          </p:blipFill>
          <p:spPr>
            <a:xfrm>
              <a:off x="6553080" y="5085360"/>
              <a:ext cx="1828800" cy="10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8" descr="sphone_top"/>
            <p:cNvPicPr/>
            <p:nvPr/>
          </p:nvPicPr>
          <p:blipFill>
            <a:blip r:embed="rId4"/>
            <a:stretch/>
          </p:blipFill>
          <p:spPr>
            <a:xfrm>
              <a:off x="6553080" y="4419720"/>
              <a:ext cx="1828800" cy="66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9" descr="Aibo_Robot_Dog_"/>
          <p:cNvPicPr/>
          <p:nvPr/>
        </p:nvPicPr>
        <p:blipFill>
          <a:blip r:embed="rId5"/>
          <a:srcRect l="4071" t="2503" r="12806" b="19859"/>
          <a:stretch/>
        </p:blipFill>
        <p:spPr>
          <a:xfrm>
            <a:off x="2590920" y="2514600"/>
            <a:ext cx="1954080" cy="2324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copper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124080" y="990720"/>
            <a:ext cx="2286000" cy="144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about_image"/>
          <p:cNvPicPr/>
          <p:nvPr/>
        </p:nvPicPr>
        <p:blipFill>
          <a:blip r:embed="rId7"/>
          <a:srcRect l="12075" t="0" r="32799" b="22655"/>
          <a:stretch/>
        </p:blipFill>
        <p:spPr>
          <a:xfrm>
            <a:off x="6553080" y="838080"/>
            <a:ext cx="2057400" cy="6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shot_mcp10"/>
          <p:cNvPicPr/>
          <p:nvPr/>
        </p:nvPicPr>
        <p:blipFill>
          <a:blip r:embed="rId8"/>
          <a:stretch/>
        </p:blipFill>
        <p:spPr>
          <a:xfrm>
            <a:off x="5715000" y="1371600"/>
            <a:ext cx="2666880" cy="1509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vuman2_in_use"/>
          <p:cNvPicPr/>
          <p:nvPr/>
        </p:nvPicPr>
        <p:blipFill>
          <a:blip r:embed="rId9"/>
          <a:stretch/>
        </p:blipFill>
        <p:spPr>
          <a:xfrm>
            <a:off x="685800" y="1219320"/>
            <a:ext cx="1668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3E6-2B4D-4CAB-BA45-1617C3EF40F0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mbedded system – from the web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6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vice not independently programmable by the user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computing devices that are not deployed as general purpose computer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alized computer system which is dedicated to a specific ta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bedded system is preprogrammed to perform a narrow range of functions with minimal end user or operator interven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DD5B-FF2D-458C-BC73-ED17B9DBEC72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mbedded system – from the web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6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mad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edded systems range in size from a single processing board to systems with operating system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mbination of computer hardware and software, and perhaps additional mechanical or other parts, designed to perform a dedicated functio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ome cases, embedded systems are part of a larger system or product, as is the case of an anti-lock braking system in a ca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pecialized computer system that is part of a larger system or machin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, an embedded system is housed on a single microprocessor board with the programs stored in ROM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embedded systems include an operating system, but many are so small and specialized that the entire logic can be implemented as a single progra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5EA2-DB98-4F7D-A896-D70B42BD4E56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mbedded system – from the web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6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all appliances that have a digital interface -- watches, microwaves, DVD players, cars -- utilize embedded system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uter system dedicated to controlling some non-computing hardware, like a washing machine, a car engine or a missil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embedded systems are medical equipment and manufacturing equipmen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ost consumers aren't aware that they exist, they are extremely common, ranging from industrial systems to DVD players and many net de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CSE 46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9DDB-3239-44CB-A440-45A48E55AE54}" type="slidenum">
              <a:rPr b="0" lang="en-US" sz="1200" spc="-1" strike="noStrike">
                <a:solidFill>
                  <a:srgbClr val="006633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What is an embedded system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than a desktop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or semi-fixed functionality (not user programm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human interfaces than screen, keyboard, mouse,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has sensors and actuators for interface to physic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have stringent real-time requir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discrete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analog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feature implementation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maintenance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 intellectual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mechanical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3:41:41Z</dcterms:created>
  <dc:creator>Bruce Hemingway</dc:creator>
  <dc:description/>
  <dc:language>en-US</dc:language>
  <cp:lastModifiedBy>Bruce Hemingway</cp:lastModifiedBy>
  <cp:lastPrinted>2010-01-02T05:00:25Z</cp:lastPrinted>
  <dcterms:modified xsi:type="dcterms:W3CDTF">2010-09-29T05:23:51Z</dcterms:modified>
  <cp:revision>59</cp:revision>
  <dc:subject/>
  <dc:title>CSE466 Syllabus</dc:title>
</cp:coreProperties>
</file>