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2.png" ContentType="image/pn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3667320"/>
            <a:ext cx="8001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880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366732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8800" y="366732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4520" y="76176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920" y="76176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366732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4520" y="366732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920" y="366732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3904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8800" y="761760"/>
            <a:ext cx="3904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80010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8800" y="761760"/>
            <a:ext cx="3904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366732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3904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880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8800" y="366732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880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3667320"/>
            <a:ext cx="8001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3" marL="142884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4" marL="17715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5" marL="17715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6" marL="17715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6472080"/>
            <a:ext cx="8001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054760" y="6568920"/>
            <a:ext cx="3632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  <a:ea typeface="宋体"/>
              </a:rPr>
              <a:t>Introduction to Embedded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685800"/>
            <a:ext cx="8001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Timers and Interrupts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  <a:ea typeface="宋体"/>
              </a:rPr>
              <a:t>Lecture 9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X-Board System Clocks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rcRect l="8439" t="13752" r="4688" b="6251"/>
          <a:stretch/>
        </p:blipFill>
        <p:spPr>
          <a:xfrm>
            <a:off x="-554040" y="-66600"/>
            <a:ext cx="996804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086600" y="4648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What is a Timer?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A device that uses high­speed clock input to provide a series of time or count-related events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0720" y="3962520"/>
            <a:ext cx="2260440" cy="565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3505320" y="3809520"/>
            <a:ext cx="2140920" cy="381600"/>
            <a:chOff x="3505320" y="3809520"/>
            <a:chExt cx="2140920" cy="381600"/>
          </a:xfrm>
        </p:grpSpPr>
        <p:sp>
          <p:nvSpPr>
            <p:cNvPr id="76" name=""/>
            <p:cNvSpPr/>
            <p:nvPr/>
          </p:nvSpPr>
          <p:spPr>
            <a:xfrm>
              <a:off x="3505320" y="4191120"/>
              <a:ext cx="19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3700080" y="380952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00080" y="3809880"/>
              <a:ext cx="19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3893760" y="380952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893760" y="4191120"/>
              <a:ext cx="19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4089240" y="380952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089240" y="3809880"/>
              <a:ext cx="19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4284360" y="380952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284360" y="4191120"/>
              <a:ext cx="19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4478040" y="380952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478040" y="3809880"/>
              <a:ext cx="19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4673520" y="380952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673520" y="4191120"/>
              <a:ext cx="19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4868640" y="380952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68640" y="3809880"/>
              <a:ext cx="19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5062320" y="380952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062320" y="4191120"/>
              <a:ext cx="19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257440" y="380952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257440" y="3809880"/>
              <a:ext cx="19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5452920" y="380952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452920" y="4191120"/>
              <a:ext cx="19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762120" y="3276720"/>
            <a:ext cx="2438280" cy="380880"/>
            <a:chOff x="762120" y="3276720"/>
            <a:chExt cx="2438280" cy="380880"/>
          </a:xfrm>
        </p:grpSpPr>
        <p:sp>
          <p:nvSpPr>
            <p:cNvPr id="98" name=""/>
            <p:cNvSpPr/>
            <p:nvPr/>
          </p:nvSpPr>
          <p:spPr>
            <a:xfrm>
              <a:off x="762120" y="3657600"/>
              <a:ext cx="13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897120" y="3276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7120" y="3276720"/>
              <a:ext cx="13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1032840" y="3276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32840" y="3657600"/>
              <a:ext cx="13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1168200" y="3276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168200" y="3276720"/>
              <a:ext cx="13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1303560" y="3276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303560" y="3657600"/>
              <a:ext cx="13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1439280" y="3276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439280" y="3276720"/>
              <a:ext cx="13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1574640" y="3276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74640" y="3657600"/>
              <a:ext cx="13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1710000" y="3276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0000" y="3276720"/>
              <a:ext cx="13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1845720" y="3276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845720" y="3657600"/>
              <a:ext cx="13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1981080" y="3276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981080" y="3276720"/>
              <a:ext cx="13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2116440" y="3276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16440" y="3657600"/>
              <a:ext cx="13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2252160" y="3276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52160" y="3276720"/>
              <a:ext cx="13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2387520" y="3276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387520" y="3657600"/>
              <a:ext cx="13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2522880" y="3276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522880" y="3276720"/>
              <a:ext cx="13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2658600" y="3276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658600" y="3657600"/>
              <a:ext cx="13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2793960" y="3276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793960" y="3276720"/>
              <a:ext cx="13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2929320" y="3276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929320" y="3657600"/>
              <a:ext cx="13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3065040" y="3276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65040" y="3276720"/>
              <a:ext cx="13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3200400" y="3276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5943600" y="4114800"/>
            <a:ext cx="2260440" cy="565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00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2743200"/>
            <a:ext cx="2260440" cy="565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x12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943600" y="5486400"/>
            <a:ext cx="2260440" cy="565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/O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8660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276720" y="4343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4114800" y="57913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71720" y="4572000"/>
            <a:ext cx="19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lock Div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18680" y="2286000"/>
            <a:ext cx="24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ounter Regi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238880" y="327672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load on 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9840" y="4648320"/>
            <a:ext cx="29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ountdown Regi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267080" y="534996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terrupt to Proc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5740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69200" y="274320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System C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X-Board Timers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The X-Board has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two timers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Timer A and Timer B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These timers can interrupt the 80200 processor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nterrupt will be held active until cleared by the 80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32-bit timers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33.3MHz peripheral bus clock is the time base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128 seconds maximum timing interva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Each timer consists of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 down counter which reloads itself when it hits underf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Can be programmed for one-shot operatio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isables itself when it hits z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What Kinds of Timers Exist?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What is a timeout?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Pause Functio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uspends task for a specified amount of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One-shot timer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ingle one-time-only time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Periodic timer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ultiple renewable timeo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Time-slicing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hunks of time to each 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Watchdog timer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88920"/>
            <a:ext cx="895320" cy="7142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8248680" y="5700600"/>
            <a:ext cx="895320" cy="7146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6653160" y="1463760"/>
            <a:ext cx="1973160" cy="26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X-Board Timer Status/Control Registers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1313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Timer Status/Control Register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ne for each of the two tim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o control the features of the ti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rcRect l="3751" t="25004" r="3751" b="6251"/>
          <a:stretch/>
        </p:blipFill>
        <p:spPr>
          <a:xfrm>
            <a:off x="63360" y="1798560"/>
            <a:ext cx="89694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X-Board Timer Preload Registers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3751" t="13752" r="3751" b="33755"/>
          <a:stretch/>
        </p:blipFill>
        <p:spPr>
          <a:xfrm>
            <a:off x="7920" y="1504800"/>
            <a:ext cx="9171000" cy="39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X-Board Timer Current Value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3751" t="28754" r="3751" b="25004"/>
          <a:stretch/>
        </p:blipFill>
        <p:spPr>
          <a:xfrm>
            <a:off x="152280" y="1357200"/>
            <a:ext cx="889632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Which Timers to Use for Lab 2?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We use all the 3 register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Status-control register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Used for control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nable/disable, clearing interrupt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Preload register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Generally set to the highest possible value to get the longest possible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Current value register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ontains the current value while the timer is enabl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There is some sample "timer" code in the appendix of the Lab2 handout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Inside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 the Timer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3124080" y="1523880"/>
            <a:ext cx="2438280" cy="304560"/>
            <a:chOff x="3124080" y="1523880"/>
            <a:chExt cx="2438280" cy="304560"/>
          </a:xfrm>
        </p:grpSpPr>
        <p:sp>
          <p:nvSpPr>
            <p:cNvPr id="165" name=""/>
            <p:cNvSpPr/>
            <p:nvPr/>
          </p:nvSpPr>
          <p:spPr>
            <a:xfrm>
              <a:off x="3124080" y="1523880"/>
              <a:ext cx="304560" cy="3045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428640" y="1523880"/>
              <a:ext cx="304920" cy="3045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733560" y="1523880"/>
              <a:ext cx="304920" cy="3045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038480" y="1523880"/>
              <a:ext cx="304560" cy="3045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343040" y="1523880"/>
              <a:ext cx="304920" cy="3045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647960" y="1523880"/>
              <a:ext cx="304920" cy="3045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52880" y="1523880"/>
              <a:ext cx="304560" cy="3045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257440" y="1523880"/>
              <a:ext cx="304920" cy="3045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562720" y="1523880"/>
            <a:ext cx="2438280" cy="304560"/>
            <a:chOff x="5562720" y="1523880"/>
            <a:chExt cx="2438280" cy="304560"/>
          </a:xfrm>
        </p:grpSpPr>
        <p:sp>
          <p:nvSpPr>
            <p:cNvPr id="174" name=""/>
            <p:cNvSpPr/>
            <p:nvPr/>
          </p:nvSpPr>
          <p:spPr>
            <a:xfrm>
              <a:off x="5562720" y="1523880"/>
              <a:ext cx="304560" cy="304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867280" y="1523880"/>
              <a:ext cx="304920" cy="304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172200" y="1523880"/>
              <a:ext cx="304920" cy="304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477120" y="1523880"/>
              <a:ext cx="304560" cy="304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781680" y="1523880"/>
              <a:ext cx="304920" cy="304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086600" y="1523880"/>
              <a:ext cx="304920" cy="304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391520" y="1523880"/>
              <a:ext cx="304560" cy="304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696080" y="1523880"/>
              <a:ext cx="304920" cy="304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3124080" y="5791320"/>
            <a:ext cx="2438280" cy="304560"/>
            <a:chOff x="3124080" y="5791320"/>
            <a:chExt cx="2438280" cy="304560"/>
          </a:xfrm>
        </p:grpSpPr>
        <p:sp>
          <p:nvSpPr>
            <p:cNvPr id="183" name=""/>
            <p:cNvSpPr/>
            <p:nvPr/>
          </p:nvSpPr>
          <p:spPr>
            <a:xfrm>
              <a:off x="3124080" y="5791320"/>
              <a:ext cx="304560" cy="3045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428640" y="5791320"/>
              <a:ext cx="304920" cy="3045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733560" y="5791320"/>
              <a:ext cx="304920" cy="3045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038480" y="5791320"/>
              <a:ext cx="304560" cy="3045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343040" y="5791320"/>
              <a:ext cx="304920" cy="3045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647960" y="5791320"/>
              <a:ext cx="304920" cy="3045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52880" y="5791320"/>
              <a:ext cx="304560" cy="3045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257440" y="5791320"/>
              <a:ext cx="304920" cy="3045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5562720" y="5791320"/>
            <a:ext cx="2438280" cy="304560"/>
            <a:chOff x="5562720" y="5791320"/>
            <a:chExt cx="2438280" cy="304560"/>
          </a:xfrm>
        </p:grpSpPr>
        <p:sp>
          <p:nvSpPr>
            <p:cNvPr id="192" name=""/>
            <p:cNvSpPr/>
            <p:nvPr/>
          </p:nvSpPr>
          <p:spPr>
            <a:xfrm>
              <a:off x="5562720" y="5791320"/>
              <a:ext cx="304560" cy="304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867280" y="5791320"/>
              <a:ext cx="304920" cy="304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172200" y="5791320"/>
              <a:ext cx="304920" cy="304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477120" y="5791320"/>
              <a:ext cx="304560" cy="304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781680" y="5791320"/>
              <a:ext cx="304920" cy="304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086600" y="5791320"/>
              <a:ext cx="304920" cy="304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391520" y="5791320"/>
              <a:ext cx="304560" cy="304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96080" y="5791320"/>
              <a:ext cx="304920" cy="304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4191120" y="1828800"/>
            <a:ext cx="304560" cy="1676520"/>
          </a:xfrm>
          <a:prstGeom prst="downArrow">
            <a:avLst>
              <a:gd name="adj1" fmla="val 50000"/>
              <a:gd name="adj2" fmla="val 13761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91120" y="3581280"/>
            <a:ext cx="304560" cy="2210040"/>
          </a:xfrm>
          <a:prstGeom prst="downArrow">
            <a:avLst>
              <a:gd name="adj1" fmla="val 50000"/>
              <a:gd name="adj2" fmla="val 18141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629400" y="1828800"/>
            <a:ext cx="304920" cy="1676520"/>
          </a:xfrm>
          <a:prstGeom prst="downArrow">
            <a:avLst>
              <a:gd name="adj1" fmla="val 50000"/>
              <a:gd name="adj2" fmla="val 13745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629400" y="3581280"/>
            <a:ext cx="304920" cy="2210040"/>
          </a:xfrm>
          <a:prstGeom prst="downArrow">
            <a:avLst>
              <a:gd name="adj1" fmla="val 50000"/>
              <a:gd name="adj2" fmla="val 18119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735000" y="114300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igh 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7320" y="1143000"/>
            <a:ext cx="139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ow 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4360" y="1523880"/>
            <a:ext cx="2899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Counter Regist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 offsets 0x04, 0x00 (write on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7600" y="3429000"/>
            <a:ext cx="3007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Current Count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directly readable by softwar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5560" y="2284560"/>
            <a:ext cx="34480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GO Regist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ffset 0x08, immediately mov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unter Reg value into Current Cou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3480" y="4267080"/>
            <a:ext cx="394056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Latch Regist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ffset 0x0C, write a ``1'' to immediately wri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rrent Counter value to readable Latch R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62320" y="4267080"/>
            <a:ext cx="3045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09680" y="2209680"/>
            <a:ext cx="30492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33640" y="5715000"/>
            <a:ext cx="289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Latched Count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 offsets 0x04, 0x00 (read only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124080" y="3505320"/>
            <a:ext cx="2438280" cy="304560"/>
            <a:chOff x="3124080" y="3505320"/>
            <a:chExt cx="2438280" cy="304560"/>
          </a:xfrm>
        </p:grpSpPr>
        <p:sp>
          <p:nvSpPr>
            <p:cNvPr id="214" name=""/>
            <p:cNvSpPr/>
            <p:nvPr/>
          </p:nvSpPr>
          <p:spPr>
            <a:xfrm>
              <a:off x="3124080" y="3505320"/>
              <a:ext cx="304560" cy="3045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28640" y="3505320"/>
              <a:ext cx="304920" cy="3045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733560" y="3505320"/>
              <a:ext cx="304920" cy="3045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38480" y="3505320"/>
              <a:ext cx="304560" cy="3045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343040" y="3505320"/>
              <a:ext cx="304920" cy="3045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647960" y="3505320"/>
              <a:ext cx="304920" cy="3045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952880" y="3505320"/>
              <a:ext cx="304560" cy="3045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257440" y="3505320"/>
              <a:ext cx="304920" cy="3045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5562720" y="3505320"/>
            <a:ext cx="2438280" cy="304560"/>
            <a:chOff x="5562720" y="3505320"/>
            <a:chExt cx="2438280" cy="304560"/>
          </a:xfrm>
        </p:grpSpPr>
        <p:sp>
          <p:nvSpPr>
            <p:cNvPr id="223" name=""/>
            <p:cNvSpPr/>
            <p:nvPr/>
          </p:nvSpPr>
          <p:spPr>
            <a:xfrm>
              <a:off x="5562720" y="3505320"/>
              <a:ext cx="304560" cy="304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867280" y="3505320"/>
              <a:ext cx="304920" cy="304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172200" y="3505320"/>
              <a:ext cx="304920" cy="304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77120" y="3505320"/>
              <a:ext cx="304560" cy="304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81680" y="3505320"/>
              <a:ext cx="304920" cy="304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086600" y="3505320"/>
              <a:ext cx="304920" cy="304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391520" y="3505320"/>
              <a:ext cx="304560" cy="304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696080" y="3505320"/>
              <a:ext cx="304920" cy="304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8145000" y="3314880"/>
            <a:ext cx="629280" cy="647280"/>
            <a:chOff x="8145000" y="3314880"/>
            <a:chExt cx="629280" cy="647280"/>
          </a:xfrm>
        </p:grpSpPr>
        <p:sp>
          <p:nvSpPr>
            <p:cNvPr id="232" name=""/>
            <p:cNvSpPr/>
            <p:nvPr/>
          </p:nvSpPr>
          <p:spPr>
            <a:xfrm flipH="1">
              <a:off x="8144640" y="3314880"/>
              <a:ext cx="628920" cy="524520"/>
            </a:xfrm>
            <a:custGeom>
              <a:avLst/>
              <a:gdLst>
                <a:gd name="textAreaLeft" fmla="*/ -360 w 628920"/>
                <a:gd name="textAreaRight" fmla="*/ 628920 w 628920"/>
                <a:gd name="textAreaTop" fmla="*/ 0 h 524520"/>
                <a:gd name="textAreaBottom" fmla="*/ 524880 h 52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636" y="10827"/>
                  </a:moveTo>
                  <a:arcTo wR="-8164" hR="-8164" stAng="10788630" swAng="-10851207"/>
                  <a:lnTo>
                    <a:pt x="2" y="10997"/>
                  </a:lnTo>
                  <a:arcTo wR="10800" hR="10800" stAng="10737423" swAng="10851207"/>
                  <a:lnTo>
                    <a:pt x="24300" y="10755"/>
                  </a:lnTo>
                  <a:lnTo>
                    <a:pt x="20295" y="14787"/>
                  </a:lnTo>
                  <a:lnTo>
                    <a:pt x="16264" y="10782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8145360" y="3438000"/>
              <a:ext cx="628920" cy="524160"/>
            </a:xfrm>
            <a:custGeom>
              <a:avLst/>
              <a:gdLst>
                <a:gd name="textAreaLeft" fmla="*/ 0 w 628920"/>
                <a:gd name="textAreaRight" fmla="*/ 629280 w 628920"/>
                <a:gd name="textAreaTop" fmla="*/ 360 h 524160"/>
                <a:gd name="textAreaBottom" fmla="*/ 524880 h 524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893" y="10615"/>
                  </a:moveTo>
                  <a:arcTo wR="-7909" hR="-7909" stAng="-10719582" swAng="-10880418"/>
                  <a:lnTo>
                    <a:pt x="0" y="10800"/>
                  </a:lnTo>
                  <a:arcTo wR="10800" hR="10800" stAng="10800000" swAng="10880418"/>
                  <a:lnTo>
                    <a:pt x="24296" y="11116"/>
                  </a:lnTo>
                  <a:lnTo>
                    <a:pt x="20055" y="15163"/>
                  </a:lnTo>
                  <a:lnTo>
                    <a:pt x="16008" y="10922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2514600" y="23623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19720" y="23623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666880" y="44197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419720" y="44197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ourier New"/>
                <a:ea typeface="宋体"/>
              </a:rPr>
              <a:t>Struct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s for the Timer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In ANSI C, structs are laid out in RAM in ascending order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Example for the tim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#define TIMER0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0x10200040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#define TIMER1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0x10200050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volatile struct timer_s {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unsigned char countLow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unsigned char space1[3]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unsigned char countHigh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unsigned char space2[3]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unsigned char go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unsigned char space3[3]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unsigned char latch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unsignec char space4[3]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};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typedef timer_s *timer_p;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timer_p timer;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timer = (timer_p) TIMER1;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Summary of Previous Lecture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The lab 80200 Big-Endian Evaluation Board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80200 Intel Xscale® proces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ilinx FP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The X-Board and accessorie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even-segment LED, Serial 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Preparing you for Lab 2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14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lash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14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erial 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Setting the Timer's Counter Registers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Counter is usually programmed to reach zero X times per second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o program the timer to reach zero 100 times per seco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Example: For a 2 MHz-based timer, 2MHz / 100 = 20,00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#define TIMER1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0x1020005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int tim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time = 2000000 / 100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timer = (timer_p) TIMER1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timer­&gt;countLow = (unsigned char) (time &amp; 0xff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timer­&gt;countHigh = (unsigned char) ((time &gt; 8) &amp; 0xff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timer­&gt;go = (unsigned char) 0x1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Reading the Timer's Current Value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Must first dump the current value so that it can be read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Why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#define TIMER1 0x1020005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int tim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timer = (timer_p) TIMER1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timer­&gt;latch = (unsigned char) 1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time = (unsigned int) timer­&gt;countLow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time = time | (unsigned int) (timer­&gt;countHigh &lt;&lt; 8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How do we know when the timer has reached zero?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while (1)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timer­&gt;latch = (unsigned char) 1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time = (unsigned int) timer­&gt;countLow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time = time | (unsigned int) (timer­&gt;countHigh &lt;&lt; 8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Interrupt vs. Polled I/O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58840" y="701640"/>
            <a:ext cx="85946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Polled I/O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requires the CPU to </a:t>
            </a:r>
            <a:r>
              <a:rPr b="0" i="1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ask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a device (e.g. </a:t>
            </a:r>
            <a:r>
              <a:rPr b="0" i="1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toggle switches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) if the device requires servicing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or example, if the toggle switches have changed posi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oftware plans for polling the devices and is written to know when a device will be servic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Interrupt I/O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allows the device to </a:t>
            </a:r>
            <a:r>
              <a:rPr b="0" i="1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interrupt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the processor, announcing that the device requires attention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his allows the CPU to ignore devices unless they request servicing (via interrupt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oftware cannot plan for an interrupt because interrupts can happen at any time ­­ therefore, software has no idea when an interrupt will occu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his makes it more difficult to write co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Processors can be programmed to ignore interrupts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We call this </a:t>
            </a:r>
            <a:r>
              <a:rPr b="1" i="1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mask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of interrup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ifferent types of interrupts can be masked  (IRQ vs. FIQ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X-Board Interrupt Controller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rcRect l="3751" t="13752" r="9376" b="12502"/>
          <a:stretch/>
        </p:blipFill>
        <p:spPr>
          <a:xfrm>
            <a:off x="106200" y="728640"/>
            <a:ext cx="9069480" cy="57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Polling Example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80880" y="882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Polling the switche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#define SWITCH_BASE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0x18200000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int main(int argc, char * argv[])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{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volatile unsigned int *switchBank = (unsigned int *) SWITCH_BAS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unsigned int tmpSwitchStat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unsigned int prevSwitchStat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/* get the current state of the switches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prevSwitchState = *switchBank &amp; 0xff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while (1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/* loop until a switch is pressed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while (prevSwitchState =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(tmpSwitchState = (*switchBank &amp; 0xff))) {}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} /* end main() */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Polling vs. Interrupt­Driven I/O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Polling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requires code to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loop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until device is ready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onsum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o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of CPU cyc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an provide quick response (guaranteed delay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Interrupts don't require code to loop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until the device is ready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evice interrupts processor when it needs atten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ode can go off and do other thing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nterrupts can happen at any ti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quires careful coding to make sure other programs (or your own) don't get messed u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Polling the Serial Port - I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// Function to read from the serial keypad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unsigned char* my_gets(void)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{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unsigned char* char_ptr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volatile unsigned char* UART_ptr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unsigned int i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static unsigned char char_buffer[116]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char_ptr = char_buffer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*(volatile unsigned char*)UART2_FIFO_CNTRL = 0x06; </a:t>
            </a:r>
            <a:r>
              <a:rPr b="0" i="1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// Clear FIFO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*char_ptr = *(volatile unsigned char*)UART2_RX_REG; </a:t>
            </a:r>
            <a:r>
              <a:rPr b="0" i="1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// Empty any trash in the RX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for(i=0; i&lt;sizeof(char_buffer); i++) {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char_buffer[i] = (unsigned char)NULL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}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UART_ptr = (volatile unsigned char*)UART2_LINE_STAT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Polling the Serial Port - II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// Keep looking at characters until '\r'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while(1){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// Wait for Rx character forever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while ((*UART_ptr &amp; 0x01) == 0) {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;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}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*char_ptr = *(volatile unsigned char*)UART2_RX_REG; </a:t>
            </a:r>
            <a:r>
              <a:rPr b="0" i="1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// Read the character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if(*char_ptr != BACKSPACE) {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printf("%d",*char_ptr&amp;0xffff); </a:t>
            </a:r>
            <a:r>
              <a:rPr b="0" i="1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// Echo char back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if ((*char_ptr&amp;0xffff) == 125)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sendchar("v");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}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Polling the Serial Port - III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// Exit the 'while' when we see '\r' or the buffer fill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if((*char_ptr == '\r') || (char_ptr == &amp;char_buffer[sizeof(char_buffer)-1]))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break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// If Backspace, backup char_ptr so next char will overwrite bad input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if(*char_ptr == BACKSPACE){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if(char_ptr &gt; char_buffer){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// If at least 1 character, backup cursor, delete character on screen, backup cursor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char_ptr--; </a:t>
            </a:r>
            <a:r>
              <a:rPr b="0" i="1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// delete char from buffer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}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} else {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char_ptr++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}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}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*char_ptr = '\000'; </a:t>
            </a:r>
            <a:r>
              <a:rPr b="0" i="1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// Terminate the string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return(char_buffer)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}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Windows NT Interrupt Architecture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When a device raises an interrupt, the interrupt-controller automatically </a:t>
            </a:r>
            <a:r>
              <a:rPr b="0" i="1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masks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all interrupts of lower priority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IRQL (Interrupt Request Level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evel of interrupt that the CPU is currently mas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HAL (Hardware Abstraction Layer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aps interrupt-controller’s interrupt levels onto hardware interrup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RQL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ISR (Interrupt Service Routine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nterrupt handlers registered with the interrupt-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Spinlock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ynchronization primitive to prevent simultaneous ISR execution on multiple process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DPC (Deferred procedure call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SR indicates that it can do work at a lower priority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-7920" y="88920"/>
            <a:ext cx="895320" cy="71424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8245440" y="5700600"/>
            <a:ext cx="89532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Administrivia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Lab 2 is out on the street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Lab 2 – Individual (and not a group) project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Windows NT Interrupt Architecture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6480" y="88920"/>
            <a:ext cx="895320" cy="7142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8245440" y="5700600"/>
            <a:ext cx="895320" cy="7146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1398600" y="820800"/>
            <a:ext cx="634824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Interrupts and the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Blue Screen of Death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?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79240" y="4735080"/>
            <a:ext cx="794700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Two kinds of ISRs: Default system ISRs and user-registered ISR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Unregistered interrupts made to point at ISRs that indicate that an illegal system interrupt has been generated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Illegal system interrupts often lead to the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Blue Screen of Death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0" y="88920"/>
            <a:ext cx="895320" cy="7142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8248680" y="5700600"/>
            <a:ext cx="895320" cy="7146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3"/>
          <a:srcRect l="0" t="0" r="0" b="366"/>
          <a:stretch/>
        </p:blipFill>
        <p:spPr>
          <a:xfrm>
            <a:off x="2163600" y="758880"/>
            <a:ext cx="5334120" cy="37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IRQ and FIQ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Program Status Register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o disable interrupts, set the corresponding “F” or “I” bit to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On interrupt, processor switches to FIQ32_mode registers or IRQ32_mode registers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n any interrupt (or SWI Trap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witch register bank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opy PC and CPSR to R14 and SPS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hange new CPSR mode bi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486720" y="1204920"/>
            <a:ext cx="8235000" cy="914400"/>
            <a:chOff x="486720" y="1204920"/>
            <a:chExt cx="8235000" cy="914400"/>
          </a:xfrm>
        </p:grpSpPr>
        <p:sp>
          <p:nvSpPr>
            <p:cNvPr id="274" name=""/>
            <p:cNvSpPr/>
            <p:nvPr/>
          </p:nvSpPr>
          <p:spPr>
            <a:xfrm>
              <a:off x="568080" y="1586160"/>
              <a:ext cx="533520" cy="533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86720" y="1204920"/>
              <a:ext cx="822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31 30 29 28 27  …  8  7  6  5  4  3  2  1 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101600" y="1586160"/>
              <a:ext cx="533520" cy="533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635120" y="1586160"/>
              <a:ext cx="533160" cy="533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168280" y="1586160"/>
              <a:ext cx="533520" cy="533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01800" y="1586160"/>
              <a:ext cx="533520" cy="533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921120" y="1586160"/>
              <a:ext cx="533160" cy="533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54280" y="1586160"/>
              <a:ext cx="533520" cy="533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987800" y="1586160"/>
              <a:ext cx="533520" cy="533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521320" y="1586160"/>
              <a:ext cx="533160" cy="533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54480" y="1586160"/>
              <a:ext cx="533520" cy="533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88000" y="1586160"/>
              <a:ext cx="533520" cy="533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121520" y="1586160"/>
              <a:ext cx="533160" cy="533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654680" y="1586160"/>
              <a:ext cx="533520" cy="533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188200" y="1586160"/>
              <a:ext cx="533520" cy="533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Interrupt Example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657600" y="1600200"/>
            <a:ext cx="5275440" cy="3822840"/>
            <a:chOff x="3657600" y="1600200"/>
            <a:chExt cx="5275440" cy="3822840"/>
          </a:xfrm>
        </p:grpSpPr>
        <p:sp>
          <p:nvSpPr>
            <p:cNvPr id="291" name=""/>
            <p:cNvSpPr/>
            <p:nvPr/>
          </p:nvSpPr>
          <p:spPr>
            <a:xfrm>
              <a:off x="4393080" y="1971720"/>
              <a:ext cx="121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Address B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83280" y="477684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657600" y="1744560"/>
              <a:ext cx="774720" cy="7747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RM 7500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rocess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430880" y="1895400"/>
              <a:ext cx="204156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62720" y="1887480"/>
              <a:ext cx="0" cy="319392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431120" y="2244600"/>
              <a:ext cx="0" cy="287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6462720" y="2490840"/>
              <a:ext cx="166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67440" y="233820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083280" y="268596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083280" y="303372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083280" y="338292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83280" y="373068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083280" y="407988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83280" y="442764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419720" y="2276280"/>
              <a:ext cx="5112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930920" y="2276280"/>
              <a:ext cx="0" cy="2819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7" name=""/>
            <p:cNvGrpSpPr/>
            <p:nvPr/>
          </p:nvGrpSpPr>
          <p:grpSpPr>
            <a:xfrm>
              <a:off x="4919760" y="2384280"/>
              <a:ext cx="312840" cy="634680"/>
              <a:chOff x="4919760" y="2384280"/>
              <a:chExt cx="312840" cy="63468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4919760" y="2384280"/>
                <a:ext cx="304920" cy="76320"/>
                <a:chOff x="4919760" y="2384280"/>
                <a:chExt cx="304920" cy="7632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4919760" y="24285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5148360" y="2384280"/>
                  <a:ext cx="76320" cy="763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4919760" y="2460600"/>
                <a:ext cx="304920" cy="75960"/>
                <a:chOff x="4919760" y="2460600"/>
                <a:chExt cx="304920" cy="7596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4919760" y="25045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5148360" y="2460600"/>
                  <a:ext cx="76320" cy="759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4927680" y="2547720"/>
                <a:ext cx="304920" cy="76320"/>
                <a:chOff x="4927680" y="2547720"/>
                <a:chExt cx="304920" cy="7632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4927680" y="25920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5156280" y="2547720"/>
                  <a:ext cx="76320" cy="763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4927680" y="2624040"/>
                <a:ext cx="304920" cy="75960"/>
                <a:chOff x="4927680" y="2624040"/>
                <a:chExt cx="304920" cy="7596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4927680" y="26679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5156280" y="2624040"/>
                  <a:ext cx="76320" cy="759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4924440" y="2703240"/>
                <a:ext cx="308160" cy="315720"/>
                <a:chOff x="4924440" y="2703240"/>
                <a:chExt cx="308160" cy="315720"/>
              </a:xfrm>
            </p:grpSpPr>
            <p:grpSp>
              <p:nvGrpSpPr>
                <p:cNvPr id="321" name=""/>
                <p:cNvGrpSpPr/>
                <p:nvPr/>
              </p:nvGrpSpPr>
              <p:grpSpPr>
                <a:xfrm>
                  <a:off x="4927680" y="2703240"/>
                  <a:ext cx="304920" cy="76320"/>
                  <a:chOff x="4927680" y="2703240"/>
                  <a:chExt cx="304920" cy="76320"/>
                </a:xfrm>
              </p:grpSpPr>
              <p:sp>
                <p:nvSpPr>
                  <p:cNvPr id="322" name=""/>
                  <p:cNvSpPr/>
                  <p:nvPr/>
                </p:nvSpPr>
                <p:spPr>
                  <a:xfrm>
                    <a:off x="4927680" y="274752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>
                    <a:off x="5156280" y="2703240"/>
                    <a:ext cx="76320" cy="7632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4" name=""/>
                <p:cNvGrpSpPr/>
                <p:nvPr/>
              </p:nvGrpSpPr>
              <p:grpSpPr>
                <a:xfrm>
                  <a:off x="4927680" y="2779560"/>
                  <a:ext cx="304920" cy="75960"/>
                  <a:chOff x="4927680" y="2779560"/>
                  <a:chExt cx="304920" cy="75960"/>
                </a:xfrm>
              </p:grpSpPr>
              <p:sp>
                <p:nvSpPr>
                  <p:cNvPr id="325" name=""/>
                  <p:cNvSpPr/>
                  <p:nvPr/>
                </p:nvSpPr>
                <p:spPr>
                  <a:xfrm>
                    <a:off x="4927680" y="282348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>
                    <a:off x="5156280" y="2779560"/>
                    <a:ext cx="76320" cy="7596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7" name=""/>
                <p:cNvGrpSpPr/>
                <p:nvPr/>
              </p:nvGrpSpPr>
              <p:grpSpPr>
                <a:xfrm>
                  <a:off x="4924440" y="2866680"/>
                  <a:ext cx="304920" cy="76320"/>
                  <a:chOff x="4924440" y="2866680"/>
                  <a:chExt cx="304920" cy="76320"/>
                </a:xfrm>
              </p:grpSpPr>
              <p:sp>
                <p:nvSpPr>
                  <p:cNvPr id="328" name=""/>
                  <p:cNvSpPr/>
                  <p:nvPr/>
                </p:nvSpPr>
                <p:spPr>
                  <a:xfrm>
                    <a:off x="4924440" y="291096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5153040" y="2866680"/>
                    <a:ext cx="76320" cy="7632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0" name=""/>
                <p:cNvGrpSpPr/>
                <p:nvPr/>
              </p:nvGrpSpPr>
              <p:grpSpPr>
                <a:xfrm>
                  <a:off x="4924440" y="2943000"/>
                  <a:ext cx="304920" cy="75960"/>
                  <a:chOff x="4924440" y="2943000"/>
                  <a:chExt cx="304920" cy="75960"/>
                </a:xfrm>
              </p:grpSpPr>
              <p:sp>
                <p:nvSpPr>
                  <p:cNvPr id="331" name=""/>
                  <p:cNvSpPr/>
                  <p:nvPr/>
                </p:nvSpPr>
                <p:spPr>
                  <a:xfrm>
                    <a:off x="4924440" y="298692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5153040" y="2943000"/>
                    <a:ext cx="76320" cy="7596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33" name=""/>
            <p:cNvGrpSpPr/>
            <p:nvPr/>
          </p:nvGrpSpPr>
          <p:grpSpPr>
            <a:xfrm>
              <a:off x="4927680" y="3036960"/>
              <a:ext cx="312840" cy="634680"/>
              <a:chOff x="4927680" y="3036960"/>
              <a:chExt cx="312840" cy="634680"/>
            </a:xfrm>
          </p:grpSpPr>
          <p:grpSp>
            <p:nvGrpSpPr>
              <p:cNvPr id="334" name=""/>
              <p:cNvGrpSpPr/>
              <p:nvPr/>
            </p:nvGrpSpPr>
            <p:grpSpPr>
              <a:xfrm>
                <a:off x="4927680" y="3036960"/>
                <a:ext cx="304920" cy="76320"/>
                <a:chOff x="4927680" y="3036960"/>
                <a:chExt cx="304920" cy="763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4927680" y="308124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5156280" y="3036960"/>
                  <a:ext cx="76320" cy="763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" name=""/>
              <p:cNvGrpSpPr/>
              <p:nvPr/>
            </p:nvGrpSpPr>
            <p:grpSpPr>
              <a:xfrm>
                <a:off x="4927680" y="3113280"/>
                <a:ext cx="304920" cy="75960"/>
                <a:chOff x="4927680" y="3113280"/>
                <a:chExt cx="304920" cy="7596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4927680" y="31572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5156280" y="3113280"/>
                  <a:ext cx="76320" cy="759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4935600" y="3200400"/>
                <a:ext cx="304920" cy="76320"/>
                <a:chOff x="4935600" y="3200400"/>
                <a:chExt cx="304920" cy="7632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4935600" y="324468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5164200" y="3200400"/>
                  <a:ext cx="76320" cy="763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4935600" y="3276720"/>
                <a:ext cx="304920" cy="75960"/>
                <a:chOff x="4935600" y="3276720"/>
                <a:chExt cx="304920" cy="7596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4935600" y="332064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5164200" y="3276720"/>
                  <a:ext cx="76320" cy="759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" name=""/>
              <p:cNvGrpSpPr/>
              <p:nvPr/>
            </p:nvGrpSpPr>
            <p:grpSpPr>
              <a:xfrm>
                <a:off x="4932360" y="3355920"/>
                <a:ext cx="308160" cy="315720"/>
                <a:chOff x="4932360" y="3355920"/>
                <a:chExt cx="308160" cy="315720"/>
              </a:xfrm>
            </p:grpSpPr>
            <p:grpSp>
              <p:nvGrpSpPr>
                <p:cNvPr id="347" name=""/>
                <p:cNvGrpSpPr/>
                <p:nvPr/>
              </p:nvGrpSpPr>
              <p:grpSpPr>
                <a:xfrm>
                  <a:off x="4935600" y="3355920"/>
                  <a:ext cx="304920" cy="76320"/>
                  <a:chOff x="4935600" y="3355920"/>
                  <a:chExt cx="304920" cy="7632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935600" y="340020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5164200" y="3355920"/>
                    <a:ext cx="76320" cy="7632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4935600" y="3432240"/>
                  <a:ext cx="304920" cy="75960"/>
                  <a:chOff x="4935600" y="3432240"/>
                  <a:chExt cx="304920" cy="75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4935600" y="347616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5164200" y="3432240"/>
                    <a:ext cx="76320" cy="7596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4932360" y="3519360"/>
                  <a:ext cx="304920" cy="76320"/>
                  <a:chOff x="4932360" y="3519360"/>
                  <a:chExt cx="304920" cy="7632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4932360" y="356364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5160960" y="3519360"/>
                    <a:ext cx="76320" cy="7632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4932360" y="3595680"/>
                  <a:ext cx="304920" cy="75960"/>
                  <a:chOff x="4932360" y="3595680"/>
                  <a:chExt cx="304920" cy="7596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4932360" y="363960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5160960" y="3595680"/>
                    <a:ext cx="76320" cy="7596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59" name=""/>
            <p:cNvGrpSpPr/>
            <p:nvPr/>
          </p:nvGrpSpPr>
          <p:grpSpPr>
            <a:xfrm>
              <a:off x="4924440" y="3678120"/>
              <a:ext cx="304920" cy="76320"/>
              <a:chOff x="4924440" y="3678120"/>
              <a:chExt cx="304920" cy="76320"/>
            </a:xfrm>
          </p:grpSpPr>
          <p:sp>
            <p:nvSpPr>
              <p:cNvPr id="360" name=""/>
              <p:cNvSpPr/>
              <p:nvPr/>
            </p:nvSpPr>
            <p:spPr>
              <a:xfrm>
                <a:off x="4924440" y="37224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153040" y="3678120"/>
                <a:ext cx="76320" cy="76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4924440" y="3754440"/>
              <a:ext cx="304920" cy="76320"/>
              <a:chOff x="4924440" y="3754440"/>
              <a:chExt cx="304920" cy="76320"/>
            </a:xfrm>
          </p:grpSpPr>
          <p:sp>
            <p:nvSpPr>
              <p:cNvPr id="363" name=""/>
              <p:cNvSpPr/>
              <p:nvPr/>
            </p:nvSpPr>
            <p:spPr>
              <a:xfrm>
                <a:off x="4924440" y="37987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153040" y="3754440"/>
                <a:ext cx="76320" cy="76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4932360" y="3841560"/>
              <a:ext cx="304920" cy="76320"/>
              <a:chOff x="4932360" y="3841560"/>
              <a:chExt cx="304920" cy="76320"/>
            </a:xfrm>
          </p:grpSpPr>
          <p:sp>
            <p:nvSpPr>
              <p:cNvPr id="366" name=""/>
              <p:cNvSpPr/>
              <p:nvPr/>
            </p:nvSpPr>
            <p:spPr>
              <a:xfrm>
                <a:off x="4932360" y="38858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160960" y="3841560"/>
                <a:ext cx="76320" cy="76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4932360" y="3917880"/>
              <a:ext cx="304920" cy="76320"/>
              <a:chOff x="4932360" y="3917880"/>
              <a:chExt cx="304920" cy="76320"/>
            </a:xfrm>
          </p:grpSpPr>
          <p:sp>
            <p:nvSpPr>
              <p:cNvPr id="369" name=""/>
              <p:cNvSpPr/>
              <p:nvPr/>
            </p:nvSpPr>
            <p:spPr>
              <a:xfrm>
                <a:off x="4932360" y="39621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160960" y="3917880"/>
                <a:ext cx="76320" cy="76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4932360" y="3997440"/>
              <a:ext cx="304920" cy="75960"/>
              <a:chOff x="4932360" y="3997440"/>
              <a:chExt cx="304920" cy="75960"/>
            </a:xfrm>
          </p:grpSpPr>
          <p:sp>
            <p:nvSpPr>
              <p:cNvPr id="372" name=""/>
              <p:cNvSpPr/>
              <p:nvPr/>
            </p:nvSpPr>
            <p:spPr>
              <a:xfrm>
                <a:off x="4932360" y="40413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160960" y="3997440"/>
                <a:ext cx="76320" cy="759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4932360" y="4073400"/>
              <a:ext cx="304920" cy="76320"/>
              <a:chOff x="4932360" y="4073400"/>
              <a:chExt cx="304920" cy="76320"/>
            </a:xfrm>
          </p:grpSpPr>
          <p:sp>
            <p:nvSpPr>
              <p:cNvPr id="375" name=""/>
              <p:cNvSpPr/>
              <p:nvPr/>
            </p:nvSpPr>
            <p:spPr>
              <a:xfrm>
                <a:off x="4932360" y="41176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160960" y="4073400"/>
                <a:ext cx="76320" cy="76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7" name=""/>
            <p:cNvSpPr/>
            <p:nvPr/>
          </p:nvSpPr>
          <p:spPr>
            <a:xfrm>
              <a:off x="4929120" y="4205160"/>
              <a:ext cx="282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" name=""/>
            <p:cNvGrpSpPr/>
            <p:nvPr/>
          </p:nvGrpSpPr>
          <p:grpSpPr>
            <a:xfrm>
              <a:off x="4929120" y="4236840"/>
              <a:ext cx="304920" cy="76320"/>
              <a:chOff x="4929120" y="4236840"/>
              <a:chExt cx="304920" cy="76320"/>
            </a:xfrm>
          </p:grpSpPr>
          <p:sp>
            <p:nvSpPr>
              <p:cNvPr id="379" name=""/>
              <p:cNvSpPr/>
              <p:nvPr/>
            </p:nvSpPr>
            <p:spPr>
              <a:xfrm>
                <a:off x="4929120" y="42811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157720" y="4236840"/>
                <a:ext cx="76320" cy="76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4921200" y="4319640"/>
              <a:ext cx="304920" cy="75960"/>
              <a:chOff x="4921200" y="4319640"/>
              <a:chExt cx="304920" cy="75960"/>
            </a:xfrm>
          </p:grpSpPr>
          <p:sp>
            <p:nvSpPr>
              <p:cNvPr id="382" name=""/>
              <p:cNvSpPr/>
              <p:nvPr/>
            </p:nvSpPr>
            <p:spPr>
              <a:xfrm>
                <a:off x="4921200" y="43635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149800" y="4319640"/>
                <a:ext cx="76320" cy="759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4921200" y="4395600"/>
              <a:ext cx="304920" cy="76320"/>
              <a:chOff x="4921200" y="4395600"/>
              <a:chExt cx="304920" cy="76320"/>
            </a:xfrm>
          </p:grpSpPr>
          <p:sp>
            <p:nvSpPr>
              <p:cNvPr id="385" name=""/>
              <p:cNvSpPr/>
              <p:nvPr/>
            </p:nvSpPr>
            <p:spPr>
              <a:xfrm>
                <a:off x="4921200" y="44398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149800" y="4395600"/>
                <a:ext cx="76320" cy="76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4929120" y="4483080"/>
              <a:ext cx="304920" cy="76320"/>
              <a:chOff x="4929120" y="4483080"/>
              <a:chExt cx="304920" cy="76320"/>
            </a:xfrm>
          </p:grpSpPr>
          <p:sp>
            <p:nvSpPr>
              <p:cNvPr id="388" name=""/>
              <p:cNvSpPr/>
              <p:nvPr/>
            </p:nvSpPr>
            <p:spPr>
              <a:xfrm>
                <a:off x="4929120" y="45273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157720" y="4483080"/>
                <a:ext cx="76320" cy="76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" name=""/>
            <p:cNvSpPr/>
            <p:nvPr/>
          </p:nvSpPr>
          <p:spPr>
            <a:xfrm>
              <a:off x="4929120" y="4603680"/>
              <a:ext cx="29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235480" y="32670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235480" y="36478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312160" y="3267000"/>
              <a:ext cx="4564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5312160" y="3189960"/>
              <a:ext cx="4564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929120" y="4683240"/>
              <a:ext cx="29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4929120" y="4714920"/>
              <a:ext cx="304920" cy="75960"/>
              <a:chOff x="4929120" y="4714920"/>
              <a:chExt cx="304920" cy="75960"/>
            </a:xfrm>
          </p:grpSpPr>
          <p:sp>
            <p:nvSpPr>
              <p:cNvPr id="397" name=""/>
              <p:cNvSpPr/>
              <p:nvPr/>
            </p:nvSpPr>
            <p:spPr>
              <a:xfrm>
                <a:off x="4929120" y="47588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157720" y="4714920"/>
                <a:ext cx="76320" cy="759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4926240" y="4802040"/>
              <a:ext cx="304200" cy="76320"/>
              <a:chOff x="4926240" y="4802040"/>
              <a:chExt cx="304200" cy="76320"/>
            </a:xfrm>
          </p:grpSpPr>
          <p:sp>
            <p:nvSpPr>
              <p:cNvPr id="400" name=""/>
              <p:cNvSpPr/>
              <p:nvPr/>
            </p:nvSpPr>
            <p:spPr>
              <a:xfrm>
                <a:off x="4926240" y="484632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154480" y="4802040"/>
                <a:ext cx="75960" cy="76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4926240" y="4878360"/>
              <a:ext cx="304200" cy="76320"/>
              <a:chOff x="4926240" y="4878360"/>
              <a:chExt cx="304200" cy="76320"/>
            </a:xfrm>
          </p:grpSpPr>
          <p:sp>
            <p:nvSpPr>
              <p:cNvPr id="403" name=""/>
              <p:cNvSpPr/>
              <p:nvPr/>
            </p:nvSpPr>
            <p:spPr>
              <a:xfrm>
                <a:off x="4926240" y="492264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154480" y="4878360"/>
                <a:ext cx="75960" cy="76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5" name=""/>
            <p:cNvSpPr/>
            <p:nvPr/>
          </p:nvSpPr>
          <p:spPr>
            <a:xfrm>
              <a:off x="5224680" y="2352600"/>
              <a:ext cx="0" cy="266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761080" y="3419280"/>
              <a:ext cx="74520" cy="74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824440" y="3462480"/>
              <a:ext cx="82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918400" y="2111400"/>
              <a:ext cx="0" cy="137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931000" y="2111400"/>
              <a:ext cx="218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587840" y="2295360"/>
              <a:ext cx="400320" cy="267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1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1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1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2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2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2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2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173000" y="1749240"/>
              <a:ext cx="555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901400" y="1600200"/>
              <a:ext cx="930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3300"/>
                  </a:solidFill>
                  <a:latin typeface="Times New Roman"/>
                </a:rPr>
                <a:t>Data B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053040" y="1976400"/>
              <a:ext cx="909720" cy="282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8-bit regis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629560" y="2630520"/>
              <a:ext cx="0" cy="269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5" name=""/>
            <p:cNvGrpSpPr/>
            <p:nvPr/>
          </p:nvGrpSpPr>
          <p:grpSpPr>
            <a:xfrm>
              <a:off x="6446880" y="2841480"/>
              <a:ext cx="1671480" cy="2163960"/>
              <a:chOff x="6446880" y="2841480"/>
              <a:chExt cx="1671480" cy="2163960"/>
            </a:xfrm>
          </p:grpSpPr>
          <p:sp>
            <p:nvSpPr>
              <p:cNvPr id="416" name=""/>
              <p:cNvSpPr/>
              <p:nvPr/>
            </p:nvSpPr>
            <p:spPr>
              <a:xfrm flipH="1">
                <a:off x="6461640" y="2849400"/>
                <a:ext cx="290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H="1">
                <a:off x="6461640" y="3208320"/>
                <a:ext cx="290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6461640" y="3566880"/>
                <a:ext cx="290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>
                <a:off x="6461640" y="3927240"/>
                <a:ext cx="290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>
                <a:off x="6461640" y="4286160"/>
                <a:ext cx="290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>
                <a:off x="6461640" y="4645080"/>
                <a:ext cx="290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>
                <a:off x="6461640" y="5005440"/>
                <a:ext cx="290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6466320" y="2841480"/>
                <a:ext cx="1645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>
                <a:off x="6461640" y="3214440"/>
                <a:ext cx="1645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>
                <a:off x="6446880" y="3565440"/>
                <a:ext cx="1645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>
                <a:off x="6472440" y="3917880"/>
                <a:ext cx="1645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H="1">
                <a:off x="6447960" y="4290840"/>
                <a:ext cx="1645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H="1">
                <a:off x="6454080" y="4641840"/>
                <a:ext cx="1645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H="1">
                <a:off x="6449760" y="5003640"/>
                <a:ext cx="1645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0" name=""/>
            <p:cNvGrpSpPr/>
            <p:nvPr/>
          </p:nvGrpSpPr>
          <p:grpSpPr>
            <a:xfrm>
              <a:off x="7418520" y="2489040"/>
              <a:ext cx="1228320" cy="246240"/>
              <a:chOff x="7418520" y="2489040"/>
              <a:chExt cx="1228320" cy="246240"/>
            </a:xfrm>
          </p:grpSpPr>
          <p:sp>
            <p:nvSpPr>
              <p:cNvPr id="431" name=""/>
              <p:cNvSpPr/>
              <p:nvPr/>
            </p:nvSpPr>
            <p:spPr>
              <a:xfrm rot="5400000">
                <a:off x="7412040" y="2611440"/>
                <a:ext cx="54000" cy="41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H="1">
                <a:off x="8048520" y="2628720"/>
                <a:ext cx="122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H="1">
                <a:off x="7432560" y="2628720"/>
                <a:ext cx="28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H="1">
                <a:off x="8008560" y="2628720"/>
                <a:ext cx="41400" cy="10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H="1" flipV="1">
                <a:off x="7926120" y="2576160"/>
                <a:ext cx="82440" cy="158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H="1" flipV="1">
                <a:off x="7802280" y="2576160"/>
                <a:ext cx="81000" cy="158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H="1" flipV="1">
                <a:off x="7721280" y="2628720"/>
                <a:ext cx="41400" cy="10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H="1">
                <a:off x="7884720" y="2576520"/>
                <a:ext cx="41400" cy="158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H="1">
                <a:off x="7763040" y="2576520"/>
                <a:ext cx="41040" cy="158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V="1">
                <a:off x="8177040" y="2495520"/>
                <a:ext cx="228600" cy="131760"/>
              </a:xfrm>
              <a:prstGeom prst="line">
                <a:avLst/>
              </a:prstGeom>
              <a:ln w="190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8420040" y="2639880"/>
                <a:ext cx="208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rot="5400000">
                <a:off x="8598960" y="2619000"/>
                <a:ext cx="54000" cy="41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8121600" y="2489040"/>
                <a:ext cx="0" cy="14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rot="5400000">
                <a:off x="8102160" y="2603160"/>
                <a:ext cx="54000" cy="41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7415280" y="2841480"/>
              <a:ext cx="1228320" cy="246240"/>
              <a:chOff x="7415280" y="2841480"/>
              <a:chExt cx="1228320" cy="246240"/>
            </a:xfrm>
          </p:grpSpPr>
          <p:sp>
            <p:nvSpPr>
              <p:cNvPr id="446" name=""/>
              <p:cNvSpPr/>
              <p:nvPr/>
            </p:nvSpPr>
            <p:spPr>
              <a:xfrm rot="5400000">
                <a:off x="7408800" y="2963880"/>
                <a:ext cx="54000" cy="41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H="1">
                <a:off x="8045280" y="2981160"/>
                <a:ext cx="122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H="1">
                <a:off x="7429320" y="2981160"/>
                <a:ext cx="28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H="1">
                <a:off x="8005320" y="2981160"/>
                <a:ext cx="41400" cy="10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 flipV="1">
                <a:off x="7922880" y="2928600"/>
                <a:ext cx="82440" cy="158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H="1" flipV="1">
                <a:off x="7799040" y="2928600"/>
                <a:ext cx="81000" cy="158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H="1" flipV="1">
                <a:off x="7718040" y="2981160"/>
                <a:ext cx="41400" cy="10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H="1">
                <a:off x="7881480" y="2928960"/>
                <a:ext cx="41400" cy="158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H="1">
                <a:off x="7759800" y="2928960"/>
                <a:ext cx="41040" cy="158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V="1">
                <a:off x="8173800" y="2847960"/>
                <a:ext cx="228600" cy="131760"/>
              </a:xfrm>
              <a:prstGeom prst="line">
                <a:avLst/>
              </a:prstGeom>
              <a:ln w="190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8416800" y="2992320"/>
                <a:ext cx="208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rot="5400000">
                <a:off x="8595720" y="2971440"/>
                <a:ext cx="54000" cy="41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8118360" y="2841480"/>
                <a:ext cx="0" cy="14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rot="5400000">
                <a:off x="8098920" y="2955600"/>
                <a:ext cx="54000" cy="41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7412040" y="3216240"/>
              <a:ext cx="1228320" cy="246240"/>
              <a:chOff x="7412040" y="3216240"/>
              <a:chExt cx="1228320" cy="246240"/>
            </a:xfrm>
          </p:grpSpPr>
          <p:sp>
            <p:nvSpPr>
              <p:cNvPr id="461" name=""/>
              <p:cNvSpPr/>
              <p:nvPr/>
            </p:nvSpPr>
            <p:spPr>
              <a:xfrm rot="5400000">
                <a:off x="7405560" y="3338640"/>
                <a:ext cx="54000" cy="41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>
                <a:off x="8042040" y="3355920"/>
                <a:ext cx="122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7426080" y="3355920"/>
                <a:ext cx="28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8002080" y="3355920"/>
                <a:ext cx="41400" cy="10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 flipV="1">
                <a:off x="7919640" y="3303360"/>
                <a:ext cx="82440" cy="158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 flipV="1">
                <a:off x="7795800" y="3303360"/>
                <a:ext cx="81000" cy="158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 flipV="1">
                <a:off x="7714800" y="3355920"/>
                <a:ext cx="41400" cy="10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H="1">
                <a:off x="7878240" y="3303720"/>
                <a:ext cx="41400" cy="158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H="1">
                <a:off x="7756560" y="3303720"/>
                <a:ext cx="41040" cy="158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8170560" y="3222720"/>
                <a:ext cx="228600" cy="131760"/>
              </a:xfrm>
              <a:prstGeom prst="line">
                <a:avLst/>
              </a:prstGeom>
              <a:ln w="190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8413560" y="3367080"/>
                <a:ext cx="208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rot="5400000">
                <a:off x="8592480" y="3346200"/>
                <a:ext cx="54000" cy="41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8115120" y="3216240"/>
                <a:ext cx="0" cy="14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rot="5400000">
                <a:off x="8095680" y="3330360"/>
                <a:ext cx="54000" cy="41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7416720" y="3565440"/>
              <a:ext cx="1228320" cy="246240"/>
              <a:chOff x="7416720" y="3565440"/>
              <a:chExt cx="1228320" cy="246240"/>
            </a:xfrm>
          </p:grpSpPr>
          <p:sp>
            <p:nvSpPr>
              <p:cNvPr id="476" name=""/>
              <p:cNvSpPr/>
              <p:nvPr/>
            </p:nvSpPr>
            <p:spPr>
              <a:xfrm rot="5400000">
                <a:off x="7410240" y="3687840"/>
                <a:ext cx="54000" cy="41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H="1">
                <a:off x="8046720" y="3705120"/>
                <a:ext cx="122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H="1">
                <a:off x="7430760" y="3705120"/>
                <a:ext cx="28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>
                <a:off x="8006760" y="3705120"/>
                <a:ext cx="41400" cy="10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H="1" flipV="1">
                <a:off x="7924320" y="3652560"/>
                <a:ext cx="82440" cy="158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 flipV="1">
                <a:off x="7800480" y="3652560"/>
                <a:ext cx="81000" cy="158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H="1" flipV="1">
                <a:off x="7719480" y="3705120"/>
                <a:ext cx="41400" cy="10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H="1">
                <a:off x="7882920" y="3652920"/>
                <a:ext cx="41400" cy="158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H="1">
                <a:off x="7761240" y="3652920"/>
                <a:ext cx="41040" cy="158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V="1">
                <a:off x="8175240" y="3571920"/>
                <a:ext cx="228600" cy="131760"/>
              </a:xfrm>
              <a:prstGeom prst="line">
                <a:avLst/>
              </a:prstGeom>
              <a:ln w="190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8418240" y="3716280"/>
                <a:ext cx="208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rot="5400000">
                <a:off x="8597160" y="3695400"/>
                <a:ext cx="54000" cy="41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8119800" y="3565440"/>
                <a:ext cx="0" cy="14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rot="5400000">
                <a:off x="8100360" y="3679560"/>
                <a:ext cx="54000" cy="41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0" name=""/>
            <p:cNvGrpSpPr/>
            <p:nvPr/>
          </p:nvGrpSpPr>
          <p:grpSpPr>
            <a:xfrm>
              <a:off x="7424640" y="3929040"/>
              <a:ext cx="1228320" cy="245520"/>
              <a:chOff x="7424640" y="3929040"/>
              <a:chExt cx="1228320" cy="245520"/>
            </a:xfrm>
          </p:grpSpPr>
          <p:sp>
            <p:nvSpPr>
              <p:cNvPr id="491" name=""/>
              <p:cNvSpPr/>
              <p:nvPr/>
            </p:nvSpPr>
            <p:spPr>
              <a:xfrm rot="5400000">
                <a:off x="7418160" y="4050720"/>
                <a:ext cx="53640" cy="41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H="1">
                <a:off x="8054640" y="4068360"/>
                <a:ext cx="122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H="1">
                <a:off x="7438680" y="4068360"/>
                <a:ext cx="28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H="1">
                <a:off x="8014680" y="4068360"/>
                <a:ext cx="41400" cy="10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H="1" flipV="1">
                <a:off x="7932240" y="4016160"/>
                <a:ext cx="82440" cy="158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H="1" flipV="1">
                <a:off x="7808400" y="4016160"/>
                <a:ext cx="81000" cy="158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H="1" flipV="1">
                <a:off x="7727400" y="4068000"/>
                <a:ext cx="41400" cy="10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H="1">
                <a:off x="7890840" y="4016160"/>
                <a:ext cx="41400" cy="158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H="1">
                <a:off x="7769160" y="4016160"/>
                <a:ext cx="41040" cy="158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V="1">
                <a:off x="8183160" y="3934800"/>
                <a:ext cx="228600" cy="131400"/>
              </a:xfrm>
              <a:prstGeom prst="line">
                <a:avLst/>
              </a:prstGeom>
              <a:ln w="190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8426160" y="4079520"/>
                <a:ext cx="208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rot="5400000">
                <a:off x="8605440" y="4058640"/>
                <a:ext cx="53640" cy="41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8127720" y="3929040"/>
                <a:ext cx="0" cy="14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rot="5400000">
                <a:off x="8108640" y="4042800"/>
                <a:ext cx="53640" cy="41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5" name=""/>
            <p:cNvGrpSpPr/>
            <p:nvPr/>
          </p:nvGrpSpPr>
          <p:grpSpPr>
            <a:xfrm>
              <a:off x="7407360" y="4286160"/>
              <a:ext cx="1228320" cy="246240"/>
              <a:chOff x="7407360" y="4286160"/>
              <a:chExt cx="1228320" cy="246240"/>
            </a:xfrm>
          </p:grpSpPr>
          <p:sp>
            <p:nvSpPr>
              <p:cNvPr id="506" name=""/>
              <p:cNvSpPr/>
              <p:nvPr/>
            </p:nvSpPr>
            <p:spPr>
              <a:xfrm rot="5400000">
                <a:off x="7400880" y="4408560"/>
                <a:ext cx="54000" cy="41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H="1">
                <a:off x="8037360" y="4425840"/>
                <a:ext cx="122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H="1">
                <a:off x="7421400" y="4425840"/>
                <a:ext cx="28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H="1">
                <a:off x="7997400" y="4425840"/>
                <a:ext cx="41400" cy="10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H="1" flipV="1">
                <a:off x="7914960" y="4373280"/>
                <a:ext cx="82440" cy="158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H="1" flipV="1">
                <a:off x="7791120" y="4373280"/>
                <a:ext cx="81000" cy="158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H="1" flipV="1">
                <a:off x="7710120" y="4425840"/>
                <a:ext cx="41400" cy="10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7873560" y="4373640"/>
                <a:ext cx="41400" cy="158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H="1">
                <a:off x="7751880" y="4373640"/>
                <a:ext cx="41040" cy="158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V="1">
                <a:off x="8165880" y="4292640"/>
                <a:ext cx="228600" cy="131760"/>
              </a:xfrm>
              <a:prstGeom prst="line">
                <a:avLst/>
              </a:prstGeom>
              <a:ln w="190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408880" y="4437000"/>
                <a:ext cx="208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rot="5400000">
                <a:off x="8587800" y="4416120"/>
                <a:ext cx="54000" cy="41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110440" y="4286160"/>
                <a:ext cx="0" cy="14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rot="5400000">
                <a:off x="8091000" y="4400280"/>
                <a:ext cx="54000" cy="41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0" name=""/>
            <p:cNvGrpSpPr/>
            <p:nvPr/>
          </p:nvGrpSpPr>
          <p:grpSpPr>
            <a:xfrm>
              <a:off x="7412040" y="4645080"/>
              <a:ext cx="1228320" cy="245520"/>
              <a:chOff x="7412040" y="4645080"/>
              <a:chExt cx="1228320" cy="245520"/>
            </a:xfrm>
          </p:grpSpPr>
          <p:sp>
            <p:nvSpPr>
              <p:cNvPr id="521" name=""/>
              <p:cNvSpPr/>
              <p:nvPr/>
            </p:nvSpPr>
            <p:spPr>
              <a:xfrm rot="5400000">
                <a:off x="7405560" y="4766760"/>
                <a:ext cx="53640" cy="41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H="1">
                <a:off x="8042040" y="4784400"/>
                <a:ext cx="122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H="1">
                <a:off x="7426080" y="4784400"/>
                <a:ext cx="28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H="1">
                <a:off x="8002080" y="4784400"/>
                <a:ext cx="41400" cy="10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H="1" flipV="1">
                <a:off x="7919640" y="4732200"/>
                <a:ext cx="82440" cy="158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H="1" flipV="1">
                <a:off x="7795800" y="4732200"/>
                <a:ext cx="81000" cy="158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H="1" flipV="1">
                <a:off x="7714800" y="4784040"/>
                <a:ext cx="41400" cy="10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H="1">
                <a:off x="7878240" y="4732200"/>
                <a:ext cx="41400" cy="158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H="1">
                <a:off x="7756560" y="4732200"/>
                <a:ext cx="41040" cy="158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8170560" y="4650840"/>
                <a:ext cx="228600" cy="131400"/>
              </a:xfrm>
              <a:prstGeom prst="line">
                <a:avLst/>
              </a:prstGeom>
              <a:ln w="190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413560" y="4795560"/>
                <a:ext cx="208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rot="5400000">
                <a:off x="8592840" y="4774680"/>
                <a:ext cx="53640" cy="41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115120" y="4645080"/>
                <a:ext cx="0" cy="14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rot="5400000">
                <a:off x="8096040" y="4758840"/>
                <a:ext cx="53640" cy="41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5" name=""/>
            <p:cNvSpPr/>
            <p:nvPr/>
          </p:nvSpPr>
          <p:spPr>
            <a:xfrm rot="5400000">
              <a:off x="7401960" y="5119560"/>
              <a:ext cx="54000" cy="41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8039160" y="5137200"/>
              <a:ext cx="12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7423200" y="51372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>
              <a:off x="7999560" y="5137200"/>
              <a:ext cx="4104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 flipV="1">
              <a:off x="7916760" y="5084280"/>
              <a:ext cx="8280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 flipV="1">
              <a:off x="7793280" y="5084280"/>
              <a:ext cx="8064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 flipV="1">
              <a:off x="7712280" y="5136840"/>
              <a:ext cx="4104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>
              <a:off x="7875720" y="5084640"/>
              <a:ext cx="4104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>
              <a:off x="7752960" y="5084640"/>
              <a:ext cx="4140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8167680" y="5003640"/>
              <a:ext cx="228600" cy="13176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8410680" y="5148360"/>
              <a:ext cx="20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rot="5400000">
              <a:off x="8589600" y="5127480"/>
              <a:ext cx="54000" cy="41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112240" y="4997520"/>
              <a:ext cx="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rot="5400000">
              <a:off x="8093160" y="5112000"/>
              <a:ext cx="54000" cy="41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rot="5400000">
              <a:off x="7413120" y="2199960"/>
              <a:ext cx="54000" cy="41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0" name=""/>
            <p:cNvGrpSpPr/>
            <p:nvPr/>
          </p:nvGrpSpPr>
          <p:grpSpPr>
            <a:xfrm>
              <a:off x="8323200" y="5313240"/>
              <a:ext cx="609840" cy="109800"/>
              <a:chOff x="8323200" y="5313240"/>
              <a:chExt cx="609840" cy="109800"/>
            </a:xfrm>
          </p:grpSpPr>
          <p:sp>
            <p:nvSpPr>
              <p:cNvPr id="551" name=""/>
              <p:cNvSpPr/>
              <p:nvPr/>
            </p:nvSpPr>
            <p:spPr>
              <a:xfrm>
                <a:off x="8323200" y="5313240"/>
                <a:ext cx="609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475840" y="54230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8399520" y="53679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4" name=""/>
          <p:cNvGrpSpPr/>
          <p:nvPr/>
        </p:nvGrpSpPr>
        <p:grpSpPr>
          <a:xfrm>
            <a:off x="244080" y="2819520"/>
            <a:ext cx="4204080" cy="515880"/>
            <a:chOff x="244080" y="2819520"/>
            <a:chExt cx="4204080" cy="515880"/>
          </a:xfrm>
        </p:grpSpPr>
        <p:sp>
          <p:nvSpPr>
            <p:cNvPr id="555" name=""/>
            <p:cNvSpPr/>
            <p:nvPr/>
          </p:nvSpPr>
          <p:spPr>
            <a:xfrm>
              <a:off x="244080" y="2819520"/>
              <a:ext cx="420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31 30 29 28 27  …  8  7  6  5  4  3  2  1 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6" name=""/>
            <p:cNvGrpSpPr/>
            <p:nvPr/>
          </p:nvGrpSpPr>
          <p:grpSpPr>
            <a:xfrm>
              <a:off x="304920" y="3065760"/>
              <a:ext cx="4114440" cy="269640"/>
              <a:chOff x="304920" y="3065760"/>
              <a:chExt cx="4114440" cy="269640"/>
            </a:xfrm>
          </p:grpSpPr>
          <p:sp>
            <p:nvSpPr>
              <p:cNvPr id="557" name=""/>
              <p:cNvSpPr/>
              <p:nvPr/>
            </p:nvSpPr>
            <p:spPr>
              <a:xfrm>
                <a:off x="304920" y="3065760"/>
                <a:ext cx="268920" cy="26964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73840" y="3065760"/>
                <a:ext cx="268920" cy="26964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43120" y="3065760"/>
                <a:ext cx="268920" cy="26964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112400" y="3065760"/>
                <a:ext cx="268920" cy="26964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381320" y="3065760"/>
                <a:ext cx="268920" cy="26964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996920" y="3065760"/>
                <a:ext cx="268920" cy="26964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266200" y="3065760"/>
                <a:ext cx="268920" cy="26964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535120" y="3065760"/>
                <a:ext cx="268920" cy="26964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2804400" y="3065760"/>
                <a:ext cx="268920" cy="26964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073680" y="3065760"/>
                <a:ext cx="268920" cy="26964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M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342960" y="3065760"/>
                <a:ext cx="268920" cy="26964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M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612240" y="3065760"/>
                <a:ext cx="268920" cy="26964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M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881520" y="3065760"/>
                <a:ext cx="268920" cy="26964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M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4150440" y="3065760"/>
                <a:ext cx="268920" cy="26964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M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1" name=""/>
          <p:cNvSpPr/>
          <p:nvPr/>
        </p:nvSpPr>
        <p:spPr>
          <a:xfrm>
            <a:off x="3809880" y="2362320"/>
            <a:ext cx="228600" cy="75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304920" y="2438280"/>
            <a:ext cx="350496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038480" y="2438280"/>
            <a:ext cx="38124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8120160" y="5148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2385720" y="5757840"/>
            <a:ext cx="574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2390760" y="331776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2292480" y="3913200"/>
            <a:ext cx="177840" cy="198360"/>
            <a:chOff x="2292480" y="3913200"/>
            <a:chExt cx="177840" cy="198360"/>
          </a:xfrm>
        </p:grpSpPr>
        <p:sp>
          <p:nvSpPr>
            <p:cNvPr id="578" name=""/>
            <p:cNvSpPr/>
            <p:nvPr/>
          </p:nvSpPr>
          <p:spPr>
            <a:xfrm>
              <a:off x="2292480" y="3957480"/>
              <a:ext cx="177840" cy="154080"/>
            </a:xfrm>
            <a:prstGeom prst="triangle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344680" y="3913200"/>
              <a:ext cx="74880" cy="745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Summary of Lecture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Timer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What is a tim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 peek inside the ti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 structs for the ti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Using the ti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Interrupt vs. polled I/O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olling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nterrupt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IRQ and FIQ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Outline of This Lecture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762120"/>
            <a:ext cx="798048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Timer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Interrupt vs. polled I/O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x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IRQ and FIQ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4262400"/>
            <a:ext cx="9144000" cy="1139760"/>
            <a:chOff x="0" y="4262400"/>
            <a:chExt cx="9144000" cy="1139760"/>
          </a:xfrm>
        </p:grpSpPr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8248680" y="4280040"/>
              <a:ext cx="895320" cy="71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0" y="4262400"/>
              <a:ext cx="89532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1174680" y="4411800"/>
              <a:ext cx="706608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6000"/>
            </a:bodyPr>
            <a:p>
              <a:pPr marL="260640" indent="-26064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Times New Roman"/>
                </a:rPr>
                <a:t>Detours</a:t>
              </a: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 signify material outside of, but indirect/direct </a:t>
              </a:r>
              <a:r>
                <a:rPr b="0" lang="en-US" sz="2400" spc="-1" strike="noStrike">
                  <a:solidFill>
                    <a:srgbClr val="ff6600"/>
                  </a:solidFill>
                  <a:latin typeface="Times New Roman"/>
                </a:rPr>
                <a:t>background/review material</a:t>
              </a: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 for, the main lec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0640" indent="-26064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Questions on X-Board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What kind of power supply (wattage) are we using?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We are using the standard ATX PC power sup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aximum of 300 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he voltages required  by the board are 3.3V or 5V (if the PCI card is connect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he ATX can supply 3.3/5/12 V (the original adaptor could supply only 3.3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88920"/>
            <a:ext cx="895320" cy="714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8248680" y="5700600"/>
            <a:ext cx="89532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Quote of the Day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640" y="1587240"/>
            <a:ext cx="32464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The penalty of success is to be bored by the people who used to snub you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 algn="ctr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ady As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014720" y="1063800"/>
            <a:ext cx="4641840" cy="50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14648" t="15626" r="11719" b="11719"/>
          <a:stretch/>
        </p:blipFill>
        <p:spPr>
          <a:xfrm>
            <a:off x="279360" y="84240"/>
            <a:ext cx="8529840" cy="6315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031080" y="428760"/>
            <a:ext cx="1311120" cy="2684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How Oscillators Work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Some form of energy needs to move back and forth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Capacitor stores energy in an electrostatic form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Inductor stores energy in a magnetic form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Oscillation cycle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apacitor starts off char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apacitor discharges through inductor, creating a magnetic f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nductor tries to keep current moving and charges other plate of capaci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nductor field collapses, but capacitor charged in opposite pol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apacitor re-starts the 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00"/>
                </a:solidFill>
                <a:uFillTx/>
                <a:latin typeface="Times New Roman"/>
                <a:ea typeface="宋体"/>
              </a:rPr>
              <a:t>Question: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When does this stop?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Timer = oscillator + counter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88920"/>
            <a:ext cx="895320" cy="714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8248680" y="5700600"/>
            <a:ext cx="895320" cy="714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5595840" y="4359240"/>
            <a:ext cx="2025720" cy="20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X-Board System Clocks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Two oscillators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0 MHz and 66.6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onnected to FP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All clocks are derived from these source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80200 Proces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ultiplies 66.6 MHz clock by 6 at power-up (~ 400 M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irmware multiplies this by an integer ranging from                         5 (~333 MHz) to 11 (~733 M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emo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ultiplies the 50 MHz clock by 2 (~100 M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CI and Serial 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ivides the 50 MHz clock by 1.5 (~33.3 M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th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ivides the 50 MHz clock by 2 (~25 M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7T05:10:06Z</dcterms:created>
  <dc:creator>Priya Narasimhan</dc:creator>
  <dc:description/>
  <dc:language>en-US</dc:language>
  <cp:lastModifiedBy>jjohnso2</cp:lastModifiedBy>
  <cp:lastPrinted>2001-02-14T01:04:16Z</cp:lastPrinted>
  <dcterms:modified xsi:type="dcterms:W3CDTF">2004-09-07T22:30:26Z</dcterms:modified>
  <cp:revision>302</cp:revision>
  <dc:subject>Vakratundam Mahakayam</dc:subject>
  <dc:title>Karanji Anjaneya Swamy</dc:title>
</cp:coreProperties>
</file>