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47208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54760" y="6568920"/>
            <a:ext cx="363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宋体"/>
              </a:rPr>
              <a:t>Introduction to Embedd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Interrupts + Serial Communication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  <a:ea typeface="宋体"/>
              </a:rPr>
              <a:t>Lecture 10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Interrupt Detail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8840" y="761760"/>
            <a:ext cx="8543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On an </a:t>
            </a:r>
            <a:r>
              <a:rPr b="0" lang="en-US" sz="2800" spc="-1" strike="noStrike">
                <a:solidFill>
                  <a:srgbClr val="cc0000"/>
                </a:solidFill>
                <a:latin typeface="Courier New"/>
                <a:ea typeface="宋体"/>
              </a:rPr>
              <a:t>IRQ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interrupt, if the “I” bit in the </a:t>
            </a:r>
            <a:r>
              <a:rPr b="0" lang="en-US" sz="2800" spc="-1" strike="noStrike">
                <a:solidFill>
                  <a:srgbClr val="cc0000"/>
                </a:solidFill>
                <a:latin typeface="Courier New"/>
                <a:ea typeface="宋体"/>
              </a:rPr>
              <a:t>CPSR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is clear, the current instruction is completed and then the ARM will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ve the address of the next instruction plus 4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r14_ir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Doesn’t this mess up the return address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e Section 2.6.6 of the ARM Architecture Reference Manual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hoice 1 – but return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UBS PC, r14, #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248680" y="5838840"/>
            <a:ext cx="895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IRQ vs. FIQ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External interrupts that are active LOW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FIQs have higher priority than IRQ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multiple interrupts occur, FIQs get serviced before IRQ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rvicing an FIQ causes IRQs to be disabled until the FIQ handler re-enables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PSR restored from the SPSR at the end of the FIQ hand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How are FIQs made faster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y have five extra registers at their disposal, allowing them to store status between calls to the hand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Q vector is the last entry in the vector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FIQ handler can be placed directly at the vector location and run sequentially after the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che-based systems: Vector table + FIQ handler all locked down into one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hen an interrupt occurs, the hardware will jump to an “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interrupt handler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”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Interrupt Handler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057400"/>
            <a:ext cx="73152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2514600"/>
            <a:ext cx="2133720" cy="152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2514600"/>
            <a:ext cx="2133360" cy="152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3048120"/>
            <a:ext cx="1676520" cy="152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514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37360" y="21718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37880" y="214776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7720" y="2766960"/>
            <a:ext cx="19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IRQ Interrupt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4360" y="491796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4267080"/>
            <a:ext cx="4206600" cy="17398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interrupt, the processor will set the corresponding interrupt bit in the CPSR to disable subsequent interrupts of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ype from occurr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interrupts of 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igher prior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n still occu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4600" y="2327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5680" y="28195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R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5680" y="33526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29960" y="182880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Nested/Re-entrant Interrupt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terrupts can occur within interrupt handler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738440"/>
            <a:ext cx="73152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2195640"/>
            <a:ext cx="2133720" cy="152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2195640"/>
            <a:ext cx="2133360" cy="152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2728800"/>
            <a:ext cx="838080" cy="152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1956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37360" y="185256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52280" y="182880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7720" y="2448000"/>
            <a:ext cx="19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IRQ Interrupt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74360" y="459900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948120"/>
            <a:ext cx="4206600" cy="17398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interrupt, the processor will set the corresponding interrupt bit in the CPSR to disable subsequent interrupts of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ype from occurr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interrupts of 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igher prior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n still occu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4600" y="2008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5680" y="25002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R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5680" y="30337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25360" y="152388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3262320"/>
            <a:ext cx="8384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17040" y="2981160"/>
            <a:ext cx="19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FIQ Interrupt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2728800"/>
            <a:ext cx="914400" cy="152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72880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7400" y="5396040"/>
            <a:ext cx="12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Timing of Interrupt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Before an interrupt handler can do anything, it must save away the current program's registers (if it touches those registers)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hat's why the FIQ has lots of extra registers ­ to minimize CPU context saving overhead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719440"/>
            <a:ext cx="73152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3176640"/>
            <a:ext cx="2133720" cy="152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3186000"/>
            <a:ext cx="2133360" cy="152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3733920"/>
            <a:ext cx="1676520" cy="152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32004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13680" y="283356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23680" y="281952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01160" y="3854520"/>
            <a:ext cx="18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servicing” interru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12400" y="551808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920" y="2989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1640" y="34815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R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2000" y="40147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55600" y="255096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5320" y="3581280"/>
            <a:ext cx="30456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3581280"/>
            <a:ext cx="30492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3181320"/>
            <a:ext cx="0" cy="18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13120" y="3578400"/>
            <a:ext cx="0" cy="18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2560" y="3192480"/>
            <a:ext cx="261720" cy="38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30120" y="294948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cpu context sa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7960" y="4086360"/>
            <a:ext cx="18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cpu context rest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5641560" y="3725640"/>
            <a:ext cx="55404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19400" y="4532400"/>
            <a:ext cx="38736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5334120"/>
            <a:ext cx="68112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16480" y="5359320"/>
            <a:ext cx="480960" cy="63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74120" y="58881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Interrupt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626920" y="4573440"/>
            <a:ext cx="66996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62880" y="479592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Interrupt 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Interrupts on the X-Board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tel 80200 Processor has two interrupt input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IRQ or nFI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terrupt steering function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rt of the firm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outes the interrupts to the appropriate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terrupt status regist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ble to read which interrupts are currently 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terrupt Mask regist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ed to inhibit an interrupt source from raising the 80200 interrupt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Can change Interrupt Mask or Steering Register at any tim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Question: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What happens if an interrupt arrives as you are changing the Interrupt Mask or the Steering Register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X-Board Interrupt Controller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3751" t="13752" r="9376" b="12502"/>
          <a:stretch/>
        </p:blipFill>
        <p:spPr>
          <a:xfrm>
            <a:off x="106200" y="728640"/>
            <a:ext cx="906948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More on X-Board Interrupt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Difference between Interrupt Mask and Interrupt Status Register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rupt Status Register = status of interrupt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rupt Mask Register = whether interrupt source is masked from 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 active but masked interrupt will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atus Register will reflect that interrupt is 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rupt Mask Register will prevent the interrupt signal from being 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ll interrupts must be cleared at their sourc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Exception: The software-controllable interrup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vided in addition to the external and internal interru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ctivation reflected in the Interrupt Controller’s Status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Next Page: Interrupt Controller’s Status Regist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990000"/>
              </a:solidFill>
              <a:latin typeface="Times New Roman"/>
              <a:ea typeface="宋体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12189" t="12502" r="12189" b="6251"/>
          <a:stretch/>
        </p:blipFill>
        <p:spPr>
          <a:xfrm>
            <a:off x="60480" y="19080"/>
            <a:ext cx="908352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umping to the Interrupt Handler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Auto-vectored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cessor-determined address of interrupt handler based on type of interrup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is what the ARM do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Vectored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vice supplies processor with address of interrupt handl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y the different methods?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multiple devices uses the same interrupt type (IRQ vs. FIQ), in an Auto-vectored system the processor must poll each device to determine which device interrupted the process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can be time-consuming if there is a lot of de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 a vectored system, the processor would just take the address from the device (which dumps the interrupt vector onto a special bu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ummary of Previous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imer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terrupt vs. polled I/O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olling the Serial Port – Example with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2813" t="30004" r="6564" b="13752"/>
          <a:stretch/>
        </p:blipFill>
        <p:spPr>
          <a:xfrm>
            <a:off x="990720" y="2963880"/>
            <a:ext cx="7010280" cy="32637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Writing Your Own Interrupt Handler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1536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Use the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宋体"/>
              </a:rPr>
              <a:t>__irq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function declaration keywor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eserves all ATPCS corruptible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eserves all other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its the function cleanly (sets PC and CPSR correctly on ex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Cannot be used for re-entrant interrupt handlers (does not save or restore SPSR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1280" y="6019920"/>
            <a:ext cx="71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DS_Developer_Gui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Section 5.5 for more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erial Communication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erial vs. Parall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8104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erial port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niversal Asynchronous Receiver/Transmitter (UART):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akes the computer bus’ parallel data and serializes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ransfer rate of 115 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 usage: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arallel port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nds the 8 bits in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-100 KBps (standard), upto 2 MBps (enhanc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 usage: Printers, Zip dr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76520" y="4343400"/>
            <a:ext cx="5638680" cy="2238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8248680" y="5700600"/>
            <a:ext cx="895320" cy="714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898360" y="464832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75040" y="6248520"/>
            <a:ext cx="115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Data Communication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Communications between computer and monitor over serial line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is converted from parallel (bytes) to serial (bits) in the bus interf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its are sent over wire (TX) to terminal (or back from terminal to compu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ceiving end (RX) translates bit stream back into parallel data (byt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4114800"/>
            <a:ext cx="1371600" cy="1066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419112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400800" y="5180760"/>
            <a:ext cx="2057400" cy="381240"/>
          </a:xfrm>
          <a:custGeom>
            <a:avLst/>
            <a:gdLst>
              <a:gd name="textAreaLeft" fmla="*/ 357120 w 2057400"/>
              <a:gd name="textAreaRight" fmla="*/ 1700280 w 2057400"/>
              <a:gd name="textAreaTop" fmla="*/ 66240 h 381240"/>
              <a:gd name="textAreaBottom" fmla="*/ 3150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001" y="21600"/>
                </a:lnTo>
                <a:lnTo>
                  <a:pt x="3599" y="216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629400" y="5334120"/>
            <a:ext cx="1600200" cy="152280"/>
            <a:chOff x="6629400" y="5334120"/>
            <a:chExt cx="1600200" cy="152280"/>
          </a:xfrm>
        </p:grpSpPr>
        <p:grpSp>
          <p:nvGrpSpPr>
            <p:cNvPr id="187" name=""/>
            <p:cNvGrpSpPr/>
            <p:nvPr/>
          </p:nvGrpSpPr>
          <p:grpSpPr>
            <a:xfrm>
              <a:off x="6629400" y="5334120"/>
              <a:ext cx="1600200" cy="30240"/>
              <a:chOff x="6629400" y="5334120"/>
              <a:chExt cx="1600200" cy="30240"/>
            </a:xfrm>
          </p:grpSpPr>
          <p:sp>
            <p:nvSpPr>
              <p:cNvPr id="188" name=""/>
              <p:cNvSpPr/>
              <p:nvPr/>
            </p:nvSpPr>
            <p:spPr>
              <a:xfrm>
                <a:off x="6629400" y="5334120"/>
                <a:ext cx="7596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81680" y="5334120"/>
                <a:ext cx="7632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33960" y="5334120"/>
                <a:ext cx="7632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6600" y="5334120"/>
                <a:ext cx="7596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38880" y="5334120"/>
                <a:ext cx="7632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391160" y="5334120"/>
                <a:ext cx="7632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543800" y="5334120"/>
                <a:ext cx="7596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696080" y="5334120"/>
                <a:ext cx="7632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848360" y="5334120"/>
                <a:ext cx="7632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001000" y="5334120"/>
                <a:ext cx="7596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153280" y="5334120"/>
                <a:ext cx="7632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6629400" y="5394960"/>
              <a:ext cx="1600200" cy="30240"/>
              <a:chOff x="6629400" y="5394960"/>
              <a:chExt cx="1600200" cy="30240"/>
            </a:xfrm>
          </p:grpSpPr>
          <p:sp>
            <p:nvSpPr>
              <p:cNvPr id="200" name=""/>
              <p:cNvSpPr/>
              <p:nvPr/>
            </p:nvSpPr>
            <p:spPr>
              <a:xfrm>
                <a:off x="6629400" y="5394960"/>
                <a:ext cx="7596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81680" y="5394960"/>
                <a:ext cx="7632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933960" y="5394960"/>
                <a:ext cx="7632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086600" y="5394960"/>
                <a:ext cx="7596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238880" y="5394960"/>
                <a:ext cx="7632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391160" y="5394960"/>
                <a:ext cx="7632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543800" y="5394960"/>
                <a:ext cx="7596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96080" y="5394960"/>
                <a:ext cx="7632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848360" y="5394960"/>
                <a:ext cx="7632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001000" y="5394960"/>
                <a:ext cx="7596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153280" y="5394960"/>
                <a:ext cx="7632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6629400" y="5456160"/>
              <a:ext cx="1600200" cy="30240"/>
              <a:chOff x="6629400" y="5456160"/>
              <a:chExt cx="1600200" cy="30240"/>
            </a:xfrm>
          </p:grpSpPr>
          <p:sp>
            <p:nvSpPr>
              <p:cNvPr id="212" name=""/>
              <p:cNvSpPr/>
              <p:nvPr/>
            </p:nvSpPr>
            <p:spPr>
              <a:xfrm>
                <a:off x="6629400" y="5456160"/>
                <a:ext cx="7596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781680" y="5456160"/>
                <a:ext cx="7632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933960" y="5456160"/>
                <a:ext cx="7632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086600" y="5456160"/>
                <a:ext cx="7596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238880" y="5456160"/>
                <a:ext cx="7632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391160" y="5456160"/>
                <a:ext cx="7632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543800" y="5456160"/>
                <a:ext cx="7596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696080" y="5456160"/>
                <a:ext cx="7632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848360" y="5456160"/>
                <a:ext cx="7632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001000" y="5456160"/>
                <a:ext cx="7596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153280" y="5456160"/>
                <a:ext cx="76320" cy="302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" name=""/>
          <p:cNvSpPr/>
          <p:nvPr/>
        </p:nvSpPr>
        <p:spPr>
          <a:xfrm>
            <a:off x="1676520" y="3809880"/>
            <a:ext cx="3504960" cy="1981440"/>
          </a:xfrm>
          <a:prstGeom prst="roundRect">
            <a:avLst>
              <a:gd name="adj" fmla="val 9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52680" y="3962520"/>
            <a:ext cx="16002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llel-to-S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4038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29200" y="4267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66652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4876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457200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4876920"/>
            <a:ext cx="16002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ial-to-Parall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952520" y="5181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45280" y="38862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7320" y="388620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7320" y="48006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50320" y="480060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45529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3240" y="3657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91320" y="4114800"/>
            <a:ext cx="2286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83240" y="5334120"/>
            <a:ext cx="89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Types of Serial Communication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Two types of configuration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oint­to­point: two end stations communicate as pe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­drop: one device is designated as master (primary), the other devices are slaves (secondari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Physical link can consist of either two or four wire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wo wire link provides signal and ground wi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ur wire link provides two sets of signal and ground wi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Full­duplex link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ne signal wire is for transmitting, the other for receiv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osed lo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individual characters are echoed back to transmit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pen lo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data is assumed to reach its dest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Half­duplex link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ne signal wire is for both transmitting and receiv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486400" y="4952880"/>
            <a:ext cx="3200400" cy="871920"/>
            <a:chOff x="5486400" y="4952880"/>
            <a:chExt cx="3200400" cy="871920"/>
          </a:xfrm>
        </p:grpSpPr>
        <p:sp>
          <p:nvSpPr>
            <p:cNvPr id="244" name=""/>
            <p:cNvSpPr/>
            <p:nvPr/>
          </p:nvSpPr>
          <p:spPr>
            <a:xfrm>
              <a:off x="5486400" y="5121360"/>
              <a:ext cx="60948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76960" y="5121360"/>
              <a:ext cx="60984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72200" y="527364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6171840" y="550224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83840" y="495288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T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83480" y="54259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R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Data Modulation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en sending data over serial lines, logic signals are converted into a form the physical media (wires) can support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RS232C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uses bipolar pulse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y signal greater than +3 volts is considered a ma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y signal less than ­3 volts is considered a 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20 mA current loop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es four wires, trasmit+, transmit­, receive+ and receive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oltage is applied at one end and the current travels to the far end, passes through a load resistor and then returns to the transmit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IGHs and LOWs are determined by the presence or absence of 20 mA curr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Other schemes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modulate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the amplitude or frequency of a frequency carrier signal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erial Communications Protocol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 Communications protocol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s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 convention for data transmission that includes such functions as timing, formatting and data representation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wo categories of protocols: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Asynchronous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ccessive data appear in the data stream at arbitrary times, with no specific clock control governing the relative delays in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Synchronous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successive datum in a stream of data is governed by a master data clock and appears at a specific interval of t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ften, protocols deliver serial data in 8­bit characters ­­ asynchronous protocols treat each character as an individual message, and the characters appear in the data stream at arbitrary relative times. However, within each character, the bits are transmitted at a fixed predetermined clock r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synchronous Protocol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Many different types of electrical connection standard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S­232­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 mA current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S­422, RS­423, and RS­49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iming is the same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le line is assumed to be in high (1) 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character begins with a zero (0) bit, followed by 8 data bits and then 1, 1­1/2, or 2 closing 1 bi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its are usually encoded using ASCII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eric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andar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de 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forma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terchang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4876920"/>
            <a:ext cx="4572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4876920"/>
            <a:ext cx="4572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4876920"/>
            <a:ext cx="4572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24280" y="4876920"/>
            <a:ext cx="4572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4876920"/>
            <a:ext cx="4572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38680" y="4876920"/>
            <a:ext cx="4572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5880" y="4876920"/>
            <a:ext cx="4572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53080" y="4876920"/>
            <a:ext cx="4572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89548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895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43828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009920" y="4876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5943600"/>
            <a:ext cx="4572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124080" y="55627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581280" y="55627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038480" y="55627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495680" y="55627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952880" y="55627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410080" y="55627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867280" y="55627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324480" y="55627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781680" y="55627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238880" y="55627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7696080" y="55627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429000" y="5714640"/>
            <a:ext cx="304920" cy="228600"/>
            <a:chOff x="3429000" y="5714640"/>
            <a:chExt cx="304920" cy="228600"/>
          </a:xfrm>
        </p:grpSpPr>
        <p:sp>
          <p:nvSpPr>
            <p:cNvPr id="281" name=""/>
            <p:cNvSpPr/>
            <p:nvPr/>
          </p:nvSpPr>
          <p:spPr>
            <a:xfrm flipV="1">
              <a:off x="3657600" y="571464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3733920" y="571464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3505320" y="571464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429000" y="571464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526760" y="45720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6040" y="54100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52680" y="46483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46160" y="3963960"/>
            <a:ext cx="71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p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62480" y="42829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7 data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131960" y="3962520"/>
            <a:ext cx="71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1 or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58480" y="59929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Sampling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synchronous Protocols (cont’d)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tart (stop) bits identify the beginning (end) of each character ­­ also permits receiver to resynchronize local clock to each new character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member: characters can begin 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rbitr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i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Bit Sampling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ceiver's clock is not identical to the transmitter's clo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est if the sample is near the middle of a b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t always possible because of clock differ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ceiver clock (in relation to transmitter) cannot gain or lose more than 1/2 bit per 10 to 11 clock periods (time to transmit one charact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ocks must be accurate to within 5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st receivers use a fast clock to determine the “middle” of a b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ypical is 16X clock which can take 16 samples per 1 b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egins by detecting start bit which clears clock cou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lock counter increments to 16 for each tick of the receiver cl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the counter reaches 8, it has reached the middle of the bit and takes the sam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erial Port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5360" y="1143000"/>
            <a:ext cx="4038480" cy="4267080"/>
          </a:xfrm>
          <a:custGeom>
            <a:avLst/>
            <a:gdLst>
              <a:gd name="textAreaLeft" fmla="*/ 93600 w 4038480"/>
              <a:gd name="textAreaRight" fmla="*/ 3944880 w 4038480"/>
              <a:gd name="textAreaTop" fmla="*/ 93600 h 4267080"/>
              <a:gd name="textAreaBottom" fmla="*/ 4173480 h 4267080"/>
            </a:gdLst>
            <a:ahLst/>
            <a:rect l="textAreaLeft" t="textAreaTop" r="textAreaRight" b="textAreaBottom"/>
            <a:pathLst>
              <a:path w="21600" h="22823">
                <a:moveTo>
                  <a:pt x="1715" y="0"/>
                </a:moveTo>
                <a:arcTo wR="1715" hR="1715" stAng="16200000" swAng="-5400000"/>
                <a:lnTo>
                  <a:pt x="0" y="21108"/>
                </a:lnTo>
                <a:arcTo wR="1715" hR="1715" stAng="10800000" swAng="-5400000"/>
                <a:lnTo>
                  <a:pt x="19885" y="22823"/>
                </a:lnTo>
                <a:arcTo wR="1715" hR="1715" stAng="5400000" swAng="-5400000"/>
                <a:lnTo>
                  <a:pt x="21600" y="1715"/>
                </a:lnTo>
                <a:arcTo wR="1715" hR="1715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66960" y="1600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71880" y="16002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76440" y="1600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81360" y="1600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6280" y="16002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90840" y="1600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95760" y="1600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00680" y="16002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66960" y="1905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71880" y="1905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76440" y="1905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81360" y="1905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86280" y="1905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90840" y="1905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95760" y="1905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00680" y="1905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66960" y="2514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71880" y="2514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76440" y="2514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81360" y="2514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86280" y="2514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90840" y="2514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95760" y="2514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00680" y="2514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01924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32416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62908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93364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23856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54348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84804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15296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6696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71880" y="4267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7644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8136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86280" y="4267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39084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9576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00680" y="4267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6696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7188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7644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8136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8628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39084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9576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0068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01924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32416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6290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93364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323856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434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84804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415296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6696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71880" y="3657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47644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8136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86280" y="3657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9084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9576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00680" y="3657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6696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71880" y="4876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7644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8136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86280" y="4876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9084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69576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00680" y="4876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66960" y="1295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71880" y="1295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76440" y="1295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81360" y="1295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86280" y="1295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390840" y="1295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695760" y="1295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00680" y="1295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324160" y="3048120"/>
            <a:ext cx="13716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04840" y="2666880"/>
            <a:ext cx="0" cy="11430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04840" y="3276720"/>
            <a:ext cx="121932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104840" y="2666880"/>
            <a:ext cx="76212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04840" y="3809880"/>
            <a:ext cx="76212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6800" y="13683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x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8280" y="479736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x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560" y="4416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FO 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720" y="17496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FO 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62440" y="1143000"/>
            <a:ext cx="4038840" cy="4267080"/>
          </a:xfrm>
          <a:custGeom>
            <a:avLst/>
            <a:gdLst>
              <a:gd name="textAreaLeft" fmla="*/ 93600 w 4038840"/>
              <a:gd name="textAreaRight" fmla="*/ 3945240 w 4038840"/>
              <a:gd name="textAreaTop" fmla="*/ 93600 h 4267080"/>
              <a:gd name="textAreaBottom" fmla="*/ 4173480 h 4267080"/>
            </a:gdLst>
            <a:ahLst/>
            <a:rect l="textAreaLeft" t="textAreaTop" r="textAreaRight" b="textAreaBottom"/>
            <a:pathLst>
              <a:path w="21600" h="22821">
                <a:moveTo>
                  <a:pt x="1715" y="0"/>
                </a:moveTo>
                <a:arcTo wR="1715" hR="1715" stAng="16200000" swAng="-5400000"/>
                <a:lnTo>
                  <a:pt x="0" y="21106"/>
                </a:lnTo>
                <a:arcTo wR="1715" hR="1715" stAng="10800000" swAng="-5400000"/>
                <a:lnTo>
                  <a:pt x="19885" y="22821"/>
                </a:lnTo>
                <a:arcTo wR="1715" hR="1715" stAng="5400000" swAng="-5400000"/>
                <a:lnTo>
                  <a:pt x="21600" y="1715"/>
                </a:lnTo>
                <a:arcTo wR="1715" hR="171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34040" y="1600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38960" y="1600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43880" y="16002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048440" y="1600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53360" y="1600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58280" y="16002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962840" y="1600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267760" y="1600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34040" y="1905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38960" y="1905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43880" y="1905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48440" y="1905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353360" y="1905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658280" y="1905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962840" y="1905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267760" y="1905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34040" y="2514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38960" y="2514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43880" y="2514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48440" y="2514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2514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58280" y="2514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962840" y="2514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67760" y="2514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28668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59124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89616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720108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750564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781056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811548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842004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3404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3896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43880" y="4267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4844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5336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58280" y="4267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96284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26776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3404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43896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4388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4844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5336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65828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96284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26776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62866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659124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689616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2010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750564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781056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81154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842004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3404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3896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43880" y="3657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04844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35336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58280" y="3657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96284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26776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3404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43896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43880" y="4876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4844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35336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658280" y="4876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96284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26776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34040" y="1295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438960" y="1295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43880" y="1295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048440" y="1295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353360" y="1295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58280" y="1295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962840" y="1295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267760" y="1295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591240" y="3048120"/>
            <a:ext cx="13716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72280" y="2666880"/>
            <a:ext cx="0" cy="11430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372280" y="3276720"/>
            <a:ext cx="12189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72280" y="2666880"/>
            <a:ext cx="76176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72280" y="3809880"/>
            <a:ext cx="76176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63880" y="13683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x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725360" y="479736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x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724640" y="4416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FO 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62800" y="17496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FO 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343400" y="3809880"/>
            <a:ext cx="304920" cy="0"/>
          </a:xfrm>
          <a:prstGeom prst="line">
            <a:avLst/>
          </a:prstGeom>
          <a:ln w="1908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48320" y="3809880"/>
            <a:ext cx="0" cy="1905120"/>
          </a:xfrm>
          <a:prstGeom prst="line">
            <a:avLst/>
          </a:prstGeom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647960" y="5715000"/>
            <a:ext cx="4267080" cy="0"/>
          </a:xfrm>
          <a:prstGeom prst="line">
            <a:avLst/>
          </a:prstGeom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915400" y="2666880"/>
            <a:ext cx="0" cy="3048120"/>
          </a:xfrm>
          <a:prstGeom prst="line">
            <a:avLst/>
          </a:prstGeom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610120" y="2666880"/>
            <a:ext cx="304920" cy="0"/>
          </a:xfrm>
          <a:prstGeom prst="line">
            <a:avLst/>
          </a:prstGeom>
          <a:ln w="1908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610480" y="3809880"/>
            <a:ext cx="38124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8991720" y="914040"/>
            <a:ext cx="0" cy="289548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648320" y="914400"/>
            <a:ext cx="43434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648320" y="914400"/>
            <a:ext cx="0" cy="175248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343040" y="2666880"/>
            <a:ext cx="304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962520" y="3124080"/>
            <a:ext cx="1066680" cy="228600"/>
            <a:chOff x="3962520" y="3124080"/>
            <a:chExt cx="1066680" cy="228600"/>
          </a:xfrm>
        </p:grpSpPr>
        <p:sp>
          <p:nvSpPr>
            <p:cNvPr id="486" name=""/>
            <p:cNvSpPr/>
            <p:nvPr/>
          </p:nvSpPr>
          <p:spPr>
            <a:xfrm>
              <a:off x="3962520" y="3352680"/>
              <a:ext cx="163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26320" y="312408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72560" y="312408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26320" y="3124080"/>
              <a:ext cx="245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72560" y="3352680"/>
              <a:ext cx="245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18800" y="312408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865040" y="312408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18800" y="3124080"/>
              <a:ext cx="245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65040" y="3352680"/>
              <a:ext cx="1641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 flipV="1">
            <a:off x="3505320" y="28954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505320" y="28954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6705720" y="28954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829160" y="579132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19560" y="579132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iph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Outline of This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terrupts (continued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rupt hand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rupts on the X-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stalling and writing interrupt hand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erial Communic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synchronous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rial port and bit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5032440"/>
            <a:ext cx="9144000" cy="1139760"/>
            <a:chOff x="0" y="5032440"/>
            <a:chExt cx="9144000" cy="1139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8248680" y="5050080"/>
              <a:ext cx="89532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5032440"/>
              <a:ext cx="8953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174680" y="5181840"/>
              <a:ext cx="706608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35880" indent="-3358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Times New Roman"/>
                </a:rPr>
                <a:t>Detours</a:t>
              </a: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 signify material outside of, but indirect/direct </a:t>
              </a:r>
              <a:r>
                <a:rPr b="0" lang="en-US" sz="2000" spc="-1" strike="noStrike">
                  <a:solidFill>
                    <a:srgbClr val="ff6600"/>
                  </a:solidFill>
                  <a:latin typeface="Times New Roman"/>
                </a:rPr>
                <a:t>background/review material</a:t>
              </a: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 for, the main le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5880" indent="-3358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003300"/>
                  </a:solidFill>
                  <a:latin typeface="Times New Roman"/>
                </a:rPr>
                <a:t>(available in the lecture handout on Blackboar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Transmitting Bit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86400" y="19051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867280" y="19051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48520" y="19051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629400" y="19051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010280" y="19051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391520" y="19051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772400" y="19051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153280" y="19051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86400" y="228600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67280" y="22860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248520" y="22860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29400" y="22860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10280" y="22860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391520" y="22860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772400" y="22860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153280" y="22860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86400" y="266688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67280" y="2666880"/>
            <a:ext cx="3812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48520" y="26668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26668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10280" y="26668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391520" y="26668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772400" y="26668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153280" y="26668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86400" y="304812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867280" y="3048120"/>
            <a:ext cx="3812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248520" y="304812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629400" y="30481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010280" y="30481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391520" y="30481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72400" y="30481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153280" y="30481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486400" y="342900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867280" y="3429000"/>
            <a:ext cx="3812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342900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629400" y="342900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010280" y="34290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391520" y="34290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72400" y="34290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153280" y="34290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486400" y="380988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3809880"/>
            <a:ext cx="3812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248520" y="380988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380988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010280" y="3809880"/>
            <a:ext cx="3812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91520" y="38098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772400" y="38098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153280" y="38098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86400" y="419112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67280" y="4191120"/>
            <a:ext cx="3812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248520" y="419112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629400" y="419112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010280" y="4191120"/>
            <a:ext cx="3812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419112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72400" y="41911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153280" y="41911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486400" y="457200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867280" y="4572000"/>
            <a:ext cx="3812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248520" y="457200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629400" y="457200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010280" y="4572000"/>
            <a:ext cx="3812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391520" y="457200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772400" y="457200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153280" y="45720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86400" y="495288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67280" y="4952880"/>
            <a:ext cx="3812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48520" y="495288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629400" y="495288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010280" y="4952880"/>
            <a:ext cx="3812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391520" y="495288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772400" y="495288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153280" y="4952880"/>
            <a:ext cx="3812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8787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878000" y="228600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8000" y="266688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78000" y="304812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878000" y="342900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+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878000" y="380988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78000" y="419112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+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78000" y="457200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+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78000" y="495288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+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15238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380280" y="15238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86880" y="1828800"/>
            <a:ext cx="3656520" cy="3583800"/>
            <a:chOff x="686880" y="1828800"/>
            <a:chExt cx="3656520" cy="3583800"/>
          </a:xfrm>
        </p:grpSpPr>
        <p:sp>
          <p:nvSpPr>
            <p:cNvPr id="585" name=""/>
            <p:cNvSpPr/>
            <p:nvPr/>
          </p:nvSpPr>
          <p:spPr>
            <a:xfrm>
              <a:off x="1295280" y="1904760"/>
              <a:ext cx="380880" cy="381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76160" y="1904760"/>
              <a:ext cx="381240" cy="381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057400" y="1904760"/>
              <a:ext cx="380880" cy="381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38280" y="1904760"/>
              <a:ext cx="380880" cy="381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19160" y="1904760"/>
              <a:ext cx="381240" cy="381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200400" y="1904760"/>
              <a:ext cx="380880" cy="381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81280" y="1904760"/>
              <a:ext cx="380880" cy="381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962160" y="1904760"/>
              <a:ext cx="381240" cy="381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295280" y="2286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76160" y="2286000"/>
              <a:ext cx="381240" cy="3808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57400" y="2286000"/>
              <a:ext cx="380880" cy="3808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38280" y="2286000"/>
              <a:ext cx="380880" cy="3808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819160" y="2286000"/>
              <a:ext cx="381240" cy="3808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00400" y="2286000"/>
              <a:ext cx="380880" cy="3808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581280" y="2286000"/>
              <a:ext cx="380880" cy="3808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962160" y="2286000"/>
              <a:ext cx="381240" cy="3808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295280" y="2666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76160" y="2666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057400" y="2666880"/>
              <a:ext cx="380880" cy="3808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438280" y="2666880"/>
              <a:ext cx="380880" cy="3808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19160" y="2666880"/>
              <a:ext cx="381240" cy="3808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00400" y="2666880"/>
              <a:ext cx="380880" cy="3808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81280" y="2666880"/>
              <a:ext cx="380880" cy="3808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962160" y="2666880"/>
              <a:ext cx="381240" cy="3808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295280" y="3047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76160" y="3047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57400" y="3047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438280" y="3047760"/>
              <a:ext cx="380880" cy="381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819160" y="3047760"/>
              <a:ext cx="381240" cy="381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200400" y="3047760"/>
              <a:ext cx="380880" cy="381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581280" y="3047760"/>
              <a:ext cx="380880" cy="381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962160" y="3047760"/>
              <a:ext cx="381240" cy="381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95280" y="3429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676160" y="3429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057400" y="3429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438280" y="3429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819160" y="3429000"/>
              <a:ext cx="381240" cy="3808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00400" y="3429000"/>
              <a:ext cx="380880" cy="3808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81280" y="3429000"/>
              <a:ext cx="380880" cy="3808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962160" y="3429000"/>
              <a:ext cx="381240" cy="3808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95280" y="3809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76160" y="3809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057400" y="3809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438280" y="3809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819160" y="3809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200400" y="3809880"/>
              <a:ext cx="380880" cy="3808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581280" y="3809880"/>
              <a:ext cx="380880" cy="3808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962160" y="3809880"/>
              <a:ext cx="381240" cy="3808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95280" y="4190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76160" y="4190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057400" y="4190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438280" y="4190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819160" y="4190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00400" y="4190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81280" y="4190760"/>
              <a:ext cx="380880" cy="381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62160" y="4190760"/>
              <a:ext cx="381240" cy="381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952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6761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574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382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8191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2004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812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962160" y="4572000"/>
              <a:ext cx="381240" cy="3808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952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6761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0574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4382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191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2004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812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621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760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86880" y="228600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86880" y="266688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+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86880" y="304776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+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86880" y="342900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+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86880" y="380988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+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6880" y="419076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+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6880" y="457200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+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6880" y="495288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+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306800" y="5532480"/>
            <a:ext cx="301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 w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ter (Tx) is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749200" y="5456160"/>
            <a:ext cx="239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 w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(Rx) is f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4487760" y="328284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Coping with Errors ­ Parity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 single bit determined by the number of 1's in a word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 simplest form of error detection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arity bit is appended to each group­of­bits (byte, word)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Odd parity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rity bit is chosen to force the number of 1's to be od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 0 0 0 1 0 1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 0 0 0 1 0 1 0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Even parity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rity bit is chosen to force the number of 1's to be ev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en receiving data, the receiver will check every group of bit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rity checker determines if the parity of a group of bits is corr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wrong, an error (exception) will be raised to let the processor and software know an error has occurred in parity b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795920" y="3522600"/>
            <a:ext cx="635040" cy="8748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566320" y="3429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ity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Processor has parallel buses for data ­­ need to convert serial data to parallel (and vice versa)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tandard way is with UART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UART ­ Universal asynchronous receiver and transmitter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SART ­ Universal synchronous and asynchronous receiver and transmit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Interfacing Serial Data to Microprocessor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600200" y="2971800"/>
            <a:ext cx="597852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1221840" y="48769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1222200" y="3276720"/>
            <a:ext cx="533520" cy="685800"/>
            <a:chOff x="1222200" y="3276720"/>
            <a:chExt cx="533520" cy="685800"/>
          </a:xfrm>
        </p:grpSpPr>
        <p:sp>
          <p:nvSpPr>
            <p:cNvPr id="678" name=""/>
            <p:cNvSpPr/>
            <p:nvPr/>
          </p:nvSpPr>
          <p:spPr>
            <a:xfrm flipH="1">
              <a:off x="1222200" y="3276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12222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1222200" y="37339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1222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1744560" y="3124080"/>
            <a:ext cx="849240" cy="96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ip R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/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289240" y="4343400"/>
            <a:ext cx="990360" cy="16002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89440" y="4267080"/>
            <a:ext cx="12952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x Data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89440" y="4724280"/>
            <a:ext cx="12952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us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889440" y="5181480"/>
            <a:ext cx="12952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889440" y="5638680"/>
            <a:ext cx="12952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x Data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718240" y="4267080"/>
            <a:ext cx="12952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x Shift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718240" y="5638680"/>
            <a:ext cx="12952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x Shift 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270320" y="3352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25140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355920" y="441972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3355920" y="579132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335592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3355920" y="4952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222200" y="51814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746440" y="4419720"/>
            <a:ext cx="60948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46440" y="5181480"/>
            <a:ext cx="6858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7013160" y="5867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5184720" y="5867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5108400" y="5410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18472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013520" y="4495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25140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251400" y="50292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12920" y="62485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326280" y="6019920"/>
            <a:ext cx="32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975400" y="319716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x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604160" y="594360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x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979920" y="4457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856640" y="489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856640" y="53341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823880" y="56386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x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836480" y="43434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x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57560" y="5156280"/>
            <a:ext cx="78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929160" y="5181480"/>
            <a:ext cx="7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666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92468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921800" y="5396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ummary of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terrupts (continued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rupt hand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ested interru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rupts on the X-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stalling and writing interrupt hand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erial Communic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communications and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synchronous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rial port and bit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Quiz #3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Review of ARM Exception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248680" y="583884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4688" t="28754" r="5626" b="6251"/>
          <a:stretch/>
        </p:blipFill>
        <p:spPr>
          <a:xfrm>
            <a:off x="0" y="828720"/>
            <a:ext cx="929628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Review of ARM Interrupt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ector tabl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served area of 32 bytes at the end of the memory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ne word of space for each exception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ntains a Branch or Load PC instruction for the exception hand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xception modes and register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andling exceptions changes program from user to non-user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ach exception handler has access to its own set of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ts own r13 = stack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ts own r14 = link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ts own SPSR (Saved Program Status Regi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ception handlers must save (restore) other register on entry (ex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248680" y="5700600"/>
            <a:ext cx="8953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7501" t="27504" r="42194" b="12502"/>
          <a:stretch/>
        </p:blipFill>
        <p:spPr>
          <a:xfrm>
            <a:off x="685800" y="-23760"/>
            <a:ext cx="7696080" cy="688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248680" y="5700600"/>
            <a:ext cx="8953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What if Exceptions Happen Simultaneously?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4688" t="36255" r="2813" b="10001"/>
          <a:stretch/>
        </p:blipFill>
        <p:spPr>
          <a:xfrm>
            <a:off x="0" y="1444680"/>
            <a:ext cx="9448920" cy="4116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553080" y="1219320"/>
            <a:ext cx="274320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8248680" y="5700600"/>
            <a:ext cx="8953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Enabling IRQ and FIQ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Program Status Register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o disable interrupts, set corresponding “F” or “I” bit to 1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On interrupt, processor does the follow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witches register ban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pies CPSR to SPSR_mode (saves mode, interrupt flag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anges the CPSR mode bits (M[4:0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sables interrup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pies PC to R14_mode (to provide return addr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s the PC to the vector address of the exception handl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terrupt handlers must contain code to clear the source of the interrup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51800" y="1143000"/>
            <a:ext cx="8235000" cy="914400"/>
            <a:chOff x="451800" y="1143000"/>
            <a:chExt cx="8235000" cy="914400"/>
          </a:xfrm>
        </p:grpSpPr>
        <p:sp>
          <p:nvSpPr>
            <p:cNvPr id="70" name=""/>
            <p:cNvSpPr/>
            <p:nvPr/>
          </p:nvSpPr>
          <p:spPr>
            <a:xfrm>
              <a:off x="533160" y="1524240"/>
              <a:ext cx="53352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1800" y="1143000"/>
              <a:ext cx="822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31 30 29 28 27  …  8  7  6  5  4  3  2  1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1524240"/>
              <a:ext cx="53352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00200" y="1524240"/>
              <a:ext cx="53316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33360" y="1524240"/>
              <a:ext cx="53352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66880" y="1524240"/>
              <a:ext cx="53352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86200" y="1524240"/>
              <a:ext cx="53316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19360" y="1524240"/>
              <a:ext cx="53352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52880" y="1524240"/>
              <a:ext cx="53352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86400" y="1524240"/>
              <a:ext cx="53316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19560" y="1524240"/>
              <a:ext cx="53352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53080" y="1524240"/>
              <a:ext cx="53352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86600" y="1524240"/>
              <a:ext cx="53316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19760" y="1524240"/>
              <a:ext cx="53352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53280" y="1524240"/>
              <a:ext cx="53352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Interrupt Detail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On an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IRQ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interrupt, the processor will ..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the “I” bit 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CPS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s clear, the current instruction is completed and then the ARM wi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ve the address of the next instruction plus 4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r14_ir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v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CPS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PSR_ir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c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CPS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ode b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M[4:0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o 10010 (binar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is switches the CPU to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IRQ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mode and then sets the “I” flag to disable further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IRQ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interrupt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On an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FIQ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interrupt, the processor will ..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the “F” bit 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CPS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s clear and the current instruction is completed, the ARM wi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ve the address of the next instruction plus 4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r14_fi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c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CPS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mode b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M[4:0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to 10001 (binar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switches the CPU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FI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mode and then sets the “I” and “F” flags to disable furth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R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FI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nterrup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05:10:06Z</dcterms:created>
  <dc:creator>Priya Narasimhan</dc:creator>
  <dc:description/>
  <dc:language>en-US</dc:language>
  <cp:lastModifiedBy>jjohnso2</cp:lastModifiedBy>
  <cp:lastPrinted>2001-02-21T19:10:36Z</cp:lastPrinted>
  <dcterms:modified xsi:type="dcterms:W3CDTF">2004-09-07T22:32:36Z</dcterms:modified>
  <cp:revision>251</cp:revision>
  <dc:subject>Vakratundam Mahakayam</dc:subject>
  <dc:title>Karanji Anjaneya Swamy</dc:title>
</cp:coreProperties>
</file>