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18600" cy="6832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85B-A1FA-463D-A350-B1801CCA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5193-8BBC-4084-8101-C57A7877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847D-DBF8-41D5-AC8E-011958E0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BC0-6C83-4D35-9F33-76EB4798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E4C-9B19-49D7-A930-BF1D6513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D1E-788B-40FC-AD88-82D7E93A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1B9-7C6A-49E0-861C-B18CBE1A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A0DB-4E94-408E-8B6B-D7A708AA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C8EB-722F-449E-8D14-C52B2B75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BFB-1DE6-4128-913B-38F946BC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436-8B3E-4DD9-80BD-D0A04848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F527-F5B2-46AD-B599-AD339413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5902-AB2D-485A-ACF5-DFA557F298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C1E0-ABBB-402B-9BD8-351D1CB0A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i.com/litv/zip/slac139a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00480" y="2451240"/>
            <a:ext cx="57582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roduc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mplici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763920" y="3822840"/>
            <a:ext cx="74127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po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888840" y="1282680"/>
            <a:ext cx="6985080" cy="25653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"/>
          <p:cNvSpPr/>
          <p:nvPr/>
        </p:nvSpPr>
        <p:spPr>
          <a:xfrm>
            <a:off x="5336640" y="4140360"/>
            <a:ext cx="18738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5562000" y="4457880"/>
            <a:ext cx="1029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5816160" y="4457880"/>
            <a:ext cx="12326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l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w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773640" y="4165560"/>
            <a:ext cx="8784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1104120" y="4483080"/>
            <a:ext cx="10296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1376640" y="4483080"/>
            <a:ext cx="259344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F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minim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W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w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du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518400" y="368280"/>
            <a:ext cx="39920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chitectura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vervie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"/>
          <p:cNvSpPr/>
          <p:nvPr/>
        </p:nvSpPr>
        <p:spPr>
          <a:xfrm>
            <a:off x="8553240" y="6134040"/>
            <a:ext cx="89280" cy="1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"/>
          <p:cNvSpPr/>
          <p:nvPr/>
        </p:nvSpPr>
        <p:spPr>
          <a:xfrm>
            <a:off x="669960" y="368280"/>
            <a:ext cx="70930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pplic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rammin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rfac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P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341280" y="1371600"/>
            <a:ext cx="17305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1109520" y="1816200"/>
            <a:ext cx="474048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smplStatus_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SMPL_Init(uint8_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(*callback)(linkID_t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"/>
          <p:cNvSpPr/>
          <p:nvPr/>
        </p:nvSpPr>
        <p:spPr>
          <a:xfrm>
            <a:off x="416880" y="2400480"/>
            <a:ext cx="42840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i-directio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1065600" y="2844720"/>
            <a:ext cx="435816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smplStatus_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SMPL_Link(linkID_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*link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smplStatus_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SMPL_LinkListen(linkID_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*link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510480" y="3784680"/>
            <a:ext cx="3042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1139760" y="4229280"/>
            <a:ext cx="39560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smplStatus_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SMPL_Send(lid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*msg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le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smplStatus_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SMPL_Receive(lid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*msg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*le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374400" y="5168880"/>
            <a:ext cx="18295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1015560" y="5613480"/>
            <a:ext cx="763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75438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smplStatus_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SMPL_Ioctl(object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action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65ff"/>
                </a:solidFill>
                <a:latin typeface="Times New Roman"/>
                <a:ea typeface="Times New Roman"/>
              </a:rPr>
              <a:t>*va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5438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5438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75438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3"/>
          <p:cNvSpPr/>
          <p:nvPr/>
        </p:nvSpPr>
        <p:spPr>
          <a:xfrm>
            <a:off x="5207040" y="1063800"/>
            <a:ext cx="3581280" cy="493380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5200560" y="1057320"/>
            <a:ext cx="3594240" cy="49467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"/>
          <p:cNvSpPr/>
          <p:nvPr/>
        </p:nvSpPr>
        <p:spPr>
          <a:xfrm>
            <a:off x="491040" y="1384200"/>
            <a:ext cx="252288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yp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542160" y="1828800"/>
            <a:ext cx="290376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leep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363960" y="2260440"/>
            <a:ext cx="106308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olog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493200" y="2705040"/>
            <a:ext cx="27090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ing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388080" y="3149640"/>
            <a:ext cx="17640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c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908280" y="3454560"/>
            <a:ext cx="321264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e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nection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434880" y="4508640"/>
            <a:ext cx="165744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586800" y="4952880"/>
            <a:ext cx="30301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ing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op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,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r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539640" y="5397480"/>
            <a:ext cx="36579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req,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o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,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5413320" y="1257480"/>
            <a:ext cx="19116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*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pl_config.da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5321520" y="1752480"/>
            <a:ext cx="1523160" cy="1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NUM_CONNECTIONS=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5364720" y="2057400"/>
            <a:ext cx="2034000" cy="1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5304960" y="2209680"/>
            <a:ext cx="1594800" cy="1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MAX_APP_PAYLOAD=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5429160" y="2514600"/>
            <a:ext cx="2832480" cy="1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u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5324040" y="2666880"/>
            <a:ext cx="14547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SIZE_INFRAME_Q=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SIZE_OUTFRAME_Q=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"/>
          <p:cNvSpPr/>
          <p:nvPr/>
        </p:nvSpPr>
        <p:spPr>
          <a:xfrm>
            <a:off x="5321520" y="3124080"/>
            <a:ext cx="22852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DEFAULT_LINK_TOKEN=0x01020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5340240" y="3581280"/>
            <a:ext cx="3098880" cy="7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DEFAULT_JOIN_TOKEN=0x050607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'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THIS_DEVICE_ADDRESS="{0x79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56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4,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12}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"/>
          <p:cNvSpPr/>
          <p:nvPr/>
        </p:nvSpPr>
        <p:spPr>
          <a:xfrm>
            <a:off x="5303520" y="4495680"/>
            <a:ext cx="9241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ND_DE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"/>
          <p:cNvSpPr/>
          <p:nvPr/>
        </p:nvSpPr>
        <p:spPr>
          <a:xfrm>
            <a:off x="5371920" y="4952880"/>
            <a:ext cx="19814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-DRX_LISTE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"/>
          <p:cNvSpPr/>
          <p:nvPr/>
        </p:nvSpPr>
        <p:spPr>
          <a:xfrm>
            <a:off x="5305680" y="5257800"/>
            <a:ext cx="831240" cy="1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-DRX_PO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5289480" y="5410080"/>
            <a:ext cx="9151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-DRX_NE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RX_ALW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536760" y="368280"/>
            <a:ext cx="36381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mp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figur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8553240" y="6134040"/>
            <a:ext cx="89280" cy="1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3"/>
          <p:cNvSpPr/>
          <p:nvPr/>
        </p:nvSpPr>
        <p:spPr>
          <a:xfrm>
            <a:off x="890640" y="2189160"/>
            <a:ext cx="7318440" cy="255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890640" y="6235560"/>
            <a:ext cx="7318440" cy="255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890640" y="2189160"/>
            <a:ext cx="25200" cy="40593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8196120" y="2189160"/>
            <a:ext cx="25560" cy="40593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890640" y="2536920"/>
            <a:ext cx="7318440" cy="252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"/>
          <p:cNvSpPr/>
          <p:nvPr/>
        </p:nvSpPr>
        <p:spPr>
          <a:xfrm>
            <a:off x="3206880" y="2189160"/>
            <a:ext cx="25200" cy="40593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5359320" y="2189160"/>
            <a:ext cx="25560" cy="40593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"/>
          <p:cNvSpPr/>
          <p:nvPr/>
        </p:nvSpPr>
        <p:spPr>
          <a:xfrm>
            <a:off x="890640" y="3016080"/>
            <a:ext cx="7318440" cy="255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"/>
          <p:cNvSpPr/>
          <p:nvPr/>
        </p:nvSpPr>
        <p:spPr>
          <a:xfrm>
            <a:off x="890640" y="3679920"/>
            <a:ext cx="7318440" cy="252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"/>
          <p:cNvSpPr/>
          <p:nvPr/>
        </p:nvSpPr>
        <p:spPr>
          <a:xfrm>
            <a:off x="890640" y="4719600"/>
            <a:ext cx="7318440" cy="255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890640" y="5570640"/>
            <a:ext cx="7318440" cy="252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"/>
          <p:cNvSpPr/>
          <p:nvPr/>
        </p:nvSpPr>
        <p:spPr>
          <a:xfrm>
            <a:off x="8553240" y="6134040"/>
            <a:ext cx="89280" cy="1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"/>
          <p:cNvSpPr/>
          <p:nvPr/>
        </p:nvSpPr>
        <p:spPr>
          <a:xfrm>
            <a:off x="530280" y="368280"/>
            <a:ext cx="39430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untim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figur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4944240" y="1066680"/>
            <a:ext cx="24681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4857480" y="1473120"/>
            <a:ext cx="20325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w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m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378720" y="1104840"/>
            <a:ext cx="15033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360360" y="1460520"/>
            <a:ext cx="14378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485280" y="1816200"/>
            <a:ext cx="24073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961920" y="2286000"/>
            <a:ext cx="1797480" cy="34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CTL_OBJ_FR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CTL_OBJ_CRYPT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CTL_OBJ_RAW_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CTL_OBJ_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CTL_OBJ_AP_J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3382560" y="2286000"/>
            <a:ext cx="1680120" cy="36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/S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-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5575320" y="2286000"/>
            <a:ext cx="237456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ility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W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defaul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th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ly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eep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ake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th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eeform 3"/>
          <p:cNvSpPr/>
          <p:nvPr/>
        </p:nvSpPr>
        <p:spPr>
          <a:xfrm>
            <a:off x="317520" y="3139920"/>
            <a:ext cx="8483760" cy="533520"/>
          </a:xfrm>
          <a:prstGeom prst="pie">
            <a:avLst/>
          </a:prstGeom>
          <a:solidFill>
            <a:srgbClr val="a7d3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3"/>
          <p:cNvSpPr/>
          <p:nvPr/>
        </p:nvSpPr>
        <p:spPr>
          <a:xfrm>
            <a:off x="303120" y="3125880"/>
            <a:ext cx="8512200" cy="561960"/>
          </a:xfrm>
          <a:prstGeom prst="pie">
            <a:avLst/>
          </a:prstGeom>
          <a:noFill/>
          <a:ln w="25560">
            <a:solidFill>
              <a:srgbClr val="77a6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"/>
          <p:cNvSpPr/>
          <p:nvPr/>
        </p:nvSpPr>
        <p:spPr>
          <a:xfrm>
            <a:off x="331560" y="368280"/>
            <a:ext cx="12686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806400" y="1574640"/>
            <a:ext cx="7874280" cy="46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reeform 3"/>
          <p:cNvSpPr/>
          <p:nvPr/>
        </p:nvSpPr>
        <p:spPr>
          <a:xfrm>
            <a:off x="1349280" y="2940120"/>
            <a:ext cx="6400800" cy="320040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1343160" y="2933640"/>
            <a:ext cx="6413400" cy="3213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329760" y="127080"/>
            <a:ext cx="401436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ahoma"/>
                <a:ea typeface="Tahoma"/>
              </a:rPr>
              <a:t>Examp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How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t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configur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Acces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Poi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509400" y="1104840"/>
            <a:ext cx="23850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b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"/>
          <p:cNvSpPr/>
          <p:nvPr/>
        </p:nvSpPr>
        <p:spPr>
          <a:xfrm>
            <a:off x="559800" y="1460520"/>
            <a:ext cx="24998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-o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t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527040" y="1816200"/>
            <a:ext cx="24764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w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eep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500760" y="2158920"/>
            <a:ext cx="27828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nk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m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655200" y="2514600"/>
            <a:ext cx="44424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ity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nk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,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1460160" y="3124080"/>
            <a:ext cx="7188480" cy="30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165240"/>
                <a:tab algn="l" pos="343080"/>
                <a:tab algn="l" pos="7099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/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165240"/>
                <a:tab algn="l" pos="343080"/>
                <a:tab algn="l" pos="7099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P_Init(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P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165240"/>
                <a:tab algn="l" pos="343080"/>
                <a:tab algn="l" pos="7099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PL_Init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343080"/>
                <a:tab algn="l" pos="70992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343080"/>
                <a:tab algn="l" pos="70992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165240"/>
                <a:tab algn="l" pos="343080"/>
                <a:tab algn="l" pos="7099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165240"/>
                <a:tab algn="l" pos="343080"/>
                <a:tab algn="l" pos="7099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PL_LinkListen(&amp;linkID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343080"/>
                <a:tab algn="l" pos="70992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343080"/>
                <a:tab algn="l" pos="70992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165240"/>
                <a:tab algn="l" pos="343080"/>
                <a:tab algn="l" pos="7099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165240"/>
                <a:tab algn="l" pos="343080"/>
                <a:tab algn="l" pos="7099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165240"/>
                <a:tab algn="l" pos="343080"/>
                <a:tab algn="l" pos="7099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((SMPL_SUCC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PL_Receive(linkID1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g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len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165240"/>
                <a:tab algn="l" pos="343080"/>
                <a:tab algn="l" pos="7099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165240"/>
                <a:tab algn="l" pos="343080"/>
                <a:tab algn="l" pos="7099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343080"/>
                <a:tab algn="l" pos="70992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00"/>
              </a:lnSpc>
              <a:tabLst>
                <a:tab algn="l" pos="0"/>
                <a:tab algn="l" pos="165240"/>
                <a:tab algn="l" pos="343080"/>
                <a:tab algn="l" pos="7099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3"/>
          <p:cNvSpPr/>
          <p:nvPr/>
        </p:nvSpPr>
        <p:spPr>
          <a:xfrm>
            <a:off x="1082520" y="3035160"/>
            <a:ext cx="6934320" cy="252432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1076400" y="3029040"/>
            <a:ext cx="6946920" cy="25365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"/>
          <p:cNvSpPr/>
          <p:nvPr/>
        </p:nvSpPr>
        <p:spPr>
          <a:xfrm>
            <a:off x="333000" y="127080"/>
            <a:ext cx="446508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ahoma"/>
                <a:ea typeface="Tahoma"/>
              </a:rPr>
              <a:t>Examp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How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t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configur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Rang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Exten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448560" y="1523880"/>
            <a:ext cx="188424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-o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"/>
          <p:cNvSpPr/>
          <p:nvPr/>
        </p:nvSpPr>
        <p:spPr>
          <a:xfrm>
            <a:off x="606960" y="2031840"/>
            <a:ext cx="42217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ith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ation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588600" y="2527200"/>
            <a:ext cx="460116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though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"/>
          <p:cNvSpPr/>
          <p:nvPr/>
        </p:nvSpPr>
        <p:spPr>
          <a:xfrm>
            <a:off x="1193400" y="3606840"/>
            <a:ext cx="7455240" cy="26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73659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/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73659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P_In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73659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PL_Init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3659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3659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73659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736596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(1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3659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3659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3659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3659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3659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3659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3659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3659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736596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reeform 3"/>
          <p:cNvSpPr/>
          <p:nvPr/>
        </p:nvSpPr>
        <p:spPr>
          <a:xfrm>
            <a:off x="4606920" y="1104840"/>
            <a:ext cx="4162320" cy="515952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4600440" y="1098720"/>
            <a:ext cx="4175280" cy="51717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8553240" y="6134040"/>
            <a:ext cx="89280" cy="1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"/>
          <p:cNvSpPr/>
          <p:nvPr/>
        </p:nvSpPr>
        <p:spPr>
          <a:xfrm>
            <a:off x="332280" y="127080"/>
            <a:ext cx="380556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ahoma"/>
                <a:ea typeface="Tahoma"/>
              </a:rPr>
              <a:t>Examp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How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t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configur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En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Dev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386640" y="1104840"/>
            <a:ext cx="138564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l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"/>
          <p:cNvSpPr/>
          <p:nvPr/>
        </p:nvSpPr>
        <p:spPr>
          <a:xfrm>
            <a:off x="802080" y="1473120"/>
            <a:ext cx="2358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ling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mpty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479160" y="3073320"/>
            <a:ext cx="19879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756000" y="3441600"/>
            <a:ext cx="15487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n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834480" y="3809880"/>
            <a:ext cx="2242080" cy="9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sume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425520" y="5041800"/>
            <a:ext cx="1625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"/>
          <p:cNvSpPr/>
          <p:nvPr/>
        </p:nvSpPr>
        <p:spPr>
          <a:xfrm>
            <a:off x="4750560" y="1168560"/>
            <a:ext cx="7732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(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4684680" y="1384200"/>
            <a:ext cx="799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"/>
          <p:cNvSpPr/>
          <p:nvPr/>
        </p:nvSpPr>
        <p:spPr>
          <a:xfrm>
            <a:off x="4923720" y="1600200"/>
            <a:ext cx="1811160" cy="14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ID_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ID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int32_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ard’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P_Init(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PL_Init(0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"/>
          <p:cNvSpPr/>
          <p:nvPr/>
        </p:nvSpPr>
        <p:spPr>
          <a:xfrm>
            <a:off x="4844880" y="3086280"/>
            <a:ext cx="15368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PL_Link(&amp;linkID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"/>
          <p:cNvSpPr/>
          <p:nvPr/>
        </p:nvSpPr>
        <p:spPr>
          <a:xfrm>
            <a:off x="4853880" y="3505320"/>
            <a:ext cx="9471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RU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"/>
          <p:cNvSpPr/>
          <p:nvPr/>
        </p:nvSpPr>
        <p:spPr>
          <a:xfrm>
            <a:off x="4786200" y="3720960"/>
            <a:ext cx="799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5122800" y="3936960"/>
            <a:ext cx="244152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ee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r.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U_Sleep(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_ReadTempSensor(&amp;temp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m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_HIGH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5098320" y="5003640"/>
            <a:ext cx="21218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PL_Send(linkID,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Hot!”,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4875120" y="5207040"/>
            <a:ext cx="799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"/>
          <p:cNvSpPr/>
          <p:nvPr/>
        </p:nvSpPr>
        <p:spPr>
          <a:xfrm>
            <a:off x="5004720" y="5423040"/>
            <a:ext cx="229644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m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_LOW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PL_Send(linkID,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Cold!”,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"/>
          <p:cNvSpPr/>
          <p:nvPr/>
        </p:nvSpPr>
        <p:spPr>
          <a:xfrm>
            <a:off x="4662360" y="6058080"/>
            <a:ext cx="2383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3"/>
          <p:cNvSpPr/>
          <p:nvPr/>
        </p:nvSpPr>
        <p:spPr>
          <a:xfrm>
            <a:off x="317520" y="3692520"/>
            <a:ext cx="8483760" cy="533520"/>
          </a:xfrm>
          <a:prstGeom prst="pie">
            <a:avLst/>
          </a:prstGeom>
          <a:solidFill>
            <a:srgbClr val="a7d3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303120" y="3678120"/>
            <a:ext cx="8512200" cy="561960"/>
          </a:xfrm>
          <a:prstGeom prst="pie">
            <a:avLst/>
          </a:prstGeom>
          <a:noFill/>
          <a:ln w="25560">
            <a:solidFill>
              <a:srgbClr val="77a6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"/>
          <p:cNvSpPr/>
          <p:nvPr/>
        </p:nvSpPr>
        <p:spPr>
          <a:xfrm>
            <a:off x="331560" y="368280"/>
            <a:ext cx="12686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"/>
          <p:cNvSpPr/>
          <p:nvPr/>
        </p:nvSpPr>
        <p:spPr>
          <a:xfrm>
            <a:off x="806400" y="1587600"/>
            <a:ext cx="7874280" cy="46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2"/>
          <a:stretch/>
        </p:blipFill>
        <p:spPr>
          <a:xfrm>
            <a:off x="291960" y="1143000"/>
            <a:ext cx="8458200" cy="1257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495360" y="2463840"/>
            <a:ext cx="317520" cy="596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4"/>
          <a:stretch/>
        </p:blipFill>
        <p:spPr>
          <a:xfrm>
            <a:off x="838080" y="2463840"/>
            <a:ext cx="4229280" cy="3175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449640" y="368280"/>
            <a:ext cx="250452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cke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371880" y="3111480"/>
            <a:ext cx="19864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mb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"/>
          <p:cNvSpPr/>
          <p:nvPr/>
        </p:nvSpPr>
        <p:spPr>
          <a:xfrm>
            <a:off x="347760" y="3556080"/>
            <a:ext cx="1552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"/>
          <p:cNvSpPr/>
          <p:nvPr/>
        </p:nvSpPr>
        <p:spPr>
          <a:xfrm>
            <a:off x="378000" y="4013280"/>
            <a:ext cx="2253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"/>
          <p:cNvSpPr/>
          <p:nvPr/>
        </p:nvSpPr>
        <p:spPr>
          <a:xfrm>
            <a:off x="329400" y="4470480"/>
            <a:ext cx="9288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t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"/>
          <p:cNvSpPr/>
          <p:nvPr/>
        </p:nvSpPr>
        <p:spPr>
          <a:xfrm>
            <a:off x="329400" y="4915080"/>
            <a:ext cx="9288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c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"/>
          <p:cNvSpPr/>
          <p:nvPr/>
        </p:nvSpPr>
        <p:spPr>
          <a:xfrm>
            <a:off x="380880" y="5372280"/>
            <a:ext cx="22608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"/>
          <p:cNvSpPr/>
          <p:nvPr/>
        </p:nvSpPr>
        <p:spPr>
          <a:xfrm>
            <a:off x="351360" y="5816520"/>
            <a:ext cx="21801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"/>
          <p:cNvSpPr/>
          <p:nvPr/>
        </p:nvSpPr>
        <p:spPr>
          <a:xfrm>
            <a:off x="4581720" y="3111480"/>
            <a:ext cx="36511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tid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"/>
          <p:cNvSpPr/>
          <p:nvPr/>
        </p:nvSpPr>
        <p:spPr>
          <a:xfrm>
            <a:off x="4541760" y="3568680"/>
            <a:ext cx="36928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ld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/11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4731480" y="3848040"/>
            <a:ext cx="16239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di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"/>
          <p:cNvSpPr/>
          <p:nvPr/>
        </p:nvSpPr>
        <p:spPr>
          <a:xfrm>
            <a:off x="4469760" y="4292640"/>
            <a:ext cx="1893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8553240" y="6134040"/>
            <a:ext cx="89280" cy="1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3"/>
          <p:cNvSpPr/>
          <p:nvPr/>
        </p:nvSpPr>
        <p:spPr>
          <a:xfrm>
            <a:off x="317520" y="1444680"/>
            <a:ext cx="8483760" cy="533520"/>
          </a:xfrm>
          <a:prstGeom prst="pie">
            <a:avLst/>
          </a:prstGeom>
          <a:solidFill>
            <a:srgbClr val="a7d3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303120" y="1430280"/>
            <a:ext cx="8512200" cy="561960"/>
          </a:xfrm>
          <a:prstGeom prst="pie">
            <a:avLst/>
          </a:prstGeom>
          <a:noFill/>
          <a:ln w="25560">
            <a:solidFill>
              <a:srgbClr val="77a6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331560" y="368280"/>
            <a:ext cx="12686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702000" y="1587600"/>
            <a:ext cx="7995240" cy="46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reeform 3"/>
          <p:cNvSpPr/>
          <p:nvPr/>
        </p:nvSpPr>
        <p:spPr>
          <a:xfrm>
            <a:off x="2395440" y="3218040"/>
            <a:ext cx="470160" cy="312480"/>
          </a:xfrm>
          <a:prstGeom prst="pie">
            <a:avLst/>
          </a:prstGeom>
          <a:solidFill>
            <a:srgbClr val="e8eef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2389320" y="3211560"/>
            <a:ext cx="482400" cy="325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1071720" y="3218040"/>
            <a:ext cx="469800" cy="312480"/>
          </a:xfrm>
          <a:prstGeom prst="pie">
            <a:avLst/>
          </a:prstGeom>
          <a:solidFill>
            <a:srgbClr val="e8eef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1065240" y="3211560"/>
            <a:ext cx="482400" cy="325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623960" y="3257640"/>
            <a:ext cx="790560" cy="7308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1541520" y="3208320"/>
            <a:ext cx="133200" cy="13320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1623960" y="3427560"/>
            <a:ext cx="790560" cy="7452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541520" y="3378240"/>
            <a:ext cx="133200" cy="135000"/>
          </a:xfrm>
          <a:prstGeom prst="pie">
            <a:avLst/>
          </a:prstGeom>
          <a:solidFill>
            <a:srgbClr val="0000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2470320" y="4753080"/>
            <a:ext cx="549000" cy="550800"/>
          </a:xfrm>
          <a:prstGeom prst="pie">
            <a:avLst/>
          </a:prstGeom>
          <a:solidFill>
            <a:srgbClr val="e8eef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"/>
          <p:cNvSpPr/>
          <p:nvPr/>
        </p:nvSpPr>
        <p:spPr>
          <a:xfrm>
            <a:off x="2463840" y="4746600"/>
            <a:ext cx="561960" cy="5637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"/>
          <p:cNvSpPr/>
          <p:nvPr/>
        </p:nvSpPr>
        <p:spPr>
          <a:xfrm>
            <a:off x="1612800" y="5427720"/>
            <a:ext cx="463680" cy="309600"/>
          </a:xfrm>
          <a:prstGeom prst="pie">
            <a:avLst/>
          </a:prstGeom>
          <a:solidFill>
            <a:srgbClr val="e8eef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1606680" y="5421240"/>
            <a:ext cx="476280" cy="3222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3"/>
          <p:cNvSpPr/>
          <p:nvPr/>
        </p:nvSpPr>
        <p:spPr>
          <a:xfrm>
            <a:off x="1527120" y="4346640"/>
            <a:ext cx="432000" cy="288720"/>
          </a:xfrm>
          <a:prstGeom prst="pie">
            <a:avLst/>
          </a:prstGeom>
          <a:solidFill>
            <a:srgbClr val="e8eef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3"/>
          <p:cNvSpPr/>
          <p:nvPr/>
        </p:nvSpPr>
        <p:spPr>
          <a:xfrm>
            <a:off x="1521000" y="4340160"/>
            <a:ext cx="444240" cy="30168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3"/>
          <p:cNvSpPr/>
          <p:nvPr/>
        </p:nvSpPr>
        <p:spPr>
          <a:xfrm>
            <a:off x="1725480" y="4618080"/>
            <a:ext cx="123840" cy="73332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3"/>
          <p:cNvSpPr/>
          <p:nvPr/>
        </p:nvSpPr>
        <p:spPr>
          <a:xfrm>
            <a:off x="1768320" y="5297400"/>
            <a:ext cx="122400" cy="13032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1906560" y="5010120"/>
            <a:ext cx="581040" cy="38412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3"/>
          <p:cNvSpPr/>
          <p:nvPr/>
        </p:nvSpPr>
        <p:spPr>
          <a:xfrm>
            <a:off x="1844640" y="5308560"/>
            <a:ext cx="136440" cy="119160"/>
          </a:xfrm>
          <a:prstGeom prst="pie">
            <a:avLst/>
          </a:prstGeom>
          <a:solidFill>
            <a:srgbClr val="0000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3"/>
          <p:cNvSpPr/>
          <p:nvPr/>
        </p:nvSpPr>
        <p:spPr>
          <a:xfrm>
            <a:off x="1725480" y="4618080"/>
            <a:ext cx="679680" cy="38268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3"/>
          <p:cNvSpPr/>
          <p:nvPr/>
        </p:nvSpPr>
        <p:spPr>
          <a:xfrm>
            <a:off x="2332080" y="4915080"/>
            <a:ext cx="138240" cy="112680"/>
          </a:xfrm>
          <a:prstGeom prst="pie">
            <a:avLst/>
          </a:prstGeom>
          <a:solidFill>
            <a:srgbClr val="0000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3"/>
          <p:cNvSpPr/>
          <p:nvPr/>
        </p:nvSpPr>
        <p:spPr>
          <a:xfrm>
            <a:off x="2070000" y="5264280"/>
            <a:ext cx="449280" cy="323640"/>
          </a:xfrm>
          <a:prstGeom prst="pie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3"/>
          <p:cNvSpPr/>
          <p:nvPr/>
        </p:nvSpPr>
        <p:spPr>
          <a:xfrm>
            <a:off x="2473200" y="5234040"/>
            <a:ext cx="88920" cy="81000"/>
          </a:xfrm>
          <a:prstGeom prst="pie">
            <a:avLst/>
          </a:prstGeom>
          <a:solidFill>
            <a:srgbClr val="0000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3"/>
          <p:cNvSpPr/>
          <p:nvPr/>
        </p:nvSpPr>
        <p:spPr>
          <a:xfrm>
            <a:off x="2243160" y="5356080"/>
            <a:ext cx="146160" cy="1047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3"/>
          <p:cNvSpPr/>
          <p:nvPr/>
        </p:nvSpPr>
        <p:spPr>
          <a:xfrm>
            <a:off x="6310440" y="2897280"/>
            <a:ext cx="477720" cy="455400"/>
          </a:xfrm>
          <a:prstGeom prst="pie">
            <a:avLst/>
          </a:prstGeom>
          <a:solidFill>
            <a:srgbClr val="e8eef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3"/>
          <p:cNvSpPr/>
          <p:nvPr/>
        </p:nvSpPr>
        <p:spPr>
          <a:xfrm>
            <a:off x="6303960" y="2890800"/>
            <a:ext cx="490680" cy="4683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"/>
          <p:cNvSpPr/>
          <p:nvPr/>
        </p:nvSpPr>
        <p:spPr>
          <a:xfrm>
            <a:off x="4954680" y="3075120"/>
            <a:ext cx="417600" cy="277560"/>
          </a:xfrm>
          <a:prstGeom prst="pie">
            <a:avLst/>
          </a:prstGeom>
          <a:solidFill>
            <a:srgbClr val="e8eef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"/>
          <p:cNvSpPr/>
          <p:nvPr/>
        </p:nvSpPr>
        <p:spPr>
          <a:xfrm>
            <a:off x="4948200" y="3068640"/>
            <a:ext cx="430200" cy="2905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"/>
          <p:cNvSpPr/>
          <p:nvPr/>
        </p:nvSpPr>
        <p:spPr>
          <a:xfrm>
            <a:off x="7554960" y="3808440"/>
            <a:ext cx="417600" cy="277920"/>
          </a:xfrm>
          <a:prstGeom prst="pie">
            <a:avLst/>
          </a:prstGeom>
          <a:solidFill>
            <a:srgbClr val="e8eef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"/>
          <p:cNvSpPr/>
          <p:nvPr/>
        </p:nvSpPr>
        <p:spPr>
          <a:xfrm>
            <a:off x="7548480" y="3801960"/>
            <a:ext cx="430200" cy="2905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5146560" y="3336840"/>
            <a:ext cx="2338560" cy="60480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7426440" y="3860640"/>
            <a:ext cx="128520" cy="11592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5356080" y="3182760"/>
            <a:ext cx="920880" cy="4788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"/>
          <p:cNvSpPr/>
          <p:nvPr/>
        </p:nvSpPr>
        <p:spPr>
          <a:xfrm>
            <a:off x="6230880" y="3139920"/>
            <a:ext cx="120600" cy="119160"/>
          </a:xfrm>
          <a:prstGeom prst="pie">
            <a:avLst/>
          </a:prstGeom>
          <a:solidFill>
            <a:srgbClr val="0000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6732720" y="3181320"/>
            <a:ext cx="772920" cy="72252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3"/>
          <p:cNvSpPr/>
          <p:nvPr/>
        </p:nvSpPr>
        <p:spPr>
          <a:xfrm>
            <a:off x="7427880" y="3822840"/>
            <a:ext cx="127080" cy="125280"/>
          </a:xfrm>
          <a:prstGeom prst="pie">
            <a:avLst/>
          </a:prstGeom>
          <a:solidFill>
            <a:srgbClr val="0000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7539120" y="1650960"/>
            <a:ext cx="955440" cy="7956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7539120" y="1400040"/>
            <a:ext cx="955440" cy="7956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7551720" y="1936800"/>
            <a:ext cx="932040" cy="30240"/>
          </a:xfrm>
          <a:prstGeom prst="pie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5705640" y="4573440"/>
            <a:ext cx="480960" cy="459000"/>
          </a:xfrm>
          <a:prstGeom prst="pie">
            <a:avLst/>
          </a:prstGeom>
          <a:solidFill>
            <a:srgbClr val="e8eef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5699160" y="4567320"/>
            <a:ext cx="493560" cy="4712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4344840" y="4751280"/>
            <a:ext cx="420840" cy="281160"/>
          </a:xfrm>
          <a:prstGeom prst="pie">
            <a:avLst/>
          </a:prstGeom>
          <a:solidFill>
            <a:srgbClr val="e8eef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3"/>
          <p:cNvSpPr/>
          <p:nvPr/>
        </p:nvSpPr>
        <p:spPr>
          <a:xfrm>
            <a:off x="4338720" y="4745160"/>
            <a:ext cx="433440" cy="2934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3"/>
          <p:cNvSpPr/>
          <p:nvPr/>
        </p:nvSpPr>
        <p:spPr>
          <a:xfrm>
            <a:off x="8080200" y="5540400"/>
            <a:ext cx="419400" cy="279360"/>
          </a:xfrm>
          <a:prstGeom prst="pie">
            <a:avLst/>
          </a:prstGeom>
          <a:solidFill>
            <a:srgbClr val="e8eef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3"/>
          <p:cNvSpPr/>
          <p:nvPr/>
        </p:nvSpPr>
        <p:spPr>
          <a:xfrm>
            <a:off x="8074080" y="5533920"/>
            <a:ext cx="431640" cy="292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4538520" y="5014800"/>
            <a:ext cx="3468960" cy="66528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"/>
          <p:cNvSpPr/>
          <p:nvPr/>
        </p:nvSpPr>
        <p:spPr>
          <a:xfrm>
            <a:off x="7951680" y="5600880"/>
            <a:ext cx="128520" cy="11736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4748040" y="4861080"/>
            <a:ext cx="925560" cy="4752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5626080" y="4818240"/>
            <a:ext cx="120600" cy="120600"/>
          </a:xfrm>
          <a:prstGeom prst="pie">
            <a:avLst/>
          </a:prstGeom>
          <a:solidFill>
            <a:srgbClr val="0000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3"/>
          <p:cNvSpPr/>
          <p:nvPr/>
        </p:nvSpPr>
        <p:spPr>
          <a:xfrm>
            <a:off x="6127920" y="4859280"/>
            <a:ext cx="849240" cy="4752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"/>
          <p:cNvSpPr/>
          <p:nvPr/>
        </p:nvSpPr>
        <p:spPr>
          <a:xfrm>
            <a:off x="6931080" y="4829040"/>
            <a:ext cx="120600" cy="120960"/>
          </a:xfrm>
          <a:prstGeom prst="pie">
            <a:avLst/>
          </a:prstGeom>
          <a:solidFill>
            <a:srgbClr val="0000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7051680" y="4624560"/>
            <a:ext cx="533520" cy="534960"/>
          </a:xfrm>
          <a:prstGeom prst="pie">
            <a:avLst/>
          </a:prstGeom>
          <a:solidFill>
            <a:srgbClr val="e8eef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"/>
          <p:cNvSpPr/>
          <p:nvPr/>
        </p:nvSpPr>
        <p:spPr>
          <a:xfrm>
            <a:off x="7045200" y="4618080"/>
            <a:ext cx="546120" cy="5475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7567560" y="4875120"/>
            <a:ext cx="671400" cy="62064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"/>
          <p:cNvSpPr/>
          <p:nvPr/>
        </p:nvSpPr>
        <p:spPr>
          <a:xfrm>
            <a:off x="8161200" y="5416560"/>
            <a:ext cx="128880" cy="123840"/>
          </a:xfrm>
          <a:prstGeom prst="pie">
            <a:avLst/>
          </a:prstGeom>
          <a:solidFill>
            <a:srgbClr val="0000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3"/>
          <p:cNvSpPr/>
          <p:nvPr/>
        </p:nvSpPr>
        <p:spPr>
          <a:xfrm>
            <a:off x="7562880" y="5092560"/>
            <a:ext cx="523800" cy="454320"/>
          </a:xfrm>
          <a:prstGeom prst="pie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3"/>
          <p:cNvSpPr/>
          <p:nvPr/>
        </p:nvSpPr>
        <p:spPr>
          <a:xfrm>
            <a:off x="7524720" y="5059440"/>
            <a:ext cx="85680" cy="82440"/>
          </a:xfrm>
          <a:prstGeom prst="pie">
            <a:avLst/>
          </a:prstGeom>
          <a:solidFill>
            <a:srgbClr val="0000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3"/>
          <p:cNvSpPr/>
          <p:nvPr/>
        </p:nvSpPr>
        <p:spPr>
          <a:xfrm>
            <a:off x="7729560" y="5249880"/>
            <a:ext cx="141120" cy="1015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"/>
          <p:cNvPicPr/>
          <p:nvPr/>
        </p:nvPicPr>
        <p:blipFill>
          <a:blip r:embed="rId2"/>
          <a:stretch/>
        </p:blipFill>
        <p:spPr>
          <a:xfrm>
            <a:off x="6934320" y="1359000"/>
            <a:ext cx="571320" cy="215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3"/>
          <a:stretch/>
        </p:blipFill>
        <p:spPr>
          <a:xfrm>
            <a:off x="6997680" y="1625760"/>
            <a:ext cx="444600" cy="2156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4"/>
          <a:stretch/>
        </p:blipFill>
        <p:spPr>
          <a:xfrm>
            <a:off x="6896160" y="184140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"/>
          <p:cNvPicPr/>
          <p:nvPr/>
        </p:nvPicPr>
        <p:blipFill>
          <a:blip r:embed="rId5"/>
          <a:stretch/>
        </p:blipFill>
        <p:spPr>
          <a:xfrm>
            <a:off x="1638360" y="4444920"/>
            <a:ext cx="139680" cy="393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6"/>
          <a:stretch/>
        </p:blipFill>
        <p:spPr>
          <a:xfrm>
            <a:off x="1790640" y="4444920"/>
            <a:ext cx="50760" cy="393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7"/>
          <a:stretch/>
        </p:blipFill>
        <p:spPr>
          <a:xfrm>
            <a:off x="1663560" y="5473800"/>
            <a:ext cx="368280" cy="5205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" descr=""/>
          <p:cNvPicPr/>
          <p:nvPr/>
        </p:nvPicPr>
        <p:blipFill>
          <a:blip r:embed="rId8"/>
          <a:stretch/>
        </p:blipFill>
        <p:spPr>
          <a:xfrm>
            <a:off x="2235240" y="5359320"/>
            <a:ext cx="165240" cy="406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9"/>
          <a:stretch/>
        </p:blipFill>
        <p:spPr>
          <a:xfrm>
            <a:off x="2666880" y="4978440"/>
            <a:ext cx="152640" cy="4064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10"/>
          <a:stretch/>
        </p:blipFill>
        <p:spPr>
          <a:xfrm>
            <a:off x="4457880" y="4838760"/>
            <a:ext cx="126720" cy="3934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11"/>
          <a:stretch/>
        </p:blipFill>
        <p:spPr>
          <a:xfrm>
            <a:off x="4597560" y="4838760"/>
            <a:ext cx="50760" cy="393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12"/>
          <a:stretch/>
        </p:blipFill>
        <p:spPr>
          <a:xfrm>
            <a:off x="5880240" y="4749840"/>
            <a:ext cx="139680" cy="393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13"/>
          <a:stretch/>
        </p:blipFill>
        <p:spPr>
          <a:xfrm>
            <a:off x="7251840" y="4838760"/>
            <a:ext cx="139680" cy="3934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14"/>
          <a:stretch/>
        </p:blipFill>
        <p:spPr>
          <a:xfrm>
            <a:off x="7721640" y="5257800"/>
            <a:ext cx="165240" cy="393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15"/>
          <a:stretch/>
        </p:blipFill>
        <p:spPr>
          <a:xfrm>
            <a:off x="8115480" y="5575320"/>
            <a:ext cx="342720" cy="495360"/>
          </a:xfrm>
          <a:prstGeom prst="rect">
            <a:avLst/>
          </a:prstGeom>
          <a:ln w="0">
            <a:noFill/>
          </a:ln>
        </p:spPr>
      </p:pic>
      <p:sp>
        <p:nvSpPr>
          <p:cNvPr id="356" name="TextBox 1"/>
          <p:cNvSpPr/>
          <p:nvPr/>
        </p:nvSpPr>
        <p:spPr>
          <a:xfrm>
            <a:off x="2523240" y="3327480"/>
            <a:ext cx="18540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"/>
          <p:cNvSpPr/>
          <p:nvPr/>
        </p:nvSpPr>
        <p:spPr>
          <a:xfrm>
            <a:off x="1202760" y="3327480"/>
            <a:ext cx="18540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"/>
          <p:cNvSpPr/>
          <p:nvPr/>
        </p:nvSpPr>
        <p:spPr>
          <a:xfrm>
            <a:off x="541440" y="1079640"/>
            <a:ext cx="60544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343080"/>
                <a:tab algn="l" pos="4533840"/>
                <a:tab algn="l" pos="5956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343080"/>
                <a:tab algn="l" pos="4533840"/>
                <a:tab algn="l" pos="5956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al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343080"/>
                <a:tab algn="l" pos="4533840"/>
                <a:tab algn="l" pos="5956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33840"/>
                <a:tab algn="l" pos="5956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343080"/>
                <a:tab algn="l" pos="4533840"/>
                <a:tab algn="l" pos="5956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F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rv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33840"/>
                <a:tab algn="l" pos="5956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343080"/>
                <a:tab algn="l" pos="4533840"/>
                <a:tab algn="l" pos="5956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33840"/>
                <a:tab algn="l" pos="5956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343080"/>
                <a:tab algn="l" pos="4533840"/>
                <a:tab algn="l" pos="5956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8"/>
              </a:lnSpc>
              <a:tabLst>
                <a:tab algn="l" pos="0"/>
                <a:tab algn="l" pos="343080"/>
                <a:tab algn="l" pos="4533840"/>
                <a:tab algn="l" pos="5956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"/>
          <p:cNvSpPr/>
          <p:nvPr/>
        </p:nvSpPr>
        <p:spPr>
          <a:xfrm>
            <a:off x="7666560" y="3911760"/>
            <a:ext cx="16092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"/>
          <p:cNvSpPr/>
          <p:nvPr/>
        </p:nvSpPr>
        <p:spPr>
          <a:xfrm>
            <a:off x="530280" y="5842080"/>
            <a:ext cx="45000" cy="1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"/>
          <p:cNvSpPr/>
          <p:nvPr/>
        </p:nvSpPr>
        <p:spPr>
          <a:xfrm>
            <a:off x="822960" y="5842080"/>
            <a:ext cx="1541520" cy="1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w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2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"/>
          <p:cNvSpPr/>
          <p:nvPr/>
        </p:nvSpPr>
        <p:spPr>
          <a:xfrm>
            <a:off x="758880" y="3645000"/>
            <a:ext cx="45000" cy="1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1037160" y="3645000"/>
            <a:ext cx="910440" cy="1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2-p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4949640" y="4025880"/>
            <a:ext cx="45000" cy="1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"/>
          <p:cNvSpPr/>
          <p:nvPr/>
        </p:nvSpPr>
        <p:spPr>
          <a:xfrm>
            <a:off x="5222160" y="4025880"/>
            <a:ext cx="1137600" cy="1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2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"/>
          <p:cNvSpPr/>
          <p:nvPr/>
        </p:nvSpPr>
        <p:spPr>
          <a:xfrm>
            <a:off x="4416480" y="5854680"/>
            <a:ext cx="45000" cy="1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"/>
          <p:cNvSpPr/>
          <p:nvPr/>
        </p:nvSpPr>
        <p:spPr>
          <a:xfrm>
            <a:off x="4732920" y="5854680"/>
            <a:ext cx="1951560" cy="1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w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2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"/>
          <p:cNvSpPr/>
          <p:nvPr/>
        </p:nvSpPr>
        <p:spPr>
          <a:xfrm>
            <a:off x="703440" y="368280"/>
            <a:ext cx="543852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dressin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muni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"/>
          <p:cNvSpPr/>
          <p:nvPr/>
        </p:nvSpPr>
        <p:spPr>
          <a:xfrm>
            <a:off x="8553240" y="6134040"/>
            <a:ext cx="89280" cy="1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371" name="TextBox 1"/>
          <p:cNvSpPr/>
          <p:nvPr/>
        </p:nvSpPr>
        <p:spPr>
          <a:xfrm>
            <a:off x="488520" y="368280"/>
            <a:ext cx="30484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ditiona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tai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"/>
          <p:cNvSpPr/>
          <p:nvPr/>
        </p:nvSpPr>
        <p:spPr>
          <a:xfrm>
            <a:off x="914040" y="1308240"/>
            <a:ext cx="773460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AR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CD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wk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pp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w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76453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reeform 3"/>
          <p:cNvSpPr/>
          <p:nvPr/>
        </p:nvSpPr>
        <p:spPr>
          <a:xfrm>
            <a:off x="317520" y="4251240"/>
            <a:ext cx="8483760" cy="533520"/>
          </a:xfrm>
          <a:prstGeom prst="pie">
            <a:avLst/>
          </a:prstGeom>
          <a:solidFill>
            <a:srgbClr val="a7d3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3"/>
          <p:cNvSpPr/>
          <p:nvPr/>
        </p:nvSpPr>
        <p:spPr>
          <a:xfrm>
            <a:off x="303120" y="4237200"/>
            <a:ext cx="8512200" cy="561960"/>
          </a:xfrm>
          <a:prstGeom prst="pie">
            <a:avLst/>
          </a:prstGeom>
          <a:noFill/>
          <a:ln w="25560">
            <a:solidFill>
              <a:srgbClr val="77a6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376" name="TextBox 1"/>
          <p:cNvSpPr/>
          <p:nvPr/>
        </p:nvSpPr>
        <p:spPr>
          <a:xfrm>
            <a:off x="331560" y="368280"/>
            <a:ext cx="12686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"/>
          <p:cNvSpPr/>
          <p:nvPr/>
        </p:nvSpPr>
        <p:spPr>
          <a:xfrm>
            <a:off x="806400" y="1574640"/>
            <a:ext cx="7874280" cy="46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495360" y="2819520"/>
            <a:ext cx="3225600" cy="26794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3"/>
          <a:stretch/>
        </p:blipFill>
        <p:spPr>
          <a:xfrm>
            <a:off x="3746520" y="2832120"/>
            <a:ext cx="4749840" cy="3327480"/>
          </a:xfrm>
          <a:prstGeom prst="rect">
            <a:avLst/>
          </a:prstGeom>
          <a:ln w="0">
            <a:noFill/>
          </a:ln>
        </p:spPr>
      </p:pic>
      <p:sp>
        <p:nvSpPr>
          <p:cNvPr id="381" name="TextBox 1"/>
          <p:cNvSpPr/>
          <p:nvPr/>
        </p:nvSpPr>
        <p:spPr>
          <a:xfrm>
            <a:off x="619560" y="1066680"/>
            <a:ext cx="4005720" cy="5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P-EXP430FG461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SP430FG4618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/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110x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343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2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"/>
          <p:cNvSpPr/>
          <p:nvPr/>
        </p:nvSpPr>
        <p:spPr>
          <a:xfrm>
            <a:off x="484200" y="2019240"/>
            <a:ext cx="2270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Z430RF-2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P430F2274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2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463320" y="368280"/>
            <a:ext cx="32007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rdw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ppor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"/>
          <p:cNvSpPr/>
          <p:nvPr/>
        </p:nvSpPr>
        <p:spPr>
          <a:xfrm>
            <a:off x="5374800" y="1193760"/>
            <a:ext cx="301680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2510-CC2511D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1111D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"/>
          <p:cNvSpPr/>
          <p:nvPr/>
        </p:nvSpPr>
        <p:spPr>
          <a:xfrm>
            <a:off x="5402520" y="2082960"/>
            <a:ext cx="322848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SP4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CC2420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24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"/>
          <p:cNvSpPr/>
          <p:nvPr/>
        </p:nvSpPr>
        <p:spPr>
          <a:xfrm>
            <a:off x="5270040" y="2717640"/>
            <a:ext cx="337860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25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reeform 3"/>
          <p:cNvSpPr/>
          <p:nvPr/>
        </p:nvSpPr>
        <p:spPr>
          <a:xfrm>
            <a:off x="317520" y="5038560"/>
            <a:ext cx="8483760" cy="533520"/>
          </a:xfrm>
          <a:prstGeom prst="pie">
            <a:avLst/>
          </a:prstGeom>
          <a:solidFill>
            <a:srgbClr val="a7d3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3"/>
          <p:cNvSpPr/>
          <p:nvPr/>
        </p:nvSpPr>
        <p:spPr>
          <a:xfrm>
            <a:off x="303120" y="5024520"/>
            <a:ext cx="8512200" cy="561960"/>
          </a:xfrm>
          <a:prstGeom prst="pie">
            <a:avLst/>
          </a:prstGeom>
          <a:noFill/>
          <a:ln w="25560">
            <a:solidFill>
              <a:srgbClr val="77a6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"/>
          <p:cNvSpPr/>
          <p:nvPr/>
        </p:nvSpPr>
        <p:spPr>
          <a:xfrm>
            <a:off x="331560" y="368280"/>
            <a:ext cx="12686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"/>
          <p:cNvSpPr/>
          <p:nvPr/>
        </p:nvSpPr>
        <p:spPr>
          <a:xfrm>
            <a:off x="806400" y="1600200"/>
            <a:ext cx="78742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77850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698400" y="1333440"/>
            <a:ext cx="7645680" cy="4533840"/>
          </a:xfrm>
          <a:prstGeom prst="rect">
            <a:avLst/>
          </a:prstGeom>
          <a:ln w="0">
            <a:noFill/>
          </a:ln>
        </p:spPr>
      </p:pic>
      <p:sp>
        <p:nvSpPr>
          <p:cNvPr id="394" name="TextBox 1"/>
          <p:cNvSpPr/>
          <p:nvPr/>
        </p:nvSpPr>
        <p:spPr>
          <a:xfrm>
            <a:off x="8553240" y="6134040"/>
            <a:ext cx="89280" cy="1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393120" y="228600"/>
            <a:ext cx="14868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"/>
          <p:cNvSpPr/>
          <p:nvPr/>
        </p:nvSpPr>
        <p:spPr>
          <a:xfrm>
            <a:off x="405360" y="635040"/>
            <a:ext cx="2783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rdwar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figu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2"/>
          <a:stretch/>
        </p:blipFill>
        <p:spPr>
          <a:xfrm>
            <a:off x="3708360" y="1434960"/>
            <a:ext cx="5105520" cy="3949920"/>
          </a:xfrm>
          <a:prstGeom prst="rect">
            <a:avLst/>
          </a:prstGeom>
          <a:ln w="0">
            <a:noFill/>
          </a:ln>
        </p:spPr>
      </p:pic>
      <p:sp>
        <p:nvSpPr>
          <p:cNvPr id="399" name="TextBox 1"/>
          <p:cNvSpPr/>
          <p:nvPr/>
        </p:nvSpPr>
        <p:spPr>
          <a:xfrm>
            <a:off x="8553240" y="6134040"/>
            <a:ext cx="89280" cy="1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"/>
          <p:cNvSpPr/>
          <p:nvPr/>
        </p:nvSpPr>
        <p:spPr>
          <a:xfrm>
            <a:off x="559800" y="228600"/>
            <a:ext cx="32238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velopmen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o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"/>
          <p:cNvSpPr/>
          <p:nvPr/>
        </p:nvSpPr>
        <p:spPr>
          <a:xfrm>
            <a:off x="385200" y="635040"/>
            <a:ext cx="1579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cke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niff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"/>
          <p:cNvSpPr/>
          <p:nvPr/>
        </p:nvSpPr>
        <p:spPr>
          <a:xfrm>
            <a:off x="574560" y="1434960"/>
            <a:ext cx="205128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"/>
          <p:cNvSpPr/>
          <p:nvPr/>
        </p:nvSpPr>
        <p:spPr>
          <a:xfrm>
            <a:off x="537840" y="1739880"/>
            <a:ext cx="20232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"/>
          <p:cNvSpPr/>
          <p:nvPr/>
        </p:nvSpPr>
        <p:spPr>
          <a:xfrm>
            <a:off x="579240" y="2044800"/>
            <a:ext cx="182628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"/>
          <p:cNvSpPr/>
          <p:nvPr/>
        </p:nvSpPr>
        <p:spPr>
          <a:xfrm>
            <a:off x="568440" y="2654280"/>
            <a:ext cx="22543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sec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"/>
          <p:cNvSpPr/>
          <p:nvPr/>
        </p:nvSpPr>
        <p:spPr>
          <a:xfrm>
            <a:off x="606600" y="2959200"/>
            <a:ext cx="23551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"/>
          <p:cNvSpPr/>
          <p:nvPr/>
        </p:nvSpPr>
        <p:spPr>
          <a:xfrm>
            <a:off x="646560" y="3568680"/>
            <a:ext cx="25927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"/>
          <p:cNvSpPr/>
          <p:nvPr/>
        </p:nvSpPr>
        <p:spPr>
          <a:xfrm>
            <a:off x="596880" y="3873600"/>
            <a:ext cx="28195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"/>
          <p:cNvSpPr/>
          <p:nvPr/>
        </p:nvSpPr>
        <p:spPr>
          <a:xfrm>
            <a:off x="549000" y="4178160"/>
            <a:ext cx="24703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"/>
          <p:cNvSpPr/>
          <p:nvPr/>
        </p:nvSpPr>
        <p:spPr>
          <a:xfrm>
            <a:off x="414720" y="4483080"/>
            <a:ext cx="3895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"/>
          <p:cNvSpPr/>
          <p:nvPr/>
        </p:nvSpPr>
        <p:spPr>
          <a:xfrm>
            <a:off x="524880" y="5092560"/>
            <a:ext cx="20743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ffic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"/>
          <p:cNvSpPr/>
          <p:nvPr/>
        </p:nvSpPr>
        <p:spPr>
          <a:xfrm>
            <a:off x="520920" y="5397480"/>
            <a:ext cx="242496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e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iff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"/>
          <p:cNvSpPr/>
          <p:nvPr/>
        </p:nvSpPr>
        <p:spPr>
          <a:xfrm>
            <a:off x="4752720" y="5626080"/>
            <a:ext cx="3054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iff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s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2"/>
          <a:stretch/>
        </p:blipFill>
        <p:spPr>
          <a:xfrm>
            <a:off x="736560" y="2692440"/>
            <a:ext cx="3556080" cy="2666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3"/>
          <a:stretch/>
        </p:blipFill>
        <p:spPr>
          <a:xfrm>
            <a:off x="5079960" y="2819520"/>
            <a:ext cx="3225960" cy="26924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"/>
          <p:cNvSpPr/>
          <p:nvPr/>
        </p:nvSpPr>
        <p:spPr>
          <a:xfrm>
            <a:off x="8553240" y="6134040"/>
            <a:ext cx="89280" cy="1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"/>
          <p:cNvSpPr/>
          <p:nvPr/>
        </p:nvSpPr>
        <p:spPr>
          <a:xfrm>
            <a:off x="527760" y="228600"/>
            <a:ext cx="37450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rren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sump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"/>
          <p:cNvSpPr/>
          <p:nvPr/>
        </p:nvSpPr>
        <p:spPr>
          <a:xfrm>
            <a:off x="515880" y="635040"/>
            <a:ext cx="350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stimat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asur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"/>
          <p:cNvSpPr/>
          <p:nvPr/>
        </p:nvSpPr>
        <p:spPr>
          <a:xfrm>
            <a:off x="870840" y="1054080"/>
            <a:ext cx="6233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elin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mptio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e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"/>
          <p:cNvSpPr/>
          <p:nvPr/>
        </p:nvSpPr>
        <p:spPr>
          <a:xfrm>
            <a:off x="571320" y="1320840"/>
            <a:ext cx="161316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"/>
          <p:cNvSpPr/>
          <p:nvPr/>
        </p:nvSpPr>
        <p:spPr>
          <a:xfrm>
            <a:off x="848520" y="1803240"/>
            <a:ext cx="519876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Z430-RF2500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"/>
          <p:cNvSpPr/>
          <p:nvPr/>
        </p:nvSpPr>
        <p:spPr>
          <a:xfrm>
            <a:off x="652680" y="2273400"/>
            <a:ext cx="36601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ttp://www.ti.com/litv/pdf/slaa378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reeform 3"/>
          <p:cNvSpPr/>
          <p:nvPr/>
        </p:nvSpPr>
        <p:spPr>
          <a:xfrm>
            <a:off x="647640" y="1562040"/>
            <a:ext cx="2409840" cy="43992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"/>
          <p:cNvSpPr/>
          <p:nvPr/>
        </p:nvSpPr>
        <p:spPr>
          <a:xfrm>
            <a:off x="3057480" y="1562040"/>
            <a:ext cx="2692440" cy="43992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"/>
          <p:cNvSpPr/>
          <p:nvPr/>
        </p:nvSpPr>
        <p:spPr>
          <a:xfrm>
            <a:off x="5749920" y="1562040"/>
            <a:ext cx="2692440" cy="43992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"/>
          <p:cNvSpPr/>
          <p:nvPr/>
        </p:nvSpPr>
        <p:spPr>
          <a:xfrm>
            <a:off x="641520" y="1555920"/>
            <a:ext cx="7807320" cy="252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"/>
          <p:cNvSpPr/>
          <p:nvPr/>
        </p:nvSpPr>
        <p:spPr>
          <a:xfrm>
            <a:off x="641520" y="4861080"/>
            <a:ext cx="7807320" cy="252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"/>
          <p:cNvSpPr/>
          <p:nvPr/>
        </p:nvSpPr>
        <p:spPr>
          <a:xfrm>
            <a:off x="641520" y="1555920"/>
            <a:ext cx="25200" cy="33177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"/>
          <p:cNvSpPr/>
          <p:nvPr/>
        </p:nvSpPr>
        <p:spPr>
          <a:xfrm>
            <a:off x="8435880" y="1555920"/>
            <a:ext cx="25560" cy="33177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"/>
          <p:cNvSpPr/>
          <p:nvPr/>
        </p:nvSpPr>
        <p:spPr>
          <a:xfrm>
            <a:off x="3051000" y="1555920"/>
            <a:ext cx="25560" cy="33177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"/>
          <p:cNvSpPr/>
          <p:nvPr/>
        </p:nvSpPr>
        <p:spPr>
          <a:xfrm>
            <a:off x="641520" y="1995480"/>
            <a:ext cx="7807320" cy="255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"/>
          <p:cNvSpPr/>
          <p:nvPr/>
        </p:nvSpPr>
        <p:spPr>
          <a:xfrm>
            <a:off x="641520" y="3719520"/>
            <a:ext cx="7807320" cy="255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"/>
          <p:cNvSpPr/>
          <p:nvPr/>
        </p:nvSpPr>
        <p:spPr>
          <a:xfrm>
            <a:off x="5743440" y="1555920"/>
            <a:ext cx="25560" cy="33177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436" name="TextBox 1"/>
          <p:cNvSpPr/>
          <p:nvPr/>
        </p:nvSpPr>
        <p:spPr>
          <a:xfrm>
            <a:off x="548280" y="368280"/>
            <a:ext cx="32468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vail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"/>
          <p:cNvSpPr/>
          <p:nvPr/>
        </p:nvSpPr>
        <p:spPr>
          <a:xfrm>
            <a:off x="811440" y="1778040"/>
            <a:ext cx="151380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Z430-RF2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"/>
          <p:cNvSpPr/>
          <p:nvPr/>
        </p:nvSpPr>
        <p:spPr>
          <a:xfrm>
            <a:off x="3312360" y="1778040"/>
            <a:ext cx="21128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-d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cad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l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emp.Sens network with P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gu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"/>
          <p:cNvSpPr/>
          <p:nvPr/>
        </p:nvSpPr>
        <p:spPr>
          <a:xfrm>
            <a:off x="5946120" y="1778040"/>
            <a:ext cx="18108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Z430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2500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"/>
          <p:cNvSpPr/>
          <p:nvPr/>
        </p:nvSpPr>
        <p:spPr>
          <a:xfrm>
            <a:off x="1968120" y="4241880"/>
            <a:ext cx="66805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3873600"/>
                <a:tab algn="l" pos="6591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pp.no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73600"/>
                <a:tab algn="l" pos="65912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73600"/>
                <a:tab algn="l" pos="65912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73600"/>
                <a:tab algn="l" pos="65912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73600"/>
                <a:tab algn="l" pos="65912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73600"/>
                <a:tab algn="l" pos="65912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73600"/>
                <a:tab algn="l" pos="65912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73600"/>
                <a:tab algn="l" pos="65912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73600"/>
                <a:tab algn="l" pos="65912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73600"/>
                <a:tab algn="l" pos="65912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3873600"/>
                <a:tab algn="l" pos="6591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ti.com/simplici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0"/>
                <a:tab algn="l" pos="3873600"/>
                <a:tab algn="l" pos="6591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470880" y="368280"/>
            <a:ext cx="33886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mpliciTI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322920" y="1371600"/>
            <a:ext cx="16909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663120" y="2070000"/>
            <a:ext cx="799524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ieta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w-po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/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2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ati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SP430+CC110x/25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1110/2510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1111/CC25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2430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25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leep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7950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6070680" y="2349360"/>
            <a:ext cx="2590560" cy="243864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501120" y="368280"/>
            <a:ext cx="30488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pplic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371160" y="1371600"/>
            <a:ext cx="25218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644400" y="2044800"/>
            <a:ext cx="800784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pa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s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s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s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ss-break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R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ers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ers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ers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ances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24120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3"/>
          <p:cNvSpPr/>
          <p:nvPr/>
        </p:nvSpPr>
        <p:spPr>
          <a:xfrm>
            <a:off x="317520" y="2006640"/>
            <a:ext cx="8483760" cy="533520"/>
          </a:xfrm>
          <a:prstGeom prst="pie">
            <a:avLst/>
          </a:prstGeom>
          <a:solidFill>
            <a:srgbClr val="a7d3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303120" y="1992240"/>
            <a:ext cx="8512200" cy="561960"/>
          </a:xfrm>
          <a:prstGeom prst="pie">
            <a:avLst/>
          </a:prstGeom>
          <a:noFill/>
          <a:ln w="25560">
            <a:solidFill>
              <a:srgbClr val="77a6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331560" y="368280"/>
            <a:ext cx="12686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803880" y="1574640"/>
            <a:ext cx="7893720" cy="46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2793960" y="1066680"/>
            <a:ext cx="5803920" cy="52452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8613360" y="6134040"/>
            <a:ext cx="45000" cy="1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428760" y="127080"/>
            <a:ext cx="558144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ahoma"/>
                <a:ea typeface="Tahoma"/>
              </a:rPr>
              <a:t>SimpliciT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ahoma"/>
                <a:ea typeface="Tahoma"/>
              </a:rPr>
              <a:t>Network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ahoma"/>
                <a:ea typeface="Tahoma"/>
              </a:rPr>
              <a:t>top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wireles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sensi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460080" y="1917720"/>
            <a:ext cx="144216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461520" y="2222640"/>
            <a:ext cx="16801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e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417600" y="2527200"/>
            <a:ext cx="93024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r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405000" y="3441600"/>
            <a:ext cx="120888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482040" y="3746520"/>
            <a:ext cx="174096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429480" y="4051440"/>
            <a:ext cx="121068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476280" y="4356000"/>
            <a:ext cx="172728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e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417600" y="4660920"/>
            <a:ext cx="93024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r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2336760" y="1257480"/>
            <a:ext cx="6426360" cy="4533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8613360" y="6134040"/>
            <a:ext cx="45000" cy="1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428760" y="127080"/>
            <a:ext cx="558144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ahoma"/>
                <a:ea typeface="Tahoma"/>
              </a:rPr>
              <a:t>SimpliciT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ahoma"/>
                <a:ea typeface="Tahoma"/>
              </a:rPr>
              <a:t>Network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ahoma"/>
                <a:ea typeface="Tahoma"/>
              </a:rPr>
              <a:t>top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Activ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R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ta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411480" y="1828800"/>
            <a:ext cx="158976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g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447480" y="2133720"/>
            <a:ext cx="221616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454680" y="2438280"/>
            <a:ext cx="1922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-ho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498240" y="3352680"/>
            <a:ext cx="21402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g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453600" y="3657600"/>
            <a:ext cx="18997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ly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412200" y="3962520"/>
            <a:ext cx="174096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437760" y="4267080"/>
            <a:ext cx="223596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ing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401400" y="4572000"/>
            <a:ext cx="130536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mp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3"/>
          <p:cNvSpPr/>
          <p:nvPr/>
        </p:nvSpPr>
        <p:spPr>
          <a:xfrm>
            <a:off x="368280" y="1035000"/>
            <a:ext cx="361800" cy="36216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361800" y="1028880"/>
            <a:ext cx="374760" cy="3744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4206960" y="1284120"/>
            <a:ext cx="3655800" cy="3656160"/>
          </a:xfrm>
          <a:prstGeom prst="pie">
            <a:avLst/>
          </a:prstGeom>
          <a:solidFill>
            <a:srgbClr val="c0c0c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1084320" y="2577960"/>
            <a:ext cx="3655800" cy="3656160"/>
          </a:xfrm>
          <a:prstGeom prst="pie">
            <a:avLst/>
          </a:prstGeom>
          <a:solidFill>
            <a:srgbClr val="c0c0c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1077840" y="2571840"/>
            <a:ext cx="3668760" cy="366876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2760840" y="2579760"/>
            <a:ext cx="3655800" cy="3655800"/>
          </a:xfrm>
          <a:prstGeom prst="pie">
            <a:avLst/>
          </a:prstGeom>
          <a:solidFill>
            <a:srgbClr val="eaeaea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4282920" y="4178160"/>
            <a:ext cx="547920" cy="5479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4276800" y="4172040"/>
            <a:ext cx="560160" cy="560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2530440" y="4178160"/>
            <a:ext cx="547560" cy="4874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2523960" y="4172040"/>
            <a:ext cx="560520" cy="5000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5654520" y="2959200"/>
            <a:ext cx="547920" cy="4874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5648400" y="2952720"/>
            <a:ext cx="560160" cy="5000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368280" y="1582560"/>
            <a:ext cx="384120" cy="34308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361800" y="1576440"/>
            <a:ext cx="397080" cy="35568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4664160" y="1968480"/>
            <a:ext cx="547560" cy="4874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4657680" y="1962000"/>
            <a:ext cx="560520" cy="5000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6797520" y="2273400"/>
            <a:ext cx="547920" cy="4874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6791400" y="2266920"/>
            <a:ext cx="560160" cy="5000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6721560" y="3720960"/>
            <a:ext cx="547560" cy="4874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6715080" y="3714840"/>
            <a:ext cx="560520" cy="5000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3902040" y="5397480"/>
            <a:ext cx="547560" cy="4874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3895560" y="5391000"/>
            <a:ext cx="560520" cy="5000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5502240" y="4635360"/>
            <a:ext cx="547560" cy="4874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5495760" y="4629240"/>
            <a:ext cx="560520" cy="5000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3368520" y="3187800"/>
            <a:ext cx="547920" cy="4874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3362400" y="3181320"/>
            <a:ext cx="560160" cy="5000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1920960" y="5397480"/>
            <a:ext cx="547560" cy="4874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1914480" y="5391000"/>
            <a:ext cx="560520" cy="5000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2073240" y="3035160"/>
            <a:ext cx="547560" cy="48744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2066760" y="3029040"/>
            <a:ext cx="560520" cy="5000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361800" y="2124000"/>
            <a:ext cx="397080" cy="35568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355680" y="2133720"/>
            <a:ext cx="406440" cy="355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3"/>
          <a:stretch/>
        </p:blipFill>
        <p:spPr>
          <a:xfrm>
            <a:off x="2184480" y="2438280"/>
            <a:ext cx="3479760" cy="297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4"/>
          <a:stretch/>
        </p:blipFill>
        <p:spPr>
          <a:xfrm>
            <a:off x="6184800" y="2502000"/>
            <a:ext cx="622440" cy="711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5"/>
          <a:stretch/>
        </p:blipFill>
        <p:spPr>
          <a:xfrm>
            <a:off x="5918040" y="3429000"/>
            <a:ext cx="812880" cy="546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6"/>
          <a:stretch/>
        </p:blipFill>
        <p:spPr>
          <a:xfrm>
            <a:off x="6946920" y="2743200"/>
            <a:ext cx="177840" cy="99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7"/>
          <a:stretch/>
        </p:blipFill>
        <p:spPr>
          <a:xfrm>
            <a:off x="6032520" y="4191120"/>
            <a:ext cx="977760" cy="698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8"/>
          <a:stretch/>
        </p:blipFill>
        <p:spPr>
          <a:xfrm>
            <a:off x="6095880" y="5651640"/>
            <a:ext cx="533520" cy="1015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428760" y="127080"/>
            <a:ext cx="558144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ahoma"/>
                <a:ea typeface="Tahoma"/>
              </a:rPr>
              <a:t>SimpliciT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ahoma"/>
                <a:ea typeface="Tahoma"/>
              </a:rPr>
              <a:t>Network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ahoma"/>
                <a:ea typeface="Tahoma"/>
              </a:rPr>
              <a:t>top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Smok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Detecto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Tahoma"/>
                <a:ea typeface="Tahoma"/>
              </a:rPr>
              <a:t>Syst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4529520" y="4343400"/>
            <a:ext cx="1105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4311720" y="4406760"/>
            <a:ext cx="482400" cy="1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2667960" y="4317840"/>
            <a:ext cx="252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5782320" y="3098880"/>
            <a:ext cx="2718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6708240" y="5638680"/>
            <a:ext cx="19501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od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m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6739200" y="5105520"/>
            <a:ext cx="17103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1231200" y="1117440"/>
            <a:ext cx="3823920" cy="11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2556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2556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2556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4804560" y="2235240"/>
            <a:ext cx="246240" cy="1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6925320" y="2413080"/>
            <a:ext cx="2718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4038120" y="5537160"/>
            <a:ext cx="255240" cy="1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4042440" y="5664240"/>
            <a:ext cx="246240" cy="1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5630040" y="4775040"/>
            <a:ext cx="2718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3504600" y="3327480"/>
            <a:ext cx="255240" cy="1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3521520" y="3454560"/>
            <a:ext cx="359892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332748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32748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32748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332748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332748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2056680" y="5537160"/>
            <a:ext cx="255240" cy="1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2061360" y="5664240"/>
            <a:ext cx="246240" cy="1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2201040" y="3174840"/>
            <a:ext cx="2718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1311480" y="2247840"/>
            <a:ext cx="16185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m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gger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3"/>
          <p:cNvSpPr/>
          <p:nvPr/>
        </p:nvSpPr>
        <p:spPr>
          <a:xfrm>
            <a:off x="317520" y="2577960"/>
            <a:ext cx="8483760" cy="533520"/>
          </a:xfrm>
          <a:prstGeom prst="pie">
            <a:avLst/>
          </a:prstGeom>
          <a:solidFill>
            <a:srgbClr val="a7d3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303120" y="2563920"/>
            <a:ext cx="8512200" cy="561960"/>
          </a:xfrm>
          <a:prstGeom prst="pie">
            <a:avLst/>
          </a:prstGeom>
          <a:noFill/>
          <a:ln w="25560">
            <a:solidFill>
              <a:srgbClr val="77a6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"/>
          <p:cNvSpPr/>
          <p:nvPr/>
        </p:nvSpPr>
        <p:spPr>
          <a:xfrm>
            <a:off x="331560" y="368280"/>
            <a:ext cx="12686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li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803880" y="1587600"/>
            <a:ext cx="7893720" cy="46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78487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0:54:32Z</dcterms:created>
  <dc:creator/>
  <dc:description/>
  <dc:language>en-US</dc:language>
  <cp:lastModifiedBy>Bruce Hemingway</cp:lastModifiedBy>
  <dcterms:modified xsi:type="dcterms:W3CDTF">2010-10-25T01:05:47Z</dcterms:modified>
  <cp:revision>7</cp:revision>
  <dc:subject/>
  <dc:title>Slide 1</dc:title>
</cp:coreProperties>
</file>