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353E-4EEA-4173-B861-CA696E1DA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8CC8-DCB9-4812-8561-E7079A25F63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F43-DAEE-41AA-AA5D-40459EAD447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C32-F08E-4437-83AA-9EC000BCBA3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21A-BF8C-4C08-A0A8-C4C9EA2C5DD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733-28B7-43D2-A4CE-2614AEE391E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BA88-FC58-4099-9489-8BADDC1B3C0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B6E1-F424-457D-92FA-DFCAB7AEEF4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BD3-6D9C-49C8-B219-7913FFF1130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371-F026-4624-9195-6B0CBC98270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B6F1-CE62-4F86-AF1F-220AA9BF717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2495-019F-4E3A-9E49-CD6ABC16356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51AE-42CB-49F1-A5FD-BFC857B7827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AF94-0A56-4116-98AA-67B35B62A85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E64-13D1-44C1-9C9F-702E00D1C75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EEA1-5756-4880-B687-D8F0D42180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9592-BF26-405B-AE9E-12C43A16185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908-F6CB-4FB4-9578-1B0FDDF9290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81D-92AE-4EE8-A35B-7B96309240A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096-622F-4E18-BFE1-FAEBBC19B81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5DD-B509-4EA2-8F9E-217218236D4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8338-B45D-40CE-A71C-E8E5989E81D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362-1706-48C1-B997-6E1219CE6AC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DE0D-5FD7-4178-A65C-F9D7092BBBF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020-2517-4B0C-844F-3EE0FCED41F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94F-06B0-4070-A1BA-987495016FF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32C-92AE-4C7D-AE59-BA41B3440E0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420-0DEA-4962-8B2F-ECAA5F7BCC0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467D-68C6-432E-84AA-3B3CEACE51F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346-86C2-49D4-8AC4-06AEF00E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AD0-5F1C-4E6B-8866-2AC2A05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874-FA3C-435D-959A-C842DE6A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C2C-6406-4D18-954C-ED2857E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011D-C75F-4C7D-A6E2-11F06C6B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E6E3-9B48-4877-8950-C0EBCF1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424-24C6-44A7-8854-5C0FCB7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B5B5-2365-448C-954D-6F391641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73C9-0018-4532-A366-BF0367A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9404-DCC0-45D6-BEA8-1024EA16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8884-9735-46A7-A4A6-C91C026F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091-FF50-42BD-823C-6040034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D1C1-CD0D-4EC5-9675-7E6868B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4169-B55B-4CE6-9FC8-FE3C0DC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16F2-D585-4F0D-AA76-F9ED12D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75C8-1B5F-4EFB-817F-22336F2C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7BFD-47F9-4AAD-B291-E0E2E67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8BA-446E-4CBB-8969-2083369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965-C4F4-43EA-8CE5-BA2B540C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26E-515F-44C9-B19A-8AD9740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895-A292-4E39-8490-DE1D65F3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3B3-D350-4E6C-A4C5-9982A368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927-1616-4725-82FF-0D4A1ED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31D-52EA-4D8E-9D32-DA0517E9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1CD1-EDB0-4FCC-ACCA-28CF38CC1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FC7-746E-4547-8819-A9F777CB5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gentsprep.org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114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olutionary Comput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6" descr="DNA2"/>
          <p:cNvPicPr/>
          <p:nvPr/>
        </p:nvPicPr>
        <p:blipFill>
          <a:blip r:embed="rId2"/>
          <a:stretch/>
        </p:blipFill>
        <p:spPr>
          <a:xfrm>
            <a:off x="4724280" y="76320"/>
            <a:ext cx="4287960" cy="6629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838080" y="3657600"/>
            <a:ext cx="381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lving problems with techniques inspired by biolog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hromosome"/>
          <p:cNvPicPr/>
          <p:nvPr/>
        </p:nvPicPr>
        <p:blipFill>
          <a:blip r:embed="rId2">
            <a:alphaModFix amt="76000"/>
          </a:blip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54040" y="-1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cc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3880" y="768240"/>
            <a:ext cx="843912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key to understanding evolution in nature lies in the basic biology of reproduction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chromosom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basic carrier of the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which are the units of the genetic code that control an individual’s characteristics. Each gene can take on one of a number of possible forms, called an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llele</a:t>
            </a:r>
            <a:br>
              <a:rPr sz="2000"/>
            </a:br>
            <a:r>
              <a:rPr b="0" lang="en-US" sz="1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n allele is like the value of a variable, and represents the effect that a gene will have on the physical makeup of a body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n individual’s particular sequence of alleles is called the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genotyp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and it determines the expression of characteristics in the individual’s body, called the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henotyp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humans, most cells contain 23 pairs of chromosomes. But reproductive cells (sperm and ova) contain 23 single chromosomes, because they must merge with their opposite number to produce a new offspring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uring fertilization of the ova by the sperm, the chromosomes from each recombine to form the 23 pairs of the new individu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54040" y="-1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2920" y="4498920"/>
            <a:ext cx="8439120" cy="209232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ion operates as survival and choice of mates between parent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Recombination of genes is the mechanism that generates the next generation’s characteristics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ometimes random copying errors, called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mutation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, occur during the recombination process. These are also important because they lead to new characteristics, usually useless, occasionally adaptiv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568480" y="40384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ecff"/>
                </a:solidFill>
                <a:latin typeface="Arial"/>
              </a:rPr>
              <a:t>Image: </a:t>
            </a:r>
            <a:r>
              <a:rPr b="0" lang="en-US" sz="9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Osvego City School District Regents Exam Prep Center</a:t>
            </a: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41" name="Picture 5" descr="crossover"/>
          <p:cNvPicPr/>
          <p:nvPr/>
        </p:nvPicPr>
        <p:blipFill>
          <a:blip r:embed="rId3"/>
          <a:srcRect l="0" t="0" r="0" b="15400"/>
          <a:stretch/>
        </p:blipFill>
        <p:spPr>
          <a:xfrm>
            <a:off x="1600200" y="1295280"/>
            <a:ext cx="4562640" cy="3105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rossingover"/>
          <p:cNvPicPr/>
          <p:nvPr/>
        </p:nvPicPr>
        <p:blipFill>
          <a:blip r:embed="rId4"/>
          <a:stretch/>
        </p:blipFill>
        <p:spPr>
          <a:xfrm>
            <a:off x="6629400" y="1828800"/>
            <a:ext cx="16272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5404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"/>
              </a:rPr>
              <a:t>Evolutionary Comput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Evolutionary computation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simulates evolution on a computer. The result of such a simulation is a series of optimisation algorithms, usually based on a simple set of characteristics – the equivalent of genom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Recall that optimisation iteratively improves the quality of solutions to some problem until an optimal (or at least feasible) solution is found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Evolutionary computation is an umbrella term that includes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genetic algorithms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Holland, 1975)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 ,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evolution strategies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Schwefel, 1981) and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genetic programming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Koza, 1994)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-life researchers frequently experiment with populations of organisms put into artificial competition and subjected to the laws of natural selec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Darwinian Evol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Survival of the fittes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Selection on phenotyp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Through environmen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Genotypic inheritanc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Blind var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965600" cy="1987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4343400" y="4114800"/>
            <a:ext cx="14191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ffff"/>
                </a:solidFill>
                <a:latin typeface="Arial"/>
              </a:rPr>
              <a:t>Darwinian Evolution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335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ur Postulates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980640" indent="-513720">
              <a:spcBef>
                <a:spcPts val="499"/>
              </a:spcBef>
              <a:buClr>
                <a:srgbClr val="0066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Individuals within species are variabl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80640" indent="-513720">
              <a:spcBef>
                <a:spcPts val="499"/>
              </a:spcBef>
              <a:buClr>
                <a:srgbClr val="0066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Some of the variations are passed on to offspring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80640" indent="-513720">
              <a:spcBef>
                <a:spcPts val="499"/>
              </a:spcBef>
              <a:buClr>
                <a:srgbClr val="0066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In every generation, more offspring are produced than can surviv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80640" indent="-513720">
              <a:spcBef>
                <a:spcPts val="451"/>
              </a:spcBef>
              <a:buClr>
                <a:srgbClr val="0066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The survival and reproduction of individuals are not random: The individuals who survive and go on to reproduce, or who reproduce the most, are those with the most favourable variations. They are naturally selected.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980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On the Origin of Species by Means of Natural Selection (Darwin 1859)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191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ffff"/>
                </a:solidFill>
                <a:latin typeface="Arial"/>
              </a:rPr>
              <a:t>Nature of Natural Selection </a:t>
            </a:r>
            <a:br>
              <a:rPr sz="4000"/>
            </a:br>
            <a:r>
              <a:rPr b="1" lang="en-US" sz="1400" spc="-1" strike="noStrike">
                <a:solidFill>
                  <a:srgbClr val="ccffff"/>
                </a:solidFill>
                <a:latin typeface="Arial"/>
              </a:rPr>
              <a:t>Based on "Evolutionary Analysis (Freeman &amp; Herron, 2001)"</a:t>
            </a:r>
            <a:br>
              <a:rPr sz="1400"/>
            </a:b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Natural Evolution acts.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On Individuals, but the Consequences occur in the popul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On Individuals, not group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On Phenotypes, but evolution consist of changes in the Genotyp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On existing traits, but can produce new traits</a:t>
            </a:r>
            <a:br>
              <a:rPr sz="2000"/>
            </a:b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Evolution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Is backward looking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Is not perfec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Is nonrando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Is not progressiv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ffff"/>
                </a:solidFill>
                <a:latin typeface="Arial"/>
              </a:rPr>
              <a:t>Evolutionary Algorithm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Algorithms that are inspired by natural evolu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Four Main Element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Group of Individuals - </a:t>
            </a:r>
            <a:r>
              <a:rPr b="0" i="1" lang="it-IT" sz="2000" spc="-1" strike="noStrike">
                <a:solidFill>
                  <a:srgbClr val="ccecff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Source of Variation - </a:t>
            </a:r>
            <a:r>
              <a:rPr b="0" i="1" lang="it-IT" sz="2000" spc="-1" strike="noStrike">
                <a:solidFill>
                  <a:srgbClr val="ccecff"/>
                </a:solidFill>
                <a:latin typeface="Arial"/>
              </a:rPr>
              <a:t>Genetic Operator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Reproductive Fitness - </a:t>
            </a:r>
            <a:r>
              <a:rPr b="0" i="1" lang="it-IT" sz="2000" spc="-1" strike="noStrike">
                <a:solidFill>
                  <a:srgbClr val="ccecff"/>
                </a:solidFill>
                <a:latin typeface="Arial"/>
              </a:rPr>
              <a:t>Fitnes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Survival of the Fittest - </a:t>
            </a:r>
            <a:r>
              <a:rPr b="0" i="1" lang="it-IT" sz="2000" spc="-1" strike="noStrike">
                <a:solidFill>
                  <a:srgbClr val="ccecff"/>
                </a:solidFill>
                <a:latin typeface="Arial"/>
              </a:rPr>
              <a:t>Selec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Search Proces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Trial and Erro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907920" indent="-436320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Recipe for chosing next tri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volution Mechan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creasing diversity by genetic operato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ut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combin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Decreasing diversity by sele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f pare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f survivo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Evolutionary Cyc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Line 3"/>
          <p:cNvSpPr/>
          <p:nvPr/>
        </p:nvSpPr>
        <p:spPr>
          <a:xfrm>
            <a:off x="6838920" y="2806560"/>
            <a:ext cx="0" cy="2597400"/>
          </a:xfrm>
          <a:prstGeom prst="line">
            <a:avLst/>
          </a:prstGeom>
          <a:ln w="127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664600" y="2905200"/>
            <a:ext cx="235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combin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98400" y="4124160"/>
            <a:ext cx="148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u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360520" y="2222640"/>
            <a:ext cx="3214800" cy="1193760"/>
            <a:chOff x="2360520" y="2222640"/>
            <a:chExt cx="3214800" cy="1193760"/>
          </a:xfrm>
        </p:grpSpPr>
        <p:sp>
          <p:nvSpPr>
            <p:cNvPr id="264" name="Line 7"/>
            <p:cNvSpPr/>
            <p:nvPr/>
          </p:nvSpPr>
          <p:spPr>
            <a:xfrm>
              <a:off x="2360520" y="2286000"/>
              <a:ext cx="321480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V="1">
              <a:off x="2362320" y="2222640"/>
              <a:ext cx="0" cy="119376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1219320" y="3352680"/>
            <a:ext cx="2361960" cy="1447920"/>
            <a:chOff x="1219320" y="3352680"/>
            <a:chExt cx="2361960" cy="1447920"/>
          </a:xfrm>
        </p:grpSpPr>
        <p:sp>
          <p:nvSpPr>
            <p:cNvPr id="267" name="Rectangle 10"/>
            <p:cNvSpPr/>
            <p:nvPr/>
          </p:nvSpPr>
          <p:spPr>
            <a:xfrm>
              <a:off x="1219320" y="3352680"/>
              <a:ext cx="2361960" cy="14479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1502280" y="3819600"/>
              <a:ext cx="1725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2417760" y="4863960"/>
            <a:ext cx="3214800" cy="1003320"/>
            <a:chOff x="2417760" y="4863960"/>
            <a:chExt cx="3214800" cy="1003320"/>
          </a:xfrm>
        </p:grpSpPr>
        <p:sp>
          <p:nvSpPr>
            <p:cNvPr id="270" name="Line 13"/>
            <p:cNvSpPr/>
            <p:nvPr/>
          </p:nvSpPr>
          <p:spPr>
            <a:xfrm>
              <a:off x="2419200" y="4863960"/>
              <a:ext cx="0" cy="93996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2417760" y="5867280"/>
              <a:ext cx="321480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2" name="Group 15"/>
          <p:cNvGrpSpPr/>
          <p:nvPr/>
        </p:nvGrpSpPr>
        <p:grpSpPr>
          <a:xfrm>
            <a:off x="5665680" y="5486400"/>
            <a:ext cx="2362320" cy="838080"/>
            <a:chOff x="5665680" y="5486400"/>
            <a:chExt cx="2362320" cy="838080"/>
          </a:xfrm>
        </p:grpSpPr>
        <p:sp>
          <p:nvSpPr>
            <p:cNvPr id="273" name="Rectangle 16"/>
            <p:cNvSpPr/>
            <p:nvPr/>
          </p:nvSpPr>
          <p:spPr>
            <a:xfrm>
              <a:off x="5665680" y="5486400"/>
              <a:ext cx="2362320" cy="838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6024600" y="5648400"/>
              <a:ext cx="156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Offspring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5" name="Group 18"/>
          <p:cNvGrpSpPr/>
          <p:nvPr/>
        </p:nvGrpSpPr>
        <p:grpSpPr>
          <a:xfrm>
            <a:off x="5665680" y="1905120"/>
            <a:ext cx="2362320" cy="838080"/>
            <a:chOff x="5665680" y="1905120"/>
            <a:chExt cx="2362320" cy="838080"/>
          </a:xfrm>
        </p:grpSpPr>
        <p:sp>
          <p:nvSpPr>
            <p:cNvPr id="276" name="Rectangle 19"/>
            <p:cNvSpPr/>
            <p:nvPr/>
          </p:nvSpPr>
          <p:spPr>
            <a:xfrm>
              <a:off x="5665680" y="1905120"/>
              <a:ext cx="2362320" cy="838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6177960" y="2066760"/>
              <a:ext cx="1228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Parents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78" name="Rectangle 21"/>
          <p:cNvSpPr/>
          <p:nvPr/>
        </p:nvSpPr>
        <p:spPr>
          <a:xfrm>
            <a:off x="2887920" y="1743120"/>
            <a:ext cx="1504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2784600" y="5310360"/>
            <a:ext cx="203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mains of Appl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umerical, Combinatorial Optimiz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ystem Modeling and Ident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lanning and Contro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ngineering Desig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Data Min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achine Learn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rtificial Lif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Evolutionary Computation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n abstraction from the theory of biological evolution that is used to create optimization procedures or methodologies, usually implemented on computers, that are used to solve problem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cceptable performance at acceptable costs on a wide range of proble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trinsic parallelism (robustness, fault tolerance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uperior to other techniques on complex problems with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ots of data, many free paramet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mplex relationships between paramet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y (local) optima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o presumptions w.r.t. problem spa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idely applicabl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ow development &amp; application cos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asy to incorporate other metho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lutions are interpretable (unlike NN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n be run interactively, accommodate user proposed solu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vide many alternative solu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o guarantee for optimal solution within finite tim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eak theoretical bas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ay need parameter tun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ften computationally expensive, i.e. slow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rg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volution has optimized biological processes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therefo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option of the evolutionary paradigm to computation and other problems can help us find optimal solution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Concept of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atural Sele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imited number of resourc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mpetition results in struggle for existen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uccess depends on fitness --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fitness of an individual:  how well-adapted an individual is to their environment.  This is determined by their genes (blueprints for their physical and other characteristics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uccessful individuals are able to reproduce and pass on their ge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715000" y="152280"/>
          <a:ext cx="3276720" cy="19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152280"/>
                    <a:ext cx="327672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n changes occur ..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eviously “fit” (well-adapted) individuals will no longer be best-suited for their environmen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ome members of the population will have genes that confer different characteristics than “the norm”.  Some of these characteristics can make them more “fit” in the changing environment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jor Agents of Genetic Change in Individu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utation in gen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y be due to various sources (e.g. UV rays, chemicals, etc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art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0100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001001001001001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Line 1029"/>
          <p:cNvSpPr/>
          <p:nvPr/>
        </p:nvSpPr>
        <p:spPr>
          <a:xfrm flipH="1">
            <a:off x="2514600" y="3505320"/>
            <a:ext cx="3276720" cy="4572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Text Box 1030"/>
          <p:cNvSpPr/>
          <p:nvPr/>
        </p:nvSpPr>
        <p:spPr>
          <a:xfrm>
            <a:off x="5945400" y="32767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ecff"/>
                </a:solidFill>
                <a:latin typeface="Arial"/>
              </a:rPr>
              <a:t>Location of Mut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Text Box 1031"/>
          <p:cNvSpPr/>
          <p:nvPr/>
        </p:nvSpPr>
        <p:spPr>
          <a:xfrm>
            <a:off x="684000" y="4884840"/>
            <a:ext cx="49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fter Mutatio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00100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001001001001001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jor Agents of Genetic Change in Individuals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combination (Crossing-Over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ccurs during reproduction -- sections of genetic material exchanged between two chromosom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Picture 1028" descr="meiosis1"/>
          <p:cNvPicPr/>
          <p:nvPr/>
        </p:nvPicPr>
        <p:blipFill>
          <a:blip r:embed="rId2"/>
          <a:stretch/>
        </p:blipFill>
        <p:spPr>
          <a:xfrm>
            <a:off x="4267080" y="1905120"/>
            <a:ext cx="470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tic Opera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ross-ove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u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23880" y="2590920"/>
          <a:ext cx="609624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62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523880" y="5410080"/>
          <a:ext cx="60962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410080"/>
                    <a:ext cx="6096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duction of New Chromosom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2 parents give rise to 2 childre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295280" y="2743200"/>
          <a:ext cx="6477120" cy="365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743200"/>
                    <a:ext cx="64771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axono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11240" y="2197080"/>
          <a:ext cx="7121520" cy="36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1240" y="2197080"/>
                    <a:ext cx="712152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1028"/>
          <p:cNvSpPr/>
          <p:nvPr/>
        </p:nvSpPr>
        <p:spPr>
          <a:xfrm flipH="1">
            <a:off x="2286000" y="4800600"/>
            <a:ext cx="2286000" cy="38088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Line 1029"/>
          <p:cNvSpPr/>
          <p:nvPr/>
        </p:nvSpPr>
        <p:spPr>
          <a:xfrm flipH="1">
            <a:off x="4038480" y="4800600"/>
            <a:ext cx="533520" cy="38088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Line 1030"/>
          <p:cNvSpPr/>
          <p:nvPr/>
        </p:nvSpPr>
        <p:spPr>
          <a:xfrm>
            <a:off x="4572000" y="4800600"/>
            <a:ext cx="838080" cy="38088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Line 1031"/>
          <p:cNvSpPr/>
          <p:nvPr/>
        </p:nvSpPr>
        <p:spPr>
          <a:xfrm>
            <a:off x="4572000" y="4800600"/>
            <a:ext cx="2743200" cy="38088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y use evolution as a model for solving computational problem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Nature of Computational Problem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quire search through many possibilities to find a solu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e.g. search through sets of rules for one set that best predicts the ups and downs of the financial market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arch space too big -- search won’t return within our lifetim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se types of problems are better solved using a parallel approach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Nature of Computational Problems (2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quire algorithm to be adaptive or to construct original solu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e.g. interfaces that must adapt to idiosyncrasies of different user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Evolution Proves to be a Good Model for Solving these Types of Problem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volution is in effect a method of searching for the best (optimal) solution from a great number of possibilit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ossibilities -- all individual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est solution -- the most “fit” or well-adapted individu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volution is a parallel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esting and changing of numerous species and individuals occur at the same time (or, in parallel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Evolution Proves to be a Good Model for Solving these Types of Problems (2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volution can be seen as a method that designs new (original) solutions to a changing environmen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n to Use Evolutionary Computing 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hen space to be searched is larg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hen the “best” solution is not necessarily require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pproach to solving a problem not well-understoo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blems with many parameters that need to be simultaneously optimize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blems that are difficult to describe mathematicall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osely follows a biological approach to problem solv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simulated population of randomly selected individuals is generated then allowed to evolv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sic Genetic Algorith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tep 1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enerate a random population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f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tep 2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ssign a fitness to each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peat until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children have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een produce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oose 2 parents based on fitness proportional selec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pply genetic operators to copies of the pare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roduce new chromosom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tness Fun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r each individual in the population, evaluate its relative fitn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r a problem with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parameters, the fitness can be plotted in an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+1 dimensional spa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mple Search Sp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randomly generated population of individuals will be randomly distributed throughout the search spa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600200" y="3581280"/>
          <a:ext cx="5715000" cy="24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581280"/>
                    <a:ext cx="57150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5"/>
          <p:cNvSpPr/>
          <p:nvPr/>
        </p:nvSpPr>
        <p:spPr>
          <a:xfrm>
            <a:off x="990720" y="609588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Image from http://www2.informatik.uni-erlangen.de/~jacob/Evolvica/Java/MultiModalSearch/rats.017/Surface.gif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onents of Evolutionary Compu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enetic Algorith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vented by John Holland (University of Michigan) in the 1960’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volution Strateg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vented by Ingo Rechenberg (Technical University Berlin) in the 1960’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tarted out as individual developments, but have begun to converge in the last few yea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s each new generation of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ndividuals is generated, they replace their parent gener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 achieve the desired results, 500 to 5000 generations are require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ach subsequent generation will evolve toward the  global maximu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fter sufficient generations a near optimal solution will be present in the population of chromosom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ynamic Evol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enetic algorithms can adapt to a dynamically changing search spac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ek out the moving maximum via a parasitic fitness func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s the chromosomes adapt to the search space, so does the fitness fun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L. Fogel 1962 (San Diego, CA):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Evolutionary 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J. Holland 1962 (Ann Arbor, MI):</a:t>
            </a:r>
            <a:br>
              <a:rPr sz="3200"/>
            </a:b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Genetic Algorith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. Rechenberg &amp; H.-P. Schwefel 1965 (Berlin, Germany): </a:t>
            </a: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Evolution Strateg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J. Koza 1989 (Palo Alto, CA):</a:t>
            </a:r>
            <a:br>
              <a:rPr sz="3200"/>
            </a:br>
            <a:r>
              <a:rPr b="0" i="1" lang="en-US" sz="3200" spc="-1" strike="noStrike">
                <a:solidFill>
                  <a:srgbClr val="ccecff"/>
                </a:solidFill>
                <a:latin typeface="Arial"/>
              </a:rPr>
              <a:t>Genetic 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Metaph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8097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VOLU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Fitnes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19640" y="180972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ndidate Solu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ble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886200" y="3124080"/>
            <a:ext cx="1187280" cy="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886200" y="4114800"/>
            <a:ext cx="1187280" cy="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>
            <a:off x="3886200" y="5105520"/>
            <a:ext cx="1187280" cy="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Ingredi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292400" y="1854360"/>
            <a:ext cx="2242800" cy="1118880"/>
            <a:chOff x="1292400" y="1854360"/>
            <a:chExt cx="2242800" cy="1118880"/>
          </a:xfrm>
        </p:grpSpPr>
        <p:sp>
          <p:nvSpPr>
            <p:cNvPr id="116" name="Oval 4"/>
            <p:cNvSpPr/>
            <p:nvPr/>
          </p:nvSpPr>
          <p:spPr>
            <a:xfrm>
              <a:off x="1362240" y="1924200"/>
              <a:ext cx="2172960" cy="10490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1292400" y="1854360"/>
              <a:ext cx="2158920" cy="1035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3800520" y="2266920"/>
            <a:ext cx="1506600" cy="287280"/>
            <a:chOff x="3800520" y="2266920"/>
            <a:chExt cx="1506600" cy="287280"/>
          </a:xfrm>
        </p:grpSpPr>
        <p:sp>
          <p:nvSpPr>
            <p:cNvPr id="119" name="Freeform 7"/>
            <p:cNvSpPr/>
            <p:nvPr/>
          </p:nvSpPr>
          <p:spPr>
            <a:xfrm>
              <a:off x="3876840" y="2343240"/>
              <a:ext cx="1430280" cy="210960"/>
            </a:xfrm>
            <a:prstGeom prst="pi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3800520" y="2266920"/>
              <a:ext cx="1430280" cy="211320"/>
            </a:xfrm>
            <a:prstGeom prst="pie">
              <a:avLst/>
            </a:prstGeom>
            <a:solidFill>
              <a:srgbClr val="fe9b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1" name="Freeform 9"/>
          <p:cNvSpPr/>
          <p:nvPr/>
        </p:nvSpPr>
        <p:spPr>
          <a:xfrm>
            <a:off x="1781280" y="200016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Freeform 10"/>
          <p:cNvSpPr/>
          <p:nvPr/>
        </p:nvSpPr>
        <p:spPr>
          <a:xfrm>
            <a:off x="1819440" y="2590920"/>
            <a:ext cx="13464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Freeform 11"/>
          <p:cNvSpPr/>
          <p:nvPr/>
        </p:nvSpPr>
        <p:spPr>
          <a:xfrm>
            <a:off x="2714760" y="2629080"/>
            <a:ext cx="13464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Freeform 12"/>
          <p:cNvSpPr/>
          <p:nvPr/>
        </p:nvSpPr>
        <p:spPr>
          <a:xfrm>
            <a:off x="1647720" y="220968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352600" y="264780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19400" y="205740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1533600" y="241920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2104920" y="243828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847960" y="2152800"/>
            <a:ext cx="13500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19400" y="230508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419120" y="2228760"/>
            <a:ext cx="127080" cy="1098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2562120" y="236232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Freeform 21"/>
          <p:cNvSpPr/>
          <p:nvPr/>
        </p:nvSpPr>
        <p:spPr>
          <a:xfrm>
            <a:off x="2505240" y="2057400"/>
            <a:ext cx="12672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Freeform 22"/>
          <p:cNvSpPr/>
          <p:nvPr/>
        </p:nvSpPr>
        <p:spPr>
          <a:xfrm>
            <a:off x="3095640" y="226692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Freeform 23"/>
          <p:cNvSpPr/>
          <p:nvPr/>
        </p:nvSpPr>
        <p:spPr>
          <a:xfrm>
            <a:off x="1819440" y="2362320"/>
            <a:ext cx="12672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Freeform 24"/>
          <p:cNvSpPr/>
          <p:nvPr/>
        </p:nvSpPr>
        <p:spPr>
          <a:xfrm>
            <a:off x="2981160" y="2476440"/>
            <a:ext cx="135000" cy="15408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5464080" y="1835280"/>
            <a:ext cx="2243160" cy="1118880"/>
            <a:chOff x="5464080" y="1835280"/>
            <a:chExt cx="2243160" cy="1118880"/>
          </a:xfrm>
        </p:grpSpPr>
        <p:sp>
          <p:nvSpPr>
            <p:cNvPr id="138" name="Oval 26"/>
            <p:cNvSpPr/>
            <p:nvPr/>
          </p:nvSpPr>
          <p:spPr>
            <a:xfrm>
              <a:off x="5533920" y="1905120"/>
              <a:ext cx="2173320" cy="10490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5464080" y="1835280"/>
              <a:ext cx="2158920" cy="1035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0" name="Freeform 28"/>
          <p:cNvSpPr/>
          <p:nvPr/>
        </p:nvSpPr>
        <p:spPr>
          <a:xfrm>
            <a:off x="6315120" y="219060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Freeform 29"/>
          <p:cNvSpPr/>
          <p:nvPr/>
        </p:nvSpPr>
        <p:spPr>
          <a:xfrm>
            <a:off x="5991120" y="257184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Freeform 30"/>
          <p:cNvSpPr/>
          <p:nvPr/>
        </p:nvSpPr>
        <p:spPr>
          <a:xfrm>
            <a:off x="6886440" y="2610000"/>
            <a:ext cx="13500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Freeform 31"/>
          <p:cNvSpPr/>
          <p:nvPr/>
        </p:nvSpPr>
        <p:spPr>
          <a:xfrm>
            <a:off x="5819760" y="219060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Freeform 32"/>
          <p:cNvSpPr/>
          <p:nvPr/>
        </p:nvSpPr>
        <p:spPr>
          <a:xfrm>
            <a:off x="6524640" y="2629080"/>
            <a:ext cx="13500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6257880" y="1962000"/>
            <a:ext cx="135000" cy="1350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Freeform 34"/>
          <p:cNvSpPr/>
          <p:nvPr/>
        </p:nvSpPr>
        <p:spPr>
          <a:xfrm>
            <a:off x="5705640" y="2400480"/>
            <a:ext cx="13464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Freeform 35"/>
          <p:cNvSpPr/>
          <p:nvPr/>
        </p:nvSpPr>
        <p:spPr>
          <a:xfrm>
            <a:off x="7000920" y="2400480"/>
            <a:ext cx="13500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Freeform 36"/>
          <p:cNvSpPr/>
          <p:nvPr/>
        </p:nvSpPr>
        <p:spPr>
          <a:xfrm>
            <a:off x="7020000" y="2133720"/>
            <a:ext cx="135000" cy="1346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Freeform 37"/>
          <p:cNvSpPr/>
          <p:nvPr/>
        </p:nvSpPr>
        <p:spPr>
          <a:xfrm>
            <a:off x="6657840" y="238140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Freeform 38"/>
          <p:cNvSpPr/>
          <p:nvPr/>
        </p:nvSpPr>
        <p:spPr>
          <a:xfrm>
            <a:off x="5591160" y="2209680"/>
            <a:ext cx="127080" cy="10980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Freeform 39"/>
          <p:cNvSpPr/>
          <p:nvPr/>
        </p:nvSpPr>
        <p:spPr>
          <a:xfrm>
            <a:off x="5991120" y="203832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Freeform 40"/>
          <p:cNvSpPr/>
          <p:nvPr/>
        </p:nvSpPr>
        <p:spPr>
          <a:xfrm>
            <a:off x="6676920" y="203832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7267680" y="2247840"/>
            <a:ext cx="12672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Freeform 42"/>
          <p:cNvSpPr/>
          <p:nvPr/>
        </p:nvSpPr>
        <p:spPr>
          <a:xfrm>
            <a:off x="5991120" y="2343240"/>
            <a:ext cx="127080" cy="10944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Freeform 43"/>
          <p:cNvSpPr/>
          <p:nvPr/>
        </p:nvSpPr>
        <p:spPr>
          <a:xfrm>
            <a:off x="6315120" y="2476440"/>
            <a:ext cx="135000" cy="154080"/>
          </a:xfrm>
          <a:prstGeom prst="pie">
            <a:avLst/>
          </a:prstGeom>
          <a:solidFill>
            <a:srgbClr val="ff500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845640" y="183816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7722000" y="1819440"/>
            <a:ext cx="63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ecff"/>
                </a:solidFill>
                <a:latin typeface="Arial"/>
              </a:rPr>
              <a:t>t + 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5207040" y="4626000"/>
            <a:ext cx="225360" cy="1015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5168880" y="4950000"/>
            <a:ext cx="225360" cy="1015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4935600" y="4950000"/>
            <a:ext cx="225360" cy="1015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1" name="Group 49"/>
          <p:cNvGrpSpPr/>
          <p:nvPr/>
        </p:nvGrpSpPr>
        <p:grpSpPr>
          <a:xfrm>
            <a:off x="990720" y="3886200"/>
            <a:ext cx="2547360" cy="1582560"/>
            <a:chOff x="990720" y="3886200"/>
            <a:chExt cx="2547360" cy="1582560"/>
          </a:xfrm>
        </p:grpSpPr>
        <p:grpSp>
          <p:nvGrpSpPr>
            <p:cNvPr id="162" name="Group 50"/>
            <p:cNvGrpSpPr/>
            <p:nvPr/>
          </p:nvGrpSpPr>
          <p:grpSpPr>
            <a:xfrm>
              <a:off x="990720" y="4648320"/>
              <a:ext cx="2547360" cy="185760"/>
              <a:chOff x="990720" y="4648320"/>
              <a:chExt cx="2547360" cy="185760"/>
            </a:xfrm>
          </p:grpSpPr>
          <p:grpSp>
            <p:nvGrpSpPr>
              <p:cNvPr id="163" name="Group 51"/>
              <p:cNvGrpSpPr/>
              <p:nvPr/>
            </p:nvGrpSpPr>
            <p:grpSpPr>
              <a:xfrm>
                <a:off x="990720" y="4648320"/>
                <a:ext cx="2547360" cy="185760"/>
                <a:chOff x="990720" y="4648320"/>
                <a:chExt cx="2547360" cy="185760"/>
              </a:xfrm>
            </p:grpSpPr>
            <p:sp>
              <p:nvSpPr>
                <p:cNvPr id="164" name="AutoShape 52"/>
                <p:cNvSpPr/>
                <p:nvPr/>
              </p:nvSpPr>
              <p:spPr>
                <a:xfrm>
                  <a:off x="1060200" y="4718160"/>
                  <a:ext cx="2477880" cy="115920"/>
                </a:xfrm>
                <a:prstGeom prst="roundRect">
                  <a:avLst>
                    <a:gd name="adj" fmla="val 12338"/>
                  </a:avLst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AutoShape 53"/>
                <p:cNvSpPr/>
                <p:nvPr/>
              </p:nvSpPr>
              <p:spPr>
                <a:xfrm>
                  <a:off x="990720" y="4648320"/>
                  <a:ext cx="2463480" cy="101520"/>
                </a:xfrm>
                <a:prstGeom prst="roundRect">
                  <a:avLst>
                    <a:gd name="adj" fmla="val 11245"/>
                  </a:avLst>
                </a:prstGeom>
                <a:solidFill>
                  <a:srgbClr val="fde3b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Rectangle 54"/>
              <p:cNvSpPr/>
              <p:nvPr/>
            </p:nvSpPr>
            <p:spPr>
              <a:xfrm>
                <a:off x="1199880" y="4648320"/>
                <a:ext cx="225000" cy="101520"/>
              </a:xfrm>
              <a:prstGeom prst="rect">
                <a:avLst/>
              </a:prstGeom>
              <a:solidFill>
                <a:srgbClr val="ff500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7" name="Rectangle 55"/>
              <p:cNvSpPr/>
              <p:nvPr/>
            </p:nvSpPr>
            <p:spPr>
              <a:xfrm>
                <a:off x="1433160" y="4648320"/>
                <a:ext cx="225000" cy="1015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8" name="Rectangle 56"/>
              <p:cNvSpPr/>
              <p:nvPr/>
            </p:nvSpPr>
            <p:spPr>
              <a:xfrm>
                <a:off x="1661760" y="4648320"/>
                <a:ext cx="225000" cy="101520"/>
              </a:xfrm>
              <a:prstGeom prst="rect">
                <a:avLst/>
              </a:prstGeom>
              <a:solidFill>
                <a:srgbClr val="438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9" name="Rectangle 57"/>
              <p:cNvSpPr/>
              <p:nvPr/>
            </p:nvSpPr>
            <p:spPr>
              <a:xfrm>
                <a:off x="2257200" y="4648320"/>
                <a:ext cx="225000" cy="101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0" name="Rectangle 58"/>
              <p:cNvSpPr/>
              <p:nvPr/>
            </p:nvSpPr>
            <p:spPr>
              <a:xfrm>
                <a:off x="2490480" y="4648320"/>
                <a:ext cx="225000" cy="101520"/>
              </a:xfrm>
              <a:prstGeom prst="rect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1" name="Rectangle 59"/>
              <p:cNvSpPr/>
              <p:nvPr/>
            </p:nvSpPr>
            <p:spPr>
              <a:xfrm>
                <a:off x="2928600" y="4648320"/>
                <a:ext cx="225000" cy="101520"/>
              </a:xfrm>
              <a:prstGeom prst="rect">
                <a:avLst/>
              </a:prstGeom>
              <a:solidFill>
                <a:srgbClr val="fe9b0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2" name="Rectangle 60"/>
              <p:cNvSpPr/>
              <p:nvPr/>
            </p:nvSpPr>
            <p:spPr>
              <a:xfrm>
                <a:off x="1962000" y="4648320"/>
                <a:ext cx="225000" cy="101520"/>
              </a:xfrm>
              <a:prstGeom prst="rect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61"/>
            <p:cNvGrpSpPr/>
            <p:nvPr/>
          </p:nvGrpSpPr>
          <p:grpSpPr>
            <a:xfrm>
              <a:off x="1981080" y="3886200"/>
              <a:ext cx="249120" cy="744480"/>
              <a:chOff x="1981080" y="3886200"/>
              <a:chExt cx="249120" cy="744480"/>
            </a:xfrm>
          </p:grpSpPr>
          <p:sp>
            <p:nvSpPr>
              <p:cNvPr id="174" name="Freeform 62"/>
              <p:cNvSpPr/>
              <p:nvPr/>
            </p:nvSpPr>
            <p:spPr>
              <a:xfrm>
                <a:off x="2018880" y="3924360"/>
                <a:ext cx="198720" cy="69372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Freeform 63"/>
              <p:cNvSpPr/>
              <p:nvPr/>
            </p:nvSpPr>
            <p:spPr>
              <a:xfrm>
                <a:off x="2018880" y="3924360"/>
                <a:ext cx="211320" cy="706320"/>
              </a:xfrm>
              <a:prstGeom prst="pie">
                <a:avLst/>
              </a:prstGeom>
              <a:noFill/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Freeform 64"/>
              <p:cNvSpPr/>
              <p:nvPr/>
            </p:nvSpPr>
            <p:spPr>
              <a:xfrm>
                <a:off x="1981080" y="3886200"/>
                <a:ext cx="210960" cy="706320"/>
              </a:xfrm>
              <a:prstGeom prst="pie">
                <a:avLst/>
              </a:pr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Rectangle 65"/>
            <p:cNvSpPr/>
            <p:nvPr/>
          </p:nvSpPr>
          <p:spPr>
            <a:xfrm>
              <a:off x="1523160" y="5105520"/>
              <a:ext cx="1147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ecff"/>
                  </a:solidFill>
                  <a:latin typeface="Arial"/>
                </a:rPr>
                <a:t>mutation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78" name="Group 66"/>
          <p:cNvGrpSpPr/>
          <p:nvPr/>
        </p:nvGrpSpPr>
        <p:grpSpPr>
          <a:xfrm>
            <a:off x="4745160" y="3565440"/>
            <a:ext cx="2571480" cy="2064960"/>
            <a:chOff x="4745160" y="3565440"/>
            <a:chExt cx="2571480" cy="2064960"/>
          </a:xfrm>
        </p:grpSpPr>
        <p:grpSp>
          <p:nvGrpSpPr>
            <p:cNvPr id="179" name="Group 67"/>
            <p:cNvGrpSpPr/>
            <p:nvPr/>
          </p:nvGrpSpPr>
          <p:grpSpPr>
            <a:xfrm>
              <a:off x="4764240" y="4626000"/>
              <a:ext cx="2547720" cy="185760"/>
              <a:chOff x="4764240" y="4626000"/>
              <a:chExt cx="2547720" cy="185760"/>
            </a:xfrm>
          </p:grpSpPr>
          <p:sp>
            <p:nvSpPr>
              <p:cNvPr id="180" name="AutoShape 68"/>
              <p:cNvSpPr/>
              <p:nvPr/>
            </p:nvSpPr>
            <p:spPr>
              <a:xfrm>
                <a:off x="4834080" y="4695840"/>
                <a:ext cx="2477880" cy="115920"/>
              </a:xfrm>
              <a:prstGeom prst="roundRect">
                <a:avLst>
                  <a:gd name="adj" fmla="val 12338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AutoShape 69"/>
              <p:cNvSpPr/>
              <p:nvPr/>
            </p:nvSpPr>
            <p:spPr>
              <a:xfrm>
                <a:off x="4764240" y="4626000"/>
                <a:ext cx="2463480" cy="101520"/>
              </a:xfrm>
              <a:prstGeom prst="roundRect">
                <a:avLst>
                  <a:gd name="adj" fmla="val 11245"/>
                </a:avLst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70"/>
            <p:cNvGrpSpPr/>
            <p:nvPr/>
          </p:nvGrpSpPr>
          <p:grpSpPr>
            <a:xfrm>
              <a:off x="4745160" y="3565440"/>
              <a:ext cx="2571480" cy="2064960"/>
              <a:chOff x="4745160" y="3565440"/>
              <a:chExt cx="2571480" cy="2064960"/>
            </a:xfrm>
          </p:grpSpPr>
          <p:grpSp>
            <p:nvGrpSpPr>
              <p:cNvPr id="183" name="Group 71"/>
              <p:cNvGrpSpPr/>
              <p:nvPr/>
            </p:nvGrpSpPr>
            <p:grpSpPr>
              <a:xfrm>
                <a:off x="4745160" y="3683160"/>
                <a:ext cx="2547720" cy="185400"/>
                <a:chOff x="4745160" y="3683160"/>
                <a:chExt cx="2547720" cy="185400"/>
              </a:xfrm>
            </p:grpSpPr>
            <p:grpSp>
              <p:nvGrpSpPr>
                <p:cNvPr id="184" name="Group 72"/>
                <p:cNvGrpSpPr/>
                <p:nvPr/>
              </p:nvGrpSpPr>
              <p:grpSpPr>
                <a:xfrm>
                  <a:off x="4745160" y="3683160"/>
                  <a:ext cx="2547720" cy="185400"/>
                  <a:chOff x="4745160" y="3683160"/>
                  <a:chExt cx="2547720" cy="185400"/>
                </a:xfrm>
              </p:grpSpPr>
              <p:sp>
                <p:nvSpPr>
                  <p:cNvPr id="185" name="AutoShape 73"/>
                  <p:cNvSpPr/>
                  <p:nvPr/>
                </p:nvSpPr>
                <p:spPr>
                  <a:xfrm>
                    <a:off x="4815000" y="3753000"/>
                    <a:ext cx="2477880" cy="115560"/>
                  </a:xfrm>
                  <a:prstGeom prst="roundRect">
                    <a:avLst>
                      <a:gd name="adj" fmla="val 12338"/>
                    </a:avLst>
                  </a:pr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AutoShape 74"/>
                  <p:cNvSpPr/>
                  <p:nvPr/>
                </p:nvSpPr>
                <p:spPr>
                  <a:xfrm>
                    <a:off x="4745160" y="3683160"/>
                    <a:ext cx="2463840" cy="101520"/>
                  </a:xfrm>
                  <a:prstGeom prst="roundRect">
                    <a:avLst>
                      <a:gd name="adj" fmla="val 11245"/>
                    </a:avLst>
                  </a:prstGeom>
                  <a:solidFill>
                    <a:srgbClr val="fde3b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Rectangle 75"/>
                <p:cNvSpPr/>
                <p:nvPr/>
              </p:nvSpPr>
              <p:spPr>
                <a:xfrm>
                  <a:off x="4954680" y="3683160"/>
                  <a:ext cx="225360" cy="101520"/>
                </a:xfrm>
                <a:prstGeom prst="rect">
                  <a:avLst/>
                </a:prstGeom>
                <a:solidFill>
                  <a:srgbClr val="ff500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76"/>
                <p:cNvSpPr/>
                <p:nvPr/>
              </p:nvSpPr>
              <p:spPr>
                <a:xfrm>
                  <a:off x="5187960" y="3683160"/>
                  <a:ext cx="225360" cy="1015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77"/>
                <p:cNvSpPr/>
                <p:nvPr/>
              </p:nvSpPr>
              <p:spPr>
                <a:xfrm>
                  <a:off x="5416560" y="3683160"/>
                  <a:ext cx="225360" cy="101520"/>
                </a:xfrm>
                <a:prstGeom prst="rect">
                  <a:avLst/>
                </a:prstGeom>
                <a:solidFill>
                  <a:srgbClr val="438e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78"/>
                <p:cNvSpPr/>
                <p:nvPr/>
              </p:nvSpPr>
              <p:spPr>
                <a:xfrm>
                  <a:off x="6012000" y="3683160"/>
                  <a:ext cx="22536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79"/>
                <p:cNvSpPr/>
                <p:nvPr/>
              </p:nvSpPr>
              <p:spPr>
                <a:xfrm>
                  <a:off x="6245280" y="3683160"/>
                  <a:ext cx="225360" cy="101520"/>
                </a:xfrm>
                <a:prstGeom prst="rect">
                  <a:avLst/>
                </a:prstGeom>
                <a:solidFill>
                  <a:srgbClr val="00dfc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80"/>
                <p:cNvSpPr/>
                <p:nvPr/>
              </p:nvSpPr>
              <p:spPr>
                <a:xfrm>
                  <a:off x="6683400" y="3683160"/>
                  <a:ext cx="225360" cy="1015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81"/>
                <p:cNvSpPr/>
                <p:nvPr/>
              </p:nvSpPr>
              <p:spPr>
                <a:xfrm>
                  <a:off x="5716440" y="3683160"/>
                  <a:ext cx="225720" cy="101520"/>
                </a:xfrm>
                <a:prstGeom prst="rect">
                  <a:avLst/>
                </a:prstGeom>
                <a:solidFill>
                  <a:srgbClr val="00dfc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82"/>
              <p:cNvGrpSpPr/>
              <p:nvPr/>
            </p:nvGrpSpPr>
            <p:grpSpPr>
              <a:xfrm>
                <a:off x="4745160" y="3997440"/>
                <a:ext cx="2547720" cy="185760"/>
                <a:chOff x="4745160" y="3997440"/>
                <a:chExt cx="2547720" cy="185760"/>
              </a:xfrm>
            </p:grpSpPr>
            <p:grpSp>
              <p:nvGrpSpPr>
                <p:cNvPr id="195" name="Group 83"/>
                <p:cNvGrpSpPr/>
                <p:nvPr/>
              </p:nvGrpSpPr>
              <p:grpSpPr>
                <a:xfrm>
                  <a:off x="4745160" y="3997440"/>
                  <a:ext cx="2547720" cy="185760"/>
                  <a:chOff x="4745160" y="3997440"/>
                  <a:chExt cx="2547720" cy="185760"/>
                </a:xfrm>
              </p:grpSpPr>
              <p:sp>
                <p:nvSpPr>
                  <p:cNvPr id="196" name="AutoShape 84"/>
                  <p:cNvSpPr/>
                  <p:nvPr/>
                </p:nvSpPr>
                <p:spPr>
                  <a:xfrm>
                    <a:off x="4815000" y="4067280"/>
                    <a:ext cx="2477880" cy="115920"/>
                  </a:xfrm>
                  <a:prstGeom prst="roundRect">
                    <a:avLst>
                      <a:gd name="adj" fmla="val 12338"/>
                    </a:avLst>
                  </a:pr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AutoShape 85"/>
                  <p:cNvSpPr/>
                  <p:nvPr/>
                </p:nvSpPr>
                <p:spPr>
                  <a:xfrm>
                    <a:off x="4745160" y="3997440"/>
                    <a:ext cx="2463840" cy="101520"/>
                  </a:xfrm>
                  <a:prstGeom prst="roundRect">
                    <a:avLst>
                      <a:gd name="adj" fmla="val 11245"/>
                    </a:avLst>
                  </a:prstGeom>
                  <a:solidFill>
                    <a:srgbClr val="fde3b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ccec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Rectangle 86"/>
                <p:cNvSpPr/>
                <p:nvPr/>
              </p:nvSpPr>
              <p:spPr>
                <a:xfrm>
                  <a:off x="6611760" y="3997440"/>
                  <a:ext cx="225720" cy="101520"/>
                </a:xfrm>
                <a:prstGeom prst="rect">
                  <a:avLst/>
                </a:prstGeom>
                <a:solidFill>
                  <a:srgbClr val="ff500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87"/>
                <p:cNvSpPr/>
                <p:nvPr/>
              </p:nvSpPr>
              <p:spPr>
                <a:xfrm>
                  <a:off x="6954840" y="3997440"/>
                  <a:ext cx="225360" cy="1015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88"/>
                <p:cNvSpPr/>
                <p:nvPr/>
              </p:nvSpPr>
              <p:spPr>
                <a:xfrm>
                  <a:off x="6197760" y="3997440"/>
                  <a:ext cx="225360" cy="101520"/>
                </a:xfrm>
                <a:prstGeom prst="rect">
                  <a:avLst/>
                </a:prstGeom>
                <a:solidFill>
                  <a:srgbClr val="438e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89"/>
                <p:cNvSpPr/>
                <p:nvPr/>
              </p:nvSpPr>
              <p:spPr>
                <a:xfrm>
                  <a:off x="5145120" y="3997440"/>
                  <a:ext cx="22536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90"/>
                <p:cNvSpPr/>
                <p:nvPr/>
              </p:nvSpPr>
              <p:spPr>
                <a:xfrm>
                  <a:off x="5416560" y="3997440"/>
                  <a:ext cx="225360" cy="101520"/>
                </a:xfrm>
                <a:prstGeom prst="rect">
                  <a:avLst/>
                </a:prstGeom>
                <a:solidFill>
                  <a:srgbClr val="00dfc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91"/>
                <p:cNvSpPr/>
                <p:nvPr/>
              </p:nvSpPr>
              <p:spPr>
                <a:xfrm>
                  <a:off x="5964120" y="3997440"/>
                  <a:ext cx="225720" cy="1015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92"/>
                <p:cNvSpPr/>
                <p:nvPr/>
              </p:nvSpPr>
              <p:spPr>
                <a:xfrm>
                  <a:off x="4911840" y="3997440"/>
                  <a:ext cx="225360" cy="101520"/>
                </a:xfrm>
                <a:prstGeom prst="rect">
                  <a:avLst/>
                </a:prstGeom>
                <a:solidFill>
                  <a:srgbClr val="00dfc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Rectangle 93"/>
              <p:cNvSpPr/>
              <p:nvPr/>
            </p:nvSpPr>
            <p:spPr>
              <a:xfrm>
                <a:off x="4973760" y="4626000"/>
                <a:ext cx="225360" cy="101520"/>
              </a:xfrm>
              <a:prstGeom prst="rect">
                <a:avLst/>
              </a:prstGeom>
              <a:solidFill>
                <a:srgbClr val="ff500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" name="Rectangle 94"/>
              <p:cNvSpPr/>
              <p:nvPr/>
            </p:nvSpPr>
            <p:spPr>
              <a:xfrm>
                <a:off x="5435640" y="4626000"/>
                <a:ext cx="225360" cy="101520"/>
              </a:xfrm>
              <a:prstGeom prst="rect">
                <a:avLst/>
              </a:prstGeom>
              <a:solidFill>
                <a:srgbClr val="438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" name="Rectangle 95"/>
              <p:cNvSpPr/>
              <p:nvPr/>
            </p:nvSpPr>
            <p:spPr>
              <a:xfrm>
                <a:off x="5735520" y="4626000"/>
                <a:ext cx="225720" cy="101520"/>
              </a:xfrm>
              <a:prstGeom prst="rect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208" name="Group 96"/>
              <p:cNvGrpSpPr/>
              <p:nvPr/>
            </p:nvGrpSpPr>
            <p:grpSpPr>
              <a:xfrm>
                <a:off x="5948280" y="3565440"/>
                <a:ext cx="0" cy="692280"/>
                <a:chOff x="5948280" y="3565440"/>
                <a:chExt cx="0" cy="692280"/>
              </a:xfrm>
            </p:grpSpPr>
            <p:sp>
              <p:nvSpPr>
                <p:cNvPr id="209" name="Line 97"/>
                <p:cNvSpPr/>
                <p:nvPr/>
              </p:nvSpPr>
              <p:spPr>
                <a:xfrm>
                  <a:off x="5948280" y="3565440"/>
                  <a:ext cx="0" cy="692280"/>
                </a:xfrm>
                <a:prstGeom prst="line">
                  <a:avLst/>
                </a:prstGeom>
                <a:ln w="2556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98"/>
                <p:cNvSpPr/>
                <p:nvPr/>
              </p:nvSpPr>
              <p:spPr>
                <a:xfrm>
                  <a:off x="5948280" y="3565440"/>
                  <a:ext cx="0" cy="692280"/>
                </a:xfrm>
                <a:prstGeom prst="line">
                  <a:avLst/>
                </a:prstGeom>
                <a:ln w="25560">
                  <a:solidFill>
                    <a:srgbClr val="ff50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99"/>
              <p:cNvGrpSpPr/>
              <p:nvPr/>
            </p:nvGrpSpPr>
            <p:grpSpPr>
              <a:xfrm>
                <a:off x="4768920" y="4950000"/>
                <a:ext cx="2547720" cy="185400"/>
                <a:chOff x="4768920" y="4950000"/>
                <a:chExt cx="2547720" cy="185400"/>
              </a:xfrm>
            </p:grpSpPr>
            <p:sp>
              <p:nvSpPr>
                <p:cNvPr id="212" name="AutoShape 100"/>
                <p:cNvSpPr/>
                <p:nvPr/>
              </p:nvSpPr>
              <p:spPr>
                <a:xfrm>
                  <a:off x="4838760" y="5019840"/>
                  <a:ext cx="2477880" cy="115560"/>
                </a:xfrm>
                <a:prstGeom prst="roundRect">
                  <a:avLst>
                    <a:gd name="adj" fmla="val 12338"/>
                  </a:avLst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AutoShape 101"/>
                <p:cNvSpPr/>
                <p:nvPr/>
              </p:nvSpPr>
              <p:spPr>
                <a:xfrm>
                  <a:off x="4768920" y="4950000"/>
                  <a:ext cx="2463840" cy="101520"/>
                </a:xfrm>
                <a:prstGeom prst="roundRect">
                  <a:avLst>
                    <a:gd name="adj" fmla="val 11245"/>
                  </a:avLst>
                </a:prstGeom>
                <a:solidFill>
                  <a:srgbClr val="fde3b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Rectangle 102"/>
              <p:cNvSpPr/>
              <p:nvPr/>
            </p:nvSpPr>
            <p:spPr>
              <a:xfrm>
                <a:off x="5440320" y="4950000"/>
                <a:ext cx="225360" cy="101520"/>
              </a:xfrm>
              <a:prstGeom prst="rect">
                <a:avLst/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215" name="Group 103"/>
              <p:cNvGrpSpPr/>
              <p:nvPr/>
            </p:nvGrpSpPr>
            <p:grpSpPr>
              <a:xfrm>
                <a:off x="5969160" y="4626000"/>
                <a:ext cx="1215720" cy="101520"/>
                <a:chOff x="5969160" y="4626000"/>
                <a:chExt cx="1215720" cy="101520"/>
              </a:xfrm>
            </p:grpSpPr>
            <p:sp>
              <p:nvSpPr>
                <p:cNvPr id="216" name="Rectangle 104"/>
                <p:cNvSpPr/>
                <p:nvPr/>
              </p:nvSpPr>
              <p:spPr>
                <a:xfrm>
                  <a:off x="6616800" y="4626000"/>
                  <a:ext cx="225360" cy="101520"/>
                </a:xfrm>
                <a:prstGeom prst="rect">
                  <a:avLst/>
                </a:prstGeom>
                <a:solidFill>
                  <a:srgbClr val="ff500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05"/>
                <p:cNvSpPr/>
                <p:nvPr/>
              </p:nvSpPr>
              <p:spPr>
                <a:xfrm>
                  <a:off x="6959520" y="4626000"/>
                  <a:ext cx="225360" cy="10152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06"/>
                <p:cNvSpPr/>
                <p:nvPr/>
              </p:nvSpPr>
              <p:spPr>
                <a:xfrm>
                  <a:off x="6202440" y="4626000"/>
                  <a:ext cx="225360" cy="101520"/>
                </a:xfrm>
                <a:prstGeom prst="rect">
                  <a:avLst/>
                </a:prstGeom>
                <a:solidFill>
                  <a:srgbClr val="438e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07"/>
                <p:cNvSpPr/>
                <p:nvPr/>
              </p:nvSpPr>
              <p:spPr>
                <a:xfrm>
                  <a:off x="5969160" y="4626000"/>
                  <a:ext cx="225360" cy="1015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108"/>
              <p:cNvGrpSpPr/>
              <p:nvPr/>
            </p:nvGrpSpPr>
            <p:grpSpPr>
              <a:xfrm>
                <a:off x="6040440" y="4950000"/>
                <a:ext cx="896760" cy="101520"/>
                <a:chOff x="6040440" y="4950000"/>
                <a:chExt cx="896760" cy="101520"/>
              </a:xfrm>
            </p:grpSpPr>
            <p:sp>
              <p:nvSpPr>
                <p:cNvPr id="221" name="Rectangle 109"/>
                <p:cNvSpPr/>
                <p:nvPr/>
              </p:nvSpPr>
              <p:spPr>
                <a:xfrm>
                  <a:off x="6040440" y="4950000"/>
                  <a:ext cx="22536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10"/>
                <p:cNvSpPr/>
                <p:nvPr/>
              </p:nvSpPr>
              <p:spPr>
                <a:xfrm>
                  <a:off x="6273720" y="4950000"/>
                  <a:ext cx="225360" cy="101520"/>
                </a:xfrm>
                <a:prstGeom prst="rect">
                  <a:avLst/>
                </a:prstGeom>
                <a:solidFill>
                  <a:srgbClr val="00dfc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11"/>
                <p:cNvSpPr/>
                <p:nvPr/>
              </p:nvSpPr>
              <p:spPr>
                <a:xfrm>
                  <a:off x="6711840" y="4950000"/>
                  <a:ext cx="225360" cy="1015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5486400" y="4276800"/>
                <a:ext cx="1020600" cy="315720"/>
                <a:chOff x="5486400" y="4276800"/>
                <a:chExt cx="1020600" cy="315720"/>
              </a:xfrm>
            </p:grpSpPr>
            <p:sp>
              <p:nvSpPr>
                <p:cNvPr id="225" name="Freeform 113"/>
                <p:cNvSpPr/>
                <p:nvPr/>
              </p:nvSpPr>
              <p:spPr>
                <a:xfrm>
                  <a:off x="5562720" y="4352760"/>
                  <a:ext cx="944280" cy="23976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14"/>
                <p:cNvSpPr/>
                <p:nvPr/>
              </p:nvSpPr>
              <p:spPr>
                <a:xfrm>
                  <a:off x="5486400" y="4276800"/>
                  <a:ext cx="944640" cy="239760"/>
                </a:xfrm>
                <a:prstGeom prst="pie">
                  <a:avLst/>
                </a:prstGeom>
                <a:solidFill>
                  <a:srgbClr val="fe9b0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Rectangle 115"/>
              <p:cNvSpPr/>
              <p:nvPr/>
            </p:nvSpPr>
            <p:spPr>
              <a:xfrm>
                <a:off x="5150880" y="5267160"/>
                <a:ext cx="1757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ecff"/>
                    </a:solidFill>
                    <a:latin typeface="Arial"/>
                  </a:rPr>
                  <a:t>recombination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Rectangle 116"/>
          <p:cNvSpPr/>
          <p:nvPr/>
        </p:nvSpPr>
        <p:spPr>
          <a:xfrm>
            <a:off x="4007520" y="1838160"/>
            <a:ext cx="159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Rectangle 117"/>
          <p:cNvSpPr/>
          <p:nvPr/>
        </p:nvSpPr>
        <p:spPr>
          <a:xfrm>
            <a:off x="3493800" y="260028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selec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306360"/>
            <a:ext cx="806292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"/>
              </a:rPr>
              <a:t>Intelligence and Evol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044720"/>
            <a:ext cx="891540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ne way of understanding intelligence is as the capability of a creature to adapt its behaviour to an ever-changing environment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normally think of adaptation as changes in the characteristics (including behaviours) of a single animal in response to experiences over its history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But adaptation is also change over the characteristics of a species, over the generations in response to environmental chang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creature must deal with other creatures of the same species who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compete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for resources, mates etc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here is also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rivalry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from other species which may be a direct (predator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r indirect (food, water, land, etc.) thre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In nature, evolution operates on populations of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organism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, ensuring by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natural selection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that characteristics that serve the members well tend to be passed on to the next generation, while those that didn’t die ou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alba_green1"/>
          <p:cNvPicPr/>
          <p:nvPr/>
        </p:nvPicPr>
        <p:blipFill>
          <a:blip r:embed="rId2"/>
          <a:stretch/>
        </p:blipFill>
        <p:spPr>
          <a:xfrm>
            <a:off x="1879560" y="1795320"/>
            <a:ext cx="4959360" cy="3972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Arial"/>
              </a:rPr>
              <a:t>Evolution as Optimis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6425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Evolution can be seen as a process leading to the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optimisation of a population’s ability to survive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and thus reproduce in a specific environment. This ability is measured as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evolutionary fitnes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his evolutionary fitness - the measure of the ability to respond adequately to the environment, is the quantity that is actually optimised in natural lif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onsider a normal population of rabbits. Some rabbits are faster than others. Any characteristic has a range of variation is natural, and is due to sexual reproduction and mut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may say that the faster rabbits possess superior fitness, since they have a greater chance of avoiding foxes, surviving and then breeding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If two parents have superior fitness, there is a good chance that a combination of their genes will produce an offspring with even higher fitness. We say there is </a:t>
            </a:r>
            <a:r>
              <a:rPr b="0" i="1" lang="en-US" sz="2000" spc="-1" strike="noStrike">
                <a:solidFill>
                  <a:srgbClr val="ccecff"/>
                </a:solidFill>
                <a:latin typeface="Arial"/>
              </a:rPr>
              <a:t>crossover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between the parents genes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ver successive generations, the entire population of rabbits tends to become faster to meet their environment challenges in the face of foxes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5:24:20Z</dcterms:created>
  <dc:creator>Bruce Hemingway</dc:creator>
  <dc:description/>
  <dc:language>en-US</dc:language>
  <cp:lastModifiedBy>Bruce Hemingway</cp:lastModifiedBy>
  <cp:lastPrinted>2005-05-16T03:19:33Z</cp:lastPrinted>
  <dcterms:modified xsi:type="dcterms:W3CDTF">2010-12-06T07:22:22Z</dcterms:modified>
  <cp:revision>5</cp:revision>
  <dc:subject/>
  <dc:title>Evolutionary Computation</dc:title>
</cp:coreProperties>
</file>