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art I - DMA 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art II - Introduction to Processe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Lecture 12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uffer Process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ust be careful when modifying the buffer with interrupts turned on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09480" y="1523880"/>
            <a:ext cx="8526960" cy="4498200"/>
            <a:chOff x="609480" y="1523880"/>
            <a:chExt cx="8526960" cy="4498200"/>
          </a:xfrm>
        </p:grpSpPr>
        <p:sp>
          <p:nvSpPr>
            <p:cNvPr id="117" name=""/>
            <p:cNvSpPr/>
            <p:nvPr/>
          </p:nvSpPr>
          <p:spPr>
            <a:xfrm>
              <a:off x="3987360" y="3885840"/>
              <a:ext cx="5149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while (!quit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f (tail != head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process_command(input_buffer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remove_command(input_buffer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27240" y="1523880"/>
              <a:ext cx="55148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keyboard_ISR(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MASK_INTERRUPTS(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ch &lt;­ Read ACIA input regis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nput_buffer[tail++ % BUF_SIZE] = ch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UNMASK_INTERRUPTS(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5960" y="3352680"/>
              <a:ext cx="152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urn from IS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5105160"/>
              <a:ext cx="38260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What happens if another command is entered as you remove one from the input_buffer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2819160"/>
              <a:ext cx="7632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8120" y="3733560"/>
              <a:ext cx="9903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14800" y="4724280"/>
              <a:ext cx="838080" cy="3045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uffer Process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about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buffer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1800" y="1604880"/>
            <a:ext cx="6855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Str(char *strin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*strin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outputBuffer[tail++ % BUF_SIZE] = *string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9600" y="4597560"/>
            <a:ext cx="478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_ISR(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lockTicks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Str(convert(clockTicks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60280" y="152388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printStr(“this is a lin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62320" y="5715000"/>
            <a:ext cx="5035320" cy="489960"/>
            <a:chOff x="562320" y="5715000"/>
            <a:chExt cx="5035320" cy="489960"/>
          </a:xfrm>
        </p:grpSpPr>
        <p:sp>
          <p:nvSpPr>
            <p:cNvPr id="130" name=""/>
            <p:cNvSpPr/>
            <p:nvPr/>
          </p:nvSpPr>
          <p:spPr>
            <a:xfrm>
              <a:off x="483552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16400" y="579276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564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652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87400" y="579276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864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4952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30400" y="579276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1164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9252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3400" y="579276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54640" y="57927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2320" y="5715000"/>
              <a:ext cx="4996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 H I S   I S  2 : 3 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50080" y="30034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3132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020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21080" y="30034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0232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320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4080" y="30034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4532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620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7080" y="30034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832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69200" y="30034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75800" y="2925720"/>
            <a:ext cx="34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宋体"/>
              </a:rPr>
              <a:t>T H I S   I 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06440" y="436896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Jump to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timer_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3480" y="3691080"/>
            <a:ext cx="3729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tail points here ­ and a timer interrupt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09520" y="1701720"/>
            <a:ext cx="909720" cy="50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70480" y="3397320"/>
            <a:ext cx="1622520" cy="366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06960" y="4037040"/>
            <a:ext cx="587520" cy="2937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26680" y="4556160"/>
            <a:ext cx="2543400" cy="42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12200" y="300024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97640" y="5791320"/>
            <a:ext cx="347400" cy="37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Section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of Cod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ieces of code that must appear as an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atomic a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0080" y="2863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3132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4020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21080" y="2863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0232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8320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64080" y="2863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532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620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07080" y="2863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8832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69200" y="28638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5800" y="2786040"/>
            <a:ext cx="34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宋体"/>
              </a:rPr>
              <a:t>T H I S   I 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12200" y="286056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1800" y="1376280"/>
            <a:ext cx="673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Str(char * strin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ASK_INTERRUP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*string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outputBuffer[tail++ % BUF_SIZE] = *string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NMASK_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440" y="4257720"/>
            <a:ext cx="478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_ISR(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lockTicks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Str(convert(clockTicks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60280" y="129528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printStr(“this is a lin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26240" y="5213520"/>
            <a:ext cx="347760" cy="36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67520" y="5211720"/>
            <a:ext cx="347760" cy="37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91640" y="5127480"/>
            <a:ext cx="5789160" cy="489960"/>
            <a:chOff x="1691640" y="5127480"/>
            <a:chExt cx="5789160" cy="489960"/>
          </a:xfrm>
        </p:grpSpPr>
        <p:sp>
          <p:nvSpPr>
            <p:cNvPr id="186" name=""/>
            <p:cNvSpPr/>
            <p:nvPr/>
          </p:nvSpPr>
          <p:spPr>
            <a:xfrm>
              <a:off x="596412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45000" y="520524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5424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3512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6000" y="520524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724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7812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59000" y="520524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024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2112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02000" y="5205240"/>
              <a:ext cx="38124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83240" y="5205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91640" y="5127480"/>
              <a:ext cx="5789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 H I S   I S  A   L I N 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095640" y="40179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Jump to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timer_ISR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happens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fter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printStr()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 comple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3480" y="3462480"/>
            <a:ext cx="3729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tail points here ­ and a timer interrupt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885840" y="1473120"/>
            <a:ext cx="833400" cy="50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70480" y="3168720"/>
            <a:ext cx="1622520" cy="366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06960" y="3808440"/>
            <a:ext cx="587520" cy="2937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15880" y="4238640"/>
            <a:ext cx="1748160" cy="20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35520" y="5657760"/>
            <a:ext cx="4868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Atomic action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 ­ action that “appears”' to take place in 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single indivisible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Increasing Concurrency Between I/O and Program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So far today, we have seen how to use buffers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de-couple the speed of input/output devices from that of programs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executing on the CPU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how to deal with the corresponding concurrency problems with masking of interru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Now, how can we push this further??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particular, can we get the I/O to happe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eeding the CPU for every single operation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grammed I/O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ll of our examples so far have use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rogrammed I/O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rogrammed I/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program running on the processor moves data to/from the device using instru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ither interrupts or polling are used to discover when devices ar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52480" y="2743200"/>
            <a:ext cx="6035760" cy="3168360"/>
            <a:chOff x="1752480" y="2743200"/>
            <a:chExt cx="6035760" cy="3168360"/>
          </a:xfrm>
        </p:grpSpPr>
        <p:sp>
          <p:nvSpPr>
            <p:cNvPr id="211" name=""/>
            <p:cNvSpPr/>
            <p:nvPr/>
          </p:nvSpPr>
          <p:spPr>
            <a:xfrm>
              <a:off x="5197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720" y="2944800"/>
              <a:ext cx="1957320" cy="1119240"/>
            </a:xfrm>
            <a:prstGeom prst="roundRect">
              <a:avLst>
                <a:gd name="adj" fmla="val 652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2480" y="4430880"/>
              <a:ext cx="603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99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1800" y="4065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59440" y="3733920"/>
              <a:ext cx="91440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39920" y="3581280"/>
              <a:ext cx="76212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n-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1520" y="2743200"/>
              <a:ext cx="129564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16440" y="3124080"/>
              <a:ext cx="762120" cy="381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6440" y="3657600"/>
              <a:ext cx="7621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902040" y="3352320"/>
              <a:ext cx="914400" cy="381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97720" y="44197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280" y="5268960"/>
              <a:ext cx="4283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Processor grabs data from device and copies to buffer “by hand” (manuall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irect Memory Access (DMA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f we make the device a little smarter?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the device capable of moving data to/from memor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dvan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it would no longer need the processor to move the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Disadvan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more complic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95280" y="2362320"/>
            <a:ext cx="7086600" cy="3690360"/>
            <a:chOff x="1295280" y="2362320"/>
            <a:chExt cx="7086600" cy="3690360"/>
          </a:xfrm>
        </p:grpSpPr>
        <p:sp>
          <p:nvSpPr>
            <p:cNvPr id="227" name=""/>
            <p:cNvSpPr/>
            <p:nvPr/>
          </p:nvSpPr>
          <p:spPr>
            <a:xfrm>
              <a:off x="4740120" y="4179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3520" y="3085920"/>
              <a:ext cx="1957320" cy="1118880"/>
            </a:xfrm>
            <a:prstGeom prst="roundRect">
              <a:avLst>
                <a:gd name="adj" fmla="val 652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95280" y="4572000"/>
              <a:ext cx="603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2720" y="4179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4600" y="42066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2240" y="3875040"/>
              <a:ext cx="914400" cy="380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2720" y="3722400"/>
              <a:ext cx="7621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n-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4320" y="2884320"/>
              <a:ext cx="1295640" cy="137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9240" y="3265200"/>
              <a:ext cx="7621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9240" y="3798720"/>
              <a:ext cx="762120" cy="380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44840" y="3875040"/>
              <a:ext cx="898560" cy="867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0520" y="45608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520" y="3504960"/>
              <a:ext cx="380880" cy="533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5410080"/>
              <a:ext cx="47246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... while the processor executes instructions for anoth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886200" y="3961800"/>
              <a:ext cx="76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34120" y="2362320"/>
              <a:ext cx="304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DMA reads/writes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333760" y="2743200"/>
              <a:ext cx="60948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irect Memory Access – How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device can “steal” memory access cycles from the bus while the processor is not reading or writi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Generally a “block” move is set up ­­ maybe 512 bytes per block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setup routine is used to initialize the m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DMA move is d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signal bit is set indicating completion of the mo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re are other DMA method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imes there is a DMA­only device that moves the data to/from other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irect Memory Access – Why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Higher performan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ly one interrupt per N bytes moved, rather than one interrupt per byt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ealing a cycle from the bus and doing the transfer is faster than doing a single move instruc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byte potentially goes over the bus fewer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for high performance, block-oriented devices: disks, tapes, network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irect Memory Access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­­ DMA Read example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perations on processo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starting address of buf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max word 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 de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ait for interru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buf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perations on DMA devi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108240" y="2666880"/>
            <a:ext cx="6035760" cy="3701880"/>
            <a:chOff x="3108240" y="2666880"/>
            <a:chExt cx="6035760" cy="3701880"/>
          </a:xfrm>
        </p:grpSpPr>
        <p:sp>
          <p:nvSpPr>
            <p:cNvPr id="251" name=""/>
            <p:cNvSpPr/>
            <p:nvPr/>
          </p:nvSpPr>
          <p:spPr>
            <a:xfrm>
              <a:off x="6553080" y="4495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16120" y="3402000"/>
              <a:ext cx="1957320" cy="1119240"/>
            </a:xfrm>
            <a:prstGeom prst="roundRect">
              <a:avLst>
                <a:gd name="adj" fmla="val 652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08240" y="4887720"/>
              <a:ext cx="6035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5680" y="4495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37200" y="4522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4190760"/>
              <a:ext cx="91440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4038480"/>
              <a:ext cx="76212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n-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3200400"/>
              <a:ext cx="1295280" cy="1371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72200" y="3581280"/>
              <a:ext cx="76176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72200" y="4114800"/>
              <a:ext cx="76176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4190760"/>
              <a:ext cx="898560" cy="87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53480" y="487656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18120" y="3821040"/>
              <a:ext cx="38124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65440" y="5726160"/>
              <a:ext cx="4724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... while the processor executes instructions from anoth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698800" y="4278240"/>
              <a:ext cx="759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67280" y="2666880"/>
              <a:ext cx="3048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  <a:ea typeface="宋体"/>
                </a:rPr>
                <a:t>DMA reads/writes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146720" y="305892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186800" y="1371600"/>
            <a:ext cx="514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ruct dmaDevice { /* device registers 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int startingAddressOfBuffe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int wordCoun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controlAndStatu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2920" y="3171960"/>
            <a:ext cx="359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ait for start sign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hile (wordcount­­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m(address++) = deviceDat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ignal done (IR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e We Missing Something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processor and the I/O device cannot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afel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ccess the memory buffer at the same tim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f they have to take tur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n, the amount of overlapping may be much lower (unless the program does not really need the dat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s there any hope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etails of UAR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 (continued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Quiz #2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2590920" y="4114800"/>
            <a:ext cx="3581280" cy="1219320"/>
            <a:chOff x="2590920" y="4114800"/>
            <a:chExt cx="3581280" cy="1219320"/>
          </a:xfrm>
        </p:grpSpPr>
        <p:sp>
          <p:nvSpPr>
            <p:cNvPr id="273" name=""/>
            <p:cNvSpPr/>
            <p:nvPr/>
          </p:nvSpPr>
          <p:spPr>
            <a:xfrm>
              <a:off x="5410080" y="4114800"/>
              <a:ext cx="762120" cy="4572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4876920"/>
              <a:ext cx="761760" cy="4572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90920" y="4191120"/>
            <a:ext cx="3657600" cy="990360"/>
            <a:chOff x="2590920" y="4191120"/>
            <a:chExt cx="3657600" cy="990360"/>
          </a:xfrm>
        </p:grpSpPr>
        <p:sp>
          <p:nvSpPr>
            <p:cNvPr id="276" name=""/>
            <p:cNvSpPr/>
            <p:nvPr/>
          </p:nvSpPr>
          <p:spPr>
            <a:xfrm flipV="1">
              <a:off x="2590920" y="4191120"/>
              <a:ext cx="838080" cy="30456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410080" y="4876920"/>
              <a:ext cx="838440" cy="30456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ouble Buffer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double-buffer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system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produc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rites to one buffer while DM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consu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mpties an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r vice-versa ­­ the DMA could be the 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 to alternate buffer when both d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 have N parallel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Q: What is the right value for 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3886200"/>
            <a:ext cx="19051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Buff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952880"/>
            <a:ext cx="190512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Data Buff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90920" y="4191120"/>
            <a:ext cx="3657600" cy="990360"/>
            <a:chOff x="2590920" y="4191120"/>
            <a:chExt cx="3657600" cy="990360"/>
          </a:xfrm>
        </p:grpSpPr>
        <p:sp>
          <p:nvSpPr>
            <p:cNvPr id="283" name=""/>
            <p:cNvSpPr/>
            <p:nvPr/>
          </p:nvSpPr>
          <p:spPr>
            <a:xfrm flipV="1">
              <a:off x="2590920" y="4191120"/>
              <a:ext cx="838080" cy="30456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410080" y="4876920"/>
              <a:ext cx="838440" cy="30456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90920" y="4114800"/>
            <a:ext cx="3581280" cy="1219320"/>
            <a:chOff x="2590920" y="4114800"/>
            <a:chExt cx="3581280" cy="1219320"/>
          </a:xfrm>
        </p:grpSpPr>
        <p:sp>
          <p:nvSpPr>
            <p:cNvPr id="286" name=""/>
            <p:cNvSpPr/>
            <p:nvPr/>
          </p:nvSpPr>
          <p:spPr>
            <a:xfrm>
              <a:off x="5410080" y="4114800"/>
              <a:ext cx="762120" cy="4572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90920" y="4876920"/>
              <a:ext cx="761760" cy="4572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127880" y="4537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25200" y="44956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41520" y="3657600"/>
            <a:ext cx="8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40840" y="373392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Alter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9640" y="5105520"/>
            <a:ext cx="8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5360" y="513396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Alter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  <a:ea typeface="宋体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590920" y="4114800"/>
            <a:ext cx="3657600" cy="1219320"/>
            <a:chOff x="2590920" y="4114800"/>
            <a:chExt cx="3657600" cy="1219320"/>
          </a:xfrm>
        </p:grpSpPr>
        <p:grpSp>
          <p:nvGrpSpPr>
            <p:cNvPr id="295" name=""/>
            <p:cNvGrpSpPr/>
            <p:nvPr/>
          </p:nvGrpSpPr>
          <p:grpSpPr>
            <a:xfrm>
              <a:off x="2590920" y="4191120"/>
              <a:ext cx="3657600" cy="990360"/>
              <a:chOff x="2590920" y="4191120"/>
              <a:chExt cx="3657600" cy="99036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2590920" y="4191120"/>
                <a:ext cx="838080" cy="30456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10080" y="4876920"/>
                <a:ext cx="838440" cy="304560"/>
              </a:xfrm>
              <a:prstGeom prst="line">
                <a:avLst/>
              </a:prstGeom>
              <a:ln w="57240">
                <a:solidFill>
                  <a:srgbClr val="cc99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590920" y="4114800"/>
              <a:ext cx="3581280" cy="1219320"/>
              <a:chOff x="2590920" y="4114800"/>
              <a:chExt cx="3581280" cy="121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5410080" y="4114800"/>
                <a:ext cx="762120" cy="45720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876920"/>
                <a:ext cx="761760" cy="45720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y is Double Buffering Better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Why is double buffering usually bett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p processing ­­ Two “processes” run concurrently ­­ their activity overla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pplication process and the device are both active at the same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software and the device state machine do useful work at the same t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.e. at the same time that the producer calculates data and fills a buffer, the DMA consumes anoth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ice utilization ­­ it is easier to keep the consumer DMA bus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horter delay between completion of one buffer and the availability of n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ut, it tak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more memory and time to set up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, it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worth it for small, quick and infrequent I/O activitie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verlapped Proces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5473440"/>
            <a:ext cx="80010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Win: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overlap of the two processes, there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higher through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240" y="144792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ingle Buffer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6480" y="289548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Double Buffer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14400" y="1981080"/>
            <a:ext cx="1704960" cy="459720"/>
            <a:chOff x="914400" y="1981080"/>
            <a:chExt cx="1704960" cy="459720"/>
          </a:xfrm>
        </p:grpSpPr>
        <p:sp>
          <p:nvSpPr>
            <p:cNvPr id="308" name=""/>
            <p:cNvSpPr/>
            <p:nvPr/>
          </p:nvSpPr>
          <p:spPr>
            <a:xfrm>
              <a:off x="914400" y="2438280"/>
              <a:ext cx="170496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1560" y="1981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fill_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833560" y="1981080"/>
            <a:ext cx="1706040" cy="459720"/>
            <a:chOff x="2833560" y="1981080"/>
            <a:chExt cx="1706040" cy="459720"/>
          </a:xfrm>
        </p:grpSpPr>
        <p:sp>
          <p:nvSpPr>
            <p:cNvPr id="311" name=""/>
            <p:cNvSpPr/>
            <p:nvPr/>
          </p:nvSpPr>
          <p:spPr>
            <a:xfrm>
              <a:off x="2833560" y="2438280"/>
              <a:ext cx="17049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95840" y="1981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empty_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00960" y="1981080"/>
            <a:ext cx="1704960" cy="459720"/>
            <a:chOff x="6600960" y="1981080"/>
            <a:chExt cx="1704960" cy="459720"/>
          </a:xfrm>
        </p:grpSpPr>
        <p:sp>
          <p:nvSpPr>
            <p:cNvPr id="314" name=""/>
            <p:cNvSpPr/>
            <p:nvPr/>
          </p:nvSpPr>
          <p:spPr>
            <a:xfrm>
              <a:off x="6600960" y="2438280"/>
              <a:ext cx="17049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29760" y="1981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empty_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53080" y="1981080"/>
            <a:ext cx="1704960" cy="459720"/>
            <a:chOff x="4753080" y="1981080"/>
            <a:chExt cx="1704960" cy="459720"/>
          </a:xfrm>
        </p:grpSpPr>
        <p:sp>
          <p:nvSpPr>
            <p:cNvPr id="317" name=""/>
            <p:cNvSpPr/>
            <p:nvPr/>
          </p:nvSpPr>
          <p:spPr>
            <a:xfrm>
              <a:off x="4753080" y="2438280"/>
              <a:ext cx="170496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7280" y="1981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fill_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862360" y="3429000"/>
            <a:ext cx="1704960" cy="1145520"/>
            <a:chOff x="2862360" y="3429000"/>
            <a:chExt cx="1704960" cy="1145520"/>
          </a:xfrm>
        </p:grpSpPr>
        <p:sp>
          <p:nvSpPr>
            <p:cNvPr id="320" name=""/>
            <p:cNvSpPr/>
            <p:nvPr/>
          </p:nvSpPr>
          <p:spPr>
            <a:xfrm>
              <a:off x="2862360" y="3962520"/>
              <a:ext cx="17049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62360" y="4572000"/>
              <a:ext cx="17049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8840" y="342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fill_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8480" y="4114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empty_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781520" y="3429000"/>
            <a:ext cx="1704960" cy="1145520"/>
            <a:chOff x="4781520" y="3429000"/>
            <a:chExt cx="1704960" cy="1145520"/>
          </a:xfrm>
        </p:grpSpPr>
        <p:sp>
          <p:nvSpPr>
            <p:cNvPr id="325" name=""/>
            <p:cNvSpPr/>
            <p:nvPr/>
          </p:nvSpPr>
          <p:spPr>
            <a:xfrm>
              <a:off x="4781520" y="3962520"/>
              <a:ext cx="17049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81520" y="4572000"/>
              <a:ext cx="17049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7640" y="342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fill_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53600" y="41148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80"/>
                  </a:solidFill>
                  <a:latin typeface="Courier New"/>
                  <a:ea typeface="宋体"/>
                </a:rPr>
                <a:t>empty_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629400" y="3429000"/>
            <a:ext cx="1704960" cy="1145520"/>
            <a:chOff x="6629400" y="3429000"/>
            <a:chExt cx="1704960" cy="1145520"/>
          </a:xfrm>
        </p:grpSpPr>
        <p:sp>
          <p:nvSpPr>
            <p:cNvPr id="330" name=""/>
            <p:cNvSpPr/>
            <p:nvPr/>
          </p:nvSpPr>
          <p:spPr>
            <a:xfrm>
              <a:off x="6629400" y="3962520"/>
              <a:ext cx="17049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629400" y="3429000"/>
              <a:ext cx="1704960" cy="1145520"/>
              <a:chOff x="6629400" y="3429000"/>
              <a:chExt cx="1704960" cy="1145520"/>
            </a:xfrm>
          </p:grpSpPr>
          <p:sp>
            <p:nvSpPr>
              <p:cNvPr id="332" name=""/>
              <p:cNvSpPr/>
              <p:nvPr/>
            </p:nvSpPr>
            <p:spPr>
              <a:xfrm>
                <a:off x="6629400" y="4572000"/>
                <a:ext cx="17049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720" y="34290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80"/>
                    </a:solidFill>
                    <a:latin typeface="Courier New"/>
                    <a:ea typeface="宋体"/>
                  </a:rPr>
                  <a:t>fill_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82400" y="411480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80"/>
                    </a:solidFill>
                    <a:latin typeface="Courier New"/>
                    <a:ea typeface="宋体"/>
                  </a:rPr>
                  <a:t>empty_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942840" y="3429000"/>
            <a:ext cx="1704960" cy="1145520"/>
            <a:chOff x="942840" y="3429000"/>
            <a:chExt cx="1704960" cy="1145520"/>
          </a:xfrm>
        </p:grpSpPr>
        <p:grpSp>
          <p:nvGrpSpPr>
            <p:cNvPr id="336" name=""/>
            <p:cNvGrpSpPr/>
            <p:nvPr/>
          </p:nvGrpSpPr>
          <p:grpSpPr>
            <a:xfrm>
              <a:off x="942840" y="3429000"/>
              <a:ext cx="1704960" cy="533520"/>
              <a:chOff x="942840" y="3429000"/>
              <a:chExt cx="1704960" cy="533520"/>
            </a:xfrm>
          </p:grpSpPr>
          <p:sp>
            <p:nvSpPr>
              <p:cNvPr id="337" name=""/>
              <p:cNvSpPr/>
              <p:nvPr/>
            </p:nvSpPr>
            <p:spPr>
              <a:xfrm>
                <a:off x="942840" y="3962520"/>
                <a:ext cx="17049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67400" y="34290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80"/>
                    </a:solidFill>
                    <a:latin typeface="Courier New"/>
                    <a:ea typeface="宋体"/>
                  </a:rPr>
                  <a:t>fill_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942840" y="4114800"/>
              <a:ext cx="1704960" cy="459720"/>
              <a:chOff x="942840" y="4114800"/>
              <a:chExt cx="170496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942840" y="4572000"/>
                <a:ext cx="170496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20400" y="411480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80"/>
                    </a:solidFill>
                    <a:latin typeface="Courier New"/>
                    <a:ea typeface="宋体"/>
                  </a:rPr>
                  <a:t>wa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1765800" y="3657600"/>
            <a:ext cx="3986280" cy="1511280"/>
            <a:chOff x="1765800" y="3657600"/>
            <a:chExt cx="3986280" cy="1511280"/>
          </a:xfrm>
        </p:grpSpPr>
        <p:sp>
          <p:nvSpPr>
            <p:cNvPr id="343" name=""/>
            <p:cNvSpPr/>
            <p:nvPr/>
          </p:nvSpPr>
          <p:spPr>
            <a:xfrm>
              <a:off x="2971800" y="3657600"/>
              <a:ext cx="152280" cy="12193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65800" y="4800600"/>
              <a:ext cx="39862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Execution of the two activities overl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600" y="35053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宋体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宋体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80" y="426708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宋体"/>
              </a:rPr>
              <a:t>DMA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  <a:ea typeface="宋体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oreground/Background System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mall, simple systems usually don't have an O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stead, an application consists of an infinite loop that calls modules (functions) to perform various actions in the “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ackgroun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”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Service Routines (ISRs) handle asynchronous events in the “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oregroun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oreground =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ackground =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ask level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oreground/Background System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28800" y="1219320"/>
            <a:ext cx="1676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1905120"/>
            <a:ext cx="1676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362320"/>
            <a:ext cx="16765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8800" y="2971800"/>
            <a:ext cx="16765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3429000"/>
            <a:ext cx="1676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4114800"/>
            <a:ext cx="16765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8800" y="4724280"/>
            <a:ext cx="1676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181480"/>
            <a:ext cx="1676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3124080"/>
            <a:ext cx="1371600" cy="228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267080"/>
            <a:ext cx="1371600" cy="381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419720"/>
            <a:ext cx="13716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4419720"/>
            <a:ext cx="13716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505320" y="4648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7150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219320"/>
            <a:ext cx="914400" cy="4647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urier New"/>
                <a:ea typeface="宋体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94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1066680"/>
            <a:ext cx="0" cy="4800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38800" y="58323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57960" y="27082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3800" y="3886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9800" y="4038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04240" y="103176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Foregrou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14680" y="8380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Backgrou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formally,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gram in execution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 is more than just the cod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t includes the current activity of the program, as represented by the PC and the contents of the processor's register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Generally includes a stack and data sec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gram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s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assiv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entit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ces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s an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activ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entit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Control Block (PCB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cess Control Block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S structure which holds the pieces of information associated with a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cess stat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new, ready, running, waited, halted, etc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Program count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contents of the PC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CPU registe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contents of the CPU register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CPU scheduling inform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information on priority and scheduling parameter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Memory­management inform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Pointers to page or segment tabl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Accounting inform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CPU and real time used, time limits, etc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I/O status informa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: which I/O devices (if any) this process has allocated to it, list of open files, etc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04920" y="6248520"/>
            <a:ext cx="8610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Control Block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2895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thing more than a structure maintained by the O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 PCB from OSF/1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55440" y="635040"/>
            <a:ext cx="68558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 pcb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ha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*pcb_usp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User stack pointer     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ha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*pcb_ssp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System stack pointer   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r0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r1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r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r3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r4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r5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r6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r7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f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pc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rogram counter        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modpsr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rogram status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and mod register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#if MMAX_XPC || MMAX_A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hor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isrv; /* ISRV Register in I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(interrupt state)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#endif MMAX_XPC || MMAX_A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qua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f0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qua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f1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qu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f7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fsr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FPU status register    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t_entry *pcb_ptb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sigc[5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#if MMAX_X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dcr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Debug Condition Register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pcb_dsr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Debug Status Register   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car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Compare Address Register  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cb_bpc;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Breakpoint Program Counter *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#endif MMAX_X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CB in Linux (1/3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struct task_struct {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these are hardcoded - don't touch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volatile long state;  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-1 unrunnable, 0 runnable, &gt;0 stopped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unsigned long flags;  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per process flags, defined below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sigpending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mm_segment_t addr_limit;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thread address space; 0-0xBFFFFFFF for user-thea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                           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0-0xFFFFFFFF for kernel-thread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struct exec_domain *exec_domain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long need_resched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various fields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long counter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long priority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cycles_t avg_slice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SMP and runqueue state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has_cpu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processor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last_processor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lock_depth;    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Lock depth. We can context switch in/out of holding a syscall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struct task_struct *next_task, *prev_task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struct task_struct *next_run,  *prev_run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task state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struct linux_binfmt *binfmt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exit_code, exit_signal;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int pdeath_signal;  </a:t>
            </a:r>
            <a:r>
              <a:rPr b="0" i="1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/*  The signal sent when the parent dies  */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CB in Linux (2/3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870120"/>
            <a:ext cx="84582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personalit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dumpable: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did_exec: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id_t p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id_t pgr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id_t tty_old_pgr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pid_t sess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leader; /* boolean value for session group leader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ointers to (original) parent process, youngest child, younger sibling, older sibling, respectively.(p-&gt;father can be replaced with  p-&gt;p_pptr-&gt;pid)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ask_struct *p_opptr, *p_pptr, *p_cptr, *p_ysptr, *p_os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ID hash table linkage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ask_struct *pidhash_nex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ask_struct **pidhash_pprev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ointer to task[] array linkage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ask_struct **tarray_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wait_queue *wait_chldexit;       /* for wait4()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semaphore *vfork_sem;            /* for vfork()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policy, rt_priorit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it_real_value, it_prof_value, it_virt_val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it_real_incr, it_prof_incr, it_virt_inc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imer_list real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ms tim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start_tim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ng per_cpu_utime[NR_CPUS], per_cpu_stime[NR_CPU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mm fault and swap info: this can be seen as either mm-specific or thread-specific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min_flt, maj_flt, nswap, cmin_flt, cmaj_flt, cnswa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swappable: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ministrivi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Quiz #3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be open book/open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Midterm Exa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be open book/open no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dterm grades will be based on Quizzes #1-3 and Labs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CB in Linux (3/3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609480"/>
            <a:ext cx="79246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process credential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id_t uid,euid,suid,fsu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id_t gid,egid,sgid,fsgi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ngroup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id_t   groups[NGROUP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kernel_cap_t   cap_effective, cap_inheritable, cap_permitt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user_struct *us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limit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rlimit rlim[RLIM_NLIMIT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short used_mat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har comm[16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file system info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t link_cou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ty_struct *tty; /* NULL if no tty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ipc stuff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sem_undo *semun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sem_queue *semsleep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tss for this task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thread_struct t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filesystem informa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fs_struct *f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open file information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files_struct *fil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memory management info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mm_struct *m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/* signal handler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pinlock_t sigmask_lock;        /* Protects signal and blocked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signal_struct *si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igset_t signal, block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truct signal_queue *sigqueue, **sigqueue_tai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long sas_ss_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ize_t sas_ss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 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vs.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Task 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vs.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Thread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terms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proces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n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task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are often used interchangeabl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Thread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sometimes called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lightweight process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consist of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ister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ck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single process (task) can have multiple thread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se multiple threads share the text and data segments (physical memory), file descriptors and process priorit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thread has its own private register set (including PC) and stack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ultiple Processe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57200" y="838080"/>
            <a:ext cx="8077320" cy="5564160"/>
            <a:chOff x="457200" y="838080"/>
            <a:chExt cx="8077320" cy="5564160"/>
          </a:xfrm>
        </p:grpSpPr>
        <p:grpSp>
          <p:nvGrpSpPr>
            <p:cNvPr id="398" name=""/>
            <p:cNvGrpSpPr/>
            <p:nvPr/>
          </p:nvGrpSpPr>
          <p:grpSpPr>
            <a:xfrm>
              <a:off x="3733920" y="4800600"/>
              <a:ext cx="1066680" cy="1219320"/>
              <a:chOff x="3733920" y="4800600"/>
              <a:chExt cx="1066680" cy="1219320"/>
            </a:xfrm>
          </p:grpSpPr>
          <p:sp>
            <p:nvSpPr>
              <p:cNvPr id="399" name=""/>
              <p:cNvSpPr/>
              <p:nvPr/>
            </p:nvSpPr>
            <p:spPr>
              <a:xfrm>
                <a:off x="3733920" y="48006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33920" y="49528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33920" y="510552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33920" y="52578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33920" y="54100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33920" y="556272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3920" y="571500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3920" y="5867280"/>
                <a:ext cx="1066680" cy="15264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00200" y="2590920"/>
              <a:ext cx="1066680" cy="1218600"/>
              <a:chOff x="1600200" y="2590920"/>
              <a:chExt cx="1066680" cy="1218600"/>
            </a:xfrm>
          </p:grpSpPr>
          <p:sp>
            <p:nvSpPr>
              <p:cNvPr id="408" name=""/>
              <p:cNvSpPr/>
              <p:nvPr/>
            </p:nvSpPr>
            <p:spPr>
              <a:xfrm>
                <a:off x="1600200" y="259092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00200" y="27428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00200" y="28954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00200" y="30477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00200" y="32000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00200" y="33526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0200" y="35049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00200" y="36572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600200" y="838080"/>
              <a:ext cx="1066680" cy="533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1676520"/>
              <a:ext cx="1066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08400" y="184320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task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06668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066680" y="106632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66680" y="1066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49000" y="3882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82360" y="6033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4419720"/>
              <a:ext cx="807732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9720" y="441972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  <a:ea typeface="宋体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9720" y="4038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  <a:ea typeface="宋体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200400" y="855720"/>
              <a:ext cx="1839960" cy="3413160"/>
              <a:chOff x="3200400" y="855720"/>
              <a:chExt cx="1839960" cy="34131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3733920" y="2608200"/>
                <a:ext cx="1066680" cy="1219320"/>
                <a:chOff x="3733920" y="2608200"/>
                <a:chExt cx="1066680" cy="1219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920" y="26082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920" y="27604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733920" y="291312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733920" y="30654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733920" y="32176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733920" y="337032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733920" y="3522600"/>
                  <a:ext cx="1066680" cy="15228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733920" y="3674880"/>
                  <a:ext cx="1066680" cy="15264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3733920" y="855720"/>
                <a:ext cx="1066680" cy="53352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3920" y="1693800"/>
                <a:ext cx="106668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41760" y="1860480"/>
                <a:ext cx="129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00"/>
                    </a:solidFill>
                    <a:latin typeface="Times New Roman"/>
                    <a:ea typeface="宋体"/>
                  </a:rPr>
                  <a:t>task prior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3200400" y="1084320"/>
                <a:ext cx="533520" cy="1752480"/>
                <a:chOff x="3200400" y="1084320"/>
                <a:chExt cx="533520" cy="1752480"/>
              </a:xfrm>
            </p:grpSpPr>
            <p:sp>
              <p:nvSpPr>
                <p:cNvPr id="441" name=""/>
                <p:cNvSpPr/>
                <p:nvPr/>
              </p:nvSpPr>
              <p:spPr>
                <a:xfrm flipH="1">
                  <a:off x="3200400" y="283680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3200400" y="10843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00400" y="10843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3582360" y="3900600"/>
                <a:ext cx="145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50021"/>
                    </a:solidFill>
                    <a:latin typeface="Times New Roman"/>
                    <a:ea typeface="宋体"/>
                  </a:rPr>
                  <a:t>CPU regis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934320" y="2590920"/>
              <a:ext cx="1066680" cy="1218600"/>
              <a:chOff x="6934320" y="2590920"/>
              <a:chExt cx="1066680" cy="1218600"/>
            </a:xfrm>
          </p:grpSpPr>
          <p:sp>
            <p:nvSpPr>
              <p:cNvPr id="446" name=""/>
              <p:cNvSpPr/>
              <p:nvPr/>
            </p:nvSpPr>
            <p:spPr>
              <a:xfrm>
                <a:off x="6934320" y="259092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934320" y="27428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934320" y="28954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34320" y="30477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34320" y="32000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35268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34320" y="3504960"/>
                <a:ext cx="1066680" cy="1519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34320" y="3657240"/>
                <a:ext cx="1066680" cy="1522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6934320" y="838080"/>
              <a:ext cx="1066680" cy="533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1676520"/>
              <a:ext cx="10666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42160" y="1843200"/>
              <a:ext cx="12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task prio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6477120" y="1066320"/>
              <a:ext cx="457200" cy="1753200"/>
              <a:chOff x="6477120" y="1066320"/>
              <a:chExt cx="457200" cy="175320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6477120" y="2819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477120" y="1066320"/>
                <a:ext cx="0" cy="175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77120" y="1066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782760" y="38829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imes New Roman"/>
                  <a:ea typeface="宋体"/>
                </a:rPr>
                <a:t>CPU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9720" y="180324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..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52000" y="4540320"/>
              <a:ext cx="587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}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2920" y="51814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uffer process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uble buff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MA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S “Scheduling”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eground/Backgrou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 Control Block (P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rt I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inuation of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sted interrupts, critical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rect Memory Access (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ouble buff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rt I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eground/Backgroun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4262400"/>
            <a:ext cx="9144000" cy="1139760"/>
            <a:chOff x="0" y="4262400"/>
            <a:chExt cx="9144000" cy="11397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248680" y="428004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0" y="426240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174680" y="4411800"/>
              <a:ext cx="70660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  <a:ea typeface="宋体"/>
                </a:rPr>
                <a:t>Detours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  <a:ea typeface="宋体"/>
                </a:rPr>
                <a:t> signify material outside of, but indirect/direct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  <a:ea typeface="宋体"/>
                </a:rPr>
                <a:t>background/review material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  <a:ea typeface="宋体"/>
                </a:rPr>
                <a:t> for, the main l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currency between I/O and Proces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Keyboard command process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B” key is pressed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h &lt;­ Read keyboard input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tch (ch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‘b’ : startGame();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‘x’ : doSomeProcessing();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880" y="54100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20968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How long does this processing tak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5146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486400"/>
            <a:ext cx="2743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24480" y="2971800"/>
            <a:ext cx="1371600" cy="1600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1240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76212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w fast i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B” key is press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h &lt;­ Read keyboard input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witch (ch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ase ‘b’ : startGame(); brea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ase ‘x’ : doSomeProcessing(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 Events Be Missed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2286000"/>
            <a:ext cx="3048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What happens if another key is pressed ­ or if a timer interrupt occu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400800" y="3200400"/>
            <a:ext cx="457200" cy="12952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880" y="56386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18288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4382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715000"/>
            <a:ext cx="243864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 More Elegant Solu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dd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in software or hardware) for input character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ecouples the time for processing from the time between keystrokes, and provides a computable upper bound on the time required to service a keyboard interru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4200" y="2543040"/>
            <a:ext cx="6428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key is press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input_buffer[tail++ % BUF_SIZE] =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22840" y="3584520"/>
            <a:ext cx="3140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Stores the input and then quickly returns to the “main program” (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19720" y="388620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32280" y="40384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42280" y="55767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32280" y="30481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32280" y="35812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029200"/>
            <a:ext cx="13716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Can Go Wrong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. Buffer could overflow (bigger buffer helps, but there is a limit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. Could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oth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terrupt occur while adding the current keyboard character to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nput_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3355920"/>
            <a:ext cx="2133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Key is pressed in the middle of incrementing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429000" y="3962520"/>
            <a:ext cx="30492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01400" y="2590920"/>
            <a:ext cx="5271120" cy="3340080"/>
            <a:chOff x="401400" y="2590920"/>
            <a:chExt cx="5271120" cy="3340080"/>
          </a:xfrm>
        </p:grpSpPr>
        <p:sp>
          <p:nvSpPr>
            <p:cNvPr id="86" name=""/>
            <p:cNvSpPr/>
            <p:nvPr/>
          </p:nvSpPr>
          <p:spPr>
            <a:xfrm>
              <a:off x="401400" y="2590920"/>
              <a:ext cx="5271120" cy="27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 key is pressed by the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he “keyboard” interrupts the 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ump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keyboard IS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keyboard_ISR() 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nput_buffer[tail++ % BUF_SIZE] = ch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388620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7600" y="556272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turn from IS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289548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342900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4876920"/>
              <a:ext cx="137160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429880" y="2438280"/>
            <a:ext cx="3783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put_buffer[tail+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% BUF_SIZE] =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360" y="46483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32767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171840" y="457200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819520" y="4647960"/>
            <a:ext cx="18288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3124080"/>
            <a:ext cx="4572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asking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Interru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f interrupts are masked (IRQ and FIQ disabled), nothing will be processed until the ISR completes and retur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: entering IRQ mode masks IRQs and entering FIQ mode masks FIQs and IR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5337000"/>
            <a:ext cx="21337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Key is pressed in the middle of incrementing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3840" y="2590920"/>
            <a:ext cx="4787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 key is pressed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ASK_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put_buffer[tail++ % BUF_SIZE]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=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NMASK_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74760" y="3894120"/>
            <a:ext cx="0" cy="2300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74760" y="2897280"/>
            <a:ext cx="0" cy="2300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4760" y="3433680"/>
            <a:ext cx="0" cy="2304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2438280"/>
            <a:ext cx="472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ASK_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put_buffer[tail++ % BUF_SIZ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=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NMASK_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2767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791320"/>
            <a:ext cx="243864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680" y="60958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29200" y="3200400"/>
            <a:ext cx="76320" cy="3124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800600"/>
            <a:ext cx="24382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640" y="5334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johnso2</cp:lastModifiedBy>
  <cp:lastPrinted>2001-10-05T23:54:49Z</cp:lastPrinted>
  <dcterms:modified xsi:type="dcterms:W3CDTF">2004-09-07T22:34:35Z</dcterms:modified>
  <cp:revision>222</cp:revision>
  <dc:subject>Karanji Anjaneyaswamy</dc:subject>
  <dc:title>Vakratundam Mahakayam</dc:title>
</cp:coreProperties>
</file>