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uffering and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MA (Direct Memory Access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宋体"/>
              </a:rPr>
              <a:t>Lecture 11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nceptual View of Device Driver (con't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while (*string != '\0'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printChar(*string++);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98636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16200000">
            <a:off x="-723600" y="3009960"/>
            <a:ext cx="3200400" cy="1447920"/>
          </a:xfrm>
          <a:prstGeom prst="blockArc">
            <a:avLst>
              <a:gd name="adj1" fmla="val 10674578"/>
              <a:gd name="adj2" fmla="val 125422"/>
              <a:gd name="adj3" fmla="val 1103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760" y="1717560"/>
            <a:ext cx="1904760" cy="796680"/>
            <a:chOff x="914760" y="1717560"/>
            <a:chExt cx="1904760" cy="796680"/>
          </a:xfrm>
        </p:grpSpPr>
        <p:grpSp>
          <p:nvGrpSpPr>
            <p:cNvPr id="214" name=""/>
            <p:cNvGrpSpPr/>
            <p:nvPr/>
          </p:nvGrpSpPr>
          <p:grpSpPr>
            <a:xfrm>
              <a:off x="990720" y="2133360"/>
              <a:ext cx="1828800" cy="380880"/>
              <a:chOff x="990720" y="2133360"/>
              <a:chExt cx="1828800" cy="380880"/>
            </a:xfrm>
          </p:grpSpPr>
          <p:sp>
            <p:nvSpPr>
              <p:cNvPr id="215" name=""/>
              <p:cNvSpPr/>
              <p:nvPr/>
            </p:nvSpPr>
            <p:spPr>
              <a:xfrm>
                <a:off x="990720" y="2133360"/>
                <a:ext cx="228600" cy="380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19320" y="213336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7920" y="213336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76520" y="213336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05120" y="213336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33720" y="213336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62320" y="213336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90920" y="213336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914760" y="171756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79920" y="2971800"/>
            <a:ext cx="7782480" cy="3352680"/>
            <a:chOff x="979920" y="2971800"/>
            <a:chExt cx="7782480" cy="3352680"/>
          </a:xfrm>
        </p:grpSpPr>
        <p:sp>
          <p:nvSpPr>
            <p:cNvPr id="225" name=""/>
            <p:cNvSpPr/>
            <p:nvPr/>
          </p:nvSpPr>
          <p:spPr>
            <a:xfrm>
              <a:off x="1600200" y="2971800"/>
              <a:ext cx="5978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221840" y="487656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222200" y="3276360"/>
              <a:ext cx="533520" cy="685800"/>
              <a:chOff x="1222200" y="3276360"/>
              <a:chExt cx="533520" cy="68580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222200" y="32763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1222200" y="35049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1222200" y="3733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222200" y="3962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744560" y="3124080"/>
              <a:ext cx="849240" cy="963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ip Re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l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/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9240" y="4343400"/>
              <a:ext cx="990360" cy="160020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89440" y="4267080"/>
              <a:ext cx="129528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x Data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9440" y="472428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us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9440" y="518148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rol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9440" y="563868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x Data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8240" y="4267080"/>
              <a:ext cx="12952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x Shift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8240" y="5638680"/>
              <a:ext cx="12952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x Shift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70320" y="3352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1400" y="3352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355920" y="44193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355920" y="57909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35592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35592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22200" y="51814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46440" y="4419000"/>
              <a:ext cx="60948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6440" y="5181480"/>
              <a:ext cx="6858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013160" y="5867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18472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08400" y="54100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4720" y="4495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3520" y="4495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1400" y="46479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1400" y="5029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2920" y="624816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26280" y="601956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5400" y="319716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x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4160" y="5943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x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79920" y="44575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R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56640" y="48909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56640" y="53337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23880" y="5638680"/>
              <a:ext cx="9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x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36480" y="434340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x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0160" y="5257800"/>
              <a:ext cx="61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54480" y="5105160"/>
              <a:ext cx="72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66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2468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21800" y="53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0800000">
              <a:off x="1216440" y="4114440"/>
              <a:ext cx="59310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6" y="0"/>
                  </a:moveTo>
                  <a:arcTo wR="10800" hR="10800" stAng="-5410759" swAng="54107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6" y="0"/>
                  </a:moveTo>
                  <a:arcTo wR="10800" hR="10800" stAng="-5410759" swAng="5410759"/>
                </a:path>
              </a:pathLst>
            </a:custGeom>
            <a:noFill/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76920" y="4114800"/>
              <a:ext cx="2514600" cy="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48320" y="16002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ne probl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loop can execute a lot faster than the UART can transmit 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heck UART for spac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352680" y="844560"/>
            <a:ext cx="47246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while (*string != '\0'){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f 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UART is empt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intChar(*string++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}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486900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-723600" y="2892240"/>
            <a:ext cx="3200400" cy="1447920"/>
          </a:xfrm>
          <a:prstGeom prst="blockArc">
            <a:avLst>
              <a:gd name="adj1" fmla="val 10674578"/>
              <a:gd name="adj2" fmla="val 125422"/>
              <a:gd name="adj3" fmla="val 1103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14760" y="1600200"/>
            <a:ext cx="1904760" cy="796680"/>
            <a:chOff x="914760" y="1600200"/>
            <a:chExt cx="1904760" cy="796680"/>
          </a:xfrm>
        </p:grpSpPr>
        <p:grpSp>
          <p:nvGrpSpPr>
            <p:cNvPr id="278" name=""/>
            <p:cNvGrpSpPr/>
            <p:nvPr/>
          </p:nvGrpSpPr>
          <p:grpSpPr>
            <a:xfrm>
              <a:off x="990720" y="2016000"/>
              <a:ext cx="1828800" cy="380880"/>
              <a:chOff x="990720" y="2016000"/>
              <a:chExt cx="1828800" cy="380880"/>
            </a:xfrm>
          </p:grpSpPr>
          <p:sp>
            <p:nvSpPr>
              <p:cNvPr id="279" name=""/>
              <p:cNvSpPr/>
              <p:nvPr/>
            </p:nvSpPr>
            <p:spPr>
              <a:xfrm>
                <a:off x="990720" y="2016000"/>
                <a:ext cx="228600" cy="3808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201600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447920" y="201600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676520" y="201600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5120" y="201600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201600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362320" y="201600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90920" y="2016000"/>
                <a:ext cx="22860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914760" y="160020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979920" y="2854440"/>
            <a:ext cx="7782480" cy="3352680"/>
            <a:chOff x="979920" y="2854440"/>
            <a:chExt cx="7782480" cy="3352680"/>
          </a:xfrm>
        </p:grpSpPr>
        <p:sp>
          <p:nvSpPr>
            <p:cNvPr id="289" name=""/>
            <p:cNvSpPr/>
            <p:nvPr/>
          </p:nvSpPr>
          <p:spPr>
            <a:xfrm>
              <a:off x="1600200" y="2854440"/>
              <a:ext cx="5978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221840" y="47592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222200" y="3159000"/>
              <a:ext cx="533520" cy="685800"/>
              <a:chOff x="1222200" y="3159000"/>
              <a:chExt cx="533520" cy="6858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1222200" y="3159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222200" y="3387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1222200" y="36162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1222200" y="38448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744560" y="3006720"/>
              <a:ext cx="849240" cy="963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ip Re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el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/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89240" y="4226040"/>
              <a:ext cx="990360" cy="160020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89440" y="4149720"/>
              <a:ext cx="129528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x Data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89440" y="460692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tus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89440" y="506412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ntrol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9440" y="552132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x Data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18240" y="4149720"/>
              <a:ext cx="12952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x Shift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8240" y="5521320"/>
              <a:ext cx="12952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x Shift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70320" y="32353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51400" y="3235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355920" y="43020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355920" y="56736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355920" y="5292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55920" y="483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22200" y="506412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746440" y="4301640"/>
              <a:ext cx="60948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6440" y="5064120"/>
              <a:ext cx="6858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013160" y="5749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184720" y="5749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108400" y="52927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4720" y="4378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13520" y="437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51400" y="45306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51400" y="491184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12920" y="61308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26280" y="590220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75400" y="307980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x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4160" y="582624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x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79920" y="43401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R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56640" y="477360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56640" y="521640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23880" y="5521320"/>
              <a:ext cx="9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x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36480" y="422604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x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60160" y="5140440"/>
              <a:ext cx="61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54480" y="4987800"/>
              <a:ext cx="72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6680" y="4378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4680" y="483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1800" y="527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 rot="10800000">
              <a:off x="1216440" y="3997080"/>
              <a:ext cx="59310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6" y="0"/>
                  </a:moveTo>
                  <a:arcTo wR="10800" hR="10800" stAng="-5410759" swAng="54107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6" y="0"/>
                  </a:moveTo>
                  <a:arcTo wR="10800" hR="10800" stAng="-5410759" swAng="5410759"/>
                </a:path>
              </a:pathLst>
            </a:custGeom>
            <a:noFill/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3997440"/>
              <a:ext cx="2514600" cy="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 flipH="1">
            <a:off x="1447560" y="4683240"/>
            <a:ext cx="2361960" cy="0"/>
          </a:xfrm>
          <a:prstGeom prst="line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437832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76884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evice Driver (pseudo code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output_string(char *string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hile (*string != `\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writeChar(*string++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output_string() */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UARTBASE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EQU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0x10010BE0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SR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QU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x1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SR_Transmi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QU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x2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writeChar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,= UARTB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B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3, [R1,#LSR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1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TST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R3, #LSR_Transmi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EQ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RB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0, [R1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0, R0, #0x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EQ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0, #'\n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VEN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C,L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0, #'\r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20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ncurrency between I/O and Process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Keyboard command process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B” key is pressed by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keyboard” interrupts th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um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 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eyboard_ISR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h &lt;­ Read keyboard input 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tch (ch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ase ‘b’ : startGame(); break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ase ‘x’ : doSomeProcessing(); break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880" y="56386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19920" y="243828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ow long does this processing tak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22096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29000" y="274320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5715000"/>
            <a:ext cx="274320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324480" y="3200400"/>
            <a:ext cx="1371600" cy="1600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33520" y="762120"/>
            <a:ext cx="8001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fast i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board_I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B” key is pressed by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keyboard” interrupts th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mp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board I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board_ISR(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 &lt;­ Read keyboard input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ch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b’ : startGame(); brea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x’ : doSomeProcessing(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 Events Be Missed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2286000"/>
            <a:ext cx="3048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hat happens if another key is pressed ­ or if a timer interrupt occu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3200400"/>
            <a:ext cx="457200" cy="12952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304812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880" y="56386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182880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24382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66880" y="5715000"/>
            <a:ext cx="243864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 More Elegant Solut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dd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buff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in software or hardware) for input characters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decouples the time for processing from the time between keystrokes, and provides a computable upper bound on the time required to service a keyboard interru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95960" y="2590920"/>
            <a:ext cx="37836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ey is pressed by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“keyboard” interrupts th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m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board I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board_ISR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nput_buffer++ =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62720" y="3200400"/>
            <a:ext cx="31399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Stores the input and then quickly returns to the “main program” (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724280" y="3580920"/>
            <a:ext cx="838440" cy="7621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388620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880" y="55627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28954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342900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4876920"/>
            <a:ext cx="13716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Can Go Wrong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1. Buffer could overflow (bigger buffer helps, but there is a limit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2. Could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noth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nterrupt occur while adding the current keyboard character to the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input_buff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57600" y="3352680"/>
            <a:ext cx="21337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Keyboard is pressed in the middle of incrementing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</a:rPr>
              <a:t>*input_buffer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429000" y="3962520"/>
            <a:ext cx="30492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00680" y="2590920"/>
            <a:ext cx="3910680" cy="3340080"/>
            <a:chOff x="400680" y="2590920"/>
            <a:chExt cx="3910680" cy="3340080"/>
          </a:xfrm>
        </p:grpSpPr>
        <p:sp>
          <p:nvSpPr>
            <p:cNvPr id="374" name=""/>
            <p:cNvSpPr/>
            <p:nvPr/>
          </p:nvSpPr>
          <p:spPr>
            <a:xfrm>
              <a:off x="400680" y="2590920"/>
              <a:ext cx="3783600" cy="27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 key is pressed by the 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“keyboard” interrupts the proces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ump to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keyboard IS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keyboard_ISR() 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*input_buffer++ = ch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33720" y="3886200"/>
              <a:ext cx="0" cy="2286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67600" y="5562720"/>
              <a:ext cx="16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turn from IS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3720" y="2895480"/>
              <a:ext cx="0" cy="2286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33720" y="3429000"/>
              <a:ext cx="0" cy="228600"/>
            </a:xfrm>
            <a:prstGeom prst="line">
              <a:avLst/>
            </a:prstGeom>
            <a:ln w="93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4876920"/>
              <a:ext cx="137160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429880" y="2438280"/>
            <a:ext cx="3783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“keyboard” interrupts th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m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board I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board_ISR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nput_buffer++ =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39040" y="541008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327672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19920" y="4724280"/>
            <a:ext cx="316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819160" y="4648320"/>
            <a:ext cx="281916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334120" y="3124080"/>
            <a:ext cx="4572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asking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Interrupt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f interrupts are masked (IRQ and FIQ disabled), nothing will be processed until the ISR completes and returns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member: entering IRQ mode masks IRQs and entering FIQ mode masks IRQs and FI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ART interrupts the processor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800" y="2971800"/>
            <a:ext cx="4905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ey is pressed by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“keyboard” interrupts th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m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board I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board_ISR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skInterrupts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 &lt;­ Read keyboard input 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nput_buffer++ = ch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maskInterrupt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60640" y="42670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7080" y="60199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60640" y="327672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60640" y="38098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81080" y="5715000"/>
            <a:ext cx="12193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24760" y="2819520"/>
            <a:ext cx="3929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“keyboard” interrupts th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mp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board I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eyboard_ISR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skInterrupts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 &lt;­ Read kbd in 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nput_buffer++ = ch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maskInterrupt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3080" y="57913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rom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31240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86600" y="3581280"/>
            <a:ext cx="0" cy="228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943600" y="5105520"/>
            <a:ext cx="3168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5320" y="3809880"/>
            <a:ext cx="21333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Keyboard is pressed in the middle of incrementing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</a:rPr>
              <a:t>*input_buffer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200400" y="3123720"/>
            <a:ext cx="2590920" cy="2667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124080" y="4495680"/>
            <a:ext cx="38124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uffer Process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ust be careful when modifying the buffer with interrupts turned on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09480" y="1523880"/>
            <a:ext cx="8526960" cy="4498200"/>
            <a:chOff x="609480" y="1523880"/>
            <a:chExt cx="8526960" cy="4498200"/>
          </a:xfrm>
        </p:grpSpPr>
        <p:sp>
          <p:nvSpPr>
            <p:cNvPr id="406" name=""/>
            <p:cNvSpPr/>
            <p:nvPr/>
          </p:nvSpPr>
          <p:spPr>
            <a:xfrm>
              <a:off x="3987360" y="3885840"/>
              <a:ext cx="5149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while (!quit)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f (*input_buffer)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rocessCommand(*input_buffer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moveCommand(*input_buffer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87360" y="1523880"/>
              <a:ext cx="46612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keyboard_ISR()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skInterrupts(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h &lt;­ Read ACIA input regis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*input_buffer++ = ch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maskInterrupts(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05960" y="3352680"/>
              <a:ext cx="152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from IS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9480" y="5105160"/>
              <a:ext cx="382608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What happens if another command is entered as you remove one from the inputBuffer?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86000" y="2819160"/>
              <a:ext cx="76320" cy="533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48120" y="3733560"/>
              <a:ext cx="99036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114800" y="4724280"/>
              <a:ext cx="838080" cy="3045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Buffer Processing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ow about the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prin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buffer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70000" y="1523880"/>
            <a:ext cx="8623080" cy="4680720"/>
            <a:chOff x="270000" y="1523880"/>
            <a:chExt cx="8623080" cy="4680720"/>
          </a:xfrm>
        </p:grpSpPr>
        <p:sp>
          <p:nvSpPr>
            <p:cNvPr id="416" name=""/>
            <p:cNvSpPr/>
            <p:nvPr/>
          </p:nvSpPr>
          <p:spPr>
            <a:xfrm>
              <a:off x="270000" y="1604880"/>
              <a:ext cx="55148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rintStr(*string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har *str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while (*string) 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outputBuffer[tail++] = *string++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9600" y="4597200"/>
              <a:ext cx="4783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timer_ISR()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lockTicks++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rintStr(convert(clockTicks)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60280" y="1523880"/>
              <a:ext cx="34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Courier New"/>
                </a:rPr>
                <a:t>printStr(“this is a line”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2320" y="5714640"/>
              <a:ext cx="5035320" cy="489960"/>
              <a:chOff x="562320" y="5714640"/>
              <a:chExt cx="5035320" cy="489960"/>
            </a:xfrm>
          </p:grpSpPr>
          <p:sp>
            <p:nvSpPr>
              <p:cNvPr id="420" name=""/>
              <p:cNvSpPr/>
              <p:nvPr/>
            </p:nvSpPr>
            <p:spPr>
              <a:xfrm>
                <a:off x="4835520" y="5792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16400" y="5792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25640" y="5792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06520" y="5792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87400" y="5792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68640" y="5792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549520" y="5792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30400" y="5792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311640" y="5792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692520" y="5792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073400" y="5792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454640" y="5792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2320" y="5714640"/>
                <a:ext cx="49964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ourier New"/>
                  </a:rPr>
                  <a:t>T H I S   I S  2 : 3 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7750080" y="3003120"/>
              <a:ext cx="38124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31320" y="300312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40200" y="300312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21080" y="3003120"/>
              <a:ext cx="38124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02320" y="300312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83200" y="300312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64080" y="3003120"/>
              <a:ext cx="38124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45320" y="300312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26200" y="300312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07080" y="3003120"/>
              <a:ext cx="38124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88320" y="300312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69200" y="300312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75800" y="2925360"/>
              <a:ext cx="3411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urier New"/>
                </a:rPr>
                <a:t>T H I S   I 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06440" y="4368600"/>
              <a:ext cx="22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Jump to </a:t>
              </a:r>
              <a:r>
                <a:rPr b="0" lang="en-US" sz="1800" spc="-1" strike="noStrike">
                  <a:solidFill>
                    <a:srgbClr val="cc3300"/>
                  </a:solidFill>
                  <a:latin typeface="Courier New"/>
                </a:rPr>
                <a:t>timer_IS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93480" y="3690720"/>
              <a:ext cx="37299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</a:rPr>
                <a:t>tail points here ­ and a timer interrupt occu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003120" y="1701720"/>
              <a:ext cx="1716120" cy="104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5370480" y="3396600"/>
              <a:ext cx="1622520" cy="3668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106960" y="4036680"/>
              <a:ext cx="587520" cy="293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426680" y="4555800"/>
              <a:ext cx="2543400" cy="428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12200" y="300024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97640" y="5790960"/>
              <a:ext cx="347400" cy="379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hand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sted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timing and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s on the X-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talling and writing interrupt hand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erial Communicatio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mmunications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synchronous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rial port and bit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rial I/O from device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ritical Sections of Cod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ieces of code that must appear as an </a:t>
            </a:r>
            <a:r>
              <a:rPr b="1" lang="en-US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atomic action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70000" y="1295280"/>
            <a:ext cx="8874000" cy="5005080"/>
            <a:chOff x="270000" y="1295280"/>
            <a:chExt cx="8874000" cy="5005080"/>
          </a:xfrm>
        </p:grpSpPr>
        <p:sp>
          <p:nvSpPr>
            <p:cNvPr id="457" name=""/>
            <p:cNvSpPr/>
            <p:nvPr/>
          </p:nvSpPr>
          <p:spPr>
            <a:xfrm>
              <a:off x="7750080" y="2863440"/>
              <a:ext cx="38124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31320" y="286344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40200" y="286344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21080" y="2863440"/>
              <a:ext cx="38124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02320" y="286344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83200" y="286344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64080" y="2863440"/>
              <a:ext cx="38124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45320" y="286344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26200" y="286344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07080" y="2863440"/>
              <a:ext cx="38124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88320" y="286344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69200" y="2863440"/>
              <a:ext cx="380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800" y="2785680"/>
              <a:ext cx="3411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urier New"/>
                </a:rPr>
                <a:t>T H I S   I 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12200" y="286056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0000" y="1376280"/>
              <a:ext cx="5392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rintStr(*string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har *str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skInterrupts(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while (*string)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outputBuffer[tail++] = *string++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maskInterrupts(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8440" y="4257360"/>
              <a:ext cx="4783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timer_ISR(){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clockTicks++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rintStr(convert(clockTicks)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60280" y="1295280"/>
              <a:ext cx="34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Courier New"/>
                </a:rPr>
                <a:t>printStr(“this is a line”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26240" y="5213160"/>
              <a:ext cx="347760" cy="369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7520" y="5211360"/>
              <a:ext cx="347760" cy="379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1691640" y="5127480"/>
              <a:ext cx="5789160" cy="489960"/>
              <a:chOff x="1691640" y="5127480"/>
              <a:chExt cx="5789160" cy="489960"/>
            </a:xfrm>
          </p:grpSpPr>
          <p:sp>
            <p:nvSpPr>
              <p:cNvPr id="477" name=""/>
              <p:cNvSpPr/>
              <p:nvPr/>
            </p:nvSpPr>
            <p:spPr>
              <a:xfrm>
                <a:off x="5964120" y="5205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45000" y="5205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154240" y="5205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535120" y="5205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916000" y="5205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297240" y="5205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78120" y="5205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059000" y="5205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440240" y="5205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821120" y="5205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202000" y="5205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583240" y="5205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91640" y="5127480"/>
                <a:ext cx="5789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ourier New"/>
                  </a:rPr>
                  <a:t>T H I S   I S  A   L I N 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3095640" y="4017600"/>
              <a:ext cx="60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Jump to </a:t>
              </a:r>
              <a:r>
                <a:rPr b="0" lang="en-US" sz="1800" spc="-1" strike="noStrike">
                  <a:solidFill>
                    <a:srgbClr val="cc3300"/>
                  </a:solidFill>
                  <a:latin typeface="Courier New"/>
                </a:rPr>
                <a:t>timer_ISR 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happens </a:t>
              </a: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</a:rPr>
                <a:t>after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cc3300"/>
                  </a:solidFill>
                  <a:latin typeface="Courier New"/>
                </a:rPr>
                <a:t>printStr()</a:t>
              </a: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 comple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93480" y="3462120"/>
              <a:ext cx="37299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</a:rPr>
                <a:t>tail points here ­ and a timer interrupt occu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003120" y="1473120"/>
              <a:ext cx="1716120" cy="104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370480" y="3168000"/>
              <a:ext cx="1622520" cy="3668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106960" y="3808080"/>
              <a:ext cx="587520" cy="293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415880" y="4238280"/>
              <a:ext cx="1748160" cy="20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35520" y="5657760"/>
              <a:ext cx="48686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Atomic action</a:t>
              </a: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 ­ action that “appears”' to take place in a 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single indivisible 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Increasing Concurrency Between I/O and Programs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So far today, we have seen how to use buffers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de-couple the speed of input/output devices from that of programs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executing on the CPU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d how to deal with the corresponding concurrency problems with masking of interru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Now, how can we push this farther??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 particular, can we get the I/O to happen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eeding the CPU for every single operation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ncurrency between I/O and processing activit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Buffer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aling with nested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sections and masking interrup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Quote of the Da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2152800"/>
            <a:ext cx="6629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 am grateful for all my problems.  After each one was overcome, I became stronger and more able to meet those that were still to come.  I grew in all my difficultie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r"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宋体"/>
              </a:rPr>
              <a:t>J. C. Pen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essons Learned From Lab 1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Some Common Mistakes from Part 1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Very little error check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happens when </a:t>
            </a:r>
            <a:r>
              <a:rPr b="0" lang="en-US" sz="2800" spc="-1" strike="noStrike">
                <a:solidFill>
                  <a:srgbClr val="003300"/>
                </a:solidFill>
                <a:latin typeface="Courier New"/>
                <a:ea typeface="宋体"/>
              </a:rPr>
              <a:t>MOVS pc, lr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instruction is executed in the </a:t>
            </a:r>
            <a:r>
              <a:rPr b="0" lang="en-US" sz="2800" spc="-1" strike="noStrike">
                <a:solidFill>
                  <a:srgbClr val="003300"/>
                </a:solidFill>
                <a:latin typeface="Courier New"/>
                <a:ea typeface="宋体"/>
              </a:rPr>
              <a:t>SWIHandlerEntry.s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assembly file 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does the stack pointer get initialized 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Common Misunderstanding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oop unrolling not very clear. Assumed that only constant sized loops can be FULLY unrolled for loop unrolling and variable sized loops cannot easily be unrolle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.g.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bad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example of loop-unrolling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       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for (i = 1; i &lt; n; i++)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                foo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        t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       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for (i = 1; i &lt; n - 1; i++)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       foo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   foo;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ncurrency between I/O and processing activities: An Introduc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Buffer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aling with nested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sections and masking interrup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or has parallel buses for data ­­ need to convert serial data to parallel (and vice versa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tandard way is with UAR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UART ­ Universal asynchronous receiver and transmitt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ART ­ Universal synchronous and asynchronous receiver and transmit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facing Serial Data to Microprocesso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971800"/>
            <a:ext cx="59785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221840" y="48769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222200" y="3276720"/>
            <a:ext cx="533520" cy="685800"/>
            <a:chOff x="1222200" y="3276720"/>
            <a:chExt cx="533520" cy="685800"/>
          </a:xfrm>
        </p:grpSpPr>
        <p:sp>
          <p:nvSpPr>
            <p:cNvPr id="60" name=""/>
            <p:cNvSpPr/>
            <p:nvPr/>
          </p:nvSpPr>
          <p:spPr>
            <a:xfrm flipH="1">
              <a:off x="1222200" y="3276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2222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222200" y="3733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222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744560" y="3124080"/>
            <a:ext cx="849240" cy="96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ip 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9240" y="4343400"/>
            <a:ext cx="990360" cy="16002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9440" y="4267080"/>
            <a:ext cx="12952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 Data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9440" y="4724280"/>
            <a:ext cx="12952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u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9440" y="5181480"/>
            <a:ext cx="12952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440" y="5638680"/>
            <a:ext cx="12952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 Data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8240" y="4267080"/>
            <a:ext cx="12952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 Shif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8240" y="5638680"/>
            <a:ext cx="12952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 Shif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7032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140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5920" y="44197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55920" y="57913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5592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35592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22200" y="51814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746440" y="4419720"/>
            <a:ext cx="60948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6440" y="5181480"/>
            <a:ext cx="6858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01316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18472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840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472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35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51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51400" y="5029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2485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6280" y="601992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5400" y="3197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4160" y="594360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9920" y="4457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56640" y="489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6640" y="5334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23880" y="56386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36480" y="43434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57560" y="515628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9160" y="5181480"/>
            <a:ext cx="7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1800" y="5396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erial I/O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6094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High­level I/O call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rintf(“the number is %d\n”, someNumbe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ow­level detail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rintf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 library call which formats the output (e.g., convert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%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ormats) and then makes system call to output the formatted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ted string is nothing more than an array of charac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w­level routines then output the string one character at a time using U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29160" y="2971800"/>
            <a:ext cx="7833240" cy="3352680"/>
            <a:chOff x="929160" y="2971800"/>
            <a:chExt cx="7833240" cy="3352680"/>
          </a:xfrm>
        </p:grpSpPr>
        <p:sp>
          <p:nvSpPr>
            <p:cNvPr id="105" name=""/>
            <p:cNvSpPr/>
            <p:nvPr/>
          </p:nvSpPr>
          <p:spPr>
            <a:xfrm>
              <a:off x="1600200" y="2971800"/>
              <a:ext cx="597852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221840" y="487656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222200" y="3276360"/>
              <a:ext cx="533520" cy="685800"/>
              <a:chOff x="1222200" y="3276360"/>
              <a:chExt cx="533520" cy="685800"/>
            </a:xfrm>
          </p:grpSpPr>
          <p:sp>
            <p:nvSpPr>
              <p:cNvPr id="108" name=""/>
              <p:cNvSpPr/>
              <p:nvPr/>
            </p:nvSpPr>
            <p:spPr>
              <a:xfrm flipH="1">
                <a:off x="1222200" y="32763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222200" y="35049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222200" y="3733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222200" y="3962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744560" y="3124080"/>
              <a:ext cx="849240" cy="963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ip Re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/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240" y="4343400"/>
              <a:ext cx="990360" cy="160020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9440" y="426708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x Data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9440" y="472428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us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9440" y="518148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trol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89440" y="5638680"/>
              <a:ext cx="12952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x Data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8240" y="4267080"/>
              <a:ext cx="12952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x Shift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8240" y="5638680"/>
              <a:ext cx="12952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x Shift 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70320" y="3352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51400" y="33526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5920" y="44193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355920" y="579096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35592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35592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200" y="5181480"/>
              <a:ext cx="1600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746440" y="4419000"/>
              <a:ext cx="60948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6440" y="5181480"/>
              <a:ext cx="6858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013160" y="5867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18472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08400" y="54100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4720" y="4495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3520" y="4495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51400" y="46479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51400" y="50292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12920" y="624816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6280" y="601956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75400" y="319716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x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4160" y="5943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x 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79920" y="44575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R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56640" y="48909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56640" y="53337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23880" y="5638680"/>
              <a:ext cx="9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x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36480" y="434340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x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0160" y="5257800"/>
              <a:ext cx="61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9160" y="5181480"/>
              <a:ext cx="72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2468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21800" y="53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nceptual View of Device Driv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while (*string != `\0'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printChar(*string++)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2930400"/>
            <a:ext cx="59785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221840" y="4835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22200" y="3235320"/>
            <a:ext cx="533520" cy="685800"/>
            <a:chOff x="1222200" y="3235320"/>
            <a:chExt cx="533520" cy="685800"/>
          </a:xfrm>
        </p:grpSpPr>
        <p:sp>
          <p:nvSpPr>
            <p:cNvPr id="155" name=""/>
            <p:cNvSpPr/>
            <p:nvPr/>
          </p:nvSpPr>
          <p:spPr>
            <a:xfrm flipH="1">
              <a:off x="1222200" y="323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222200" y="3463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222200" y="369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222200" y="392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744560" y="3083040"/>
            <a:ext cx="849240" cy="96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hip 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9240" y="4302000"/>
            <a:ext cx="990360" cy="16002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9440" y="4226040"/>
            <a:ext cx="12952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x Data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4683240"/>
            <a:ext cx="12952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tu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9440" y="5140440"/>
            <a:ext cx="12952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9440" y="5597640"/>
            <a:ext cx="12952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x Data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8240" y="4226040"/>
            <a:ext cx="1295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x Shif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8240" y="5597640"/>
            <a:ext cx="1295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x Shif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70320" y="33116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51400" y="33116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355920" y="43783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355920" y="57499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355920" y="5369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355920" y="49118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2200" y="51404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746440" y="4377960"/>
            <a:ext cx="60948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6440" y="514044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013160" y="58262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184720" y="5826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108400" y="53690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4720" y="4454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3520" y="44546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51400" y="460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51400" y="4987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12920" y="62071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26280" y="597852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5400" y="31561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x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4160" y="590220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x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9920" y="4416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56640" y="48499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56640" y="5292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23880" y="5597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x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36480" y="4302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x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0160" y="521640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54480" y="5064120"/>
            <a:ext cx="7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454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24680" y="4911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1800" y="5354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66680" y="2092320"/>
            <a:ext cx="1828800" cy="380880"/>
            <a:chOff x="1066680" y="2092320"/>
            <a:chExt cx="1828800" cy="380880"/>
          </a:xfrm>
        </p:grpSpPr>
        <p:sp>
          <p:nvSpPr>
            <p:cNvPr id="198" name=""/>
            <p:cNvSpPr/>
            <p:nvPr/>
          </p:nvSpPr>
          <p:spPr>
            <a:xfrm>
              <a:off x="1066680" y="2092320"/>
              <a:ext cx="22860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95280" y="2092320"/>
              <a:ext cx="228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3880" y="2092320"/>
              <a:ext cx="228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52480" y="2092320"/>
              <a:ext cx="228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1080" y="2092320"/>
              <a:ext cx="228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9680" y="2092320"/>
              <a:ext cx="228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8280" y="2092320"/>
              <a:ext cx="228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66880" y="2092320"/>
              <a:ext cx="2286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990720" y="4944960"/>
            <a:ext cx="228600" cy="3812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rot="16200000">
            <a:off x="-723600" y="2968560"/>
            <a:ext cx="3200400" cy="1447920"/>
          </a:xfrm>
          <a:prstGeom prst="blockArc">
            <a:avLst>
              <a:gd name="adj1" fmla="val 10674578"/>
              <a:gd name="adj2" fmla="val 125422"/>
              <a:gd name="adj3" fmla="val 1103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6765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Raj Rajkumar</dc:creator>
  <dc:description/>
  <dc:language>en-US</dc:language>
  <cp:lastModifiedBy>jjohnso2</cp:lastModifiedBy>
  <cp:lastPrinted>2001-10-03T18:00:58Z</cp:lastPrinted>
  <dcterms:modified xsi:type="dcterms:W3CDTF">2004-09-07T22:33:27Z</dcterms:modified>
  <cp:revision>280</cp:revision>
  <dc:subject/>
  <dc:title>Introduction to Embedded Systems</dc:title>
</cp:coreProperties>
</file>