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12.jpeg" ContentType="image/jpeg"/>
  <Override PartName="/ppt/media/image5.wmf" ContentType="image/x-wmf"/>
  <Override PartName="/ppt/media/image10.png" ContentType="image/png"/>
  <Override PartName="/ppt/media/image4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Course Wrap-Up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3920" y="2550960"/>
            <a:ext cx="7427880" cy="39625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036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5: Code Optimization and Profi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fi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mdahl’s Law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80/20 rul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filing in the ARM environme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440" y="2565360"/>
            <a:ext cx="7332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m%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f%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%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6.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16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5.88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75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print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ock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sprint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3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.56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12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69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l_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.59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.43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_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.91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9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­­­­­­­­­­­­­­­­­­­­­­­­­­­­­­­­­­­­----------------­­­­­­­­­­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.91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9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_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79.35%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.91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9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cmp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9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343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­­­­­­­­­­­­­­­­­­­­­­­­­­­­­­­­­­­­­­­­­­­­­­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s_string_compar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.17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02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ell_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.43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05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_sor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9.44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343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cmp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6.05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6.05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0%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70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70560" y="806400"/>
            <a:ext cx="24368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5: Code Optimization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9360" y="787320"/>
            <a:ext cx="3973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mproving program performan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tandard compiler optimiz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ub-expression eli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-code eli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ction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ggressive compiler optimiz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lining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chitectural code optimiz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771480"/>
            <a:ext cx="16761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2143080"/>
            <a:ext cx="16761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Ba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4505400"/>
            <a:ext cx="167652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 Addr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505400"/>
            <a:ext cx="16761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 Data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505400"/>
            <a:ext cx="16765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 Data/ Instr Re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419800"/>
            <a:ext cx="266724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1457280"/>
            <a:ext cx="9907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m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3057480"/>
            <a:ext cx="99036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 Shift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438360"/>
            <a:ext cx="1371600" cy="457200"/>
          </a:xfrm>
          <a:custGeom>
            <a:avLst/>
            <a:gdLst>
              <a:gd name="textAreaLeft" fmla="*/ 301680 w 1371600"/>
              <a:gd name="textAreaRight" fmla="*/ 1069920 w 13716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-bit 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4809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5724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4920" y="5722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5640" y="4808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0000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241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24480" y="389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100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1241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37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6766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1305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130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1000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238880" y="2371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238880" y="100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685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2904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9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905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286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229600" y="48099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00640" y="50115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</a:rPr>
              <a:t>Dout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7600" y="50385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</a:rPr>
              <a:t>Data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5040" y="22636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ALU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82800" y="3133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B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26840" y="3025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A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37400" y="145728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Incre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77120" y="41238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412416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26766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752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905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53280" y="2752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31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6: Memory, I/O and Bus Architectur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32520" y="2790720"/>
            <a:ext cx="701640" cy="177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5440" y="3552840"/>
            <a:ext cx="68112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ic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34120" y="3552840"/>
            <a:ext cx="68112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ic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24840" y="3552840"/>
            <a:ext cx="681120" cy="387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ic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34160" y="3095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9960" y="3095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0320" y="3095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29760" y="3095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74040" y="26035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1160" y="7938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many levels of computer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CPU-Memory Interfa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mory Subsystem and Technolog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PU-Bus-I/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Register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us Protocol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ous bus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 bus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arbi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7: The X-Boar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894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e 18-349 lab 80200 Big-Endian Evaluation Boar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80200 XScale process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Xilinx FPG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e X-Board and accessori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7-Segment L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rial p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99000" y="1892160"/>
            <a:ext cx="52527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8: Timers and Interru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44920" y="2160720"/>
            <a:ext cx="4195440" cy="2640600"/>
            <a:chOff x="4444920" y="2160720"/>
            <a:chExt cx="4195440" cy="2640600"/>
          </a:xfrm>
        </p:grpSpPr>
        <p:sp>
          <p:nvSpPr>
            <p:cNvPr id="197" name=""/>
            <p:cNvSpPr/>
            <p:nvPr/>
          </p:nvSpPr>
          <p:spPr>
            <a:xfrm>
              <a:off x="7784280" y="3603600"/>
              <a:ext cx="0" cy="5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5520" y="3148560"/>
              <a:ext cx="1193400" cy="37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893200" y="3047400"/>
              <a:ext cx="1130400" cy="252720"/>
              <a:chOff x="5893200" y="3047400"/>
              <a:chExt cx="1130400" cy="2527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93200" y="3300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599616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96160" y="3047400"/>
                <a:ext cx="1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09840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98400" y="3300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20136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01360" y="304740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432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04320" y="3300120"/>
                <a:ext cx="1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40656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06560" y="304740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50988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09880" y="3300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61284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12840" y="3047400"/>
                <a:ext cx="1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71508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15080" y="3300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81804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18040" y="304740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6921360" y="3047400"/>
                <a:ext cx="0" cy="2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21360" y="3300120"/>
                <a:ext cx="1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44920" y="2693160"/>
              <a:ext cx="1287360" cy="252720"/>
              <a:chOff x="4444920" y="2693160"/>
              <a:chExt cx="1287360" cy="25272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492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451620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16200" y="269352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458784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8784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465948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948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73076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30760" y="294588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80240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240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87404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7404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94532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45320" y="269352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501696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1696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508860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8860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515988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9880" y="294588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523152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3152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30316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30316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37444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74440" y="269352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544608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46080" y="294588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51772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1772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58900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89000" y="2945880"/>
                <a:ext cx="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66064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60640" y="2693520"/>
                <a:ext cx="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732280" y="269316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7180560" y="3249720"/>
              <a:ext cx="1193400" cy="37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0560" y="2339640"/>
              <a:ext cx="1193400" cy="37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x12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80560" y="4159800"/>
              <a:ext cx="1193400" cy="37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/O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84280" y="2693520"/>
              <a:ext cx="0" cy="5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2600" y="3401280"/>
              <a:ext cx="14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215040" y="4362120"/>
              <a:ext cx="9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3680" y="367632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</a:rPr>
                <a:t>Clock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0720" y="2160720"/>
              <a:ext cx="152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</a:rPr>
                <a:t>Counter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64560" y="2693520"/>
              <a:ext cx="64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Reload on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12160" y="37270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</a:rPr>
                <a:t>Countdown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95320" y="4068000"/>
              <a:ext cx="885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Interrupt to 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28560" y="2997000"/>
              <a:ext cx="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2960" y="2463840"/>
              <a:ext cx="127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"/>
                </a:rPr>
                <a:t>System 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im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 tim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eek inside the t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structs for the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terrup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vs.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olled I/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ling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RQ and FIQ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6000" y="-360"/>
            <a:ext cx="8396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9: Interrupts and Serial Communicati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064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terrupts (con’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timing and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 on the ARM 7500 Evaluation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ing and writing 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rial Commun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munications and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port and bi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I/O from 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49920" y="4135320"/>
            <a:ext cx="4227480" cy="1677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430600" y="432756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30880" y="5767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0: Buffering and DMA (Direct Memory Access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currency between I/O and processing activit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uffer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ing with 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sections and masking interru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DMA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(Direct Memory Acces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d I/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301040" y="4024440"/>
            <a:ext cx="5744880" cy="1926000"/>
            <a:chOff x="1301040" y="4024440"/>
            <a:chExt cx="5744880" cy="1926000"/>
          </a:xfrm>
        </p:grpSpPr>
        <p:grpSp>
          <p:nvGrpSpPr>
            <p:cNvPr id="280" name=""/>
            <p:cNvGrpSpPr/>
            <p:nvPr/>
          </p:nvGrpSpPr>
          <p:grpSpPr>
            <a:xfrm>
              <a:off x="2631240" y="4356720"/>
              <a:ext cx="3260160" cy="1257120"/>
              <a:chOff x="2631240" y="4356720"/>
              <a:chExt cx="3260160" cy="1257120"/>
            </a:xfrm>
          </p:grpSpPr>
          <p:sp>
            <p:nvSpPr>
              <p:cNvPr id="281" name=""/>
              <p:cNvSpPr/>
              <p:nvPr/>
            </p:nvSpPr>
            <p:spPr>
              <a:xfrm>
                <a:off x="5197680" y="4356720"/>
                <a:ext cx="693720" cy="47124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31240" y="5142600"/>
                <a:ext cx="693360" cy="47124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631240" y="4435200"/>
              <a:ext cx="3329640" cy="1020960"/>
              <a:chOff x="2631240" y="4435200"/>
              <a:chExt cx="3329640" cy="102096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2631240" y="4435200"/>
                <a:ext cx="762840" cy="31392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197680" y="5142240"/>
                <a:ext cx="763200" cy="31392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394080" y="4120920"/>
              <a:ext cx="1734480" cy="70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 Buffer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24600" y="5221080"/>
              <a:ext cx="1734480" cy="7070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ata Buffer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631240" y="4435200"/>
              <a:ext cx="3329640" cy="1020960"/>
              <a:chOff x="2631240" y="4435200"/>
              <a:chExt cx="3329640" cy="102096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2631240" y="4435200"/>
                <a:ext cx="762840" cy="31392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197680" y="5142240"/>
                <a:ext cx="763200" cy="31392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631240" y="4356720"/>
              <a:ext cx="3260160" cy="1257120"/>
              <a:chOff x="2631240" y="4356720"/>
              <a:chExt cx="3260160" cy="1257120"/>
            </a:xfrm>
          </p:grpSpPr>
          <p:sp>
            <p:nvSpPr>
              <p:cNvPr id="292" name=""/>
              <p:cNvSpPr/>
              <p:nvPr/>
            </p:nvSpPr>
            <p:spPr>
              <a:xfrm>
                <a:off x="5197680" y="4356720"/>
                <a:ext cx="693720" cy="47124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31240" y="5142600"/>
                <a:ext cx="693360" cy="47124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301040" y="497232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Produc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0000" y="492948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90120" y="4024440"/>
              <a:ext cx="61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trans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5920" y="4104360"/>
              <a:ext cx="68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Altern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trans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67880" y="5515920"/>
              <a:ext cx="61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trans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84640" y="5551920"/>
              <a:ext cx="68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Altern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80"/>
                  </a:solidFill>
                  <a:latin typeface="Arial"/>
                </a:rPr>
                <a:t>trans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631240" y="4356720"/>
              <a:ext cx="3329640" cy="1256760"/>
              <a:chOff x="2631240" y="4356720"/>
              <a:chExt cx="3329640" cy="12567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2631240" y="4435200"/>
                <a:ext cx="3329640" cy="1020960"/>
                <a:chOff x="2631240" y="4435200"/>
                <a:chExt cx="3329640" cy="1020960"/>
              </a:xfrm>
            </p:grpSpPr>
            <p:sp>
              <p:nvSpPr>
                <p:cNvPr id="302" name=""/>
                <p:cNvSpPr/>
                <p:nvPr/>
              </p:nvSpPr>
              <p:spPr>
                <a:xfrm flipV="1">
                  <a:off x="2631240" y="4435200"/>
                  <a:ext cx="762840" cy="313920"/>
                </a:xfrm>
                <a:prstGeom prst="line">
                  <a:avLst/>
                </a:prstGeom>
                <a:ln w="57240">
                  <a:solidFill>
                    <a:srgbClr val="cc99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197680" y="5142240"/>
                  <a:ext cx="763200" cy="313920"/>
                </a:xfrm>
                <a:prstGeom prst="line">
                  <a:avLst/>
                </a:prstGeom>
                <a:ln w="57240">
                  <a:solidFill>
                    <a:srgbClr val="cc99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1240" y="4356720"/>
                <a:ext cx="3260160" cy="1256760"/>
                <a:chOff x="2631240" y="4356720"/>
                <a:chExt cx="3260160" cy="1256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97680" y="4356720"/>
                  <a:ext cx="693720" cy="47124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31240" y="5142240"/>
                  <a:ext cx="693360" cy="471240"/>
                </a:xfrm>
                <a:prstGeom prst="line">
                  <a:avLst/>
                </a:prstGeom>
                <a:ln w="5724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1: Processes and Process Scheduling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43240" y="196200"/>
            <a:ext cx="6122520" cy="6491520"/>
            <a:chOff x="3243240" y="196200"/>
            <a:chExt cx="6122520" cy="6491520"/>
          </a:xfrm>
        </p:grpSpPr>
        <p:sp>
          <p:nvSpPr>
            <p:cNvPr id="309" name=""/>
            <p:cNvSpPr/>
            <p:nvPr/>
          </p:nvSpPr>
          <p:spPr>
            <a:xfrm>
              <a:off x="6551280" y="838080"/>
              <a:ext cx="1202400" cy="7840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i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1280" y="2094840"/>
              <a:ext cx="1202400" cy="7844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3240" y="3743280"/>
              <a:ext cx="1202760" cy="7862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rm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3040" y="3664440"/>
              <a:ext cx="1202760" cy="7862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a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29760" y="3587040"/>
              <a:ext cx="1202400" cy="7844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u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77840" y="5079240"/>
              <a:ext cx="1202760" cy="784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ru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53200" y="162216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10800000">
              <a:off x="4145040" y="3666240"/>
              <a:ext cx="3909600" cy="156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3995640" y="3824640"/>
              <a:ext cx="4358160" cy="14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626160" y="4057560"/>
              <a:ext cx="9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520520" y="405756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7454520" y="2879280"/>
              <a:ext cx="675000" cy="70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174360" y="2878920"/>
              <a:ext cx="677160" cy="70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30240" y="4371840"/>
              <a:ext cx="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370760" y="2486160"/>
              <a:ext cx="217980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920400" y="1229400"/>
              <a:ext cx="5260320" cy="455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709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7095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21320" y="1998720"/>
              <a:ext cx="54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dele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2240" y="4669200"/>
              <a:ext cx="74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interrup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0920" y="4200840"/>
              <a:ext cx="82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create/de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62800" y="2728800"/>
              <a:ext cx="82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create/de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0880" y="5205240"/>
              <a:ext cx="120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task dele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97560" y="4104720"/>
              <a:ext cx="14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context 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97920" y="2800440"/>
              <a:ext cx="143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de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expi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21360" y="1545480"/>
              <a:ext cx="14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occur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36200" y="2096640"/>
              <a:ext cx="1429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wait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861160" y="1387080"/>
              <a:ext cx="1527480" cy="45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26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2676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200000">
              <a:off x="3001320" y="1262520"/>
              <a:ext cx="6491520" cy="43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124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12463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28080" y="2800440"/>
              <a:ext cx="142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delay t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for </a:t>
              </a:r>
              <a:r>
                <a:rPr b="0" i="1" lang="en-US" sz="1000" spc="-1" strike="noStrike">
                  <a:solidFill>
                    <a:srgbClr val="990000"/>
                  </a:solidFill>
                  <a:latin typeface="Times New Roman"/>
                </a:rPr>
                <a:t>n</a:t>
              </a:r>
              <a:r>
                <a:rPr b="0" lang="en-US" sz="1000" spc="-1" strike="noStrike">
                  <a:solidFill>
                    <a:srgbClr val="990000"/>
                  </a:solidFill>
                  <a:latin typeface="Times New Roman"/>
                </a:rPr>
                <a:t> ti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890640"/>
            <a:ext cx="4214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S “Scheduling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Foreground/Backgrou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cess Scheduling algorith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FS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st-Job-First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Level Round-Robin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2: Memory Management  (Overlays/VM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How do programs run in memory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on “overflows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Memory Over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overlays and dynamic over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with over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rtual Memor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(VM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VM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address to physical address mapp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fa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M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pages and physical pag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table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s with the rest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level 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28720" y="2286000"/>
            <a:ext cx="3813840" cy="1247760"/>
            <a:chOff x="5328720" y="2286000"/>
            <a:chExt cx="3813840" cy="1247760"/>
          </a:xfrm>
        </p:grpSpPr>
        <p:sp>
          <p:nvSpPr>
            <p:cNvPr id="341" name=""/>
            <p:cNvSpPr/>
            <p:nvPr/>
          </p:nvSpPr>
          <p:spPr>
            <a:xfrm>
              <a:off x="6147360" y="2323800"/>
              <a:ext cx="897840" cy="21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040" y="2323800"/>
              <a:ext cx="1077120" cy="21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22680" y="2541240"/>
              <a:ext cx="0" cy="7444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28720" y="2405520"/>
              <a:ext cx="83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Vir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85520" y="22860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9120" y="2286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1400" y="2286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04160" y="2286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5200" y="2323800"/>
              <a:ext cx="897480" cy="21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02000" y="2286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22720" y="22860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1640" y="2696040"/>
              <a:ext cx="538560" cy="52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69480" y="2882160"/>
              <a:ext cx="538560" cy="52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7320" y="3006360"/>
              <a:ext cx="538560" cy="527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1640" y="2758320"/>
              <a:ext cx="538560" cy="92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69480" y="3068280"/>
              <a:ext cx="538560" cy="92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57320" y="3254760"/>
              <a:ext cx="538560" cy="92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37000" y="2478960"/>
              <a:ext cx="0" cy="3412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37000" y="2820240"/>
              <a:ext cx="134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22680" y="3285720"/>
              <a:ext cx="134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45200" y="2789280"/>
              <a:ext cx="0" cy="6202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45200" y="3409560"/>
              <a:ext cx="22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10560" y="2789280"/>
              <a:ext cx="134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34840" y="2478960"/>
              <a:ext cx="0" cy="6512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34840" y="3130560"/>
              <a:ext cx="134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43040" y="3099600"/>
              <a:ext cx="0" cy="434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43040" y="3533760"/>
              <a:ext cx="31428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08400" y="3099600"/>
              <a:ext cx="1346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3: Concurrenc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991120" y="1143000"/>
            <a:ext cx="2568600" cy="2387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ritical se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tomicity 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echniques to enforce critical se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1: too hard-w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2: does not wo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3: deadlo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4: starva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5: Dekker’s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emaph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goo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mplementing Semaphor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-and-set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314960" y="4681440"/>
            <a:ext cx="5595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st of Lectur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Hardware-Software Interfa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Operating principl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cientific and application-level abstra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4: More on Synchronization and Deadlocks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ypes of Synchroniz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adloc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cessary conditions for dead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ing with dead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om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lassical synchronization probl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r/consum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er/writ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dining philosophers”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059200" y="4381560"/>
            <a:ext cx="5009400" cy="1933200"/>
            <a:chOff x="2059200" y="4381560"/>
            <a:chExt cx="5009400" cy="1933200"/>
          </a:xfrm>
        </p:grpSpPr>
        <p:sp>
          <p:nvSpPr>
            <p:cNvPr id="376" name=""/>
            <p:cNvSpPr/>
            <p:nvPr/>
          </p:nvSpPr>
          <p:spPr>
            <a:xfrm>
              <a:off x="5173560" y="4434120"/>
              <a:ext cx="72036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1: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s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(s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85600" y="4434120"/>
              <a:ext cx="72036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2: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s2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(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8920" y="4381560"/>
              <a:ext cx="72036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2: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s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(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200" y="4381560"/>
              <a:ext cx="72036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1: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s1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(s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9800" y="4876200"/>
              <a:ext cx="3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87680" y="5672160"/>
              <a:ext cx="17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Bar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Synchron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89560" y="5444280"/>
              <a:ext cx="16668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56240" y="554724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945400" y="4721040"/>
              <a:ext cx="0" cy="82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45400" y="47210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98760" y="56214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Mut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5: Traditional OS Processes and Scheduling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Dispatch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Unix as an example of a traditional general-purpose 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processes and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Unix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4520" y="2692440"/>
            <a:ext cx="6032880" cy="380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PID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his is the child proces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 add your code here for a small f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ildren[current_child] = PI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rrent_child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his is the rest of the 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ess; continue your code h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 E.g.: wait for your child process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 com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711680" y="3508200"/>
            <a:ext cx="4432320" cy="3349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6: Resource Managemen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troduction to Real-Time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asic term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correctness and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redic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chedu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h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oft real-tim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-rate feedback contro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rate contro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control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91600" y="75960"/>
            <a:ext cx="885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7: Analyzing Independent Periodic Task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Key concepts in real-time computing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analyze the schedulability of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independent periodic tas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ling with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transient over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context-swit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141640" y="3435480"/>
            <a:ext cx="52387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17960" y="4272120"/>
            <a:ext cx="4226040" cy="25858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95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8: Real-Time Synchronization Protocol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ynchronization in real-time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riority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ounded priority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s to bound priority i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basic priority inheritanc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riority ceiling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Dealing with Aperiodic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poradic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olving our example problem completel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dead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respons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441680" y="4352760"/>
            <a:ext cx="4702320" cy="2505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9: A/D Conversion/RT Periodic Task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nalog to Digital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ingle-ended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ifferential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Digital to Analog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ranges and conversion between re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eriodic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-Monotonic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Dri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problems in “traditional”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OS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rs and 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X interva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580000" y="873000"/>
            <a:ext cx="356400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552840" y="4227480"/>
            <a:ext cx="5591160" cy="2630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20: Feedback (PID) Controller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eedback contro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eedback controll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control (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+ derivative control (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+ derivative + integral control (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P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mulation diagram concep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21: Basics of Signal Proces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ource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terministic erro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ndom noi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asics of signal spectru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Nyquist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asic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il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can do and when you should ask for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035000" y="4444920"/>
            <a:ext cx="75438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22: Embedded Middlewa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920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Requiremen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ed resources: Smaller footprint (requires less code-b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support (available in Real-Time CORBA 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ull CORBA implementation: 150 Kbytes – 5 Mbytes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are your option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imal CORBA: Throw out some of the heavyweight CORBA mechanisms (~ 30-60 K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IOP Engine: Use a library that keeps only the IIOP protocol part  (~ 15 K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RBA Gateways: TCP bridge from the embedded processors to a CORBA gateway that talks to the rest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Quizz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otally 5 in numb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e lowest quiz grade will be dropped and not consider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ardware-Software Interfac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: Introduction to Embedded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2: ARM Assembly Language and C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3: ARM Exception Handling and SW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4: ARM Monitor, Program Loading and Initializ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5: Code Optimization and Profi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6: Memory, I/O and Bus Architectur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7: The X-Boar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8: Timers and Interrup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9: Interrupts and Serial Commun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0: Buffer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ab Projec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ab 1: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ogramming in assembly language and writing system call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processor e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ab 2: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ogramming physical I/O Devices with interrupt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writing application programs that make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ab 3: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ogramming an inter-active real-time gam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ing a user-interface and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s with a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ab 4: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sing tools to analyze embedded real-time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iling and analytically modeling real-tim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ab 5: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riting your own embedded 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, deleting your own tasks, managing concurrenc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843440" y="5278320"/>
            <a:ext cx="4168800" cy="882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2000" y="3087720"/>
            <a:ext cx="4168800" cy="216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9560" y="1506600"/>
            <a:ext cx="4343400" cy="278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opics Covered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42000" y="1469880"/>
            <a:ext cx="4168800" cy="1590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49560" y="1488960"/>
            <a:ext cx="4303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 and CPU Schedu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Ex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D, D/A and Periodic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Periodic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Aperiodic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s of Signal Processing and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s of PI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ded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Operat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8280" y="1488960"/>
            <a:ext cx="479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embedded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ing conventions, C/asm 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Calls (SW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onitor and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349 X-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s, DMA and 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920" y="57308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We covered a wide spect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ore Food For Though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key to embedded systems of the future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tive programming environment an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compa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at ideas (using wireless networks like BlueTooth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within your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would you like to change the world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professor’s research group does all system software aspects of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Linux, Real-Time Java, Networking, Wireless Networks, Multimedia + Some theory to make sure that our foundations and concepts are on a solid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able middleware (CORBA, Java, DCOM, .NET), adaptive embedded systems, scalable enterpris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Final Exam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chedule for the final exa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n book, ope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everal problem sets already posted to help you for the           mid-term and previous quizz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lease make sure to revi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And Finally …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ank you for your patience with the challenging aspects of this cour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lived to tell the stor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gratulations for surviving a(nother) semester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4560"/>
            <a:ext cx="831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perating Principles of Embedded System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1: DMA and Introduction to Process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2: Concurrenc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3: Memory Management &amp; Virtual Memor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4: Traditional OS Processes &amp;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5: More on Deadloc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6-18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Management in (Embedded) 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dependent Real-Time Periodic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ynchroniz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19: Analog-to-Digital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20: Feedback Controllers (PID Contro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21: Basics of Signal Processing and Fil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22: Embedded Middlewa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cture 23: Real-Time Operating Syste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83920" y="-360"/>
            <a:ext cx="8343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esigning Practical Real-Time Applic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1: Introduction to Embedded System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560" y="761760"/>
            <a:ext cx="5970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is an embedded system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han just a computer ­­ it's 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makes embedded systems different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sets of constraints on desig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 general types: General-Purpose, Control, Signal Processing, Commun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What embedded system designers need to know 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Multi­objec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cost, dependability, performance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Multi­discip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ardware, software, electromechanical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pecification, design, prototyping, deployment, support, ret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72240" y="893880"/>
            <a:ext cx="3371760" cy="316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7040" y="5226120"/>
            <a:ext cx="95436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25560" y="5686560"/>
            <a:ext cx="94284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13120" y="6099120"/>
            <a:ext cx="646200" cy="54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14560" y="5241960"/>
            <a:ext cx="105084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678120" y="5291280"/>
            <a:ext cx="1011240" cy="74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31120" y="4422600"/>
            <a:ext cx="1922400" cy="624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490880" y="4336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9680" y="4762440"/>
            <a:ext cx="639720" cy="225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02520" y="4473720"/>
            <a:ext cx="5698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2760" y="4195800"/>
            <a:ext cx="56988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499520" y="461448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713720" y="498960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91240" y="5130720"/>
            <a:ext cx="57024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307280" y="4989600"/>
            <a:ext cx="1440" cy="14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62680" y="5130720"/>
            <a:ext cx="5698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88240" y="4876920"/>
            <a:ext cx="184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72560" y="4791240"/>
            <a:ext cx="3697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73920" y="487692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03840" y="4791240"/>
            <a:ext cx="37008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42280" y="4876920"/>
            <a:ext cx="185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19880" y="4876920"/>
            <a:ext cx="183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50480" y="4525920"/>
            <a:ext cx="88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4400" y="4791240"/>
            <a:ext cx="5698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ns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28040" y="4819680"/>
            <a:ext cx="5684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20160" y="5102280"/>
            <a:ext cx="7398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uxiliary Syste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power, cooling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61040" y="5102280"/>
            <a:ext cx="64296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89600" y="4988880"/>
            <a:ext cx="370080" cy="11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88240" y="4988880"/>
            <a:ext cx="370080" cy="11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0080" y="4960800"/>
            <a:ext cx="1393920" cy="851040"/>
          </a:xfrm>
          <a:custGeom>
            <a:avLst/>
            <a:gdLst/>
            <a:ahLst/>
            <a:rect l="l" t="t" r="r" b="b"/>
            <a:pathLst>
              <a:path w="1808" h="1440">
                <a:moveTo>
                  <a:pt x="1632" y="0"/>
                </a:moveTo>
                <a:cubicBezTo>
                  <a:pt x="1720" y="432"/>
                  <a:pt x="1808" y="864"/>
                  <a:pt x="1536" y="1104"/>
                </a:cubicBezTo>
                <a:cubicBezTo>
                  <a:pt x="1264" y="1344"/>
                  <a:pt x="256" y="1384"/>
                  <a:pt x="0" y="144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26960" y="4932360"/>
            <a:ext cx="1244520" cy="851040"/>
          </a:xfrm>
          <a:custGeom>
            <a:avLst/>
            <a:gdLst/>
            <a:ahLst/>
            <a:rect l="l" t="t" r="r" b="b"/>
            <a:pathLst>
              <a:path w="1808" h="1440">
                <a:moveTo>
                  <a:pt x="1632" y="0"/>
                </a:moveTo>
                <a:cubicBezTo>
                  <a:pt x="1720" y="432"/>
                  <a:pt x="1808" y="864"/>
                  <a:pt x="1536" y="1104"/>
                </a:cubicBezTo>
                <a:cubicBezTo>
                  <a:pt x="1264" y="1344"/>
                  <a:pt x="256" y="1384"/>
                  <a:pt x="0" y="144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440" y="5697360"/>
            <a:ext cx="679680" cy="17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0080" y="4952880"/>
            <a:ext cx="1295640" cy="574920"/>
          </a:xfrm>
          <a:custGeom>
            <a:avLst/>
            <a:gdLst/>
            <a:ahLst/>
            <a:rect l="l" t="t" r="r" b="b"/>
            <a:pathLst>
              <a:path w="1808" h="1440">
                <a:moveTo>
                  <a:pt x="1632" y="0"/>
                </a:moveTo>
                <a:cubicBezTo>
                  <a:pt x="1720" y="432"/>
                  <a:pt x="1808" y="864"/>
                  <a:pt x="1536" y="1104"/>
                </a:cubicBezTo>
                <a:cubicBezTo>
                  <a:pt x="1264" y="1344"/>
                  <a:pt x="256" y="1384"/>
                  <a:pt x="0" y="144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38200" y="4932360"/>
            <a:ext cx="998280" cy="566640"/>
          </a:xfrm>
          <a:custGeom>
            <a:avLst/>
            <a:gdLst/>
            <a:ahLst/>
            <a:rect l="l" t="t" r="r" b="b"/>
            <a:pathLst>
              <a:path w="1808" h="1440">
                <a:moveTo>
                  <a:pt x="1632" y="0"/>
                </a:moveTo>
                <a:cubicBezTo>
                  <a:pt x="1720" y="432"/>
                  <a:pt x="1808" y="864"/>
                  <a:pt x="1536" y="1104"/>
                </a:cubicBezTo>
                <a:cubicBezTo>
                  <a:pt x="1264" y="1344"/>
                  <a:pt x="256" y="1384"/>
                  <a:pt x="0" y="144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7200" y="5415120"/>
            <a:ext cx="887760" cy="19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lectro-mechanic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ackup and safe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2: ARM Assembly Language and C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5546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M Programmer’s Mod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troduction to ARM Assembly Languag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ssembly Code from C Programs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Dealing With Structur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nterfacing C Code with ARM Assembl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RM libraries and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</a:rPr>
              <a:t>arms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Handout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 Reference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lecture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reci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165720" y="958680"/>
            <a:ext cx="2724840" cy="4883400"/>
            <a:chOff x="6165720" y="958680"/>
            <a:chExt cx="2724840" cy="4883400"/>
          </a:xfrm>
        </p:grpSpPr>
        <p:sp>
          <p:nvSpPr>
            <p:cNvPr id="90" name=""/>
            <p:cNvSpPr/>
            <p:nvPr/>
          </p:nvSpPr>
          <p:spPr>
            <a:xfrm>
              <a:off x="7079760" y="11242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9760" y="13870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9760" y="165024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9760" y="191340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249240" y="1124280"/>
              <a:ext cx="836640" cy="325800"/>
              <a:chOff x="6249240" y="1124280"/>
              <a:chExt cx="836640" cy="325800"/>
            </a:xfrm>
          </p:grpSpPr>
          <p:sp>
            <p:nvSpPr>
              <p:cNvPr id="95" name=""/>
              <p:cNvSpPr/>
              <p:nvPr/>
            </p:nvSpPr>
            <p:spPr>
              <a:xfrm>
                <a:off x="6249240" y="1124280"/>
                <a:ext cx="621360" cy="325800"/>
              </a:xfrm>
              <a:prstGeom prst="rect">
                <a:avLst/>
              </a:prstGeom>
              <a:noFill/>
              <a:ln cap="rnd" w="9360">
                <a:solidFill>
                  <a:srgbClr val="cc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SP</a:t>
                </a:r>
                <a:r>
                  <a:rPr b="0" lang="en-US" sz="2000" spc="-1" strike="noStrike" baseline="-25000">
                    <a:solidFill>
                      <a:srgbClr val="cc3300"/>
                    </a:solidFill>
                    <a:latin typeface="Times New Roman"/>
                  </a:rPr>
                  <a:t>bef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77080" y="1265040"/>
                <a:ext cx="2088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856280" y="958680"/>
              <a:ext cx="1034280" cy="48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Courier New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8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7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6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6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5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5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x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65720" y="992520"/>
              <a:ext cx="2429280" cy="475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79760" y="217620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77600" y="243936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77600" y="270252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77600" y="296532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77600" y="32284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7600" y="349164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76520" y="375732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76520" y="40204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76520" y="42832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6520" y="454644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6520" y="480924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0840" y="507492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0840" y="5338080"/>
              <a:ext cx="783360" cy="262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247080" y="5338080"/>
              <a:ext cx="837000" cy="326160"/>
              <a:chOff x="6247080" y="5338080"/>
              <a:chExt cx="837000" cy="326160"/>
            </a:xfrm>
          </p:grpSpPr>
          <p:sp>
            <p:nvSpPr>
              <p:cNvPr id="113" name=""/>
              <p:cNvSpPr/>
              <p:nvPr/>
            </p:nvSpPr>
            <p:spPr>
              <a:xfrm>
                <a:off x="6247080" y="5338080"/>
                <a:ext cx="621360" cy="326160"/>
              </a:xfrm>
              <a:prstGeom prst="rect">
                <a:avLst/>
              </a:pr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SP</a:t>
                </a:r>
                <a:r>
                  <a:rPr b="0" lang="en-US" sz="2000" spc="-1" strike="noStrike" baseline="-25000">
                    <a:solidFill>
                      <a:srgbClr val="cc3300"/>
                    </a:solidFill>
                    <a:latin typeface="Times New Roman"/>
                  </a:rPr>
                  <a:t>af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5280" y="5478840"/>
                <a:ext cx="2088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3: ARM Exception Handling and SWI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ftware Interrupt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(SWI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n SW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on an SW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ing S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on SWI comple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SWIs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ll SWI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_SWI_Handler (written in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oading Software Interrrupt Vecto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4: ARM Monitor, Program Loading and Initialization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M Debug Monit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oading program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M Image Form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(AIF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hat happens on program startup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0160" y="1263600"/>
            <a:ext cx="3342960" cy="4955400"/>
            <a:chOff x="5330160" y="1263600"/>
            <a:chExt cx="3342960" cy="4955400"/>
          </a:xfrm>
        </p:grpSpPr>
        <p:sp>
          <p:nvSpPr>
            <p:cNvPr id="120" name=""/>
            <p:cNvSpPr/>
            <p:nvPr/>
          </p:nvSpPr>
          <p:spPr>
            <a:xfrm>
              <a:off x="6094080" y="1263600"/>
              <a:ext cx="4568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080" y="2178000"/>
              <a:ext cx="45684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080" y="3321000"/>
              <a:ext cx="45684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080" y="4921200"/>
              <a:ext cx="456840" cy="685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87720" y="1457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5920" y="240660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xt 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83400" y="3396960"/>
              <a:ext cx="19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iz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87720" y="499716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ero’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0160" y="57592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Times New Roman"/>
                </a:rPr>
                <a:t>In-memory lay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080" y="4006800"/>
              <a:ext cx="45684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88080" y="423540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bug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04-30T15:59:28Z</cp:lastPrinted>
  <dcterms:modified xsi:type="dcterms:W3CDTF">2004-09-07T22:46:37Z</dcterms:modified>
  <cp:revision>319</cp:revision>
  <dc:subject/>
  <dc:title>Wrap-Up of 18-349</dc:title>
</cp:coreProperties>
</file>