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raditional OS Processes and Schedul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  <a:ea typeface="宋体"/>
              </a:rPr>
              <a:t>Lecture 15hb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UNIX Process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bootstrap program will start the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ini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proces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ini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is the parent of all processe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t will fork off terminal processes (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tt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) by reading the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/etc/tty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fil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ach terminal has a process associated with it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it is this process that prints the “prompt”, does validation of userid/password and then waits for in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Many of the user (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shell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) commands will fork off a new process to work on the user commands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Unix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n the other hand, some processes are initialized by the kernel itself (after all the main functions were put in place correctly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 Unix, processes that run in the background, such as printing or the ftp manager, are called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daemon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se daemons complement the kernel functiona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verything in Unix is a process and the kernel is stiff (single locus of execution) but efficie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Unix Schedul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problem with multiple queues is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starva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can be solved by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ag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which means that the longer a process executes, the higher its prio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nix scheduling is round-robin with multi­level feed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computes the priority of the processes according to the user directives, resource usage and a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User directives: </a:t>
            </a:r>
            <a:r>
              <a:rPr b="1" lang="en-US" sz="2400" spc="-1" strike="noStrike">
                <a:solidFill>
                  <a:srgbClr val="990000"/>
                </a:solidFill>
                <a:latin typeface="Courier New"/>
                <a:ea typeface="宋体"/>
              </a:rPr>
              <a:t>nic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command (positive integer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Resource usage is computed by the kernel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ging is computed by increasing the priority of the process every quantum regardless of anything 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Unix Scheduling (cont)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algorithm for setting the priority, at each quantum: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PU_usage = CPU_usage/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priority = CPU_usage/2 + base_priority + nice_lev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base_prio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s typically set to 7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nice_lev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s typically 0, unl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n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mmand is u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PU_u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starts out as 0, clear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itial priority starts out the same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base_prio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oes this algorithm actually give higher priority to aging processes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oes it take into consideration resource usage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Example of UNIX schedule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Quantum 1sec, base priority 60, nice 0, init priority 0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lock interrupts the system 60 times/sec (or 60 times/quantum)</a:t>
            </a:r>
            <a:r>
              <a:rPr b="0" lang="en-US" sz="2000" spc="-1" strike="noStrike">
                <a:solidFill>
                  <a:srgbClr val="003300"/>
                </a:solidFill>
                <a:latin typeface="Wingdings 3"/>
                <a:ea typeface="Wingdings 3"/>
              </a:rPr>
              <a:t>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t each interrupt, CPU usage is incr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us, in one quantum, CPU usage increases by 6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t every quantum, kernel performs calculatio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 = decay(CPU) = CPU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 priority = (CPU/2) +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c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c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c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P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75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60,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75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60,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75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60,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76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67,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255680"/>
                <a:tab algn="l" pos="1654200"/>
                <a:tab algn="l" pos="2690640"/>
                <a:tab algn="l" pos="3203640"/>
                <a:tab algn="l" pos="4573440"/>
                <a:tab algn="l" pos="5138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76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67,3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ore on Unix Schedul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riorities in Unix are divided into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Kernel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and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Us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ome processes executing with Kernel priority are non­preemptabl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disk­related system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rocesses executing with User priority are preemptabl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r processes, or system functions executing for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Unix grants higher priorities to processes waiting for lower­level algorithms (e.g., disk read/write)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UNIX disregards the job characteristic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IO­bound or CPU­bound processes when schedu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The “top” Utility on Unix </a:t>
            </a:r>
            <a:r>
              <a:rPr b="0" lang="en-US" sz="3200" spc="-1" strike="noStrike">
                <a:solidFill>
                  <a:srgbClr val="990000"/>
                </a:solidFill>
                <a:latin typeface="Courier New"/>
                <a:ea typeface="宋体"/>
              </a:rPr>
              <a:t>(/usr/bin/top)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990720"/>
            <a:ext cx="9448920" cy="5268960"/>
            <a:chOff x="0" y="990720"/>
            <a:chExt cx="9448920" cy="5268960"/>
          </a:xfrm>
        </p:grpSpPr>
        <p:pic>
          <p:nvPicPr>
            <p:cNvPr id="73" name="" descr=""/>
            <p:cNvPicPr/>
            <p:nvPr/>
          </p:nvPicPr>
          <p:blipFill>
            <a:blip r:embed="rId1"/>
            <a:srcRect l="20628" t="28129" r="17815" b="22503"/>
            <a:stretch/>
          </p:blipFill>
          <p:spPr>
            <a:xfrm>
              <a:off x="0" y="990720"/>
              <a:ext cx="9448920" cy="52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 txBox="1"/>
            <p:nvPr/>
          </p:nvSpPr>
          <p:spPr>
            <a:xfrm>
              <a:off x="0" y="990720"/>
              <a:ext cx="9448920" cy="526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ispatch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Unix as an example of a traditional general-purpose 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nix processes and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Unix Schedul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Looking at “top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GOOD LUCK FOR QUIZ #3!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Previou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Virtual memor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irtua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g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ge faults; thras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dministrivia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Quiz #3 in the second half of today’s lectur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ill be open book/open no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Mid-Term Exam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ill be open book/open note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d-term grades will be based on Quizzes #1-3 and Labs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y also understand traditional OS processes and scheduling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Unix proc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raditional Unix Schedul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y Understand Traditional OS Notions?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o understand what is possible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o understand what is done on traditional OSs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Most importantly, to understand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how and wh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embedded (real-time) operating systems are common in some aspects and different in other aspect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ispatch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dispatch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(short­term scheduler) is the entity responsible for adding a process/thread to the run queue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t is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invoked by the schedul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upon an event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 of a quan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 of a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 of a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d of a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is thread of execution is explicitly invoked when something happen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thread is, however, loaded up in memory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the address space of this threa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ddress Spac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heavyweigh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has its own address spac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shares its address space and global data structures with other threads in the same proces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 are provisions to share memory among heavyweight process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d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 Unix, you have to explicitly declare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hm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get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or the area, attach yourself to i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other way of sharing some info is betw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rent and child proc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share the list of open files and the code of the process (executable 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Forking and Process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a Unix process calls a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fork()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at some point in the code, a new (child) process becomes ready at the same point of the parent proces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ow does one define who is the parent (child) process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PID = fork()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returns a process identifier (PID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e child process, the value of the PID is z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e parent process, PID contains the child's P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is PID is useful for the parent process to keep track of all its childre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.g., who is alive, who ter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happens on a </a:t>
            </a: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fork()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call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if (PID == 0) {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/* this is the child process;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* add your code here for a small fe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*/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}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else {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children[current_child] = PID;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current_child++;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/* this is the rest of the parent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*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process; continue your code he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* E.g.: wait for your child process to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* come back.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  <a:ea typeface="宋体"/>
              </a:rPr>
              <a:t>*/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}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Raj Rajkumar</dc:creator>
  <dc:description/>
  <dc:language>en-US</dc:language>
  <cp:lastModifiedBy>jjohnso2</cp:lastModifiedBy>
  <cp:lastPrinted>2001-10-30T23:02:23Z</cp:lastPrinted>
  <dcterms:modified xsi:type="dcterms:W3CDTF">2004-09-07T22:37:21Z</dcterms:modified>
  <cp:revision>178</cp:revision>
  <dc:subject/>
  <dc:title>Introduction to Embedded Systems</dc:title>
</cp:coreProperties>
</file>