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54760" y="6568920"/>
            <a:ext cx="363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宋体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Memory Management: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Overlays and Virtual Memory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宋体"/>
              </a:rPr>
              <a:t>Lecture 14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The Memory Pyramid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248680" y="5838840"/>
            <a:ext cx="895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How Does VM Work ?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wo memory “spaces”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Virtual memory sp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­ what the program “se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Physical memory sp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­ what the program runs in (size of RA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On program startup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S copies program into 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re is not enough RAM, OS stops copying program and starts it running with only a portion of the program loaded in 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the program touches a part of the program not in physical memory (RAM), OS catches the memory abort (called a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page 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and copies that part of the program from disk into 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 order to copy some of the program from disk to RAM, OS must evict parts of the program already in 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S copies the evicted parts of the program back to di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3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Example: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Virtual and Physical Address Spaces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7400" y="1752480"/>
            <a:ext cx="6858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宋体"/>
              </a:rPr>
              <a:t>Virtual Address Space                          Physical Address Spa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365760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ne 0x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4038480"/>
            <a:ext cx="1676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r10,r1,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441972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 r3,r4,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480060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 r5,0x0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648320" y="4191120"/>
            <a:ext cx="1752480" cy="914400"/>
            <a:chOff x="4648320" y="4191120"/>
            <a:chExt cx="1752480" cy="914400"/>
          </a:xfrm>
        </p:grpSpPr>
        <p:grpSp>
          <p:nvGrpSpPr>
            <p:cNvPr id="152" name=""/>
            <p:cNvGrpSpPr/>
            <p:nvPr/>
          </p:nvGrpSpPr>
          <p:grpSpPr>
            <a:xfrm>
              <a:off x="4648320" y="4648320"/>
              <a:ext cx="1752480" cy="457200"/>
              <a:chOff x="4648320" y="4648320"/>
              <a:chExt cx="1752480" cy="457200"/>
            </a:xfrm>
          </p:grpSpPr>
          <p:sp>
            <p:nvSpPr>
              <p:cNvPr id="153" name=""/>
              <p:cNvSpPr/>
              <p:nvPr/>
            </p:nvSpPr>
            <p:spPr>
              <a:xfrm>
                <a:off x="4648320" y="4648320"/>
                <a:ext cx="175248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57800" y="4800960"/>
                <a:ext cx="5328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648320" y="4496040"/>
              <a:ext cx="1752480" cy="457200"/>
              <a:chOff x="4648320" y="4496040"/>
              <a:chExt cx="1752480" cy="457200"/>
            </a:xfrm>
          </p:grpSpPr>
          <p:sp>
            <p:nvSpPr>
              <p:cNvPr id="156" name=""/>
              <p:cNvSpPr/>
              <p:nvPr/>
            </p:nvSpPr>
            <p:spPr>
              <a:xfrm>
                <a:off x="4648320" y="4496040"/>
                <a:ext cx="175248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57800" y="4648680"/>
                <a:ext cx="5328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48320" y="4343760"/>
              <a:ext cx="1752480" cy="457200"/>
              <a:chOff x="4648320" y="4343760"/>
              <a:chExt cx="175248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648320" y="4343760"/>
                <a:ext cx="175248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257800" y="4496040"/>
                <a:ext cx="5328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648320" y="4191120"/>
              <a:ext cx="1752480" cy="457200"/>
              <a:chOff x="4648320" y="4191120"/>
              <a:chExt cx="1752480" cy="457200"/>
            </a:xfrm>
          </p:grpSpPr>
          <p:sp>
            <p:nvSpPr>
              <p:cNvPr id="162" name=""/>
              <p:cNvSpPr/>
              <p:nvPr/>
            </p:nvSpPr>
            <p:spPr>
              <a:xfrm>
                <a:off x="4648320" y="4191120"/>
                <a:ext cx="175248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257800" y="4343760"/>
                <a:ext cx="5328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>
            <a:off x="3733920" y="2286000"/>
            <a:ext cx="2819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2666880"/>
            <a:ext cx="2819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33920" y="3048120"/>
            <a:ext cx="2819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3429000"/>
            <a:ext cx="2819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092320"/>
            <a:ext cx="8665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01160" y="2133720"/>
            <a:ext cx="866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38862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4267080"/>
            <a:ext cx="1295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4572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809880" y="472392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213372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r1,r2,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51460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 r2,r3,r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2895480"/>
            <a:ext cx="1676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w r2, 0x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327672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lt r3,r4,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2286000"/>
            <a:ext cx="1676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r1,r2,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2666880"/>
            <a:ext cx="167652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 r2,r3,r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048120"/>
            <a:ext cx="1676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w r2, 0x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3429000"/>
            <a:ext cx="1676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lt r3,r4,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Example (con'td):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Need VA­to­PA mappings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396252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ne 0x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434340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r10,r1,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4724280"/>
            <a:ext cx="1676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 r3,r4,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510552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 r5,0x0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867280" y="4952880"/>
            <a:ext cx="1752840" cy="914400"/>
            <a:chOff x="5867280" y="4952880"/>
            <a:chExt cx="1752840" cy="914400"/>
          </a:xfrm>
        </p:grpSpPr>
        <p:grpSp>
          <p:nvGrpSpPr>
            <p:cNvPr id="188" name=""/>
            <p:cNvGrpSpPr/>
            <p:nvPr/>
          </p:nvGrpSpPr>
          <p:grpSpPr>
            <a:xfrm>
              <a:off x="5867280" y="5410080"/>
              <a:ext cx="1752840" cy="457200"/>
              <a:chOff x="5867280" y="5410080"/>
              <a:chExt cx="1752840" cy="457200"/>
            </a:xfrm>
          </p:grpSpPr>
          <p:sp>
            <p:nvSpPr>
              <p:cNvPr id="189" name=""/>
              <p:cNvSpPr/>
              <p:nvPr/>
            </p:nvSpPr>
            <p:spPr>
              <a:xfrm>
                <a:off x="5867280" y="5410080"/>
                <a:ext cx="175284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477120" y="5562720"/>
                <a:ext cx="5331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57800"/>
              <a:ext cx="1752840" cy="457200"/>
              <a:chOff x="5867280" y="5257800"/>
              <a:chExt cx="1752840" cy="457200"/>
            </a:xfrm>
          </p:grpSpPr>
          <p:sp>
            <p:nvSpPr>
              <p:cNvPr id="192" name=""/>
              <p:cNvSpPr/>
              <p:nvPr/>
            </p:nvSpPr>
            <p:spPr>
              <a:xfrm>
                <a:off x="5867280" y="5257800"/>
                <a:ext cx="175284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477120" y="5410440"/>
                <a:ext cx="5331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867280" y="5105520"/>
              <a:ext cx="1752840" cy="457200"/>
              <a:chOff x="5867280" y="5105520"/>
              <a:chExt cx="1752840" cy="457200"/>
            </a:xfrm>
          </p:grpSpPr>
          <p:sp>
            <p:nvSpPr>
              <p:cNvPr id="195" name=""/>
              <p:cNvSpPr/>
              <p:nvPr/>
            </p:nvSpPr>
            <p:spPr>
              <a:xfrm>
                <a:off x="5867280" y="5105520"/>
                <a:ext cx="175284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477120" y="5257800"/>
                <a:ext cx="5331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867280" y="4952880"/>
              <a:ext cx="1752840" cy="457200"/>
              <a:chOff x="5867280" y="4952880"/>
              <a:chExt cx="1752840" cy="457200"/>
            </a:xfrm>
          </p:grpSpPr>
          <p:sp>
            <p:nvSpPr>
              <p:cNvPr id="198" name=""/>
              <p:cNvSpPr/>
              <p:nvPr/>
            </p:nvSpPr>
            <p:spPr>
              <a:xfrm>
                <a:off x="5867280" y="4952880"/>
                <a:ext cx="175284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77120" y="5105520"/>
                <a:ext cx="5331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 flipV="1">
            <a:off x="3048120" y="2438280"/>
            <a:ext cx="9903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200400" y="26665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200400" y="29718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2004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397240"/>
            <a:ext cx="8665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15360" y="2438280"/>
            <a:ext cx="866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00400" y="3504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200400" y="3809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200400" y="403812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200400" y="43434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2438280"/>
            <a:ext cx="1676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r1,r2,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281952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 r2,r3,r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320040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w r2, 0x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3581280"/>
            <a:ext cx="1676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lt r3,r4,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2590920"/>
            <a:ext cx="1676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r1,r2,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2971800"/>
            <a:ext cx="1676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 r2,r3,r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352680"/>
            <a:ext cx="167652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w r2, 0x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733920"/>
            <a:ext cx="1676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lt r3,r4,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18288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Virtual Address Space                          Physical Address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040280" y="2281320"/>
          <a:ext cx="1298520" cy="217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0280" y="2281320"/>
                    <a:ext cx="129852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5334120" y="24382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26668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29718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4120" y="3505320"/>
            <a:ext cx="12952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32004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373392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403848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434340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2960" y="199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VA-&gt;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Example (con'td):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After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 handling a </a:t>
            </a:r>
            <a:r>
              <a:rPr b="0" i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page fault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3880" y="396252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ne 0x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434340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r10,r1,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4724280"/>
            <a:ext cx="1676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 r3,r4,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510552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 r5,0x0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867280" y="4952880"/>
            <a:ext cx="1752840" cy="914400"/>
            <a:chOff x="5867280" y="4952880"/>
            <a:chExt cx="1752840" cy="914400"/>
          </a:xfrm>
        </p:grpSpPr>
        <p:grpSp>
          <p:nvGrpSpPr>
            <p:cNvPr id="236" name=""/>
            <p:cNvGrpSpPr/>
            <p:nvPr/>
          </p:nvGrpSpPr>
          <p:grpSpPr>
            <a:xfrm>
              <a:off x="5867280" y="5410080"/>
              <a:ext cx="1752840" cy="457200"/>
              <a:chOff x="5867280" y="5410080"/>
              <a:chExt cx="1752840" cy="457200"/>
            </a:xfrm>
          </p:grpSpPr>
          <p:sp>
            <p:nvSpPr>
              <p:cNvPr id="237" name=""/>
              <p:cNvSpPr/>
              <p:nvPr/>
            </p:nvSpPr>
            <p:spPr>
              <a:xfrm>
                <a:off x="5867280" y="5410080"/>
                <a:ext cx="175284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77120" y="5562720"/>
                <a:ext cx="5331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5867280" y="5257800"/>
              <a:ext cx="1752840" cy="457200"/>
              <a:chOff x="5867280" y="5257800"/>
              <a:chExt cx="1752840" cy="457200"/>
            </a:xfrm>
          </p:grpSpPr>
          <p:sp>
            <p:nvSpPr>
              <p:cNvPr id="240" name=""/>
              <p:cNvSpPr/>
              <p:nvPr/>
            </p:nvSpPr>
            <p:spPr>
              <a:xfrm>
                <a:off x="5867280" y="5257800"/>
                <a:ext cx="175284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77120" y="5410440"/>
                <a:ext cx="5331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5867280" y="5105520"/>
              <a:ext cx="1752840" cy="457200"/>
              <a:chOff x="5867280" y="5105520"/>
              <a:chExt cx="1752840" cy="457200"/>
            </a:xfrm>
          </p:grpSpPr>
          <p:sp>
            <p:nvSpPr>
              <p:cNvPr id="243" name=""/>
              <p:cNvSpPr/>
              <p:nvPr/>
            </p:nvSpPr>
            <p:spPr>
              <a:xfrm>
                <a:off x="5867280" y="5105520"/>
                <a:ext cx="175284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77120" y="5257800"/>
                <a:ext cx="5331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867280" y="4952880"/>
              <a:ext cx="1752840" cy="457200"/>
              <a:chOff x="5867280" y="4952880"/>
              <a:chExt cx="1752840" cy="457200"/>
            </a:xfrm>
          </p:grpSpPr>
          <p:sp>
            <p:nvSpPr>
              <p:cNvPr id="246" name=""/>
              <p:cNvSpPr/>
              <p:nvPr/>
            </p:nvSpPr>
            <p:spPr>
              <a:xfrm>
                <a:off x="5867280" y="4952880"/>
                <a:ext cx="175284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477120" y="5105520"/>
                <a:ext cx="5331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 flipV="1">
            <a:off x="3048120" y="2438280"/>
            <a:ext cx="9903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00400" y="26665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200400" y="29718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2004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2397240"/>
            <a:ext cx="8665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15360" y="2438280"/>
            <a:ext cx="866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00400" y="3504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00400" y="3809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00400" y="403812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200400" y="43434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2438280"/>
            <a:ext cx="1676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r1,r2,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281952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 r2,r3,r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320040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w r2, 0x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3581280"/>
            <a:ext cx="1676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lt r3,r4,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2590920"/>
            <a:ext cx="1676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ne 0x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2971800"/>
            <a:ext cx="1676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 r2,r3,r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3352680"/>
            <a:ext cx="167652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w r2, 0x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3733920"/>
            <a:ext cx="1676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lt r3,r4,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18288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Virtual Address Space                          Physical Address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038480" y="2286000"/>
          <a:ext cx="1293840" cy="22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286000"/>
                    <a:ext cx="129384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5334120" y="2438280"/>
            <a:ext cx="121896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4120" y="26668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4120" y="29718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334120" y="274284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32004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4120" y="373392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4120" y="403848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4120" y="434340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52960" y="199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VA-&gt;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Example (con'td):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After a second page fault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396252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ne 0x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434340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r10,r1,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4724280"/>
            <a:ext cx="1676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 r3,r4,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510552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 r5,0x0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867280" y="4952880"/>
            <a:ext cx="1752840" cy="914400"/>
            <a:chOff x="5867280" y="4952880"/>
            <a:chExt cx="1752840" cy="914400"/>
          </a:xfrm>
        </p:grpSpPr>
        <p:grpSp>
          <p:nvGrpSpPr>
            <p:cNvPr id="284" name=""/>
            <p:cNvGrpSpPr/>
            <p:nvPr/>
          </p:nvGrpSpPr>
          <p:grpSpPr>
            <a:xfrm>
              <a:off x="5867280" y="5410080"/>
              <a:ext cx="1752840" cy="457200"/>
              <a:chOff x="5867280" y="5410080"/>
              <a:chExt cx="1752840" cy="457200"/>
            </a:xfrm>
          </p:grpSpPr>
          <p:sp>
            <p:nvSpPr>
              <p:cNvPr id="285" name=""/>
              <p:cNvSpPr/>
              <p:nvPr/>
            </p:nvSpPr>
            <p:spPr>
              <a:xfrm>
                <a:off x="5867280" y="5410080"/>
                <a:ext cx="175284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77120" y="5562720"/>
                <a:ext cx="5331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867280" y="5257800"/>
              <a:ext cx="1752840" cy="457200"/>
              <a:chOff x="5867280" y="5257800"/>
              <a:chExt cx="1752840" cy="457200"/>
            </a:xfrm>
          </p:grpSpPr>
          <p:sp>
            <p:nvSpPr>
              <p:cNvPr id="288" name=""/>
              <p:cNvSpPr/>
              <p:nvPr/>
            </p:nvSpPr>
            <p:spPr>
              <a:xfrm>
                <a:off x="5867280" y="5257800"/>
                <a:ext cx="175284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77120" y="5410440"/>
                <a:ext cx="5331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867280" y="5105520"/>
              <a:ext cx="1752840" cy="457200"/>
              <a:chOff x="5867280" y="5105520"/>
              <a:chExt cx="1752840" cy="457200"/>
            </a:xfrm>
          </p:grpSpPr>
          <p:sp>
            <p:nvSpPr>
              <p:cNvPr id="291" name=""/>
              <p:cNvSpPr/>
              <p:nvPr/>
            </p:nvSpPr>
            <p:spPr>
              <a:xfrm>
                <a:off x="5867280" y="5105520"/>
                <a:ext cx="175284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77120" y="5257800"/>
                <a:ext cx="5331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5867280" y="4952880"/>
              <a:ext cx="1752840" cy="457200"/>
              <a:chOff x="5867280" y="4952880"/>
              <a:chExt cx="1752840" cy="457200"/>
            </a:xfrm>
          </p:grpSpPr>
          <p:sp>
            <p:nvSpPr>
              <p:cNvPr id="294" name=""/>
              <p:cNvSpPr/>
              <p:nvPr/>
            </p:nvSpPr>
            <p:spPr>
              <a:xfrm>
                <a:off x="5867280" y="4952880"/>
                <a:ext cx="175284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77120" y="5105520"/>
                <a:ext cx="5331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"/>
          <p:cNvSpPr/>
          <p:nvPr/>
        </p:nvSpPr>
        <p:spPr>
          <a:xfrm flipV="1">
            <a:off x="3048120" y="2438280"/>
            <a:ext cx="9903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3200400" y="26665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200400" y="29718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2004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2397240"/>
            <a:ext cx="8665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15360" y="2438280"/>
            <a:ext cx="866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200400" y="3504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200400" y="3809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200400" y="403812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200400" y="43434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2438280"/>
            <a:ext cx="1676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r1,r2,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3880" y="281952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 r2,r3,r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3200400"/>
            <a:ext cx="1676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w r2, 0x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23880" y="3581280"/>
            <a:ext cx="16765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lt r3,r4,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590920"/>
            <a:ext cx="1676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ne 0x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2971800"/>
            <a:ext cx="1676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r1,r2,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3352680"/>
            <a:ext cx="167652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w r2, 0x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3733920"/>
            <a:ext cx="1676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lt r3,r4,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8288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Virtual Address Space                          Physical Address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4038480" y="2286000"/>
          <a:ext cx="1293840" cy="22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286000"/>
                    <a:ext cx="129384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334120" y="243828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2666880"/>
            <a:ext cx="10666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4120" y="29718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34120" y="281916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32004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334120" y="32004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4120" y="403848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434340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52960" y="199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VA-&gt;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Basic VM Algorithm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rogram asks for virtual addres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omputer translates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virtual addres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(VA) to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physical addres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(PA)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omputer reads PA from RAM, returning it to program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85800" y="2590920"/>
            <a:ext cx="7696080" cy="3870360"/>
            <a:chOff x="685800" y="2590920"/>
            <a:chExt cx="7696080" cy="3870360"/>
          </a:xfrm>
        </p:grpSpPr>
        <p:grpSp>
          <p:nvGrpSpPr>
            <p:cNvPr id="329" name=""/>
            <p:cNvGrpSpPr/>
            <p:nvPr/>
          </p:nvGrpSpPr>
          <p:grpSpPr>
            <a:xfrm>
              <a:off x="5867280" y="5546880"/>
              <a:ext cx="1752840" cy="914400"/>
              <a:chOff x="5867280" y="5546880"/>
              <a:chExt cx="1752840" cy="91440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5867280" y="6004080"/>
                <a:ext cx="1752840" cy="457200"/>
                <a:chOff x="5867280" y="6004080"/>
                <a:chExt cx="1752840" cy="4572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867280" y="6004080"/>
                  <a:ext cx="1752840" cy="45720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477120" y="6156720"/>
                  <a:ext cx="53316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867280" y="5851800"/>
                <a:ext cx="1752840" cy="457200"/>
                <a:chOff x="5867280" y="5851800"/>
                <a:chExt cx="1752840" cy="4572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867280" y="5851800"/>
                  <a:ext cx="1752840" cy="45720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477120" y="6004440"/>
                  <a:ext cx="53316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5867280" y="5699520"/>
                <a:ext cx="1752840" cy="457200"/>
                <a:chOff x="5867280" y="5699520"/>
                <a:chExt cx="1752840" cy="4572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867280" y="5699520"/>
                  <a:ext cx="1752840" cy="45720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477120" y="5851800"/>
                  <a:ext cx="53316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867280" y="5546880"/>
                <a:ext cx="1752840" cy="457200"/>
                <a:chOff x="5867280" y="5546880"/>
                <a:chExt cx="1752840" cy="4572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867280" y="5546880"/>
                  <a:ext cx="1752840" cy="45720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477120" y="5699520"/>
                  <a:ext cx="53316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2" name=""/>
            <p:cNvSpPr/>
            <p:nvPr/>
          </p:nvSpPr>
          <p:spPr>
            <a:xfrm>
              <a:off x="7515360" y="3032280"/>
              <a:ext cx="86652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x0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x0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x08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x0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67280" y="3184560"/>
              <a:ext cx="16765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dd r1,r2,r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3565440"/>
              <a:ext cx="16765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ub r2,r3,r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67280" y="3946680"/>
              <a:ext cx="16765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w r2, 0x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67280" y="4327560"/>
              <a:ext cx="16765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ult r3,r4,r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10080" y="2879640"/>
              <a:ext cx="2514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990000"/>
                  </a:solidFill>
                  <a:latin typeface="Arial"/>
                </a:rPr>
                <a:t>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8" name=""/>
            <p:cNvGraphicFramePr/>
            <p:nvPr/>
          </p:nvGraphicFramePr>
          <p:xfrm>
            <a:off x="4040280" y="2874960"/>
            <a:ext cx="1298520" cy="2178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40280" y="2874960"/>
                      <a:ext cx="1298520" cy="21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0" name=""/>
            <p:cNvSpPr/>
            <p:nvPr/>
          </p:nvSpPr>
          <p:spPr>
            <a:xfrm>
              <a:off x="5334120" y="303228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34120" y="326088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34120" y="3565440"/>
              <a:ext cx="5331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34120" y="4098960"/>
              <a:ext cx="12952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4120" y="3794040"/>
              <a:ext cx="5331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4120" y="4327560"/>
              <a:ext cx="10666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4120" y="4632480"/>
              <a:ext cx="9144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34120" y="4937040"/>
              <a:ext cx="7617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52960" y="25909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Courier New"/>
                </a:rPr>
                <a:t>VA-&gt;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3489480"/>
              <a:ext cx="2133720" cy="10666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unning progra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904760" y="6080040"/>
              <a:ext cx="380988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905120" y="4555800"/>
              <a:ext cx="0" cy="15238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819520" y="4022640"/>
              <a:ext cx="121896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69080" y="5735520"/>
              <a:ext cx="13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ru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or dat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73240" y="3718080"/>
              <a:ext cx="90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r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age Table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able which holds VA ­&gt; PA translations is called the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page tabl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 our current scheme, each word is translated from a virtual address to a physical addres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w big is the page tabl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867280" y="5394240"/>
            <a:ext cx="1752840" cy="914400"/>
            <a:chOff x="5867280" y="5394240"/>
            <a:chExt cx="1752840" cy="914400"/>
          </a:xfrm>
        </p:grpSpPr>
        <p:grpSp>
          <p:nvGrpSpPr>
            <p:cNvPr id="368" name=""/>
            <p:cNvGrpSpPr/>
            <p:nvPr/>
          </p:nvGrpSpPr>
          <p:grpSpPr>
            <a:xfrm>
              <a:off x="5867280" y="5851440"/>
              <a:ext cx="1752840" cy="457200"/>
              <a:chOff x="5867280" y="5851440"/>
              <a:chExt cx="1752840" cy="457200"/>
            </a:xfrm>
          </p:grpSpPr>
          <p:sp>
            <p:nvSpPr>
              <p:cNvPr id="369" name=""/>
              <p:cNvSpPr/>
              <p:nvPr/>
            </p:nvSpPr>
            <p:spPr>
              <a:xfrm>
                <a:off x="5867280" y="5851440"/>
                <a:ext cx="175284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77120" y="6004080"/>
                <a:ext cx="5331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5867280" y="5699160"/>
              <a:ext cx="1752840" cy="457200"/>
              <a:chOff x="5867280" y="5699160"/>
              <a:chExt cx="1752840" cy="457200"/>
            </a:xfrm>
          </p:grpSpPr>
          <p:sp>
            <p:nvSpPr>
              <p:cNvPr id="372" name=""/>
              <p:cNvSpPr/>
              <p:nvPr/>
            </p:nvSpPr>
            <p:spPr>
              <a:xfrm>
                <a:off x="5867280" y="5699160"/>
                <a:ext cx="175284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477120" y="5851800"/>
                <a:ext cx="5331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867280" y="5546880"/>
              <a:ext cx="1752840" cy="457200"/>
              <a:chOff x="5867280" y="5546880"/>
              <a:chExt cx="1752840" cy="457200"/>
            </a:xfrm>
          </p:grpSpPr>
          <p:sp>
            <p:nvSpPr>
              <p:cNvPr id="375" name=""/>
              <p:cNvSpPr/>
              <p:nvPr/>
            </p:nvSpPr>
            <p:spPr>
              <a:xfrm>
                <a:off x="5867280" y="5546880"/>
                <a:ext cx="175284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477120" y="5699160"/>
                <a:ext cx="5331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5867280" y="5394240"/>
              <a:ext cx="1752840" cy="457200"/>
              <a:chOff x="5867280" y="5394240"/>
              <a:chExt cx="1752840" cy="457200"/>
            </a:xfrm>
          </p:grpSpPr>
          <p:sp>
            <p:nvSpPr>
              <p:cNvPr id="378" name=""/>
              <p:cNvSpPr/>
              <p:nvPr/>
            </p:nvSpPr>
            <p:spPr>
              <a:xfrm>
                <a:off x="5867280" y="5394240"/>
                <a:ext cx="175284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5546880"/>
                <a:ext cx="53316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0" name=""/>
          <p:cNvSpPr/>
          <p:nvPr/>
        </p:nvSpPr>
        <p:spPr>
          <a:xfrm>
            <a:off x="7515360" y="2879640"/>
            <a:ext cx="866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3032280"/>
            <a:ext cx="1676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r1,r2,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67280" y="3413160"/>
            <a:ext cx="1676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 r2,r3,r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3794040"/>
            <a:ext cx="167652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w r2, 0x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4175280"/>
            <a:ext cx="16765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ult r3,r4,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10080" y="2727360"/>
            <a:ext cx="2514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040280" y="2722680"/>
          <a:ext cx="1298520" cy="217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0280" y="2722680"/>
                    <a:ext cx="129852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5334120" y="287964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310824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4120" y="341316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4120" y="3946680"/>
            <a:ext cx="12952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364176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4120" y="417528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447984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34120" y="478476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52960" y="2438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VA-&gt;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3336840"/>
            <a:ext cx="2133720" cy="1067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unning prog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904760" y="5927760"/>
            <a:ext cx="380988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905120" y="4403520"/>
            <a:ext cx="0" cy="15238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819520" y="3870360"/>
            <a:ext cx="1218960" cy="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69080" y="558324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d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73240" y="356544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eal Page Table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stead of the fine­grained VM where any virtual word can map to any RAM word location, partition memory into chunks called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page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ypical page size today is 4 or 8 KBy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is reduces the number of VA­&gt; PA translation entrie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ly one translation per p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 a 4 KByte page, that's one VA­&gt; PA translation for every 1,024 wo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Withi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a page, the virtual address == physical addres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898560" y="3657600"/>
            <a:ext cx="6262560" cy="2488320"/>
            <a:chOff x="898560" y="3657600"/>
            <a:chExt cx="6262560" cy="2488320"/>
          </a:xfrm>
        </p:grpSpPr>
        <p:sp>
          <p:nvSpPr>
            <p:cNvPr id="406" name=""/>
            <p:cNvSpPr/>
            <p:nvPr/>
          </p:nvSpPr>
          <p:spPr>
            <a:xfrm>
              <a:off x="2133720" y="3917880"/>
              <a:ext cx="304776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rtual Page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81480" y="3917880"/>
              <a:ext cx="182880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ge 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352680" y="55944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 Page #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1480" y="55944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ge 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19920" y="4451400"/>
              <a:ext cx="0" cy="1143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76720" y="4832280"/>
              <a:ext cx="1676160" cy="3812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ns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14800" y="4451400"/>
              <a:ext cx="0" cy="3808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14800" y="5245200"/>
              <a:ext cx="0" cy="3808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98560" y="3929040"/>
              <a:ext cx="11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Arial"/>
                </a:rPr>
                <a:t>Vir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Arial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83520" y="5442120"/>
              <a:ext cx="113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Arial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Arial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83480" y="36576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0732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5488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956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8360" y="52894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82200" y="5289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29760" y="5289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8520" y="5289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Virtual Pages &amp; Physical Page Frame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2209680"/>
            <a:ext cx="10666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0" y="2590920"/>
            <a:ext cx="10666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0" y="2971800"/>
            <a:ext cx="10666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0" y="3352680"/>
            <a:ext cx="10666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0" y="3733920"/>
            <a:ext cx="10666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86000" y="4114800"/>
            <a:ext cx="10666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4495680"/>
            <a:ext cx="10666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0" y="4876920"/>
            <a:ext cx="10666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50440" y="2057400"/>
            <a:ext cx="9122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7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6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5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4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3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2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1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0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47200" y="5073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43600" y="2209680"/>
            <a:ext cx="10666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43600" y="2590920"/>
            <a:ext cx="10666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43600" y="2971800"/>
            <a:ext cx="10666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943600" y="3352680"/>
            <a:ext cx="10666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08040" y="2057400"/>
            <a:ext cx="9122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3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2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1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0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08040" y="3549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18288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Virtual Address Space                          Physical Address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0" y="3352680"/>
            <a:ext cx="1066680" cy="38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43600" y="2971800"/>
            <a:ext cx="1066680" cy="380880"/>
          </a:xfrm>
          <a:prstGeom prst="rect">
            <a:avLst/>
          </a:prstGeom>
          <a:solidFill>
            <a:srgbClr val="cc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358128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81680" y="32767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646080" y="4433760"/>
            <a:ext cx="22532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rtual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000-0xfff = 4K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25800" y="411480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ysical page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How Does a Program Start Running?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2133720"/>
            <a:ext cx="1066680" cy="29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11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1101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010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101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10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010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9160" y="481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9160" y="2057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3f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343400" y="3200400"/>
            <a:ext cx="1752480" cy="914400"/>
            <a:chOff x="4343400" y="3200400"/>
            <a:chExt cx="1752480" cy="914400"/>
          </a:xfrm>
        </p:grpSpPr>
        <p:grpSp>
          <p:nvGrpSpPr>
            <p:cNvPr id="48" name=""/>
            <p:cNvGrpSpPr/>
            <p:nvPr/>
          </p:nvGrpSpPr>
          <p:grpSpPr>
            <a:xfrm>
              <a:off x="4343400" y="3657600"/>
              <a:ext cx="1752480" cy="457200"/>
              <a:chOff x="4343400" y="3657600"/>
              <a:chExt cx="1752480" cy="457200"/>
            </a:xfrm>
          </p:grpSpPr>
          <p:sp>
            <p:nvSpPr>
              <p:cNvPr id="49" name=""/>
              <p:cNvSpPr/>
              <p:nvPr/>
            </p:nvSpPr>
            <p:spPr>
              <a:xfrm>
                <a:off x="4343400" y="3657600"/>
                <a:ext cx="175248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952880" y="3810240"/>
                <a:ext cx="5328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343400" y="3505320"/>
              <a:ext cx="1752480" cy="457200"/>
              <a:chOff x="4343400" y="3505320"/>
              <a:chExt cx="1752480" cy="457200"/>
            </a:xfrm>
          </p:grpSpPr>
          <p:sp>
            <p:nvSpPr>
              <p:cNvPr id="52" name=""/>
              <p:cNvSpPr/>
              <p:nvPr/>
            </p:nvSpPr>
            <p:spPr>
              <a:xfrm>
                <a:off x="4343400" y="3505320"/>
                <a:ext cx="175248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952880" y="3657960"/>
                <a:ext cx="5328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343400" y="3353040"/>
              <a:ext cx="1752480" cy="457200"/>
              <a:chOff x="4343400" y="3353040"/>
              <a:chExt cx="1752480" cy="457200"/>
            </a:xfrm>
          </p:grpSpPr>
          <p:sp>
            <p:nvSpPr>
              <p:cNvPr id="55" name=""/>
              <p:cNvSpPr/>
              <p:nvPr/>
            </p:nvSpPr>
            <p:spPr>
              <a:xfrm>
                <a:off x="4343400" y="3353040"/>
                <a:ext cx="175248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952880" y="3505320"/>
                <a:ext cx="5328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4343400" y="3200400"/>
              <a:ext cx="1752480" cy="457200"/>
              <a:chOff x="4343400" y="3200400"/>
              <a:chExt cx="1752480" cy="457200"/>
            </a:xfrm>
          </p:grpSpPr>
          <p:sp>
            <p:nvSpPr>
              <p:cNvPr id="58" name=""/>
              <p:cNvSpPr/>
              <p:nvPr/>
            </p:nvSpPr>
            <p:spPr>
              <a:xfrm>
                <a:off x="4343400" y="3200400"/>
                <a:ext cx="175248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952880" y="3353040"/>
                <a:ext cx="5328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"/>
          <p:cNvSpPr/>
          <p:nvPr/>
        </p:nvSpPr>
        <p:spPr>
          <a:xfrm>
            <a:off x="1800360" y="2170080"/>
            <a:ext cx="2847600" cy="236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1892520" y="2398680"/>
            <a:ext cx="2846880" cy="236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89920" y="175248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98960" y="4689360"/>
            <a:ext cx="38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’s Program Counter is then set to the starting address of the program and the program begins exec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295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(loader) copies a program from permanent storage into RAM ­ on PCs and workstations, the “operating system” copies the program (bits) from di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age Frame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Every address within a virtual page maps to the same location within a physical page frame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 other words, botto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g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page size in bytes) is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ransl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age Table Entrie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 real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page table entry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(PTE) contains a number of field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page numb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ccess control bits (e.g., writeable bi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tus bits (e.g., accessed and dirty bi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MU control bits (e.g., cacheable and bufferable bi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y is the virtual page number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no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in the page table entry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4267080"/>
            <a:ext cx="304776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Page Number (PP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267080" y="4267080"/>
            <a:ext cx="18288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317000" y="4006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92920" y="40068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40480" y="40068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145160" y="40068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5880" y="4267080"/>
            <a:ext cx="83844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4267080"/>
            <a:ext cx="6094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9800" y="4006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707520" y="4006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21720" y="4006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93120" y="4006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nteractions with Instruction/Data Cache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age table entry has bits to determine if region i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cheable vs . uncache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rite­through vs. write­b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y control caching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me regions, such as for memory­mapped I/O devices, should not be cached. Wh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ecause cache doesn't know if I/O device register has changed va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nteractions with Write Buffer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age table entry has bits to determine if region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lows write buffer to buffer wr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y would one not want to buffer writes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ossible problems with memory­mapped I/O devices that require a write to complete before subsequent commands (instructions) are issu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wo­level Page Table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666880" y="228600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15000" y="2286000"/>
            <a:ext cx="18288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19920" y="2819520"/>
            <a:ext cx="0" cy="18288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32080" y="2297160"/>
            <a:ext cx="11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17000" y="20257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40840" y="2025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88400" y="2025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92720" y="2025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91120" y="2286000"/>
            <a:ext cx="15238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16960" y="2025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12040" y="2025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48120" y="3200400"/>
            <a:ext cx="9144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3657600"/>
            <a:ext cx="9144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48520" y="3962520"/>
            <a:ext cx="9144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48120" y="3352680"/>
            <a:ext cx="9144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0" y="4114800"/>
            <a:ext cx="9144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572000"/>
            <a:ext cx="9144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2666880"/>
            <a:ext cx="0" cy="8384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19520" y="3505320"/>
            <a:ext cx="22860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19920" y="4648320"/>
            <a:ext cx="22860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91120" y="3429000"/>
            <a:ext cx="0" cy="15238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91120" y="4952880"/>
            <a:ext cx="38088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3429000"/>
            <a:ext cx="22860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2666880"/>
            <a:ext cx="0" cy="16002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343400" y="4267080"/>
            <a:ext cx="22860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15000" y="4191120"/>
            <a:ext cx="0" cy="10666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5257800"/>
            <a:ext cx="53352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86400" y="4191120"/>
            <a:ext cx="22860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RM MMU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omplex VM and protection mechanism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resents 4 GB address space (why?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Memory granularity: 3 options supported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MB se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arge pages (64 KBytes) ­ access control within a large page on 16 KBy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mall pages (4 KBytes) ­ access control within a large page on 1 Kby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uts processor in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Abort Mod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when virtual address not mapped or permission check fail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hange pointer to page tables (called the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translation table bas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, in ARM jargon) to change virtual address space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ful for context switching of proce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Example: Single-Level Page Tabl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68600" y="1479600"/>
            <a:ext cx="304956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16720" y="1479600"/>
            <a:ext cx="18288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46760" y="1828800"/>
            <a:ext cx="0" cy="20574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33440" y="1490760"/>
            <a:ext cx="11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218720" y="1219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42560" y="1219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90120" y="1219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94440" y="1219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03560" y="2819520"/>
            <a:ext cx="9144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61160" y="3156120"/>
            <a:ext cx="9144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03560" y="3276720"/>
            <a:ext cx="9144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61160" y="3765600"/>
            <a:ext cx="9144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46760" y="3886200"/>
            <a:ext cx="91584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46560" y="3352680"/>
            <a:ext cx="0" cy="1067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246560" y="4419720"/>
            <a:ext cx="251460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017960" y="3352680"/>
            <a:ext cx="22860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75360" y="157644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23280" y="3124080"/>
            <a:ext cx="0" cy="60984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24480" y="320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27240" y="26668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946240" y="2819520"/>
            <a:ext cx="5040" cy="1295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92320" y="3236760"/>
            <a:ext cx="858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42440" y="228600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827840" y="3505320"/>
            <a:ext cx="858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827840" y="3124080"/>
            <a:ext cx="5040" cy="1295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1720" y="4886280"/>
            <a:ext cx="28839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ze of page 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32 bits = 4 Mby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341440" y="4191120"/>
            <a:ext cx="99072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60760" y="15382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17960" y="3352680"/>
            <a:ext cx="22860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65680" y="2819520"/>
            <a:ext cx="1440" cy="4572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68680" y="2895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61160" y="45720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76720" y="45864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023360" y="5129280"/>
            <a:ext cx="2715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ze of pag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8 bits = 4 Kby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541840" y="4571640"/>
            <a:ext cx="106704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Single-Level Page Tabl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ssump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2-bit virtual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 Kbyte page size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2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2-bit addres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How many virtual page numbers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/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= 1,048,576 virtual page numbers = number of entries in the pag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    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f each page table entry occupies 4 bytes, how much memory is needed to store the page table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entries * 4 bytes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ytes = 4 M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Example: Two­level Page Tabl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36840" y="1327320"/>
            <a:ext cx="15238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4960" y="1327320"/>
            <a:ext cx="18288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05720" y="1828800"/>
            <a:ext cx="0" cy="19051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01680" y="1338120"/>
            <a:ext cx="11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086960" y="1066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10800" y="1066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59800" y="1066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2680" y="1066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60720" y="1327320"/>
            <a:ext cx="152424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86560" y="1066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2000" y="1066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17720" y="2241720"/>
            <a:ext cx="9144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876920" y="2698920"/>
            <a:ext cx="9144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3003480"/>
            <a:ext cx="914400" cy="12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817720" y="2590920"/>
            <a:ext cx="9144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3156120"/>
            <a:ext cx="9144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10280" y="3613320"/>
            <a:ext cx="9144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705720" y="3733920"/>
            <a:ext cx="30456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962520" y="2666880"/>
            <a:ext cx="1440" cy="132732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960720" y="3962520"/>
            <a:ext cx="916200" cy="3168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732120" y="2666880"/>
            <a:ext cx="22860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343400" y="1828800"/>
            <a:ext cx="0" cy="15238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43400" y="3352680"/>
            <a:ext cx="53352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400800" y="3200400"/>
            <a:ext cx="0" cy="10666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400800" y="4267080"/>
            <a:ext cx="60948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1320" y="3200400"/>
            <a:ext cx="60948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790960" y="14479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 =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90760" y="146196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666880"/>
            <a:ext cx="0" cy="4572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41680" y="2666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682720" y="2209680"/>
            <a:ext cx="5040" cy="1295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28800" y="2627280"/>
            <a:ext cx="858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19520" y="36576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934720" y="367200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800600" y="41148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15800" y="412920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7320" y="4290840"/>
            <a:ext cx="28429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ze of page direct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32 bits = 4 Kby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81080" y="3657240"/>
            <a:ext cx="68580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66880" y="146196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81280" y="2209680"/>
            <a:ext cx="0" cy="38124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82840" y="2209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772400" y="2971800"/>
            <a:ext cx="0" cy="60948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475400" y="30481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3120" y="2666880"/>
            <a:ext cx="5040" cy="1295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46760" y="2590920"/>
            <a:ext cx="858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14720" y="4976640"/>
            <a:ext cx="28429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ze of pag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32 bits = 4 Kby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4038480" y="4343040"/>
            <a:ext cx="68580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072280" y="2971800"/>
            <a:ext cx="5040" cy="1295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077320" y="3352680"/>
            <a:ext cx="858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010280" y="44197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125840" y="443376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96200" y="5586480"/>
            <a:ext cx="2715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ze of pag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8 bits = 4 Kby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19960" y="4648320"/>
            <a:ext cx="49032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Two-Level Page Tabl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ssump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tries in page directory (= max number of page tab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tries in pag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2 bits allocated for each page directory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2 bits allocated for each page table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How much memory is needed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ge table size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entries * 32 bits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ytes = 4 K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ge directory size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entries * 32 bits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ytes = 4 K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hat if the program is too big?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ome machines won't let you run the program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iginal 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y this limitatio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3048120"/>
            <a:ext cx="1066680" cy="29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1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1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1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1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1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1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9360" y="572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9360" y="29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3f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943600" y="4114800"/>
            <a:ext cx="1752480" cy="914400"/>
            <a:chOff x="5943600" y="4114800"/>
            <a:chExt cx="1752480" cy="914400"/>
          </a:xfrm>
        </p:grpSpPr>
        <p:grpSp>
          <p:nvGrpSpPr>
            <p:cNvPr id="71" name=""/>
            <p:cNvGrpSpPr/>
            <p:nvPr/>
          </p:nvGrpSpPr>
          <p:grpSpPr>
            <a:xfrm>
              <a:off x="5943600" y="4572000"/>
              <a:ext cx="1752480" cy="457200"/>
              <a:chOff x="5943600" y="4572000"/>
              <a:chExt cx="1752480" cy="457200"/>
            </a:xfrm>
          </p:grpSpPr>
          <p:sp>
            <p:nvSpPr>
              <p:cNvPr id="72" name=""/>
              <p:cNvSpPr/>
              <p:nvPr/>
            </p:nvSpPr>
            <p:spPr>
              <a:xfrm>
                <a:off x="5943600" y="4572000"/>
                <a:ext cx="175248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553080" y="4724640"/>
                <a:ext cx="5328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5943600" y="4419720"/>
              <a:ext cx="1752480" cy="457200"/>
              <a:chOff x="5943600" y="4419720"/>
              <a:chExt cx="1752480" cy="457200"/>
            </a:xfrm>
          </p:grpSpPr>
          <p:sp>
            <p:nvSpPr>
              <p:cNvPr id="75" name=""/>
              <p:cNvSpPr/>
              <p:nvPr/>
            </p:nvSpPr>
            <p:spPr>
              <a:xfrm>
                <a:off x="5943600" y="4419720"/>
                <a:ext cx="175248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53080" y="4572360"/>
                <a:ext cx="5328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943600" y="4267440"/>
              <a:ext cx="1752480" cy="457200"/>
              <a:chOff x="5943600" y="4267440"/>
              <a:chExt cx="1752480" cy="457200"/>
            </a:xfrm>
          </p:grpSpPr>
          <p:sp>
            <p:nvSpPr>
              <p:cNvPr id="78" name=""/>
              <p:cNvSpPr/>
              <p:nvPr/>
            </p:nvSpPr>
            <p:spPr>
              <a:xfrm>
                <a:off x="5943600" y="4267440"/>
                <a:ext cx="175248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553080" y="4419720"/>
                <a:ext cx="5328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5943600" y="4114800"/>
              <a:ext cx="1752480" cy="457200"/>
              <a:chOff x="5943600" y="4114800"/>
              <a:chExt cx="1752480" cy="457200"/>
            </a:xfrm>
          </p:grpSpPr>
          <p:sp>
            <p:nvSpPr>
              <p:cNvPr id="81" name=""/>
              <p:cNvSpPr/>
              <p:nvPr/>
            </p:nvSpPr>
            <p:spPr>
              <a:xfrm>
                <a:off x="5943600" y="4114800"/>
                <a:ext cx="1752480" cy="45720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53080" y="4267440"/>
                <a:ext cx="5328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3400560" y="3084480"/>
            <a:ext cx="2847600" cy="236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3492720" y="3313080"/>
            <a:ext cx="2846880" cy="236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90120" y="266688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 rot="3645000">
            <a:off x="3609360" y="4162320"/>
            <a:ext cx="2934000" cy="39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</a:rPr>
              <a:t>1011000101101011110101010110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Two-Level Page Tabl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mall (typical)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ystem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e page table might be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ge directory size + Page table size = 8 Kbytes of memory would suffice for virtual memor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w mu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emory coul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one page 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and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umber of page tables * Number of page table entries * Page size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 *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*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ytes =  4 M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Larg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system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ou might need the maximum number of page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x number of page tables * Page table size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directory entries *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ytes 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ytes  = 4 Mbytes of memory would be needed for virtual memor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w mu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emory coul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s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age t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hand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umber of page tables * Number of page table entries * Page size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*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*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ytes =  4 G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How do programs run in memory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happens on “overflows”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mory Over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atic overlays and dynamic over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oblems with over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Virtual Memory (VM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V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ow does VM wor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irtual address to physical address mapp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age fa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M Sc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irtual pages and physical page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age table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actions with the rest of th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wo-level 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olution: Only Load Part of the Program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One option: programmer breaks code into pieces that fit into RAM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ieces, called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overlay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, are loaded and unloaded by the program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oes not require OS help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3505320"/>
            <a:ext cx="83808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2819520"/>
            <a:ext cx="83844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191120"/>
            <a:ext cx="838440" cy="1371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733920" y="4572000"/>
            <a:ext cx="3124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3429000"/>
            <a:ext cx="3124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20280" y="3162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440" y="342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440" y="458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7080" y="4205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97080" y="5272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97080" y="283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1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7080" y="3900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41000" y="3809880"/>
            <a:ext cx="247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one overlay and ru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til other over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7640" y="55627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RM Linker Supports Overlay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Overlay manag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loads an overlay segment when it is not in RAM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upports Static and Dynamic Overlay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Static overlay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e root seg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 or more memory partitions (1 for the root partition which is always in RA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ithin each partition, any number of overlay seg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ly 1 overlay segment can be in a partition at a given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cation writer specifies what is in each partition and seg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791320"/>
            <a:ext cx="2743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ot 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876920"/>
            <a:ext cx="6858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4876920"/>
            <a:ext cx="6858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4876920"/>
            <a:ext cx="6858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_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876920"/>
            <a:ext cx="6858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_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334120"/>
            <a:ext cx="6858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5334120"/>
            <a:ext cx="6858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5334120"/>
            <a:ext cx="6858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_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5334120"/>
            <a:ext cx="6858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_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7840" y="5867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6840" y="4952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54100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segments 1_1 .. 1_4 share the same memory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so do segments 2_1 .. 2_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hat Happens if ...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 function in one overlay calls a function in another ­ and vice-versa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3048120"/>
            <a:ext cx="83808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362320"/>
            <a:ext cx="83844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3733920"/>
            <a:ext cx="838440" cy="1371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05880" y="27050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2040" y="2971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2040" y="412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82680" y="3747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82680" y="481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8268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1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2680" y="3443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97160" y="2590920"/>
            <a:ext cx="23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ine foo2(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ll foo1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ine foo1(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ll foo2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11160" y="3429000"/>
            <a:ext cx="240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both segments statical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allocated to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physical part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8954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89548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Dynamic Overlay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clude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re-location informatio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with each overlay segment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Have overlay manager allocate memory for an overlay segment when it is first loaded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Load and unload overlay segments by explicit calls to overlay manager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Each overlay segment is given its own name ­ linker links each as if it were in its own partition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blems with Overlay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ifficult for programmer to manage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Not general ­ management of resources (RAM) is an operating system issue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ut many embedded systems do not have the space or power for a “real” 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olution: Virtual Memory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is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virtual memory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echnique that allows execution of a program that may not completely reside in memory (RA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llows the computer to “fake”' a program into believing that its memory space is larger than physical RAM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y is VM important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eap ­ no longer have to buy lots of 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moves burden of memory resource management from the program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 benefits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5:10:06Z</dcterms:created>
  <dc:creator>Raj Rajkumar</dc:creator>
  <dc:description/>
  <dc:language>en-US</dc:language>
  <cp:lastModifiedBy>jjohnso2</cp:lastModifiedBy>
  <cp:lastPrinted>2001-03-12T00:18:06Z</cp:lastPrinted>
  <dcterms:modified xsi:type="dcterms:W3CDTF">2004-09-07T22:36:32Z</dcterms:modified>
  <cp:revision>164</cp:revision>
  <dc:subject/>
  <dc:title>Introduction to Embedded Systems</dc:title>
</cp:coreProperties>
</file>