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0080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60840" y="6568920"/>
            <a:ext cx="3632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  <a:ea typeface="宋体"/>
              </a:rPr>
              <a:t>18-349: Introduction to Embedded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  <a:ea typeface="宋体"/>
              </a:rPr>
              <a:t>Basics of Feedback Control</a:t>
            </a:r>
            <a:endParaRPr b="0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cture 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Proportional Contr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 the difference between the current output and its desired value (the current error) is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oftware should probably change the drive signal a l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 the error/difference is sm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oftware should change drive signal only a li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 want the change to look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 * (desired – curr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 called the proportional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 K is well cho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taken to reach a new setpoint will be as short as possible, with overshoot (or undershoot) and oscillation minim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 there a problem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Proportional-Derivative (PD) Contr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blems with Proportion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ou want to reach the desired value quickly (higher 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ou want to settle down once you’re near the desired value (low 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 (or can discover) information about the rate of change of the plant's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ate of change of a signal = its deriv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output is changing rapidly, overshoot/undershoot may lie a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 can then reduce the size of the change suggested by the proportional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btract a derivative-based term from the proportional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D Contro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lower response time and far less overshoot and ripple than proportional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760" y="75960"/>
            <a:ext cx="894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Proportional-Integral-Derivative (PID) Contr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blems with P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ange in drive signal triggered by error = difference in desired and current value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rivative only tells you how two consecutive output values di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f the error is not sufficient to trigger any ac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omething else needs to drive the plant toward the set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gral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m of all past errors in the plant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persistent error will eventually cause the sum to grow lar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integral term then forces a change in the drive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portional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tegral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rivative combination = 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6920" y="-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A Simple System with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Proportional Contr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 marble on a flat and perfectly level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point can be an equilibrium point (just pick 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can be described by Newton’ s la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 = 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’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F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that we want to keep the marble 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applying proportional control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 = -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eedback is negative since if the marble position error is negative, it pushes with a positive force and vice 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ositive integer known as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proportional control cons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20880" y="5751360"/>
            <a:ext cx="722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2960" y="5030640"/>
            <a:ext cx="690480" cy="6908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0600" y="5751360"/>
            <a:ext cx="0" cy="594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32040" y="6097680"/>
            <a:ext cx="150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622320" y="5019840"/>
            <a:ext cx="60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581000" y="5349960"/>
            <a:ext cx="134964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34600" y="5056200"/>
            <a:ext cx="123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F = -K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21360" y="585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03080" y="465624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Concepts of Stability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bjective of controlling the marble is to put it at rest at the origin (set point). i.e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rom any initial condition. Or for that matter, after the marble was disturbed by some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ntuition is formalized as the notion of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more precisely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symptotic st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.e. the errors will converge to zero over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posite of stability is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nst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eaning that the error will grow larger and larger without bou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is, the marble will leave the origin for go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between is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marginal st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errors stay within some b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66960" y="75960"/>
            <a:ext cx="7643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Cartoon Laws of Physic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1160" y="761760"/>
            <a:ext cx="45896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3300"/>
              </a:buClr>
              <a:buSzPct val="130000"/>
              <a:buFont typeface="Times New Roman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y body passing through solid matter will leave a perforation conforming to its peri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3300"/>
              </a:buClr>
              <a:buSzPct val="130000"/>
              <a:buFont typeface="Times New Roman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y body suspended in space will remain in space until made aware of its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3300"/>
              </a:buClr>
              <a:buSzPct val="130000"/>
              <a:buFont typeface="Times New Roman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ertain bodies can pass through solid walls painted to resemble tunnel entrances; others can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ff3300"/>
              </a:buClr>
              <a:buSzPct val="130000"/>
              <a:buFont typeface="Times New Roman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r every vengeance there is an equal and opposite “revengeanc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48680" y="5838840"/>
            <a:ext cx="895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5040" y="75960"/>
            <a:ext cx="7615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Revie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rom your calculus courses, we know that the solution of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Linear Partial Differential Equ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is a sum of exponent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(t) =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x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)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x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) +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ponent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... are known as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eigen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f th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igenvalues can be complex, e.g., exp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t)*exp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I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j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olving LPDEs using the Laplace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*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’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+ 4*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+ 5*y = 0 (replace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erivative with 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+ 4s + 5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olve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you will get the eigen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248680" y="5838840"/>
            <a:ext cx="895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Stability and Eigenvalu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relationship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gnitude of eigenvalue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otion of (asymptotic) stability, marginal stability and instabil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real parts are 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n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least one eigenvalue’s real part is greater than z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Marginal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 greater than zero but some eigenvalues equal to z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Back To The Marbl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929880"/>
            <a:ext cx="826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, let us analyze the stability of our marble under proportional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Newton’s law, we have F = m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roportional control, we have F = -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, we have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mx’’ = -K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ith m &gt; 0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rble under proportional contro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t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ginally st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70680" y="4405320"/>
            <a:ext cx="28209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Marble under Proportional Contr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9480" y="761760"/>
            <a:ext cx="85150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trajectories can be obtained by solving the differential equations by using Laplace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”) =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’) = 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tart wi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x’’ = (-K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/m) x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’’ + (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m) x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Laplace transfor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m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+/- j sqrt(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m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eigen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might have guessed, the marble will oscillate with frequ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= sqrt(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/m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dians/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ginally s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real part of eigenvalue is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Summary of Previous Lecture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sics of A/D and D/A conver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undamentals of sampl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and how of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iasing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 A/D and D/A conver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rift and Ji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xamining code snippets for potential drift and ji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Marble Under P + D contr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 m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mass of the mar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 -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proportional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 -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-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proportional + derivativ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putting it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+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applying Laplace trans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(-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± sqrt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m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/ 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&gt; 0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 and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system stable?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sqrt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4m*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lt;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 real par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lways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follows that the system is s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Intui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position err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ositive, the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roportional control fo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egati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pushes the marble back to the origin (setpoint) at 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will be the force and the speed when marble reaches the origin if we use only proportional contro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marble is moving towards the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set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velocity is negative. So the force due to derivative control     -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’ is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ounters the proportional force and slows down the marble’ s motion towards the orig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Proportional control is like your car’s gas ped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s the car towards the setpoint (a chosen orig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Derivative control is like your br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Tuning a Simple PD Controller - I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3040" y="830160"/>
            <a:ext cx="816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Experimental tuning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et the derivative gain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ly increase the proportional gain until the device oscillates around the set point with a speed that is satis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, the real part of the eigenvalue is 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aginary part of the eigenvalue determines the __________ of osci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ly increase the derivative gain until the device settles down at the set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, the real part of the eigenvalue is 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Tuning a Simple PD Controller - II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3040" y="830160"/>
            <a:ext cx="8461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e-t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motion towards the setpoint is too slow, we can __________ the proportional ga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___________ the derivative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motion overshoots the setpoint too much, we can __________ the derivative ga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__________ the proportional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Avoid using too large a proportional gain and too large a derivative gain at the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ill saturate the actu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like slamming on your gas pedal and the brake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Integral Contr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ystem often has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fri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changing workloa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you may not be able to model in ad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uto-cruise control, we cannot know how many passengers will be in the 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ction may change due to machine conditions (worn-out tires, loss of engine conditio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odeled heavy load often results in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teady-state 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system will settle “near”, rather than at, the set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What Does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Integral Control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 Do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Integral 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s up (integrates) the past errors and then adds a force that is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proportional to the </a:t>
            </a: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cumulative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marble gets stuck near a setpoint due to some fri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osition error adds up 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ventually generates a force large enough to help get the marble g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ar has a heavier load and the velocity settles at a value lower than the setpoint for a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 adds up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tegral control leads to increased thro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The </a:t>
            </a:r>
            <a:r>
              <a:rPr b="0" i="1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Dark Side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 of Integral Contr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l control acts on cumulative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takes a while to reach a large s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will also take time to reduce the 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following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rble gets stuck on the left side of the set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10 sec, the integral control is large enough to help get the marble mo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tegral will keep increasing until the marble crosses the 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will take a while to “wash out” the cumulative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verdose of integral control is a common source of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oversh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oscil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even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nst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an you do to offset th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Using Integral Contr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7520" y="923760"/>
            <a:ext cx="8364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rule of thumb, start from zero and use it ligh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e eigenvalue of the system to make sure all of them are sufficiently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F/m, where F = -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-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m) s +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m + 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m) 1/s = 0  (because Laplace transform of integral is 1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m 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m s +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m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integral is to add an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system. A large value of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lead to a positive eigenvalue (bad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solve the equation to see if the real part of the eigenvalues are still negative (Best done using MATL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How to Tune a Simple PID Control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2640" y="747360"/>
            <a:ext cx="856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xperimental tuning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et derivative gain and integral gains to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ly increase the proportional gain until the device oscillates around the set point with a speed that is satisfact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is point, the real part of the eigenvalue is 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inary part of the eigenvalue determines the __________ of osci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ly increase the derivative gain until the device settles down at the set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is point, the real part of the eigenvalue is 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a steady-state error, slightly increase the integral gain until the steady state error is corrected and yet does not cause serious oscil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eans that the real part of the eigenvalues are still 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How to Tune a Simple PID Control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2640" y="858600"/>
            <a:ext cx="8669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ine-tu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motion towards the setpoint is too 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__________ proportional gain or ___________ derivative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lay with integral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a steady-stat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add a little __________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motion overshoots the setpoint and oscill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__________ the derivative gain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reduce __________ gain and __________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Announcement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7877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ab #4 due ton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ab #5 out ton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ease plan your time car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quires building parts of an embedded operating system to run on the X-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Basic Simulation Diagram Concept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20920" y="1630440"/>
            <a:ext cx="6669000" cy="3136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51600" y="5068800"/>
            <a:ext cx="785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 is a double-integrator with weight 1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trans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ce to acceleration, acceleration to velocity, and then velocity to pos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s integ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99080" y="2021040"/>
            <a:ext cx="8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4640" y="825480"/>
            <a:ext cx="50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oportional Control of Mar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Marble Under PID Contr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54080" y="1336680"/>
            <a:ext cx="746748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Cruise Control – PID In Ac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06080" y="761760"/>
            <a:ext cx="76280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uise control controls the speed of the car by adjusting the throttle position (throttle valve controls engine power and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ood cruise control system would accelerate aggressively to the desired speed without overshooting, and then maintain that speed with little deviation, even if you go over a h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Proportional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Difference in ideal and current spee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ictates proportiona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ruise control set at 60mph; car traveling at 50mph has twice the throttle opening than when it gets to 55m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Integral contr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integral of speed is 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elps the car deal with hills, and settle into the correct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car goes up a hill, proportional control helps, but may still slow the car down;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the longer the car stays at a slower spe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the more the integral control, and therefore the throttle opening incre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Derivative contr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derivative of speed is accele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elps to respond quickly to changes, such as h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speeds changes, cruise control can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sense this accele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even before speed changes too much, and increases throttle op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64008" t="0" r="0" b="0"/>
          <a:stretch/>
        </p:blipFill>
        <p:spPr>
          <a:xfrm>
            <a:off x="7707240" y="0"/>
            <a:ext cx="14367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Summary of Lecture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edback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rginal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edback contro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portional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portional + derivativ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portional + derivative + integral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 diagram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Outline of This Lecture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eedback Control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rtiona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v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9920" y="75960"/>
            <a:ext cx="8310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Feedback Control – Why Should You Care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3360" y="762120"/>
            <a:ext cx="392436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appens in everyday life, even in our 18-349 l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member the “howling” we hear when we sometimes have the microphones on for our videoconferenc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41760" y="934920"/>
            <a:ext cx="4321080" cy="2644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440" y="3765600"/>
            <a:ext cx="817092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phone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fier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peaker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icro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loop happens so fast that it generates its own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phone-to-speaker distance dictates the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s how quickly sound “feedback” occurs through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feedback problem happens in public address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0640" y="75960"/>
            <a:ext cx="7629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Want To Try This Out Yourself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4083120"/>
            <a:ext cx="7829640" cy="25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ttach a set of speakers to your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n-mute” and set microphone and speakers to maximum 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ap microphone and hear it in the spe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ace speakers near microphone, turn up the volume and hear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ange distance between microphone and speakers to see the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ution: Not to be used as revenge on instructors, labmat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16553"/>
          <a:stretch/>
        </p:blipFill>
        <p:spPr>
          <a:xfrm>
            <a:off x="1038240" y="824040"/>
            <a:ext cx="6935760" cy="315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248680" y="5838840"/>
            <a:ext cx="895320" cy="714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00160" y="1300320"/>
            <a:ext cx="985680" cy="24285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0200" y="1281240"/>
            <a:ext cx="971640" cy="24717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Feedback in Embedded System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ny real-time embedded systems make control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se decisions are usually made by software and based on feedback from the hardware under its control (termed the pl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uch feedback commonly takes the form of an analog sensor that can be read via an A/D conv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sample from the sensor might represent position, voltage, temperature, or any other appropriate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sample provides the software with additional information upon which to base its control deci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Closed-Loop vs. Open-Loop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0160" y="761760"/>
            <a:ext cx="89424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pen-loop systems doesn’t necessarily use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d-loop systems use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fter reading each new sample from the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oftware reacts to the plant's changed state by recalculating and adjusting the drive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lant responds to this change, another sample is taken, and the cycle repe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ventually, the plant should reach the desired state and the software will cease making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65160" y="1900080"/>
            <a:ext cx="73454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On-Off Control – Your Thermost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w much should the software increase or decrease the drive sign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 the drive signal to its minimum value when you want the thermostat to decrease its tempera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 the drive signal to its maximum value when you want the thermostat to increase its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61840" y="2952720"/>
            <a:ext cx="68313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05:10:06Z</dcterms:created>
  <dc:creator>Raj Rajkumar</dc:creator>
  <dc:description/>
  <dc:language>en-US</dc:language>
  <cp:lastModifiedBy>jjohnso2</cp:lastModifiedBy>
  <cp:lastPrinted>2001-04-25T16:32:57Z</cp:lastPrinted>
  <dcterms:modified xsi:type="dcterms:W3CDTF">2004-09-07T22:41:30Z</dcterms:modified>
  <cp:revision>402</cp:revision>
  <dc:subject>Karanji Anjaneya Swamy</dc:subject>
  <dc:title>Vakratundam Mahakayam</dc:title>
</cp:coreProperties>
</file>