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26360" y="-54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Carnegie 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1040" y="2234880"/>
            <a:ext cx="82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Commercial Real-Time Operating System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Lecture 24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mmon RTOS Featur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ootstrapping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eadless”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isplay 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Is (Application Programming Interf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le threads and/o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xed priority scheduling is most po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tex/semaphore support likely with priority inheritance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-proces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ssage 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rs/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aphics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twork protocol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merging RTOS Requiremen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ull-featured 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 for new processors and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 for Internet protocols and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 for Multimedia protocols and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 for Fil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protection,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ment tools and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UI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5329080"/>
            <a:ext cx="6107400" cy="75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with low and predictable overhe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ase Study:  Linux in embedded system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y Linux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Reliable, Full-featured 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ich multi-tasking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curity,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Networking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CP/IP, RSVP, SIP, MPLS, H.3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Multimedia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JPEG, MPEG, G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宋体"/>
              </a:rPr>
              <a:t>Device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Standard, Known Environment and API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ix Line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amiliar environment for many users/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y Linux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The Cost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ee run-time roya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The Open Source Fac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global team of programmers enhancing the environment literally all th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libraries, tools, and device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urce Code Access allowing “peeking inside the hood” (and customizing as necess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The Popularity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lent textbooks and 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y Linux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Small Embedd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dular Kernel, possible to configure the kernel to suitab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ustomizable Root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ts of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High-End Embedd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-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us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M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 API: Task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capsulates a thread of control and an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 space may be shared gi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n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hedulabl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e processes to the 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heduled by the 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created such that they share the address space with the parent process, effectively giving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 API: POSIX, SVR4, BSD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1003.1.b (Real-Time Exten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y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 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s and 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1003.1.c (Thread Exten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pthreads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d creation, destruc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texes, Conditio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VR4 I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twork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SD So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232160" y="2082960"/>
            <a:ext cx="4206960" cy="3487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63920" y="2401920"/>
            <a:ext cx="3889440" cy="1878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 Internals Archit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96920" y="4230720"/>
            <a:ext cx="2427480" cy="138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2151000"/>
            <a:ext cx="2427480" cy="138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8160" y="4950000"/>
            <a:ext cx="3035160" cy="37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e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94320" y="3467160"/>
            <a:ext cx="1548000" cy="58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12040" y="2693880"/>
            <a:ext cx="852480" cy="37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79960" y="2698920"/>
            <a:ext cx="852480" cy="37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99000" y="3060720"/>
            <a:ext cx="316080" cy="40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31000" y="2884320"/>
            <a:ext cx="584280" cy="1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546960" y="3048120"/>
            <a:ext cx="376200" cy="40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3570120"/>
            <a:ext cx="645840" cy="37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19960" y="3538440"/>
            <a:ext cx="646200" cy="37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057640" y="3730680"/>
            <a:ext cx="41436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39080" y="3713040"/>
            <a:ext cx="401400" cy="1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7196040" y="3065040"/>
            <a:ext cx="527040" cy="476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315120" y="4290480"/>
            <a:ext cx="7920" cy="622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21240" y="2804760"/>
            <a:ext cx="620640" cy="25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14760" y="4809600"/>
            <a:ext cx="620640" cy="25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e Real-Time Linux Challeng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27320" y="2462040"/>
            <a:ext cx="6351480" cy="162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leverage the advantages of Linux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making it suitable for real-tim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T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x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mbedded Windows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nux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pproaches to Real-Time Linux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2120" y="1165320"/>
            <a:ext cx="849816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Approaches limiting Real-time and Non Real-time Task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t Kerne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ynxOS/Blue Cat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n Kerne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TLinux/RT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Approaches that integrate Real-time and Non Real-tim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e Kerne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Sys Linux, Monta Vista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 Kernel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Sys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 Internals: Schedu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hedulable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Class: SCHED_FIFO or SCHED_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-Sharing Class: SCHED_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processe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 defined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priority than time-sharing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n Schedulable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ve priorities, and can be n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ottom Halves &amp; Task 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un on schedule, ret from system call, ret from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 and Real-Time: Problem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r Granu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ny real-time tasks are driven by timer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 Standard Linux, the timer is set to expire at 10 ms inter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heduler Predic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ux scheduler keeps tasks in an unsorted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a scan of all tasks to make a scheduling 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ales poorly as number of tasks increases, and is especially poor for real-time perform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ous subsystems NOT designed for real-tim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twork protocol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le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pproaches to Real-Time Linux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3280" y="1644480"/>
            <a:ext cx="6389640" cy="804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ant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3280" y="272880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3280" y="3814920"/>
            <a:ext cx="6389640" cy="804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480" y="490068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mpliant Kernel Approach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3903840"/>
            <a:ext cx="2849400" cy="1647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mbedded Appl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4440" y="3949560"/>
            <a:ext cx="3446280" cy="164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eal-Time Ap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9200" y="3027240"/>
            <a:ext cx="3097080" cy="292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ystem Cal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46640" y="3075120"/>
            <a:ext cx="3341880" cy="291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ystem Cal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9200" y="1722600"/>
            <a:ext cx="30970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Development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0" y="1770120"/>
            <a:ext cx="32925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Development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06600" y="3525840"/>
            <a:ext cx="3122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21440" y="3600360"/>
            <a:ext cx="354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6600" y="1308240"/>
            <a:ext cx="0" cy="473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89520" y="4476600"/>
            <a:ext cx="976320" cy="520920"/>
          </a:xfrm>
          <a:prstGeom prst="rightArrow">
            <a:avLst>
              <a:gd name="adj1" fmla="val 50000"/>
              <a:gd name="adj2" fmla="val 46856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mpliant Kernel Approach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 Cla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ux is defined by its API and not by its interna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eal-time kernel is a non 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 benefits from the 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t possible to benefit from the Linux kernel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t possible to use Linux hardware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t possible to use Linux device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mplianc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0% Linux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 all of Linux kerne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y Linux application can run on real-time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ment can be done on Linux Host, with rich set of host tools for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 Linux libraries are trivially available to run on real-time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rd party 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chieving 100% Linux API is non-triv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der the amount of effort put on Linux kernel 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pproaches to Real-Time Linux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2639880"/>
            <a:ext cx="6389640" cy="804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al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6280" y="1509840"/>
            <a:ext cx="6389640" cy="804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t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377028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6280" y="490068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e Thin Kernel Approach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8040" y="4481640"/>
            <a:ext cx="7022880" cy="55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78040" y="3828960"/>
            <a:ext cx="7022880" cy="550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-Time Kernel (RT-Linux or RT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1560" y="2942640"/>
            <a:ext cx="11620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90680" y="2942640"/>
            <a:ext cx="11620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16360" y="2942640"/>
            <a:ext cx="11620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23040" y="2657520"/>
            <a:ext cx="2298600" cy="927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989000"/>
            <a:ext cx="729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25480" y="792000"/>
            <a:ext cx="1242360" cy="9082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83040" y="803160"/>
            <a:ext cx="1242360" cy="9082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70600" y="1685880"/>
            <a:ext cx="12600" cy="878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5840" y="1703520"/>
            <a:ext cx="12600" cy="877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8560" y="155088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28800" y="20829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rnel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0560" y="5324400"/>
            <a:ext cx="58485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-time tasks do NOT use the Linux API or Linux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lure in any real-time task crashes the entir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pproaches to Real-Time Linux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3280" y="164448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t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3280" y="272880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3280" y="3814920"/>
            <a:ext cx="6389640" cy="804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1480" y="490068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(Traditional) Real-Time Applic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739800"/>
            <a:ext cx="894708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port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utomotives, avionics, railway system, submarines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pace-bas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atellite systems, planetary rovers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dustrial Auto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anufacturing automation (e.g. Bottling facto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control (e.g. petroleum refinement, temperature control systems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obotics applications, mechanical pets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Acquisi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upervisory control and data acquisition systems (SCADA), Security monitor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fense/militar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adar systems, Smart weapons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0992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re Kernel Approach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the kernel more suitable for 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sure that the impact of changes is localized so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rnel upgrades can be easily incorpo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ernel reliability and scalability is not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ic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configured at compi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ynamic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loadable kernel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re Kernel Approach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the use of most if not all existing Linux primitives, applications, and to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ed to avoid primitives that can take extended time in the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the use of most existing device drivers written to support Linu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ed to avoid poorly written drivers that unfairly hog system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bustness and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re kernel modifications can effect robustness, but source i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pproaches to Real-Time Linux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3280" y="164448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t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280" y="2728800"/>
            <a:ext cx="6389640" cy="8049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3280" y="3814920"/>
            <a:ext cx="6389640" cy="804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1480" y="4900680"/>
            <a:ext cx="6389640" cy="804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Kerne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source Kern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Kernel that provides to Applications Timely, Guaranteed, and Enforced access to System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Applications to specify only their Resource Demands, leaving the Kernel to satisfy those Demands using hidden management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tection in Resource Kernel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application (or a group of collaborating applications) operates in a virtual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machine which consists of  a well-defined and guaranteed portion of system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 capacity, the disk bandwidth, the network bandwidth and the memory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le virtual machines can run simultaneously on the same physi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uarantees available to each reserve set is valid despite the presence of other (potentially mis-behaving) applications using other reserve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source Kernel” Archit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2160" y="1928880"/>
            <a:ext cx="8606520" cy="1639800"/>
            <a:chOff x="-2160" y="1928880"/>
            <a:chExt cx="8606520" cy="1639800"/>
          </a:xfrm>
        </p:grpSpPr>
        <p:sp>
          <p:nvSpPr>
            <p:cNvPr id="165" name=""/>
            <p:cNvSpPr/>
            <p:nvPr/>
          </p:nvSpPr>
          <p:spPr>
            <a:xfrm>
              <a:off x="1747800" y="1928880"/>
              <a:ext cx="6856560" cy="1639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-2160" y="2398680"/>
              <a:ext cx="1660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iddle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44560" y="5235480"/>
            <a:ext cx="6856560" cy="145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124000" y="5356080"/>
            <a:ext cx="6289920" cy="1279800"/>
            <a:chOff x="2124000" y="5356080"/>
            <a:chExt cx="6289920" cy="1279800"/>
          </a:xfrm>
        </p:grpSpPr>
        <p:grpSp>
          <p:nvGrpSpPr>
            <p:cNvPr id="169" name=""/>
            <p:cNvGrpSpPr/>
            <p:nvPr/>
          </p:nvGrpSpPr>
          <p:grpSpPr>
            <a:xfrm>
              <a:off x="2124000" y="5356080"/>
              <a:ext cx="1216080" cy="1279800"/>
              <a:chOff x="2124000" y="5356080"/>
              <a:chExt cx="1216080" cy="1279800"/>
            </a:xfrm>
          </p:grpSpPr>
          <p:sp>
            <p:nvSpPr>
              <p:cNvPr id="170" name=""/>
              <p:cNvSpPr/>
              <p:nvPr/>
            </p:nvSpPr>
            <p:spPr>
              <a:xfrm>
                <a:off x="2124000" y="6392880"/>
                <a:ext cx="1174680" cy="243000"/>
              </a:xfrm>
              <a:prstGeom prst="ellipse">
                <a:avLst/>
              </a:prstGeom>
              <a:solidFill>
                <a:srgbClr val="66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24000" y="5465880"/>
                <a:ext cx="1216080" cy="1042920"/>
              </a:xfrm>
              <a:prstGeom prst="rect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58920" y="5356080"/>
                <a:ext cx="1174680" cy="243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56120" y="5576760"/>
              <a:ext cx="900000" cy="928800"/>
              <a:chOff x="4056120" y="5576760"/>
              <a:chExt cx="900000" cy="928800"/>
            </a:xfrm>
          </p:grpSpPr>
          <p:sp>
            <p:nvSpPr>
              <p:cNvPr id="174" name=""/>
              <p:cNvSpPr/>
              <p:nvPr/>
            </p:nvSpPr>
            <p:spPr>
              <a:xfrm>
                <a:off x="4229280" y="5576760"/>
                <a:ext cx="556920" cy="92880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66"/>
                    </a:solidFill>
                    <a:latin typeface="Times New Roman"/>
                    <a:ea typeface="ＭＳ Ｐゴシック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056120" y="5605560"/>
                <a:ext cx="169560" cy="871560"/>
                <a:chOff x="4056120" y="5605560"/>
                <a:chExt cx="169560" cy="871560"/>
              </a:xfrm>
            </p:grpSpPr>
            <p:sp>
              <p:nvSpPr>
                <p:cNvPr id="176" name=""/>
                <p:cNvSpPr/>
                <p:nvPr/>
              </p:nvSpPr>
              <p:spPr>
                <a:xfrm flipH="1">
                  <a:off x="4056120" y="5605560"/>
                  <a:ext cx="163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4059360" y="5767560"/>
                  <a:ext cx="163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4056120" y="5954760"/>
                  <a:ext cx="163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4056120" y="6137280"/>
                  <a:ext cx="163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4060440" y="6318360"/>
                  <a:ext cx="1652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4060440" y="6477120"/>
                  <a:ext cx="1652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785840" y="5611680"/>
                <a:ext cx="170280" cy="873360"/>
                <a:chOff x="4785840" y="5611680"/>
                <a:chExt cx="170280" cy="87336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4785840" y="5611680"/>
                  <a:ext cx="1652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4785840" y="5773680"/>
                  <a:ext cx="1652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4785840" y="5962680"/>
                  <a:ext cx="1652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4785840" y="6143760"/>
                  <a:ext cx="1652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4789440" y="6326280"/>
                  <a:ext cx="163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92680" y="6485040"/>
                  <a:ext cx="163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5308920" y="5486400"/>
              <a:ext cx="1236600" cy="905040"/>
              <a:chOff x="5308920" y="5486400"/>
              <a:chExt cx="1236600" cy="9050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5410080" y="5973840"/>
                <a:ext cx="1090800" cy="203040"/>
                <a:chOff x="5410080" y="5973840"/>
                <a:chExt cx="1090800" cy="2030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5410080" y="5973840"/>
                  <a:ext cx="358920" cy="195120"/>
                  <a:chOff x="5410080" y="5973840"/>
                  <a:chExt cx="358920" cy="195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5487840" y="5973840"/>
                    <a:ext cx="201600" cy="195120"/>
                  </a:xfrm>
                  <a:prstGeom prst="rect">
                    <a:avLst/>
                  </a:prstGeom>
                  <a:solidFill>
                    <a:srgbClr val="00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695920" y="5994360"/>
                    <a:ext cx="73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695920" y="60325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5695920" y="6067440"/>
                    <a:ext cx="73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5692680" y="610092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695920" y="6132600"/>
                    <a:ext cx="73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695920" y="61657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413320" y="59929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410080" y="602784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413320" y="606600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410080" y="61023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5413320" y="613260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5410080" y="616284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5781600" y="5977080"/>
                  <a:ext cx="354240" cy="193680"/>
                  <a:chOff x="5781600" y="5977080"/>
                  <a:chExt cx="354240" cy="19368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5859360" y="5977080"/>
                    <a:ext cx="198720" cy="193680"/>
                  </a:xfrm>
                  <a:prstGeom prst="rect">
                    <a:avLst/>
                  </a:prstGeom>
                  <a:solidFill>
                    <a:srgbClr val="00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068880" y="5997600"/>
                    <a:ext cx="66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064200" y="60357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68880" y="6070680"/>
                    <a:ext cx="66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060960" y="61023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068880" y="6135840"/>
                    <a:ext cx="66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64200" y="616752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781600" y="59943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781600" y="60325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781600" y="606744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781600" y="610560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781600" y="613584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781600" y="61657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146640" y="5978520"/>
                  <a:ext cx="354240" cy="198360"/>
                  <a:chOff x="6146640" y="5978520"/>
                  <a:chExt cx="354240" cy="1983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224760" y="5978520"/>
                    <a:ext cx="198360" cy="198360"/>
                  </a:xfrm>
                  <a:prstGeom prst="rect">
                    <a:avLst/>
                  </a:prstGeom>
                  <a:solidFill>
                    <a:srgbClr val="00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432480" y="600084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429240" y="603720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432480" y="60721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429240" y="610704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432480" y="613728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429240" y="61707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146640" y="599760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146640" y="603576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146640" y="607068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146640" y="610704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146640" y="613728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146640" y="61675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" name=""/>
              <p:cNvGrpSpPr/>
              <p:nvPr/>
            </p:nvGrpSpPr>
            <p:grpSpPr>
              <a:xfrm>
                <a:off x="5410080" y="6191280"/>
                <a:ext cx="1090800" cy="200160"/>
                <a:chOff x="5410080" y="6191280"/>
                <a:chExt cx="1090800" cy="20016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5410080" y="6191280"/>
                  <a:ext cx="358920" cy="195120"/>
                  <a:chOff x="5410080" y="6191280"/>
                  <a:chExt cx="358920" cy="1951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487840" y="6191280"/>
                    <a:ext cx="201600" cy="195120"/>
                  </a:xfrm>
                  <a:prstGeom prst="rect">
                    <a:avLst/>
                  </a:prstGeom>
                  <a:solidFill>
                    <a:srgbClr val="00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695920" y="6211800"/>
                    <a:ext cx="73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95920" y="62485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95920" y="6283440"/>
                    <a:ext cx="73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692680" y="63183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695920" y="6348240"/>
                    <a:ext cx="73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5695920" y="638316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413320" y="62071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410080" y="624528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413320" y="628020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410080" y="63183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413320" y="634824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410080" y="638028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781600" y="6194520"/>
                  <a:ext cx="354240" cy="193680"/>
                  <a:chOff x="5781600" y="6194520"/>
                  <a:chExt cx="354240" cy="1936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859360" y="6194520"/>
                    <a:ext cx="198720" cy="193680"/>
                  </a:xfrm>
                  <a:prstGeom prst="rect">
                    <a:avLst/>
                  </a:prstGeom>
                  <a:solidFill>
                    <a:srgbClr val="00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068880" y="6215040"/>
                    <a:ext cx="66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64200" y="62499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068880" y="6288120"/>
                    <a:ext cx="66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60960" y="631980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068880" y="6353280"/>
                    <a:ext cx="66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064200" y="638496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781600" y="621180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781600" y="62485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781600" y="628344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781600" y="631980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781600" y="635328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781600" y="638316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146640" y="6195960"/>
                  <a:ext cx="354240" cy="195480"/>
                  <a:chOff x="6146640" y="6195960"/>
                  <a:chExt cx="354240" cy="1954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6224760" y="6195960"/>
                    <a:ext cx="198360" cy="195480"/>
                  </a:xfrm>
                  <a:prstGeom prst="rect">
                    <a:avLst/>
                  </a:prstGeom>
                  <a:solidFill>
                    <a:srgbClr val="0033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432480" y="621828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429240" y="625320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432480" y="628956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429240" y="632304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32480" y="635472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429240" y="638820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146640" y="621504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146640" y="624996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146640" y="628812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146640" y="632448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146640" y="6354720"/>
                    <a:ext cx="7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146640" y="6384960"/>
                    <a:ext cx="68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6" name=""/>
              <p:cNvSpPr/>
              <p:nvPr/>
            </p:nvSpPr>
            <p:spPr>
              <a:xfrm>
                <a:off x="5308920" y="5486400"/>
                <a:ext cx="12366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emo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759720" y="5769000"/>
              <a:ext cx="1654200" cy="579960"/>
              <a:chOff x="6759720" y="5769000"/>
              <a:chExt cx="1654200" cy="579960"/>
            </a:xfrm>
          </p:grpSpPr>
          <p:sp>
            <p:nvSpPr>
              <p:cNvPr id="278" name=""/>
              <p:cNvSpPr/>
              <p:nvPr/>
            </p:nvSpPr>
            <p:spPr>
              <a:xfrm>
                <a:off x="6759720" y="5819760"/>
                <a:ext cx="315720" cy="458640"/>
              </a:xfrm>
              <a:prstGeom prst="ellipse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24600" y="5816520"/>
                <a:ext cx="1346400" cy="478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97840" y="5827680"/>
                <a:ext cx="316080" cy="460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31080" y="5813280"/>
                <a:ext cx="133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02280" y="6284880"/>
                <a:ext cx="12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240" y="5769000"/>
                <a:ext cx="1428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NetBW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231480" y="5340240"/>
            <a:ext cx="13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89080" y="3584520"/>
            <a:ext cx="8318520" cy="1644840"/>
            <a:chOff x="289080" y="3584520"/>
            <a:chExt cx="8318520" cy="1644840"/>
          </a:xfrm>
        </p:grpSpPr>
        <p:sp>
          <p:nvSpPr>
            <p:cNvPr id="286" name=""/>
            <p:cNvSpPr/>
            <p:nvPr/>
          </p:nvSpPr>
          <p:spPr>
            <a:xfrm>
              <a:off x="1738440" y="3584520"/>
              <a:ext cx="6869160" cy="1644840"/>
            </a:xfrm>
            <a:prstGeom prst="rect">
              <a:avLst/>
            </a:prstGeom>
            <a:gradFill rotWithShape="0">
              <a:gsLst>
                <a:gs pos="0">
                  <a:srgbClr val="cbfe98"/>
                </a:gs>
                <a:gs pos="100000">
                  <a:srgbClr val="99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60480" y="3678120"/>
              <a:ext cx="1739880" cy="146700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089080" y="3990960"/>
              <a:ext cx="306360" cy="407880"/>
              <a:chOff x="2089080" y="3990960"/>
              <a:chExt cx="306360" cy="407880"/>
            </a:xfrm>
          </p:grpSpPr>
          <p:sp>
            <p:nvSpPr>
              <p:cNvPr id="289" name=""/>
              <p:cNvSpPr/>
              <p:nvPr/>
            </p:nvSpPr>
            <p:spPr>
              <a:xfrm>
                <a:off x="2093760" y="4330800"/>
                <a:ext cx="298440" cy="6804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89080" y="4027320"/>
                <a:ext cx="306360" cy="33516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93760" y="3990960"/>
                <a:ext cx="298440" cy="68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706480" y="3882960"/>
              <a:ext cx="574560" cy="596880"/>
              <a:chOff x="2706480" y="3882960"/>
              <a:chExt cx="574560" cy="596880"/>
            </a:xfrm>
          </p:grpSpPr>
          <p:sp>
            <p:nvSpPr>
              <p:cNvPr id="293" name=""/>
              <p:cNvSpPr/>
              <p:nvPr/>
            </p:nvSpPr>
            <p:spPr>
              <a:xfrm>
                <a:off x="2819520" y="3882960"/>
                <a:ext cx="350640" cy="596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d1d"/>
                    </a:solidFill>
                    <a:latin typeface="Times New Roman"/>
                    <a:ea typeface="ＭＳ Ｐゴシック"/>
                  </a:rPr>
                  <a:t>C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2706480" y="3898800"/>
                <a:ext cx="107640" cy="565200"/>
                <a:chOff x="2706480" y="3898800"/>
                <a:chExt cx="107640" cy="565200"/>
              </a:xfrm>
            </p:grpSpPr>
            <p:sp>
              <p:nvSpPr>
                <p:cNvPr id="295" name=""/>
                <p:cNvSpPr/>
                <p:nvPr/>
              </p:nvSpPr>
              <p:spPr>
                <a:xfrm flipH="1">
                  <a:off x="2706480" y="389880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2707920" y="400356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2706480" y="412596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2706480" y="424332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2709360" y="436104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2709360" y="446400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173040" y="3903840"/>
                <a:ext cx="108000" cy="564840"/>
                <a:chOff x="3173040" y="3903840"/>
                <a:chExt cx="108000" cy="564840"/>
              </a:xfrm>
            </p:grpSpPr>
            <p:sp>
              <p:nvSpPr>
                <p:cNvPr id="302" name=""/>
                <p:cNvSpPr/>
                <p:nvPr/>
              </p:nvSpPr>
              <p:spPr>
                <a:xfrm flipH="1">
                  <a:off x="3173040" y="390384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3173040" y="400860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3173040" y="413064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3173040" y="424800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3174480" y="436572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3176280" y="4468680"/>
                  <a:ext cx="104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022480" y="4476600"/>
              <a:ext cx="709200" cy="528840"/>
              <a:chOff x="2022480" y="4476600"/>
              <a:chExt cx="709200" cy="5288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2117880" y="4702320"/>
                <a:ext cx="544320" cy="139680"/>
                <a:chOff x="2117880" y="4702320"/>
                <a:chExt cx="544320" cy="13968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2117880" y="4702320"/>
                  <a:ext cx="177480" cy="134640"/>
                  <a:chOff x="2117880" y="4702320"/>
                  <a:chExt cx="177480" cy="1346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2160720" y="4702320"/>
                    <a:ext cx="93600" cy="13464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262240" y="471636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260440" y="4741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262240" y="476712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259000" y="47912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262240" y="481320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260440" y="48355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19320" y="47131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17880" y="473868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19320" y="47642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17880" y="47912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19320" y="48132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17880" y="483408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2301840" y="4705200"/>
                  <a:ext cx="177840" cy="133560"/>
                  <a:chOff x="2301840" y="4705200"/>
                  <a:chExt cx="177840" cy="133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2344680" y="4705200"/>
                    <a:ext cx="93600" cy="1335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444760" y="47181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444760" y="4743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444760" y="4768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443320" y="479268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444760" y="48150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444760" y="48387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303640" y="4716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301840" y="4741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303640" y="47671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301840" y="479268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303640" y="48150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301840" y="48355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84360" y="4707000"/>
                  <a:ext cx="177840" cy="135000"/>
                  <a:chOff x="2484360" y="4707000"/>
                  <a:chExt cx="177840" cy="1350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2525760" y="4707000"/>
                    <a:ext cx="93600" cy="1350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627280" y="47196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625840" y="47451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627280" y="4770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625840" y="47941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627280" y="48164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25840" y="48402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486160" y="471816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484360" y="4743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486160" y="476892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484360" y="4795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486160" y="481644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484360" y="48387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2" name=""/>
              <p:cNvGrpSpPr/>
              <p:nvPr/>
            </p:nvGrpSpPr>
            <p:grpSpPr>
              <a:xfrm>
                <a:off x="2131920" y="4867200"/>
                <a:ext cx="544680" cy="138240"/>
                <a:chOff x="2131920" y="4867200"/>
                <a:chExt cx="544680" cy="1382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131920" y="4867200"/>
                  <a:ext cx="177840" cy="133560"/>
                  <a:chOff x="2131920" y="4867200"/>
                  <a:chExt cx="177840" cy="1335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174760" y="4867200"/>
                    <a:ext cx="93600" cy="1335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276640" y="487980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274840" y="4905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276640" y="493092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273400" y="495468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276640" y="497664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274840" y="50007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33720" y="4878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31920" y="4903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33720" y="49291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31920" y="49561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33720" y="49766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31920" y="49989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316240" y="4869000"/>
                  <a:ext cx="177840" cy="134640"/>
                  <a:chOff x="2316240" y="4869000"/>
                  <a:chExt cx="177840" cy="13464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2359080" y="4869000"/>
                    <a:ext cx="93600" cy="13464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459160" y="48816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459160" y="49068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459160" y="4932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57360" y="49561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459160" y="49784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459160" y="50022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317680" y="48798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316240" y="4905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317680" y="4930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316240" y="495792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317680" y="49784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316240" y="50007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2498760" y="4870440"/>
                  <a:ext cx="177840" cy="135000"/>
                  <a:chOff x="2498760" y="4870440"/>
                  <a:chExt cx="177840" cy="13500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2540160" y="4870440"/>
                    <a:ext cx="93600" cy="1350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641680" y="48848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639880" y="49100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641680" y="49356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639880" y="4959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641680" y="498168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639880" y="500364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500200" y="48816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498760" y="49068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500200" y="49323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498760" y="495936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00200" y="498168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498760" y="5002200"/>
                    <a:ext cx="3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>
                <a:off x="2022480" y="4476600"/>
                <a:ext cx="70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641680" y="4668840"/>
              <a:ext cx="865080" cy="335880"/>
              <a:chOff x="2641680" y="4668840"/>
              <a:chExt cx="865080" cy="33588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2681280" y="4675320"/>
                <a:ext cx="825480" cy="306360"/>
                <a:chOff x="2681280" y="4675320"/>
                <a:chExt cx="825480" cy="3063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81280" y="4681440"/>
                  <a:ext cx="152280" cy="28728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760840" y="4676760"/>
                  <a:ext cx="677520" cy="30492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354480" y="4686480"/>
                  <a:ext cx="152280" cy="288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763720" y="4675320"/>
                  <a:ext cx="6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749680" y="4975200"/>
                  <a:ext cx="65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2641680" y="4668840"/>
                <a:ext cx="805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NetB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3816360" y="3683160"/>
              <a:ext cx="1739880" cy="1466640"/>
            </a:xfrm>
            <a:prstGeom prst="roundRect">
              <a:avLst>
                <a:gd name="adj" fmla="val 1249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949560" y="3767040"/>
              <a:ext cx="462240" cy="587520"/>
              <a:chOff x="3949560" y="3767040"/>
              <a:chExt cx="462240" cy="587520"/>
            </a:xfrm>
          </p:grpSpPr>
          <p:sp>
            <p:nvSpPr>
              <p:cNvPr id="406" name=""/>
              <p:cNvSpPr/>
              <p:nvPr/>
            </p:nvSpPr>
            <p:spPr>
              <a:xfrm>
                <a:off x="3952800" y="4249800"/>
                <a:ext cx="439920" cy="10476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49560" y="3813120"/>
                <a:ext cx="462240" cy="4860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65400" y="3767040"/>
                <a:ext cx="43992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575240" y="3786120"/>
              <a:ext cx="765000" cy="798480"/>
              <a:chOff x="4575240" y="3786120"/>
              <a:chExt cx="765000" cy="798480"/>
            </a:xfrm>
          </p:grpSpPr>
          <p:sp>
            <p:nvSpPr>
              <p:cNvPr id="410" name=""/>
              <p:cNvSpPr/>
              <p:nvPr/>
            </p:nvSpPr>
            <p:spPr>
              <a:xfrm>
                <a:off x="4722840" y="3786120"/>
                <a:ext cx="471600" cy="798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d1d"/>
                    </a:solidFill>
                    <a:latin typeface="Times New Roman"/>
                    <a:ea typeface="ＭＳ Ｐゴシック"/>
                  </a:rPr>
                  <a:t>C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575240" y="3809880"/>
                <a:ext cx="144360" cy="752760"/>
                <a:chOff x="4575240" y="3809880"/>
                <a:chExt cx="144360" cy="75276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4575240" y="380988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>
                  <a:off x="4576680" y="394812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4575240" y="411156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4575240" y="426888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4578480" y="442440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4579920" y="456264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5195880" y="3816360"/>
                <a:ext cx="144360" cy="752400"/>
                <a:chOff x="5195880" y="3816360"/>
                <a:chExt cx="144360" cy="752400"/>
              </a:xfrm>
            </p:grpSpPr>
            <p:sp>
              <p:nvSpPr>
                <p:cNvPr id="419" name=""/>
                <p:cNvSpPr/>
                <p:nvPr/>
              </p:nvSpPr>
              <p:spPr>
                <a:xfrm flipH="1">
                  <a:off x="5195880" y="381636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5197320" y="395460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5195880" y="411804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5195880" y="427500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5199120" y="443088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5200560" y="4568760"/>
                  <a:ext cx="13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4370400" y="4608360"/>
              <a:ext cx="1152360" cy="447840"/>
              <a:chOff x="4370400" y="4608360"/>
              <a:chExt cx="1152360" cy="4478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4370400" y="4608360"/>
                <a:ext cx="1152360" cy="398520"/>
                <a:chOff x="4370400" y="4608360"/>
                <a:chExt cx="1152360" cy="3985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370400" y="4614840"/>
                  <a:ext cx="217440" cy="37476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483080" y="4611600"/>
                  <a:ext cx="942840" cy="39528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05320" y="4619520"/>
                  <a:ext cx="217440" cy="381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483080" y="4608360"/>
                  <a:ext cx="9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68680" y="4995720"/>
                  <a:ext cx="905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4521960" y="4689360"/>
                <a:ext cx="884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NetB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760920" y="4503600"/>
              <a:ext cx="709200" cy="433440"/>
              <a:chOff x="3760920" y="4503600"/>
              <a:chExt cx="709200" cy="43344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3919680" y="4705200"/>
                <a:ext cx="436320" cy="109800"/>
                <a:chOff x="3919680" y="4705200"/>
                <a:chExt cx="436320" cy="10980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3919680" y="4705200"/>
                  <a:ext cx="142560" cy="106560"/>
                  <a:chOff x="3919680" y="4705200"/>
                  <a:chExt cx="142560" cy="1065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3954600" y="4705200"/>
                    <a:ext cx="72720" cy="1047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033800" y="471312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033800" y="47340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033800" y="475452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032360" y="47736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033800" y="47926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033800" y="481176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19680" y="47116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919680" y="47322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919680" y="47530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919680" y="47750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919680" y="47926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919680" y="480996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4067280" y="4707000"/>
                  <a:ext cx="142920" cy="106200"/>
                  <a:chOff x="4067280" y="4707000"/>
                  <a:chExt cx="142920" cy="1062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4102200" y="4707000"/>
                    <a:ext cx="73080" cy="1047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183200" y="47149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181400" y="473544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183200" y="47563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181400" y="477504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83200" y="47941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81400" y="481320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068720" y="47131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4067280" y="47340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068720" y="47545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067280" y="47768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068720" y="47941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067280" y="481176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4213080" y="4708440"/>
                  <a:ext cx="142920" cy="106560"/>
                  <a:chOff x="4213080" y="4708440"/>
                  <a:chExt cx="142920" cy="106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4248000" y="4708440"/>
                    <a:ext cx="73080" cy="1047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329000" y="47181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327560" y="47372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329000" y="47577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327560" y="477684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329000" y="47959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327560" y="48150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214880" y="47149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213080" y="473544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214880" y="47563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213080" y="477828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214880" y="47959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213080" y="481320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3919680" y="4827600"/>
                <a:ext cx="436320" cy="109440"/>
                <a:chOff x="3919680" y="4827600"/>
                <a:chExt cx="436320" cy="10944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3919680" y="4827600"/>
                  <a:ext cx="142560" cy="106200"/>
                  <a:chOff x="3919680" y="4827600"/>
                  <a:chExt cx="142560" cy="1062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3954600" y="4827600"/>
                    <a:ext cx="72720" cy="1062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033800" y="483696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033800" y="48578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033800" y="487836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032360" y="48974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033800" y="49150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033800" y="49338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919680" y="483552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919680" y="48560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919680" y="487692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919680" y="48988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919680" y="49150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919680" y="493236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4067280" y="4829040"/>
                  <a:ext cx="142920" cy="106560"/>
                  <a:chOff x="4067280" y="4829040"/>
                  <a:chExt cx="142920" cy="10656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4102200" y="4829040"/>
                    <a:ext cx="73080" cy="1065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183200" y="48387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4181400" y="485928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4183200" y="487980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181400" y="489888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4183200" y="49165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181400" y="493560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068720" y="48369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067280" y="48578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068720" y="48783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067280" y="49006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068720" y="491652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067280" y="493380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4213080" y="4830840"/>
                  <a:ext cx="142920" cy="106200"/>
                  <a:chOff x="4213080" y="4830840"/>
                  <a:chExt cx="142920" cy="10620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4248000" y="4830840"/>
                    <a:ext cx="73080" cy="1062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329000" y="484020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327560" y="486108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329000" y="488160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327560" y="490068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329000" y="49179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327560" y="4937040"/>
                    <a:ext cx="28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214880" y="48387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213080" y="485928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214880" y="487980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213080" y="490212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214880" y="4917960"/>
                    <a:ext cx="27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4213080" y="4935600"/>
                    <a:ext cx="2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0" name=""/>
              <p:cNvSpPr/>
              <p:nvPr/>
            </p:nvSpPr>
            <p:spPr>
              <a:xfrm>
                <a:off x="3760920" y="4503600"/>
                <a:ext cx="70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754680" y="3675240"/>
              <a:ext cx="1739880" cy="1466640"/>
            </a:xfrm>
            <a:prstGeom prst="roundRect">
              <a:avLst>
                <a:gd name="adj" fmla="val 12495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765560" y="3749760"/>
              <a:ext cx="522720" cy="541080"/>
              <a:chOff x="7765560" y="3749760"/>
              <a:chExt cx="522720" cy="541080"/>
            </a:xfrm>
          </p:grpSpPr>
          <p:sp>
            <p:nvSpPr>
              <p:cNvPr id="523" name=""/>
              <p:cNvSpPr/>
              <p:nvPr/>
            </p:nvSpPr>
            <p:spPr>
              <a:xfrm>
                <a:off x="7869240" y="3749760"/>
                <a:ext cx="317520" cy="5410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81d1d"/>
                    </a:solidFill>
                    <a:latin typeface="Times New Roman"/>
                    <a:ea typeface="ＭＳ Ｐゴシック"/>
                  </a:rPr>
                  <a:t>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765560" y="3763800"/>
                <a:ext cx="98640" cy="514440"/>
                <a:chOff x="7765560" y="3763800"/>
                <a:chExt cx="98640" cy="514440"/>
              </a:xfrm>
            </p:grpSpPr>
            <p:sp>
              <p:nvSpPr>
                <p:cNvPr id="525" name=""/>
                <p:cNvSpPr/>
                <p:nvPr/>
              </p:nvSpPr>
              <p:spPr>
                <a:xfrm flipH="1">
                  <a:off x="7765560" y="3763800"/>
                  <a:ext cx="95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7767720" y="3857760"/>
                  <a:ext cx="950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7765560" y="3970440"/>
                  <a:ext cx="95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7765560" y="4076640"/>
                  <a:ext cx="95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7769160" y="4184640"/>
                  <a:ext cx="936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7768800" y="4278240"/>
                  <a:ext cx="95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8190000" y="3768840"/>
                <a:ext cx="98280" cy="512640"/>
                <a:chOff x="8190000" y="3768840"/>
                <a:chExt cx="98280" cy="512640"/>
              </a:xfrm>
            </p:grpSpPr>
            <p:sp>
              <p:nvSpPr>
                <p:cNvPr id="532" name=""/>
                <p:cNvSpPr/>
                <p:nvPr/>
              </p:nvSpPr>
              <p:spPr>
                <a:xfrm flipH="1">
                  <a:off x="8190000" y="3768840"/>
                  <a:ext cx="950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8191440" y="3862440"/>
                  <a:ext cx="936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8190000" y="3973680"/>
                  <a:ext cx="950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8190000" y="4081320"/>
                  <a:ext cx="950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8191080" y="4187880"/>
                  <a:ext cx="954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8193240" y="4281480"/>
                  <a:ext cx="950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6945480" y="4606920"/>
              <a:ext cx="709200" cy="493560"/>
              <a:chOff x="6945480" y="4606920"/>
              <a:chExt cx="709200" cy="4935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7053120" y="4840200"/>
                <a:ext cx="508320" cy="123840"/>
                <a:chOff x="7053120" y="4840200"/>
                <a:chExt cx="508320" cy="12384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7053120" y="4840200"/>
                  <a:ext cx="166680" cy="119160"/>
                  <a:chOff x="7053120" y="4840200"/>
                  <a:chExt cx="166680" cy="1191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7093080" y="4840200"/>
                    <a:ext cx="87120" cy="1191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186680" y="485136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186680" y="487512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186680" y="489744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184880" y="49179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186680" y="493884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186680" y="495936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054920" y="484992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053120" y="487188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054920" y="48960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053120" y="49197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054920" y="493884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053120" y="495792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226280" y="4842000"/>
                  <a:ext cx="165240" cy="118800"/>
                  <a:chOff x="7226280" y="4842000"/>
                  <a:chExt cx="165240" cy="1188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265880" y="4842000"/>
                    <a:ext cx="85680" cy="1188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359480" y="485316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358040" y="487692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59480" y="489888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356600" y="491976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359480" y="494028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7358040" y="49608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26280" y="48513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7226280" y="487512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7226280" y="489744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7226280" y="49212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7226280" y="494028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226280" y="495936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7396200" y="4843440"/>
                  <a:ext cx="165240" cy="120600"/>
                  <a:chOff x="7396200" y="4843440"/>
                  <a:chExt cx="165240" cy="12060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7435800" y="4843440"/>
                    <a:ext cx="85680" cy="1206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7529400" y="485460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7527960" y="48783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7529400" y="490068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7527960" y="49230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7529400" y="494172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7527960" y="49626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396200" y="48531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396200" y="487692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396200" y="489888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396200" y="49230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7396200" y="494172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396200" y="49608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7053120" y="4978440"/>
                <a:ext cx="508320" cy="122040"/>
                <a:chOff x="7053120" y="4978440"/>
                <a:chExt cx="508320" cy="12204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7053120" y="4978440"/>
                  <a:ext cx="166680" cy="119160"/>
                  <a:chOff x="7053120" y="4978440"/>
                  <a:chExt cx="166680" cy="1191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093080" y="4978440"/>
                    <a:ext cx="87120" cy="1191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186680" y="498960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186680" y="501156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186680" y="503388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184880" y="50562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186680" y="507528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186680" y="50976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054920" y="498636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053120" y="501012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054920" y="503244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053120" y="50562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7054920" y="507528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053120" y="50958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226280" y="4979880"/>
                  <a:ext cx="165240" cy="119160"/>
                  <a:chOff x="7226280" y="4979880"/>
                  <a:chExt cx="165240" cy="1191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7265880" y="4979880"/>
                    <a:ext cx="85680" cy="11916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359480" y="499104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358040" y="50133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359480" y="503712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7356600" y="5057640"/>
                    <a:ext cx="33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7359480" y="507852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7358040" y="509904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7226280" y="49896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226280" y="501156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226280" y="503388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226280" y="505764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226280" y="507852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226280" y="509760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396200" y="4981680"/>
                  <a:ext cx="165240" cy="118800"/>
                  <a:chOff x="7396200" y="4981680"/>
                  <a:chExt cx="165240" cy="1188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7435800" y="4981680"/>
                    <a:ext cx="85680" cy="118800"/>
                  </a:xfrm>
                  <a:prstGeom prst="rect">
                    <a:avLst/>
                  </a:prstGeom>
                  <a:solidFill>
                    <a:srgbClr val="181d1d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529400" y="499284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527960" y="501480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529400" y="503856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527960" y="505944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529400" y="5079960"/>
                    <a:ext cx="32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527960" y="510048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396200" y="499104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396200" y="501336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396200" y="503712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7396200" y="506088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396200" y="5079960"/>
                    <a:ext cx="33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396200" y="5099040"/>
                    <a:ext cx="31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5" name=""/>
              <p:cNvSpPr/>
              <p:nvPr/>
            </p:nvSpPr>
            <p:spPr>
              <a:xfrm>
                <a:off x="6945480" y="4606920"/>
                <a:ext cx="709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7664760" y="4740120"/>
              <a:ext cx="649800" cy="275040"/>
              <a:chOff x="7664760" y="4740120"/>
              <a:chExt cx="649800" cy="27504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7704000" y="4780080"/>
                <a:ext cx="606600" cy="204840"/>
                <a:chOff x="7704000" y="4780080"/>
                <a:chExt cx="606600" cy="2048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704000" y="4786200"/>
                  <a:ext cx="109800" cy="18756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761240" y="4781520"/>
                  <a:ext cx="500040" cy="2034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201160" y="4789440"/>
                  <a:ext cx="10944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763040" y="4780080"/>
                  <a:ext cx="49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53320" y="4979880"/>
                  <a:ext cx="480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7664760" y="4740120"/>
                <a:ext cx="649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NetB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5816160" y="4005360"/>
              <a:ext cx="528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6996240" y="3794040"/>
              <a:ext cx="623880" cy="731880"/>
              <a:chOff x="6996240" y="3794040"/>
              <a:chExt cx="623880" cy="731880"/>
            </a:xfrm>
          </p:grpSpPr>
          <p:sp>
            <p:nvSpPr>
              <p:cNvPr id="636" name=""/>
              <p:cNvSpPr/>
              <p:nvPr/>
            </p:nvSpPr>
            <p:spPr>
              <a:xfrm>
                <a:off x="6999120" y="4390920"/>
                <a:ext cx="597240" cy="13500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96240" y="3854520"/>
                <a:ext cx="623880" cy="60156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16760" y="3794040"/>
                <a:ext cx="596880" cy="135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289080" y="3782880"/>
              <a:ext cx="1320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536160" y="2714760"/>
            <a:ext cx="1974240" cy="458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b18d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T File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24200" y="1994040"/>
            <a:ext cx="2749680" cy="8240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a2c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sher/Subscr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25720" y="2587680"/>
            <a:ext cx="1414440" cy="67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T-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57520" y="2889360"/>
            <a:ext cx="1414440" cy="67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oS M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29280" y="2898720"/>
            <a:ext cx="1414440" cy="679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93920" y="1252440"/>
            <a:ext cx="8107200" cy="694800"/>
            <a:chOff x="493920" y="1252440"/>
            <a:chExt cx="8107200" cy="694800"/>
          </a:xfrm>
        </p:grpSpPr>
        <p:grpSp>
          <p:nvGrpSpPr>
            <p:cNvPr id="646" name=""/>
            <p:cNvGrpSpPr/>
            <p:nvPr/>
          </p:nvGrpSpPr>
          <p:grpSpPr>
            <a:xfrm>
              <a:off x="493920" y="1252440"/>
              <a:ext cx="8107200" cy="680760"/>
              <a:chOff x="493920" y="1252440"/>
              <a:chExt cx="8107200" cy="680760"/>
            </a:xfrm>
          </p:grpSpPr>
          <p:sp>
            <p:nvSpPr>
              <p:cNvPr id="647" name=""/>
              <p:cNvSpPr/>
              <p:nvPr/>
            </p:nvSpPr>
            <p:spPr>
              <a:xfrm>
                <a:off x="1744560" y="1252440"/>
                <a:ext cx="6856560" cy="666720"/>
              </a:xfrm>
              <a:prstGeom prst="rect">
                <a:avLst/>
              </a:prstGeom>
              <a:gradFill rotWithShape="0">
                <a:gsLst>
                  <a:gs pos="0">
                    <a:srgbClr val="fef8ef"/>
                  </a:gs>
                  <a:gs pos="100000">
                    <a:srgbClr val="ffc56d"/>
                  </a:gs>
                </a:gsLst>
                <a:lin ang="5400000"/>
              </a:gradFill>
              <a:ln w="12600">
                <a:solidFill>
                  <a:srgbClr val="ffc5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3920" y="1474920"/>
                <a:ext cx="8280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Ap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2444400" y="148896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Real-Time and Multimedia 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inux Resource Kernel Architect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36560" y="5489640"/>
            <a:ext cx="58676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25760" y="3336840"/>
            <a:ext cx="1371600" cy="1924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13240" y="3352680"/>
            <a:ext cx="4106880" cy="1898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8120" y="3809880"/>
            <a:ext cx="47124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048120" y="4689360"/>
            <a:ext cx="447480" cy="12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773520" y="1290600"/>
            <a:ext cx="14479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68400" y="1290600"/>
            <a:ext cx="14479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30920" y="1290600"/>
            <a:ext cx="14479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" y="3048120"/>
            <a:ext cx="8305920" cy="0"/>
          </a:xfrm>
          <a:prstGeom prst="line">
            <a:avLst/>
          </a:prstGeom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2680" y="33120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5240" y="24832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34648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66920" y="2124000"/>
            <a:ext cx="1100160" cy="11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95680" y="2368440"/>
            <a:ext cx="0" cy="83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742840" y="2136600"/>
            <a:ext cx="1219320" cy="106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629400" y="2359080"/>
            <a:ext cx="0" cy="91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068920" y="47566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serves and Resource Se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Share of a Single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mporal Res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 declare Portion and Timeframe of Resource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CPU time, link bandwidth, disk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patial Res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memory pages, network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宋体"/>
              </a:rPr>
              <a:t>Resourc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set of resource res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world of embedded real-time is changing, and converging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sktop worl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nterprise worl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erver worl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Internet Worl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3 dominant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xWorks (propriet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 var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nux var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merging Applic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宋体"/>
              </a:rPr>
              <a:t>Cell-phones, VoIP phone, PD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宋体"/>
              </a:rPr>
              <a:t>MP3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宋体"/>
              </a:rPr>
              <a:t>Set-top boxes, Game Cons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宋体"/>
              </a:rPr>
              <a:t>Automotiv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宋体"/>
              </a:rPr>
              <a:t>Network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宋体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Popular Standards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3138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Operating System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EEE 1003.1b POSIX Real-Time Extensions (www.ieee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SEK (automotive real-time OS standard) (www.osek.or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(and Concurrent) Programmi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Specification for Java (www.java.com, www.timesys.co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da 83 and Ada 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CORBA (middleware and abstraction of the underlying R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tworks/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bus (Controller Area Network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TA: Time-Triggered Architecture (www.tttech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lexRay (www.flexray.o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M or Switched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y-based or weighted fair-shar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Metrics in Real-Time Systems (1/2)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End-to-end la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worst-case, average-case, variance,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involve multiple hops (across nodes, links, switches and rou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havior in the presence or absence of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J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Through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X can be proces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messages can be transmit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Surviv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faults can be tolerated before system failu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functionality gets compromi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Metrics in Real-Time Systems (2/2)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Secu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the system’s integrity be compromi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violations be detec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 system “safe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the system get into an ‘unsafe’ state? Has it been ‘certified’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Maintain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does one fix probl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does the system get upgrad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Dynamism and Adap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when the system mission 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when individual elements fa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the system reconfigure itself dynamical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does the system behave after re-configu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TOS Consider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processor(s) does it run 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-bit, 16-bit, 32-bit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 Pentium® Processor, PowerPC, Arm/StrongArm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ntel Xscale®, MIPS, SuperH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BM and Intel® Network 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board(s) does it run 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e software package for a particular hardware board is called a BSP (Board Support Pack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the software environ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ilers and debug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-compilation + symbolic debugging on targ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lers (CPU,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coverage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ative simulation/emulation suppor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Real-Time Operating Systems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mbedded XP, Windows CE, Pocket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xWorks from Wind River Systems (www.windriver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ux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lue Cat Linux (www.lynuxworks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Embedded) Red Hat Linux (www.redhat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SM RT-Linux (www.fsmlabs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nta Vista Linux (www.mvista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Sys Linux (www.timesys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ynxOS (www.lynuxwork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NX (www.qnx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laris real-tim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mbedded OS specification in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as multiple profiles for different classes of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07:04:40Z</dcterms:created>
  <dc:creator>Manas Saksena</dc:creator>
  <dc:description/>
  <dc:language>en-US</dc:language>
  <cp:lastModifiedBy>jjohnso2</cp:lastModifiedBy>
  <cp:lastPrinted>1998-06-04T10:45:14Z</cp:lastPrinted>
  <dcterms:modified xsi:type="dcterms:W3CDTF">2004-09-07T22:45:19Z</dcterms:modified>
  <cp:revision>447</cp:revision>
  <dc:subject>Schedulability Analysis and Automatic Synthesis</dc:subject>
  <dc:title>TimeWiz for Rational Rose Real-Time</dc:title>
</cp:coreProperties>
</file>