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76176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667320"/>
            <a:ext cx="2576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66732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124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761760"/>
            <a:ext cx="3904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67320"/>
            <a:ext cx="8001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47208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1560" y="6566040"/>
            <a:ext cx="363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  <a:ea typeface="宋体"/>
              </a:rPr>
              <a:t>Introduction to Embedded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3520" y="229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troduction to Embedded (Real Time) System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cture 1</a:t>
            </a:r>
            <a:br>
              <a:rPr sz="3200"/>
            </a:b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Where Could </a:t>
            </a:r>
            <a:r>
              <a:rPr b="0" i="1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You </a:t>
            </a: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nd Up?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utomotive system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erhaps designing and developing “drive-by-wire” system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Telecommunica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onsumer electronic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ellular phones, MP3 devices, integrated cellular/walkman/PDA/kitchen sink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et-top boxes and HDTV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Home applianc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nternet applianc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your washer will be on the internet more than you are!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Defense and weapon system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 contro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gasoline processing, chemical refinem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utomated manufactur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upervisory Control and Data Acquisition (SCADA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pace applica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atellite communication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Goals of the Course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High-Level Goal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1. Understand the scientific principles and concepts behind embedded systems,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n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2. Obtain hands-on experience in programming embedded system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By the end of the course, you must be able to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Understand the "big ideas" in embedded system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Obtain direct hands-on experience on both hardware and software element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ommonly used in embedded system design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Understand basic real-time resource management theor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Understand the basics of embedded system application concepts such as signa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rocessing and feedback contro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Understand, and be able to discuss and communicate intelligently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mbedded processor architecture and programm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/O and device driver interfaces to embedded processors with networks, multimedia cards and disk driv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OS primitives for concurrency, timeouts, scheduling, communication and synchroniz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The Big Idea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040" y="85896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W/SW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n processor centric view of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owels of th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ecifically, the lower half of th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ealworl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erformance vs. cost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w do you “know” that your drive-by-wire system will function correct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cation-leve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gnal processing, 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720" y="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Grading Criteria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7040" y="1198440"/>
            <a:ext cx="828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0 points from 5 quizzes (50 points each, we drop the lowest sc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0 points from 2 in-class ex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0 points from 5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~50 points extra credit course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radin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90% 100%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0% 8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0% 7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0% 6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 5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Questions and Feedback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9080" y="761760"/>
            <a:ext cx="8464680" cy="547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Grades will be available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nlin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ost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o the class discussion board from the web-pag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alk to the professor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f you have any concerns regarding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ny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ing related to the cours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professor will want to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alk with you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f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you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e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ot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doing well in cla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id-term survey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o get your feedback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You can also provide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nonymous feedback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nytime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79440" y="812520"/>
            <a:ext cx="8424720" cy="53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</a:t>
            </a:r>
            <a:r>
              <a:rPr b="0" i="1" lang="en-US" sz="3600" spc="-1" strike="noStrike">
                <a:solidFill>
                  <a:srgbClr val="003300"/>
                </a:solidFill>
                <a:latin typeface="Times New Roman"/>
                <a:ea typeface="宋体"/>
              </a:rPr>
              <a:t>are 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  <a:ea typeface="宋体"/>
              </a:rPr>
              <a:t>Embedded Systems anyway?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Embedded Systems: An Introduction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200" y="928800"/>
            <a:ext cx="8109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an embedded syst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just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makes embedded systems differ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n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s of constraints on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embedded system designers need to kn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 “big”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kills required to be an “expert” in this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purchased as part of som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iece of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ypically dedicated software (may be user customiz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ften replaces previously electromechanic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ften no “real” key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ften limited display or no general purpose display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ut, every system is unique there are always 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What is an Embedded System?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33240" y="2970360"/>
            <a:ext cx="79282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7520" y="0"/>
            <a:ext cx="827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CPU: An All-Too-Common View of Computing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easured by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erform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759120" y="2795760"/>
            <a:ext cx="16830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7520" y="0"/>
            <a:ext cx="827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n Advanced Computer Engineer's View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easured by: Perform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mpilers matter too..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76640" y="2633760"/>
            <a:ext cx="322740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Thoughts for the Day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6920" y="1106640"/>
            <a:ext cx="80010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Have a vision not clouded by fear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- Cherokee proverb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 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greatest virtues are those which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</a:t>
            </a:r>
            <a:r>
              <a:rPr b="0" i="1" lang="en-US" sz="2800" spc="-1" strike="noStrike">
                <a:solidFill>
                  <a:srgbClr val="003300"/>
                </a:solidFill>
                <a:latin typeface="Times New Roman"/>
                <a:ea typeface="宋体"/>
              </a:rPr>
              <a:t>are most useful to other persons.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- Aristotle, 384-322 B.C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7520" y="0"/>
            <a:ext cx="827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n Enlightened Computer Engineer's View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easured by:  Performance, Cos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mpilers &amp; OS matter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65320" y="2467080"/>
            <a:ext cx="31752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7520" y="0"/>
            <a:ext cx="827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An Embedded Computer Designer's View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easured by: Cost, I/O connections, Memory Size, Perform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28840" y="2155680"/>
            <a:ext cx="41673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An Embedded Control System Designer's View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5680" y="1514520"/>
            <a:ext cx="5970600" cy="4149720"/>
            <a:chOff x="1525680" y="1514520"/>
            <a:chExt cx="5970600" cy="41497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525680" y="1514520"/>
              <a:ext cx="5970600" cy="41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1525680" y="1514520"/>
              <a:ext cx="59706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806400" y="844560"/>
            <a:ext cx="77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d b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st, Time to market, Cost, Functionality, Cost &amp; Co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duced Cos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creased Functionalit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mproved Perform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creased Overall Dependabilit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A Customer View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3160" y="3635280"/>
            <a:ext cx="54295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ome Embedded System Example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ocket remote control RF transmitt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100 KIPS, water/crushproof, fits in pocket, 5year battery lif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oftware handcrafted for small size (less than 1 KB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dustrial equipment controller (e.g., elevator; jet engine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110 MIPS for 1 to 10 CPUs, 1 8MB memor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afety critical software; real time control loop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ilitary signal processing (e.g., Radar/Sonar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1 GFLOPS, 1 GB/sec I/O, 32 MB memor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oftware handcrafted for extremely high perform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00080" y="4444920"/>
            <a:ext cx="6708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Embedded Computers </a:t>
            </a:r>
            <a:r>
              <a:rPr b="1" i="1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Rule 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the Marketplac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3800" y="901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~80 Million PCs v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~3 Billion Embedded CPU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mbedded market growing; PC mark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st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Why Are Embedded Systems Different?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2800" y="112536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our General Categories of Embedd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cation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imila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o desktop computing, but in an embedded 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ideo games, set top boxes, wearable computers, automatic te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d loop feedback control of real tim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ehicle engines, chemical processes, nuclear power, fligh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ations involving large data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adar, Sonar, video com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munication &amp;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witching and information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hone system,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88240" y="838080"/>
            <a:ext cx="1552320" cy="66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40560" y="3400560"/>
            <a:ext cx="16002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Types of Embedded System Functions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2200" y="828720"/>
            <a:ext cx="642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I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uzzy logic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quencing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inite state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witching modes between control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media data com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igital fil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cation specific interf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uttons, bells, lights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speed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ault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tection &amp; re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iagn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66000" y="2157480"/>
            <a:ext cx="21873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81720" y="2567160"/>
            <a:ext cx="1014480" cy="103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Distinctive Embedded System Attributes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6800" y="1036800"/>
            <a:ext cx="81486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 computations occur in response to external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eriodic events (e.g., rotating machinery and control lo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eriodic events (e.g., button closu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-Time: timing correctness is part of system correc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rd 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bsolute deadline, beyond which answer is us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y include minimum time as well as maximum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oft real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ng a deadline is not catastro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tility of answer degrades with time difference from dead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train is entering an urban are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ailway gate in the city allows automotive traffic to go over the tr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should the railway gate clo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 gener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 Time != “Real Fas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Typical Embedded System Constraint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6240" y="876240"/>
            <a:ext cx="824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mall Size, Low Weigh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Handheld electron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ransportation applications weight costs mone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ow Pow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attery power for 8+ hours (laptops often last only 2 hours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imited cooling may limit power even if AC power availabl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Harsh environ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Heat, vibration, shoc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ower fluctuations, RF interference, lightning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ater, corrosion, physical abu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afety critical oper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ust function correctl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ust not function incorrectl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xtreme cost sensitivit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$.05 adds up over 1,000,000 uni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64440" y="787320"/>
            <a:ext cx="1111320" cy="106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175520" y="3182760"/>
            <a:ext cx="1084320" cy="1239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59280" y="4683240"/>
            <a:ext cx="256860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Course Suppor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A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urse Administrative Suppor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ectur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ab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 few evening lectures (likely Monday or Wednesday evenings 7-9 pm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24hou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extbook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one!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mbedded System Design World-View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 complex set of tradeoff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ptimize for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ore than just spe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nsider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ore than just the comput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ake into account 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ore than just initial product desig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1200" y="3032280"/>
            <a:ext cx="321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iscip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Electronic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chanical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trol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ociety/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073320"/>
            <a:ext cx="231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Obj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pen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ffor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mel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7560" y="3046320"/>
            <a:ext cx="242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t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01960" y="3630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11800" y="3621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Mission Critical Applications Require Robustnes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26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Loss of Arianne inaugural flight in June, 1996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Lost a $400 million scientific payload (the rocket was </a:t>
            </a:r>
            <a:r>
              <a:rPr b="0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xtra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fforts to reduce system costs led to the failu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use of Inertial Reference System software from Ariane 4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mproperly handled exception caused by variable overflow dur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new flight profile (that wasn't simulated because of cost/schedule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64bit float converted to 16bit int assumed not to overflow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xception caused dual hardware shutdown (software doesn't fail!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really happened?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narrow view: it was a software bug fix i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broad view: the loss was caused by a lack of system robustness in 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xceptional (unanticipated) situ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Many embedded systems must be robus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58040" y="1150920"/>
            <a:ext cx="14270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Software Drives Design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26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Hardware is mostly a recurring cos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ost proportional to number of units manufactur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oftware is a “one time” nonrecurring engineering design cost (NRE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aid for ``only once''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But bug fixes may be expensive, or impossibl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ost is related to complexity &amp; number of func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Market pressures lead to feature creep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oftware Is NOT free!!!!!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21160" y="3206880"/>
            <a:ext cx="3416400" cy="3052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00600" y="4297320"/>
            <a:ext cx="135396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Life Cycle Concerns Figure Prominently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26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“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et's use a CAD system to re-synthesize designs for cost optimization”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utomatically use whatever components are cheap that month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ould permit quick responses to bids for new varian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rack record of working fine for PC motherboard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y wouldn't it work for an automotive application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Embedded systems had more analog than digital mostly digital synthesis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oo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st of recertification for safety, FCC, warrantee repair rat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Design optimized for running power, not idle pow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ar batteries must last a month in a parking lo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 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arts cost didn't take into account lifecycle concer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Price breaks for large quantiti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ventory, spares, end of life buy cos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ool didn't put designs on a single sheet of pap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rchive system paper-based -- how else do you rea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20 year old fil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Embedded System Designer Skill Set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26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ppreciation for multidisciplinary nature of desig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oth hardware &amp; software skill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Understanding of engineering beyond digital logi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bility to take a project from specification through produ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mmunication &amp; teamwork skill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ork with other disciplines, manufacturing, marketing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ork with customers to understand the real problem being solv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ake a good presentation; even better write ``trade rag'' articl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nd, by the way, technical skills too..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ow-level: Microcontrollers, FPGA/ASIC, assembly language, A/D, D/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High-level: Object oriented Design, C/C++, Real Time Operating System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eta-level: Creative solutions to highly constrained problem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ikely in the future: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U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ified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odeling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nguage, embedded network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(Un)certain future: Java, Windows 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  <a:ea typeface="宋体"/>
              </a:rPr>
              <a:t>Review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is an embedded system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ore than just a computer it's a complete system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makes embedded systems differen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any sets of constraints on desig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Four general type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General-Purpo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ntro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Signal Processing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Communicatio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hat embedded system designers need to know 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ulti-objective: cost, dependability, performance, etc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ultidiscipline: hardware, software, electromechanical, etc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ife-cycle: specification, design, prototyping, deployment, support,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tire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Pre-requisites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re-requisit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S 211: Fundamental Data Structures and Algorithm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CE 240: Fundamentals of Computer Engineer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S 213: Introduction to Computer System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1" i="1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Or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CE 347: Introduction to Computer Architectu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Knowledge of C programm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just knowing Java could actually be harmful!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Need to know, understand and manipulate “pointers”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Basic knowledge of digital logic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basic gates and their truth tabl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ssembly-language programm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Intel Xscale® instruction set will be used in 18-349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knowledge of instruction sets of other modern microprocessors (x86, ARM,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owerPC, 680x0, MIPS) should be a sufficient and necessary starting poi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f you do not know assembly language programming, you need to spen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xtra (ordinary?) effort in coming up to speed as soon as you c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Learning materials are available online on course web-sit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  <a:ea typeface="宋体"/>
              </a:rPr>
              <a:t>Lab onlin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5 Lab projec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100 points each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1st will be an individual projec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labs 2, 3 and 4 will likely be in groups of 4 (or less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all members must be present for project demonstrations and wil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be asked question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the 5th project will be an individual project (a group-based vers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ay be available as an alternative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ost labs will have two par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Miscellaneous Lab Information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roducing…. The 18-349 X-boar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el Xscale® Prototype board from Intel® + PCI Sound card + Keypa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Intel Xscale® Simulation softwa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New hardware and softwar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Real world tools: industrial grade (means there will be bugs!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You probably will spend (waste) time because the environment is still relatively new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Most labs cannot be done in a day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宋体"/>
              </a:rPr>
              <a:t>We will require small group siz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What are Embedded Systems?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nything that uses a microprocessor but isn't a general-purpose comput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DA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Set-top box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Televis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Video Gam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frigerato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a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lan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levato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Remote Control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larm System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user “sees” a smart (special-purpose) system as opposed to the computer inside the system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“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how does it do that?”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“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t has a computer inside it!”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“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oh! BTW, it does not or cannot run Windows or MacOS!”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– 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end-user typically does not or cannot modify or upgrade the internal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Why are Embedded Systems important?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7617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ngineering reas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Why does a satellite need a Windows prompt ?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Does the McDonald’s POS (point-of-sale) terminal need MacOS?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Any device that needs to be controlled can be controlled by a microprocesso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Market reas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general-purpose computing market is in billions of US $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The embedded systems market is also in billions of $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In year 2000, about $2,700 of every car w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nt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 to electronic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Pedagogical reas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General-purpose system designers specializ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HW vs. SW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• </a:t>
            </a:r>
            <a:r>
              <a:rPr b="1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Embedded system designers are ofte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jackofmanytrad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Need to know hardware, software, and some combination of networking,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	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control theory and signal process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– </a:t>
            </a:r>
            <a:r>
              <a:rPr b="0" lang="zh-CN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business model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  <a:ea typeface="宋体"/>
              </a:rPr>
              <a:t>What Are You Going to Learn?</a:t>
            </a:r>
            <a:endParaRPr b="0" lang="en-US" sz="3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939960"/>
            <a:ext cx="82407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/O, memory, busses, devices, control logic, interfacing hardware to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ots of C and assembly, device drivers,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S issues, schedul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oftware/Hardware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is the best place to put functionality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 softwa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are the co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erforman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emory requirements (RAM and/or R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gration of hardware and software cou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ing, logic design, architectu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s, mathematic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mmon s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8:01:33Z</dcterms:created>
  <dc:creator>Raj Rajkumar</dc:creator>
  <dc:description/>
  <dc:language>en-US</dc:language>
  <cp:lastModifiedBy>jjohnso2</cp:lastModifiedBy>
  <cp:lastPrinted>2001-08-31T16:07:08Z</cp:lastPrinted>
  <dcterms:modified xsi:type="dcterms:W3CDTF">2004-09-07T22:10:33Z</dcterms:modified>
  <cp:revision>278</cp:revision>
  <dc:subject/>
  <dc:title>Interfacing ARM Assembly Language and C</dc:title>
</cp:coreProperties>
</file>