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1560" y="6566040"/>
            <a:ext cx="363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ARM Monitor, Program Loading and Initialization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宋体"/>
              </a:rPr>
              <a:t>Lecture #5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Monitor Program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vide Capability to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tup Hardware on start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ad and run progra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bug 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mal OS function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any embedded systems are jus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nitor + 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onitor still handles other types of interrupts (we'll cover this lat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 timer, I/O (e.g., keypad, switches, LED, LC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System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5440" y="761760"/>
            <a:ext cx="8285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s from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e refer to each piece of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ternal devices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as a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uch as keyboard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rs, disk driv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program coun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regis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tac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ter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1440" y="2411280"/>
            <a:ext cx="506556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Debug Monitor SWI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9920" y="6984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ngel provides a number of SWIs that you can use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WriteC (0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Write a byte to the debug channel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Write0(2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Write the null-terminated string to debug channel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ReadC(4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ad a byte from the debug channel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Exit (0x11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alt emulation this is how a program exits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EnterOS (0x16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ut the processor in supervisor mode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GetErrno (0x60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turns (r0) the value of the C library err-no variabl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Clock (0x61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turn the number of centi-seconds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Time (0x63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turn the number of secs since Jan. 1, 1970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Remove (0x64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Deletes the file named by pointer in r0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Rename (0x65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names a file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Open (0x66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Open file (or device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Close (0x68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lose a file (or device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Write (0x69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ad a file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Read (0x6a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Write a file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Seek (0x6b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eek to a specific location in a file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Flen (0x6c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turns length of the file object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InstallHandler(0x70)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nstalls a handler for a hardware exception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oading a program 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239480"/>
            <a:ext cx="8294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nitor (or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you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, in project 1, part 2) reads program from ??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d puts it into 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oes it just copy the executable into RAM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does it put it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o sets up the user stack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o sets up the user heap?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RM File Format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M supports many formats for executables (see Chapter 21 of the Reference Manual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ecutable ARM Image Format (AIF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onexecutable ARM Image Format (AI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M Object Format (AO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M Object Library Form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RM Symbolic Debug Table Form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XF: ARM Executable Format (specialized version of EL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LF: Executable and Linking Form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ach provides code + data + other informa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e will focus on the AXF: ARM Executable Format (AXF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ARM Executive Format (AXF)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8000" y="914400"/>
            <a:ext cx="46036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Executable Format (AX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F (Executable and 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) hea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'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's initialized static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and relo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(option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use static lin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dynamic linking or shared librari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86560" y="888840"/>
          <a:ext cx="2798640" cy="3872160"/>
        </p:xfrm>
        <a:graphic>
          <a:graphicData uri="http://schemas.openxmlformats.org/drawingml/2006/table">
            <a:tbl>
              <a:tblPr/>
              <a:tblGrid>
                <a:gridCol w="279864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ELF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Program Heade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Segmen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Segmen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…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Section Heade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op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5975280" y="52340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XF ELF Header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080720"/>
            <a:ext cx="810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#define EI_NIDENT 16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typedef struct 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unsigned char e_ident[EI_NIDENT]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file info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type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type of fil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machine;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 // target processor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Word e_version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version #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Addr e_entry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program entry poin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Off e_phoff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offset of program header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Off e_shoff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offset of section header tabl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Word e_flags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processor-specific flags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ehsize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ELF header’s siz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phentsize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entry size in pgm header tbl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phnum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# of entries in pgm head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shentsize;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 // entry size in sec header tbl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shnum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# of entries in sec header tbl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Elf32_Half e_shstrndx;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宋体"/>
              </a:rPr>
              <a:t>// sec header tbl index of str tbl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} Elf32_Ehdr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e Section 3.2 of ARM ELF docu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ample File Layout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97160" y="1254240"/>
            <a:ext cx="29955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oading an Executive AIF Program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93280" y="682560"/>
            <a:ext cx="826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ad the file from ???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RMulator gets stuff from the native file system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Loader uses the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Open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nd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WI_Read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Monitor system call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arse the header to determine the size of the image and it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tarting Location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mage Base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ad the executable’s text and data segments into RAM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mage Readonly size (text or code segment – SHF_EXECINSTR flag)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mage ReadWrite size (initialized data segment – SHF_WRITE flag)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Zeroinit the un-initialized data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Determine the starting PC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ntryAddress = ImageEntryPoint + ?? (for prefetch) &lt;&lt; ?? (word-aligned)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ode + data + debug + offset (offset is determined empirically)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heck offset of main in memory map after image has been read in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ard-wire offset in your program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compile and run (works only for this program!)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emory Layout for Loaded Executive AXF Fi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Memory Layou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60640" y="1231920"/>
            <a:ext cx="3460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 handling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WI (SoftWare Interrupts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they a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they do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happens when they complet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ow to install on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Other “Gotcha”’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3280" y="682560"/>
            <a:ext cx="826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o sets up the application's initial PC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loader gets it from the head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o sets up the application's stack and heap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ader (monitor) by conven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o cleans up after a program completes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nitor can, when program executes SWI_Exi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Optional AXF Component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3280" y="682560"/>
            <a:ext cx="826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press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elf-decompression code included in imag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loca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elf relocation code included in imag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Debugging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ymbol table for debugger us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tring tables for efficient allocation of string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an have more than one section per segmen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tarting a Program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3280" y="682560"/>
            <a:ext cx="826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e discussed how an application's initial PC is se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oader gets the address of the starting instruction from the object file (AXF) hea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 start the program, the loader moves the specified address into the 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s main() the starting point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 other words, does the PC initially get set to the address of main()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et's look at an exam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tarting a  Program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3280" y="682560"/>
            <a:ext cx="826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ample based on the following C program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#include &lt;stdio.h&gt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 foo(int)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 main (){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 i;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 a[100], b, c;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 = 2; c = 4;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for (i = 0; i &lt; 10; i++){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[i] = b*c;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 = a[i] * b; </a:t>
            </a:r>
            <a:br>
              <a:rPr sz="2000"/>
            </a:b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 = foo(c)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} int foo (int c){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 = 2 * c;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turn (c);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}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XD (1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4680" y="944640"/>
            <a:ext cx="86328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XD Listing (2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6560" y="762120"/>
            <a:ext cx="814392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XD Listing (3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73320" y="738360"/>
            <a:ext cx="67230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XD Listing (4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5040" y="873000"/>
            <a:ext cx="803592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XD Listing (5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6520" y="1103400"/>
            <a:ext cx="8513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XD (6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2480" y="870120"/>
            <a:ext cx="75643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nnouncement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4280" y="1179360"/>
            <a:ext cx="81169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Quiz #1 on Friday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2nd half of lectur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114480" indent="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ring a calculator to any quiz (just in ca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 included: beginning of the course to this l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pen notes (any document/notes that are part of this cour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commendation: Know your Intel Xscale® assembly  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XD (7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4120" y="849240"/>
            <a:ext cx="84898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XD (8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5920" y="679320"/>
            <a:ext cx="799596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XD (9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50840" y="746280"/>
            <a:ext cx="68709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XD (10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31840" y="809640"/>
            <a:ext cx="73566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XD (11/1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822240"/>
            <a:ext cx="82328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tarting a Program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 get to main() takes hundreds of instructions!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 a modern OS, it can take several thousands of instruction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y? Because the C compiler generates code for a number of setup routines before the call to main(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 setup routines handle the stack, data segments, heap and other miscellaneous func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about assembly code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assembly code interfaces to C code and the ENTRY point is the C function main(), then the C compiler will generate the setup 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ut, if the entire program is written in assembly OR there is no C function called main(), then the setup code is not genera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does this mean for you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's the SP register pointing to when you start your program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Complete Assembly Program Exampl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5440" y="841320"/>
            <a:ext cx="83930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sting from ARMSD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8480" y="746280"/>
            <a:ext cx="86155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280" y="682560"/>
            <a:ext cx="826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Debug Monito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ading program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Image Format (AIF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happens on program startup?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Overview of the ARM Debug Monitor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Loading a Program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Image Format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happens on program startup?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Thoughts for the Day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Associate yourself with [people] of good quality if you esteem your own reputation for 'tis better to be alone than in bad company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–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George Washingto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Group yourself with students of good quality if you esteem your own grade for 'tis better to be alone than in bad company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-Raj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920" y="75960"/>
            <a:ext cx="833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Recommended Reading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3520" y="84924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RM ELF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–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vailable on blackboar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•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urse Documents</a:t>
            </a:r>
            <a:r>
              <a:rPr b="0" lang="en-US" sz="24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Readings and ARM Manuals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RM ELF Spec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– “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etailed” document: use as ‘handy’ reference to clarify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oubt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uggested Reading (not required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backtrace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tructur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heyrick.co.uk/assembler/apcsintro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Overview of ARM Debug Monitor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440" y="74592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Debug Monitor is called “Angel” (earlier versions called it the “Demon” – get it?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ovide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wlevel programming C library and debugging environment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the X-board first boots, they load the demon from flash memory (emulator pretends that this happens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–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is activity is called “bootstrapping”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Memory Map of Demon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3160" y="1044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CPU reset ve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00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..0x1c CPU undefined instruction ... CPU Fast Interrupt Ve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02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~1K Bytes for FIQ and FIQ mode s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4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6 bytes for IRQ mode s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5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6 bytes for Undefined mode s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6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6 bytes for Abort mode s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7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6 bytes for SVC mode st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08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bug monitor private work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10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ree for user-supplied Debug Moni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20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loating Point Emulation 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x80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 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p of memory SWI_Getenv returns top of memory = 0x08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8:01:33Z</dcterms:created>
  <dc:creator>Raj Rajkumar</dc:creator>
  <dc:description/>
  <dc:language>en-US</dc:language>
  <cp:lastModifiedBy>jjohnso2</cp:lastModifiedBy>
  <cp:lastPrinted>2001-08-31T16:07:08Z</cp:lastPrinted>
  <dcterms:modified xsi:type="dcterms:W3CDTF">2004-09-07T22:21:31Z</dcterms:modified>
  <cp:revision>229</cp:revision>
  <dc:subject/>
  <dc:title>Interfacing ARM Assembly Language and C</dc:title>
</cp:coreProperties>
</file>