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47208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1560" y="6566040"/>
            <a:ext cx="3632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  <a:ea typeface="宋体"/>
              </a:rPr>
              <a:t>Introduction to Embedd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  <a:ea typeface="宋体"/>
              </a:rPr>
              <a:t>Intel Xscale® Assembly Language and C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宋体"/>
              </a:rPr>
              <a:t>Lecture #3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Intel Xscale® Assembly Language Basics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onditional Execu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 Intel Xscale® Barrel Shift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Loading Constants into Register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Loading Addresses into Register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Jump Tabl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Using the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宋体"/>
              </a:rPr>
              <a:t>Load and Store Multiple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Instruc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宋体"/>
              </a:rPr>
              <a:t>Check out Chapters 1 through 5 of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M Architecture Reference Manual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  <a:ea typeface="宋体"/>
              </a:rPr>
              <a:t>Generating Assembly Language Code from C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Use the command-line option –S in the ‘target’ properties in Code Warrior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you compile a .c file, you get a .s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.s file contains the assembly language code generated by the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assembled, this code can potentially be linked and loaded as an execu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Example 1: A Simple Program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688680"/>
            <a:ext cx="28958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int a,b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int main(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{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 = 3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 = 4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} /* end main() */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68760" y="685800"/>
            <a:ext cx="5475240" cy="575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REA ||.text||, CODE, READ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ain 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|L1.0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LDR      r0,|L1.28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1,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1,[r0,#0]  ;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1,#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1,[r0,#4]  ;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0,#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X       lr   // subroutine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|L1.28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DCD      ||.bss$2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EN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REA ||.bss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||.bss$2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%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%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EXPORT 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EXPOR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EXPOR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784080" y="3432240"/>
            <a:ext cx="3101760" cy="1541520"/>
            <a:chOff x="784080" y="3432240"/>
            <a:chExt cx="3101760" cy="1541520"/>
          </a:xfrm>
        </p:grpSpPr>
        <p:sp>
          <p:nvSpPr>
            <p:cNvPr id="74" name=""/>
            <p:cNvSpPr/>
            <p:nvPr/>
          </p:nvSpPr>
          <p:spPr>
            <a:xfrm>
              <a:off x="784080" y="4149720"/>
              <a:ext cx="2465640" cy="824040"/>
            </a:xfrm>
            <a:prstGeom prst="borderCallout1">
              <a:avLst>
                <a:gd name="adj1" fmla="val 18750"/>
                <a:gd name="adj2" fmla="val -8333"/>
                <a:gd name="adj3" fmla="val -42356"/>
                <a:gd name="adj4" fmla="val 13726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50021"/>
                  </a:solidFill>
                  <a:latin typeface="Arial"/>
                  <a:ea typeface="宋体"/>
                </a:rPr>
                <a:t>label “L1.28” ­ compiler tends to make the labels equal to the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666520" y="3432240"/>
              <a:ext cx="1219320" cy="761760"/>
            </a:xfrm>
            <a:prstGeom prst="line">
              <a:avLst/>
            </a:prstGeom>
            <a:ln w="12600">
              <a:solidFill>
                <a:srgbClr val="a5002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049720" y="3228840"/>
            <a:ext cx="3581280" cy="337320"/>
            <a:chOff x="5049720" y="3228840"/>
            <a:chExt cx="3581280" cy="337320"/>
          </a:xfrm>
        </p:grpSpPr>
        <p:sp>
          <p:nvSpPr>
            <p:cNvPr id="77" name=""/>
            <p:cNvSpPr/>
            <p:nvPr/>
          </p:nvSpPr>
          <p:spPr>
            <a:xfrm>
              <a:off x="5811480" y="3228840"/>
              <a:ext cx="2819520" cy="337320"/>
            </a:xfrm>
            <a:prstGeom prst="borderCallout1">
              <a:avLst>
                <a:gd name="adj1" fmla="val 18750"/>
                <a:gd name="adj2" fmla="val -8333"/>
                <a:gd name="adj3" fmla="val 67694"/>
                <a:gd name="adj4" fmla="val -278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50021"/>
                  </a:solidFill>
                  <a:latin typeface="Arial"/>
                  <a:ea typeface="宋体"/>
                </a:rPr>
                <a:t>declare one or more wor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049720" y="3366720"/>
              <a:ext cx="609480" cy="76320"/>
            </a:xfrm>
            <a:prstGeom prst="line">
              <a:avLst/>
            </a:prstGeom>
            <a:ln w="12600">
              <a:solidFill>
                <a:srgbClr val="a5002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135840" y="3887640"/>
            <a:ext cx="3047760" cy="1297080"/>
            <a:chOff x="6135840" y="3887640"/>
            <a:chExt cx="3047760" cy="1297080"/>
          </a:xfrm>
        </p:grpSpPr>
        <p:sp>
          <p:nvSpPr>
            <p:cNvPr id="80" name=""/>
            <p:cNvSpPr/>
            <p:nvPr/>
          </p:nvSpPr>
          <p:spPr>
            <a:xfrm>
              <a:off x="6135840" y="4360680"/>
              <a:ext cx="3047760" cy="824040"/>
            </a:xfrm>
            <a:prstGeom prst="borderCallout1">
              <a:avLst>
                <a:gd name="adj1" fmla="val 18750"/>
                <a:gd name="adj2" fmla="val -8333"/>
                <a:gd name="adj3" fmla="val -158995"/>
                <a:gd name="adj4" fmla="val -2842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0000"/>
                  </a:solidFill>
                  <a:latin typeface="Arial"/>
                  <a:ea typeface="宋体"/>
                </a:rPr>
                <a:t>loader will put the address of |||.bss$2| into this memory 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49840" y="3887640"/>
              <a:ext cx="850680" cy="493560"/>
            </a:xfrm>
            <a:custGeom>
              <a:avLst/>
              <a:gdLst/>
              <a:ahLst/>
              <a:rect l="l" t="t" r="r" b="b"/>
              <a:pathLst>
                <a:path w="536" h="311">
                  <a:moveTo>
                    <a:pt x="0" y="0"/>
                  </a:moveTo>
                  <a:cubicBezTo>
                    <a:pt x="163" y="12"/>
                    <a:pt x="326" y="24"/>
                    <a:pt x="488" y="44"/>
                  </a:cubicBezTo>
                  <a:cubicBezTo>
                    <a:pt x="499" y="48"/>
                    <a:pt x="520" y="43"/>
                    <a:pt x="522" y="55"/>
                  </a:cubicBezTo>
                  <a:cubicBezTo>
                    <a:pt x="536" y="139"/>
                    <a:pt x="533" y="311"/>
                    <a:pt x="533" y="311"/>
                  </a:cubicBezTo>
                </a:path>
              </a:pathLst>
            </a:custGeom>
            <a:noFill/>
            <a:ln w="9360">
              <a:solidFill>
                <a:srgbClr val="a50021"/>
              </a:solidFill>
              <a:round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811840" y="5276880"/>
            <a:ext cx="3371400" cy="1190160"/>
            <a:chOff x="5811840" y="5276880"/>
            <a:chExt cx="3371400" cy="1190160"/>
          </a:xfrm>
        </p:grpSpPr>
        <p:sp>
          <p:nvSpPr>
            <p:cNvPr id="83" name=""/>
            <p:cNvSpPr/>
            <p:nvPr/>
          </p:nvSpPr>
          <p:spPr>
            <a:xfrm>
              <a:off x="5976000" y="5886360"/>
              <a:ext cx="3207240" cy="580680"/>
            </a:xfrm>
            <a:prstGeom prst="borderCallout1">
              <a:avLst>
                <a:gd name="adj1" fmla="val 18750"/>
                <a:gd name="adj2" fmla="val -8333"/>
                <a:gd name="adj3" fmla="val -225495"/>
                <a:gd name="adj4" fmla="val -622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50021"/>
                  </a:solidFill>
                  <a:latin typeface="Arial"/>
                  <a:ea typeface="宋体"/>
                </a:rPr>
                <a:t>declares storage (1 32-bit word) and initializes it with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11840" y="5276880"/>
              <a:ext cx="918000" cy="685440"/>
            </a:xfrm>
            <a:custGeom>
              <a:avLst/>
              <a:gdLst/>
              <a:ahLst/>
              <a:rect l="l" t="t" r="r" b="b"/>
              <a:pathLst>
                <a:path w="536" h="311">
                  <a:moveTo>
                    <a:pt x="0" y="0"/>
                  </a:moveTo>
                  <a:cubicBezTo>
                    <a:pt x="163" y="12"/>
                    <a:pt x="326" y="24"/>
                    <a:pt x="488" y="44"/>
                  </a:cubicBezTo>
                  <a:cubicBezTo>
                    <a:pt x="499" y="48"/>
                    <a:pt x="520" y="43"/>
                    <a:pt x="522" y="55"/>
                  </a:cubicBezTo>
                  <a:cubicBezTo>
                    <a:pt x="536" y="139"/>
                    <a:pt x="533" y="311"/>
                    <a:pt x="533" y="311"/>
                  </a:cubicBezTo>
                </a:path>
              </a:pathLst>
            </a:custGeom>
            <a:noFill/>
            <a:ln w="9360">
              <a:solidFill>
                <a:srgbClr val="a50021"/>
              </a:solidFill>
              <a:round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720" y="0"/>
            <a:ext cx="79250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Example 1 (cont’d)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5200" y="587520"/>
            <a:ext cx="6370920" cy="593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REA ||.text||, CODE, READ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ain 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|L1.0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LDR      r0,|L1.28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1,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1,[r0,#0]  ;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1,#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1,[r0,#4]  ;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0,#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X       lr   // subroutine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|L1.28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DCD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0x00000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EN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REA ||.bss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||.bss$2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DCD 00000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DCD 00000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EXPORT 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EXPOR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EXPOR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864400" y="3238560"/>
            <a:ext cx="2985480" cy="580680"/>
            <a:chOff x="5864400" y="3238560"/>
            <a:chExt cx="2985480" cy="580680"/>
          </a:xfrm>
        </p:grpSpPr>
        <p:sp>
          <p:nvSpPr>
            <p:cNvPr id="88" name=""/>
            <p:cNvSpPr/>
            <p:nvPr/>
          </p:nvSpPr>
          <p:spPr>
            <a:xfrm>
              <a:off x="6589080" y="3238560"/>
              <a:ext cx="2260800" cy="580680"/>
            </a:xfrm>
            <a:prstGeom prst="borderCallout1">
              <a:avLst>
                <a:gd name="adj1" fmla="val 18750"/>
                <a:gd name="adj2" fmla="val -8333"/>
                <a:gd name="adj3" fmla="val 68152"/>
                <a:gd name="adj4" fmla="val -3352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50021"/>
                  </a:solidFill>
                  <a:latin typeface="Arial"/>
                  <a:ea typeface="宋体"/>
                </a:rPr>
                <a:t>This is a pointer to the |x$dataseg| 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864400" y="3463200"/>
              <a:ext cx="589680" cy="36000"/>
            </a:xfrm>
            <a:prstGeom prst="line">
              <a:avLst/>
            </a:prstGeom>
            <a:ln w="12600">
              <a:solidFill>
                <a:srgbClr val="a5002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30360" y="573120"/>
            <a:ext cx="1600200" cy="56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urier New"/>
                <a:ea typeface="宋体"/>
              </a:rPr>
              <a:t>addre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0x00000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0x0000000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0x0000000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0x0000000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0x000000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0x0000001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0x0000001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0x0000001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0x0000002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0x00000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924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Example 2: Calling A Function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9080" y="761760"/>
            <a:ext cx="3143160" cy="547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int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tmp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void swap(int a, int b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int main(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{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int a,b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 = 3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 = 4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wap(a,b)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} /* end main() */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void swap(int a,int b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{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tmp = a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 = b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 = tmp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} /* end swap()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*/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762120"/>
            <a:ext cx="556272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REA ||.text||, CODE, READ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wap 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LDR      r2,|L1.56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0,[r2,#0]  ; t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0,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LDR      r2,|L1.56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LDR      r1,[r2,#0]  ; t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X       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ain 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MFD    sp!,{r4,lr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3,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4,#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1,r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0,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L       sw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0,#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LDMFD    sp!,{r4,pc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|L1.56| DCD      ||.bss$2|| ; points to t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543640" y="2635200"/>
            <a:ext cx="4572000" cy="1554120"/>
            <a:chOff x="5543640" y="2635200"/>
            <a:chExt cx="4572000" cy="1554120"/>
          </a:xfrm>
        </p:grpSpPr>
        <p:sp>
          <p:nvSpPr>
            <p:cNvPr id="95" name=""/>
            <p:cNvSpPr/>
            <p:nvPr/>
          </p:nvSpPr>
          <p:spPr>
            <a:xfrm>
              <a:off x="6718320" y="2635200"/>
              <a:ext cx="33973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50021"/>
                  </a:solidFill>
                  <a:latin typeface="Arial"/>
                  <a:ea typeface="宋体"/>
                </a:rPr>
                <a:t>STMFD ­ store multiple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50021"/>
                  </a:solidFill>
                  <a:latin typeface="Arial"/>
                  <a:ea typeface="宋体"/>
                </a:rPr>
                <a:t>        </a:t>
              </a:r>
              <a:r>
                <a:rPr b="0" lang="en-US" sz="1600" spc="-1" strike="noStrike">
                  <a:solidFill>
                    <a:srgbClr val="a50021"/>
                  </a:solidFill>
                  <a:latin typeface="Arial"/>
                  <a:ea typeface="宋体"/>
                </a:rPr>
                <a:t>full descend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50021"/>
                  </a:solidFill>
                  <a:latin typeface="Arial"/>
                  <a:ea typeface="宋体"/>
                </a:rPr>
                <a:t>   </a:t>
              </a:r>
              <a:r>
                <a:rPr b="0" lang="en-US" sz="1600" spc="-1" strike="noStrike">
                  <a:solidFill>
                    <a:srgbClr val="a50021"/>
                  </a:solidFill>
                  <a:latin typeface="Arial"/>
                  <a:ea typeface="宋体"/>
                </a:rPr>
                <a:t>sp </a:t>
              </a:r>
              <a:r>
                <a:rPr b="0" lang="en-US" sz="1600" spc="-1" strike="noStrike">
                  <a:solidFill>
                    <a:srgbClr val="a50021"/>
                  </a:solidFill>
                  <a:latin typeface="Wingdings"/>
                  <a:ea typeface="Wingdings"/>
                </a:rPr>
                <a:t></a:t>
              </a:r>
              <a:r>
                <a:rPr b="0" lang="en-US" sz="1600" spc="-1" strike="noStrike">
                  <a:solidFill>
                    <a:srgbClr val="a50021"/>
                  </a:solidFill>
                  <a:latin typeface="Arial"/>
                  <a:ea typeface="宋体"/>
                </a:rPr>
                <a:t> sp ­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50021"/>
                  </a:solidFill>
                  <a:latin typeface="Arial"/>
                  <a:ea typeface="宋体"/>
                </a:rPr>
                <a:t>   </a:t>
              </a:r>
              <a:r>
                <a:rPr b="0" lang="en-US" sz="1600" spc="-1" strike="noStrike">
                  <a:solidFill>
                    <a:srgbClr val="a50021"/>
                  </a:solidFill>
                  <a:latin typeface="Arial"/>
                  <a:ea typeface="宋体"/>
                </a:rPr>
                <a:t>mem[sp] = lr ; linkr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50021"/>
                  </a:solidFill>
                  <a:latin typeface="Arial"/>
                  <a:ea typeface="宋体"/>
                </a:rPr>
                <a:t>   </a:t>
              </a:r>
              <a:r>
                <a:rPr b="0" lang="en-US" sz="1600" spc="-1" strike="noStrike">
                  <a:solidFill>
                    <a:srgbClr val="a50021"/>
                  </a:solidFill>
                  <a:latin typeface="Arial"/>
                  <a:ea typeface="宋体"/>
                </a:rPr>
                <a:t>sp </a:t>
              </a:r>
              <a:r>
                <a:rPr b="0" lang="en-US" sz="1600" spc="-1" strike="noStrike">
                  <a:solidFill>
                    <a:srgbClr val="a50021"/>
                  </a:solidFill>
                  <a:latin typeface="Wingdings"/>
                  <a:ea typeface="Wingdings"/>
                </a:rPr>
                <a:t></a:t>
              </a:r>
              <a:r>
                <a:rPr b="0" lang="en-US" sz="1600" spc="-1" strike="noStrike">
                  <a:solidFill>
                    <a:srgbClr val="a50021"/>
                  </a:solidFill>
                  <a:latin typeface="Arial"/>
                  <a:ea typeface="宋体"/>
                </a:rPr>
                <a:t> sp –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50021"/>
                  </a:solidFill>
                  <a:latin typeface="Arial"/>
                  <a:ea typeface="宋体"/>
                </a:rPr>
                <a:t>   </a:t>
              </a:r>
              <a:r>
                <a:rPr b="0" lang="en-US" sz="1600" spc="-1" strike="noStrike">
                  <a:solidFill>
                    <a:srgbClr val="a50021"/>
                  </a:solidFill>
                  <a:latin typeface="Arial"/>
                  <a:ea typeface="宋体"/>
                </a:rPr>
                <a:t>mem[sp] = r4 ; linkr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543640" y="2787120"/>
              <a:ext cx="1141560" cy="124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502400" y="5208480"/>
            <a:ext cx="114300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02400" y="551340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 of 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02400" y="581832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02400" y="612288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26240" y="5832360"/>
            <a:ext cx="457200" cy="3049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83440" y="5985000"/>
            <a:ext cx="30492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94480" y="582624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 of r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924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Example 3: Manipulating Pointers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9080" y="525240"/>
            <a:ext cx="314316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int tmp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int *pa, *pb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void swap(int a, int b)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int main(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{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int a,b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pa = &amp;a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pb = &amp;b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*pa = 3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*pb = 4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wap(*pa, *pb)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} /* end main() */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void swap(int a,int b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{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tmp = a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 = b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 = tmp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} /* end swap() */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515880"/>
            <a:ext cx="5562720" cy="54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REA ||.text||, CODE, READ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wap    LDR      r1,|L1.60|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get tmp 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0,[r1,#0]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tmp =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X       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ain    STMFD    sp!,{r2,r3,lr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LDR      r0,|L1.60| ;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get tmp 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DD      r1,sp,#4 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&amp;a on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1,[r0,#4]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pa = &amp;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sp,[r0,#8]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pb = &amp;b (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0,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0,[sp,#4]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*pa 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1,#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1,[sp,#0]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*pb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L       swap     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call sw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0,#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LDMFD    sp!,{r2,r3,pc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|L1.60| DCD      ||.bss$2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REA ||.bss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||.bss$2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mp   DCD 00000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a    DCD 00000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b    DCD 00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962680" y="471600"/>
            <a:ext cx="312408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0560" y="102960"/>
            <a:ext cx="79250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Example 3 (cont’d)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360" y="530280"/>
            <a:ext cx="5608800" cy="56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REA ||.text||, CODE, READ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wap    LDR      r1,|L1.60|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0,[r1,#0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X       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ain    STMFD    sp!,{r2,r3,lr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LDR      r0,|L1.60|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get tmp 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DD      r1,sp,#4 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&amp;a on stack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1,[r0,#4]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pa = &amp;a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sp,[r0,#8]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pb = &amp;b (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0,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0,[sp,#4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1,#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1,[sp,#0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L       swap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0,#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LDMFD    sp!,{r2,r3,pc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|L1.60| DCD      ||.bss$2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REA ||.b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||.bss$2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mp   DCD 00000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a    DCD 00000000   ; tmp addr +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b    DCD 00000000   ; tmp addr +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77080" y="62388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77080" y="92880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 of 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77080" y="123336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77080" y="153828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14960" y="928800"/>
            <a:ext cx="457200" cy="3045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72160" y="1081080"/>
            <a:ext cx="30492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03880" y="407880"/>
            <a:ext cx="114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184320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59080" y="1593720"/>
            <a:ext cx="228600" cy="228600"/>
          </a:xfrm>
          <a:prstGeom prst="ellips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62680" y="471600"/>
            <a:ext cx="228600" cy="228600"/>
          </a:xfrm>
          <a:prstGeom prst="ellips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77080" y="275760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306216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 of 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336708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77080" y="367200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4960" y="3672000"/>
            <a:ext cx="457200" cy="3045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72160" y="3824280"/>
            <a:ext cx="30492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3880" y="2509920"/>
            <a:ext cx="114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62680" y="2529000"/>
            <a:ext cx="312408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397656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6840" y="4246560"/>
            <a:ext cx="313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Courier New"/>
                <a:ea typeface="宋体"/>
              </a:rPr>
              <a:t>main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  <a:ea typeface="宋体"/>
              </a:rPr>
              <a:t>’s local variables </a:t>
            </a:r>
            <a:r>
              <a:rPr b="0" lang="en-US" sz="2000" spc="-1" strike="noStrike">
                <a:solidFill>
                  <a:srgbClr val="336600"/>
                </a:solidFill>
                <a:latin typeface="Courier New"/>
                <a:ea typeface="宋体"/>
              </a:rPr>
              <a:t>a 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  <a:ea typeface="宋体"/>
              </a:rPr>
              <a:t>and </a:t>
            </a:r>
            <a:r>
              <a:rPr b="0" lang="en-US" sz="2000" spc="-1" strike="noStrike">
                <a:solidFill>
                  <a:srgbClr val="336600"/>
                </a:solidFill>
                <a:latin typeface="Courier New"/>
                <a:ea typeface="宋体"/>
              </a:rPr>
              <a:t>b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  <a:ea typeface="宋体"/>
              </a:rPr>
              <a:t> are placed on the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07120" y="2254320"/>
            <a:ext cx="228600" cy="228600"/>
          </a:xfrm>
          <a:prstGeom prst="ellips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62680" y="2529000"/>
            <a:ext cx="228600" cy="228600"/>
          </a:xfrm>
          <a:prstGeom prst="ellips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85000" y="12682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 of 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77080" y="1536840"/>
            <a:ext cx="1143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 of 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497040" y="2814480"/>
            <a:ext cx="1074600" cy="3122640"/>
          </a:xfrm>
          <a:prstGeom prst="line">
            <a:avLst/>
          </a:prstGeom>
          <a:ln w="1908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592080" y="2460240"/>
            <a:ext cx="1436760" cy="304812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90960" y="5486400"/>
            <a:ext cx="1509840" cy="262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8640" y="5958000"/>
            <a:ext cx="1509840" cy="261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924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Example 4: Dealing with “</a:t>
            </a:r>
            <a:r>
              <a:rPr b="0" lang="en-US" sz="3600" spc="-1" strike="noStrike">
                <a:solidFill>
                  <a:srgbClr val="0066cc"/>
                </a:solidFill>
                <a:latin typeface="Courier New"/>
                <a:ea typeface="宋体"/>
              </a:rPr>
              <a:t>struct</a:t>
            </a: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”s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79440" y="837720"/>
            <a:ext cx="254304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typedef struct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testStruct {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unsigned int a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unsigned int b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char c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} testStruct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testStruct *ptes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int main(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{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ptest­&gt;a = 4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ptest­&gt;b = 10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ptest­&gt;c = 'A'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} /* end main() */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52800" y="841320"/>
            <a:ext cx="5948280" cy="56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REA ||.text||, CODE, READ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ain 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|L1.0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0,#4     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r0 </a:t>
            </a:r>
            <a:r>
              <a:rPr b="1" lang="en-US" sz="1600" spc="-1" strike="noStrike">
                <a:solidFill>
                  <a:srgbClr val="990000"/>
                </a:solidFill>
                <a:latin typeface="Wingdings"/>
                <a:ea typeface="Wingdings"/>
              </a:rPr>
              <a:t>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LDR      r1,|L1.56|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LDR      r1,[r1,#0]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r1 </a:t>
            </a:r>
            <a:r>
              <a:rPr b="1" lang="en-US" sz="1600" spc="-1" strike="noStrike">
                <a:solidFill>
                  <a:srgbClr val="990000"/>
                </a:solidFill>
                <a:latin typeface="Wingdings"/>
                <a:ea typeface="Wingdings"/>
              </a:rPr>
              <a:t>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 &amp;p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0,[r1,#0]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ptest-&gt;a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0,#0xa   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r0 </a:t>
            </a:r>
            <a:r>
              <a:rPr b="1" lang="en-US" sz="1600" spc="-1" strike="noStrike">
                <a:solidFill>
                  <a:srgbClr val="990000"/>
                </a:solidFill>
                <a:latin typeface="Wingdings"/>
                <a:ea typeface="Wingdings"/>
              </a:rPr>
              <a:t>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LDR      r1,|L1.56|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LDR      r1,[r1,#0]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r1 </a:t>
            </a:r>
            <a:r>
              <a:rPr b="1" lang="en-US" sz="1600" spc="-1" strike="noStrike">
                <a:solidFill>
                  <a:srgbClr val="990000"/>
                </a:solidFill>
                <a:latin typeface="Wingdings"/>
                <a:ea typeface="Wingdings"/>
              </a:rPr>
              <a:t>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 p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0,[r1,#4]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ptest-&gt;b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0,#0x41  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r0 </a:t>
            </a:r>
            <a:r>
              <a:rPr b="1" lang="en-US" sz="1600" spc="-1" strike="noStrike">
                <a:solidFill>
                  <a:srgbClr val="990000"/>
                </a:solidFill>
                <a:latin typeface="Wingdings"/>
                <a:ea typeface="Wingdings"/>
              </a:rPr>
              <a:t>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 ‘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LDR      r1,|L1.56|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LDR      r1,[r1,#0]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r1 </a:t>
            </a:r>
            <a:r>
              <a:rPr b="1" lang="en-US" sz="1600" spc="-1" strike="noStrike">
                <a:solidFill>
                  <a:srgbClr val="990000"/>
                </a:solidFill>
                <a:latin typeface="Wingdings"/>
                <a:ea typeface="Wingdings"/>
              </a:rPr>
              <a:t>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 &amp;p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B     r0,[r1,#8]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ptest-&gt;c = ‘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0,#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X       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|L1.56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DCD      ||.bss$2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REA ||.bss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p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||.bss$2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%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19960" y="114768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r1 </a:t>
            </a:r>
            <a:r>
              <a:rPr b="0" lang="en-US" sz="1600" spc="-1" strike="noStrike">
                <a:solidFill>
                  <a:srgbClr val="cc33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 M[#L1.56] is the pointer to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p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992560" y="1452600"/>
            <a:ext cx="6120" cy="41256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608440" y="4649760"/>
            <a:ext cx="3330000" cy="580680"/>
            <a:chOff x="5608440" y="4649760"/>
            <a:chExt cx="3330000" cy="580680"/>
          </a:xfrm>
        </p:grpSpPr>
        <p:sp>
          <p:nvSpPr>
            <p:cNvPr id="144" name=""/>
            <p:cNvSpPr/>
            <p:nvPr/>
          </p:nvSpPr>
          <p:spPr>
            <a:xfrm>
              <a:off x="6073920" y="4649760"/>
              <a:ext cx="2864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watch out, </a:t>
              </a:r>
              <a:r>
                <a:rPr b="0" lang="en-US" sz="1600" spc="-1" strike="noStrike">
                  <a:solidFill>
                    <a:srgbClr val="cc3300"/>
                  </a:solidFill>
                  <a:latin typeface="Courier New"/>
                  <a:ea typeface="宋体"/>
                </a:rPr>
                <a:t>ptest</a:t>
              </a:r>
              <a:r>
                <a:rPr b="0" lang="en-US" sz="16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 is only a pt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the structure was never malloc'd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608440" y="4821120"/>
              <a:ext cx="45684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1160" y="28778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Questions?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80640"/>
            <a:ext cx="84582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Example 5: Dealing with Lots of Arguments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4080" y="425520"/>
            <a:ext cx="3143160" cy="600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int tmp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void test(int a, int b, int c, int d, int *e)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int main()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{ int a, b, c, d, e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a = 3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b = 4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c = 5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d = 6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e = 7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test(a, b, c, d, &amp;e)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} /* end main() */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void test(int a,int b,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int c, int d, int *e)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{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tmp = a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a = b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b = tmp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c = b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b = d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*e = d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} /* end test() */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0280" y="450720"/>
            <a:ext cx="5643720" cy="56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REA ||.text||, CODE, READ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test    LDR      r1,[sp,#0]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get &amp;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LDR      r2,|L1.72|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get tmp 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0,[r2,#0]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tmp =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3,[r1,#0]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*e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X       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ain 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MFD    sp!,{r2,r3,lr} ; </a:t>
            </a:r>
            <a:r>
              <a:rPr b="1" lang="en-US" sz="1600" spc="-1" strike="noStrike">
                <a:solidFill>
                  <a:srgbClr val="99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 2 s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0,#3 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1</a:t>
            </a:r>
            <a:r>
              <a:rPr b="1" lang="en-US" sz="1600" spc="-1" strike="noStrike" baseline="30000">
                <a:solidFill>
                  <a:srgbClr val="990000"/>
                </a:solidFill>
                <a:latin typeface="Courier New"/>
                <a:ea typeface="宋体"/>
              </a:rPr>
              <a:t>st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 param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1,#4 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2</a:t>
            </a:r>
            <a:r>
              <a:rPr b="1" lang="en-US" sz="1600" spc="-1" strike="noStrike" baseline="30000">
                <a:solidFill>
                  <a:srgbClr val="990000"/>
                </a:solidFill>
                <a:latin typeface="Courier New"/>
                <a:ea typeface="宋体"/>
              </a:rPr>
              <a:t>nd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 param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2,#5 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3</a:t>
            </a:r>
            <a:r>
              <a:rPr b="1" lang="en-US" sz="1600" spc="-1" strike="noStrike" baseline="30000">
                <a:solidFill>
                  <a:srgbClr val="990000"/>
                </a:solidFill>
                <a:latin typeface="Courier New"/>
                <a:ea typeface="宋体"/>
              </a:rPr>
              <a:t>rd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 param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12,#6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4</a:t>
            </a:r>
            <a:r>
              <a:rPr b="1" lang="en-US" sz="1600" spc="-1" strike="noStrike" baseline="30000">
                <a:solidFill>
                  <a:srgbClr val="990000"/>
                </a:solidFill>
                <a:latin typeface="Courier New"/>
                <a:ea typeface="宋体"/>
              </a:rPr>
              <a:t>th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 param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3,#7 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overflow </a:t>
            </a:r>
            <a:r>
              <a:rPr b="1" lang="en-US" sz="1600" spc="-1" strike="noStrike">
                <a:solidFill>
                  <a:srgbClr val="99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3,[sp,#4]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e on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DD      r3,sp,#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3,[sp,#0]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&amp;e on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3,r12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4</a:t>
            </a:r>
            <a:r>
              <a:rPr b="1" lang="en-US" sz="1600" spc="-1" strike="noStrike" baseline="30000">
                <a:solidFill>
                  <a:srgbClr val="990000"/>
                </a:solidFill>
                <a:latin typeface="Courier New"/>
                <a:ea typeface="宋体"/>
              </a:rPr>
              <a:t>th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 param d in 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L      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0,#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LDMFD    sp!,{r2,r3,pc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|L1.72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DCD      ||.bss$2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t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15240" y="4836960"/>
            <a:ext cx="24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r0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  <a:ea typeface="宋体"/>
              </a:rPr>
              <a:t> holds the retur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6323040" y="4997160"/>
            <a:ext cx="596880" cy="1116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Summary of Previous Lectures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ourse Descrip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is an embedded system?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re than just a computer ­­ it's a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makes embedded systems different?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ny sets of constraints on desig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ur general typ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l-Purpo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tr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ignal Process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embedded system designers need to know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Multi­object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cost, dependability, performance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Multi­discip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hardware, software, electromechanical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Multi-P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specification, design, prototyping, deployment, support, ret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962680" y="406440"/>
            <a:ext cx="31240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Example 5 (cont’d)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7520" y="635040"/>
            <a:ext cx="5236920" cy="49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AREA ||.text||, CODE, READ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test    LDR      r1,[sp,#0]  ; get &amp;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LDR      r2,|L1.72|  ; get tmp 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0,[r2,#0]  ; tmp =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3,[r1,#0]  ; *e =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BX       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main PR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STMFD    sp!,{r2,r3,lr} ; </a:t>
            </a:r>
            <a:r>
              <a:rPr b="0" lang="en-US" sz="1400" spc="-1" strike="noStrike">
                <a:solidFill>
                  <a:srgbClr val="0033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2 sl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0,#3   ; 1st param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1,#4   ; 2nd param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2,#5   ; 3rd param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12,#6  ; 4th param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3,#7   ; overflow </a:t>
            </a:r>
            <a:r>
              <a:rPr b="0" lang="en-US" sz="1400" spc="-1" strike="noStrike">
                <a:solidFill>
                  <a:srgbClr val="0033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3,[sp,#4] ; e on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ADD      r3,sp,#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3,[sp,#0] ; &amp;e on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3,r12  ; 4th param d in r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BL      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0,#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LDMFD    sp!,{r2,r3,pc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|L1.72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DCD      ||.bss$2|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t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962680" y="2444760"/>
            <a:ext cx="3182040" cy="2004840"/>
            <a:chOff x="5962680" y="2444760"/>
            <a:chExt cx="3182040" cy="2004840"/>
          </a:xfrm>
        </p:grpSpPr>
        <p:sp>
          <p:nvSpPr>
            <p:cNvPr id="156" name=""/>
            <p:cNvSpPr/>
            <p:nvPr/>
          </p:nvSpPr>
          <p:spPr>
            <a:xfrm>
              <a:off x="6877080" y="2692440"/>
              <a:ext cx="1143000" cy="30492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7080" y="2997360"/>
              <a:ext cx="1143000" cy="30456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#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77080" y="3301920"/>
              <a:ext cx="1143000" cy="30492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77080" y="3606840"/>
              <a:ext cx="1143000" cy="30492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46640" y="3303720"/>
              <a:ext cx="457200" cy="30456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03840" y="3456000"/>
              <a:ext cx="3049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03880" y="2444760"/>
              <a:ext cx="1140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0x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0x8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0x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0x8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0x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62680" y="2463840"/>
              <a:ext cx="3124080" cy="1985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77080" y="3911760"/>
              <a:ext cx="1143000" cy="30456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62680" y="2463840"/>
              <a:ext cx="228600" cy="228600"/>
            </a:xfrm>
            <a:prstGeom prst="ellipse">
              <a:avLst/>
            </a:prstGeom>
            <a:noFill/>
            <a:ln w="190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356080" y="3870360"/>
            <a:ext cx="228600" cy="228600"/>
          </a:xfrm>
          <a:prstGeom prst="ellips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宋体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77080" y="55872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86364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77080" y="116856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77080" y="147312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14960" y="1152360"/>
            <a:ext cx="457200" cy="3049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72160" y="1320840"/>
            <a:ext cx="30492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03880" y="343080"/>
            <a:ext cx="114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77080" y="177804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62680" y="406440"/>
            <a:ext cx="228600" cy="228600"/>
          </a:xfrm>
          <a:prstGeom prst="ellips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6080" y="2189160"/>
            <a:ext cx="228600" cy="228600"/>
          </a:xfrm>
          <a:prstGeom prst="ellips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43160" y="5361120"/>
            <a:ext cx="375912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Note: In “test”, the compiler </a:t>
            </a:r>
            <a:r>
              <a:rPr b="0" lang="en-US" sz="1600" spc="-1" strike="noStrike" u="sng">
                <a:solidFill>
                  <a:srgbClr val="cc3300"/>
                </a:solidFill>
                <a:uFillTx/>
                <a:latin typeface="Arial"/>
                <a:ea typeface="宋体"/>
              </a:rPr>
              <a:t>remov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 the assignments to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a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,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b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, and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c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 ­­ these assignments have no effect, so they were remov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7080" y="50796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 of 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85000" y="847800"/>
            <a:ext cx="1143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 of 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111600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 of 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962680" y="4470480"/>
            <a:ext cx="3182040" cy="2004840"/>
            <a:chOff x="5962680" y="4470480"/>
            <a:chExt cx="3182040" cy="2004840"/>
          </a:xfrm>
        </p:grpSpPr>
        <p:sp>
          <p:nvSpPr>
            <p:cNvPr id="182" name=""/>
            <p:cNvSpPr/>
            <p:nvPr/>
          </p:nvSpPr>
          <p:spPr>
            <a:xfrm>
              <a:off x="6877080" y="4718160"/>
              <a:ext cx="1143000" cy="30492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77080" y="5023080"/>
              <a:ext cx="1143000" cy="30456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#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77080" y="5327640"/>
              <a:ext cx="1143000" cy="30492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x8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77080" y="5632560"/>
              <a:ext cx="1143000" cy="30492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46640" y="5329440"/>
              <a:ext cx="457200" cy="30456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03840" y="5481720"/>
              <a:ext cx="3049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03880" y="4470480"/>
              <a:ext cx="1140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0x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0x8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0x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0x8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0x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62680" y="4489560"/>
              <a:ext cx="3124080" cy="1985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77080" y="5937480"/>
              <a:ext cx="1143000" cy="30456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62680" y="4489560"/>
              <a:ext cx="228600" cy="228600"/>
            </a:xfrm>
            <a:prstGeom prst="ellipse">
              <a:avLst/>
            </a:prstGeom>
            <a:noFill/>
            <a:ln w="190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宋体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356080" y="3470400"/>
            <a:ext cx="228600" cy="228600"/>
          </a:xfrm>
          <a:prstGeom prst="ellips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160" y="57240"/>
            <a:ext cx="792468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Example 6: Nested Function Calls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79080" y="506520"/>
            <a:ext cx="3143160" cy="600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int tmp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int swap(int a, int b)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void swap2(int a, int b)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int main(){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int a, b, c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a = 3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b = 4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c = swap(a,b)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} /* end main() */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int swap(int a,int b){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tmp = a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a = b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b = tmp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swap2(a,b)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return(10)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} /* end swap() */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void swap2(int a,int b){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tmp = a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a = b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b = tmp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  <a:ea typeface="宋体"/>
              </a:rPr>
              <a:t>} /* end swap() */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522360"/>
            <a:ext cx="5168880" cy="593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wap2   LDR      r1,|L1.72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0,[r1,#0]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tmp </a:t>
            </a:r>
            <a:r>
              <a:rPr b="1" lang="en-US" sz="1600" spc="-1" strike="noStrike">
                <a:solidFill>
                  <a:srgbClr val="990000"/>
                </a:solidFill>
                <a:latin typeface="Wingdings"/>
                <a:ea typeface="Wingdings"/>
              </a:rPr>
              <a:t>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X       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wap    MOV      r2,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0,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lr,[sp,#-4]!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save 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LDR      r1,|L1.72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TR      r2,[r1,#0]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1,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L       swap2    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call swa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0,#0xa  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ret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LDR      pc,[sp],#4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restore 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ain    STR      lr,[sp,#-4]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0,#3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set up pa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1,#4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before call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L       swap  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to sw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MOV      r0,#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LDR      pc,[sp],#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|L1.72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DCD      ||.bss$2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AREA ||.bss||, NOINIT, ALIGN=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t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47400" y="482760"/>
            <a:ext cx="3143160" cy="600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int tmp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int swap(int a,int b)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void swap2(int a,int b)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int main(){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int a, b, c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 = 3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 = 4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c = swap(a,b)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} /* end main() */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int swap(int a,int b){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tmp = a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 = b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 = tmp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swap2(a,b)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} /* end swap() */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void swap2(int a,int b){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tmp = a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a = b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b = tmp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} /* end swap() */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03600" y="507960"/>
            <a:ext cx="5540400" cy="56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AREA ||.text||, CODE, READ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wap2   LDR      r1,|L1.60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TR      r0,[r1,#0]  ; t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BX       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wap    MOV      r2,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OV      r0,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LDR      r1,|L1.60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TR      r2,[r1,#0]  ; t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OV      r1,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B        swap2 </a:t>
            </a:r>
            <a:r>
              <a:rPr b="1" lang="en-US" sz="1600" spc="-1" strike="noStrike">
                <a:solidFill>
                  <a:srgbClr val="990000"/>
                </a:solidFill>
                <a:latin typeface="Courier New"/>
                <a:ea typeface="宋体"/>
              </a:rPr>
              <a:t>; *NOT* “BL”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ain P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TR      lr,[sp,#-4]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OV      r0,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OV      r1,#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BL       sw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OV      r0,#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LDR      pc,[sp],#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|L1.60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DCD      ||.bss$2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AREA ||.bss||, t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||.bss$2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%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52960" y="5635800"/>
            <a:ext cx="40910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Compare with Example 6 ­ in this example, the compiler optimizes the code so that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swap2()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 returns directly to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main()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27960" y="1343160"/>
            <a:ext cx="256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Doesn't return to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swap()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, instead it jumps directly back to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6148440" y="1417680"/>
            <a:ext cx="588960" cy="3168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533160" y="64800"/>
            <a:ext cx="792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Example 7: Optimizing across Functions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Interfacing C and Assembly Language 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ARM (the company @ www.arm.com) has developed a standard called the “ARM Procedure Call Standard” (APCS)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which defines: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straints on the use of regis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tack conven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mat of a stack backtrace data struc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rgument passing and result retur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pport for ARM shared library mechanis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ompiler­generated code conforms to the APCS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t'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 standard ­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 architectural requir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void standard when interfacing C and assembly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n avoid standard when just writing assembly code or when writing assembly code that isn't called by C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Register Names and Use 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239480"/>
            <a:ext cx="8294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</a:rPr>
              <a:t>Register #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</a:rPr>
              <a:t>	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</a:rPr>
              <a:t>APCS Name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</a:rPr>
              <a:t>	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</a:rPr>
              <a:t>APCS Rol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0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1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rgument 1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1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2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rgument 2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2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3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rgument 3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3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4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rgument 4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4..R8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v1..v5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egister variable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9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b/v6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tatic base/register variabl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10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l/v7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tack limit/register variabl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11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fp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frame pointer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12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p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cratch reg/ new­sb in inter­link­unit call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13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p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low end of current stack fram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14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lr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link address/scratch register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15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pc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program counter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  <a:ea typeface="宋体"/>
              </a:rPr>
              <a:t>How Does STM Place Things into Memory ?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42213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TM sp!, {r0­r15}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 XScale processor uses a bit-vector to represent each register to be saved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 architecture places the lowest number register into the lowest address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Default STM == STMDB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48520" y="95580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126036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48520" y="156528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48520" y="187020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037120" y="955800"/>
            <a:ext cx="1220760" cy="377640"/>
            <a:chOff x="5037120" y="955800"/>
            <a:chExt cx="1220760" cy="377640"/>
          </a:xfrm>
        </p:grpSpPr>
        <p:sp>
          <p:nvSpPr>
            <p:cNvPr id="213" name=""/>
            <p:cNvSpPr/>
            <p:nvPr/>
          </p:nvSpPr>
          <p:spPr>
            <a:xfrm>
              <a:off x="5037120" y="955800"/>
              <a:ext cx="906480" cy="377640"/>
            </a:xfrm>
            <a:prstGeom prst="rect">
              <a:avLst/>
            </a:prstGeom>
            <a:noFill/>
            <a:ln cap="rnd" w="936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SP</a:t>
              </a:r>
              <a:r>
                <a:rPr b="0" lang="en-US" sz="2400" spc="-1" strike="noStrike" baseline="-25000">
                  <a:solidFill>
                    <a:srgbClr val="cc3300"/>
                  </a:solidFill>
                  <a:latin typeface="Times New Roman"/>
                  <a:ea typeface="宋体"/>
                </a:rPr>
                <a:t>bef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52960" y="1119240"/>
              <a:ext cx="3049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7375320" y="739800"/>
            <a:ext cx="11408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7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6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5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15080" y="803160"/>
            <a:ext cx="3543120" cy="55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217476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5280" y="247968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5280" y="278460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45280" y="308916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45280" y="339408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45280" y="369900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3480" y="400680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3480" y="431172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3480" y="461628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43480" y="492120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3480" y="522612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49960" y="553392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9960" y="583884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033880" y="5838840"/>
            <a:ext cx="1220760" cy="377640"/>
            <a:chOff x="5033880" y="5838840"/>
            <a:chExt cx="1220760" cy="377640"/>
          </a:xfrm>
        </p:grpSpPr>
        <p:sp>
          <p:nvSpPr>
            <p:cNvPr id="231" name=""/>
            <p:cNvSpPr/>
            <p:nvPr/>
          </p:nvSpPr>
          <p:spPr>
            <a:xfrm>
              <a:off x="5033880" y="5838840"/>
              <a:ext cx="906480" cy="37764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SP</a:t>
              </a:r>
              <a:r>
                <a:rPr b="0" lang="en-US" sz="2400" spc="-1" strike="noStrike" baseline="-25000">
                  <a:solidFill>
                    <a:srgbClr val="cc3300"/>
                  </a:solidFill>
                  <a:latin typeface="Times New Roman"/>
                  <a:ea typeface="宋体"/>
                </a:rPr>
                <a:t>af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50080" y="6001920"/>
              <a:ext cx="30456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Passing and Returning Structures 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Structures are usually passed in registers (and overflow onto the stack when necessary)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When a function returns a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struct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, a pointer to where the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struct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result is to be placed is passed in </a:t>
            </a:r>
            <a:r>
              <a:rPr b="0" lang="en-US" sz="2400" spc="-1" strike="noStrike">
                <a:solidFill>
                  <a:srgbClr val="003300"/>
                </a:solidFill>
                <a:latin typeface="Courier New"/>
                <a:ea typeface="宋体"/>
              </a:rPr>
              <a:t>a1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(first parameter)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Example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truct s f(int x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宋体"/>
              </a:rPr>
              <a:t>­­ is compiled as ­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void f(struct s *result, int x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04920" y="1295280"/>
            <a:ext cx="441936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Example: Passing Structures as Pointers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495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typedef struct two_ch_struct{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char ch1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char ch2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} two_ch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two_ch max(two_ch a, two_ch b){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return((a.ch1 &gt; b.ch1) ? a : b)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  <a:ea typeface="宋体"/>
              </a:rPr>
              <a:t>} /* end max() */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876920" y="1295280"/>
            <a:ext cx="4114800" cy="4876920"/>
            <a:chOff x="4876920" y="1295280"/>
            <a:chExt cx="4114800" cy="4876920"/>
          </a:xfrm>
        </p:grpSpPr>
        <p:sp>
          <p:nvSpPr>
            <p:cNvPr id="239" name=""/>
            <p:cNvSpPr/>
            <p:nvPr/>
          </p:nvSpPr>
          <p:spPr>
            <a:xfrm>
              <a:off x="4932720" y="1317600"/>
              <a:ext cx="3960000" cy="47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max PR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        </a:t>
              </a: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STMFD    sp!,{r0,r1,lr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        </a:t>
              </a: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SUB      sp,sp,#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        </a:t>
              </a: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LDRB     r0,[sp,#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        </a:t>
              </a: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LDRB     r1,[sp,#8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        </a:t>
              </a: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CMP      r0,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        </a:t>
              </a: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BLS      |L1.36|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        </a:t>
              </a: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LDR      r0,[sp,#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        </a:t>
              </a: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STR      r0,[sp,#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        </a:t>
              </a: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B        |L1.44|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|L1.36|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        </a:t>
              </a: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LDR      r0,[sp,#8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        </a:t>
              </a: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STR      r0,[sp,#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|L1.44|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        </a:t>
              </a: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LDR      r0,[sp,#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        </a:t>
              </a: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LDMFD    sp!,{r1-r3,pc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        </a:t>
              </a:r>
              <a:r>
                <a:rPr b="0" lang="en-US" sz="1600" spc="-1" strike="noStrike">
                  <a:solidFill>
                    <a:srgbClr val="003300"/>
                  </a:solidFill>
                  <a:latin typeface="Courier New"/>
                  <a:ea typeface="宋体"/>
                </a:rPr>
                <a:t>END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76920" y="1295280"/>
              <a:ext cx="4114800" cy="487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“</a:t>
            </a: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Frame Pointer”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5880" y="1077840"/>
            <a:ext cx="511848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OV   ip, s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TMDB sp!,{a1­a3, fp, ip, lr, pc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&lt;computations go her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LDMDB fp,{fp, sp, pc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67360" y="141912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67360" y="172404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67360" y="202896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67360" y="233352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157800" y="1733400"/>
            <a:ext cx="709560" cy="273240"/>
            <a:chOff x="6157800" y="1733400"/>
            <a:chExt cx="709560" cy="273240"/>
          </a:xfrm>
        </p:grpSpPr>
        <p:sp>
          <p:nvSpPr>
            <p:cNvPr id="248" name=""/>
            <p:cNvSpPr/>
            <p:nvPr/>
          </p:nvSpPr>
          <p:spPr>
            <a:xfrm>
              <a:off x="6157800" y="1733400"/>
              <a:ext cx="405000" cy="27324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62800" y="1876320"/>
              <a:ext cx="30456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8003880" y="1130400"/>
            <a:ext cx="1140840" cy="30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7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67360" y="263844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57920" y="1130400"/>
            <a:ext cx="228600" cy="228600"/>
          </a:xfrm>
          <a:prstGeom prst="ellips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62680" y="294480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62680" y="324972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62680" y="355428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5960" y="1724040"/>
            <a:ext cx="228600" cy="228600"/>
          </a:xfrm>
          <a:prstGeom prst="ellips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67360" y="386388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6164280" y="1403280"/>
            <a:ext cx="709560" cy="273240"/>
            <a:chOff x="6164280" y="1403280"/>
            <a:chExt cx="709560" cy="273240"/>
          </a:xfrm>
        </p:grpSpPr>
        <p:sp>
          <p:nvSpPr>
            <p:cNvPr id="259" name=""/>
            <p:cNvSpPr/>
            <p:nvPr/>
          </p:nvSpPr>
          <p:spPr>
            <a:xfrm>
              <a:off x="6164280" y="1403280"/>
              <a:ext cx="404640" cy="27324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68920" y="1546200"/>
              <a:ext cx="3049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162840" y="3571920"/>
            <a:ext cx="709560" cy="272880"/>
            <a:chOff x="6162840" y="3571920"/>
            <a:chExt cx="709560" cy="272880"/>
          </a:xfrm>
        </p:grpSpPr>
        <p:sp>
          <p:nvSpPr>
            <p:cNvPr id="262" name=""/>
            <p:cNvSpPr/>
            <p:nvPr/>
          </p:nvSpPr>
          <p:spPr>
            <a:xfrm>
              <a:off x="6162840" y="3571920"/>
              <a:ext cx="404640" cy="27288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67480" y="3714840"/>
              <a:ext cx="3049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145200" y="4329720"/>
            <a:ext cx="266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66680" indent="-166680"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imes New Roman"/>
                <a:ea typeface="宋体"/>
              </a:rPr>
              <a:t>frame pointer (fp) points to the top of stack for function</a:t>
            </a:r>
            <a:r>
              <a:rPr b="0" lang="en-US" sz="1800" spc="-1" strike="noStrike">
                <a:solidFill>
                  <a:srgbClr val="3366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15080" y="1089000"/>
            <a:ext cx="3262320" cy="456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The Frame Pointer 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4600" y="1218960"/>
            <a:ext cx="4937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fp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points to top of the stack area for the current function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r zero if not being u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By using the frame pointer and storing it at the same offset for every function call, it creates a singly­linked list of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activation record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Creating the stack “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backtrac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” structur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MOV   ip, sp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STMFD sp!,{a1­a4,v1­v5,sb,fp,ip,lr,pc}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urier New"/>
                <a:ea typeface="宋体"/>
              </a:rPr>
              <a:t>SUB   fp, ip, #4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07000" y="93816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07000" y="124308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07000" y="154764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07000" y="185256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23040" y="981000"/>
            <a:ext cx="1083600" cy="272880"/>
            <a:chOff x="5423040" y="981000"/>
            <a:chExt cx="1083600" cy="272880"/>
          </a:xfrm>
        </p:grpSpPr>
        <p:sp>
          <p:nvSpPr>
            <p:cNvPr id="273" name=""/>
            <p:cNvSpPr/>
            <p:nvPr/>
          </p:nvSpPr>
          <p:spPr>
            <a:xfrm>
              <a:off x="5423040" y="981000"/>
              <a:ext cx="769320" cy="272880"/>
            </a:xfrm>
            <a:prstGeom prst="rect">
              <a:avLst/>
            </a:prstGeom>
            <a:noFill/>
            <a:ln cap="rnd" w="936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SP</a:t>
              </a:r>
              <a:r>
                <a:rPr b="0" lang="en-US" sz="2000" spc="-1" strike="noStrike" baseline="-25000">
                  <a:solidFill>
                    <a:srgbClr val="cc3300"/>
                  </a:solidFill>
                  <a:latin typeface="Times New Roman"/>
                  <a:ea typeface="宋体"/>
                </a:rPr>
                <a:t>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02080" y="1083960"/>
              <a:ext cx="30456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633800" y="722160"/>
            <a:ext cx="11408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urier New"/>
                <a:ea typeface="宋体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7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6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5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73560" y="785880"/>
            <a:ext cx="3543480" cy="55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07000" y="215748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04120" y="246204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04120" y="276696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04120" y="307188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04120" y="337644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04120" y="368136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02320" y="398952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02320" y="429408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02320" y="459900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02320" y="490392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02320" y="520848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08800" y="5516640"/>
            <a:ext cx="1143000" cy="304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08800" y="5821200"/>
            <a:ext cx="1143000" cy="304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450040" y="5864400"/>
            <a:ext cx="1063440" cy="334800"/>
            <a:chOff x="5450040" y="5864400"/>
            <a:chExt cx="1063440" cy="334800"/>
          </a:xfrm>
        </p:grpSpPr>
        <p:sp>
          <p:nvSpPr>
            <p:cNvPr id="291" name=""/>
            <p:cNvSpPr/>
            <p:nvPr/>
          </p:nvSpPr>
          <p:spPr>
            <a:xfrm>
              <a:off x="5450040" y="5864400"/>
              <a:ext cx="749160" cy="33480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SP</a:t>
              </a:r>
              <a:r>
                <a:rPr b="0" lang="en-US" sz="2000" spc="-1" strike="noStrike" baseline="-25000">
                  <a:solidFill>
                    <a:srgbClr val="cc3300"/>
                  </a:solidFill>
                  <a:latin typeface="Times New Roman"/>
                  <a:ea typeface="宋体"/>
                </a:rPr>
                <a:t>af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08560" y="5985000"/>
              <a:ext cx="3049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492880" y="1289160"/>
            <a:ext cx="988920" cy="325440"/>
            <a:chOff x="5492880" y="1289160"/>
            <a:chExt cx="988920" cy="325440"/>
          </a:xfrm>
        </p:grpSpPr>
        <p:sp>
          <p:nvSpPr>
            <p:cNvPr id="294" name=""/>
            <p:cNvSpPr/>
            <p:nvPr/>
          </p:nvSpPr>
          <p:spPr>
            <a:xfrm>
              <a:off x="5492880" y="1289160"/>
              <a:ext cx="658800" cy="32544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  <a:ea typeface="宋体"/>
                </a:rPr>
                <a:t>FP</a:t>
              </a:r>
              <a:r>
                <a:rPr b="0" lang="en-US" sz="2000" spc="-1" strike="noStrike" baseline="-25000">
                  <a:solidFill>
                    <a:srgbClr val="cc3300"/>
                  </a:solidFill>
                  <a:latin typeface="Times New Roman"/>
                  <a:ea typeface="宋体"/>
                </a:rPr>
                <a:t>af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76880" y="1414440"/>
              <a:ext cx="3049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Thought for the Day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06360" y="1179360"/>
            <a:ext cx="600552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  <a:ea typeface="宋体"/>
              </a:rPr>
              <a:t>The expectations of life depend upon diligence; the mechanic that would perfect his work must first sharpen his tool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- Confuciu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51080" y="3963960"/>
            <a:ext cx="666576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The expectations of this course depend upon diligence; the student that would perfect his grade must first sharpen his assembly language programming skil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Mixing C and Assembly Language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4160" y="1389240"/>
            <a:ext cx="1752480" cy="10666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4160" y="2836800"/>
            <a:ext cx="1752480" cy="1067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4160" y="4284720"/>
            <a:ext cx="1752480" cy="10666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20080" y="2833560"/>
            <a:ext cx="1752480" cy="10670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xecu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95680" y="4340160"/>
            <a:ext cx="1620720" cy="959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52880" y="291924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Li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68480" y="1469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ssemb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297" idx="6"/>
            <a:endCxn id="303" idx="1"/>
          </p:cNvCxnSpPr>
          <p:nvPr/>
        </p:nvCxnSpPr>
        <p:spPr>
          <a:xfrm>
            <a:off x="2006640" y="1922040"/>
            <a:ext cx="86256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8" idx="6"/>
            <a:endCxn id="302" idx="1"/>
          </p:cNvCxnSpPr>
          <p:nvPr/>
        </p:nvCxnSpPr>
        <p:spPr>
          <a:xfrm>
            <a:off x="2006640" y="3369960"/>
            <a:ext cx="2946960" cy="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299" idx="6"/>
            <a:endCxn id="301" idx="1"/>
          </p:cNvCxnSpPr>
          <p:nvPr/>
        </p:nvCxnSpPr>
        <p:spPr>
          <a:xfrm>
            <a:off x="2006640" y="4818240"/>
            <a:ext cx="6897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303" idx="3"/>
            <a:endCxn id="302" idx="0"/>
          </p:cNvCxnSpPr>
          <p:nvPr/>
        </p:nvCxnSpPr>
        <p:spPr>
          <a:xfrm>
            <a:off x="4316040" y="1927080"/>
            <a:ext cx="1360800" cy="992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301" idx="3"/>
            <a:endCxn id="302" idx="2"/>
          </p:cNvCxnSpPr>
          <p:nvPr/>
        </p:nvCxnSpPr>
        <p:spPr>
          <a:xfrm flipV="1">
            <a:off x="4316040" y="3832920"/>
            <a:ext cx="1360800" cy="986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2" idx="3"/>
            <a:endCxn id="300" idx="2"/>
          </p:cNvCxnSpPr>
          <p:nvPr/>
        </p:nvCxnSpPr>
        <p:spPr>
          <a:xfrm flipV="1">
            <a:off x="6400800" y="3366720"/>
            <a:ext cx="720000" cy="10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Multiply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239480"/>
            <a:ext cx="9007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ultiply instruction can take multiple cycles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an convert Y * Constant into series of adds and shif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Y * 9 = Y * 8 + Y *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ssume R1 holds Y and R2 will hold the resul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ADD  R2, R2, R1, LSL #3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; multiplication by 9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(Y * 8) + (Y *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SB  R2, R1, R1, LSL #3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; multiplication by 7 (Y * 8) - (Y *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(RSB: reverse subtract - operands to subtraction are revers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nother example: Y * 105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5 = 128 ­ 23 = 128 ­ (16 + 7) = 128 ­ (16 + (8 ­ 1)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SB r2, r1, r1, LSL #3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; r2 &lt;­­ Y*7 = Y*8 ­ Y*1(assume r1 holds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ADD r2, r2, r1, LSL #4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; r2 &lt;­­ r2 + Y * 16 </a:t>
            </a:r>
            <a:r>
              <a:rPr b="0" lang="en-US" sz="1200" spc="-1" strike="noStrike">
                <a:solidFill>
                  <a:srgbClr val="cc3300"/>
                </a:solidFill>
                <a:latin typeface="Courier New"/>
                <a:ea typeface="宋体"/>
              </a:rPr>
              <a:t>(r2 held Y*7; now holds Y*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SB r2, r2, r1, LSL #7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; r2 &lt;­­ (Y * 128) ­ r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400" spc="-1" strike="noStrike">
                <a:solidFill>
                  <a:srgbClr val="cc3300"/>
                </a:solidFill>
                <a:latin typeface="Courier New"/>
                <a:ea typeface="宋体"/>
              </a:rPr>
              <a:t>(r2 now holds Y*1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Or Y * 105 = Y * (15 * 7) = Y * (16 ­ 1) * (8 ­ 1)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SB r2,r1,r1,LSL #4   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; r2 &lt;­­ (r1 * 16)­ 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SB r3, r2, r2, LSL #3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宋体"/>
              </a:rPr>
              <a:t>; r3 &lt;­­ (r2 * 8)­ 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Looking Ahead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oftware Interrupts (traps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Suggested Reading (NOT required)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2645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ctivation Records (for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backtrace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structures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http://www.enel.ucalgary.ca/People/Norman/engg335/activ_rec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Outline of This Lecture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The Intel Xscale® Programmer’s Mod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Introduction to Intel Xscale® Assembly Languag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Assembly Code from C Programs (7 Examples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Dealing With Structur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Interfacing C Code with Intel Xscale® Assembly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Intel Xscale® libraries and </a:t>
            </a:r>
            <a:r>
              <a:rPr b="0" lang="en-US" sz="2800" spc="-1" strike="noStrike">
                <a:solidFill>
                  <a:srgbClr val="003300"/>
                </a:solidFill>
                <a:latin typeface="Courier New"/>
                <a:ea typeface="宋体"/>
              </a:rPr>
              <a:t>arms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Handouts: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py of transpar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  <a:ea typeface="宋体"/>
              </a:rPr>
              <a:t>Documents available onlin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Course Documents </a:t>
            </a:r>
            <a:r>
              <a:rPr b="1" lang="en-US" sz="2800" spc="-1" strike="noStrike">
                <a:solidFill>
                  <a:srgbClr val="0033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 Lab Handouts </a:t>
            </a:r>
            <a:r>
              <a:rPr b="1" lang="en-US" sz="2800" spc="-1" strike="noStrike">
                <a:solidFill>
                  <a:srgbClr val="0033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 XScale Information </a:t>
            </a:r>
            <a:r>
              <a:rPr b="1" lang="en-US" sz="2800" spc="-1" strike="noStrike">
                <a:solidFill>
                  <a:srgbClr val="0033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 Documentation on AR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ssembler Gu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deWarrior IDE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M Architecture Reference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M Developer Suite: Getting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M Architecture Reference Man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920" y="75960"/>
            <a:ext cx="833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The Intel Xscale® Programmer’s Model (1)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3520" y="84924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(We will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not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be using the Thumb instruction set.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Memory Format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e will be using th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宋体"/>
              </a:rPr>
              <a:t>Bi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Endian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lowest numbered byte of a word is considered the word’s most significant byte, and the highest numbered byte is considered the least significant byte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Instruction Length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ll instructions are 32-bits lo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Data Typ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-bit bytes and 32-bit wor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rocessor Modes (of interest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the “normal” program execution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R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used for general-purpose interrupt handl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upervis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a protected mode for the operating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The Intel Xscale® Programmer’s Model (2)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The Intel Xscale® Register Se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gist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0-R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S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Current Program Status Regi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Stack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Link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1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: Program Counter where bits 0:1 are ignored (why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Program Status Register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PS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(Current Program Status Regi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olds info about the most recently performed ALU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856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tains N (negative), Z (zero), C (Carry) and V (oVerflow)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trols the enabling and disabling of interru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s the processor operating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PSR (Saved Program Status Regis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ed by exception hand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Excep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set, undefined instruction, SWI, IR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Intro to Intel Xscale® Assembly Language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Load/store” architectur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32-bit instruc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32-bit and 8-bit data typ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32-bit address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37 registers (30 general-purpose registers, 6 status registers and a PC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nly a subset is accessible at any point i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Load and store multiple instruc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No instruction to move a 32-bit constant to a register (why?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onditional execu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Barrel shifter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caled addressing, multiplication by a small constant, and ‘constant’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Co-processor instructions (we will </a:t>
            </a:r>
            <a:r>
              <a:rPr b="0" i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not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use these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The Structure of an Assembler Module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EA Example, CODE, READONL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; name of code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ENTR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; 1st exec. 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star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OV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0, #1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; set up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OV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1, #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B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fun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; call subrout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W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0x1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; terminat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func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Courier New"/>
                <a:ea typeface="宋体"/>
              </a:rPr>
              <a:t>; the subroutin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0, r0, r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; r0 = r0 + 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OV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c, l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; return from subrout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; result in 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; end of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676520"/>
            <a:ext cx="685800" cy="304560"/>
          </a:xfrm>
          <a:prstGeom prst="wedgeRectCallout">
            <a:avLst>
              <a:gd name="adj1" fmla="val -89351"/>
              <a:gd name="adj2" fmla="val -102083"/>
            </a:avLst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80" y="1165320"/>
            <a:ext cx="459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Chunks of code or data manipulated by the lin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1676520"/>
            <a:ext cx="609480" cy="304560"/>
          </a:xfrm>
          <a:prstGeom prst="wedgeRectCallout">
            <a:avLst>
              <a:gd name="adj1" fmla="val 332032"/>
              <a:gd name="adj2" fmla="val -110416"/>
            </a:avLst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6640" y="1143000"/>
            <a:ext cx="30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Minimum required block (why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2057400"/>
            <a:ext cx="719280" cy="304920"/>
          </a:xfrm>
          <a:prstGeom prst="wedgeRectCallout">
            <a:avLst>
              <a:gd name="adj1" fmla="val -82671"/>
              <a:gd name="adj2" fmla="val 15106"/>
            </a:avLst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09680"/>
            <a:ext cx="1143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  <a:ea typeface="宋体"/>
              </a:rPr>
              <a:t>First instruction to be exec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8:01:33Z</dcterms:created>
  <dc:creator>Raj Rajkumar</dc:creator>
  <dc:description/>
  <dc:language>en-US</dc:language>
  <cp:lastModifiedBy>jjohnso2</cp:lastModifiedBy>
  <cp:lastPrinted>2001-08-31T16:07:08Z</cp:lastPrinted>
  <dcterms:modified xsi:type="dcterms:W3CDTF">2004-09-07T22:18:34Z</dcterms:modified>
  <cp:revision>165</cp:revision>
  <dc:subject/>
  <dc:title>Interfacing ARM Assembly Language and C</dc:title>
</cp:coreProperties>
</file>