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E8C-AD3D-44E3-B107-EBA871AE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F80-C9E0-46D4-845A-9A490FCD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CA0-7823-493E-846A-DBB8D931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B94-DC3A-4A8B-868F-C3721EE0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8FD5-365E-4094-9614-E8481F85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05F4-E7EC-4522-8780-654DA32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64C5-8CD7-44AA-8B19-D561CB03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8F4-9FC4-407D-BE8E-91EA353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C7A4-C8A2-4BE5-A71A-E51A45E7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897-3F3E-4DB6-BFA9-9E2AD952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E4A-DB3D-43B4-91D7-D7A2AD4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E1B-257D-4B16-8487-EF57C89E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C32-1C32-46AB-BCCB-25ACB09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2CE9-C636-4662-9216-259799ED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0D6-8AEF-4F29-A332-055604F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BFE1-AFDD-4371-8F27-D7E843B1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D0F-4010-4F0C-8218-38964EF0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A67-0953-4747-8A64-2964C6BA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0D2-63BE-43D8-8B5B-65717510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6D4-1A1C-4FE9-8886-7BCC7F16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C84-D44C-4001-9095-5A19AB7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531-7DD3-4553-9F8C-A07BABA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90B-A5D8-4ECC-AD09-DDA4183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97D-1BEE-4A14-80F4-0B8C20E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1A9-7F8A-4EEB-828E-84CA538C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160-BABB-4803-AA61-666D95FF3CB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3C85-5E28-4AC0-891B-709A33081E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uk.farnell.com/amber-wireless/amb8423/module-radio-868-915mhz/dp/1642378" TargetMode="External"/><Relationship Id="rId4" Type="http://schemas.openxmlformats.org/officeDocument/2006/relationships/hyperlink" Target="http://www.ti-estore.com/Merchant2/merchant.mvc?Screen=PROD&amp;Product_Code=EM430F6137RF900" TargetMode="External"/><Relationship Id="rId5" Type="http://schemas.openxmlformats.org/officeDocument/2006/relationships/hyperlink" Target="http://focus.ti.com/docs/toolsw/folders/print/cc1101emk433.html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ti.com/lit/zip/slac341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images.google.com/imgres?imgurl=http://www.sz-wholesale.com/uploadFiles/upimg0/WIRELESS-HEART-RATE-MONITOR16313.jpg&amp;imgrefurl=http://www.sz-wholesale.com/shenzhen_China_products/Heart-Rate-Monitor_1.htm&amp;usg=__EQWR9LmCn68_Y-00gfAcUL8RvUw=&amp;h=318&amp;w=350&amp;sz=32&amp;hl=en&amp;start=11&amp;tbnid=_xV7pMd-EjJQ_M:&amp;tbnh=109&amp;tbnw=120&amp;prev=/images?q=heart+rate+monitor&amp;gbv=2&amp;hl=en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i.com/chronoswiki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3035160"/>
            <a:ext cx="5156280" cy="2832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4864320" y="5765760"/>
            <a:ext cx="34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ww.ti.com/chronoswik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800640" y="1333440"/>
            <a:ext cx="686952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Z430-Chrono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tc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ol: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ardow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tin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549760" y="825480"/>
            <a:ext cx="223524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737240" y="2717640"/>
            <a:ext cx="2235240" cy="157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4788000" y="4470480"/>
            <a:ext cx="217152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4"/>
          <a:stretch/>
        </p:blipFill>
        <p:spPr>
          <a:xfrm>
            <a:off x="7086600" y="2692440"/>
            <a:ext cx="1701720" cy="1994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5"/>
          <a:stretch/>
        </p:blipFill>
        <p:spPr>
          <a:xfrm>
            <a:off x="7074000" y="5003640"/>
            <a:ext cx="1765080" cy="1244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660240" y="431640"/>
            <a:ext cx="36068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574200" y="1181160"/>
            <a:ext cx="39315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816480" y="1473120"/>
            <a:ext cx="10339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w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77800" y="1727280"/>
            <a:ext cx="3619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976320" y="2019240"/>
            <a:ext cx="36097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602640" y="2273400"/>
            <a:ext cx="3963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797760" y="2565360"/>
            <a:ext cx="10080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493560" y="2832120"/>
            <a:ext cx="23781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92920" y="3441600"/>
            <a:ext cx="3487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-b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/P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781200" y="3733920"/>
            <a:ext cx="723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502920" y="3987720"/>
            <a:ext cx="275292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o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517320" y="5511960"/>
            <a:ext cx="2216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811800" y="5867280"/>
            <a:ext cx="25930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ww.ti.com/chronos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939960" y="1155600"/>
            <a:ext cx="7175520" cy="51436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"/>
          <p:cNvSpPr/>
          <p:nvPr/>
        </p:nvSpPr>
        <p:spPr>
          <a:xfrm>
            <a:off x="877320" y="203040"/>
            <a:ext cx="7109280" cy="18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ar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3632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4076280" y="2019240"/>
            <a:ext cx="7628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il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541160" y="2070000"/>
            <a:ext cx="103248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5117400" y="3263760"/>
            <a:ext cx="2185560" cy="21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o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on-bas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682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3186720" y="3365640"/>
            <a:ext cx="928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139040" y="3441600"/>
            <a:ext cx="13665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1519200" y="2260440"/>
            <a:ext cx="51145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67020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819360" y="431640"/>
            <a:ext cx="6412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87160" y="1206360"/>
            <a:ext cx="5060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1080360" y="1638360"/>
            <a:ext cx="342684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a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8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037160" y="2374920"/>
            <a:ext cx="3297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448560" y="2755800"/>
            <a:ext cx="1782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177560" y="3174840"/>
            <a:ext cx="375300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ca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1216440" y="3911760"/>
            <a:ext cx="4806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8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Ω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438840" y="4292640"/>
            <a:ext cx="1623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902880" y="4724280"/>
            <a:ext cx="1635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1100160" y="5092560"/>
            <a:ext cx="341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stimat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1292400" y="5460840"/>
            <a:ext cx="5187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8/9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343400" cy="4508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767880" y="431640"/>
            <a:ext cx="51825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549360" y="1168560"/>
            <a:ext cx="2774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11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921600" y="1549440"/>
            <a:ext cx="4277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GH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443160" y="1879560"/>
            <a:ext cx="29361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909000" y="2260440"/>
            <a:ext cx="39985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525600" y="2908440"/>
            <a:ext cx="26060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92080" y="3289320"/>
            <a:ext cx="31435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gramm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598320" y="3936960"/>
            <a:ext cx="39466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871560" y="4317840"/>
            <a:ext cx="32608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wa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063800" y="4965840"/>
            <a:ext cx="3384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292400" y="5295960"/>
            <a:ext cx="18097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5875560" y="5651640"/>
            <a:ext cx="17233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905440" y="5854680"/>
            <a:ext cx="18666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863960" y="2502000"/>
            <a:ext cx="3340080" cy="27684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672840" y="431640"/>
            <a:ext cx="5537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600120" y="1168560"/>
            <a:ext cx="4628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647640" y="1536840"/>
            <a:ext cx="5219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604440" y="1905120"/>
            <a:ext cx="637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974880" y="2921040"/>
            <a:ext cx="1910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1260000" y="3213000"/>
            <a:ext cx="22550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986400" y="3720960"/>
            <a:ext cx="19382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1231920" y="4013280"/>
            <a:ext cx="977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460440" y="4267080"/>
            <a:ext cx="1047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0560" y="4635360"/>
            <a:ext cx="23256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960480" y="5245200"/>
            <a:ext cx="1711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342440" y="5537160"/>
            <a:ext cx="46051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-of-the-bo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5740560" y="1778040"/>
            <a:ext cx="3340080" cy="28321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"/>
          <p:cNvSpPr/>
          <p:nvPr/>
        </p:nvSpPr>
        <p:spPr>
          <a:xfrm>
            <a:off x="659520" y="431640"/>
            <a:ext cx="44589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888120" y="1244520"/>
            <a:ext cx="604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974160" y="1752480"/>
            <a:ext cx="1442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990720" y="2184480"/>
            <a:ext cx="1789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4160" y="3073320"/>
            <a:ext cx="366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a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1042200" y="3581280"/>
            <a:ext cx="2271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694080" y="4025880"/>
            <a:ext cx="463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k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899640" y="4546440"/>
            <a:ext cx="613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696960" y="431640"/>
            <a:ext cx="56793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C/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16600" y="1206360"/>
            <a:ext cx="414828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52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884880" y="2730600"/>
            <a:ext cx="13500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226160" y="2781360"/>
            <a:ext cx="98964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3202560" y="2781360"/>
            <a:ext cx="579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563400" y="3467160"/>
            <a:ext cx="421956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884880" y="4635360"/>
            <a:ext cx="1350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339560" y="4699080"/>
            <a:ext cx="1791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5224320" y="1244520"/>
            <a:ext cx="32418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5505120" y="2679840"/>
            <a:ext cx="153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5865840" y="2743200"/>
            <a:ext cx="132372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5505120" y="3568680"/>
            <a:ext cx="153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5803560" y="3619440"/>
            <a:ext cx="6606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041800" y="4902120"/>
            <a:ext cx="37594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0"/>
                <a:tab algn="l" pos="34308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6006960" y="1206360"/>
            <a:ext cx="2311560" cy="1498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235560" y="4178160"/>
            <a:ext cx="2413080" cy="17272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741600" y="431640"/>
            <a:ext cx="65941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-CS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0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-CS5S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m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k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or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82360" y="4089240"/>
            <a:ext cx="153000" cy="16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1255320" y="4140360"/>
            <a:ext cx="270900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MB84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EM430F6137RF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C1101EMK4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C1111EMK868-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7074000" y="1739880"/>
            <a:ext cx="1143000" cy="21718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716760" y="431640"/>
            <a:ext cx="62496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ed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417960" y="1168560"/>
            <a:ext cx="11664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991080" y="1231920"/>
            <a:ext cx="359280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-Chron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11448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838800" y="2679840"/>
            <a:ext cx="2019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1538640" y="2679840"/>
            <a:ext cx="445356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-Chrono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indows (SLAC341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nux (SLAC38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w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d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BS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417960" y="3911760"/>
            <a:ext cx="1166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1054440" y="3962520"/>
            <a:ext cx="2170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838800" y="4356000"/>
            <a:ext cx="2019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1802160" y="4356000"/>
            <a:ext cx="62762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Z430-Chronos User Guide (SLAU292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C430 User Guid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4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C430F613x Datashee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430F613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940280" y="1193760"/>
            <a:ext cx="34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ww.ti.com/chronoswik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741960" y="431640"/>
            <a:ext cx="5284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488520" y="1168560"/>
            <a:ext cx="349308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:\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es\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\eZ430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‟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s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rbers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457200"/>
                <a:tab algn="l" pos="914400"/>
                <a:tab algn="l" pos="11430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4672440" y="1244520"/>
            <a:ext cx="400248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ve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/Chr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lo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B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S/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lo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S/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3975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3"/>
          <p:cNvSpPr/>
          <p:nvPr/>
        </p:nvSpPr>
        <p:spPr>
          <a:xfrm>
            <a:off x="431640" y="3835440"/>
            <a:ext cx="8485200" cy="1281240"/>
          </a:xfrm>
          <a:prstGeom prst="pi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498600" y="1123920"/>
            <a:ext cx="8442360" cy="1263600"/>
          </a:xfrm>
          <a:prstGeom prst="pi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393840" y="2481120"/>
            <a:ext cx="8547120" cy="1252800"/>
          </a:xfrm>
          <a:prstGeom prst="pi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0" y="1104840"/>
            <a:ext cx="3246480" cy="127332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-15840" y="1089000"/>
            <a:ext cx="3278160" cy="1305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2478240"/>
            <a:ext cx="3298680" cy="126036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-15840" y="2462040"/>
            <a:ext cx="3330720" cy="1292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0" y="3833640"/>
            <a:ext cx="3321000" cy="127800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-15840" y="3817800"/>
            <a:ext cx="3352680" cy="13096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8928000" cy="134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2438280"/>
            <a:ext cx="8928000" cy="1346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0" y="3797280"/>
            <a:ext cx="8902800" cy="135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tretch/>
        </p:blipFill>
        <p:spPr>
          <a:xfrm>
            <a:off x="1168560" y="5283360"/>
            <a:ext cx="67284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1866960" y="5245200"/>
            <a:ext cx="1498680" cy="100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3416400" y="5207040"/>
            <a:ext cx="67284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7"/>
          <a:stretch/>
        </p:blipFill>
        <p:spPr>
          <a:xfrm>
            <a:off x="4406760" y="5359320"/>
            <a:ext cx="1130400" cy="762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05440" y="5219640"/>
            <a:ext cx="1079640" cy="97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10"/>
          <a:stretch/>
        </p:blipFill>
        <p:spPr>
          <a:xfrm>
            <a:off x="7226280" y="5232240"/>
            <a:ext cx="1130400" cy="978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729720" y="152280"/>
            <a:ext cx="5385240" cy="10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Z430-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re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twork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329040" y="1384200"/>
            <a:ext cx="21740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paralle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-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152280"/>
                <a:tab algn="l" pos="393840"/>
                <a:tab algn="l" pos="48276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574800" y="1270080"/>
            <a:ext cx="464868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pir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’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b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rele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ter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,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onomi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ibilit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3"/>
          <p:cNvSpPr/>
          <p:nvPr/>
        </p:nvSpPr>
        <p:spPr>
          <a:xfrm>
            <a:off x="0" y="7632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5511960" y="787320"/>
            <a:ext cx="2781000" cy="269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rcRect l="0" t="0" r="0" b="5976"/>
          <a:stretch/>
        </p:blipFill>
        <p:spPr>
          <a:xfrm>
            <a:off x="5511960" y="4064040"/>
            <a:ext cx="3047760" cy="2149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696600" y="444600"/>
            <a:ext cx="72298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1043280" y="1562040"/>
            <a:ext cx="2408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p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1089000" y="1892160"/>
            <a:ext cx="2660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478080" y="2235240"/>
            <a:ext cx="22824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050120" y="2629080"/>
            <a:ext cx="3220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1319040" y="2959200"/>
            <a:ext cx="6150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:\Progra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es\Texa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s\eZ430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1388880" y="3289320"/>
            <a:ext cx="28735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\Softwa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j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1130760" y="3568680"/>
            <a:ext cx="4430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Cop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pace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456120" y="3911760"/>
            <a:ext cx="34437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Acti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071720" y="4305240"/>
            <a:ext cx="330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410040" y="4635360"/>
            <a:ext cx="32439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Acti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100160" y="5029200"/>
            <a:ext cx="3654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299600" y="5346720"/>
            <a:ext cx="23032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449280" y="5638680"/>
            <a:ext cx="12474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1130400" y="3035160"/>
            <a:ext cx="3682800" cy="952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6083280" y="82548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5702400" y="3111480"/>
            <a:ext cx="2539800" cy="952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4"/>
          <a:stretch/>
        </p:blipFill>
        <p:spPr>
          <a:xfrm>
            <a:off x="6197760" y="4140360"/>
            <a:ext cx="2501640" cy="20444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"/>
          <p:cNvSpPr/>
          <p:nvPr/>
        </p:nvSpPr>
        <p:spPr>
          <a:xfrm>
            <a:off x="766800" y="431640"/>
            <a:ext cx="6822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BS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‟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008360" y="1752480"/>
            <a:ext cx="22626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606240" y="2641680"/>
            <a:ext cx="379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717120" y="4025880"/>
            <a:ext cx="52963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r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ash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m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923400" y="5041800"/>
            <a:ext cx="2242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597240" y="5486400"/>
            <a:ext cx="3911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6578640" y="1854360"/>
            <a:ext cx="2565360" cy="29718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"/>
          <p:cNvSpPr/>
          <p:nvPr/>
        </p:nvSpPr>
        <p:spPr>
          <a:xfrm>
            <a:off x="806040" y="431640"/>
            <a:ext cx="7036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d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S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888840" y="1739880"/>
            <a:ext cx="19558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747360" y="2184480"/>
            <a:ext cx="560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1038600" y="2679840"/>
            <a:ext cx="4246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/C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671400" y="3137040"/>
            <a:ext cx="347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1050120" y="3632040"/>
            <a:ext cx="3576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rmware Updat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131120" y="4076640"/>
            <a:ext cx="5192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1101240" y="4521240"/>
            <a:ext cx="6039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803160" y="4965840"/>
            <a:ext cx="675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870120" y="5460840"/>
            <a:ext cx="1650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3"/>
          <p:cNvSpPr/>
          <p:nvPr/>
        </p:nvSpPr>
        <p:spPr>
          <a:xfrm>
            <a:off x="-22860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6578640" y="2590920"/>
            <a:ext cx="2565360" cy="29718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"/>
          <p:cNvSpPr/>
          <p:nvPr/>
        </p:nvSpPr>
        <p:spPr>
          <a:xfrm>
            <a:off x="419040" y="431640"/>
            <a:ext cx="31892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week’s lab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rcRect l="0" t="0" r="0" b="35014"/>
          <a:stretch/>
        </p:blipFill>
        <p:spPr>
          <a:xfrm>
            <a:off x="6432480" y="457200"/>
            <a:ext cx="271152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152280" y="1066680"/>
            <a:ext cx="670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nsolas"/>
              </a:rPr>
              <a:t>1. get Chronos running with the default software. Demonstrate the accelerometer data on your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nsolas"/>
              </a:rPr>
              <a:t>2. Wirelessly load the data logger. Log some altitude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watch, while you travel twice from the basement to the 6th floor and back down, first trip on the elevator and second via sta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lot the data and show how to identify the activity, stairs or elev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mpile and run the "hello world"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modify it to display something different, like temperature. To do that, you will probably want to take a good look at the default watch software sourc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3"/>
          <p:cNvSpPr/>
          <p:nvPr/>
        </p:nvSpPr>
        <p:spPr>
          <a:xfrm>
            <a:off x="4565520" y="4446720"/>
            <a:ext cx="22320" cy="701640"/>
          </a:xfrm>
          <a:prstGeom prst="pie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220840" y="5504040"/>
            <a:ext cx="4106880" cy="21960"/>
          </a:xfrm>
          <a:prstGeom prst="pie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6321600" y="4892760"/>
            <a:ext cx="1233360" cy="1233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6315120" y="4886280"/>
            <a:ext cx="1246320" cy="124632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956040" y="4892760"/>
            <a:ext cx="1231920" cy="1233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3949560" y="4886280"/>
            <a:ext cx="1244880" cy="124632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93600" y="4892760"/>
            <a:ext cx="1233720" cy="1233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987480" y="4886280"/>
            <a:ext cx="1245960" cy="124632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2900520" y="1430280"/>
            <a:ext cx="3332160" cy="333396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774720" y="4508640"/>
            <a:ext cx="1663560" cy="1917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238560" y="927000"/>
            <a:ext cx="2527200" cy="558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6299280" y="4724280"/>
            <a:ext cx="130788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47720" y="431640"/>
            <a:ext cx="62892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c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2189520" y="5613480"/>
            <a:ext cx="114516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4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5126760" y="5613480"/>
            <a:ext cx="10998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7492320" y="5600880"/>
            <a:ext cx="12841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1144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144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1144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816160" y="1752480"/>
            <a:ext cx="26420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Ax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20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88920"/>
                <a:tab algn="l" pos="317520"/>
                <a:tab algn="l" pos="380880"/>
                <a:tab algn="l" pos="431640"/>
                <a:tab algn="l" pos="482760"/>
                <a:tab algn="l" pos="50796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695160" y="1727280"/>
            <a:ext cx="26481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430F61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GH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3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8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5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W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03040"/>
                <a:tab algn="l" pos="317520"/>
                <a:tab algn="l" pos="495360"/>
                <a:tab algn="l" pos="83808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z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2960640" y="4890960"/>
            <a:ext cx="1060560" cy="9432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2948040" y="4878360"/>
            <a:ext cx="1085760" cy="968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736560"/>
            <a:ext cx="8775720" cy="5587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633960" y="431640"/>
            <a:ext cx="40150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ar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155680" y="5438880"/>
            <a:ext cx="379440" cy="412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3378240" y="2965320"/>
            <a:ext cx="855720" cy="65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3378240" y="1471680"/>
            <a:ext cx="1488960" cy="1344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3371760" y="4297320"/>
            <a:ext cx="311400" cy="1936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825480" y="1434960"/>
            <a:ext cx="506520" cy="3556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749160" y="774720"/>
            <a:ext cx="454680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5427360" y="5778360"/>
            <a:ext cx="18320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QF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i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649440" y="431640"/>
            <a:ext cx="7946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4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tra-L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w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SP430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contro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‟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s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bi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z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performanc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o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C110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1GHz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ce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llige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pher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c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bi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ks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-bi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483876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华文中宋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rocess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927000" y="825480"/>
            <a:ext cx="7620120" cy="5435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590040" y="431640"/>
            <a:ext cx="4420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C4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c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927680" y="1498680"/>
            <a:ext cx="4216320" cy="4317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665640" y="431640"/>
            <a:ext cx="463716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lop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ben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PGCC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-ready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-sour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c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884880" y="3683160"/>
            <a:ext cx="135000" cy="16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256040" y="3733920"/>
            <a:ext cx="17168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Rob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Mb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LoW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458280" y="5359320"/>
            <a:ext cx="820476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343080"/>
                <a:tab algn="l" pos="820404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343080"/>
                <a:tab algn="l" pos="82040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ti.com/chronoswik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343080"/>
                <a:tab algn="l" pos="82040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483080" y="1739880"/>
            <a:ext cx="4330800" cy="39117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463320" y="431640"/>
            <a:ext cx="20826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ic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598320" y="1168560"/>
            <a:ext cx="43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eta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-pow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883800" y="1574640"/>
            <a:ext cx="2359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469440" y="1930320"/>
            <a:ext cx="181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922320" y="2362320"/>
            <a:ext cx="18889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450720" y="3086280"/>
            <a:ext cx="160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"/>
          <p:cNvSpPr/>
          <p:nvPr/>
        </p:nvSpPr>
        <p:spPr>
          <a:xfrm>
            <a:off x="1039680" y="3517920"/>
            <a:ext cx="30891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2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68440" y="4254480"/>
            <a:ext cx="353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894240" y="4660920"/>
            <a:ext cx="2021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94000" y="5016600"/>
            <a:ext cx="337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943560" y="5423040"/>
            <a:ext cx="22654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eep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016600" y="1130400"/>
            <a:ext cx="3492360" cy="54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058080" y="1778040"/>
            <a:ext cx="2044440" cy="1346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6667560" y="3187800"/>
            <a:ext cx="1790640" cy="2438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806400" y="343080"/>
            <a:ext cx="67813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ireless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Rob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16520" y="1181160"/>
            <a:ext cx="81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936000" y="1181160"/>
            <a:ext cx="2700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Rob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Rob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878400" y="2413080"/>
            <a:ext cx="9684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37760" y="2451240"/>
            <a:ext cx="40172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-l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us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nt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direc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16520" y="3797280"/>
            <a:ext cx="81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959760" y="3835440"/>
            <a:ext cx="50022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i="1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Rob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tprin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33MHz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GH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Rob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S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6336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itude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tions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ure,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6:52:46Z</dcterms:created>
  <dc:creator/>
  <dc:description/>
  <dc:language>en-US</dc:language>
  <cp:lastModifiedBy>Bruce Hemingway</cp:lastModifiedBy>
  <dcterms:modified xsi:type="dcterms:W3CDTF">2010-10-18T07:32:16Z</dcterms:modified>
  <cp:revision>8</cp:revision>
  <dc:subject/>
  <dc:title>Slide 1</dc:title>
</cp:coreProperties>
</file>