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87E-59F1-40D6-85AF-57BF1965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0A5-95AF-4F6A-ADF6-0A34ECF7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34A-0D08-4968-9E01-A39C5620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429-ADD0-4635-8A06-EA5C543C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7882-B8A2-42FA-B939-236CFB10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767F-7794-4049-9CB4-65566AFD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3B4B-4F31-4166-A19E-1AF66F2E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9603-2F0A-439D-9E24-DCF27DC6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579A-604C-4812-9F69-70757F65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738F-8A12-428C-9D3E-68C58E68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9C2D-5D68-42B7-8FDA-C6DB46AF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ECD-4AC0-4A1B-9B9D-020F0547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A157-7A5B-4B78-826A-CC6B684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B97B-F18C-444A-8B0D-B9DD9153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ADF7-A0FA-494D-9956-3C230D93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5002-119C-441D-8DE8-F3E4A93E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E120-9B7A-4481-B500-8DD2442C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934-1C2F-48A7-8EB5-D8F7CF28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0A5-DB14-4028-8367-B7435E2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916-9D7C-4153-B9E6-956D78BE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7CB-D9E0-46B2-926B-26162617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DB1-0268-426E-BA8D-D8A587A2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D06-69EF-404B-AABB-9ABCDF01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FFD-61D6-4C0E-903B-748375A3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58C2-57B8-4166-BEAF-D4D643387E4F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5A4C-0986-4E91-9AB0-99B06E4304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fac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the computation capabilities of a microcontroller to external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ing variable values into voltages and vice-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and an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ignals can be contro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digital and/or analog inputs be used to measure different physical phenome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digital and/or analog inputs be used to control different physical phenome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E8A-BB59-4E9C-9D62-B72F830D3D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ar wheel controller/anti-lock brake syste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2819520"/>
            <a:ext cx="2209680" cy="21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2767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9640" y="284868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ke pedal 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40384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05040" y="361080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wheel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47242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31680" y="429660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 wheel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3657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0160" y="322956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ke on/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44197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71920" y="399168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rear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593-2FC1-45C9-9288-BE3DCA2DDF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asic I/O ports (brake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brake pedal pressed – or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ePressed = read (brakePedal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brake on/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(brakePort, onO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rear wh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(rearWheel, onO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51160" y="3900600"/>
            <a:ext cx="1524240" cy="21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54800" y="4738680"/>
            <a:ext cx="22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0240" y="4310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ke on/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54800" y="5500800"/>
            <a:ext cx="22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86200" y="507276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rear wh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9400" y="3900600"/>
            <a:ext cx="761760" cy="21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7520" y="43578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2400" y="392976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ke pedal 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7520" y="511956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7800" y="469188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wheel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7520" y="580536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4800" y="537768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 wheel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75400" y="3900600"/>
            <a:ext cx="761760" cy="21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335-7C5C-45C7-8EFC-F0B92203C6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olling vs. 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760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must  repeatedly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ke pedal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make sure not to forget to do so (use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utomatic detection capability of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brake pedal to input capture or external interrupt 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on level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handler for brake pe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1600" y="4495680"/>
            <a:ext cx="152388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59480" y="4495680"/>
            <a:ext cx="762120" cy="1447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6280" y="57150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11520" y="528696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ke pedal 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987-1EE4-415D-A78C-146A48605E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ulse-width modulation for brak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ump the brakes gradually increase the duty-cycle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until car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3429000"/>
            <a:ext cx="30456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3429000"/>
            <a:ext cx="30492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3429000"/>
            <a:ext cx="45720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3276720"/>
            <a:ext cx="0" cy="91440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0384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46800" y="3922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3429000"/>
            <a:ext cx="45720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429000"/>
            <a:ext cx="76212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3429000"/>
            <a:ext cx="76212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34320" y="3429000"/>
            <a:ext cx="121896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809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3581280"/>
            <a:ext cx="1981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3429000"/>
            <a:ext cx="14475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4876920"/>
            <a:ext cx="0" cy="76176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5638680"/>
            <a:ext cx="716256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548640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6800" y="5370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525780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5029200"/>
            <a:ext cx="1981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4876920"/>
            <a:ext cx="14475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971800" y="525744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952880" y="502884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934320" y="487656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4191120"/>
            <a:ext cx="716256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F5F-6B95-4A41-8E76-EFBEA97289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010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imer to turn brake on an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b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imer to interrupt after “on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ngage b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ime to interrupt after “off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tell which interrupt is wh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rake pump setup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4559400"/>
            <a:ext cx="30492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4559400"/>
            <a:ext cx="30456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95480" y="4559400"/>
            <a:ext cx="45720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4406760"/>
            <a:ext cx="0" cy="91440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5168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0840" y="5052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4559400"/>
            <a:ext cx="45720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4559400"/>
            <a:ext cx="76176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4559400"/>
            <a:ext cx="76212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4559400"/>
            <a:ext cx="121932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4940280"/>
            <a:ext cx="1981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47116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4559400"/>
            <a:ext cx="1447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5321160"/>
            <a:ext cx="716292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901800" y="5308560"/>
            <a:ext cx="12600" cy="8510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209600" y="5295960"/>
            <a:ext cx="12600" cy="8683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905120" y="5334120"/>
            <a:ext cx="0" cy="7617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21840" y="67176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r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11840" y="5853960"/>
            <a:ext cx="33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imer to go off at each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3560" y="5353200"/>
            <a:ext cx="0" cy="7617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402-5F02-4697-A829-F38C5142B2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0100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value of “on” time to change analog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utput = ( on + off ) / ( perio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decide on the period of the pul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wo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o set period (auto-re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o turn it off at the right duty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rake pump setup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4559400"/>
            <a:ext cx="30492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559400"/>
            <a:ext cx="30456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4559400"/>
            <a:ext cx="45720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4406760"/>
            <a:ext cx="0" cy="91440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5168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070840" y="5052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4559400"/>
            <a:ext cx="45720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4559400"/>
            <a:ext cx="76176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4559400"/>
            <a:ext cx="76212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0" y="4559400"/>
            <a:ext cx="121932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4940280"/>
            <a:ext cx="1981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47116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0" y="4559400"/>
            <a:ext cx="1447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5321160"/>
            <a:ext cx="7162920" cy="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14400" y="5346720"/>
            <a:ext cx="0" cy="8618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220760" y="5346720"/>
            <a:ext cx="1440" cy="868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905120" y="5346360"/>
            <a:ext cx="0" cy="7621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21840" y="67176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r 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26320" y="5769720"/>
            <a:ext cx="33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imer to go off at each 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203560" y="5346360"/>
            <a:ext cx="0" cy="7621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898720" y="5346360"/>
            <a:ext cx="0" cy="7621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344760" y="5346360"/>
            <a:ext cx="0" cy="7621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77C-268D-4062-B838-BCE2720899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 rot="20403000">
            <a:off x="4552560" y="4968360"/>
            <a:ext cx="152280" cy="304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haft encod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determine the rear wheel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ensor to detect wheel m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speed of a bi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baseball card so it pokes through sp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pokes i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clicks per unit time to get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ll card sensor is a shaft en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86640" y="408528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ke wh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3120" y="4511520"/>
            <a:ext cx="9907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3120" y="527256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ball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647800" y="5196960"/>
            <a:ext cx="1600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400640" y="4359240"/>
            <a:ext cx="1676160" cy="1676520"/>
            <a:chOff x="4400640" y="4359240"/>
            <a:chExt cx="1676160" cy="1676520"/>
          </a:xfrm>
        </p:grpSpPr>
        <p:sp>
          <p:nvSpPr>
            <p:cNvPr id="361" name=""/>
            <p:cNvSpPr/>
            <p:nvPr/>
          </p:nvSpPr>
          <p:spPr>
            <a:xfrm>
              <a:off x="4400640" y="4359240"/>
              <a:ext cx="1676160" cy="167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400640" y="4359240"/>
              <a:ext cx="1676160" cy="1676520"/>
              <a:chOff x="4400640" y="4359240"/>
              <a:chExt cx="1676160" cy="1676520"/>
            </a:xfrm>
          </p:grpSpPr>
          <p:sp>
            <p:nvSpPr>
              <p:cNvPr id="363" name=""/>
              <p:cNvSpPr/>
              <p:nvPr/>
            </p:nvSpPr>
            <p:spPr>
              <a:xfrm>
                <a:off x="5086440" y="4359240"/>
                <a:ext cx="304560" cy="1676520"/>
              </a:xfrm>
              <a:prstGeom prst="flowChartCollat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6200000">
                <a:off x="5086080" y="4358880"/>
                <a:ext cx="304920" cy="1676160"/>
              </a:xfrm>
              <a:prstGeom prst="flowChartCollat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538520" y="4496760"/>
              <a:ext cx="1400760" cy="1401120"/>
              <a:chOff x="4538520" y="4496760"/>
              <a:chExt cx="1400760" cy="1401120"/>
            </a:xfrm>
          </p:grpSpPr>
          <p:sp>
            <p:nvSpPr>
              <p:cNvPr id="366" name=""/>
              <p:cNvSpPr/>
              <p:nvPr/>
            </p:nvSpPr>
            <p:spPr>
              <a:xfrm rot="2700000">
                <a:off x="5086080" y="4359240"/>
                <a:ext cx="304560" cy="1676160"/>
              </a:xfrm>
              <a:prstGeom prst="flowChartCollat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900000">
                <a:off x="5086440" y="4358880"/>
                <a:ext cx="304560" cy="1676160"/>
              </a:xfrm>
              <a:prstGeom prst="flowChartCollat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3632760" y="4274640"/>
            <a:ext cx="925560" cy="626400"/>
            <a:chOff x="3632760" y="4274640"/>
            <a:chExt cx="925560" cy="626400"/>
          </a:xfrm>
        </p:grpSpPr>
        <p:sp>
          <p:nvSpPr>
            <p:cNvPr id="369" name=""/>
            <p:cNvSpPr/>
            <p:nvPr/>
          </p:nvSpPr>
          <p:spPr>
            <a:xfrm flipH="1" rot="21537000">
              <a:off x="3637800" y="4282920"/>
              <a:ext cx="914400" cy="609480"/>
            </a:xfrm>
            <a:prstGeom prst="wedgeRoundRectCallout">
              <a:avLst>
                <a:gd name="adj1" fmla="val -43175"/>
                <a:gd name="adj2" fmla="val 6955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48600" y="43581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clic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DAD-74DB-4CBC-A222-C4BEDD877C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haft encod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spokes we’ll use black and white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 segments absorb infrared light, white refl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pulses instead of cl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82960" y="3989520"/>
            <a:ext cx="2286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07200" y="4141800"/>
            <a:ext cx="1066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e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111200" y="4370400"/>
            <a:ext cx="1143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75320"/>
            <a:ext cx="106668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03240" y="36075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97160" y="4751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3480" y="3650760"/>
            <a:ext cx="9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3880" y="45226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97000" y="41410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292400" y="3989520"/>
            <a:ext cx="1676160" cy="1676160"/>
            <a:chOff x="1292400" y="3989520"/>
            <a:chExt cx="1676160" cy="1676160"/>
          </a:xfrm>
        </p:grpSpPr>
        <p:sp>
          <p:nvSpPr>
            <p:cNvPr id="383" name=""/>
            <p:cNvSpPr/>
            <p:nvPr/>
          </p:nvSpPr>
          <p:spPr>
            <a:xfrm>
              <a:off x="1292400" y="3989520"/>
              <a:ext cx="1676160" cy="1676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292400" y="3989520"/>
              <a:ext cx="1676160" cy="1676160"/>
              <a:chOff x="1292400" y="3989520"/>
              <a:chExt cx="1676160" cy="1676160"/>
            </a:xfrm>
          </p:grpSpPr>
          <p:sp>
            <p:nvSpPr>
              <p:cNvPr id="385" name=""/>
              <p:cNvSpPr/>
              <p:nvPr/>
            </p:nvSpPr>
            <p:spPr>
              <a:xfrm>
                <a:off x="1978200" y="3989520"/>
                <a:ext cx="304560" cy="1676160"/>
              </a:xfrm>
              <a:prstGeom prst="flowChartCollate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200000">
                <a:off x="1978200" y="3989160"/>
                <a:ext cx="304560" cy="1676160"/>
              </a:xfrm>
              <a:prstGeom prst="flowChartCollate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1430280" y="4127040"/>
              <a:ext cx="1400760" cy="1401120"/>
              <a:chOff x="1430280" y="4127040"/>
              <a:chExt cx="1400760" cy="1401120"/>
            </a:xfrm>
          </p:grpSpPr>
          <p:sp>
            <p:nvSpPr>
              <p:cNvPr id="388" name=""/>
              <p:cNvSpPr/>
              <p:nvPr/>
            </p:nvSpPr>
            <p:spPr>
              <a:xfrm rot="2700000">
                <a:off x="1977840" y="3989520"/>
                <a:ext cx="304560" cy="1676160"/>
              </a:xfrm>
              <a:prstGeom prst="flowChartCollate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8900000">
                <a:off x="1978200" y="3989160"/>
                <a:ext cx="304560" cy="1676160"/>
              </a:xfrm>
              <a:prstGeom prst="flowChartCollate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3CB-57BE-4573-9A30-9132C1FF1E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rcRect l="0" t="0" r="0" b="3754"/>
          <a:stretch/>
        </p:blipFill>
        <p:spPr>
          <a:xfrm>
            <a:off x="1054080" y="2855880"/>
            <a:ext cx="6824520" cy="3581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R reflective patter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egments should be u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segments give finer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egments require less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off resolution and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950-759A-4A10-B394-D233A262A2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facing shaft encod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terrupt on GPIO 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257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nterrupt, increment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imer to set period for 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257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imer interrupts, read GPIO pin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257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 = count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known distance per click” / “judiciously chosen peri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257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accumulato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257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257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icrocontrollers have this in a single peripheral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257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ally a counter controlled by an outsid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7480" indent="-2772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might enable counter to count at rate of internal clock – to measur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7480" indent="-2772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might be the counter’s clock – to measure pul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2570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ega16 has external clock source for timer/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A3D-F666-43A3-BF97-E9B40D9B51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ontrolling and reacting to the environmen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trol or react to the environment we need to interface the microcontroller to peripheral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controller may contain specialized interfaces to sensors and act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we want to measure 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, temperature, sound, pressure, velocity,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switches, photoresistors, accelerometers, compass, s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otors, relays, LEDs, sonar, displays, buz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ACD-555A-46C3-94BC-2263FC7331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General interfaces to microcontroll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1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ntrollers come with built-in I/O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s/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e need more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 microcontroller with a different mix of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 microcontroller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pan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memory bus (address and data) exposed to the outsid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communication to the outsid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771-33CF-4D7D-9B4B-57AE92E2EA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/O por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 never enough I/O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for creating mor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sharing with simple glu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/multiplex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expansion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f ports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irection port easier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important for bidirectional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C68-963F-4A83-9EA7-18C335F43C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ort shar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"/>
          <p:cNvSpPr/>
          <p:nvPr/>
        </p:nvSpPr>
        <p:spPr>
          <a:xfrm>
            <a:off x="843120" y="5338800"/>
            <a:ext cx="6989760" cy="28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24960" y="5367240"/>
            <a:ext cx="0" cy="211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16560" y="5367240"/>
            <a:ext cx="0" cy="211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7080" y="5367240"/>
            <a:ext cx="0" cy="211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97240" y="5367240"/>
            <a:ext cx="0" cy="211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89200" y="5367240"/>
            <a:ext cx="0" cy="211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25480" y="5202360"/>
            <a:ext cx="677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10400" y="520848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00920" y="520848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91080" y="520848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81240" y="520848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73200" y="520848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5480" y="5064120"/>
            <a:ext cx="656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94400" y="507204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84920" y="507204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75080" y="507204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67040" y="507204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57200" y="507204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25480" y="4657680"/>
            <a:ext cx="12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11400" y="4665600"/>
            <a:ext cx="0" cy="9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621240" y="4514400"/>
            <a:ext cx="0" cy="110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812880" y="4521240"/>
            <a:ext cx="28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129280" y="4378320"/>
            <a:ext cx="0" cy="12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12520" y="4386240"/>
            <a:ext cx="432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640560" y="4242960"/>
            <a:ext cx="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12520" y="4249800"/>
            <a:ext cx="583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8148600" y="410688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812520" y="4114800"/>
            <a:ext cx="734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54280" y="5533920"/>
            <a:ext cx="1184400" cy="67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62320" y="5533920"/>
            <a:ext cx="1185840" cy="67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70720" y="5533920"/>
            <a:ext cx="1187280" cy="67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82000" y="5533920"/>
            <a:ext cx="1185840" cy="67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44440" y="5533920"/>
            <a:ext cx="1185840" cy="67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25360" y="5527800"/>
            <a:ext cx="1292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276120"/>
                <a:tab algn="l" pos="563400"/>
                <a:tab algn="l" pos="9525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W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33760" y="5527800"/>
            <a:ext cx="129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276120"/>
                <a:tab algn="l" pos="563400"/>
                <a:tab algn="l" pos="9525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W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3240" y="5527800"/>
            <a:ext cx="129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276120"/>
                <a:tab algn="l" pos="563400"/>
                <a:tab algn="l" pos="9525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W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53080" y="5527800"/>
            <a:ext cx="129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276120"/>
                <a:tab algn="l" pos="563400"/>
                <a:tab algn="l" pos="9525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W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61120" y="5527800"/>
            <a:ext cx="129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276120"/>
                <a:tab algn="l" pos="563400"/>
                <a:tab algn="l" pos="95256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W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gnals all in same direction and have a separate guard signal, then able to share without glu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connect 5 LCD displays to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hare connections to RS, RW, and DB but not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on E affect display – must guarantee only one is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4A1-416F-4C43-A997-27029B588F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Forced shar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 on device signals (e.g., one signal affects b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is to insert intervening registers that keep signals 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 require enable signals which now need por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19320" y="4189320"/>
            <a:ext cx="488880" cy="122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38120" y="4471920"/>
            <a:ext cx="2764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 algn="ct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97240" y="4114800"/>
            <a:ext cx="1189080" cy="65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52680" y="4272120"/>
            <a:ext cx="1065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71680" y="5118120"/>
            <a:ext cx="10638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65200" y="5162400"/>
            <a:ext cx="1089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27280" y="4784760"/>
            <a:ext cx="18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927080" y="4359240"/>
            <a:ext cx="0" cy="1028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28880" y="4371840"/>
            <a:ext cx="449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52640" y="5362560"/>
            <a:ext cx="387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614600" y="4610160"/>
            <a:ext cx="938160" cy="614160"/>
            <a:chOff x="1614600" y="4610160"/>
            <a:chExt cx="938160" cy="614160"/>
          </a:xfrm>
        </p:grpSpPr>
        <p:sp>
          <p:nvSpPr>
            <p:cNvPr id="452" name=""/>
            <p:cNvSpPr/>
            <p:nvPr/>
          </p:nvSpPr>
          <p:spPr>
            <a:xfrm>
              <a:off x="1889640" y="4635000"/>
              <a:ext cx="412560" cy="5641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1614600" y="4610160"/>
              <a:ext cx="938160" cy="6141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336920" y="4302000"/>
            <a:ext cx="489240" cy="122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56080" y="4584600"/>
            <a:ext cx="2761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 algn="ctr"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27520" y="4064040"/>
            <a:ext cx="652680" cy="68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4083120"/>
            <a:ext cx="2890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72120" y="4246560"/>
            <a:ext cx="3016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4508640"/>
            <a:ext cx="439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27520" y="4879800"/>
            <a:ext cx="652680" cy="68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15000" y="4898880"/>
            <a:ext cx="289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72120" y="5062680"/>
            <a:ext cx="3016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15000" y="5324400"/>
            <a:ext cx="4395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4808520" y="4428720"/>
            <a:ext cx="32544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132520" y="4158720"/>
            <a:ext cx="0" cy="87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57720" y="4183200"/>
            <a:ext cx="425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7720" y="5011560"/>
            <a:ext cx="389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51360" y="461016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51360" y="54370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67640" y="4089240"/>
            <a:ext cx="1190520" cy="6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24520" y="4246560"/>
            <a:ext cx="1065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42080" y="5041800"/>
            <a:ext cx="106524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35600" y="5086440"/>
            <a:ext cx="10908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10440" y="4371840"/>
            <a:ext cx="425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310440" y="5199120"/>
            <a:ext cx="38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784-FF78-4D9B-A6A5-7F3C6E8996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Decoders and multiplexo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 n single-bit device ports using log n bits of a controller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d decoder: one-hot, input-only device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ed decoder: input-only (but not one-hot) device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or: output-only device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98720" y="3435480"/>
            <a:ext cx="377640" cy="1166760"/>
          </a:xfrm>
          <a:custGeom>
            <a:avLst/>
            <a:gdLst/>
            <a:ahLst/>
            <a:rect l="l" t="t" r="r" b="b"/>
            <a:pathLst>
              <a:path w="241" h="745">
                <a:moveTo>
                  <a:pt x="0" y="136"/>
                </a:moveTo>
                <a:lnTo>
                  <a:pt x="0" y="616"/>
                </a:lnTo>
                <a:lnTo>
                  <a:pt x="240" y="744"/>
                </a:lnTo>
                <a:lnTo>
                  <a:pt x="240" y="0"/>
                </a:lnTo>
                <a:lnTo>
                  <a:pt x="0" y="1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9640" y="3855960"/>
            <a:ext cx="80172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53960" y="4049640"/>
            <a:ext cx="63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94000" y="401148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149560" y="448164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00480" y="4124160"/>
            <a:ext cx="11016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one-h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28400" y="4827600"/>
            <a:ext cx="82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3040" y="3811680"/>
            <a:ext cx="6130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34960" y="4589640"/>
            <a:ext cx="727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20720" y="4200480"/>
            <a:ext cx="514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µ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3240" y="4989600"/>
            <a:ext cx="2267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d 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762160" y="3497400"/>
            <a:ext cx="8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769000" y="349092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6595920" y="3490920"/>
            <a:ext cx="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947000" y="4176720"/>
            <a:ext cx="1027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 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60840" y="3767040"/>
            <a:ext cx="801720" cy="11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510000"/>
            <a:ext cx="377640" cy="1168200"/>
          </a:xfrm>
          <a:custGeom>
            <a:avLst/>
            <a:gdLst/>
            <a:ahLst/>
            <a:rect l="l" t="t" r="r" b="b"/>
            <a:pathLst>
              <a:path w="241" h="745">
                <a:moveTo>
                  <a:pt x="0" y="136"/>
                </a:moveTo>
                <a:lnTo>
                  <a:pt x="0" y="616"/>
                </a:lnTo>
                <a:lnTo>
                  <a:pt x="240" y="744"/>
                </a:lnTo>
                <a:lnTo>
                  <a:pt x="240" y="0"/>
                </a:lnTo>
                <a:lnTo>
                  <a:pt x="0" y="1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41920" y="4111560"/>
            <a:ext cx="514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µ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75160" y="4313160"/>
            <a:ext cx="63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157800" y="4570200"/>
            <a:ext cx="0" cy="26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349600" y="4826160"/>
            <a:ext cx="82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94240" y="4075200"/>
            <a:ext cx="6127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05400" y="4587840"/>
            <a:ext cx="727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29520" y="3741840"/>
            <a:ext cx="650880" cy="68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57960" y="3760920"/>
            <a:ext cx="287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74120" y="3924360"/>
            <a:ext cx="299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257960" y="4186080"/>
            <a:ext cx="438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25920" bIns="25920" anchor="t">
            <a:noAutofit/>
          </a:bodyPr>
          <a:p>
            <a:pPr>
              <a:lnSpc>
                <a:spcPts val="13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88120" y="3898800"/>
            <a:ext cx="37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589800" y="38862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589440" y="382428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589440" y="3760920"/>
            <a:ext cx="52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389640" y="43257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89640" y="423720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6389280" y="416232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7880040" y="404964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867800" y="398628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7867800" y="392436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08720" y="4387680"/>
            <a:ext cx="1127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2360" y="4876920"/>
            <a:ext cx="245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26640" bIns="2664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0" y="5297400"/>
            <a:ext cx="80172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67080" y="5641920"/>
            <a:ext cx="514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µ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32120" y="4876920"/>
            <a:ext cx="365040" cy="1166760"/>
          </a:xfrm>
          <a:custGeom>
            <a:avLst/>
            <a:gdLst/>
            <a:ahLst/>
            <a:rect l="l" t="t" r="r" b="b"/>
            <a:pathLst>
              <a:path w="233" h="745">
                <a:moveTo>
                  <a:pt x="0" y="136"/>
                </a:moveTo>
                <a:lnTo>
                  <a:pt x="0" y="616"/>
                </a:lnTo>
                <a:lnTo>
                  <a:pt x="232" y="744"/>
                </a:lnTo>
                <a:lnTo>
                  <a:pt x="232" y="0"/>
                </a:lnTo>
                <a:lnTo>
                  <a:pt x="0" y="1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43160" y="6041880"/>
            <a:ext cx="1116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00320" y="5491080"/>
            <a:ext cx="638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40360" y="5452920"/>
            <a:ext cx="37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895560" y="5923080"/>
            <a:ext cx="0" cy="35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7640" rIns="1764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84520" y="5227560"/>
            <a:ext cx="1101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 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074760" y="6267600"/>
            <a:ext cx="82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43160" y="5214960"/>
            <a:ext cx="727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1573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5800" y="6005520"/>
            <a:ext cx="1616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25200" bIns="25200" anchor="t">
            <a:noAutofit/>
          </a:bodyPr>
          <a:p>
            <a:pPr>
              <a:lnSpc>
                <a:spcPts val="2075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7165800" y="434988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172280" y="367956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78760" y="3686040"/>
            <a:ext cx="6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823160" y="36925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773840" y="36291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115040" y="3635280"/>
            <a:ext cx="66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21520" y="3654360"/>
            <a:ext cx="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28000" y="4287960"/>
            <a:ext cx="3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E3E-2650-4D5C-A144-705186426E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590920" y="510552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66880" y="403848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emory-mapped I/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bus select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us contai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3733920"/>
            <a:ext cx="1295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44280" y="3808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36360" y="4799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7600" y="365760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38480" y="3124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42000" y="31233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ice ad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86400" y="3733920"/>
            <a:ext cx="99072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98480" y="38091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96760" y="487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70240" y="487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12960" y="4342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l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EDE-40C1-4D37-94A3-C17799C64B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emory-mapped I/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 the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memory-mapped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s read from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s write to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xploit unused bits for device input-only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5105520"/>
            <a:ext cx="6858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98000" y="51044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Tahoma"/>
              </a:rPr>
              <a:t>device 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76720" y="5105520"/>
            <a:ext cx="0" cy="4572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57600" y="510444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Tahoma"/>
              </a:rPr>
              <a:t>can be used as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20240" y="5561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6120" y="5561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81560" y="47235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17C-EF05-47B7-B385-2A71CAF440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ort expansion uni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of port shortage so common port expansion chip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connect to the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on ports may be slightl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support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4267080"/>
            <a:ext cx="18288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4254480"/>
            <a:ext cx="26668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8120" y="577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3048120" y="4783680"/>
            <a:ext cx="1371600" cy="398880"/>
            <a:chOff x="3048120" y="4783680"/>
            <a:chExt cx="1371600" cy="398880"/>
          </a:xfrm>
        </p:grpSpPr>
        <p:sp>
          <p:nvSpPr>
            <p:cNvPr id="566" name=""/>
            <p:cNvSpPr/>
            <p:nvPr/>
          </p:nvSpPr>
          <p:spPr>
            <a:xfrm>
              <a:off x="3048120" y="51656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72480" y="4783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3295080" y="5393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086600" y="4190040"/>
            <a:ext cx="1420920" cy="398880"/>
            <a:chOff x="7086600" y="4190040"/>
            <a:chExt cx="1420920" cy="398880"/>
          </a:xfrm>
        </p:grpSpPr>
        <p:sp>
          <p:nvSpPr>
            <p:cNvPr id="570" name=""/>
            <p:cNvSpPr/>
            <p:nvPr/>
          </p:nvSpPr>
          <p:spPr>
            <a:xfrm>
              <a:off x="7086600" y="45720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07480" y="41900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wPor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086600" y="4723560"/>
            <a:ext cx="1420920" cy="398880"/>
            <a:chOff x="7086600" y="4723560"/>
            <a:chExt cx="1420920" cy="398880"/>
          </a:xfrm>
        </p:grpSpPr>
        <p:sp>
          <p:nvSpPr>
            <p:cNvPr id="573" name=""/>
            <p:cNvSpPr/>
            <p:nvPr/>
          </p:nvSpPr>
          <p:spPr>
            <a:xfrm>
              <a:off x="7086600" y="5105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07480" y="472356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wPor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086600" y="5244120"/>
            <a:ext cx="1420920" cy="398880"/>
            <a:chOff x="7086600" y="5244120"/>
            <a:chExt cx="1420920" cy="398880"/>
          </a:xfrm>
        </p:grpSpPr>
        <p:sp>
          <p:nvSpPr>
            <p:cNvPr id="576" name=""/>
            <p:cNvSpPr/>
            <p:nvPr/>
          </p:nvSpPr>
          <p:spPr>
            <a:xfrm>
              <a:off x="7086600" y="56260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07480" y="52441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wPor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048120" y="4190040"/>
            <a:ext cx="1371600" cy="398880"/>
            <a:chOff x="3048120" y="4190040"/>
            <a:chExt cx="1371600" cy="398880"/>
          </a:xfrm>
        </p:grpSpPr>
        <p:sp>
          <p:nvSpPr>
            <p:cNvPr id="579" name=""/>
            <p:cNvSpPr/>
            <p:nvPr/>
          </p:nvSpPr>
          <p:spPr>
            <a:xfrm>
              <a:off x="3048120" y="45720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72480" y="419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d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1C0-33FE-47BD-B6E2-799E009A8FF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onnecting to the outside world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 specialized functions (e.g., UART, ti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to connect directly to a device port without adding interface hardware (e.g., registers), try to share registers if possible but beware of unwanted interactions if a signal goes to more than one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ut of ports, must force sharing by adding hardware to make a dedicated port sharable (e.g., adding registers and enable signals for the regi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till run out of ports, then most encode signals to increase bandwidth (e.g., use deco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else fails, then backup position is memory-mapped I/O, i.e., what we would have done if we had a bare micro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A56-2147-4DB0-AFDB-A7926F8689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64-bit General-purpose I/O por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5657760" cy="284796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ed a 64-bit I/O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N is true, then we have an output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N is false, then we have an input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213-B073-496B-B318-9B2D9B5B5B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3429000"/>
            <a:ext cx="8382240" cy="228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ypical control syste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656160" y="4419720"/>
            <a:ext cx="2009520" cy="1066680"/>
            <a:chOff x="3656160" y="4419720"/>
            <a:chExt cx="2009520" cy="1066680"/>
          </a:xfrm>
        </p:grpSpPr>
        <p:sp>
          <p:nvSpPr>
            <p:cNvPr id="92" name=""/>
            <p:cNvSpPr/>
            <p:nvPr/>
          </p:nvSpPr>
          <p:spPr>
            <a:xfrm>
              <a:off x="3657600" y="4419720"/>
              <a:ext cx="1981080" cy="106668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6160" y="4748400"/>
              <a:ext cx="200952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ntro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172200" y="3048120"/>
            <a:ext cx="1981080" cy="1066680"/>
            <a:chOff x="6172200" y="3048120"/>
            <a:chExt cx="1981080" cy="1066680"/>
          </a:xfrm>
        </p:grpSpPr>
        <p:sp>
          <p:nvSpPr>
            <p:cNvPr id="95" name=""/>
            <p:cNvSpPr/>
            <p:nvPr/>
          </p:nvSpPr>
          <p:spPr>
            <a:xfrm>
              <a:off x="6172200" y="3048120"/>
              <a:ext cx="198108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91720" y="3376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ctua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90720" y="3048120"/>
            <a:ext cx="1981080" cy="1066680"/>
            <a:chOff x="990720" y="3048120"/>
            <a:chExt cx="1981080" cy="1066680"/>
          </a:xfrm>
        </p:grpSpPr>
        <p:sp>
          <p:nvSpPr>
            <p:cNvPr id="98" name=""/>
            <p:cNvSpPr/>
            <p:nvPr/>
          </p:nvSpPr>
          <p:spPr>
            <a:xfrm>
              <a:off x="990720" y="3048120"/>
              <a:ext cx="198108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65760" y="337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en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657600" y="1752480"/>
            <a:ext cx="1981080" cy="1067040"/>
            <a:chOff x="3657600" y="1752480"/>
            <a:chExt cx="1981080" cy="1067040"/>
          </a:xfrm>
        </p:grpSpPr>
        <p:sp>
          <p:nvSpPr>
            <p:cNvPr id="101" name=""/>
            <p:cNvSpPr/>
            <p:nvPr/>
          </p:nvSpPr>
          <p:spPr>
            <a:xfrm>
              <a:off x="3657600" y="1752480"/>
              <a:ext cx="198108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5000" y="1868400"/>
              <a:ext cx="182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"/>
          <p:cNvCxnSpPr>
            <a:stCxn id="92" idx="3"/>
            <a:endCxn id="95" idx="2"/>
          </p:cNvCxnSpPr>
          <p:nvPr/>
        </p:nvCxnSpPr>
        <p:spPr>
          <a:xfrm flipV="1">
            <a:off x="5653080" y="4128840"/>
            <a:ext cx="1510560" cy="824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5" idx="0"/>
            <a:endCxn id="101" idx="3"/>
          </p:cNvCxnSpPr>
          <p:nvPr/>
        </p:nvCxnSpPr>
        <p:spPr>
          <a:xfrm flipV="1" rot="16200000">
            <a:off x="6033600" y="1904040"/>
            <a:ext cx="748440" cy="15105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1" idx="1"/>
            <a:endCxn id="98" idx="0"/>
          </p:cNvCxnSpPr>
          <p:nvPr/>
        </p:nvCxnSpPr>
        <p:spPr>
          <a:xfrm flipV="1" rot="10800000">
            <a:off x="1980360" y="2284920"/>
            <a:ext cx="1662840" cy="748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8" idx="2"/>
            <a:endCxn id="92" idx="1"/>
          </p:cNvCxnSpPr>
          <p:nvPr/>
        </p:nvCxnSpPr>
        <p:spPr>
          <a:xfrm flipH="1" rot="16200000">
            <a:off x="2399400" y="3709800"/>
            <a:ext cx="824400" cy="16628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666880" y="5105520"/>
            <a:ext cx="1219320" cy="8380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409720" y="5105520"/>
            <a:ext cx="1143000" cy="8380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7520" y="58964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A8A-695F-467B-BC37-420FE560F5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64-bit I/O port soft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8 8-bit registers to store/write th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N addresses to be $...000 to $...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OUT addresses to be $...010 to $...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15th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value at address $...011 (2nd set of OUT re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ND with 0x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position 7 of result is 15th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47th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UT register at $...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it position 7 to desired value ( or with 0x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 $...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EN register at $...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it to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value back to $...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0BC-6C3B-4D3B-872A-017AE03EE4B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ternal PWM Uni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system to control a dig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design a PW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27240" y="2814480"/>
            <a:ext cx="63435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240-DBE0-4739-826B-F63F7F79CD1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4038480" y="388764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304956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952880" y="2048040"/>
            <a:ext cx="3809880" cy="2838240"/>
            <a:chOff x="4952880" y="2048040"/>
            <a:chExt cx="3809880" cy="2838240"/>
          </a:xfrm>
        </p:grpSpPr>
        <p:sp>
          <p:nvSpPr>
            <p:cNvPr id="594" name=""/>
            <p:cNvSpPr/>
            <p:nvPr/>
          </p:nvSpPr>
          <p:spPr>
            <a:xfrm>
              <a:off x="4952880" y="2133720"/>
              <a:ext cx="3809880" cy="2666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91040" y="2048040"/>
              <a:ext cx="3733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if (onOff == OF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nextState = Motor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else if (highTime Expi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nextState = Motor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else if (highTime NOT Expi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nextState = MotorHi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57200" y="1436760"/>
            <a:ext cx="3695760" cy="4057920"/>
            <a:chOff x="457200" y="1436760"/>
            <a:chExt cx="3695760" cy="4057920"/>
          </a:xfrm>
        </p:grpSpPr>
        <p:sp>
          <p:nvSpPr>
            <p:cNvPr id="597" name=""/>
            <p:cNvSpPr/>
            <p:nvPr/>
          </p:nvSpPr>
          <p:spPr>
            <a:xfrm>
              <a:off x="457200" y="1982880"/>
              <a:ext cx="3695760" cy="2966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640" y="1436760"/>
              <a:ext cx="331488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if (onOff == OF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nextState = Motor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reset cou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else if (period NOT Expi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nextState = Motor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else if (period Expi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nextState = MotorHi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95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5f5f5f"/>
                  </a:solidFill>
                  <a:latin typeface="Tahoma"/>
                </a:rPr>
                <a:t>reset cou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5187960" y="52207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or High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28120" y="52207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or Low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ternal PWM FSM Controll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779-EB8B-4A87-AC86-D7F218B1CAA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ternal PWM softwa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3" name=""/>
          <p:cNvSpPr/>
          <p:nvPr/>
        </p:nvSpPr>
        <p:spPr>
          <a:xfrm>
            <a:off x="1906560" y="1674720"/>
            <a:ext cx="603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in initializatio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 off to onOff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o some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set up PW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eat for each mo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 highTime and perio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turn motor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eat for each mo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ite on to the onOFF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more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6CF-1961-4977-B6B1-66627E2DE17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ome example I/O devic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ar range f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proximity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523-604C-4897-9C23-5124D48426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onar range find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ultra-sound (not audible) to measur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ech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travels at approximately 343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at least a 34.3kHz timer for cm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mple echo no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ssible ref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take multiple readings for high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0B5-B70C-4B83-BFDC-3299D1A0B9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olaroid 6500 sonar range find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ly found on old Polaroid cameras, now a frequently used part in mobile rob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ducer (gold di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up to high volt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snapp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 stays sentisized so 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etect echo (acts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pho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voltage circui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pare disc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ting and t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4419720" y="2273400"/>
            <a:ext cx="4432320" cy="389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65D-D817-4577-81FA-EB31C5DF54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olaroid 6500 sonar range finder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need to connect two pins to micro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- start transm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 - return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portant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data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uires larg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(greater th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controller c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– add exter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/amplif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 requires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-up resistor (determi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that needs to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microcontroller p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ize resistor so prop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is on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09572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807-144E-4D7A-A7E6-B6F8E144BB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1523880" y="3753000"/>
            <a:ext cx="3810240" cy="21142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04920" y="3843360"/>
            <a:ext cx="957240" cy="9572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ompas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ompass directions (each has three p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hot/two-hot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680" indent="-39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for N, E, S,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" indent="-39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hot for NE, SE, SW, N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3"/>
          <a:srcRect l="33787" t="0" r="40111" b="21834"/>
          <a:stretch/>
        </p:blipFill>
        <p:spPr>
          <a:xfrm>
            <a:off x="7620120" y="1600200"/>
            <a:ext cx="1312920" cy="2581200"/>
          </a:xfrm>
          <a:prstGeom prst="rect">
            <a:avLst/>
          </a:prstGeom>
          <a:ln w="0">
            <a:noFill/>
          </a:ln>
        </p:spPr>
      </p:pic>
      <p:grpSp>
        <p:nvGrpSpPr>
          <p:cNvPr id="619" name=""/>
          <p:cNvGrpSpPr/>
          <p:nvPr/>
        </p:nvGrpSpPr>
        <p:grpSpPr>
          <a:xfrm>
            <a:off x="6095880" y="4114080"/>
            <a:ext cx="1447920" cy="1753200"/>
            <a:chOff x="6095880" y="4114080"/>
            <a:chExt cx="1447920" cy="1753200"/>
          </a:xfrm>
        </p:grpSpPr>
        <p:sp>
          <p:nvSpPr>
            <p:cNvPr id="620" name=""/>
            <p:cNvSpPr/>
            <p:nvPr/>
          </p:nvSpPr>
          <p:spPr>
            <a:xfrm>
              <a:off x="6095880" y="4419360"/>
              <a:ext cx="1447920" cy="144792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6553080" y="5562360"/>
              <a:ext cx="533520" cy="75960"/>
              <a:chOff x="6553080" y="5562360"/>
              <a:chExt cx="533520" cy="75960"/>
            </a:xfrm>
          </p:grpSpPr>
          <p:sp>
            <p:nvSpPr>
              <p:cNvPr id="622" name=""/>
              <p:cNvSpPr/>
              <p:nvPr/>
            </p:nvSpPr>
            <p:spPr>
              <a:xfrm>
                <a:off x="6553080" y="55623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781680" y="55623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010280" y="55623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6324480" y="4876560"/>
              <a:ext cx="75960" cy="533520"/>
              <a:chOff x="6324480" y="4876560"/>
              <a:chExt cx="75960" cy="533520"/>
            </a:xfrm>
          </p:grpSpPr>
          <p:sp>
            <p:nvSpPr>
              <p:cNvPr id="626" name=""/>
              <p:cNvSpPr/>
              <p:nvPr/>
            </p:nvSpPr>
            <p:spPr>
              <a:xfrm rot="16200000">
                <a:off x="6324120" y="53337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6200000">
                <a:off x="6324120" y="51051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6200000">
                <a:off x="6324120" y="48765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7238880" y="4876560"/>
              <a:ext cx="75960" cy="533520"/>
              <a:chOff x="7238880" y="4876560"/>
              <a:chExt cx="75960" cy="533520"/>
            </a:xfrm>
          </p:grpSpPr>
          <p:sp>
            <p:nvSpPr>
              <p:cNvPr id="630" name=""/>
              <p:cNvSpPr/>
              <p:nvPr/>
            </p:nvSpPr>
            <p:spPr>
              <a:xfrm rot="16200000">
                <a:off x="7238520" y="53337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6200000">
                <a:off x="7238520" y="51051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6200000">
                <a:off x="7238520" y="48765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6378120" y="5257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2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01600" y="411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6553080" y="4647960"/>
              <a:ext cx="533520" cy="75960"/>
              <a:chOff x="6553080" y="4647960"/>
              <a:chExt cx="533520" cy="75960"/>
            </a:xfrm>
          </p:grpSpPr>
          <p:sp>
            <p:nvSpPr>
              <p:cNvPr id="636" name=""/>
              <p:cNvSpPr/>
              <p:nvPr/>
            </p:nvSpPr>
            <p:spPr>
              <a:xfrm>
                <a:off x="6553080" y="46479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781680" y="46479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10280" y="4647960"/>
                <a:ext cx="76320" cy="75960"/>
              </a:xfrm>
              <a:prstGeom prst="ellipse">
                <a:avLst/>
              </a:prstGeom>
              <a:solidFill>
                <a:srgbClr val="00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4495680"/>
            <a:ext cx="304920" cy="30492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73720" y="403776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5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65320" y="533340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65840" y="389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9240" y="365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20584800">
            <a:off x="684360" y="3959280"/>
            <a:ext cx="2743200" cy="114624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218960" y="5181480"/>
            <a:ext cx="15228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16560" y="5957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ide com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8DF-6D38-4380-BF94-07A9530895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ompass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ng a change in compass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its change from 0001 to 0011 to 0010 to 0110 to 0100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alternating between one bit on and two bit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ity tree can detect difference between one and two bits being as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tree of four bits (one TTL SSI pack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must change at least once for every change in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nterrupts to detec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1447920" y="4419720"/>
            <a:ext cx="3962160" cy="19368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1105920" y="4661280"/>
            <a:ext cx="421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98680" y="4653360"/>
            <a:ext cx="2338920" cy="1313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.g.,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 </a:t>
            </a:r>
            <a:r>
              <a:rPr b="0" lang="en-US" sz="1800" spc="-1" strike="noStrike">
                <a:solidFill>
                  <a:srgbClr val="ff3300"/>
                </a:solidFill>
                <a:latin typeface="Wingdings 3"/>
                <a:ea typeface="Wingdings 3"/>
              </a:rPr>
              <a:t>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ff3300"/>
                </a:solidFill>
                <a:latin typeface="Wingdings 3"/>
                <a:ea typeface="Wingdings 3"/>
              </a:rPr>
              <a:t>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100 </a:t>
            </a:r>
            <a:r>
              <a:rPr b="0" lang="en-US" sz="2000" spc="-1" strike="noStrike">
                <a:solidFill>
                  <a:srgbClr val="ff3300"/>
                </a:solidFill>
                <a:latin typeface="Wingdings 3"/>
                <a:ea typeface="Wingdings 3"/>
              </a:rPr>
              <a:t>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0100 </a:t>
            </a:r>
            <a:r>
              <a:rPr b="0" lang="en-US" sz="1800" spc="-1" strike="noStrike">
                <a:solidFill>
                  <a:srgbClr val="ff3300"/>
                </a:solidFill>
                <a:latin typeface="Wingdings 3"/>
                <a:ea typeface="Wingdings 3"/>
              </a:rPr>
              <a:t>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01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3300"/>
                </a:solidFill>
                <a:latin typeface="Wingdings 3"/>
                <a:ea typeface="Wingdings 3"/>
              </a:rPr>
              <a:t>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1 </a:t>
            </a:r>
            <a:r>
              <a:rPr b="0" lang="en-US" sz="1800" spc="-1" strike="noStrike">
                <a:solidFill>
                  <a:srgbClr val="ff3300"/>
                </a:solidFill>
                <a:latin typeface="Wingdings 3"/>
                <a:ea typeface="Wingdings 3"/>
              </a:rPr>
              <a:t>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0C4-4423-44AF-8996-BF553CD028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nalog to digital conver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nalog inputs to a range of binary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bit A/D has outputs in range 0-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we need more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vs. logarithmic 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range of outputs (16-bit a/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162400"/>
            <a:ext cx="6248160" cy="0"/>
          </a:xfrm>
          <a:prstGeom prst="line">
            <a:avLst/>
          </a:prstGeom>
          <a:ln w="2844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501012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501012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501012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501012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01012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501012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501012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501012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32480" y="466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91480" y="4661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63440" y="4661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4720" y="4661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01012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4040" y="4661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81080" y="4191120"/>
            <a:ext cx="9144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352320" y="4191120"/>
            <a:ext cx="213372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723920" y="4191120"/>
            <a:ext cx="114300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191120"/>
            <a:ext cx="6858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191120"/>
            <a:ext cx="9144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2080" y="4191120"/>
            <a:ext cx="7620120" cy="0"/>
          </a:xfrm>
          <a:prstGeom prst="line">
            <a:avLst/>
          </a:prstGeom>
          <a:ln w="2844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972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830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688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46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04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262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120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978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8240" y="372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07600" y="372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79200" y="372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25680" y="3728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114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27400" y="37472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25600" y="4038480"/>
            <a:ext cx="0" cy="3049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5962680"/>
            <a:ext cx="7620120" cy="0"/>
          </a:xfrm>
          <a:prstGeom prst="line">
            <a:avLst/>
          </a:prstGeom>
          <a:ln w="28440">
            <a:solidFill>
              <a:srgbClr val="5f5f5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94240" y="55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53600" y="5500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25200" y="5500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72040" y="5500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3400" y="5519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5810400"/>
            <a:ext cx="0" cy="30456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371600" y="5257800"/>
            <a:ext cx="609480" cy="53352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743200" y="5257800"/>
            <a:ext cx="609480" cy="53352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14800" y="5334120"/>
            <a:ext cx="609480" cy="4572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486400" y="5334120"/>
            <a:ext cx="609480" cy="4572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858000" y="5334120"/>
            <a:ext cx="457200" cy="4572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4640" y="3671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0600" y="61095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92640" y="49665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B96-B011-4C22-BBA4-52F186595F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R proximity detecto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62120" y="2463840"/>
            <a:ext cx="7696080" cy="4145040"/>
            <a:chOff x="762120" y="2463840"/>
            <a:chExt cx="7696080" cy="414504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rcRect l="9735" t="6851" r="885" b="0"/>
            <a:stretch/>
          </p:blipFill>
          <p:spPr>
            <a:xfrm>
              <a:off x="762120" y="2463840"/>
              <a:ext cx="769608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 rot="21505800">
              <a:off x="1015920" y="3645000"/>
              <a:ext cx="152424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03680" y="39240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cr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ntro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illator must be set to match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5A7-8F2F-456E-8C84-E932C4D9B1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R frequency modula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888320" cy="38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2BE-FFA1-4829-A245-57F51CC551F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roximity cod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3" name=""/>
          <p:cNvSpPr/>
          <p:nvPr/>
        </p:nvSpPr>
        <p:spPr>
          <a:xfrm>
            <a:off x="306360" y="1289520"/>
            <a:ext cx="841032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urn on e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 for 600u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r goes of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_on = read det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k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urn off e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 for 600u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r goes of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_off = read det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k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 val_on &amp; ~val_off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urn on emitt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r goes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_on = read det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urn off e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et 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r goes off (a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_off = read det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 val_on &amp; ~val_off 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" y="33526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57440" y="2895480"/>
            <a:ext cx="26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stly in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ing interrupt hand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3962520"/>
            <a:ext cx="152280" cy="1447560"/>
          </a:xfrm>
          <a:custGeom>
            <a:avLst/>
            <a:gdLst>
              <a:gd name="textAreaLeft" fmla="*/ 44640 w 152280"/>
              <a:gd name="textAreaRight" fmla="*/ 152640 w 152280"/>
              <a:gd name="textAreaTop" fmla="*/ 60120 h 1447560"/>
              <a:gd name="textAreaBottom" fmla="*/ 138744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5029200"/>
            <a:ext cx="152280" cy="838080"/>
          </a:xfrm>
          <a:custGeom>
            <a:avLst/>
            <a:gdLst>
              <a:gd name="textAreaLeft" fmla="*/ 44640 w 152280"/>
              <a:gd name="textAreaRight" fmla="*/ 152640 w 15228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219320" y="3429000"/>
            <a:ext cx="228600" cy="2590920"/>
          </a:xfrm>
          <a:custGeom>
            <a:avLst/>
            <a:gdLst>
              <a:gd name="textAreaLeft" fmla="*/ 66960 w 228600"/>
              <a:gd name="textAreaRight" fmla="*/ 228960 w 228600"/>
              <a:gd name="textAreaTop" fmla="*/ 107640 h 2590920"/>
              <a:gd name="textAreaBottom" fmla="*/ 24832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219320" y="1295280"/>
            <a:ext cx="228600" cy="1981440"/>
          </a:xfrm>
          <a:custGeom>
            <a:avLst/>
            <a:gdLst>
              <a:gd name="textAreaLeft" fmla="*/ 66960 w 228600"/>
              <a:gd name="textAreaRight" fmla="*/ 228960 w 228600"/>
              <a:gd name="textAreaTop" fmla="*/ 82440 h 1981440"/>
              <a:gd name="textAreaBottom" fmla="*/ 189900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76920" y="1523880"/>
            <a:ext cx="152280" cy="609840"/>
          </a:xfrm>
          <a:custGeom>
            <a:avLst/>
            <a:gdLst>
              <a:gd name="textAreaLeft" fmla="*/ 44640 w 152280"/>
              <a:gd name="textAreaRight" fmla="*/ 152640 w 15228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236232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DD4-C980-4B20-A539-24FD4FD5AEE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ore integrated proximity detecto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447920" y="2209680"/>
            <a:ext cx="6553080" cy="4210200"/>
            <a:chOff x="1447920" y="2209680"/>
            <a:chExt cx="6553080" cy="4210200"/>
          </a:xfrm>
        </p:grpSpPr>
        <p:pic>
          <p:nvPicPr>
            <p:cNvPr id="674" name="" descr=""/>
            <p:cNvPicPr/>
            <p:nvPr/>
          </p:nvPicPr>
          <p:blipFill>
            <a:blip r:embed="rId1"/>
            <a:stretch/>
          </p:blipFill>
          <p:spPr>
            <a:xfrm>
              <a:off x="1447920" y="2209680"/>
              <a:ext cx="6553080" cy="42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1885680" y="2941200"/>
              <a:ext cx="74736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83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sending out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or drives LED (guaranteed to match frequ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F60-FCAE-4FB8-829B-16452C6F03B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ccelerome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-electro-mechanical system that measures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ma (I. New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as cha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pacit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mov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fo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g-for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2-10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axis and 3-ax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irbag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top disk driv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4732560" cy="344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108-3393-47B7-B933-6B4D744CF3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ccelerometer outpu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output too susceptibl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output requires many pins for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ulse-width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grav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3FA-7031-4242-B73C-071EF6BFB02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nalog Devices ADXL202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axis acceler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0g at 50% duty-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acceler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duty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acceler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duty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5% per 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ther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rcRect l="17503" t="28053" r="12502" b="17081"/>
          <a:stretch/>
        </p:blipFill>
        <p:spPr>
          <a:xfrm>
            <a:off x="4114800" y="3124080"/>
            <a:ext cx="48006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439-29A9-4202-AB5F-C1CE893DED9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ypical measurement for ADXL202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y data – all forces are aggregated by acceler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race at 250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rcRect l="21091" t="38228" r="35758" b="51350"/>
          <a:stretch/>
        </p:blipFill>
        <p:spPr>
          <a:xfrm>
            <a:off x="228600" y="2743200"/>
            <a:ext cx="8686800" cy="131112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2819520"/>
            <a:ext cx="3886200" cy="838080"/>
          </a:xfrm>
          <a:prstGeom prst="ellipse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91520" y="3048120"/>
            <a:ext cx="761760" cy="457200"/>
          </a:xfrm>
          <a:prstGeom prst="ellipse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51160" y="419112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ing down s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s of st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37200" y="4419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or r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209320" y="3657600"/>
            <a:ext cx="304920" cy="53352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7619760" y="3505320"/>
            <a:ext cx="152280" cy="91440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952-A95F-47AE-8842-CDB485E4B0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ypical signal from ADXL202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 interrupts at Ta, Tb, and Tc from X-ax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ook for rising edge, reset counter: T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ook for falling edge, record timer: Tb = positive duty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Look for rising edge, record timer, reset counter: Tc =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fr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or Y-axis output (T2 is the same for both ax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rcRect l="19999" t="42800" r="14168" b="27218"/>
          <a:stretch/>
        </p:blipFill>
        <p:spPr>
          <a:xfrm>
            <a:off x="533520" y="3581280"/>
            <a:ext cx="81532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A33-2FAB-49F6-B4A5-6C3F134496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hat to do about noise/jitter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over time – smo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filter – like switch debou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several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verage for Tb and Tc or their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average so that a reading is available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update running average of 4 reading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verage = ¾ * current average + ¼ * new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adings of both Tb and Tc to be extra car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 changes with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can do Tc just on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4E8-FB80-4686-9373-7F5E6CAA98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Logarithm of a sign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49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use an op-amp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found as a pre-amplifier to ADC circui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ircuit to computer natural loga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72492" t="40103" r="7463" b="50422"/>
          <a:stretch/>
        </p:blipFill>
        <p:spPr>
          <a:xfrm>
            <a:off x="1951200" y="3316320"/>
            <a:ext cx="3971880" cy="1876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51040" y="4367160"/>
            <a:ext cx="115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34240" y="4403880"/>
            <a:ext cx="227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96F-8F79-4C27-BF6F-AF5CDE1B65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uilt-in fi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capacitors limited nois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lim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rcRect l="34167" t="43899" r="12502" b="16598"/>
          <a:stretch/>
        </p:blipFill>
        <p:spPr>
          <a:xfrm>
            <a:off x="4572000" y="3857760"/>
            <a:ext cx="4114800" cy="23144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rcRect l="26666" t="31828" r="16668" b="20990"/>
          <a:stretch/>
        </p:blipFill>
        <p:spPr>
          <a:xfrm>
            <a:off x="380880" y="2743200"/>
            <a:ext cx="4038840" cy="25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B08-F878-4070-A83D-EF125CA10E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DXL202 Outpu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ome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ty cyc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5% for each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ermin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of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1g duty-cyc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62.5% (37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2500" t="26477" r="21669" b="30251"/>
          <a:stretch/>
        </p:blipFill>
        <p:spPr>
          <a:xfrm>
            <a:off x="4343400" y="1676520"/>
            <a:ext cx="3962520" cy="233208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rcRect l="46669" t="61457" r="11667" b="12212"/>
          <a:stretch/>
        </p:blipFill>
        <p:spPr>
          <a:xfrm>
            <a:off x="4495680" y="4495680"/>
            <a:ext cx="381024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AF6-3D10-4455-8642-D813B1986A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DXL202 Orienta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(maximum duty cycle change per degree) is highest when accelerometer is perpendicular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rcRect l="6666" t="14882" r="21669" b="7202"/>
          <a:stretch/>
        </p:blipFill>
        <p:spPr>
          <a:xfrm>
            <a:off x="2286000" y="2590920"/>
            <a:ext cx="4648320" cy="38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3D9-F304-4399-AE32-C5F0EF4987C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WM Calculatio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big a counter do you n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7.37MHz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ms period yields a count of 73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ts in a 16-bit timer/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you use a prescaler for the coun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precision iss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signed int positi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signed int peri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signed int pos_duty_cyc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s_duty_cycle = positive/peri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s_duty_cycle = ( positive * 1000 ) / peri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K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s_duty_cycle = ( (long) positive * 1000 ) / perio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DB0-9592-4F3A-BEAA-F1B73E8B24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right LED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ntrol intensity of light through pulse-width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ty-cycle is averaged by human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is really turning on and off each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quickly for human retina (or most video came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must be short enough (&lt; 1ms is a sure b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output is low to turn on light, high to turn i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low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8CF-FA9C-4068-B9AC-DAEC09EB586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ample code for LED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PW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0880" y="2209680"/>
            <a:ext cx="838224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latile uint8_t width; /* positive pusle width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latile uint8_t delay; /* used to slow the pulse width changing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GNAL (SIG_OVERFLOW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delay++ == 20) { OCR2 = width++; delay = 0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main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ust make OC2 pin an output for the PWM to visibl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DRD = _BV(DDD7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use Timer 2 FastPWM and the overflow interrupt to update duty-cycle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CCR2 = _BV (WGM21) | _BV (WGM20) | _BV (COM21) | _BV(COM20) | _BV(CS21) | _BV(CS2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SK = _BV (TOIE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setup initial condition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lay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enable interrupt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i 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(;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 ; /* LOOP FOREVER as the interrupt will make necessary adjustment */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BCB-6E05-44C0-A264-8203FCB426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Fast PW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rcRect l="13333" t="23661" r="10832" b="23666"/>
          <a:stretch/>
        </p:blipFill>
        <p:spPr>
          <a:xfrm>
            <a:off x="304920" y="1676520"/>
            <a:ext cx="8381880" cy="44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BA0-C25D-4A55-B0BB-0E8EA0A710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Digital to analog conver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binary values to analog outputs (vol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devices have a digital interface – use time to encod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varying digital signals – almost arbitrary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-code modulation (data = number or width of pul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-width modulation (data = duty-cycle of pul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modulation (data = rate at which pulses occ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78000" y="3936960"/>
            <a:ext cx="0" cy="6858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8000" y="4622760"/>
            <a:ext cx="701028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3798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69280" y="4407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73480" y="3936960"/>
            <a:ext cx="15228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82560" y="3936960"/>
            <a:ext cx="15264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28840" y="3935520"/>
            <a:ext cx="60984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18000" y="3936960"/>
            <a:ext cx="60948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8000" y="4775040"/>
            <a:ext cx="0" cy="6858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78000" y="5460840"/>
            <a:ext cx="701028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63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6560" y="5245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1200" y="4775040"/>
            <a:ext cx="60948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83080" y="4775040"/>
            <a:ext cx="60984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25560" y="4775040"/>
            <a:ext cx="15264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2560" y="4775040"/>
            <a:ext cx="15264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2560" y="5398920"/>
            <a:ext cx="24386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21200" y="492732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21200" y="5246640"/>
            <a:ext cx="28954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01680" y="3860640"/>
            <a:ext cx="380880" cy="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35200" y="3860640"/>
            <a:ext cx="380880" cy="0"/>
          </a:xfrm>
          <a:prstGeom prst="line">
            <a:avLst/>
          </a:prstGeom>
          <a:ln w="9360">
            <a:solidFill>
              <a:srgbClr val="99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5613480"/>
            <a:ext cx="0" cy="68580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78000" y="6299280"/>
            <a:ext cx="701028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474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69280" y="6084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54400" y="5613480"/>
            <a:ext cx="60948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02160" y="5613480"/>
            <a:ext cx="60948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79560" y="5613480"/>
            <a:ext cx="15228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82560" y="5613480"/>
            <a:ext cx="15264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7600" y="5613480"/>
            <a:ext cx="60984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84480" y="5613480"/>
            <a:ext cx="15228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76440" y="5613480"/>
            <a:ext cx="15264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3520" y="5619600"/>
            <a:ext cx="609480" cy="68580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F16-921F-4809-884E-2004417E60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ulse-width modula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a digital signal to get an average “analog”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nger the pulse width, the higher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8200" y="258300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Pulse-width ratio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9320" y="2370240"/>
            <a:ext cx="6105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5f5f5f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5f5f5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2755800"/>
            <a:ext cx="12193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3429000"/>
            <a:ext cx="30492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429000"/>
            <a:ext cx="30492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429000"/>
            <a:ext cx="30492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43400"/>
            <a:ext cx="68580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4343400"/>
            <a:ext cx="68580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4343400"/>
            <a:ext cx="685800" cy="76212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334120"/>
            <a:ext cx="144792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5334120"/>
            <a:ext cx="144792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6400" y="5334120"/>
            <a:ext cx="1447920" cy="761760"/>
          </a:xfrm>
          <a:prstGeom prst="rect">
            <a:avLst/>
          </a:prstGeom>
          <a:solidFill>
            <a:srgbClr val="cc66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429000"/>
            <a:ext cx="0" cy="76212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191120"/>
            <a:ext cx="716292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4343400"/>
            <a:ext cx="0" cy="76212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5105520"/>
            <a:ext cx="716292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5334120"/>
            <a:ext cx="0" cy="761760"/>
          </a:xfrm>
          <a:prstGeom prst="line">
            <a:avLst/>
          </a:prstGeom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6095880"/>
            <a:ext cx="716292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038480"/>
            <a:ext cx="67816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4724280"/>
            <a:ext cx="67816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5562720"/>
            <a:ext cx="67816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70840" y="3922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70840" y="4875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70840" y="5865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27600" y="284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467120" y="3505320"/>
            <a:ext cx="304920" cy="45720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3352680"/>
            <a:ext cx="2209680" cy="0"/>
          </a:xfrm>
          <a:prstGeom prst="line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83080" y="2994120"/>
            <a:ext cx="61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5f5f5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3352680"/>
            <a:ext cx="304920" cy="0"/>
          </a:xfrm>
          <a:prstGeom prst="line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61080" y="2994120"/>
            <a:ext cx="39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5f5f5f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5FD-2E6E-46F5-BEA4-5BB9BEF545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hy pulse-width modulation work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echanical systems are low-pass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requency components of pulse-width modulated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frequency components affect compon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pass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requency components are too fast to fight ine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“filtered ou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RC-networks are low-pass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constant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C) sets “cutoff” frequenc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separates low and high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E88-AB50-418A-AC70-C43006ECFA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nti-lock brake syste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 wheel controller/anti-lock brak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te velocity of rear wh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e 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ually increase amount of bra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kidding (front wheel is moving much faster than rear whee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temporarily reduce amount of bra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e pe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wheel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 wheel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-width modulation rear wheel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-width modulation brake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fac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8CD-1FA7-4AB6-9E3A-4528EED10E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00:52:13Z</dcterms:created>
  <dc:creator>Bruce Hemingway</dc:creator>
  <dc:description/>
  <dc:language>en-US</dc:language>
  <cp:lastModifiedBy>Bruce Hemingway</cp:lastModifiedBy>
  <dcterms:modified xsi:type="dcterms:W3CDTF">2009-01-16T07:39:31Z</dcterms:modified>
  <cp:revision>76</cp:revision>
  <dc:subject/>
  <dc:title>CSE466 Syllabus</dc:title>
</cp:coreProperties>
</file>