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3040" y="69336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2960" y="4414320"/>
            <a:ext cx="5032080" cy="41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A96ED9-D04A-4923-ACC6-E475E17CC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1F7B11-FE79-4F41-8539-7A35062666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25360" y="72072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8D784D-1325-4EBA-BDCA-0C2E7DCA9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03400" y="69372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2960" y="4414320"/>
            <a:ext cx="50320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ED17A6-59E7-4436-B03B-78087F9A7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3400" y="69372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2960" y="4414320"/>
            <a:ext cx="50320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3400" y="69372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2960" y="4414320"/>
            <a:ext cx="50320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81CB4C-53FA-4E37-ACB4-5248D4754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AA2C1E-4EF4-49F3-B408-CAAE324D4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602688-BEC9-4180-90BE-9BB9D2D70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03400" y="69372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2960" y="4414320"/>
            <a:ext cx="50320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ADEB14-5C87-4084-9085-13E334446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03400" y="69228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2960" y="4412880"/>
            <a:ext cx="50320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952F1A-79F9-4A9F-99B7-C0AC51EC2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03400" y="69372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2960" y="4414320"/>
            <a:ext cx="50320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724BC7-FB82-49F7-A087-80AE4270A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03400" y="69372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2960" y="4414320"/>
            <a:ext cx="50320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1FE2FD-B975-4DF5-A17D-B8F397BF3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03400" y="69372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2960" y="4414320"/>
            <a:ext cx="50320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F0A791-F457-4F42-9F4F-A1EF511EF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03400" y="69372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2960" y="4414320"/>
            <a:ext cx="50320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A63692-2668-40DD-9165-F46BCEEC0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03400" y="69372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2960" y="4414320"/>
            <a:ext cx="50320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5A995D-F91F-4415-8CBF-1FA3C9746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03400" y="69372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2960" y="4414320"/>
            <a:ext cx="503208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49E-76E4-48E2-BFE7-05D9E8EF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170-F0EF-4B29-9DF4-7D213F54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9C8-6F9D-49A3-9DCE-3850AB8E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A28-4E7D-41A4-B5C8-1630823D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C7BB-4F8D-46A6-B6EC-5E798A7A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CA97-EBE2-4031-95D4-A845610F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BAB3-6DD3-436B-A6FC-613338BF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2329-86AC-4969-A84E-E603233C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5AC0-266B-49D3-B59E-CE8F2D92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A0BC-8626-4606-9D32-9F54E5F9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9480-9D1C-47C9-9CD5-5BD632F2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AE3-BE64-493C-8CA6-0A1BA362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E1E8-EE12-468F-9057-EEC46966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C153-4CF8-4AC8-905E-954B41DD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4B16-ED4D-4B95-8C65-82DA3B44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8F86-A341-4A60-AB85-61A306E7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100D-649B-42F6-94ED-48500E62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3935-62D9-4328-909B-CC822A85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9EFE-A948-4758-9A02-9934862A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14B2-1ADC-4B2B-92F2-0E04D4E2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DC30-2751-4BD9-B0FF-4DA3838F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9538-0A3A-4627-B809-464AD697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F05-537F-472D-885B-757F7BF5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0FA6-118A-4275-899C-D703B8D2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18F4-B9C6-4A03-B64B-2081DF2F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1929-D9AF-4438-95ED-899F9298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7069E-50A1-409B-9426-C3B12ADF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CFF45-614D-41DC-9F83-E8E4D973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BE7B-D1AE-434E-8AFC-45F495A0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1E56-2E70-41F1-9E79-2D9199B4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B34-DB5C-4BED-BD22-CEFC5D96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BB5-FC1F-4D4C-A359-D0349CF1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DD8-4346-443B-B4AA-7E5B154F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388-E8E3-4288-89AE-62432971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C04-49A0-4456-91CC-F93324C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840-5B10-432F-98B1-688D2ADA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D211-174B-478A-9023-82CB4F46C1BB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D4E7-FE91-4204-8B5D-B875D2BF063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imes New Roman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F51E-9E72-4794-A277-51E6A63B751F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0560" y="2023560"/>
            <a:ext cx="717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MSP430 Interrupt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1A11-980D-4543-B14A-BEB6A1D6FE08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hain of Events on Interrup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executing current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all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 program counter on to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interrupt vector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start of complete I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ny context that ISR may otherwis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and flags must be saved within ISR and restored before it returns –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s is very import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nable interrupts if nested interrupt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ISR’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nable interrupts upon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back to next instruction before inte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4917960" y="1666800"/>
            <a:ext cx="260028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4338720" y="2065320"/>
            <a:ext cx="3189240" cy="89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726080" y="5172120"/>
            <a:ext cx="260028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7"/>
          <p:cNvSpPr/>
          <p:nvPr/>
        </p:nvSpPr>
        <p:spPr>
          <a:xfrm flipV="1">
            <a:off x="6423120" y="5570280"/>
            <a:ext cx="912600" cy="28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309440" y="1906560"/>
            <a:ext cx="1649880" cy="45972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Autom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288920" y="5411880"/>
            <a:ext cx="811800" cy="45972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RE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329000" y="3070080"/>
            <a:ext cx="3311640" cy="1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6249960" y="3163680"/>
            <a:ext cx="140004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472160" y="2932200"/>
            <a:ext cx="1486800" cy="45972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AC1A-67CC-4E6E-9FD5-8BBECDA67851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hared Data Problem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use interrupts you create the opportunity for multiple sections of code to update a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ight cause a problems in your logic if an interrupt updates a variable between two lines of code that are directly dependent on each other (e.g. if stat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lution is to create critical sections where you disable the interrupts for a short period of time while you complete your logic on the shared variab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(GIE) bit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.critical section code goes here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(GIE) bi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5160" y="1418760"/>
            <a:ext cx="848052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of a program proceeds predictably,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ru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ing the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are usually generated by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stops what it is do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s enough information to later resu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s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rupt service rout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SR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es saved inform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mes exe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rupt is an asynchronous signal indicating the need fo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D0F7-99CE-4477-94DC-12D7403B0CA3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37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e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mal cod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code run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(e.g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ode runs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ab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dividu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 per-peripheral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-Mask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rupt (N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ccurrence of each interrupt 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n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nterrupt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nterrupt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re associated with a variety of on-chip and off-chip  peripher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s, Watchdog, D/A, Acceler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I, change-on-pin (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90F0-15A6-4DEA-B5A7-8A320764A4CB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5160" y="1418760"/>
            <a:ext cx="848052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commonly 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gent tasks w/higher priority than mai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equent tasks to save poll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ing the CPU from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an operating system (software interrup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-driven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ow of the program is determined by events—i.e., sensor outputs or user actions (mouse clicks, key presses) or messages from other programs or thr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ication has a main loop with event detection and event handl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825A-FCBA-42BB-B67D-0E8858FFCE20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 Fla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5160" y="1418760"/>
            <a:ext cx="848052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terrupt has a flag that is raised (set) when the interrupt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terrupt flag has a corresponding enable bit – setting this bit allows a hardware module to request an interru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terrupts a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sk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means they can only interrupt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interrupt enable (GIE) bit is set in the status register (S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654E-FC70-4719-AAA4-429468D9BF32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 Vecto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34880" y="1428840"/>
            <a:ext cx="827568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PU must know where to fetch the next instruction following an interru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ddress of an ISR is defined in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rupt v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SP430 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ctored interru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each ISR has its own vector stored 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ctor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ted at the end of program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ctor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a fixed location (defined by the processor data sheet), but the ISRs can be located anywhere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03CC-EFD1-4C0D-AF29-D3993F8C9E66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SP430 Memory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655720" y="1407960"/>
            <a:ext cx="6134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64KB continuous memor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instructions for data and 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and data in Flash or RAM with no restr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for modern programming techniques such as pointers and fast look-up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A5A6-CA39-4B70-9041-A2841387CFFC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7" descr="MSP430 Memory 2"/>
          <p:cNvPicPr/>
          <p:nvPr/>
        </p:nvPicPr>
        <p:blipFill>
          <a:blip r:embed="rId1"/>
          <a:stretch/>
        </p:blipFill>
        <p:spPr>
          <a:xfrm>
            <a:off x="843120" y="1392120"/>
            <a:ext cx="215244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erving Interrupt Reques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E349-3C4C-4683-A268-8F7904F64511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009800" y="1731960"/>
            <a:ext cx="2058840" cy="27226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1009800" y="2756160"/>
            <a:ext cx="2058840" cy="48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 0011 0001 01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961920" y="1298520"/>
            <a:ext cx="213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8" name="Straight Arrow Connector 11"/>
          <p:cNvCxnSpPr>
            <a:endCxn id="239" idx="1"/>
          </p:cNvCxnSpPr>
          <p:nvPr/>
        </p:nvCxnSpPr>
        <p:spPr>
          <a:xfrm flipV="1">
            <a:off x="3049560" y="2007360"/>
            <a:ext cx="2067840" cy="11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Rectangle 14"/>
          <p:cNvSpPr/>
          <p:nvPr/>
        </p:nvSpPr>
        <p:spPr>
          <a:xfrm>
            <a:off x="5118120" y="1530360"/>
            <a:ext cx="205884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5116680" y="1885320"/>
            <a:ext cx="2058840" cy="24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1 1000 0000 0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Box 16"/>
          <p:cNvSpPr/>
          <p:nvPr/>
        </p:nvSpPr>
        <p:spPr>
          <a:xfrm>
            <a:off x="4971960" y="1114560"/>
            <a:ext cx="23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rupt v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1008000" y="5241960"/>
            <a:ext cx="20592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Box 19"/>
          <p:cNvSpPr/>
          <p:nvPr/>
        </p:nvSpPr>
        <p:spPr>
          <a:xfrm>
            <a:off x="1006560" y="5785200"/>
            <a:ext cx="2058840" cy="48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 0011 0000 00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Box 20"/>
          <p:cNvSpPr/>
          <p:nvPr/>
        </p:nvSpPr>
        <p:spPr>
          <a:xfrm>
            <a:off x="855720" y="4808520"/>
            <a:ext cx="24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rupt service rout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Box 21"/>
          <p:cNvSpPr/>
          <p:nvPr/>
        </p:nvSpPr>
        <p:spPr>
          <a:xfrm>
            <a:off x="3030480" y="5840280"/>
            <a:ext cx="8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Freeform 32"/>
          <p:cNvSpPr/>
          <p:nvPr/>
        </p:nvSpPr>
        <p:spPr>
          <a:xfrm>
            <a:off x="128520" y="3252960"/>
            <a:ext cx="833400" cy="27889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33"/>
          <p:cNvSpPr/>
          <p:nvPr/>
        </p:nvSpPr>
        <p:spPr>
          <a:xfrm>
            <a:off x="249120" y="5175360"/>
            <a:ext cx="84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F8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Freeform 34"/>
          <p:cNvSpPr/>
          <p:nvPr/>
        </p:nvSpPr>
        <p:spPr>
          <a:xfrm>
            <a:off x="3089160" y="3213000"/>
            <a:ext cx="615960" cy="2297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284720" y="2627280"/>
            <a:ext cx="4276800" cy="302004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Look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rupt vector for ISR starting addr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ce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0000"/>
                </a:solidFill>
                <a:latin typeface="Arial"/>
              </a:rPr>
              <a:t>Store information (PC and SR on St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ce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0000"/>
                </a:solidFill>
                <a:latin typeface="Arial"/>
              </a:rPr>
              <a:t>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rvice rout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RETI: get old PC from s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9360" y="207720"/>
            <a:ext cx="779328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6633"/>
                </a:solidFill>
                <a:latin typeface="Garamond"/>
              </a:rPr>
              <a:t>MSP430x2xx Interrupt Vecto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925560" y="1371600"/>
          <a:ext cx="7696080" cy="4944960"/>
        </p:xfrm>
        <a:graphic>
          <a:graphicData uri="http://schemas.openxmlformats.org/drawingml/2006/table">
            <a:tbl>
              <a:tblPr/>
              <a:tblGrid>
                <a:gridCol w="1601640"/>
                <a:gridCol w="1751040"/>
                <a:gridCol w="1524240"/>
                <a:gridCol w="1143000"/>
                <a:gridCol w="838080"/>
                <a:gridCol w="838080"/>
              </a:tblGrid>
              <a:tr h="25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RUPT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RUPT FL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YSTEM INTERRU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264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wer-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rnal re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atchd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R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ST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DT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re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, high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scillator 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lash memory vio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MI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F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CDV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n-mask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F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mer_B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BCCR0 CC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sk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F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mer_B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BCCR1 CC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BCCR2 CCIFG, TB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sk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F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F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atchdog Ti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DT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sk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mer_A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CCR0 CC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sk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mer_A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CCR1 CCIF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CCR2 CCIFG,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TA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sk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SCI_A0/USCI_B0 R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CA0RXIFG, USB0RX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sk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16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SCI_Z0/USCI_B0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CA0TXIFG, UCB0TX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sk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C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C10IF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sk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72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E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O Port 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2IFG.0 – P2IFG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sk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E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/O Port P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IFG.0 – P1IFG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sk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E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120"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FFE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int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000" bIns="9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82C2-76AB-4407-A15C-34FEFD9614AD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5224320" y="981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er address = higher prior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E8DF-FDD0-4DB1-BD88-82E4B10DFF74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concept in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execution of a program to “handle” an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have to rely on program relinquishing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ode program without worrying about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interrupt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the code that knows what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does it take to handle interrup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n interruption be, in turn, interrup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e interrupt handling code communicate its resul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data shared between interrupt handlers and progra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9360" y="207720"/>
            <a:ext cx="779328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6633"/>
                </a:solidFill>
                <a:latin typeface="Garamond"/>
              </a:rPr>
              <a:t>MSP430F2274 Address Spac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BDFF-682C-4465-BA62-C1391D2FA9BC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7377120" y="5695920"/>
            <a:ext cx="1434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164120" y="5695920"/>
            <a:ext cx="321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-bit Special Function Regist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2828880" y="5695920"/>
            <a:ext cx="133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000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00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1878120" y="5695920"/>
            <a:ext cx="95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55760" y="5695920"/>
            <a:ext cx="142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7377120" y="5221440"/>
            <a:ext cx="14349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164120" y="5221440"/>
            <a:ext cx="3213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-bit Peripherals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2828880" y="5221440"/>
            <a:ext cx="1335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00F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00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1878120" y="5221440"/>
            <a:ext cx="950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4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455760" y="5221440"/>
            <a:ext cx="1422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7377120" y="4746600"/>
            <a:ext cx="1434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4164120" y="4746600"/>
            <a:ext cx="321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6-bit Peripherals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2828880" y="4746600"/>
            <a:ext cx="133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01F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0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1878120" y="4746600"/>
            <a:ext cx="95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455760" y="4746600"/>
            <a:ext cx="142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19"/>
          <p:cNvSpPr/>
          <p:nvPr/>
        </p:nvSpPr>
        <p:spPr>
          <a:xfrm>
            <a:off x="7377120" y="4044960"/>
            <a:ext cx="1434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rd/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20"/>
          <p:cNvSpPr/>
          <p:nvPr/>
        </p:nvSpPr>
        <p:spPr>
          <a:xfrm>
            <a:off x="4164120" y="4044960"/>
            <a:ext cx="321300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21"/>
          <p:cNvSpPr/>
          <p:nvPr/>
        </p:nvSpPr>
        <p:spPr>
          <a:xfrm>
            <a:off x="2828880" y="4044960"/>
            <a:ext cx="1335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05F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02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22"/>
          <p:cNvSpPr/>
          <p:nvPr/>
        </p:nvSpPr>
        <p:spPr>
          <a:xfrm>
            <a:off x="1878120" y="4044960"/>
            <a:ext cx="950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K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23"/>
          <p:cNvSpPr/>
          <p:nvPr/>
        </p:nvSpPr>
        <p:spPr>
          <a:xfrm>
            <a:off x="455760" y="4044960"/>
            <a:ext cx="142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R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24"/>
          <p:cNvSpPr/>
          <p:nvPr/>
        </p:nvSpPr>
        <p:spPr>
          <a:xfrm>
            <a:off x="7377120" y="2949480"/>
            <a:ext cx="14349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4164120" y="2949480"/>
            <a:ext cx="32130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2828880" y="2949480"/>
            <a:ext cx="13352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1878120" y="2949480"/>
            <a:ext cx="9507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455760" y="2949480"/>
            <a:ext cx="1422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377120" y="2247840"/>
            <a:ext cx="1434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rd/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4164120" y="2247840"/>
            <a:ext cx="321300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gram Co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2828880" y="2247840"/>
            <a:ext cx="1335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FFB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80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7377120" y="1773360"/>
            <a:ext cx="14349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o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4164120" y="1773360"/>
            <a:ext cx="3213000" cy="47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rupt Vector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2828880" y="1773360"/>
            <a:ext cx="1335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FFF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0xFFC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1878120" y="1773360"/>
            <a:ext cx="9507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2K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455760" y="1773360"/>
            <a:ext cx="14223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las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37"/>
          <p:cNvSpPr/>
          <p:nvPr/>
        </p:nvSpPr>
        <p:spPr>
          <a:xfrm>
            <a:off x="7377120" y="1434960"/>
            <a:ext cx="14349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38"/>
          <p:cNvSpPr/>
          <p:nvPr/>
        </p:nvSpPr>
        <p:spPr>
          <a:xfrm>
            <a:off x="4164120" y="1434960"/>
            <a:ext cx="3213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39"/>
          <p:cNvSpPr/>
          <p:nvPr/>
        </p:nvSpPr>
        <p:spPr>
          <a:xfrm>
            <a:off x="2828880" y="1434960"/>
            <a:ext cx="1335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1878120" y="1434960"/>
            <a:ext cx="9507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455760" y="1434960"/>
            <a:ext cx="14223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42"/>
          <p:cNvSpPr/>
          <p:nvPr/>
        </p:nvSpPr>
        <p:spPr>
          <a:xfrm>
            <a:off x="455760" y="1434960"/>
            <a:ext cx="142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43"/>
          <p:cNvSpPr/>
          <p:nvPr/>
        </p:nvSpPr>
        <p:spPr>
          <a:xfrm>
            <a:off x="455760" y="6170760"/>
            <a:ext cx="142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44"/>
          <p:cNvSpPr/>
          <p:nvPr/>
        </p:nvSpPr>
        <p:spPr>
          <a:xfrm>
            <a:off x="455760" y="1434960"/>
            <a:ext cx="0" cy="338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45"/>
          <p:cNvSpPr/>
          <p:nvPr/>
        </p:nvSpPr>
        <p:spPr>
          <a:xfrm>
            <a:off x="8812080" y="1434960"/>
            <a:ext cx="0" cy="338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46"/>
          <p:cNvSpPr/>
          <p:nvPr/>
        </p:nvSpPr>
        <p:spPr>
          <a:xfrm>
            <a:off x="1878120" y="1434960"/>
            <a:ext cx="950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47"/>
          <p:cNvSpPr/>
          <p:nvPr/>
        </p:nvSpPr>
        <p:spPr>
          <a:xfrm>
            <a:off x="455760" y="1773360"/>
            <a:ext cx="0" cy="1176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48"/>
          <p:cNvSpPr/>
          <p:nvPr/>
        </p:nvSpPr>
        <p:spPr>
          <a:xfrm>
            <a:off x="2828880" y="1434960"/>
            <a:ext cx="1335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49"/>
          <p:cNvSpPr/>
          <p:nvPr/>
        </p:nvSpPr>
        <p:spPr>
          <a:xfrm>
            <a:off x="4164120" y="1434960"/>
            <a:ext cx="321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50"/>
          <p:cNvSpPr/>
          <p:nvPr/>
        </p:nvSpPr>
        <p:spPr>
          <a:xfrm>
            <a:off x="7377120" y="1434960"/>
            <a:ext cx="1434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51"/>
          <p:cNvSpPr/>
          <p:nvPr/>
        </p:nvSpPr>
        <p:spPr>
          <a:xfrm>
            <a:off x="8812080" y="1773360"/>
            <a:ext cx="0" cy="47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52"/>
          <p:cNvSpPr/>
          <p:nvPr/>
        </p:nvSpPr>
        <p:spPr>
          <a:xfrm>
            <a:off x="8812080" y="2247840"/>
            <a:ext cx="0" cy="7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53"/>
          <p:cNvSpPr/>
          <p:nvPr/>
        </p:nvSpPr>
        <p:spPr>
          <a:xfrm>
            <a:off x="455760" y="2949480"/>
            <a:ext cx="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54"/>
          <p:cNvSpPr/>
          <p:nvPr/>
        </p:nvSpPr>
        <p:spPr>
          <a:xfrm>
            <a:off x="8812080" y="2949480"/>
            <a:ext cx="0" cy="1095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55"/>
          <p:cNvSpPr/>
          <p:nvPr/>
        </p:nvSpPr>
        <p:spPr>
          <a:xfrm>
            <a:off x="455760" y="4044960"/>
            <a:ext cx="0" cy="7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56"/>
          <p:cNvSpPr/>
          <p:nvPr/>
        </p:nvSpPr>
        <p:spPr>
          <a:xfrm>
            <a:off x="8812080" y="4044960"/>
            <a:ext cx="0" cy="70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57"/>
          <p:cNvSpPr/>
          <p:nvPr/>
        </p:nvSpPr>
        <p:spPr>
          <a:xfrm>
            <a:off x="455760" y="4746600"/>
            <a:ext cx="0" cy="4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58"/>
          <p:cNvSpPr/>
          <p:nvPr/>
        </p:nvSpPr>
        <p:spPr>
          <a:xfrm>
            <a:off x="8812080" y="4746600"/>
            <a:ext cx="0" cy="4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59"/>
          <p:cNvSpPr/>
          <p:nvPr/>
        </p:nvSpPr>
        <p:spPr>
          <a:xfrm>
            <a:off x="455760" y="5221440"/>
            <a:ext cx="0" cy="47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60"/>
          <p:cNvSpPr/>
          <p:nvPr/>
        </p:nvSpPr>
        <p:spPr>
          <a:xfrm>
            <a:off x="8812080" y="5221440"/>
            <a:ext cx="0" cy="474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61"/>
          <p:cNvSpPr/>
          <p:nvPr/>
        </p:nvSpPr>
        <p:spPr>
          <a:xfrm>
            <a:off x="455760" y="5695920"/>
            <a:ext cx="0" cy="4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62"/>
          <p:cNvSpPr/>
          <p:nvPr/>
        </p:nvSpPr>
        <p:spPr>
          <a:xfrm>
            <a:off x="8812080" y="5695920"/>
            <a:ext cx="0" cy="4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63"/>
          <p:cNvSpPr/>
          <p:nvPr/>
        </p:nvSpPr>
        <p:spPr>
          <a:xfrm>
            <a:off x="1878120" y="6170760"/>
            <a:ext cx="950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64"/>
          <p:cNvSpPr/>
          <p:nvPr/>
        </p:nvSpPr>
        <p:spPr>
          <a:xfrm>
            <a:off x="2828880" y="6170760"/>
            <a:ext cx="1335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65"/>
          <p:cNvSpPr/>
          <p:nvPr/>
        </p:nvSpPr>
        <p:spPr>
          <a:xfrm>
            <a:off x="7377120" y="6170760"/>
            <a:ext cx="1434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4164120" y="2247840"/>
            <a:ext cx="3213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67"/>
          <p:cNvSpPr/>
          <p:nvPr/>
        </p:nvSpPr>
        <p:spPr>
          <a:xfrm>
            <a:off x="4164120" y="2949480"/>
            <a:ext cx="321300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4164120" y="4044960"/>
            <a:ext cx="321300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4164120" y="4746600"/>
            <a:ext cx="321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70"/>
          <p:cNvSpPr/>
          <p:nvPr/>
        </p:nvSpPr>
        <p:spPr>
          <a:xfrm>
            <a:off x="4164120" y="5221440"/>
            <a:ext cx="321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71"/>
          <p:cNvSpPr/>
          <p:nvPr/>
        </p:nvSpPr>
        <p:spPr>
          <a:xfrm>
            <a:off x="4164120" y="5695920"/>
            <a:ext cx="321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2"/>
          <p:cNvSpPr/>
          <p:nvPr/>
        </p:nvSpPr>
        <p:spPr>
          <a:xfrm>
            <a:off x="4164120" y="6170760"/>
            <a:ext cx="3213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73"/>
          <p:cNvSpPr/>
          <p:nvPr/>
        </p:nvSpPr>
        <p:spPr>
          <a:xfrm>
            <a:off x="455760" y="2949480"/>
            <a:ext cx="370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74"/>
          <p:cNvSpPr/>
          <p:nvPr/>
        </p:nvSpPr>
        <p:spPr>
          <a:xfrm>
            <a:off x="455760" y="1773360"/>
            <a:ext cx="370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75"/>
          <p:cNvSpPr/>
          <p:nvPr/>
        </p:nvSpPr>
        <p:spPr>
          <a:xfrm>
            <a:off x="455760" y="4044960"/>
            <a:ext cx="370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76"/>
          <p:cNvSpPr/>
          <p:nvPr/>
        </p:nvSpPr>
        <p:spPr>
          <a:xfrm>
            <a:off x="455760" y="4746600"/>
            <a:ext cx="370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77"/>
          <p:cNvSpPr/>
          <p:nvPr/>
        </p:nvSpPr>
        <p:spPr>
          <a:xfrm>
            <a:off x="4164120" y="1773360"/>
            <a:ext cx="3213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78"/>
          <p:cNvSpPr/>
          <p:nvPr/>
        </p:nvSpPr>
        <p:spPr>
          <a:xfrm>
            <a:off x="2828880" y="2247840"/>
            <a:ext cx="133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79"/>
          <p:cNvSpPr/>
          <p:nvPr/>
        </p:nvSpPr>
        <p:spPr>
          <a:xfrm>
            <a:off x="1878120" y="52214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80"/>
          <p:cNvSpPr/>
          <p:nvPr/>
        </p:nvSpPr>
        <p:spPr>
          <a:xfrm>
            <a:off x="1878120" y="56959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81"/>
          <p:cNvSpPr/>
          <p:nvPr/>
        </p:nvSpPr>
        <p:spPr>
          <a:xfrm>
            <a:off x="4164120" y="2949480"/>
            <a:ext cx="0" cy="10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82"/>
          <p:cNvSpPr/>
          <p:nvPr/>
        </p:nvSpPr>
        <p:spPr>
          <a:xfrm>
            <a:off x="4164120" y="1773360"/>
            <a:ext cx="0" cy="1176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83"/>
          <p:cNvSpPr/>
          <p:nvPr/>
        </p:nvSpPr>
        <p:spPr>
          <a:xfrm>
            <a:off x="4164120" y="4044960"/>
            <a:ext cx="0" cy="2125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84"/>
          <p:cNvSpPr/>
          <p:nvPr/>
        </p:nvSpPr>
        <p:spPr>
          <a:xfrm>
            <a:off x="7377120" y="2949480"/>
            <a:ext cx="0" cy="10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85"/>
          <p:cNvSpPr/>
          <p:nvPr/>
        </p:nvSpPr>
        <p:spPr>
          <a:xfrm>
            <a:off x="7377120" y="1773360"/>
            <a:ext cx="0" cy="1176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86"/>
          <p:cNvSpPr/>
          <p:nvPr/>
        </p:nvSpPr>
        <p:spPr>
          <a:xfrm>
            <a:off x="7377120" y="4044960"/>
            <a:ext cx="0" cy="21258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utoShape 88"/>
          <p:cNvSpPr/>
          <p:nvPr/>
        </p:nvSpPr>
        <p:spPr>
          <a:xfrm>
            <a:off x="5611680" y="2743200"/>
            <a:ext cx="331920" cy="19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AutoShape 90"/>
          <p:cNvSpPr/>
          <p:nvPr/>
        </p:nvSpPr>
        <p:spPr>
          <a:xfrm flipV="1">
            <a:off x="5611680" y="4038480"/>
            <a:ext cx="331920" cy="19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rocessing an Interrupt…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1000" y="1427040"/>
            <a:ext cx="816444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nstruction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LK started if CPU wa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pushes program counter on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pushes status register on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w/highest priority i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request flag cleared if single sour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register is cl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s further maskable interrupts (GIE cle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s low-pow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fetches interrupt vector and stores it in the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SR must do the re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6BDF-575B-425C-BF2D-228E4040C7C8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 Stac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D937-07C7-4759-8239-F33F2620FE9C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4" descr="MSP430_Interrupts"/>
          <p:cNvPicPr/>
          <p:nvPr/>
        </p:nvPicPr>
        <p:blipFill>
          <a:blip r:embed="rId1"/>
          <a:stretch/>
        </p:blipFill>
        <p:spPr>
          <a:xfrm>
            <a:off x="336600" y="1600200"/>
            <a:ext cx="84708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 Service Routin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1640" y="1407960"/>
            <a:ext cx="81648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superficially like a subrout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unlike sub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’s can execute at unpredictab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arry out action and thoroughly clean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concerned with shared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return us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ther th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 must handle interrupt in such a way that the interrupted code can be resumed withou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ies of all registers used in the ISR must be saved (preferably on the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1375-9F31-4768-BE8D-B7527CE4131D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 Service Routin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37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written IS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ffect the rest of the syste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little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doing very little – thereby leaving the background code with lots of processing – and doing a lot and leaving the background code with nothing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that use interrupts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e interrup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little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pond to interru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quickly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A239-4AD9-4D59-93B5-228932B08B5E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 Service Routin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447920"/>
            <a:ext cx="845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-related runtime problems can be exceptionally hard to de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interrupt-related error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ing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ect globa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etting to actual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lude the IS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no linker err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esting or validating thoroug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ov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ou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PU horse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ng critica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smart the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3BDB-3B37-4A7D-903F-D13BB28255EA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turning from IS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41000" y="1427040"/>
            <a:ext cx="816444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P430 requires 6 clock cycles before the ISR begins exec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between the interrupt request and the start of the ISR i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tency (plus time to complete the current instruction, 6 cycles, the worst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SR always finishes with the return from interrupt instruc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quiring 5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R is popped from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3438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nables maskable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3438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s previous low-power mode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C is popped from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if waking up the processor with an ISR, the new power mode must be set in the stack save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2E66-1683-4F2C-A05C-8F896FE88CAD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8755-C13F-4408-8524-6EE710E5F031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50720" y="207720"/>
            <a:ext cx="779292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Return From Interrup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6880" y="1430280"/>
            <a:ext cx="854712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le operand instru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ulated instru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779400" y="2076480"/>
          <a:ext cx="8364600" cy="1676520"/>
        </p:xfrm>
        <a:graphic>
          <a:graphicData uri="http://schemas.openxmlformats.org/drawingml/2006/table">
            <a:tbl>
              <a:tblPr/>
              <a:tblGrid>
                <a:gridCol w="2368440"/>
                <a:gridCol w="2745000"/>
                <a:gridCol w="32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B or .W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s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-2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, src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@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sh byte/word source on 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LL        d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-2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, PC+2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@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st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routine call to dest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S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, SP+2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S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, SP+2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from interru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496800" y="4719600"/>
          <a:ext cx="8417160" cy="1584360"/>
        </p:xfrm>
        <a:graphic>
          <a:graphicData uri="http://schemas.openxmlformats.org/drawingml/2006/table">
            <a:tbl>
              <a:tblPr/>
              <a:tblGrid>
                <a:gridCol w="1773360"/>
                <a:gridCol w="1203120"/>
                <a:gridCol w="2208240"/>
                <a:gridCol w="3232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@SP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+2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 @SP+,P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from subrou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P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.B or .W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 d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@SP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+2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V(.B or .W) @SP+,d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 byte/word from stack to dest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</a:tbl>
          </a:graphicData>
        </a:graphic>
      </p:graphicFrame>
      <p:grpSp>
        <p:nvGrpSpPr>
          <p:cNvPr id="382" name="Group 43"/>
          <p:cNvGrpSpPr/>
          <p:nvPr/>
        </p:nvGrpSpPr>
        <p:grpSpPr>
          <a:xfrm>
            <a:off x="230040" y="3218040"/>
            <a:ext cx="8606160" cy="531720"/>
            <a:chOff x="230040" y="3218040"/>
            <a:chExt cx="8606160" cy="531720"/>
          </a:xfrm>
        </p:grpSpPr>
        <p:sp>
          <p:nvSpPr>
            <p:cNvPr id="383" name="AutoShape 44"/>
            <p:cNvSpPr/>
            <p:nvPr/>
          </p:nvSpPr>
          <p:spPr>
            <a:xfrm>
              <a:off x="230040" y="3357360"/>
              <a:ext cx="198720" cy="237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45"/>
            <p:cNvSpPr/>
            <p:nvPr/>
          </p:nvSpPr>
          <p:spPr>
            <a:xfrm>
              <a:off x="465120" y="3218040"/>
              <a:ext cx="8371080" cy="531720"/>
            </a:xfrm>
            <a:prstGeom prst="rect">
              <a:avLst/>
            </a:prstGeom>
            <a:solidFill>
              <a:srgbClr val="ffff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447920"/>
            <a:ext cx="844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ding efficiently you can run multiple peripherals at high speeds on the MSP4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ing is to be avoided – use interrupts to deal with each peripheral only when attention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processes to peripherals based on existing (fixed) interrupt priorities - certain peripherals can tolerate substantial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IE when it’s shown to be most efficient and the application can tolerate it – otherwise, control individual IE bits to minimize system interrupt lat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rupt-based approach eases the handlin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ynchro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F79D-4502-4AA8-8950-3FFBA8E86FFC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221B-9730-4882-80C0-B9107AA24B3F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601560" y="353880"/>
            <a:ext cx="81583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/  MSP430F20x3 Demo - SD16A, Sample A1+ Continuously, Set P1.0 if &gt; 0.3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#include  &lt;msp430x20x3.h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DTCTL = WDTPW + WDTHOLD;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/ Stop watchdog tim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DIR |= 0x01;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/ Set P1.0 to output dir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D16CTL = SD16REFON + SD16SSEL_1;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/ 1.2V ref, SMC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D16INCTL0 = SD16INCH_1;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/ A1+/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D16CCTL0 =  SD16UNI + SD16IE;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/ 256OSR, unipolar, interrupt en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D16AE = SD16AE2;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/ P1.1 A1+, A1- = V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D16CCTL0 |= SD16SC;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/ Set bit to start con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BIS_SR(LPM0_bits + GI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#pragma vector = SD16_VE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interrupt void SD16ISR(voi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SD16MEM0 &lt; 0x7FFF)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/ SD16MEM0 &gt; 0.3V?, clears IF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OUT &amp;= ~0x0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OUT |= 0x0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D403-785B-48D5-8DD6-B4EE22FBD71E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hat is an Interrupt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to something in I/O (human, comm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synchronous to processo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handler” or “interrupt service routine” (ISR) invoked to take care of condition causing 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value of internal variable (cou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a data value (sensor, rece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data value (actuator, sen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033800" y="4627440"/>
            <a:ext cx="149400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in Pro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struction 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struction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struction 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struction 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46840" y="4586400"/>
            <a:ext cx="1779480" cy="16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S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ave sta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struction 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struction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struction 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store sta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turn from Interrup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6"/>
          <p:cNvSpPr/>
          <p:nvPr/>
        </p:nvSpPr>
        <p:spPr>
          <a:xfrm flipH="1" flipV="1">
            <a:off x="5291280" y="5324040"/>
            <a:ext cx="1830240" cy="90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5297400" y="4925520"/>
            <a:ext cx="148428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ultiple Clock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7D63-D834-47B8-BEBC-22DA02089254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Picture 4" descr="Clocks 2"/>
          <p:cNvPicPr/>
          <p:nvPr/>
        </p:nvPicPr>
        <p:blipFill>
          <a:blip r:embed="rId1"/>
          <a:stretch/>
        </p:blipFill>
        <p:spPr>
          <a:xfrm>
            <a:off x="338040" y="1460520"/>
            <a:ext cx="8653680" cy="49402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8"/>
          <p:cNvSpPr/>
          <p:nvPr/>
        </p:nvSpPr>
        <p:spPr>
          <a:xfrm>
            <a:off x="5257800" y="762120"/>
            <a:ext cx="3657600" cy="1143000"/>
          </a:xfrm>
          <a:prstGeom prst="wedgeRoundRectCallout">
            <a:avLst>
              <a:gd name="adj1" fmla="val -62111"/>
              <a:gd name="adj2" fmla="val 11805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o crystal on eZ430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se VLO for AC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mov.w #LFXT1S_2,&amp;BCSCTL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rocessor Clock Speed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5440" y="1409400"/>
            <a:ext cx="8610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the most important factor for reducing power consumption is slowing the cloc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clock = Higher performance, mo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clock = Lower performance, les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ssembl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C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97A3-C707-4514-ACB7-39170E98BD88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490680" y="3672000"/>
            <a:ext cx="846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SP430 Clock - Set DCO to 8 MHz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ov.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#CALBC1_8MHZ,&amp;BCSCTL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; Set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ov.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#CALDCO_8MHZ,&amp;DCOCT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; Set DCO step + modu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492120" y="5213520"/>
            <a:ext cx="846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474192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//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SP430 Clock - Set DCO to 8 MHz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474192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CSCTL1 = CALBC1_8MHZ;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// Set range 8MH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474192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COCTL = CALDCO_8MHZ;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// Set DCO step + modu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rocessor Clock Speed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15440" y="1409760"/>
            <a:ext cx="85345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method to reduce power consumption is to turn off some (or all) of the system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Mode (AM): CPU, all clocks, and enabled modules are activ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M0: CPU and MCLK are disabled, SMCLK and ACLK remain activ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M3: CPU, MCLK, SMCLK, and DCO are disabled; only ACLK remains activ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M4: CPU and all clocks disabled, RAM is retained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vice is said to b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ee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in low-power mode;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returning to active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6D19-74C1-4D2D-B60A-9474E52751E4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MSP430 Clock Mod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D321-C411-48D4-B6CC-F634BAFE2E8E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Picture 3" descr="MSP430_Low Power"/>
          <p:cNvPicPr/>
          <p:nvPr/>
        </p:nvPicPr>
        <p:blipFill>
          <a:blip r:embed="rId1"/>
          <a:stretch/>
        </p:blipFill>
        <p:spPr>
          <a:xfrm>
            <a:off x="469800" y="1382760"/>
            <a:ext cx="7302600" cy="4371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"/>
          <p:cNvPicPr/>
          <p:nvPr/>
        </p:nvPicPr>
        <p:blipFill>
          <a:blip r:embed="rId2"/>
          <a:stretch/>
        </p:blipFill>
        <p:spPr>
          <a:xfrm>
            <a:off x="5384880" y="4343400"/>
            <a:ext cx="3606840" cy="183528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7"/>
          <p:cNvSpPr/>
          <p:nvPr/>
        </p:nvSpPr>
        <p:spPr>
          <a:xfrm>
            <a:off x="838080" y="5791320"/>
            <a:ext cx="3429000" cy="685800"/>
          </a:xfrm>
          <a:prstGeom prst="wedgeRoundRectCallout">
            <a:avLst>
              <a:gd name="adj1" fmla="val 88287"/>
              <a:gd name="adj2" fmla="val -18750"/>
              <a:gd name="adj3" fmla="val 16667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nly uses 1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 during low clo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ess clocks means less power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98440" y="16200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ocks Off Power Savin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A259-688F-4742-B407-AF4E859C80A3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5" descr="MSP430_Low Power 2"/>
          <p:cNvPicPr/>
          <p:nvPr/>
        </p:nvPicPr>
        <p:blipFill>
          <a:blip r:embed="rId1"/>
          <a:stretch/>
        </p:blipFill>
        <p:spPr>
          <a:xfrm>
            <a:off x="723960" y="1644480"/>
            <a:ext cx="7696080" cy="4527720"/>
          </a:xfrm>
          <a:prstGeom prst="rect">
            <a:avLst/>
          </a:prstGeom>
          <a:ln w="0">
            <a:noFill/>
          </a:ln>
        </p:spPr>
      </p:pic>
      <p:grpSp>
        <p:nvGrpSpPr>
          <p:cNvPr id="424" name="Group 9"/>
          <p:cNvGrpSpPr/>
          <p:nvPr/>
        </p:nvGrpSpPr>
        <p:grpSpPr>
          <a:xfrm>
            <a:off x="5932440" y="3176640"/>
            <a:ext cx="2739960" cy="2284200"/>
            <a:chOff x="5932440" y="3176640"/>
            <a:chExt cx="2739960" cy="2284200"/>
          </a:xfrm>
        </p:grpSpPr>
        <p:sp>
          <p:nvSpPr>
            <p:cNvPr id="425" name="AutoShape 7"/>
            <p:cNvSpPr/>
            <p:nvPr/>
          </p:nvSpPr>
          <p:spPr>
            <a:xfrm>
              <a:off x="5932440" y="3176640"/>
              <a:ext cx="336600" cy="1716120"/>
            </a:xfrm>
            <a:prstGeom prst="octagon">
              <a:avLst>
                <a:gd name="adj" fmla="val 29287"/>
              </a:avLst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AutoShape 8"/>
            <p:cNvSpPr/>
            <p:nvPr/>
          </p:nvSpPr>
          <p:spPr>
            <a:xfrm>
              <a:off x="6721560" y="4979880"/>
              <a:ext cx="1950840" cy="480960"/>
            </a:xfrm>
            <a:prstGeom prst="wedgeRoundRectCallout">
              <a:avLst>
                <a:gd name="adj1" fmla="val -66435"/>
                <a:gd name="adj2" fmla="val -109736"/>
                <a:gd name="adj3" fmla="val 16667"/>
              </a:avLst>
            </a:prstGeom>
            <a:solidFill>
              <a:srgbClr val="ffff00"/>
            </a:solidFill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leep Mode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Group 13"/>
          <p:cNvGrpSpPr/>
          <p:nvPr/>
        </p:nvGrpSpPr>
        <p:grpSpPr>
          <a:xfrm>
            <a:off x="2655720" y="4295880"/>
            <a:ext cx="3148200" cy="1244520"/>
            <a:chOff x="2655720" y="4295880"/>
            <a:chExt cx="3148200" cy="1244520"/>
          </a:xfrm>
        </p:grpSpPr>
        <p:sp>
          <p:nvSpPr>
            <p:cNvPr id="428" name="AutoShape 11"/>
            <p:cNvSpPr/>
            <p:nvPr/>
          </p:nvSpPr>
          <p:spPr>
            <a:xfrm>
              <a:off x="5467320" y="4295880"/>
              <a:ext cx="336600" cy="641160"/>
            </a:xfrm>
            <a:prstGeom prst="octagon">
              <a:avLst>
                <a:gd name="adj" fmla="val 29287"/>
              </a:avLst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AutoShape 12"/>
            <p:cNvSpPr/>
            <p:nvPr/>
          </p:nvSpPr>
          <p:spPr>
            <a:xfrm>
              <a:off x="2655720" y="5059440"/>
              <a:ext cx="1951200" cy="480960"/>
            </a:xfrm>
            <a:prstGeom prst="wedgeRoundRectCallout">
              <a:avLst>
                <a:gd name="adj1" fmla="val 85555"/>
                <a:gd name="adj2" fmla="val -102143"/>
                <a:gd name="adj3" fmla="val 16667"/>
              </a:avLst>
            </a:prstGeom>
            <a:solidFill>
              <a:srgbClr val="ffff00"/>
            </a:solidFill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 Clocks!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0" name="Group 18"/>
          <p:cNvGrpSpPr/>
          <p:nvPr/>
        </p:nvGrpSpPr>
        <p:grpSpPr>
          <a:xfrm>
            <a:off x="163440" y="3792600"/>
            <a:ext cx="5176800" cy="1084320"/>
            <a:chOff x="163440" y="3792600"/>
            <a:chExt cx="5176800" cy="1084320"/>
          </a:xfrm>
        </p:grpSpPr>
        <p:sp>
          <p:nvSpPr>
            <p:cNvPr id="431" name="AutoShape 15"/>
            <p:cNvSpPr/>
            <p:nvPr/>
          </p:nvSpPr>
          <p:spPr>
            <a:xfrm>
              <a:off x="4546440" y="3792600"/>
              <a:ext cx="793800" cy="444600"/>
            </a:xfrm>
            <a:prstGeom prst="octagon">
              <a:avLst>
                <a:gd name="adj" fmla="val 29287"/>
              </a:avLst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AutoShape 16"/>
            <p:cNvSpPr/>
            <p:nvPr/>
          </p:nvSpPr>
          <p:spPr>
            <a:xfrm>
              <a:off x="163440" y="4137120"/>
              <a:ext cx="1951200" cy="739800"/>
            </a:xfrm>
            <a:prstGeom prst="wedgeRoundRectCallout">
              <a:avLst>
                <a:gd name="adj1" fmla="val 167250"/>
                <a:gd name="adj2" fmla="val -63736"/>
                <a:gd name="adj3" fmla="val 16667"/>
              </a:avLst>
            </a:prstGeom>
            <a:solidFill>
              <a:srgbClr val="ffff00"/>
            </a:solidFill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nly ACLK Ac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Group 22"/>
          <p:cNvGrpSpPr/>
          <p:nvPr/>
        </p:nvGrpSpPr>
        <p:grpSpPr>
          <a:xfrm>
            <a:off x="216000" y="2585880"/>
            <a:ext cx="5126040" cy="1038240"/>
            <a:chOff x="216000" y="2585880"/>
            <a:chExt cx="5126040" cy="1038240"/>
          </a:xfrm>
        </p:grpSpPr>
        <p:sp>
          <p:nvSpPr>
            <p:cNvPr id="434" name="AutoShape 20"/>
            <p:cNvSpPr/>
            <p:nvPr/>
          </p:nvSpPr>
          <p:spPr>
            <a:xfrm>
              <a:off x="4548240" y="3179880"/>
              <a:ext cx="793800" cy="444240"/>
            </a:xfrm>
            <a:prstGeom prst="octagon">
              <a:avLst>
                <a:gd name="adj" fmla="val 29287"/>
              </a:avLst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AutoShape 21"/>
            <p:cNvSpPr/>
            <p:nvPr/>
          </p:nvSpPr>
          <p:spPr>
            <a:xfrm>
              <a:off x="216000" y="2585880"/>
              <a:ext cx="1950840" cy="739800"/>
            </a:xfrm>
            <a:prstGeom prst="wedgeRoundRectCallout">
              <a:avLst>
                <a:gd name="adj1" fmla="val 165949"/>
                <a:gd name="adj2" fmla="val 46351"/>
                <a:gd name="adj3" fmla="val 16667"/>
              </a:avLst>
            </a:prstGeom>
            <a:solidFill>
              <a:srgbClr val="ffff00"/>
            </a:solidFill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MCLK and ACLK Ac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98440" y="3049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Lower Power Savin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31640" y="1407960"/>
            <a:ext cx="848376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, powering your system with lower voltages means lower power consumption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61DB-406F-48FD-8C92-972BA31962C0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Picture 6" descr="low_power"/>
          <p:cNvPicPr/>
          <p:nvPr/>
        </p:nvPicPr>
        <p:blipFill>
          <a:blip r:embed="rId1"/>
          <a:stretch/>
        </p:blipFill>
        <p:spPr>
          <a:xfrm>
            <a:off x="533520" y="2514600"/>
            <a:ext cx="81532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rinciples of Low-Power App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31280" y="1409760"/>
            <a:ext cx="86108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the time in LPM3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rupts to wake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n peripherals only whe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ow-power integrated periph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_A and Timer_B for PW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branches instead of flag p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table look-ups instead of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frequent subroutine and function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software routines should use single-cycle CPU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3B0D-A826-45E6-8EED-6DD1E124F7AB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etting Low-Power Mod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15440" y="1409400"/>
            <a:ext cx="8610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low-power mode puts the microcontroller “to sleep” – so usually, interrupts would need to be enabl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LPM3 and enable interrupts using assembl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LPM3 and enable interrupts using C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81FB-1000-4BF4-B759-5F402A16F7EB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838080" y="373392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able interrupts / enter low-power mode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s.b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#LPM3+GIE,S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; LPM3 w/interru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838080" y="5318280"/>
            <a:ext cx="804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474192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/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able interrupts / enter low-power mode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474192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bis_SR_register(LPM3_bits + GI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im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timing is fundamental for real-tim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SP430F2274 has 2 timers, namely Timer_A and Timer_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rs may be triggered by internal or external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_A and Timer_B also include multiple independent capture/compare blocks that are used for applications such as timed events and Pulse Width Modulation (PW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C23C-7754-4D79-AADD-12C4C1B1844A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im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applications of timers ar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events of fixed time-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eriodic wakeup from sleep of the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transitional signal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delay loops allowing the CPU to sleep between operations, consuming less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synchronization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AE40-E59C-4A23-9692-FADFB910949A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1990-0949-48A5-B06A-B337C4422EBE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ample that does not 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_SlaveReceive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Wait for reception complet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!(SPSR &amp; (1&lt;&lt;SPIF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Return data regist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busy waiting until a byte is received the processor can generate an interrupt when it sets SP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(SIG_SPI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_Byte = SP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6633"/>
                </a:solidFill>
                <a:latin typeface="Garamond"/>
              </a:rPr>
              <a:t>TxCTL Control Regis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65D9-A206-4BCC-A254-4094A5837478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31640" y="2338560"/>
          <a:ext cx="8475840" cy="4084560"/>
        </p:xfrm>
        <a:graphic>
          <a:graphicData uri="http://schemas.openxmlformats.org/drawingml/2006/table">
            <a:tbl>
              <a:tblPr/>
              <a:tblGrid>
                <a:gridCol w="655920"/>
                <a:gridCol w="1123920"/>
                <a:gridCol w="669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xSSEL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r_x clock source:</a:t>
                      </a: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 0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xCL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 1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CL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0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MCL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1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CLK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ck signal divider: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 0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/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 1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/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0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/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1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/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C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ck timer operating mode: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 0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top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 1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p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0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ontinuous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1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p/down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xCL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r_x clear when TxCLR 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x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r_x interrupt enable when TxIE 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xIF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r_x interrupt pending when TxIFG 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23720" y="1414440"/>
          <a:ext cx="8491680" cy="736560"/>
        </p:xfrm>
        <a:graphic>
          <a:graphicData uri="http://schemas.openxmlformats.org/drawingml/2006/table">
            <a:tbl>
              <a:tblPr/>
              <a:tblGrid>
                <a:gridCol w="530280"/>
                <a:gridCol w="532080"/>
                <a:gridCol w="529920"/>
                <a:gridCol w="530280"/>
                <a:gridCol w="531720"/>
                <a:gridCol w="530280"/>
                <a:gridCol w="530280"/>
                <a:gridCol w="531720"/>
                <a:gridCol w="530280"/>
                <a:gridCol w="530280"/>
                <a:gridCol w="530280"/>
                <a:gridCol w="531720"/>
                <a:gridCol w="530280"/>
                <a:gridCol w="530280"/>
                <a:gridCol w="531720"/>
                <a:gridCol w="5302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d by Timer_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SSEL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CL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IF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6633"/>
                </a:solidFill>
                <a:latin typeface="Garamond"/>
              </a:rPr>
              <a:t>4 Modes of Oper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31640" y="1407960"/>
            <a:ext cx="816480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reset by writing a 0 to Tx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 timer operating mo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541440" y="2577960"/>
          <a:ext cx="8188200" cy="3260880"/>
        </p:xfrm>
        <a:graphic>
          <a:graphicData uri="http://schemas.openxmlformats.org/drawingml/2006/table">
            <a:tbl>
              <a:tblPr/>
              <a:tblGrid>
                <a:gridCol w="928440"/>
                <a:gridCol w="1760760"/>
                <a:gridCol w="5499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C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 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timer is halt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 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timer repeatedly counts from 0x0000 to the value in the TxCCR0 regist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timer repeatedly counts from 0x0000 to 0xFFF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 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/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timer repeatedly counts from 0x0000 to the value in the TxCCR0 register and back down to zer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Date Placeholder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AE80-5CD8-4B3B-BB25-5F018ED9B4EA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imer Mod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36320" y="1428840"/>
            <a:ext cx="24001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ous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/Dow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BA0E-15C9-4A6E-8D1C-696E6BA8A7F0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0" y="53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tretch/>
        </p:blipFill>
        <p:spPr>
          <a:xfrm>
            <a:off x="2603520" y="4879800"/>
            <a:ext cx="5662440" cy="17510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"/>
          <p:cNvPicPr/>
          <p:nvPr/>
        </p:nvPicPr>
        <p:blipFill>
          <a:blip r:embed="rId2"/>
          <a:stretch/>
        </p:blipFill>
        <p:spPr>
          <a:xfrm>
            <a:off x="2670120" y="3086280"/>
            <a:ext cx="5573880" cy="18255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"/>
          <p:cNvPicPr/>
          <p:nvPr/>
        </p:nvPicPr>
        <p:blipFill>
          <a:blip r:embed="rId3"/>
          <a:stretch/>
        </p:blipFill>
        <p:spPr>
          <a:xfrm>
            <a:off x="2573280" y="1249200"/>
            <a:ext cx="5523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Timer_A Exampl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31640" y="1318680"/>
            <a:ext cx="816480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imer A to interrupt every 1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41DD-7868-42D7-88FB-1E3EF1B07151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25280" y="1873080"/>
            <a:ext cx="901872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MCLK    .set  1200000        ; 1200000 clocks / seco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_1MS .set  1000           ; 1 ms = 1/1000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_CTL   .set  TASSEL_2+ID_0+MC_1+TAIE ; SMCLK, /1, UP, 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_FREQ  .set  SMCLK/TIME_1MS ; clocks / 1 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r.w  &amp;TAR               ; reset time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.w  #TA_CTL,&amp;TACTL     ; set timerA control re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.w  #TA_FREQ,&amp;TACCR0   ; set interval (frequenc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s.w  #LPM0+GIE,SR       ; enter LPM0 w/interrup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$                  ; will never get here! (CPU is of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276120" y="4751280"/>
            <a:ext cx="79488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_isr:                       ; timer A IS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c.w  #TAIFG,&amp;TACTL      ; acknowledge interru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  &lt;&lt;add interrupt code here&gt;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ect  ".int08"           ; timer A s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852480"/>
                <a:tab algn="l" pos="18288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word  TA_isr             ; timer A is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ulse Width Modulation (PWM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06440" y="1412640"/>
            <a:ext cx="846144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width modulation (PWM) is used to control analog circuits with a processor's digital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M is a technique of digitally encoding analog sign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uty cycle of a square wave is modulated to encode a specific analog sig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WM signal is still digital because, at any given instant of time, the full DC supply is either fully on or fully o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ltage or current source is supplied to the analog load by means of a repeating series of on and off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sufficient bandwidth, any analog value can be encoded with PW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4E0B-C28C-424B-B898-4B2F1C930365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WM Machin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D7A2-9909-43FD-99DD-8CD9E233713B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2" name="Picture 4" descr="PWM - Tire Pump"/>
          <p:cNvPicPr/>
          <p:nvPr/>
        </p:nvPicPr>
        <p:blipFill>
          <a:blip r:embed="rId1"/>
          <a:stretch/>
        </p:blipFill>
        <p:spPr>
          <a:xfrm>
            <a:off x="762120" y="3581280"/>
            <a:ext cx="1819080" cy="25909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PWM - Hot air balloon"/>
          <p:cNvPicPr/>
          <p:nvPr/>
        </p:nvPicPr>
        <p:blipFill>
          <a:blip r:embed="rId2"/>
          <a:stretch/>
        </p:blipFill>
        <p:spPr>
          <a:xfrm>
            <a:off x="2895480" y="1371600"/>
            <a:ext cx="1865520" cy="25146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PWM - Slide"/>
          <p:cNvPicPr/>
          <p:nvPr/>
        </p:nvPicPr>
        <p:blipFill>
          <a:blip r:embed="rId3"/>
          <a:stretch/>
        </p:blipFill>
        <p:spPr>
          <a:xfrm>
            <a:off x="4800600" y="3809880"/>
            <a:ext cx="3666960" cy="2540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8" descr="PWM - Pills"/>
          <p:cNvPicPr/>
          <p:nvPr/>
        </p:nvPicPr>
        <p:blipFill>
          <a:blip r:embed="rId4"/>
          <a:stretch/>
        </p:blipFill>
        <p:spPr>
          <a:xfrm>
            <a:off x="6858000" y="1371600"/>
            <a:ext cx="1778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WM – Frequency/Duty Cycl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F9DB-FCA0-4535-A651-7B078CA2C37D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0" name="Picture 3" descr="PWMFigure1"/>
          <p:cNvPicPr/>
          <p:nvPr/>
        </p:nvPicPr>
        <p:blipFill>
          <a:blip r:embed="rId1"/>
          <a:stretch/>
        </p:blipFill>
        <p:spPr>
          <a:xfrm>
            <a:off x="762120" y="1260360"/>
            <a:ext cx="7391160" cy="489132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23"/>
          <p:cNvGrpSpPr/>
          <p:nvPr/>
        </p:nvGrpSpPr>
        <p:grpSpPr>
          <a:xfrm>
            <a:off x="990720" y="1752480"/>
            <a:ext cx="6705360" cy="4572000"/>
            <a:chOff x="990720" y="1752480"/>
            <a:chExt cx="6705360" cy="4572000"/>
          </a:xfrm>
        </p:grpSpPr>
        <p:sp>
          <p:nvSpPr>
            <p:cNvPr id="512" name="Line 6"/>
            <p:cNvSpPr/>
            <p:nvPr/>
          </p:nvSpPr>
          <p:spPr>
            <a:xfrm>
              <a:off x="990720" y="1752480"/>
              <a:ext cx="0" cy="4572000"/>
            </a:xfrm>
            <a:prstGeom prst="line">
              <a:avLst/>
            </a:prstGeom>
            <a:ln w="572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>
              <a:off x="2666880" y="1752480"/>
              <a:ext cx="0" cy="4572000"/>
            </a:xfrm>
            <a:prstGeom prst="line">
              <a:avLst/>
            </a:prstGeom>
            <a:ln w="572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>
              <a:off x="4343400" y="1752480"/>
              <a:ext cx="0" cy="4572000"/>
            </a:xfrm>
            <a:prstGeom prst="line">
              <a:avLst/>
            </a:prstGeom>
            <a:ln w="572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Line 9"/>
            <p:cNvSpPr/>
            <p:nvPr/>
          </p:nvSpPr>
          <p:spPr>
            <a:xfrm>
              <a:off x="6019920" y="1752480"/>
              <a:ext cx="0" cy="4572000"/>
            </a:xfrm>
            <a:prstGeom prst="line">
              <a:avLst/>
            </a:prstGeom>
            <a:ln w="572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0"/>
            <p:cNvSpPr/>
            <p:nvPr/>
          </p:nvSpPr>
          <p:spPr>
            <a:xfrm>
              <a:off x="7696080" y="1752480"/>
              <a:ext cx="0" cy="4572000"/>
            </a:xfrm>
            <a:prstGeom prst="line">
              <a:avLst/>
            </a:prstGeom>
            <a:ln w="572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7" name="Group 13"/>
            <p:cNvGrpSpPr/>
            <p:nvPr/>
          </p:nvGrpSpPr>
          <p:grpSpPr>
            <a:xfrm>
              <a:off x="990720" y="2819520"/>
              <a:ext cx="1676160" cy="368280"/>
              <a:chOff x="990720" y="2819520"/>
              <a:chExt cx="1676160" cy="368280"/>
            </a:xfrm>
          </p:grpSpPr>
          <p:sp>
            <p:nvSpPr>
              <p:cNvPr id="518" name="Line 11"/>
              <p:cNvSpPr/>
              <p:nvPr/>
            </p:nvSpPr>
            <p:spPr>
              <a:xfrm>
                <a:off x="990720" y="2819520"/>
                <a:ext cx="1676160" cy="0"/>
              </a:xfrm>
              <a:prstGeom prst="line">
                <a:avLst/>
              </a:prstGeom>
              <a:ln w="38160">
                <a:solidFill>
                  <a:srgbClr val="9966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" name="Text Box 12"/>
              <p:cNvSpPr/>
              <p:nvPr/>
            </p:nvSpPr>
            <p:spPr>
              <a:xfrm>
                <a:off x="990720" y="2819520"/>
                <a:ext cx="167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6600"/>
                    </a:solidFill>
                    <a:latin typeface="SymbolPS"/>
                    <a:ea typeface="SymbolPS"/>
                  </a:rPr>
                  <a:t></a:t>
                </a:r>
                <a:r>
                  <a:rPr b="1" lang="en-US" sz="1800" spc="-1" strike="noStrike">
                    <a:solidFill>
                      <a:srgbClr val="996600"/>
                    </a:solidFill>
                    <a:latin typeface="Tahoma"/>
                  </a:rPr>
                  <a:t> </a:t>
                </a:r>
                <a:r>
                  <a:rPr b="1" lang="en-US" sz="1800" spc="-1" strike="noStrike">
                    <a:solidFill>
                      <a:srgbClr val="996600"/>
                    </a:solidFill>
                    <a:latin typeface="Tahoma"/>
                  </a:rPr>
                  <a:t>Frequency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20" name="Group 24"/>
          <p:cNvGrpSpPr/>
          <p:nvPr/>
        </p:nvGrpSpPr>
        <p:grpSpPr>
          <a:xfrm>
            <a:off x="2666880" y="2514240"/>
            <a:ext cx="1828800" cy="3352680"/>
            <a:chOff x="2666880" y="2514240"/>
            <a:chExt cx="1828800" cy="3352680"/>
          </a:xfrm>
        </p:grpSpPr>
        <p:sp>
          <p:nvSpPr>
            <p:cNvPr id="521" name="Line 14"/>
            <p:cNvSpPr/>
            <p:nvPr/>
          </p:nvSpPr>
          <p:spPr>
            <a:xfrm flipV="1">
              <a:off x="3505320" y="2514240"/>
              <a:ext cx="0" cy="22860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15"/>
            <p:cNvSpPr/>
            <p:nvPr/>
          </p:nvSpPr>
          <p:spPr>
            <a:xfrm>
              <a:off x="3124080" y="2514600"/>
              <a:ext cx="838440" cy="0"/>
            </a:xfrm>
            <a:prstGeom prst="line">
              <a:avLst/>
            </a:prstGeom>
            <a:ln w="57240">
              <a:solidFill>
                <a:srgbClr val="99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16"/>
            <p:cNvSpPr/>
            <p:nvPr/>
          </p:nvSpPr>
          <p:spPr>
            <a:xfrm flipV="1">
              <a:off x="3505320" y="3885840"/>
              <a:ext cx="0" cy="30492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17"/>
            <p:cNvSpPr/>
            <p:nvPr/>
          </p:nvSpPr>
          <p:spPr>
            <a:xfrm>
              <a:off x="3124080" y="3886200"/>
              <a:ext cx="838440" cy="0"/>
            </a:xfrm>
            <a:prstGeom prst="line">
              <a:avLst/>
            </a:prstGeom>
            <a:ln w="57240">
              <a:solidFill>
                <a:srgbClr val="99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 flipV="1">
              <a:off x="3505320" y="5257440"/>
              <a:ext cx="0" cy="60948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19"/>
            <p:cNvSpPr/>
            <p:nvPr/>
          </p:nvSpPr>
          <p:spPr>
            <a:xfrm>
              <a:off x="3124080" y="5257800"/>
              <a:ext cx="838440" cy="0"/>
            </a:xfrm>
            <a:prstGeom prst="line">
              <a:avLst/>
            </a:prstGeom>
            <a:ln w="57240">
              <a:solidFill>
                <a:srgbClr val="99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Text Box 20"/>
            <p:cNvSpPr/>
            <p:nvPr/>
          </p:nvSpPr>
          <p:spPr>
            <a:xfrm>
              <a:off x="2666880" y="48006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99"/>
                  </a:solidFill>
                  <a:latin typeface="Wingdings"/>
                  <a:ea typeface="Wingdings"/>
                </a:rPr>
                <a:t></a:t>
              </a:r>
              <a:r>
                <a:rPr b="1" lang="en-US" sz="1800" spc="-1" strike="noStrike">
                  <a:solidFill>
                    <a:srgbClr val="990099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990099"/>
                  </a:solidFill>
                  <a:latin typeface="Tahoma"/>
                </a:rPr>
                <a:t>Duty Cycl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8" name="Group 25"/>
          <p:cNvGrpSpPr/>
          <p:nvPr/>
        </p:nvGrpSpPr>
        <p:grpSpPr>
          <a:xfrm>
            <a:off x="990720" y="6248520"/>
            <a:ext cx="7315200" cy="368280"/>
            <a:chOff x="990720" y="6248520"/>
            <a:chExt cx="7315200" cy="368280"/>
          </a:xfrm>
        </p:grpSpPr>
        <p:sp>
          <p:nvSpPr>
            <p:cNvPr id="529" name="Line 21"/>
            <p:cNvSpPr/>
            <p:nvPr/>
          </p:nvSpPr>
          <p:spPr>
            <a:xfrm>
              <a:off x="990720" y="6248520"/>
              <a:ext cx="73152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Text Box 22"/>
            <p:cNvSpPr/>
            <p:nvPr/>
          </p:nvSpPr>
          <p:spPr>
            <a:xfrm>
              <a:off x="3200400" y="62485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SymbolPS"/>
                  <a:ea typeface="SymbolPS"/>
                </a:rPr>
                <a:t>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Tahoma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atchdog Tim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64760" y="1425240"/>
            <a:ext cx="845028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function of the watchdog timer+ (WDT+) module is to perform a controlled system restart after a software problem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elected time interval expires, a system reset is gene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watchdog function is not needed in an application, the module can be configured as an interval timer and can generate interrupts at selected time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ACFB-E6D6-4495-BDFC-29A19531A588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atchdog Tim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22280" y="1413000"/>
            <a:ext cx="8516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of the watchdog timer+ module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software-selectable time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dog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WDT+ control register is password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f RST/NMI pi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able clock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topped to conserv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fail-safe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3437-2CE6-493A-8F3E-EAE4EC532A84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atchdog Power-up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41000" y="1423800"/>
            <a:ext cx="84740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 power-up cycle (PUC), the WDT+ module is automatically configured in the watchdog mode with an initial 32768 clock cycle reset interval using the DCOC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r must setup or halt the WDT+ prior to the expiration of the initial reset inter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BBBF-7B86-4C79-B323-C9548DCC8CBD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5" descr="watchdog"/>
          <p:cNvPicPr/>
          <p:nvPr/>
        </p:nvPicPr>
        <p:blipFill>
          <a:blip r:embed="rId1"/>
          <a:stretch/>
        </p:blipFill>
        <p:spPr>
          <a:xfrm>
            <a:off x="3505320" y="4233960"/>
            <a:ext cx="19335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276F-8D0A-4449-96CA-75B26A9860E9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aving and Restoring Contex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and compiler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find ISR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terrupts have separate IS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oes dispatc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address for each interrupt 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directly by process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op-level IS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statement on interrup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x of these two extre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98440" y="3049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witch Debounc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B6BB-2767-4E14-AF29-2C079D37EFA0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1" name="Picture 3" descr="butbounc"/>
          <p:cNvPicPr/>
          <p:nvPr/>
        </p:nvPicPr>
        <p:blipFill>
          <a:blip r:embed="rId1"/>
          <a:stretch/>
        </p:blipFill>
        <p:spPr>
          <a:xfrm>
            <a:off x="1219320" y="1528920"/>
            <a:ext cx="5938560" cy="4946400"/>
          </a:xfrm>
          <a:prstGeom prst="rect">
            <a:avLst/>
          </a:prstGeom>
          <a:ln w="0">
            <a:noFill/>
          </a:ln>
        </p:spPr>
      </p:pic>
      <p:sp>
        <p:nvSpPr>
          <p:cNvPr id="552" name="AutoShape 5"/>
          <p:cNvSpPr/>
          <p:nvPr/>
        </p:nvSpPr>
        <p:spPr>
          <a:xfrm>
            <a:off x="571680" y="5772240"/>
            <a:ext cx="4241520" cy="639720"/>
          </a:xfrm>
          <a:prstGeom prst="wedgeRoundRectCallout">
            <a:avLst>
              <a:gd name="adj1" fmla="val 50750"/>
              <a:gd name="adj2" fmla="val -136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witch “debounded” after signal remains low/high for specified 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AutoShape 6"/>
          <p:cNvSpPr/>
          <p:nvPr/>
        </p:nvSpPr>
        <p:spPr>
          <a:xfrm rot="5400000">
            <a:off x="4771800" y="4657680"/>
            <a:ext cx="114480" cy="822240"/>
          </a:xfrm>
          <a:custGeom>
            <a:avLst/>
            <a:gdLst>
              <a:gd name="textAreaLeft" fmla="*/ 0 w 114480"/>
              <a:gd name="textAreaRight" fmla="*/ 41400 w 114480"/>
              <a:gd name="textAreaTop" fmla="*/ 21240 h 822240"/>
              <a:gd name="textAreaBottom" fmla="*/ 8010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66"/>
                </a:lnTo>
                <a:cubicBezTo>
                  <a:pt x="10800" y="9766"/>
                  <a:pt x="16200" y="10666"/>
                  <a:pt x="21600" y="10666"/>
                </a:cubicBezTo>
                <a:cubicBezTo>
                  <a:pt x="16200" y="10666"/>
                  <a:pt x="10800" y="11566"/>
                  <a:pt x="10800" y="1246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98440" y="3049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witch Debounc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31640" y="1407600"/>
            <a:ext cx="84837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little CPU overhead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of them all: read the switch once every 500 ms or so, and set a flag indicating the input’s state. No reasonable switch will bounce that long.  (Yuck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count on every off/on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debounced if count reaches stabl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before looking for next transi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Tahoma"/>
              </a:rPr>
              <a:t>MSP430 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8905-846D-46A6-8DC8-1D81B0A8C2FB}" type="slidenum">
              <a:rPr b="0" lang="en-US" sz="1200" spc="-1" strike="noStrike">
                <a:solidFill>
                  <a:srgbClr val="00663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6255-05F0-45BA-ABA3-32A5E8B43A83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Saving and Restoring Contex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ontext to s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, flags, program count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ll or part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needed between ISR and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should it be sa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, special memory locations, shadow registe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room will be needed on the st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 interrupts may make stack reach its limit – what t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e context when ISR compl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7211-3B5C-433B-A0F1-DA62A5FF3609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gnoring 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terrupts be igno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pends on the cause of the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, for nuclear power plant temperature w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or keypad on cell phone (human timescale is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ervicing another inte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others un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take too long – keep ISRs as short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3261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do a quick count, or read, or write – not a long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disa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ignored interrupt “stick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3261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edge sets a flip-fl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will it be gone when you get to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3261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hanges again and its as if it never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to re-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39AD-02F1-4777-BBA6-26337E8BBC03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rioritizing Interrup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ultiple interrupts happen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serviced fir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or flexible prior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riority can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priority ca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able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bother me with that right n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interrupts are maskable, some are non-mask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1541-3A8D-4271-A934-11C9852B6A81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nterrupts in the MSP430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/O pins of micro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com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ing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 s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2:59:00Z</dcterms:created>
  <dc:creator>Paul Roper</dc:creator>
  <dc:description/>
  <dc:language>en-US</dc:language>
  <cp:lastModifiedBy>Bruce Hemingway</cp:lastModifiedBy>
  <cp:lastPrinted>2010-10-08T04:29:29Z</cp:lastPrinted>
  <dcterms:modified xsi:type="dcterms:W3CDTF">2010-10-13T04:17:12Z</dcterms:modified>
  <cp:revision>422</cp:revision>
  <dc:subject/>
  <dc:title>Chapter 09 - Interrupts</dc:title>
</cp:coreProperties>
</file>