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25F8-A782-4882-9AB2-951CAE0BA3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r>
              <a:rPr b="0" lang="en-US" sz="3200" spc="-1" strike="noStrike">
                <a:solidFill>
                  <a:srgbClr val="000000"/>
                </a:solidFill>
                <a:latin typeface="Fenc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finite-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re versus Mealy mach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ous Mealy mach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A parity check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A sequence detector F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A vending machine F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Ms in Verilo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376360" y="1706400"/>
            <a:ext cx="414036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1143000"/>
                <a:tab algn="l" pos="1600200"/>
                <a:tab algn="l" pos="22860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      out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5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5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5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44680" y="2274840"/>
            <a:ext cx="408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21160" y="1684440"/>
            <a:ext cx="0" cy="435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b. Symbolic state-transition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State min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475776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use states where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we can use the deposited coin values for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is the same if we input 2 nickels or 1 d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243480" y="2548080"/>
            <a:ext cx="601920" cy="601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544800" y="2096640"/>
            <a:ext cx="1080" cy="45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6545160" y="1919160"/>
            <a:ext cx="6717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43480" y="3449520"/>
            <a:ext cx="601920" cy="601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45160" y="3122640"/>
            <a:ext cx="314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1" idx="4"/>
            <a:endCxn id="244" idx="0"/>
          </p:cNvCxnSpPr>
          <p:nvPr/>
        </p:nvCxnSpPr>
        <p:spPr>
          <a:xfrm>
            <a:off x="6544800" y="3158640"/>
            <a:ext cx="1080" cy="28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6551280" y="4025880"/>
            <a:ext cx="3034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4"/>
            <a:endCxn id="249" idx="0"/>
          </p:cNvCxnSpPr>
          <p:nvPr/>
        </p:nvCxnSpPr>
        <p:spPr>
          <a:xfrm>
            <a:off x="6544800" y="406044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6514200" y="4927680"/>
            <a:ext cx="7909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4"/>
            <a:endCxn id="252" idx="0"/>
          </p:cNvCxnSpPr>
          <p:nvPr/>
        </p:nvCxnSpPr>
        <p:spPr>
          <a:xfrm>
            <a:off x="6544800" y="496368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6243480" y="4352760"/>
            <a:ext cx="601920" cy="601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21600" y="3498840"/>
            <a:ext cx="3175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1" idx="6"/>
            <a:endCxn id="249" idx="6"/>
          </p:cNvCxnSpPr>
          <p:nvPr/>
        </p:nvCxnSpPr>
        <p:spPr>
          <a:xfrm>
            <a:off x="6854400" y="2849400"/>
            <a:ext cx="2520" cy="1805760"/>
          </a:xfrm>
          <a:prstGeom prst="curvedConnector5">
            <a:avLst>
              <a:gd name="adj1" fmla="val 13800000"/>
              <a:gd name="adj2" fmla="val 49990"/>
              <a:gd name="adj3" fmla="val 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6243480" y="5256360"/>
            <a:ext cx="601920" cy="601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ope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67480" y="4476600"/>
            <a:ext cx="3175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/>
          <p:nvPr/>
        </p:nvCxnSpPr>
        <p:spPr>
          <a:xfrm flipH="1" flipV="1" rot="10800000">
            <a:off x="6242400" y="3750840"/>
            <a:ext cx="2520" cy="1805760"/>
          </a:xfrm>
          <a:prstGeom prst="curvedConnector5">
            <a:avLst>
              <a:gd name="adj1" fmla="val -14400000"/>
              <a:gd name="adj2" fmla="val 49990"/>
              <a:gd name="adj3" fmla="val -144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State enc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88880" y="1703520"/>
            <a:ext cx="3657600" cy="262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e states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stat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31400" indent="-21708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bits minim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31400" indent="-21708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bits maxim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 for optimal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ssume D flip-fl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4449600" y="1778040"/>
            <a:ext cx="423864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46800" bIns="27000" anchor="t">
            <a:noAutofit/>
          </a:bodyPr>
          <a:p>
            <a:pPr>
              <a:lnSpc>
                <a:spcPts val="1800"/>
              </a:lnSpc>
              <a:spcAft>
                <a:spcPts val="2001"/>
              </a:spcAft>
              <a:tabLst>
                <a:tab algn="l" pos="0"/>
                <a:tab algn="l" pos="228600"/>
                <a:tab algn="l" pos="571680"/>
                <a:tab algn="l" pos="1371600"/>
                <a:tab algn="l" pos="1828800"/>
                <a:tab algn="l" pos="2286000"/>
                <a:tab algn="l" pos="2400480"/>
                <a:tab algn="l" pos="27432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pu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0 Q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1 P0       out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78400" y="2260440"/>
            <a:ext cx="42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52840" y="3179880"/>
            <a:ext cx="425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52840" y="4094280"/>
            <a:ext cx="424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40240" y="5008680"/>
            <a:ext cx="424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62880" y="1844640"/>
            <a:ext cx="0" cy="352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Minimize the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2633760" y="3112920"/>
            <a:ext cx="431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59080" y="2633760"/>
            <a:ext cx="12315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1199"/>
              </a:spcAft>
              <a:tabLst>
                <a:tab algn="l" pos="0"/>
                <a:tab algn="l" pos="279360"/>
                <a:tab algn="l" pos="62244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spcAft>
                <a:spcPts val="1199"/>
              </a:spcAft>
              <a:tabLst>
                <a:tab algn="l" pos="0"/>
                <a:tab algn="l" pos="279360"/>
                <a:tab algn="l" pos="62244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spcAft>
                <a:spcPts val="1199"/>
              </a:spcAft>
              <a:tabLst>
                <a:tab algn="l" pos="0"/>
                <a:tab algn="l" pos="279360"/>
                <a:tab algn="l" pos="62244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spcAft>
                <a:spcPts val="1199"/>
              </a:spcAft>
              <a:tabLst>
                <a:tab algn="l" pos="0"/>
                <a:tab algn="l" pos="279360"/>
                <a:tab algn="l" pos="62244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44600" y="3233880"/>
            <a:ext cx="660240" cy="66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44600" y="355752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668600" y="322092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04840" y="3233880"/>
            <a:ext cx="673200" cy="66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04840" y="3557520"/>
            <a:ext cx="66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341440" y="322092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44600" y="2573280"/>
            <a:ext cx="660240" cy="66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44600" y="289728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668600" y="25606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04840" y="2573280"/>
            <a:ext cx="673200" cy="66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04840" y="2897280"/>
            <a:ext cx="66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341440" y="25606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04840" y="211608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1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9080" y="242100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87640" y="2147760"/>
            <a:ext cx="4190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74760" y="2363760"/>
            <a:ext cx="4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04880" y="2363760"/>
            <a:ext cx="495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35000" y="2363760"/>
            <a:ext cx="495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39920" y="2363760"/>
            <a:ext cx="495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43120" y="2630520"/>
            <a:ext cx="495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0160" y="2948040"/>
            <a:ext cx="495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68320" y="3265560"/>
            <a:ext cx="4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68320" y="3608280"/>
            <a:ext cx="4572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1115640" y="23443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04840" y="2351160"/>
            <a:ext cx="66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74720" y="396396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20600" y="323388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35280" y="2903400"/>
            <a:ext cx="0" cy="6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1240" y="3456000"/>
            <a:ext cx="3812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5320" y="3970440"/>
            <a:ext cx="3938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20760" y="1681200"/>
            <a:ext cx="1219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-map for 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09960" y="1693800"/>
            <a:ext cx="119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K-map for P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49880" y="3125880"/>
            <a:ext cx="431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75200" y="2646360"/>
            <a:ext cx="1231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1199"/>
              </a:spcAft>
              <a:tabLst>
                <a:tab algn="l" pos="0"/>
                <a:tab algn="l" pos="279360"/>
                <a:tab algn="l" pos="62244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spcAft>
                <a:spcPts val="1199"/>
              </a:spcAft>
              <a:tabLst>
                <a:tab algn="l" pos="0"/>
                <a:tab algn="l" pos="279360"/>
                <a:tab algn="l" pos="62244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spcAft>
                <a:spcPts val="1199"/>
              </a:spcAft>
              <a:tabLst>
                <a:tab algn="l" pos="0"/>
                <a:tab algn="l" pos="279360"/>
                <a:tab algn="l" pos="62244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spcAft>
                <a:spcPts val="1199"/>
              </a:spcAft>
              <a:tabLst>
                <a:tab algn="l" pos="0"/>
                <a:tab algn="l" pos="279360"/>
                <a:tab algn="l" pos="62244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60720" y="3246480"/>
            <a:ext cx="660600" cy="66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0720" y="357012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284720" y="323352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21320" y="3246480"/>
            <a:ext cx="672840" cy="66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21320" y="357012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957920" y="323352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60720" y="2585880"/>
            <a:ext cx="660600" cy="66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0720" y="290988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84720" y="25732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21320" y="2585880"/>
            <a:ext cx="672840" cy="66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21320" y="290988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957920" y="25732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20960" y="2128680"/>
            <a:ext cx="533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1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35200" y="243360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03760" y="2160720"/>
            <a:ext cx="419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90880" y="2376360"/>
            <a:ext cx="4572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21000" y="2376360"/>
            <a:ext cx="4953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51480" y="2376360"/>
            <a:ext cx="4953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56040" y="2376360"/>
            <a:ext cx="4953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59240" y="2643120"/>
            <a:ext cx="495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46640" y="2960640"/>
            <a:ext cx="495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84440" y="3278160"/>
            <a:ext cx="4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84440" y="3621240"/>
            <a:ext cx="4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3731760" y="2356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21320" y="236376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90840" y="39765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37080" y="324648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51400" y="291636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57720" y="3468600"/>
            <a:ext cx="380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1800" y="3983040"/>
            <a:ext cx="3934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23200" y="171936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-map for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929720" y="3138480"/>
            <a:ext cx="431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73760" y="2658960"/>
            <a:ext cx="1231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1199"/>
              </a:spcAft>
              <a:tabLst>
                <a:tab algn="l" pos="0"/>
                <a:tab algn="l" pos="279360"/>
                <a:tab algn="l" pos="62244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spcAft>
                <a:spcPts val="1199"/>
              </a:spcAft>
              <a:tabLst>
                <a:tab algn="l" pos="0"/>
                <a:tab algn="l" pos="279360"/>
                <a:tab algn="l" pos="62244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spcAft>
                <a:spcPts val="1199"/>
              </a:spcAft>
              <a:tabLst>
                <a:tab algn="l" pos="0"/>
                <a:tab algn="l" pos="279360"/>
                <a:tab algn="l" pos="62244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spcAft>
                <a:spcPts val="1199"/>
              </a:spcAft>
              <a:tabLst>
                <a:tab algn="l" pos="0"/>
                <a:tab algn="l" pos="279360"/>
                <a:tab algn="l" pos="62244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40560" y="3259080"/>
            <a:ext cx="660240" cy="66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40560" y="358308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964200" y="32464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00800" y="3259080"/>
            <a:ext cx="673200" cy="66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00800" y="3583080"/>
            <a:ext cx="66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637400" y="32464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640560" y="2598840"/>
            <a:ext cx="660240" cy="66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40560" y="292248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6964200" y="25858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00800" y="2598840"/>
            <a:ext cx="673200" cy="66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00800" y="2922480"/>
            <a:ext cx="66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637400" y="25858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00800" y="21416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1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15040" y="2446200"/>
            <a:ext cx="5461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83600" y="2173320"/>
            <a:ext cx="419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70720" y="2389320"/>
            <a:ext cx="4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900840" y="2389320"/>
            <a:ext cx="495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230960" y="2389320"/>
            <a:ext cx="495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35880" y="2389320"/>
            <a:ext cx="495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8720" y="2655720"/>
            <a:ext cx="4953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26120" y="2973240"/>
            <a:ext cx="4953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64280" y="3290760"/>
            <a:ext cx="4572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64280" y="3633840"/>
            <a:ext cx="4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6411600" y="2369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00800" y="2376360"/>
            <a:ext cx="66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70680" y="398952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16560" y="325908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031240" y="292896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37200" y="3481560"/>
            <a:ext cx="3812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91280" y="3995640"/>
            <a:ext cx="3938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7720" y="4608360"/>
            <a:ext cx="36496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D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'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54440" y="4608360"/>
            <a:ext cx="4129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Fs do not have a reset pin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set'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D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set'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'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+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366840" y="1332000"/>
            <a:ext cx="7045200" cy="483552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Implement th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6040440" y="4857840"/>
            <a:ext cx="28512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D +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ahoma"/>
              </a:rPr>
              <a:t>P</a:t>
            </a:r>
            <a:r>
              <a:rPr b="0" lang="en-US" sz="1600" spc="-1" strike="noStrike" baseline="-25000">
                <a:solidFill>
                  <a:srgbClr val="00ae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N +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' +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 +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im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4440" y="1390680"/>
            <a:ext cx="805644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1477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is delayed by AND gate after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1477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remove this delay by retim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477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e output logic (AND gate) to eliminate del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1477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D+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)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'N+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'+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+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1127160" y="2666880"/>
            <a:ext cx="6397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Original Design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Retim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496800" y="3063960"/>
            <a:ext cx="834732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ore versus Mealy vending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1795320" y="1897200"/>
            <a:ext cx="1752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Moor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21200" y="1922400"/>
            <a:ext cx="1702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Mealy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6960" y="4789440"/>
            <a:ext cx="5079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88280" y="3017880"/>
            <a:ext cx="482400" cy="55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500880" y="3043080"/>
            <a:ext cx="88920" cy="114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88280" y="3792600"/>
            <a:ext cx="482400" cy="55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6500880" y="3817800"/>
            <a:ext cx="88920" cy="114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88280" y="4567320"/>
            <a:ext cx="482400" cy="55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500880" y="4592520"/>
            <a:ext cx="88920" cy="114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88280" y="5329080"/>
            <a:ext cx="482400" cy="55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500880" y="5354280"/>
            <a:ext cx="88920" cy="114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76960" y="3989520"/>
            <a:ext cx="5079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/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07040" y="3094200"/>
            <a:ext cx="482760" cy="49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07040" y="3881520"/>
            <a:ext cx="482760" cy="482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07040" y="4656240"/>
            <a:ext cx="482760" cy="482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07040" y="5430960"/>
            <a:ext cx="482760" cy="482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42120" y="35892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15080" y="4389480"/>
            <a:ext cx="342720" cy="34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335280" y="2712960"/>
            <a:ext cx="22860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87960" y="3189240"/>
            <a:ext cx="533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303960" y="2490840"/>
            <a:ext cx="8636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87960" y="3963960"/>
            <a:ext cx="533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5360" y="4751280"/>
            <a:ext cx="558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62760" y="5564160"/>
            <a:ext cx="596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42120" y="437688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42120" y="51516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802120" y="3525840"/>
            <a:ext cx="36828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08600" y="3830760"/>
            <a:ext cx="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15080" y="5176800"/>
            <a:ext cx="34272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802120" y="4313160"/>
            <a:ext cx="36828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08600" y="4618080"/>
            <a:ext cx="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40360" y="3164040"/>
            <a:ext cx="851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'D'/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40360" y="3900600"/>
            <a:ext cx="851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'D'/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3320" y="4687920"/>
            <a:ext cx="850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'D'/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3320" y="5450040"/>
            <a:ext cx="6476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33480" y="5100480"/>
            <a:ext cx="6476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+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77800" y="4789440"/>
            <a:ext cx="508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13160" y="3017880"/>
            <a:ext cx="482400" cy="55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2525760" y="3043080"/>
            <a:ext cx="88920" cy="114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3160" y="3792600"/>
            <a:ext cx="482400" cy="55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25760" y="3817800"/>
            <a:ext cx="88920" cy="114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3160" y="4567320"/>
            <a:ext cx="482400" cy="55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525760" y="4592520"/>
            <a:ext cx="88920" cy="114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3160" y="5329080"/>
            <a:ext cx="482400" cy="55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525760" y="5354280"/>
            <a:ext cx="88920" cy="114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77800" y="3976560"/>
            <a:ext cx="508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31920" y="3094200"/>
            <a:ext cx="482760" cy="49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31920" y="3881520"/>
            <a:ext cx="482760" cy="482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31920" y="4656240"/>
            <a:ext cx="482760" cy="482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31920" y="5430960"/>
            <a:ext cx="482760" cy="482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67000" y="35892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39960" y="4389480"/>
            <a:ext cx="342720" cy="34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360160" y="2712960"/>
            <a:ext cx="22860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12840" y="3144960"/>
            <a:ext cx="53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328840" y="2490840"/>
            <a:ext cx="8636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12840" y="3919680"/>
            <a:ext cx="53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4707000"/>
            <a:ext cx="558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87640" y="5506920"/>
            <a:ext cx="596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6120" y="4332240"/>
            <a:ext cx="495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86120" y="3557520"/>
            <a:ext cx="495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67000" y="437688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67000" y="51516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827000" y="3525840"/>
            <a:ext cx="36828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33480" y="3830760"/>
            <a:ext cx="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39960" y="5176800"/>
            <a:ext cx="34272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827000" y="4313160"/>
            <a:ext cx="36828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33480" y="4618080"/>
            <a:ext cx="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62360" y="3151080"/>
            <a:ext cx="7239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'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62360" y="3900600"/>
            <a:ext cx="7239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'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74960" y="4687920"/>
            <a:ext cx="7239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'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32640" y="5129280"/>
            <a:ext cx="6476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+D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884920" y="4379760"/>
            <a:ext cx="495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/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884920" y="3630600"/>
            <a:ext cx="495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/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52600" y="3553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 Description Languages and Sequential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ip-fl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uctural view (FFs separate from combinational log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havioral view (synthesis of sequencers – not in this cour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-paths = data computation (e.g., ALUs, comparators) + regi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arithmetic/logical opera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of storage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reduce-1-string-by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one 1 from every string of 1s on th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77880" y="2932560"/>
            <a:ext cx="2145960" cy="3160080"/>
            <a:chOff x="1577880" y="2932560"/>
            <a:chExt cx="2145960" cy="3160080"/>
          </a:xfrm>
        </p:grpSpPr>
        <p:sp>
          <p:nvSpPr>
            <p:cNvPr id="453" name=""/>
            <p:cNvSpPr/>
            <p:nvPr/>
          </p:nvSpPr>
          <p:spPr>
            <a:xfrm>
              <a:off x="2565360" y="3807360"/>
              <a:ext cx="601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77880" y="4804560"/>
              <a:ext cx="60084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36000" y="4160160"/>
              <a:ext cx="601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08600" y="3790440"/>
              <a:ext cx="60120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23000" y="5031360"/>
              <a:ext cx="6008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65360" y="4843440"/>
              <a:ext cx="601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03920" y="3159000"/>
              <a:ext cx="600840" cy="601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03920" y="4212000"/>
              <a:ext cx="600840" cy="601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03920" y="5265000"/>
              <a:ext cx="600840" cy="601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2" name=""/>
            <p:cNvCxnSpPr>
              <a:stCxn id="459" idx="4"/>
              <a:endCxn id="460" idx="0"/>
            </p:cNvCxnSpPr>
            <p:nvPr/>
          </p:nvCxnSpPr>
          <p:spPr>
            <a:xfrm>
              <a:off x="2504160" y="3760200"/>
              <a:ext cx="1080" cy="45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3" name=""/>
            <p:cNvCxnSpPr>
              <a:stCxn id="460" idx="4"/>
              <a:endCxn id="461" idx="0"/>
            </p:cNvCxnSpPr>
            <p:nvPr/>
          </p:nvCxnSpPr>
          <p:spPr>
            <a:xfrm>
              <a:off x="2504160" y="4813200"/>
              <a:ext cx="1080" cy="45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4" name=""/>
            <p:cNvCxnSpPr>
              <a:stCxn id="460" idx="2"/>
              <a:endCxn id="459" idx="2"/>
            </p:cNvCxnSpPr>
            <p:nvPr/>
          </p:nvCxnSpPr>
          <p:spPr>
            <a:xfrm flipH="1" rot="10800000">
              <a:off x="2202840" y="3459600"/>
              <a:ext cx="1800" cy="105372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5" name=""/>
            <p:cNvCxnSpPr>
              <a:stCxn id="461" idx="2"/>
              <a:endCxn id="459" idx="2"/>
            </p:cNvCxnSpPr>
            <p:nvPr/>
          </p:nvCxnSpPr>
          <p:spPr>
            <a:xfrm flipH="1" rot="10800000">
              <a:off x="2202840" y="3458880"/>
              <a:ext cx="1800" cy="2106720"/>
            </a:xfrm>
            <a:prstGeom prst="curvedConnector5">
              <a:avLst>
                <a:gd name="adj1" fmla="val -31700000"/>
                <a:gd name="adj2" fmla="val 49991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6" name=""/>
            <p:cNvCxnSpPr>
              <a:stCxn id="459" idx="5"/>
              <a:endCxn id="459" idx="7"/>
            </p:cNvCxnSpPr>
            <p:nvPr/>
          </p:nvCxnSpPr>
          <p:spPr>
            <a:xfrm flipH="1" flipV="1" rot="5400000">
              <a:off x="2503800" y="3458160"/>
              <a:ext cx="426600" cy="1800"/>
            </a:xfrm>
            <a:prstGeom prst="curvedConnector5">
              <a:avLst>
                <a:gd name="adj1" fmla="val -73479"/>
                <a:gd name="adj2" fmla="val 14575000"/>
                <a:gd name="adj3" fmla="val -7347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7" name=""/>
            <p:cNvCxnSpPr>
              <a:stCxn id="461" idx="5"/>
              <a:endCxn id="461" idx="7"/>
            </p:cNvCxnSpPr>
            <p:nvPr/>
          </p:nvCxnSpPr>
          <p:spPr>
            <a:xfrm flipH="1" flipV="1" rot="5400000">
              <a:off x="2503440" y="5564880"/>
              <a:ext cx="426960" cy="1800"/>
            </a:xfrm>
            <a:prstGeom prst="curvedConnector5">
              <a:avLst>
                <a:gd name="adj1" fmla="val -73502"/>
                <a:gd name="adj2" fmla="val 14075000"/>
                <a:gd name="adj3" fmla="val -7350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8" name=""/>
          <p:cNvGrpSpPr/>
          <p:nvPr/>
        </p:nvGrpSpPr>
        <p:grpSpPr>
          <a:xfrm>
            <a:off x="5186520" y="3308760"/>
            <a:ext cx="2103120" cy="2106720"/>
            <a:chOff x="5186520" y="3308760"/>
            <a:chExt cx="2103120" cy="2106720"/>
          </a:xfrm>
        </p:grpSpPr>
        <p:sp>
          <p:nvSpPr>
            <p:cNvPr id="469" name=""/>
            <p:cNvSpPr/>
            <p:nvPr/>
          </p:nvSpPr>
          <p:spPr>
            <a:xfrm>
              <a:off x="6173640" y="4183920"/>
              <a:ext cx="60084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86520" y="4212000"/>
              <a:ext cx="60084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88800" y="3384720"/>
              <a:ext cx="60084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88800" y="4964400"/>
              <a:ext cx="60084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12200" y="3534840"/>
              <a:ext cx="600840" cy="601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12200" y="4588200"/>
              <a:ext cx="600840" cy="601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"/>
            <p:cNvCxnSpPr>
              <a:stCxn id="473" idx="4"/>
              <a:endCxn id="474" idx="0"/>
            </p:cNvCxnSpPr>
            <p:nvPr/>
          </p:nvCxnSpPr>
          <p:spPr>
            <a:xfrm>
              <a:off x="6112440" y="4136400"/>
              <a:ext cx="1080" cy="45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6" name=""/>
            <p:cNvCxnSpPr>
              <a:stCxn id="474" idx="2"/>
              <a:endCxn id="473" idx="2"/>
            </p:cNvCxnSpPr>
            <p:nvPr/>
          </p:nvCxnSpPr>
          <p:spPr>
            <a:xfrm flipH="1" rot="10800000">
              <a:off x="5811120" y="3835080"/>
              <a:ext cx="1800" cy="1053360"/>
            </a:xfrm>
            <a:prstGeom prst="curvedConnector5">
              <a:avLst>
                <a:gd name="adj1" fmla="val -14400000"/>
                <a:gd name="adj2" fmla="val 49982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7" name=""/>
            <p:cNvCxnSpPr>
              <a:stCxn id="474" idx="4"/>
              <a:endCxn id="474" idx="6"/>
            </p:cNvCxnSpPr>
            <p:nvPr/>
          </p:nvCxnSpPr>
          <p:spPr>
            <a:xfrm flipH="1" flipV="1" rot="5400000">
              <a:off x="6112080" y="4888800"/>
              <a:ext cx="301680" cy="300600"/>
            </a:xfrm>
            <a:prstGeom prst="curvedConnector5">
              <a:avLst>
                <a:gd name="adj1" fmla="val -74910"/>
                <a:gd name="adj2" fmla="val 87529"/>
                <a:gd name="adj3" fmla="val -7491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8" name=""/>
            <p:cNvCxnSpPr>
              <a:stCxn id="473" idx="6"/>
              <a:endCxn id="473" idx="0"/>
            </p:cNvCxnSpPr>
            <p:nvPr/>
          </p:nvCxnSpPr>
          <p:spPr>
            <a:xfrm flipH="1" flipV="1">
              <a:off x="6112800" y="3534480"/>
              <a:ext cx="300600" cy="301680"/>
            </a:xfrm>
            <a:prstGeom prst="curvedConnector5">
              <a:avLst>
                <a:gd name="adj1" fmla="val -75059"/>
                <a:gd name="adj2" fmla="val 87455"/>
                <a:gd name="adj3" fmla="val -7505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79" name=""/>
          <p:cNvSpPr/>
          <p:nvPr/>
        </p:nvSpPr>
        <p:spPr>
          <a:xfrm>
            <a:off x="2071440" y="2482920"/>
            <a:ext cx="8672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99880" y="2482920"/>
            <a:ext cx="8672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901800" y="2106720"/>
            <a:ext cx="728964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264312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`define zero  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`define one1 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`define two1s 2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reg [2:1] state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reg [2:1] next_state;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if (reset) state = `zero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32320" y="2257560"/>
            <a:ext cx="29559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assig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774880" y="2419200"/>
            <a:ext cx="71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log FSM - Reduce 1s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ore mach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6462720" y="3008880"/>
            <a:ext cx="2147400" cy="3159000"/>
            <a:chOff x="6462720" y="3008880"/>
            <a:chExt cx="2147400" cy="3159000"/>
          </a:xfrm>
        </p:grpSpPr>
        <p:sp>
          <p:nvSpPr>
            <p:cNvPr id="487" name=""/>
            <p:cNvSpPr/>
            <p:nvPr/>
          </p:nvSpPr>
          <p:spPr>
            <a:xfrm>
              <a:off x="7450920" y="3883320"/>
              <a:ext cx="6015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62720" y="4879800"/>
              <a:ext cx="60120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20840" y="4235760"/>
              <a:ext cx="6015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94520" y="3866400"/>
              <a:ext cx="60156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008920" y="5106960"/>
              <a:ext cx="60120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50920" y="4919040"/>
              <a:ext cx="6015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089120" y="3235320"/>
              <a:ext cx="601200" cy="601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89120" y="4287600"/>
              <a:ext cx="601200" cy="601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89120" y="5340240"/>
              <a:ext cx="601200" cy="601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6" name=""/>
            <p:cNvCxnSpPr>
              <a:stCxn id="493" idx="4"/>
              <a:endCxn id="494" idx="0"/>
            </p:cNvCxnSpPr>
            <p:nvPr/>
          </p:nvCxnSpPr>
          <p:spPr>
            <a:xfrm>
              <a:off x="7389360" y="3836160"/>
              <a:ext cx="1080" cy="45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4" idx="4"/>
              <a:endCxn id="495" idx="0"/>
            </p:cNvCxnSpPr>
            <p:nvPr/>
          </p:nvCxnSpPr>
          <p:spPr>
            <a:xfrm>
              <a:off x="7389360" y="4888800"/>
              <a:ext cx="1080" cy="45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"/>
            <p:cNvCxnSpPr>
              <a:stCxn id="494" idx="2"/>
              <a:endCxn id="493" idx="2"/>
            </p:cNvCxnSpPr>
            <p:nvPr/>
          </p:nvCxnSpPr>
          <p:spPr>
            <a:xfrm flipH="1" rot="10800000">
              <a:off x="7088040" y="3534840"/>
              <a:ext cx="1800" cy="1053360"/>
            </a:xfrm>
            <a:prstGeom prst="curvedConnector5">
              <a:avLst>
                <a:gd name="adj1" fmla="val -14400000"/>
                <a:gd name="adj2" fmla="val 49982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9" name=""/>
            <p:cNvCxnSpPr>
              <a:stCxn id="495" idx="2"/>
              <a:endCxn id="493" idx="2"/>
            </p:cNvCxnSpPr>
            <p:nvPr/>
          </p:nvCxnSpPr>
          <p:spPr>
            <a:xfrm flipH="1" rot="10800000">
              <a:off x="7088040" y="3534840"/>
              <a:ext cx="1800" cy="2106000"/>
            </a:xfrm>
            <a:prstGeom prst="curvedConnector5">
              <a:avLst>
                <a:gd name="adj1" fmla="val -31700000"/>
                <a:gd name="adj2" fmla="val 49991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0" name=""/>
            <p:cNvCxnSpPr>
              <a:stCxn id="493" idx="5"/>
              <a:endCxn id="493" idx="7"/>
            </p:cNvCxnSpPr>
            <p:nvPr/>
          </p:nvCxnSpPr>
          <p:spPr>
            <a:xfrm flipH="1" flipV="1" rot="5400000">
              <a:off x="7389720" y="3534480"/>
              <a:ext cx="426600" cy="1800"/>
            </a:xfrm>
            <a:prstGeom prst="curvedConnector5">
              <a:avLst>
                <a:gd name="adj1" fmla="val -73479"/>
                <a:gd name="adj2" fmla="val 14575000"/>
                <a:gd name="adj3" fmla="val -7347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1" name=""/>
            <p:cNvCxnSpPr>
              <a:stCxn id="495" idx="5"/>
              <a:endCxn id="495" idx="7"/>
            </p:cNvCxnSpPr>
            <p:nvPr/>
          </p:nvCxnSpPr>
          <p:spPr>
            <a:xfrm flipH="1" flipV="1" rot="5400000">
              <a:off x="7389360" y="5640120"/>
              <a:ext cx="426960" cy="1800"/>
            </a:xfrm>
            <a:prstGeom prst="curvedConnector5">
              <a:avLst>
                <a:gd name="adj1" fmla="val -73502"/>
                <a:gd name="adj2" fmla="val 14075000"/>
                <a:gd name="adj3" fmla="val -7350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31440" y="1406520"/>
            <a:ext cx="7813800" cy="454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085760" indent="0">
              <a:lnSpc>
                <a:spcPct val="10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SM-design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 State diagram and state-transition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State minim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State assignment (or state encod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 Minimize next-state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 Implement the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99960" y="1441440"/>
            <a:ext cx="8355240" cy="53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in or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`zero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if (in) next_state = `one1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lse    next_state = `zero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`one1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if (in) next_state = `two1s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lse    next_state = `zero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`two1s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we've seen at least 2 on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if (in) next_state = `two1s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lse    next_state = `zero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2855520" y="1579680"/>
            <a:ext cx="2373480" cy="25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11880" y="1579680"/>
            <a:ext cx="2730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ucial to inclu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 signals that ar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state de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ore Verilog FSM (cont’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6162840" y="3159000"/>
            <a:ext cx="2730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at outpu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s only o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84840" y="4513320"/>
            <a:ext cx="390816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state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`zero: out = 0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`one1: out = 0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`two1s: out = 1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237000" y="3760920"/>
            <a:ext cx="75960" cy="677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8393040" y="6858000"/>
            <a:ext cx="2365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7800" y="1273320"/>
            <a:ext cx="834228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474"/>
              </a:lnSpc>
              <a:tabLst>
                <a:tab algn="l" pos="0"/>
                <a:tab algn="l" pos="450720"/>
                <a:tab algn="l" pos="901800"/>
                <a:tab algn="l" pos="1352520"/>
                <a:tab algn="l" pos="2530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reg next_state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if (reset) state = `zero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always @(in or state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`zero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if (in) next_state = `one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else    next_state = `zero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`one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xt_state = `one; out = 1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xt_state = `zero; out = 0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ly Verilog F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237360" y="2857680"/>
            <a:ext cx="2104560" cy="2106720"/>
            <a:chOff x="6237360" y="2857680"/>
            <a:chExt cx="2104560" cy="2106720"/>
          </a:xfrm>
        </p:grpSpPr>
        <p:sp>
          <p:nvSpPr>
            <p:cNvPr id="513" name=""/>
            <p:cNvSpPr/>
            <p:nvPr/>
          </p:nvSpPr>
          <p:spPr>
            <a:xfrm>
              <a:off x="7225200" y="3732840"/>
              <a:ext cx="6015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37360" y="3760920"/>
              <a:ext cx="60120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740720" y="2933640"/>
              <a:ext cx="60120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740720" y="4513320"/>
              <a:ext cx="60120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63760" y="3083760"/>
              <a:ext cx="601200" cy="601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63760" y="4137120"/>
              <a:ext cx="601200" cy="601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9" name=""/>
            <p:cNvCxnSpPr>
              <a:stCxn id="517" idx="4"/>
              <a:endCxn id="518" idx="0"/>
            </p:cNvCxnSpPr>
            <p:nvPr/>
          </p:nvCxnSpPr>
          <p:spPr>
            <a:xfrm>
              <a:off x="7164000" y="3685320"/>
              <a:ext cx="1080" cy="45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518" idx="2"/>
              <a:endCxn id="517" idx="2"/>
            </p:cNvCxnSpPr>
            <p:nvPr/>
          </p:nvCxnSpPr>
          <p:spPr>
            <a:xfrm flipH="1" rot="10800000">
              <a:off x="6862680" y="3384000"/>
              <a:ext cx="1800" cy="1053360"/>
            </a:xfrm>
            <a:prstGeom prst="curvedConnector5">
              <a:avLst>
                <a:gd name="adj1" fmla="val -14400000"/>
                <a:gd name="adj2" fmla="val 49982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8" idx="4"/>
              <a:endCxn id="518" idx="6"/>
            </p:cNvCxnSpPr>
            <p:nvPr/>
          </p:nvCxnSpPr>
          <p:spPr>
            <a:xfrm flipH="1" flipV="1" rot="5400000">
              <a:off x="7162920" y="4437360"/>
              <a:ext cx="301680" cy="301320"/>
            </a:xfrm>
            <a:prstGeom prst="curvedConnector5">
              <a:avLst>
                <a:gd name="adj1" fmla="val -74910"/>
                <a:gd name="adj2" fmla="val 87440"/>
                <a:gd name="adj3" fmla="val -7491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517" idx="6"/>
              <a:endCxn id="517" idx="0"/>
            </p:cNvCxnSpPr>
            <p:nvPr/>
          </p:nvCxnSpPr>
          <p:spPr>
            <a:xfrm flipH="1" flipV="1">
              <a:off x="7163640" y="3083400"/>
              <a:ext cx="301320" cy="301680"/>
            </a:xfrm>
            <a:prstGeom prst="curvedConnector5">
              <a:avLst>
                <a:gd name="adj1" fmla="val -75000"/>
                <a:gd name="adj2" fmla="val 87455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828800" y="1504800"/>
            <a:ext cx="718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0640" y="1353960"/>
            <a:ext cx="80676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828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if (reset) state = `zero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els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case (state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`zero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if (in) state = `one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lse    state = `zero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`one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e = `one; out = 1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e = `zero; out = 0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ous Mealy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quence det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4800" y="1501560"/>
            <a:ext cx="8004240" cy="16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a circuit to detect 3 or more 1’s in a bit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Moore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D flip-fl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flip-flops have a 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te diagram and state-transition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3040" y="4827600"/>
            <a:ext cx="68580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93960" y="4865760"/>
            <a:ext cx="114120" cy="101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60440" y="2160720"/>
            <a:ext cx="68580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881360" y="2604600"/>
            <a:ext cx="114120" cy="12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03720" y="2643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03720" y="44719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74920" y="2643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22400" y="2976480"/>
            <a:ext cx="140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928800" y="3024360"/>
            <a:ext cx="583920" cy="58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97240" y="2709720"/>
            <a:ext cx="482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/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09840" y="4538520"/>
            <a:ext cx="470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/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81040" y="2712960"/>
            <a:ext cx="470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74920" y="44719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79600" y="4530600"/>
            <a:ext cx="4824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944360" y="4694400"/>
            <a:ext cx="1346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1843200" y="3024360"/>
            <a:ext cx="1536480" cy="151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37000" y="3097080"/>
            <a:ext cx="0" cy="1390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717560" y="3098520"/>
            <a:ext cx="0" cy="13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86160" y="3614760"/>
            <a:ext cx="558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30280" y="2116080"/>
            <a:ext cx="558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9280" y="3592440"/>
            <a:ext cx="558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2880" y="5100480"/>
            <a:ext cx="559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7000" y="2962440"/>
            <a:ext cx="5587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00480" y="4368960"/>
            <a:ext cx="5587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7680" y="3408480"/>
            <a:ext cx="812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920600" y="2787480"/>
            <a:ext cx="140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73480" y="2465280"/>
            <a:ext cx="558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3581280"/>
            <a:ext cx="559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60920" y="2030400"/>
            <a:ext cx="3987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52920" y="2649600"/>
            <a:ext cx="402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83560" y="2084400"/>
            <a:ext cx="0" cy="326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22920" y="2690640"/>
            <a:ext cx="347508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4440" y="475920"/>
            <a:ext cx="805356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State minimization &amp; 3. State enc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2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diagram is already minim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a binary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473120" y="5494320"/>
            <a:ext cx="68580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94040" y="5532480"/>
            <a:ext cx="114120" cy="101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60520" y="2827440"/>
            <a:ext cx="68580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81080" y="3271320"/>
            <a:ext cx="114480" cy="12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03440" y="330984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03440" y="513864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4640" y="330984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22480" y="3643200"/>
            <a:ext cx="140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28880" y="3691080"/>
            <a:ext cx="583920" cy="58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97320" y="3365640"/>
            <a:ext cx="4824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/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09920" y="5205240"/>
            <a:ext cx="469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/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81120" y="3368520"/>
            <a:ext cx="469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74640" y="513864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8520" y="5208480"/>
            <a:ext cx="4824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044440" y="5361120"/>
            <a:ext cx="1346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943280" y="3691080"/>
            <a:ext cx="1536480" cy="151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37080" y="3763800"/>
            <a:ext cx="0" cy="1390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17640" y="3765600"/>
            <a:ext cx="0" cy="137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86240" y="4281480"/>
            <a:ext cx="558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30360" y="2782800"/>
            <a:ext cx="558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19360" y="4259160"/>
            <a:ext cx="558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42960" y="5767560"/>
            <a:ext cx="5587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67080" y="3629160"/>
            <a:ext cx="558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00200" y="5035680"/>
            <a:ext cx="559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7760" y="4075200"/>
            <a:ext cx="812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020680" y="3454560"/>
            <a:ext cx="140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3200" y="3132000"/>
            <a:ext cx="559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47720" y="4248000"/>
            <a:ext cx="559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38680" y="2697120"/>
            <a:ext cx="3987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30680" y="3316320"/>
            <a:ext cx="402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61320" y="2751120"/>
            <a:ext cx="0" cy="326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00680" y="3357720"/>
            <a:ext cx="347508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Minimize next-state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133640" y="2460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90840" y="2460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3640" y="2917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90840" y="2917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48040" y="2460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5240" y="2460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48040" y="2917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5240" y="2917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73240" y="2346480"/>
            <a:ext cx="86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6040" y="3489480"/>
            <a:ext cx="86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19160" y="2943360"/>
            <a:ext cx="0" cy="406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2920" y="2070000"/>
            <a:ext cx="596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5720" y="3497400"/>
            <a:ext cx="5968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3600" y="3006720"/>
            <a:ext cx="584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41280" y="2562120"/>
            <a:ext cx="175284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Aft>
                <a:spcPts val="17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Aft>
                <a:spcPts val="17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7160" y="1916280"/>
            <a:ext cx="74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MSB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40200" y="2460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97400" y="2460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40200" y="2917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97400" y="2917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4600" y="2460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11800" y="2460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4600" y="2917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11800" y="29178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9800" y="2346480"/>
            <a:ext cx="86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22600" y="3489480"/>
            <a:ext cx="86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25720" y="2943360"/>
            <a:ext cx="0" cy="406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19840" y="2070000"/>
            <a:ext cx="596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62640" y="3497400"/>
            <a:ext cx="5968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70160" y="3006720"/>
            <a:ext cx="584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48200" y="2562120"/>
            <a:ext cx="17524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Aft>
                <a:spcPts val="17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Aft>
                <a:spcPts val="17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13320" y="1916280"/>
            <a:ext cx="74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LSB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6760" y="24354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03960" y="24354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46760" y="2892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03960" y="2892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61160" y="24354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18360" y="24354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61160" y="2892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18360" y="289260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86720" y="2320920"/>
            <a:ext cx="86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29520" y="3463920"/>
            <a:ext cx="86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32640" y="2917800"/>
            <a:ext cx="0" cy="406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26400" y="2044800"/>
            <a:ext cx="596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69200" y="3471840"/>
            <a:ext cx="596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77080" y="2981160"/>
            <a:ext cx="5839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4760" y="2536920"/>
            <a:ext cx="175284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Aft>
                <a:spcPts val="17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Aft>
                <a:spcPts val="17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1890720"/>
            <a:ext cx="74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OUT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64200" y="3909960"/>
            <a:ext cx="164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+ = 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4440" y="3909960"/>
            <a:ext cx="1976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B+ = LIn +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84480" y="3909960"/>
            <a:ext cx="19767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B+ = L'In +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95760" y="4686480"/>
            <a:ext cx="2139840" cy="1376280"/>
          </a:xfrm>
          <a:prstGeom prst="rect">
            <a:avLst/>
          </a:prstGeom>
          <a:noFill/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M := M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L  := L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In :=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Implement th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08120" y="1401840"/>
            <a:ext cx="79344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example: A vending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6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ase item after receiving 15 c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coin slot for dimes and nickel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sor specifies coin typ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hine does not give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501640" y="3208320"/>
            <a:ext cx="4910400" cy="3033720"/>
            <a:chOff x="2501640" y="3208320"/>
            <a:chExt cx="4910400" cy="3033720"/>
          </a:xfrm>
        </p:grpSpPr>
        <p:sp>
          <p:nvSpPr>
            <p:cNvPr id="172" name=""/>
            <p:cNvSpPr/>
            <p:nvPr/>
          </p:nvSpPr>
          <p:spPr>
            <a:xfrm>
              <a:off x="4456080" y="4335480"/>
              <a:ext cx="7891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endin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chin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29160" y="4186080"/>
              <a:ext cx="287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29160" y="4788000"/>
              <a:ext cx="287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30600" y="3208320"/>
              <a:ext cx="588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05480" y="5916600"/>
              <a:ext cx="41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83240" y="4411800"/>
              <a:ext cx="563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2000" y="4486320"/>
              <a:ext cx="68904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i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n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08720" y="4486320"/>
              <a:ext cx="10033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lea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echani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29280" y="4110120"/>
              <a:ext cx="1203120" cy="11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34200" y="4110120"/>
              <a:ext cx="0" cy="11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34200" y="5238720"/>
              <a:ext cx="75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34200" y="4110120"/>
              <a:ext cx="75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02000" y="4110120"/>
              <a:ext cx="82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27480" y="4110120"/>
              <a:ext cx="0" cy="11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501640" y="5238720"/>
              <a:ext cx="82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32400" y="4637160"/>
              <a:ext cx="90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27480" y="4411800"/>
              <a:ext cx="90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27480" y="5013360"/>
              <a:ext cx="90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30840" y="3433680"/>
              <a:ext cx="0" cy="67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830840" y="5238360"/>
              <a:ext cx="0" cy="67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a. State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3000" y="1452600"/>
            <a:ext cx="5265720" cy="438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input 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nick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nickels, d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ckel, d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me, nick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di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state di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ssume Moore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s: N, D, 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 O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6224760" y="2468520"/>
            <a:ext cx="571320" cy="571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53080" y="3395520"/>
            <a:ext cx="571680" cy="571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96080" y="3382920"/>
            <a:ext cx="571680" cy="571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53080" y="4309920"/>
            <a:ext cx="571680" cy="571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96080" y="4309920"/>
            <a:ext cx="571680" cy="571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71920" y="4309920"/>
            <a:ext cx="571680" cy="571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51680" y="4309920"/>
            <a:ext cx="571680" cy="571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1960" y="5214960"/>
            <a:ext cx="571320" cy="5713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94560" y="2989440"/>
            <a:ext cx="241200" cy="41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1920" y="3967200"/>
            <a:ext cx="0" cy="330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16640" y="3865680"/>
            <a:ext cx="711360" cy="520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25960" y="3967200"/>
            <a:ext cx="0" cy="330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954320" y="3878280"/>
            <a:ext cx="787320" cy="495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046920" y="2963880"/>
            <a:ext cx="27936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33760" y="4856040"/>
            <a:ext cx="214560" cy="34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656400" y="2049480"/>
            <a:ext cx="27936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49880" y="2619360"/>
            <a:ext cx="711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27760" y="1814400"/>
            <a:ext cx="1028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48480" y="2894040"/>
            <a:ext cx="596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3546360"/>
            <a:ext cx="711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21560" y="3538440"/>
            <a:ext cx="711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97400" y="4448160"/>
            <a:ext cx="711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5600" y="4334040"/>
            <a:ext cx="711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8600" y="4321080"/>
            <a:ext cx="711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864560" y="4334040"/>
            <a:ext cx="711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84480" y="5221440"/>
            <a:ext cx="711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75280" y="3770280"/>
            <a:ext cx="596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5440" y="4822920"/>
            <a:ext cx="596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99160" y="3922560"/>
            <a:ext cx="596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37400" y="3960720"/>
            <a:ext cx="596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13640" y="2894040"/>
            <a:ext cx="596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75400" y="3782880"/>
            <a:ext cx="596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11920" y="4486320"/>
            <a:ext cx="1067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ope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07080" y="4486320"/>
            <a:ext cx="939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ope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0720" y="4486320"/>
            <a:ext cx="106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ope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2960" y="5391000"/>
            <a:ext cx="93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ope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03640" y="5211720"/>
            <a:ext cx="571680" cy="571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16520" y="5218200"/>
            <a:ext cx="711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27600" y="5407200"/>
            <a:ext cx="939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ope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8360" y="4834080"/>
            <a:ext cx="274680" cy="38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56040" y="4832280"/>
            <a:ext cx="596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cp:keywords/>
  <dc:language>en-US</dc:language>
  <cp:lastModifiedBy>Bruce Hemingway</cp:lastModifiedBy>
  <cp:lastPrinted>2002-04-19T20:09:20Z</cp:lastPrinted>
  <dcterms:modified xsi:type="dcterms:W3CDTF">2007-02-26T20:23:28Z</dcterms:modified>
  <cp:revision>716</cp:revision>
  <dc:subject>CSE370</dc:subject>
  <dc:title>Lecture2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