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gn Warrior’s Guide to FPG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, Tools, and Flows. ISBN 075067604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Mentor Graphics Corp. (www.mentor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Line 4"/>
          <p:cNvSpPr/>
          <p:nvPr/>
        </p:nvSpPr>
        <p:spPr>
          <a:xfrm>
            <a:off x="685800" y="1278000"/>
            <a:ext cx="77900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132760" y="6308640"/>
            <a:ext cx="352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5CE4-7CEB-4EBF-A38D-FCF3590C09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90480" y="6291360"/>
            <a:ext cx="3387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E370, Lectur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4800" y="475920"/>
            <a:ext cx="7935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r>
              <a:rPr b="0" lang="en-US" sz="3200" spc="-1" strike="noStrike">
                <a:solidFill>
                  <a:srgbClr val="000000"/>
                </a:solidFill>
                <a:latin typeface="Fenc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4800" y="1390680"/>
            <a:ext cx="7934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sequential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buClr>
                <a:srgbClr val="cc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FP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533520" y="1600200"/>
          <a:ext cx="807696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609480" y="1523880"/>
          <a:ext cx="80010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010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914400" y="762120"/>
          <a:ext cx="7543800" cy="46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543800" cy="46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33520" y="1523880"/>
          <a:ext cx="807696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07696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380880" y="1447920"/>
          <a:ext cx="8305920" cy="35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0592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838080" y="1219320"/>
          <a:ext cx="7315200" cy="38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1520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5"/>
          <p:cNvSpPr/>
          <p:nvPr/>
        </p:nvSpPr>
        <p:spPr>
          <a:xfrm>
            <a:off x="995760" y="457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Logic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685800" y="1219320"/>
          <a:ext cx="7924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924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1676520" y="380880"/>
          <a:ext cx="5790960" cy="53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790960" cy="53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838080" y="380880"/>
          <a:ext cx="7086600" cy="520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08660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685800" y="701640"/>
          <a:ext cx="78487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1640"/>
                    <a:ext cx="7848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33520" y="1600200"/>
          <a:ext cx="81532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532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6"/>
          <p:cNvSpPr/>
          <p:nvPr/>
        </p:nvSpPr>
        <p:spPr>
          <a:xfrm>
            <a:off x="1203480" y="64620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lution of FPGA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2209680" y="609480"/>
          <a:ext cx="586764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09480"/>
                    <a:ext cx="586764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762120" y="685800"/>
          <a:ext cx="7315200" cy="49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3152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4"/>
          <p:cNvSpPr/>
          <p:nvPr/>
        </p:nvSpPr>
        <p:spPr>
          <a:xfrm>
            <a:off x="689760" y="2286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linx logic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2133720" y="380880"/>
          <a:ext cx="460188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46018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4"/>
          <p:cNvSpPr/>
          <p:nvPr/>
        </p:nvSpPr>
        <p:spPr>
          <a:xfrm>
            <a:off x="7390800" y="843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linx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685800" y="1143000"/>
          <a:ext cx="77724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7724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4"/>
          <p:cNvSpPr/>
          <p:nvPr/>
        </p:nvSpPr>
        <p:spPr>
          <a:xfrm>
            <a:off x="7432200" y="3808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linx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838080" y="380880"/>
          <a:ext cx="7543800" cy="50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54380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4"/>
          <p:cNvSpPr/>
          <p:nvPr/>
        </p:nvSpPr>
        <p:spPr>
          <a:xfrm>
            <a:off x="7390800" y="843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linx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838080" y="685800"/>
          <a:ext cx="77724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7724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609480" y="1219320"/>
          <a:ext cx="79250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92504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-aid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5920" y="1417680"/>
            <a:ext cx="81788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design FPGAs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too much logic to manage, hard to make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functionality of logic at a hig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- high-level simulation to catch specif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pin-outs and connections to other 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to verify mapping and chec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compiling HDL program into logic gates an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he logic onto elements available in the implementation technology (LUTs for Xilinx FPG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FP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changes at system-level (one device is mod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liminate need for full-custom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e of gate arrays used to emulate a circuit to be manufa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more/better/faster debugging done than possible with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figur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hardware block used to implement more than on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must be  mutually-exclusive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greatly reduce cost while enhancing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-based only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-purpose computation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dicated to solving one problem (or class of probl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ors attached to general-purpose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609480" y="1523880"/>
          <a:ext cx="8077320" cy="34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7732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1143000" y="380880"/>
          <a:ext cx="6629400" cy="52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662940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4"/>
          <p:cNvSpPr/>
          <p:nvPr/>
        </p:nvSpPr>
        <p:spPr>
          <a:xfrm>
            <a:off x="7605720" y="4989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990720" y="1066680"/>
          <a:ext cx="75438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5438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79106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1752480" y="380880"/>
          <a:ext cx="55627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0880"/>
                    <a:ext cx="55627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4"/>
          <p:cNvSpPr/>
          <p:nvPr/>
        </p:nvSpPr>
        <p:spPr>
          <a:xfrm>
            <a:off x="7453440" y="4989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838080" y="1219320"/>
          <a:ext cx="75438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5438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1130400" y="5698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PL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533520" y="1600200"/>
          <a:ext cx="815328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53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1056240" y="6462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38088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ign Warrior’s Guide to FP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, Tools, and Flows. ISBN 075067604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 Mentor Graphics Corp. (www.mento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533520" y="1447920"/>
          <a:ext cx="8076960" cy="35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21:32:09Z</dcterms:created>
  <dc:creator>Clive Maxfield</dc:creator>
  <dc:description/>
  <dc:language>en-US</dc:language>
  <cp:lastModifiedBy>Bruce Hemingway</cp:lastModifiedBy>
  <dcterms:modified xsi:type="dcterms:W3CDTF">2008-02-04T22:47:35Z</dcterms:modified>
  <cp:revision>14</cp:revision>
  <dc:subject/>
  <dc:title>Slide 1</dc:title>
</cp:coreProperties>
</file>