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031-21A0-4F2F-96EF-8F205FE955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-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 sequence detector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 vending machine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igger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-brain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1401840" y="2168280"/>
            <a:ext cx="639720" cy="697320"/>
            <a:chOff x="1401840" y="2168280"/>
            <a:chExt cx="639720" cy="697320"/>
          </a:xfrm>
        </p:grpSpPr>
        <p:sp>
          <p:nvSpPr>
            <p:cNvPr id="786" name=""/>
            <p:cNvSpPr/>
            <p:nvPr/>
          </p:nvSpPr>
          <p:spPr>
            <a:xfrm flipV="1">
              <a:off x="1451160" y="2225520"/>
              <a:ext cx="531720" cy="640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401840" y="2167920"/>
              <a:ext cx="63972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457640" y="239400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122480" y="4479840"/>
            <a:ext cx="639720" cy="696960"/>
            <a:chOff x="1122480" y="4479840"/>
            <a:chExt cx="639720" cy="696960"/>
          </a:xfrm>
        </p:grpSpPr>
        <p:sp>
          <p:nvSpPr>
            <p:cNvPr id="790" name=""/>
            <p:cNvSpPr/>
            <p:nvPr/>
          </p:nvSpPr>
          <p:spPr>
            <a:xfrm>
              <a:off x="1171440" y="4479840"/>
              <a:ext cx="532080" cy="63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2480" y="4924440"/>
              <a:ext cx="63972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77920" y="481968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8640" y="1906560"/>
            <a:ext cx="273240" cy="637920"/>
            <a:chOff x="818640" y="1906560"/>
            <a:chExt cx="273240" cy="637920"/>
          </a:xfrm>
        </p:grpSpPr>
        <p:sp>
          <p:nvSpPr>
            <p:cNvPr id="794" name=""/>
            <p:cNvSpPr/>
            <p:nvPr/>
          </p:nvSpPr>
          <p:spPr>
            <a:xfrm>
              <a:off x="830520" y="2080800"/>
              <a:ext cx="213840" cy="20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0520" y="2289600"/>
              <a:ext cx="213840" cy="25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818640" y="1906560"/>
              <a:ext cx="7092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997200" y="1906560"/>
              <a:ext cx="9468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109520" y="1809720"/>
            <a:ext cx="223920" cy="890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76360" y="1685880"/>
            <a:ext cx="2624040" cy="5986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Right antenna touching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o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149800" y="1844640"/>
            <a:ext cx="272880" cy="636120"/>
            <a:chOff x="5149800" y="1844640"/>
            <a:chExt cx="272880" cy="636120"/>
          </a:xfrm>
        </p:grpSpPr>
        <p:sp>
          <p:nvSpPr>
            <p:cNvPr id="801" name=""/>
            <p:cNvSpPr/>
            <p:nvPr/>
          </p:nvSpPr>
          <p:spPr>
            <a:xfrm>
              <a:off x="5161320" y="2018160"/>
              <a:ext cx="21384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61320" y="2226240"/>
              <a:ext cx="21384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149800" y="1844640"/>
              <a:ext cx="712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328000" y="1844640"/>
              <a:ext cx="946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475240" y="2208240"/>
            <a:ext cx="22536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92720" y="1819440"/>
            <a:ext cx="1722600" cy="59184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: Break in wall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urn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89440" y="2208240"/>
            <a:ext cx="438480" cy="220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056960" y="5303880"/>
            <a:ext cx="271440" cy="636120"/>
            <a:chOff x="1056960" y="5303880"/>
            <a:chExt cx="271440" cy="636120"/>
          </a:xfrm>
        </p:grpSpPr>
        <p:sp>
          <p:nvSpPr>
            <p:cNvPr id="809" name=""/>
            <p:cNvSpPr/>
            <p:nvPr/>
          </p:nvSpPr>
          <p:spPr>
            <a:xfrm>
              <a:off x="1068840" y="5477400"/>
              <a:ext cx="21240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68840" y="568548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1056960" y="5303880"/>
              <a:ext cx="709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1234080" y="530388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716200" y="5184720"/>
            <a:ext cx="2468520" cy="6033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: Left antenna touch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urn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5160" y="5102280"/>
            <a:ext cx="971640" cy="21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6200000">
            <a:off x="1697040" y="5454360"/>
            <a:ext cx="855360" cy="23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400480" y="2379600"/>
            <a:ext cx="0" cy="2563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326280" y="5056200"/>
            <a:ext cx="271080" cy="636120"/>
            <a:chOff x="6326280" y="5056200"/>
            <a:chExt cx="271080" cy="636120"/>
          </a:xfrm>
        </p:grpSpPr>
        <p:sp>
          <p:nvSpPr>
            <p:cNvPr id="818" name=""/>
            <p:cNvSpPr/>
            <p:nvPr/>
          </p:nvSpPr>
          <p:spPr>
            <a:xfrm>
              <a:off x="6337800" y="5229720"/>
              <a:ext cx="21240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37800" y="543780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6326280" y="5056200"/>
              <a:ext cx="7056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503040" y="505620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4138560" y="2076480"/>
            <a:ext cx="841320" cy="4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141280" y="2411280"/>
            <a:ext cx="3240" cy="2560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t’s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984400" y="3732120"/>
            <a:ext cx="1166760" cy="6033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one F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005240" y="2514600"/>
            <a:ext cx="3240" cy="2479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7289640" y="4514760"/>
            <a:ext cx="640080" cy="696960"/>
            <a:chOff x="7289640" y="4514760"/>
            <a:chExt cx="640080" cy="696960"/>
          </a:xfrm>
        </p:grpSpPr>
        <p:sp>
          <p:nvSpPr>
            <p:cNvPr id="828" name=""/>
            <p:cNvSpPr/>
            <p:nvPr/>
          </p:nvSpPr>
          <p:spPr>
            <a:xfrm>
              <a:off x="7338960" y="4514760"/>
              <a:ext cx="531720" cy="63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89640" y="4959360"/>
              <a:ext cx="6400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45440" y="485460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1454040" y="5110200"/>
            <a:ext cx="223920" cy="890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3425400" y="2387520"/>
            <a:ext cx="3349800" cy="25783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30920" y="5146560"/>
            <a:ext cx="1501920" cy="57960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: L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o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31800" y="4365360"/>
            <a:ext cx="2025720" cy="7794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84400" y="2411280"/>
            <a:ext cx="322200" cy="12193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5235120" y="5455800"/>
            <a:ext cx="993960" cy="1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92120" y="5329080"/>
            <a:ext cx="271440" cy="636480"/>
            <a:chOff x="2292120" y="5329080"/>
            <a:chExt cx="271440" cy="636480"/>
          </a:xfrm>
        </p:grpSpPr>
        <p:sp>
          <p:nvSpPr>
            <p:cNvPr id="838" name=""/>
            <p:cNvSpPr/>
            <p:nvPr/>
          </p:nvSpPr>
          <p:spPr>
            <a:xfrm>
              <a:off x="2304000" y="5502600"/>
              <a:ext cx="212400" cy="208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4000" y="571104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2292120" y="5329080"/>
              <a:ext cx="709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469240" y="532908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4516560" y="4194000"/>
            <a:ext cx="561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46480" y="31021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917960" y="4313160"/>
            <a:ext cx="3929760" cy="91692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have multiple w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0000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s on South and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56721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ma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× 128 gr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d in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384 8-bit 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maze addr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ant’s horizontal position (7 bi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ant’s vertical position (7 bit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memory location s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00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0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rth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est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outh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st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10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o you start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4800" y="2377800"/>
            <a:ext cx="7934400" cy="136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Tahoma"/>
              </a:rPr>
              <a:t>Don’t look ahead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FSM for the 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 forw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n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n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7-bit register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preload, increment, dec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to hold the ant’s h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 to convert memory data to antennae inf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-bit counter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horizontally: Increment or decremen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vertically: Increment or decremen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ft register for h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:  0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: 0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:  0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:  1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right when ant turns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left when ant turns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logic for antennae dec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830160" y="1947960"/>
            <a:ext cx="1444680" cy="10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-B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74840" y="212868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74840" y="24303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74840" y="27255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87760" y="1960560"/>
            <a:ext cx="833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85960" y="2252520"/>
            <a:ext cx="944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 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686320" y="2562120"/>
            <a:ext cx="835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 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95240" y="4305240"/>
            <a:ext cx="14814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hift regis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2760" y="43862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46879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82760" y="49831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94960" y="4194000"/>
            <a:ext cx="616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94960" y="4510080"/>
            <a:ext cx="646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94240" y="4819680"/>
            <a:ext cx="538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9240" y="52783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94600" y="5114880"/>
            <a:ext cx="58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562720" y="4041720"/>
            <a:ext cx="1544400" cy="83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10200" y="41403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8400" y="4444920"/>
            <a:ext cx="45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14880" y="47322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91120" y="3976560"/>
            <a:ext cx="97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112280" y="4270320"/>
            <a:ext cx="1052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68240" y="4543560"/>
            <a:ext cx="79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56240" y="4869000"/>
            <a:ext cx="1552680" cy="83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11640" y="50227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10200" y="53276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16680" y="56149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91120" y="4859280"/>
            <a:ext cx="97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112280" y="5153040"/>
            <a:ext cx="1052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368240" y="5425920"/>
            <a:ext cx="79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56320" y="4689360"/>
            <a:ext cx="1400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05680" y="4422600"/>
            <a:ext cx="76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112160" y="524844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43240" y="1965240"/>
            <a:ext cx="1065240" cy="10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15120" y="1962000"/>
            <a:ext cx="1481040" cy="10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02360" y="23097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02360" y="26114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14920" y="2141640"/>
            <a:ext cx="279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15280" y="2433600"/>
            <a:ext cx="308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778880" y="24843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91080" y="2203560"/>
            <a:ext cx="6166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ant-brain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4800" y="1944720"/>
            <a:ext cx="7934400" cy="28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State diagram and state-transi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State min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State assignment (or state encod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Minimize next-state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1401840" y="2168280"/>
            <a:ext cx="639720" cy="697320"/>
            <a:chOff x="1401840" y="2168280"/>
            <a:chExt cx="639720" cy="697320"/>
          </a:xfrm>
        </p:grpSpPr>
        <p:sp>
          <p:nvSpPr>
            <p:cNvPr id="898" name=""/>
            <p:cNvSpPr/>
            <p:nvPr/>
          </p:nvSpPr>
          <p:spPr>
            <a:xfrm flipV="1">
              <a:off x="1451160" y="2225520"/>
              <a:ext cx="531720" cy="640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1401840" y="2167920"/>
              <a:ext cx="63972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1457640" y="239400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122480" y="4479840"/>
            <a:ext cx="639720" cy="696960"/>
            <a:chOff x="1122480" y="4479840"/>
            <a:chExt cx="639720" cy="696960"/>
          </a:xfrm>
        </p:grpSpPr>
        <p:sp>
          <p:nvSpPr>
            <p:cNvPr id="902" name=""/>
            <p:cNvSpPr/>
            <p:nvPr/>
          </p:nvSpPr>
          <p:spPr>
            <a:xfrm>
              <a:off x="1171440" y="4479840"/>
              <a:ext cx="532080" cy="63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22480" y="4924440"/>
              <a:ext cx="63972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77920" y="481968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818640" y="1906560"/>
            <a:ext cx="273240" cy="637920"/>
            <a:chOff x="818640" y="1906560"/>
            <a:chExt cx="273240" cy="637920"/>
          </a:xfrm>
        </p:grpSpPr>
        <p:sp>
          <p:nvSpPr>
            <p:cNvPr id="906" name=""/>
            <p:cNvSpPr/>
            <p:nvPr/>
          </p:nvSpPr>
          <p:spPr>
            <a:xfrm>
              <a:off x="830520" y="2080800"/>
              <a:ext cx="213840" cy="20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0520" y="2289600"/>
              <a:ext cx="213840" cy="25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818640" y="1906560"/>
              <a:ext cx="7092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997200" y="1906560"/>
              <a:ext cx="9468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1109520" y="1809720"/>
            <a:ext cx="223920" cy="890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476360" y="1685880"/>
            <a:ext cx="2624040" cy="5986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Right antenna touching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o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5149800" y="1844640"/>
            <a:ext cx="272880" cy="636120"/>
            <a:chOff x="5149800" y="1844640"/>
            <a:chExt cx="272880" cy="636120"/>
          </a:xfrm>
        </p:grpSpPr>
        <p:sp>
          <p:nvSpPr>
            <p:cNvPr id="913" name=""/>
            <p:cNvSpPr/>
            <p:nvPr/>
          </p:nvSpPr>
          <p:spPr>
            <a:xfrm>
              <a:off x="5161320" y="2018160"/>
              <a:ext cx="21384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1320" y="2226240"/>
              <a:ext cx="21384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149800" y="1844640"/>
              <a:ext cx="712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5328000" y="1844640"/>
              <a:ext cx="946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5475240" y="2208240"/>
            <a:ext cx="22536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92720" y="1819440"/>
            <a:ext cx="1722600" cy="59184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: Break in wall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urn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89440" y="2208240"/>
            <a:ext cx="438480" cy="220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056960" y="5303880"/>
            <a:ext cx="271440" cy="636120"/>
            <a:chOff x="1056960" y="5303880"/>
            <a:chExt cx="271440" cy="636120"/>
          </a:xfrm>
        </p:grpSpPr>
        <p:sp>
          <p:nvSpPr>
            <p:cNvPr id="921" name=""/>
            <p:cNvSpPr/>
            <p:nvPr/>
          </p:nvSpPr>
          <p:spPr>
            <a:xfrm>
              <a:off x="1068840" y="5477400"/>
              <a:ext cx="21240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68840" y="568548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1056960" y="5303880"/>
              <a:ext cx="709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1234080" y="530388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716200" y="5184720"/>
            <a:ext cx="2468520" cy="6033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: Left antenna touch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urn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5160" y="5102280"/>
            <a:ext cx="971640" cy="21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16200000">
            <a:off x="1697040" y="5454360"/>
            <a:ext cx="855360" cy="23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400480" y="2379600"/>
            <a:ext cx="0" cy="2563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326280" y="5056200"/>
            <a:ext cx="271080" cy="636120"/>
            <a:chOff x="6326280" y="5056200"/>
            <a:chExt cx="271080" cy="636120"/>
          </a:xfrm>
        </p:grpSpPr>
        <p:sp>
          <p:nvSpPr>
            <p:cNvPr id="930" name=""/>
            <p:cNvSpPr/>
            <p:nvPr/>
          </p:nvSpPr>
          <p:spPr>
            <a:xfrm>
              <a:off x="6337800" y="5229720"/>
              <a:ext cx="212400" cy="2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37800" y="543780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326280" y="5056200"/>
              <a:ext cx="7056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503040" y="505620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4138560" y="2076480"/>
            <a:ext cx="841320" cy="4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2141280" y="2411280"/>
            <a:ext cx="3240" cy="2560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a: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2984400" y="3732120"/>
            <a:ext cx="1166760" cy="6033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one F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005240" y="2514600"/>
            <a:ext cx="3240" cy="24796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7289640" y="4514760"/>
            <a:ext cx="640080" cy="696960"/>
            <a:chOff x="7289640" y="4514760"/>
            <a:chExt cx="640080" cy="696960"/>
          </a:xfrm>
        </p:grpSpPr>
        <p:sp>
          <p:nvSpPr>
            <p:cNvPr id="940" name=""/>
            <p:cNvSpPr/>
            <p:nvPr/>
          </p:nvSpPr>
          <p:spPr>
            <a:xfrm>
              <a:off x="7338960" y="4514760"/>
              <a:ext cx="531720" cy="63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89640" y="4959360"/>
              <a:ext cx="6400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45440" y="4854600"/>
              <a:ext cx="36360" cy="13176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454040" y="5110200"/>
            <a:ext cx="223920" cy="890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3425400" y="2387520"/>
            <a:ext cx="3349800" cy="25783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30920" y="5146560"/>
            <a:ext cx="1501920" cy="57960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: L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o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4231800" y="4365360"/>
            <a:ext cx="2025720" cy="7794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84400" y="2411280"/>
            <a:ext cx="322200" cy="12193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5235120" y="5455800"/>
            <a:ext cx="993960" cy="1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796160" y="43671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73080" y="35132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92120" y="5329080"/>
            <a:ext cx="271440" cy="636480"/>
            <a:chOff x="2292120" y="5329080"/>
            <a:chExt cx="271440" cy="636480"/>
          </a:xfrm>
        </p:grpSpPr>
        <p:sp>
          <p:nvSpPr>
            <p:cNvPr id="952" name=""/>
            <p:cNvSpPr/>
            <p:nvPr/>
          </p:nvSpPr>
          <p:spPr>
            <a:xfrm>
              <a:off x="2304000" y="5502600"/>
              <a:ext cx="212400" cy="208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04000" y="5711040"/>
              <a:ext cx="212400" cy="25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2292120" y="5329080"/>
              <a:ext cx="709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469240" y="5329080"/>
              <a:ext cx="9432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4516560" y="4194000"/>
            <a:ext cx="561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46480" y="31021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983120" y="33195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76280" y="28479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11280" y="351324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330200" y="417996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03800" y="17398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565600" y="515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1009800" y="1785960"/>
            <a:ext cx="477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41480" y="1481040"/>
            <a:ext cx="56592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L  R      Nex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22800" y="1461960"/>
            <a:ext cx="0" cy="462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b: State-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State min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tes are equivalent if they cannot be distinguished at the outputs of the F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utputs are the same for any inpu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nditions for two states to be equiv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Outputs must be the same in both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Machine must transition to equivalent states for all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equivalent states in our state dia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039400" y="3738600"/>
            <a:ext cx="174960" cy="452160"/>
            <a:chOff x="2039400" y="3738600"/>
            <a:chExt cx="174960" cy="452160"/>
          </a:xfrm>
        </p:grpSpPr>
        <p:sp>
          <p:nvSpPr>
            <p:cNvPr id="44" name=""/>
            <p:cNvSpPr/>
            <p:nvPr/>
          </p:nvSpPr>
          <p:spPr>
            <a:xfrm>
              <a:off x="2052360" y="3863880"/>
              <a:ext cx="137160" cy="150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2360" y="4015080"/>
              <a:ext cx="137160" cy="175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2039400" y="3738600"/>
              <a:ext cx="500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2164680" y="3738600"/>
              <a:ext cx="4968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447920" y="2744640"/>
            <a:ext cx="3531960" cy="30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80120" y="2744640"/>
            <a:ext cx="2404800" cy="301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000" y="3346560"/>
            <a:ext cx="1803240" cy="301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0200" y="3648240"/>
            <a:ext cx="2479680" cy="29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03800" y="4249800"/>
            <a:ext cx="3381120" cy="299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9480" y="4851360"/>
            <a:ext cx="5033880" cy="300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1880" y="3648240"/>
            <a:ext cx="300240" cy="150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3480" y="2744640"/>
            <a:ext cx="299880" cy="903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5040" y="2744640"/>
            <a:ext cx="299880" cy="2857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0200" y="3648240"/>
            <a:ext cx="300240" cy="88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744640"/>
            <a:ext cx="299880" cy="30164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47800" y="5464080"/>
            <a:ext cx="5926320" cy="300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0000" y="2744640"/>
            <a:ext cx="299880" cy="1203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 in a m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7899480" cy="8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ant, electronic ma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the 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4758480" y="2368440"/>
            <a:ext cx="729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0040" y="5600880"/>
            <a:ext cx="46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87480" y="2476440"/>
            <a:ext cx="688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98800" y="2424240"/>
            <a:ext cx="913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7,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760" y="5730840"/>
            <a:ext cx="688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7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036760" y="2655720"/>
            <a:ext cx="174600" cy="452160"/>
            <a:chOff x="5036760" y="2655720"/>
            <a:chExt cx="174600" cy="452160"/>
          </a:xfrm>
        </p:grpSpPr>
        <p:sp>
          <p:nvSpPr>
            <p:cNvPr id="69" name=""/>
            <p:cNvSpPr/>
            <p:nvPr/>
          </p:nvSpPr>
          <p:spPr>
            <a:xfrm>
              <a:off x="5049720" y="2781000"/>
              <a:ext cx="136800" cy="150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49720" y="2932200"/>
              <a:ext cx="136800" cy="175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036760" y="2655720"/>
              <a:ext cx="500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161680" y="2655720"/>
              <a:ext cx="4968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657440" y="4183200"/>
            <a:ext cx="866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1009800" y="1785960"/>
            <a:ext cx="477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41480" y="1481040"/>
            <a:ext cx="56592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X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L  R       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F  TL  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 0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0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0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0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0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1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1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1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63400"/>
                <a:tab algn="l" pos="839880"/>
                <a:tab algn="l" pos="1352520"/>
                <a:tab algn="l" pos="259380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   1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322800" y="1461960"/>
            <a:ext cx="0" cy="462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State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"/>
          <p:cNvSpPr/>
          <p:nvPr/>
        </p:nvSpPr>
        <p:spPr>
          <a:xfrm>
            <a:off x="6975360" y="2076480"/>
            <a:ext cx="13399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0 </a:t>
            </a:r>
            <a:r>
              <a:rPr b="0" lang="en-US" sz="1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1 </a:t>
            </a:r>
            <a:r>
              <a:rPr b="0" lang="en-US" sz="1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2 </a:t>
            </a:r>
            <a:r>
              <a:rPr b="0" lang="en-US" sz="1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3 </a:t>
            </a:r>
            <a:r>
              <a:rPr b="0" lang="en-US" sz="1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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4: Minimize th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515960" y="1405080"/>
            <a:ext cx="2352600" cy="2214000"/>
            <a:chOff x="1515960" y="1405080"/>
            <a:chExt cx="2352600" cy="2214000"/>
          </a:xfrm>
        </p:grpSpPr>
        <p:sp>
          <p:nvSpPr>
            <p:cNvPr id="977" name=""/>
            <p:cNvSpPr/>
            <p:nvPr/>
          </p:nvSpPr>
          <p:spPr>
            <a:xfrm>
              <a:off x="2070000" y="1797120"/>
              <a:ext cx="135864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1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1960" y="1405080"/>
              <a:ext cx="75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60320" y="1509480"/>
              <a:ext cx="369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00160" y="185076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39640" y="185076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79480" y="185076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19320" y="185076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00160" y="21906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39640" y="21906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79480" y="21906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19320" y="21906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00160" y="25304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39640" y="25304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679480" y="25304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19320" y="25304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00160" y="287028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39640" y="287028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79480" y="287028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19320" y="287028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679480" y="1736640"/>
              <a:ext cx="6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87120" y="2530440"/>
              <a:ext cx="0" cy="67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71480" y="219060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07960" y="3330360"/>
              <a:ext cx="7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28720" y="2374920"/>
              <a:ext cx="33984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15960" y="2690640"/>
              <a:ext cx="3013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38200" y="331128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248440" y="1405080"/>
            <a:ext cx="2352600" cy="2214000"/>
            <a:chOff x="5248440" y="1405080"/>
            <a:chExt cx="2352600" cy="2214000"/>
          </a:xfrm>
        </p:grpSpPr>
        <p:sp>
          <p:nvSpPr>
            <p:cNvPr id="1004" name=""/>
            <p:cNvSpPr/>
            <p:nvPr/>
          </p:nvSpPr>
          <p:spPr>
            <a:xfrm>
              <a:off x="5802480" y="1797120"/>
              <a:ext cx="135864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64440" y="1405080"/>
              <a:ext cx="75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92800" y="1509480"/>
              <a:ext cx="369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32640" y="185076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72120" y="185076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411960" y="185076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51800" y="185076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32640" y="21906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2120" y="21906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11960" y="21906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51800" y="21906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32640" y="25304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72120" y="25304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11960" y="25304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51800" y="25304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732640" y="287028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72120" y="287028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11960" y="287028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51800" y="287028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11960" y="1736640"/>
              <a:ext cx="6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19600" y="2530440"/>
              <a:ext cx="0" cy="67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3960" y="219060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40440" y="3330360"/>
              <a:ext cx="7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61200" y="2374920"/>
              <a:ext cx="33984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48440" y="2690640"/>
              <a:ext cx="3013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70680" y="331128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4880" y="3881520"/>
            <a:ext cx="2352600" cy="2214000"/>
            <a:chOff x="704880" y="3881520"/>
            <a:chExt cx="2352600" cy="2214000"/>
          </a:xfrm>
        </p:grpSpPr>
        <p:sp>
          <p:nvSpPr>
            <p:cNvPr id="1031" name=""/>
            <p:cNvSpPr/>
            <p:nvPr/>
          </p:nvSpPr>
          <p:spPr>
            <a:xfrm>
              <a:off x="1258920" y="4273560"/>
              <a:ext cx="135864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  1   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81520"/>
              <a:ext cx="75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9240" y="3985920"/>
              <a:ext cx="369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8908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2856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6840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0824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8908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2856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6840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20824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8908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856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86840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0824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8908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2856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6840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0824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68400" y="4213080"/>
              <a:ext cx="6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76040" y="5006880"/>
              <a:ext cx="0" cy="67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60400" y="466704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96880" y="5806800"/>
              <a:ext cx="7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17640" y="4851360"/>
              <a:ext cx="33984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04880" y="5167080"/>
              <a:ext cx="3013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527120" y="578772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462480" y="3881520"/>
            <a:ext cx="1955520" cy="2214000"/>
            <a:chOff x="3462480" y="3881520"/>
            <a:chExt cx="1955520" cy="2214000"/>
          </a:xfrm>
        </p:grpSpPr>
        <p:sp>
          <p:nvSpPr>
            <p:cNvPr id="1058" name=""/>
            <p:cNvSpPr/>
            <p:nvPr/>
          </p:nvSpPr>
          <p:spPr>
            <a:xfrm>
              <a:off x="4016520" y="4273560"/>
              <a:ext cx="135864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1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78480" y="3881520"/>
              <a:ext cx="75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6840" y="3985920"/>
              <a:ext cx="369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94668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8616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2600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6584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4668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8616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2600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6584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4668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8616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2600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6584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4668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28616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2600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6584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26000" y="4213080"/>
              <a:ext cx="6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833640" y="5006880"/>
              <a:ext cx="0" cy="67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18000" y="466704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54480" y="5806800"/>
              <a:ext cx="7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62480" y="5167080"/>
              <a:ext cx="3013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284720" y="578772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6276960" y="3881520"/>
            <a:ext cx="2352600" cy="2214000"/>
            <a:chOff x="6276960" y="3881520"/>
            <a:chExt cx="2352600" cy="2214000"/>
          </a:xfrm>
        </p:grpSpPr>
        <p:sp>
          <p:nvSpPr>
            <p:cNvPr id="1084" name=""/>
            <p:cNvSpPr/>
            <p:nvPr/>
          </p:nvSpPr>
          <p:spPr>
            <a:xfrm>
              <a:off x="6831000" y="4273560"/>
              <a:ext cx="135864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0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0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0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227160"/>
                  <a:tab algn="l" pos="455760"/>
                  <a:tab algn="l" pos="682560"/>
                  <a:tab algn="l" pos="89676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  0   0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92960" y="3881520"/>
              <a:ext cx="753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21320" y="3985920"/>
              <a:ext cx="369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6116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0064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40480" y="432720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780320" y="432720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6116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0064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40480" y="466704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780320" y="466704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6116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0064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440480" y="5006880"/>
              <a:ext cx="33984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80320" y="5006880"/>
              <a:ext cx="339480" cy="33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6116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0064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440480" y="5346720"/>
              <a:ext cx="33984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780320" y="5346720"/>
              <a:ext cx="339480" cy="33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0480" y="4213080"/>
              <a:ext cx="6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648120" y="5006880"/>
              <a:ext cx="0" cy="67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232480" y="4667040"/>
              <a:ext cx="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68960" y="5806800"/>
              <a:ext cx="7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289720" y="4851360"/>
              <a:ext cx="33984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276960" y="5167080"/>
              <a:ext cx="3013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4840" bIns="248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99200" y="578772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5: Implement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787320" y="1590840"/>
            <a:ext cx="1695600" cy="16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nt-Brain F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+ = LY+LX’+X’YR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+ = XY+X’R+X’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  = X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L = 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 = XY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82920" y="18669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482920" y="239868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82920" y="29401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80000" y="1698480"/>
            <a:ext cx="833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871720" y="2141640"/>
            <a:ext cx="546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871720" y="2712960"/>
            <a:ext cx="546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95240" y="4892760"/>
            <a:ext cx="14814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e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shift regis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2760" y="49737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82760" y="52754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2760" y="55706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94960" y="4781520"/>
            <a:ext cx="616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694960" y="5097600"/>
            <a:ext cx="646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694240" y="5407200"/>
            <a:ext cx="538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89240" y="58658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94600" y="5702400"/>
            <a:ext cx="58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62720" y="4137120"/>
            <a:ext cx="1544400" cy="95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X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97600" y="421164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97600" y="446076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97600" y="47322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13520" y="4048200"/>
            <a:ext cx="833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05840" y="4289400"/>
            <a:ext cx="538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56880" y="4529160"/>
            <a:ext cx="587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556240" y="5091120"/>
            <a:ext cx="1554120" cy="9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Y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281720" y="4784760"/>
            <a:ext cx="1400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105680" y="4518000"/>
            <a:ext cx="76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112160" y="534348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36520" y="450864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60040" y="4000680"/>
            <a:ext cx="546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978200" y="451332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01720" y="4005360"/>
            <a:ext cx="546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97600" y="49579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50600" y="4768920"/>
            <a:ext cx="79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2280" y="52164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02280" y="546588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02280" y="57373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318200" y="5052960"/>
            <a:ext cx="833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33480" y="5294160"/>
            <a:ext cx="616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503240" y="5533920"/>
            <a:ext cx="646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02280" y="596268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55640" y="5773680"/>
            <a:ext cx="79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45200" y="1990800"/>
            <a:ext cx="1065240" cy="10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nten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43520" y="1989000"/>
            <a:ext cx="1481040" cy="10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04320" y="233532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104320" y="2637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516880" y="2166840"/>
            <a:ext cx="279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517240" y="2459160"/>
            <a:ext cx="308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415200" y="251136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414480" y="1946160"/>
            <a:ext cx="6166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62640" y="2494080"/>
            <a:ext cx="366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924720" y="2475000"/>
            <a:ext cx="835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7140600" y="303228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7416720" y="303228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7728120" y="303228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039160" y="303228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986880" y="3368520"/>
            <a:ext cx="121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  S    E  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1171440" y="320040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2013120" y="3204720"/>
            <a:ext cx="0" cy="37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025280" y="3521160"/>
            <a:ext cx="279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852920" y="3525840"/>
            <a:ext cx="308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a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79280" y="1485720"/>
            <a:ext cx="60976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memory location s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00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0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rth wall (N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0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est wall  (W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0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outh wall (S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0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st wall   (E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10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t can be he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:  0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: 00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:  0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:  1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"/>
          <p:cNvSpPr/>
          <p:nvPr/>
        </p:nvSpPr>
        <p:spPr>
          <a:xfrm>
            <a:off x="4754880" y="1486080"/>
            <a:ext cx="3838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Logic for right antenn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R = NW(N + W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WW(W + S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W(S + E) +</a:t>
            </a:r>
            <a:br>
              <a:rPr sz="2000"/>
            </a:b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EW(E +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830840" y="3594240"/>
            <a:ext cx="3686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Logic for left antenn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L = NW(N + E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WW(W + N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W(S + W) +</a:t>
            </a:r>
            <a:br>
              <a:rPr sz="2000"/>
            </a:b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EW(E +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953080" y="4734000"/>
            <a:ext cx="27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Gate cou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4  2-input 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8  2-input 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  4-input 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eft out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umbs in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 eats crumbs in every cell it vis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crumb file back to S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crumb file, for future display on mon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 memory 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tate machine to talk to the S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deal with startup, exit stat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676080" y="1424160"/>
            <a:ext cx="793404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he memory controller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last day in class, Friday, June 1; printouts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: up to 1 qu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d on clarity and completeness of expla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stions will be answ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 Cred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08480" y="1946160"/>
            <a:ext cx="4368600" cy="2035080"/>
            <a:chOff x="2508480" y="1946160"/>
            <a:chExt cx="4368600" cy="2035080"/>
          </a:xfrm>
        </p:grpSpPr>
        <p:sp>
          <p:nvSpPr>
            <p:cNvPr id="1181" name=""/>
            <p:cNvSpPr/>
            <p:nvPr/>
          </p:nvSpPr>
          <p:spPr>
            <a:xfrm>
              <a:off x="3757680" y="2035080"/>
              <a:ext cx="1544760" cy="95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X 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92560" y="210960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292560" y="235872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92560" y="263052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8480" y="1946160"/>
              <a:ext cx="833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00800" y="2187360"/>
              <a:ext cx="538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51840" y="2427120"/>
              <a:ext cx="5875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2989080"/>
              <a:ext cx="1554120" cy="95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Y 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477040" y="2682720"/>
              <a:ext cx="1400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RAM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00640" y="2415960"/>
              <a:ext cx="76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307120" y="324144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92560" y="285588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45920" y="2666880"/>
              <a:ext cx="794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97240" y="311436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97240" y="336384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297240" y="363528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513160" y="2950920"/>
              <a:ext cx="833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28440" y="3192480"/>
              <a:ext cx="616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98200" y="3431880"/>
              <a:ext cx="646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97240" y="386064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50600" y="3671640"/>
              <a:ext cx="794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15120" y="2281320"/>
            <a:ext cx="288720" cy="688680"/>
            <a:chOff x="8115120" y="2281320"/>
            <a:chExt cx="288720" cy="688680"/>
          </a:xfrm>
        </p:grpSpPr>
        <p:sp>
          <p:nvSpPr>
            <p:cNvPr id="75" name=""/>
            <p:cNvSpPr/>
            <p:nvPr/>
          </p:nvSpPr>
          <p:spPr>
            <a:xfrm>
              <a:off x="8127720" y="2469240"/>
              <a:ext cx="225720" cy="22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27720" y="2694600"/>
              <a:ext cx="225720" cy="275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8115120" y="2281320"/>
              <a:ext cx="7524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303760" y="2281320"/>
              <a:ext cx="10008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903320" y="915840"/>
            <a:ext cx="688968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Bef>
                <a:spcPts val="587"/>
              </a:spcBef>
              <a:tabLst>
                <a:tab algn="l" pos="0"/>
                <a:tab algn="l" pos="450720"/>
                <a:tab algn="l" pos="901800"/>
                <a:tab algn="l" pos="14652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84760" y="3898800"/>
            <a:ext cx="12600" cy="23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241520" y="3616200"/>
            <a:ext cx="174600" cy="452160"/>
            <a:chOff x="4241520" y="3616200"/>
            <a:chExt cx="174600" cy="452160"/>
          </a:xfrm>
        </p:grpSpPr>
        <p:sp>
          <p:nvSpPr>
            <p:cNvPr id="82" name=""/>
            <p:cNvSpPr/>
            <p:nvPr/>
          </p:nvSpPr>
          <p:spPr>
            <a:xfrm>
              <a:off x="4254480" y="37414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54480" y="3892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241520" y="361620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366440" y="361620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nt brain (Ward, MI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and R antennae, 1 if in touching 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tor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- forward step, TL/TR - turn left/right sligh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way out of ma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wall on the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78000" y="3235320"/>
            <a:ext cx="6237360" cy="3008160"/>
            <a:chOff x="1278000" y="3235320"/>
            <a:chExt cx="6237360" cy="3008160"/>
          </a:xfrm>
        </p:grpSpPr>
        <p:sp>
          <p:nvSpPr>
            <p:cNvPr id="89" name=""/>
            <p:cNvSpPr/>
            <p:nvPr/>
          </p:nvSpPr>
          <p:spPr>
            <a:xfrm>
              <a:off x="1278000" y="3235320"/>
              <a:ext cx="3531960" cy="30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10200" y="3235320"/>
              <a:ext cx="2405160" cy="301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0080" y="3836880"/>
              <a:ext cx="1311120" cy="301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30280" y="4138560"/>
              <a:ext cx="2479680" cy="30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3880" y="4740120"/>
              <a:ext cx="3381480" cy="300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1400" y="5342040"/>
              <a:ext cx="4660920" cy="299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32320" y="4138560"/>
              <a:ext cx="299880" cy="1503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42040" y="3257640"/>
              <a:ext cx="299880" cy="903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15120" y="3235320"/>
              <a:ext cx="300240" cy="285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30280" y="4138560"/>
              <a:ext cx="300240" cy="889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8000" y="3235320"/>
              <a:ext cx="299880" cy="285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8000" y="5943600"/>
              <a:ext cx="6237360" cy="299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235320"/>
              <a:ext cx="299880" cy="1203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411360" y="3548160"/>
            <a:ext cx="452160" cy="174600"/>
            <a:chOff x="3411360" y="3548160"/>
            <a:chExt cx="452160" cy="174600"/>
          </a:xfrm>
        </p:grpSpPr>
        <p:sp>
          <p:nvSpPr>
            <p:cNvPr id="103" name=""/>
            <p:cNvSpPr/>
            <p:nvPr/>
          </p:nvSpPr>
          <p:spPr>
            <a:xfrm rot="16200000">
              <a:off x="3543480" y="35658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3707280" y="35535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411360" y="367272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3411360" y="354816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494080" y="3586320"/>
            <a:ext cx="451800" cy="174600"/>
            <a:chOff x="2494080" y="3586320"/>
            <a:chExt cx="451800" cy="174600"/>
          </a:xfrm>
        </p:grpSpPr>
        <p:sp>
          <p:nvSpPr>
            <p:cNvPr id="108" name=""/>
            <p:cNvSpPr/>
            <p:nvPr/>
          </p:nvSpPr>
          <p:spPr>
            <a:xfrm rot="16200000">
              <a:off x="2626200" y="360396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2789640" y="35917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494080" y="371088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494080" y="358632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555920" y="3587760"/>
            <a:ext cx="451800" cy="174600"/>
            <a:chOff x="1555920" y="3587760"/>
            <a:chExt cx="451800" cy="174600"/>
          </a:xfrm>
        </p:grpSpPr>
        <p:sp>
          <p:nvSpPr>
            <p:cNvPr id="113" name=""/>
            <p:cNvSpPr/>
            <p:nvPr/>
          </p:nvSpPr>
          <p:spPr>
            <a:xfrm rot="16200000">
              <a:off x="1688040" y="36054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1851480" y="35931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555920" y="371232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555920" y="358776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84360" y="3929040"/>
            <a:ext cx="174600" cy="452160"/>
            <a:chOff x="1584360" y="3929040"/>
            <a:chExt cx="174600" cy="452160"/>
          </a:xfrm>
        </p:grpSpPr>
        <p:sp>
          <p:nvSpPr>
            <p:cNvPr id="118" name=""/>
            <p:cNvSpPr/>
            <p:nvPr/>
          </p:nvSpPr>
          <p:spPr>
            <a:xfrm rot="10800000">
              <a:off x="1609200" y="41050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1609200" y="39290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8920" y="425592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84360" y="425592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4600" y="4657680"/>
            <a:ext cx="174600" cy="452160"/>
            <a:chOff x="1614600" y="4657680"/>
            <a:chExt cx="174600" cy="452160"/>
          </a:xfrm>
        </p:grpSpPr>
        <p:sp>
          <p:nvSpPr>
            <p:cNvPr id="123" name=""/>
            <p:cNvSpPr/>
            <p:nvPr/>
          </p:nvSpPr>
          <p:spPr>
            <a:xfrm rot="10800000">
              <a:off x="1639440" y="48337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1639440" y="4657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39160" y="498456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14600" y="498456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6680" y="5487840"/>
            <a:ext cx="174600" cy="452160"/>
            <a:chOff x="1606680" y="5487840"/>
            <a:chExt cx="174600" cy="452160"/>
          </a:xfrm>
        </p:grpSpPr>
        <p:sp>
          <p:nvSpPr>
            <p:cNvPr id="128" name=""/>
            <p:cNvSpPr/>
            <p:nvPr/>
          </p:nvSpPr>
          <p:spPr>
            <a:xfrm rot="10800000">
              <a:off x="1631520" y="56638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1631520" y="54878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31240" y="581472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06680" y="581472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21400" y="5758920"/>
            <a:ext cx="451800" cy="174960"/>
            <a:chOff x="2021400" y="5758920"/>
            <a:chExt cx="451800" cy="174960"/>
          </a:xfrm>
        </p:grpSpPr>
        <p:sp>
          <p:nvSpPr>
            <p:cNvPr id="133" name=""/>
            <p:cNvSpPr/>
            <p:nvPr/>
          </p:nvSpPr>
          <p:spPr>
            <a:xfrm rot="5400000">
              <a:off x="2203920" y="5765040"/>
              <a:ext cx="13716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2040480" y="5752440"/>
              <a:ext cx="13716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47920" y="575892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7920" y="58842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17800" y="5735160"/>
            <a:ext cx="452160" cy="174600"/>
            <a:chOff x="2917800" y="5735160"/>
            <a:chExt cx="452160" cy="174600"/>
          </a:xfrm>
        </p:grpSpPr>
        <p:sp>
          <p:nvSpPr>
            <p:cNvPr id="138" name=""/>
            <p:cNvSpPr/>
            <p:nvPr/>
          </p:nvSpPr>
          <p:spPr>
            <a:xfrm rot="5400000">
              <a:off x="3100680" y="57409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2937240" y="5728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244680" y="57351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4680" y="58600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40120" y="5752800"/>
            <a:ext cx="452160" cy="174600"/>
            <a:chOff x="3840120" y="5752800"/>
            <a:chExt cx="452160" cy="174600"/>
          </a:xfrm>
        </p:grpSpPr>
        <p:sp>
          <p:nvSpPr>
            <p:cNvPr id="143" name=""/>
            <p:cNvSpPr/>
            <p:nvPr/>
          </p:nvSpPr>
          <p:spPr>
            <a:xfrm rot="5400000">
              <a:off x="4023000" y="575856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859560" y="57463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167000" y="575280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7000" y="587772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03840" y="5729040"/>
            <a:ext cx="452160" cy="174600"/>
            <a:chOff x="4803840" y="5729040"/>
            <a:chExt cx="452160" cy="174600"/>
          </a:xfrm>
        </p:grpSpPr>
        <p:sp>
          <p:nvSpPr>
            <p:cNvPr id="148" name=""/>
            <p:cNvSpPr/>
            <p:nvPr/>
          </p:nvSpPr>
          <p:spPr>
            <a:xfrm rot="5400000">
              <a:off x="4986720" y="57348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4823280" y="57225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130720" y="57290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30720" y="585396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51440" y="5762160"/>
            <a:ext cx="452160" cy="174600"/>
            <a:chOff x="5851440" y="5762160"/>
            <a:chExt cx="452160" cy="174600"/>
          </a:xfrm>
        </p:grpSpPr>
        <p:sp>
          <p:nvSpPr>
            <p:cNvPr id="153" name=""/>
            <p:cNvSpPr/>
            <p:nvPr/>
          </p:nvSpPr>
          <p:spPr>
            <a:xfrm rot="5400000">
              <a:off x="6034320" y="57679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5870880" y="5755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178320" y="57621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8320" y="58870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88160" y="5757480"/>
            <a:ext cx="452160" cy="174600"/>
            <a:chOff x="6788160" y="5757480"/>
            <a:chExt cx="452160" cy="174600"/>
          </a:xfrm>
        </p:grpSpPr>
        <p:sp>
          <p:nvSpPr>
            <p:cNvPr id="158" name=""/>
            <p:cNvSpPr/>
            <p:nvPr/>
          </p:nvSpPr>
          <p:spPr>
            <a:xfrm rot="5400000">
              <a:off x="6971040" y="57632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6807600" y="57510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115040" y="575748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15040" y="58824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995880" y="5045040"/>
            <a:ext cx="174600" cy="452160"/>
            <a:chOff x="6995880" y="5045040"/>
            <a:chExt cx="174600" cy="452160"/>
          </a:xfrm>
        </p:grpSpPr>
        <p:sp>
          <p:nvSpPr>
            <p:cNvPr id="163" name=""/>
            <p:cNvSpPr/>
            <p:nvPr/>
          </p:nvSpPr>
          <p:spPr>
            <a:xfrm>
              <a:off x="7008840" y="51703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08840" y="53215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6995880" y="504504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120800" y="504504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221520" y="5046840"/>
            <a:ext cx="451800" cy="174600"/>
            <a:chOff x="6221520" y="5046840"/>
            <a:chExt cx="451800" cy="174600"/>
          </a:xfrm>
        </p:grpSpPr>
        <p:sp>
          <p:nvSpPr>
            <p:cNvPr id="168" name=""/>
            <p:cNvSpPr/>
            <p:nvPr/>
          </p:nvSpPr>
          <p:spPr>
            <a:xfrm rot="16200000">
              <a:off x="6353640" y="50644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6517080" y="50522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21520" y="517140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221520" y="504684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19880" y="5075280"/>
            <a:ext cx="451800" cy="174600"/>
            <a:chOff x="5519880" y="5075280"/>
            <a:chExt cx="451800" cy="174600"/>
          </a:xfrm>
        </p:grpSpPr>
        <p:sp>
          <p:nvSpPr>
            <p:cNvPr id="173" name=""/>
            <p:cNvSpPr/>
            <p:nvPr/>
          </p:nvSpPr>
          <p:spPr>
            <a:xfrm rot="16200000">
              <a:off x="5652000" y="50929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5815440" y="5080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19880" y="51998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519880" y="50752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78280" y="5048280"/>
            <a:ext cx="452160" cy="174600"/>
            <a:chOff x="4778280" y="5048280"/>
            <a:chExt cx="452160" cy="174600"/>
          </a:xfrm>
        </p:grpSpPr>
        <p:sp>
          <p:nvSpPr>
            <p:cNvPr id="178" name=""/>
            <p:cNvSpPr/>
            <p:nvPr/>
          </p:nvSpPr>
          <p:spPr>
            <a:xfrm rot="16200000">
              <a:off x="4910400" y="50659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5074200" y="5053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778280" y="51728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778280" y="50482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146480" y="5073840"/>
            <a:ext cx="452160" cy="174960"/>
            <a:chOff x="4146480" y="5073840"/>
            <a:chExt cx="452160" cy="174960"/>
          </a:xfrm>
        </p:grpSpPr>
        <p:sp>
          <p:nvSpPr>
            <p:cNvPr id="183" name=""/>
            <p:cNvSpPr/>
            <p:nvPr/>
          </p:nvSpPr>
          <p:spPr>
            <a:xfrm rot="16200000">
              <a:off x="4278600" y="5091840"/>
              <a:ext cx="13716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4442040" y="5079240"/>
              <a:ext cx="13716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146480" y="51987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146480" y="507384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962160" y="4683240"/>
            <a:ext cx="174600" cy="451800"/>
            <a:chOff x="3962160" y="4683240"/>
            <a:chExt cx="174600" cy="451800"/>
          </a:xfrm>
        </p:grpSpPr>
        <p:sp>
          <p:nvSpPr>
            <p:cNvPr id="188" name=""/>
            <p:cNvSpPr/>
            <p:nvPr/>
          </p:nvSpPr>
          <p:spPr>
            <a:xfrm>
              <a:off x="3975120" y="48085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75120" y="49593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62160" y="468324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087080" y="468324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203720" y="4559040"/>
            <a:ext cx="452160" cy="174600"/>
            <a:chOff x="4203720" y="4559040"/>
            <a:chExt cx="452160" cy="174600"/>
          </a:xfrm>
        </p:grpSpPr>
        <p:sp>
          <p:nvSpPr>
            <p:cNvPr id="193" name=""/>
            <p:cNvSpPr/>
            <p:nvPr/>
          </p:nvSpPr>
          <p:spPr>
            <a:xfrm rot="5400000">
              <a:off x="4386600" y="45648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4223160" y="45525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530600" y="45590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30600" y="468396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00480" y="4535280"/>
            <a:ext cx="452160" cy="174600"/>
            <a:chOff x="5100480" y="4535280"/>
            <a:chExt cx="452160" cy="174600"/>
          </a:xfrm>
        </p:grpSpPr>
        <p:sp>
          <p:nvSpPr>
            <p:cNvPr id="198" name=""/>
            <p:cNvSpPr/>
            <p:nvPr/>
          </p:nvSpPr>
          <p:spPr>
            <a:xfrm rot="5400000">
              <a:off x="5283360" y="45410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5119920" y="45288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427360" y="453528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27360" y="46602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022800" y="4571640"/>
            <a:ext cx="452160" cy="174600"/>
            <a:chOff x="6022800" y="4571640"/>
            <a:chExt cx="452160" cy="174600"/>
          </a:xfrm>
        </p:grpSpPr>
        <p:sp>
          <p:nvSpPr>
            <p:cNvPr id="203" name=""/>
            <p:cNvSpPr/>
            <p:nvPr/>
          </p:nvSpPr>
          <p:spPr>
            <a:xfrm rot="5400000">
              <a:off x="6205680" y="45774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6042240" y="45651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349680" y="45716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9680" y="469656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41000" y="4574880"/>
            <a:ext cx="451800" cy="174600"/>
            <a:chOff x="6741000" y="4574880"/>
            <a:chExt cx="451800" cy="174600"/>
          </a:xfrm>
        </p:grpSpPr>
        <p:sp>
          <p:nvSpPr>
            <p:cNvPr id="208" name=""/>
            <p:cNvSpPr/>
            <p:nvPr/>
          </p:nvSpPr>
          <p:spPr>
            <a:xfrm rot="5400000">
              <a:off x="6923520" y="45806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760440" y="45684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067520" y="457488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67520" y="46998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46640" y="4089240"/>
            <a:ext cx="174600" cy="452160"/>
            <a:chOff x="7046640" y="4089240"/>
            <a:chExt cx="174600" cy="452160"/>
          </a:xfrm>
        </p:grpSpPr>
        <p:sp>
          <p:nvSpPr>
            <p:cNvPr id="213" name=""/>
            <p:cNvSpPr/>
            <p:nvPr/>
          </p:nvSpPr>
          <p:spPr>
            <a:xfrm>
              <a:off x="7059600" y="42145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9600" y="43657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7046640" y="408924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171560" y="408924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16400" y="3557520"/>
            <a:ext cx="174600" cy="452160"/>
            <a:chOff x="7016400" y="3557520"/>
            <a:chExt cx="174600" cy="452160"/>
          </a:xfrm>
        </p:grpSpPr>
        <p:sp>
          <p:nvSpPr>
            <p:cNvPr id="218" name=""/>
            <p:cNvSpPr/>
            <p:nvPr/>
          </p:nvSpPr>
          <p:spPr>
            <a:xfrm>
              <a:off x="7029360" y="36828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29360" y="38340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16400" y="355752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7141320" y="355752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58120" y="3516480"/>
            <a:ext cx="451800" cy="174600"/>
            <a:chOff x="6558120" y="3516480"/>
            <a:chExt cx="451800" cy="174600"/>
          </a:xfrm>
        </p:grpSpPr>
        <p:sp>
          <p:nvSpPr>
            <p:cNvPr id="223" name=""/>
            <p:cNvSpPr/>
            <p:nvPr/>
          </p:nvSpPr>
          <p:spPr>
            <a:xfrm rot="16200000">
              <a:off x="6690240" y="35341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6853680" y="35218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558120" y="364104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6558120" y="35164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51640" y="3703680"/>
            <a:ext cx="174600" cy="452160"/>
            <a:chOff x="6551640" y="3703680"/>
            <a:chExt cx="174600" cy="452160"/>
          </a:xfrm>
        </p:grpSpPr>
        <p:sp>
          <p:nvSpPr>
            <p:cNvPr id="228" name=""/>
            <p:cNvSpPr/>
            <p:nvPr/>
          </p:nvSpPr>
          <p:spPr>
            <a:xfrm rot="10800000">
              <a:off x="6576480" y="38797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6576480" y="3703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76200" y="403056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551640" y="403056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46640" y="4141800"/>
            <a:ext cx="452160" cy="174600"/>
            <a:chOff x="6146640" y="4141800"/>
            <a:chExt cx="452160" cy="174600"/>
          </a:xfrm>
        </p:grpSpPr>
        <p:sp>
          <p:nvSpPr>
            <p:cNvPr id="233" name=""/>
            <p:cNvSpPr/>
            <p:nvPr/>
          </p:nvSpPr>
          <p:spPr>
            <a:xfrm rot="16200000">
              <a:off x="6278760" y="41594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6442560" y="41472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146640" y="42663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146640" y="41418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62400" y="3568680"/>
            <a:ext cx="174600" cy="452160"/>
            <a:chOff x="6062400" y="3568680"/>
            <a:chExt cx="174600" cy="452160"/>
          </a:xfrm>
        </p:grpSpPr>
        <p:sp>
          <p:nvSpPr>
            <p:cNvPr id="238" name=""/>
            <p:cNvSpPr/>
            <p:nvPr/>
          </p:nvSpPr>
          <p:spPr>
            <a:xfrm>
              <a:off x="6075360" y="369396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5360" y="38451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6062400" y="356868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187320" y="356868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560920" y="3538440"/>
            <a:ext cx="452160" cy="174600"/>
            <a:chOff x="5560920" y="3538440"/>
            <a:chExt cx="452160" cy="174600"/>
          </a:xfrm>
        </p:grpSpPr>
        <p:sp>
          <p:nvSpPr>
            <p:cNvPr id="243" name=""/>
            <p:cNvSpPr/>
            <p:nvPr/>
          </p:nvSpPr>
          <p:spPr>
            <a:xfrm rot="16200000">
              <a:off x="5693040" y="35560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5856840" y="35438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560920" y="366300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5560920" y="353844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051520" y="3567240"/>
            <a:ext cx="452160" cy="174600"/>
            <a:chOff x="5051520" y="3567240"/>
            <a:chExt cx="452160" cy="174600"/>
          </a:xfrm>
        </p:grpSpPr>
        <p:sp>
          <p:nvSpPr>
            <p:cNvPr id="248" name=""/>
            <p:cNvSpPr/>
            <p:nvPr/>
          </p:nvSpPr>
          <p:spPr>
            <a:xfrm rot="16200000">
              <a:off x="5183640" y="35848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5347440" y="35726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051520" y="369180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5051520" y="356724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46400" y="3124080"/>
            <a:ext cx="174600" cy="452160"/>
            <a:chOff x="4946400" y="3124080"/>
            <a:chExt cx="174600" cy="452160"/>
          </a:xfrm>
        </p:grpSpPr>
        <p:sp>
          <p:nvSpPr>
            <p:cNvPr id="253" name=""/>
            <p:cNvSpPr/>
            <p:nvPr/>
          </p:nvSpPr>
          <p:spPr>
            <a:xfrm>
              <a:off x="4959360" y="324936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59360" y="34005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4946400" y="312408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071320" y="312408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7740360" y="1881360"/>
            <a:ext cx="288720" cy="688320"/>
            <a:chOff x="7740360" y="1881360"/>
            <a:chExt cx="288720" cy="688320"/>
          </a:xfrm>
        </p:grpSpPr>
        <p:sp>
          <p:nvSpPr>
            <p:cNvPr id="258" name=""/>
            <p:cNvSpPr/>
            <p:nvPr/>
          </p:nvSpPr>
          <p:spPr>
            <a:xfrm>
              <a:off x="7752960" y="2069280"/>
              <a:ext cx="225720" cy="22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52960" y="2294640"/>
              <a:ext cx="225720" cy="27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7740360" y="1881360"/>
              <a:ext cx="7524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929000" y="1881360"/>
              <a:ext cx="10008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903320" y="915840"/>
            <a:ext cx="688968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Bef>
                <a:spcPts val="587"/>
              </a:spcBef>
              <a:tabLst>
                <a:tab algn="l" pos="0"/>
                <a:tab algn="l" pos="450720"/>
                <a:tab algn="l" pos="901800"/>
                <a:tab algn="l" pos="14652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3898800"/>
            <a:ext cx="12600" cy="23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nt brain (special case 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(L) Antenna touching the 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278000" y="3235320"/>
            <a:ext cx="6237360" cy="3075120"/>
            <a:chOff x="1278000" y="3235320"/>
            <a:chExt cx="6237360" cy="3075120"/>
          </a:xfrm>
        </p:grpSpPr>
        <p:sp>
          <p:nvSpPr>
            <p:cNvPr id="267" name=""/>
            <p:cNvSpPr/>
            <p:nvPr/>
          </p:nvSpPr>
          <p:spPr>
            <a:xfrm>
              <a:off x="1278000" y="3235320"/>
              <a:ext cx="3531960" cy="30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10200" y="3235320"/>
              <a:ext cx="2405160" cy="301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10080" y="3836880"/>
              <a:ext cx="1311120" cy="301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0280" y="4138560"/>
              <a:ext cx="2479680" cy="30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33880" y="4683240"/>
              <a:ext cx="3381480" cy="299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1400" y="5427720"/>
              <a:ext cx="4660920" cy="299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32320" y="4138560"/>
              <a:ext cx="299880" cy="1503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2040" y="3257640"/>
              <a:ext cx="299880" cy="903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15120" y="3235320"/>
              <a:ext cx="300240" cy="285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30280" y="4138560"/>
              <a:ext cx="300240" cy="889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3235320"/>
              <a:ext cx="299880" cy="28576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78000" y="6010200"/>
              <a:ext cx="6237360" cy="300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10080" y="3235320"/>
              <a:ext cx="299880" cy="1203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778280" y="5010120"/>
            <a:ext cx="452160" cy="174600"/>
            <a:chOff x="4778280" y="5010120"/>
            <a:chExt cx="452160" cy="174600"/>
          </a:xfrm>
        </p:grpSpPr>
        <p:sp>
          <p:nvSpPr>
            <p:cNvPr id="281" name=""/>
            <p:cNvSpPr/>
            <p:nvPr/>
          </p:nvSpPr>
          <p:spPr>
            <a:xfrm rot="16200000">
              <a:off x="4910400" y="502776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5074200" y="50155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778280" y="513468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778280" y="501012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962160" y="3124080"/>
            <a:ext cx="3240000" cy="2067120"/>
            <a:chOff x="3962160" y="3124080"/>
            <a:chExt cx="3240000" cy="2067120"/>
          </a:xfrm>
        </p:grpSpPr>
        <p:grpSp>
          <p:nvGrpSpPr>
            <p:cNvPr id="286" name=""/>
            <p:cNvGrpSpPr/>
            <p:nvPr/>
          </p:nvGrpSpPr>
          <p:grpSpPr>
            <a:xfrm>
              <a:off x="4146480" y="5016600"/>
              <a:ext cx="452160" cy="174600"/>
              <a:chOff x="4146480" y="5016600"/>
              <a:chExt cx="452160" cy="174600"/>
            </a:xfrm>
          </p:grpSpPr>
          <p:sp>
            <p:nvSpPr>
              <p:cNvPr id="287" name=""/>
              <p:cNvSpPr/>
              <p:nvPr/>
            </p:nvSpPr>
            <p:spPr>
              <a:xfrm rot="16200000">
                <a:off x="4278600" y="50342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200000">
                <a:off x="4442400" y="5022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4146480" y="51411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4146480" y="50166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962160" y="4626000"/>
              <a:ext cx="174600" cy="452160"/>
              <a:chOff x="3962160" y="4626000"/>
              <a:chExt cx="174600" cy="452160"/>
            </a:xfrm>
          </p:grpSpPr>
          <p:sp>
            <p:nvSpPr>
              <p:cNvPr id="292" name=""/>
              <p:cNvSpPr/>
              <p:nvPr/>
            </p:nvSpPr>
            <p:spPr>
              <a:xfrm>
                <a:off x="3975120" y="47512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75120" y="49024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3962160" y="462600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4087080" y="462600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03720" y="4492440"/>
              <a:ext cx="452160" cy="174600"/>
              <a:chOff x="4203720" y="4492440"/>
              <a:chExt cx="452160" cy="17460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386600" y="44982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400000">
                <a:off x="4223160" y="44859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530600" y="44924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30600" y="46173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100480" y="4497120"/>
              <a:ext cx="452160" cy="174600"/>
              <a:chOff x="5100480" y="4497120"/>
              <a:chExt cx="452160" cy="17460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5283360" y="45028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5119920" y="44906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427360" y="44971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27360" y="46220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022800" y="4495320"/>
              <a:ext cx="452160" cy="174600"/>
              <a:chOff x="6022800" y="4495320"/>
              <a:chExt cx="452160" cy="174600"/>
            </a:xfrm>
          </p:grpSpPr>
          <p:sp>
            <p:nvSpPr>
              <p:cNvPr id="307" name=""/>
              <p:cNvSpPr/>
              <p:nvPr/>
            </p:nvSpPr>
            <p:spPr>
              <a:xfrm rot="5400000">
                <a:off x="6205680" y="45010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400000">
                <a:off x="6042240" y="44888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349680" y="44953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49680" y="4620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741000" y="4517640"/>
              <a:ext cx="451800" cy="174600"/>
              <a:chOff x="6741000" y="4517640"/>
              <a:chExt cx="451800" cy="174600"/>
            </a:xfrm>
          </p:grpSpPr>
          <p:sp>
            <p:nvSpPr>
              <p:cNvPr id="312" name=""/>
              <p:cNvSpPr/>
              <p:nvPr/>
            </p:nvSpPr>
            <p:spPr>
              <a:xfrm rot="5400000">
                <a:off x="6923520" y="45234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6760440" y="45111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067520" y="45176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067520" y="46425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027560" y="4070520"/>
              <a:ext cx="174600" cy="451800"/>
              <a:chOff x="7027560" y="4070520"/>
              <a:chExt cx="174600" cy="451800"/>
            </a:xfrm>
          </p:grpSpPr>
          <p:sp>
            <p:nvSpPr>
              <p:cNvPr id="317" name=""/>
              <p:cNvSpPr/>
              <p:nvPr/>
            </p:nvSpPr>
            <p:spPr>
              <a:xfrm>
                <a:off x="7040520" y="4195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40520" y="43466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7027560" y="40705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52480" y="40705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016400" y="3557520"/>
              <a:ext cx="174600" cy="452160"/>
              <a:chOff x="7016400" y="3557520"/>
              <a:chExt cx="174600" cy="452160"/>
            </a:xfrm>
          </p:grpSpPr>
          <p:sp>
            <p:nvSpPr>
              <p:cNvPr id="322" name=""/>
              <p:cNvSpPr/>
              <p:nvPr/>
            </p:nvSpPr>
            <p:spPr>
              <a:xfrm>
                <a:off x="7029360" y="3682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29360" y="3834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016400" y="35575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141320" y="35575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558120" y="3516480"/>
              <a:ext cx="451800" cy="174600"/>
              <a:chOff x="6558120" y="3516480"/>
              <a:chExt cx="451800" cy="17460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6690240" y="35341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6853680" y="35218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58120" y="36410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6558120" y="35164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551640" y="3703680"/>
              <a:ext cx="174600" cy="452160"/>
              <a:chOff x="6551640" y="3703680"/>
              <a:chExt cx="174600" cy="452160"/>
            </a:xfrm>
          </p:grpSpPr>
          <p:sp>
            <p:nvSpPr>
              <p:cNvPr id="332" name=""/>
              <p:cNvSpPr/>
              <p:nvPr/>
            </p:nvSpPr>
            <p:spPr>
              <a:xfrm rot="10800000">
                <a:off x="6576480" y="38797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0800000">
                <a:off x="6576480" y="37036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6200" y="403056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551640" y="403056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146640" y="4141800"/>
              <a:ext cx="452160" cy="174600"/>
              <a:chOff x="6146640" y="4141800"/>
              <a:chExt cx="452160" cy="174600"/>
            </a:xfrm>
          </p:grpSpPr>
          <p:sp>
            <p:nvSpPr>
              <p:cNvPr id="337" name=""/>
              <p:cNvSpPr/>
              <p:nvPr/>
            </p:nvSpPr>
            <p:spPr>
              <a:xfrm rot="16200000">
                <a:off x="6278760" y="41594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200000">
                <a:off x="6442560" y="41472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146640" y="42663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6146640" y="41418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062400" y="3568680"/>
              <a:ext cx="174600" cy="452160"/>
              <a:chOff x="6062400" y="3568680"/>
              <a:chExt cx="174600" cy="452160"/>
            </a:xfrm>
          </p:grpSpPr>
          <p:sp>
            <p:nvSpPr>
              <p:cNvPr id="342" name=""/>
              <p:cNvSpPr/>
              <p:nvPr/>
            </p:nvSpPr>
            <p:spPr>
              <a:xfrm>
                <a:off x="6075360" y="36939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75360" y="38451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6062400" y="35686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187320" y="35686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560920" y="3557520"/>
              <a:ext cx="452160" cy="174600"/>
              <a:chOff x="5560920" y="3557520"/>
              <a:chExt cx="452160" cy="174600"/>
            </a:xfrm>
          </p:grpSpPr>
          <p:sp>
            <p:nvSpPr>
              <p:cNvPr id="347" name=""/>
              <p:cNvSpPr/>
              <p:nvPr/>
            </p:nvSpPr>
            <p:spPr>
              <a:xfrm rot="16200000">
                <a:off x="5693040" y="35751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200000">
                <a:off x="5856840" y="356292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560920" y="36820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5560920" y="355752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051520" y="3567240"/>
              <a:ext cx="452160" cy="174600"/>
              <a:chOff x="5051520" y="3567240"/>
              <a:chExt cx="452160" cy="174600"/>
            </a:xfrm>
          </p:grpSpPr>
          <p:sp>
            <p:nvSpPr>
              <p:cNvPr id="352" name=""/>
              <p:cNvSpPr/>
              <p:nvPr/>
            </p:nvSpPr>
            <p:spPr>
              <a:xfrm rot="16200000">
                <a:off x="5183640" y="35848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6200000">
                <a:off x="5347440" y="35726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051520" y="369180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5051520" y="3567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946400" y="3124080"/>
              <a:ext cx="174600" cy="452160"/>
              <a:chOff x="4946400" y="3124080"/>
              <a:chExt cx="174600" cy="452160"/>
            </a:xfrm>
          </p:grpSpPr>
          <p:sp>
            <p:nvSpPr>
              <p:cNvPr id="357" name=""/>
              <p:cNvSpPr/>
              <p:nvPr/>
            </p:nvSpPr>
            <p:spPr>
              <a:xfrm>
                <a:off x="4959360" y="32493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59360" y="34005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4946400" y="31240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071320" y="31240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6195960" y="4997160"/>
            <a:ext cx="452160" cy="174600"/>
            <a:chOff x="6195960" y="4997160"/>
            <a:chExt cx="452160" cy="174600"/>
          </a:xfrm>
        </p:grpSpPr>
        <p:sp>
          <p:nvSpPr>
            <p:cNvPr id="362" name=""/>
            <p:cNvSpPr/>
            <p:nvPr/>
          </p:nvSpPr>
          <p:spPr>
            <a:xfrm rot="5400000">
              <a:off x="6378840" y="50029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6215400" y="4990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522840" y="49971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22840" y="512208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965920" y="4948200"/>
            <a:ext cx="174600" cy="452160"/>
            <a:chOff x="5965920" y="4948200"/>
            <a:chExt cx="174600" cy="452160"/>
          </a:xfrm>
        </p:grpSpPr>
        <p:sp>
          <p:nvSpPr>
            <p:cNvPr id="367" name=""/>
            <p:cNvSpPr/>
            <p:nvPr/>
          </p:nvSpPr>
          <p:spPr>
            <a:xfrm flipV="1" rot="10800000">
              <a:off x="5990760" y="50731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0800000">
              <a:off x="5990760" y="52246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090480" y="494820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65920" y="494820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22320" y="5002920"/>
            <a:ext cx="469800" cy="352440"/>
            <a:chOff x="5422320" y="5002920"/>
            <a:chExt cx="469800" cy="352440"/>
          </a:xfrm>
        </p:grpSpPr>
        <p:sp>
          <p:nvSpPr>
            <p:cNvPr id="372" name=""/>
            <p:cNvSpPr/>
            <p:nvPr/>
          </p:nvSpPr>
          <p:spPr>
            <a:xfrm rot="17854200">
              <a:off x="5569200" y="510300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7854200">
              <a:off x="5714280" y="51660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5422320" y="5157720"/>
              <a:ext cx="13428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502960" y="5002920"/>
              <a:ext cx="8820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7740360" y="1881360"/>
            <a:ext cx="288720" cy="688320"/>
            <a:chOff x="7740360" y="1881360"/>
            <a:chExt cx="288720" cy="688320"/>
          </a:xfrm>
        </p:grpSpPr>
        <p:sp>
          <p:nvSpPr>
            <p:cNvPr id="377" name=""/>
            <p:cNvSpPr/>
            <p:nvPr/>
          </p:nvSpPr>
          <p:spPr>
            <a:xfrm>
              <a:off x="7752960" y="2069280"/>
              <a:ext cx="225720" cy="22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52960" y="2294640"/>
              <a:ext cx="225720" cy="27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740360" y="1881360"/>
              <a:ext cx="7524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929000" y="1881360"/>
              <a:ext cx="10008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903320" y="915840"/>
            <a:ext cx="688968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Bef>
                <a:spcPts val="587"/>
              </a:spcBef>
              <a:tabLst>
                <a:tab algn="l" pos="0"/>
                <a:tab algn="l" pos="450720"/>
                <a:tab algn="l" pos="901800"/>
                <a:tab algn="l" pos="14652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84760" y="3898800"/>
            <a:ext cx="12600" cy="23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nt brain (special case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 L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278000" y="3235320"/>
            <a:ext cx="3531960" cy="301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10200" y="3235320"/>
            <a:ext cx="2405160" cy="301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10080" y="3836880"/>
            <a:ext cx="1311120" cy="301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41720" y="3948120"/>
            <a:ext cx="2568240" cy="299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33880" y="4740120"/>
            <a:ext cx="3381480" cy="300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11400" y="5342040"/>
            <a:ext cx="4660920" cy="299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32320" y="4138560"/>
            <a:ext cx="299880" cy="1503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2040" y="3257640"/>
            <a:ext cx="299880" cy="903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15120" y="3235320"/>
            <a:ext cx="300240" cy="2857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04840" y="3938760"/>
            <a:ext cx="300240" cy="637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78000" y="3235320"/>
            <a:ext cx="299880" cy="285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78000" y="5943600"/>
            <a:ext cx="6237360" cy="299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10080" y="3235320"/>
            <a:ext cx="299880" cy="1012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606680" y="3124080"/>
            <a:ext cx="5633640" cy="2808000"/>
            <a:chOff x="1606680" y="3124080"/>
            <a:chExt cx="5633640" cy="2808000"/>
          </a:xfrm>
        </p:grpSpPr>
        <p:grpSp>
          <p:nvGrpSpPr>
            <p:cNvPr id="399" name=""/>
            <p:cNvGrpSpPr/>
            <p:nvPr/>
          </p:nvGrpSpPr>
          <p:grpSpPr>
            <a:xfrm>
              <a:off x="1606680" y="5459400"/>
              <a:ext cx="174600" cy="452160"/>
              <a:chOff x="1606680" y="5459400"/>
              <a:chExt cx="174600" cy="452160"/>
            </a:xfrm>
          </p:grpSpPr>
          <p:sp>
            <p:nvSpPr>
              <p:cNvPr id="400" name=""/>
              <p:cNvSpPr/>
              <p:nvPr/>
            </p:nvSpPr>
            <p:spPr>
              <a:xfrm rot="10800000">
                <a:off x="1631520" y="56354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0800000">
                <a:off x="1631520" y="54594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31240" y="57862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606680" y="57862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021400" y="5730480"/>
              <a:ext cx="451800" cy="174600"/>
              <a:chOff x="2021400" y="5730480"/>
              <a:chExt cx="451800" cy="174600"/>
            </a:xfrm>
          </p:grpSpPr>
          <p:sp>
            <p:nvSpPr>
              <p:cNvPr id="405" name=""/>
              <p:cNvSpPr/>
              <p:nvPr/>
            </p:nvSpPr>
            <p:spPr>
              <a:xfrm rot="5400000">
                <a:off x="2203920" y="57362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2040840" y="5724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347920" y="57304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7920" y="58554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917800" y="5735160"/>
              <a:ext cx="452160" cy="174600"/>
              <a:chOff x="2917800" y="5735160"/>
              <a:chExt cx="452160" cy="174600"/>
            </a:xfrm>
          </p:grpSpPr>
          <p:sp>
            <p:nvSpPr>
              <p:cNvPr id="410" name=""/>
              <p:cNvSpPr/>
              <p:nvPr/>
            </p:nvSpPr>
            <p:spPr>
              <a:xfrm rot="5400000">
                <a:off x="3100680" y="57409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2937240" y="57286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244680" y="57351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44680" y="58600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840120" y="5733720"/>
              <a:ext cx="452160" cy="174600"/>
              <a:chOff x="3840120" y="5733720"/>
              <a:chExt cx="452160" cy="174600"/>
            </a:xfrm>
          </p:grpSpPr>
          <p:sp>
            <p:nvSpPr>
              <p:cNvPr id="415" name=""/>
              <p:cNvSpPr/>
              <p:nvPr/>
            </p:nvSpPr>
            <p:spPr>
              <a:xfrm rot="5400000">
                <a:off x="4023000" y="57394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5400000">
                <a:off x="3859560" y="57272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167000" y="57337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67000" y="58586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803840" y="5729040"/>
              <a:ext cx="452160" cy="174600"/>
              <a:chOff x="4803840" y="5729040"/>
              <a:chExt cx="452160" cy="174600"/>
            </a:xfrm>
          </p:grpSpPr>
          <p:sp>
            <p:nvSpPr>
              <p:cNvPr id="420" name=""/>
              <p:cNvSpPr/>
              <p:nvPr/>
            </p:nvSpPr>
            <p:spPr>
              <a:xfrm rot="5400000">
                <a:off x="4986720" y="5734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5400000">
                <a:off x="4823280" y="57225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130720" y="57290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130720" y="58539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851440" y="5743080"/>
              <a:ext cx="452160" cy="174600"/>
              <a:chOff x="5851440" y="5743080"/>
              <a:chExt cx="452160" cy="174600"/>
            </a:xfrm>
          </p:grpSpPr>
          <p:sp>
            <p:nvSpPr>
              <p:cNvPr id="425" name=""/>
              <p:cNvSpPr/>
              <p:nvPr/>
            </p:nvSpPr>
            <p:spPr>
              <a:xfrm rot="5400000">
                <a:off x="6034320" y="57488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5400000">
                <a:off x="5870880" y="57366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178320" y="57430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8320" y="58680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788160" y="5757480"/>
              <a:ext cx="452160" cy="174600"/>
              <a:chOff x="6788160" y="5757480"/>
              <a:chExt cx="452160" cy="174600"/>
            </a:xfrm>
          </p:grpSpPr>
          <p:sp>
            <p:nvSpPr>
              <p:cNvPr id="430" name=""/>
              <p:cNvSpPr/>
              <p:nvPr/>
            </p:nvSpPr>
            <p:spPr>
              <a:xfrm rot="5400000">
                <a:off x="6971040" y="57632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5400000">
                <a:off x="6807600" y="5751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115040" y="57574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15040" y="58824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995880" y="5064120"/>
              <a:ext cx="174600" cy="452160"/>
              <a:chOff x="6995880" y="5064120"/>
              <a:chExt cx="174600" cy="452160"/>
            </a:xfrm>
          </p:grpSpPr>
          <p:sp>
            <p:nvSpPr>
              <p:cNvPr id="435" name=""/>
              <p:cNvSpPr/>
              <p:nvPr/>
            </p:nvSpPr>
            <p:spPr>
              <a:xfrm>
                <a:off x="7008840" y="51894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08840" y="53406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6995880" y="50641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120800" y="50641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6221520" y="5065560"/>
              <a:ext cx="451800" cy="174600"/>
              <a:chOff x="6221520" y="5065560"/>
              <a:chExt cx="451800" cy="174600"/>
            </a:xfrm>
          </p:grpSpPr>
          <p:sp>
            <p:nvSpPr>
              <p:cNvPr id="440" name=""/>
              <p:cNvSpPr/>
              <p:nvPr/>
            </p:nvSpPr>
            <p:spPr>
              <a:xfrm rot="16200000">
                <a:off x="6353640" y="50832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6200000">
                <a:off x="6517080" y="50709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221520" y="51901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6221520" y="50655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519880" y="5065560"/>
              <a:ext cx="451800" cy="174600"/>
              <a:chOff x="5519880" y="5065560"/>
              <a:chExt cx="451800" cy="174600"/>
            </a:xfrm>
          </p:grpSpPr>
          <p:sp>
            <p:nvSpPr>
              <p:cNvPr id="445" name=""/>
              <p:cNvSpPr/>
              <p:nvPr/>
            </p:nvSpPr>
            <p:spPr>
              <a:xfrm rot="16200000">
                <a:off x="5652000" y="50832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6200000">
                <a:off x="5815440" y="50709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5519880" y="51901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5519880" y="50655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4778280" y="5067360"/>
              <a:ext cx="452160" cy="174600"/>
              <a:chOff x="4778280" y="5067360"/>
              <a:chExt cx="452160" cy="17460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4910400" y="50850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5074200" y="50727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778280" y="51919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778280" y="50673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46480" y="5073840"/>
              <a:ext cx="452160" cy="174960"/>
              <a:chOff x="4146480" y="5073840"/>
              <a:chExt cx="452160" cy="174960"/>
            </a:xfrm>
          </p:grpSpPr>
          <p:sp>
            <p:nvSpPr>
              <p:cNvPr id="455" name=""/>
              <p:cNvSpPr/>
              <p:nvPr/>
            </p:nvSpPr>
            <p:spPr>
              <a:xfrm rot="16200000">
                <a:off x="4278600" y="5091840"/>
                <a:ext cx="13716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200000">
                <a:off x="4442040" y="5079240"/>
                <a:ext cx="13716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46480" y="51987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4146480" y="50738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962160" y="4683240"/>
              <a:ext cx="174600" cy="451800"/>
              <a:chOff x="3962160" y="4683240"/>
              <a:chExt cx="174600" cy="451800"/>
            </a:xfrm>
          </p:grpSpPr>
          <p:sp>
            <p:nvSpPr>
              <p:cNvPr id="460" name=""/>
              <p:cNvSpPr/>
              <p:nvPr/>
            </p:nvSpPr>
            <p:spPr>
              <a:xfrm>
                <a:off x="3975120" y="48085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975120" y="49593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3962160" y="468324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087080" y="468324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203720" y="4549320"/>
              <a:ext cx="452160" cy="174600"/>
              <a:chOff x="4203720" y="4549320"/>
              <a:chExt cx="452160" cy="17460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4386600" y="45550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5400000">
                <a:off x="4223160" y="45428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4530600" y="45493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30600" y="4674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5100480" y="4554000"/>
              <a:ext cx="452160" cy="174960"/>
              <a:chOff x="5100480" y="4554000"/>
              <a:chExt cx="452160" cy="174960"/>
            </a:xfrm>
          </p:grpSpPr>
          <p:sp>
            <p:nvSpPr>
              <p:cNvPr id="470" name=""/>
              <p:cNvSpPr/>
              <p:nvPr/>
            </p:nvSpPr>
            <p:spPr>
              <a:xfrm rot="5400000">
                <a:off x="5283360" y="4560120"/>
                <a:ext cx="13716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5400000">
                <a:off x="5119560" y="4547520"/>
                <a:ext cx="13716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27360" y="455400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27360" y="46792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022800" y="4552560"/>
              <a:ext cx="452160" cy="174600"/>
              <a:chOff x="6022800" y="4552560"/>
              <a:chExt cx="452160" cy="174600"/>
            </a:xfrm>
          </p:grpSpPr>
          <p:sp>
            <p:nvSpPr>
              <p:cNvPr id="475" name=""/>
              <p:cNvSpPr/>
              <p:nvPr/>
            </p:nvSpPr>
            <p:spPr>
              <a:xfrm rot="5400000">
                <a:off x="6205680" y="45583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6042240" y="45460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349680" y="45525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49680" y="46774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6741000" y="4574880"/>
              <a:ext cx="451800" cy="174600"/>
              <a:chOff x="6741000" y="4574880"/>
              <a:chExt cx="451800" cy="174600"/>
            </a:xfrm>
          </p:grpSpPr>
          <p:sp>
            <p:nvSpPr>
              <p:cNvPr id="480" name=""/>
              <p:cNvSpPr/>
              <p:nvPr/>
            </p:nvSpPr>
            <p:spPr>
              <a:xfrm rot="5400000">
                <a:off x="6923520" y="45806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5400000">
                <a:off x="6760440" y="45684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067520" y="45748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67520" y="46998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027560" y="4089240"/>
              <a:ext cx="174600" cy="452160"/>
              <a:chOff x="7027560" y="4089240"/>
              <a:chExt cx="174600" cy="452160"/>
            </a:xfrm>
          </p:grpSpPr>
          <p:sp>
            <p:nvSpPr>
              <p:cNvPr id="485" name=""/>
              <p:cNvSpPr/>
              <p:nvPr/>
            </p:nvSpPr>
            <p:spPr>
              <a:xfrm>
                <a:off x="7040520" y="42145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40520" y="436572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27560" y="408924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152480" y="408924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016400" y="3557520"/>
              <a:ext cx="174600" cy="452160"/>
              <a:chOff x="7016400" y="3557520"/>
              <a:chExt cx="174600" cy="452160"/>
            </a:xfrm>
          </p:grpSpPr>
          <p:sp>
            <p:nvSpPr>
              <p:cNvPr id="490" name=""/>
              <p:cNvSpPr/>
              <p:nvPr/>
            </p:nvSpPr>
            <p:spPr>
              <a:xfrm>
                <a:off x="7029360" y="3682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9360" y="3834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7016400" y="35575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7141320" y="35575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558120" y="3516480"/>
              <a:ext cx="451800" cy="174600"/>
              <a:chOff x="6558120" y="3516480"/>
              <a:chExt cx="451800" cy="174600"/>
            </a:xfrm>
          </p:grpSpPr>
          <p:sp>
            <p:nvSpPr>
              <p:cNvPr id="495" name=""/>
              <p:cNvSpPr/>
              <p:nvPr/>
            </p:nvSpPr>
            <p:spPr>
              <a:xfrm rot="16200000">
                <a:off x="6690240" y="35341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6200000">
                <a:off x="6853680" y="35218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58120" y="36410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6558120" y="35164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551640" y="3703680"/>
              <a:ext cx="174600" cy="452160"/>
              <a:chOff x="6551640" y="3703680"/>
              <a:chExt cx="174600" cy="452160"/>
            </a:xfrm>
          </p:grpSpPr>
          <p:sp>
            <p:nvSpPr>
              <p:cNvPr id="500" name=""/>
              <p:cNvSpPr/>
              <p:nvPr/>
            </p:nvSpPr>
            <p:spPr>
              <a:xfrm rot="10800000">
                <a:off x="6576480" y="38797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0800000">
                <a:off x="6576480" y="37036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76200" y="403056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551640" y="403056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146640" y="4141800"/>
              <a:ext cx="452160" cy="174600"/>
              <a:chOff x="6146640" y="4141800"/>
              <a:chExt cx="452160" cy="174600"/>
            </a:xfrm>
          </p:grpSpPr>
          <p:sp>
            <p:nvSpPr>
              <p:cNvPr id="505" name=""/>
              <p:cNvSpPr/>
              <p:nvPr/>
            </p:nvSpPr>
            <p:spPr>
              <a:xfrm rot="16200000">
                <a:off x="6278760" y="41594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6200000">
                <a:off x="6442560" y="41472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146640" y="42663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6146640" y="41418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062400" y="3568680"/>
              <a:ext cx="174600" cy="452160"/>
              <a:chOff x="6062400" y="3568680"/>
              <a:chExt cx="174600" cy="452160"/>
            </a:xfrm>
          </p:grpSpPr>
          <p:sp>
            <p:nvSpPr>
              <p:cNvPr id="510" name=""/>
              <p:cNvSpPr/>
              <p:nvPr/>
            </p:nvSpPr>
            <p:spPr>
              <a:xfrm>
                <a:off x="6075360" y="36939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75360" y="38451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6062400" y="35686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187320" y="35686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560920" y="3557520"/>
              <a:ext cx="452160" cy="174600"/>
              <a:chOff x="5560920" y="3557520"/>
              <a:chExt cx="452160" cy="174600"/>
            </a:xfrm>
          </p:grpSpPr>
          <p:sp>
            <p:nvSpPr>
              <p:cNvPr id="515" name=""/>
              <p:cNvSpPr/>
              <p:nvPr/>
            </p:nvSpPr>
            <p:spPr>
              <a:xfrm rot="16200000">
                <a:off x="5693040" y="35751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6200000">
                <a:off x="5856840" y="356292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560920" y="36820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5560920" y="355752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5051520" y="3567240"/>
              <a:ext cx="452160" cy="174600"/>
              <a:chOff x="5051520" y="3567240"/>
              <a:chExt cx="452160" cy="174600"/>
            </a:xfrm>
          </p:grpSpPr>
          <p:sp>
            <p:nvSpPr>
              <p:cNvPr id="520" name=""/>
              <p:cNvSpPr/>
              <p:nvPr/>
            </p:nvSpPr>
            <p:spPr>
              <a:xfrm rot="16200000">
                <a:off x="5183640" y="35848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6200000">
                <a:off x="5347440" y="35726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5051520" y="369180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5051520" y="3567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4946400" y="3124080"/>
              <a:ext cx="174600" cy="452160"/>
              <a:chOff x="4946400" y="3124080"/>
              <a:chExt cx="174600" cy="452160"/>
            </a:xfrm>
          </p:grpSpPr>
          <p:sp>
            <p:nvSpPr>
              <p:cNvPr id="525" name=""/>
              <p:cNvSpPr/>
              <p:nvPr/>
            </p:nvSpPr>
            <p:spPr>
              <a:xfrm>
                <a:off x="4959360" y="32493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59360" y="34005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4946400" y="31240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071320" y="31240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2695680" y="4683240"/>
            <a:ext cx="451800" cy="174600"/>
            <a:chOff x="2695680" y="4683240"/>
            <a:chExt cx="451800" cy="174600"/>
          </a:xfrm>
        </p:grpSpPr>
        <p:sp>
          <p:nvSpPr>
            <p:cNvPr id="530" name=""/>
            <p:cNvSpPr/>
            <p:nvPr/>
          </p:nvSpPr>
          <p:spPr>
            <a:xfrm rot="16200000">
              <a:off x="2827800" y="47008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2991240" y="468864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695680" y="480780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2695680" y="468324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144880" y="4694400"/>
            <a:ext cx="451800" cy="174600"/>
            <a:chOff x="2144880" y="4694400"/>
            <a:chExt cx="451800" cy="174600"/>
          </a:xfrm>
        </p:grpSpPr>
        <p:sp>
          <p:nvSpPr>
            <p:cNvPr id="535" name=""/>
            <p:cNvSpPr/>
            <p:nvPr/>
          </p:nvSpPr>
          <p:spPr>
            <a:xfrm rot="16200000">
              <a:off x="2277000" y="47120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2440440" y="46998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144880" y="48189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2144880" y="46944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611360" y="4694400"/>
            <a:ext cx="452160" cy="174600"/>
            <a:chOff x="1611360" y="4694400"/>
            <a:chExt cx="452160" cy="174600"/>
          </a:xfrm>
        </p:grpSpPr>
        <p:sp>
          <p:nvSpPr>
            <p:cNvPr id="540" name=""/>
            <p:cNvSpPr/>
            <p:nvPr/>
          </p:nvSpPr>
          <p:spPr>
            <a:xfrm rot="16200000">
              <a:off x="1743480" y="47120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6200000">
              <a:off x="1907280" y="469980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611360" y="4818960"/>
              <a:ext cx="12528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1611360" y="4694400"/>
              <a:ext cx="1252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592280" y="4913280"/>
            <a:ext cx="174600" cy="452160"/>
            <a:chOff x="1592280" y="4913280"/>
            <a:chExt cx="174600" cy="452160"/>
          </a:xfrm>
        </p:grpSpPr>
        <p:sp>
          <p:nvSpPr>
            <p:cNvPr id="545" name=""/>
            <p:cNvSpPr/>
            <p:nvPr/>
          </p:nvSpPr>
          <p:spPr>
            <a:xfrm rot="10800000">
              <a:off x="1617120" y="508932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0800000">
              <a:off x="1617120" y="491328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6840" y="5240160"/>
              <a:ext cx="500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592280" y="5240160"/>
              <a:ext cx="4968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7740360" y="1881360"/>
            <a:ext cx="288720" cy="688320"/>
            <a:chOff x="7740360" y="1881360"/>
            <a:chExt cx="288720" cy="688320"/>
          </a:xfrm>
        </p:grpSpPr>
        <p:sp>
          <p:nvSpPr>
            <p:cNvPr id="550" name=""/>
            <p:cNvSpPr/>
            <p:nvPr/>
          </p:nvSpPr>
          <p:spPr>
            <a:xfrm>
              <a:off x="7752960" y="2069280"/>
              <a:ext cx="225720" cy="22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52960" y="2294640"/>
              <a:ext cx="225720" cy="27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7740360" y="1881360"/>
              <a:ext cx="7524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929000" y="1881360"/>
              <a:ext cx="10008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903320" y="915840"/>
            <a:ext cx="688968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Bef>
                <a:spcPts val="587"/>
              </a:spcBef>
              <a:tabLst>
                <a:tab algn="l" pos="0"/>
                <a:tab algn="l" pos="450720"/>
                <a:tab algn="l" pos="901800"/>
                <a:tab algn="l" pos="14652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84760" y="3898800"/>
            <a:ext cx="12600" cy="23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nt brain (special case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22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 Lost (another 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278000" y="3235320"/>
            <a:ext cx="3531960" cy="301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0200" y="3235320"/>
            <a:ext cx="2405160" cy="301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10080" y="3836880"/>
            <a:ext cx="1311120" cy="301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41720" y="3948120"/>
            <a:ext cx="2568240" cy="299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33880" y="4740120"/>
            <a:ext cx="3381480" cy="300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11400" y="5342040"/>
            <a:ext cx="4660920" cy="299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32320" y="4138560"/>
            <a:ext cx="299880" cy="1503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42040" y="3257640"/>
            <a:ext cx="299880" cy="903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15120" y="3235320"/>
            <a:ext cx="300240" cy="2857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04840" y="3938760"/>
            <a:ext cx="300240" cy="637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78000" y="3235320"/>
            <a:ext cx="299880" cy="285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78000" y="5943600"/>
            <a:ext cx="6237360" cy="299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10080" y="3235320"/>
            <a:ext cx="299880" cy="1012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606680" y="3124080"/>
            <a:ext cx="5633640" cy="2808000"/>
            <a:chOff x="1606680" y="3124080"/>
            <a:chExt cx="5633640" cy="2808000"/>
          </a:xfrm>
        </p:grpSpPr>
        <p:grpSp>
          <p:nvGrpSpPr>
            <p:cNvPr id="572" name=""/>
            <p:cNvGrpSpPr/>
            <p:nvPr/>
          </p:nvGrpSpPr>
          <p:grpSpPr>
            <a:xfrm>
              <a:off x="1606680" y="5459400"/>
              <a:ext cx="174600" cy="452160"/>
              <a:chOff x="1606680" y="5459400"/>
              <a:chExt cx="174600" cy="452160"/>
            </a:xfrm>
          </p:grpSpPr>
          <p:sp>
            <p:nvSpPr>
              <p:cNvPr id="573" name=""/>
              <p:cNvSpPr/>
              <p:nvPr/>
            </p:nvSpPr>
            <p:spPr>
              <a:xfrm rot="10800000">
                <a:off x="1631520" y="56354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0800000">
                <a:off x="1631520" y="54594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31240" y="57862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606680" y="57862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021400" y="5730480"/>
              <a:ext cx="451800" cy="174600"/>
              <a:chOff x="2021400" y="5730480"/>
              <a:chExt cx="451800" cy="174600"/>
            </a:xfrm>
          </p:grpSpPr>
          <p:sp>
            <p:nvSpPr>
              <p:cNvPr id="578" name=""/>
              <p:cNvSpPr/>
              <p:nvPr/>
            </p:nvSpPr>
            <p:spPr>
              <a:xfrm rot="5400000">
                <a:off x="2203920" y="57362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5400000">
                <a:off x="2040840" y="5724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347920" y="57304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47920" y="58554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917800" y="5735160"/>
              <a:ext cx="452160" cy="174600"/>
              <a:chOff x="2917800" y="5735160"/>
              <a:chExt cx="452160" cy="174600"/>
            </a:xfrm>
          </p:grpSpPr>
          <p:sp>
            <p:nvSpPr>
              <p:cNvPr id="583" name=""/>
              <p:cNvSpPr/>
              <p:nvPr/>
            </p:nvSpPr>
            <p:spPr>
              <a:xfrm rot="5400000">
                <a:off x="3100680" y="57409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5400000">
                <a:off x="2937240" y="57286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244680" y="57351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44680" y="58600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3840120" y="5733720"/>
              <a:ext cx="452160" cy="174600"/>
              <a:chOff x="3840120" y="5733720"/>
              <a:chExt cx="452160" cy="174600"/>
            </a:xfrm>
          </p:grpSpPr>
          <p:sp>
            <p:nvSpPr>
              <p:cNvPr id="588" name=""/>
              <p:cNvSpPr/>
              <p:nvPr/>
            </p:nvSpPr>
            <p:spPr>
              <a:xfrm rot="5400000">
                <a:off x="4023000" y="57394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5400000">
                <a:off x="3859560" y="57272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4167000" y="57337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67000" y="58586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03840" y="5729040"/>
              <a:ext cx="452160" cy="174600"/>
              <a:chOff x="4803840" y="5729040"/>
              <a:chExt cx="452160" cy="174600"/>
            </a:xfrm>
          </p:grpSpPr>
          <p:sp>
            <p:nvSpPr>
              <p:cNvPr id="593" name=""/>
              <p:cNvSpPr/>
              <p:nvPr/>
            </p:nvSpPr>
            <p:spPr>
              <a:xfrm rot="5400000">
                <a:off x="4986720" y="5734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5400000">
                <a:off x="4823280" y="57225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130720" y="57290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30720" y="58539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851440" y="5743080"/>
              <a:ext cx="452160" cy="174600"/>
              <a:chOff x="5851440" y="5743080"/>
              <a:chExt cx="452160" cy="174600"/>
            </a:xfrm>
          </p:grpSpPr>
          <p:sp>
            <p:nvSpPr>
              <p:cNvPr id="598" name=""/>
              <p:cNvSpPr/>
              <p:nvPr/>
            </p:nvSpPr>
            <p:spPr>
              <a:xfrm rot="5400000">
                <a:off x="6034320" y="57488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5870880" y="57366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6178320" y="57430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78320" y="58680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788160" y="5757480"/>
              <a:ext cx="452160" cy="174600"/>
              <a:chOff x="6788160" y="5757480"/>
              <a:chExt cx="452160" cy="174600"/>
            </a:xfrm>
          </p:grpSpPr>
          <p:sp>
            <p:nvSpPr>
              <p:cNvPr id="603" name=""/>
              <p:cNvSpPr/>
              <p:nvPr/>
            </p:nvSpPr>
            <p:spPr>
              <a:xfrm rot="5400000">
                <a:off x="6971040" y="57632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5400000">
                <a:off x="6807600" y="5751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115040" y="57574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15040" y="58824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995880" y="5064120"/>
              <a:ext cx="174600" cy="452160"/>
              <a:chOff x="6995880" y="5064120"/>
              <a:chExt cx="174600" cy="452160"/>
            </a:xfrm>
          </p:grpSpPr>
          <p:sp>
            <p:nvSpPr>
              <p:cNvPr id="608" name=""/>
              <p:cNvSpPr/>
              <p:nvPr/>
            </p:nvSpPr>
            <p:spPr>
              <a:xfrm>
                <a:off x="7008840" y="51894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008840" y="53406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6995880" y="50641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7120800" y="50641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221520" y="5065560"/>
              <a:ext cx="451800" cy="174600"/>
              <a:chOff x="6221520" y="5065560"/>
              <a:chExt cx="451800" cy="174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6353640" y="50832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6200000">
                <a:off x="6517080" y="50709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6221520" y="51901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6221520" y="50655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519880" y="5065560"/>
              <a:ext cx="451800" cy="174600"/>
              <a:chOff x="5519880" y="5065560"/>
              <a:chExt cx="451800" cy="174600"/>
            </a:xfrm>
          </p:grpSpPr>
          <p:sp>
            <p:nvSpPr>
              <p:cNvPr id="618" name=""/>
              <p:cNvSpPr/>
              <p:nvPr/>
            </p:nvSpPr>
            <p:spPr>
              <a:xfrm rot="16200000">
                <a:off x="5652000" y="50832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6200000">
                <a:off x="5815440" y="50709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519880" y="51901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5519880" y="50655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78280" y="5067360"/>
              <a:ext cx="452160" cy="174600"/>
              <a:chOff x="4778280" y="5067360"/>
              <a:chExt cx="452160" cy="174600"/>
            </a:xfrm>
          </p:grpSpPr>
          <p:sp>
            <p:nvSpPr>
              <p:cNvPr id="623" name=""/>
              <p:cNvSpPr/>
              <p:nvPr/>
            </p:nvSpPr>
            <p:spPr>
              <a:xfrm rot="16200000">
                <a:off x="4910400" y="50850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200000">
                <a:off x="5074200" y="50727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4778280" y="51919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778280" y="506736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146480" y="5073840"/>
              <a:ext cx="452160" cy="174960"/>
              <a:chOff x="4146480" y="5073840"/>
              <a:chExt cx="452160" cy="174960"/>
            </a:xfrm>
          </p:grpSpPr>
          <p:sp>
            <p:nvSpPr>
              <p:cNvPr id="628" name=""/>
              <p:cNvSpPr/>
              <p:nvPr/>
            </p:nvSpPr>
            <p:spPr>
              <a:xfrm rot="16200000">
                <a:off x="4278600" y="5091840"/>
                <a:ext cx="13716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6200000">
                <a:off x="4442040" y="5079240"/>
                <a:ext cx="13716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4146480" y="51987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4146480" y="50738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962160" y="4683240"/>
              <a:ext cx="174600" cy="451800"/>
              <a:chOff x="3962160" y="4683240"/>
              <a:chExt cx="174600" cy="451800"/>
            </a:xfrm>
          </p:grpSpPr>
          <p:sp>
            <p:nvSpPr>
              <p:cNvPr id="633" name=""/>
              <p:cNvSpPr/>
              <p:nvPr/>
            </p:nvSpPr>
            <p:spPr>
              <a:xfrm>
                <a:off x="3975120" y="48085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75120" y="49593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3962160" y="468324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4087080" y="468324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203720" y="4549320"/>
              <a:ext cx="452160" cy="174600"/>
              <a:chOff x="4203720" y="4549320"/>
              <a:chExt cx="452160" cy="174600"/>
            </a:xfrm>
          </p:grpSpPr>
          <p:sp>
            <p:nvSpPr>
              <p:cNvPr id="638" name=""/>
              <p:cNvSpPr/>
              <p:nvPr/>
            </p:nvSpPr>
            <p:spPr>
              <a:xfrm rot="5400000">
                <a:off x="4386600" y="45550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5400000">
                <a:off x="4223160" y="45428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4530600" y="454932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30600" y="4674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5100480" y="4554000"/>
              <a:ext cx="452160" cy="174960"/>
              <a:chOff x="5100480" y="4554000"/>
              <a:chExt cx="452160" cy="174960"/>
            </a:xfrm>
          </p:grpSpPr>
          <p:sp>
            <p:nvSpPr>
              <p:cNvPr id="643" name=""/>
              <p:cNvSpPr/>
              <p:nvPr/>
            </p:nvSpPr>
            <p:spPr>
              <a:xfrm rot="5400000">
                <a:off x="5283360" y="4560120"/>
                <a:ext cx="13716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5400000">
                <a:off x="5119560" y="4547520"/>
                <a:ext cx="13716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5427360" y="455400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27360" y="46792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6022800" y="4552560"/>
              <a:ext cx="452160" cy="174600"/>
              <a:chOff x="6022800" y="4552560"/>
              <a:chExt cx="452160" cy="174600"/>
            </a:xfrm>
          </p:grpSpPr>
          <p:sp>
            <p:nvSpPr>
              <p:cNvPr id="648" name=""/>
              <p:cNvSpPr/>
              <p:nvPr/>
            </p:nvSpPr>
            <p:spPr>
              <a:xfrm rot="5400000">
                <a:off x="6205680" y="45583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400000">
                <a:off x="6042240" y="45460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6349680" y="45525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49680" y="46774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741000" y="4574880"/>
              <a:ext cx="451800" cy="174600"/>
              <a:chOff x="6741000" y="4574880"/>
              <a:chExt cx="451800" cy="174600"/>
            </a:xfrm>
          </p:grpSpPr>
          <p:sp>
            <p:nvSpPr>
              <p:cNvPr id="653" name=""/>
              <p:cNvSpPr/>
              <p:nvPr/>
            </p:nvSpPr>
            <p:spPr>
              <a:xfrm rot="5400000">
                <a:off x="6923520" y="45806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5400000">
                <a:off x="6760440" y="45684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067520" y="45748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67520" y="46998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027560" y="4089240"/>
              <a:ext cx="174600" cy="452160"/>
              <a:chOff x="7027560" y="4089240"/>
              <a:chExt cx="174600" cy="452160"/>
            </a:xfrm>
          </p:grpSpPr>
          <p:sp>
            <p:nvSpPr>
              <p:cNvPr id="658" name=""/>
              <p:cNvSpPr/>
              <p:nvPr/>
            </p:nvSpPr>
            <p:spPr>
              <a:xfrm>
                <a:off x="7040520" y="42145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40520" y="436572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7027560" y="408924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152480" y="408924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016400" y="3557520"/>
              <a:ext cx="174600" cy="452160"/>
              <a:chOff x="7016400" y="3557520"/>
              <a:chExt cx="174600" cy="452160"/>
            </a:xfrm>
          </p:grpSpPr>
          <p:sp>
            <p:nvSpPr>
              <p:cNvPr id="663" name=""/>
              <p:cNvSpPr/>
              <p:nvPr/>
            </p:nvSpPr>
            <p:spPr>
              <a:xfrm>
                <a:off x="7029360" y="368280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29360" y="38340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7016400" y="355752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7141320" y="355752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558120" y="3516480"/>
              <a:ext cx="451800" cy="174600"/>
              <a:chOff x="6558120" y="3516480"/>
              <a:chExt cx="451800" cy="174600"/>
            </a:xfrm>
          </p:grpSpPr>
          <p:sp>
            <p:nvSpPr>
              <p:cNvPr id="668" name=""/>
              <p:cNvSpPr/>
              <p:nvPr/>
            </p:nvSpPr>
            <p:spPr>
              <a:xfrm rot="16200000">
                <a:off x="6690240" y="35341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200000">
                <a:off x="6853680" y="35218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6558120" y="364104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6558120" y="351648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6551640" y="3703680"/>
              <a:ext cx="174600" cy="452160"/>
              <a:chOff x="6551640" y="3703680"/>
              <a:chExt cx="174600" cy="452160"/>
            </a:xfrm>
          </p:grpSpPr>
          <p:sp>
            <p:nvSpPr>
              <p:cNvPr id="673" name=""/>
              <p:cNvSpPr/>
              <p:nvPr/>
            </p:nvSpPr>
            <p:spPr>
              <a:xfrm rot="10800000">
                <a:off x="6576480" y="387972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800000">
                <a:off x="6576480" y="370368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676200" y="403056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551640" y="403056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146640" y="4141800"/>
              <a:ext cx="452160" cy="174600"/>
              <a:chOff x="6146640" y="4141800"/>
              <a:chExt cx="452160" cy="174600"/>
            </a:xfrm>
          </p:grpSpPr>
          <p:sp>
            <p:nvSpPr>
              <p:cNvPr id="678" name=""/>
              <p:cNvSpPr/>
              <p:nvPr/>
            </p:nvSpPr>
            <p:spPr>
              <a:xfrm rot="16200000">
                <a:off x="6278760" y="415944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6442560" y="414720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6146640" y="426636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6146640" y="414180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062400" y="3568680"/>
              <a:ext cx="174600" cy="452160"/>
              <a:chOff x="6062400" y="3568680"/>
              <a:chExt cx="174600" cy="452160"/>
            </a:xfrm>
          </p:grpSpPr>
          <p:sp>
            <p:nvSpPr>
              <p:cNvPr id="683" name=""/>
              <p:cNvSpPr/>
              <p:nvPr/>
            </p:nvSpPr>
            <p:spPr>
              <a:xfrm>
                <a:off x="6075360" y="36939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075360" y="38451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6062400" y="35686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187320" y="35686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560920" y="3557520"/>
              <a:ext cx="452160" cy="174600"/>
              <a:chOff x="5560920" y="3557520"/>
              <a:chExt cx="452160" cy="174600"/>
            </a:xfrm>
          </p:grpSpPr>
          <p:sp>
            <p:nvSpPr>
              <p:cNvPr id="688" name=""/>
              <p:cNvSpPr/>
              <p:nvPr/>
            </p:nvSpPr>
            <p:spPr>
              <a:xfrm rot="16200000">
                <a:off x="5693040" y="35751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6200000">
                <a:off x="5856840" y="356292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560920" y="368208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5560920" y="355752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051520" y="3567240"/>
              <a:ext cx="452160" cy="174600"/>
              <a:chOff x="5051520" y="3567240"/>
              <a:chExt cx="452160" cy="174600"/>
            </a:xfrm>
          </p:grpSpPr>
          <p:sp>
            <p:nvSpPr>
              <p:cNvPr id="693" name=""/>
              <p:cNvSpPr/>
              <p:nvPr/>
            </p:nvSpPr>
            <p:spPr>
              <a:xfrm rot="16200000">
                <a:off x="5183640" y="358488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5347440" y="357264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051520" y="3691800"/>
                <a:ext cx="12528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051520" y="3567240"/>
                <a:ext cx="1252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46400" y="3124080"/>
              <a:ext cx="174600" cy="452160"/>
              <a:chOff x="4946400" y="3124080"/>
              <a:chExt cx="174600" cy="452160"/>
            </a:xfrm>
          </p:grpSpPr>
          <p:sp>
            <p:nvSpPr>
              <p:cNvPr id="698" name=""/>
              <p:cNvSpPr/>
              <p:nvPr/>
            </p:nvSpPr>
            <p:spPr>
              <a:xfrm>
                <a:off x="4959360" y="3249360"/>
                <a:ext cx="136800" cy="150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59360" y="3400560"/>
                <a:ext cx="136800" cy="17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4946400" y="3124080"/>
                <a:ext cx="500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5071320" y="3124080"/>
                <a:ext cx="4968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2593440" y="4341960"/>
            <a:ext cx="472680" cy="354600"/>
            <a:chOff x="2593440" y="4341960"/>
            <a:chExt cx="472680" cy="354600"/>
          </a:xfrm>
        </p:grpSpPr>
        <p:sp>
          <p:nvSpPr>
            <p:cNvPr id="703" name=""/>
            <p:cNvSpPr/>
            <p:nvPr/>
          </p:nvSpPr>
          <p:spPr>
            <a:xfrm rot="14413200">
              <a:off x="2745360" y="445068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4413200">
              <a:off x="2887200" y="435672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680200" y="4590720"/>
              <a:ext cx="8388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593440" y="4525920"/>
              <a:ext cx="1332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095200" y="4641840"/>
            <a:ext cx="475920" cy="340560"/>
            <a:chOff x="2095200" y="4641840"/>
            <a:chExt cx="475920" cy="340560"/>
          </a:xfrm>
        </p:grpSpPr>
        <p:sp>
          <p:nvSpPr>
            <p:cNvPr id="708" name=""/>
            <p:cNvSpPr/>
            <p:nvPr/>
          </p:nvSpPr>
          <p:spPr>
            <a:xfrm rot="14562600">
              <a:off x="2247840" y="4742280"/>
              <a:ext cx="13716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4562600">
              <a:off x="2392560" y="4654800"/>
              <a:ext cx="13716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175480" y="4880520"/>
              <a:ext cx="8820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095200" y="4813560"/>
              <a:ext cx="13392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593360" y="4964760"/>
            <a:ext cx="441360" cy="416880"/>
            <a:chOff x="1593360" y="4964760"/>
            <a:chExt cx="441360" cy="416880"/>
          </a:xfrm>
        </p:grpSpPr>
        <p:sp>
          <p:nvSpPr>
            <p:cNvPr id="713" name=""/>
            <p:cNvSpPr/>
            <p:nvPr/>
          </p:nvSpPr>
          <p:spPr>
            <a:xfrm rot="13633800">
              <a:off x="1735200" y="5109840"/>
              <a:ext cx="136800" cy="15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633800">
              <a:off x="1855440" y="4986360"/>
              <a:ext cx="136800" cy="17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711800" y="5259600"/>
              <a:ext cx="579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93360" y="5204880"/>
              <a:ext cx="12564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833040" y="1936440"/>
            <a:ext cx="287280" cy="690480"/>
            <a:chOff x="833040" y="1936440"/>
            <a:chExt cx="287280" cy="690480"/>
          </a:xfrm>
        </p:grpSpPr>
        <p:sp>
          <p:nvSpPr>
            <p:cNvPr id="718" name=""/>
            <p:cNvSpPr/>
            <p:nvPr/>
          </p:nvSpPr>
          <p:spPr>
            <a:xfrm>
              <a:off x="845640" y="2125080"/>
              <a:ext cx="224640" cy="22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5640" y="2351160"/>
              <a:ext cx="224640" cy="275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833040" y="1936440"/>
              <a:ext cx="745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020600" y="1936440"/>
              <a:ext cx="997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127160" y="1830240"/>
            <a:ext cx="237960" cy="96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15960" y="1808280"/>
            <a:ext cx="2981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: Following wall, touching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ft 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716000" y="1923840"/>
            <a:ext cx="287280" cy="690480"/>
            <a:chOff x="4716000" y="1923840"/>
            <a:chExt cx="287280" cy="690480"/>
          </a:xfrm>
        </p:grpSpPr>
        <p:sp>
          <p:nvSpPr>
            <p:cNvPr id="725" name=""/>
            <p:cNvSpPr/>
            <p:nvPr/>
          </p:nvSpPr>
          <p:spPr>
            <a:xfrm>
              <a:off x="4728600" y="2112480"/>
              <a:ext cx="224640" cy="22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28600" y="2338200"/>
              <a:ext cx="224640" cy="276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4716000" y="1923840"/>
              <a:ext cx="745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903560" y="1923840"/>
              <a:ext cx="997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5135400" y="1817640"/>
            <a:ext cx="238320" cy="965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24560" y="1795320"/>
            <a:ext cx="34322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: Following wall, not touch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r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69600" y="3126960"/>
            <a:ext cx="288720" cy="690480"/>
            <a:chOff x="669600" y="3126960"/>
            <a:chExt cx="288720" cy="690480"/>
          </a:xfrm>
        </p:grpSpPr>
        <p:sp>
          <p:nvSpPr>
            <p:cNvPr id="732" name=""/>
            <p:cNvSpPr/>
            <p:nvPr/>
          </p:nvSpPr>
          <p:spPr>
            <a:xfrm>
              <a:off x="682200" y="3315600"/>
              <a:ext cx="225720" cy="22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2200" y="3541320"/>
              <a:ext cx="225720" cy="276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69600" y="3126960"/>
              <a:ext cx="7524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858240" y="3126960"/>
              <a:ext cx="10008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14480" y="3522600"/>
            <a:ext cx="237960" cy="577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89200" y="3451320"/>
            <a:ext cx="2981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: Break in wall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ght 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9840" y="3522600"/>
            <a:ext cx="463680" cy="238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067360" y="3027240"/>
            <a:ext cx="663120" cy="288720"/>
            <a:chOff x="5067360" y="3027240"/>
            <a:chExt cx="663120" cy="288720"/>
          </a:xfrm>
        </p:grpSpPr>
        <p:sp>
          <p:nvSpPr>
            <p:cNvPr id="740" name=""/>
            <p:cNvSpPr/>
            <p:nvPr/>
          </p:nvSpPr>
          <p:spPr>
            <a:xfrm>
              <a:off x="5342760" y="3039480"/>
              <a:ext cx="225000" cy="22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67360" y="3039480"/>
              <a:ext cx="275400" cy="22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568120" y="3027240"/>
              <a:ext cx="16236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68120" y="3215520"/>
              <a:ext cx="162360" cy="10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960800" y="3348000"/>
            <a:ext cx="238320" cy="5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37200" y="3303720"/>
            <a:ext cx="2981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: Hit wall again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to sta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86520" y="3348000"/>
            <a:ext cx="637920" cy="238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1440" y="4682880"/>
            <a:ext cx="287280" cy="689040"/>
            <a:chOff x="1171440" y="4682880"/>
            <a:chExt cx="287280" cy="689040"/>
          </a:xfrm>
        </p:grpSpPr>
        <p:sp>
          <p:nvSpPr>
            <p:cNvPr id="748" name=""/>
            <p:cNvSpPr/>
            <p:nvPr/>
          </p:nvSpPr>
          <p:spPr>
            <a:xfrm>
              <a:off x="1183680" y="4870800"/>
              <a:ext cx="225000" cy="22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83680" y="5096520"/>
              <a:ext cx="225000" cy="275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1171440" y="4682880"/>
              <a:ext cx="7488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359000" y="4682880"/>
              <a:ext cx="99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901880" y="4438800"/>
            <a:ext cx="29811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: Wall in front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urn left until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9120" y="4464000"/>
            <a:ext cx="1027080" cy="238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928760" y="4744800"/>
            <a:ext cx="689040" cy="301680"/>
            <a:chOff x="4928760" y="4744800"/>
            <a:chExt cx="689040" cy="301680"/>
          </a:xfrm>
        </p:grpSpPr>
        <p:sp>
          <p:nvSpPr>
            <p:cNvPr id="755" name=""/>
            <p:cNvSpPr/>
            <p:nvPr/>
          </p:nvSpPr>
          <p:spPr>
            <a:xfrm>
              <a:off x="5116680" y="4820400"/>
              <a:ext cx="225360" cy="22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42040" y="4820400"/>
              <a:ext cx="275760" cy="22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928760" y="4983840"/>
              <a:ext cx="187560" cy="5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4928760" y="4744800"/>
              <a:ext cx="18756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11920" y="4438800"/>
            <a:ext cx="29811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: ...we are here, same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735440" y="4464000"/>
            <a:ext cx="1027080" cy="238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50000" y="5567400"/>
            <a:ext cx="2379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: Turn left until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72080" y="5591160"/>
            <a:ext cx="1027080" cy="238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890960" y="5811480"/>
            <a:ext cx="663480" cy="363600"/>
            <a:chOff x="4890960" y="5811480"/>
            <a:chExt cx="663480" cy="363600"/>
          </a:xfrm>
        </p:grpSpPr>
        <p:sp>
          <p:nvSpPr>
            <p:cNvPr id="764" name=""/>
            <p:cNvSpPr/>
            <p:nvPr/>
          </p:nvSpPr>
          <p:spPr>
            <a:xfrm>
              <a:off x="5166720" y="5899320"/>
              <a:ext cx="225360" cy="22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0960" y="5899320"/>
              <a:ext cx="275760" cy="22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392080" y="5811480"/>
              <a:ext cx="124920" cy="15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92080" y="6075000"/>
              <a:ext cx="162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745080" y="4619520"/>
            <a:ext cx="871200" cy="6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33120" y="5573520"/>
            <a:ext cx="287280" cy="688680"/>
            <a:chOff x="933120" y="5573520"/>
            <a:chExt cx="287280" cy="688680"/>
          </a:xfrm>
        </p:grpSpPr>
        <p:sp>
          <p:nvSpPr>
            <p:cNvPr id="770" name=""/>
            <p:cNvSpPr/>
            <p:nvPr/>
          </p:nvSpPr>
          <p:spPr>
            <a:xfrm>
              <a:off x="945720" y="5761440"/>
              <a:ext cx="224640" cy="22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45720" y="5986800"/>
              <a:ext cx="224640" cy="275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933120" y="5573520"/>
              <a:ext cx="745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120680" y="5573520"/>
              <a:ext cx="99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427040" y="5654520"/>
            <a:ext cx="2981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Bef>
                <a:spcPts val="587"/>
              </a:spcBef>
              <a:tabLst>
                <a:tab algn="l" pos="0"/>
                <a:tab algn="l" pos="2761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T: Forward until w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uch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13320" y="177948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261960" y="262080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551040" y="2689200"/>
            <a:ext cx="1190520" cy="5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26000" y="386064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967280" y="5133600"/>
            <a:ext cx="149400" cy="35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Find a way out of m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s on L and R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 = “1” if touching wall; “0” if not touching 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'R'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'R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all on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R'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all on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R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all in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*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men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ward one 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urn left 90 degr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urn right 90 degr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&amp; strate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ze has no isl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idors are wider than 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worry about start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a Moore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D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your design into datapath and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he wall on the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7-05-11T16:42:15Z</dcterms:modified>
  <cp:revision>789</cp:revision>
  <dc:subject>CSE370</dc:subject>
  <dc:title>Lecture2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