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ng" ContentType="image/png"/>
  <Override PartName="/ppt/media/image3.png" ContentType="image/png"/>
  <Override PartName="/ppt/media/image4.pct" ContentType="image/x-pict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2957040" y="553680"/>
            <a:ext cx="3691080" cy="276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957400" y="554040"/>
            <a:ext cx="3691080" cy="2768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ts val="1672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erilog is an event driven simulat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1672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hen an assignment variable changes, code execu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1672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an always block, code only executes when the triggers 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957400" y="554040"/>
            <a:ext cx="3691080" cy="2768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get more experience, you don’t actually need to draw the diagram, but you still think that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2957400" y="554040"/>
            <a:ext cx="3691080" cy="2768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Implementation sometimes called a “netlis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957400" y="554040"/>
            <a:ext cx="3691080" cy="2768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explicit circuit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explicit connections between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 between logic g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like schematics, but us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circuit as algorithms/progr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 component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/output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ossible circuits could have sam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mplementations of a Boolean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8216-06B1-416C-9A9D-EBB08C0346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ompletely specified func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lo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uctural constru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cribing combinational circu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types that d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ve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Remember, Verilog is not C or Java or Lisp or …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: &lt;sign&gt;&lt;size&gt;&lt;base format&gt;&lt;number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imal nu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’b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-bit 2’s complement binary of 0011 (is 110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’b0000_0100_0110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 bit binary number (_ is ignor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’h046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-digit (12-bit) hexadecimal nu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log values are unsig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[4:0] = A[3:0] + B[3: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A = 0110 (6) and B = 1010(–6), then C = 10000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000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is zero-padded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ign-exten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587520" y="1579680"/>
          <a:ext cx="379080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1579680"/>
                    <a:ext cx="379080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808520" y="1654200"/>
          <a:ext cx="3760920" cy="343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8520" y="1654200"/>
                    <a:ext cx="376092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750560" y="5448240"/>
            <a:ext cx="264024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Similar to C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abstraction 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struct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vily used in 370 and “real” Verilog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behavio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d to some extent in “real” Verilog, but not much in 3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167440" y="3639240"/>
            <a:ext cx="34732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first simple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smpl (X,Y,A,B,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 A,B,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X,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re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g1(E,A,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g2(Y,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  g3(X,E,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building blocks: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8400" y="1390320"/>
            <a:ext cx="4948200" cy="47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1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ced into a desig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1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ver call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 to nest module def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ules execute in parall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s are case sens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for com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 can’t begin with a 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wires for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d, or, no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key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keywords are lower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te declarations (and, or, et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1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 outputs fir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1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 seco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69000" y="1414440"/>
            <a:ext cx="39369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are circui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3680" y="1390320"/>
            <a:ext cx="4570560" cy="467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ule has 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rnal conne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,B,C,X,Y in exam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out  (tristat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assign statements for Boolean expres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5167080" y="3775320"/>
            <a:ext cx="361044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previous example a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Boolean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smpl2 (X,Y,A,B,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 A,B,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X,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X = (A&amp;B)|~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Y = ~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69000" y="1414440"/>
            <a:ext cx="39369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68160" y="1514520"/>
            <a:ext cx="4889520" cy="42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xor_gate (out,a,b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nput     a,b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wire      abar, bbar, t1, t2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not       inva (abar,a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not       invb (bbar,b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and       and1 (t1,abar,b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and       and2 (t2,bbar,a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r        or1 (out,t1,t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al Veri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5532120" y="2016000"/>
            <a:ext cx="3015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99"/>
                </a:solidFill>
                <a:uFillTx/>
                <a:latin typeface="Tahoma"/>
              </a:rPr>
              <a:t>8 basic gates (keyword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and, or, nand, n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buf, not, xor, xn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438360" y="4237200"/>
            <a:ext cx="4732560" cy="211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49800" y="3435480"/>
            <a:ext cx="2794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46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38160" y="2982960"/>
            <a:ext cx="547704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full_addr (Sum,Cout,A,B,Cin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nput     A, B, Cin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utput    Sum, C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assign   {Cout, Sum} = A + B + Cin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743360" y="1495440"/>
            <a:ext cx="3729960" cy="992520"/>
            <a:chOff x="4743360" y="1495440"/>
            <a:chExt cx="3729960" cy="992520"/>
          </a:xfrm>
        </p:grpSpPr>
        <p:grpSp>
          <p:nvGrpSpPr>
            <p:cNvPr id="121" name=""/>
            <p:cNvGrpSpPr/>
            <p:nvPr/>
          </p:nvGrpSpPr>
          <p:grpSpPr>
            <a:xfrm>
              <a:off x="4743360" y="1495440"/>
              <a:ext cx="3729960" cy="992520"/>
              <a:chOff x="4743360" y="1495440"/>
              <a:chExt cx="3729960" cy="992520"/>
            </a:xfrm>
          </p:grpSpPr>
          <p:sp>
            <p:nvSpPr>
              <p:cNvPr id="122" name=""/>
              <p:cNvSpPr/>
              <p:nvPr/>
            </p:nvSpPr>
            <p:spPr>
              <a:xfrm>
                <a:off x="5805360" y="1544760"/>
                <a:ext cx="1354320" cy="903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320" rIns="85320" tIns="42480" bIns="424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203800" y="1693800"/>
                <a:ext cx="60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320" rIns="8532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203800" y="1995480"/>
                <a:ext cx="60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320" rIns="8532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203800" y="2297160"/>
                <a:ext cx="60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320" rIns="8532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159680" y="1844640"/>
                <a:ext cx="60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320" rIns="8532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159680" y="2146320"/>
                <a:ext cx="60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320" rIns="8532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47840" y="1495440"/>
                <a:ext cx="33444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320" rIns="85320" tIns="42840" bIns="4284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73320" y="1795680"/>
                <a:ext cx="33732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320" rIns="85320" tIns="42840" bIns="4284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43360" y="2097000"/>
                <a:ext cx="55548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320" rIns="85320" tIns="42840" bIns="4284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738200" y="1946160"/>
                <a:ext cx="73512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320" rIns="85320" tIns="42840" bIns="428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740720" y="1614600"/>
                <a:ext cx="70632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320" rIns="85320" tIns="42840" bIns="428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6042600" y="1792440"/>
              <a:ext cx="8038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havioral Veri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3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circuit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4871880"/>
            <a:ext cx="369180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{Cout, Sum} is a concate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havioral 4-bit ad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76440" y="1408320"/>
            <a:ext cx="621648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add4 (SUM, OVER, A, 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 [3:0]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 [3:0]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[3:0]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OV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{OVER, SUM[3:0]} = A[3:0] + B[3: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8240" y="3603600"/>
            <a:ext cx="416736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[3:0] A”  is a 4-wire bus labeled “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Bit 3 is the M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Bit 0 is the L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Can also write “[0:3] 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Bit 0 is the M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Bit 3 is the L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44560" y="4968720"/>
            <a:ext cx="415368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Buses are implicitly conn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If you write BUS[3:2], BUS[1:0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They become part of BUS[3: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28800" y="3043080"/>
            <a:ext cx="689292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assig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 = X | (Y &amp; ~Z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assig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[3:0] = 4'b01X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assig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[15:0] = 4'h00f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assig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#3 {Cout, Sum[3:0]} = A[3:0] + B[3:0] + Ci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053800" y="4923000"/>
            <a:ext cx="1800" cy="66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52760" y="4965840"/>
            <a:ext cx="952560" cy="666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89680" y="4865760"/>
            <a:ext cx="233280" cy="336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8680" y="5173560"/>
            <a:ext cx="25556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arithmetic 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00560" y="5564160"/>
            <a:ext cx="3294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multiple assignment (concaten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0520" y="5564160"/>
            <a:ext cx="3395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Gate delay (used by simul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376880" y="2743200"/>
            <a:ext cx="117288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370400" y="3522240"/>
            <a:ext cx="1197000" cy="165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2428920"/>
            <a:ext cx="31435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Boolean operators</a:t>
            </a:r>
            <a:br>
              <a:rPr sz="1800"/>
            </a:b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(~ for bit-wise neg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73600" y="3228840"/>
            <a:ext cx="28051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bits can assume four values</a:t>
            </a:r>
            <a:br>
              <a:rPr sz="1800"/>
            </a:b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(0, 1, X,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516560" y="4235040"/>
            <a:ext cx="1187280" cy="11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88080" y="3916440"/>
            <a:ext cx="28051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variables can be n-bits wide</a:t>
            </a:r>
            <a:br>
              <a:rPr sz="1800"/>
            </a:b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(MSB:LS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inuous assig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4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is continuously evalu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s to a logic ga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ments execute in parall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ys of specifying circu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uctural descri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 circuit as interconnected 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ild complex circuits using hierarch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 circuits are unread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D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description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ff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rogramming langu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llel languages tailored to digital desig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thesize code to produce a circu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55560" y="1652760"/>
            <a:ext cx="698364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Compare1 (Equal, Alarger, Blarger, A, B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utput    Equal, Alarger, Blarger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assign Equal = (A &amp; B) | (~A &amp; ~B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assign Alarger = (A &amp; ~B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assign Blarger = (~A &amp; B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 compa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954360" y="4403880"/>
            <a:ext cx="655560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Top-down design and bottom-up design are both ok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cc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module ordering doesn’t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cc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because modules execute in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2280" y="1469880"/>
            <a:ext cx="780552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Make a 4-bit comparator from 4 1-bit comparator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ule Compare4(Equal, Alarger, Blarger, A4, B4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input [3:0] A4, B4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output Equal, Alarger, Blarger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wire e0, e1, e2, e3, Al0, Al1, Al2, Al3, B10, Bl1, Bl2, Bl3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Compare1 cp0(e0, Al0, Bl0, A4[0], B4[0]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Compare1 cp1(e1, Al1, Bl1, A4[1], B4[1]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Compare1 cp2(e2, Al2, Bl2, A4[2], B4[2]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Compare1 cp3(e3, Al3, Bl3, A4[3], B4[3], )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assign Equal = (e0 &amp; e1 &amp; e2 &amp; e3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assign Alarger = (Al3 | (Al2 &amp; e3) |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Al1 &amp; e3 &amp; e2) |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Al0 &amp; e3 &amp; e2 &amp; e1)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assign Blarger = (~Alarger &amp; ~Equal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ator example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tial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ssig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don’t make any se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055520" y="2743200"/>
            <a:ext cx="3330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spAutoFit/>
          </a:bodyPr>
          <a:p>
            <a:pPr>
              <a:lnSpc>
                <a:spcPts val="20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assig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 = X | (Y &amp; ~Z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assig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 = W |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assig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 = Y &amp; 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4444560" y="2948040"/>
            <a:ext cx="963720" cy="58896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518000" y="3543480"/>
            <a:ext cx="907920" cy="36180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3680" y="3184560"/>
            <a:ext cx="28216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Reusing” a variable in</a:t>
            </a:r>
            <a:br>
              <a:rPr sz="1800"/>
            </a:b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several assign statements</a:t>
            </a:r>
            <a:br>
              <a:rPr sz="1800"/>
            </a:b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is not 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ways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780840" y="2622600"/>
            <a:ext cx="3742200" cy="32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spAutoFit/>
          </a:bodyPr>
          <a:p>
            <a:pPr>
              <a:lnSpc>
                <a:spcPts val="20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g A, B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 (W or X or Y or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= X | (Y &amp; ~Z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= W |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= Y &amp; 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A &amp; B) 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= 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 = W |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524120" y="3086280"/>
            <a:ext cx="2438280" cy="226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41240" y="2946240"/>
            <a:ext cx="14911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Sensitivity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476080" y="2265480"/>
            <a:ext cx="2065320" cy="453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3240" y="1641960"/>
            <a:ext cx="2431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ctr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Variables that appear on the left hand side in an always block must be declared as “reg”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1520" y="4062240"/>
            <a:ext cx="26845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ctr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Statements in an always block are executed in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21120" y="5384880"/>
            <a:ext cx="351648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ctr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All variables must be assigned on every control path!!!</a:t>
            </a:r>
            <a:br>
              <a:rPr sz="1800"/>
            </a:b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(otherwise you get the dreaded “inferred latch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782440" y="5210280"/>
            <a:ext cx="1009800" cy="61272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36560" y="2071800"/>
            <a:ext cx="4986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and_gate (out, in1, in2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nput         in1, in2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out = myfunction(in1, in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 myfunc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 in1, in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function = in1 &amp; in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95880" y="4900680"/>
            <a:ext cx="3368520" cy="15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" rIns="16200" tIns="23040" bIns="2304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Benefit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Functions force a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ompiler will fail if fun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does not generate a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80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unctions for complex combinational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652760" y="4716360"/>
            <a:ext cx="24364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= temp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64040" y="4711680"/>
            <a:ext cx="23670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 Verilog-- Blocking and non-blocking assig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314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assignments  (Q = 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iable is assigned immediate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 value is used by subsequent statem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blocking assignments  (Q &lt;= 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iable is assigned after all scheduled statements are execu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lue to be assigned is computed but saved for la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ual use: Register assig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isters simultaneously take new values after the clock ed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w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186160" y="2332080"/>
            <a:ext cx="242172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B, C,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28480" y="2332080"/>
            <a:ext cx="242172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B, C,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960800" y="4419720"/>
            <a:ext cx="3033720" cy="920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127160" y="4287960"/>
            <a:ext cx="3035160" cy="11379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 Verilog-- Assignments- watch ou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56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ing         versus          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log ti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ite C-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hardware, not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rilog is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herently parall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ilers don’t map algorithms to circuits we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scribe hardwar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st draw a dataflow di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start 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torial and reference manual are found in ActiveHDL hel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n today’s reading assig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ter’s Guide to Verilog 2001” by Michael Cilet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ies for borrowing in hardware la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ry of two-level combinational-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4800" y="136692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ic functions and truth t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, OR, Buf, NOT, NAND, NOR, XOR, XN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al 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xioms and theorems of Boolean algeb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ofs by re-writ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ofs by perfect induction (fill in truth tabl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te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s of Boolean fu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AND/NOR conversion and de Morgan’s theor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onical 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-level 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ompletely specified functions (don’t car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if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-level simplification (K-map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ving combinational design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 1: Understand th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the inputs and outp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a truth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 2: Simplify the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a K-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a simplified Boolean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P or P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don’t ca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 3: Implement the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ic gates and/or Verilo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 description languages (HDL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el (~198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ed by Data-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ed to P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capabilities (can do state machi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log (~198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ed by Gateway (now part of Caden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imilar to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ed to public domain in 19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HDL (~198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D sponso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imilar to 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log versus VH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“IEEE standard”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tools support bo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log is “simple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syntax, fewer constr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HDL is more structur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be better for large, complex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modular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ion and syn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94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ecute” a design to verify correctness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te a physical implementation from HDL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127320" y="3265560"/>
            <a:ext cx="1279440" cy="7761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6680" y="3265560"/>
            <a:ext cx="1279440" cy="776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3"/>
            <a:endCxn id="54" idx="2"/>
          </p:cNvCxnSpPr>
          <p:nvPr/>
        </p:nvCxnSpPr>
        <p:spPr>
          <a:xfrm>
            <a:off x="2625480" y="3654000"/>
            <a:ext cx="49284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4957920" y="3265560"/>
            <a:ext cx="1279440" cy="776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ate 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is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4" idx="6"/>
            <a:endCxn id="57" idx="1"/>
          </p:cNvCxnSpPr>
          <p:nvPr/>
        </p:nvCxnSpPr>
        <p:spPr>
          <a:xfrm>
            <a:off x="4416120" y="3654000"/>
            <a:ext cx="53244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1333440" y="4330800"/>
            <a:ext cx="1279440" cy="776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5" idx="2"/>
            <a:endCxn id="59" idx="0"/>
          </p:cNvCxnSpPr>
          <p:nvPr/>
        </p:nvCxnSpPr>
        <p:spPr>
          <a:xfrm rot="5400000">
            <a:off x="1839240" y="4184280"/>
            <a:ext cx="270360" cy="3960"/>
          </a:xfrm>
          <a:prstGeom prst="bentConnector3">
            <a:avLst>
              <a:gd name="adj1" fmla="val 50000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965840" y="4330800"/>
            <a:ext cx="1279440" cy="776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57" idx="2"/>
            <a:endCxn id="61" idx="0"/>
          </p:cNvCxnSpPr>
          <p:nvPr/>
        </p:nvCxnSpPr>
        <p:spPr>
          <a:xfrm flipH="1" rot="16200000">
            <a:off x="5466600" y="4181760"/>
            <a:ext cx="270360" cy="8640"/>
          </a:xfrm>
          <a:prstGeom prst="bentConnector3">
            <a:avLst>
              <a:gd name="adj1" fmla="val 50000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6521400" y="4330800"/>
            <a:ext cx="1279440" cy="776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57" idx="3"/>
            <a:endCxn id="63" idx="0"/>
          </p:cNvCxnSpPr>
          <p:nvPr/>
        </p:nvCxnSpPr>
        <p:spPr>
          <a:xfrm>
            <a:off x="6246720" y="3654360"/>
            <a:ext cx="915120" cy="667440"/>
          </a:xfrm>
          <a:prstGeom prst="bentConnector2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333440" y="5438880"/>
            <a:ext cx="1279440" cy="7761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9" idx="2"/>
            <a:endCxn id="65" idx="0"/>
          </p:cNvCxnSpPr>
          <p:nvPr/>
        </p:nvCxnSpPr>
        <p:spPr>
          <a:xfrm flipV="1" rot="10800000">
            <a:off x="1972440" y="5116320"/>
            <a:ext cx="1080" cy="313200"/>
          </a:xfrm>
          <a:prstGeom prst="bentConnector2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4964040" y="5438880"/>
            <a:ext cx="1279440" cy="7761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unctiona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1" idx="2"/>
            <a:endCxn id="67" idx="0"/>
          </p:cNvCxnSpPr>
          <p:nvPr/>
        </p:nvCxnSpPr>
        <p:spPr>
          <a:xfrm rot="5400000">
            <a:off x="5447520" y="5271840"/>
            <a:ext cx="313200" cy="2520"/>
          </a:xfrm>
          <a:prstGeom prst="bentConnector3">
            <a:avLst>
              <a:gd name="adj1" fmla="val 49712"/>
            </a:avLst>
          </a:prstGeom>
          <a:ln w="1908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6523200" y="5438880"/>
            <a:ext cx="1279440" cy="7761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hip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3" idx="2"/>
            <a:endCxn id="69" idx="0"/>
          </p:cNvCxnSpPr>
          <p:nvPr/>
        </p:nvCxnSpPr>
        <p:spPr>
          <a:xfrm flipH="1" rot="16200000">
            <a:off x="7004880" y="5271840"/>
            <a:ext cx="313200" cy="2520"/>
          </a:xfrm>
          <a:prstGeom prst="bentConnector3">
            <a:avLst>
              <a:gd name="adj1" fmla="val 49712"/>
            </a:avLst>
          </a:prstGeom>
          <a:ln w="19080">
            <a:solidFill>
              <a:srgbClr val="00ae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ion and synthesis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ls what a circuit do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y is “*”, ignoring implementation 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static tim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you to test design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rts your code to a net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simulate synthesized desig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 map your netlist to hard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ation and synthesis in the CSE curricul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SE370: Learn simu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SE467: Learn synthe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90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provide an environ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ing non-circuit constru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9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DL waveforms, Read files, pri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ing Verilog simulation c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9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“test fixture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141560" y="3908520"/>
            <a:ext cx="5486400" cy="1655640"/>
            <a:chOff x="1141560" y="3908520"/>
            <a:chExt cx="5486400" cy="1655640"/>
          </a:xfrm>
        </p:grpSpPr>
        <p:sp>
          <p:nvSpPr>
            <p:cNvPr id="76" name=""/>
            <p:cNvSpPr/>
            <p:nvPr/>
          </p:nvSpPr>
          <p:spPr>
            <a:xfrm>
              <a:off x="1141560" y="3908520"/>
              <a:ext cx="5486400" cy="1655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68600" y="4510080"/>
              <a:ext cx="1352520" cy="828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st Fix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Specificati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22800" y="4361040"/>
              <a:ext cx="1654200" cy="1052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rcuit 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Synthesizeab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21120" y="4660920"/>
              <a:ext cx="120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21120" y="4811760"/>
              <a:ext cx="120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21120" y="4962600"/>
              <a:ext cx="120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21120" y="5112000"/>
              <a:ext cx="120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5646600" y="2590920"/>
            <a:ext cx="28814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ahoma"/>
              </a:rPr>
              <a:t>Note: We will ignore timing and  test benches until next Verilog l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ying circuits in Veri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three major sty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ces ‘n wi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inuous assign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ways” b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46760" y="1325520"/>
            <a:ext cx="3936960" cy="1827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8800" y="4221720"/>
            <a:ext cx="1959120" cy="115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re 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g1(E,A,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g2(Y,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  g3(X,E,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63520" y="4221720"/>
            <a:ext cx="2370600" cy="115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re 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E = A &amp;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Y = ~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X = E |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79720" y="4222080"/>
            <a:ext cx="3056400" cy="197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g E, X,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 (A or B or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 = A &amp;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= ~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E |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4920" y="3795840"/>
            <a:ext cx="13996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uctur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54520" y="3767040"/>
            <a:ext cx="14943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havior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4800" y="136836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s on a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, 1,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unknown or conflict),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ristate or unconnec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[3:0]   vector of 4 bits: A[3], A[2], A[1], A[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3800" indent="-22392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signed integer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3800" indent="-22392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ces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e consta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5000"/>
              </a:lnSpc>
              <a:spcBef>
                <a:spcPts val="125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ng bits/ve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3800" indent="-22392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 sign exte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[7:0] = {A[3], A[3], A[3], A[3], A[3:0]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[7:0] = {4{A[3]}, A[3:0]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5000"/>
              </a:lnSpc>
              <a:spcBef>
                <a:spcPts val="125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yle:  Use    a[7:0] = b[7:0] + 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a = b + c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5000"/>
              </a:lnSpc>
              <a:spcBef>
                <a:spcPts val="125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gal syntax:  C = &amp;A[6:7];  // logical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bits 6 and 7 of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cp:keywords/>
  <dc:language>en-US</dc:language>
  <cp:lastModifiedBy>Bruce Hemingway</cp:lastModifiedBy>
  <cp:lastPrinted>2006-01-20T19:11:14Z</cp:lastPrinted>
  <dcterms:modified xsi:type="dcterms:W3CDTF">2008-02-04T19:06:20Z</dcterms:modified>
  <cp:revision>314</cp:revision>
  <dc:subject>CSE370</dc:subject>
  <dc:title>Lecture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  <property fmtid="{D5CDD505-2E9C-101B-9397-08002B2CF9AE}" pid="22" name="_AdHocReviewCycleID">
    <vt:r8>-833208863</vt:r8>
  </property>
  <property fmtid="{D5CDD505-2E9C-101B-9397-08002B2CF9AE}" pid="23" name="_AuthorEmail">
    <vt:lpwstr>bruceh@cs.washington.edu</vt:lpwstr>
  </property>
  <property fmtid="{D5CDD505-2E9C-101B-9397-08002B2CF9AE}" pid="24" name="_AuthorEmailDisplayName">
    <vt:lpwstr>Bruce Hemingway</vt:lpwstr>
  </property>
  <property fmtid="{D5CDD505-2E9C-101B-9397-08002B2CF9AE}" pid="25" name="_EmailSubject">
    <vt:lpwstr>lectures</vt:lpwstr>
  </property>
  <property fmtid="{D5CDD505-2E9C-101B-9397-08002B2CF9AE}" pid="26" name="_NewReviewCycle">
    <vt:lpwstr/>
  </property>
</Properties>
</file>