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900-4850-40FA-9197-8339094DA0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leve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level NAND/NOR con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Switching-network" logic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s/sele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ultiplexers/deco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able logic devices (PL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r structures for 2-leve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ultiplex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8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data input; n control inputs (“selects”); 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input connects to one of 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s” decide which output is connected to the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used as a decoder, the input is called an “enable”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473400" y="3522600"/>
            <a:ext cx="1728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66080" y="3522600"/>
            <a:ext cx="26658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3522600"/>
            <a:ext cx="383904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'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Logic-gate implementation of demultiplex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57360" y="1601280"/>
            <a:ext cx="2168640" cy="3812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26640" bIns="26640" anchor="t">
            <a:normAutofit/>
          </a:bodyPr>
          <a:p>
            <a:pPr indent="0">
              <a:lnSpc>
                <a:spcPts val="22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1:2 demu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519360" y="3105000"/>
            <a:ext cx="588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2960" y="3152880"/>
            <a:ext cx="276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2960" y="3728880"/>
            <a:ext cx="501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14680" y="4021200"/>
            <a:ext cx="588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27200" y="3094200"/>
            <a:ext cx="56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27200" y="366084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517840" y="3084120"/>
            <a:ext cx="0" cy="58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38960" y="3116160"/>
            <a:ext cx="529200" cy="56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38600" y="3092400"/>
            <a:ext cx="529560" cy="56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27200" y="4037040"/>
            <a:ext cx="56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27200" y="460368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517840" y="4027320"/>
            <a:ext cx="0" cy="5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960" y="4057560"/>
            <a:ext cx="52920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38600" y="4038480"/>
            <a:ext cx="529560" cy="56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7640" y="3386160"/>
            <a:ext cx="33840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547640" y="3594240"/>
            <a:ext cx="338400" cy="26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38280" y="3386160"/>
            <a:ext cx="0" cy="45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06560" y="3575160"/>
            <a:ext cx="92160" cy="93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95520" y="3376440"/>
            <a:ext cx="227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4560" y="3263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4560" y="4433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52800" y="4433760"/>
            <a:ext cx="11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43080" y="3273480"/>
            <a:ext cx="0" cy="11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24000" y="3225960"/>
            <a:ext cx="73080" cy="759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25560" y="3263760"/>
            <a:ext cx="12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52800" y="3263760"/>
            <a:ext cx="11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95520" y="4321080"/>
            <a:ext cx="227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00320" y="360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84560" y="42069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74840" y="408456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00320" y="4075200"/>
            <a:ext cx="96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0600" y="3613320"/>
            <a:ext cx="0" cy="22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55680" y="3830760"/>
            <a:ext cx="74520" cy="554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90600" y="3857760"/>
            <a:ext cx="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25560" y="3848040"/>
            <a:ext cx="35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4560" y="348948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36880" y="3603600"/>
            <a:ext cx="22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74840" y="3498840"/>
            <a:ext cx="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68760" y="2031840"/>
            <a:ext cx="3789360" cy="4381560"/>
            <a:chOff x="4568760" y="2031840"/>
            <a:chExt cx="3789360" cy="4381560"/>
          </a:xfrm>
        </p:grpSpPr>
        <p:sp>
          <p:nvSpPr>
            <p:cNvPr id="519" name=""/>
            <p:cNvSpPr/>
            <p:nvPr/>
          </p:nvSpPr>
          <p:spPr>
            <a:xfrm>
              <a:off x="5506920" y="607536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3996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81760" y="3772080"/>
              <a:ext cx="5637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94720" y="4529160"/>
              <a:ext cx="56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94720" y="2255760"/>
              <a:ext cx="563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68760" y="208584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94720" y="3014640"/>
              <a:ext cx="56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60960" y="6087960"/>
              <a:ext cx="638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6416640" y="5214600"/>
              <a:ext cx="208080" cy="29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246720" y="5214600"/>
              <a:ext cx="169920" cy="29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227280" y="550548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97560" y="5157720"/>
              <a:ext cx="7632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5851440" y="5214600"/>
              <a:ext cx="208080" cy="29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681520" y="5214600"/>
              <a:ext cx="169920" cy="29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662080" y="550548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32360" y="5157720"/>
              <a:ext cx="7632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05520" y="21733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05520" y="2625840"/>
              <a:ext cx="4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96160" y="2182680"/>
              <a:ext cx="0" cy="4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40960" y="2193840"/>
              <a:ext cx="411840" cy="4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1240" y="2184480"/>
              <a:ext cx="431280" cy="4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40600" y="2171520"/>
              <a:ext cx="412200" cy="4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30880" y="2162160"/>
              <a:ext cx="431640" cy="4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05520" y="29257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05520" y="3379680"/>
              <a:ext cx="4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96160" y="2935440"/>
              <a:ext cx="0" cy="43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40960" y="2948040"/>
              <a:ext cx="41184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31240" y="29383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40600" y="2926080"/>
              <a:ext cx="41220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30880" y="2916360"/>
              <a:ext cx="431640" cy="4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05520" y="36799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05520" y="4132440"/>
              <a:ext cx="4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96160" y="3689280"/>
              <a:ext cx="0" cy="4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40960" y="3700440"/>
              <a:ext cx="411840" cy="4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31240" y="3691080"/>
              <a:ext cx="431280" cy="4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40600" y="3678120"/>
              <a:ext cx="412200" cy="4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30880" y="3668760"/>
              <a:ext cx="431640" cy="47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05520" y="443232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05520" y="4886280"/>
              <a:ext cx="4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96160" y="4441680"/>
              <a:ext cx="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40960" y="4454640"/>
              <a:ext cx="41184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31240" y="44449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40600" y="4432680"/>
              <a:ext cx="41220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30880" y="4426200"/>
              <a:ext cx="431640" cy="46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62880" y="239868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16880" y="23986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16880" y="31528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61160" y="2031840"/>
              <a:ext cx="0" cy="35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42080" y="2379600"/>
              <a:ext cx="5724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61160" y="2408400"/>
              <a:ext cx="0" cy="73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42080" y="3133800"/>
              <a:ext cx="5724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61160" y="3162240"/>
              <a:ext cx="0" cy="201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70520" y="2398680"/>
              <a:ext cx="8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70520" y="3152880"/>
              <a:ext cx="8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62880" y="315288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16880" y="25876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16880" y="40942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26360" y="2031840"/>
              <a:ext cx="0" cy="54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07280" y="2568600"/>
              <a:ext cx="5688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26360" y="2597040"/>
              <a:ext cx="0" cy="14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7280" y="4075200"/>
              <a:ext cx="5688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26360" y="4103640"/>
              <a:ext cx="0" cy="107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35720" y="2587680"/>
              <a:ext cx="26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5720" y="4094280"/>
              <a:ext cx="26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62880" y="390528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16880" y="22114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16880" y="29638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16880" y="37180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16880" y="44704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35520" y="221148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83280" y="2192400"/>
              <a:ext cx="5688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11720" y="2211480"/>
              <a:ext cx="14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11720" y="2963880"/>
              <a:ext cx="14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83280" y="2944800"/>
              <a:ext cx="5688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11720" y="3718080"/>
              <a:ext cx="14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83280" y="3699000"/>
              <a:ext cx="56880" cy="568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11720" y="4470480"/>
              <a:ext cx="14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02360" y="222084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02360" y="297324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02360" y="372744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61160" y="5514840"/>
              <a:ext cx="0" cy="16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16880" y="39052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16880" y="46594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89720" y="5694480"/>
              <a:ext cx="26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60920" y="5675400"/>
              <a:ext cx="5724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80000" y="2031840"/>
              <a:ext cx="0" cy="18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0920" y="3886200"/>
              <a:ext cx="5724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80000" y="391464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60920" y="4640400"/>
              <a:ext cx="57240" cy="568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0000" y="4668840"/>
              <a:ext cx="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0000" y="5703840"/>
              <a:ext cx="0" cy="3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89720" y="3905280"/>
              <a:ext cx="11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9720" y="4659480"/>
              <a:ext cx="11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26360" y="5514840"/>
              <a:ext cx="0" cy="16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16880" y="334008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16880" y="4848120"/>
              <a:ext cx="16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51680" y="5694480"/>
              <a:ext cx="26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26120" y="5675400"/>
              <a:ext cx="5400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41960" y="2031840"/>
              <a:ext cx="0" cy="129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26120" y="3321000"/>
              <a:ext cx="54000" cy="58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41960" y="3349800"/>
              <a:ext cx="0" cy="14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26120" y="4829040"/>
              <a:ext cx="54000" cy="57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41960" y="485784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1960" y="5703840"/>
              <a:ext cx="0" cy="3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51680" y="334008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51680" y="484812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62880" y="465948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335560" y="1601640"/>
            <a:ext cx="2135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2:4 de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ultiplexers as general-purpos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8156520" cy="16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: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mux can implement any function of n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variables as select in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e enable input to logic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 the appropriate minterms (extra OR g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5094360" y="3340080"/>
            <a:ext cx="2803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demultiplexer “decode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ppropriate min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from the control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49400" y="5684760"/>
            <a:ext cx="551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73240" y="5672160"/>
            <a:ext cx="550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62040" y="5672160"/>
            <a:ext cx="551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52640" y="3468600"/>
            <a:ext cx="131472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67644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'B'C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'B'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'BC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'B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'C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'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25720" y="5121360"/>
            <a:ext cx="6382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79560" y="4100400"/>
            <a:ext cx="1089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: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89320" y="5121360"/>
            <a:ext cx="637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52560" y="5121360"/>
            <a:ext cx="6382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97160" y="4202280"/>
            <a:ext cx="525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94040" y="3375000"/>
            <a:ext cx="1114200" cy="196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31880" y="4321080"/>
            <a:ext cx="34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163600" y="5356080"/>
            <a:ext cx="0" cy="3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76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40160" y="535608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76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40120" y="534672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76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11480" y="360684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11480" y="381960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98880" y="4046400"/>
            <a:ext cx="3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11480" y="425916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11480" y="44845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11480" y="469728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98880" y="4924440"/>
            <a:ext cx="3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11480" y="513720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8040" y="448920"/>
            <a:ext cx="799128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ultiplexers as general-purpos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6040" y="1736640"/>
            <a:ext cx="3665880" cy="24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A'BC'D + A'B'CD + ABC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F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ABC'D' + A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F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A'+B'+C'+D'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7068240" y="2568600"/>
            <a:ext cx="13132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48520" y="2559240"/>
            <a:ext cx="121572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637760" y="2559240"/>
            <a:ext cx="17388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1280" y="2565000"/>
            <a:ext cx="186840" cy="4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81760" y="277344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638120" y="2587680"/>
            <a:ext cx="17352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31640" y="2568600"/>
            <a:ext cx="18648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42160" y="2608200"/>
            <a:ext cx="92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91200" y="2773440"/>
            <a:ext cx="77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167600" y="2962440"/>
            <a:ext cx="60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394840" y="2773440"/>
            <a:ext cx="16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35680" y="2604960"/>
            <a:ext cx="0" cy="38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552720" y="299880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78640" y="3438360"/>
            <a:ext cx="38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985080" y="2766600"/>
            <a:ext cx="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78640" y="553248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7148520" y="2955600"/>
            <a:ext cx="0" cy="25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68240" y="3948120"/>
            <a:ext cx="13132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148520" y="3940200"/>
            <a:ext cx="121572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37760" y="3940200"/>
            <a:ext cx="1738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631280" y="3933360"/>
            <a:ext cx="186840" cy="45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781760" y="416556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38120" y="3954600"/>
            <a:ext cx="17352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1640" y="3948120"/>
            <a:ext cx="18648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29560" y="3975120"/>
            <a:ext cx="93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91200" y="4165560"/>
            <a:ext cx="77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155000" y="4341960"/>
            <a:ext cx="61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394840" y="4165560"/>
            <a:ext cx="16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985080" y="4184640"/>
            <a:ext cx="0" cy="11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6565680" y="5330880"/>
            <a:ext cx="42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566040" y="4892760"/>
            <a:ext cx="25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3959280"/>
            <a:ext cx="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81760" y="5349960"/>
            <a:ext cx="24948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781760" y="5525640"/>
            <a:ext cx="24948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775640" y="534996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043840" y="5500800"/>
            <a:ext cx="76320" cy="87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167600" y="5532480"/>
            <a:ext cx="60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132760" y="553248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26200" y="4319640"/>
            <a:ext cx="38160" cy="38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20080" y="4302000"/>
            <a:ext cx="50760" cy="61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26200" y="5499000"/>
            <a:ext cx="38160" cy="367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20080" y="5492880"/>
            <a:ext cx="50760" cy="61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21240" y="6070680"/>
            <a:ext cx="550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759200" y="6070680"/>
            <a:ext cx="551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19640" y="2208240"/>
            <a:ext cx="19544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67644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'C'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'C'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'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'C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C'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C'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'BC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'C'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'C'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'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'C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C'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C'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C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81480" y="3836880"/>
            <a:ext cx="1089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:1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62160" y="3925800"/>
            <a:ext cx="10591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27640" y="2139840"/>
            <a:ext cx="1114200" cy="3622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76640" y="406404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33920" y="575316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76576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10360" y="576576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41840" y="237168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41840" y="259704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541840" y="282240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41840" y="304956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541840" y="32749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41840" y="350028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41840" y="372600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41840" y="395136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41840" y="41767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541840" y="440208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41840" y="462924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41840" y="485460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41840" y="507996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41840" y="53053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41840" y="553068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84640" y="576576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84920" y="6070680"/>
            <a:ext cx="550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97320" y="6070680"/>
            <a:ext cx="551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85280" y="2622600"/>
            <a:ext cx="336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582040" y="4027320"/>
            <a:ext cx="3729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42280" y="5394240"/>
            <a:ext cx="6256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65280" y="468000"/>
            <a:ext cx="647856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cading demultiplex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2595600" cy="7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:32 dem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>
            <a:off x="3089160" y="1376280"/>
            <a:ext cx="53802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80280" y="3343320"/>
            <a:ext cx="0" cy="2503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21560" y="3343320"/>
            <a:ext cx="0" cy="241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86600" y="3343320"/>
            <a:ext cx="0" cy="2503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226200" y="4040280"/>
            <a:ext cx="1014480" cy="176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05280" y="334332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48000" y="3343320"/>
            <a:ext cx="0" cy="255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11600" y="3354480"/>
            <a:ext cx="0" cy="2525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51200" y="4040280"/>
            <a:ext cx="1015920" cy="176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32400" y="1633680"/>
            <a:ext cx="1720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00"/>
              </a:lnSpc>
              <a:spcAft>
                <a:spcPts val="2001"/>
              </a:spcAft>
              <a:tabLst>
                <a:tab algn="l" pos="0"/>
                <a:tab algn="l" pos="67644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       A'B'C'D'E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80000" y="3103560"/>
            <a:ext cx="58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30600" y="2182680"/>
            <a:ext cx="9921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10120" y="3103560"/>
            <a:ext cx="581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41680" y="3103560"/>
            <a:ext cx="581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51200" y="1571760"/>
            <a:ext cx="1015920" cy="1761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21080" y="241776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76840" y="175752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76840" y="194796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67120" y="214956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76840" y="234000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76840" y="254304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76840" y="273384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67120" y="293544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776840" y="312588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69920" y="4419720"/>
            <a:ext cx="503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24160" y="4419720"/>
            <a:ext cx="501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87760" y="3268800"/>
            <a:ext cx="119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500"/>
              </a:lnSpc>
              <a:spcAft>
                <a:spcPts val="2001"/>
              </a:spcAft>
              <a:tabLst>
                <a:tab algn="l" pos="0"/>
                <a:tab algn="l" pos="67644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01880" y="3909960"/>
            <a:ext cx="5824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833480" y="3405240"/>
            <a:ext cx="993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33440" y="3909960"/>
            <a:ext cx="582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78080" y="3551400"/>
            <a:ext cx="47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74880" y="3254400"/>
            <a:ext cx="1014480" cy="8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44760" y="367524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28960" y="4151160"/>
            <a:ext cx="0" cy="28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370240" y="4151160"/>
            <a:ext cx="0" cy="2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97280" y="337176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97280" y="356220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884320" y="376380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7280" y="395604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45000" y="608472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38680" y="6083280"/>
            <a:ext cx="5000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92560" y="6083280"/>
            <a:ext cx="501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32400" y="4100400"/>
            <a:ext cx="1401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00"/>
              </a:lnSpc>
              <a:spcAft>
                <a:spcPts val="2001"/>
              </a:spcAft>
              <a:tabLst>
                <a:tab algn="l" pos="0"/>
                <a:tab algn="l" pos="67644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        AB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80000" y="5570640"/>
            <a:ext cx="58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0120" y="5570640"/>
            <a:ext cx="581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41680" y="5570640"/>
            <a:ext cx="581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1080" y="48546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05280" y="5813280"/>
            <a:ext cx="0" cy="27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48000" y="5813280"/>
            <a:ext cx="0" cy="2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11600" y="5824440"/>
            <a:ext cx="0" cy="2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76840" y="419112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776840" y="438156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767120" y="45846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76840" y="477504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776840" y="497664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76840" y="516744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67120" y="536904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776840" y="556092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53120" y="1644480"/>
            <a:ext cx="14479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00"/>
              </a:lnSpc>
              <a:spcAft>
                <a:spcPts val="2001"/>
              </a:spcAft>
              <a:tabLst>
                <a:tab algn="l" pos="0"/>
                <a:tab algn="l" pos="67644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   A'BC'DE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53200" y="3103560"/>
            <a:ext cx="58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85120" y="3103560"/>
            <a:ext cx="58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915240" y="3103560"/>
            <a:ext cx="581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26200" y="1571760"/>
            <a:ext cx="1014480" cy="1761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96080" y="243360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42120" y="175752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42120" y="194796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29520" y="214956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42120" y="234000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42120" y="254304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242120" y="273384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29520" y="293544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242120" y="312588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20000" y="6084720"/>
            <a:ext cx="5014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11880" y="6083280"/>
            <a:ext cx="503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65760" y="6083280"/>
            <a:ext cx="501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074000" y="4100400"/>
            <a:ext cx="15066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00"/>
              </a:lnSpc>
              <a:spcAft>
                <a:spcPts val="2001"/>
              </a:spcAft>
              <a:tabLst>
                <a:tab algn="l" pos="0"/>
                <a:tab algn="l" pos="67644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      AB'C'D'E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       AB'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53200" y="5570640"/>
            <a:ext cx="58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585120" y="5570640"/>
            <a:ext cx="58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15240" y="5570640"/>
            <a:ext cx="581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96080" y="487044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80280" y="5813280"/>
            <a:ext cx="0" cy="27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21560" y="5813280"/>
            <a:ext cx="0" cy="2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086600" y="5824440"/>
            <a:ext cx="0" cy="2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242120" y="420228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242120" y="439272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229520" y="459576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42120" y="478620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42120" y="498780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42120" y="517860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229520" y="5380200"/>
            <a:ext cx="320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42120" y="557208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16400" y="2424240"/>
            <a:ext cx="0" cy="9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135240" y="3371760"/>
            <a:ext cx="28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70160" y="39560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16400" y="3960720"/>
            <a:ext cx="0" cy="90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12920" y="3765600"/>
            <a:ext cx="277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89600" y="3770280"/>
            <a:ext cx="0" cy="110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878440" y="2424240"/>
            <a:ext cx="0" cy="11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031920" y="3562200"/>
            <a:ext cx="28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13520" y="2182680"/>
            <a:ext cx="9921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630600" y="4613400"/>
            <a:ext cx="9921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29360" y="4629240"/>
            <a:ext cx="9921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679400" y="3421080"/>
            <a:ext cx="5650200" cy="2282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82880" y="3848040"/>
            <a:ext cx="1716120" cy="151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62480" y="3848040"/>
            <a:ext cx="1716120" cy="151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540160" y="3038400"/>
            <a:ext cx="86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  •  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57840" y="5684760"/>
            <a:ext cx="1076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  •  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90840" y="3414600"/>
            <a:ext cx="914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07000" y="5334120"/>
            <a:ext cx="1165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78120" y="4430880"/>
            <a:ext cx="1440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89240" y="4092480"/>
            <a:ext cx="10778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81480" y="4205160"/>
            <a:ext cx="1828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554280" y="305748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7120" y="305748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89080" y="305748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9440" y="5364000"/>
            <a:ext cx="0" cy="77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32640" y="5364000"/>
            <a:ext cx="0" cy="77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94240" y="5364000"/>
            <a:ext cx="0" cy="77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708360" y="4118040"/>
            <a:ext cx="155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708360" y="4343400"/>
            <a:ext cx="155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708360" y="5132520"/>
            <a:ext cx="155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ble logic (PLAs &amp; PAL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: Large array of uncommitted AND/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ually NAND/NOR 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program the array by making or breaking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block for sum-of-products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668240" y="2065320"/>
            <a:ext cx="5148000" cy="4174920"/>
            <a:chOff x="1668240" y="2065320"/>
            <a:chExt cx="5148000" cy="4174920"/>
          </a:xfrm>
        </p:grpSpPr>
        <p:sp>
          <p:nvSpPr>
            <p:cNvPr id="852" name=""/>
            <p:cNvSpPr/>
            <p:nvPr/>
          </p:nvSpPr>
          <p:spPr>
            <a:xfrm>
              <a:off x="3968640" y="5207040"/>
              <a:ext cx="3128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74760" y="5200920"/>
              <a:ext cx="30996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69000" y="5207040"/>
              <a:ext cx="2973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62520" y="5200920"/>
              <a:ext cx="30996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91320" y="5608440"/>
              <a:ext cx="2750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975480" y="5602680"/>
              <a:ext cx="29700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68640" y="5608440"/>
              <a:ext cx="3128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74760" y="5602680"/>
              <a:ext cx="30996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260240" y="5670360"/>
              <a:ext cx="20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73160" y="567036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05080" y="56768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32200" y="5207040"/>
              <a:ext cx="30060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5720" y="5200920"/>
              <a:ext cx="31356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18160" y="5207040"/>
              <a:ext cx="30060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11680" y="5200920"/>
              <a:ext cx="31356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56320" y="5608440"/>
              <a:ext cx="2624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36880" y="5602680"/>
              <a:ext cx="28836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32200" y="5608440"/>
              <a:ext cx="30060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25720" y="5602680"/>
              <a:ext cx="31356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5012640" y="56703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36720" y="5670360"/>
              <a:ext cx="17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68640" y="56768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72000" y="5207040"/>
              <a:ext cx="309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65520" y="5200920"/>
              <a:ext cx="30996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59760" y="5207040"/>
              <a:ext cx="309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53640" y="5200920"/>
              <a:ext cx="32220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94680" y="5608440"/>
              <a:ext cx="2750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75240" y="5602680"/>
              <a:ext cx="30060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72000" y="5608440"/>
              <a:ext cx="30996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65520" y="5602680"/>
              <a:ext cx="30996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5763960" y="5670360"/>
              <a:ext cx="1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75080" y="5670360"/>
              <a:ext cx="17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608440" y="56768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22600" y="5207040"/>
              <a:ext cx="30060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16480" y="5200920"/>
              <a:ext cx="31284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08920" y="5207040"/>
              <a:ext cx="30060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02800" y="5200920"/>
              <a:ext cx="312840" cy="9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34480" y="5608440"/>
              <a:ext cx="2750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28000" y="5602680"/>
              <a:ext cx="28764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22600" y="5608440"/>
              <a:ext cx="30060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16480" y="5602680"/>
              <a:ext cx="312840" cy="14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503400" y="5670360"/>
              <a:ext cx="18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14880" y="5670360"/>
              <a:ext cx="18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46440" y="56768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1806120" y="2316240"/>
              <a:ext cx="14868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80840" y="2316240"/>
              <a:ext cx="12528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668240" y="2309760"/>
              <a:ext cx="28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93520" y="2516040"/>
              <a:ext cx="489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206440" y="2316240"/>
              <a:ext cx="15048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81160" y="2316240"/>
              <a:ext cx="12492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068200" y="230976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93840" y="2516040"/>
              <a:ext cx="630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620800" y="2316240"/>
              <a:ext cx="13608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95160" y="2316240"/>
              <a:ext cx="12528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482560" y="2309760"/>
              <a:ext cx="27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08200" y="2516040"/>
              <a:ext cx="486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97080" y="2798640"/>
              <a:ext cx="31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97080" y="311292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3090600" y="279216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90600" y="2705040"/>
              <a:ext cx="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80320" y="2825640"/>
              <a:ext cx="2844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73480" y="2806560"/>
              <a:ext cx="3103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79960" y="2799000"/>
              <a:ext cx="28476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73120" y="2794320"/>
              <a:ext cx="31068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97080" y="4102200"/>
              <a:ext cx="31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97080" y="440352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3090600" y="409680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90600" y="4008240"/>
              <a:ext cx="0" cy="50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80320" y="4116240"/>
              <a:ext cx="28440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73480" y="4110120"/>
              <a:ext cx="31032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79960" y="4101840"/>
              <a:ext cx="28476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73120" y="4082760"/>
              <a:ext cx="31068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97080" y="4741920"/>
              <a:ext cx="31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97080" y="506880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090600" y="4735440"/>
              <a:ext cx="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90600" y="4647960"/>
              <a:ext cx="0" cy="50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280320" y="4755960"/>
              <a:ext cx="28440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73480" y="4749840"/>
              <a:ext cx="3103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79960" y="4741920"/>
              <a:ext cx="28476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73120" y="4735440"/>
              <a:ext cx="31068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7080" y="5394240"/>
              <a:ext cx="31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97080" y="570708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090600" y="538776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90600" y="5300640"/>
              <a:ext cx="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80320" y="5408640"/>
              <a:ext cx="28440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3480" y="5402160"/>
              <a:ext cx="31032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79960" y="5396040"/>
              <a:ext cx="2847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73120" y="5402160"/>
              <a:ext cx="31068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97080" y="3451320"/>
              <a:ext cx="31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097080" y="375120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3090600" y="344448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90600" y="3357360"/>
              <a:ext cx="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80320" y="3465360"/>
              <a:ext cx="2844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73480" y="3459240"/>
              <a:ext cx="31032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79960" y="3449880"/>
              <a:ext cx="28476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73120" y="3443400"/>
              <a:ext cx="310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05080" y="614052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68640" y="614052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08440" y="614052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71560" y="554508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39236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379760" y="5532480"/>
              <a:ext cx="5040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3216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19560" y="5532480"/>
              <a:ext cx="4860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8312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70520" y="5532480"/>
              <a:ext cx="3744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2292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09960" y="5532480"/>
              <a:ext cx="4896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709800" y="5545080"/>
              <a:ext cx="67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398840" y="5545080"/>
              <a:ext cx="72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38640" y="5545080"/>
              <a:ext cx="73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89240" y="5545080"/>
              <a:ext cx="72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629040" y="554508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71560" y="49053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4332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9392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74488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468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09800" y="4905360"/>
              <a:ext cx="52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30360" y="4892760"/>
              <a:ext cx="489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48000" y="4905360"/>
              <a:ext cx="7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981320" y="4892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00400" y="4905360"/>
              <a:ext cx="73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32280" y="4892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51360" y="4905360"/>
              <a:ext cx="72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472080" y="4892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491160" y="490536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43320" y="491148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993920" y="491148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44880" y="491148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84680" y="491148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71560" y="425268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0508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86864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60844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4644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09800" y="4252680"/>
              <a:ext cx="38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92480" y="4240080"/>
              <a:ext cx="48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11560" y="4252680"/>
              <a:ext cx="75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56040" y="42400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875120" y="4252680"/>
              <a:ext cx="72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95840" y="4240080"/>
              <a:ext cx="48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14920" y="4252680"/>
              <a:ext cx="72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33840" y="4240080"/>
              <a:ext cx="504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52920" y="4252680"/>
              <a:ext cx="4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05080" y="425916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68640" y="425916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08440" y="425916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46440" y="425916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346440" y="614052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12600" y="21906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971440" y="277344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71440" y="405288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71440" y="471636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71440" y="535608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71440" y="341316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19080" y="2184480"/>
              <a:ext cx="18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000160" y="215892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12760" y="206532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12760" y="2190600"/>
              <a:ext cx="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000160" y="2760480"/>
              <a:ext cx="504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12760" y="277956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00160" y="3400200"/>
              <a:ext cx="504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12760" y="341928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000160" y="404028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12760" y="4059000"/>
              <a:ext cx="0" cy="6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00160" y="4705200"/>
              <a:ext cx="504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12760" y="472284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00160" y="53434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12760" y="536256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19240" y="2773440"/>
              <a:ext cx="9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19240" y="3413160"/>
              <a:ext cx="9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19240" y="4052880"/>
              <a:ext cx="9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240" y="4716360"/>
              <a:ext cx="9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019240" y="5356080"/>
              <a:ext cx="9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212920" y="21906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71440" y="302400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71440" y="432900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71440" y="496728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71440" y="560700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440" y="366372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19040" y="2184480"/>
              <a:ext cx="1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01560" y="2158920"/>
              <a:ext cx="489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12720" y="206532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12720" y="2190600"/>
              <a:ext cx="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401560" y="3011400"/>
              <a:ext cx="489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12720" y="303048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01560" y="3651120"/>
              <a:ext cx="489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12720" y="367020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01560" y="4316400"/>
              <a:ext cx="489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12720" y="433548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01560" y="4956120"/>
              <a:ext cx="4896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12720" y="497340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01560" y="5594400"/>
              <a:ext cx="489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12720" y="561348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19200" y="3024000"/>
              <a:ext cx="53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419200" y="3663720"/>
              <a:ext cx="53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19200" y="4329000"/>
              <a:ext cx="53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19200" y="4967280"/>
              <a:ext cx="53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19200" y="5607000"/>
              <a:ext cx="53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26920" y="21906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33400" y="2184480"/>
              <a:ext cx="18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14480" y="215892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27080" y="206532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7080" y="219060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12600" y="25797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812600" y="2705040"/>
              <a:ext cx="0" cy="328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84156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59252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3232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8292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71560" y="296208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709800" y="2962080"/>
              <a:ext cx="12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828960" y="2949480"/>
              <a:ext cx="37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848040" y="2962080"/>
              <a:ext cx="73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81360" y="2949480"/>
              <a:ext cx="489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598640" y="2962080"/>
              <a:ext cx="72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19360" y="2949480"/>
              <a:ext cx="504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38440" y="2962080"/>
              <a:ext cx="73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72120" y="2949480"/>
              <a:ext cx="48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89400" y="2962080"/>
              <a:ext cx="72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841560" y="2968560"/>
              <a:ext cx="0" cy="25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92520" y="2968560"/>
              <a:ext cx="0" cy="25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32320" y="2968560"/>
              <a:ext cx="0" cy="25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82920" y="2968560"/>
              <a:ext cx="0" cy="25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12920" y="25797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71440" y="289872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71440" y="419076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71440" y="483084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71440" y="548172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971440" y="355104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12920" y="27050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99960" y="2886120"/>
              <a:ext cx="504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12920" y="2905200"/>
              <a:ext cx="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99960" y="3538440"/>
              <a:ext cx="504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12920" y="355752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99960" y="4178160"/>
              <a:ext cx="504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12920" y="419724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99960" y="4817880"/>
              <a:ext cx="50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12920" y="483696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99960" y="5481720"/>
              <a:ext cx="504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12920" y="5487840"/>
              <a:ext cx="0" cy="50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19040" y="2898720"/>
              <a:ext cx="7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19040" y="3551040"/>
              <a:ext cx="7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19040" y="4190760"/>
              <a:ext cx="7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19040" y="4830840"/>
              <a:ext cx="7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19040" y="5481720"/>
              <a:ext cx="7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26920" y="25797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440" y="316224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71440" y="444168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71440" y="510516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971440" y="574524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971440" y="3801960"/>
              <a:ext cx="11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26920" y="2705040"/>
              <a:ext cx="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14320" y="3149640"/>
              <a:ext cx="36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626920" y="3168720"/>
              <a:ext cx="0" cy="6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614320" y="3789360"/>
              <a:ext cx="36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626920" y="380844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614320" y="4429080"/>
              <a:ext cx="36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26920" y="4448160"/>
              <a:ext cx="0" cy="65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14320" y="5092560"/>
              <a:ext cx="36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26920" y="511164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14320" y="5732280"/>
              <a:ext cx="36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26920" y="5751360"/>
              <a:ext cx="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33400" y="316224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633400" y="380196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33400" y="444168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33400" y="510516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633400" y="5745240"/>
              <a:ext cx="3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6684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73040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47020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221160" y="55515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71560" y="36129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09800" y="361296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966840" y="3601800"/>
              <a:ext cx="378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973320" y="3612960"/>
              <a:ext cx="75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17800" y="3601800"/>
              <a:ext cx="504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36880" y="3612960"/>
              <a:ext cx="72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57600" y="3601800"/>
              <a:ext cx="489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476680" y="3612960"/>
              <a:ext cx="73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208560" y="3601800"/>
              <a:ext cx="378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27640" y="3612960"/>
              <a:ext cx="58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66840" y="3619440"/>
              <a:ext cx="0" cy="19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730400" y="3619440"/>
              <a:ext cx="0" cy="19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70200" y="3619440"/>
              <a:ext cx="0" cy="19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221160" y="3619440"/>
              <a:ext cx="0" cy="19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800000" y="2635200"/>
              <a:ext cx="1290240" cy="95400"/>
              <a:chOff x="1800000" y="2635200"/>
              <a:chExt cx="1290240" cy="95400"/>
            </a:xfrm>
          </p:grpSpPr>
          <p:sp>
            <p:nvSpPr>
              <p:cNvPr id="1140" name=""/>
              <p:cNvSpPr/>
              <p:nvPr/>
            </p:nvSpPr>
            <p:spPr>
              <a:xfrm>
                <a:off x="1818720" y="2648160"/>
                <a:ext cx="12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090240" y="265428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00000" y="2635200"/>
                <a:ext cx="504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1800000" y="3274920"/>
              <a:ext cx="1290240" cy="93600"/>
              <a:chOff x="1800000" y="3274920"/>
              <a:chExt cx="1290240" cy="93600"/>
            </a:xfrm>
          </p:grpSpPr>
          <p:sp>
            <p:nvSpPr>
              <p:cNvPr id="1144" name=""/>
              <p:cNvSpPr/>
              <p:nvPr/>
            </p:nvSpPr>
            <p:spPr>
              <a:xfrm>
                <a:off x="1818720" y="3287520"/>
                <a:ext cx="12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090240" y="329364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800000" y="3274920"/>
                <a:ext cx="50400" cy="3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800000" y="3940200"/>
              <a:ext cx="1290240" cy="93600"/>
              <a:chOff x="1800000" y="3940200"/>
              <a:chExt cx="1290240" cy="93600"/>
            </a:xfrm>
          </p:grpSpPr>
          <p:sp>
            <p:nvSpPr>
              <p:cNvPr id="1148" name=""/>
              <p:cNvSpPr/>
              <p:nvPr/>
            </p:nvSpPr>
            <p:spPr>
              <a:xfrm>
                <a:off x="1818720" y="3952440"/>
                <a:ext cx="12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090240" y="395892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800000" y="3940200"/>
                <a:ext cx="50400" cy="3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1800000" y="4591080"/>
              <a:ext cx="1290240" cy="107640"/>
              <a:chOff x="1800000" y="4591080"/>
              <a:chExt cx="1290240" cy="107640"/>
            </a:xfrm>
          </p:grpSpPr>
          <p:sp>
            <p:nvSpPr>
              <p:cNvPr id="1152" name=""/>
              <p:cNvSpPr/>
              <p:nvPr/>
            </p:nvSpPr>
            <p:spPr>
              <a:xfrm>
                <a:off x="1818720" y="4603680"/>
                <a:ext cx="12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090240" y="4610160"/>
                <a:ext cx="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800000" y="4591080"/>
                <a:ext cx="5040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800000" y="5230800"/>
              <a:ext cx="1290240" cy="105840"/>
              <a:chOff x="1800000" y="5230800"/>
              <a:chExt cx="1290240" cy="105840"/>
            </a:xfrm>
          </p:grpSpPr>
          <p:sp>
            <p:nvSpPr>
              <p:cNvPr id="1156" name=""/>
              <p:cNvSpPr/>
              <p:nvPr/>
            </p:nvSpPr>
            <p:spPr>
              <a:xfrm>
                <a:off x="1818720" y="5255280"/>
                <a:ext cx="12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090240" y="5261760"/>
                <a:ext cx="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800000" y="5230800"/>
                <a:ext cx="50400" cy="49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2814480" y="5738400"/>
              <a:ext cx="275760" cy="131760"/>
              <a:chOff x="2814480" y="5738400"/>
              <a:chExt cx="275760" cy="131760"/>
            </a:xfrm>
          </p:grpSpPr>
          <p:sp>
            <p:nvSpPr>
              <p:cNvPr id="1160" name=""/>
              <p:cNvSpPr/>
              <p:nvPr/>
            </p:nvSpPr>
            <p:spPr>
              <a:xfrm>
                <a:off x="2858040" y="5844960"/>
                <a:ext cx="22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3090240" y="57384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814480" y="5820120"/>
                <a:ext cx="50040" cy="50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2814480" y="5098680"/>
              <a:ext cx="275760" cy="108360"/>
              <a:chOff x="2814480" y="5098680"/>
              <a:chExt cx="275760" cy="108360"/>
            </a:xfrm>
          </p:grpSpPr>
          <p:sp>
            <p:nvSpPr>
              <p:cNvPr id="1164" name=""/>
              <p:cNvSpPr/>
              <p:nvPr/>
            </p:nvSpPr>
            <p:spPr>
              <a:xfrm>
                <a:off x="2858040" y="5194440"/>
                <a:ext cx="22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3090240" y="5098680"/>
                <a:ext cx="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14480" y="5168880"/>
                <a:ext cx="500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814480" y="4435560"/>
              <a:ext cx="275760" cy="131400"/>
              <a:chOff x="2814480" y="4435560"/>
              <a:chExt cx="275760" cy="131400"/>
            </a:xfrm>
          </p:grpSpPr>
          <p:sp>
            <p:nvSpPr>
              <p:cNvPr id="1168" name=""/>
              <p:cNvSpPr/>
              <p:nvPr/>
            </p:nvSpPr>
            <p:spPr>
              <a:xfrm>
                <a:off x="2858040" y="4529520"/>
                <a:ext cx="22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3090240" y="443556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814480" y="4516920"/>
                <a:ext cx="50040" cy="50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2814480" y="3795120"/>
              <a:ext cx="275760" cy="131760"/>
              <a:chOff x="2814480" y="3795120"/>
              <a:chExt cx="275760" cy="131760"/>
            </a:xfrm>
          </p:grpSpPr>
          <p:sp>
            <p:nvSpPr>
              <p:cNvPr id="1172" name=""/>
              <p:cNvSpPr/>
              <p:nvPr/>
            </p:nvSpPr>
            <p:spPr>
              <a:xfrm>
                <a:off x="2858040" y="3889440"/>
                <a:ext cx="22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3090240" y="3795120"/>
                <a:ext cx="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814480" y="3876840"/>
                <a:ext cx="50040" cy="50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2814480" y="3155400"/>
              <a:ext cx="275760" cy="119160"/>
              <a:chOff x="2814480" y="3155400"/>
              <a:chExt cx="275760" cy="119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2858040" y="3249720"/>
                <a:ext cx="22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3090240" y="3155400"/>
                <a:ext cx="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814480" y="3237480"/>
                <a:ext cx="50040" cy="3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wo-level logic functions ar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47280" y="1415880"/>
            <a:ext cx="781380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"program" the wire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>
            <a:off x="5748480" y="1943280"/>
            <a:ext cx="28033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 3-input, 5-ter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4-function P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ing product te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3921120" cy="20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12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0 = A + B'C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= AC' + 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 = B'C' + 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 = B'C +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ty matri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>
            <a:off x="3265560" y="3808440"/>
            <a:ext cx="2154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59320" y="1987560"/>
            <a:ext cx="31431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 asserted in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negated in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does not particip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19760" y="1660680"/>
            <a:ext cx="1365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 u="sng">
                <a:solidFill>
                  <a:srgbClr val="cc3399"/>
                </a:solidFill>
                <a:uFillTx/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59320" y="3316320"/>
            <a:ext cx="3256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 term connected to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no connection to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807160" y="3009960"/>
            <a:ext cx="1552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49240" y="3846600"/>
            <a:ext cx="4452480" cy="1974240"/>
            <a:chOff x="849240" y="3846600"/>
            <a:chExt cx="4452480" cy="1974240"/>
          </a:xfrm>
        </p:grpSpPr>
        <p:sp>
          <p:nvSpPr>
            <p:cNvPr id="1190" name=""/>
            <p:cNvSpPr/>
            <p:nvPr/>
          </p:nvSpPr>
          <p:spPr>
            <a:xfrm>
              <a:off x="955440" y="3852720"/>
              <a:ext cx="4346280" cy="19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112680"/>
                  <a:tab algn="l" pos="1127160"/>
                  <a:tab algn="l" pos="1577880"/>
                  <a:tab algn="l" pos="2030400"/>
                  <a:tab algn="l" pos="2481120"/>
                  <a:tab algn="l" pos="2932200"/>
                  <a:tab algn="l" pos="3382920"/>
                  <a:tab algn="l" pos="38336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cc3399"/>
                  </a:solidFill>
                  <a:latin typeface="Arial"/>
                </a:rPr>
                <a:t>inputs</a:t>
              </a:r>
              <a:r>
                <a:rPr b="0" lang="en-US" sz="1800" spc="-1" strike="noStrike">
                  <a:solidFill>
                    <a:srgbClr val="cc3399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75"/>
                </a:lnSpc>
                <a:tabLst>
                  <a:tab algn="l" pos="0"/>
                  <a:tab algn="l" pos="112680"/>
                  <a:tab algn="l" pos="1127160"/>
                  <a:tab algn="l" pos="1577880"/>
                  <a:tab algn="l" pos="2030400"/>
                  <a:tab algn="l" pos="2481120"/>
                  <a:tab algn="l" pos="2932200"/>
                  <a:tab algn="l" pos="3382920"/>
                  <a:tab algn="l" pos="38336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'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'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'C'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49240" y="4392000"/>
              <a:ext cx="435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372840" y="3859200"/>
              <a:ext cx="0" cy="186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007720" y="3846600"/>
              <a:ext cx="0" cy="18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5794200" y="5099040"/>
            <a:ext cx="9003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5033880" y="4535280"/>
            <a:ext cx="689040" cy="92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 flipV="1">
            <a:off x="5008680" y="5325840"/>
            <a:ext cx="714240" cy="13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5033520" y="5451480"/>
            <a:ext cx="676440" cy="12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the wire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32840" y="1420560"/>
            <a:ext cx="781380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se: Comes connected; break unwanted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fuse: Comes disconnected; make wanted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2785680" y="2681280"/>
            <a:ext cx="1508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660760" y="2681280"/>
            <a:ext cx="1252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647440" y="267480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773440" y="2894040"/>
            <a:ext cx="6192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3223800" y="2681280"/>
            <a:ext cx="1508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98880" y="2681280"/>
            <a:ext cx="1252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3086280" y="267480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98960" y="2894040"/>
            <a:ext cx="633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649320" y="2681280"/>
            <a:ext cx="1508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13240" y="2681280"/>
            <a:ext cx="1364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500280" y="267480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637080" y="2894040"/>
            <a:ext cx="633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89240" y="313848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89240" y="347652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083120" y="3131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272120" y="3152880"/>
            <a:ext cx="32328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266000" y="3146400"/>
            <a:ext cx="32328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271760" y="314028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265640" y="313380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089240" y="411624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089240" y="445464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083120" y="411012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272120" y="4143240"/>
            <a:ext cx="32328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6000" y="4124160"/>
            <a:ext cx="32328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271760" y="4117680"/>
            <a:ext cx="323640" cy="33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265640" y="411156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089240" y="461808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089240" y="495612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083120" y="46112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272120" y="4632480"/>
            <a:ext cx="3232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266000" y="4626000"/>
            <a:ext cx="32328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271760" y="461988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265640" y="4600440"/>
            <a:ext cx="32364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089240" y="510696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89240" y="54324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4083120" y="5100480"/>
            <a:ext cx="0" cy="3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72120" y="5121360"/>
            <a:ext cx="3232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6000" y="5114880"/>
            <a:ext cx="32328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71760" y="510876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65640" y="510228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028120" y="5565600"/>
            <a:ext cx="30060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989960" y="5126040"/>
            <a:ext cx="33876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05440" y="5177160"/>
            <a:ext cx="33588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005440" y="5565600"/>
            <a:ext cx="33588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3548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464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816520" y="5565600"/>
            <a:ext cx="301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81960" y="5126040"/>
            <a:ext cx="33588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07160" y="5177160"/>
            <a:ext cx="32364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807160" y="5565600"/>
            <a:ext cx="3236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2460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88636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08520" y="5565600"/>
            <a:ext cx="2984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570360" y="5126040"/>
            <a:ext cx="33660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595920" y="5177160"/>
            <a:ext cx="32724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595920" y="5565600"/>
            <a:ext cx="3272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1372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67548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398360" y="5565600"/>
            <a:ext cx="29736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359840" y="5126040"/>
            <a:ext cx="33588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385040" y="5177160"/>
            <a:ext cx="339480" cy="100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385040" y="5565600"/>
            <a:ext cx="33948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0248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64600" y="5689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89240" y="362736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089240" y="39654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4083120" y="362124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272120" y="3641760"/>
            <a:ext cx="32328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66000" y="3635280"/>
            <a:ext cx="32328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271760" y="3629160"/>
            <a:ext cx="323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265640" y="3622680"/>
            <a:ext cx="3236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792520" y="29574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92520" y="3094200"/>
            <a:ext cx="0" cy="245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15952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15952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8636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589640" y="42926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86360" y="4299120"/>
            <a:ext cx="0" cy="13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61160" y="4280040"/>
            <a:ext cx="507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40120" y="4292640"/>
            <a:ext cx="11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92840" y="4292640"/>
            <a:ext cx="22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5008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5008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1372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02460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589640" y="330192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13720" y="330840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00760" y="3289320"/>
            <a:ext cx="381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24600" y="330840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012000" y="3289320"/>
            <a:ext cx="3780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40120" y="330192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31080" y="330192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19840" y="330192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67548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23548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89640" y="478152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675480" y="4788000"/>
            <a:ext cx="0" cy="83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649920" y="4768920"/>
            <a:ext cx="507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35480" y="4788000"/>
            <a:ext cx="0" cy="83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22880" y="4768920"/>
            <a:ext cx="36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740120" y="4781520"/>
            <a:ext cx="4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241960" y="478152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81960" y="478152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73884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73884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589640" y="527040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60248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08464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602480" y="527688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589880" y="5257800"/>
            <a:ext cx="507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084640" y="527688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072040" y="5257800"/>
            <a:ext cx="507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40120" y="527040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091120" y="5270400"/>
            <a:ext cx="250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608960" y="5270400"/>
            <a:ext cx="48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589640" y="3803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464600" y="558792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464600" y="3809880"/>
            <a:ext cx="0" cy="18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40480" y="377820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740120" y="3803760"/>
            <a:ext cx="271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470720" y="38037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27960" y="616752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27960" y="6299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792520" y="254304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951360" y="322596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951360" y="422928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51360" y="520704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11400" y="520704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005280" y="5181480"/>
            <a:ext cx="3780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011400" y="422928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005280" y="42037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011400" y="32259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05280" y="3213000"/>
            <a:ext cx="3780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005280" y="240516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05280" y="2523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005280" y="254304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005280" y="3232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005280" y="423540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005280" y="521352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798640" y="25369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230640" y="254304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951360" y="337644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449520" y="3376440"/>
            <a:ext cx="4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417840" y="3351240"/>
            <a:ext cx="507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43400" y="240516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417840" y="2523960"/>
            <a:ext cx="507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43400" y="2543040"/>
            <a:ext cx="0" cy="8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443400" y="3382920"/>
            <a:ext cx="0" cy="21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36760" y="25369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230640" y="29574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951360" y="372744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951360" y="470520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230640" y="3094200"/>
            <a:ext cx="0" cy="62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05080" y="3714840"/>
            <a:ext cx="507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230640" y="373392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05080" y="4692600"/>
            <a:ext cx="507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230640" y="4711680"/>
            <a:ext cx="0" cy="8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36760" y="4705200"/>
            <a:ext cx="7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236760" y="3727440"/>
            <a:ext cx="7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656160" y="254304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51360" y="484344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951360" y="386568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7640" y="484344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57760" y="4830840"/>
            <a:ext cx="363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81520" y="240516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57760" y="2523960"/>
            <a:ext cx="36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81520" y="2543040"/>
            <a:ext cx="0" cy="13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57760" y="3852720"/>
            <a:ext cx="3636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1520" y="387180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1520" y="484992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662280" y="2536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87640" y="3865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656160" y="29574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951360" y="436716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62280" y="436716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643200" y="4354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56160" y="3094200"/>
            <a:ext cx="0" cy="12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656160" y="4373640"/>
            <a:ext cx="0" cy="11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51360" y="534528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" rIns="162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92600" y="2173320"/>
            <a:ext cx="53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30720" y="2160720"/>
            <a:ext cx="53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55880" y="2160720"/>
            <a:ext cx="552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73600" y="614844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437160" y="614844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Tahoma"/>
              </a:rPr>
              <a:t>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238880" y="6148440"/>
            <a:ext cx="627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ahoma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871880" y="6135840"/>
            <a:ext cx="625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Tahoma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608360" y="3063960"/>
            <a:ext cx="66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583160" y="3565440"/>
            <a:ext cx="701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'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95760" y="4054320"/>
            <a:ext cx="701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583160" y="4543560"/>
            <a:ext cx="739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08360" y="5032440"/>
            <a:ext cx="538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23040" bIns="230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47680" y="3011400"/>
            <a:ext cx="220644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F0 = A + B'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1 = AC' +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F2 = B'C' +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05000"/>
              </a:lnSpc>
              <a:tabLst>
                <a:tab algn="l" pos="0"/>
                <a:tab algn="l" pos="194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ahoma"/>
              </a:rPr>
              <a:t>F3 = B'C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ing-network logic blo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65280" y="1393920"/>
            <a:ext cx="7966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s one of many inputs to a sing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000" spc="-1" strike="noStrike">
                <a:solidFill>
                  <a:srgbClr val="0000ff"/>
                </a:solidFill>
                <a:latin typeface="Tahoma"/>
              </a:rPr>
              <a:t>sel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s a single input to one of many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000" spc="-1" strike="noStrike">
                <a:solidFill>
                  <a:srgbClr val="0000ff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71520" y="4307040"/>
            <a:ext cx="1804680" cy="1241280"/>
            <a:chOff x="1271520" y="4307040"/>
            <a:chExt cx="1804680" cy="1241280"/>
          </a:xfrm>
        </p:grpSpPr>
        <p:sp>
          <p:nvSpPr>
            <p:cNvPr id="46" name=""/>
            <p:cNvSpPr/>
            <p:nvPr/>
          </p:nvSpPr>
          <p:spPr>
            <a:xfrm>
              <a:off x="1735200" y="4307040"/>
              <a:ext cx="902520" cy="12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271520" y="4419720"/>
              <a:ext cx="47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271520" y="4758480"/>
              <a:ext cx="47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271520" y="5435640"/>
              <a:ext cx="47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271520" y="5084280"/>
              <a:ext cx="47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49960" y="4933800"/>
              <a:ext cx="42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47440" y="4432320"/>
              <a:ext cx="601560" cy="32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47440" y="4770720"/>
              <a:ext cx="57636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747440" y="4971240"/>
              <a:ext cx="576360" cy="12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747440" y="5084280"/>
              <a:ext cx="58896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47440" y="4432320"/>
              <a:ext cx="88992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47440" y="4770720"/>
              <a:ext cx="889920" cy="15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747440" y="4920840"/>
              <a:ext cx="889920" cy="17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747440" y="4920840"/>
              <a:ext cx="889920" cy="52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47880" y="4294080"/>
            <a:ext cx="1803240" cy="1241640"/>
            <a:chOff x="3647880" y="4294080"/>
            <a:chExt cx="1803240" cy="1241640"/>
          </a:xfrm>
        </p:grpSpPr>
        <p:sp>
          <p:nvSpPr>
            <p:cNvPr id="61" name=""/>
            <p:cNvSpPr/>
            <p:nvPr/>
          </p:nvSpPr>
          <p:spPr>
            <a:xfrm>
              <a:off x="4111200" y="4294080"/>
              <a:ext cx="901440" cy="124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5240" y="4406760"/>
              <a:ext cx="42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5240" y="4745520"/>
              <a:ext cx="42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25240" y="5422680"/>
              <a:ext cx="42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5240" y="5071680"/>
              <a:ext cx="42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647880" y="4920840"/>
              <a:ext cx="47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086360" y="4419000"/>
              <a:ext cx="938880" cy="48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086360" y="4757760"/>
              <a:ext cx="938880" cy="15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086360" y="4907880"/>
              <a:ext cx="938880" cy="17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086360" y="4907880"/>
              <a:ext cx="938880" cy="52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123800" y="4657680"/>
              <a:ext cx="400680" cy="27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23800" y="4820400"/>
              <a:ext cx="400680" cy="11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23800" y="4933440"/>
              <a:ext cx="388080" cy="5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3800" y="4933440"/>
              <a:ext cx="362880" cy="20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407960" y="3949560"/>
            <a:ext cx="15400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70200" y="3949560"/>
            <a:ext cx="1792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305080" y="5576400"/>
            <a:ext cx="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92320" y="5576400"/>
            <a:ext cx="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14920" y="5554800"/>
            <a:ext cx="0" cy="552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502160" y="5554800"/>
            <a:ext cx="0" cy="552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9840" y="5678640"/>
            <a:ext cx="113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5656320"/>
            <a:ext cx="11397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03800" y="4143240"/>
            <a:ext cx="2648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6984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We construct th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6984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evices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6984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(1) logic g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6984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(2) networks of tr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6984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sistor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nale: Sharing complex logic func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61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an adder: Select inputs; route 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357880" y="2720880"/>
            <a:ext cx="2568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ultiple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57880" y="5002200"/>
            <a:ext cx="3182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ultiple output dest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1280" y="2162160"/>
            <a:ext cx="4735440" cy="3827520"/>
            <a:chOff x="611280" y="2162160"/>
            <a:chExt cx="4735440" cy="3827520"/>
          </a:xfrm>
        </p:grpSpPr>
        <p:sp>
          <p:nvSpPr>
            <p:cNvPr id="89" name=""/>
            <p:cNvSpPr/>
            <p:nvPr/>
          </p:nvSpPr>
          <p:spPr>
            <a:xfrm>
              <a:off x="1619280" y="2754360"/>
              <a:ext cx="1027080" cy="32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0200" y="2754360"/>
              <a:ext cx="1027080" cy="32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268640" y="2909880"/>
              <a:ext cx="35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1960" y="29098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121120" y="5154480"/>
              <a:ext cx="35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00280" y="2817720"/>
              <a:ext cx="839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1703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01960" y="3649680"/>
              <a:ext cx="262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05480" y="3637080"/>
              <a:ext cx="263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03600" y="4263840"/>
              <a:ext cx="663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89120" y="2162160"/>
              <a:ext cx="1127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565200"/>
                  <a:tab algn="l" pos="17287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1280" y="2773440"/>
              <a:ext cx="663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378468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2880" y="4983120"/>
              <a:ext cx="4017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4400" y="2773440"/>
              <a:ext cx="6523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89320" y="2427120"/>
              <a:ext cx="0" cy="32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5920" y="2427120"/>
              <a:ext cx="0" cy="32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80040" y="2162160"/>
              <a:ext cx="1128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565200"/>
                  <a:tab algn="l" pos="17287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680" y="2427120"/>
              <a:ext cx="0" cy="32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7920" y="2427120"/>
              <a:ext cx="0" cy="32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05240" y="2817720"/>
              <a:ext cx="838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1703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18160" y="3079800"/>
              <a:ext cx="0" cy="46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14640" y="3079800"/>
              <a:ext cx="0" cy="46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54400" y="5337000"/>
              <a:ext cx="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91000" y="5337000"/>
              <a:ext cx="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2760" y="5051520"/>
              <a:ext cx="839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1703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81560" y="5664240"/>
              <a:ext cx="992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7287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0200" y="3549600"/>
              <a:ext cx="2708280" cy="1017720"/>
            </a:xfrm>
            <a:custGeom>
              <a:avLst/>
              <a:gdLst/>
              <a:ahLst/>
              <a:rect l="l" t="t" r="r" b="b"/>
              <a:pathLst>
                <a:path w="1729" h="649">
                  <a:moveTo>
                    <a:pt x="0" y="0"/>
                  </a:moveTo>
                  <a:lnTo>
                    <a:pt x="504" y="0"/>
                  </a:lnTo>
                  <a:lnTo>
                    <a:pt x="648" y="0"/>
                  </a:lnTo>
                  <a:lnTo>
                    <a:pt x="864" y="288"/>
                  </a:lnTo>
                  <a:lnTo>
                    <a:pt x="1080" y="0"/>
                  </a:lnTo>
                  <a:lnTo>
                    <a:pt x="1728" y="0"/>
                  </a:lnTo>
                  <a:lnTo>
                    <a:pt x="1368" y="648"/>
                  </a:lnTo>
                  <a:lnTo>
                    <a:pt x="360" y="648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52720" y="4572000"/>
              <a:ext cx="0" cy="41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8480" y="4984560"/>
              <a:ext cx="927000" cy="33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57880" y="3860640"/>
            <a:ext cx="2568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ingle 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x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8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ata inputs; n control inputs ("selects"); 1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s one of 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puts to th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s” decide which input connects to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alternative truth-tables: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Functio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96960" y="3476520"/>
            <a:ext cx="2906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33480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xample: A 2:1 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480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= S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S'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65360" y="3459240"/>
            <a:ext cx="2313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56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Function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truth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067280" y="3946680"/>
            <a:ext cx="909000" cy="858600"/>
            <a:chOff x="4067280" y="3946680"/>
            <a:chExt cx="909000" cy="858600"/>
          </a:xfrm>
        </p:grpSpPr>
        <p:sp>
          <p:nvSpPr>
            <p:cNvPr id="123" name=""/>
            <p:cNvSpPr/>
            <p:nvPr/>
          </p:nvSpPr>
          <p:spPr>
            <a:xfrm>
              <a:off x="4124160" y="3952800"/>
              <a:ext cx="8521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25576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62200" y="3946680"/>
              <a:ext cx="0" cy="83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67280" y="4216320"/>
              <a:ext cx="82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264000" y="3833640"/>
            <a:ext cx="1832400" cy="2571840"/>
            <a:chOff x="6264000" y="3833640"/>
            <a:chExt cx="1832400" cy="2571840"/>
          </a:xfrm>
        </p:grpSpPr>
        <p:sp>
          <p:nvSpPr>
            <p:cNvPr id="127" name=""/>
            <p:cNvSpPr/>
            <p:nvPr/>
          </p:nvSpPr>
          <p:spPr>
            <a:xfrm>
              <a:off x="6367320" y="3833640"/>
              <a:ext cx="172908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0360" bIns="26640" anchor="t">
              <a:noAutofit/>
            </a:bodyPr>
            <a:p>
              <a:pPr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25576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2240" y="3909960"/>
              <a:ext cx="0" cy="239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000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264000" y="4205160"/>
              <a:ext cx="174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280" bIns="-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176880" y="3459240"/>
            <a:ext cx="1943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563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cc3399"/>
                </a:solidFill>
                <a:uFillTx/>
                <a:latin typeface="Tahoma"/>
              </a:rPr>
              <a:t>Logic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truth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3920" y="4559400"/>
            <a:ext cx="3179520" cy="1314000"/>
            <a:chOff x="223920" y="4559400"/>
            <a:chExt cx="3179520" cy="1314000"/>
          </a:xfrm>
        </p:grpSpPr>
        <p:sp>
          <p:nvSpPr>
            <p:cNvPr id="132" name=""/>
            <p:cNvSpPr/>
            <p:nvPr/>
          </p:nvSpPr>
          <p:spPr>
            <a:xfrm>
              <a:off x="223920" y="4559400"/>
              <a:ext cx="576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840" y="4852800"/>
              <a:ext cx="576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80" y="5484600"/>
              <a:ext cx="576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839880" y="4726800"/>
              <a:ext cx="2439720" cy="1009800"/>
              <a:chOff x="839880" y="4726800"/>
              <a:chExt cx="2439720" cy="1009800"/>
            </a:xfrm>
          </p:grpSpPr>
          <p:sp>
            <p:nvSpPr>
              <p:cNvPr id="136" name=""/>
              <p:cNvSpPr/>
              <p:nvPr/>
            </p:nvSpPr>
            <p:spPr>
              <a:xfrm>
                <a:off x="2658960" y="505548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58960" y="5388840"/>
                <a:ext cx="34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654280" y="505080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25640" y="5061240"/>
                <a:ext cx="322560" cy="34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25280" y="5043240"/>
                <a:ext cx="322920" cy="34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06040" y="4728960"/>
                <a:ext cx="156240" cy="28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60360" y="4728960"/>
                <a:ext cx="1047600" cy="31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13280" y="4726800"/>
                <a:ext cx="99468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05680" y="4726800"/>
                <a:ext cx="1566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19800" y="4802040"/>
                <a:ext cx="1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19800" y="4942440"/>
                <a:ext cx="1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06040" y="5420160"/>
                <a:ext cx="15624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0360" y="5420160"/>
                <a:ext cx="104760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13280" y="5402160"/>
                <a:ext cx="9946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05680" y="5402160"/>
                <a:ext cx="15660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19800" y="5493960"/>
                <a:ext cx="1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19800" y="5633640"/>
                <a:ext cx="1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460520" y="5086800"/>
                <a:ext cx="148320" cy="20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29840" y="5086800"/>
                <a:ext cx="130680" cy="20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320840" y="5082120"/>
                <a:ext cx="28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2880" y="5297040"/>
                <a:ext cx="52920" cy="52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08680" y="5563800"/>
                <a:ext cx="13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19280" y="5292720"/>
                <a:ext cx="13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449440" y="5292720"/>
                <a:ext cx="6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45120" y="5297040"/>
                <a:ext cx="0" cy="26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48920" y="5222880"/>
                <a:ext cx="13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79040" y="4802040"/>
                <a:ext cx="13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9880" y="4802040"/>
                <a:ext cx="830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9280" y="5151960"/>
                <a:ext cx="13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8680" y="4871880"/>
                <a:ext cx="13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45120" y="4876200"/>
                <a:ext cx="0" cy="27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49440" y="5151960"/>
                <a:ext cx="6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79040" y="5633640"/>
                <a:ext cx="13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9880" y="5633640"/>
                <a:ext cx="830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64840" y="5366880"/>
                <a:ext cx="0" cy="12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79040" y="5493960"/>
                <a:ext cx="13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69160" y="5493960"/>
                <a:ext cx="20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79040" y="4942440"/>
                <a:ext cx="13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64840" y="4947120"/>
                <a:ext cx="0" cy="13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47200" y="4924800"/>
                <a:ext cx="44280" cy="432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39880" y="4942440"/>
                <a:ext cx="620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69160" y="4942440"/>
                <a:ext cx="20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174840" y="4655880"/>
              <a:ext cx="228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992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-gate implementation of multiplex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38720" y="2165400"/>
            <a:ext cx="3573360" cy="3844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41600" y="1630440"/>
            <a:ext cx="1157040" cy="512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26640" bIns="26640" anchor="t" anchorCtr="1">
            <a:normAutofit fontScale="86000"/>
          </a:bodyPr>
          <a:p>
            <a:pPr indent="0">
              <a:lnSpc>
                <a:spcPts val="22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:1 m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5578560" y="1630440"/>
            <a:ext cx="113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:1 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73760" y="1946160"/>
            <a:ext cx="3333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40400" y="5818320"/>
            <a:ext cx="6872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3720" y="4143240"/>
            <a:ext cx="4110120" cy="1625400"/>
            <a:chOff x="423720" y="4143240"/>
            <a:chExt cx="4110120" cy="1625400"/>
          </a:xfrm>
        </p:grpSpPr>
        <p:sp>
          <p:nvSpPr>
            <p:cNvPr id="186" name=""/>
            <p:cNvSpPr/>
            <p:nvPr/>
          </p:nvSpPr>
          <p:spPr>
            <a:xfrm>
              <a:off x="423720" y="4143240"/>
              <a:ext cx="576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640" y="4437000"/>
              <a:ext cx="576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3440" y="5379840"/>
              <a:ext cx="5760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45000" y="4714560"/>
              <a:ext cx="46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5000" y="5192640"/>
              <a:ext cx="48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638520" y="4708440"/>
              <a:ext cx="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3320" y="4722480"/>
              <a:ext cx="462960" cy="48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2960" y="4697640"/>
              <a:ext cx="463320" cy="50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79880" y="4246200"/>
              <a:ext cx="224640" cy="4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1600" y="4246200"/>
              <a:ext cx="1501200" cy="4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17920" y="4243320"/>
              <a:ext cx="1424880" cy="42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9520" y="4243320"/>
              <a:ext cx="225000" cy="42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42960" y="4351320"/>
              <a:ext cx="2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42960" y="4552920"/>
              <a:ext cx="2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79880" y="5236920"/>
              <a:ext cx="224640" cy="41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41600" y="5236920"/>
              <a:ext cx="1501200" cy="4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17920" y="5211360"/>
              <a:ext cx="142488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79520" y="5211360"/>
              <a:ext cx="22500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2960" y="5343480"/>
              <a:ext cx="2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42960" y="5543280"/>
              <a:ext cx="2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28520" y="4759200"/>
              <a:ext cx="2127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41320" y="4759200"/>
              <a:ext cx="1875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728360" y="4752720"/>
              <a:ext cx="41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3320" y="5060880"/>
              <a:ext cx="76320" cy="7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3160" y="5443200"/>
              <a:ext cx="18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44840" y="5054400"/>
              <a:ext cx="18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4760" y="5054400"/>
              <a:ext cx="8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38640" y="5060880"/>
              <a:ext cx="0" cy="3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6640" y="4954320"/>
              <a:ext cx="18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41360" y="4351320"/>
              <a:ext cx="18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39680" y="4351320"/>
              <a:ext cx="11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44840" y="4852800"/>
              <a:ext cx="18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3160" y="4451040"/>
              <a:ext cx="18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38640" y="445752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44760" y="4852800"/>
              <a:ext cx="8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41360" y="5543280"/>
              <a:ext cx="18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39680" y="5543280"/>
              <a:ext cx="11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5000" y="5160600"/>
              <a:ext cx="0" cy="1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41360" y="5343480"/>
              <a:ext cx="18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41480" y="53434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1360" y="4552920"/>
              <a:ext cx="18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5000" y="4559040"/>
              <a:ext cx="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9800" y="4527360"/>
              <a:ext cx="63360" cy="619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39680" y="4552920"/>
              <a:ext cx="88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1480" y="45529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14360" y="2193840"/>
            <a:ext cx="3930480" cy="1369800"/>
            <a:chOff x="414360" y="2193840"/>
            <a:chExt cx="3930480" cy="136980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1044360" y="2230200"/>
              <a:ext cx="3300480" cy="12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4360" y="2193840"/>
              <a:ext cx="576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2280" y="2676240"/>
              <a:ext cx="5763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720" y="3174840"/>
              <a:ext cx="5763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r">
                <a:lnSpc>
                  <a:spcPts val="207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410000" y="4336920"/>
            <a:ext cx="2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3960" y="2266920"/>
            <a:ext cx="2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29560" y="3006720"/>
            <a:ext cx="2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xers (con'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8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:1 mu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S'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S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:1 mu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:1 mu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359400" y="3417840"/>
            <a:ext cx="3002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38196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91240" y="40449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91240" y="47214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91240" y="51735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91240" y="42703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91240" y="49482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91240" y="44956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91240" y="53989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29280" y="3713040"/>
            <a:ext cx="901800" cy="1805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148520" y="5505480"/>
            <a:ext cx="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73880" y="5505480"/>
            <a:ext cx="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599240" y="5505480"/>
            <a:ext cx="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3520" y="5657760"/>
            <a:ext cx="9763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35920" y="4145040"/>
            <a:ext cx="5270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75600" y="4249800"/>
            <a:ext cx="550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31080" y="4608360"/>
            <a:ext cx="32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91080" y="3417840"/>
            <a:ext cx="29988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22560" y="38196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22560" y="42703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22560" y="40449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44974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60960" y="3713040"/>
            <a:ext cx="90144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592520" y="4603320"/>
            <a:ext cx="0" cy="3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818240" y="4603320"/>
            <a:ext cx="0" cy="3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4240" y="4707000"/>
            <a:ext cx="750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43480" y="3681360"/>
            <a:ext cx="525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06920" y="3798720"/>
            <a:ext cx="5511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2400" y="4157640"/>
            <a:ext cx="32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3000" y="3417840"/>
            <a:ext cx="300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04840" y="38196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04840" y="40449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2880" y="3713040"/>
            <a:ext cx="90180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87480" y="4150800"/>
            <a:ext cx="0" cy="3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259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8280" y="4254480"/>
            <a:ext cx="538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49520" y="3452760"/>
            <a:ext cx="5270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89200" y="3573360"/>
            <a:ext cx="550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4680" y="3932280"/>
            <a:ext cx="32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9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cading multiplex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4920" y="1429920"/>
            <a:ext cx="7831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form large multiplexers from smaller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implementation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3687840"/>
            <a:ext cx="550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3000" bIns="237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9480" y="31510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9480" y="36021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79480" y="33764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79480" y="38275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7520" y="3044880"/>
            <a:ext cx="901800" cy="90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549440" y="3933360"/>
            <a:ext cx="0" cy="120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774800" y="3933360"/>
            <a:ext cx="0" cy="116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36760" y="2975040"/>
            <a:ext cx="5252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3000" bIns="2376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19320" y="34894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57360" y="39402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7360" y="41655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95760" y="3833640"/>
            <a:ext cx="90144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240000" y="4272120"/>
            <a:ext cx="0" cy="114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7320" y="5178600"/>
            <a:ext cx="539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3000" bIns="237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8280" y="3597120"/>
            <a:ext cx="525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3000" bIns="2376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97200" y="4052880"/>
            <a:ext cx="32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3927600"/>
            <a:ext cx="3002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3000" bIns="237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79480" y="42782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79480" y="47293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9480" y="45036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79480" y="49561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7520" y="4172040"/>
            <a:ext cx="901800" cy="90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549440" y="5062680"/>
            <a:ext cx="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774800" y="5062680"/>
            <a:ext cx="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15880" y="5165640"/>
            <a:ext cx="7509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3000" bIns="237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24160" y="4116240"/>
            <a:ext cx="525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3000" bIns="2376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19320" y="46162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760" bIns="-242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51240" y="34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451240" y="415908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17720" y="2930400"/>
            <a:ext cx="2792160" cy="230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42640" bIns="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75400" y="5648400"/>
            <a:ext cx="538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96200" y="3914640"/>
            <a:ext cx="550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81720" y="5635800"/>
            <a:ext cx="750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31510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2720" y="33764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61120" y="3044880"/>
            <a:ext cx="901440" cy="45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805360" y="3483000"/>
            <a:ext cx="0" cy="2044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62560" y="326376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2720" y="38289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40543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61120" y="3720960"/>
            <a:ext cx="901440" cy="45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805360" y="4160880"/>
            <a:ext cx="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62560" y="39416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2720" y="45054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22720" y="47307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1120" y="4398840"/>
            <a:ext cx="901440" cy="4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805360" y="4836600"/>
            <a:ext cx="0" cy="3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560" y="46180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2720" y="51814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2720" y="54086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61120" y="5075280"/>
            <a:ext cx="901440" cy="45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805360" y="5514480"/>
            <a:ext cx="0" cy="3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62560" y="529416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13640" y="39416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00960" y="439272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00960" y="416736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13640" y="46180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51680" y="3835440"/>
            <a:ext cx="901800" cy="90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383600" y="4724280"/>
            <a:ext cx="0" cy="112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608960" y="4724280"/>
            <a:ext cx="0" cy="112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57960" y="3778200"/>
            <a:ext cx="5256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53480" y="42800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840" rIns="15840" tIns="-22320" bIns="-230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7160" y="327024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707160" y="4611600"/>
            <a:ext cx="0" cy="68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594480" y="438624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216000" bIns="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4480" y="3948120"/>
            <a:ext cx="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40" rIns="15840" tIns="19044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24560" y="2830680"/>
            <a:ext cx="5252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24560" y="3508200"/>
            <a:ext cx="525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24560" y="4184640"/>
            <a:ext cx="5252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24560" y="4861080"/>
            <a:ext cx="5252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 algn="ctr"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: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70360" y="4148280"/>
            <a:ext cx="3002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70360" y="3470400"/>
            <a:ext cx="300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70360" y="2793960"/>
            <a:ext cx="300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70360" y="4824360"/>
            <a:ext cx="300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68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60960" y="2932200"/>
            <a:ext cx="2905200" cy="274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23004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93880" y="2481120"/>
            <a:ext cx="113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8:1 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51600" y="2481120"/>
            <a:ext cx="113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8:1 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440" y="2763720"/>
            <a:ext cx="2998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9920" bIns="255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xers as general-purpos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2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1 mux can implement any function of n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ookup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n –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1 mux also can implement any function of n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F(A,B,C) = m0 + m2 + m6 + m7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A'B'C' + A'BC' + ABC' + AB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A'B'(C') + A'B(C') + AB(0) + AB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1033560" y="3819600"/>
            <a:ext cx="1779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37000" y="4095720"/>
            <a:ext cx="3762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'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'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77760" y="4057560"/>
            <a:ext cx="19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73400" y="38131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2320" y="4064040"/>
            <a:ext cx="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65160" y="4471920"/>
            <a:ext cx="19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977760" y="4897440"/>
            <a:ext cx="19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77760" y="5337000"/>
            <a:ext cx="19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69120" y="5094360"/>
            <a:ext cx="638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720" y="5094360"/>
            <a:ext cx="638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97840" y="4519440"/>
            <a:ext cx="525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1520" y="4346640"/>
            <a:ext cx="2746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38920" y="4287960"/>
            <a:ext cx="1114560" cy="10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21360" y="4699080"/>
            <a:ext cx="11145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 algn="ctr"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56720" y="4821120"/>
            <a:ext cx="3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587640" y="449424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587640" y="470844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600600" y="493380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613560" y="513396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30960" y="4344840"/>
            <a:ext cx="3380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08800" y="534024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83560" y="534024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82920" y="3900600"/>
            <a:ext cx="2383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67040" y="3900600"/>
            <a:ext cx="2635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27560" y="5562720"/>
            <a:ext cx="6397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14960" y="4665600"/>
            <a:ext cx="1114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 algn="ctr"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91160" y="5562720"/>
            <a:ext cx="6397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54760" y="5562720"/>
            <a:ext cx="637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08720" y="4478400"/>
            <a:ext cx="525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49800" y="3832200"/>
            <a:ext cx="1114200" cy="196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89560" y="477828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8520" y="40384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998520" y="425304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011480" y="4478400"/>
            <a:ext cx="23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024440" y="467820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70480" y="5813280"/>
            <a:ext cx="0" cy="29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94120" y="581328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985920" y="490392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985920" y="511812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998880" y="5343480"/>
            <a:ext cx="23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011120" y="5543640"/>
            <a:ext cx="225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94440" y="582624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71840" y="6130800"/>
            <a:ext cx="1190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   B 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23120" y="5653080"/>
            <a:ext cx="60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 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xers as general-purpose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4440" y="1390320"/>
            <a:ext cx="80996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1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1 mux as a function of n–1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0000"/>
              </a:lnSpc>
              <a:spcBef>
                <a:spcPts val="125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-1) mux control variabl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–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0000"/>
              </a:lnSpc>
              <a:spcBef>
                <a:spcPts val="125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data variabl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0000"/>
              </a:lnSpc>
              <a:spcBef>
                <a:spcPts val="125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possible values for each data input: 0, 1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0000"/>
              </a:lnSpc>
              <a:spcBef>
                <a:spcPts val="125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,D) implemented using an 8:1 mu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3719520" y="3908520"/>
            <a:ext cx="22971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A,B,C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D a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21360" y="3773520"/>
            <a:ext cx="2383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99360" y="3730680"/>
            <a:ext cx="33804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800"/>
              </a:lnSpc>
              <a:spcAft>
                <a:spcPts val="2001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D'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D'</a:t>
            </a:r>
            <a:br>
              <a:rPr sz="1600"/>
            </a:b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42160" y="5969160"/>
            <a:ext cx="6397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08840" y="4334040"/>
            <a:ext cx="1116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: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40680" y="5969160"/>
            <a:ext cx="637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9200" y="5969160"/>
            <a:ext cx="637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145360" y="4334040"/>
            <a:ext cx="527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86440" y="3687840"/>
            <a:ext cx="1116000" cy="196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05680" y="46339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635880" y="3894120"/>
            <a:ext cx="25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635880" y="4108320"/>
            <a:ext cx="25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648120" y="433404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661080" y="453384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56360" y="566892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32560" y="566892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622560" y="475920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622560" y="497376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35520" y="519912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648480" y="539892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32880" y="566424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9360" y="4046400"/>
            <a:ext cx="351000" cy="814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95400" y="4046400"/>
            <a:ext cx="338040" cy="81468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spcBef>
                <a:spcPts val="1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33520" y="4046400"/>
            <a:ext cx="351000" cy="8146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97200" y="4046400"/>
            <a:ext cx="338040" cy="8146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9360" y="4935600"/>
            <a:ext cx="351000" cy="814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4935600"/>
            <a:ext cx="338040" cy="814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33520" y="4935600"/>
            <a:ext cx="351000" cy="8143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935600"/>
            <a:ext cx="338040" cy="814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60800" y="473544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31800" y="410364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0040" y="490392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00040" y="534996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844640" y="489060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01840" y="4903920"/>
            <a:ext cx="9032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01840" y="534996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747880" y="489060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00040" y="400212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00040" y="44467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844640" y="398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01840" y="4002120"/>
            <a:ext cx="9032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01840" y="444672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747880" y="398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55600" y="353232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93880" y="3732120"/>
            <a:ext cx="73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43320" y="346392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3840" y="3719520"/>
            <a:ext cx="639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44560" y="371952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95640" y="371952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10000" y="371952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2280" y="410832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9320" y="4533840"/>
            <a:ext cx="6778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0080" y="498636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0080" y="545004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087560" y="3688920"/>
            <a:ext cx="31248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01840" y="369396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51120" y="5900760"/>
            <a:ext cx="87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06560" y="4903920"/>
            <a:ext cx="0" cy="89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98680" y="445284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4800" y="518652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33640" y="590868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23080" y="5410080"/>
            <a:ext cx="6397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21600" y="5410080"/>
            <a:ext cx="6382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0120" y="5410080"/>
            <a:ext cx="6379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560" rIns="16560" tIns="23760" bIns="23760" anchor="t">
            <a:noAutofit/>
          </a:bodyPr>
          <a:p>
            <a:pPr>
              <a:lnSpc>
                <a:spcPts val="1672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40160" y="5769000"/>
            <a:ext cx="32018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=A’B’C’(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+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’B’C(D)+A’BC’(0)+A’BC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AB’C’(D’)+AB’C(D)+ABC’(D’)+ABC(D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= A’B’C’+A’CD+B’CD+AC’D’+BCD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6-01-20T19:13:25Z</cp:lastPrinted>
  <dcterms:modified xsi:type="dcterms:W3CDTF">2007-01-24T16:46:58Z</dcterms:modified>
  <cp:revision>392</cp:revision>
  <dc:subject>CSE370</dc:subject>
  <dc:title>Lecture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