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4800" y="3916800"/>
            <a:ext cx="79344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64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4800" y="391680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640" y="391680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520" y="139068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0240" y="139068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4800" y="391680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520" y="391680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0240" y="391680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38718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640" y="1390680"/>
            <a:ext cx="38718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4800" y="475920"/>
            <a:ext cx="7935840" cy="347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640" y="1390680"/>
            <a:ext cx="38718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4800" y="391680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38718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64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640" y="391680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4800" y="3916800"/>
            <a:ext cx="79344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500"/>
              </a:spcBef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spcBef>
                <a:spcPts val="1500"/>
              </a:spcBef>
              <a:buClr>
                <a:srgbClr val="000000"/>
              </a:buClr>
              <a:buFont typeface="Monotype Sorts" charset="2"/>
              <a:buChar char="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278000"/>
            <a:ext cx="779004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132760" y="6308640"/>
            <a:ext cx="3524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8B4A3-E156-4FA0-9EDD-AA1603066CD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90480" y="6291360"/>
            <a:ext cx="33879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E370, Lecture 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r>
              <a:rPr b="0" lang="en-US" sz="3200" spc="-1" strike="noStrike">
                <a:solidFill>
                  <a:srgbClr val="000000"/>
                </a:solidFill>
                <a:latin typeface="Fence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quential Logic Exam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d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e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e-hot encod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 encod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SM partitio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tput enco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use outputs as stat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y create new functions when you can use output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ts from state assignments are the outputs for that st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ake outputs directly from the flip-flop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 hoc - no to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elds small circuits for most FS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ts nicely with synchronous Mealy mach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 partiti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eak a large FSM into two or more smaller FS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iona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states in each part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63800" indent="-22392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mpler minimization and state assign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63800" indent="-22392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maller combinational log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63800" indent="-22392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orter critical pat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more logic over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nimize communication between part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63800" indent="-22392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nimize wires &amp; I/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99"/>
                </a:solidFill>
                <a:latin typeface="Tahoma"/>
              </a:rPr>
              <a:t>Partitions are 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ame clock!!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2085840" y="2770200"/>
            <a:ext cx="4283280" cy="2332080"/>
            <a:chOff x="2085840" y="2770200"/>
            <a:chExt cx="4283280" cy="2332080"/>
          </a:xfrm>
        </p:grpSpPr>
        <p:sp>
          <p:nvSpPr>
            <p:cNvPr id="137" name=""/>
            <p:cNvSpPr/>
            <p:nvPr/>
          </p:nvSpPr>
          <p:spPr>
            <a:xfrm>
              <a:off x="3281400" y="27702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848120" y="32432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19240" y="37479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294000" y="47260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709880" y="47260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60600" y="2997360"/>
              <a:ext cx="450720" cy="450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460600" y="4651200"/>
              <a:ext cx="450720" cy="451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363840" y="3824280"/>
              <a:ext cx="451080" cy="450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5" name=""/>
            <p:cNvCxnSpPr>
              <a:stCxn id="144" idx="1"/>
              <a:endCxn id="142" idx="5"/>
            </p:cNvCxnSpPr>
            <p:nvPr/>
          </p:nvCxnSpPr>
          <p:spPr>
            <a:xfrm flipH="1" flipV="1">
              <a:off x="2844000" y="3380760"/>
              <a:ext cx="586440" cy="5101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6" name=""/>
            <p:cNvCxnSpPr>
              <a:stCxn id="143" idx="7"/>
              <a:endCxn id="144" idx="3"/>
            </p:cNvCxnSpPr>
            <p:nvPr/>
          </p:nvCxnSpPr>
          <p:spPr>
            <a:xfrm flipV="1">
              <a:off x="2844360" y="4208040"/>
              <a:ext cx="586440" cy="510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7" name=""/>
            <p:cNvSpPr/>
            <p:nvPr/>
          </p:nvSpPr>
          <p:spPr>
            <a:xfrm flipH="1">
              <a:off x="5541120" y="2997360"/>
              <a:ext cx="452520" cy="450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5541120" y="4651200"/>
              <a:ext cx="452520" cy="451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4640400" y="3824280"/>
              <a:ext cx="450720" cy="450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0" name=""/>
            <p:cNvCxnSpPr>
              <a:stCxn id="144" idx="6"/>
              <a:endCxn id="149" idx="6"/>
            </p:cNvCxnSpPr>
            <p:nvPr/>
          </p:nvCxnSpPr>
          <p:spPr>
            <a:xfrm flipV="1">
              <a:off x="3814560" y="4047840"/>
              <a:ext cx="826200" cy="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1" name=""/>
            <p:cNvCxnSpPr>
              <a:stCxn id="143" idx="6"/>
              <a:endCxn id="149" idx="5"/>
            </p:cNvCxnSpPr>
            <p:nvPr/>
          </p:nvCxnSpPr>
          <p:spPr>
            <a:xfrm flipV="1">
              <a:off x="2910960" y="4207680"/>
              <a:ext cx="1794600" cy="6692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2" name=""/>
            <p:cNvCxnSpPr>
              <a:stCxn id="144" idx="5"/>
              <a:endCxn id="148" idx="5"/>
            </p:cNvCxnSpPr>
            <p:nvPr/>
          </p:nvCxnSpPr>
          <p:spPr>
            <a:xfrm>
              <a:off x="3747600" y="4208400"/>
              <a:ext cx="1861560" cy="8280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3" name=""/>
            <p:cNvCxnSpPr>
              <a:stCxn id="148" idx="6"/>
              <a:endCxn id="149" idx="4"/>
            </p:cNvCxnSpPr>
            <p:nvPr/>
          </p:nvCxnSpPr>
          <p:spPr>
            <a:xfrm flipH="1" flipV="1">
              <a:off x="4865040" y="4272840"/>
              <a:ext cx="678600" cy="602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" name=""/>
            <p:cNvCxnSpPr>
              <a:stCxn id="149" idx="3"/>
              <a:endCxn id="148" idx="7"/>
            </p:cNvCxnSpPr>
            <p:nvPr/>
          </p:nvCxnSpPr>
          <p:spPr>
            <a:xfrm>
              <a:off x="5024160" y="4208040"/>
              <a:ext cx="585000" cy="508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5" name=""/>
            <p:cNvCxnSpPr>
              <a:stCxn id="147" idx="5"/>
              <a:endCxn id="149" idx="1"/>
            </p:cNvCxnSpPr>
            <p:nvPr/>
          </p:nvCxnSpPr>
          <p:spPr>
            <a:xfrm flipH="1">
              <a:off x="5023800" y="3381120"/>
              <a:ext cx="585000" cy="508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6" name=""/>
            <p:cNvCxnSpPr>
              <a:stCxn id="147" idx="6"/>
              <a:endCxn id="142" idx="6"/>
            </p:cNvCxnSpPr>
            <p:nvPr/>
          </p:nvCxnSpPr>
          <p:spPr>
            <a:xfrm flipH="1">
              <a:off x="2910960" y="3220560"/>
              <a:ext cx="2633040" cy="25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7" name=""/>
            <p:cNvCxnSpPr>
              <a:stCxn id="142" idx="7"/>
              <a:endCxn id="147" idx="7"/>
            </p:cNvCxnSpPr>
            <p:nvPr/>
          </p:nvCxnSpPr>
          <p:spPr>
            <a:xfrm flipV="1">
              <a:off x="2844720" y="3061440"/>
              <a:ext cx="2764800" cy="25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8" name=""/>
            <p:cNvSpPr/>
            <p:nvPr/>
          </p:nvSpPr>
          <p:spPr>
            <a:xfrm>
              <a:off x="5091120" y="4049640"/>
              <a:ext cx="45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994360" y="3222720"/>
              <a:ext cx="3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085840" y="4876920"/>
              <a:ext cx="3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085840" y="3222720"/>
              <a:ext cx="3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4194000" y="2535120"/>
            <a:ext cx="0" cy="3009960"/>
          </a:xfrm>
          <a:prstGeom prst="line">
            <a:avLst/>
          </a:prstGeom>
          <a:ln w="38160">
            <a:solidFill>
              <a:srgbClr val="cc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artition the mach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4800" y="1457280"/>
            <a:ext cx="7934400" cy="57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tion into two hal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963080" y="4095720"/>
            <a:ext cx="214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058880" y="4556160"/>
            <a:ext cx="214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11560" y="5759280"/>
            <a:ext cx="534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5•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7912080" y="4027320"/>
            <a:ext cx="388800" cy="388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7913520" y="5683320"/>
            <a:ext cx="388800" cy="388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7010280" y="4854600"/>
            <a:ext cx="388800" cy="388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" name=""/>
          <p:cNvCxnSpPr>
            <a:endCxn id="170" idx="6"/>
          </p:cNvCxnSpPr>
          <p:nvPr/>
        </p:nvCxnSpPr>
        <p:spPr>
          <a:xfrm flipV="1">
            <a:off x="6195600" y="5054400"/>
            <a:ext cx="82620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endCxn id="169" idx="5"/>
          </p:cNvCxnSpPr>
          <p:nvPr/>
        </p:nvCxnSpPr>
        <p:spPr>
          <a:xfrm>
            <a:off x="6118200" y="5198760"/>
            <a:ext cx="1861200" cy="8262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69" idx="6"/>
            <a:endCxn id="170" idx="4"/>
          </p:cNvCxnSpPr>
          <p:nvPr/>
        </p:nvCxnSpPr>
        <p:spPr>
          <a:xfrm flipH="1" flipV="1">
            <a:off x="7205400" y="5297040"/>
            <a:ext cx="676800" cy="6026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0" idx="3"/>
            <a:endCxn id="169" idx="7"/>
          </p:cNvCxnSpPr>
          <p:nvPr/>
        </p:nvCxnSpPr>
        <p:spPr>
          <a:xfrm>
            <a:off x="7364520" y="5230800"/>
            <a:ext cx="584640" cy="5104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68" idx="5"/>
            <a:endCxn id="170" idx="1"/>
          </p:cNvCxnSpPr>
          <p:nvPr/>
        </p:nvCxnSpPr>
        <p:spPr>
          <a:xfrm flipH="1">
            <a:off x="7364160" y="4403520"/>
            <a:ext cx="584640" cy="5101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68" idx="6"/>
            <a:endCxn id="177" idx="1"/>
          </p:cNvCxnSpPr>
          <p:nvPr/>
        </p:nvCxnSpPr>
        <p:spPr>
          <a:xfrm flipH="1">
            <a:off x="6095160" y="4243320"/>
            <a:ext cx="1786680" cy="6804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7" idx="0"/>
            <a:endCxn id="168" idx="7"/>
          </p:cNvCxnSpPr>
          <p:nvPr/>
        </p:nvCxnSpPr>
        <p:spPr>
          <a:xfrm flipV="1">
            <a:off x="5936760" y="4086000"/>
            <a:ext cx="2012040" cy="7704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9" name=""/>
          <p:cNvSpPr/>
          <p:nvPr/>
        </p:nvSpPr>
        <p:spPr>
          <a:xfrm>
            <a:off x="7431120" y="5072040"/>
            <a:ext cx="450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332920" y="4245120"/>
            <a:ext cx="376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5742000" y="4863960"/>
            <a:ext cx="388800" cy="38844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"/>
          <p:cNvCxnSpPr>
            <a:stCxn id="177" idx="7"/>
            <a:endCxn id="177" idx="5"/>
          </p:cNvCxnSpPr>
          <p:nvPr/>
        </p:nvCxnSpPr>
        <p:spPr>
          <a:xfrm flipH="1" rot="16200000">
            <a:off x="5620320" y="5079600"/>
            <a:ext cx="317880" cy="2520"/>
          </a:xfrm>
          <a:prstGeom prst="curvedConnector5">
            <a:avLst>
              <a:gd name="adj1" fmla="val -36394"/>
              <a:gd name="adj2" fmla="val -10900000"/>
              <a:gd name="adj3" fmla="val -36394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2" name=""/>
          <p:cNvSpPr/>
          <p:nvPr/>
        </p:nvSpPr>
        <p:spPr>
          <a:xfrm>
            <a:off x="6360840" y="4284720"/>
            <a:ext cx="534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1•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297120" y="4856040"/>
            <a:ext cx="6408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3•S2+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4•S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00160" y="4705200"/>
            <a:ext cx="74736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C1•S1+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3•S2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4•S3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5•S2)’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24840" y="5742000"/>
            <a:ext cx="214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90720" y="4011480"/>
            <a:ext cx="450720" cy="452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90720" y="5667480"/>
            <a:ext cx="450720" cy="450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892160" y="4840200"/>
            <a:ext cx="451080" cy="451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9" name=""/>
          <p:cNvCxnSpPr>
            <a:stCxn id="188" idx="1"/>
            <a:endCxn id="186" idx="5"/>
          </p:cNvCxnSpPr>
          <p:nvPr/>
        </p:nvCxnSpPr>
        <p:spPr>
          <a:xfrm flipH="1" flipV="1">
            <a:off x="1374120" y="4396680"/>
            <a:ext cx="585000" cy="5101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0" name=""/>
          <p:cNvCxnSpPr>
            <a:stCxn id="187" idx="7"/>
            <a:endCxn id="188" idx="3"/>
          </p:cNvCxnSpPr>
          <p:nvPr/>
        </p:nvCxnSpPr>
        <p:spPr>
          <a:xfrm flipV="1">
            <a:off x="1374480" y="5223960"/>
            <a:ext cx="585000" cy="5104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1" name=""/>
          <p:cNvCxnSpPr>
            <a:stCxn id="188" idx="6"/>
          </p:cNvCxnSpPr>
          <p:nvPr/>
        </p:nvCxnSpPr>
        <p:spPr>
          <a:xfrm flipV="1">
            <a:off x="2343240" y="5063760"/>
            <a:ext cx="83880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2" name=""/>
          <p:cNvCxnSpPr>
            <a:stCxn id="187" idx="6"/>
          </p:cNvCxnSpPr>
          <p:nvPr/>
        </p:nvCxnSpPr>
        <p:spPr>
          <a:xfrm flipV="1">
            <a:off x="1441440" y="5214240"/>
            <a:ext cx="1820160" cy="6786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3" name=""/>
          <p:cNvCxnSpPr>
            <a:stCxn id="194" idx="1"/>
            <a:endCxn id="186" idx="6"/>
          </p:cNvCxnSpPr>
          <p:nvPr/>
        </p:nvCxnSpPr>
        <p:spPr>
          <a:xfrm flipH="1" flipV="1">
            <a:off x="1440720" y="4237920"/>
            <a:ext cx="1796040" cy="677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"/>
          <p:cNvCxnSpPr>
            <a:stCxn id="186" idx="7"/>
            <a:endCxn id="194" idx="0"/>
          </p:cNvCxnSpPr>
          <p:nvPr/>
        </p:nvCxnSpPr>
        <p:spPr>
          <a:xfrm>
            <a:off x="1374480" y="4078440"/>
            <a:ext cx="2021400" cy="7704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6" name=""/>
          <p:cNvSpPr/>
          <p:nvPr/>
        </p:nvSpPr>
        <p:spPr>
          <a:xfrm>
            <a:off x="614520" y="5892840"/>
            <a:ext cx="376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14520" y="4238640"/>
            <a:ext cx="376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170160" y="4848120"/>
            <a:ext cx="451080" cy="45108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4" idx="7"/>
            <a:endCxn id="194" idx="5"/>
          </p:cNvCxnSpPr>
          <p:nvPr/>
        </p:nvCxnSpPr>
        <p:spPr>
          <a:xfrm flipH="1" rot="16200000">
            <a:off x="3396240" y="5071680"/>
            <a:ext cx="317880" cy="2520"/>
          </a:xfrm>
          <a:prstGeom prst="curvedConnector5">
            <a:avLst>
              <a:gd name="adj1" fmla="val -92970"/>
              <a:gd name="adj2" fmla="val 19300000"/>
              <a:gd name="adj3" fmla="val -9297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"/>
          <p:cNvSpPr/>
          <p:nvPr/>
        </p:nvSpPr>
        <p:spPr>
          <a:xfrm>
            <a:off x="1864800" y="4546440"/>
            <a:ext cx="534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2•S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419560" y="5073480"/>
            <a:ext cx="534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3+C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413160" y="4402080"/>
            <a:ext cx="85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C2•S6)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510080" y="1882800"/>
            <a:ext cx="0" cy="4594320"/>
          </a:xfrm>
          <a:prstGeom prst="line">
            <a:avLst/>
          </a:prstGeom>
          <a:ln w="38160">
            <a:solidFill>
              <a:srgbClr val="cc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roduce idle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4800" y="1390320"/>
            <a:ext cx="7934400" cy="64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 and SB handoff control between mach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2827440" y="1889280"/>
            <a:ext cx="3426840" cy="1866240"/>
            <a:chOff x="2827440" y="1889280"/>
            <a:chExt cx="3426840" cy="1866240"/>
          </a:xfrm>
        </p:grpSpPr>
        <p:sp>
          <p:nvSpPr>
            <p:cNvPr id="206" name=""/>
            <p:cNvSpPr/>
            <p:nvPr/>
          </p:nvSpPr>
          <p:spPr>
            <a:xfrm>
              <a:off x="3782160" y="18892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037480" y="22687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213080" y="26715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792240" y="34545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925520" y="34545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126960" y="2071080"/>
              <a:ext cx="360360" cy="360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126960" y="3394800"/>
              <a:ext cx="360360" cy="360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849840" y="2732760"/>
              <a:ext cx="360720" cy="360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4" name=""/>
            <p:cNvCxnSpPr>
              <a:stCxn id="213" idx="1"/>
              <a:endCxn id="211" idx="5"/>
            </p:cNvCxnSpPr>
            <p:nvPr/>
          </p:nvCxnSpPr>
          <p:spPr>
            <a:xfrm flipH="1" flipV="1">
              <a:off x="3433680" y="2378160"/>
              <a:ext cx="469080" cy="4082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5" name=""/>
            <p:cNvCxnSpPr>
              <a:stCxn id="212" idx="7"/>
              <a:endCxn id="213" idx="3"/>
            </p:cNvCxnSpPr>
            <p:nvPr/>
          </p:nvCxnSpPr>
          <p:spPr>
            <a:xfrm flipV="1">
              <a:off x="3434040" y="3039480"/>
              <a:ext cx="469080" cy="4086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6" name=""/>
            <p:cNvSpPr/>
            <p:nvPr/>
          </p:nvSpPr>
          <p:spPr>
            <a:xfrm flipH="1">
              <a:off x="5591880" y="2071080"/>
              <a:ext cx="361800" cy="360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5591880" y="3394800"/>
              <a:ext cx="361800" cy="360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4870440" y="2732760"/>
              <a:ext cx="360360" cy="360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9" name=""/>
            <p:cNvCxnSpPr>
              <a:stCxn id="213" idx="6"/>
              <a:endCxn id="218" idx="6"/>
            </p:cNvCxnSpPr>
            <p:nvPr/>
          </p:nvCxnSpPr>
          <p:spPr>
            <a:xfrm flipV="1">
              <a:off x="4210920" y="2911320"/>
              <a:ext cx="660600" cy="18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0" name=""/>
            <p:cNvCxnSpPr>
              <a:stCxn id="212" idx="6"/>
              <a:endCxn id="218" idx="5"/>
            </p:cNvCxnSpPr>
            <p:nvPr/>
          </p:nvCxnSpPr>
          <p:spPr>
            <a:xfrm flipV="1">
              <a:off x="3487320" y="3039840"/>
              <a:ext cx="1435680" cy="535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1" name=""/>
            <p:cNvCxnSpPr>
              <a:stCxn id="213" idx="5"/>
              <a:endCxn id="217" idx="5"/>
            </p:cNvCxnSpPr>
            <p:nvPr/>
          </p:nvCxnSpPr>
          <p:spPr>
            <a:xfrm>
              <a:off x="4156920" y="3039840"/>
              <a:ext cx="1489320" cy="662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2" name=""/>
            <p:cNvCxnSpPr>
              <a:stCxn id="217" idx="6"/>
              <a:endCxn id="218" idx="4"/>
            </p:cNvCxnSpPr>
            <p:nvPr/>
          </p:nvCxnSpPr>
          <p:spPr>
            <a:xfrm flipH="1" flipV="1">
              <a:off x="5051160" y="3091680"/>
              <a:ext cx="542880" cy="482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3" name=""/>
            <p:cNvCxnSpPr>
              <a:stCxn id="218" idx="3"/>
              <a:endCxn id="217" idx="7"/>
            </p:cNvCxnSpPr>
            <p:nvPr/>
          </p:nvCxnSpPr>
          <p:spPr>
            <a:xfrm>
              <a:off x="5178600" y="3039840"/>
              <a:ext cx="468000" cy="407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6" idx="5"/>
              <a:endCxn id="218" idx="1"/>
            </p:cNvCxnSpPr>
            <p:nvPr/>
          </p:nvCxnSpPr>
          <p:spPr>
            <a:xfrm flipH="1">
              <a:off x="5178240" y="2378160"/>
              <a:ext cx="468000" cy="407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6" idx="6"/>
              <a:endCxn id="211" idx="6"/>
            </p:cNvCxnSpPr>
            <p:nvPr/>
          </p:nvCxnSpPr>
          <p:spPr>
            <a:xfrm flipH="1">
              <a:off x="3487320" y="2250000"/>
              <a:ext cx="2106720" cy="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1" idx="7"/>
              <a:endCxn id="216" idx="7"/>
            </p:cNvCxnSpPr>
            <p:nvPr/>
          </p:nvCxnSpPr>
          <p:spPr>
            <a:xfrm flipV="1">
              <a:off x="3434040" y="2122560"/>
              <a:ext cx="2212200" cy="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27" name=""/>
            <p:cNvSpPr/>
            <p:nvPr/>
          </p:nvSpPr>
          <p:spPr>
            <a:xfrm>
              <a:off x="5231880" y="2913120"/>
              <a:ext cx="36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954760" y="2251440"/>
              <a:ext cx="299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27440" y="3575520"/>
              <a:ext cx="299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827440" y="2251440"/>
              <a:ext cx="299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6326280" y="3540240"/>
            <a:ext cx="482400" cy="480960"/>
          </a:xfrm>
          <a:prstGeom prst="line">
            <a:avLst/>
          </a:prstGeom>
          <a:ln w="57240">
            <a:solidFill>
              <a:srgbClr val="cc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720" rIns="1872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2123640" y="3540240"/>
            <a:ext cx="482760" cy="480960"/>
          </a:xfrm>
          <a:prstGeom prst="line">
            <a:avLst/>
          </a:prstGeom>
          <a:ln w="57240">
            <a:solidFill>
              <a:srgbClr val="cc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720" rIns="1872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"/>
          <p:cNvGrpSpPr/>
          <p:nvPr/>
        </p:nvGrpSpPr>
        <p:grpSpPr>
          <a:xfrm>
            <a:off x="6815160" y="4730760"/>
            <a:ext cx="647640" cy="506160"/>
            <a:chOff x="6815160" y="4730760"/>
            <a:chExt cx="647640" cy="506160"/>
          </a:xfrm>
        </p:grpSpPr>
        <p:sp>
          <p:nvSpPr>
            <p:cNvPr id="234" name=""/>
            <p:cNvSpPr/>
            <p:nvPr/>
          </p:nvSpPr>
          <p:spPr>
            <a:xfrm>
              <a:off x="6937560" y="4730760"/>
              <a:ext cx="409320" cy="431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815160" y="5078160"/>
              <a:ext cx="647640" cy="15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927840" y="4954680"/>
              <a:ext cx="44640" cy="14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848640" y="2506680"/>
            <a:ext cx="647640" cy="506160"/>
            <a:chOff x="6848640" y="2506680"/>
            <a:chExt cx="647640" cy="506160"/>
          </a:xfrm>
        </p:grpSpPr>
        <p:sp>
          <p:nvSpPr>
            <p:cNvPr id="238" name=""/>
            <p:cNvSpPr/>
            <p:nvPr/>
          </p:nvSpPr>
          <p:spPr>
            <a:xfrm>
              <a:off x="6971040" y="2506680"/>
              <a:ext cx="409320" cy="431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848640" y="2854080"/>
              <a:ext cx="647640" cy="15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61320" y="2730600"/>
              <a:ext cx="44640" cy="14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1608120" y="2825640"/>
            <a:ext cx="474840" cy="506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764360" y="2975040"/>
            <a:ext cx="244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657600" y="2801880"/>
            <a:ext cx="487440" cy="504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13840" y="2962440"/>
            <a:ext cx="244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082960" y="3035160"/>
            <a:ext cx="1587240" cy="123840"/>
            <a:chOff x="2082960" y="3035160"/>
            <a:chExt cx="1587240" cy="123840"/>
          </a:xfrm>
        </p:grpSpPr>
        <p:sp>
          <p:nvSpPr>
            <p:cNvPr id="246" name=""/>
            <p:cNvSpPr/>
            <p:nvPr/>
          </p:nvSpPr>
          <p:spPr>
            <a:xfrm>
              <a:off x="3444840" y="3035160"/>
              <a:ext cx="225360" cy="123840"/>
            </a:xfrm>
            <a:custGeom>
              <a:avLst/>
              <a:gdLst/>
              <a:ahLst/>
              <a:rect l="l" t="t" r="r" b="b"/>
              <a:pathLst>
                <a:path w="142" h="78">
                  <a:moveTo>
                    <a:pt x="142" y="39"/>
                  </a:moveTo>
                  <a:lnTo>
                    <a:pt x="0" y="78"/>
                  </a:lnTo>
                  <a:lnTo>
                    <a:pt x="0" y="39"/>
                  </a:lnTo>
                  <a:lnTo>
                    <a:pt x="0" y="0"/>
                  </a:lnTo>
                  <a:lnTo>
                    <a:pt x="142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082960" y="3109680"/>
              <a:ext cx="13618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2705760" y="2825640"/>
            <a:ext cx="244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943680" y="2801880"/>
            <a:ext cx="474840" cy="504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080840" y="2962440"/>
            <a:ext cx="244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987800" y="2795760"/>
            <a:ext cx="487440" cy="5173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152320" y="2962440"/>
            <a:ext cx="244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68760" y="2998800"/>
            <a:ext cx="1461960" cy="123840"/>
            <a:chOff x="5468760" y="2998800"/>
            <a:chExt cx="1461960" cy="123840"/>
          </a:xfrm>
        </p:grpSpPr>
        <p:sp>
          <p:nvSpPr>
            <p:cNvPr id="254" name=""/>
            <p:cNvSpPr/>
            <p:nvPr/>
          </p:nvSpPr>
          <p:spPr>
            <a:xfrm>
              <a:off x="6706800" y="2998800"/>
              <a:ext cx="223920" cy="123840"/>
            </a:xfrm>
            <a:custGeom>
              <a:avLst/>
              <a:gdLst/>
              <a:ahLst/>
              <a:rect l="l" t="t" r="r" b="b"/>
              <a:pathLst>
                <a:path w="141" h="78">
                  <a:moveTo>
                    <a:pt x="141" y="39"/>
                  </a:moveTo>
                  <a:lnTo>
                    <a:pt x="0" y="78"/>
                  </a:lnTo>
                  <a:lnTo>
                    <a:pt x="0" y="39"/>
                  </a:lnTo>
                  <a:lnTo>
                    <a:pt x="0" y="0"/>
                  </a:lnTo>
                  <a:lnTo>
                    <a:pt x="141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68760" y="3073680"/>
              <a:ext cx="12380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6091920" y="2789280"/>
            <a:ext cx="244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4269960" y="2911320"/>
            <a:ext cx="562320" cy="260280"/>
            <a:chOff x="4269960" y="2911320"/>
            <a:chExt cx="562320" cy="260280"/>
          </a:xfrm>
        </p:grpSpPr>
        <p:sp>
          <p:nvSpPr>
            <p:cNvPr id="258" name=""/>
            <p:cNvSpPr/>
            <p:nvPr/>
          </p:nvSpPr>
          <p:spPr>
            <a:xfrm>
              <a:off x="4319640" y="2911320"/>
              <a:ext cx="512640" cy="260280"/>
            </a:xfrm>
            <a:custGeom>
              <a:avLst/>
              <a:gdLst/>
              <a:ahLst/>
              <a:rect l="l" t="t" r="r" b="b"/>
              <a:pathLst>
                <a:path w="323" h="164">
                  <a:moveTo>
                    <a:pt x="323" y="78"/>
                  </a:moveTo>
                  <a:lnTo>
                    <a:pt x="0" y="164"/>
                  </a:lnTo>
                  <a:lnTo>
                    <a:pt x="0" y="78"/>
                  </a:lnTo>
                  <a:lnTo>
                    <a:pt x="0" y="0"/>
                  </a:lnTo>
                  <a:lnTo>
                    <a:pt x="323" y="78"/>
                  </a:lnTo>
                  <a:close/>
                </a:path>
              </a:pathLst>
            </a:custGeom>
            <a:solidFill>
              <a:srgbClr val="cc3399"/>
            </a:solidFill>
            <a:ln w="9360">
              <a:solidFill>
                <a:srgbClr val="cc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4269960" y="3035160"/>
              <a:ext cx="111240" cy="1440"/>
            </a:xfrm>
            <a:prstGeom prst="line">
              <a:avLst/>
            </a:prstGeom>
            <a:ln w="112680">
              <a:solidFill>
                <a:srgbClr val="cc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1582560" y="5059440"/>
            <a:ext cx="474840" cy="506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739160" y="5207040"/>
            <a:ext cx="244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645000" y="5046840"/>
            <a:ext cx="474480" cy="493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02680" y="5195880"/>
            <a:ext cx="244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2057400" y="5281560"/>
            <a:ext cx="1587600" cy="111240"/>
            <a:chOff x="2057400" y="5281560"/>
            <a:chExt cx="1587600" cy="111240"/>
          </a:xfrm>
        </p:grpSpPr>
        <p:sp>
          <p:nvSpPr>
            <p:cNvPr id="265" name=""/>
            <p:cNvSpPr/>
            <p:nvPr/>
          </p:nvSpPr>
          <p:spPr>
            <a:xfrm>
              <a:off x="2057400" y="5281560"/>
              <a:ext cx="212760" cy="111240"/>
            </a:xfrm>
            <a:custGeom>
              <a:avLst/>
              <a:gdLst/>
              <a:ahLst/>
              <a:rect l="l" t="t" r="r" b="b"/>
              <a:pathLst>
                <a:path w="134" h="70">
                  <a:moveTo>
                    <a:pt x="0" y="31"/>
                  </a:moveTo>
                  <a:lnTo>
                    <a:pt x="134" y="0"/>
                  </a:lnTo>
                  <a:lnTo>
                    <a:pt x="134" y="31"/>
                  </a:lnTo>
                  <a:lnTo>
                    <a:pt x="134" y="7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270160" y="5343480"/>
              <a:ext cx="13748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2680560" y="5059440"/>
            <a:ext cx="244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932520" y="5046840"/>
            <a:ext cx="474840" cy="493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070040" y="5195880"/>
            <a:ext cx="244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976640" y="5040360"/>
            <a:ext cx="487440" cy="5065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139360" y="5195880"/>
            <a:ext cx="244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5457960" y="5243400"/>
            <a:ext cx="1461600" cy="112680"/>
            <a:chOff x="5457960" y="5243400"/>
            <a:chExt cx="1461600" cy="112680"/>
          </a:xfrm>
        </p:grpSpPr>
        <p:sp>
          <p:nvSpPr>
            <p:cNvPr id="273" name=""/>
            <p:cNvSpPr/>
            <p:nvPr/>
          </p:nvSpPr>
          <p:spPr>
            <a:xfrm>
              <a:off x="5457960" y="5243400"/>
              <a:ext cx="212400" cy="112680"/>
            </a:xfrm>
            <a:custGeom>
              <a:avLst/>
              <a:gdLst/>
              <a:ahLst/>
              <a:rect l="l" t="t" r="r" b="b"/>
              <a:pathLst>
                <a:path w="134" h="71">
                  <a:moveTo>
                    <a:pt x="0" y="32"/>
                  </a:moveTo>
                  <a:lnTo>
                    <a:pt x="134" y="0"/>
                  </a:lnTo>
                  <a:lnTo>
                    <a:pt x="134" y="32"/>
                  </a:lnTo>
                  <a:lnTo>
                    <a:pt x="134" y="71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670360" y="5305320"/>
              <a:ext cx="12492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6067080" y="5046840"/>
            <a:ext cx="6102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2•S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4257360" y="5145120"/>
            <a:ext cx="562320" cy="260280"/>
            <a:chOff x="4257360" y="5145120"/>
            <a:chExt cx="562320" cy="260280"/>
          </a:xfrm>
        </p:grpSpPr>
        <p:sp>
          <p:nvSpPr>
            <p:cNvPr id="277" name=""/>
            <p:cNvSpPr/>
            <p:nvPr/>
          </p:nvSpPr>
          <p:spPr>
            <a:xfrm>
              <a:off x="4295880" y="5145120"/>
              <a:ext cx="523800" cy="260280"/>
            </a:xfrm>
            <a:custGeom>
              <a:avLst/>
              <a:gdLst/>
              <a:ahLst/>
              <a:rect l="l" t="t" r="r" b="b"/>
              <a:pathLst>
                <a:path w="330" h="164">
                  <a:moveTo>
                    <a:pt x="330" y="86"/>
                  </a:moveTo>
                  <a:lnTo>
                    <a:pt x="0" y="164"/>
                  </a:lnTo>
                  <a:lnTo>
                    <a:pt x="0" y="86"/>
                  </a:lnTo>
                  <a:lnTo>
                    <a:pt x="0" y="0"/>
                  </a:lnTo>
                  <a:lnTo>
                    <a:pt x="330" y="86"/>
                  </a:lnTo>
                  <a:close/>
                </a:path>
              </a:pathLst>
            </a:custGeom>
            <a:solidFill>
              <a:srgbClr val="cc3399"/>
            </a:solidFill>
            <a:ln w="9360">
              <a:solidFill>
                <a:srgbClr val="cc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4257360" y="5268960"/>
              <a:ext cx="112680" cy="1440"/>
            </a:xfrm>
            <a:prstGeom prst="line">
              <a:avLst/>
            </a:prstGeom>
            <a:ln w="112680">
              <a:solidFill>
                <a:srgbClr val="cc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tioning r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1410840" y="1735200"/>
            <a:ext cx="658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Rule #1: Source-state trans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Replace by transition to idle state (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317600" y="3921120"/>
            <a:ext cx="7191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Rule #2: Destination state trans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Replace with exit transition from idle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6426000" y="3643200"/>
            <a:ext cx="603000" cy="506160"/>
            <a:chOff x="6426000" y="3643200"/>
            <a:chExt cx="603000" cy="506160"/>
          </a:xfrm>
        </p:grpSpPr>
        <p:sp>
          <p:nvSpPr>
            <p:cNvPr id="283" name=""/>
            <p:cNvSpPr/>
            <p:nvPr/>
          </p:nvSpPr>
          <p:spPr>
            <a:xfrm flipH="1" flipV="1">
              <a:off x="6534360" y="3717360"/>
              <a:ext cx="380880" cy="431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 flipV="1">
              <a:off x="6425640" y="3642840"/>
              <a:ext cx="603000" cy="15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 flipV="1">
              <a:off x="6882840" y="3777840"/>
              <a:ext cx="41400" cy="14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5354640" y="5403960"/>
            <a:ext cx="603360" cy="506160"/>
            <a:chOff x="5354640" y="5403960"/>
            <a:chExt cx="603360" cy="506160"/>
          </a:xfrm>
        </p:grpSpPr>
        <p:sp>
          <p:nvSpPr>
            <p:cNvPr id="287" name=""/>
            <p:cNvSpPr/>
            <p:nvPr/>
          </p:nvSpPr>
          <p:spPr>
            <a:xfrm>
              <a:off x="5468400" y="5403960"/>
              <a:ext cx="381240" cy="431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354640" y="5751360"/>
              <a:ext cx="603360" cy="15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459400" y="5627880"/>
              <a:ext cx="41400" cy="14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5541840" y="3024360"/>
            <a:ext cx="603360" cy="506160"/>
            <a:chOff x="5541840" y="3024360"/>
            <a:chExt cx="603360" cy="506160"/>
          </a:xfrm>
        </p:grpSpPr>
        <p:sp>
          <p:nvSpPr>
            <p:cNvPr id="291" name=""/>
            <p:cNvSpPr/>
            <p:nvPr/>
          </p:nvSpPr>
          <p:spPr>
            <a:xfrm>
              <a:off x="5655600" y="3024360"/>
              <a:ext cx="381240" cy="431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541840" y="3371760"/>
              <a:ext cx="603360" cy="15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646600" y="3248280"/>
              <a:ext cx="41400" cy="14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1182600" y="2928960"/>
            <a:ext cx="500040" cy="509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337400" y="3071880"/>
            <a:ext cx="249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57360" y="3875040"/>
            <a:ext cx="512640" cy="509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12160" y="4016520"/>
            <a:ext cx="249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063800" y="3419640"/>
            <a:ext cx="299520" cy="498240"/>
            <a:chOff x="1063800" y="3419640"/>
            <a:chExt cx="299520" cy="498240"/>
          </a:xfrm>
        </p:grpSpPr>
        <p:sp>
          <p:nvSpPr>
            <p:cNvPr id="299" name=""/>
            <p:cNvSpPr/>
            <p:nvPr/>
          </p:nvSpPr>
          <p:spPr>
            <a:xfrm>
              <a:off x="1189080" y="3419640"/>
              <a:ext cx="174240" cy="225360"/>
            </a:xfrm>
            <a:custGeom>
              <a:avLst/>
              <a:gdLst/>
              <a:ahLst/>
              <a:rect l="l" t="t" r="r" b="b"/>
              <a:pathLst>
                <a:path w="110" h="142">
                  <a:moveTo>
                    <a:pt x="110" y="0"/>
                  </a:moveTo>
                  <a:lnTo>
                    <a:pt x="63" y="142"/>
                  </a:lnTo>
                  <a:lnTo>
                    <a:pt x="39" y="118"/>
                  </a:lnTo>
                  <a:lnTo>
                    <a:pt x="0" y="11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1063800" y="3606840"/>
              <a:ext cx="187200" cy="31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2257560" y="2903400"/>
            <a:ext cx="512640" cy="509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413800" y="3059280"/>
            <a:ext cx="249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882880" y="3875040"/>
            <a:ext cx="512640" cy="509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050280" y="4016520"/>
            <a:ext cx="249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2701800" y="3333600"/>
            <a:ext cx="387360" cy="534960"/>
            <a:chOff x="2701800" y="3333600"/>
            <a:chExt cx="387360" cy="534960"/>
          </a:xfrm>
        </p:grpSpPr>
        <p:sp>
          <p:nvSpPr>
            <p:cNvPr id="306" name=""/>
            <p:cNvSpPr/>
            <p:nvPr/>
          </p:nvSpPr>
          <p:spPr>
            <a:xfrm>
              <a:off x="2914560" y="3655800"/>
              <a:ext cx="174600" cy="212760"/>
            </a:xfrm>
            <a:custGeom>
              <a:avLst/>
              <a:gdLst/>
              <a:ahLst/>
              <a:rect l="l" t="t" r="r" b="b"/>
              <a:pathLst>
                <a:path w="110" h="134">
                  <a:moveTo>
                    <a:pt x="110" y="134"/>
                  </a:moveTo>
                  <a:lnTo>
                    <a:pt x="0" y="40"/>
                  </a:lnTo>
                  <a:lnTo>
                    <a:pt x="23" y="16"/>
                  </a:lnTo>
                  <a:lnTo>
                    <a:pt x="47" y="0"/>
                  </a:lnTo>
                  <a:lnTo>
                    <a:pt x="110" y="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701800" y="3333600"/>
              <a:ext cx="249120" cy="34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2476440" y="3408480"/>
            <a:ext cx="437760" cy="583560"/>
            <a:chOff x="2476440" y="3408480"/>
            <a:chExt cx="437760" cy="583560"/>
          </a:xfrm>
        </p:grpSpPr>
        <p:sp>
          <p:nvSpPr>
            <p:cNvPr id="309" name=""/>
            <p:cNvSpPr/>
            <p:nvPr/>
          </p:nvSpPr>
          <p:spPr>
            <a:xfrm>
              <a:off x="2476440" y="3408480"/>
              <a:ext cx="187200" cy="198000"/>
            </a:xfrm>
            <a:custGeom>
              <a:avLst/>
              <a:gdLst/>
              <a:ahLst/>
              <a:rect l="l" t="t" r="r" b="b"/>
              <a:pathLst>
                <a:path w="118" h="125">
                  <a:moveTo>
                    <a:pt x="0" y="0"/>
                  </a:moveTo>
                  <a:lnTo>
                    <a:pt x="118" y="94"/>
                  </a:lnTo>
                  <a:lnTo>
                    <a:pt x="79" y="117"/>
                  </a:lnTo>
                  <a:lnTo>
                    <a:pt x="55" y="1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 flipV="1">
              <a:off x="2601360" y="3593880"/>
              <a:ext cx="312840" cy="39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1650960" y="2971800"/>
            <a:ext cx="612720" cy="112680"/>
            <a:chOff x="1650960" y="2971800"/>
            <a:chExt cx="612720" cy="112680"/>
          </a:xfrm>
        </p:grpSpPr>
        <p:sp>
          <p:nvSpPr>
            <p:cNvPr id="312" name=""/>
            <p:cNvSpPr/>
            <p:nvPr/>
          </p:nvSpPr>
          <p:spPr>
            <a:xfrm>
              <a:off x="2050920" y="2971800"/>
              <a:ext cx="212760" cy="112680"/>
            </a:xfrm>
            <a:custGeom>
              <a:avLst/>
              <a:gdLst/>
              <a:ahLst/>
              <a:rect l="l" t="t" r="r" b="b"/>
              <a:pathLst>
                <a:path w="134" h="71">
                  <a:moveTo>
                    <a:pt x="134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34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650960" y="3035520"/>
              <a:ext cx="399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1614600" y="3344760"/>
            <a:ext cx="1287360" cy="784080"/>
            <a:chOff x="1614600" y="3344760"/>
            <a:chExt cx="1287360" cy="784080"/>
          </a:xfrm>
        </p:grpSpPr>
        <p:sp>
          <p:nvSpPr>
            <p:cNvPr id="315" name=""/>
            <p:cNvSpPr/>
            <p:nvPr/>
          </p:nvSpPr>
          <p:spPr>
            <a:xfrm>
              <a:off x="2676600" y="3954240"/>
              <a:ext cx="225360" cy="174600"/>
            </a:xfrm>
            <a:custGeom>
              <a:avLst/>
              <a:gdLst/>
              <a:ahLst/>
              <a:rect l="l" t="t" r="r" b="b"/>
              <a:pathLst>
                <a:path w="142" h="110">
                  <a:moveTo>
                    <a:pt x="142" y="110"/>
                  </a:moveTo>
                  <a:lnTo>
                    <a:pt x="0" y="63"/>
                  </a:lnTo>
                  <a:lnTo>
                    <a:pt x="24" y="40"/>
                  </a:lnTo>
                  <a:lnTo>
                    <a:pt x="40" y="0"/>
                  </a:lnTo>
                  <a:lnTo>
                    <a:pt x="142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614600" y="3344760"/>
              <a:ext cx="1099800" cy="67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1150920" y="3308400"/>
            <a:ext cx="1100160" cy="833400"/>
            <a:chOff x="1150920" y="3308400"/>
            <a:chExt cx="1100160" cy="833400"/>
          </a:xfrm>
        </p:grpSpPr>
        <p:sp>
          <p:nvSpPr>
            <p:cNvPr id="318" name=""/>
            <p:cNvSpPr/>
            <p:nvPr/>
          </p:nvSpPr>
          <p:spPr>
            <a:xfrm>
              <a:off x="2050920" y="3308400"/>
              <a:ext cx="200160" cy="185760"/>
            </a:xfrm>
            <a:custGeom>
              <a:avLst/>
              <a:gdLst/>
              <a:ahLst/>
              <a:rect l="l" t="t" r="r" b="b"/>
              <a:pathLst>
                <a:path w="126" h="117">
                  <a:moveTo>
                    <a:pt x="126" y="0"/>
                  </a:moveTo>
                  <a:lnTo>
                    <a:pt x="32" y="117"/>
                  </a:lnTo>
                  <a:lnTo>
                    <a:pt x="8" y="86"/>
                  </a:lnTo>
                  <a:lnTo>
                    <a:pt x="0" y="63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1150920" y="3444840"/>
              <a:ext cx="912600" cy="69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1525320" y="3892680"/>
            <a:ext cx="259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301480" y="3905280"/>
            <a:ext cx="259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750680" y="2773440"/>
            <a:ext cx="259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3564000" y="3362400"/>
            <a:ext cx="612360" cy="261720"/>
            <a:chOff x="3564000" y="3362400"/>
            <a:chExt cx="612360" cy="261720"/>
          </a:xfrm>
        </p:grpSpPr>
        <p:sp>
          <p:nvSpPr>
            <p:cNvPr id="324" name=""/>
            <p:cNvSpPr/>
            <p:nvPr/>
          </p:nvSpPr>
          <p:spPr>
            <a:xfrm>
              <a:off x="3612960" y="3362400"/>
              <a:ext cx="563400" cy="261720"/>
            </a:xfrm>
            <a:custGeom>
              <a:avLst/>
              <a:gdLst/>
              <a:ahLst/>
              <a:rect l="l" t="t" r="r" b="b"/>
              <a:pathLst>
                <a:path w="355" h="165">
                  <a:moveTo>
                    <a:pt x="355" y="87"/>
                  </a:moveTo>
                  <a:lnTo>
                    <a:pt x="0" y="165"/>
                  </a:lnTo>
                  <a:lnTo>
                    <a:pt x="0" y="87"/>
                  </a:lnTo>
                  <a:lnTo>
                    <a:pt x="0" y="0"/>
                  </a:lnTo>
                  <a:lnTo>
                    <a:pt x="355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3564000" y="3487680"/>
              <a:ext cx="149040" cy="1080"/>
            </a:xfrm>
            <a:prstGeom prst="line">
              <a:avLst/>
            </a:prstGeom>
            <a:ln w="112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4411800" y="2778120"/>
            <a:ext cx="500040" cy="509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568040" y="2921040"/>
            <a:ext cx="249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424400" y="3884760"/>
            <a:ext cx="512640" cy="509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580640" y="4040280"/>
            <a:ext cx="249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4905360" y="3044880"/>
            <a:ext cx="763560" cy="372600"/>
            <a:chOff x="4905360" y="3044880"/>
            <a:chExt cx="763560" cy="372600"/>
          </a:xfrm>
        </p:grpSpPr>
        <p:sp>
          <p:nvSpPr>
            <p:cNvPr id="331" name=""/>
            <p:cNvSpPr/>
            <p:nvPr/>
          </p:nvSpPr>
          <p:spPr>
            <a:xfrm>
              <a:off x="5443560" y="3268440"/>
              <a:ext cx="225360" cy="149040"/>
            </a:xfrm>
            <a:custGeom>
              <a:avLst/>
              <a:gdLst/>
              <a:ahLst/>
              <a:rect l="l" t="t" r="r" b="b"/>
              <a:pathLst>
                <a:path w="142" h="94">
                  <a:moveTo>
                    <a:pt x="142" y="94"/>
                  </a:moveTo>
                  <a:lnTo>
                    <a:pt x="0" y="63"/>
                  </a:lnTo>
                  <a:lnTo>
                    <a:pt x="8" y="24"/>
                  </a:lnTo>
                  <a:lnTo>
                    <a:pt x="32" y="0"/>
                  </a:lnTo>
                  <a:lnTo>
                    <a:pt x="142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905360" y="3044880"/>
              <a:ext cx="550800" cy="26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5600880" y="3338640"/>
            <a:ext cx="500040" cy="496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742720" y="3481560"/>
            <a:ext cx="2826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4946760" y="3692520"/>
            <a:ext cx="734760" cy="360000"/>
            <a:chOff x="4946760" y="3692520"/>
            <a:chExt cx="734760" cy="360000"/>
          </a:xfrm>
        </p:grpSpPr>
        <p:sp>
          <p:nvSpPr>
            <p:cNvPr id="336" name=""/>
            <p:cNvSpPr/>
            <p:nvPr/>
          </p:nvSpPr>
          <p:spPr>
            <a:xfrm>
              <a:off x="5443560" y="3692520"/>
              <a:ext cx="237960" cy="149040"/>
            </a:xfrm>
            <a:custGeom>
              <a:avLst/>
              <a:gdLst/>
              <a:ahLst/>
              <a:rect l="l" t="t" r="r" b="b"/>
              <a:pathLst>
                <a:path w="150" h="94">
                  <a:moveTo>
                    <a:pt x="150" y="0"/>
                  </a:moveTo>
                  <a:lnTo>
                    <a:pt x="32" y="94"/>
                  </a:lnTo>
                  <a:lnTo>
                    <a:pt x="24" y="63"/>
                  </a:lnTo>
                  <a:lnTo>
                    <a:pt x="0" y="23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4946760" y="3793680"/>
              <a:ext cx="534960" cy="25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4993560" y="2908440"/>
            <a:ext cx="637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3+C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217840" y="3929040"/>
            <a:ext cx="259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738920" y="2827440"/>
            <a:ext cx="511200" cy="509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894080" y="2982960"/>
            <a:ext cx="249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775640" y="3922560"/>
            <a:ext cx="512640" cy="509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931880" y="4078440"/>
            <a:ext cx="249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8082000" y="3306600"/>
            <a:ext cx="112680" cy="671400"/>
            <a:chOff x="8082000" y="3306600"/>
            <a:chExt cx="112680" cy="671400"/>
          </a:xfrm>
        </p:grpSpPr>
        <p:sp>
          <p:nvSpPr>
            <p:cNvPr id="345" name=""/>
            <p:cNvSpPr/>
            <p:nvPr/>
          </p:nvSpPr>
          <p:spPr>
            <a:xfrm>
              <a:off x="8082000" y="3754440"/>
              <a:ext cx="112680" cy="223560"/>
            </a:xfrm>
            <a:custGeom>
              <a:avLst/>
              <a:gdLst/>
              <a:ahLst/>
              <a:rect l="l" t="t" r="r" b="b"/>
              <a:pathLst>
                <a:path w="71" h="141">
                  <a:moveTo>
                    <a:pt x="40" y="141"/>
                  </a:moveTo>
                  <a:lnTo>
                    <a:pt x="0" y="0"/>
                  </a:lnTo>
                  <a:lnTo>
                    <a:pt x="40" y="0"/>
                  </a:lnTo>
                  <a:lnTo>
                    <a:pt x="71" y="0"/>
                  </a:lnTo>
                  <a:lnTo>
                    <a:pt x="40" y="1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145360" y="3306600"/>
              <a:ext cx="1800" cy="44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7781760" y="3294000"/>
            <a:ext cx="112680" cy="722160"/>
            <a:chOff x="7781760" y="3294000"/>
            <a:chExt cx="112680" cy="722160"/>
          </a:xfrm>
        </p:grpSpPr>
        <p:sp>
          <p:nvSpPr>
            <p:cNvPr id="348" name=""/>
            <p:cNvSpPr/>
            <p:nvPr/>
          </p:nvSpPr>
          <p:spPr>
            <a:xfrm>
              <a:off x="7781760" y="3294000"/>
              <a:ext cx="112680" cy="223920"/>
            </a:xfrm>
            <a:custGeom>
              <a:avLst/>
              <a:gdLst/>
              <a:ahLst/>
              <a:rect l="l" t="t" r="r" b="b"/>
              <a:pathLst>
                <a:path w="71" h="141">
                  <a:moveTo>
                    <a:pt x="47" y="0"/>
                  </a:moveTo>
                  <a:lnTo>
                    <a:pt x="71" y="141"/>
                  </a:lnTo>
                  <a:lnTo>
                    <a:pt x="40" y="141"/>
                  </a:lnTo>
                  <a:lnTo>
                    <a:pt x="0" y="141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7845120" y="3517920"/>
              <a:ext cx="1440" cy="49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0" name=""/>
          <p:cNvSpPr/>
          <p:nvPr/>
        </p:nvSpPr>
        <p:spPr>
          <a:xfrm>
            <a:off x="6980760" y="4122720"/>
            <a:ext cx="5799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5•S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475320" y="3338640"/>
            <a:ext cx="500040" cy="496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619320" y="3481560"/>
            <a:ext cx="2826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6896160" y="3718080"/>
            <a:ext cx="849240" cy="521640"/>
            <a:chOff x="6896160" y="3718080"/>
            <a:chExt cx="849240" cy="521640"/>
          </a:xfrm>
        </p:grpSpPr>
        <p:sp>
          <p:nvSpPr>
            <p:cNvPr id="354" name=""/>
            <p:cNvSpPr/>
            <p:nvPr/>
          </p:nvSpPr>
          <p:spPr>
            <a:xfrm>
              <a:off x="7532640" y="4065480"/>
              <a:ext cx="212760" cy="174240"/>
            </a:xfrm>
            <a:custGeom>
              <a:avLst/>
              <a:gdLst/>
              <a:ahLst/>
              <a:rect l="l" t="t" r="r" b="b"/>
              <a:pathLst>
                <a:path w="134" h="110">
                  <a:moveTo>
                    <a:pt x="134" y="110"/>
                  </a:moveTo>
                  <a:lnTo>
                    <a:pt x="0" y="70"/>
                  </a:lnTo>
                  <a:lnTo>
                    <a:pt x="7" y="39"/>
                  </a:lnTo>
                  <a:lnTo>
                    <a:pt x="31" y="0"/>
                  </a:lnTo>
                  <a:lnTo>
                    <a:pt x="134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896160" y="3718080"/>
              <a:ext cx="647640" cy="40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6912000" y="3219480"/>
            <a:ext cx="833400" cy="223560"/>
            <a:chOff x="6912000" y="3219480"/>
            <a:chExt cx="833400" cy="223560"/>
          </a:xfrm>
        </p:grpSpPr>
        <p:sp>
          <p:nvSpPr>
            <p:cNvPr id="357" name=""/>
            <p:cNvSpPr/>
            <p:nvPr/>
          </p:nvSpPr>
          <p:spPr>
            <a:xfrm>
              <a:off x="7532640" y="3219480"/>
              <a:ext cx="212760" cy="112680"/>
            </a:xfrm>
            <a:custGeom>
              <a:avLst/>
              <a:gdLst/>
              <a:ahLst/>
              <a:rect l="l" t="t" r="r" b="b"/>
              <a:pathLst>
                <a:path w="134" h="71">
                  <a:moveTo>
                    <a:pt x="134" y="0"/>
                  </a:moveTo>
                  <a:lnTo>
                    <a:pt x="7" y="71"/>
                  </a:lnTo>
                  <a:lnTo>
                    <a:pt x="0" y="31"/>
                  </a:lnTo>
                  <a:lnTo>
                    <a:pt x="0" y="0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912000" y="3271680"/>
              <a:ext cx="620640" cy="17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6869160" y="2898720"/>
            <a:ext cx="811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3•S2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868080" y="3110040"/>
            <a:ext cx="5799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4•S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408640" y="5732640"/>
            <a:ext cx="536400" cy="482400"/>
          </a:xfrm>
          <a:prstGeom prst="ellipse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556960" y="5878440"/>
            <a:ext cx="2826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276720" y="5732640"/>
            <a:ext cx="536400" cy="482400"/>
          </a:xfrm>
          <a:prstGeom prst="ellipse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452040" y="5878440"/>
            <a:ext cx="249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3803760" y="5925960"/>
            <a:ext cx="1614240" cy="105120"/>
            <a:chOff x="3803760" y="5925960"/>
            <a:chExt cx="1614240" cy="105120"/>
          </a:xfrm>
        </p:grpSpPr>
        <p:sp>
          <p:nvSpPr>
            <p:cNvPr id="366" name=""/>
            <p:cNvSpPr/>
            <p:nvPr/>
          </p:nvSpPr>
          <p:spPr>
            <a:xfrm>
              <a:off x="3803760" y="5925960"/>
              <a:ext cx="236520" cy="105120"/>
            </a:xfrm>
            <a:custGeom>
              <a:avLst/>
              <a:gdLst/>
              <a:ahLst/>
              <a:rect l="l" t="t" r="r" b="b"/>
              <a:pathLst>
                <a:path w="149" h="66">
                  <a:moveTo>
                    <a:pt x="0" y="30"/>
                  </a:moveTo>
                  <a:lnTo>
                    <a:pt x="149" y="0"/>
                  </a:lnTo>
                  <a:lnTo>
                    <a:pt x="149" y="30"/>
                  </a:lnTo>
                  <a:lnTo>
                    <a:pt x="149" y="66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040280" y="5981760"/>
              <a:ext cx="13777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4451760" y="5734080"/>
            <a:ext cx="5799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2•S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877360" y="5418000"/>
            <a:ext cx="5799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2•S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845320" y="5396040"/>
            <a:ext cx="596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tioning rules (con’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"/>
          <p:cNvSpPr/>
          <p:nvPr/>
        </p:nvSpPr>
        <p:spPr>
          <a:xfrm>
            <a:off x="-30600" y="1620720"/>
            <a:ext cx="952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Rule #3: Multiple transitions with same source or dest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Source </a:t>
            </a:r>
            <a:r>
              <a:rPr b="0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 Replace by transitions to idle state (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Destination </a:t>
            </a:r>
            <a:r>
              <a:rPr b="0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 Replace with exit transitions from idle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542960" y="4633920"/>
            <a:ext cx="597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Rule #4: Hold condition for idle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OR exit conditions and inve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aly versus Moore parti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ly machines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undesir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puts can affect outputs immediat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” can be a handoff to another machine!!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Inputs can ripple through several machines in one clock cyc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ore or synchronized Mealy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desir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put-to-output path always broken by a flip-flo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…may take several clocks for input to propagate to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 may derive from other side of a part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4133880" y="33228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118040" y="27464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522600" y="2946240"/>
            <a:ext cx="451080" cy="451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2600" y="4686480"/>
            <a:ext cx="451080" cy="450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630520" y="3849840"/>
            <a:ext cx="450720" cy="450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4800600" y="2946240"/>
            <a:ext cx="450720" cy="451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4800600" y="4686480"/>
            <a:ext cx="450720" cy="450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5711040" y="3849840"/>
            <a:ext cx="451080" cy="450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4" name=""/>
          <p:cNvCxnSpPr>
            <a:stCxn id="381" idx="4"/>
            <a:endCxn id="383" idx="6"/>
          </p:cNvCxnSpPr>
          <p:nvPr/>
        </p:nvCxnSpPr>
        <p:spPr>
          <a:xfrm>
            <a:off x="5025600" y="3395160"/>
            <a:ext cx="686520" cy="6786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5" name=""/>
          <p:cNvSpPr/>
          <p:nvPr/>
        </p:nvSpPr>
        <p:spPr>
          <a:xfrm>
            <a:off x="4359240" y="2495520"/>
            <a:ext cx="0" cy="3008520"/>
          </a:xfrm>
          <a:prstGeom prst="line">
            <a:avLst/>
          </a:prstGeom>
          <a:ln w="38160">
            <a:solidFill>
              <a:srgbClr val="cc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stCxn id="378" idx="5"/>
            <a:endCxn id="381" idx="5"/>
          </p:cNvCxnSpPr>
          <p:nvPr/>
        </p:nvCxnSpPr>
        <p:spPr>
          <a:xfrm>
            <a:off x="3906720" y="3330360"/>
            <a:ext cx="95976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7" name=""/>
          <p:cNvCxnSpPr>
            <a:stCxn id="383" idx="6"/>
            <a:endCxn id="382" idx="0"/>
          </p:cNvCxnSpPr>
          <p:nvPr/>
        </p:nvCxnSpPr>
        <p:spPr>
          <a:xfrm flipH="1">
            <a:off x="5025240" y="4073040"/>
            <a:ext cx="686520" cy="6134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8" name=""/>
          <p:cNvCxnSpPr>
            <a:stCxn id="382" idx="7"/>
            <a:endCxn id="379" idx="7"/>
          </p:cNvCxnSpPr>
          <p:nvPr/>
        </p:nvCxnSpPr>
        <p:spPr>
          <a:xfrm flipH="1">
            <a:off x="3906360" y="4750920"/>
            <a:ext cx="959760" cy="2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9" name=""/>
          <p:cNvCxnSpPr>
            <a:stCxn id="379" idx="0"/>
            <a:endCxn id="380" idx="6"/>
          </p:cNvCxnSpPr>
          <p:nvPr/>
        </p:nvCxnSpPr>
        <p:spPr>
          <a:xfrm flipH="1" flipV="1">
            <a:off x="3080880" y="4074840"/>
            <a:ext cx="667440" cy="6120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0" name=""/>
          <p:cNvCxnSpPr>
            <a:stCxn id="380" idx="6"/>
            <a:endCxn id="378" idx="4"/>
          </p:cNvCxnSpPr>
          <p:nvPr/>
        </p:nvCxnSpPr>
        <p:spPr>
          <a:xfrm flipV="1">
            <a:off x="3081240" y="3396600"/>
            <a:ext cx="667440" cy="6786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1" name=""/>
          <p:cNvCxnSpPr>
            <a:stCxn id="378" idx="2"/>
            <a:endCxn id="380" idx="0"/>
          </p:cNvCxnSpPr>
          <p:nvPr/>
        </p:nvCxnSpPr>
        <p:spPr>
          <a:xfrm flipH="1">
            <a:off x="2855520" y="3171600"/>
            <a:ext cx="667440" cy="6786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2" name=""/>
          <p:cNvCxnSpPr>
            <a:stCxn id="380" idx="4"/>
            <a:endCxn id="379" idx="2"/>
          </p:cNvCxnSpPr>
          <p:nvPr/>
        </p:nvCxnSpPr>
        <p:spPr>
          <a:xfrm>
            <a:off x="2855880" y="4300560"/>
            <a:ext cx="667440" cy="6120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3" name=""/>
          <p:cNvCxnSpPr>
            <a:stCxn id="379" idx="5"/>
            <a:endCxn id="382" idx="5"/>
          </p:cNvCxnSpPr>
          <p:nvPr/>
        </p:nvCxnSpPr>
        <p:spPr>
          <a:xfrm>
            <a:off x="3906720" y="5070240"/>
            <a:ext cx="95976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4" name=""/>
          <p:cNvCxnSpPr>
            <a:stCxn id="382" idx="2"/>
            <a:endCxn id="383" idx="4"/>
          </p:cNvCxnSpPr>
          <p:nvPr/>
        </p:nvCxnSpPr>
        <p:spPr>
          <a:xfrm flipV="1">
            <a:off x="5250960" y="4298400"/>
            <a:ext cx="686520" cy="6116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5" name=""/>
          <p:cNvCxnSpPr/>
          <p:nvPr/>
        </p:nvCxnSpPr>
        <p:spPr>
          <a:xfrm flipH="1" flipV="1">
            <a:off x="5248080" y="3145680"/>
            <a:ext cx="695520" cy="6879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6" name=""/>
          <p:cNvCxnSpPr>
            <a:stCxn id="381" idx="7"/>
            <a:endCxn id="378" idx="7"/>
          </p:cNvCxnSpPr>
          <p:nvPr/>
        </p:nvCxnSpPr>
        <p:spPr>
          <a:xfrm flipH="1">
            <a:off x="3906360" y="3011040"/>
            <a:ext cx="959760" cy="2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7" name=""/>
          <p:cNvSpPr/>
          <p:nvPr/>
        </p:nvSpPr>
        <p:spPr>
          <a:xfrm>
            <a:off x="5568840" y="31910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560920" y="46022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581360" y="5052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86200" y="45259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060720" y="32479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121360" y="3630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121360" y="42321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587840" y="449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537000" y="42260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529080" y="3624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x-state up/down coun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66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eak into 2 pa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"/>
          <p:cNvSpPr/>
          <p:nvPr/>
        </p:nvSpPr>
        <p:spPr>
          <a:xfrm>
            <a:off x="5870160" y="2136600"/>
            <a:ext cx="236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ount 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ount d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4861080" y="3505320"/>
            <a:ext cx="3149640" cy="2119320"/>
            <a:chOff x="4861080" y="3505320"/>
            <a:chExt cx="3149640" cy="2119320"/>
          </a:xfrm>
        </p:grpSpPr>
        <p:sp>
          <p:nvSpPr>
            <p:cNvPr id="411" name=""/>
            <p:cNvSpPr/>
            <p:nvPr/>
          </p:nvSpPr>
          <p:spPr>
            <a:xfrm>
              <a:off x="6449040" y="4264920"/>
              <a:ext cx="427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•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166800" y="3888720"/>
              <a:ext cx="107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6710040" y="3505320"/>
              <a:ext cx="388800" cy="388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6711840" y="5236200"/>
              <a:ext cx="388800" cy="388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7621920" y="4408920"/>
              <a:ext cx="388800" cy="388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16" name=""/>
            <p:cNvCxnSpPr>
              <a:stCxn id="413" idx="4"/>
              <a:endCxn id="415" idx="6"/>
            </p:cNvCxnSpPr>
            <p:nvPr/>
          </p:nvCxnSpPr>
          <p:spPr>
            <a:xfrm>
              <a:off x="6904800" y="3946680"/>
              <a:ext cx="686160" cy="677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7" name=""/>
            <p:cNvCxnSpPr>
              <a:stCxn id="418" idx="2"/>
              <a:endCxn id="413" idx="4"/>
            </p:cNvCxnSpPr>
            <p:nvPr/>
          </p:nvCxnSpPr>
          <p:spPr>
            <a:xfrm flipV="1">
              <a:off x="6162480" y="3946680"/>
              <a:ext cx="743040" cy="618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9" name=""/>
            <p:cNvCxnSpPr>
              <a:stCxn id="415" idx="6"/>
              <a:endCxn id="414" idx="0"/>
            </p:cNvCxnSpPr>
            <p:nvPr/>
          </p:nvCxnSpPr>
          <p:spPr>
            <a:xfrm flipH="1">
              <a:off x="6904440" y="4623840"/>
              <a:ext cx="686160" cy="6033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20" name=""/>
            <p:cNvCxnSpPr>
              <a:stCxn id="414" idx="0"/>
              <a:endCxn id="418" idx="2"/>
            </p:cNvCxnSpPr>
            <p:nvPr/>
          </p:nvCxnSpPr>
          <p:spPr>
            <a:xfrm flipH="1" flipV="1">
              <a:off x="6162120" y="4565160"/>
              <a:ext cx="743040" cy="661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21" name=""/>
            <p:cNvCxnSpPr>
              <a:stCxn id="418" idx="4"/>
              <a:endCxn id="414" idx="6"/>
            </p:cNvCxnSpPr>
            <p:nvPr/>
          </p:nvCxnSpPr>
          <p:spPr>
            <a:xfrm>
              <a:off x="5936760" y="4790880"/>
              <a:ext cx="743040" cy="6602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22" name=""/>
            <p:cNvCxnSpPr>
              <a:stCxn id="414" idx="2"/>
              <a:endCxn id="415" idx="4"/>
            </p:cNvCxnSpPr>
            <p:nvPr/>
          </p:nvCxnSpPr>
          <p:spPr>
            <a:xfrm flipV="1">
              <a:off x="7130520" y="4848840"/>
              <a:ext cx="686160" cy="601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23" name=""/>
            <p:cNvCxnSpPr/>
            <p:nvPr/>
          </p:nvCxnSpPr>
          <p:spPr>
            <a:xfrm flipH="1" flipV="1">
              <a:off x="7138800" y="3722040"/>
              <a:ext cx="686520" cy="6786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24" name=""/>
            <p:cNvCxnSpPr>
              <a:stCxn id="413" idx="6"/>
              <a:endCxn id="418" idx="0"/>
            </p:cNvCxnSpPr>
            <p:nvPr/>
          </p:nvCxnSpPr>
          <p:spPr>
            <a:xfrm flipH="1">
              <a:off x="5936400" y="3721320"/>
              <a:ext cx="743040" cy="620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25" name=""/>
            <p:cNvSpPr/>
            <p:nvPr/>
          </p:nvSpPr>
          <p:spPr>
            <a:xfrm>
              <a:off x="7555680" y="3948480"/>
              <a:ext cx="107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444440" y="5151600"/>
              <a:ext cx="107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994360" y="5151600"/>
              <a:ext cx="427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U•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177320" y="4264920"/>
              <a:ext cx="107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102440" y="4775400"/>
              <a:ext cx="107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651360" y="4775400"/>
              <a:ext cx="107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5743440" y="4349520"/>
              <a:ext cx="388800" cy="38844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31" name=""/>
            <p:cNvCxnSpPr>
              <a:stCxn id="418" idx="5"/>
              <a:endCxn id="418" idx="7"/>
            </p:cNvCxnSpPr>
            <p:nvPr/>
          </p:nvCxnSpPr>
          <p:spPr>
            <a:xfrm flipH="1" flipV="1" rot="5400000">
              <a:off x="5617800" y="4565160"/>
              <a:ext cx="318600" cy="1800"/>
            </a:xfrm>
            <a:prstGeom prst="curvedConnector5">
              <a:avLst>
                <a:gd name="adj1" fmla="val -29524"/>
                <a:gd name="adj2" fmla="val -10000000"/>
                <a:gd name="adj3" fmla="val -29524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32" name=""/>
            <p:cNvSpPr/>
            <p:nvPr/>
          </p:nvSpPr>
          <p:spPr>
            <a:xfrm>
              <a:off x="4861080" y="4324320"/>
              <a:ext cx="64080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(D•S0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U•S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)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933480" y="3500280"/>
            <a:ext cx="3298320" cy="2128680"/>
            <a:chOff x="933480" y="3500280"/>
            <a:chExt cx="3298320" cy="2128680"/>
          </a:xfrm>
        </p:grpSpPr>
        <p:sp>
          <p:nvSpPr>
            <p:cNvPr id="434" name=""/>
            <p:cNvSpPr/>
            <p:nvPr/>
          </p:nvSpPr>
          <p:spPr>
            <a:xfrm flipH="1">
              <a:off x="2073600" y="4637520"/>
              <a:ext cx="427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•S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594520" y="5162400"/>
              <a:ext cx="107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842840" y="3500280"/>
              <a:ext cx="388800" cy="388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842840" y="5240520"/>
              <a:ext cx="388800" cy="388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933480" y="4403880"/>
              <a:ext cx="388800" cy="388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39" name=""/>
            <p:cNvCxnSpPr>
              <a:stCxn id="436" idx="4"/>
              <a:endCxn id="438" idx="6"/>
            </p:cNvCxnSpPr>
            <p:nvPr/>
          </p:nvCxnSpPr>
          <p:spPr>
            <a:xfrm flipH="1">
              <a:off x="1352160" y="3943440"/>
              <a:ext cx="686160" cy="6775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440" name=""/>
            <p:cNvCxnSpPr>
              <a:stCxn id="441" idx="2"/>
              <a:endCxn id="436" idx="4"/>
            </p:cNvCxnSpPr>
            <p:nvPr/>
          </p:nvCxnSpPr>
          <p:spPr>
            <a:xfrm flipH="1" flipV="1">
              <a:off x="2037600" y="3942720"/>
              <a:ext cx="742680" cy="619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442" name=""/>
            <p:cNvCxnSpPr>
              <a:stCxn id="438" idx="6"/>
              <a:endCxn id="437" idx="0"/>
            </p:cNvCxnSpPr>
            <p:nvPr/>
          </p:nvCxnSpPr>
          <p:spPr>
            <a:xfrm>
              <a:off x="1352520" y="4619880"/>
              <a:ext cx="686160" cy="611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443" name=""/>
            <p:cNvCxnSpPr>
              <a:stCxn id="437" idx="0"/>
              <a:endCxn id="441" idx="2"/>
            </p:cNvCxnSpPr>
            <p:nvPr/>
          </p:nvCxnSpPr>
          <p:spPr>
            <a:xfrm flipV="1">
              <a:off x="2037960" y="4561920"/>
              <a:ext cx="742680" cy="6696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444" name=""/>
            <p:cNvCxnSpPr>
              <a:stCxn id="441" idx="4"/>
              <a:endCxn id="437" idx="6"/>
            </p:cNvCxnSpPr>
            <p:nvPr/>
          </p:nvCxnSpPr>
          <p:spPr>
            <a:xfrm flipH="1">
              <a:off x="2262960" y="4788000"/>
              <a:ext cx="742680" cy="6696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445" name=""/>
            <p:cNvCxnSpPr>
              <a:stCxn id="437" idx="2"/>
              <a:endCxn id="438" idx="4"/>
            </p:cNvCxnSpPr>
            <p:nvPr/>
          </p:nvCxnSpPr>
          <p:spPr>
            <a:xfrm flipH="1" flipV="1">
              <a:off x="1126800" y="4845240"/>
              <a:ext cx="686160" cy="611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446" name=""/>
            <p:cNvCxnSpPr/>
            <p:nvPr/>
          </p:nvCxnSpPr>
          <p:spPr>
            <a:xfrm flipV="1">
              <a:off x="1118160" y="3717000"/>
              <a:ext cx="686160" cy="6786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447" name=""/>
            <p:cNvCxnSpPr>
              <a:stCxn id="436" idx="6"/>
              <a:endCxn id="441" idx="0"/>
            </p:cNvCxnSpPr>
            <p:nvPr/>
          </p:nvCxnSpPr>
          <p:spPr>
            <a:xfrm>
              <a:off x="2263320" y="3717360"/>
              <a:ext cx="742680" cy="619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448" name=""/>
            <p:cNvSpPr/>
            <p:nvPr/>
          </p:nvSpPr>
          <p:spPr>
            <a:xfrm flipH="1">
              <a:off x="1282680" y="3943440"/>
              <a:ext cx="107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1393920" y="5146920"/>
              <a:ext cx="107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>
              <a:off x="2675520" y="3868200"/>
              <a:ext cx="427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U•S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1661040" y="4259880"/>
              <a:ext cx="107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1736640" y="4770720"/>
              <a:ext cx="107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2368440" y="4244400"/>
              <a:ext cx="107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810880" y="4344480"/>
              <a:ext cx="388800" cy="38844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54" name=""/>
            <p:cNvCxnSpPr>
              <a:stCxn id="441" idx="5"/>
              <a:endCxn id="441" idx="7"/>
            </p:cNvCxnSpPr>
            <p:nvPr/>
          </p:nvCxnSpPr>
          <p:spPr>
            <a:xfrm flipH="1" flipV="1" rot="5400000">
              <a:off x="3006000" y="4560840"/>
              <a:ext cx="320040" cy="2160"/>
            </a:xfrm>
            <a:prstGeom prst="curvedConnector5">
              <a:avLst>
                <a:gd name="adj1" fmla="val -36711"/>
                <a:gd name="adj2" fmla="val 10380000"/>
                <a:gd name="adj3" fmla="val -36711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55" name=""/>
            <p:cNvSpPr/>
            <p:nvPr/>
          </p:nvSpPr>
          <p:spPr>
            <a:xfrm flipH="1">
              <a:off x="3484440" y="4319280"/>
              <a:ext cx="7473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(D•S3 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U•S5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)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6 state up/down counter (con’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nt sequence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goes to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holds, leaves after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goes to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holds, leaves after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wn sequence is simil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Minimize communication between partition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al world: Two machines handof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parate I/O, states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world: Minimize handoffs and common I/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nimize number of state bits that cross bounda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ge common outpu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ok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joint inputs used in different regions of state di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tputs active in only one region of state di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morphic portions of state di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7840" indent="-20772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d states, if necessary, to make them s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ions of diagram with a single entry and single exit poi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 enco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 n state bits and m st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! / (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– m)! possible encodings  [m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lo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m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7840" indent="-20772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m binomial expans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87840" indent="-20772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ample: 3 state bits, 4 states, 1680 possible state assignm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 problem, with no known algorithmic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try heuristic approa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try to optimize some metr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7840" indent="-20772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SM size (amount of logic and number of FF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87840" indent="-20772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SM speed (depth of logic and fanou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87840" indent="-20772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SM dependencies (decomposition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consider start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lf-starting FSM or explicit reset in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quential logic: What you should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tial logic building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ches (R-S and 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ip-flops (master/slave D, edge-triggered D &amp; 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ch and flip-flop timing (setup/hold time, prop del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ming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ip-flop clock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inputs and metasta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is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97960" y="445680"/>
            <a:ext cx="8163000" cy="80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quential logic: What you should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ming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ift regis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pple coun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e diagrams and state-transition tab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 design proced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lnSpc>
                <a:spcPct val="10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.  Draw a state diagra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lnSpc>
                <a:spcPct val="10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.  Draw a state-transition tab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lnSpc>
                <a:spcPct val="10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  Encode the next-state func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lnSpc>
                <a:spcPct val="10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.  Implement the desig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lf-starting coun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ite state machin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ming diagrams (synchronous FSM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ore versus Mealy versus registered Mea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M design proced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7840" indent="0">
              <a:lnSpc>
                <a:spcPct val="10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derstand the problem (state diagram &amp; state-transition tabl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87840" indent="0">
              <a:lnSpc>
                <a:spcPct val="10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termine the machine’s states (minimize the state diagram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87840" indent="0">
              <a:lnSpc>
                <a:spcPct val="10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ncode the machine’s states (state assignmen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87840" indent="0">
              <a:lnSpc>
                <a:spcPct val="10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sign the next-state logic (minimize the combinational logi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87840" indent="0">
              <a:lnSpc>
                <a:spcPct val="10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.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mplement the FS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M design guidel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7840" indent="-20772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parate datapath and contro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-hot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M partitioning proced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title"/>
          </p:nvPr>
        </p:nvSpPr>
        <p:spPr>
          <a:xfrm>
            <a:off x="597960" y="434520"/>
            <a:ext cx="8163000" cy="80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quential logic: What you should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-encoding strateg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guarantee of optimalit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intractable probl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common strate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(sequential) – number states as in the state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ndom – computer tries random encoding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uristic – rules of thumb that seem to work 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.g. Gray-code – try to give adjacent states (states with an arc between them) codes that differ in only one bit pos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One-ho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– use as many state bits as there are st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Outpu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– use outputs to help encode st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-hot enco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-hot: Encode n states using n flip-fl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sign a single “1” for each st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77040" indent="-20556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ample: 0001, 0010, 0100, 10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pagate a single “1” from one flip-flop to the nex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77040" indent="-20556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ther flip-flop outputs are “0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inverse: One-col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sign a single “0” for each st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77040" indent="-20556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ample: 1110, 1101, 1011, 01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pagate a single “0” from one flip-flop to the nex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77040" indent="-20556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ther flip-flop outputs are “1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most one-hot”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no-hot (000…0) for the initial (reset stat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sumes you never revisit the reset st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-hot encoding (con’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ten the best approach for FPG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PGAs have many flip-flo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-hot machines use the least next-state log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aw FSM directly from the state di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product term per incoming a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complex state diagram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omplex desig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-hot designs have many possible failure m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es that aren’t one-ho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create logic to reset the FSM if it enters illegal st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machines require many flip-fl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mpose design into smaller one-hot encoded sub-desig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22680" indent="-19404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+m states for two machines versus n*m states for o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04440" y="1390680"/>
            <a:ext cx="5877000" cy="17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ase item after receiving 15 c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coin slot for dimes and nickel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3480" indent="-19656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sor specifies coin type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chine does not give chan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nding machine again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6472080" y="2048040"/>
            <a:ext cx="1872000" cy="3938400"/>
            <a:chOff x="6472080" y="2048040"/>
            <a:chExt cx="1872000" cy="3938400"/>
          </a:xfrm>
        </p:grpSpPr>
        <p:sp>
          <p:nvSpPr>
            <p:cNvPr id="54" name=""/>
            <p:cNvSpPr/>
            <p:nvPr/>
          </p:nvSpPr>
          <p:spPr>
            <a:xfrm>
              <a:off x="7048440" y="2676600"/>
              <a:ext cx="601560" cy="6015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920" rIns="8892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5" name=""/>
            <p:cNvCxnSpPr/>
            <p:nvPr/>
          </p:nvCxnSpPr>
          <p:spPr>
            <a:xfrm>
              <a:off x="7349760" y="2225160"/>
              <a:ext cx="1080" cy="451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6" name=""/>
            <p:cNvSpPr/>
            <p:nvPr/>
          </p:nvSpPr>
          <p:spPr>
            <a:xfrm>
              <a:off x="7350120" y="2048040"/>
              <a:ext cx="67140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920" rIns="88920" tIns="44640" bIns="44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048440" y="3578400"/>
              <a:ext cx="601560" cy="6015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920" rIns="8892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350120" y="3251160"/>
              <a:ext cx="31428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920" rIns="88920" tIns="44640" bIns="44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9" name=""/>
            <p:cNvCxnSpPr>
              <a:stCxn id="54" idx="4"/>
              <a:endCxn id="57" idx="0"/>
            </p:cNvCxnSpPr>
            <p:nvPr/>
          </p:nvCxnSpPr>
          <p:spPr>
            <a:xfrm>
              <a:off x="7349760" y="3287880"/>
              <a:ext cx="1080" cy="2815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"/>
            <p:cNvSpPr/>
            <p:nvPr/>
          </p:nvSpPr>
          <p:spPr>
            <a:xfrm>
              <a:off x="7356240" y="4154400"/>
              <a:ext cx="30348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" name=""/>
            <p:cNvCxnSpPr>
              <a:stCxn id="57" idx="4"/>
              <a:endCxn id="62" idx="0"/>
            </p:cNvCxnSpPr>
            <p:nvPr/>
          </p:nvCxnSpPr>
          <p:spPr>
            <a:xfrm>
              <a:off x="7349760" y="4188960"/>
              <a:ext cx="1080" cy="2833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3" name=""/>
            <p:cNvSpPr/>
            <p:nvPr/>
          </p:nvSpPr>
          <p:spPr>
            <a:xfrm>
              <a:off x="7319160" y="5056200"/>
              <a:ext cx="79092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 + 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4" name=""/>
            <p:cNvCxnSpPr>
              <a:stCxn id="62" idx="4"/>
              <a:endCxn id="65" idx="0"/>
            </p:cNvCxnSpPr>
            <p:nvPr/>
          </p:nvCxnSpPr>
          <p:spPr>
            <a:xfrm>
              <a:off x="7349760" y="5092200"/>
              <a:ext cx="1080" cy="2833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2" name=""/>
            <p:cNvSpPr/>
            <p:nvPr/>
          </p:nvSpPr>
          <p:spPr>
            <a:xfrm>
              <a:off x="7048440" y="4481640"/>
              <a:ext cx="601560" cy="6015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920" rIns="8892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026560" y="3627360"/>
              <a:ext cx="31752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920" rIns="88920" tIns="44640" bIns="44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4" idx="6"/>
              <a:endCxn id="62" idx="6"/>
            </p:cNvCxnSpPr>
            <p:nvPr/>
          </p:nvCxnSpPr>
          <p:spPr>
            <a:xfrm>
              <a:off x="7659720" y="2977920"/>
              <a:ext cx="2160" cy="1805400"/>
            </a:xfrm>
            <a:prstGeom prst="curvedConnector5">
              <a:avLst>
                <a:gd name="adj1" fmla="val 13800000"/>
                <a:gd name="adj2" fmla="val 50000"/>
                <a:gd name="adj3" fmla="val 13800000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" name=""/>
            <p:cNvSpPr/>
            <p:nvPr/>
          </p:nvSpPr>
          <p:spPr>
            <a:xfrm>
              <a:off x="7048440" y="5384880"/>
              <a:ext cx="601560" cy="6015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920" rIns="88920" tIns="44640" bIns="4464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open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472080" y="4605480"/>
              <a:ext cx="31752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920" rIns="88920" tIns="44640" bIns="44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/>
            <p:nvPr/>
          </p:nvCxnSpPr>
          <p:spPr>
            <a:xfrm flipH="1" flipV="1" rot="10800000">
              <a:off x="7047360" y="3879360"/>
              <a:ext cx="2520" cy="1805760"/>
            </a:xfrm>
            <a:prstGeom prst="curvedConnector5">
              <a:avLst>
                <a:gd name="adj1" fmla="val -14400000"/>
                <a:gd name="adj2" fmla="val 49990"/>
                <a:gd name="adj3" fmla="val -14400000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70" name=""/>
          <p:cNvGrpSpPr/>
          <p:nvPr/>
        </p:nvGrpSpPr>
        <p:grpSpPr>
          <a:xfrm>
            <a:off x="915480" y="3149640"/>
            <a:ext cx="4910400" cy="3033720"/>
            <a:chOff x="915480" y="3149640"/>
            <a:chExt cx="4910400" cy="3033720"/>
          </a:xfrm>
        </p:grpSpPr>
        <p:sp>
          <p:nvSpPr>
            <p:cNvPr id="71" name=""/>
            <p:cNvSpPr/>
            <p:nvPr/>
          </p:nvSpPr>
          <p:spPr>
            <a:xfrm>
              <a:off x="2869920" y="4276800"/>
              <a:ext cx="78912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1375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Vending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achin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S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043000" y="4127400"/>
              <a:ext cx="28728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1375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43000" y="4729320"/>
              <a:ext cx="28728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1375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944440" y="3149640"/>
              <a:ext cx="5889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1375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019320" y="5857920"/>
              <a:ext cx="4143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1375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o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997080" y="4353120"/>
              <a:ext cx="5634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1375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15840" y="4427640"/>
              <a:ext cx="689040" cy="50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1375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in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ns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822560" y="4427640"/>
              <a:ext cx="1003320" cy="50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1375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leas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echanis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643120" y="4051440"/>
              <a:ext cx="1203120" cy="11286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748040" y="4051440"/>
              <a:ext cx="0" cy="11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48040" y="5180040"/>
              <a:ext cx="752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748040" y="4051440"/>
              <a:ext cx="752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915840" y="4051440"/>
              <a:ext cx="825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741320" y="4051440"/>
              <a:ext cx="0" cy="11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915480" y="5180040"/>
              <a:ext cx="825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846240" y="4578480"/>
              <a:ext cx="901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741320" y="4353120"/>
              <a:ext cx="901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741320" y="4954680"/>
              <a:ext cx="901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244680" y="3375000"/>
              <a:ext cx="0" cy="676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3244680" y="5179680"/>
              <a:ext cx="0" cy="67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699160" y="2008080"/>
            <a:ext cx="3021120" cy="19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=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’N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=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 +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’N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cc3399"/>
                </a:solidFill>
                <a:latin typeface="Tahoma"/>
              </a:rPr>
              <a:t>D</a:t>
            </a:r>
            <a:r>
              <a:rPr b="0" lang="en-US" sz="1800" spc="-1" strike="noStrike" baseline="-25000">
                <a:solidFill>
                  <a:srgbClr val="cc3399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Q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lang="en-US" sz="1800" spc="-1" strike="noStrike">
                <a:solidFill>
                  <a:srgbClr val="fc0128"/>
                </a:solidFill>
                <a:latin typeface="Tahoma"/>
              </a:rPr>
              <a:t>Q</a:t>
            </a:r>
            <a:r>
              <a:rPr b="0" lang="en-US" sz="1800" spc="-1" strike="noStrike" baseline="-25000">
                <a:solidFill>
                  <a:srgbClr val="fc0128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fc0128"/>
                </a:solidFill>
                <a:latin typeface="Tahoma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lang="en-US" sz="1800" spc="-1" strike="noStrike">
                <a:solidFill>
                  <a:srgbClr val="00ff00"/>
                </a:solidFill>
                <a:latin typeface="Tahoma"/>
              </a:rPr>
              <a:t>Q</a:t>
            </a:r>
            <a:r>
              <a:rPr b="0" lang="en-US" sz="1800" spc="-1" strike="noStrike" baseline="-25000">
                <a:solidFill>
                  <a:srgbClr val="00ff00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00ff00"/>
                </a:solidFill>
                <a:latin typeface="Tahoma"/>
              </a:rPr>
              <a:t>D’N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=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 +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 +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 +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N =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-hot encoded transition 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716040" y="1467000"/>
            <a:ext cx="4708440" cy="4584600"/>
            <a:chOff x="716040" y="1467000"/>
            <a:chExt cx="4708440" cy="4584600"/>
          </a:xfrm>
        </p:grpSpPr>
        <p:sp>
          <p:nvSpPr>
            <p:cNvPr id="94" name=""/>
            <p:cNvSpPr/>
            <p:nvPr/>
          </p:nvSpPr>
          <p:spPr>
            <a:xfrm>
              <a:off x="876240" y="2210040"/>
              <a:ext cx="4214880" cy="38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>
                <a:lnSpc>
                  <a:spcPct val="105000"/>
                </a:lnSpc>
                <a:tabLst>
                  <a:tab algn="l" pos="0"/>
                  <a:tab algn="l" pos="50760"/>
                  <a:tab algn="l" pos="112680"/>
                  <a:tab algn="l" pos="276120"/>
                  <a:tab algn="l" pos="563400"/>
                  <a:tab algn="l" pos="839880"/>
                  <a:tab algn="l" pos="1290600"/>
                  <a:tab algn="l" pos="1577880"/>
                  <a:tab algn="l" pos="2030400"/>
                  <a:tab algn="l" pos="2305080"/>
                  <a:tab algn="l" pos="2593800"/>
                  <a:tab algn="l" pos="2868480"/>
                  <a:tab algn="l" pos="332100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0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0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ff"/>
                  </a:solidFill>
                  <a:latin typeface="Tahom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0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–  </a:t>
              </a:r>
              <a:r>
                <a:rPr b="0" lang="en-US" sz="1800" spc="-1" strike="noStrike">
                  <a:solidFill>
                    <a:srgbClr val="0000ff"/>
                  </a:solidFill>
                  <a:latin typeface="Tahoma"/>
                </a:rPr>
                <a:t>– 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–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–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0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fc0128"/>
                  </a:solidFill>
                  <a:latin typeface="Tahom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0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0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     –  </a:t>
              </a:r>
              <a:r>
                <a:rPr b="0" lang="en-US" sz="1800" spc="-1" strike="noStrike">
                  <a:solidFill>
                    <a:srgbClr val="fc0128"/>
                  </a:solidFill>
                  <a:latin typeface="Tahoma"/>
                </a:rPr>
                <a:t>–</a:t>
              </a:r>
              <a:r>
                <a:rPr b="0" lang="en-US" sz="1800" spc="-1" strike="noStrike">
                  <a:solidFill>
                    <a:srgbClr val="0000ff"/>
                  </a:solidFill>
                  <a:latin typeface="Tahoma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–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–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ff00"/>
                  </a:solidFill>
                  <a:latin typeface="Tahom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0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0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0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–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–</a:t>
              </a:r>
              <a:r>
                <a:rPr b="0" lang="en-US" sz="1800" spc="-1" strike="noStrike">
                  <a:solidFill>
                    <a:srgbClr val="0000ff"/>
                  </a:solidFill>
                  <a:latin typeface="Tahoma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–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–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     –  –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36560" y="2229120"/>
              <a:ext cx="4159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6560" y="3408480"/>
              <a:ext cx="4184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6560" y="4565880"/>
              <a:ext cx="4172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36560" y="5713560"/>
              <a:ext cx="4172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776320" y="1467000"/>
              <a:ext cx="0" cy="4540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16040" y="1538280"/>
              <a:ext cx="4708440" cy="72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>
                <a:lnSpc>
                  <a:spcPct val="105000"/>
                </a:lnSpc>
                <a:tabLst>
                  <a:tab algn="l" pos="0"/>
                  <a:tab algn="l" pos="50760"/>
                  <a:tab algn="l" pos="112680"/>
                  <a:tab algn="l" pos="276120"/>
                  <a:tab algn="l" pos="563400"/>
                  <a:tab algn="l" pos="839880"/>
                  <a:tab algn="l" pos="1290600"/>
                  <a:tab algn="l" pos="1577880"/>
                  <a:tab algn="l" pos="2030400"/>
                  <a:tab algn="l" pos="2305080"/>
                  <a:tab algn="l" pos="2593800"/>
                  <a:tab algn="l" pos="2868480"/>
                  <a:tab algn="l" pos="332100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resent state inputs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next state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output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Q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ahoma"/>
                </a:rPr>
                <a:t>3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D  N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ahoma"/>
                </a:rPr>
                <a:t>3 </a:t>
              </a:r>
              <a:r>
                <a:rPr b="0" lang="en-US" sz="1800" spc="-1" strike="noStrike">
                  <a:solidFill>
                    <a:srgbClr val="cc3399"/>
                  </a:solidFill>
                  <a:latin typeface="Tahoma"/>
                </a:rPr>
                <a:t>D</a:t>
              </a:r>
              <a:r>
                <a:rPr b="0" lang="en-US" sz="1800" spc="-1" strike="noStrike" baseline="-25000">
                  <a:solidFill>
                    <a:srgbClr val="cc3399"/>
                  </a:solidFill>
                  <a:latin typeface="Tahoma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op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-hot encoded vending mach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39960" y="1353960"/>
            <a:ext cx="3595680" cy="49532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521320" y="2008080"/>
            <a:ext cx="3021120" cy="19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=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’N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=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 +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’N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cc3399"/>
                </a:solidFill>
                <a:latin typeface="Tahoma"/>
              </a:rPr>
              <a:t>D</a:t>
            </a:r>
            <a:r>
              <a:rPr b="0" lang="en-US" sz="1800" spc="-1" strike="noStrike" baseline="-25000">
                <a:solidFill>
                  <a:srgbClr val="cc3399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Q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lang="en-US" sz="1800" spc="-1" strike="noStrike">
                <a:solidFill>
                  <a:srgbClr val="fc0128"/>
                </a:solidFill>
                <a:latin typeface="Tahoma"/>
              </a:rPr>
              <a:t>Q</a:t>
            </a:r>
            <a:r>
              <a:rPr b="0" lang="en-US" sz="1800" spc="-1" strike="noStrike" baseline="-25000">
                <a:solidFill>
                  <a:srgbClr val="fc0128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fc0128"/>
                </a:solidFill>
                <a:latin typeface="Tahoma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lang="en-US" sz="1800" spc="-1" strike="noStrike">
                <a:solidFill>
                  <a:srgbClr val="00ff00"/>
                </a:solidFill>
                <a:latin typeface="Tahoma"/>
              </a:rPr>
              <a:t>Q</a:t>
            </a:r>
            <a:r>
              <a:rPr b="0" lang="en-US" sz="1800" spc="-1" strike="noStrike" baseline="-25000">
                <a:solidFill>
                  <a:srgbClr val="00ff00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00ff00"/>
                </a:solidFill>
                <a:latin typeface="Tahoma"/>
              </a:rPr>
              <a:t>D’N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=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 +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 +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 +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N =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ing from the state dia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552600" y="1682640"/>
            <a:ext cx="2116080" cy="4003560"/>
            <a:chOff x="552600" y="1682640"/>
            <a:chExt cx="2116080" cy="4003560"/>
          </a:xfrm>
        </p:grpSpPr>
        <p:sp>
          <p:nvSpPr>
            <p:cNvPr id="106" name=""/>
            <p:cNvSpPr/>
            <p:nvPr/>
          </p:nvSpPr>
          <p:spPr>
            <a:xfrm>
              <a:off x="1128960" y="2311560"/>
              <a:ext cx="601560" cy="6015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920" rIns="8892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7" name=""/>
            <p:cNvCxnSpPr/>
            <p:nvPr/>
          </p:nvCxnSpPr>
          <p:spPr>
            <a:xfrm>
              <a:off x="1430280" y="1860120"/>
              <a:ext cx="1080" cy="451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8" name=""/>
            <p:cNvSpPr/>
            <p:nvPr/>
          </p:nvSpPr>
          <p:spPr>
            <a:xfrm>
              <a:off x="1430640" y="1682640"/>
              <a:ext cx="6714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920" rIns="88920" tIns="44640" bIns="44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128960" y="3213000"/>
              <a:ext cx="601560" cy="6019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920" rIns="8892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430640" y="2886120"/>
              <a:ext cx="31428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920" rIns="88920" tIns="44640" bIns="44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1" name=""/>
            <p:cNvCxnSpPr>
              <a:stCxn id="106" idx="4"/>
              <a:endCxn id="109" idx="0"/>
            </p:cNvCxnSpPr>
            <p:nvPr/>
          </p:nvCxnSpPr>
          <p:spPr>
            <a:xfrm>
              <a:off x="1430280" y="2922120"/>
              <a:ext cx="1080" cy="2818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1436760" y="3789360"/>
              <a:ext cx="30348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3" name=""/>
            <p:cNvCxnSpPr>
              <a:stCxn id="109" idx="4"/>
              <a:endCxn id="114" idx="0"/>
            </p:cNvCxnSpPr>
            <p:nvPr/>
          </p:nvCxnSpPr>
          <p:spPr>
            <a:xfrm>
              <a:off x="1430280" y="3823920"/>
              <a:ext cx="1080" cy="28332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1399680" y="4724280"/>
              <a:ext cx="79092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 + 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6" name=""/>
            <p:cNvCxnSpPr>
              <a:stCxn id="114" idx="4"/>
              <a:endCxn id="117" idx="0"/>
            </p:cNvCxnSpPr>
            <p:nvPr/>
          </p:nvCxnSpPr>
          <p:spPr>
            <a:xfrm>
              <a:off x="1430280" y="4727160"/>
              <a:ext cx="1080" cy="2833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4" name=""/>
            <p:cNvSpPr/>
            <p:nvPr/>
          </p:nvSpPr>
          <p:spPr>
            <a:xfrm>
              <a:off x="1128960" y="4116240"/>
              <a:ext cx="601560" cy="601920"/>
            </a:xfrm>
            <a:prstGeom prst="ellipse">
              <a:avLst/>
            </a:prstGeom>
            <a:noFill/>
            <a:ln w="19080">
              <a:solidFill>
                <a:srgbClr val="cc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920" rIns="8892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cc3399"/>
                  </a:solidFill>
                  <a:latin typeface="Tahoma"/>
                </a:rPr>
                <a:t>10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84680" y="3262320"/>
              <a:ext cx="31752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920" rIns="88920" tIns="44640" bIns="44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9" name=""/>
            <p:cNvCxnSpPr/>
            <p:nvPr/>
          </p:nvCxnSpPr>
          <p:spPr>
            <a:xfrm>
              <a:off x="1729080" y="2546280"/>
              <a:ext cx="2160" cy="1805760"/>
            </a:xfrm>
            <a:prstGeom prst="curvedConnector5">
              <a:avLst>
                <a:gd name="adj1" fmla="val 13800000"/>
                <a:gd name="adj2" fmla="val 49990"/>
                <a:gd name="adj3" fmla="val 13800000"/>
              </a:avLst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1128960" y="5019840"/>
              <a:ext cx="601560" cy="6015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920" rIns="88920" tIns="44640" bIns="4464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open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52600" y="4240080"/>
              <a:ext cx="31752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920" rIns="88920" tIns="44640" bIns="44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1" name=""/>
            <p:cNvCxnSpPr/>
            <p:nvPr/>
          </p:nvCxnSpPr>
          <p:spPr>
            <a:xfrm flipH="1" flipV="1" rot="10800000">
              <a:off x="1128600" y="3536640"/>
              <a:ext cx="2160" cy="1805760"/>
            </a:xfrm>
            <a:prstGeom prst="curvedConnector5">
              <a:avLst>
                <a:gd name="adj1" fmla="val -14400000"/>
                <a:gd name="adj2" fmla="val 49990"/>
                <a:gd name="adj3" fmla="val -14400000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2" name=""/>
            <p:cNvSpPr/>
            <p:nvPr/>
          </p:nvSpPr>
          <p:spPr>
            <a:xfrm>
              <a:off x="648000" y="2330280"/>
              <a:ext cx="520560" cy="368640"/>
            </a:xfrm>
            <a:custGeom>
              <a:avLst/>
              <a:gdLst/>
              <a:ahLst/>
              <a:rect l="l" t="t" r="r" b="b"/>
              <a:pathLst>
                <a:path w="328" h="232">
                  <a:moveTo>
                    <a:pt x="328" y="82"/>
                  </a:moveTo>
                  <a:cubicBezTo>
                    <a:pt x="316" y="73"/>
                    <a:pt x="289" y="43"/>
                    <a:pt x="254" y="30"/>
                  </a:cubicBezTo>
                  <a:cubicBezTo>
                    <a:pt x="219" y="17"/>
                    <a:pt x="159" y="0"/>
                    <a:pt x="120" y="4"/>
                  </a:cubicBezTo>
                  <a:cubicBezTo>
                    <a:pt x="81" y="8"/>
                    <a:pt x="34" y="32"/>
                    <a:pt x="17" y="56"/>
                  </a:cubicBezTo>
                  <a:cubicBezTo>
                    <a:pt x="0" y="79"/>
                    <a:pt x="0" y="120"/>
                    <a:pt x="17" y="148"/>
                  </a:cubicBezTo>
                  <a:cubicBezTo>
                    <a:pt x="34" y="176"/>
                    <a:pt x="82" y="208"/>
                    <a:pt x="120" y="220"/>
                  </a:cubicBezTo>
                  <a:cubicBezTo>
                    <a:pt x="158" y="232"/>
                    <a:pt x="211" y="222"/>
                    <a:pt x="246" y="220"/>
                  </a:cubicBezTo>
                  <a:cubicBezTo>
                    <a:pt x="281" y="218"/>
                    <a:pt x="311" y="210"/>
                    <a:pt x="328" y="20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97240" y="2019240"/>
              <a:ext cx="56484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920" rIns="88920" tIns="44640" bIns="44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' N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59160" y="3176640"/>
              <a:ext cx="558720" cy="368280"/>
            </a:xfrm>
            <a:custGeom>
              <a:avLst/>
              <a:gdLst/>
              <a:ahLst/>
              <a:rect l="l" t="t" r="r" b="b"/>
              <a:pathLst>
                <a:path w="352" h="232">
                  <a:moveTo>
                    <a:pt x="352" y="102"/>
                  </a:moveTo>
                  <a:cubicBezTo>
                    <a:pt x="336" y="94"/>
                    <a:pt x="293" y="46"/>
                    <a:pt x="254" y="30"/>
                  </a:cubicBezTo>
                  <a:cubicBezTo>
                    <a:pt x="215" y="14"/>
                    <a:pt x="159" y="0"/>
                    <a:pt x="120" y="4"/>
                  </a:cubicBezTo>
                  <a:cubicBezTo>
                    <a:pt x="81" y="8"/>
                    <a:pt x="34" y="32"/>
                    <a:pt x="17" y="56"/>
                  </a:cubicBezTo>
                  <a:cubicBezTo>
                    <a:pt x="0" y="79"/>
                    <a:pt x="0" y="120"/>
                    <a:pt x="17" y="148"/>
                  </a:cubicBezTo>
                  <a:cubicBezTo>
                    <a:pt x="34" y="176"/>
                    <a:pt x="82" y="208"/>
                    <a:pt x="120" y="220"/>
                  </a:cubicBezTo>
                  <a:cubicBezTo>
                    <a:pt x="158" y="232"/>
                    <a:pt x="220" y="222"/>
                    <a:pt x="246" y="220"/>
                  </a:cubicBezTo>
                  <a:cubicBezTo>
                    <a:pt x="272" y="218"/>
                    <a:pt x="263" y="208"/>
                    <a:pt x="277" y="206"/>
                  </a:cubicBezTo>
                  <a:cubicBezTo>
                    <a:pt x="291" y="204"/>
                    <a:pt x="318" y="208"/>
                    <a:pt x="328" y="20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08040" y="2865600"/>
              <a:ext cx="56520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920" rIns="88920" tIns="44640" bIns="44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' N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 flipV="1">
              <a:off x="1683000" y="4374360"/>
              <a:ext cx="558720" cy="368280"/>
            </a:xfrm>
            <a:custGeom>
              <a:avLst/>
              <a:gdLst/>
              <a:ahLst/>
              <a:rect l="l" t="t" r="r" b="b"/>
              <a:pathLst>
                <a:path w="352" h="232">
                  <a:moveTo>
                    <a:pt x="352" y="102"/>
                  </a:moveTo>
                  <a:cubicBezTo>
                    <a:pt x="336" y="94"/>
                    <a:pt x="293" y="46"/>
                    <a:pt x="254" y="30"/>
                  </a:cubicBezTo>
                  <a:cubicBezTo>
                    <a:pt x="215" y="14"/>
                    <a:pt x="159" y="0"/>
                    <a:pt x="120" y="4"/>
                  </a:cubicBezTo>
                  <a:cubicBezTo>
                    <a:pt x="81" y="8"/>
                    <a:pt x="34" y="32"/>
                    <a:pt x="17" y="56"/>
                  </a:cubicBezTo>
                  <a:cubicBezTo>
                    <a:pt x="0" y="79"/>
                    <a:pt x="0" y="120"/>
                    <a:pt x="17" y="148"/>
                  </a:cubicBezTo>
                  <a:cubicBezTo>
                    <a:pt x="34" y="176"/>
                    <a:pt x="82" y="208"/>
                    <a:pt x="120" y="220"/>
                  </a:cubicBezTo>
                  <a:cubicBezTo>
                    <a:pt x="158" y="232"/>
                    <a:pt x="220" y="222"/>
                    <a:pt x="246" y="220"/>
                  </a:cubicBezTo>
                  <a:cubicBezTo>
                    <a:pt x="272" y="218"/>
                    <a:pt x="263" y="208"/>
                    <a:pt x="277" y="206"/>
                  </a:cubicBezTo>
                  <a:cubicBezTo>
                    <a:pt x="291" y="204"/>
                    <a:pt x="318" y="208"/>
                    <a:pt x="328" y="208"/>
                  </a:cubicBezTo>
                </a:path>
              </a:pathLst>
            </a:custGeom>
            <a:noFill/>
            <a:ln w="28440">
              <a:solidFill>
                <a:srgbClr val="00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103480" y="4162320"/>
              <a:ext cx="5652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920" rIns="88920" tIns="44640" bIns="44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ff00"/>
                  </a:solidFill>
                  <a:latin typeface="Tahoma"/>
                </a:rPr>
                <a:t>D' N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 flipV="1">
              <a:off x="1683000" y="5317560"/>
              <a:ext cx="558720" cy="368280"/>
            </a:xfrm>
            <a:custGeom>
              <a:avLst/>
              <a:gdLst/>
              <a:ahLst/>
              <a:rect l="l" t="t" r="r" b="b"/>
              <a:pathLst>
                <a:path w="352" h="232">
                  <a:moveTo>
                    <a:pt x="352" y="102"/>
                  </a:moveTo>
                  <a:cubicBezTo>
                    <a:pt x="336" y="94"/>
                    <a:pt x="293" y="46"/>
                    <a:pt x="254" y="30"/>
                  </a:cubicBezTo>
                  <a:cubicBezTo>
                    <a:pt x="215" y="14"/>
                    <a:pt x="159" y="0"/>
                    <a:pt x="120" y="4"/>
                  </a:cubicBezTo>
                  <a:cubicBezTo>
                    <a:pt x="81" y="8"/>
                    <a:pt x="34" y="32"/>
                    <a:pt x="17" y="56"/>
                  </a:cubicBezTo>
                  <a:cubicBezTo>
                    <a:pt x="0" y="79"/>
                    <a:pt x="0" y="120"/>
                    <a:pt x="17" y="148"/>
                  </a:cubicBezTo>
                  <a:cubicBezTo>
                    <a:pt x="34" y="176"/>
                    <a:pt x="82" y="208"/>
                    <a:pt x="120" y="220"/>
                  </a:cubicBezTo>
                  <a:cubicBezTo>
                    <a:pt x="158" y="232"/>
                    <a:pt x="220" y="222"/>
                    <a:pt x="246" y="220"/>
                  </a:cubicBezTo>
                  <a:cubicBezTo>
                    <a:pt x="272" y="218"/>
                    <a:pt x="263" y="208"/>
                    <a:pt x="277" y="206"/>
                  </a:cubicBezTo>
                  <a:cubicBezTo>
                    <a:pt x="291" y="204"/>
                    <a:pt x="318" y="208"/>
                    <a:pt x="328" y="20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76560" y="5162400"/>
              <a:ext cx="35424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920" rIns="88920" tIns="44640" bIns="44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541840" y="1471680"/>
            <a:ext cx="3595680" cy="49528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619360" y="1693800"/>
            <a:ext cx="3021120" cy="19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=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’N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=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 +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’N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cc3399"/>
                </a:solidFill>
                <a:latin typeface="Tahoma"/>
              </a:rPr>
              <a:t>D</a:t>
            </a:r>
            <a:r>
              <a:rPr b="0" lang="en-US" sz="1800" spc="-1" strike="noStrike" baseline="-25000">
                <a:solidFill>
                  <a:srgbClr val="cc3399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Q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lang="en-US" sz="1800" spc="-1" strike="noStrike">
                <a:solidFill>
                  <a:srgbClr val="fc0128"/>
                </a:solidFill>
                <a:latin typeface="Tahoma"/>
              </a:rPr>
              <a:t>Q</a:t>
            </a:r>
            <a:r>
              <a:rPr b="0" lang="en-US" sz="1800" spc="-1" strike="noStrike" baseline="-25000">
                <a:solidFill>
                  <a:srgbClr val="fc0128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fc0128"/>
                </a:solidFill>
                <a:latin typeface="Tahoma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lang="en-US" sz="1800" spc="-1" strike="noStrike">
                <a:solidFill>
                  <a:srgbClr val="00ff00"/>
                </a:solidFill>
                <a:latin typeface="Tahoma"/>
              </a:rPr>
              <a:t>Q</a:t>
            </a:r>
            <a:r>
              <a:rPr b="0" lang="en-US" sz="1800" spc="-1" strike="noStrike" baseline="-25000">
                <a:solidFill>
                  <a:srgbClr val="00ff00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00ff00"/>
                </a:solidFill>
                <a:latin typeface="Tahoma"/>
              </a:rPr>
              <a:t>D’N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=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 +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 +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 +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N =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1:12:26Z</dcterms:created>
  <dc:creator/>
  <dc:description/>
  <dc:language>en-US</dc:language>
  <cp:lastModifiedBy>Bruce Hemingway</cp:lastModifiedBy>
  <cp:lastPrinted>2002-04-19T20:09:20Z</cp:lastPrinted>
  <dcterms:modified xsi:type="dcterms:W3CDTF">2006-03-06T18:27:14Z</dcterms:modified>
  <cp:revision>824</cp:revision>
  <dc:subject>CSE370</dc:subject>
  <dc:title>Lecture2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5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.washington.edu/people/faculty/diorio/</vt:lpwstr>
  </property>
  <property fmtid="{D5CDD505-2E9C-101B-9397-08002B2CF9AE}" pid="9" name="LinkColor">
    <vt:r8>16711782</vt:r8>
  </property>
  <property fmtid="{D5CDD505-2E9C-101B-9397-08002B2CF9AE}" pid="10" name="MailAddress">
    <vt:lpwstr>diorio@cs.washington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E:\Classes\CSE 370\Autumn 98\web\admin\Slides\Week1Lecture1</vt:lpwstr>
  </property>
  <property fmtid="{D5CDD505-2E9C-101B-9397-08002B2CF9AE}" pid="14" name="ScreenSize">
    <vt:r8>3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