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429B-5535-4D74-879E-6D188053B0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Logic 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-hot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e outputs as stat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create new functions when you can use outpu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ts from state assignments are the outputs for that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e outputs directly from the flip-flo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hoc - no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elds small circuits for most F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ts nicely with synchronous Mealy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ombination lock again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put-encoded F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nch in 3 values in sequence and the door op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re is an error the lock must be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the door opens the lock must be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: sequence of number values,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430880" y="3473280"/>
            <a:ext cx="3369600" cy="2503800"/>
            <a:chOff x="4430880" y="3473280"/>
            <a:chExt cx="3369600" cy="2503800"/>
          </a:xfrm>
        </p:grpSpPr>
        <p:sp>
          <p:nvSpPr>
            <p:cNvPr id="137" name=""/>
            <p:cNvSpPr/>
            <p:nvPr/>
          </p:nvSpPr>
          <p:spPr>
            <a:xfrm>
              <a:off x="5614920" y="4255920"/>
              <a:ext cx="1802880" cy="903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72200" y="380376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86320" y="380376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22920" y="380376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95760" y="380376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46840" y="380376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49800" y="3473280"/>
              <a:ext cx="8506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10120" y="3473280"/>
              <a:ext cx="12139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34080" y="5576760"/>
              <a:ext cx="16520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35440" y="515952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33800" y="380376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41840" y="3473280"/>
              <a:ext cx="8395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78280" y="4819680"/>
              <a:ext cx="99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665320" y="4906800"/>
              <a:ext cx="12492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322240" y="49276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30880" y="47433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 data path and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4800" y="1401840"/>
            <a:ext cx="3889440" cy="15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c0128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ign datapath 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the state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the state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9080" y="1390320"/>
            <a:ext cx="4533840" cy="13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ntrol has 2 out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x control to data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k open/clo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1560" y="3090960"/>
            <a:ext cx="7632720" cy="2828880"/>
            <a:chOff x="601560" y="3090960"/>
            <a:chExt cx="7632720" cy="2828880"/>
          </a:xfrm>
        </p:grpSpPr>
        <p:sp>
          <p:nvSpPr>
            <p:cNvPr id="157" name=""/>
            <p:cNvSpPr/>
            <p:nvPr/>
          </p:nvSpPr>
          <p:spPr>
            <a:xfrm>
              <a:off x="5103720" y="421164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97800" y="37544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03960" y="34560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11720" y="551340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2000" y="51260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26200" y="37544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4960" y="34434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04840" y="35766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90640" y="35766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76440" y="35766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20840" y="48722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04840" y="42372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6880" y="35197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44840" y="351972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30640" y="351972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27320" y="38052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13120" y="38052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8920" y="38052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13120" y="44658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17760" y="4853160"/>
              <a:ext cx="1028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560" y="477684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76760" y="492948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43320" y="4218120"/>
              <a:ext cx="990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80000" y="44974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78360" y="386244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821040" y="43452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6805080" y="488448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818400" y="4770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32520" y="4891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83600" y="47134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05040" y="49802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5800" y="49802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70080" y="388116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868480" y="388116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554280" y="388116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789200" y="491040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49802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4240" y="38116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95600" y="38116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55840" y="38242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868480" y="451620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70040" y="4459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4920" y="3108600"/>
              <a:ext cx="2657520" cy="24206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23960" y="3090960"/>
              <a:ext cx="2543400" cy="2403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w the stat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8280" y="2004480"/>
            <a:ext cx="8437320" cy="3584880"/>
            <a:chOff x="368280" y="2004480"/>
            <a:chExt cx="8437320" cy="3584880"/>
          </a:xfrm>
        </p:grpSpPr>
        <p:sp>
          <p:nvSpPr>
            <p:cNvPr id="203" name=""/>
            <p:cNvSpPr/>
            <p:nvPr/>
          </p:nvSpPr>
          <p:spPr>
            <a:xfrm>
              <a:off x="1710000" y="4019040"/>
              <a:ext cx="8125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69640" y="4416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22880" y="4416480"/>
              <a:ext cx="106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522880" y="2787120"/>
              <a:ext cx="4849560" cy="163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412880" y="2787120"/>
              <a:ext cx="2959560" cy="163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306840" y="2787120"/>
              <a:ext cx="1065600" cy="163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55960" y="2627280"/>
              <a:ext cx="67356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17920" y="4131360"/>
              <a:ext cx="82764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8280" y="4237920"/>
              <a:ext cx="8542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83760" y="4340520"/>
              <a:ext cx="18021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35200" y="3259080"/>
              <a:ext cx="18003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21640" y="3394440"/>
              <a:ext cx="1802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74880" y="3529440"/>
              <a:ext cx="18003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58560" y="4831920"/>
              <a:ext cx="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28560" y="4831920"/>
              <a:ext cx="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750280" y="522936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64600" y="4831920"/>
              <a:ext cx="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37120" y="4831920"/>
              <a:ext cx="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856680" y="522936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74600" y="4831920"/>
              <a:ext cx="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43160" y="4831920"/>
              <a:ext cx="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967040" y="5229360"/>
              <a:ext cx="2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50360" y="4831920"/>
              <a:ext cx="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20360" y="4831920"/>
              <a:ext cx="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642080" y="522936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8200" y="5183640"/>
              <a:ext cx="95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96040" y="5183640"/>
              <a:ext cx="96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02800" y="5183640"/>
              <a:ext cx="96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22920" y="3861000"/>
              <a:ext cx="7822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16880" y="3861000"/>
              <a:ext cx="77796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06880" y="3861000"/>
              <a:ext cx="7819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28920" y="3861000"/>
              <a:ext cx="780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46200" y="2237040"/>
              <a:ext cx="95940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03960" y="4019040"/>
              <a:ext cx="80856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11520" y="4131360"/>
              <a:ext cx="82368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12880" y="4416480"/>
              <a:ext cx="10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75920" y="4340520"/>
              <a:ext cx="180000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93960" y="4019040"/>
              <a:ext cx="8125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01160" y="4131360"/>
              <a:ext cx="82800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06840" y="4416480"/>
              <a:ext cx="106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67720" y="4340520"/>
              <a:ext cx="18021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87560" y="4019040"/>
              <a:ext cx="8107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8680" y="4251240"/>
              <a:ext cx="5554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7560" y="2395080"/>
              <a:ext cx="810720" cy="81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7905240" y="2004480"/>
              <a:ext cx="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635240" y="2004480"/>
              <a:ext cx="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42440" y="2010240"/>
              <a:ext cx="25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3040" y="1422360"/>
            <a:ext cx="524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8760" y="1555920"/>
            <a:ext cx="4502160" cy="1866240"/>
            <a:chOff x="158760" y="1555920"/>
            <a:chExt cx="4502160" cy="1866240"/>
          </a:xfrm>
        </p:grpSpPr>
        <p:sp>
          <p:nvSpPr>
            <p:cNvPr id="252" name=""/>
            <p:cNvSpPr/>
            <p:nvPr/>
          </p:nvSpPr>
          <p:spPr>
            <a:xfrm>
              <a:off x="1562040" y="161280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47840" y="161280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33640" y="161280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78040" y="290808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62040" y="227304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93720" y="1555920"/>
              <a:ext cx="419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1555920"/>
              <a:ext cx="736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87480" y="1555920"/>
              <a:ext cx="736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4160" y="184140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69960" y="184140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55760" y="184140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69960" y="250164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74960" y="2889000"/>
              <a:ext cx="1028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33600" y="2965320"/>
              <a:ext cx="9781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00160" y="225396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38520" y="1898640"/>
              <a:ext cx="86364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378240" y="2381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62240" y="3016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3016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27280" y="191736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25680" y="191736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111480" y="191736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346040" y="2946240"/>
              <a:ext cx="1018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51000" y="30160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1440" y="1847880"/>
              <a:ext cx="35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52800" y="1847880"/>
              <a:ext cx="355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13040" y="1860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425680" y="255240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7240" y="24955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8760" y="281304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243400" y="1515960"/>
            <a:ext cx="3657600" cy="4051080"/>
            <a:chOff x="5243400" y="1515960"/>
            <a:chExt cx="3657600" cy="4051080"/>
          </a:xfrm>
        </p:grpSpPr>
        <p:sp>
          <p:nvSpPr>
            <p:cNvPr id="283" name=""/>
            <p:cNvSpPr/>
            <p:nvPr/>
          </p:nvSpPr>
          <p:spPr>
            <a:xfrm>
              <a:off x="6157800" y="1515960"/>
              <a:ext cx="4701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40560" y="151596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88200" y="151596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37360" y="193320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43400" y="1515960"/>
              <a:ext cx="9781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75400" y="5160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76840" y="24490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72280" y="244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78400" y="24429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72280" y="260748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65800" y="26013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86680" y="260748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0200" y="26013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4490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7320" y="244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13440" y="24429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07320" y="260748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00840" y="26013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21360" y="2607480"/>
              <a:ext cx="30492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15240" y="26013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6920" y="24490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42360" y="244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24429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42360" y="260748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35880" y="26013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56400" y="2607480"/>
              <a:ext cx="30492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50280" y="26013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19920" y="2633040"/>
              <a:ext cx="279000" cy="93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13440" y="26269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34320" y="268416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27840" y="267804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34320" y="303948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27840" y="30333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31478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45120" y="303948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39000" y="30333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23040" y="46717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18120" y="46717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24600" y="4665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909760" y="46652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8480" y="483048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2000" y="482400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32520" y="483048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6040" y="482400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70600" y="344628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64480" y="3440160"/>
              <a:ext cx="291240" cy="92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56560" y="344628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0440" y="3440160"/>
              <a:ext cx="291240" cy="92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81760" y="384048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75640" y="38336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70600" y="384048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64480" y="38336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77160" y="43668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81760" y="377604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5640" y="37699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0600" y="377604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64480" y="37699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59600" y="3846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2520" y="3846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88280" y="2322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88280" y="20682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75320" y="20491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78480" y="20617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94400" y="20617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61200" y="2322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1200" y="18144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22960" y="2322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22960" y="2195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10360" y="2176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78480" y="21888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29440" y="21888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96240" y="2322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96240" y="18144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58000" y="2322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45400" y="230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78480" y="231588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64480" y="2315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31280" y="2322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31280" y="18144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94640" y="28936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86680" y="3020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92800" y="30142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59600" y="28936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59600" y="3020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24560" y="28936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2520" y="3020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31040" y="30142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96240" y="4417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61200" y="454464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64440" y="4536720"/>
              <a:ext cx="637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34120" y="454464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07040" y="454464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79960" y="454464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70760" y="5116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59600" y="3592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59600" y="37191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32520" y="37191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26160" y="18144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32640" y="3713040"/>
              <a:ext cx="11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data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36120" y="3973320"/>
            <a:ext cx="4334040" cy="189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simple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wire mux for data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3000" indent="-221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is 001, 010, 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/closed bit for lock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3000" indent="-221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is 0/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encode the F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M out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x control is 100, 010, 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k control is 0/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are: S0, S1, S2, S3, or ER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use 3, 4, or 5 bits to en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4 outputs, so choose 4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code mux control and lock control in state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 control is first bit, mux control is last 3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 = 0001  (lock closed, mux first cod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 = 0010  (lock closed, mux second cod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 = 0100  (lock closed, mux third cod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= 1000  (lock op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R = 0000  (error, lock clo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 has 4 state bits and 2 input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encoded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and state bits are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minimize the logi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M has 4 state bits and 2 inputs (equal, ne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-variable kmap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state assignment is close to one-h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 state (0000) is only dev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ere a clever design we can u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t and Rese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7277040" y="1111320"/>
            <a:ext cx="123372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31720" y="688680"/>
            <a:ext cx="8437320" cy="3584520"/>
            <a:chOff x="531720" y="688680"/>
            <a:chExt cx="8437320" cy="3584520"/>
          </a:xfrm>
        </p:grpSpPr>
        <p:sp>
          <p:nvSpPr>
            <p:cNvPr id="391" name=""/>
            <p:cNvSpPr/>
            <p:nvPr/>
          </p:nvSpPr>
          <p:spPr>
            <a:xfrm>
              <a:off x="1873440" y="2702880"/>
              <a:ext cx="812520" cy="812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3080" y="31006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86320" y="3100680"/>
              <a:ext cx="106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686320" y="1471320"/>
              <a:ext cx="4849560" cy="16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576320" y="1471320"/>
              <a:ext cx="2959560" cy="16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470280" y="1471320"/>
              <a:ext cx="1065600" cy="16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19400" y="1311480"/>
              <a:ext cx="67356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81360" y="2815200"/>
              <a:ext cx="82764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720" y="2921760"/>
              <a:ext cx="854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47200" y="3024360"/>
              <a:ext cx="18021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98640" y="1943280"/>
              <a:ext cx="18003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85080" y="2078280"/>
              <a:ext cx="1802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38320" y="2213280"/>
              <a:ext cx="18003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2200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9200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913720" y="391320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2804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0056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020120" y="391320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3804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0660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130480" y="3913200"/>
              <a:ext cx="2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1380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8380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805520" y="391320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51640" y="3867480"/>
              <a:ext cx="95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59480" y="3867480"/>
              <a:ext cx="96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66240" y="3867480"/>
              <a:ext cx="96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86360" y="2544840"/>
              <a:ext cx="78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80320" y="2544840"/>
              <a:ext cx="777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70320" y="2544840"/>
              <a:ext cx="7819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92360" y="2544840"/>
              <a:ext cx="7801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09640" y="921240"/>
              <a:ext cx="9594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67400" y="2702880"/>
              <a:ext cx="808560" cy="812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74960" y="2815200"/>
              <a:ext cx="82368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6320" y="3100680"/>
              <a:ext cx="10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39360" y="3024360"/>
              <a:ext cx="180000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57400" y="2702880"/>
              <a:ext cx="812520" cy="812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64600" y="2815200"/>
              <a:ext cx="82800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70280" y="3100680"/>
              <a:ext cx="106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31160" y="3024360"/>
              <a:ext cx="18021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51000" y="2702880"/>
              <a:ext cx="810720" cy="812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2120" y="2935080"/>
              <a:ext cx="5554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551000" y="1078920"/>
              <a:ext cx="810720" cy="81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8068680" y="688680"/>
              <a:ext cx="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798680" y="688680"/>
              <a:ext cx="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05880" y="694440"/>
              <a:ext cx="25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378240" y="4425840"/>
            <a:ext cx="2782800" cy="1938240"/>
          </a:xfrm>
          <a:prstGeom prst="rect">
            <a:avLst/>
          </a:prstGeom>
          <a:noFill/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Assume flip-flops have preset &amp; reset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Can we encode the ERR state as res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7277040" y="1111320"/>
            <a:ext cx="123372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wer: Y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31720" y="688680"/>
            <a:ext cx="8437320" cy="3584520"/>
            <a:chOff x="531720" y="688680"/>
            <a:chExt cx="8437320" cy="3584520"/>
          </a:xfrm>
        </p:grpSpPr>
        <p:sp>
          <p:nvSpPr>
            <p:cNvPr id="442" name=""/>
            <p:cNvSpPr/>
            <p:nvPr/>
          </p:nvSpPr>
          <p:spPr>
            <a:xfrm>
              <a:off x="1873440" y="2702880"/>
              <a:ext cx="812520" cy="812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33080" y="31006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86320" y="3100680"/>
              <a:ext cx="106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2686320" y="1471320"/>
              <a:ext cx="4849560" cy="16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4576320" y="1471320"/>
              <a:ext cx="2959560" cy="16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470280" y="1471320"/>
              <a:ext cx="1065600" cy="16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9400" y="1311480"/>
              <a:ext cx="67356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81360" y="2815200"/>
              <a:ext cx="82764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1720" y="2921760"/>
              <a:ext cx="854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47200" y="3024360"/>
              <a:ext cx="18021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98640" y="1943280"/>
              <a:ext cx="18003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5080" y="2078280"/>
              <a:ext cx="1802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38320" y="2213280"/>
              <a:ext cx="18003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2200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200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13720" y="391320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2804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0056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4020120" y="391320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3804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0660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2130480" y="3913200"/>
              <a:ext cx="2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1380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83800" y="3515760"/>
              <a:ext cx="0" cy="3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7805520" y="391320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51640" y="3867480"/>
              <a:ext cx="95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59480" y="3867480"/>
              <a:ext cx="96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66240" y="3867480"/>
              <a:ext cx="96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86360" y="2544840"/>
              <a:ext cx="78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80320" y="2544840"/>
              <a:ext cx="777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70320" y="2544840"/>
              <a:ext cx="7819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2360" y="2544840"/>
              <a:ext cx="7801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9640" y="921240"/>
              <a:ext cx="9594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67400" y="2702880"/>
              <a:ext cx="808560" cy="812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4960" y="2815200"/>
              <a:ext cx="82368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6320" y="3100680"/>
              <a:ext cx="10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39360" y="3024360"/>
              <a:ext cx="180000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57400" y="2702880"/>
              <a:ext cx="812520" cy="812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64600" y="2815200"/>
              <a:ext cx="82800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70280" y="3100680"/>
              <a:ext cx="106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31160" y="3024360"/>
              <a:ext cx="18021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51000" y="2702880"/>
              <a:ext cx="810720" cy="812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92120" y="2935080"/>
              <a:ext cx="5554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51000" y="1078920"/>
              <a:ext cx="810720" cy="81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8068680" y="688680"/>
              <a:ext cx="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798680" y="688680"/>
              <a:ext cx="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05880" y="694440"/>
              <a:ext cx="25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008000" y="4687920"/>
            <a:ext cx="203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33720" y="4664160"/>
            <a:ext cx="44370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,2,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start’(E’N +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,2,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start + (E’N +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7277040" y="1111320"/>
            <a:ext cx="123372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240" y="1170000"/>
            <a:ext cx="123372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641600" y="264960"/>
            <a:ext cx="6788160" cy="5940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960560" y="738360"/>
            <a:ext cx="203364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4600" y="2543040"/>
            <a:ext cx="44370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,2,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       start’(E’N +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,2,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start + (E’N +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n state bits and m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 /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m)! possible encodings  [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binomial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3 state bits, 4 states, 1680 possible state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 problem, with no known algorithmic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try heuristic approa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try to optimize some metr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SM size (amount of logic and number of F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SM speed (depth of logic and fanou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SM dependencies (decomposi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consider star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starting FSM or explicit reset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 design: A 5-step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4800" y="135720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diagram and state-transition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 the machine’s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missing transitions: Will the machine star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the state diagram: Reuse states where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e the sta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ode states, outputs with a reasonable encoding cho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implementation tar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the next-state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the combinational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ices made in steps 2 &amp; 3 affect the logic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-encoding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uarantee of optima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tractabl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(sequential) – number states as in the state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– computer tries random encod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uristic – rules of thumb that seem to work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 Gray-code – try to give adjacent states (states with an arc between them) codes that differ in only one bit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ne-h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use as many state bits as there are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use outputs to help encode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-hot 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-hot: Encode n states using n flip-fl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a single “1” for each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0001, 0010, 0100, 1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agate a single “1” from one flip-flop to the n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ther flip-flop outputs are “0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verse: One-col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a single “0” for each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1110, 1101, 1011, 0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agate a single “0” from one flip-flop to the n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ther flip-flop outputs are “1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one-hot”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no-hot (000…0) for the initial (reset 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s you never revisit the reset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-hot encoding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best approach for FP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PGAs have many flip-fl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-hot machines use the least next-state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FSM directly from the state di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product term per incoming a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complex state diagra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plex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-hot designs have many possible failure m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es that aren’t one-h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create logic to reset the FSM if it enters illegal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machines require many flip-fl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mpose design into smaller one-hot encoded sub-desig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3000" indent="-221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+m states for two machines versus n*m states for 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4440" y="1390680"/>
            <a:ext cx="5877000" cy="17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ase item after receiving 15 c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coin slot for dimes and nicke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sor specifies coin typ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does not give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nding machine again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72080" y="2048040"/>
            <a:ext cx="1872000" cy="3938400"/>
            <a:chOff x="6472080" y="2048040"/>
            <a:chExt cx="1872000" cy="3938400"/>
          </a:xfrm>
        </p:grpSpPr>
        <p:sp>
          <p:nvSpPr>
            <p:cNvPr id="54" name=""/>
            <p:cNvSpPr/>
            <p:nvPr/>
          </p:nvSpPr>
          <p:spPr>
            <a:xfrm>
              <a:off x="7048440" y="267660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/>
            <p:nvPr/>
          </p:nvCxnSpPr>
          <p:spPr>
            <a:xfrm>
              <a:off x="7349760" y="2225160"/>
              <a:ext cx="1080" cy="45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7350120" y="2048040"/>
              <a:ext cx="6714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48440" y="357840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50120" y="3251160"/>
              <a:ext cx="314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4" idx="4"/>
              <a:endCxn id="57" idx="0"/>
            </p:cNvCxnSpPr>
            <p:nvPr/>
          </p:nvCxnSpPr>
          <p:spPr>
            <a:xfrm>
              <a:off x="7349760" y="3287880"/>
              <a:ext cx="1080" cy="28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7340400" y="4154400"/>
              <a:ext cx="3355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7" idx="4"/>
              <a:endCxn id="62" idx="0"/>
            </p:cNvCxnSpPr>
            <p:nvPr/>
          </p:nvCxnSpPr>
          <p:spPr>
            <a:xfrm>
              <a:off x="7349760" y="4188960"/>
              <a:ext cx="1080" cy="283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"/>
            <p:cNvSpPr/>
            <p:nvPr/>
          </p:nvSpPr>
          <p:spPr>
            <a:xfrm>
              <a:off x="7361640" y="5056200"/>
              <a:ext cx="70560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2" idx="4"/>
              <a:endCxn id="65" idx="0"/>
            </p:cNvCxnSpPr>
            <p:nvPr/>
          </p:nvCxnSpPr>
          <p:spPr>
            <a:xfrm>
              <a:off x="7349760" y="5092200"/>
              <a:ext cx="1080" cy="283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7048440" y="448164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26560" y="3627360"/>
              <a:ext cx="3175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4" idx="6"/>
              <a:endCxn id="62" idx="6"/>
            </p:cNvCxnSpPr>
            <p:nvPr/>
          </p:nvCxnSpPr>
          <p:spPr>
            <a:xfrm>
              <a:off x="7659720" y="2977920"/>
              <a:ext cx="2160" cy="1805400"/>
            </a:xfrm>
            <a:prstGeom prst="curvedConnector5">
              <a:avLst>
                <a:gd name="adj1" fmla="val 13800000"/>
                <a:gd name="adj2" fmla="val 50000"/>
                <a:gd name="adj3" fmla="val 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7048440" y="538488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2080" y="4605480"/>
              <a:ext cx="3175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/>
            <p:nvPr/>
          </p:nvCxnSpPr>
          <p:spPr>
            <a:xfrm flipH="1" flipV="1" rot="10800000">
              <a:off x="7047360" y="3879360"/>
              <a:ext cx="2520" cy="1805760"/>
            </a:xfrm>
            <a:prstGeom prst="curvedConnector5">
              <a:avLst>
                <a:gd name="adj1" fmla="val -14400000"/>
                <a:gd name="adj2" fmla="val 49990"/>
                <a:gd name="adj3" fmla="val -144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" name=""/>
          <p:cNvGrpSpPr/>
          <p:nvPr/>
        </p:nvGrpSpPr>
        <p:grpSpPr>
          <a:xfrm>
            <a:off x="915480" y="3149640"/>
            <a:ext cx="4910400" cy="3033720"/>
            <a:chOff x="915480" y="3149640"/>
            <a:chExt cx="4910400" cy="3033720"/>
          </a:xfrm>
        </p:grpSpPr>
        <p:sp>
          <p:nvSpPr>
            <p:cNvPr id="71" name=""/>
            <p:cNvSpPr/>
            <p:nvPr/>
          </p:nvSpPr>
          <p:spPr>
            <a:xfrm>
              <a:off x="2869920" y="4276800"/>
              <a:ext cx="7891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nd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chin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4127400"/>
              <a:ext cx="287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729320"/>
              <a:ext cx="287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44440" y="3149640"/>
              <a:ext cx="588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19320" y="5857920"/>
              <a:ext cx="41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97080" y="4353120"/>
              <a:ext cx="56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15840" y="4427640"/>
              <a:ext cx="6890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i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22560" y="4427640"/>
              <a:ext cx="10033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lea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chan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43120" y="4051440"/>
              <a:ext cx="1203120" cy="11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48040" y="4051440"/>
              <a:ext cx="0" cy="11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48040" y="5180040"/>
              <a:ext cx="75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48040" y="4051440"/>
              <a:ext cx="75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5840" y="405144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41320" y="4051440"/>
              <a:ext cx="0" cy="11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915480" y="518004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46240" y="4578480"/>
              <a:ext cx="90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41320" y="4353120"/>
              <a:ext cx="90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41320" y="4954680"/>
              <a:ext cx="90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4680" y="3375000"/>
              <a:ext cx="0" cy="67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244680" y="5179680"/>
              <a:ext cx="0" cy="67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699160" y="2008080"/>
            <a:ext cx="30211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cc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-hot encoded transi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16040" y="1467000"/>
            <a:ext cx="4708440" cy="4584600"/>
            <a:chOff x="716040" y="1467000"/>
            <a:chExt cx="4708440" cy="4584600"/>
          </a:xfrm>
        </p:grpSpPr>
        <p:sp>
          <p:nvSpPr>
            <p:cNvPr id="94" name=""/>
            <p:cNvSpPr/>
            <p:nvPr/>
          </p:nvSpPr>
          <p:spPr>
            <a:xfrm>
              <a:off x="876240" y="2210040"/>
              <a:ext cx="4214880" cy="38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50760"/>
                  <a:tab algn="l" pos="112680"/>
                  <a:tab algn="l" pos="276120"/>
                  <a:tab algn="l" pos="563400"/>
                  <a:tab algn="l" pos="839880"/>
                  <a:tab algn="l" pos="1290600"/>
                  <a:tab algn="l" pos="1577880"/>
                  <a:tab algn="l" pos="2030400"/>
                  <a:tab algn="l" pos="2305080"/>
                  <a:tab algn="l" pos="2593800"/>
                  <a:tab algn="l" pos="2868480"/>
                  <a:tab algn="l" pos="332100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 </a:t>
              </a: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–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–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fc0128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  –  </a:t>
              </a:r>
              <a:r>
                <a:rPr b="0" lang="en-US" sz="1800" spc="-1" strike="noStrike">
                  <a:solidFill>
                    <a:srgbClr val="fc0128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–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–</a:t>
              </a: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–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  –  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6560" y="222912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6560" y="3408480"/>
              <a:ext cx="418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6560" y="4565880"/>
              <a:ext cx="417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6560" y="5713560"/>
              <a:ext cx="417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76320" y="1467000"/>
              <a:ext cx="0" cy="454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6040" y="1538280"/>
              <a:ext cx="47084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50760"/>
                  <a:tab algn="l" pos="112680"/>
                  <a:tab algn="l" pos="276120"/>
                  <a:tab algn="l" pos="563400"/>
                  <a:tab algn="l" pos="839880"/>
                  <a:tab algn="l" pos="1290600"/>
                  <a:tab algn="l" pos="1577880"/>
                  <a:tab algn="l" pos="2030400"/>
                  <a:tab algn="l" pos="2305080"/>
                  <a:tab algn="l" pos="2593800"/>
                  <a:tab algn="l" pos="2868480"/>
                  <a:tab algn="l" pos="332100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esent state input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next 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outpu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Q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D  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 </a:t>
              </a:r>
              <a:r>
                <a:rPr b="0" lang="en-US" sz="1800" spc="-1" strike="noStrike">
                  <a:solidFill>
                    <a:srgbClr val="cc3399"/>
                  </a:solidFill>
                  <a:latin typeface="Tahoma"/>
                </a:rPr>
                <a:t>D</a:t>
              </a:r>
              <a:r>
                <a:rPr b="0" lang="en-US" sz="1800" spc="-1" strike="noStrike" baseline="-25000">
                  <a:solidFill>
                    <a:srgbClr val="cc3399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op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-hot encoded vending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39960" y="1353960"/>
            <a:ext cx="3595680" cy="4953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21320" y="2008080"/>
            <a:ext cx="30211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cc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ing from the stat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2600" y="1682640"/>
            <a:ext cx="2116080" cy="4003560"/>
            <a:chOff x="552600" y="1682640"/>
            <a:chExt cx="2116080" cy="4003560"/>
          </a:xfrm>
        </p:grpSpPr>
        <p:sp>
          <p:nvSpPr>
            <p:cNvPr id="106" name=""/>
            <p:cNvSpPr/>
            <p:nvPr/>
          </p:nvSpPr>
          <p:spPr>
            <a:xfrm>
              <a:off x="1128960" y="231156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/>
            <p:nvPr/>
          </p:nvCxnSpPr>
          <p:spPr>
            <a:xfrm>
              <a:off x="1430280" y="1860120"/>
              <a:ext cx="1080" cy="45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"/>
            <p:cNvSpPr/>
            <p:nvPr/>
          </p:nvSpPr>
          <p:spPr>
            <a:xfrm>
              <a:off x="1430640" y="1682640"/>
              <a:ext cx="671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28960" y="3213000"/>
              <a:ext cx="601560" cy="601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30640" y="2886120"/>
              <a:ext cx="314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6" idx="4"/>
              <a:endCxn id="109" idx="0"/>
            </p:cNvCxnSpPr>
            <p:nvPr/>
          </p:nvCxnSpPr>
          <p:spPr>
            <a:xfrm>
              <a:off x="1430280" y="2922120"/>
              <a:ext cx="1080" cy="281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1420920" y="3789360"/>
              <a:ext cx="3355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09" idx="4"/>
              <a:endCxn id="114" idx="0"/>
            </p:cNvCxnSpPr>
            <p:nvPr/>
          </p:nvCxnSpPr>
          <p:spPr>
            <a:xfrm>
              <a:off x="1430280" y="3823920"/>
              <a:ext cx="1080" cy="283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1442160" y="4724280"/>
              <a:ext cx="70560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"/>
            <p:cNvCxnSpPr>
              <a:stCxn id="114" idx="4"/>
              <a:endCxn id="117" idx="0"/>
            </p:cNvCxnSpPr>
            <p:nvPr/>
          </p:nvCxnSpPr>
          <p:spPr>
            <a:xfrm>
              <a:off x="1430280" y="4727160"/>
              <a:ext cx="1080" cy="283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" name=""/>
            <p:cNvSpPr/>
            <p:nvPr/>
          </p:nvSpPr>
          <p:spPr>
            <a:xfrm>
              <a:off x="1128960" y="4116240"/>
              <a:ext cx="601560" cy="601920"/>
            </a:xfrm>
            <a:prstGeom prst="ellipse">
              <a:avLst/>
            </a:prstGeom>
            <a:noFill/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cc3399"/>
                  </a:solidFill>
                  <a:latin typeface="Tahoma"/>
                </a:rPr>
                <a:t>10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4680" y="3262320"/>
              <a:ext cx="3175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/>
            <p:nvPr/>
          </p:nvCxnSpPr>
          <p:spPr>
            <a:xfrm>
              <a:off x="1729080" y="2546280"/>
              <a:ext cx="2160" cy="1805760"/>
            </a:xfrm>
            <a:prstGeom prst="curvedConnector5">
              <a:avLst>
                <a:gd name="adj1" fmla="val 13800000"/>
                <a:gd name="adj2" fmla="val 49990"/>
                <a:gd name="adj3" fmla="val 13800000"/>
              </a:avLst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1128960" y="501984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2600" y="4240080"/>
              <a:ext cx="3175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/>
            <p:nvPr/>
          </p:nvCxnSpPr>
          <p:spPr>
            <a:xfrm flipH="1" flipV="1" rot="10800000">
              <a:off x="1128600" y="3536640"/>
              <a:ext cx="2160" cy="1805760"/>
            </a:xfrm>
            <a:prstGeom prst="curvedConnector5">
              <a:avLst>
                <a:gd name="adj1" fmla="val -14400000"/>
                <a:gd name="adj2" fmla="val 49990"/>
                <a:gd name="adj3" fmla="val -144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648000" y="2330280"/>
              <a:ext cx="520560" cy="36864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328" y="82"/>
                  </a:moveTo>
                  <a:cubicBezTo>
                    <a:pt x="316" y="73"/>
                    <a:pt x="289" y="43"/>
                    <a:pt x="254" y="30"/>
                  </a:cubicBezTo>
                  <a:cubicBezTo>
                    <a:pt x="219" y="17"/>
                    <a:pt x="159" y="0"/>
                    <a:pt x="120" y="4"/>
                  </a:cubicBezTo>
                  <a:cubicBezTo>
                    <a:pt x="81" y="8"/>
                    <a:pt x="34" y="32"/>
                    <a:pt x="17" y="56"/>
                  </a:cubicBezTo>
                  <a:cubicBezTo>
                    <a:pt x="0" y="79"/>
                    <a:pt x="0" y="120"/>
                    <a:pt x="17" y="148"/>
                  </a:cubicBezTo>
                  <a:cubicBezTo>
                    <a:pt x="34" y="176"/>
                    <a:pt x="82" y="208"/>
                    <a:pt x="120" y="220"/>
                  </a:cubicBezTo>
                  <a:cubicBezTo>
                    <a:pt x="158" y="232"/>
                    <a:pt x="211" y="222"/>
                    <a:pt x="246" y="220"/>
                  </a:cubicBezTo>
                  <a:cubicBezTo>
                    <a:pt x="281" y="218"/>
                    <a:pt x="311" y="210"/>
                    <a:pt x="328" y="2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7240" y="2019240"/>
              <a:ext cx="5648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' N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9160" y="3176640"/>
              <a:ext cx="558720" cy="368280"/>
            </a:xfrm>
            <a:custGeom>
              <a:avLst/>
              <a:gdLst/>
              <a:ahLst/>
              <a:rect l="l" t="t" r="r" b="b"/>
              <a:pathLst>
                <a:path w="352" h="232">
                  <a:moveTo>
                    <a:pt x="352" y="102"/>
                  </a:moveTo>
                  <a:cubicBezTo>
                    <a:pt x="336" y="94"/>
                    <a:pt x="293" y="46"/>
                    <a:pt x="254" y="30"/>
                  </a:cubicBezTo>
                  <a:cubicBezTo>
                    <a:pt x="215" y="14"/>
                    <a:pt x="159" y="0"/>
                    <a:pt x="120" y="4"/>
                  </a:cubicBezTo>
                  <a:cubicBezTo>
                    <a:pt x="81" y="8"/>
                    <a:pt x="34" y="32"/>
                    <a:pt x="17" y="56"/>
                  </a:cubicBezTo>
                  <a:cubicBezTo>
                    <a:pt x="0" y="79"/>
                    <a:pt x="0" y="120"/>
                    <a:pt x="17" y="148"/>
                  </a:cubicBezTo>
                  <a:cubicBezTo>
                    <a:pt x="34" y="176"/>
                    <a:pt x="82" y="208"/>
                    <a:pt x="120" y="220"/>
                  </a:cubicBezTo>
                  <a:cubicBezTo>
                    <a:pt x="158" y="232"/>
                    <a:pt x="220" y="222"/>
                    <a:pt x="246" y="220"/>
                  </a:cubicBezTo>
                  <a:cubicBezTo>
                    <a:pt x="272" y="218"/>
                    <a:pt x="263" y="208"/>
                    <a:pt x="277" y="206"/>
                  </a:cubicBezTo>
                  <a:cubicBezTo>
                    <a:pt x="291" y="204"/>
                    <a:pt x="318" y="208"/>
                    <a:pt x="328" y="2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040" y="2865600"/>
              <a:ext cx="565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' N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683000" y="4374360"/>
              <a:ext cx="558720" cy="368280"/>
            </a:xfrm>
            <a:custGeom>
              <a:avLst/>
              <a:gdLst/>
              <a:ahLst/>
              <a:rect l="l" t="t" r="r" b="b"/>
              <a:pathLst>
                <a:path w="352" h="232">
                  <a:moveTo>
                    <a:pt x="352" y="102"/>
                  </a:moveTo>
                  <a:cubicBezTo>
                    <a:pt x="336" y="94"/>
                    <a:pt x="293" y="46"/>
                    <a:pt x="254" y="30"/>
                  </a:cubicBezTo>
                  <a:cubicBezTo>
                    <a:pt x="215" y="14"/>
                    <a:pt x="159" y="0"/>
                    <a:pt x="120" y="4"/>
                  </a:cubicBezTo>
                  <a:cubicBezTo>
                    <a:pt x="81" y="8"/>
                    <a:pt x="34" y="32"/>
                    <a:pt x="17" y="56"/>
                  </a:cubicBezTo>
                  <a:cubicBezTo>
                    <a:pt x="0" y="79"/>
                    <a:pt x="0" y="120"/>
                    <a:pt x="17" y="148"/>
                  </a:cubicBezTo>
                  <a:cubicBezTo>
                    <a:pt x="34" y="176"/>
                    <a:pt x="82" y="208"/>
                    <a:pt x="120" y="220"/>
                  </a:cubicBezTo>
                  <a:cubicBezTo>
                    <a:pt x="158" y="232"/>
                    <a:pt x="220" y="222"/>
                    <a:pt x="246" y="220"/>
                  </a:cubicBezTo>
                  <a:cubicBezTo>
                    <a:pt x="272" y="218"/>
                    <a:pt x="263" y="208"/>
                    <a:pt x="277" y="206"/>
                  </a:cubicBezTo>
                  <a:cubicBezTo>
                    <a:pt x="291" y="204"/>
                    <a:pt x="318" y="208"/>
                    <a:pt x="328" y="208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3480" y="4162320"/>
              <a:ext cx="565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Tahoma"/>
                </a:rPr>
                <a:t>D' N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1683000" y="5317560"/>
              <a:ext cx="558720" cy="368280"/>
            </a:xfrm>
            <a:custGeom>
              <a:avLst/>
              <a:gdLst/>
              <a:ahLst/>
              <a:rect l="l" t="t" r="r" b="b"/>
              <a:pathLst>
                <a:path w="352" h="232">
                  <a:moveTo>
                    <a:pt x="352" y="102"/>
                  </a:moveTo>
                  <a:cubicBezTo>
                    <a:pt x="336" y="94"/>
                    <a:pt x="293" y="46"/>
                    <a:pt x="254" y="30"/>
                  </a:cubicBezTo>
                  <a:cubicBezTo>
                    <a:pt x="215" y="14"/>
                    <a:pt x="159" y="0"/>
                    <a:pt x="120" y="4"/>
                  </a:cubicBezTo>
                  <a:cubicBezTo>
                    <a:pt x="81" y="8"/>
                    <a:pt x="34" y="32"/>
                    <a:pt x="17" y="56"/>
                  </a:cubicBezTo>
                  <a:cubicBezTo>
                    <a:pt x="0" y="79"/>
                    <a:pt x="0" y="120"/>
                    <a:pt x="17" y="148"/>
                  </a:cubicBezTo>
                  <a:cubicBezTo>
                    <a:pt x="34" y="176"/>
                    <a:pt x="82" y="208"/>
                    <a:pt x="120" y="220"/>
                  </a:cubicBezTo>
                  <a:cubicBezTo>
                    <a:pt x="158" y="232"/>
                    <a:pt x="220" y="222"/>
                    <a:pt x="246" y="220"/>
                  </a:cubicBezTo>
                  <a:cubicBezTo>
                    <a:pt x="272" y="218"/>
                    <a:pt x="263" y="208"/>
                    <a:pt x="277" y="206"/>
                  </a:cubicBezTo>
                  <a:cubicBezTo>
                    <a:pt x="291" y="204"/>
                    <a:pt x="318" y="208"/>
                    <a:pt x="328" y="2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6560" y="5162400"/>
              <a:ext cx="35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41840" y="1471680"/>
            <a:ext cx="35956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19360" y="1693800"/>
            <a:ext cx="30211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cc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dc:language>en-US</dc:language>
  <cp:lastModifiedBy>Bruce Hemingway</cp:lastModifiedBy>
  <cp:lastPrinted>2002-04-19T20:09:20Z</cp:lastPrinted>
  <dcterms:modified xsi:type="dcterms:W3CDTF">2004-11-17T21:37:49Z</dcterms:modified>
  <cp:revision>822</cp:revision>
  <dc:subject>CSE370</dc:subject>
  <dc:title>Lecture2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