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078913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942D-959A-4FBF-B4D3-80F98B6D7F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lo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level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level NAND/NOR conver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z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with multilevel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defin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“optimal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ltileve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mality depends on user-defined go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ynthe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 implementation that meets design go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hesis requires CAD-tool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ple hand methods like K-m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D tools manipulate Boolean expres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toring, decomposition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vered in more detail in CSE4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level logic 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 over 2-leve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r circu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d fan-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w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 w.r.t 2-leve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difficult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powerful optimizing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haz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you should know for CSE3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basic multilevel id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level NAND/NAND and NOR/NOR con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zards/glit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zards/glitches: Undesired outpu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curs when different pathways have different del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stes power; causes circuit 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gerous if logic makes a decision while output is uns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gerous if using asynchronous circu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 hazard-free circu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icult when logic is multi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 until signals are s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chronous circu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"/>
          <p:cNvGrpSpPr/>
          <p:nvPr/>
        </p:nvGrpSpPr>
        <p:grpSpPr>
          <a:xfrm>
            <a:off x="6721560" y="3273480"/>
            <a:ext cx="990000" cy="664920"/>
            <a:chOff x="6721560" y="3273480"/>
            <a:chExt cx="990000" cy="664920"/>
          </a:xfrm>
        </p:grpSpPr>
        <p:sp>
          <p:nvSpPr>
            <p:cNvPr id="1068" name=""/>
            <p:cNvSpPr/>
            <p:nvPr/>
          </p:nvSpPr>
          <p:spPr>
            <a:xfrm>
              <a:off x="6834240" y="3850560"/>
              <a:ext cx="20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7047720" y="3273480"/>
              <a:ext cx="0" cy="58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059960" y="3285720"/>
              <a:ext cx="31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385760" y="3298680"/>
              <a:ext cx="0" cy="53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398360" y="3850560"/>
              <a:ext cx="200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59960" y="3298680"/>
              <a:ext cx="3132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721560" y="3561840"/>
              <a:ext cx="31320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398360" y="3561840"/>
              <a:ext cx="31320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5889600" y="4773600"/>
            <a:ext cx="1326960" cy="663120"/>
            <a:chOff x="5889600" y="4773600"/>
            <a:chExt cx="1326960" cy="663120"/>
          </a:xfrm>
        </p:grpSpPr>
        <p:sp>
          <p:nvSpPr>
            <p:cNvPr id="1077" name=""/>
            <p:cNvSpPr/>
            <p:nvPr/>
          </p:nvSpPr>
          <p:spPr>
            <a:xfrm>
              <a:off x="6002280" y="5349240"/>
              <a:ext cx="20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215040" y="4773600"/>
              <a:ext cx="0" cy="58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27640" y="4785840"/>
              <a:ext cx="31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53080" y="4798080"/>
              <a:ext cx="0" cy="53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565680" y="5349240"/>
              <a:ext cx="31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6891120" y="4773600"/>
              <a:ext cx="0" cy="58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903720" y="4785840"/>
              <a:ext cx="20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227640" y="4798080"/>
              <a:ext cx="31284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03720" y="4798080"/>
              <a:ext cx="31284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89600" y="5061240"/>
              <a:ext cx="31284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565680" y="5061240"/>
              <a:ext cx="31284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7483320" y="4773600"/>
            <a:ext cx="1326960" cy="664920"/>
            <a:chOff x="7483320" y="4773600"/>
            <a:chExt cx="1326960" cy="664920"/>
          </a:xfrm>
        </p:grpSpPr>
        <p:sp>
          <p:nvSpPr>
            <p:cNvPr id="1089" name=""/>
            <p:cNvSpPr/>
            <p:nvPr/>
          </p:nvSpPr>
          <p:spPr>
            <a:xfrm>
              <a:off x="7596000" y="4786200"/>
              <a:ext cx="20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808760" y="4798800"/>
              <a:ext cx="0" cy="53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821360" y="5350680"/>
              <a:ext cx="31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8146800" y="4773600"/>
              <a:ext cx="0" cy="58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159400" y="4786200"/>
              <a:ext cx="31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484840" y="4798800"/>
              <a:ext cx="0" cy="53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497440" y="5350680"/>
              <a:ext cx="20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483320" y="4798800"/>
              <a:ext cx="3128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159400" y="4798800"/>
              <a:ext cx="3128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821360" y="5062320"/>
              <a:ext cx="3128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497440" y="5062320"/>
              <a:ext cx="3128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721560" y="1735200"/>
            <a:ext cx="988560" cy="663120"/>
            <a:chOff x="6721560" y="1735200"/>
            <a:chExt cx="988560" cy="663120"/>
          </a:xfrm>
        </p:grpSpPr>
        <p:sp>
          <p:nvSpPr>
            <p:cNvPr id="1101" name=""/>
            <p:cNvSpPr/>
            <p:nvPr/>
          </p:nvSpPr>
          <p:spPr>
            <a:xfrm>
              <a:off x="7059600" y="2023200"/>
              <a:ext cx="31248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21560" y="1760040"/>
              <a:ext cx="31284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834240" y="1747800"/>
              <a:ext cx="199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046640" y="1760040"/>
              <a:ext cx="0" cy="53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059600" y="2310840"/>
              <a:ext cx="31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7385040" y="1735200"/>
              <a:ext cx="0" cy="58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97280" y="1747800"/>
              <a:ext cx="199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97280" y="1760040"/>
              <a:ext cx="31284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haz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54180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1-haz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should stay logic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e delays cause brief glitch to logic 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0-haz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should stay logic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e delays cause brief glitch to logic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haz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should toggle clean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e delays cause multiple trans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haz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ur when a literal and its complement momentarily assume the same val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ough different paths with different delay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an (ideally) static output to </a:t>
            </a:r>
            <a:r>
              <a:rPr b="0" i="1" lang="en-US" sz="2000" spc="-1" strike="noStrike">
                <a:solidFill>
                  <a:srgbClr val="cc3399"/>
                </a:solidFill>
                <a:latin typeface="Tahoma"/>
              </a:rPr>
              <a:t>glit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"/>
          <p:cNvSpPr/>
          <p:nvPr/>
        </p:nvSpPr>
        <p:spPr>
          <a:xfrm>
            <a:off x="4630680" y="4406760"/>
            <a:ext cx="550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940360" y="382104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940360" y="42735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940360" y="4724280"/>
            <a:ext cx="7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6723000" y="4492440"/>
            <a:ext cx="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729480" y="4498920"/>
            <a:ext cx="122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940360" y="4950000"/>
            <a:ext cx="100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948360" y="4956120"/>
            <a:ext cx="0" cy="21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954840" y="5175360"/>
            <a:ext cx="100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940360" y="5627520"/>
            <a:ext cx="100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6948360" y="5395680"/>
            <a:ext cx="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954840" y="5402160"/>
            <a:ext cx="212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174080" y="5407200"/>
            <a:ext cx="0" cy="21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180200" y="5627520"/>
            <a:ext cx="7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532480" y="3583080"/>
            <a:ext cx="576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06920" y="4022640"/>
            <a:ext cx="576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506920" y="4486320"/>
            <a:ext cx="576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506920" y="4924440"/>
            <a:ext cx="6271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532480" y="5376960"/>
            <a:ext cx="5508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91400" y="4630680"/>
            <a:ext cx="137880" cy="28728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791400" y="4643280"/>
            <a:ext cx="100080" cy="71460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016760" y="5056200"/>
            <a:ext cx="125280" cy="27612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3920" y="5307120"/>
            <a:ext cx="750960" cy="463320"/>
          </a:xfrm>
          <a:prstGeom prst="ellipse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451560" y="5832360"/>
            <a:ext cx="2003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static-0 ha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927760" y="3583080"/>
            <a:ext cx="11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940360" y="4035600"/>
            <a:ext cx="11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12720" y="3971880"/>
            <a:ext cx="576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 algn="r"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4210200"/>
            <a:ext cx="576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 algn="r"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22440" y="5175360"/>
            <a:ext cx="576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 algn="r"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440000" y="5702400"/>
            <a:ext cx="6253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608120" y="4994280"/>
            <a:ext cx="450720" cy="727200"/>
          </a:xfrm>
          <a:prstGeom prst="line">
            <a:avLst/>
          </a:prstGeom>
          <a:ln w="19080">
            <a:solidFill>
              <a:srgbClr val="cc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822840" y="4510080"/>
            <a:ext cx="463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822840" y="4987800"/>
            <a:ext cx="4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3816360" y="4503240"/>
            <a:ext cx="0" cy="490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061160" y="4518000"/>
            <a:ext cx="46296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060800" y="4492800"/>
            <a:ext cx="463320" cy="5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457720" y="4041720"/>
            <a:ext cx="224640" cy="41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19440" y="4041720"/>
            <a:ext cx="150120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895760" y="4038840"/>
            <a:ext cx="1424880" cy="42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457360" y="4038840"/>
            <a:ext cx="225000" cy="42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620800" y="4146480"/>
            <a:ext cx="2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620800" y="4348080"/>
            <a:ext cx="2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457720" y="5032440"/>
            <a:ext cx="224640" cy="41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819440" y="5032440"/>
            <a:ext cx="1501200" cy="45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895760" y="5006880"/>
            <a:ext cx="1424880" cy="4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457360" y="5006880"/>
            <a:ext cx="225000" cy="4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620800" y="5138640"/>
            <a:ext cx="2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620800" y="5338800"/>
            <a:ext cx="2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2106360" y="4554360"/>
            <a:ext cx="21276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919160" y="4554360"/>
            <a:ext cx="18756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906200" y="4548240"/>
            <a:ext cx="41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081160" y="4856040"/>
            <a:ext cx="76320" cy="74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321000" y="5238720"/>
            <a:ext cx="18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622680" y="4849920"/>
            <a:ext cx="18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522600" y="4849920"/>
            <a:ext cx="87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516480" y="485604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524480" y="4749840"/>
            <a:ext cx="18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419200" y="4146480"/>
            <a:ext cx="18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217520" y="4146480"/>
            <a:ext cx="11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622680" y="4648320"/>
            <a:ext cx="18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321000" y="4246560"/>
            <a:ext cx="18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16480" y="4253040"/>
            <a:ext cx="0" cy="38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522600" y="4648320"/>
            <a:ext cx="87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19200" y="5338800"/>
            <a:ext cx="18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217520" y="5338800"/>
            <a:ext cx="11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112840" y="4956120"/>
            <a:ext cx="0" cy="1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19200" y="5138640"/>
            <a:ext cx="18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119320" y="5138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19200" y="4348080"/>
            <a:ext cx="18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112840" y="4354560"/>
            <a:ext cx="0" cy="18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087640" y="4322880"/>
            <a:ext cx="63360" cy="619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217520" y="4348080"/>
            <a:ext cx="88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119320" y="43480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746360" y="3373560"/>
            <a:ext cx="18032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 multiplex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haz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32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ur when a literal assumes multip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ough different paths with different del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an output to toggle multiple ti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"/>
          <p:cNvSpPr/>
          <p:nvPr/>
        </p:nvSpPr>
        <p:spPr>
          <a:xfrm>
            <a:off x="5776920" y="4359240"/>
            <a:ext cx="6271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802480" y="3017880"/>
            <a:ext cx="576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776920" y="3456000"/>
            <a:ext cx="576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776920" y="3919680"/>
            <a:ext cx="576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789520" y="5173560"/>
            <a:ext cx="550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485040" y="4189320"/>
            <a:ext cx="199800" cy="102888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459480" y="5146560"/>
            <a:ext cx="1452600" cy="463680"/>
          </a:xfrm>
          <a:prstGeom prst="ellipse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415200" y="5688000"/>
            <a:ext cx="18921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Dynamic haz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76920" y="4797360"/>
            <a:ext cx="6271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121440" y="3243240"/>
            <a:ext cx="224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121440" y="3468600"/>
            <a:ext cx="224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21440" y="3693960"/>
            <a:ext cx="10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121440" y="3017880"/>
            <a:ext cx="10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121440" y="414504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6453360" y="3912840"/>
            <a:ext cx="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59480" y="3919680"/>
            <a:ext cx="1903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121440" y="459756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6904080" y="4365360"/>
            <a:ext cx="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910560" y="4371840"/>
            <a:ext cx="145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121440" y="5048280"/>
            <a:ext cx="122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7354800" y="4816440"/>
            <a:ext cx="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361280" y="4822920"/>
            <a:ext cx="100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21440" y="5273640"/>
            <a:ext cx="43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572160" y="5273640"/>
            <a:ext cx="10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678720" y="5280120"/>
            <a:ext cx="0" cy="21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684840" y="5499000"/>
            <a:ext cx="43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7129440" y="5267160"/>
            <a:ext cx="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135920" y="5273640"/>
            <a:ext cx="55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693200" y="5280120"/>
            <a:ext cx="0" cy="21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699320" y="5499000"/>
            <a:ext cx="663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935760" y="4640400"/>
            <a:ext cx="187200" cy="61416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399440" y="5079960"/>
            <a:ext cx="274680" cy="15084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47560" y="3224160"/>
            <a:ext cx="576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r"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47560" y="4489560"/>
            <a:ext cx="576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r"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22360" y="3800520"/>
            <a:ext cx="576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 algn="r"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992840" y="3235320"/>
            <a:ext cx="2030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371600" y="4046400"/>
            <a:ext cx="552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386080" y="3652920"/>
            <a:ext cx="550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373040" y="3587760"/>
            <a:ext cx="552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04840" y="3243600"/>
            <a:ext cx="1339560" cy="43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105200" y="3244680"/>
            <a:ext cx="1339200" cy="45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700640" y="3251160"/>
            <a:ext cx="110160" cy="38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662480" y="3195720"/>
            <a:ext cx="148320" cy="49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444760" y="3419640"/>
            <a:ext cx="87480" cy="74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287800" y="3825720"/>
            <a:ext cx="135180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268720" y="3833640"/>
            <a:ext cx="1377360" cy="4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900520" y="3852720"/>
            <a:ext cx="113760" cy="38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938320" y="3849840"/>
            <a:ext cx="75960" cy="38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646440" y="4019400"/>
            <a:ext cx="87480" cy="763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755720" y="430200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755720" y="477828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749600" y="4308480"/>
            <a:ext cx="0" cy="46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022480" y="4299120"/>
            <a:ext cx="428400" cy="50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022120" y="4291200"/>
            <a:ext cx="428760" cy="47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468520" y="4497480"/>
            <a:ext cx="76320" cy="8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471840" y="3317760"/>
            <a:ext cx="1377720" cy="4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72200" y="3344760"/>
            <a:ext cx="137736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105800" y="3351240"/>
            <a:ext cx="110160" cy="38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102200" y="3296520"/>
            <a:ext cx="115560" cy="49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64066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64066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849920" y="3519360"/>
            <a:ext cx="74520" cy="74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146400" y="3255840"/>
            <a:ext cx="287280" cy="18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3146400" y="3443040"/>
            <a:ext cx="287280" cy="21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139920" y="3255840"/>
            <a:ext cx="0" cy="38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446640" y="3419640"/>
            <a:ext cx="87120" cy="74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154160" y="3349800"/>
            <a:ext cx="636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554120" y="4440240"/>
            <a:ext cx="18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554120" y="354960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549440" y="3556080"/>
            <a:ext cx="0" cy="38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523880" y="3925800"/>
            <a:ext cx="49320" cy="507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549440" y="3957480"/>
            <a:ext cx="0" cy="4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523880" y="3925800"/>
            <a:ext cx="49320" cy="507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154160" y="3951360"/>
            <a:ext cx="38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554120" y="3951360"/>
            <a:ext cx="1463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544840" y="4540320"/>
            <a:ext cx="18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744640" y="4151160"/>
            <a:ext cx="2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38520" y="415764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154160" y="4640400"/>
            <a:ext cx="60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746520" y="4051440"/>
            <a:ext cx="18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946680" y="365112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941640" y="3657600"/>
            <a:ext cx="0" cy="38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930920" y="3564000"/>
            <a:ext cx="18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532320" y="3463920"/>
            <a:ext cx="68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544840" y="3463920"/>
            <a:ext cx="606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" rIns="1728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95640" y="5716440"/>
            <a:ext cx="2031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Dynamic haz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3" name=""/>
          <p:cNvGrpSpPr/>
          <p:nvPr/>
        </p:nvGrpSpPr>
        <p:grpSpPr>
          <a:xfrm>
            <a:off x="1386000" y="5363640"/>
            <a:ext cx="1523880" cy="228960"/>
            <a:chOff x="1386000" y="5363640"/>
            <a:chExt cx="1523880" cy="228960"/>
          </a:xfrm>
        </p:grpSpPr>
        <p:sp>
          <p:nvSpPr>
            <p:cNvPr id="1274" name=""/>
            <p:cNvSpPr/>
            <p:nvPr/>
          </p:nvSpPr>
          <p:spPr>
            <a:xfrm>
              <a:off x="1386000" y="559260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2071800" y="5363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071800" y="53640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224080" y="53640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224080" y="5592600"/>
              <a:ext cx="1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2351160" y="5363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51160" y="5364000"/>
              <a:ext cx="55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3367080" y="5363640"/>
            <a:ext cx="1523880" cy="228960"/>
            <a:chOff x="3367080" y="5363640"/>
            <a:chExt cx="1523880" cy="228960"/>
          </a:xfrm>
        </p:grpSpPr>
        <p:sp>
          <p:nvSpPr>
            <p:cNvPr id="1282" name=""/>
            <p:cNvSpPr/>
            <p:nvPr/>
          </p:nvSpPr>
          <p:spPr>
            <a:xfrm>
              <a:off x="3367080" y="536400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52880" y="53640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052880" y="55926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4205160" y="5363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205160" y="5364000"/>
              <a:ext cx="1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332240" y="53640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332240" y="5592600"/>
              <a:ext cx="55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ing static haz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226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2-level logic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ing single-bit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idea: Glitches happen when a changing input spans separate k-map encirc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1101 to 0101 change can cause a static-1 glit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"/>
          <p:cNvSpPr/>
          <p:nvPr/>
        </p:nvSpPr>
        <p:spPr>
          <a:xfrm>
            <a:off x="1679400" y="4678200"/>
            <a:ext cx="41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79400" y="5129280"/>
            <a:ext cx="425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673280" y="4671720"/>
            <a:ext cx="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892880" y="4675320"/>
            <a:ext cx="411840" cy="47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892520" y="4647960"/>
            <a:ext cx="412200" cy="47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679400" y="5241960"/>
            <a:ext cx="41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79400" y="5694480"/>
            <a:ext cx="425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1673280" y="5235480"/>
            <a:ext cx="0" cy="46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880" y="5238720"/>
            <a:ext cx="411840" cy="4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92520" y="5213520"/>
            <a:ext cx="412200" cy="47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607480" y="4986360"/>
            <a:ext cx="198720" cy="40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030760" y="4986360"/>
            <a:ext cx="1339200" cy="44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103120" y="4961160"/>
            <a:ext cx="1266840" cy="43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607120" y="4961160"/>
            <a:ext cx="199080" cy="43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292480" y="4903920"/>
            <a:ext cx="17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481120" y="5092560"/>
            <a:ext cx="308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475000" y="4910040"/>
            <a:ext cx="0" cy="1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292480" y="5467320"/>
            <a:ext cx="17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481120" y="5280120"/>
            <a:ext cx="308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475000" y="5286240"/>
            <a:ext cx="0" cy="1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70320" y="5180040"/>
            <a:ext cx="16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57440" y="5180040"/>
            <a:ext cx="16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2200" y="4803840"/>
            <a:ext cx="17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227240" y="4632480"/>
            <a:ext cx="237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492200" y="4991040"/>
            <a:ext cx="17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227240" y="4827600"/>
            <a:ext cx="237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492200" y="5367240"/>
            <a:ext cx="17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227240" y="5195880"/>
            <a:ext cx="237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492200" y="5556240"/>
            <a:ext cx="17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227240" y="5394240"/>
            <a:ext cx="237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711600" y="5010120"/>
            <a:ext cx="2253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776920" y="4379760"/>
            <a:ext cx="20160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9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73"/>
              </a:lnSpc>
              <a:spcBef>
                <a:spcPts val="1701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73"/>
              </a:lnSpc>
              <a:spcBef>
                <a:spcPts val="1701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01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70720" y="5221440"/>
            <a:ext cx="90144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670720" y="566748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6114960" y="5208120"/>
            <a:ext cx="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572160" y="5221440"/>
            <a:ext cx="9018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572160" y="566748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7016760" y="5208120"/>
            <a:ext cx="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670720" y="4319640"/>
            <a:ext cx="90144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670720" y="476424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6114960" y="43070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572160" y="431964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572160" y="476424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7016760" y="43070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425920" y="3848040"/>
            <a:ext cx="738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102280" y="4092480"/>
            <a:ext cx="739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89560" y="6248520"/>
            <a:ext cx="576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442280" y="508788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564160" y="4037040"/>
            <a:ext cx="6382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014880" y="403704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465960" y="403704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78520" y="403704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962600" y="442584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950000" y="4851360"/>
            <a:ext cx="6760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000760" y="5303880"/>
            <a:ext cx="625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000760" y="5767560"/>
            <a:ext cx="625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 flipV="1">
            <a:off x="5356080" y="4005000"/>
            <a:ext cx="31464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572160" y="4011480"/>
            <a:ext cx="90180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121440" y="6218280"/>
            <a:ext cx="87624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275440" y="5243400"/>
            <a:ext cx="0" cy="89064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567560" y="4770360"/>
            <a:ext cx="0" cy="89064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875120" y="5538960"/>
            <a:ext cx="525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615000" y="4363920"/>
            <a:ext cx="789120" cy="79056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713560" y="4821120"/>
            <a:ext cx="801720" cy="78912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716880" y="3724200"/>
            <a:ext cx="574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305000" y="3948120"/>
            <a:ext cx="19224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 = AC' + A'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ing static hazards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Add redundant k-map encirc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ure that all single-bit changes are cov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 eliminate static-1 hazards: Use SOP 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till need to eliminate static-0 hazards: Use POS 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"/>
          <p:cNvSpPr/>
          <p:nvPr/>
        </p:nvSpPr>
        <p:spPr>
          <a:xfrm>
            <a:off x="1879560" y="3635280"/>
            <a:ext cx="41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879560" y="4086360"/>
            <a:ext cx="425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1873080" y="3628800"/>
            <a:ext cx="0" cy="46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092320" y="3632040"/>
            <a:ext cx="412560" cy="47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091960" y="3605400"/>
            <a:ext cx="412920" cy="47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879560" y="4199040"/>
            <a:ext cx="41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879560" y="4651200"/>
            <a:ext cx="425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873080" y="4192560"/>
            <a:ext cx="0" cy="46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092320" y="4195800"/>
            <a:ext cx="412560" cy="4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091960" y="4170600"/>
            <a:ext cx="412920" cy="47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864160" y="4221000"/>
            <a:ext cx="199440" cy="40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287800" y="4221000"/>
            <a:ext cx="1339200" cy="44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361240" y="4195440"/>
            <a:ext cx="126576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863800" y="4195440"/>
            <a:ext cx="19980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492280" y="3860640"/>
            <a:ext cx="17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679840" y="4305240"/>
            <a:ext cx="35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674800" y="3867120"/>
            <a:ext cx="0" cy="44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492280" y="44244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679840" y="4538520"/>
            <a:ext cx="366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627360" y="4414680"/>
            <a:ext cx="16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714840" y="4414680"/>
            <a:ext cx="16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692360" y="3760920"/>
            <a:ext cx="17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427040" y="3589200"/>
            <a:ext cx="2383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92360" y="3948120"/>
            <a:ext cx="17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427040" y="3784680"/>
            <a:ext cx="2383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692360" y="4324320"/>
            <a:ext cx="17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427040" y="4152960"/>
            <a:ext cx="2383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692360" y="4513320"/>
            <a:ext cx="17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427040" y="4351320"/>
            <a:ext cx="2383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968640" y="4344840"/>
            <a:ext cx="2253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638680" y="3371760"/>
            <a:ext cx="201636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9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73"/>
              </a:lnSpc>
              <a:spcBef>
                <a:spcPts val="1701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73"/>
              </a:lnSpc>
              <a:spcBef>
                <a:spcPts val="1701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01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532480" y="4213080"/>
            <a:ext cx="901800" cy="90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532480" y="465948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5977080" y="4200120"/>
            <a:ext cx="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434280" y="4213080"/>
            <a:ext cx="901440" cy="90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434280" y="465948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6878520" y="4200120"/>
            <a:ext cx="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532480" y="3311640"/>
            <a:ext cx="9018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532480" y="375588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5977080" y="32986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434280" y="3311640"/>
            <a:ext cx="9014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434280" y="375588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6878520" y="32986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288040" y="2840040"/>
            <a:ext cx="738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964040" y="3084480"/>
            <a:ext cx="739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151680" y="5240160"/>
            <a:ext cx="576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304040" y="407988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425920" y="3029040"/>
            <a:ext cx="6382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877000" y="302904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327720" y="302904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740640" y="302904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824360" y="341784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811760" y="3843360"/>
            <a:ext cx="676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862520" y="4295880"/>
            <a:ext cx="625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862520" y="4759200"/>
            <a:ext cx="625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 flipV="1">
            <a:off x="5217840" y="2997000"/>
            <a:ext cx="31428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34280" y="30034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983200" y="521028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137200" y="421308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429680" y="376236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737240" y="4530600"/>
            <a:ext cx="5252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477120" y="3355920"/>
            <a:ext cx="788760" cy="79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575320" y="3813120"/>
            <a:ext cx="80172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578640" y="2716200"/>
            <a:ext cx="574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613480" y="3789360"/>
            <a:ext cx="167148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878120" y="4795920"/>
            <a:ext cx="41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878120" y="5248440"/>
            <a:ext cx="425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1871640" y="4789440"/>
            <a:ext cx="0" cy="46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091240" y="4792680"/>
            <a:ext cx="411840" cy="4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090880" y="4767480"/>
            <a:ext cx="412200" cy="47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500200" y="5021280"/>
            <a:ext cx="17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682720" y="4535640"/>
            <a:ext cx="0" cy="48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90560" y="4921200"/>
            <a:ext cx="17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425600" y="4749840"/>
            <a:ext cx="237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690560" y="5110200"/>
            <a:ext cx="17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920" rIns="1692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425600" y="4948200"/>
            <a:ext cx="237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104840" y="2860560"/>
            <a:ext cx="2743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 = AC' + A'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+ C'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y of haz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liminate static hazards in 2-leve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ingle-bit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iminating static hazards also eliminates dynamic haz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zards are a difficult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-bit changes in 2-level logic are h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c hazards in multilevel logic are ha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hazards in multilevel logic are harder y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D tools and simulation/testing are indispens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vectors probe a design for haz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924440" y="2768760"/>
            <a:ext cx="3975120" cy="649080"/>
            <a:chOff x="4924440" y="2768760"/>
            <a:chExt cx="3975120" cy="649080"/>
          </a:xfrm>
        </p:grpSpPr>
        <p:sp>
          <p:nvSpPr>
            <p:cNvPr id="44" name=""/>
            <p:cNvSpPr/>
            <p:nvPr/>
          </p:nvSpPr>
          <p:spPr>
            <a:xfrm>
              <a:off x="8380440" y="2981160"/>
              <a:ext cx="519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24440" y="2768760"/>
              <a:ext cx="519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805360" y="2768760"/>
              <a:ext cx="519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05560" y="2768760"/>
              <a:ext cx="541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16920" y="2768760"/>
              <a:ext cx="542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85280" y="2890800"/>
              <a:ext cx="43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85280" y="3367080"/>
              <a:ext cx="44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80240" y="2897280"/>
              <a:ext cx="0" cy="46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99840" y="2887560"/>
              <a:ext cx="418320" cy="48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99480" y="2860920"/>
              <a:ext cx="418680" cy="50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62760" y="2835360"/>
              <a:ext cx="26028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962760" y="3022200"/>
              <a:ext cx="26028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956640" y="28353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34200" y="2997360"/>
              <a:ext cx="79560" cy="75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51760" y="2835360"/>
              <a:ext cx="25848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251760" y="3022200"/>
              <a:ext cx="25848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5280" y="28353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23200" y="2997360"/>
              <a:ext cx="85680" cy="75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29240" y="2835360"/>
              <a:ext cx="25884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529240" y="3022200"/>
              <a:ext cx="25884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23120" y="28353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9240" y="2997360"/>
              <a:ext cx="82440" cy="75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23120" y="3029040"/>
              <a:ext cx="35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48160" y="3029040"/>
              <a:ext cx="16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04200" y="3230640"/>
              <a:ext cx="16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99520" y="3235320"/>
              <a:ext cx="0" cy="17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48160" y="3417840"/>
              <a:ext cx="214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42040" y="30351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76720" y="3029040"/>
              <a:ext cx="26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19720" y="3003480"/>
              <a:ext cx="57240" cy="50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18520" y="3129120"/>
              <a:ext cx="16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2120" y="3029040"/>
              <a:ext cx="33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84920" y="3029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1769760" y="3882960"/>
            <a:ext cx="3801960" cy="0"/>
          </a:xfrm>
          <a:prstGeom prst="line">
            <a:avLst/>
          </a:prstGeom>
          <a:ln w="28440">
            <a:solidFill>
              <a:srgbClr val="cc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32080" y="355284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ing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ways” truth 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 time-response of circu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l gates have real del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A' • A 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s cause transient F=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6840" y="3986280"/>
            <a:ext cx="5511960" cy="2016000"/>
            <a:chOff x="996840" y="3986280"/>
            <a:chExt cx="5511960" cy="20160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996840" y="4000680"/>
              <a:ext cx="5511960" cy="20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373720" y="3986280"/>
              <a:ext cx="411120" cy="19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211880" y="4357800"/>
            <a:ext cx="1487520" cy="21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24120" bIns="24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Some texts call timing diagrams “waveform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F=A+BC in 2-level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38080" y="1589040"/>
            <a:ext cx="3874680" cy="4517640"/>
            <a:chOff x="838080" y="1589040"/>
            <a:chExt cx="3874680" cy="4517640"/>
          </a:xfrm>
        </p:grpSpPr>
        <p:sp>
          <p:nvSpPr>
            <p:cNvPr id="87" name=""/>
            <p:cNvSpPr/>
            <p:nvPr/>
          </p:nvSpPr>
          <p:spPr>
            <a:xfrm>
              <a:off x="1289520" y="1885680"/>
              <a:ext cx="17604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289520" y="1991880"/>
              <a:ext cx="176040" cy="1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83040" y="188568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77080" y="1980000"/>
              <a:ext cx="6336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89520" y="2480040"/>
              <a:ext cx="176040" cy="10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289520" y="2586960"/>
              <a:ext cx="176040" cy="1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83040" y="2480040"/>
              <a:ext cx="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77080" y="2574720"/>
              <a:ext cx="633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89520" y="3074760"/>
              <a:ext cx="17604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289520" y="3181680"/>
              <a:ext cx="176040" cy="13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83040" y="3074760"/>
              <a:ext cx="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77080" y="3169800"/>
              <a:ext cx="633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33520" y="1677600"/>
              <a:ext cx="3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33520" y="1962000"/>
              <a:ext cx="31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27040" y="1683720"/>
              <a:ext cx="0" cy="27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02000" y="1691280"/>
              <a:ext cx="288720" cy="28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95880" y="1685160"/>
              <a:ext cx="30096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02000" y="1679400"/>
              <a:ext cx="28872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95520" y="1673280"/>
              <a:ext cx="301320" cy="29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33520" y="2034360"/>
              <a:ext cx="3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33520" y="2319120"/>
              <a:ext cx="31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27040" y="2040480"/>
              <a:ext cx="0" cy="27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02000" y="2048040"/>
              <a:ext cx="28872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95880" y="2041920"/>
              <a:ext cx="300960" cy="29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02000" y="2036160"/>
              <a:ext cx="288720" cy="28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5520" y="2030400"/>
              <a:ext cx="301320" cy="29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33520" y="2391120"/>
              <a:ext cx="3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33520" y="2675880"/>
              <a:ext cx="31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27040" y="2397240"/>
              <a:ext cx="0" cy="27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02000" y="2404800"/>
              <a:ext cx="28872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95880" y="2398680"/>
              <a:ext cx="300960" cy="29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02000" y="2392920"/>
              <a:ext cx="288720" cy="28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95520" y="2387160"/>
              <a:ext cx="301320" cy="29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33520" y="2747880"/>
              <a:ext cx="3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33520" y="3032640"/>
              <a:ext cx="31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27040" y="2754000"/>
              <a:ext cx="0" cy="27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02000" y="2761560"/>
              <a:ext cx="288720" cy="28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95880" y="2755440"/>
              <a:ext cx="30096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02000" y="2746800"/>
              <a:ext cx="288720" cy="28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95520" y="2741040"/>
              <a:ext cx="30132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3520" y="3104640"/>
              <a:ext cx="3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33520" y="3389400"/>
              <a:ext cx="31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27040" y="3110760"/>
              <a:ext cx="0" cy="27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02000" y="3116880"/>
              <a:ext cx="288720" cy="28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95880" y="3112560"/>
              <a:ext cx="300960" cy="29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02000" y="3103560"/>
              <a:ext cx="288720" cy="28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95520" y="3097800"/>
              <a:ext cx="30132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78480" y="2405520"/>
              <a:ext cx="927720" cy="25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72360" y="2399040"/>
              <a:ext cx="939960" cy="27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78840" y="2416680"/>
              <a:ext cx="927360" cy="25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72720" y="2410920"/>
              <a:ext cx="93960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79520" y="2416680"/>
              <a:ext cx="126000" cy="23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73040" y="2410920"/>
              <a:ext cx="138960" cy="24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79520" y="2405520"/>
              <a:ext cx="126000" cy="25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72680" y="2399040"/>
              <a:ext cx="139320" cy="27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42520" y="2242440"/>
              <a:ext cx="0" cy="1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142520" y="2657520"/>
              <a:ext cx="0" cy="17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49000" y="25344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33520" y="3580560"/>
              <a:ext cx="3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33520" y="3877560"/>
              <a:ext cx="31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227040" y="357408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02000" y="3592800"/>
              <a:ext cx="28872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95880" y="3586680"/>
              <a:ext cx="300960" cy="30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02000" y="3579480"/>
              <a:ext cx="28872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95520" y="3573360"/>
              <a:ext cx="301320" cy="30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47120" y="3659040"/>
              <a:ext cx="138960" cy="26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1600" y="3659040"/>
              <a:ext cx="978120" cy="28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4960" y="3646800"/>
              <a:ext cx="914760" cy="28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46760" y="3646800"/>
              <a:ext cx="139320" cy="28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49000" y="37220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49000" y="38412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12600" y="4271760"/>
              <a:ext cx="964800" cy="25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06120" y="4265640"/>
              <a:ext cx="978120" cy="27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62640" y="4260240"/>
              <a:ext cx="914760" cy="25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56160" y="4253760"/>
              <a:ext cx="927720" cy="27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24800" y="4260240"/>
              <a:ext cx="127080" cy="25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18680" y="4253760"/>
              <a:ext cx="139320" cy="27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33520" y="4389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5160" y="4271760"/>
              <a:ext cx="126720" cy="23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19040" y="4265640"/>
              <a:ext cx="138960" cy="24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12600" y="4627080"/>
              <a:ext cx="964800" cy="26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06120" y="4622400"/>
              <a:ext cx="978120" cy="27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62640" y="4613760"/>
              <a:ext cx="914760" cy="26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56160" y="4607640"/>
              <a:ext cx="927720" cy="27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4800" y="4613760"/>
              <a:ext cx="127080" cy="26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18680" y="4607640"/>
              <a:ext cx="139320" cy="27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33520" y="47444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25160" y="4627080"/>
              <a:ext cx="126720" cy="23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19040" y="4622400"/>
              <a:ext cx="138960" cy="24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12600" y="4983840"/>
              <a:ext cx="964800" cy="26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06120" y="4977720"/>
              <a:ext cx="978120" cy="27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62640" y="4970880"/>
              <a:ext cx="914760" cy="26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56160" y="4964760"/>
              <a:ext cx="927720" cy="27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24800" y="4970880"/>
              <a:ext cx="127080" cy="26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18680" y="4964760"/>
              <a:ext cx="139320" cy="27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33520" y="51015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5160" y="4983840"/>
              <a:ext cx="126720" cy="23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19040" y="4977720"/>
              <a:ext cx="138960" cy="24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49000" y="4602960"/>
              <a:ext cx="3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49000" y="4887720"/>
              <a:ext cx="31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42520" y="4609080"/>
              <a:ext cx="0" cy="27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05240" y="4616640"/>
              <a:ext cx="28800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98760" y="4610520"/>
              <a:ext cx="300960" cy="29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04880" y="4601520"/>
              <a:ext cx="288360" cy="28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98400" y="4595760"/>
              <a:ext cx="30132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31640" y="5453640"/>
              <a:ext cx="138960" cy="24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18720" y="5453640"/>
              <a:ext cx="978120" cy="27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69840" y="5439960"/>
              <a:ext cx="927000" cy="27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31280" y="5439960"/>
              <a:ext cx="139320" cy="27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33520" y="5518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33520" y="5637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1640" y="5810400"/>
              <a:ext cx="138960" cy="24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18720" y="5810400"/>
              <a:ext cx="978120" cy="27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69840" y="5796720"/>
              <a:ext cx="927000" cy="27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31280" y="5796720"/>
              <a:ext cx="139320" cy="27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33520" y="58752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33520" y="59943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49000" y="5613120"/>
              <a:ext cx="3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49000" y="5899320"/>
              <a:ext cx="31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142520" y="5607000"/>
              <a:ext cx="0" cy="29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05240" y="5626800"/>
              <a:ext cx="288000" cy="28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98760" y="5620680"/>
              <a:ext cx="30096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04880" y="5613480"/>
              <a:ext cx="288360" cy="28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98400" y="5609160"/>
              <a:ext cx="301320" cy="29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53400" y="19983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07520" y="170172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98200" y="158904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85240" y="1689480"/>
              <a:ext cx="36720" cy="3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98200" y="1707840"/>
              <a:ext cx="0" cy="2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85240" y="1986120"/>
              <a:ext cx="3672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98200" y="2004480"/>
              <a:ext cx="0" cy="41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04320" y="1701720"/>
              <a:ext cx="12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8680" y="19983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97200" y="182052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23000" y="229644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2000" y="1827000"/>
              <a:ext cx="0" cy="4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23200" y="182052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8480" y="22964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7200" y="217764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23000" y="241560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23200" y="2415600"/>
              <a:ext cx="18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16360" y="218376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97200" y="253440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23000" y="253440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23200" y="2534400"/>
              <a:ext cx="18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7200" y="288972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23000" y="26517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23200" y="2651760"/>
              <a:ext cx="18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16360" y="265788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97200" y="324648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23000" y="27705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48480" y="2770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42000" y="2776680"/>
              <a:ext cx="0" cy="4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23200" y="324648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00080" y="253440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97200" y="372204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23000" y="372204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23200" y="3722040"/>
              <a:ext cx="18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00080" y="378252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53400" y="318780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07520" y="229644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07520" y="300852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7520" y="4863600"/>
              <a:ext cx="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87680" y="1589040"/>
              <a:ext cx="0" cy="70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36840" y="2284200"/>
              <a:ext cx="38160" cy="3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87680" y="2302560"/>
              <a:ext cx="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75080" y="2998080"/>
              <a:ext cx="38160" cy="3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87680" y="3014640"/>
              <a:ext cx="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75080" y="317592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87680" y="3193920"/>
              <a:ext cx="0" cy="166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36840" y="4852800"/>
              <a:ext cx="38160" cy="3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87680" y="4869720"/>
              <a:ext cx="0" cy="123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78680" y="3187800"/>
              <a:ext cx="90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68880" y="2296440"/>
              <a:ext cx="6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94160" y="3008520"/>
              <a:ext cx="5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55920" y="4863600"/>
              <a:ext cx="63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53400" y="259308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07520" y="217764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07520" y="253440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07520" y="51015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85920" y="1589040"/>
              <a:ext cx="0" cy="58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47680" y="2165400"/>
              <a:ext cx="381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85920" y="2183760"/>
              <a:ext cx="0" cy="3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72960" y="2522160"/>
              <a:ext cx="381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85920" y="2538720"/>
              <a:ext cx="0" cy="4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72960" y="258120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85920" y="2599200"/>
              <a:ext cx="0" cy="24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47680" y="5090760"/>
              <a:ext cx="381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85920" y="5107320"/>
              <a:ext cx="0" cy="9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8680" y="2593080"/>
              <a:ext cx="5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79360" y="2177640"/>
              <a:ext cx="101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92040" y="2534400"/>
              <a:ext cx="90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79360" y="5101560"/>
              <a:ext cx="101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97200" y="438912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23000" y="462528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23200" y="4625280"/>
              <a:ext cx="18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16360" y="439380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97200" y="474444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23000" y="474444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23200" y="4744440"/>
              <a:ext cx="18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97200" y="51015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23000" y="486360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23200" y="4863600"/>
              <a:ext cx="18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16360" y="486972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00080" y="474444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63880" y="259308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07520" y="378252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07520" y="182052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07520" y="288972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07520" y="324648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07520" y="438912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07520" y="474444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07520" y="563760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8080" y="2355120"/>
              <a:ext cx="31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4800" y="234288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63880" y="2355120"/>
              <a:ext cx="88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47680" y="234288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60280" y="158904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72960" y="1808640"/>
              <a:ext cx="381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60280" y="182700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60280" y="236124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7680" y="2878920"/>
              <a:ext cx="381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60280" y="2895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47680" y="323460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60280" y="3252600"/>
              <a:ext cx="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47680" y="3770640"/>
              <a:ext cx="38160" cy="3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60280" y="3788280"/>
              <a:ext cx="0" cy="59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47680" y="4377240"/>
              <a:ext cx="381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60280" y="4393800"/>
              <a:ext cx="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72960" y="4734000"/>
              <a:ext cx="381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60280" y="4750560"/>
              <a:ext cx="0" cy="88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36840" y="562500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60280" y="5643360"/>
              <a:ext cx="0" cy="4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05000" y="182052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57760" y="2361240"/>
              <a:ext cx="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66760" y="2889720"/>
              <a:ext cx="102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66760" y="3246480"/>
              <a:ext cx="102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66760" y="4389120"/>
              <a:ext cx="102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92040" y="4744440"/>
              <a:ext cx="90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68880" y="5637600"/>
              <a:ext cx="6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66760" y="3782520"/>
              <a:ext cx="102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63880" y="19983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23000" y="384120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07520" y="205848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07520" y="241560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07520" y="27705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07520" y="312768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07520" y="4270320"/>
              <a:ext cx="10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07520" y="4625280"/>
              <a:ext cx="10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07520" y="4982400"/>
              <a:ext cx="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07520" y="551844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07520" y="587520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080" y="1760760"/>
              <a:ext cx="31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44800" y="174816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63880" y="1760760"/>
              <a:ext cx="50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59600" y="174816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72200" y="158904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72200" y="17665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85240" y="2046240"/>
              <a:ext cx="36720" cy="3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2200" y="2064600"/>
              <a:ext cx="0" cy="3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59600" y="2403360"/>
              <a:ext cx="381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72200" y="2419920"/>
              <a:ext cx="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59600" y="2760120"/>
              <a:ext cx="381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72200" y="2776680"/>
              <a:ext cx="0" cy="3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59600" y="3116880"/>
              <a:ext cx="381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72200" y="3133440"/>
              <a:ext cx="0" cy="83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36840" y="396000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2200" y="397800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59600" y="4258080"/>
              <a:ext cx="38160" cy="3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2200" y="4276080"/>
              <a:ext cx="0" cy="3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59600" y="4614840"/>
              <a:ext cx="38160" cy="3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72200" y="4631760"/>
              <a:ext cx="0" cy="3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85240" y="4971960"/>
              <a:ext cx="3672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72200" y="4988520"/>
              <a:ext cx="0" cy="5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59600" y="550620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72200" y="5524560"/>
              <a:ext cx="0" cy="3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47680" y="586296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72200" y="588132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57760" y="1766520"/>
              <a:ext cx="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04320" y="2058480"/>
              <a:ext cx="12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78680" y="2415600"/>
              <a:ext cx="141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78680" y="2770560"/>
              <a:ext cx="141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78680" y="3127680"/>
              <a:ext cx="141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8680" y="4270320"/>
              <a:ext cx="141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78680" y="4625280"/>
              <a:ext cx="141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04320" y="4982400"/>
              <a:ext cx="12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78680" y="5518440"/>
              <a:ext cx="141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66760" y="5875200"/>
              <a:ext cx="102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55920" y="3971880"/>
              <a:ext cx="155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16880" y="384696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63880" y="318780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07520" y="36633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07520" y="193932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07520" y="26517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07520" y="336528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07520" y="4507920"/>
              <a:ext cx="10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07520" y="5220360"/>
              <a:ext cx="10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07520" y="59943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49800" y="1589040"/>
              <a:ext cx="0" cy="3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36840" y="1927440"/>
              <a:ext cx="381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49800" y="1945800"/>
              <a:ext cx="0" cy="70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6840" y="2640960"/>
              <a:ext cx="38160" cy="3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49800" y="265788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36840" y="293796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49800" y="2955960"/>
              <a:ext cx="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36840" y="335340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449800" y="337140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59600" y="365148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49800" y="3669480"/>
              <a:ext cx="0" cy="83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36840" y="4496040"/>
              <a:ext cx="381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49800" y="4512960"/>
              <a:ext cx="0" cy="70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36840" y="520812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49800" y="5226480"/>
              <a:ext cx="0" cy="76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36840" y="598176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49800" y="600012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55920" y="1939320"/>
              <a:ext cx="63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55920" y="2651760"/>
              <a:ext cx="63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38080" y="2949840"/>
              <a:ext cx="31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44800" y="2937960"/>
              <a:ext cx="38160" cy="3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63880" y="2949840"/>
              <a:ext cx="127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57760" y="295596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55920" y="3365280"/>
              <a:ext cx="63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55920" y="4507920"/>
              <a:ext cx="63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55920" y="5220360"/>
              <a:ext cx="63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55920" y="5994360"/>
              <a:ext cx="63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78680" y="3663360"/>
              <a:ext cx="141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97200" y="557712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23000" y="569628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23200" y="5696280"/>
              <a:ext cx="18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16360" y="558324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7200" y="593388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23000" y="581508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23200" y="5815080"/>
              <a:ext cx="18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16360" y="582120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00080" y="575640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5600880" y="5194440"/>
            <a:ext cx="3206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ed product-of-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764240" y="2152800"/>
            <a:ext cx="790560" cy="360360"/>
          </a:xfrm>
          <a:prstGeom prst="line">
            <a:avLst/>
          </a:prstGeom>
          <a:ln w="284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03880" y="2166840"/>
            <a:ext cx="425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03880" y="3409920"/>
            <a:ext cx="399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03880" y="4322880"/>
            <a:ext cx="387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6480" y="2154240"/>
            <a:ext cx="250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6480" y="1614600"/>
            <a:ext cx="263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36480" y="2701800"/>
            <a:ext cx="2509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03880" y="5332320"/>
            <a:ext cx="3744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72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4764240" y="3422520"/>
            <a:ext cx="790560" cy="360360"/>
          </a:xfrm>
          <a:prstGeom prst="line">
            <a:avLst/>
          </a:prstGeom>
          <a:ln w="284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764240" y="4359240"/>
            <a:ext cx="790560" cy="360360"/>
          </a:xfrm>
          <a:prstGeom prst="line">
            <a:avLst/>
          </a:prstGeom>
          <a:ln w="284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4764240" y="5335560"/>
            <a:ext cx="790560" cy="360360"/>
          </a:xfrm>
          <a:prstGeom prst="line">
            <a:avLst/>
          </a:prstGeom>
          <a:ln w="284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600880" y="4216320"/>
            <a:ext cx="3206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onical product-of-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00880" y="3282840"/>
            <a:ext cx="3206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800"/>
              </a:lnSpc>
              <a:spcAft>
                <a:spcPts val="1800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ed sum-of-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00880" y="2016000"/>
            <a:ext cx="32065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onical sum-of-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ing diagram for F = A + B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4800" y="1434600"/>
            <a:ext cx="7934400" cy="145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waveforms for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identic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 for timing hazards (glitch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this shortly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88960" y="3046320"/>
            <a:ext cx="8172360" cy="2567160"/>
            <a:chOff x="588960" y="3046320"/>
            <a:chExt cx="8172360" cy="2567160"/>
          </a:xfrm>
        </p:grpSpPr>
        <p:pic>
          <p:nvPicPr>
            <p:cNvPr id="440" name="" descr=""/>
            <p:cNvPicPr/>
            <p:nvPr/>
          </p:nvPicPr>
          <p:blipFill>
            <a:blip r:embed="rId1"/>
            <a:stretch/>
          </p:blipFill>
          <p:spPr>
            <a:xfrm>
              <a:off x="588960" y="3046320"/>
              <a:ext cx="8172360" cy="25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4749840" y="3046320"/>
              <a:ext cx="365040" cy="20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72520" y="3046320"/>
              <a:ext cx="363600" cy="20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level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dea: Simplify logic using &gt;2 gate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–space (speed versus gate count) trade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-level logic </a:t>
            </a:r>
            <a:r>
              <a:rPr b="0" i="1" lang="en-US" sz="2400" spc="-1" strike="noStrike">
                <a:solidFill>
                  <a:srgbClr val="cc3399"/>
                </a:solidFill>
                <a:latin typeface="Tahoma"/>
              </a:rPr>
              <a:t>usu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smaller delays (faster circui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more gates and more wires (more circuit are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times has large fan-ins (slo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liminate haz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level logic </a:t>
            </a:r>
            <a:r>
              <a:rPr b="0" i="1" lang="en-US" sz="2400" spc="-1" strike="noStrike">
                <a:solidFill>
                  <a:srgbClr val="cc3399"/>
                </a:solidFill>
                <a:latin typeface="Tahoma"/>
              </a:rPr>
              <a:t>usu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fewer gates (smaller circui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can be slower (more gate delay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er to eliminate haz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level logic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23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P:  X = ADF + AEF + BDF + BEF + CDF + CEF + 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8640" indent="-21024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is minimized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98640" indent="-21024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 3-input ANDs; one 7-input OR; 25 wi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level:  X = (A+B+C)(D+E)F + 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8640" indent="-21024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tored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98640" indent="-21024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3-input OR, two 2-input OR's, one 3-input AND; 10 wi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041480" y="4521240"/>
            <a:ext cx="5524200" cy="1617480"/>
            <a:chOff x="1041480" y="4521240"/>
            <a:chExt cx="5524200" cy="1617480"/>
          </a:xfrm>
        </p:grpSpPr>
        <p:sp>
          <p:nvSpPr>
            <p:cNvPr id="448" name=""/>
            <p:cNvSpPr/>
            <p:nvPr/>
          </p:nvSpPr>
          <p:spPr>
            <a:xfrm>
              <a:off x="1054080" y="4622760"/>
              <a:ext cx="135216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41480" y="4622760"/>
              <a:ext cx="1377360" cy="43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30400" y="4609800"/>
              <a:ext cx="127584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7800" y="4597560"/>
              <a:ext cx="1301040" cy="43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42680" y="4609800"/>
              <a:ext cx="17460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30080" y="4597560"/>
              <a:ext cx="199800" cy="43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06480" y="4833720"/>
              <a:ext cx="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43040" y="4622760"/>
              <a:ext cx="174240" cy="38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30440" y="4622760"/>
              <a:ext cx="199440" cy="40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656000" y="5200560"/>
              <a:ext cx="186480" cy="39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67040" y="5200560"/>
              <a:ext cx="1364400" cy="43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3000" y="5173920"/>
              <a:ext cx="1288440" cy="43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55640" y="5173920"/>
              <a:ext cx="186840" cy="43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58960" y="4797360"/>
              <a:ext cx="414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58960" y="526068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46360" y="4809960"/>
              <a:ext cx="0" cy="43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3520" y="4798800"/>
              <a:ext cx="399600" cy="4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60920" y="4798800"/>
              <a:ext cx="4248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3160" y="4784400"/>
              <a:ext cx="399960" cy="4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60560" y="4772160"/>
              <a:ext cx="42516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62520" y="4911480"/>
              <a:ext cx="199440" cy="39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273560" y="4911480"/>
              <a:ext cx="137736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49880" y="4883040"/>
              <a:ext cx="1301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62160" y="4883040"/>
              <a:ext cx="19980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31800" y="4833720"/>
              <a:ext cx="111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31800" y="5411520"/>
              <a:ext cx="363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08000" y="5035320"/>
              <a:ext cx="0" cy="36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20960" y="5022720"/>
              <a:ext cx="72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98680" y="5022720"/>
              <a:ext cx="8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76840" y="5122800"/>
              <a:ext cx="14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63960" y="5122800"/>
              <a:ext cx="16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42880" y="4657680"/>
              <a:ext cx="35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42880" y="482436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42880" y="4998960"/>
              <a:ext cx="34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42880" y="53118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42880" y="551160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71760" y="5222880"/>
              <a:ext cx="16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42880" y="5800680"/>
              <a:ext cx="2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30080" y="5800680"/>
              <a:ext cx="1716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8800" y="5235480"/>
              <a:ext cx="0" cy="5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49560" y="5222880"/>
              <a:ext cx="18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42880" y="5987880"/>
              <a:ext cx="21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30080" y="5987880"/>
              <a:ext cx="319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36960" y="5235480"/>
              <a:ext cx="0" cy="73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79360" y="4521240"/>
              <a:ext cx="32544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280" bIns="2628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br>
                <a:rPr sz="1400"/>
              </a:b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9320" y="4984560"/>
              <a:ext cx="5763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280" bIns="26280" anchor="t">
              <a:noAutofit/>
            </a:bodyPr>
            <a:p>
              <a:pPr>
                <a:lnSpc>
                  <a:spcPts val="14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4819680" y="3867120"/>
            <a:ext cx="3724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3399"/>
                </a:solidFill>
                <a:uFillTx/>
                <a:latin typeface="Tahoma"/>
              </a:rPr>
              <a:t>3-level circ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= (A+B+C)(D+E)F + 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level NAND/NAND conver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727200" y="1531800"/>
            <a:ext cx="3192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 = A(B+CD) + BC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949400" y="2595600"/>
            <a:ext cx="16779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AND-OR</a:t>
            </a:r>
            <a:br>
              <a:rPr sz="2000"/>
            </a:b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44520" y="4357800"/>
            <a:ext cx="2303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introduce bub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(conserve invers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546360" y="2122560"/>
            <a:ext cx="4461120" cy="3510000"/>
            <a:chOff x="3546360" y="2122560"/>
            <a:chExt cx="4461120" cy="3510000"/>
          </a:xfrm>
        </p:grpSpPr>
        <p:sp>
          <p:nvSpPr>
            <p:cNvPr id="500" name=""/>
            <p:cNvSpPr/>
            <p:nvPr/>
          </p:nvSpPr>
          <p:spPr>
            <a:xfrm>
              <a:off x="6789600" y="2260440"/>
              <a:ext cx="0" cy="3299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99320" y="2268360"/>
              <a:ext cx="0" cy="3299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51440" y="2260440"/>
              <a:ext cx="0" cy="3299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24440" y="2260440"/>
              <a:ext cx="0" cy="3299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54320" y="2333520"/>
              <a:ext cx="0" cy="3299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046400" y="2122560"/>
              <a:ext cx="3583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375"/>
                </a:lnSpc>
                <a:tabLst>
                  <a:tab algn="l" pos="0"/>
                  <a:tab algn="l" pos="952560"/>
                  <a:tab algn="l" pos="1892160"/>
                  <a:tab algn="l" pos="281952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vel 1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vel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67080" y="2511360"/>
              <a:ext cx="3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267080" y="284940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260960" y="251784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50320" y="2525760"/>
              <a:ext cx="31032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40600" y="2519280"/>
              <a:ext cx="33912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49960" y="2513160"/>
              <a:ext cx="31068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40240" y="2516040"/>
              <a:ext cx="33948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67080" y="3363840"/>
              <a:ext cx="3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67080" y="37162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260960" y="3370320"/>
              <a:ext cx="0" cy="33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50320" y="3390840"/>
              <a:ext cx="31032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40600" y="3371760"/>
              <a:ext cx="33912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49960" y="3364200"/>
              <a:ext cx="310680" cy="35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40240" y="3358080"/>
              <a:ext cx="33948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57800" y="2649600"/>
              <a:ext cx="32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57800" y="3000240"/>
              <a:ext cx="3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51680" y="2655720"/>
              <a:ext cx="0" cy="33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41040" y="2676600"/>
              <a:ext cx="31032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21960" y="2657520"/>
              <a:ext cx="33552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40680" y="2648160"/>
              <a:ext cx="310680" cy="35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21600" y="2642040"/>
              <a:ext cx="33588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94720" y="2606760"/>
              <a:ext cx="16128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31400" y="2606760"/>
              <a:ext cx="108792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91160" y="2592360"/>
              <a:ext cx="102816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94360" y="2592360"/>
              <a:ext cx="16164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05240" y="26859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05240" y="28242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85440" y="2744640"/>
              <a:ext cx="1483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08800" y="2744640"/>
              <a:ext cx="108864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72520" y="2730600"/>
              <a:ext cx="102492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85440" y="2730600"/>
              <a:ext cx="14832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97760" y="282420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97760" y="297504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29200" y="261144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60720" y="261144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29200" y="274968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60720" y="274968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067360" y="268596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80080" y="268596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917960" y="268596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29200" y="346536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960720" y="346536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29200" y="361620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60720" y="361620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46920" y="297504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80080" y="354024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72400" y="29750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17960" y="3540240"/>
              <a:ext cx="19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65920" y="2981160"/>
              <a:ext cx="0" cy="55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06960" y="290052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32440" y="29005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78360" y="3251160"/>
              <a:ext cx="19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25960" y="2906640"/>
              <a:ext cx="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67360" y="282420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92840" y="28242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78360" y="3038400"/>
              <a:ext cx="10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986360" y="283068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06960" y="274968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19680" y="2749680"/>
              <a:ext cx="12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57920" y="2749680"/>
              <a:ext cx="13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57840" y="282420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46920" y="282420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08680" y="2824200"/>
              <a:ext cx="12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97800" y="290052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681360" y="3125880"/>
              <a:ext cx="263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68760" y="2486160"/>
              <a:ext cx="250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68760" y="2641680"/>
              <a:ext cx="250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81360" y="2935440"/>
              <a:ext cx="263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81360" y="3340080"/>
              <a:ext cx="2509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92440" y="3532320"/>
              <a:ext cx="376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56560" y="2774880"/>
              <a:ext cx="2509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67080" y="414180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67080" y="447984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60960" y="414828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59320" y="4156200"/>
              <a:ext cx="31392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53200" y="4149720"/>
              <a:ext cx="33912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458960" y="4140000"/>
              <a:ext cx="31428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52840" y="4146480"/>
              <a:ext cx="33948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99160" y="4303800"/>
              <a:ext cx="3780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92680" y="4286160"/>
              <a:ext cx="49320" cy="61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94720" y="4237200"/>
              <a:ext cx="161280" cy="30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631040" y="4237200"/>
              <a:ext cx="107568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691160" y="4224240"/>
              <a:ext cx="10155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94360" y="4224240"/>
              <a:ext cx="1616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05240" y="43164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92640" y="42973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5117760" y="4454640"/>
              <a:ext cx="7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16480" y="4535640"/>
              <a:ext cx="1998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416480" y="4660920"/>
              <a:ext cx="19980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410000" y="453564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29240" y="4649760"/>
              <a:ext cx="63360" cy="61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45200" y="4280040"/>
              <a:ext cx="35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45200" y="4630680"/>
              <a:ext cx="35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38720" y="4286160"/>
              <a:ext cx="0" cy="33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39240" y="4305240"/>
              <a:ext cx="32616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34200" y="4286160"/>
              <a:ext cx="3362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38880" y="4278600"/>
              <a:ext cx="326520" cy="35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33840" y="4272480"/>
              <a:ext cx="33660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76920" y="444168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70800" y="44355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67080" y="49942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67080" y="53452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60960" y="5000760"/>
              <a:ext cx="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59320" y="5021280"/>
              <a:ext cx="31392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53200" y="5002200"/>
              <a:ext cx="33912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58960" y="4992480"/>
              <a:ext cx="314280" cy="35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52840" y="4986720"/>
              <a:ext cx="33948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799160" y="5156280"/>
              <a:ext cx="3780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792680" y="5149800"/>
              <a:ext cx="493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72480" y="4375080"/>
              <a:ext cx="16128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508800" y="4375080"/>
              <a:ext cx="108864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572520" y="4362480"/>
              <a:ext cx="102492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72120" y="4362480"/>
              <a:ext cx="1616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85160" y="44546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59600" y="45864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6997320" y="46054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29200" y="424188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78360" y="424188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9200" y="437976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78360" y="437976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68800" y="431640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42000" y="431640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992840" y="4316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129200" y="509436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978360" y="509436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29200" y="524520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978360" y="524520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946920" y="46054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842000" y="516888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992840" y="5168880"/>
              <a:ext cx="18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72400" y="460548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865920" y="461160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006960" y="4530600"/>
              <a:ext cx="12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32440" y="45306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78360" y="4881600"/>
              <a:ext cx="19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25960" y="4535640"/>
              <a:ext cx="0" cy="33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05200" y="4667400"/>
              <a:ext cx="12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68800" y="445464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992840" y="4454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42000" y="466740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86360" y="4460760"/>
              <a:ext cx="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006960" y="4379760"/>
              <a:ext cx="12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19680" y="437976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32440" y="43797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946920" y="445464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21560" y="44546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72400" y="4454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67080" y="4667400"/>
              <a:ext cx="13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78360" y="4667400"/>
              <a:ext cx="27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10400" y="4530600"/>
              <a:ext cx="10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92640" y="44355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59600" y="44355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30600" y="4786200"/>
              <a:ext cx="263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45000" y="4103640"/>
              <a:ext cx="2491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645000" y="4284720"/>
              <a:ext cx="2491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638520" y="4578480"/>
              <a:ext cx="263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38520" y="5000760"/>
              <a:ext cx="2509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546360" y="5194440"/>
              <a:ext cx="37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756560" y="4392720"/>
              <a:ext cx="2509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level NOR/NOR conver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>
            <a:off x="725400" y="1558800"/>
            <a:ext cx="3605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 = A(B+CD) + BC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95400" y="2514600"/>
            <a:ext cx="16891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AND-OR</a:t>
            </a:r>
            <a:br>
              <a:rPr sz="2000"/>
            </a:b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50880" y="4390920"/>
            <a:ext cx="230328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introduce bub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(conserve invers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2952720" y="2082960"/>
            <a:ext cx="5556240" cy="3655800"/>
            <a:chOff x="2952720" y="2082960"/>
            <a:chExt cx="5556240" cy="3655800"/>
          </a:xfrm>
        </p:grpSpPr>
        <p:sp>
          <p:nvSpPr>
            <p:cNvPr id="670" name=""/>
            <p:cNvSpPr/>
            <p:nvPr/>
          </p:nvSpPr>
          <p:spPr>
            <a:xfrm>
              <a:off x="6800760" y="2220840"/>
              <a:ext cx="0" cy="351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728120" y="2228760"/>
              <a:ext cx="0" cy="351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61160" y="2220840"/>
              <a:ext cx="0" cy="351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933800" y="2220840"/>
              <a:ext cx="0" cy="351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33800" y="2220840"/>
              <a:ext cx="0" cy="351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57560" y="2082960"/>
              <a:ext cx="35816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375"/>
                </a:lnSpc>
                <a:tabLst>
                  <a:tab algn="l" pos="0"/>
                  <a:tab algn="l" pos="952560"/>
                  <a:tab algn="l" pos="1892160"/>
                  <a:tab algn="l" pos="281952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vel 1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vel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76800" y="247176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76800" y="2809800"/>
              <a:ext cx="35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70320" y="247824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59680" y="2486160"/>
              <a:ext cx="31032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53560" y="2479680"/>
              <a:ext cx="33552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59320" y="2469960"/>
              <a:ext cx="31068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53200" y="2476440"/>
              <a:ext cx="33588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76800" y="332424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276800" y="3675240"/>
              <a:ext cx="35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70320" y="3330720"/>
              <a:ext cx="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59680" y="3351240"/>
              <a:ext cx="31032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53560" y="3332160"/>
              <a:ext cx="33552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59320" y="3322440"/>
              <a:ext cx="310680" cy="35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53200" y="3316680"/>
              <a:ext cx="33588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67520" y="2610000"/>
              <a:ext cx="32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167520" y="2960640"/>
              <a:ext cx="3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61040" y="2616120"/>
              <a:ext cx="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351480" y="2635200"/>
              <a:ext cx="31104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3120" y="2617920"/>
              <a:ext cx="335520" cy="36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51480" y="2608560"/>
              <a:ext cx="311040" cy="35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332760" y="2602440"/>
              <a:ext cx="33588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104080" y="2567160"/>
              <a:ext cx="161280" cy="30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40400" y="2567160"/>
              <a:ext cx="108864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03400" y="2554200"/>
              <a:ext cx="10256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103720" y="2554200"/>
              <a:ext cx="1616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216400" y="264636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216400" y="278460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96600" y="2705040"/>
              <a:ext cx="1483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19960" y="2705040"/>
              <a:ext cx="108864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80440" y="2692800"/>
              <a:ext cx="1028160" cy="32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96600" y="2692800"/>
              <a:ext cx="148320" cy="32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07120" y="2784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07120" y="293544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138560" y="2571840"/>
              <a:ext cx="12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87720" y="257184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38560" y="2709720"/>
              <a:ext cx="12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87720" y="270972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78520" y="264636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789440" y="2646360"/>
              <a:ext cx="12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27680" y="264636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38560" y="3424320"/>
              <a:ext cx="12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987720" y="342432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38560" y="3575160"/>
              <a:ext cx="12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987720" y="357516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58080" y="2935440"/>
              <a:ext cx="13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89440" y="3498840"/>
              <a:ext cx="12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81760" y="2935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27680" y="3498840"/>
              <a:ext cx="19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875640" y="2941560"/>
              <a:ext cx="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018120" y="286056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942160" y="28605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987720" y="3211560"/>
              <a:ext cx="19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35680" y="2867040"/>
              <a:ext cx="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78520" y="278460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02200" y="27846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987720" y="2997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95720" y="2790720"/>
              <a:ext cx="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18120" y="270972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29400" y="270972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67280" y="270972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69000" y="278460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58080" y="2784600"/>
              <a:ext cx="13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19840" y="2784600"/>
              <a:ext cx="12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08960" y="28605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45000" y="3086280"/>
              <a:ext cx="263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68760" y="2446200"/>
              <a:ext cx="2509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686040" y="2629080"/>
              <a:ext cx="2509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686040" y="2895480"/>
              <a:ext cx="230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668760" y="3298680"/>
              <a:ext cx="2509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681360" y="3484440"/>
              <a:ext cx="2476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732800" y="2735280"/>
              <a:ext cx="250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57480" y="4741920"/>
              <a:ext cx="263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44880" y="4014720"/>
              <a:ext cx="2509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62160" y="4308480"/>
              <a:ext cx="2509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044880" y="4529160"/>
              <a:ext cx="263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70080" y="5040360"/>
              <a:ext cx="2509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52720" y="5354640"/>
              <a:ext cx="37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 algn="r"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258040" y="4378320"/>
              <a:ext cx="2509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pPr>
                <a:lnSpc>
                  <a:spcPts val="1185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154560" y="4253040"/>
              <a:ext cx="33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54560" y="4591080"/>
              <a:ext cx="35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49880" y="425916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35640" y="4267080"/>
              <a:ext cx="32688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29520" y="4260960"/>
              <a:ext cx="339120" cy="36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335280" y="4254120"/>
              <a:ext cx="32724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329160" y="4247640"/>
              <a:ext cx="339480" cy="34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80040" y="4334040"/>
              <a:ext cx="637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80040" y="4471920"/>
              <a:ext cx="637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238640" y="4102200"/>
              <a:ext cx="35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238640" y="4452840"/>
              <a:ext cx="36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232160" y="4108320"/>
              <a:ext cx="0" cy="33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33040" y="4116240"/>
              <a:ext cx="313200" cy="35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13600" y="4110120"/>
              <a:ext cx="33912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32680" y="4103640"/>
              <a:ext cx="313560" cy="3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413240" y="4097160"/>
              <a:ext cx="33948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164120" y="4183200"/>
              <a:ext cx="619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164120" y="4334040"/>
              <a:ext cx="619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238640" y="5118120"/>
              <a:ext cx="35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38640" y="5468760"/>
              <a:ext cx="36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232160" y="5124600"/>
              <a:ext cx="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33040" y="5132520"/>
              <a:ext cx="313200" cy="3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413600" y="5126040"/>
              <a:ext cx="33912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432680" y="5119920"/>
              <a:ext cx="31356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413240" y="5113080"/>
              <a:ext cx="33948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164120" y="5199120"/>
              <a:ext cx="619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164120" y="5337000"/>
              <a:ext cx="619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710240" y="4189680"/>
              <a:ext cx="986760" cy="3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704120" y="4182840"/>
              <a:ext cx="101196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10600" y="4203720"/>
              <a:ext cx="98640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04480" y="4197240"/>
              <a:ext cx="101160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61320" y="4203720"/>
              <a:ext cx="8496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54840" y="4197240"/>
              <a:ext cx="97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99120" y="4202280"/>
              <a:ext cx="4716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79680" y="4195800"/>
              <a:ext cx="7308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203800" y="4278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03800" y="4429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22920" y="434016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716440" y="433404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612120" y="4340520"/>
              <a:ext cx="1002600" cy="3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05640" y="4334040"/>
              <a:ext cx="101556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612480" y="4354560"/>
              <a:ext cx="1002240" cy="3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606000" y="4348080"/>
              <a:ext cx="101520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76160" y="4354560"/>
              <a:ext cx="87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69680" y="4348080"/>
              <a:ext cx="1008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01360" y="4353120"/>
              <a:ext cx="626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94520" y="4346640"/>
              <a:ext cx="7596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107120" y="4429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107120" y="4565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28040" y="4478400"/>
              <a:ext cx="489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21560" y="4471920"/>
              <a:ext cx="619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49680" y="3995640"/>
              <a:ext cx="21420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649680" y="4133520"/>
              <a:ext cx="2142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45000" y="3995640"/>
              <a:ext cx="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875040" y="4108320"/>
              <a:ext cx="637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49680" y="4284720"/>
              <a:ext cx="214200" cy="13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649680" y="4422240"/>
              <a:ext cx="21420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45000" y="42847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875040" y="4397400"/>
              <a:ext cx="63720" cy="61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649680" y="4722840"/>
              <a:ext cx="214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3649680" y="4848120"/>
              <a:ext cx="21420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645000" y="472284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875040" y="4835520"/>
              <a:ext cx="637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649680" y="5011560"/>
              <a:ext cx="2142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3649680" y="5137200"/>
              <a:ext cx="21420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645000" y="5011560"/>
              <a:ext cx="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875040" y="5124600"/>
              <a:ext cx="63720" cy="61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649680" y="5300640"/>
              <a:ext cx="214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3649680" y="5425920"/>
              <a:ext cx="21420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45000" y="530064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875040" y="5413320"/>
              <a:ext cx="63720" cy="61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846920" y="4359240"/>
              <a:ext cx="2001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846920" y="4484160"/>
              <a:ext cx="20016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840800" y="435924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059680" y="4471920"/>
              <a:ext cx="619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951360" y="414036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100400" y="42022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95720" y="414648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951360" y="442908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100400" y="4352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095720" y="435924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052960" y="427824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753080" y="42782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02120" y="427824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51360" y="514368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00400" y="52182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095720" y="51498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951360" y="543240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00400" y="53690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095720" y="53751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956280" y="456552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753080" y="529416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881760" y="45655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902120" y="5294160"/>
              <a:ext cx="19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75640" y="4572000"/>
              <a:ext cx="0" cy="7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51360" y="485460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05520" y="44910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29200" y="44910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00400" y="4854600"/>
              <a:ext cx="18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924520" y="44974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052960" y="442908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978440" y="442908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71960" y="44337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62400" y="4641840"/>
              <a:ext cx="160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80160" y="435276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05520" y="43527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929200" y="43527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956280" y="442908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69000" y="442908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19840" y="4429080"/>
              <a:ext cx="12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96080" y="449100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696080" y="449100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13240" y="414036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62400" y="414036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513240" y="442908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362400" y="442908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13240" y="485460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62400" y="485460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13240" y="514368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62400" y="514368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513240" y="5432400"/>
              <a:ext cx="12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362400" y="543240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134200" y="449100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ic multilevel conver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4322880" cy="48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 = ABC + BC + D = AX + X + 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"/>
          <p:cNvSpPr/>
          <p:nvPr/>
        </p:nvSpPr>
        <p:spPr>
          <a:xfrm>
            <a:off x="3129120" y="4702320"/>
            <a:ext cx="119016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29160" y="4714920"/>
            <a:ext cx="19008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128760" y="4660560"/>
            <a:ext cx="1190520" cy="39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628800" y="4686480"/>
            <a:ext cx="190440" cy="35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730680" y="4826160"/>
            <a:ext cx="6336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643200" y="466236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643200" y="5000760"/>
            <a:ext cx="7488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641680" y="433080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641680" y="471960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635200" y="433692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853360" y="4338720"/>
            <a:ext cx="389520" cy="41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853000" y="4323960"/>
            <a:ext cx="389880" cy="4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243240" y="4498920"/>
            <a:ext cx="745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639800" y="46562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639800" y="50576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633680" y="4662360"/>
            <a:ext cx="0" cy="38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852920" y="4664160"/>
            <a:ext cx="386640" cy="41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852560" y="4647960"/>
            <a:ext cx="387000" cy="41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39920" y="4826160"/>
            <a:ext cx="763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307040" y="485604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81560" y="469440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05160" y="453060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475080" y="453708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481560" y="501984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475080" y="502596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476360" y="5183280"/>
            <a:ext cx="19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81240" y="5106960"/>
            <a:ext cx="3142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478240" y="444348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476360" y="4443480"/>
            <a:ext cx="9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282680" y="4334040"/>
            <a:ext cx="2509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478240" y="460692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556080" y="485604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303640" y="4856040"/>
            <a:ext cx="16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54120" y="4851360"/>
            <a:ext cx="36720" cy="36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471760" y="461340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478240" y="4856040"/>
            <a:ext cx="10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371680" y="4911840"/>
            <a:ext cx="3128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X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76360" y="476892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282680" y="4672080"/>
            <a:ext cx="2383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476360" y="494496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82680" y="4834080"/>
            <a:ext cx="23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371680" y="4594320"/>
            <a:ext cx="200160" cy="18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2322360" y="4594320"/>
            <a:ext cx="300240" cy="18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508640" y="4776840"/>
            <a:ext cx="276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6207120" y="4597560"/>
            <a:ext cx="15084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 flipV="1">
            <a:off x="6357960" y="4597560"/>
            <a:ext cx="18720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207120" y="4854600"/>
            <a:ext cx="32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6280" y="4865760"/>
            <a:ext cx="6192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017480" y="4952880"/>
            <a:ext cx="118944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518960" y="4965840"/>
            <a:ext cx="18648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017120" y="4911840"/>
            <a:ext cx="1189800" cy="38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518600" y="4924080"/>
            <a:ext cx="186840" cy="35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18320" y="507672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542360" y="4913280"/>
            <a:ext cx="6336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542360" y="5238720"/>
            <a:ext cx="633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540480" y="4167360"/>
            <a:ext cx="40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540480" y="4556160"/>
            <a:ext cx="40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534000" y="4173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755040" y="4175280"/>
            <a:ext cx="386640" cy="41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754680" y="4149720"/>
            <a:ext cx="387000" cy="42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142040" y="4336920"/>
            <a:ext cx="61920" cy="61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538960" y="490680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538960" y="530856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532480" y="4913280"/>
            <a:ext cx="0" cy="38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749920" y="4915080"/>
            <a:ext cx="390240" cy="41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49560" y="4898880"/>
            <a:ext cx="390600" cy="41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140520" y="5076720"/>
            <a:ext cx="6192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365880" y="444348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359400" y="4449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367760" y="527040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361280" y="527688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362560" y="5433840"/>
            <a:ext cx="19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81480" y="5335560"/>
            <a:ext cx="312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207280" y="5106960"/>
            <a:ext cx="14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367760" y="494496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203960" y="435600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61280" y="436248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365880" y="428004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62560" y="428004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181480" y="4170240"/>
            <a:ext cx="2509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454880" y="510696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59400" y="4927680"/>
            <a:ext cx="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353280" y="5089680"/>
            <a:ext cx="36360" cy="36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202440" y="510696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365880" y="5106960"/>
            <a:ext cx="107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175440" y="4430880"/>
            <a:ext cx="237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362560" y="501984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181480" y="4923000"/>
            <a:ext cx="23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362560" y="518328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181480" y="5084640"/>
            <a:ext cx="2383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396280" y="4981680"/>
            <a:ext cx="276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234120" y="5178600"/>
            <a:ext cx="363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X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6600" y="2144880"/>
            <a:ext cx="4759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68440" y="3921120"/>
            <a:ext cx="476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83240" y="2144880"/>
            <a:ext cx="48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719600" y="3921120"/>
            <a:ext cx="488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554200" y="234792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554200" y="2736720"/>
            <a:ext cx="41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2548080" y="2341440"/>
            <a:ext cx="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754720" y="2344680"/>
            <a:ext cx="386640" cy="41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754360" y="2316240"/>
            <a:ext cx="387000" cy="42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639800" y="267336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39800" y="307512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1633680" y="266652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840320" y="2681280"/>
            <a:ext cx="386640" cy="41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839960" y="2668680"/>
            <a:ext cx="387000" cy="41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791080" y="2693880"/>
            <a:ext cx="1253520" cy="38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54080" y="2681280"/>
            <a:ext cx="1190520" cy="38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330720" y="2681280"/>
            <a:ext cx="186840" cy="38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481560" y="28749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331080" y="2693880"/>
            <a:ext cx="186480" cy="35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05160" y="271152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141720" y="253512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298680" y="254160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056120" y="287496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90760" y="246060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476360" y="246060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282680" y="2340000"/>
            <a:ext cx="2509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305160" y="287496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227320" y="287496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378160" y="2855880"/>
            <a:ext cx="38160" cy="36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390760" y="262404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390760" y="287496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384280" y="263052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284560" y="2938320"/>
            <a:ext cx="237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476360" y="278604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282680" y="2678040"/>
            <a:ext cx="2383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476360" y="294948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282680" y="2841480"/>
            <a:ext cx="2383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305160" y="303696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298680" y="304308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476360" y="3200400"/>
            <a:ext cx="181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282680" y="3090960"/>
            <a:ext cx="23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238640" y="2760840"/>
            <a:ext cx="274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395360" y="3325680"/>
            <a:ext cx="1803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original 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540480" y="2347920"/>
            <a:ext cx="38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540480" y="2736720"/>
            <a:ext cx="40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6534000" y="2341440"/>
            <a:ext cx="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742440" y="2355840"/>
            <a:ext cx="386640" cy="41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42080" y="2327400"/>
            <a:ext cx="387000" cy="42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613480" y="2673360"/>
            <a:ext cx="38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613480" y="3075120"/>
            <a:ext cx="41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607000" y="266652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15440" y="2681280"/>
            <a:ext cx="386640" cy="41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815080" y="2668680"/>
            <a:ext cx="387000" cy="41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768000" y="2693880"/>
            <a:ext cx="1262880" cy="38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840360" y="2681280"/>
            <a:ext cx="1190520" cy="38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305840" y="2681280"/>
            <a:ext cx="186840" cy="38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454880" y="28749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306200" y="2693880"/>
            <a:ext cx="186480" cy="35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365880" y="246060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451480" y="246060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268960" y="2351160"/>
            <a:ext cx="2509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92880" y="2874960"/>
            <a:ext cx="14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202440" y="287496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353280" y="2855880"/>
            <a:ext cx="36360" cy="36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365880" y="262404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365880" y="2874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59400" y="263052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272280" y="2949480"/>
            <a:ext cx="236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92880" y="2711520"/>
            <a:ext cx="14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116840" y="253512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286760" y="254160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451480" y="2786040"/>
            <a:ext cx="14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268960" y="2689200"/>
            <a:ext cx="237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451480" y="2949480"/>
            <a:ext cx="14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268960" y="2852640"/>
            <a:ext cx="23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292880" y="3036960"/>
            <a:ext cx="14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286760" y="304308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51480" y="3200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268960" y="3102120"/>
            <a:ext cx="237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043840" y="287496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880" rIns="1188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354800" y="2679840"/>
            <a:ext cx="7488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405560" y="2843280"/>
            <a:ext cx="7488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354800" y="3005280"/>
            <a:ext cx="7488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267680" y="2679840"/>
            <a:ext cx="745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316640" y="2843280"/>
            <a:ext cx="7632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267680" y="3005280"/>
            <a:ext cx="745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80" rIns="1188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250120" y="2760840"/>
            <a:ext cx="276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78600" y="3287880"/>
            <a:ext cx="33685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add double bubbles at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357200" y="5364000"/>
            <a:ext cx="2179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distribute bub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some misma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011560" y="5684760"/>
            <a:ext cx="3808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" rIns="122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insert inverters to fix misma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cp:keywords/>
  <dc:language>en-US</dc:language>
  <cp:lastModifiedBy>Bruce Hemingway</cp:lastModifiedBy>
  <cp:lastPrinted>2006-01-20T19:12:30Z</cp:lastPrinted>
  <dcterms:modified xsi:type="dcterms:W3CDTF">2007-01-24T16:46:33Z</dcterms:modified>
  <cp:revision>351</cp:revision>
  <dc:subject>CSE370</dc:subject>
  <dc:title>Lecture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