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EAA7-C259-4243-852D-6E1213E99D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of D latches and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flip-flops and SR 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cading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: Sequential-logic building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4800" y="1343160"/>
            <a:ext cx="793440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latches and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-S l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 latch and D flip-f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/slave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flip-fl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clocks, timing, timing dia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 timing and delay spec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asynchronous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stability and how to avoid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basic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registers, shift registers,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52880" y="3068640"/>
            <a:ext cx="378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2871720"/>
            <a:ext cx="55872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5200" y="2871720"/>
            <a:ext cx="54612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0920" y="3449520"/>
            <a:ext cx="20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29200" y="3449520"/>
            <a:ext cx="20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2640" y="4046400"/>
            <a:ext cx="35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71840" y="4021200"/>
            <a:ext cx="38160" cy="507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4440" y="3456000"/>
            <a:ext cx="0" cy="58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0920" y="4046400"/>
            <a:ext cx="242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3080" y="3456000"/>
            <a:ext cx="0" cy="58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0840" y="2928960"/>
            <a:ext cx="36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03640" y="3919680"/>
            <a:ext cx="82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87760" y="2827440"/>
            <a:ext cx="57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9760" y="2840040"/>
            <a:ext cx="4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5080" y="29415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52880" y="294156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83360" y="29415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91160" y="294156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4480" y="4379760"/>
            <a:ext cx="59310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5480" y="440856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14480" y="4811760"/>
            <a:ext cx="6606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4789440"/>
            <a:ext cx="8002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04080" y="42908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cading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5280" y="1368000"/>
            <a:ext cx="78134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Shift reg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FF acquires IN at rising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FF acquires Q0 at rising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32748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8600" y="33386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6840" y="3755880"/>
            <a:ext cx="2211120" cy="107460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like this figure, draw your clock at the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e timing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cading flip-flop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280" y="1374480"/>
            <a:ext cx="78138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ip-flop propagation delays exceed hold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stage latches its input before input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63720" y="2631600"/>
            <a:ext cx="5575320" cy="3188160"/>
            <a:chOff x="1863720" y="2631600"/>
            <a:chExt cx="5575320" cy="3188160"/>
          </a:xfrm>
        </p:grpSpPr>
        <p:sp>
          <p:nvSpPr>
            <p:cNvPr id="74" name=""/>
            <p:cNvSpPr/>
            <p:nvPr/>
          </p:nvSpPr>
          <p:spPr>
            <a:xfrm>
              <a:off x="1863720" y="3051000"/>
              <a:ext cx="5205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1360" y="334332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701800" y="313992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4760" y="3152880"/>
              <a:ext cx="162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1360" y="413064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1360" y="4130640"/>
              <a:ext cx="123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755880" y="392724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46520" y="3940200"/>
              <a:ext cx="21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1360" y="4842000"/>
              <a:ext cx="335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36920" y="5477040"/>
              <a:ext cx="69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273480" y="528588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86080" y="5273640"/>
              <a:ext cx="107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78320" y="528624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90920" y="5477040"/>
              <a:ext cx="97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381640" y="528588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94240" y="5273640"/>
              <a:ext cx="10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61280" y="528624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73880" y="54770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755880" y="392724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462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902200" y="4625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01800" y="29494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5520" y="3521160"/>
              <a:ext cx="685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5920" y="4168800"/>
              <a:ext cx="685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ph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29360" y="5311800"/>
              <a:ext cx="558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5800" y="540072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0000" y="5413320"/>
              <a:ext cx="44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368680" y="4308480"/>
              <a:ext cx="54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1080" y="3457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902200" y="4613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1800" y="3508200"/>
              <a:ext cx="6858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08240" y="5299200"/>
              <a:ext cx="558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2080" y="53881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41120" y="5400720"/>
              <a:ext cx="4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60520" y="4295880"/>
              <a:ext cx="49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7360" y="3444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3480" y="29368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89480" y="29368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55880" y="29242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1080" y="297504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81640" y="296244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5800" y="29494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200" y="2949480"/>
              <a:ext cx="0" cy="2793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498760" y="263160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9600" y="4168800"/>
              <a:ext cx="685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pl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2760" y="31654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2760" y="336852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2200" y="395280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2200" y="4143240"/>
              <a:ext cx="1447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5280" y="1386000"/>
            <a:ext cx="7813440" cy="16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Clock all flip-flop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to achieve in high-speed system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delays (wire, buffers) are comparable to logic de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 is called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38160" y="3143160"/>
            <a:ext cx="4711680" cy="19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8160" y="314316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240" y="546084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st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= 0, Q0 = 1, Q1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0 = 0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1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be Q1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5520" y="4432320"/>
            <a:ext cx="8254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4880" y="3559320"/>
            <a:ext cx="23860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0 clocks first f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1 clocks second f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K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lig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K0, but is delay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ue to clock sk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56220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320" y="3511440"/>
            <a:ext cx="800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4480" y="3054240"/>
            <a:ext cx="66060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259160" y="4087800"/>
            <a:ext cx="1658880" cy="67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3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flip-flops with comm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 related values (e.g. a binary wor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ff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orage regis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hift registers, 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382920" y="4502160"/>
            <a:ext cx="52092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02000" y="458460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16280" y="458460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91160" y="4502160"/>
            <a:ext cx="52056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10240" y="458460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4520" y="458460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86440" y="4502160"/>
            <a:ext cx="52056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5520" y="458460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9800" y="458460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73360" y="5162400"/>
            <a:ext cx="637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6720" y="5162400"/>
            <a:ext cx="759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4889520"/>
            <a:ext cx="254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3680" y="4889520"/>
            <a:ext cx="24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881600" y="5162400"/>
            <a:ext cx="507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932360" y="516240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0240" y="4889520"/>
            <a:ext cx="24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98960" y="4889520"/>
            <a:ext cx="254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6880" y="5162400"/>
            <a:ext cx="637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240240" y="5162400"/>
            <a:ext cx="759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05520" y="4889520"/>
            <a:ext cx="254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7200" y="4889520"/>
            <a:ext cx="24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94680" y="4502160"/>
            <a:ext cx="52056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485120" y="5162400"/>
            <a:ext cx="507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535880" y="516240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3760" y="4889520"/>
            <a:ext cx="24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02480" y="4889520"/>
            <a:ext cx="254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5840" y="502920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03840" y="5029200"/>
            <a:ext cx="11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51480" y="50292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24440" y="40323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81360" y="3746520"/>
            <a:ext cx="723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1720" y="502920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9360" y="502920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2320" y="40323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89600" y="3746520"/>
            <a:ext cx="711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55000" y="50292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07000" y="502920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7960" y="40323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84880" y="3746520"/>
            <a:ext cx="7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15240" y="502920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35840" y="40323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93120" y="3746520"/>
            <a:ext cx="736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43200" y="531504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30600" y="543564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8840" y="531504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5880" y="543564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6720" y="531504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34120" y="543564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2360" y="5315040"/>
            <a:ext cx="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35280" y="544824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9680" y="5448240"/>
            <a:ext cx="128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44960" y="544824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3200" y="5448240"/>
            <a:ext cx="128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20840" y="5295960"/>
            <a:ext cx="50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6760" y="503568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503568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0280" y="503568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48520" y="503568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4040" y="5816520"/>
            <a:ext cx="72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02280" y="5816520"/>
            <a:ext cx="711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97560" y="5816520"/>
            <a:ext cx="711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05440" y="5816520"/>
            <a:ext cx="736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3760" y="458460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8040" y="458460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15240" y="4711680"/>
            <a:ext cx="5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872480" y="42861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22680" y="4280040"/>
            <a:ext cx="515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18360" y="46990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211880" y="42732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07000" y="4711680"/>
            <a:ext cx="5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564240" y="4273200"/>
            <a:ext cx="0" cy="44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910120" y="46990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904000" y="42732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1720" y="4686480"/>
            <a:ext cx="5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68960" y="42606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14840" y="467352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608360" y="4286160"/>
            <a:ext cx="0" cy="39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03840" y="4711680"/>
            <a:ext cx="5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60720" y="42861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306600" y="46990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00480" y="42732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48120" y="426708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7880" y="4267080"/>
            <a:ext cx="3780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6360" y="4267080"/>
            <a:ext cx="3780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95760" y="426708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1640" y="426708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91040" y="426708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99280" y="4267080"/>
            <a:ext cx="38160" cy="381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8240" y="4140360"/>
            <a:ext cx="50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0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30320" y="3664080"/>
            <a:ext cx="1170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 4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4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successively sampled inpu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ays values i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4-bit shift regi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s 4 input values in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97000" y="3846600"/>
            <a:ext cx="6800760" cy="1270080"/>
            <a:chOff x="1197000" y="3846600"/>
            <a:chExt cx="6800760" cy="1270080"/>
          </a:xfrm>
        </p:grpSpPr>
        <p:sp>
          <p:nvSpPr>
            <p:cNvPr id="229" name=""/>
            <p:cNvSpPr/>
            <p:nvPr/>
          </p:nvSpPr>
          <p:spPr>
            <a:xfrm>
              <a:off x="2435400" y="4246560"/>
              <a:ext cx="52056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625840" y="4640040"/>
              <a:ext cx="633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689200" y="46400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4480" y="43671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59040" y="43671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43280" y="4246560"/>
              <a:ext cx="520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34080" y="4640040"/>
              <a:ext cx="50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984480" y="4640040"/>
              <a:ext cx="759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62360" y="43671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54680" y="43671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38920" y="4246560"/>
              <a:ext cx="52056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229360" y="4640040"/>
              <a:ext cx="633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5292720" y="46400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8000" y="43671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62560" y="43671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46800" y="4246560"/>
              <a:ext cx="520920" cy="54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537600" y="4640040"/>
              <a:ext cx="50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588000" y="4640040"/>
              <a:ext cx="759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65880" y="43671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8200" y="43671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8320" y="45068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7760" y="4506840"/>
              <a:ext cx="50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7000" y="439272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55960" y="45068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03600" y="4506840"/>
              <a:ext cx="1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83040" y="450684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30720" y="44942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49800" y="4506840"/>
              <a:ext cx="24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43320" y="390384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62400" y="38466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4200" y="4506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1840" y="4506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91280" y="4506840"/>
              <a:ext cx="24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6000" y="44942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5080" y="450684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8960" y="390384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57680" y="38466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07120" y="4506840"/>
              <a:ext cx="1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59480" y="45068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86560" y="4506840"/>
              <a:ext cx="25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34240" y="4494240"/>
              <a:ext cx="38160" cy="507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53320" y="4506840"/>
              <a:ext cx="24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6840" y="390384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65920" y="38466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67720" y="4506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4800" y="4506840"/>
              <a:ext cx="24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2120" y="3903840"/>
              <a:ext cx="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61200" y="384660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5680" y="47926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70120" y="4913280"/>
              <a:ext cx="5112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90960" y="47926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78360" y="4913280"/>
              <a:ext cx="381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99200" y="47926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86600" y="4913280"/>
              <a:ext cx="38160" cy="38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94480" y="47926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7760" y="4926240"/>
              <a:ext cx="90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02160" y="4926240"/>
              <a:ext cx="128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97440" y="49262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05680" y="4926240"/>
              <a:ext cx="128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73320" y="47736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-regist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64920" y="1396800"/>
            <a:ext cx="7777080" cy="31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-to-serial conversion for signal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 recognition (circuit recognizes 100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46240" y="4748040"/>
            <a:ext cx="7394040" cy="1338120"/>
            <a:chOff x="1146240" y="4748040"/>
            <a:chExt cx="7394040" cy="1338120"/>
          </a:xfrm>
        </p:grpSpPr>
        <p:sp>
          <p:nvSpPr>
            <p:cNvPr id="292" name=""/>
            <p:cNvSpPr/>
            <p:nvPr/>
          </p:nvSpPr>
          <p:spPr>
            <a:xfrm>
              <a:off x="5229360" y="4804920"/>
              <a:ext cx="1688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229360" y="4907880"/>
              <a:ext cx="16884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23240" y="48049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440" y="4896720"/>
              <a:ext cx="478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84480" y="4919400"/>
              <a:ext cx="168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784480" y="5033520"/>
              <a:ext cx="16848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78360" y="49194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5200" y="5022720"/>
              <a:ext cx="478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26840" y="4833720"/>
              <a:ext cx="28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26840" y="5119560"/>
              <a:ext cx="28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20720" y="483948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9920" y="4846320"/>
              <a:ext cx="26424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83800" y="4840920"/>
              <a:ext cx="2764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9560" y="4833720"/>
              <a:ext cx="26460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3440" y="4827960"/>
              <a:ext cx="27684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9000" y="4959720"/>
              <a:ext cx="3600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1000" y="4953960"/>
              <a:ext cx="60480" cy="56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20720" y="47480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020720" y="5113800"/>
              <a:ext cx="0" cy="1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3880" y="5039640"/>
              <a:ext cx="1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96880" y="491364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21160" y="4913640"/>
              <a:ext cx="66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94000" y="479952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8800" y="4799520"/>
              <a:ext cx="37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0560" y="4913640"/>
              <a:ext cx="10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94000" y="49136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1160" y="4913640"/>
              <a:ext cx="12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25680" y="50396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94000" y="50396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58160" y="503964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94000" y="51537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21480" y="4970880"/>
              <a:ext cx="1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41720" y="4970880"/>
              <a:ext cx="10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22360" y="5302800"/>
              <a:ext cx="494280" cy="49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503080" y="5657400"/>
              <a:ext cx="6012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2563200" y="5657400"/>
              <a:ext cx="7236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40360" y="5411520"/>
              <a:ext cx="2408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34480" y="5411520"/>
              <a:ext cx="2289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64720" y="5302800"/>
              <a:ext cx="494640" cy="49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745800" y="5657400"/>
              <a:ext cx="4788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3794040" y="5657400"/>
              <a:ext cx="7200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82720" y="5411520"/>
              <a:ext cx="2293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64960" y="5411520"/>
              <a:ext cx="2412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95200" y="5302800"/>
              <a:ext cx="494280" cy="49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976280" y="5657400"/>
              <a:ext cx="6012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5036040" y="5657400"/>
              <a:ext cx="7236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13200" y="5411520"/>
              <a:ext cx="2408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07320" y="5411520"/>
              <a:ext cx="2289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37560" y="5302800"/>
              <a:ext cx="494640" cy="49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218640" y="5657400"/>
              <a:ext cx="4788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266880" y="5657400"/>
              <a:ext cx="7200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55560" y="5411520"/>
              <a:ext cx="2293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37800" y="5411520"/>
              <a:ext cx="2408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01760" y="5537160"/>
              <a:ext cx="10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07120" y="5537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46240" y="5434560"/>
              <a:ext cx="5065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16640" y="5537160"/>
              <a:ext cx="10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31880" y="55371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37600" y="55371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72680" y="5526000"/>
              <a:ext cx="3600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90680" y="5537160"/>
              <a:ext cx="2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4560" y="4817880"/>
              <a:ext cx="0" cy="71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59360" y="5537160"/>
              <a:ext cx="1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74600" y="5537160"/>
              <a:ext cx="1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79960" y="5537160"/>
              <a:ext cx="2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03160" y="5526000"/>
              <a:ext cx="3600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1160" y="55371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5040" y="4923720"/>
              <a:ext cx="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04720" y="55371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89840" y="5537160"/>
              <a:ext cx="10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10440" y="553716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45520" y="5526000"/>
              <a:ext cx="3600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63880" y="5537160"/>
              <a:ext cx="2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57760" y="5046840"/>
              <a:ext cx="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32200" y="5537160"/>
              <a:ext cx="1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52800" y="5537160"/>
              <a:ext cx="2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87880" y="5150880"/>
              <a:ext cx="0" cy="38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9680" y="579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45200" y="5903280"/>
              <a:ext cx="4824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99800" y="579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87920" y="5903280"/>
              <a:ext cx="360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42520" y="579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30640" y="5903280"/>
              <a:ext cx="3564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72640" y="579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7120" y="5914800"/>
              <a:ext cx="85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75800" y="5914800"/>
              <a:ext cx="121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5920" y="5914800"/>
              <a:ext cx="12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48640" y="5914800"/>
              <a:ext cx="121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8600" y="5777640"/>
              <a:ext cx="4824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80680" y="4845240"/>
              <a:ext cx="7596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961920" y="2133720"/>
            <a:ext cx="7413480" cy="1582560"/>
            <a:chOff x="961920" y="2133720"/>
            <a:chExt cx="7413480" cy="1582560"/>
          </a:xfrm>
        </p:grpSpPr>
        <p:sp>
          <p:nvSpPr>
            <p:cNvPr id="383" name=""/>
            <p:cNvSpPr/>
            <p:nvPr/>
          </p:nvSpPr>
          <p:spPr>
            <a:xfrm>
              <a:off x="961920" y="3360600"/>
              <a:ext cx="1993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allel 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56160" y="2265480"/>
              <a:ext cx="2019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allel 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28600" y="29066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98400" y="2695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41400" y="2803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06680" y="3152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8080" y="3152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49480" y="3152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20880" y="3152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97280" y="2695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40280" y="29066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505200" y="2225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276600" y="2225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035400" y="2225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19400" y="2225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58880" y="2133720"/>
              <a:ext cx="2187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ial 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035240" y="2498760"/>
              <a:ext cx="1155240" cy="609480"/>
              <a:chOff x="4035240" y="2498760"/>
              <a:chExt cx="1155240" cy="609480"/>
            </a:xfrm>
          </p:grpSpPr>
          <p:sp>
            <p:nvSpPr>
              <p:cNvPr id="400" name=""/>
              <p:cNvSpPr/>
              <p:nvPr/>
            </p:nvSpPr>
            <p:spPr>
              <a:xfrm>
                <a:off x="4098600" y="2689200"/>
                <a:ext cx="101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085640" y="2917800"/>
                <a:ext cx="10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35240" y="2695680"/>
                <a:ext cx="12672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76360" y="2695680"/>
                <a:ext cx="11412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98600" y="2708280"/>
                <a:ext cx="101160" cy="203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47840" y="2771640"/>
                <a:ext cx="8820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23760" y="2498760"/>
                <a:ext cx="177480" cy="60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44720" y="2708280"/>
                <a:ext cx="101160" cy="203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143320" y="2820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44560" y="262872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78320" y="26719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1730520" y="4803840"/>
            <a:ext cx="6631920" cy="1371240"/>
            <a:chOff x="1730520" y="4803840"/>
            <a:chExt cx="6631920" cy="1371240"/>
          </a:xfrm>
        </p:grpSpPr>
        <p:sp>
          <p:nvSpPr>
            <p:cNvPr id="412" name=""/>
            <p:cNvSpPr/>
            <p:nvPr/>
          </p:nvSpPr>
          <p:spPr>
            <a:xfrm>
              <a:off x="3057480" y="5168880"/>
              <a:ext cx="494640" cy="49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238200" y="5527800"/>
              <a:ext cx="60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3298680" y="5527800"/>
              <a:ext cx="727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76560" y="5278320"/>
              <a:ext cx="2408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84360" y="5278320"/>
              <a:ext cx="228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00200" y="5168880"/>
              <a:ext cx="495000" cy="49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483080" y="5527800"/>
              <a:ext cx="471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4530600" y="5527800"/>
              <a:ext cx="727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19280" y="5278320"/>
              <a:ext cx="228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4840" y="5278320"/>
              <a:ext cx="2408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32120" y="5168880"/>
              <a:ext cx="495000" cy="49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713200" y="5527800"/>
              <a:ext cx="60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5773680" y="5527800"/>
              <a:ext cx="727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49760" y="5278320"/>
              <a:ext cx="242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57560" y="5278320"/>
              <a:ext cx="230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75200" y="5168880"/>
              <a:ext cx="495000" cy="49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956280" y="5527800"/>
              <a:ext cx="48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7005240" y="5527800"/>
              <a:ext cx="70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94280" y="5278320"/>
              <a:ext cx="228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480" y="5278320"/>
              <a:ext cx="241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36880" y="540720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42960" y="54072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81000" y="5302080"/>
              <a:ext cx="5061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2480" y="5407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68440" y="540720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3440" y="540720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8160" y="5394240"/>
              <a:ext cx="363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27240" y="540720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21120" y="485604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57480" y="4803840"/>
              <a:ext cx="686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95560" y="5407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1520" y="540720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16160" y="540720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40080" y="5394240"/>
              <a:ext cx="363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7720" y="540720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2680" y="485604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7600" y="4803840"/>
              <a:ext cx="67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43440" y="540720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27480" y="540720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48080" y="5407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83160" y="5394240"/>
              <a:ext cx="3600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00800" y="5407200"/>
              <a:ext cx="22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95760" y="485604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0680" y="4803840"/>
              <a:ext cx="67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70560" y="540720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91160" y="540720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6240" y="4856040"/>
              <a:ext cx="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62600" y="4803840"/>
              <a:ext cx="699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5160" y="566748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81040" y="5776920"/>
              <a:ext cx="475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37080" y="566748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4120" y="5776920"/>
              <a:ext cx="36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79800" y="566748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67200" y="5776920"/>
              <a:ext cx="36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66748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42960" y="5789520"/>
              <a:ext cx="85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11280" y="57895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3200" y="5789520"/>
              <a:ext cx="12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86280" y="57895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4080" y="5649840"/>
              <a:ext cx="482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26240" y="540072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698720" y="6056280"/>
              <a:ext cx="293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736640" y="5389200"/>
              <a:ext cx="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53920" y="539424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5080" y="5394240"/>
              <a:ext cx="345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517640" y="5951520"/>
              <a:ext cx="1933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4517640" y="6055920"/>
              <a:ext cx="1868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05200" y="595152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0120" y="6026040"/>
              <a:ext cx="475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30520" y="6056280"/>
              <a:ext cx="27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64920" y="1387080"/>
            <a:ext cx="7934040" cy="46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ng counter: Sequence is 1000, 0100, 0010, 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one of these patterns is the starting st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son counter: Sequence is 1000, 1100, 1110, 1111, 0111, 0011, 0001, 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730160" y="2359080"/>
            <a:ext cx="6527520" cy="1229760"/>
            <a:chOff x="1730160" y="2359080"/>
            <a:chExt cx="6527520" cy="1229760"/>
          </a:xfrm>
        </p:grpSpPr>
        <p:sp>
          <p:nvSpPr>
            <p:cNvPr id="485" name=""/>
            <p:cNvSpPr/>
            <p:nvPr/>
          </p:nvSpPr>
          <p:spPr>
            <a:xfrm>
              <a:off x="3036960" y="2716200"/>
              <a:ext cx="48672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215160" y="3067200"/>
              <a:ext cx="5904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3274560" y="3067200"/>
              <a:ext cx="7128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54960" y="2823840"/>
              <a:ext cx="2372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7720" y="2823840"/>
              <a:ext cx="2257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60600" y="2716200"/>
              <a:ext cx="48672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438800" y="3067200"/>
              <a:ext cx="4716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485960" y="3067200"/>
              <a:ext cx="7092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78240" y="2823840"/>
              <a:ext cx="2257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69480" y="2823840"/>
              <a:ext cx="2372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72360" y="2716200"/>
              <a:ext cx="48672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650200" y="3067200"/>
              <a:ext cx="5904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5709600" y="3067200"/>
              <a:ext cx="7128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0000" y="2823840"/>
              <a:ext cx="2372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2760" y="2823840"/>
              <a:ext cx="2257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95640" y="2716200"/>
              <a:ext cx="48708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873840" y="3067200"/>
              <a:ext cx="4716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6921000" y="3067200"/>
              <a:ext cx="7092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13280" y="2823840"/>
              <a:ext cx="2257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04520" y="2823840"/>
              <a:ext cx="2372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18160" y="2948400"/>
              <a:ext cx="1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31440" y="2948400"/>
              <a:ext cx="47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78840" y="2846160"/>
              <a:ext cx="49896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24040" y="2948400"/>
              <a:ext cx="1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29920" y="29484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42840" y="294840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4680" y="2937240"/>
              <a:ext cx="356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92320" y="2948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6200" y="2409840"/>
              <a:ext cx="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21840" y="2359080"/>
              <a:ext cx="6768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47680" y="294840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53560" y="2948400"/>
              <a:ext cx="1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66480" y="2948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86080" y="2937240"/>
              <a:ext cx="356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03720" y="294840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98320" y="2409840"/>
              <a:ext cx="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33600" y="2359080"/>
              <a:ext cx="66528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64960" y="29484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59080" y="2948400"/>
              <a:ext cx="1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77880" y="294840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09720" y="2937240"/>
              <a:ext cx="356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7360" y="2948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21600" y="2409840"/>
              <a:ext cx="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57240" y="2359080"/>
              <a:ext cx="66528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2720" y="294840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01520" y="2948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33360" y="2409840"/>
              <a:ext cx="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8640" y="2359080"/>
              <a:ext cx="6890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80680" y="3203640"/>
              <a:ext cx="0" cy="11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56920" y="3311280"/>
              <a:ext cx="4716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2080" y="3203640"/>
              <a:ext cx="0" cy="11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0200" y="3311280"/>
              <a:ext cx="356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5720" y="3203640"/>
              <a:ext cx="0" cy="11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03840" y="3311280"/>
              <a:ext cx="356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27120" y="3203640"/>
              <a:ext cx="0" cy="11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31440" y="3322440"/>
              <a:ext cx="8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86800" y="3322440"/>
              <a:ext cx="11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98200" y="3322440"/>
              <a:ext cx="12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21840" y="3322440"/>
              <a:ext cx="11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0120" y="3186720"/>
              <a:ext cx="47484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33360" y="29426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730160" y="3583440"/>
              <a:ext cx="580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736280" y="2931480"/>
              <a:ext cx="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54280" y="2937240"/>
              <a:ext cx="32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21120" y="2937240"/>
              <a:ext cx="356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example: A binary 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65280" y="1415520"/>
            <a:ext cx="781344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logic between flip-fl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timing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339920" y="2847960"/>
            <a:ext cx="6514920" cy="2844720"/>
            <a:chOff x="1339920" y="2847960"/>
            <a:chExt cx="6514920" cy="2844720"/>
          </a:xfrm>
        </p:grpSpPr>
        <p:sp>
          <p:nvSpPr>
            <p:cNvPr id="553" name=""/>
            <p:cNvSpPr/>
            <p:nvPr/>
          </p:nvSpPr>
          <p:spPr>
            <a:xfrm>
              <a:off x="2502000" y="32479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692440" y="364140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2755800" y="364140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21080" y="336852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44720" y="336852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9880" y="32479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000680" y="364140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4051080" y="364140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28960" y="336852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336852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5520" y="32479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295960" y="364140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5359320" y="364140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24600" y="336852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48240" y="336852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13400" y="32479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603840" y="364140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6654600" y="364140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2480" y="336852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43880" y="336852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74920" y="3508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24160" y="3508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22560" y="350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95760" y="35082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56120" y="34956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68720" y="2905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06880" y="2847960"/>
              <a:ext cx="7236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30800" y="3508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03640" y="3508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64000" y="34956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76600" y="2905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14760" y="284796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11880" y="35082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26080" y="350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34956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84840" y="2905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23000" y="284796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34320" y="3508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61040" y="35082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80120" y="29178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18280" y="286056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62280" y="3794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36720" y="3914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57560" y="3794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4496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65800" y="3794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53200" y="391464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61080" y="37940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54360" y="392760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8760" y="3927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4040" y="3927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2280" y="3927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39920" y="37749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57520" y="454500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43480" y="454500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62592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75300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7520" y="44816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57520" y="40752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43480" y="407520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43480" y="448164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3160" y="454500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38760" y="454500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93380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6088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3160" y="448164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3160" y="4075200"/>
              <a:ext cx="3042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38760" y="407520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38760" y="448164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61040" y="454500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47360" y="454500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24204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36912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1040" y="448164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61040" y="4075200"/>
              <a:ext cx="3042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47360" y="407520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47360" y="448164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705200" y="4975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022720" y="49622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698720" y="5286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9600" y="484344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13120" y="483696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05560" y="48434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99080" y="483696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013440" y="4975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330960" y="49622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19920" y="52862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7840" y="484344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21360" y="483696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13800" y="48434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07320" y="483696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85920" y="454500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71880" y="454500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25432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381400" y="4555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85920" y="44816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85920" y="40752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71880" y="407520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1880" y="448164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6912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80120" y="351468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75240" y="471492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89280" y="3959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65720" y="5292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94120" y="5292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5300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76600" y="351468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64000" y="47023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76600" y="4721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59120" y="471492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83080" y="5540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81520" y="55278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00600" y="554040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94120" y="5419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65720" y="5419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97520" y="3959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39000" y="5292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6088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4840" y="351468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59280" y="4702320"/>
              <a:ext cx="51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84840" y="472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67360" y="471492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91320" y="54133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05400" y="3959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3380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57840" y="4721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63960" y="47149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4204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65720" y="4721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2200" y="471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5432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54320" y="4721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38320" y="517212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05400" y="5292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3800" y="5292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2592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81400" y="4594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05400" y="5419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74840" y="56674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13320" y="565452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32040" y="566748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21200" y="5654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40280" y="566748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33800" y="54198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25920" y="47214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68720" y="351468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156120" y="4702320"/>
              <a:ext cx="378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68720" y="47214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87520" y="47149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17680" y="3959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89280" y="35146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97520" y="35146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05400" y="35146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17680" y="35146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67520" y="34956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93840" y="323532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02080" y="323532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09960" y="323532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05600" y="324792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4-10-15T21:38:49Z</dcterms:modified>
  <cp:revision>603</cp:revision>
  <dc:subject>CSE370</dc:subject>
  <dc:title>Lecture1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