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6347-CEA9-4245-8B20-3F34B47E9A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ct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r>
              <a:rPr b="0" lang="en-US" sz="3200" spc="-1" strike="noStrike">
                <a:solidFill>
                  <a:srgbClr val="000000"/>
                </a:solidFill>
                <a:latin typeface="Fenc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 to sequential logic and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basic concep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simple exam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ip-flop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-triggered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ster-sla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ing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 flip-flops and SR lat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aster-slav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2679840" y="2306520"/>
            <a:ext cx="907920" cy="9176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751840" y="250524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356640" y="250524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878120" y="2587680"/>
            <a:ext cx="812520" cy="6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135240" y="3236760"/>
            <a:ext cx="1800" cy="316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28760" y="3419640"/>
            <a:ext cx="711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20680" y="2459160"/>
            <a:ext cx="724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884240" y="1901880"/>
            <a:ext cx="25466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Master D l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121360" y="2306520"/>
            <a:ext cx="907920" cy="9176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193360" y="250524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798160" y="250524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40440" y="2592360"/>
            <a:ext cx="911160" cy="6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576760" y="3236760"/>
            <a:ext cx="1800" cy="316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998760" y="2457360"/>
            <a:ext cx="861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325760" y="1901880"/>
            <a:ext cx="25466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Slave D l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500800" y="3228840"/>
            <a:ext cx="136440" cy="1238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576600" y="2567160"/>
            <a:ext cx="15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905120" y="354348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070080" y="3473280"/>
            <a:ext cx="136800" cy="1238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235240" y="1806480"/>
            <a:ext cx="4224240" cy="2308320"/>
          </a:xfrm>
          <a:prstGeom prst="rect">
            <a:avLst/>
          </a:prstGeom>
          <a:noFill/>
          <a:ln w="19080">
            <a:solidFill>
              <a:srgbClr val="cc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74960" y="3733920"/>
            <a:ext cx="2925720" cy="6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master-slave D flip-f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420920" y="4786200"/>
            <a:ext cx="5661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example: Draw the timing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we make a latch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inverters hold a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long as power is applied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ing a new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orarily break the feedback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3084480" y="2913120"/>
            <a:ext cx="25416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3084480" y="3090600"/>
            <a:ext cx="25416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071880" y="2913120"/>
            <a:ext cx="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351240" y="3065400"/>
            <a:ext cx="63360" cy="76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998880" y="2913120"/>
            <a:ext cx="25416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3998880" y="3090600"/>
            <a:ext cx="25416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986280" y="2913120"/>
            <a:ext cx="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09960" y="3065400"/>
            <a:ext cx="50760" cy="63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97360" y="3065400"/>
            <a:ext cx="63360" cy="76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278240" y="3103560"/>
            <a:ext cx="165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17920" y="3065400"/>
            <a:ext cx="50760" cy="6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906640" y="310356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68680" y="31035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94040" y="2620800"/>
            <a:ext cx="0" cy="47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06640" y="2608200"/>
            <a:ext cx="1536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56080" y="2620800"/>
            <a:ext cx="0" cy="47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03440" y="3103560"/>
            <a:ext cx="48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440160" y="2786040"/>
            <a:ext cx="507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440160" y="2290680"/>
            <a:ext cx="507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1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951440" y="2887560"/>
            <a:ext cx="1790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tored bi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610080" y="5484960"/>
            <a:ext cx="253800" cy="17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610080" y="5662440"/>
            <a:ext cx="253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597120" y="5484960"/>
            <a:ext cx="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76840" y="5637240"/>
            <a:ext cx="63360" cy="76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524480" y="5484960"/>
            <a:ext cx="253800" cy="17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524480" y="5662440"/>
            <a:ext cx="253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511520" y="5484960"/>
            <a:ext cx="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435560" y="5637240"/>
            <a:ext cx="50760" cy="63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422600" y="5637240"/>
            <a:ext cx="63720" cy="76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803840" y="5675400"/>
            <a:ext cx="164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943520" y="5637240"/>
            <a:ext cx="50760" cy="6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432240" y="567540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81480" y="5637240"/>
            <a:ext cx="50760" cy="6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994280" y="567540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419640" y="519264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32240" y="518004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981680" y="519264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178080" y="5675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27600" y="5675400"/>
            <a:ext cx="48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2790720" y="5605560"/>
            <a:ext cx="40032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778120" y="5643720"/>
            <a:ext cx="63360" cy="63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121200" y="5643720"/>
            <a:ext cx="63360" cy="63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3800" y="567540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022640" y="4982760"/>
            <a:ext cx="343080" cy="19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010040" y="5148360"/>
            <a:ext cx="63360" cy="63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352760" y="5148360"/>
            <a:ext cx="63720" cy="63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422600" y="5180040"/>
            <a:ext cx="546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724200" y="4697280"/>
            <a:ext cx="16002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remembe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684520" y="5289480"/>
            <a:ext cx="723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load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927080" y="5494320"/>
            <a:ext cx="838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dat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64080" y="5459400"/>
            <a:ext cx="1790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tored bi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we make a D F/F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04440" y="1390680"/>
            <a:ext cx="431316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ge triggering is diffic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bel the internal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 a timing di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t with Clk=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673520" y="2189160"/>
            <a:ext cx="3743280" cy="3222720"/>
            <a:chOff x="4673520" y="2189160"/>
            <a:chExt cx="3743280" cy="3222720"/>
          </a:xfrm>
        </p:grpSpPr>
        <p:pic>
          <p:nvPicPr>
            <p:cNvPr id="729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5097600" y="2189160"/>
              <a:ext cx="3217680" cy="32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8213760" y="3400560"/>
              <a:ext cx="20304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400" bIns="2340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41800" y="5030640"/>
              <a:ext cx="1936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400" bIns="2340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73520" y="3765600"/>
              <a:ext cx="5684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400" bIns="2340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04960" y="2467080"/>
              <a:ext cx="2552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95960" y="4325760"/>
              <a:ext cx="1911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095960" y="2948040"/>
              <a:ext cx="1911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05320" y="4865760"/>
              <a:ext cx="178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213760" y="3951360"/>
              <a:ext cx="2030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400" bIns="2340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 flip-fl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22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name: Toggle flip-fl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toggles when input is asser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=1, then 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Q'  when CLK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=0, then 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Q  when CLK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>
            <a:off x="2600280" y="4214880"/>
            <a:ext cx="55872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055960" y="4411800"/>
            <a:ext cx="53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59000" y="4411800"/>
            <a:ext cx="43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84280" y="4792680"/>
            <a:ext cx="20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16000" y="5389560"/>
            <a:ext cx="35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378160" y="4799160"/>
            <a:ext cx="0" cy="58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158840" y="5207040"/>
            <a:ext cx="82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381480" y="4048200"/>
            <a:ext cx="57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631960" y="422604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924280" y="4226040"/>
            <a:ext cx="25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631960" y="462276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827600" y="4006800"/>
            <a:ext cx="3103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      Q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       Q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73840" y="4078440"/>
            <a:ext cx="7920" cy="149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045400" y="452772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247080" y="452772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450200" y="452772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45400" y="480852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247080" y="480852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450200" y="480852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045400" y="509112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7080" y="509112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450200" y="509112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045400" y="537228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247080" y="537228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450200" y="537228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98480" y="4048200"/>
            <a:ext cx="571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762440" y="4362480"/>
            <a:ext cx="336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R l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339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ss-coupled NOR g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set (S=1, R=0) or reset (R=1, S=0) the output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5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ss-coupled NAND g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set (S=1, R=0) or reset (R=1, S=0) th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524400" y="2114640"/>
            <a:ext cx="2504520" cy="1622160"/>
            <a:chOff x="3524400" y="2114640"/>
            <a:chExt cx="2504520" cy="1622160"/>
          </a:xfrm>
        </p:grpSpPr>
        <p:pic>
          <p:nvPicPr>
            <p:cNvPr id="770" name="" descr=""/>
            <p:cNvPicPr/>
            <p:nvPr/>
          </p:nvPicPr>
          <p:blipFill>
            <a:blip r:embed="rId1"/>
            <a:stretch/>
          </p:blipFill>
          <p:spPr>
            <a:xfrm>
              <a:off x="3624840" y="2114640"/>
              <a:ext cx="2091240" cy="16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3524400" y="2340000"/>
              <a:ext cx="2127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524400" y="3280680"/>
              <a:ext cx="2127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590800" y="2427840"/>
              <a:ext cx="2253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16000" y="3205440"/>
              <a:ext cx="41292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524400" y="4522680"/>
            <a:ext cx="2466360" cy="1622520"/>
            <a:chOff x="3524400" y="4522680"/>
            <a:chExt cx="2466360" cy="1622520"/>
          </a:xfrm>
        </p:grpSpPr>
        <p:pic>
          <p:nvPicPr>
            <p:cNvPr id="776" name="" descr=""/>
            <p:cNvPicPr/>
            <p:nvPr/>
          </p:nvPicPr>
          <p:blipFill>
            <a:blip r:embed="rId2"/>
            <a:stretch/>
          </p:blipFill>
          <p:spPr>
            <a:xfrm>
              <a:off x="3599280" y="4522680"/>
              <a:ext cx="209124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5553000" y="4823280"/>
              <a:ext cx="2253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577840" y="5601240"/>
              <a:ext cx="41292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524400" y="4748400"/>
              <a:ext cx="36288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24400" y="5713920"/>
              <a:ext cx="4507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R latch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65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th table and ti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681120" y="3895560"/>
            <a:ext cx="7518240" cy="210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983040" y="4441680"/>
            <a:ext cx="647640" cy="1536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370560" y="4454640"/>
            <a:ext cx="119376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681120" y="3895560"/>
            <a:ext cx="7505640" cy="209556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1557360" y="3781440"/>
            <a:ext cx="838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662200" y="376884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513240" y="3781440"/>
            <a:ext cx="64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443560" y="3781440"/>
            <a:ext cx="64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668840" y="3781440"/>
            <a:ext cx="838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920000" y="3768840"/>
            <a:ext cx="838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87240" y="4371840"/>
            <a:ext cx="393840" cy="16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909720" y="4403880"/>
            <a:ext cx="57132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129360" y="3844800"/>
            <a:ext cx="507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951520" y="3844800"/>
            <a:ext cx="8380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854360" y="1892160"/>
            <a:ext cx="2504520" cy="1621080"/>
            <a:chOff x="1854360" y="1892160"/>
            <a:chExt cx="2504520" cy="1621080"/>
          </a:xfrm>
        </p:grpSpPr>
        <p:pic>
          <p:nvPicPr>
            <p:cNvPr id="798" name="" descr=""/>
            <p:cNvPicPr/>
            <p:nvPr/>
          </p:nvPicPr>
          <p:blipFill>
            <a:blip r:embed="rId4"/>
            <a:stretch/>
          </p:blipFill>
          <p:spPr>
            <a:xfrm>
              <a:off x="1954800" y="1892160"/>
              <a:ext cx="209124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1854360" y="2117520"/>
              <a:ext cx="2127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854360" y="3057480"/>
              <a:ext cx="2127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20760" y="2205360"/>
              <a:ext cx="2253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945960" y="2982240"/>
              <a:ext cx="41292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678640" y="1825560"/>
            <a:ext cx="2117160" cy="1781280"/>
            <a:chOff x="5678640" y="1825560"/>
            <a:chExt cx="2117160" cy="1781280"/>
          </a:xfrm>
        </p:grpSpPr>
        <p:sp>
          <p:nvSpPr>
            <p:cNvPr id="804" name=""/>
            <p:cNvSpPr/>
            <p:nvPr/>
          </p:nvSpPr>
          <p:spPr>
            <a:xfrm>
              <a:off x="5703480" y="1825560"/>
              <a:ext cx="2092320" cy="17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174"/>
                </a:lnSpc>
                <a:spcAft>
                  <a:spcPts val="1976"/>
                </a:spcAft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disal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5678640" y="1875600"/>
              <a:ext cx="2029680" cy="1392120"/>
              <a:chOff x="5678640" y="1875600"/>
              <a:chExt cx="2029680" cy="1392120"/>
            </a:xfrm>
          </p:grpSpPr>
          <p:sp>
            <p:nvSpPr>
              <p:cNvPr id="806" name=""/>
              <p:cNvSpPr/>
              <p:nvPr/>
            </p:nvSpPr>
            <p:spPr>
              <a:xfrm>
                <a:off x="6543000" y="1875600"/>
                <a:ext cx="0" cy="139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678640" y="2138760"/>
                <a:ext cx="202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8" name=""/>
          <p:cNvSpPr/>
          <p:nvPr/>
        </p:nvSpPr>
        <p:spPr>
          <a:xfrm>
            <a:off x="1855800" y="4076640"/>
            <a:ext cx="14400" cy="48096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81360" y="4076640"/>
            <a:ext cx="282240" cy="100980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925720" y="4076640"/>
            <a:ext cx="14400" cy="56196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951280" y="4076640"/>
            <a:ext cx="282600" cy="100980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598920" y="4100400"/>
            <a:ext cx="185760" cy="57492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09880" y="4100400"/>
            <a:ext cx="0" cy="84636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4869000" y="4087800"/>
            <a:ext cx="185760" cy="48276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79960" y="4087800"/>
            <a:ext cx="0" cy="96372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794200" y="4111560"/>
            <a:ext cx="14400" cy="56196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819760" y="4111560"/>
            <a:ext cx="236520" cy="84636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7738920" y="4122720"/>
            <a:ext cx="479520" cy="117648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7950240" y="4122720"/>
            <a:ext cx="293760" cy="1576440"/>
          </a:xfrm>
          <a:prstGeom prst="line">
            <a:avLst/>
          </a:prstGeom>
          <a:ln w="19080">
            <a:solidFill>
              <a:srgbClr val="cc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R latch is glitch sensi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3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0 hazards can set/reset l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itch on S input sets latc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itch on R input resets lat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3780000" y="3708360"/>
            <a:ext cx="2092320" cy="162072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3679920" y="3922560"/>
            <a:ext cx="2127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679920" y="4673520"/>
            <a:ext cx="2127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746680" y="4010040"/>
            <a:ext cx="225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772240" y="4788000"/>
            <a:ext cx="412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324080" y="5124600"/>
            <a:ext cx="93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262240" y="4878360"/>
            <a:ext cx="0" cy="246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62240" y="4878360"/>
            <a:ext cx="19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462040" y="4884840"/>
            <a:ext cx="0" cy="24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462040" y="5124600"/>
            <a:ext cx="84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6099120" y="4005000"/>
            <a:ext cx="1877760" cy="246240"/>
            <a:chOff x="6099120" y="4005000"/>
            <a:chExt cx="1877760" cy="246240"/>
          </a:xfrm>
        </p:grpSpPr>
        <p:sp>
          <p:nvSpPr>
            <p:cNvPr id="833" name=""/>
            <p:cNvSpPr/>
            <p:nvPr/>
          </p:nvSpPr>
          <p:spPr>
            <a:xfrm>
              <a:off x="6099120" y="4251240"/>
              <a:ext cx="93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7037280" y="4005000"/>
              <a:ext cx="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037280" y="4006800"/>
              <a:ext cx="93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6099120" y="4824360"/>
            <a:ext cx="1877760" cy="246240"/>
            <a:chOff x="6099120" y="4824360"/>
            <a:chExt cx="1877760" cy="246240"/>
          </a:xfrm>
        </p:grpSpPr>
        <p:sp>
          <p:nvSpPr>
            <p:cNvPr id="837" name=""/>
            <p:cNvSpPr/>
            <p:nvPr/>
          </p:nvSpPr>
          <p:spPr>
            <a:xfrm>
              <a:off x="6099120" y="4824360"/>
              <a:ext cx="93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37280" y="4824360"/>
              <a:ext cx="0" cy="24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37280" y="5068800"/>
              <a:ext cx="93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1324080" y="4167360"/>
            <a:ext cx="196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053000" y="3978360"/>
            <a:ext cx="17532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053000" y="4944960"/>
            <a:ext cx="17532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ea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es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flip-fl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65280" y="1498320"/>
            <a:ext cx="7929360" cy="438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le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t flip-flop to a known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d at startup, re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le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 logic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ous: Q=0 when next clock edge arr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: Q=0 when reset is asser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9440" indent="-2124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esn't wait for c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9440" indent="-2124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ick but dangero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state to logic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ous: Q=1 when next clock edge arr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: Q=1 when reset is asser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9440" indent="-2124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esn't wait for c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9440" indent="-2124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ick but dangero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 l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2760" y="1390680"/>
            <a:ext cx="50292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depends on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ck high: Input passes to outpu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ck low: Latch holds its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ch are level sensitive a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451560" y="1549440"/>
            <a:ext cx="1362240" cy="1674720"/>
            <a:chOff x="6451560" y="1549440"/>
            <a:chExt cx="1362240" cy="1674720"/>
          </a:xfrm>
        </p:grpSpPr>
        <p:sp>
          <p:nvSpPr>
            <p:cNvPr id="46" name=""/>
            <p:cNvSpPr/>
            <p:nvPr/>
          </p:nvSpPr>
          <p:spPr>
            <a:xfrm>
              <a:off x="6667560" y="1549440"/>
              <a:ext cx="907920" cy="9176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39920" y="174780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44720" y="174780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51560" y="1835280"/>
              <a:ext cx="2271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586640" y="1835280"/>
              <a:ext cx="2271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123320" y="2479680"/>
              <a:ext cx="1440" cy="316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44720" y="213372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86640" y="2197080"/>
              <a:ext cx="2271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80520" y="2146320"/>
              <a:ext cx="123840" cy="11124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91480" y="2846520"/>
              <a:ext cx="71100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5717880" y="1701720"/>
            <a:ext cx="724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95800" y="1700280"/>
            <a:ext cx="861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95800" y="2104920"/>
            <a:ext cx="861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53400" y="209088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468520" y="3672000"/>
            <a:ext cx="0" cy="220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844720" y="4260600"/>
            <a:ext cx="4508280" cy="1145880"/>
            <a:chOff x="2844720" y="4260600"/>
            <a:chExt cx="4508280" cy="1145880"/>
          </a:xfrm>
        </p:grpSpPr>
        <p:sp>
          <p:nvSpPr>
            <p:cNvPr id="62" name=""/>
            <p:cNvSpPr/>
            <p:nvPr/>
          </p:nvSpPr>
          <p:spPr>
            <a:xfrm flipV="1">
              <a:off x="2844720" y="4260600"/>
              <a:ext cx="0" cy="1145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595680" y="4260600"/>
              <a:ext cx="0" cy="1145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4348080" y="4260600"/>
              <a:ext cx="0" cy="1145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099040" y="4260600"/>
              <a:ext cx="0" cy="1145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851440" y="4260600"/>
              <a:ext cx="0" cy="1145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6602400" y="4260600"/>
              <a:ext cx="0" cy="1145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353000" y="4260960"/>
              <a:ext cx="0" cy="1129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692360" y="3832200"/>
            <a:ext cx="69516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68520" y="418932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844720" y="396396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44720" y="396396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20920" y="396396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20920" y="418932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595680" y="396396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95680" y="396396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71880" y="396396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71880" y="418932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348080" y="396396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8080" y="396396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2840" y="396396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2840" y="418932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099040" y="396396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99040" y="396396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75240" y="396396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5240" y="418932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851440" y="396396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51440" y="396396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26200" y="396396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26200" y="418932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602400" y="396396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02400" y="396396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78600" y="396396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78600" y="418932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54120" y="5668920"/>
            <a:ext cx="41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855880" y="544356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55880" y="5443560"/>
            <a:ext cx="150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544356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59240" y="5668920"/>
            <a:ext cx="150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862600" y="544356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2600" y="5443560"/>
            <a:ext cx="150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3440" y="544356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3440" y="5668920"/>
            <a:ext cx="67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689880" y="544356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89880" y="5443560"/>
            <a:ext cx="14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38920" y="544356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38920" y="5668920"/>
            <a:ext cx="52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67080" y="4723920"/>
            <a:ext cx="4884120" cy="232200"/>
            <a:chOff x="2467080" y="4723920"/>
            <a:chExt cx="4884120" cy="232200"/>
          </a:xfrm>
        </p:grpSpPr>
        <p:sp>
          <p:nvSpPr>
            <p:cNvPr id="109" name=""/>
            <p:cNvSpPr/>
            <p:nvPr/>
          </p:nvSpPr>
          <p:spPr>
            <a:xfrm>
              <a:off x="2467080" y="4956120"/>
              <a:ext cx="299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766960" y="472860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66960" y="4728960"/>
              <a:ext cx="142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95440" y="472896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5440" y="4956120"/>
              <a:ext cx="660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698800" y="472860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98800" y="4728960"/>
              <a:ext cx="299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99040" y="472896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99040" y="4956120"/>
              <a:ext cx="675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675120" y="472860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75120" y="4728960"/>
              <a:ext cx="15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25960" y="472896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25960" y="4956120"/>
              <a:ext cx="525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849560" y="472392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49560" y="4724280"/>
              <a:ext cx="15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00400" y="472428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98960" y="4956120"/>
              <a:ext cx="70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 flip-fl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2760" y="1390680"/>
            <a:ext cx="58212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sampled at clock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sing edge: Input passes to outpu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wise: Flip-flop holds its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ip-flops are rising-edge triggered, falling-edge triggered, or master-sl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451560" y="1549440"/>
            <a:ext cx="1362240" cy="1674720"/>
            <a:chOff x="6451560" y="1549440"/>
            <a:chExt cx="1362240" cy="1674720"/>
          </a:xfrm>
        </p:grpSpPr>
        <p:sp>
          <p:nvSpPr>
            <p:cNvPr id="129" name=""/>
            <p:cNvSpPr/>
            <p:nvPr/>
          </p:nvSpPr>
          <p:spPr>
            <a:xfrm>
              <a:off x="6667560" y="1549440"/>
              <a:ext cx="907920" cy="9176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39920" y="174780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44720" y="174780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51560" y="1835280"/>
              <a:ext cx="2271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86640" y="1835280"/>
              <a:ext cx="2271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23320" y="2479680"/>
              <a:ext cx="1440" cy="316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44720" y="213372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86640" y="2197080"/>
              <a:ext cx="2271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80520" y="2146320"/>
              <a:ext cx="123840" cy="11124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91480" y="2846520"/>
              <a:ext cx="71100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5717880" y="1701720"/>
            <a:ext cx="724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795800" y="1700280"/>
            <a:ext cx="861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95800" y="2104920"/>
            <a:ext cx="861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53400" y="209088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993000" y="2239920"/>
            <a:ext cx="226800" cy="162000"/>
            <a:chOff x="6993000" y="2239920"/>
            <a:chExt cx="226800" cy="162000"/>
          </a:xfrm>
        </p:grpSpPr>
        <p:sp>
          <p:nvSpPr>
            <p:cNvPr id="144" name=""/>
            <p:cNvSpPr/>
            <p:nvPr/>
          </p:nvSpPr>
          <p:spPr>
            <a:xfrm flipV="1">
              <a:off x="6993000" y="2239920"/>
              <a:ext cx="112680" cy="16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07120" y="2239920"/>
              <a:ext cx="112680" cy="15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V="1">
            <a:off x="2468520" y="3728520"/>
            <a:ext cx="0" cy="224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844720" y="4317480"/>
            <a:ext cx="4508280" cy="1060200"/>
            <a:chOff x="2844720" y="4317480"/>
            <a:chExt cx="4508280" cy="1060200"/>
          </a:xfrm>
        </p:grpSpPr>
        <p:sp>
          <p:nvSpPr>
            <p:cNvPr id="148" name=""/>
            <p:cNvSpPr/>
            <p:nvPr/>
          </p:nvSpPr>
          <p:spPr>
            <a:xfrm flipV="1">
              <a:off x="2844720" y="4317480"/>
              <a:ext cx="0" cy="1060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595680" y="4317480"/>
              <a:ext cx="0" cy="1060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348080" y="4317480"/>
              <a:ext cx="0" cy="1060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099040" y="4317480"/>
              <a:ext cx="0" cy="1060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851440" y="4317480"/>
              <a:ext cx="0" cy="1060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602400" y="4317480"/>
              <a:ext cx="0" cy="1060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7353000" y="4317840"/>
              <a:ext cx="0" cy="1045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692360" y="3889440"/>
            <a:ext cx="695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68520" y="424656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844720" y="402120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44720" y="402120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20920" y="402120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20920" y="424656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595680" y="402120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95680" y="402120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71880" y="402120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71880" y="424656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348080" y="402120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8080" y="402120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2840" y="402120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2840" y="424656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099040" y="402120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99040" y="402120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75240" y="402120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75240" y="424656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851440" y="402120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51440" y="402120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26200" y="402120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26200" y="424656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602400" y="402120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02400" y="402120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78600" y="402120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78600" y="424656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52680" y="5684760"/>
            <a:ext cx="40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855880" y="545940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55880" y="5459400"/>
            <a:ext cx="150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59240" y="545940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59240" y="5684760"/>
            <a:ext cx="150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862600" y="545940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62600" y="5459400"/>
            <a:ext cx="750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13560" y="545940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13560" y="5684760"/>
            <a:ext cx="676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467080" y="4723920"/>
            <a:ext cx="4884120" cy="232200"/>
            <a:chOff x="2467080" y="4723920"/>
            <a:chExt cx="4884120" cy="232200"/>
          </a:xfrm>
        </p:grpSpPr>
        <p:sp>
          <p:nvSpPr>
            <p:cNvPr id="191" name=""/>
            <p:cNvSpPr/>
            <p:nvPr/>
          </p:nvSpPr>
          <p:spPr>
            <a:xfrm>
              <a:off x="2467080" y="4956120"/>
              <a:ext cx="299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766960" y="472860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66960" y="4728960"/>
              <a:ext cx="142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95440" y="472896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5440" y="4956120"/>
              <a:ext cx="660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698800" y="472860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98800" y="4728960"/>
              <a:ext cx="299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99040" y="472896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99040" y="4956120"/>
              <a:ext cx="675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675120" y="472860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75120" y="4728960"/>
              <a:ext cx="15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25960" y="472896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25960" y="4956120"/>
              <a:ext cx="525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849560" y="472392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49560" y="4724280"/>
              <a:ext cx="15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00400" y="472428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98960" y="4956120"/>
              <a:ext cx="70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inology &amp;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627200" y="4649760"/>
            <a:ext cx="1362240" cy="1674720"/>
            <a:chOff x="1627200" y="4649760"/>
            <a:chExt cx="1362240" cy="1674720"/>
          </a:xfrm>
        </p:grpSpPr>
        <p:sp>
          <p:nvSpPr>
            <p:cNvPr id="210" name=""/>
            <p:cNvSpPr/>
            <p:nvPr/>
          </p:nvSpPr>
          <p:spPr>
            <a:xfrm>
              <a:off x="1843200" y="4649760"/>
              <a:ext cx="907920" cy="9176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15560" y="484812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20360" y="484812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27200" y="4935600"/>
              <a:ext cx="2271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62280" y="4935600"/>
              <a:ext cx="2271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98960" y="5580000"/>
              <a:ext cx="1440" cy="316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20360" y="523404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62280" y="5297400"/>
              <a:ext cx="2271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56160" y="5246640"/>
              <a:ext cx="123840" cy="11124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67120" y="5946840"/>
              <a:ext cx="71100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893520" y="4802040"/>
            <a:ext cx="724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71080" y="4800600"/>
            <a:ext cx="861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080" y="5205240"/>
            <a:ext cx="861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29040" y="519120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168640" y="5340240"/>
            <a:ext cx="226800" cy="162000"/>
            <a:chOff x="2168640" y="5340240"/>
            <a:chExt cx="226800" cy="162000"/>
          </a:xfrm>
        </p:grpSpPr>
        <p:sp>
          <p:nvSpPr>
            <p:cNvPr id="225" name=""/>
            <p:cNvSpPr/>
            <p:nvPr/>
          </p:nvSpPr>
          <p:spPr>
            <a:xfrm flipV="1">
              <a:off x="2168640" y="5340240"/>
              <a:ext cx="112680" cy="16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2760" y="5340240"/>
              <a:ext cx="112680" cy="15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047600" y="3940200"/>
            <a:ext cx="254664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Falling-edge triggered D flip-f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93520" y="1474920"/>
            <a:ext cx="2939400" cy="2384280"/>
            <a:chOff x="893520" y="1474920"/>
            <a:chExt cx="2939400" cy="2384280"/>
          </a:xfrm>
        </p:grpSpPr>
        <p:grpSp>
          <p:nvGrpSpPr>
            <p:cNvPr id="229" name=""/>
            <p:cNvGrpSpPr/>
            <p:nvPr/>
          </p:nvGrpSpPr>
          <p:grpSpPr>
            <a:xfrm>
              <a:off x="1627200" y="2184480"/>
              <a:ext cx="1362240" cy="1674720"/>
              <a:chOff x="1627200" y="2184480"/>
              <a:chExt cx="1362240" cy="1674720"/>
            </a:xfrm>
          </p:grpSpPr>
          <p:sp>
            <p:nvSpPr>
              <p:cNvPr id="230" name=""/>
              <p:cNvSpPr/>
              <p:nvPr/>
            </p:nvSpPr>
            <p:spPr>
              <a:xfrm>
                <a:off x="1843200" y="2184480"/>
                <a:ext cx="907920" cy="91764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15560" y="2382840"/>
                <a:ext cx="137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520360" y="2382840"/>
                <a:ext cx="137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627200" y="2470320"/>
                <a:ext cx="227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762280" y="2470320"/>
                <a:ext cx="227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298960" y="3114720"/>
                <a:ext cx="1440" cy="3160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20360" y="2768760"/>
                <a:ext cx="137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762280" y="2832120"/>
                <a:ext cx="22716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756160" y="2781360"/>
                <a:ext cx="123840" cy="11124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67120" y="3481560"/>
                <a:ext cx="71100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L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893520" y="2336760"/>
              <a:ext cx="7246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spAutoFit/>
            </a:bodyPr>
            <a:p>
              <a:pPr algn="r"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71080" y="2335320"/>
              <a:ext cx="8618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spAutoFit/>
            </a:bodyPr>
            <a:p>
              <a:pPr algn="r"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71080" y="2739960"/>
              <a:ext cx="8618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spAutoFit/>
            </a:bodyPr>
            <a:p>
              <a:pPr algn="r"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29040" y="272556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2168640" y="2874960"/>
              <a:ext cx="226800" cy="162000"/>
              <a:chOff x="2168640" y="2874960"/>
              <a:chExt cx="226800" cy="162000"/>
            </a:xfrm>
          </p:grpSpPr>
          <p:sp>
            <p:nvSpPr>
              <p:cNvPr id="245" name=""/>
              <p:cNvSpPr/>
              <p:nvPr/>
            </p:nvSpPr>
            <p:spPr>
              <a:xfrm flipV="1">
                <a:off x="2168640" y="2874960"/>
                <a:ext cx="112680" cy="16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282760" y="2874960"/>
                <a:ext cx="112680" cy="15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1047600" y="1474920"/>
              <a:ext cx="254664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27000" bIns="27000" anchor="t">
              <a:sp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Tahoma"/>
                </a:rPr>
                <a:t>Rising-edge triggered D flip-fl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222640" y="5572080"/>
            <a:ext cx="136440" cy="1238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3440" y="4649760"/>
            <a:ext cx="907920" cy="9176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85800" y="484812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90600" y="484812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97440" y="4935600"/>
            <a:ext cx="2271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2520" y="4935600"/>
            <a:ext cx="2271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69200" y="5580000"/>
            <a:ext cx="1440" cy="316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90600" y="523404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32520" y="5297400"/>
            <a:ext cx="22716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26400" y="5246640"/>
            <a:ext cx="123840" cy="1112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37360" y="5946840"/>
            <a:ext cx="711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63760" y="4802040"/>
            <a:ext cx="724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41680" y="4800600"/>
            <a:ext cx="861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41680" y="5205240"/>
            <a:ext cx="861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99280" y="519120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18200" y="4245120"/>
            <a:ext cx="25462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Negative D l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3440" y="2184480"/>
            <a:ext cx="907920" cy="9176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85800" y="238284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90600" y="238284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7440" y="2470320"/>
            <a:ext cx="2271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32520" y="2470320"/>
            <a:ext cx="2271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69200" y="3114720"/>
            <a:ext cx="1440" cy="315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0600" y="276876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2520" y="2832120"/>
            <a:ext cx="2271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26400" y="2781360"/>
            <a:ext cx="123840" cy="1112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37360" y="3481560"/>
            <a:ext cx="711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63760" y="2336760"/>
            <a:ext cx="724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41680" y="2335320"/>
            <a:ext cx="861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41680" y="2739960"/>
            <a:ext cx="861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99280" y="272556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18200" y="1779480"/>
            <a:ext cx="25462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Positive D l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92880" y="5572080"/>
            <a:ext cx="136440" cy="1238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30760" y="5070600"/>
            <a:ext cx="4281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havior is the same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unle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p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nges while the clock is 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618000" y="1715760"/>
            <a:ext cx="0" cy="300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994200" y="2304720"/>
            <a:ext cx="4508280" cy="1866600"/>
            <a:chOff x="3994200" y="2304720"/>
            <a:chExt cx="4508280" cy="1866600"/>
          </a:xfrm>
        </p:grpSpPr>
        <p:sp>
          <p:nvSpPr>
            <p:cNvPr id="283" name=""/>
            <p:cNvSpPr/>
            <p:nvPr/>
          </p:nvSpPr>
          <p:spPr>
            <a:xfrm flipV="1">
              <a:off x="3994200" y="2305080"/>
              <a:ext cx="0" cy="1866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745160" y="2305080"/>
              <a:ext cx="0" cy="1866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497560" y="2305080"/>
              <a:ext cx="0" cy="1866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248520" y="2305080"/>
              <a:ext cx="0" cy="1866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7000920" y="2305080"/>
              <a:ext cx="0" cy="1866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7751880" y="2305080"/>
              <a:ext cx="0" cy="1866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8502480" y="2304720"/>
              <a:ext cx="0" cy="18399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841480" y="1876320"/>
            <a:ext cx="69552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18000" y="223344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99420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94200" y="200808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7040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70400" y="223344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74516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45160" y="200808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2136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21360" y="223344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49756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97560" y="200808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7232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72320" y="223344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24852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200808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472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4720" y="223344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00092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00920" y="200808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7568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75680" y="223344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775188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751880" y="200808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2808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28080" y="2233440"/>
            <a:ext cx="37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02160" y="3672000"/>
            <a:ext cx="40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005360" y="34466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05360" y="3446640"/>
            <a:ext cx="150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08720" y="34466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08720" y="3672000"/>
            <a:ext cx="150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7012080" y="34466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12080" y="3446640"/>
            <a:ext cx="750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63040" y="34466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763040" y="3672000"/>
            <a:ext cx="676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03600" y="4424400"/>
            <a:ext cx="41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005360" y="41990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05360" y="4199040"/>
            <a:ext cx="150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08720" y="41990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08720" y="4424400"/>
            <a:ext cx="150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012080" y="41990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12080" y="4199040"/>
            <a:ext cx="150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62920" y="41990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62920" y="4424400"/>
            <a:ext cx="676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7839000" y="41990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839000" y="4199040"/>
            <a:ext cx="14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988400" y="41990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988400" y="4424400"/>
            <a:ext cx="52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ches versus flip-fl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616200" y="2711160"/>
            <a:ext cx="4884840" cy="232200"/>
            <a:chOff x="3616200" y="2711160"/>
            <a:chExt cx="4884840" cy="232200"/>
          </a:xfrm>
        </p:grpSpPr>
        <p:sp>
          <p:nvSpPr>
            <p:cNvPr id="340" name=""/>
            <p:cNvSpPr/>
            <p:nvPr/>
          </p:nvSpPr>
          <p:spPr>
            <a:xfrm>
              <a:off x="3616200" y="2943360"/>
              <a:ext cx="300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916440" y="271584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16440" y="2716200"/>
              <a:ext cx="1428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44920" y="271620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44920" y="2943360"/>
              <a:ext cx="66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6848280" y="271584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48280" y="2716200"/>
              <a:ext cx="300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48520" y="271620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48520" y="2943360"/>
              <a:ext cx="67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824600" y="271584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4600" y="2716200"/>
              <a:ext cx="15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75440" y="271620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75440" y="2943360"/>
              <a:ext cx="525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5999040" y="271116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99040" y="2711520"/>
              <a:ext cx="15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49880" y="271152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48440" y="2943360"/>
              <a:ext cx="70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041480" y="3570120"/>
            <a:ext cx="1361520" cy="1246320"/>
            <a:chOff x="1041480" y="3570120"/>
            <a:chExt cx="1361520" cy="1246320"/>
          </a:xfrm>
        </p:grpSpPr>
        <p:sp>
          <p:nvSpPr>
            <p:cNvPr id="358" name=""/>
            <p:cNvSpPr/>
            <p:nvPr/>
          </p:nvSpPr>
          <p:spPr>
            <a:xfrm>
              <a:off x="1257120" y="3570120"/>
              <a:ext cx="907920" cy="9176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29480" y="376884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34280" y="376884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41480" y="3855960"/>
              <a:ext cx="226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76200" y="3855960"/>
              <a:ext cx="226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12880" y="4500360"/>
              <a:ext cx="1080" cy="316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34280" y="415440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76200" y="4218120"/>
              <a:ext cx="226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70080" y="4167000"/>
              <a:ext cx="123480" cy="11124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509840" y="4908600"/>
            <a:ext cx="711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057320" y="1806480"/>
            <a:ext cx="1361520" cy="1674720"/>
            <a:chOff x="1057320" y="1806480"/>
            <a:chExt cx="1361520" cy="1674720"/>
          </a:xfrm>
        </p:grpSpPr>
        <p:grpSp>
          <p:nvGrpSpPr>
            <p:cNvPr id="369" name=""/>
            <p:cNvGrpSpPr/>
            <p:nvPr/>
          </p:nvGrpSpPr>
          <p:grpSpPr>
            <a:xfrm>
              <a:off x="1057320" y="1806480"/>
              <a:ext cx="1361520" cy="1674720"/>
              <a:chOff x="1057320" y="1806480"/>
              <a:chExt cx="1361520" cy="1674720"/>
            </a:xfrm>
          </p:grpSpPr>
          <p:sp>
            <p:nvSpPr>
              <p:cNvPr id="370" name=""/>
              <p:cNvSpPr/>
              <p:nvPr/>
            </p:nvSpPr>
            <p:spPr>
              <a:xfrm>
                <a:off x="1272960" y="1806480"/>
                <a:ext cx="907560" cy="91764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344960" y="2004840"/>
                <a:ext cx="137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950120" y="2004840"/>
                <a:ext cx="137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057320" y="2092320"/>
                <a:ext cx="226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192040" y="2092320"/>
                <a:ext cx="226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728720" y="2736720"/>
                <a:ext cx="1080" cy="3160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950120" y="2390760"/>
                <a:ext cx="137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192040" y="2454120"/>
                <a:ext cx="226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185920" y="2403360"/>
                <a:ext cx="123480" cy="11124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96880" y="3103560"/>
                <a:ext cx="71064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L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1598400" y="2496960"/>
              <a:ext cx="226800" cy="162000"/>
              <a:chOff x="1598400" y="2496960"/>
              <a:chExt cx="226800" cy="162000"/>
            </a:xfrm>
          </p:grpSpPr>
          <p:sp>
            <p:nvSpPr>
              <p:cNvPr id="381" name=""/>
              <p:cNvSpPr/>
              <p:nvPr/>
            </p:nvSpPr>
            <p:spPr>
              <a:xfrm flipV="1">
                <a:off x="1598400" y="2496960"/>
                <a:ext cx="112680" cy="16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712520" y="2496960"/>
                <a:ext cx="112680" cy="15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aster-slav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2679840" y="2306520"/>
            <a:ext cx="907920" cy="9176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51840" y="250524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56640" y="250524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8120" y="2587680"/>
            <a:ext cx="812520" cy="6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35240" y="3236760"/>
            <a:ext cx="1800" cy="316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28760" y="3419640"/>
            <a:ext cx="711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20680" y="2459160"/>
            <a:ext cx="724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84240" y="1901880"/>
            <a:ext cx="25466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Master D l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21360" y="2306520"/>
            <a:ext cx="907920" cy="9176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93360" y="250524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98160" y="2505240"/>
            <a:ext cx="137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40440" y="2592360"/>
            <a:ext cx="911160" cy="6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76760" y="3236760"/>
            <a:ext cx="1800" cy="316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98760" y="2457360"/>
            <a:ext cx="861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25760" y="1901880"/>
            <a:ext cx="25466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Slave D l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500800" y="3228840"/>
            <a:ext cx="136440" cy="1238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76600" y="2567160"/>
            <a:ext cx="15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05120" y="354348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70080" y="3473280"/>
            <a:ext cx="136800" cy="1238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35240" y="1806480"/>
            <a:ext cx="4224240" cy="2308320"/>
          </a:xfrm>
          <a:prstGeom prst="rect">
            <a:avLst/>
          </a:prstGeom>
          <a:noFill/>
          <a:ln w="19080">
            <a:solidFill>
              <a:srgbClr val="cc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74960" y="3733920"/>
            <a:ext cx="2925720" cy="6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master-slave D flip-f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20920" y="4786200"/>
            <a:ext cx="5661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example: Draw the timing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298760" y="2216160"/>
            <a:ext cx="191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ip-flop ti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11040" y="1390320"/>
            <a:ext cx="8228160" cy="16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lvl="1" marL="579240" indent="-222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Setup time t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ahoma"/>
              </a:rPr>
              <a:t>s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mount of time the input must be stable before the clock transitions high (or low for negative-edge triggered F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Hold time t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mount of time the input must be stable after the clock transitions high (or low for negative-edge triggered F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811080" y="5099040"/>
            <a:ext cx="3454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 is a timing "window" arou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e clock edge during which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put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main s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81520" y="3460680"/>
            <a:ext cx="55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53000" y="3460680"/>
            <a:ext cx="558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053120" y="3460680"/>
            <a:ext cx="55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082000" y="3460680"/>
            <a:ext cx="558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195800" y="4375080"/>
            <a:ext cx="3073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7275600" y="373356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281720" y="374004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875120" y="373356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81600" y="3740040"/>
            <a:ext cx="330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51160" y="4133880"/>
            <a:ext cx="81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32400" y="3232080"/>
            <a:ext cx="736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4800" y="3124080"/>
            <a:ext cx="457200" cy="80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43880" y="332100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904160" y="3321000"/>
            <a:ext cx="193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224320" y="3124080"/>
            <a:ext cx="457200" cy="80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5254560" y="3746520"/>
            <a:ext cx="9360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53120" y="332100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94320" y="3321000"/>
            <a:ext cx="20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048520" y="5240160"/>
            <a:ext cx="355680" cy="24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56080" y="5240160"/>
            <a:ext cx="698760" cy="24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34200" y="5240160"/>
            <a:ext cx="1434960" cy="241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62560" y="5925960"/>
            <a:ext cx="85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6219720" y="5691240"/>
            <a:ext cx="1708200" cy="241200"/>
            <a:chOff x="6219720" y="5691240"/>
            <a:chExt cx="1708200" cy="241200"/>
          </a:xfrm>
        </p:grpSpPr>
        <p:sp>
          <p:nvSpPr>
            <p:cNvPr id="433" name=""/>
            <p:cNvSpPr/>
            <p:nvPr/>
          </p:nvSpPr>
          <p:spPr>
            <a:xfrm flipV="1">
              <a:off x="6219720" y="56912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25840" y="5697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70400" y="57038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89480" y="59263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 flipV="1">
            <a:off x="7934400" y="56912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40520" y="5697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048360" y="5234040"/>
            <a:ext cx="50760" cy="241200"/>
            <a:chOff x="6048360" y="5234040"/>
            <a:chExt cx="50760" cy="241200"/>
          </a:xfrm>
        </p:grpSpPr>
        <p:sp>
          <p:nvSpPr>
            <p:cNvPr id="440" name=""/>
            <p:cNvSpPr/>
            <p:nvPr/>
          </p:nvSpPr>
          <p:spPr>
            <a:xfrm flipV="1">
              <a:off x="6048360" y="5234040"/>
              <a:ext cx="507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048360" y="5246640"/>
              <a:ext cx="507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111720" y="52401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11720" y="54687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349600" y="52401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5349600" y="54687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6276960" y="5234040"/>
            <a:ext cx="50760" cy="241200"/>
            <a:chOff x="6276960" y="5234040"/>
            <a:chExt cx="50760" cy="241200"/>
          </a:xfrm>
        </p:grpSpPr>
        <p:sp>
          <p:nvSpPr>
            <p:cNvPr id="447" name=""/>
            <p:cNvSpPr/>
            <p:nvPr/>
          </p:nvSpPr>
          <p:spPr>
            <a:xfrm flipV="1">
              <a:off x="6276960" y="5234040"/>
              <a:ext cx="507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76960" y="5246640"/>
              <a:ext cx="507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7763040" y="5234040"/>
            <a:ext cx="50760" cy="241200"/>
            <a:chOff x="7763040" y="5234040"/>
            <a:chExt cx="50760" cy="241200"/>
          </a:xfrm>
        </p:grpSpPr>
        <p:sp>
          <p:nvSpPr>
            <p:cNvPr id="450" name=""/>
            <p:cNvSpPr/>
            <p:nvPr/>
          </p:nvSpPr>
          <p:spPr>
            <a:xfrm flipV="1">
              <a:off x="7763040" y="5234040"/>
              <a:ext cx="507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63040" y="5246640"/>
              <a:ext cx="507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826400" y="52401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26400" y="54687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340320" y="5240160"/>
            <a:ext cx="140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40320" y="5468760"/>
            <a:ext cx="140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7991640" y="5234040"/>
            <a:ext cx="50760" cy="241200"/>
            <a:chOff x="7991640" y="5234040"/>
            <a:chExt cx="50760" cy="241200"/>
          </a:xfrm>
        </p:grpSpPr>
        <p:sp>
          <p:nvSpPr>
            <p:cNvPr id="457" name=""/>
            <p:cNvSpPr/>
            <p:nvPr/>
          </p:nvSpPr>
          <p:spPr>
            <a:xfrm flipV="1">
              <a:off x="7991640" y="5234040"/>
              <a:ext cx="507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91640" y="5246640"/>
              <a:ext cx="507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8055000" y="524016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055000" y="546876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61080" y="5722920"/>
            <a:ext cx="81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99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98880" y="5253120"/>
            <a:ext cx="736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99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38760" y="4935600"/>
            <a:ext cx="1105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99"/>
                </a:solidFill>
                <a:latin typeface="Tahoma"/>
              </a:rPr>
              <a:t>chan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89600" y="4935600"/>
            <a:ext cx="863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99"/>
                </a:solidFill>
                <a:latin typeface="Tahoma"/>
              </a:rPr>
              <a:t>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11320" y="4627440"/>
            <a:ext cx="1123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222640" y="4078080"/>
            <a:ext cx="218880" cy="54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54120" y="4078440"/>
            <a:ext cx="100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00160" y="3795840"/>
            <a:ext cx="66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1757520" y="3260520"/>
            <a:ext cx="218880" cy="54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79640" y="3260880"/>
            <a:ext cx="66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2649600" y="3260520"/>
            <a:ext cx="218880" cy="54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70280" y="380844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44680" y="3127320"/>
            <a:ext cx="0" cy="1488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81360" y="3516480"/>
            <a:ext cx="475920" cy="0"/>
          </a:xfrm>
          <a:prstGeom prst="line">
            <a:avLst/>
          </a:prstGeom>
          <a:ln w="19080">
            <a:solidFill>
              <a:srgbClr val="cc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44680" y="3516480"/>
            <a:ext cx="426960" cy="0"/>
          </a:xfrm>
          <a:prstGeom prst="line">
            <a:avLst/>
          </a:prstGeom>
          <a:ln w="19080">
            <a:solidFill>
              <a:srgbClr val="cc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006560" y="3425760"/>
            <a:ext cx="6793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55520" y="4245120"/>
            <a:ext cx="679680" cy="6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884240" y="3548160"/>
            <a:ext cx="4222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t</a:t>
            </a:r>
            <a:r>
              <a:rPr b="1" lang="en-US" sz="2000" spc="-1" strike="noStrike" baseline="-25000">
                <a:solidFill>
                  <a:srgbClr val="cc3399"/>
                </a:solidFill>
                <a:latin typeface="Tahoma"/>
              </a:rPr>
              <a:t>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60520" y="3548160"/>
            <a:ext cx="4222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t</a:t>
            </a:r>
            <a:r>
              <a:rPr b="1" lang="en-US" sz="2000" spc="-1" strike="noStrike" baseline="-25000">
                <a:solidFill>
                  <a:srgbClr val="cc3399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5254560" y="3679560"/>
            <a:ext cx="9360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7664400" y="3736800"/>
            <a:ext cx="9360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7664400" y="3669840"/>
            <a:ext cx="9360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559320" y="3979800"/>
            <a:ext cx="34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895560" y="3522240"/>
            <a:ext cx="266760" cy="46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59080" y="3535200"/>
            <a:ext cx="94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43680" y="3548160"/>
            <a:ext cx="22860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73720" y="3979800"/>
            <a:ext cx="209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454880" y="3560400"/>
            <a:ext cx="216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59720" y="3573360"/>
            <a:ext cx="620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68680" y="4691160"/>
            <a:ext cx="96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521240" y="4258800"/>
            <a:ext cx="266760" cy="44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76840" y="4272120"/>
            <a:ext cx="41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81480" y="4284720"/>
            <a:ext cx="22860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35640" y="469116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6870600" y="4296960"/>
            <a:ext cx="190440" cy="4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62840" y="4309920"/>
            <a:ext cx="44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686480" y="3376440"/>
            <a:ext cx="0" cy="2362320"/>
          </a:xfrm>
          <a:prstGeom prst="line">
            <a:avLst/>
          </a:prstGeom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038480" y="3389400"/>
            <a:ext cx="0" cy="723960"/>
          </a:xfrm>
          <a:prstGeom prst="line">
            <a:avLst/>
          </a:prstGeom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232240" y="3363840"/>
            <a:ext cx="0" cy="723960"/>
          </a:xfrm>
          <a:prstGeom prst="line">
            <a:avLst/>
          </a:prstGeom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68680" y="5415120"/>
            <a:ext cx="1879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460840" y="4957920"/>
            <a:ext cx="2034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53080" y="4995720"/>
            <a:ext cx="214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772400" y="5008680"/>
            <a:ext cx="150840" cy="41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83360" y="4125960"/>
            <a:ext cx="0" cy="723960"/>
          </a:xfrm>
          <a:prstGeom prst="line">
            <a:avLst/>
          </a:prstGeom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549760" y="4938840"/>
            <a:ext cx="0" cy="799920"/>
          </a:xfrm>
          <a:prstGeom prst="line">
            <a:avLst/>
          </a:prstGeom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6972480" y="3360600"/>
            <a:ext cx="0" cy="2362320"/>
          </a:xfrm>
          <a:prstGeom prst="line">
            <a:avLst/>
          </a:prstGeom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67560" y="3363840"/>
            <a:ext cx="0" cy="723960"/>
          </a:xfrm>
          <a:prstGeom prst="line">
            <a:avLst/>
          </a:prstGeom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350040" y="3402000"/>
            <a:ext cx="0" cy="723960"/>
          </a:xfrm>
          <a:prstGeom prst="line">
            <a:avLst/>
          </a:prstGeom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31200" y="4322880"/>
            <a:ext cx="152280" cy="35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709040" y="4691160"/>
            <a:ext cx="583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924680" y="5415120"/>
            <a:ext cx="44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835760" y="4948200"/>
            <a:ext cx="0" cy="800280"/>
          </a:xfrm>
          <a:prstGeom prst="line">
            <a:avLst/>
          </a:prstGeom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03680" y="3516480"/>
            <a:ext cx="584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5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651200" y="4259160"/>
            <a:ext cx="660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w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5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40240" y="5576760"/>
            <a:ext cx="148572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pl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5n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13n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45240" y="5576760"/>
            <a:ext cx="156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ph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0n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25n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67280" y="3522600"/>
            <a:ext cx="72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su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0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356520" y="38149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80000" y="47829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692600" y="559584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00920" y="5592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17960" y="4043520"/>
            <a:ext cx="668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22560" y="3649680"/>
            <a:ext cx="558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886120" y="4417920"/>
            <a:ext cx="787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997360" y="5084640"/>
            <a:ext cx="583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905520" y="3278160"/>
            <a:ext cx="584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5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318360" y="3278160"/>
            <a:ext cx="72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su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0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ip-flop timing (cont’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6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meet setup and hold ti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meet minimum clock wid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have propagation delays (low to high &amp; high to 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4702320" y="404352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72480" y="3811680"/>
            <a:ext cx="595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974880" y="3589200"/>
            <a:ext cx="1361520" cy="1674720"/>
            <a:chOff x="974880" y="3589200"/>
            <a:chExt cx="1361520" cy="1674720"/>
          </a:xfrm>
        </p:grpSpPr>
        <p:grpSp>
          <p:nvGrpSpPr>
            <p:cNvPr id="533" name=""/>
            <p:cNvGrpSpPr/>
            <p:nvPr/>
          </p:nvGrpSpPr>
          <p:grpSpPr>
            <a:xfrm>
              <a:off x="974880" y="3589200"/>
              <a:ext cx="1361520" cy="1674720"/>
              <a:chOff x="974880" y="3589200"/>
              <a:chExt cx="1361520" cy="1674720"/>
            </a:xfrm>
          </p:grpSpPr>
          <p:sp>
            <p:nvSpPr>
              <p:cNvPr id="534" name=""/>
              <p:cNvSpPr/>
              <p:nvPr/>
            </p:nvSpPr>
            <p:spPr>
              <a:xfrm>
                <a:off x="1190520" y="3589200"/>
                <a:ext cx="907560" cy="91764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262520" y="3787560"/>
                <a:ext cx="137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67680" y="3787560"/>
                <a:ext cx="137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74880" y="3875040"/>
                <a:ext cx="226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109600" y="3875040"/>
                <a:ext cx="226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646280" y="4519440"/>
                <a:ext cx="1080" cy="3160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867680" y="4173480"/>
                <a:ext cx="137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109600" y="4236840"/>
                <a:ext cx="226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103480" y="4186080"/>
                <a:ext cx="123480" cy="11124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414440" y="4886280"/>
                <a:ext cx="71064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L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1515960" y="4279680"/>
              <a:ext cx="226800" cy="162000"/>
              <a:chOff x="1515960" y="4279680"/>
              <a:chExt cx="226800" cy="162000"/>
            </a:xfrm>
          </p:grpSpPr>
          <p:sp>
            <p:nvSpPr>
              <p:cNvPr id="545" name=""/>
              <p:cNvSpPr/>
              <p:nvPr/>
            </p:nvSpPr>
            <p:spPr>
              <a:xfrm flipV="1">
                <a:off x="1515960" y="4279680"/>
                <a:ext cx="112680" cy="16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30080" y="4279680"/>
                <a:ext cx="112680" cy="15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3830760" y="5070600"/>
            <a:ext cx="4281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havior is the same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unle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p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nges while the clock is 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3618000" y="1715760"/>
            <a:ext cx="0" cy="300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994200" y="2304720"/>
            <a:ext cx="4508280" cy="1866600"/>
            <a:chOff x="3994200" y="2304720"/>
            <a:chExt cx="4508280" cy="1866600"/>
          </a:xfrm>
        </p:grpSpPr>
        <p:sp>
          <p:nvSpPr>
            <p:cNvPr id="550" name=""/>
            <p:cNvSpPr/>
            <p:nvPr/>
          </p:nvSpPr>
          <p:spPr>
            <a:xfrm flipV="1">
              <a:off x="3994200" y="2305080"/>
              <a:ext cx="0" cy="1866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4745160" y="2305080"/>
              <a:ext cx="0" cy="1866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497560" y="2305080"/>
              <a:ext cx="0" cy="1866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6248520" y="2305080"/>
              <a:ext cx="0" cy="1866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000920" y="2305080"/>
              <a:ext cx="0" cy="1866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751880" y="2305080"/>
              <a:ext cx="0" cy="1866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8502480" y="2304720"/>
              <a:ext cx="0" cy="18399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2841480" y="1876320"/>
            <a:ext cx="69552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8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18000" y="223344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99420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94200" y="200808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7040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70400" y="223344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74516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745160" y="200808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12136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121360" y="223344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49756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7560" y="200808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87232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72320" y="223344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24852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8520" y="200808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2472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624720" y="223344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700092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00920" y="200808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37568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375680" y="223344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775188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751880" y="200808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128080" y="200808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128080" y="2233440"/>
            <a:ext cx="37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602160" y="3672000"/>
            <a:ext cx="40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4005360" y="34466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005360" y="3446640"/>
            <a:ext cx="150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508720" y="34466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508720" y="3672000"/>
            <a:ext cx="150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012080" y="34466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2080" y="3446640"/>
            <a:ext cx="750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63040" y="34466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763040" y="3672000"/>
            <a:ext cx="676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603600" y="4424400"/>
            <a:ext cx="41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4005360" y="41990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05360" y="4199040"/>
            <a:ext cx="150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508720" y="41990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508720" y="4424400"/>
            <a:ext cx="150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7012080" y="41990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012080" y="4199040"/>
            <a:ext cx="150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62920" y="41990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162920" y="4424400"/>
            <a:ext cx="676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7839000" y="41990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839000" y="4199040"/>
            <a:ext cx="14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988400" y="4199040"/>
            <a:ext cx="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988400" y="4424400"/>
            <a:ext cx="52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ches versus flip-fl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3616200" y="2711160"/>
            <a:ext cx="4884840" cy="232200"/>
            <a:chOff x="3616200" y="2711160"/>
            <a:chExt cx="4884840" cy="232200"/>
          </a:xfrm>
        </p:grpSpPr>
        <p:sp>
          <p:nvSpPr>
            <p:cNvPr id="607" name=""/>
            <p:cNvSpPr/>
            <p:nvPr/>
          </p:nvSpPr>
          <p:spPr>
            <a:xfrm>
              <a:off x="3616200" y="2943360"/>
              <a:ext cx="300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3916440" y="271584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16440" y="2716200"/>
              <a:ext cx="1428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44920" y="271620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44920" y="2943360"/>
              <a:ext cx="66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6848280" y="271584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848280" y="2716200"/>
              <a:ext cx="300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48520" y="271620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148520" y="2943360"/>
              <a:ext cx="67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824600" y="271584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824600" y="2716200"/>
              <a:ext cx="15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975440" y="271620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975440" y="2943360"/>
              <a:ext cx="525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5999040" y="271116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99040" y="2711520"/>
              <a:ext cx="15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49880" y="2711520"/>
              <a:ext cx="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48440" y="2943360"/>
              <a:ext cx="70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888840" y="1892160"/>
            <a:ext cx="1362240" cy="1246320"/>
            <a:chOff x="888840" y="1892160"/>
            <a:chExt cx="1362240" cy="1246320"/>
          </a:xfrm>
        </p:grpSpPr>
        <p:sp>
          <p:nvSpPr>
            <p:cNvPr id="625" name=""/>
            <p:cNvSpPr/>
            <p:nvPr/>
          </p:nvSpPr>
          <p:spPr>
            <a:xfrm>
              <a:off x="1104840" y="1892160"/>
              <a:ext cx="908280" cy="9176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77200" y="209088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82000" y="209088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88840" y="2178000"/>
              <a:ext cx="2271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023920" y="2178000"/>
              <a:ext cx="2271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560600" y="2822400"/>
              <a:ext cx="1440" cy="316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82000" y="247644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23920" y="2540160"/>
              <a:ext cx="2271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017800" y="2489040"/>
              <a:ext cx="123840" cy="11124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328760" y="3189240"/>
            <a:ext cx="711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888840" y="4016520"/>
            <a:ext cx="1362240" cy="1674720"/>
            <a:chOff x="888840" y="4016520"/>
            <a:chExt cx="1362240" cy="1674720"/>
          </a:xfrm>
        </p:grpSpPr>
        <p:grpSp>
          <p:nvGrpSpPr>
            <p:cNvPr id="636" name=""/>
            <p:cNvGrpSpPr/>
            <p:nvPr/>
          </p:nvGrpSpPr>
          <p:grpSpPr>
            <a:xfrm>
              <a:off x="888840" y="4016520"/>
              <a:ext cx="1362240" cy="1674720"/>
              <a:chOff x="888840" y="4016520"/>
              <a:chExt cx="1362240" cy="1674720"/>
            </a:xfrm>
          </p:grpSpPr>
          <p:sp>
            <p:nvSpPr>
              <p:cNvPr id="637" name=""/>
              <p:cNvSpPr/>
              <p:nvPr/>
            </p:nvSpPr>
            <p:spPr>
              <a:xfrm>
                <a:off x="1104840" y="4016520"/>
                <a:ext cx="907920" cy="91764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177200" y="4214880"/>
                <a:ext cx="137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782000" y="4214880"/>
                <a:ext cx="137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88840" y="4302360"/>
                <a:ext cx="227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023920" y="4302360"/>
                <a:ext cx="227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560600" y="4946760"/>
                <a:ext cx="1440" cy="3160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782000" y="4600800"/>
                <a:ext cx="137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023920" y="4664160"/>
                <a:ext cx="22716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017800" y="4613400"/>
                <a:ext cx="123840" cy="11124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28760" y="5313600"/>
                <a:ext cx="71100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L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1430280" y="4707000"/>
              <a:ext cx="226800" cy="162000"/>
              <a:chOff x="1430280" y="4707000"/>
              <a:chExt cx="226800" cy="162000"/>
            </a:xfrm>
          </p:grpSpPr>
          <p:sp>
            <p:nvSpPr>
              <p:cNvPr id="648" name=""/>
              <p:cNvSpPr/>
              <p:nvPr/>
            </p:nvSpPr>
            <p:spPr>
              <a:xfrm flipV="1">
                <a:off x="1430280" y="4707000"/>
                <a:ext cx="112680" cy="16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544400" y="4707000"/>
                <a:ext cx="112680" cy="15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/>
  <dc:description/>
  <cp:keywords/>
  <dc:language>en-US</dc:language>
  <cp:lastModifiedBy>Bruce Hemingway</cp:lastModifiedBy>
  <cp:lastPrinted>2002-04-19T20:09:20Z</cp:lastPrinted>
  <dcterms:modified xsi:type="dcterms:W3CDTF">2007-04-30T08:04:23Z</dcterms:modified>
  <cp:revision>574</cp:revision>
  <dc:subject>CSE370</dc:subject>
  <dc:title>Lecture1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