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30D-681B-4780-98DF-A661ED056D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izing F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i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 of sequentia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iming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egister count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output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113440" y="2127240"/>
            <a:ext cx="550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6040" y="2327400"/>
            <a:ext cx="550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7360" y="2403360"/>
            <a:ext cx="551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1760" y="2290680"/>
            <a:ext cx="551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03960" y="2219400"/>
            <a:ext cx="376200" cy="37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416640" y="2470320"/>
            <a:ext cx="7632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2960" y="2470320"/>
            <a:ext cx="4896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18360" y="2301840"/>
            <a:ext cx="43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2509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27720" y="2251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27720" y="2552760"/>
            <a:ext cx="29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21240" y="224424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77480" y="2259000"/>
            <a:ext cx="2880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83960" y="2251080"/>
            <a:ext cx="2750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1920" y="2333520"/>
            <a:ext cx="136080" cy="26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80160" y="2333520"/>
            <a:ext cx="93960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30920" y="2319480"/>
            <a:ext cx="888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1560" y="2319480"/>
            <a:ext cx="1364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82000" y="2401920"/>
            <a:ext cx="1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82000" y="2527200"/>
            <a:ext cx="1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02080" y="2338560"/>
            <a:ext cx="11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02080" y="2463840"/>
            <a:ext cx="11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8680" y="240192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5840" y="240192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1120" y="2401920"/>
            <a:ext cx="17460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80160" y="240192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56360" y="240192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05440" y="2401920"/>
            <a:ext cx="23832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56360" y="252720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246384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68280" y="1967040"/>
            <a:ext cx="551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81240" y="2481120"/>
            <a:ext cx="5508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22560" y="2406600"/>
            <a:ext cx="550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24360" y="2292480"/>
            <a:ext cx="550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10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2560" y="1971720"/>
            <a:ext cx="374760" cy="37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695240" y="2222640"/>
            <a:ext cx="7452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70120" y="2222640"/>
            <a:ext cx="5076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95520" y="2052720"/>
            <a:ext cx="431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2509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2560" y="2473200"/>
            <a:ext cx="374760" cy="37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95240" y="2724120"/>
            <a:ext cx="7452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0120" y="2724120"/>
            <a:ext cx="5076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3440" y="2554200"/>
            <a:ext cx="423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4840" bIns="2484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2509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59160" y="225432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59160" y="2554200"/>
            <a:ext cx="29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452680" y="224748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11800" y="2262240"/>
            <a:ext cx="28512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17920" y="2256480"/>
            <a:ext cx="27252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37120" y="2336760"/>
            <a:ext cx="136080" cy="26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5720" y="2336760"/>
            <a:ext cx="9388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86480" y="2322720"/>
            <a:ext cx="8881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36760" y="2322720"/>
            <a:ext cx="1364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35400" y="2405160"/>
            <a:ext cx="1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35400" y="2530440"/>
            <a:ext cx="1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57280" y="215424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7280" y="265572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33520" y="246708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57320" y="265572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82960" y="2655720"/>
            <a:ext cx="11268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1760" y="2473200"/>
            <a:ext cx="0" cy="17640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8240" y="2467080"/>
            <a:ext cx="11268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57320" y="215424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33520" y="234144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8240" y="2341440"/>
            <a:ext cx="11268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1760" y="2160720"/>
            <a:ext cx="0" cy="17460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82960" y="2154240"/>
            <a:ext cx="11268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1560" y="240516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7280" y="240516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22560" y="2405160"/>
            <a:ext cx="176400" cy="0"/>
          </a:xfrm>
          <a:prstGeom prst="line">
            <a:avLst/>
          </a:prstGeom>
          <a:ln w="19080">
            <a:solidFill>
              <a:srgbClr val="d5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11560" y="253044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4960" y="246708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249880" y="3551400"/>
            <a:ext cx="3262320" cy="2520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22240" y="3549600"/>
            <a:ext cx="3591000" cy="24606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84600" y="4432320"/>
            <a:ext cx="482760" cy="330120"/>
          </a:xfrm>
          <a:prstGeom prst="rightArrow">
            <a:avLst>
              <a:gd name="adj1" fmla="val 50000"/>
              <a:gd name="adj2" fmla="val 36559"/>
            </a:avLst>
          </a:prstGeom>
          <a:solidFill>
            <a:srgbClr val="ffff00"/>
          </a:solidFill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2281320"/>
            <a:ext cx="482400" cy="330120"/>
          </a:xfrm>
          <a:prstGeom prst="rightArrow">
            <a:avLst>
              <a:gd name="adj1" fmla="val 50000"/>
              <a:gd name="adj2" fmla="val 36532"/>
            </a:avLst>
          </a:prstGeom>
          <a:solidFill>
            <a:srgbClr val="ffff00"/>
          </a:solidFill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al pipel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880" y="1390680"/>
            <a:ext cx="5546520" cy="97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lvl="1" marL="646200" indent="-2484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retiming to optimize 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78240" y="2768760"/>
            <a:ext cx="7819920" cy="3195000"/>
            <a:chOff x="678240" y="2768760"/>
            <a:chExt cx="7819920" cy="3195000"/>
          </a:xfrm>
        </p:grpSpPr>
        <p:sp>
          <p:nvSpPr>
            <p:cNvPr id="310" name=""/>
            <p:cNvSpPr/>
            <p:nvPr/>
          </p:nvSpPr>
          <p:spPr>
            <a:xfrm>
              <a:off x="7170840" y="2768760"/>
              <a:ext cx="299880" cy="301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43680" y="2768760"/>
              <a:ext cx="299880" cy="301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64000" y="2768760"/>
              <a:ext cx="301680" cy="301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11240" y="2768760"/>
              <a:ext cx="300240" cy="301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65800" y="3595680"/>
              <a:ext cx="301680" cy="300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8520" y="3595680"/>
              <a:ext cx="299880" cy="300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8840" y="2768760"/>
              <a:ext cx="225360" cy="301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6" idx="3"/>
              <a:endCxn id="313" idx="2"/>
            </p:cNvCxnSpPr>
            <p:nvPr/>
          </p:nvCxnSpPr>
          <p:spPr>
            <a:xfrm>
              <a:off x="2284200" y="2918880"/>
              <a:ext cx="527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13" idx="6"/>
              <a:endCxn id="312" idx="2"/>
            </p:cNvCxnSpPr>
            <p:nvPr/>
          </p:nvCxnSpPr>
          <p:spPr>
            <a:xfrm>
              <a:off x="3111120" y="2918880"/>
              <a:ext cx="1353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2" idx="6"/>
              <a:endCxn id="311" idx="2"/>
            </p:cNvCxnSpPr>
            <p:nvPr/>
          </p:nvCxnSpPr>
          <p:spPr>
            <a:xfrm>
              <a:off x="4765680" y="2918880"/>
              <a:ext cx="1278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311" idx="6"/>
              <a:endCxn id="310" idx="2"/>
            </p:cNvCxnSpPr>
            <p:nvPr/>
          </p:nvCxnSpPr>
          <p:spPr>
            <a:xfrm>
              <a:off x="6343560" y="2918880"/>
              <a:ext cx="828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14" idx="7"/>
              <a:endCxn id="311" idx="3"/>
            </p:cNvCxnSpPr>
            <p:nvPr/>
          </p:nvCxnSpPr>
          <p:spPr>
            <a:xfrm flipV="1">
              <a:off x="5622840" y="3025080"/>
              <a:ext cx="46440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14" idx="6"/>
              <a:endCxn id="310" idx="3"/>
            </p:cNvCxnSpPr>
            <p:nvPr/>
          </p:nvCxnSpPr>
          <p:spPr>
            <a:xfrm flipV="1">
              <a:off x="5667120" y="3024720"/>
              <a:ext cx="1546920" cy="72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"/>
            <p:cNvCxnSpPr>
              <a:stCxn id="312" idx="5"/>
              <a:endCxn id="314" idx="1"/>
            </p:cNvCxnSpPr>
            <p:nvPr/>
          </p:nvCxnSpPr>
          <p:spPr>
            <a:xfrm>
              <a:off x="4721040" y="3025440"/>
              <a:ext cx="68976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"/>
            <p:cNvCxnSpPr>
              <a:stCxn id="315" idx="6"/>
              <a:endCxn id="314" idx="2"/>
            </p:cNvCxnSpPr>
            <p:nvPr/>
          </p:nvCxnSpPr>
          <p:spPr>
            <a:xfrm>
              <a:off x="3938040" y="3745800"/>
              <a:ext cx="1428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5" name=""/>
            <p:cNvCxnSpPr>
              <a:stCxn id="315" idx="7"/>
              <a:endCxn id="312" idx="3"/>
            </p:cNvCxnSpPr>
            <p:nvPr/>
          </p:nvCxnSpPr>
          <p:spPr>
            <a:xfrm flipV="1">
              <a:off x="3894120" y="3025080"/>
              <a:ext cx="61488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13" idx="5"/>
              <a:endCxn id="315" idx="1"/>
            </p:cNvCxnSpPr>
            <p:nvPr/>
          </p:nvCxnSpPr>
          <p:spPr>
            <a:xfrm>
              <a:off x="3068640" y="3025440"/>
              <a:ext cx="61344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7" name=""/>
            <p:cNvSpPr/>
            <p:nvPr/>
          </p:nvSpPr>
          <p:spPr>
            <a:xfrm>
              <a:off x="1533600" y="2768760"/>
              <a:ext cx="225360" cy="301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>
              <a:stCxn id="327" idx="3"/>
              <a:endCxn id="316" idx="1"/>
            </p:cNvCxnSpPr>
            <p:nvPr/>
          </p:nvCxnSpPr>
          <p:spPr>
            <a:xfrm>
              <a:off x="1758600" y="2918880"/>
              <a:ext cx="30060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7170840" y="4835520"/>
              <a:ext cx="299880" cy="300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41880" y="4835520"/>
              <a:ext cx="301680" cy="300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64000" y="4835520"/>
              <a:ext cx="299880" cy="300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9800" y="4835520"/>
              <a:ext cx="299880" cy="300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65800" y="5662440"/>
              <a:ext cx="299880" cy="301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6720" y="5662440"/>
              <a:ext cx="300240" cy="301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5" name=""/>
            <p:cNvCxnSpPr>
              <a:stCxn id="330" idx="6"/>
              <a:endCxn id="329" idx="2"/>
            </p:cNvCxnSpPr>
            <p:nvPr/>
          </p:nvCxnSpPr>
          <p:spPr>
            <a:xfrm>
              <a:off x="6343560" y="4985640"/>
              <a:ext cx="828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31" idx="5"/>
              <a:endCxn id="333" idx="1"/>
            </p:cNvCxnSpPr>
            <p:nvPr/>
          </p:nvCxnSpPr>
          <p:spPr>
            <a:xfrm>
              <a:off x="4721040" y="5092200"/>
              <a:ext cx="689760" cy="614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"/>
            <p:cNvCxnSpPr>
              <a:stCxn id="332" idx="5"/>
              <a:endCxn id="334" idx="1"/>
            </p:cNvCxnSpPr>
            <p:nvPr/>
          </p:nvCxnSpPr>
          <p:spPr>
            <a:xfrm>
              <a:off x="3066480" y="5092200"/>
              <a:ext cx="615240" cy="614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8" name=""/>
            <p:cNvSpPr/>
            <p:nvPr/>
          </p:nvSpPr>
          <p:spPr>
            <a:xfrm>
              <a:off x="5214960" y="4835520"/>
              <a:ext cx="225360" cy="300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8301800">
              <a:off x="5703840" y="5323680"/>
              <a:ext cx="225000" cy="3016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059200">
              <a:off x="6192720" y="5362560"/>
              <a:ext cx="225360" cy="299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36720" y="4835520"/>
              <a:ext cx="225720" cy="300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8763800">
              <a:off x="4050720" y="5286600"/>
              <a:ext cx="225000" cy="299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64000" y="5662440"/>
              <a:ext cx="225360" cy="301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>
              <a:stCxn id="332" idx="6"/>
              <a:endCxn id="341" idx="1"/>
            </p:cNvCxnSpPr>
            <p:nvPr/>
          </p:nvCxnSpPr>
          <p:spPr>
            <a:xfrm>
              <a:off x="3109680" y="4985640"/>
              <a:ext cx="527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>
              <a:stCxn id="341" idx="3"/>
              <a:endCxn id="331" idx="2"/>
            </p:cNvCxnSpPr>
            <p:nvPr/>
          </p:nvCxnSpPr>
          <p:spPr>
            <a:xfrm>
              <a:off x="3862080" y="4985640"/>
              <a:ext cx="602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>
              <a:stCxn id="331" idx="6"/>
              <a:endCxn id="338" idx="1"/>
            </p:cNvCxnSpPr>
            <p:nvPr/>
          </p:nvCxnSpPr>
          <p:spPr>
            <a:xfrm>
              <a:off x="4763520" y="4985640"/>
              <a:ext cx="451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" name=""/>
            <p:cNvCxnSpPr>
              <a:stCxn id="338" idx="3"/>
              <a:endCxn id="330" idx="2"/>
            </p:cNvCxnSpPr>
            <p:nvPr/>
          </p:nvCxnSpPr>
          <p:spPr>
            <a:xfrm>
              <a:off x="5439960" y="4985640"/>
              <a:ext cx="602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3" idx="3"/>
              <a:endCxn id="333" idx="2"/>
            </p:cNvCxnSpPr>
            <p:nvPr/>
          </p:nvCxnSpPr>
          <p:spPr>
            <a:xfrm>
              <a:off x="4689000" y="5812920"/>
              <a:ext cx="677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34" idx="6"/>
              <a:endCxn id="343" idx="1"/>
            </p:cNvCxnSpPr>
            <p:nvPr/>
          </p:nvCxnSpPr>
          <p:spPr>
            <a:xfrm>
              <a:off x="3936960" y="5812920"/>
              <a:ext cx="527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34" idx="7"/>
              <a:endCxn id="342" idx="1"/>
            </p:cNvCxnSpPr>
            <p:nvPr/>
          </p:nvCxnSpPr>
          <p:spPr>
            <a:xfrm flipV="1">
              <a:off x="3893760" y="5518800"/>
              <a:ext cx="192600" cy="18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1" name=""/>
            <p:cNvCxnSpPr>
              <a:stCxn id="342" idx="3"/>
              <a:endCxn id="331" idx="3"/>
            </p:cNvCxnSpPr>
            <p:nvPr/>
          </p:nvCxnSpPr>
          <p:spPr>
            <a:xfrm flipV="1">
              <a:off x="4238280" y="5092200"/>
              <a:ext cx="268920" cy="262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2" name=""/>
            <p:cNvCxnSpPr>
              <a:stCxn id="333" idx="7"/>
              <a:endCxn id="339" idx="1"/>
            </p:cNvCxnSpPr>
            <p:nvPr/>
          </p:nvCxnSpPr>
          <p:spPr>
            <a:xfrm flipV="1">
              <a:off x="5622480" y="5564880"/>
              <a:ext cx="129240" cy="14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3" name=""/>
            <p:cNvCxnSpPr>
              <a:stCxn id="339" idx="3"/>
              <a:endCxn id="330" idx="3"/>
            </p:cNvCxnSpPr>
            <p:nvPr/>
          </p:nvCxnSpPr>
          <p:spPr>
            <a:xfrm flipV="1">
              <a:off x="5881320" y="5092200"/>
              <a:ext cx="205560" cy="290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0" idx="3"/>
              <a:endCxn id="329" idx="3"/>
            </p:cNvCxnSpPr>
            <p:nvPr/>
          </p:nvCxnSpPr>
          <p:spPr>
            <a:xfrm flipV="1">
              <a:off x="6405120" y="5092200"/>
              <a:ext cx="808920" cy="370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5" name=""/>
            <p:cNvCxnSpPr>
              <a:stCxn id="333" idx="6"/>
              <a:endCxn id="340" idx="1"/>
            </p:cNvCxnSpPr>
            <p:nvPr/>
          </p:nvCxnSpPr>
          <p:spPr>
            <a:xfrm flipV="1">
              <a:off x="5665320" y="5560560"/>
              <a:ext cx="538920" cy="252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/>
            <p:nvPr/>
          </p:nvCxnSpPr>
          <p:spPr>
            <a:xfrm>
              <a:off x="1239480" y="2918880"/>
              <a:ext cx="30060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/>
            <p:nvPr/>
          </p:nvCxnSpPr>
          <p:spPr>
            <a:xfrm>
              <a:off x="7472160" y="2918880"/>
              <a:ext cx="30060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/>
            <p:nvPr/>
          </p:nvCxnSpPr>
          <p:spPr>
            <a:xfrm>
              <a:off x="7472160" y="4977720"/>
              <a:ext cx="30060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/>
            <p:nvPr/>
          </p:nvCxnSpPr>
          <p:spPr>
            <a:xfrm>
              <a:off x="2284200" y="4977720"/>
              <a:ext cx="527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0" name=""/>
            <p:cNvSpPr/>
            <p:nvPr/>
          </p:nvSpPr>
          <p:spPr>
            <a:xfrm>
              <a:off x="678240" y="2811240"/>
              <a:ext cx="554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spAutoFit/>
            </a:bodyPr>
            <a:p>
              <a:pPr algn="ctr">
                <a:lnSpc>
                  <a:spcPts val="1375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0640" y="4868640"/>
              <a:ext cx="554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spAutoFit/>
            </a:bodyPr>
            <a:p>
              <a:pPr algn="ctr">
                <a:lnSpc>
                  <a:spcPts val="1375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67360" y="2820960"/>
              <a:ext cx="717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spAutoFit/>
            </a:bodyPr>
            <a:p>
              <a:pPr algn="ctr">
                <a:lnSpc>
                  <a:spcPts val="1375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0320" y="4878360"/>
              <a:ext cx="717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spAutoFit/>
            </a:bodyPr>
            <a:p>
              <a:pPr algn="ctr">
                <a:lnSpc>
                  <a:spcPts val="1375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49840" y="3195360"/>
              <a:ext cx="15516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spAutoFit/>
            </a:bodyPr>
            <a:p>
              <a:pPr algn="ctr">
                <a:lnSpc>
                  <a:spcPts val="1375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d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 pipel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41840" y="3238560"/>
            <a:ext cx="299880" cy="299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7160" y="3238560"/>
            <a:ext cx="299880" cy="299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5080" y="4408560"/>
            <a:ext cx="2998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75080" y="4403880"/>
            <a:ext cx="299880" cy="301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43520" y="3238560"/>
            <a:ext cx="301680" cy="299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46760" y="440856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99120" y="439416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68" idx="6"/>
            <a:endCxn id="373" idx="1"/>
          </p:cNvCxnSpPr>
          <p:nvPr/>
        </p:nvCxnSpPr>
        <p:spPr>
          <a:xfrm>
            <a:off x="3774600" y="4554000"/>
            <a:ext cx="322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8" idx="0"/>
            <a:endCxn id="366" idx="4"/>
          </p:cNvCxnSpPr>
          <p:nvPr/>
        </p:nvCxnSpPr>
        <p:spPr>
          <a:xfrm flipH="1" flipV="1">
            <a:off x="3617640" y="3538080"/>
            <a:ext cx="8640" cy="866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76" idx="3"/>
            <a:endCxn id="370" idx="2"/>
          </p:cNvCxnSpPr>
          <p:nvPr/>
        </p:nvCxnSpPr>
        <p:spPr>
          <a:xfrm>
            <a:off x="5489640" y="4552920"/>
            <a:ext cx="35784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78" idx="3"/>
            <a:endCxn id="371" idx="2"/>
          </p:cNvCxnSpPr>
          <p:nvPr/>
        </p:nvCxnSpPr>
        <p:spPr>
          <a:xfrm flipV="1">
            <a:off x="6664320" y="4544640"/>
            <a:ext cx="3355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1" idx="1"/>
            <a:endCxn id="369" idx="5"/>
          </p:cNvCxnSpPr>
          <p:nvPr/>
        </p:nvCxnSpPr>
        <p:spPr>
          <a:xfrm flipH="1" flipV="1">
            <a:off x="6100200" y="3493800"/>
            <a:ext cx="94356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9" idx="2"/>
            <a:endCxn id="365" idx="6"/>
          </p:cNvCxnSpPr>
          <p:nvPr/>
        </p:nvCxnSpPr>
        <p:spPr>
          <a:xfrm flipH="1">
            <a:off x="4941000" y="3389040"/>
            <a:ext cx="902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67" idx="0"/>
            <a:endCxn id="365" idx="4"/>
          </p:cNvCxnSpPr>
          <p:nvPr/>
        </p:nvCxnSpPr>
        <p:spPr>
          <a:xfrm flipH="1" flipV="1">
            <a:off x="4791960" y="3537720"/>
            <a:ext cx="3960" cy="87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65" idx="2"/>
            <a:endCxn id="366" idx="6"/>
          </p:cNvCxnSpPr>
          <p:nvPr/>
        </p:nvCxnSpPr>
        <p:spPr>
          <a:xfrm flipH="1">
            <a:off x="3766680" y="3389040"/>
            <a:ext cx="87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 rot="21588600">
            <a:off x="4097160" y="4403520"/>
            <a:ext cx="22572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1588600">
            <a:off x="5265720" y="4403520"/>
            <a:ext cx="22536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21588600">
            <a:off x="6440400" y="4403520"/>
            <a:ext cx="22536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53000" y="2938320"/>
            <a:ext cx="401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1120" y="4086360"/>
            <a:ext cx="407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0" idx="0"/>
            <a:endCxn id="369" idx="4"/>
          </p:cNvCxnSpPr>
          <p:nvPr/>
        </p:nvCxnSpPr>
        <p:spPr>
          <a:xfrm flipH="1" flipV="1">
            <a:off x="5993640" y="3537720"/>
            <a:ext cx="3960" cy="87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 flipV="1">
            <a:off x="3618000" y="469584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792680" y="47149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994360" y="47149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149960" y="468648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38360" y="5052960"/>
            <a:ext cx="452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57600" y="5052960"/>
            <a:ext cx="452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88080" y="5052960"/>
            <a:ext cx="452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05520" y="5052960"/>
            <a:ext cx="452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73" idx="3"/>
            <a:endCxn id="367" idx="2"/>
          </p:cNvCxnSpPr>
          <p:nvPr/>
        </p:nvCxnSpPr>
        <p:spPr>
          <a:xfrm>
            <a:off x="4321080" y="4552920"/>
            <a:ext cx="32472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67" idx="6"/>
            <a:endCxn id="376" idx="1"/>
          </p:cNvCxnSpPr>
          <p:nvPr/>
        </p:nvCxnSpPr>
        <p:spPr>
          <a:xfrm flipV="1">
            <a:off x="4944600" y="4554000"/>
            <a:ext cx="32148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0" idx="6"/>
            <a:endCxn id="378" idx="1"/>
          </p:cNvCxnSpPr>
          <p:nvPr/>
        </p:nvCxnSpPr>
        <p:spPr>
          <a:xfrm flipV="1">
            <a:off x="6148080" y="4554000"/>
            <a:ext cx="29268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igital correl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200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–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–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–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, a) = 1 if x = a; 0 otherwi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1584360" y="4292640"/>
            <a:ext cx="1019160" cy="527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60600" y="3116160"/>
            <a:ext cx="1019160" cy="527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>
            <a:off x="2588760" y="3389040"/>
            <a:ext cx="87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endCxn id="403" idx="1"/>
          </p:cNvCxnSpPr>
          <p:nvPr/>
        </p:nvCxnSpPr>
        <p:spPr>
          <a:xfrm>
            <a:off x="2609640" y="4554000"/>
            <a:ext cx="322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 rot="21588600">
            <a:off x="2932200" y="4403520"/>
            <a:ext cx="22536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</p:cNvCxnSpPr>
          <p:nvPr/>
        </p:nvCxnSpPr>
        <p:spPr>
          <a:xfrm>
            <a:off x="3155760" y="4552920"/>
            <a:ext cx="32436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396040" y="2165400"/>
            <a:ext cx="30132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21000" y="216540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98920" y="333540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29280" y="3330720"/>
            <a:ext cx="301320" cy="301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99160" y="2165400"/>
            <a:ext cx="30024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02400" y="3335400"/>
            <a:ext cx="2998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754760" y="3322800"/>
            <a:ext cx="300240" cy="299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8" idx="6"/>
            <a:endCxn id="413" idx="1"/>
          </p:cNvCxnSpPr>
          <p:nvPr/>
        </p:nvCxnSpPr>
        <p:spPr>
          <a:xfrm>
            <a:off x="4530240" y="3481200"/>
            <a:ext cx="321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8" idx="0"/>
            <a:endCxn id="406" idx="4"/>
          </p:cNvCxnSpPr>
          <p:nvPr/>
        </p:nvCxnSpPr>
        <p:spPr>
          <a:xfrm flipH="1" flipV="1">
            <a:off x="4371480" y="2466360"/>
            <a:ext cx="8640" cy="86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6" idx="3"/>
            <a:endCxn id="410" idx="2"/>
          </p:cNvCxnSpPr>
          <p:nvPr/>
        </p:nvCxnSpPr>
        <p:spPr>
          <a:xfrm>
            <a:off x="6245280" y="3479760"/>
            <a:ext cx="35784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8" idx="3"/>
            <a:endCxn id="411" idx="2"/>
          </p:cNvCxnSpPr>
          <p:nvPr/>
        </p:nvCxnSpPr>
        <p:spPr>
          <a:xfrm flipV="1">
            <a:off x="7419960" y="3471480"/>
            <a:ext cx="3355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11" idx="1"/>
            <a:endCxn id="409" idx="5"/>
          </p:cNvCxnSpPr>
          <p:nvPr/>
        </p:nvCxnSpPr>
        <p:spPr>
          <a:xfrm flipH="1" flipV="1">
            <a:off x="6854400" y="2422080"/>
            <a:ext cx="943920" cy="943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09" idx="2"/>
            <a:endCxn id="405" idx="6"/>
          </p:cNvCxnSpPr>
          <p:nvPr/>
        </p:nvCxnSpPr>
        <p:spPr>
          <a:xfrm flipH="1">
            <a:off x="5696640" y="2315880"/>
            <a:ext cx="902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07" idx="0"/>
            <a:endCxn id="405" idx="4"/>
          </p:cNvCxnSpPr>
          <p:nvPr/>
        </p:nvCxnSpPr>
        <p:spPr>
          <a:xfrm flipH="1" flipV="1">
            <a:off x="5546520" y="2466720"/>
            <a:ext cx="3600" cy="869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05" idx="2"/>
            <a:endCxn id="406" idx="6"/>
          </p:cNvCxnSpPr>
          <p:nvPr/>
        </p:nvCxnSpPr>
        <p:spPr>
          <a:xfrm flipH="1">
            <a:off x="4522320" y="2315880"/>
            <a:ext cx="874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 rot="21588600">
            <a:off x="4851360" y="3330360"/>
            <a:ext cx="22536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21588600">
            <a:off x="6021360" y="3330360"/>
            <a:ext cx="22536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1588600">
            <a:off x="7196040" y="3330360"/>
            <a:ext cx="225360" cy="301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0" idx="0"/>
            <a:endCxn id="409" idx="4"/>
          </p:cNvCxnSpPr>
          <p:nvPr/>
        </p:nvCxnSpPr>
        <p:spPr>
          <a:xfrm flipH="1" flipV="1">
            <a:off x="6747840" y="2466720"/>
            <a:ext cx="3960" cy="869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3" idx="3"/>
            <a:endCxn id="407" idx="2"/>
          </p:cNvCxnSpPr>
          <p:nvPr/>
        </p:nvCxnSpPr>
        <p:spPr>
          <a:xfrm>
            <a:off x="5074920" y="3479760"/>
            <a:ext cx="32436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07" idx="6"/>
            <a:endCxn id="416" idx="1"/>
          </p:cNvCxnSpPr>
          <p:nvPr/>
        </p:nvCxnSpPr>
        <p:spPr>
          <a:xfrm flipV="1">
            <a:off x="5700240" y="3480840"/>
            <a:ext cx="32148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0" idx="6"/>
            <a:endCxn id="418" idx="1"/>
          </p:cNvCxnSpPr>
          <p:nvPr/>
        </p:nvCxnSpPr>
        <p:spPr>
          <a:xfrm flipV="1">
            <a:off x="6902280" y="3480840"/>
            <a:ext cx="29448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5442120" y="4348080"/>
            <a:ext cx="30132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67080" y="434808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551808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75000" y="5513400"/>
            <a:ext cx="3016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45240" y="4348080"/>
            <a:ext cx="30024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48480" y="5518080"/>
            <a:ext cx="299880" cy="301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00840" y="5505480"/>
            <a:ext cx="300240" cy="299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0" idx="6"/>
            <a:endCxn id="435" idx="1"/>
          </p:cNvCxnSpPr>
          <p:nvPr/>
        </p:nvCxnSpPr>
        <p:spPr>
          <a:xfrm>
            <a:off x="4576320" y="5663880"/>
            <a:ext cx="321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33" idx="2"/>
          </p:cNvCxnSpPr>
          <p:nvPr/>
        </p:nvCxnSpPr>
        <p:spPr>
          <a:xfrm flipV="1">
            <a:off x="7466040" y="5654160"/>
            <a:ext cx="33552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3" idx="1"/>
            <a:endCxn id="431" idx="5"/>
          </p:cNvCxnSpPr>
          <p:nvPr/>
        </p:nvCxnSpPr>
        <p:spPr>
          <a:xfrm flipH="1" flipV="1">
            <a:off x="6900120" y="4604760"/>
            <a:ext cx="943560" cy="94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29" idx="0"/>
            <a:endCxn id="427" idx="4"/>
          </p:cNvCxnSpPr>
          <p:nvPr/>
        </p:nvCxnSpPr>
        <p:spPr>
          <a:xfrm flipH="1" flipV="1">
            <a:off x="5591880" y="4649400"/>
            <a:ext cx="3960" cy="869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 rot="21588600">
            <a:off x="4897440" y="551304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21588600">
            <a:off x="7242120" y="551304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2" idx="0"/>
            <a:endCxn id="431" idx="4"/>
          </p:cNvCxnSpPr>
          <p:nvPr/>
        </p:nvCxnSpPr>
        <p:spPr>
          <a:xfrm flipH="1" flipV="1">
            <a:off x="6794280" y="4649400"/>
            <a:ext cx="3600" cy="869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5" idx="3"/>
            <a:endCxn id="429" idx="2"/>
          </p:cNvCxnSpPr>
          <p:nvPr/>
        </p:nvCxnSpPr>
        <p:spPr>
          <a:xfrm>
            <a:off x="5121000" y="5662440"/>
            <a:ext cx="32436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29" idx="6"/>
            <a:endCxn id="432" idx="2"/>
          </p:cNvCxnSpPr>
          <p:nvPr/>
        </p:nvCxnSpPr>
        <p:spPr>
          <a:xfrm>
            <a:off x="5746320" y="5668560"/>
            <a:ext cx="902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32" idx="6"/>
            <a:endCxn id="437" idx="1"/>
          </p:cNvCxnSpPr>
          <p:nvPr/>
        </p:nvCxnSpPr>
        <p:spPr>
          <a:xfrm flipV="1">
            <a:off x="6948360" y="5663520"/>
            <a:ext cx="29448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 rot="21588600">
            <a:off x="6072120" y="434772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588600">
            <a:off x="4869000" y="434772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5388600">
            <a:off x="4305240" y="491184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31" idx="2"/>
            <a:endCxn id="444" idx="3"/>
          </p:cNvCxnSpPr>
          <p:nvPr/>
        </p:nvCxnSpPr>
        <p:spPr>
          <a:xfrm flipH="1" flipV="1">
            <a:off x="6295680" y="4497120"/>
            <a:ext cx="3499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4" idx="1"/>
            <a:endCxn id="427" idx="6"/>
          </p:cNvCxnSpPr>
          <p:nvPr/>
        </p:nvCxnSpPr>
        <p:spPr>
          <a:xfrm flipH="1">
            <a:off x="5743080" y="4498560"/>
            <a:ext cx="3290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7" idx="2"/>
            <a:endCxn id="445" idx="3"/>
          </p:cNvCxnSpPr>
          <p:nvPr/>
        </p:nvCxnSpPr>
        <p:spPr>
          <a:xfrm flipH="1" flipV="1">
            <a:off x="5091840" y="4497120"/>
            <a:ext cx="3502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5" idx="1"/>
            <a:endCxn id="428" idx="6"/>
          </p:cNvCxnSpPr>
          <p:nvPr/>
        </p:nvCxnSpPr>
        <p:spPr>
          <a:xfrm flipH="1">
            <a:off x="4568760" y="4498560"/>
            <a:ext cx="300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0" idx="0"/>
            <a:endCxn id="446" idx="3"/>
          </p:cNvCxnSpPr>
          <p:nvPr/>
        </p:nvCxnSpPr>
        <p:spPr>
          <a:xfrm flipH="1" flipV="1">
            <a:off x="4417560" y="5173560"/>
            <a:ext cx="8640" cy="34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6" idx="1"/>
            <a:endCxn id="428" idx="4"/>
          </p:cNvCxnSpPr>
          <p:nvPr/>
        </p:nvCxnSpPr>
        <p:spPr>
          <a:xfrm flipV="1">
            <a:off x="4416480" y="4649760"/>
            <a:ext cx="2160" cy="30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656640" y="2571840"/>
            <a:ext cx="18226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Orig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cycle time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520" y="4813200"/>
            <a:ext cx="18579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Retim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cycle time =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igital correlator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s: Comparator = 3; adder =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2349360" y="3209760"/>
            <a:ext cx="1019160" cy="527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25600" y="2033640"/>
            <a:ext cx="1019160" cy="527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/>
          <p:nvPr/>
        </p:nvCxnSpPr>
        <p:spPr>
          <a:xfrm flipH="1">
            <a:off x="3354120" y="2306160"/>
            <a:ext cx="87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endCxn id="461" idx="1"/>
          </p:cNvCxnSpPr>
          <p:nvPr/>
        </p:nvCxnSpPr>
        <p:spPr>
          <a:xfrm>
            <a:off x="3374640" y="3471480"/>
            <a:ext cx="322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 rot="21588600">
            <a:off x="3697200" y="332064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</p:cNvCxnSpPr>
          <p:nvPr/>
        </p:nvCxnSpPr>
        <p:spPr>
          <a:xfrm>
            <a:off x="3921120" y="3470040"/>
            <a:ext cx="3247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2384280" y="5396040"/>
            <a:ext cx="1019160" cy="527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0520" y="4219560"/>
            <a:ext cx="1019160" cy="527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/>
          <p:nvPr/>
        </p:nvCxnSpPr>
        <p:spPr>
          <a:xfrm flipH="1">
            <a:off x="3389040" y="4492440"/>
            <a:ext cx="875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endCxn id="467" idx="1"/>
          </p:cNvCxnSpPr>
          <p:nvPr/>
        </p:nvCxnSpPr>
        <p:spPr>
          <a:xfrm>
            <a:off x="3409560" y="5657400"/>
            <a:ext cx="322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 rot="21588600">
            <a:off x="3732120" y="5506560"/>
            <a:ext cx="22536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7" idx="3"/>
          </p:cNvCxnSpPr>
          <p:nvPr/>
        </p:nvCxnSpPr>
        <p:spPr>
          <a:xfrm>
            <a:off x="3956040" y="5655960"/>
            <a:ext cx="3247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parti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 a large FSM into two or more smaller FS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states in each par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r minimization and state ass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er critical 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ore logic over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communication between part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 wires &amp; I/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Partitions are 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lock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2085840" y="2770200"/>
            <a:ext cx="4283280" cy="2332080"/>
            <a:chOff x="2085840" y="2770200"/>
            <a:chExt cx="4283280" cy="2332080"/>
          </a:xfrm>
        </p:grpSpPr>
        <p:sp>
          <p:nvSpPr>
            <p:cNvPr id="472" name=""/>
            <p:cNvSpPr/>
            <p:nvPr/>
          </p:nvSpPr>
          <p:spPr>
            <a:xfrm>
              <a:off x="3280680" y="277020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47400" y="324324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18520" y="374796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93280" y="472608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09160" y="472608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60600" y="2997360"/>
              <a:ext cx="45072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60600" y="4651200"/>
              <a:ext cx="450720" cy="45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63840" y="3824280"/>
              <a:ext cx="45108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"/>
            <p:cNvCxnSpPr>
              <a:stCxn id="479" idx="1"/>
              <a:endCxn id="477" idx="5"/>
            </p:cNvCxnSpPr>
            <p:nvPr/>
          </p:nvCxnSpPr>
          <p:spPr>
            <a:xfrm flipH="1" flipV="1">
              <a:off x="2844000" y="3380760"/>
              <a:ext cx="586440" cy="510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1" name=""/>
            <p:cNvCxnSpPr>
              <a:stCxn id="478" idx="7"/>
              <a:endCxn id="479" idx="3"/>
            </p:cNvCxnSpPr>
            <p:nvPr/>
          </p:nvCxnSpPr>
          <p:spPr>
            <a:xfrm flipV="1">
              <a:off x="2844360" y="4208040"/>
              <a:ext cx="586440" cy="51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2" name=""/>
            <p:cNvSpPr/>
            <p:nvPr/>
          </p:nvSpPr>
          <p:spPr>
            <a:xfrm flipH="1">
              <a:off x="5541120" y="2997360"/>
              <a:ext cx="45252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541120" y="4651200"/>
              <a:ext cx="452520" cy="45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640400" y="3824280"/>
              <a:ext cx="45072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5" name=""/>
            <p:cNvCxnSpPr>
              <a:stCxn id="479" idx="6"/>
              <a:endCxn id="484" idx="6"/>
            </p:cNvCxnSpPr>
            <p:nvPr/>
          </p:nvCxnSpPr>
          <p:spPr>
            <a:xfrm flipV="1">
              <a:off x="3814560" y="4047840"/>
              <a:ext cx="826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78" idx="6"/>
              <a:endCxn id="484" idx="5"/>
            </p:cNvCxnSpPr>
            <p:nvPr/>
          </p:nvCxnSpPr>
          <p:spPr>
            <a:xfrm flipV="1">
              <a:off x="2910960" y="4207680"/>
              <a:ext cx="1794600" cy="66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"/>
            <p:cNvCxnSpPr>
              <a:stCxn id="479" idx="5"/>
              <a:endCxn id="483" idx="5"/>
            </p:cNvCxnSpPr>
            <p:nvPr/>
          </p:nvCxnSpPr>
          <p:spPr>
            <a:xfrm>
              <a:off x="3747600" y="4208400"/>
              <a:ext cx="1861560" cy="82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8" name=""/>
            <p:cNvCxnSpPr>
              <a:stCxn id="483" idx="6"/>
              <a:endCxn id="484" idx="4"/>
            </p:cNvCxnSpPr>
            <p:nvPr/>
          </p:nvCxnSpPr>
          <p:spPr>
            <a:xfrm flipH="1" flipV="1">
              <a:off x="4865040" y="4272840"/>
              <a:ext cx="678600" cy="602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84" idx="3"/>
              <a:endCxn id="483" idx="7"/>
            </p:cNvCxnSpPr>
            <p:nvPr/>
          </p:nvCxnSpPr>
          <p:spPr>
            <a:xfrm>
              <a:off x="5024160" y="4208040"/>
              <a:ext cx="585000" cy="50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0" name=""/>
            <p:cNvCxnSpPr>
              <a:stCxn id="482" idx="5"/>
              <a:endCxn id="484" idx="1"/>
            </p:cNvCxnSpPr>
            <p:nvPr/>
          </p:nvCxnSpPr>
          <p:spPr>
            <a:xfrm flipH="1">
              <a:off x="5023800" y="3381120"/>
              <a:ext cx="585000" cy="50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"/>
            <p:cNvCxnSpPr>
              <a:stCxn id="482" idx="6"/>
              <a:endCxn id="477" idx="6"/>
            </p:cNvCxnSpPr>
            <p:nvPr/>
          </p:nvCxnSpPr>
          <p:spPr>
            <a:xfrm flipH="1">
              <a:off x="2910960" y="3220560"/>
              <a:ext cx="26330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"/>
            <p:cNvCxnSpPr>
              <a:stCxn id="477" idx="7"/>
              <a:endCxn id="482" idx="7"/>
            </p:cNvCxnSpPr>
            <p:nvPr/>
          </p:nvCxnSpPr>
          <p:spPr>
            <a:xfrm flipV="1">
              <a:off x="2844720" y="3061440"/>
              <a:ext cx="27648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3" name=""/>
            <p:cNvSpPr/>
            <p:nvPr/>
          </p:nvSpPr>
          <p:spPr>
            <a:xfrm>
              <a:off x="5091120" y="404964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4360" y="32227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85840" y="48769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85840" y="32227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4194000" y="2535120"/>
            <a:ext cx="0" cy="3009960"/>
          </a:xfrm>
          <a:prstGeom prst="line">
            <a:avLst/>
          </a:prstGeom>
          <a:ln w="3816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artition th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4800" y="1457280"/>
            <a:ext cx="793440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 into two ha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962360" y="4095720"/>
            <a:ext cx="21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58160" y="4556160"/>
            <a:ext cx="21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480" y="575928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5•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924680" y="4027320"/>
            <a:ext cx="362520" cy="38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926120" y="5683320"/>
            <a:ext cx="362520" cy="38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022880" y="4854600"/>
            <a:ext cx="362520" cy="38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endCxn id="505" idx="6"/>
          </p:cNvCxnSpPr>
          <p:nvPr/>
        </p:nvCxnSpPr>
        <p:spPr>
          <a:xfrm flipV="1">
            <a:off x="6195600" y="5054400"/>
            <a:ext cx="8262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endCxn id="504" idx="5"/>
          </p:cNvCxnSpPr>
          <p:nvPr/>
        </p:nvCxnSpPr>
        <p:spPr>
          <a:xfrm>
            <a:off x="6118200" y="5198760"/>
            <a:ext cx="1861200" cy="82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4" idx="6"/>
            <a:endCxn id="505" idx="4"/>
          </p:cNvCxnSpPr>
          <p:nvPr/>
        </p:nvCxnSpPr>
        <p:spPr>
          <a:xfrm flipH="1" flipV="1">
            <a:off x="7205400" y="5297040"/>
            <a:ext cx="676800" cy="602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5" idx="3"/>
            <a:endCxn id="504" idx="7"/>
          </p:cNvCxnSpPr>
          <p:nvPr/>
        </p:nvCxnSpPr>
        <p:spPr>
          <a:xfrm>
            <a:off x="7364520" y="5230800"/>
            <a:ext cx="584640" cy="51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3" idx="5"/>
            <a:endCxn id="505" idx="1"/>
          </p:cNvCxnSpPr>
          <p:nvPr/>
        </p:nvCxnSpPr>
        <p:spPr>
          <a:xfrm flipH="1">
            <a:off x="7364160" y="4403520"/>
            <a:ext cx="584640" cy="510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3" idx="6"/>
            <a:endCxn id="512" idx="1"/>
          </p:cNvCxnSpPr>
          <p:nvPr/>
        </p:nvCxnSpPr>
        <p:spPr>
          <a:xfrm flipH="1">
            <a:off x="6095160" y="4243320"/>
            <a:ext cx="1786680" cy="68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12" idx="0"/>
            <a:endCxn id="503" idx="7"/>
          </p:cNvCxnSpPr>
          <p:nvPr/>
        </p:nvCxnSpPr>
        <p:spPr>
          <a:xfrm flipV="1">
            <a:off x="5936760" y="4086000"/>
            <a:ext cx="2012040" cy="77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7431120" y="507204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32920" y="424512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742000" y="4863960"/>
            <a:ext cx="388800" cy="388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512" idx="7"/>
            <a:endCxn id="512" idx="5"/>
          </p:cNvCxnSpPr>
          <p:nvPr/>
        </p:nvCxnSpPr>
        <p:spPr>
          <a:xfrm flipH="1" rot="16200000">
            <a:off x="5620320" y="5079600"/>
            <a:ext cx="317880" cy="2520"/>
          </a:xfrm>
          <a:prstGeom prst="curvedConnector5">
            <a:avLst>
              <a:gd name="adj1" fmla="val -36394"/>
              <a:gd name="adj2" fmla="val -10900000"/>
              <a:gd name="adj3" fmla="val -3639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6386760" y="428472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•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25200" y="4856040"/>
            <a:ext cx="58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•S2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•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54520" y="4705200"/>
            <a:ext cx="637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1•S1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•S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•S3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5•S2)’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24120" y="5742000"/>
            <a:ext cx="21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011480"/>
            <a:ext cx="450720" cy="45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5667480"/>
            <a:ext cx="45072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92160" y="4840200"/>
            <a:ext cx="451080" cy="45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3" idx="1"/>
            <a:endCxn id="521" idx="5"/>
          </p:cNvCxnSpPr>
          <p:nvPr/>
        </p:nvCxnSpPr>
        <p:spPr>
          <a:xfrm flipH="1" flipV="1">
            <a:off x="1374120" y="4396680"/>
            <a:ext cx="585000" cy="510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22" idx="7"/>
            <a:endCxn id="523" idx="3"/>
          </p:cNvCxnSpPr>
          <p:nvPr/>
        </p:nvCxnSpPr>
        <p:spPr>
          <a:xfrm flipV="1">
            <a:off x="1374480" y="5223960"/>
            <a:ext cx="585000" cy="51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3" idx="6"/>
          </p:cNvCxnSpPr>
          <p:nvPr/>
        </p:nvCxnSpPr>
        <p:spPr>
          <a:xfrm flipV="1">
            <a:off x="2343240" y="5063760"/>
            <a:ext cx="8388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2" idx="6"/>
          </p:cNvCxnSpPr>
          <p:nvPr/>
        </p:nvCxnSpPr>
        <p:spPr>
          <a:xfrm flipV="1">
            <a:off x="1441440" y="5214240"/>
            <a:ext cx="182016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9" idx="1"/>
            <a:endCxn id="521" idx="6"/>
          </p:cNvCxnSpPr>
          <p:nvPr/>
        </p:nvCxnSpPr>
        <p:spPr>
          <a:xfrm flipH="1" flipV="1">
            <a:off x="1440720" y="4237920"/>
            <a:ext cx="1796040" cy="677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1" idx="7"/>
            <a:endCxn id="529" idx="0"/>
          </p:cNvCxnSpPr>
          <p:nvPr/>
        </p:nvCxnSpPr>
        <p:spPr>
          <a:xfrm>
            <a:off x="1374480" y="4078440"/>
            <a:ext cx="2021400" cy="77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614520" y="589284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4520" y="423864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70160" y="4848120"/>
            <a:ext cx="451080" cy="451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9" idx="7"/>
            <a:endCxn id="529" idx="5"/>
          </p:cNvCxnSpPr>
          <p:nvPr/>
        </p:nvCxnSpPr>
        <p:spPr>
          <a:xfrm flipH="1" rot="16200000">
            <a:off x="3396240" y="5071680"/>
            <a:ext cx="317880" cy="2520"/>
          </a:xfrm>
          <a:prstGeom prst="curvedConnector5">
            <a:avLst>
              <a:gd name="adj1" fmla="val -92970"/>
              <a:gd name="adj2" fmla="val 19300000"/>
              <a:gd name="adj3" fmla="val -9297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1890720" y="454644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•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20280" y="507348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+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30520" y="4402080"/>
            <a:ext cx="61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2•S6)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10080" y="1882800"/>
            <a:ext cx="0" cy="4594320"/>
          </a:xfrm>
          <a:prstGeom prst="line">
            <a:avLst/>
          </a:prstGeom>
          <a:ln w="3816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idl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 and SB handoff control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827440" y="1889280"/>
            <a:ext cx="3426840" cy="1866240"/>
            <a:chOff x="2827440" y="1889280"/>
            <a:chExt cx="3426840" cy="1866240"/>
          </a:xfrm>
        </p:grpSpPr>
        <p:sp>
          <p:nvSpPr>
            <p:cNvPr id="541" name=""/>
            <p:cNvSpPr/>
            <p:nvPr/>
          </p:nvSpPr>
          <p:spPr>
            <a:xfrm>
              <a:off x="3781440" y="188928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36760" y="226872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12360" y="267156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91520" y="345456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24800" y="345456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6960" y="2071080"/>
              <a:ext cx="36036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6960" y="3394800"/>
              <a:ext cx="36036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49840" y="2732760"/>
              <a:ext cx="36072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" name=""/>
            <p:cNvCxnSpPr>
              <a:stCxn id="548" idx="1"/>
              <a:endCxn id="546" idx="5"/>
            </p:cNvCxnSpPr>
            <p:nvPr/>
          </p:nvCxnSpPr>
          <p:spPr>
            <a:xfrm flipH="1" flipV="1">
              <a:off x="3433680" y="2378160"/>
              <a:ext cx="469080" cy="408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0" name=""/>
            <p:cNvCxnSpPr>
              <a:stCxn id="547" idx="7"/>
              <a:endCxn id="548" idx="3"/>
            </p:cNvCxnSpPr>
            <p:nvPr/>
          </p:nvCxnSpPr>
          <p:spPr>
            <a:xfrm flipV="1">
              <a:off x="3434040" y="3039480"/>
              <a:ext cx="469080" cy="40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1" name=""/>
            <p:cNvSpPr/>
            <p:nvPr/>
          </p:nvSpPr>
          <p:spPr>
            <a:xfrm flipH="1">
              <a:off x="5591880" y="2071080"/>
              <a:ext cx="36180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591880" y="3394800"/>
              <a:ext cx="36180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870440" y="2732760"/>
              <a:ext cx="36036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>
              <a:stCxn id="548" idx="6"/>
              <a:endCxn id="553" idx="6"/>
            </p:cNvCxnSpPr>
            <p:nvPr/>
          </p:nvCxnSpPr>
          <p:spPr>
            <a:xfrm flipV="1">
              <a:off x="4210920" y="2911320"/>
              <a:ext cx="66060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"/>
            <p:cNvCxnSpPr>
              <a:stCxn id="547" idx="6"/>
              <a:endCxn id="553" idx="5"/>
            </p:cNvCxnSpPr>
            <p:nvPr/>
          </p:nvCxnSpPr>
          <p:spPr>
            <a:xfrm flipV="1">
              <a:off x="3487320" y="3039840"/>
              <a:ext cx="14356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6" name=""/>
            <p:cNvCxnSpPr>
              <a:stCxn id="548" idx="5"/>
              <a:endCxn id="552" idx="5"/>
            </p:cNvCxnSpPr>
            <p:nvPr/>
          </p:nvCxnSpPr>
          <p:spPr>
            <a:xfrm>
              <a:off x="4156920" y="3039840"/>
              <a:ext cx="1489320" cy="662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7" name=""/>
            <p:cNvCxnSpPr>
              <a:stCxn id="552" idx="6"/>
              <a:endCxn id="553" idx="4"/>
            </p:cNvCxnSpPr>
            <p:nvPr/>
          </p:nvCxnSpPr>
          <p:spPr>
            <a:xfrm flipH="1" flipV="1">
              <a:off x="5051160" y="3091680"/>
              <a:ext cx="542880" cy="48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3" idx="3"/>
              <a:endCxn id="552" idx="7"/>
            </p:cNvCxnSpPr>
            <p:nvPr/>
          </p:nvCxnSpPr>
          <p:spPr>
            <a:xfrm>
              <a:off x="5178600" y="3039840"/>
              <a:ext cx="468000" cy="40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1" idx="5"/>
              <a:endCxn id="553" idx="1"/>
            </p:cNvCxnSpPr>
            <p:nvPr/>
          </p:nvCxnSpPr>
          <p:spPr>
            <a:xfrm flipH="1">
              <a:off x="5178240" y="2378160"/>
              <a:ext cx="468000" cy="40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1" idx="6"/>
              <a:endCxn id="546" idx="6"/>
            </p:cNvCxnSpPr>
            <p:nvPr/>
          </p:nvCxnSpPr>
          <p:spPr>
            <a:xfrm flipH="1">
              <a:off x="3487320" y="2250000"/>
              <a:ext cx="21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>
              <a:stCxn id="546" idx="7"/>
              <a:endCxn id="551" idx="7"/>
            </p:cNvCxnSpPr>
            <p:nvPr/>
          </p:nvCxnSpPr>
          <p:spPr>
            <a:xfrm flipV="1">
              <a:off x="3434040" y="2122560"/>
              <a:ext cx="2212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2" name=""/>
            <p:cNvSpPr/>
            <p:nvPr/>
          </p:nvSpPr>
          <p:spPr>
            <a:xfrm>
              <a:off x="5231880" y="29131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54760" y="2251440"/>
              <a:ext cx="2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27440" y="3575520"/>
              <a:ext cx="2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27440" y="2251440"/>
              <a:ext cx="2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326280" y="3540240"/>
            <a:ext cx="482400" cy="4809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123640" y="3540240"/>
            <a:ext cx="482760" cy="4809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6815160" y="4730760"/>
            <a:ext cx="647640" cy="506160"/>
            <a:chOff x="6815160" y="4730760"/>
            <a:chExt cx="647640" cy="506160"/>
          </a:xfrm>
        </p:grpSpPr>
        <p:sp>
          <p:nvSpPr>
            <p:cNvPr id="569" name=""/>
            <p:cNvSpPr/>
            <p:nvPr/>
          </p:nvSpPr>
          <p:spPr>
            <a:xfrm>
              <a:off x="6937560" y="4730760"/>
              <a:ext cx="40932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15160" y="5078160"/>
              <a:ext cx="647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27840" y="4954680"/>
              <a:ext cx="446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848640" y="2506680"/>
            <a:ext cx="647640" cy="506160"/>
            <a:chOff x="6848640" y="2506680"/>
            <a:chExt cx="647640" cy="506160"/>
          </a:xfrm>
        </p:grpSpPr>
        <p:sp>
          <p:nvSpPr>
            <p:cNvPr id="573" name=""/>
            <p:cNvSpPr/>
            <p:nvPr/>
          </p:nvSpPr>
          <p:spPr>
            <a:xfrm>
              <a:off x="6971040" y="2506680"/>
              <a:ext cx="40932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48640" y="2854080"/>
              <a:ext cx="647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61320" y="2730600"/>
              <a:ext cx="446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608120" y="2825640"/>
            <a:ext cx="474840" cy="50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72640" y="2975040"/>
            <a:ext cx="227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2801880"/>
            <a:ext cx="4874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2120" y="2962440"/>
            <a:ext cx="227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082960" y="3035160"/>
            <a:ext cx="1587240" cy="123840"/>
            <a:chOff x="2082960" y="3035160"/>
            <a:chExt cx="1587240" cy="123840"/>
          </a:xfrm>
        </p:grpSpPr>
        <p:sp>
          <p:nvSpPr>
            <p:cNvPr id="581" name=""/>
            <p:cNvSpPr/>
            <p:nvPr/>
          </p:nvSpPr>
          <p:spPr>
            <a:xfrm>
              <a:off x="3444840" y="3035160"/>
              <a:ext cx="225360" cy="1238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39"/>
                  </a:move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82960" y="3109680"/>
              <a:ext cx="1361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705040" y="2825640"/>
            <a:ext cx="24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3680" y="2801880"/>
            <a:ext cx="4748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76880" y="2962440"/>
            <a:ext cx="2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87800" y="2795760"/>
            <a:ext cx="487440" cy="517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60600" y="2962440"/>
            <a:ext cx="227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468760" y="2998800"/>
            <a:ext cx="1461960" cy="123840"/>
            <a:chOff x="5468760" y="2998800"/>
            <a:chExt cx="1461960" cy="123840"/>
          </a:xfrm>
        </p:grpSpPr>
        <p:sp>
          <p:nvSpPr>
            <p:cNvPr id="589" name=""/>
            <p:cNvSpPr/>
            <p:nvPr/>
          </p:nvSpPr>
          <p:spPr>
            <a:xfrm>
              <a:off x="6706800" y="2998800"/>
              <a:ext cx="223920" cy="123840"/>
            </a:xfrm>
            <a:custGeom>
              <a:avLst/>
              <a:gdLst/>
              <a:ahLst/>
              <a:rect l="l" t="t" r="r" b="b"/>
              <a:pathLst>
                <a:path w="141" h="78">
                  <a:moveTo>
                    <a:pt x="141" y="39"/>
                  </a:move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68760" y="3073680"/>
              <a:ext cx="1238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6091200" y="2789280"/>
            <a:ext cx="24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269960" y="2911320"/>
            <a:ext cx="562320" cy="260280"/>
            <a:chOff x="4269960" y="2911320"/>
            <a:chExt cx="562320" cy="260280"/>
          </a:xfrm>
        </p:grpSpPr>
        <p:sp>
          <p:nvSpPr>
            <p:cNvPr id="593" name=""/>
            <p:cNvSpPr/>
            <p:nvPr/>
          </p:nvSpPr>
          <p:spPr>
            <a:xfrm>
              <a:off x="4319640" y="2911320"/>
              <a:ext cx="512640" cy="260280"/>
            </a:xfrm>
            <a:custGeom>
              <a:avLst/>
              <a:gdLst/>
              <a:ahLst/>
              <a:rect l="l" t="t" r="r" b="b"/>
              <a:pathLst>
                <a:path w="323" h="164">
                  <a:moveTo>
                    <a:pt x="323" y="78"/>
                  </a:move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269960" y="3035160"/>
              <a:ext cx="111240" cy="1440"/>
            </a:xfrm>
            <a:prstGeom prst="line">
              <a:avLst/>
            </a:prstGeom>
            <a:ln w="1126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1582560" y="5059440"/>
            <a:ext cx="474840" cy="50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47440" y="5207040"/>
            <a:ext cx="227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45000" y="5046840"/>
            <a:ext cx="474480" cy="493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10960" y="5195880"/>
            <a:ext cx="227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057400" y="5281560"/>
            <a:ext cx="1587600" cy="111240"/>
            <a:chOff x="2057400" y="5281560"/>
            <a:chExt cx="1587600" cy="111240"/>
          </a:xfrm>
        </p:grpSpPr>
        <p:sp>
          <p:nvSpPr>
            <p:cNvPr id="600" name=""/>
            <p:cNvSpPr/>
            <p:nvPr/>
          </p:nvSpPr>
          <p:spPr>
            <a:xfrm>
              <a:off x="2057400" y="5281560"/>
              <a:ext cx="212760" cy="11124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0" y="31"/>
                  </a:moveTo>
                  <a:lnTo>
                    <a:pt x="134" y="0"/>
                  </a:lnTo>
                  <a:lnTo>
                    <a:pt x="134" y="31"/>
                  </a:lnTo>
                  <a:lnTo>
                    <a:pt x="134" y="7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70160" y="5343480"/>
              <a:ext cx="137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679480" y="5059440"/>
            <a:ext cx="24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32520" y="5046840"/>
            <a:ext cx="474840" cy="493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66080" y="5195880"/>
            <a:ext cx="2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76640" y="5040360"/>
            <a:ext cx="487440" cy="506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7640" y="5195880"/>
            <a:ext cx="227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457960" y="5243400"/>
            <a:ext cx="1461600" cy="112680"/>
            <a:chOff x="5457960" y="5243400"/>
            <a:chExt cx="1461600" cy="112680"/>
          </a:xfrm>
        </p:grpSpPr>
        <p:sp>
          <p:nvSpPr>
            <p:cNvPr id="608" name=""/>
            <p:cNvSpPr/>
            <p:nvPr/>
          </p:nvSpPr>
          <p:spPr>
            <a:xfrm>
              <a:off x="5457960" y="5243400"/>
              <a:ext cx="212400" cy="112680"/>
            </a:xfrm>
            <a:custGeom>
              <a:avLst/>
              <a:gdLst/>
              <a:ahLst/>
              <a:rect l="l" t="t" r="r" b="b"/>
              <a:pathLst>
                <a:path w="134" h="71">
                  <a:moveTo>
                    <a:pt x="0" y="32"/>
                  </a:moveTo>
                  <a:lnTo>
                    <a:pt x="134" y="0"/>
                  </a:lnTo>
                  <a:lnTo>
                    <a:pt x="134" y="32"/>
                  </a:lnTo>
                  <a:lnTo>
                    <a:pt x="134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70360" y="5305320"/>
              <a:ext cx="1249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097320" y="5046840"/>
            <a:ext cx="549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2•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257360" y="5145120"/>
            <a:ext cx="562320" cy="260280"/>
            <a:chOff x="4257360" y="5145120"/>
            <a:chExt cx="562320" cy="260280"/>
          </a:xfrm>
        </p:grpSpPr>
        <p:sp>
          <p:nvSpPr>
            <p:cNvPr id="612" name=""/>
            <p:cNvSpPr/>
            <p:nvPr/>
          </p:nvSpPr>
          <p:spPr>
            <a:xfrm>
              <a:off x="4295880" y="5145120"/>
              <a:ext cx="523800" cy="260280"/>
            </a:xfrm>
            <a:custGeom>
              <a:avLst/>
              <a:gdLst/>
              <a:ahLst/>
              <a:rect l="l" t="t" r="r" b="b"/>
              <a:pathLst>
                <a:path w="330" h="164">
                  <a:moveTo>
                    <a:pt x="330" y="86"/>
                  </a:moveTo>
                  <a:lnTo>
                    <a:pt x="0" y="164"/>
                  </a:lnTo>
                  <a:lnTo>
                    <a:pt x="0" y="86"/>
                  </a:lnTo>
                  <a:lnTo>
                    <a:pt x="0" y="0"/>
                  </a:lnTo>
                  <a:lnTo>
                    <a:pt x="330" y="86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257360" y="5268960"/>
              <a:ext cx="112680" cy="1440"/>
            </a:xfrm>
            <a:prstGeom prst="line">
              <a:avLst/>
            </a:prstGeom>
            <a:ln w="1126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ing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2301480" y="1735200"/>
            <a:ext cx="479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1: Source-stat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place by transition to idle state (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41360" y="3921120"/>
            <a:ext cx="53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2: Destination stat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place with exit transition from id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426000" y="3643200"/>
            <a:ext cx="603000" cy="506160"/>
            <a:chOff x="6426000" y="3643200"/>
            <a:chExt cx="603000" cy="506160"/>
          </a:xfrm>
        </p:grpSpPr>
        <p:sp>
          <p:nvSpPr>
            <p:cNvPr id="618" name=""/>
            <p:cNvSpPr/>
            <p:nvPr/>
          </p:nvSpPr>
          <p:spPr>
            <a:xfrm flipH="1" flipV="1">
              <a:off x="6534360" y="3717360"/>
              <a:ext cx="38088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6425640" y="3642840"/>
              <a:ext cx="60300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6882840" y="3777840"/>
              <a:ext cx="41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354640" y="5403960"/>
            <a:ext cx="603360" cy="506160"/>
            <a:chOff x="5354640" y="5403960"/>
            <a:chExt cx="603360" cy="506160"/>
          </a:xfrm>
        </p:grpSpPr>
        <p:sp>
          <p:nvSpPr>
            <p:cNvPr id="622" name=""/>
            <p:cNvSpPr/>
            <p:nvPr/>
          </p:nvSpPr>
          <p:spPr>
            <a:xfrm>
              <a:off x="5468400" y="5403960"/>
              <a:ext cx="38124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54640" y="5751360"/>
              <a:ext cx="60336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59400" y="5627880"/>
              <a:ext cx="41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5541840" y="3024360"/>
            <a:ext cx="603360" cy="506160"/>
            <a:chOff x="5541840" y="3024360"/>
            <a:chExt cx="603360" cy="506160"/>
          </a:xfrm>
        </p:grpSpPr>
        <p:sp>
          <p:nvSpPr>
            <p:cNvPr id="626" name=""/>
            <p:cNvSpPr/>
            <p:nvPr/>
          </p:nvSpPr>
          <p:spPr>
            <a:xfrm>
              <a:off x="5655600" y="3024360"/>
              <a:ext cx="38124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41840" y="3371760"/>
              <a:ext cx="60336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46600" y="3248280"/>
              <a:ext cx="41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1182600" y="2928960"/>
            <a:ext cx="500040" cy="50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37400" y="307188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7360" y="387504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12160" y="401652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063800" y="3419640"/>
            <a:ext cx="299520" cy="498240"/>
            <a:chOff x="1063800" y="3419640"/>
            <a:chExt cx="299520" cy="498240"/>
          </a:xfrm>
        </p:grpSpPr>
        <p:sp>
          <p:nvSpPr>
            <p:cNvPr id="634" name=""/>
            <p:cNvSpPr/>
            <p:nvPr/>
          </p:nvSpPr>
          <p:spPr>
            <a:xfrm>
              <a:off x="1189080" y="3419640"/>
              <a:ext cx="174240" cy="225360"/>
            </a:xfrm>
            <a:custGeom>
              <a:avLst/>
              <a:gdLst/>
              <a:ahLst/>
              <a:rect l="l" t="t" r="r" b="b"/>
              <a:pathLst>
                <a:path w="110" h="142">
                  <a:moveTo>
                    <a:pt x="110" y="0"/>
                  </a:moveTo>
                  <a:lnTo>
                    <a:pt x="63" y="142"/>
                  </a:lnTo>
                  <a:lnTo>
                    <a:pt x="39" y="118"/>
                  </a:lnTo>
                  <a:lnTo>
                    <a:pt x="0" y="11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063800" y="3606840"/>
              <a:ext cx="18720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57560" y="290340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13800" y="305928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82880" y="387504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50280" y="401652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701800" y="3333600"/>
            <a:ext cx="387360" cy="534960"/>
            <a:chOff x="2701800" y="3333600"/>
            <a:chExt cx="387360" cy="534960"/>
          </a:xfrm>
        </p:grpSpPr>
        <p:sp>
          <p:nvSpPr>
            <p:cNvPr id="641" name=""/>
            <p:cNvSpPr/>
            <p:nvPr/>
          </p:nvSpPr>
          <p:spPr>
            <a:xfrm>
              <a:off x="2914560" y="3655800"/>
              <a:ext cx="174600" cy="212760"/>
            </a:xfrm>
            <a:custGeom>
              <a:avLst/>
              <a:gdLst/>
              <a:ahLst/>
              <a:rect l="l" t="t" r="r" b="b"/>
              <a:pathLst>
                <a:path w="110" h="134">
                  <a:moveTo>
                    <a:pt x="110" y="134"/>
                  </a:moveTo>
                  <a:lnTo>
                    <a:pt x="0" y="40"/>
                  </a:lnTo>
                  <a:lnTo>
                    <a:pt x="23" y="16"/>
                  </a:lnTo>
                  <a:lnTo>
                    <a:pt x="47" y="0"/>
                  </a:lnTo>
                  <a:lnTo>
                    <a:pt x="11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01800" y="3333600"/>
              <a:ext cx="2491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476440" y="3408480"/>
            <a:ext cx="437760" cy="583560"/>
            <a:chOff x="2476440" y="3408480"/>
            <a:chExt cx="437760" cy="583560"/>
          </a:xfrm>
        </p:grpSpPr>
        <p:sp>
          <p:nvSpPr>
            <p:cNvPr id="644" name=""/>
            <p:cNvSpPr/>
            <p:nvPr/>
          </p:nvSpPr>
          <p:spPr>
            <a:xfrm>
              <a:off x="2476440" y="3408480"/>
              <a:ext cx="187200" cy="19800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0" y="0"/>
                  </a:moveTo>
                  <a:lnTo>
                    <a:pt x="118" y="94"/>
                  </a:lnTo>
                  <a:lnTo>
                    <a:pt x="79" y="117"/>
                  </a:lnTo>
                  <a:lnTo>
                    <a:pt x="55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601360" y="3593880"/>
              <a:ext cx="312840" cy="39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650960" y="2971800"/>
            <a:ext cx="612720" cy="112680"/>
            <a:chOff x="1650960" y="2971800"/>
            <a:chExt cx="612720" cy="112680"/>
          </a:xfrm>
        </p:grpSpPr>
        <p:sp>
          <p:nvSpPr>
            <p:cNvPr id="647" name=""/>
            <p:cNvSpPr/>
            <p:nvPr/>
          </p:nvSpPr>
          <p:spPr>
            <a:xfrm>
              <a:off x="2050920" y="2971800"/>
              <a:ext cx="212760" cy="112680"/>
            </a:xfrm>
            <a:custGeom>
              <a:avLst/>
              <a:gdLst/>
              <a:ahLst/>
              <a:rect l="l" t="t" r="r" b="b"/>
              <a:pathLst>
                <a:path w="134" h="71">
                  <a:moveTo>
                    <a:pt x="134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3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50960" y="3035520"/>
              <a:ext cx="39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614600" y="3344760"/>
            <a:ext cx="1287360" cy="784080"/>
            <a:chOff x="1614600" y="3344760"/>
            <a:chExt cx="1287360" cy="784080"/>
          </a:xfrm>
        </p:grpSpPr>
        <p:sp>
          <p:nvSpPr>
            <p:cNvPr id="650" name=""/>
            <p:cNvSpPr/>
            <p:nvPr/>
          </p:nvSpPr>
          <p:spPr>
            <a:xfrm>
              <a:off x="2676600" y="3954240"/>
              <a:ext cx="225360" cy="17460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142" y="110"/>
                  </a:moveTo>
                  <a:lnTo>
                    <a:pt x="0" y="63"/>
                  </a:lnTo>
                  <a:lnTo>
                    <a:pt x="24" y="40"/>
                  </a:lnTo>
                  <a:lnTo>
                    <a:pt x="40" y="0"/>
                  </a:lnTo>
                  <a:lnTo>
                    <a:pt x="14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14600" y="3344760"/>
              <a:ext cx="109980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150920" y="3308400"/>
            <a:ext cx="1100160" cy="833400"/>
            <a:chOff x="1150920" y="3308400"/>
            <a:chExt cx="1100160" cy="833400"/>
          </a:xfrm>
        </p:grpSpPr>
        <p:sp>
          <p:nvSpPr>
            <p:cNvPr id="653" name=""/>
            <p:cNvSpPr/>
            <p:nvPr/>
          </p:nvSpPr>
          <p:spPr>
            <a:xfrm>
              <a:off x="2050920" y="3308400"/>
              <a:ext cx="200160" cy="185760"/>
            </a:xfrm>
            <a:custGeom>
              <a:avLst/>
              <a:gdLst/>
              <a:ahLst/>
              <a:rect l="l" t="t" r="r" b="b"/>
              <a:pathLst>
                <a:path w="126" h="117">
                  <a:moveTo>
                    <a:pt x="126" y="0"/>
                  </a:moveTo>
                  <a:lnTo>
                    <a:pt x="32" y="117"/>
                  </a:lnTo>
                  <a:lnTo>
                    <a:pt x="8" y="86"/>
                  </a:lnTo>
                  <a:lnTo>
                    <a:pt x="0" y="63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150920" y="3444840"/>
              <a:ext cx="91260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525320" y="389268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01480" y="390528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0680" y="277344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564000" y="3362400"/>
            <a:ext cx="612360" cy="261720"/>
            <a:chOff x="3564000" y="3362400"/>
            <a:chExt cx="612360" cy="261720"/>
          </a:xfrm>
        </p:grpSpPr>
        <p:sp>
          <p:nvSpPr>
            <p:cNvPr id="659" name=""/>
            <p:cNvSpPr/>
            <p:nvPr/>
          </p:nvSpPr>
          <p:spPr>
            <a:xfrm>
              <a:off x="3612960" y="3362400"/>
              <a:ext cx="563400" cy="261720"/>
            </a:xfrm>
            <a:custGeom>
              <a:avLst/>
              <a:gdLst/>
              <a:ahLst/>
              <a:rect l="l" t="t" r="r" b="b"/>
              <a:pathLst>
                <a:path w="355" h="165">
                  <a:moveTo>
                    <a:pt x="355" y="87"/>
                  </a:moveTo>
                  <a:lnTo>
                    <a:pt x="0" y="165"/>
                  </a:lnTo>
                  <a:lnTo>
                    <a:pt x="0" y="87"/>
                  </a:lnTo>
                  <a:lnTo>
                    <a:pt x="0" y="0"/>
                  </a:lnTo>
                  <a:lnTo>
                    <a:pt x="35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564000" y="3487680"/>
              <a:ext cx="149040" cy="1080"/>
            </a:xfrm>
            <a:prstGeom prst="line">
              <a:avLst/>
            </a:prstGeom>
            <a:ln w="112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4411800" y="2778120"/>
            <a:ext cx="5000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68040" y="292104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24400" y="3884760"/>
            <a:ext cx="512640" cy="50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80640" y="404028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905360" y="3044880"/>
            <a:ext cx="763560" cy="372600"/>
            <a:chOff x="4905360" y="3044880"/>
            <a:chExt cx="763560" cy="372600"/>
          </a:xfrm>
        </p:grpSpPr>
        <p:sp>
          <p:nvSpPr>
            <p:cNvPr id="666" name=""/>
            <p:cNvSpPr/>
            <p:nvPr/>
          </p:nvSpPr>
          <p:spPr>
            <a:xfrm>
              <a:off x="5443560" y="3268440"/>
              <a:ext cx="225360" cy="149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2" y="94"/>
                  </a:moveTo>
                  <a:lnTo>
                    <a:pt x="0" y="63"/>
                  </a:lnTo>
                  <a:lnTo>
                    <a:pt x="8" y="24"/>
                  </a:lnTo>
                  <a:lnTo>
                    <a:pt x="32" y="0"/>
                  </a:lnTo>
                  <a:lnTo>
                    <a:pt x="14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05360" y="3044880"/>
              <a:ext cx="55080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5600880" y="3338640"/>
            <a:ext cx="500040" cy="496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42720" y="3481560"/>
            <a:ext cx="282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946760" y="3692520"/>
            <a:ext cx="734760" cy="360000"/>
            <a:chOff x="4946760" y="3692520"/>
            <a:chExt cx="734760" cy="360000"/>
          </a:xfrm>
        </p:grpSpPr>
        <p:sp>
          <p:nvSpPr>
            <p:cNvPr id="671" name=""/>
            <p:cNvSpPr/>
            <p:nvPr/>
          </p:nvSpPr>
          <p:spPr>
            <a:xfrm>
              <a:off x="5443560" y="3692520"/>
              <a:ext cx="237960" cy="149040"/>
            </a:xfrm>
            <a:custGeom>
              <a:avLst/>
              <a:gdLst/>
              <a:ahLst/>
              <a:rect l="l" t="t" r="r" b="b"/>
              <a:pathLst>
                <a:path w="150" h="94">
                  <a:moveTo>
                    <a:pt x="150" y="0"/>
                  </a:moveTo>
                  <a:lnTo>
                    <a:pt x="32" y="94"/>
                  </a:lnTo>
                  <a:lnTo>
                    <a:pt x="24" y="63"/>
                  </a:lnTo>
                  <a:lnTo>
                    <a:pt x="0" y="2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946760" y="3793680"/>
              <a:ext cx="53496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993560" y="2908440"/>
            <a:ext cx="637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3+C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17840" y="392904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738920" y="2827440"/>
            <a:ext cx="511200" cy="50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894080" y="298296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775640" y="392256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31880" y="407844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8082000" y="3306600"/>
            <a:ext cx="112680" cy="671400"/>
            <a:chOff x="8082000" y="3306600"/>
            <a:chExt cx="112680" cy="671400"/>
          </a:xfrm>
        </p:grpSpPr>
        <p:sp>
          <p:nvSpPr>
            <p:cNvPr id="680" name=""/>
            <p:cNvSpPr/>
            <p:nvPr/>
          </p:nvSpPr>
          <p:spPr>
            <a:xfrm>
              <a:off x="8082000" y="3754440"/>
              <a:ext cx="112680" cy="22356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40" y="141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71" y="0"/>
                  </a:lnTo>
                  <a:lnTo>
                    <a:pt x="4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45360" y="3306600"/>
              <a:ext cx="18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781760" y="3294000"/>
            <a:ext cx="112680" cy="722160"/>
            <a:chOff x="7781760" y="3294000"/>
            <a:chExt cx="112680" cy="722160"/>
          </a:xfrm>
        </p:grpSpPr>
        <p:sp>
          <p:nvSpPr>
            <p:cNvPr id="683" name=""/>
            <p:cNvSpPr/>
            <p:nvPr/>
          </p:nvSpPr>
          <p:spPr>
            <a:xfrm>
              <a:off x="7781760" y="3294000"/>
              <a:ext cx="112680" cy="22392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47" y="0"/>
                  </a:moveTo>
                  <a:lnTo>
                    <a:pt x="71" y="141"/>
                  </a:lnTo>
                  <a:lnTo>
                    <a:pt x="40" y="141"/>
                  </a:lnTo>
                  <a:lnTo>
                    <a:pt x="0" y="14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7845120" y="3517920"/>
              <a:ext cx="144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980760" y="412272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5•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75320" y="3338640"/>
            <a:ext cx="500040" cy="496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19320" y="3481560"/>
            <a:ext cx="282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96160" y="3718080"/>
            <a:ext cx="849240" cy="521640"/>
            <a:chOff x="6896160" y="3718080"/>
            <a:chExt cx="849240" cy="521640"/>
          </a:xfrm>
        </p:grpSpPr>
        <p:sp>
          <p:nvSpPr>
            <p:cNvPr id="689" name=""/>
            <p:cNvSpPr/>
            <p:nvPr/>
          </p:nvSpPr>
          <p:spPr>
            <a:xfrm>
              <a:off x="7532640" y="4065480"/>
              <a:ext cx="212760" cy="17424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134" y="110"/>
                  </a:moveTo>
                  <a:lnTo>
                    <a:pt x="0" y="70"/>
                  </a:lnTo>
                  <a:lnTo>
                    <a:pt x="7" y="39"/>
                  </a:lnTo>
                  <a:lnTo>
                    <a:pt x="31" y="0"/>
                  </a:lnTo>
                  <a:lnTo>
                    <a:pt x="134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96160" y="3718080"/>
              <a:ext cx="64764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912000" y="3219480"/>
            <a:ext cx="833400" cy="223560"/>
            <a:chOff x="6912000" y="3219480"/>
            <a:chExt cx="833400" cy="223560"/>
          </a:xfrm>
        </p:grpSpPr>
        <p:sp>
          <p:nvSpPr>
            <p:cNvPr id="692" name=""/>
            <p:cNvSpPr/>
            <p:nvPr/>
          </p:nvSpPr>
          <p:spPr>
            <a:xfrm>
              <a:off x="7532640" y="3219480"/>
              <a:ext cx="212760" cy="112680"/>
            </a:xfrm>
            <a:custGeom>
              <a:avLst/>
              <a:gdLst/>
              <a:ahLst/>
              <a:rect l="l" t="t" r="r" b="b"/>
              <a:pathLst>
                <a:path w="134" h="71">
                  <a:moveTo>
                    <a:pt x="134" y="0"/>
                  </a:moveTo>
                  <a:lnTo>
                    <a:pt x="7" y="7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912000" y="3271680"/>
              <a:ext cx="6206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6869160" y="2898720"/>
            <a:ext cx="811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3•S2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68080" y="311004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•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08640" y="5732640"/>
            <a:ext cx="536400" cy="48240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56960" y="5878440"/>
            <a:ext cx="282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5732640"/>
            <a:ext cx="536400" cy="48240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52040" y="587844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803760" y="5925960"/>
            <a:ext cx="1614240" cy="105120"/>
            <a:chOff x="3803760" y="5925960"/>
            <a:chExt cx="1614240" cy="105120"/>
          </a:xfrm>
        </p:grpSpPr>
        <p:sp>
          <p:nvSpPr>
            <p:cNvPr id="701" name=""/>
            <p:cNvSpPr/>
            <p:nvPr/>
          </p:nvSpPr>
          <p:spPr>
            <a:xfrm>
              <a:off x="3803760" y="5925960"/>
              <a:ext cx="236520" cy="105120"/>
            </a:xfrm>
            <a:custGeom>
              <a:avLst/>
              <a:gdLst/>
              <a:ahLst/>
              <a:rect l="l" t="t" r="r" b="b"/>
              <a:pathLst>
                <a:path w="149" h="66">
                  <a:moveTo>
                    <a:pt x="0" y="30"/>
                  </a:moveTo>
                  <a:lnTo>
                    <a:pt x="149" y="0"/>
                  </a:lnTo>
                  <a:lnTo>
                    <a:pt x="149" y="30"/>
                  </a:lnTo>
                  <a:lnTo>
                    <a:pt x="149" y="6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40280" y="5981760"/>
              <a:ext cx="1377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4451760" y="573408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2•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7360" y="541800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2•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45320" y="5396040"/>
            <a:ext cx="5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ing rule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1019520" y="1620720"/>
            <a:ext cx="742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3: Multiple transitions with same source or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ource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Replace by transitions to idle state (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stinati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Replace with exit transitions from id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61520" y="4633920"/>
            <a:ext cx="45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4: Hold condition for id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R exit conditions and i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ly versus Moore part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ly machines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desi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can affect outputs immedia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” can be a handoff to another machine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puts can ripple through several machines in one clock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re or synchronized Meal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si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-to-output path always broken by a flip-fl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…may take several clocks for input to propagate to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may derive from other side of a part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: Time to perform a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put to data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: Input or output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cally the clock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 delays driv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lay through slowest combinational st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umber of stages from input to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 * d   (in se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pu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/d   (in H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133880" y="3322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8040" y="2746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22600" y="2946240"/>
            <a:ext cx="451080" cy="45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22600" y="4686480"/>
            <a:ext cx="45108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30520" y="3849840"/>
            <a:ext cx="45072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800600" y="2946240"/>
            <a:ext cx="450720" cy="45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4800600" y="4686480"/>
            <a:ext cx="45072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711040" y="3849840"/>
            <a:ext cx="45108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6" idx="4"/>
            <a:endCxn id="718" idx="6"/>
          </p:cNvCxnSpPr>
          <p:nvPr/>
        </p:nvCxnSpPr>
        <p:spPr>
          <a:xfrm>
            <a:off x="5025600" y="3395160"/>
            <a:ext cx="68652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59240" y="2495520"/>
            <a:ext cx="0" cy="3008520"/>
          </a:xfrm>
          <a:prstGeom prst="line">
            <a:avLst/>
          </a:prstGeom>
          <a:ln w="3816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13" idx="5"/>
            <a:endCxn id="716" idx="5"/>
          </p:cNvCxnSpPr>
          <p:nvPr/>
        </p:nvCxnSpPr>
        <p:spPr>
          <a:xfrm>
            <a:off x="3906720" y="3330360"/>
            <a:ext cx="959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8" idx="6"/>
            <a:endCxn id="717" idx="0"/>
          </p:cNvCxnSpPr>
          <p:nvPr/>
        </p:nvCxnSpPr>
        <p:spPr>
          <a:xfrm flipH="1">
            <a:off x="5025240" y="4073040"/>
            <a:ext cx="686520" cy="613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7" idx="7"/>
            <a:endCxn id="714" idx="7"/>
          </p:cNvCxnSpPr>
          <p:nvPr/>
        </p:nvCxnSpPr>
        <p:spPr>
          <a:xfrm flipH="1">
            <a:off x="3906360" y="4750920"/>
            <a:ext cx="959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14" idx="0"/>
            <a:endCxn id="715" idx="6"/>
          </p:cNvCxnSpPr>
          <p:nvPr/>
        </p:nvCxnSpPr>
        <p:spPr>
          <a:xfrm flipH="1" flipV="1">
            <a:off x="3080880" y="4074840"/>
            <a:ext cx="667440" cy="61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715" idx="6"/>
            <a:endCxn id="713" idx="4"/>
          </p:cNvCxnSpPr>
          <p:nvPr/>
        </p:nvCxnSpPr>
        <p:spPr>
          <a:xfrm flipV="1">
            <a:off x="3081240" y="3396600"/>
            <a:ext cx="66744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13" idx="2"/>
            <a:endCxn id="715" idx="0"/>
          </p:cNvCxnSpPr>
          <p:nvPr/>
        </p:nvCxnSpPr>
        <p:spPr>
          <a:xfrm flipH="1">
            <a:off x="2855520" y="3171600"/>
            <a:ext cx="66744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715" idx="4"/>
            <a:endCxn id="714" idx="2"/>
          </p:cNvCxnSpPr>
          <p:nvPr/>
        </p:nvCxnSpPr>
        <p:spPr>
          <a:xfrm>
            <a:off x="2855880" y="4300560"/>
            <a:ext cx="667440" cy="61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14" idx="5"/>
            <a:endCxn id="717" idx="5"/>
          </p:cNvCxnSpPr>
          <p:nvPr/>
        </p:nvCxnSpPr>
        <p:spPr>
          <a:xfrm>
            <a:off x="3906720" y="5070240"/>
            <a:ext cx="959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17" idx="2"/>
            <a:endCxn id="718" idx="4"/>
          </p:cNvCxnSpPr>
          <p:nvPr/>
        </p:nvCxnSpPr>
        <p:spPr>
          <a:xfrm flipV="1">
            <a:off x="5250960" y="4298400"/>
            <a:ext cx="686520" cy="611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/>
          <p:nvPr/>
        </p:nvCxnSpPr>
        <p:spPr>
          <a:xfrm flipH="1" flipV="1">
            <a:off x="5248080" y="3145680"/>
            <a:ext cx="695520" cy="68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16" idx="7"/>
            <a:endCxn id="713" idx="7"/>
          </p:cNvCxnSpPr>
          <p:nvPr/>
        </p:nvCxnSpPr>
        <p:spPr>
          <a:xfrm flipH="1">
            <a:off x="3906360" y="3011040"/>
            <a:ext cx="959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5568840" y="3191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60920" y="4602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81360" y="5052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86200" y="4525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60720" y="3247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21360" y="3630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21360" y="42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87840" y="449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37000" y="4226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29080" y="3624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x-state up/down 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6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 into 2 p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5995080" y="2136600"/>
            <a:ext cx="21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unt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unt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4905360" y="3505320"/>
            <a:ext cx="3091680" cy="2119320"/>
            <a:chOff x="4905360" y="3505320"/>
            <a:chExt cx="3091680" cy="2119320"/>
          </a:xfrm>
        </p:grpSpPr>
        <p:sp>
          <p:nvSpPr>
            <p:cNvPr id="746" name=""/>
            <p:cNvSpPr/>
            <p:nvPr/>
          </p:nvSpPr>
          <p:spPr>
            <a:xfrm>
              <a:off x="6464160" y="4264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•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54560" y="388872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22640" y="3505320"/>
              <a:ext cx="36252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724080" y="5236200"/>
              <a:ext cx="36252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34160" y="4408920"/>
              <a:ext cx="36252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1" name=""/>
            <p:cNvCxnSpPr>
              <a:stCxn id="748" idx="4"/>
              <a:endCxn id="750" idx="6"/>
            </p:cNvCxnSpPr>
            <p:nvPr/>
          </p:nvCxnSpPr>
          <p:spPr>
            <a:xfrm>
              <a:off x="6904800" y="3946680"/>
              <a:ext cx="68616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3" idx="2"/>
              <a:endCxn id="748" idx="4"/>
            </p:cNvCxnSpPr>
            <p:nvPr/>
          </p:nvCxnSpPr>
          <p:spPr>
            <a:xfrm flipV="1">
              <a:off x="6162480" y="3946680"/>
              <a:ext cx="743040" cy="618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50" idx="6"/>
              <a:endCxn id="749" idx="0"/>
            </p:cNvCxnSpPr>
            <p:nvPr/>
          </p:nvCxnSpPr>
          <p:spPr>
            <a:xfrm flipH="1">
              <a:off x="6904440" y="4623840"/>
              <a:ext cx="686160" cy="603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49" idx="0"/>
              <a:endCxn id="753" idx="2"/>
            </p:cNvCxnSpPr>
            <p:nvPr/>
          </p:nvCxnSpPr>
          <p:spPr>
            <a:xfrm flipH="1" flipV="1">
              <a:off x="6162120" y="4565160"/>
              <a:ext cx="743040" cy="66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3" idx="4"/>
              <a:endCxn id="749" idx="6"/>
            </p:cNvCxnSpPr>
            <p:nvPr/>
          </p:nvCxnSpPr>
          <p:spPr>
            <a:xfrm>
              <a:off x="5936760" y="4790880"/>
              <a:ext cx="743040" cy="660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49" idx="2"/>
              <a:endCxn id="750" idx="4"/>
            </p:cNvCxnSpPr>
            <p:nvPr/>
          </p:nvCxnSpPr>
          <p:spPr>
            <a:xfrm flipV="1">
              <a:off x="7130520" y="4848840"/>
              <a:ext cx="686160" cy="601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/>
            <p:nvPr/>
          </p:nvCxnSpPr>
          <p:spPr>
            <a:xfrm flipH="1" flipV="1">
              <a:off x="7138800" y="3722040"/>
              <a:ext cx="686520" cy="67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9" name=""/>
            <p:cNvCxnSpPr>
              <a:stCxn id="748" idx="6"/>
              <a:endCxn id="753" idx="0"/>
            </p:cNvCxnSpPr>
            <p:nvPr/>
          </p:nvCxnSpPr>
          <p:spPr>
            <a:xfrm flipH="1">
              <a:off x="5936400" y="3721320"/>
              <a:ext cx="743040" cy="620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0" name=""/>
            <p:cNvSpPr/>
            <p:nvPr/>
          </p:nvSpPr>
          <p:spPr>
            <a:xfrm>
              <a:off x="7543800" y="394848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32560" y="515160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08760" y="515160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66160" y="42649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90920" y="47754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39840" y="47754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743440" y="4349520"/>
              <a:ext cx="388800" cy="388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6" name=""/>
            <p:cNvCxnSpPr>
              <a:stCxn id="753" idx="5"/>
              <a:endCxn id="753" idx="7"/>
            </p:cNvCxnSpPr>
            <p:nvPr/>
          </p:nvCxnSpPr>
          <p:spPr>
            <a:xfrm flipH="1" flipV="1" rot="5400000">
              <a:off x="5617800" y="4565160"/>
              <a:ext cx="318600" cy="1800"/>
            </a:xfrm>
            <a:prstGeom prst="curvedConnector5">
              <a:avLst>
                <a:gd name="adj1" fmla="val -29524"/>
                <a:gd name="adj2" fmla="val -10000000"/>
                <a:gd name="adj3" fmla="val -2952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7" name=""/>
            <p:cNvSpPr/>
            <p:nvPr/>
          </p:nvSpPr>
          <p:spPr>
            <a:xfrm>
              <a:off x="4905360" y="4324320"/>
              <a:ext cx="552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D•S0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)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946080" y="3500280"/>
            <a:ext cx="3210840" cy="2128680"/>
            <a:chOff x="946080" y="3500280"/>
            <a:chExt cx="3210840" cy="2128680"/>
          </a:xfrm>
        </p:grpSpPr>
        <p:sp>
          <p:nvSpPr>
            <p:cNvPr id="769" name=""/>
            <p:cNvSpPr/>
            <p:nvPr/>
          </p:nvSpPr>
          <p:spPr>
            <a:xfrm flipH="1">
              <a:off x="2088360" y="4637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•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582640" y="516240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55440" y="3500280"/>
              <a:ext cx="36252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55440" y="5240520"/>
              <a:ext cx="36252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46080" y="4403880"/>
              <a:ext cx="36252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>
              <a:stCxn id="771" idx="4"/>
              <a:endCxn id="773" idx="6"/>
            </p:cNvCxnSpPr>
            <p:nvPr/>
          </p:nvCxnSpPr>
          <p:spPr>
            <a:xfrm flipH="1">
              <a:off x="1352160" y="3943440"/>
              <a:ext cx="686160" cy="677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75" name=""/>
            <p:cNvCxnSpPr>
              <a:stCxn id="776" idx="2"/>
              <a:endCxn id="771" idx="4"/>
            </p:cNvCxnSpPr>
            <p:nvPr/>
          </p:nvCxnSpPr>
          <p:spPr>
            <a:xfrm flipH="1" flipV="1">
              <a:off x="2037600" y="3942720"/>
              <a:ext cx="742680" cy="619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77" name=""/>
            <p:cNvCxnSpPr>
              <a:stCxn id="773" idx="6"/>
              <a:endCxn id="772" idx="0"/>
            </p:cNvCxnSpPr>
            <p:nvPr/>
          </p:nvCxnSpPr>
          <p:spPr>
            <a:xfrm>
              <a:off x="1352520" y="4619880"/>
              <a:ext cx="686160" cy="61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78" name=""/>
            <p:cNvCxnSpPr>
              <a:stCxn id="772" idx="0"/>
              <a:endCxn id="776" idx="2"/>
            </p:cNvCxnSpPr>
            <p:nvPr/>
          </p:nvCxnSpPr>
          <p:spPr>
            <a:xfrm flipV="1">
              <a:off x="2037960" y="4561920"/>
              <a:ext cx="742680" cy="669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79" name=""/>
            <p:cNvCxnSpPr>
              <a:stCxn id="776" idx="4"/>
              <a:endCxn id="772" idx="6"/>
            </p:cNvCxnSpPr>
            <p:nvPr/>
          </p:nvCxnSpPr>
          <p:spPr>
            <a:xfrm flipH="1">
              <a:off x="2262960" y="4788000"/>
              <a:ext cx="742680" cy="669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80" name=""/>
            <p:cNvCxnSpPr>
              <a:stCxn id="772" idx="2"/>
              <a:endCxn id="773" idx="4"/>
            </p:cNvCxnSpPr>
            <p:nvPr/>
          </p:nvCxnSpPr>
          <p:spPr>
            <a:xfrm flipH="1" flipV="1">
              <a:off x="1126800" y="4845240"/>
              <a:ext cx="686160" cy="61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81" name=""/>
            <p:cNvCxnSpPr/>
            <p:nvPr/>
          </p:nvCxnSpPr>
          <p:spPr>
            <a:xfrm flipV="1">
              <a:off x="1118160" y="3717000"/>
              <a:ext cx="686160" cy="67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82" name=""/>
            <p:cNvCxnSpPr>
              <a:stCxn id="771" idx="6"/>
              <a:endCxn id="776" idx="0"/>
            </p:cNvCxnSpPr>
            <p:nvPr/>
          </p:nvCxnSpPr>
          <p:spPr>
            <a:xfrm>
              <a:off x="2263320" y="3717360"/>
              <a:ext cx="742680" cy="619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83" name=""/>
            <p:cNvSpPr/>
            <p:nvPr/>
          </p:nvSpPr>
          <p:spPr>
            <a:xfrm flipH="1">
              <a:off x="1270800" y="394344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1382040" y="514692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689920" y="386820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649880" y="42598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725120" y="47707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357280" y="42444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12320" y="4344480"/>
              <a:ext cx="384480" cy="388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"/>
            <p:cNvCxnSpPr>
              <a:stCxn id="776" idx="5"/>
              <a:endCxn id="776" idx="7"/>
            </p:cNvCxnSpPr>
            <p:nvPr/>
          </p:nvCxnSpPr>
          <p:spPr>
            <a:xfrm flipH="1" flipV="1" rot="5400000">
              <a:off x="3006000" y="4560840"/>
              <a:ext cx="320040" cy="2160"/>
            </a:xfrm>
            <a:prstGeom prst="curvedConnector5">
              <a:avLst>
                <a:gd name="adj1" fmla="val -36711"/>
                <a:gd name="adj2" fmla="val 10380000"/>
                <a:gd name="adj3" fmla="val -36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 flipH="1">
              <a:off x="3558600" y="4319280"/>
              <a:ext cx="597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D•S3 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)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6 state up/down count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sequen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oes t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holds, leaves aft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oes t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holds, leaves aft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 sequence is simi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imize communication between parti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 world: Two machines handof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 I/O, sta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: Minimize handoffs and common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number of state bits that cross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 common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joint inputs used in different regions of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ctive in only one region of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morphic portions of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states, if necessary, to make them 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ons of diagram with a single entry and single exit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: What you should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logic building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es (R-S and 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s (master/slave D, edge-triggered D &amp;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 and flip-flop timing (setup/hold time, prop del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 clo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inputs and meta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7960" y="445680"/>
            <a:ext cx="81630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: What you should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pple cou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diagrams and state-transition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 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Draw a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Draw a state-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Encode the next-state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starting cou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tate mach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 (synchronous FS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ore versus Mealy versus registered Me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 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 the problem (state diagram &amp; state-transition 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machine’s states (minimize the state diagra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de the machine’s states (state assignm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he next-state logic (minimize the combinational logi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 the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 design guide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te datapath and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pelining and retiming ba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597960" y="434520"/>
            <a:ext cx="81630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: What you should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32400" y="2293920"/>
            <a:ext cx="750960" cy="752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5040" y="2293920"/>
            <a:ext cx="225360" cy="752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10400" y="2670120"/>
            <a:ext cx="45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3360" y="2670120"/>
            <a:ext cx="30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8920" y="4272120"/>
            <a:ext cx="376200" cy="752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15000" y="4272120"/>
            <a:ext cx="225360" cy="752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0360" y="464832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5120" y="4648320"/>
            <a:ext cx="29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0600" y="4272120"/>
            <a:ext cx="376200" cy="752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16680" y="4272120"/>
            <a:ext cx="225720" cy="752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2400" y="4648320"/>
            <a:ext cx="45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16800" y="4648320"/>
            <a:ext cx="29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7840" y="4648320"/>
            <a:ext cx="45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81680" y="2670120"/>
            <a:ext cx="45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89720" y="3159000"/>
            <a:ext cx="653760" cy="132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42080" y="3130560"/>
            <a:ext cx="754200" cy="1374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448632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divide combinationa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registers betwee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 latency for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Increased throughpu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logic de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e clock spe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creased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s cycles to fill the pi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circuit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taneous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401880" y="194940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     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07160" y="395604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  Reg   Logic   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645160" y="1146240"/>
            <a:ext cx="297504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118200" y="779400"/>
            <a:ext cx="1836360" cy="1363680"/>
            <a:chOff x="6118200" y="779400"/>
            <a:chExt cx="1836360" cy="1363680"/>
          </a:xfrm>
        </p:grpSpPr>
        <p:sp>
          <p:nvSpPr>
            <p:cNvPr id="67" name=""/>
            <p:cNvSpPr/>
            <p:nvPr/>
          </p:nvSpPr>
          <p:spPr>
            <a:xfrm>
              <a:off x="6888240" y="779400"/>
              <a:ext cx="296640" cy="592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99240" y="149112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84880" y="1075680"/>
              <a:ext cx="23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8240" y="1549800"/>
              <a:ext cx="296640" cy="592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065720" y="13719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21760" y="779400"/>
              <a:ext cx="177480" cy="13636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84880" y="1846440"/>
              <a:ext cx="23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18200" y="1491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51360" y="1075680"/>
              <a:ext cx="23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3880" y="779400"/>
              <a:ext cx="177480" cy="13636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51360" y="1846440"/>
              <a:ext cx="23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385040" y="4768920"/>
            <a:ext cx="295200" cy="592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94600" y="5478480"/>
            <a:ext cx="35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80240" y="5064120"/>
            <a:ext cx="23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19960" y="5537160"/>
            <a:ext cx="295200" cy="592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16760" y="4768920"/>
            <a:ext cx="177840" cy="136044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8341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51360" y="5478480"/>
            <a:ext cx="35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83440" y="5064120"/>
            <a:ext cx="731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05600" y="4768920"/>
            <a:ext cx="177840" cy="136044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83440" y="5834160"/>
            <a:ext cx="23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23240" y="4768920"/>
            <a:ext cx="177840" cy="63972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948280" y="2744640"/>
            <a:ext cx="2249280" cy="1363680"/>
            <a:chOff x="5948280" y="2744640"/>
            <a:chExt cx="2249280" cy="1363680"/>
          </a:xfrm>
        </p:grpSpPr>
        <p:sp>
          <p:nvSpPr>
            <p:cNvPr id="90" name=""/>
            <p:cNvSpPr/>
            <p:nvPr/>
          </p:nvSpPr>
          <p:spPr>
            <a:xfrm>
              <a:off x="7132320" y="2744640"/>
              <a:ext cx="296280" cy="592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2600" y="3456720"/>
              <a:ext cx="35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28600" y="3041280"/>
              <a:ext cx="23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32320" y="3515400"/>
              <a:ext cx="296280" cy="592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310160" y="333720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5120" y="2744640"/>
              <a:ext cx="177480" cy="13636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8600" y="3811680"/>
              <a:ext cx="23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81080" y="3456720"/>
              <a:ext cx="23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96160" y="3041280"/>
              <a:ext cx="23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18680" y="2744640"/>
              <a:ext cx="177480" cy="13636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96160" y="3811680"/>
              <a:ext cx="23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8280" y="345672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03600" y="2744640"/>
              <a:ext cx="177480" cy="1363680"/>
            </a:xfrm>
            <a:prstGeom prst="rect">
              <a:avLst/>
            </a:prstGeom>
            <a:solidFill>
              <a:srgbClr val="618ff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50436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hroughput more than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delays &gt; setup/hold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yclic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natural breaks in the combinationa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ng registers makes s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284880" y="47772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   Logic  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47000" y="225756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422748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1000" y="5816520"/>
            <a:ext cx="18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96040" y="5064120"/>
            <a:ext cx="18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3240" y="5510160"/>
            <a:ext cx="177840" cy="63972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ing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90800" y="1332000"/>
            <a:ext cx="53769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18000" y="1387440"/>
            <a:ext cx="4940280" cy="5068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pelining and clock sk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4800" y="1438200"/>
            <a:ext cx="31240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fast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sa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i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ing adds 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increase the clock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ming moves registers a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chedules computations to optimize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 critical 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mize logic across register bound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register 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altering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iming in a nutsh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4316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position of F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uit implementation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ming modifies state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rves FSM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323960" y="1664640"/>
            <a:ext cx="4497840" cy="4060440"/>
            <a:chOff x="4323960" y="1664640"/>
            <a:chExt cx="4497840" cy="4060440"/>
          </a:xfrm>
        </p:grpSpPr>
        <p:sp>
          <p:nvSpPr>
            <p:cNvPr id="121" name=""/>
            <p:cNvSpPr/>
            <p:nvPr/>
          </p:nvSpPr>
          <p:spPr>
            <a:xfrm flipH="1">
              <a:off x="4323960" y="5006880"/>
              <a:ext cx="3430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323960" y="4435560"/>
              <a:ext cx="34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323960" y="5576760"/>
              <a:ext cx="3430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352840" y="4321080"/>
              <a:ext cx="455040" cy="462960"/>
              <a:chOff x="5352840" y="4321080"/>
              <a:chExt cx="455040" cy="462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352840" y="4327920"/>
                <a:ext cx="45504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2" y="0"/>
                    </a:moveTo>
                    <a:arcTo wR="10800" hR="10800" stAng="-5418377" swAng="53997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2" y="0"/>
                    </a:moveTo>
                    <a:arcTo wR="10800" hR="10800" stAng="-5418377" swAng="539972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840" y="4328640"/>
                <a:ext cx="455040" cy="45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41"/>
                    </a:moveTo>
                    <a:arcTo wR="10800" hR="10800" stAng="-18658" swAng="5437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41"/>
                    </a:moveTo>
                    <a:arcTo wR="10800" hR="10800" stAng="-18658" swAng="543743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460840" y="4321080"/>
                <a:ext cx="1137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60840" y="4321080"/>
                <a:ext cx="252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60840" y="4777920"/>
                <a:ext cx="1137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127480" y="5238000"/>
              <a:ext cx="680400" cy="458640"/>
              <a:chOff x="5127480" y="5238000"/>
              <a:chExt cx="680400" cy="458640"/>
            </a:xfrm>
          </p:grpSpPr>
          <p:sp>
            <p:nvSpPr>
              <p:cNvPr id="131" name=""/>
              <p:cNvSpPr/>
              <p:nvPr/>
            </p:nvSpPr>
            <p:spPr>
              <a:xfrm>
                <a:off x="5127480" y="5239440"/>
                <a:ext cx="680400" cy="4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13"/>
                    </a:moveTo>
                    <a:arcTo wR="10800" hR="10800" stAng="-27848" swAng="54467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13"/>
                    </a:moveTo>
                    <a:arcTo wR="10800" hR="10800" stAng="-27848" swAng="5446718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7480" y="5240160"/>
                <a:ext cx="68040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2" y="0"/>
                    </a:moveTo>
                    <a:arcTo wR="10800" hR="10800" stAng="-5418371" swAng="539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2" y="0"/>
                    </a:moveTo>
                    <a:arcTo wR="10800" hR="10800" stAng="-5418371" swAng="539052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52840" y="5240160"/>
                <a:ext cx="22824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4" y="1"/>
                    </a:moveTo>
                    <a:arcTo wR="10800" hR="10800" stAng="-5437002" swAng="54185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4" y="1"/>
                    </a:moveTo>
                    <a:arcTo wR="10800" hR="10800" stAng="-5437002" swAng="541850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52840" y="5238000"/>
                <a:ext cx="228240" cy="4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42"/>
                    </a:moveTo>
                    <a:arcTo wR="10800" hR="10800" stAng="-18498" swAng="54561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42"/>
                    </a:moveTo>
                    <a:arcTo wR="10800" hR="10800" stAng="-18498" swAng="5456169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4894200" y="4432320"/>
              <a:ext cx="5666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235480" y="4664160"/>
              <a:ext cx="225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35480" y="4664160"/>
              <a:ext cx="1800" cy="68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5480" y="5348160"/>
              <a:ext cx="3398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94200" y="5576760"/>
              <a:ext cx="6811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03920" y="4549680"/>
              <a:ext cx="341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03920" y="5460840"/>
              <a:ext cx="3412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94200" y="5006880"/>
              <a:ext cx="341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4321080"/>
              <a:ext cx="2268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67400" y="4892760"/>
              <a:ext cx="2268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67400" y="5460840"/>
              <a:ext cx="2268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2200" y="54817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31480" y="4336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32200" y="4910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030520" y="4344840"/>
              <a:ext cx="455040" cy="464760"/>
              <a:chOff x="8030520" y="4344840"/>
              <a:chExt cx="455040" cy="464760"/>
            </a:xfrm>
          </p:grpSpPr>
          <p:sp>
            <p:nvSpPr>
              <p:cNvPr id="150" name=""/>
              <p:cNvSpPr/>
              <p:nvPr/>
            </p:nvSpPr>
            <p:spPr>
              <a:xfrm>
                <a:off x="8030520" y="4352040"/>
                <a:ext cx="455040" cy="45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2" y="0"/>
                    </a:moveTo>
                    <a:arcTo wR="10800" hR="10800" stAng="-5418377" swAng="53997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2" y="0"/>
                    </a:moveTo>
                    <a:arcTo wR="10800" hR="10800" stAng="-5418377" swAng="5399720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0520" y="4352400"/>
                <a:ext cx="455040" cy="45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41"/>
                    </a:moveTo>
                    <a:arcTo wR="10800" hR="10800" stAng="-18658" swAng="5437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41"/>
                    </a:moveTo>
                    <a:arcTo wR="10800" hR="10800" stAng="-18658" swAng="543743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8139240" y="4344840"/>
                <a:ext cx="11304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39240" y="4344840"/>
                <a:ext cx="1800" cy="45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39240" y="4803480"/>
                <a:ext cx="11304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805520" y="5265000"/>
              <a:ext cx="680400" cy="460080"/>
              <a:chOff x="7805520" y="5265000"/>
              <a:chExt cx="680400" cy="460080"/>
            </a:xfrm>
          </p:grpSpPr>
          <p:sp>
            <p:nvSpPr>
              <p:cNvPr id="156" name=""/>
              <p:cNvSpPr/>
              <p:nvPr/>
            </p:nvSpPr>
            <p:spPr>
              <a:xfrm>
                <a:off x="7805520" y="5266440"/>
                <a:ext cx="680400" cy="4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12"/>
                    </a:moveTo>
                    <a:arcTo wR="10800" hR="10800" stAng="-27941" swAng="54467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12"/>
                    </a:moveTo>
                    <a:arcTo wR="10800" hR="10800" stAng="-27941" swAng="5446749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05520" y="5267160"/>
                <a:ext cx="680400" cy="45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2" y="0"/>
                    </a:moveTo>
                    <a:arcTo wR="10800" hR="10800" stAng="-5418310" swAng="5390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2" y="0"/>
                    </a:moveTo>
                    <a:arcTo wR="10800" hR="10800" stAng="-5418310" swAng="5390369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30880" y="5267160"/>
                <a:ext cx="228240" cy="45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4" y="1"/>
                    </a:moveTo>
                    <a:arcTo wR="10800" hR="10800" stAng="-5437002" swAng="54185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4" y="1"/>
                    </a:moveTo>
                    <a:arcTo wR="10800" hR="10800" stAng="-5437002" swAng="541850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30880" y="5265000"/>
                <a:ext cx="228240" cy="4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42"/>
                    </a:moveTo>
                    <a:arcTo wR="10800" hR="10800" stAng="-18498" swAng="54561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42"/>
                    </a:moveTo>
                    <a:arcTo wR="10800" hR="10800" stAng="-18498" swAng="5456169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7570440" y="4459320"/>
              <a:ext cx="56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913160" y="4687920"/>
              <a:ext cx="225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13520" y="5261040"/>
              <a:ext cx="18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13520" y="5375160"/>
              <a:ext cx="3384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570800" y="5605560"/>
              <a:ext cx="6811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0520" y="4573440"/>
              <a:ext cx="3412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80520" y="5489640"/>
              <a:ext cx="34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570800" y="5261040"/>
              <a:ext cx="34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43640" y="5146560"/>
              <a:ext cx="227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43640" y="4687920"/>
              <a:ext cx="227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43640" y="4344840"/>
              <a:ext cx="227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83400" y="4803840"/>
              <a:ext cx="341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924680" y="4687920"/>
              <a:ext cx="180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54800" y="548964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19240" y="4361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19240" y="4703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19960" y="51624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19960" y="550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241760" y="480708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42120" y="4807080"/>
              <a:ext cx="180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42120" y="526104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011720" y="5032440"/>
              <a:ext cx="230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012080" y="4459320"/>
              <a:ext cx="3427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012080" y="5605560"/>
              <a:ext cx="342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96680" y="1666800"/>
              <a:ext cx="451440" cy="4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2" y="0"/>
                  </a:moveTo>
                  <a:arcTo wR="10800" hR="10800" stAng="-5418469" swAng="5399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2" y="0"/>
                  </a:moveTo>
                  <a:arcTo wR="10800" hR="10800" stAng="-5418469" swAng="5399870"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6680" y="1664640"/>
              <a:ext cx="451440" cy="46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2"/>
                  </a:moveTo>
                  <a:arcTo wR="10800" hR="10800" stAng="-18599" swAng="5437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2"/>
                  </a:moveTo>
                  <a:arcTo wR="10800" hR="10800" stAng="-18599" swAng="5437469"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303600" y="1671480"/>
              <a:ext cx="112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03960" y="1671480"/>
              <a:ext cx="1440" cy="4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3960" y="2130480"/>
              <a:ext cx="11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969880" y="2593800"/>
              <a:ext cx="677880" cy="455400"/>
              <a:chOff x="5969880" y="2593800"/>
              <a:chExt cx="677880" cy="45540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2595600"/>
                <a:ext cx="677520" cy="45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12"/>
                    </a:moveTo>
                    <a:arcTo wR="10800" hR="10800" stAng="-28130" swAng="5446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12"/>
                    </a:moveTo>
                    <a:arcTo wR="10800" hR="10800" stAng="-28130" swAng="5446896"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69880" y="2593800"/>
                <a:ext cx="677880" cy="45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71" swAng="53900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71" swAng="5390041"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94520" y="2593800"/>
                <a:ext cx="227520" cy="45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1"/>
                    </a:moveTo>
                    <a:arcTo wR="10800" hR="10800" stAng="-5436753" swAng="54181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1"/>
                    </a:moveTo>
                    <a:arcTo wR="10800" hR="10800" stAng="-5436753" swAng="5418162"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94520" y="2594160"/>
                <a:ext cx="227520" cy="45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42"/>
                    </a:moveTo>
                    <a:arcTo wR="10800" hR="10800" stAng="-18591" swAng="54561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42"/>
                    </a:moveTo>
                    <a:arcTo wR="10800" hR="10800" stAng="-18591" swAng="5456143"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5733720" y="1784520"/>
              <a:ext cx="5698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073560" y="2014560"/>
              <a:ext cx="230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73920" y="2014560"/>
              <a:ext cx="28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73920" y="2700360"/>
              <a:ext cx="34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734080" y="2928960"/>
              <a:ext cx="68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2000" y="1900080"/>
              <a:ext cx="343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42000" y="2816280"/>
              <a:ext cx="34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734080" y="2357280"/>
              <a:ext cx="3398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85080" y="1784520"/>
              <a:ext cx="228600" cy="23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5080" y="270036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63560" y="1801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4280" y="2716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23040" y="2814480"/>
              <a:ext cx="343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3040" y="1898640"/>
              <a:ext cx="3430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15160" y="3286080"/>
              <a:ext cx="75240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382720" y="3278160"/>
              <a:ext cx="75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0880" y="3341520"/>
              <a:ext cx="29988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89200" y="3754440"/>
            <a:ext cx="225360" cy="2998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9200" y="4430880"/>
            <a:ext cx="225360" cy="3013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16120" y="4054320"/>
            <a:ext cx="300240" cy="30168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213" idx="1"/>
          </p:cNvCxnSpPr>
          <p:nvPr/>
        </p:nvCxnSpPr>
        <p:spPr>
          <a:xfrm>
            <a:off x="2023560" y="3904920"/>
            <a:ext cx="637560" cy="184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2" idx="3"/>
            <a:endCxn id="213" idx="3"/>
          </p:cNvCxnSpPr>
          <p:nvPr/>
        </p:nvCxnSpPr>
        <p:spPr>
          <a:xfrm flipV="1">
            <a:off x="2023560" y="4320360"/>
            <a:ext cx="63756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3" idx="7"/>
          </p:cNvCxnSpPr>
          <p:nvPr/>
        </p:nvCxnSpPr>
        <p:spPr>
          <a:xfrm flipV="1">
            <a:off x="2871360" y="3892320"/>
            <a:ext cx="654840" cy="197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3" idx="5"/>
          </p:cNvCxnSpPr>
          <p:nvPr/>
        </p:nvCxnSpPr>
        <p:spPr>
          <a:xfrm>
            <a:off x="2871360" y="4320720"/>
            <a:ext cx="654840" cy="27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373800" y="4054320"/>
            <a:ext cx="299880" cy="30168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75600" y="3754440"/>
            <a:ext cx="225360" cy="2998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75600" y="4430880"/>
            <a:ext cx="225360" cy="3013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endCxn id="218" idx="1"/>
          </p:cNvCxnSpPr>
          <p:nvPr/>
        </p:nvCxnSpPr>
        <p:spPr>
          <a:xfrm>
            <a:off x="5763960" y="3892680"/>
            <a:ext cx="654840" cy="197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endCxn id="218" idx="3"/>
          </p:cNvCxnSpPr>
          <p:nvPr/>
        </p:nvCxnSpPr>
        <p:spPr>
          <a:xfrm flipV="1">
            <a:off x="5763960" y="4320360"/>
            <a:ext cx="654840" cy="27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8" idx="7"/>
            <a:endCxn id="219" idx="1"/>
          </p:cNvCxnSpPr>
          <p:nvPr/>
        </p:nvCxnSpPr>
        <p:spPr>
          <a:xfrm flipV="1">
            <a:off x="6629400" y="3904560"/>
            <a:ext cx="637200" cy="184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8" idx="5"/>
            <a:endCxn id="220" idx="1"/>
          </p:cNvCxnSpPr>
          <p:nvPr/>
        </p:nvCxnSpPr>
        <p:spPr>
          <a:xfrm>
            <a:off x="6629400" y="4320720"/>
            <a:ext cx="6372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4194000" y="4054320"/>
            <a:ext cx="978120" cy="376560"/>
          </a:xfrm>
          <a:prstGeom prst="leftRightArrow">
            <a:avLst>
              <a:gd name="adj1" fmla="val 50000"/>
              <a:gd name="adj2" fmla="val 51709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iming ground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657072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one register from each input and add one to each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one register from each output and add one to each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268880" y="5243400"/>
            <a:ext cx="299880" cy="30168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13160" y="5700600"/>
            <a:ext cx="225360" cy="3016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43920" y="5294160"/>
            <a:ext cx="19324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ts val="13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inational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92520" y="5738760"/>
            <a:ext cx="8244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ts val="13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19T20:09:20Z</cp:lastPrinted>
  <dcterms:modified xsi:type="dcterms:W3CDTF">2004-12-01T17:06:11Z</dcterms:modified>
  <cp:revision>827</cp:revision>
  <dc:subject>CSE370</dc:subject>
  <dc:title>Lecture2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