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35160" y="727200"/>
            <a:ext cx="4844880" cy="363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35160" y="727200"/>
            <a:ext cx="4844880" cy="3633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 rule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Interrup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hen you don’t underst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e are doing some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240" y="139068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480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240" y="3916800"/>
            <a:ext cx="255456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4800" y="475920"/>
            <a:ext cx="793584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1680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390680"/>
            <a:ext cx="38718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4800" y="3916800"/>
            <a:ext cx="7934400" cy="23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278000"/>
            <a:ext cx="77900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32760" y="6308640"/>
            <a:ext cx="352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BAC8-A6E2-40AC-BC55-45E0136ACE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291360"/>
            <a:ext cx="3387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E370, Lectur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lean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nu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 con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s-compl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/D and D/A con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’s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olean algeb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xiom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ful laws and theor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plifying Boolean expre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b-- What is a circu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466560" y="5722920"/>
            <a:ext cx="79394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rule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Interru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n you don’t underst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e are doing some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ful laws and theorems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64920" y="1476000"/>
            <a:ext cx="8047080" cy="458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1250"/>
              </a:spcBef>
              <a:buNone/>
              <a:tabLst>
                <a:tab algn="l" pos="0"/>
                <a:tab algn="l" pos="1827360"/>
                <a:tab algn="l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rption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X+X•Y=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al: X•(X+Y)=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250"/>
              </a:spcBef>
              <a:buNone/>
              <a:tabLst>
                <a:tab algn="l" pos="0"/>
                <a:tab algn="l" pos="1827360"/>
                <a:tab algn="l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rption (#2):     (X+Y')•Y=X•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al: (X•Y')+Y=X+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250"/>
              </a:spcBef>
              <a:buNone/>
              <a:tabLst>
                <a:tab algn="l" pos="0"/>
                <a:tab algn="l" pos="1827360"/>
                <a:tab algn="l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 Morgan's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X+Y+...)'=X'•Y'•..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al: (X•Y•...)'=X'+Y'+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250"/>
              </a:spcBef>
              <a:buNone/>
              <a:tabLst>
                <a:tab algn="l" pos="0"/>
                <a:tab algn="l" pos="1827360"/>
                <a:tab algn="l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ality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X+Y+...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X•Y•..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al: (X•Y•...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X+Y+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250"/>
              </a:spcBef>
              <a:buNone/>
              <a:tabLst>
                <a:tab algn="l" pos="0"/>
                <a:tab algn="l" pos="1827360"/>
                <a:tab algn="l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250"/>
              </a:spcBef>
              <a:buNone/>
              <a:tabLst>
                <a:tab algn="l" pos="0"/>
                <a:tab algn="l" pos="1827360"/>
                <a:tab algn="l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ying &amp; factoring:    (X+Y)•(X'+Z)=X•Z+X'•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5000"/>
              </a:lnSpc>
              <a:buNone/>
              <a:tabLst>
                <a:tab algn="l" pos="0"/>
                <a:tab algn="l" pos="1827360"/>
                <a:tab algn="l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al: X•Y+X'•Z=(X+Z)•(X'+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5000"/>
              </a:lnSpc>
              <a:buNone/>
              <a:tabLst>
                <a:tab algn="l" pos="0"/>
                <a:tab algn="l" pos="1827360"/>
                <a:tab algn="l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250"/>
              </a:spcBef>
              <a:buNone/>
              <a:tabLst>
                <a:tab algn="l" pos="0"/>
                <a:tab algn="l" pos="1827360"/>
                <a:tab algn="l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ensus:    (X•Y)+(Y•Z)+(X'•Z)= X•Y+X'•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5000"/>
              </a:lnSpc>
              <a:buNone/>
              <a:tabLst>
                <a:tab algn="l" pos="0"/>
                <a:tab algn="l" pos="1827360"/>
                <a:tab algn="l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al: (X+Y)•(Y+Z)•(X'+Z)=(X+Y)•(X'+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theor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651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1: Prove the uniting theorem-- X•Y+X•Y'=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651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ve                X•Y+X•Y' = X•(Y+Y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mentar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= X•(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= 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3651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651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2: Prove the absorption theorem-- X+X•Y=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651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t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X+X•Y = (X•1)+(X•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ve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= X•(1+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= X•(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t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= 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theor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4800" y="1508040"/>
            <a:ext cx="7934400" cy="471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25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3: Prove the consensus theorem--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Y)+(YZ)+(X'Z)= XY+X'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spcBef>
                <a:spcPts val="1500"/>
              </a:spcBef>
              <a:buNone/>
              <a:tabLst>
                <a:tab algn="l" pos="0"/>
                <a:tab algn="l" pos="25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mentarity    XY+YZ+X'Z = XY+(X+X')YZ + X'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0"/>
                <a:tab algn="l" pos="25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v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= XYZ+XY+X'YZ+X'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Monotype Sorts" charset="2"/>
              <a:buChar char=""/>
              <a:tabLst>
                <a:tab algn="l" pos="25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Use absorption {AB+A=A} with A=XY and B=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0"/>
                <a:tab algn="l" pos="25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XY+X'YZ+X'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0"/>
                <a:tab algn="l" pos="25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rrange term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XY+X'ZY+X'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Monotype Sorts" charset="2"/>
              <a:buChar char=""/>
              <a:tabLst>
                <a:tab algn="l" pos="25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Use absorption {AB+A=A} with A=X'Z and B=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0"/>
                <a:tab algn="l" pos="25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Y+YZ+X'Z = XY+X'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0"/>
                <a:tab algn="l" pos="25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organ’s Theor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4440" y="1425600"/>
            <a:ext cx="8015400" cy="15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de Morgan’s Theorem to find complem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F=(A+B)•(A’+C), so F’=(A’•B’)+(A•C’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352600" y="2701800"/>
            <a:ext cx="1681200" cy="3052080"/>
            <a:chOff x="2352600" y="2701800"/>
            <a:chExt cx="1681200" cy="3052080"/>
          </a:xfrm>
        </p:grpSpPr>
        <p:sp>
          <p:nvSpPr>
            <p:cNvPr id="120" name=""/>
            <p:cNvSpPr/>
            <p:nvPr/>
          </p:nvSpPr>
          <p:spPr>
            <a:xfrm>
              <a:off x="2416320" y="2701800"/>
              <a:ext cx="1517040" cy="30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   B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    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0    0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0   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0    0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   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0    1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0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0    1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    0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0   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    0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    1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0   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    1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52600" y="3066840"/>
              <a:ext cx="168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22680" y="2736720"/>
              <a:ext cx="0" cy="301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586480" y="2701800"/>
            <a:ext cx="1681200" cy="3052080"/>
            <a:chOff x="5586480" y="2701800"/>
            <a:chExt cx="1681200" cy="3052080"/>
          </a:xfrm>
        </p:grpSpPr>
        <p:sp>
          <p:nvSpPr>
            <p:cNvPr id="124" name=""/>
            <p:cNvSpPr/>
            <p:nvPr/>
          </p:nvSpPr>
          <p:spPr>
            <a:xfrm>
              <a:off x="5653440" y="2701800"/>
              <a:ext cx="1572120" cy="30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    B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    F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0    0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0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0    0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0    1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0   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0    1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   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    0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0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    0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   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    1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0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    1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   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86480" y="3066840"/>
              <a:ext cx="168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6200" y="2736720"/>
              <a:ext cx="0" cy="301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i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64920" y="1380960"/>
            <a:ext cx="802476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axioms to simplify logical express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?   To use less hard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125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two-level logic express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A'BC + AB'C' + AB'C + ABC' + AB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AB'C + AB'C' + A'BC + ABC' + AB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rrang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AB'(C + C') + A'BC + AB(C' + C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AB' + A'BC + AB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AB' + AB + A'BC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rran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A(B' + B) + A'BC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A + A'B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3800" indent="-223920">
              <a:lnSpc>
                <a:spcPct val="105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Use absorption #2D {(X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•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')+Y=X+Y} with X=BC and Y=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 = A + BC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198520" y="5362560"/>
            <a:ext cx="1611360" cy="4460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4800" y="1390320"/>
            <a:ext cx="3819600" cy="15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-bit binary ad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s: A, B, Carry-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s: Sum, Carry-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81200" y="2898720"/>
            <a:ext cx="2676240" cy="2803680"/>
            <a:chOff x="781200" y="2898720"/>
            <a:chExt cx="2676240" cy="2803680"/>
          </a:xfrm>
        </p:grpSpPr>
        <p:sp>
          <p:nvSpPr>
            <p:cNvPr id="132" name=""/>
            <p:cNvSpPr/>
            <p:nvPr/>
          </p:nvSpPr>
          <p:spPr>
            <a:xfrm>
              <a:off x="917640" y="2898720"/>
              <a:ext cx="2539800" cy="21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S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22440" y="3202200"/>
              <a:ext cx="14940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73520" y="3202200"/>
              <a:ext cx="14904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5040"/>
                  <a:tab algn="l" pos="27068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81200" y="3230640"/>
              <a:ext cx="25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97160" y="2928960"/>
              <a:ext cx="0" cy="277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989520" y="4402080"/>
            <a:ext cx="48816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t = A'BCin + AB'Cin + ABCin' + AB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07160" y="3911760"/>
            <a:ext cx="4631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= A'B'Cin + A'BCin' + AB'Cin' + AB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 full ad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681440" y="1530360"/>
            <a:ext cx="3791880" cy="992520"/>
            <a:chOff x="4681440" y="1530360"/>
            <a:chExt cx="3791880" cy="992520"/>
          </a:xfrm>
        </p:grpSpPr>
        <p:grpSp>
          <p:nvGrpSpPr>
            <p:cNvPr id="141" name=""/>
            <p:cNvGrpSpPr/>
            <p:nvPr/>
          </p:nvGrpSpPr>
          <p:grpSpPr>
            <a:xfrm>
              <a:off x="4681440" y="1530360"/>
              <a:ext cx="3791880" cy="992520"/>
              <a:chOff x="4681440" y="1530360"/>
              <a:chExt cx="3791880" cy="992520"/>
            </a:xfrm>
          </p:grpSpPr>
          <p:sp>
            <p:nvSpPr>
              <p:cNvPr id="142" name=""/>
              <p:cNvSpPr/>
              <p:nvPr/>
            </p:nvSpPr>
            <p:spPr>
              <a:xfrm>
                <a:off x="5805360" y="1579680"/>
                <a:ext cx="1354320" cy="903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5320" rIns="85320" tIns="42480" bIns="424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03800" y="1728720"/>
                <a:ext cx="601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320" rIns="8532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203800" y="2030400"/>
                <a:ext cx="601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320" rIns="8532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203800" y="2332080"/>
                <a:ext cx="601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320" rIns="8532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159680" y="1879560"/>
                <a:ext cx="601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320" rIns="8532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159680" y="2181240"/>
                <a:ext cx="601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320" rIns="8532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885920" y="1530360"/>
                <a:ext cx="33444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5320" rIns="85320" tIns="42840" bIns="4284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0180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873320" y="1830600"/>
                <a:ext cx="33732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5320" rIns="85320" tIns="42840" bIns="4284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0180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1440" y="2131920"/>
                <a:ext cx="55548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5320" rIns="85320" tIns="42840" bIns="4284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0180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38200" y="1981080"/>
                <a:ext cx="73512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5320" rIns="85320" tIns="42840" bIns="428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0180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740720" y="1649520"/>
                <a:ext cx="70632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5320" rIns="85320" tIns="42840" bIns="428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0180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Su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6042600" y="1827360"/>
              <a:ext cx="8038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d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ifying the carry-out fun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7520" y="1450800"/>
            <a:ext cx="7813800" cy="438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1146240"/>
                <a:tab algn="l" pos="1827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A'BCin + AB'Cin + ABCin' + ABC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A'BCin + AB'Cin + ABCin' + ABCin + ABC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A'BCin + ABCin + AB'Cin + ABCin' + ABC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(A'+A)BCin + AB'Cin + ABCin' + ABC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(1)BCin + AB'Cin + ABCin' + ABC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BCin + AB'Cin + ABCin' + ABCin + ABC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BCin + AB'Cin + ABCin + ABCin' + ABC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BCin + A(B'+B)Cin + ABCin' + ABC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BCin + A(1)Cin + ABCin' + ABC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BCin + ACin + AB(Cin'+Cin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BCin + ACin + AB(1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BCin + ACin + AB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1146240"/>
                <a:tab algn="l" pos="1827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752120" y="3652920"/>
            <a:ext cx="507960" cy="482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777680" y="3068640"/>
            <a:ext cx="50796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360" y="3390840"/>
            <a:ext cx="1409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oc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99440" y="2508120"/>
            <a:ext cx="452160" cy="167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7600" y="3710160"/>
            <a:ext cx="566640" cy="49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03960" y="4179960"/>
            <a:ext cx="1409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mpo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4800" y="1679040"/>
            <a:ext cx="793440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ie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les are sometimes called liter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496960" y="1704960"/>
          <a:ext cx="3210120" cy="4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6960" y="1704960"/>
                    <a:ext cx="321012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a circui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ircu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879560" y="33908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7840" y="5494320"/>
            <a:ext cx="143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6600" y="3614760"/>
            <a:ext cx="761760" cy="919080"/>
            <a:chOff x="66600" y="3614760"/>
            <a:chExt cx="761760" cy="919080"/>
          </a:xfrm>
        </p:grpSpPr>
        <p:grpSp>
          <p:nvGrpSpPr>
            <p:cNvPr id="172" name=""/>
            <p:cNvGrpSpPr/>
            <p:nvPr/>
          </p:nvGrpSpPr>
          <p:grpSpPr>
            <a:xfrm>
              <a:off x="66600" y="3995640"/>
              <a:ext cx="761760" cy="152280"/>
              <a:chOff x="66600" y="3995640"/>
              <a:chExt cx="761760" cy="152280"/>
            </a:xfrm>
          </p:grpSpPr>
          <p:sp>
            <p:nvSpPr>
              <p:cNvPr id="173" name=""/>
              <p:cNvSpPr/>
              <p:nvPr/>
            </p:nvSpPr>
            <p:spPr>
              <a:xfrm>
                <a:off x="66600" y="399564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4840" y="41479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flipV="1">
              <a:off x="453960" y="41529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53960" y="36147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453960" y="2400480"/>
            <a:ext cx="0" cy="12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688760" y="2787480"/>
            <a:ext cx="381240" cy="571680"/>
            <a:chOff x="1688760" y="2787480"/>
            <a:chExt cx="381240" cy="571680"/>
          </a:xfrm>
        </p:grpSpPr>
        <p:sp>
          <p:nvSpPr>
            <p:cNvPr id="179" name=""/>
            <p:cNvSpPr/>
            <p:nvPr/>
          </p:nvSpPr>
          <p:spPr>
            <a:xfrm flipH="1" flipV="1">
              <a:off x="1688760" y="3287880"/>
              <a:ext cx="190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689120" y="3216600"/>
              <a:ext cx="190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1879200" y="3073680"/>
              <a:ext cx="190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1879560" y="3144960"/>
              <a:ext cx="190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1688760" y="3002040"/>
              <a:ext cx="190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1689120" y="2930400"/>
              <a:ext cx="190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1879200" y="2787480"/>
              <a:ext cx="190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1879560" y="2859120"/>
              <a:ext cx="190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 flipV="1">
            <a:off x="1879560" y="240012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0440" y="2413080"/>
            <a:ext cx="14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3960" y="4533840"/>
            <a:ext cx="0" cy="9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554120" y="3924000"/>
            <a:ext cx="722160" cy="228600"/>
            <a:chOff x="1554120" y="3924000"/>
            <a:chExt cx="722160" cy="228600"/>
          </a:xfrm>
        </p:grpSpPr>
        <p:sp>
          <p:nvSpPr>
            <p:cNvPr id="191" name=""/>
            <p:cNvSpPr/>
            <p:nvPr/>
          </p:nvSpPr>
          <p:spPr>
            <a:xfrm flipV="1">
              <a:off x="1620720" y="3923640"/>
              <a:ext cx="515880" cy="206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54120" y="4152600"/>
              <a:ext cx="72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878120" y="4152960"/>
            <a:ext cx="1440" cy="13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920" y="3557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56040" y="288756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58760" y="3924360"/>
            <a:ext cx="44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8720" y="22017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108160" y="3476520"/>
            <a:ext cx="168480" cy="3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260440" y="3611520"/>
            <a:ext cx="168480" cy="3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64240" y="170172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69160" y="2876400"/>
            <a:ext cx="378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403360" y="1495440"/>
            <a:ext cx="6740640" cy="33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24000" indent="-324000">
              <a:spcBef>
                <a:spcPts val="1500"/>
              </a:spcBef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 the flow of char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6200" indent="-315360">
              <a:lnSpc>
                <a:spcPct val="105000"/>
              </a:lnSpc>
              <a:spcAft>
                <a:spcPts val="11"/>
              </a:spcAft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 positively charged particl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4120" indent="-315360">
              <a:lnSpc>
                <a:spcPct val="105000"/>
              </a:lnSpc>
              <a:spcAft>
                <a:spcPts val="113"/>
              </a:spcAft>
              <a:buClr>
                <a:srgbClr val="000000"/>
              </a:buClr>
              <a:buFont typeface="Monotype Sorts" charset="2"/>
              <a:buChar char="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l physical current is negatively charged electr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200" indent="-315360">
              <a:lnSpc>
                <a:spcPct val="105000"/>
              </a:lnSpc>
              <a:spcAft>
                <a:spcPts val="11"/>
              </a:spcAft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ts are amps; we will use mA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–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) or µA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–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spcBef>
                <a:spcPts val="1500"/>
              </a:spcBef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 is a measure of potential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6200" indent="-315360">
              <a:lnSpc>
                <a:spcPct val="105000"/>
              </a:lnSpc>
              <a:spcAft>
                <a:spcPts val="11"/>
              </a:spcAft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 that can be done by the electr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6200" indent="-315360">
              <a:lnSpc>
                <a:spcPct val="105000"/>
              </a:lnSpc>
              <a:spcAft>
                <a:spcPts val="11"/>
              </a:spcAft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t 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alwa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ave a reference; we will use 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6200" indent="-315360">
              <a:lnSpc>
                <a:spcPct val="105000"/>
              </a:lnSpc>
              <a:spcAft>
                <a:spcPts val="11"/>
              </a:spcAft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ts are volts; we will use V or mV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–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-4320" y="25653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29520" y="49402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230720" y="4917960"/>
            <a:ext cx="29653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 topic: Combinational log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xioms and theorems of Boolean algeb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 functions and truth 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, OR, Buffer, NAND, NOR, NOT, XOR, XN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 log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s of Boolea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onical f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m of products and product of su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olean cubes and Karnaugh ma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-level simplif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15160" y="1604880"/>
            <a:ext cx="901800" cy="901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62640" y="1824120"/>
            <a:ext cx="439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62640" y="2274840"/>
            <a:ext cx="439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16960" y="2049480"/>
            <a:ext cx="438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87960" y="2160720"/>
            <a:ext cx="552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87960" y="1701720"/>
            <a:ext cx="552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61200" y="1833480"/>
            <a:ext cx="551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265880" y="2519280"/>
            <a:ext cx="0" cy="46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64200" y="3033720"/>
            <a:ext cx="6652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ational versus sequen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521496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al: Memory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y fixed inputs A,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it for clock ed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serve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it for another clock ed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serve C again: C will stay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tial: With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y fixed inputs A,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it for clock ed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serve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it for another clock ed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serve C again: C may be differ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lean algeb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oolean algebra compris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et of elements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operators {+ , •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unary operation { '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following axio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 The set B contains at least two elements {a b} with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Closur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a+b  is in 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•b is in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 Commutativ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a+b = b+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•b = b•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Associativ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a+(b+c) = (a+b)+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•(b•c) = (a•b)•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. Identity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a+0 = 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•1 =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. Distributiv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a+(b•c)=(a+b)•(a+c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•(b+c)=(a•b)+(a•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. Complementarity:  a+a' =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•a' =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(binary) logic is a Boolean algeb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tit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{0, 1} for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for •    Boolean Prod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 for +     Boolean 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for  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the axioms hold for binary log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olean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ps inputs from the set {0,1} to the set {0,1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olean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105000"/>
              </a:lnSpc>
              <a:buClr>
                <a:srgbClr val="000000"/>
              </a:buClr>
              <a:buFont typeface="Monotype Sorts" charset="2"/>
              <a:buChar char="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 algebraic statement of Boolean variables and opera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08680" y="1384200"/>
            <a:ext cx="120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03920" y="1647720"/>
            <a:ext cx="1244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12200" y="1382760"/>
            <a:ext cx="0" cy="124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4840" y="163836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9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4840" y="1879560"/>
            <a:ext cx="279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9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94280" y="177336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718320" y="2916360"/>
            <a:ext cx="1276200" cy="1260360"/>
            <a:chOff x="6718320" y="2916360"/>
            <a:chExt cx="1276200" cy="1260360"/>
          </a:xfrm>
        </p:grpSpPr>
        <p:sp>
          <p:nvSpPr>
            <p:cNvPr id="71" name=""/>
            <p:cNvSpPr/>
            <p:nvPr/>
          </p:nvSpPr>
          <p:spPr>
            <a:xfrm>
              <a:off x="6788160" y="29163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18320" y="3181320"/>
              <a:ext cx="12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78720" y="2925720"/>
              <a:ext cx="0" cy="125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362480" y="310680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62480" y="338616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73760" y="3213000"/>
            <a:ext cx="5335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, OR, N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4440" y="1390680"/>
            <a:ext cx="352116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105000"/>
              </a:lnSpc>
              <a:buNone/>
              <a:tabLst>
                <a:tab algn="l" pos="137628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137628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•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137628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137628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137628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+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137628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137628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137628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'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765840" y="4476600"/>
            <a:ext cx="916200" cy="768600"/>
            <a:chOff x="6765840" y="4476600"/>
            <a:chExt cx="916200" cy="768600"/>
          </a:xfrm>
        </p:grpSpPr>
        <p:sp>
          <p:nvSpPr>
            <p:cNvPr id="80" name=""/>
            <p:cNvSpPr/>
            <p:nvPr/>
          </p:nvSpPr>
          <p:spPr>
            <a:xfrm>
              <a:off x="6881760" y="4476600"/>
              <a:ext cx="8002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65840" y="4740120"/>
              <a:ext cx="812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99280" y="448308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443480" y="461952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72320" y="46213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33640" y="4584600"/>
            <a:ext cx="247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92520" y="1569960"/>
            <a:ext cx="1219320" cy="663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11600" y="3067200"/>
            <a:ext cx="1219320" cy="663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64160" y="4457880"/>
            <a:ext cx="121896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819440" y="4522680"/>
            <a:ext cx="376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514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 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' •Y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Z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514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11800" y="263988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14440" y="260496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functions and Boolean algeb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102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gic function that is expressible as a truth table can be written in Boolean algebra using +, •, and '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1344600" y="2868480"/>
            <a:ext cx="1341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70080" y="2614680"/>
            <a:ext cx="0" cy="1227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97040" y="4786200"/>
            <a:ext cx="38448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9240" y="2903400"/>
            <a:ext cx="178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630520"/>
            <a:ext cx="0" cy="124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4880" y="2630520"/>
            <a:ext cx="0" cy="126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75080" y="4479840"/>
            <a:ext cx="0" cy="14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71920" y="4479840"/>
            <a:ext cx="0" cy="14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479840"/>
            <a:ext cx="0" cy="14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95720" y="4497480"/>
            <a:ext cx="0" cy="14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21040" y="2630520"/>
            <a:ext cx="814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=X•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21400" y="2658960"/>
            <a:ext cx="8146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=X'•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4529160"/>
            <a:ext cx="20844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=(X•Y)+(X' •Y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ey concep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ality (a meta-theorem— </a:t>
            </a: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a theorem about theorem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Boolean expressions have logical du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 theorem that can be proved is also proved for its d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ace: • with +, + with •, 0 with 1, and 1 with 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ve the variables unchang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Morgan’s Theor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e for complementing Boolea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ace: • with +, + with •, 0 with 1, and 1 with 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ace all variables with their compl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ful laws and theor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82480" y="1476000"/>
            <a:ext cx="8226720" cy="458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1943280"/>
                <a:tab algn="l" pos="4568760"/>
                <a:tab algn="l" pos="5307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ty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X + 0 = 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Dual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 • 1 =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1943280"/>
                <a:tab algn="l" pos="4568760"/>
                <a:tab algn="l" pos="5307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ll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X + 1 =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Dual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 • 0 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1943280"/>
                <a:tab algn="l" pos="4568760"/>
                <a:tab algn="l" pos="5307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mpotent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X + X = 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Dual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 • X =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1943280"/>
                <a:tab algn="l" pos="4568760"/>
                <a:tab algn="l" pos="5307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olution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X')' =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1943280"/>
                <a:tab algn="l" pos="4568760"/>
                <a:tab algn="l" pos="5307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mentarity: X + X' =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Dual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 • X' 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1943280"/>
                <a:tab algn="l" pos="4568760"/>
                <a:tab algn="l" pos="5307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tative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X + Y = Y + 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Dual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 • Y = Y •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1943280"/>
                <a:tab algn="l" pos="4568760"/>
                <a:tab algn="l" pos="5307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ociative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X+Y)+Z=X+(Y+Z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Dual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X•Y)•Z=X•(Y•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1943280"/>
                <a:tab algn="l" pos="4568760"/>
                <a:tab algn="l" pos="5307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ve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X•(Y+Z)=(X•Y)+(X•Z) Dual: X+(Y•Z)=(X+Y)•(X+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1943280"/>
                <a:tab algn="l" pos="4568760"/>
                <a:tab algn="l" pos="5307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ting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X•Y+X•Y'=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Dual: (X+Y)•(X+Y')=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/>
  <dc:description/>
  <cp:keywords/>
  <dc:language>en-US</dc:language>
  <cp:lastModifiedBy>Bruce Hemingway</cp:lastModifiedBy>
  <cp:lastPrinted>1997-04-04T21:04:44Z</cp:lastPrinted>
  <dcterms:modified xsi:type="dcterms:W3CDTF">2008-01-11T04:55:10Z</dcterms:modified>
  <cp:revision>175</cp:revision>
  <dc:subject>CSE370</dc:subject>
  <dc:title>Lecture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people/faculty/diorio/</vt:lpwstr>
  </property>
  <property fmtid="{D5CDD505-2E9C-101B-9397-08002B2CF9AE}" pid="9" name="LinkColor">
    <vt:r8>16711782</vt:r8>
  </property>
  <property fmtid="{D5CDD505-2E9C-101B-9397-08002B2CF9AE}" pid="10" name="MailAddress">
    <vt:lpwstr>diorio@cs.washington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E:\Classes\CSE 370\Autumn 98\web\admin\Slides\Week1Lecture1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