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B3AC-E43A-4B6C-B571-0B7EE6A3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397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rule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hen you don’t underst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 are doing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1397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1800" y="4261320"/>
            <a:ext cx="7866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42200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1800" y="426132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426132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2532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480" y="1422000"/>
            <a:ext cx="2532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1160" y="1422000"/>
            <a:ext cx="2532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1800" y="4261320"/>
            <a:ext cx="2532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480" y="4261320"/>
            <a:ext cx="2532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1160" y="4261320"/>
            <a:ext cx="2532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8383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422000"/>
            <a:ext cx="38383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7680" y="-360"/>
            <a:ext cx="811512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422000"/>
            <a:ext cx="38383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1800" y="426132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8383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42200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426132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422000"/>
            <a:ext cx="38383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1800" y="4261320"/>
            <a:ext cx="7866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53880">
              <a:lnSpc>
                <a:spcPts val="2900"/>
              </a:lnSpc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4040" indent="-366840">
              <a:lnSpc>
                <a:spcPts val="2900"/>
              </a:lnSpc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900"/>
              </a:lnSpc>
              <a:buClr>
                <a:srgbClr val="cc3399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14680" indent="-343080">
              <a:lnSpc>
                <a:spcPts val="2900"/>
              </a:lnSpc>
              <a:buClr>
                <a:srgbClr val="cc3399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41400">
              <a:lnSpc>
                <a:spcPts val="2900"/>
              </a:lnSpc>
              <a:buClr>
                <a:srgbClr val="cc3399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41400">
              <a:lnSpc>
                <a:spcPts val="2900"/>
              </a:lnSpc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41400">
              <a:lnSpc>
                <a:spcPts val="2900"/>
              </a:lnSpc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71520"/>
            <a:ext cx="7790040" cy="12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00960" y="6335640"/>
            <a:ext cx="92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6320" y="6318360"/>
            <a:ext cx="1814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syst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se ov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gital 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’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 con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s-co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/D and D/A con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s-complement (con’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ing a complement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original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thmetic is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999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tra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gation and ad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 in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760" y="3276720"/>
            <a:ext cx="879480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cellane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s-complement of non-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687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01.10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687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0.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+6 and –6 as twos co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10 and 1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extend to 8-bit by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00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10 and </a:t>
            </a:r>
            <a:r>
              <a:rPr b="0" lang="en-US" sz="1800" spc="-1" strike="noStrike">
                <a:solidFill>
                  <a:srgbClr val="cc3399"/>
                </a:solidFill>
                <a:latin typeface="Tahoma"/>
              </a:rPr>
              <a:t>11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’t infer a representation from a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01 is 25 (unsigne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01 is –9 (sign magnitu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01 is –6 (ones compl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01 is –7 (twos compl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s-complement over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ing two positive numbers gives a negativ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ing two negative numbers gives a positiv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355400" y="2835360"/>
            <a:ext cx="2937600" cy="2563560"/>
            <a:chOff x="1355400" y="2835360"/>
            <a:chExt cx="2937600" cy="2563560"/>
          </a:xfrm>
        </p:grpSpPr>
        <p:sp>
          <p:nvSpPr>
            <p:cNvPr id="124" name=""/>
            <p:cNvSpPr/>
            <p:nvPr/>
          </p:nvSpPr>
          <p:spPr>
            <a:xfrm>
              <a:off x="1727280" y="3027240"/>
              <a:ext cx="2303280" cy="2172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000" y="10000"/>
                  </a:moveTo>
                  <a:cubicBezTo>
                    <a:pt x="12238" y="10000"/>
                    <a:pt x="10000" y="12238"/>
                    <a:pt x="10000" y="15000"/>
                  </a:cubicBezTo>
                  <a:cubicBezTo>
                    <a:pt x="10000" y="17761"/>
                    <a:pt x="12238" y="20000"/>
                    <a:pt x="15000" y="20000"/>
                  </a:cubicBezTo>
                  <a:cubicBezTo>
                    <a:pt x="17761" y="20000"/>
                    <a:pt x="20000" y="17761"/>
                    <a:pt x="20000" y="15000"/>
                  </a:cubicBezTo>
                  <a:cubicBezTo>
                    <a:pt x="20000" y="12238"/>
                    <a:pt x="17761" y="10000"/>
                    <a:pt x="15000" y="10000"/>
                  </a:cubicBezTo>
                  <a:close/>
                  <a:moveTo>
                    <a:pt x="15000" y="1000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19600" y="3093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960" y="3325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8800" y="381600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3480" y="3093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94120" y="3325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7520" y="381600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7520" y="4144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0440" y="440352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3480" y="4866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19600" y="4866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5960" y="46353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8800" y="4144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07040" y="35571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07040" y="440352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94120" y="46353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0440" y="35571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61600" y="2835360"/>
              <a:ext cx="1029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17640" y="305892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19320" y="336204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25520" y="372384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5520" y="421128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01680" y="460332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2080" y="493380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73040" y="515736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8800" y="515736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25120" y="493524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77440" y="460332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5400" y="421128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87080" y="372384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0280" y="336204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6520" y="305892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0000" y="283536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912560" y="2835360"/>
            <a:ext cx="2937960" cy="2563560"/>
            <a:chOff x="4912560" y="2835360"/>
            <a:chExt cx="2937960" cy="2563560"/>
          </a:xfrm>
        </p:grpSpPr>
        <p:sp>
          <p:nvSpPr>
            <p:cNvPr id="158" name=""/>
            <p:cNvSpPr/>
            <p:nvPr/>
          </p:nvSpPr>
          <p:spPr>
            <a:xfrm>
              <a:off x="5284440" y="3027240"/>
              <a:ext cx="2303640" cy="2172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000" y="10000"/>
                  </a:moveTo>
                  <a:cubicBezTo>
                    <a:pt x="12238" y="10000"/>
                    <a:pt x="10000" y="12238"/>
                    <a:pt x="10000" y="15000"/>
                  </a:cubicBezTo>
                  <a:cubicBezTo>
                    <a:pt x="10000" y="17761"/>
                    <a:pt x="12238" y="20000"/>
                    <a:pt x="15000" y="20000"/>
                  </a:cubicBezTo>
                  <a:cubicBezTo>
                    <a:pt x="17761" y="20000"/>
                    <a:pt x="20000" y="17761"/>
                    <a:pt x="20000" y="15000"/>
                  </a:cubicBezTo>
                  <a:cubicBezTo>
                    <a:pt x="20000" y="12238"/>
                    <a:pt x="17761" y="10000"/>
                    <a:pt x="15000" y="10000"/>
                  </a:cubicBezTo>
                  <a:close/>
                  <a:moveTo>
                    <a:pt x="15000" y="1000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3093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3480" y="3325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95960" y="381600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1000" y="3093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1280" y="3325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15040" y="381600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15040" y="4144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7600" y="440352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31000" y="4866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486684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46353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95960" y="414468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4200" y="35571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4200" y="440352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51280" y="46353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57600" y="3557160"/>
              <a:ext cx="4093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9120" y="2835360"/>
              <a:ext cx="1029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74800" y="305892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6480" y="336204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83040" y="372384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83040" y="421128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9200" y="460332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49600" y="493380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0560" y="5157360"/>
              <a:ext cx="267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5960" y="515736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82640" y="493524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34960" y="460332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2560" y="421128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44240" y="372384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7800" y="336204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23680" y="305892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7520" y="2835360"/>
              <a:ext cx="2552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09840" y="4867200"/>
            <a:ext cx="2247840" cy="905040"/>
          </a:xfrm>
          <a:custGeom>
            <a:avLst/>
            <a:gdLst/>
            <a:ahLst/>
            <a:rect l="l" t="t" r="r" b="b"/>
            <a:pathLst>
              <a:path w="9671" h="9721">
                <a:moveTo>
                  <a:pt x="19947" y="14173"/>
                </a:moveTo>
                <a:cubicBezTo>
                  <a:pt x="19973" y="15604"/>
                  <a:pt x="20000" y="17035"/>
                  <a:pt x="19066" y="17955"/>
                </a:cubicBezTo>
                <a:cubicBezTo>
                  <a:pt x="18132" y="18875"/>
                  <a:pt x="15761" y="20000"/>
                  <a:pt x="14350" y="19659"/>
                </a:cubicBezTo>
                <a:cubicBezTo>
                  <a:pt x="12940" y="19318"/>
                  <a:pt x="11205" y="17478"/>
                  <a:pt x="10602" y="15877"/>
                </a:cubicBezTo>
                <a:cubicBezTo>
                  <a:pt x="10000" y="14275"/>
                  <a:pt x="10370" y="12129"/>
                  <a:pt x="10748" y="100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1760" y="5850000"/>
            <a:ext cx="112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+ 4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4960" y="5238720"/>
            <a:ext cx="1800000" cy="417600"/>
          </a:xfrm>
          <a:custGeom>
            <a:avLst/>
            <a:gdLst/>
            <a:ahLst/>
            <a:rect l="l" t="t" r="r" b="b"/>
            <a:pathLst>
              <a:path w="10000" h="9434">
                <a:moveTo>
                  <a:pt x="10000" y="10000"/>
                </a:moveTo>
                <a:cubicBezTo>
                  <a:pt x="10051" y="13225"/>
                  <a:pt x="10102" y="16487"/>
                  <a:pt x="11423" y="17956"/>
                </a:cubicBezTo>
                <a:cubicBezTo>
                  <a:pt x="12744" y="19426"/>
                  <a:pt x="16475" y="20000"/>
                  <a:pt x="17907" y="18745"/>
                </a:cubicBezTo>
                <a:cubicBezTo>
                  <a:pt x="19339" y="17491"/>
                  <a:pt x="19648" y="11792"/>
                  <a:pt x="20000" y="103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95200" y="5861160"/>
            <a:ext cx="125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– 3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s-complement overflow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7195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0">
              <a:lnSpc>
                <a:spcPts val="29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0">
              <a:lnSpc>
                <a:spcPts val="29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0">
              <a:lnSpc>
                <a:spcPts val="29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0">
              <a:lnSpc>
                <a:spcPts val="29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flow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ry from 2sb-msb and carry from msb-Cout are diffe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911920" y="1427040"/>
            <a:ext cx="1890720" cy="1104840"/>
            <a:chOff x="5911920" y="1427040"/>
            <a:chExt cx="1890720" cy="1104840"/>
          </a:xfrm>
        </p:grpSpPr>
        <p:sp>
          <p:nvSpPr>
            <p:cNvPr id="198" name=""/>
            <p:cNvSpPr/>
            <p:nvPr/>
          </p:nvSpPr>
          <p:spPr>
            <a:xfrm>
              <a:off x="5911920" y="1427040"/>
              <a:ext cx="18907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1   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+ 0010   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1   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21520" y="2122560"/>
              <a:ext cx="14382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764520" y="3044880"/>
            <a:ext cx="1890720" cy="1104840"/>
            <a:chOff x="3764520" y="3044880"/>
            <a:chExt cx="1890720" cy="1104840"/>
          </a:xfrm>
        </p:grpSpPr>
        <p:sp>
          <p:nvSpPr>
            <p:cNvPr id="201" name=""/>
            <p:cNvSpPr/>
            <p:nvPr/>
          </p:nvSpPr>
          <p:spPr>
            <a:xfrm>
              <a:off x="3764520" y="3044880"/>
              <a:ext cx="18907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0   +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+ 0100   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0   –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76280" y="3740040"/>
              <a:ext cx="14382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756240" y="1427040"/>
            <a:ext cx="1860120" cy="1104840"/>
            <a:chOff x="3756240" y="1427040"/>
            <a:chExt cx="1860120" cy="1104840"/>
          </a:xfrm>
        </p:grpSpPr>
        <p:sp>
          <p:nvSpPr>
            <p:cNvPr id="204" name=""/>
            <p:cNvSpPr/>
            <p:nvPr/>
          </p:nvSpPr>
          <p:spPr>
            <a:xfrm>
              <a:off x="3756240" y="1427040"/>
              <a:ext cx="18601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11   –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+ 1010   –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1   –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76280" y="2122560"/>
              <a:ext cx="14382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041360" y="2301480"/>
              <a:ext cx="21744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880600" y="3044880"/>
            <a:ext cx="2012400" cy="1104840"/>
            <a:chOff x="5880600" y="3044880"/>
            <a:chExt cx="2012400" cy="1104840"/>
          </a:xfrm>
        </p:grpSpPr>
        <p:sp>
          <p:nvSpPr>
            <p:cNvPr id="208" name=""/>
            <p:cNvSpPr/>
            <p:nvPr/>
          </p:nvSpPr>
          <p:spPr>
            <a:xfrm>
              <a:off x="5880600" y="3044880"/>
              <a:ext cx="201240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1    –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+ 1010    –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11    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1520" y="3740040"/>
              <a:ext cx="14382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180120" y="3906360"/>
              <a:ext cx="21744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778560" y="4676760"/>
            <a:ext cx="5487120" cy="1620720"/>
            <a:chOff x="3778560" y="4676760"/>
            <a:chExt cx="5487120" cy="1620720"/>
          </a:xfrm>
        </p:grpSpPr>
        <p:sp>
          <p:nvSpPr>
            <p:cNvPr id="212" name=""/>
            <p:cNvSpPr/>
            <p:nvPr/>
          </p:nvSpPr>
          <p:spPr>
            <a:xfrm>
              <a:off x="3778560" y="4676760"/>
              <a:ext cx="5487120" cy="15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sb-msb    msb-Cout   Over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              0          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              1     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              0     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              1          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36880" y="5037120"/>
              <a:ext cx="366228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06840" y="4713120"/>
              <a:ext cx="12960" cy="15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y and BCD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951440" y="1774800"/>
            <a:ext cx="2674800" cy="3784320"/>
            <a:chOff x="4951440" y="1774800"/>
            <a:chExt cx="2674800" cy="3784320"/>
          </a:xfrm>
        </p:grpSpPr>
        <p:grpSp>
          <p:nvGrpSpPr>
            <p:cNvPr id="217" name=""/>
            <p:cNvGrpSpPr/>
            <p:nvPr/>
          </p:nvGrpSpPr>
          <p:grpSpPr>
            <a:xfrm>
              <a:off x="5033520" y="1834920"/>
              <a:ext cx="2563560" cy="3655080"/>
              <a:chOff x="5033520" y="1834920"/>
              <a:chExt cx="2563560" cy="3655080"/>
            </a:xfrm>
          </p:grpSpPr>
          <p:sp>
            <p:nvSpPr>
              <p:cNvPr id="218" name=""/>
              <p:cNvSpPr/>
              <p:nvPr/>
            </p:nvSpPr>
            <p:spPr>
              <a:xfrm>
                <a:off x="5033520" y="1834920"/>
                <a:ext cx="1361880" cy="36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99"/>
                    </a:solidFill>
                    <a:latin typeface="Tahoma"/>
                  </a:rPr>
                  <a:t>Decim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cc3399"/>
                    </a:solidFill>
                    <a:uFillTx/>
                    <a:latin typeface="Tahoma"/>
                  </a:rPr>
                  <a:t>Symbo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35200" y="1834920"/>
                <a:ext cx="1361880" cy="36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99"/>
                    </a:solidFill>
                    <a:latin typeface="Tahoma"/>
                  </a:rPr>
                  <a:t>BC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cc3399"/>
                    </a:solidFill>
                    <a:uFillTx/>
                    <a:latin typeface="Tahoma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951440" y="1774800"/>
              <a:ext cx="2674800" cy="378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08240" y="1774800"/>
            <a:ext cx="2674800" cy="3784320"/>
            <a:chOff x="1308240" y="1774800"/>
            <a:chExt cx="2674800" cy="3784320"/>
          </a:xfrm>
        </p:grpSpPr>
        <p:grpSp>
          <p:nvGrpSpPr>
            <p:cNvPr id="222" name=""/>
            <p:cNvGrpSpPr/>
            <p:nvPr/>
          </p:nvGrpSpPr>
          <p:grpSpPr>
            <a:xfrm>
              <a:off x="1390680" y="1834920"/>
              <a:ext cx="2562840" cy="3655080"/>
              <a:chOff x="1390680" y="1834920"/>
              <a:chExt cx="2562840" cy="3655080"/>
            </a:xfrm>
          </p:grpSpPr>
          <p:sp>
            <p:nvSpPr>
              <p:cNvPr id="223" name=""/>
              <p:cNvSpPr/>
              <p:nvPr/>
            </p:nvSpPr>
            <p:spPr>
              <a:xfrm>
                <a:off x="1390680" y="1834920"/>
                <a:ext cx="1361160" cy="36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99"/>
                    </a:solidFill>
                    <a:latin typeface="Tahoma"/>
                  </a:rPr>
                  <a:t>Decim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cc3399"/>
                    </a:solidFill>
                    <a:uFillTx/>
                    <a:latin typeface="Tahoma"/>
                  </a:rPr>
                  <a:t>Symbo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92000" y="1834920"/>
                <a:ext cx="1361520" cy="36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99"/>
                    </a:solidFill>
                    <a:latin typeface="Tahoma"/>
                  </a:rPr>
                  <a:t>Gr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cc3399"/>
                    </a:solidFill>
                    <a:uFillTx/>
                    <a:latin typeface="Tahoma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308240" y="1774800"/>
              <a:ext cx="2674800" cy="378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hysical world is analo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systems ne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 analog qua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waveform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analog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00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 motor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connect the analog and digital domai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-to-digital converter (ADC or A/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CD reco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-to-analog converter (DAC or D/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CD play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37022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ant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sion from analog to discret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mp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343400" y="1444680"/>
            <a:ext cx="4505400" cy="4251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48480" y="5710320"/>
            <a:ext cx="1954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l Data Acquisition and Conversion Hand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58360" y="1498320"/>
            <a:ext cx="42721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ing a digital word to each discrete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ing a quantiz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de the s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cally Gray or binary c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849920" y="1619280"/>
            <a:ext cx="395424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719680" y="5506920"/>
            <a:ext cx="19544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l Data Acquisition and Conversion Hand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1440" y="1422000"/>
            <a:ext cx="47833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= discr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codes (example: BC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mal digits 0-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A nucleot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 symbols using binary digits (bi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ompu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O is dig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CII, decimal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representation is bi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343080">
              <a:lnSpc>
                <a:spcPts val="2299"/>
              </a:lnSpc>
              <a:spcAft>
                <a:spcPts val="11"/>
              </a:spcAft>
              <a:buClr>
                <a:srgbClr val="cc3399"/>
              </a:buClr>
              <a:buFont typeface="Monotype Sorts" charset="2"/>
              <a:buChar char=""/>
              <a:tabLst>
                <a:tab algn="l" pos="343080"/>
                <a:tab algn="l" pos="743040"/>
                <a:tab algn="l" pos="9144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information in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65920" y="1514520"/>
            <a:ext cx="2674800" cy="3784320"/>
            <a:chOff x="5965920" y="1514520"/>
            <a:chExt cx="2674800" cy="3784320"/>
          </a:xfrm>
        </p:grpSpPr>
        <p:grpSp>
          <p:nvGrpSpPr>
            <p:cNvPr id="53" name=""/>
            <p:cNvGrpSpPr/>
            <p:nvPr/>
          </p:nvGrpSpPr>
          <p:grpSpPr>
            <a:xfrm>
              <a:off x="6048000" y="1574640"/>
              <a:ext cx="2563560" cy="3655080"/>
              <a:chOff x="6048000" y="1574640"/>
              <a:chExt cx="2563560" cy="3655080"/>
            </a:xfrm>
          </p:grpSpPr>
          <p:sp>
            <p:nvSpPr>
              <p:cNvPr id="54" name=""/>
              <p:cNvSpPr/>
              <p:nvPr/>
            </p:nvSpPr>
            <p:spPr>
              <a:xfrm>
                <a:off x="6048000" y="1574640"/>
                <a:ext cx="1361880" cy="36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99"/>
                    </a:solidFill>
                    <a:latin typeface="Tahoma"/>
                  </a:rPr>
                  <a:t>Decim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cc3399"/>
                    </a:solidFill>
                    <a:uFillTx/>
                    <a:latin typeface="Tahoma"/>
                  </a:rPr>
                  <a:t>Symbo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249680" y="1574640"/>
                <a:ext cx="1361880" cy="36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99"/>
                    </a:solidFill>
                    <a:latin typeface="Tahoma"/>
                  </a:rPr>
                  <a:t>BC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cc3399"/>
                    </a:solidFill>
                    <a:uFillTx/>
                    <a:latin typeface="Tahoma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0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01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965920" y="1514520"/>
              <a:ext cx="2674800" cy="378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sics: Binary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we wil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: B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al: Base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xadecimal: Base 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al numb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×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0×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×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8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6×8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3×8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0×16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×16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 and sub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43320" y="5205240"/>
            <a:ext cx="1098000" cy="1104840"/>
            <a:chOff x="1543320" y="5205240"/>
            <a:chExt cx="1098000" cy="1104840"/>
          </a:xfrm>
        </p:grpSpPr>
        <p:sp>
          <p:nvSpPr>
            <p:cNvPr id="60" name=""/>
            <p:cNvSpPr/>
            <p:nvPr/>
          </p:nvSpPr>
          <p:spPr>
            <a:xfrm>
              <a:off x="1543320" y="5205240"/>
              <a:ext cx="109800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+ 1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39880" y="5900760"/>
              <a:ext cx="83160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161520" y="5205240"/>
            <a:ext cx="1098000" cy="1041480"/>
            <a:chOff x="3161520" y="5205240"/>
            <a:chExt cx="1098000" cy="1041480"/>
          </a:xfrm>
        </p:grpSpPr>
        <p:sp>
          <p:nvSpPr>
            <p:cNvPr id="63" name=""/>
            <p:cNvSpPr/>
            <p:nvPr/>
          </p:nvSpPr>
          <p:spPr>
            <a:xfrm>
              <a:off x="3161520" y="5205240"/>
              <a:ext cx="10980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63480" y="5918040"/>
              <a:ext cx="8319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</a:t>
            </a:r>
            <a:r>
              <a:rPr b="0" lang="en-US" sz="3200" spc="-1" strike="noStrike">
                <a:solidFill>
                  <a:srgbClr val="000000"/>
                </a:solidFill>
                <a:latin typeface="Σψμβολ"/>
                <a:ea typeface="Lucida Grande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x/decimal/octal conver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from binary to octal/h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:  10011110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al:    10 | 011 | 110 | 001=236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x:      100 | 1111 | 0001=4F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from binary to dec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×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0×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×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3.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8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6×8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3×8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4×8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51.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0×16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×16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6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mal</a:t>
            </a:r>
            <a:r>
              <a:rPr b="0" lang="en-US" sz="3200" spc="-1" strike="noStrike">
                <a:solidFill>
                  <a:srgbClr val="000000"/>
                </a:solidFill>
                <a:latin typeface="Σψμβολ"/>
                <a:ea typeface="Lucida Grande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nary/octal/hex con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1800" y="4237200"/>
            <a:ext cx="78660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 this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=5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11100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=N/2=56/2=111000/2=11100 remainder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ccessive divide liberates an LS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8440" y="1319040"/>
            <a:ext cx="7853400" cy="28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rite negative binary numb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ically: 3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-and-magnitu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s-co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wos-co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ll 3, the most-significant bit (msb) is the sign dig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ga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twos-comp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ifies arithme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almost univers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-and-magn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8660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1400" indent="-31140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st-significant bit (msb) is the sign dig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3240" indent="-32112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3240" indent="-32112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g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1400" indent="-31140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maining bits are the number’s magn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1400" indent="-31140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1: Two representations for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3240" indent="-32112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= 0000 and also –0 = 1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1400" indent="-31140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2: Arithmetic is cumbers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280" y="4419720"/>
            <a:ext cx="90457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s-co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807408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number: Bitwise complement positiv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011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0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es the arithmetic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0">
              <a:lnSpc>
                <a:spcPts val="25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0">
              <a:lnSpc>
                <a:spcPts val="29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3880" indent="0">
              <a:lnSpc>
                <a:spcPts val="29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0">
              <a:lnSpc>
                <a:spcPts val="25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0">
              <a:lnSpc>
                <a:spcPts val="25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0">
              <a:lnSpc>
                <a:spcPts val="2500"/>
              </a:lnSpc>
              <a:buNone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ining problem: Two representations for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= 0000 and also –0 = 1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4120" y="3048120"/>
            <a:ext cx="73166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151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ts val="3898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s-co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800" y="1422000"/>
            <a:ext cx="72612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ts val="2900"/>
              </a:lnSpc>
              <a:spcAft>
                <a:spcPts val="11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number: Bitwise complement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lu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011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2240" indent="-365040">
              <a:lnSpc>
                <a:spcPts val="2500"/>
              </a:lnSpc>
              <a:spcAft>
                <a:spcPts val="1199"/>
              </a:spcAft>
              <a:buClr>
                <a:srgbClr val="cc3399"/>
              </a:buClr>
              <a:buSzPct val="69000"/>
              <a:buFont typeface="Monotype Sorts" charset="2"/>
              <a:buChar char="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lnSpc>
                <a:spcPts val="2900"/>
              </a:lnSpc>
              <a:spcAft>
                <a:spcPts val="1400"/>
              </a:spcAft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whe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53760" y="2563920"/>
            <a:ext cx="3850560" cy="3359520"/>
            <a:chOff x="4253760" y="2563920"/>
            <a:chExt cx="3850560" cy="3359520"/>
          </a:xfrm>
        </p:grpSpPr>
        <p:sp>
          <p:nvSpPr>
            <p:cNvPr id="81" name=""/>
            <p:cNvSpPr/>
            <p:nvPr/>
          </p:nvSpPr>
          <p:spPr>
            <a:xfrm>
              <a:off x="4689360" y="2700360"/>
              <a:ext cx="3084840" cy="3057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5000" y="10000"/>
                  </a:moveTo>
                  <a:cubicBezTo>
                    <a:pt x="12238" y="10000"/>
                    <a:pt x="10000" y="12238"/>
                    <a:pt x="10000" y="15000"/>
                  </a:cubicBezTo>
                  <a:cubicBezTo>
                    <a:pt x="10000" y="17761"/>
                    <a:pt x="12238" y="20000"/>
                    <a:pt x="15000" y="20000"/>
                  </a:cubicBezTo>
                  <a:cubicBezTo>
                    <a:pt x="17761" y="20000"/>
                    <a:pt x="20000" y="17761"/>
                    <a:pt x="20000" y="15000"/>
                  </a:cubicBezTo>
                  <a:cubicBezTo>
                    <a:pt x="20000" y="12238"/>
                    <a:pt x="17761" y="10000"/>
                    <a:pt x="15000" y="10000"/>
                  </a:cubicBezTo>
                  <a:close/>
                  <a:moveTo>
                    <a:pt x="15000" y="1000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4840" y="29116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35960" y="322272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56800" y="38800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94760" y="29116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21440" y="322272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70720" y="38800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70720" y="43228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65840" y="466884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94760" y="52912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840" y="52912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5960" y="498024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56800" y="432288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78960" y="353376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78960" y="466884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21440" y="498024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65840" y="3533760"/>
              <a:ext cx="488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02920" y="2563920"/>
              <a:ext cx="1227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61560" y="286380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94920" y="327024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7840" y="375768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34600" y="441180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71160" y="493884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26640" y="538020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6120" y="568188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0160" y="568188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97000" y="538020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6520" y="493884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3080" y="441180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3760" y="375768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4840" y="327024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63520" y="286380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0560" y="2563920"/>
              <a:ext cx="3664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31800" y="3416400"/>
            <a:ext cx="3267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>
              <a:lnSpc>
                <a:spcPts val="3399"/>
              </a:lnSpc>
              <a:spcAft>
                <a:spcPts val="150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</a:t>
            </a:r>
            <a:r>
              <a:rPr b="0" lang="en-US" sz="2400" spc="-1" strike="noStrike">
                <a:solidFill>
                  <a:srgbClr val="0000ff"/>
                </a:solidFill>
                <a:latin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zero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160">
              <a:lnSpc>
                <a:spcPts val="29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</a:t>
            </a:r>
            <a:r>
              <a:rPr b="0" lang="en-US" sz="2400" spc="-1" strike="noStrike">
                <a:solidFill>
                  <a:srgbClr val="0000ff"/>
                </a:solidFill>
                <a:latin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b is the sign 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160">
              <a:lnSpc>
                <a:spcPts val="25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Monotype Sorts"/>
                <a:ea typeface="Monotype Sorts"/>
              </a:rPr>
              <a:t></a:t>
            </a:r>
            <a:r>
              <a:rPr b="0" lang="en-US" sz="2000" spc="-1" strike="noStrike">
                <a:solidFill>
                  <a:srgbClr val="cc3399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60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Monotype Sorts"/>
                <a:ea typeface="Monotype Sorts"/>
              </a:rPr>
              <a:t></a:t>
            </a:r>
            <a:r>
              <a:rPr b="0" lang="en-US" sz="2000" spc="-1" strike="noStrike">
                <a:solidFill>
                  <a:srgbClr val="cc3399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Σψμβολ"/>
                <a:ea typeface="ヒラギノ角ゴ Pro W3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60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7360" y="3105000"/>
            <a:ext cx="1041120" cy="12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ruce Hemingway</cp:lastModifiedBy>
  <dcterms:modified xsi:type="dcterms:W3CDTF">2007-01-05T03:57:03Z</dcterms:modified>
  <cp:revision>5</cp:revision>
  <dc:subject/>
  <dc:title>Number systems </dc:title>
</cp:coreProperties>
</file>