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FC40-7AC2-4BFA-8383-A2A8D0B00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B0B7-BD19-4209-84D9-CC0EDE7BC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D824-C238-40B2-8237-FD9B315E9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0E83-F5F5-42EF-81D7-622CF2368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5314A-961A-4530-83BA-EDA2E6D6E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8DD6-6DFE-428A-BDDF-9EA64D74D1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0C386-E570-4F32-AE7B-AF327CE5A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B7594-5480-440F-B387-A3DDEF25F1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37343-3E9D-4DA4-A7F8-D1A2D5A950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5343B-18CB-4936-8D77-FE44D2A012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38774-ED71-4639-8290-E9C73FAEF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B257-5E19-4AAE-97AC-7328FE719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C2C0F-B7DA-40A6-BABF-16A55B4D0B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AF1D1-E661-44B9-B037-993B1D92F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779B0-2485-481B-8F13-9BA3E9EAF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B913F-9206-4D7D-8582-6F110CF1B1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CC713-AAD2-43DF-BC68-A6E5D4CBA8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4B35-2E1F-42B9-A1E2-6D6BCD239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63F7-7FDE-4A70-B82A-975E95900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E9FE-912C-46C9-A03E-13239D576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D2EA-0550-4269-89C7-EA586494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565A-DC0B-420F-9CA5-A95D5AF3C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1D68-FF46-438F-9306-4A0A34643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939D-C479-4A3F-809E-761F59178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7300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7FFC-680E-4B0F-8B16-8DDBF04319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7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5F0-87E1-4639-9CB1-081BFA3617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6633"/>
                </a:solidFill>
                <a:latin typeface="Garamond"/>
              </a:rPr>
              <a:t>Computer Organization: </a:t>
            </a:r>
            <a:br>
              <a:rPr sz="4100"/>
            </a:br>
            <a:r>
              <a:rPr b="0" lang="en-US" sz="4100" spc="-1" strike="noStrike">
                <a:solidFill>
                  <a:srgbClr val="006633"/>
                </a:solidFill>
                <a:latin typeface="Garamond"/>
              </a:rPr>
              <a:t>A real processor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PS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 Memo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from 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rom Reg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 to xFFF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/ Dis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dmemory.v for m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lipArt Placeholder 6" descr="datamem1.bmp"/>
          <p:cNvPicPr/>
          <p:nvPr/>
        </p:nvPicPr>
        <p:blipFill>
          <a:blip r:embed="rId1"/>
          <a:stretch/>
        </p:blipFill>
        <p:spPr>
          <a:xfrm>
            <a:off x="4724280" y="1523880"/>
            <a:ext cx="29718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scellaneou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RegS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wrData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  00: Out = A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  01: Out = M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  1X: Out = PC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xten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16-bit to 32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7" descr="signextend1.bmp"/>
          <p:cNvPicPr/>
          <p:nvPr/>
        </p:nvPicPr>
        <p:blipFill>
          <a:blip r:embed="rId1"/>
          <a:stretch/>
        </p:blipFill>
        <p:spPr>
          <a:xfrm>
            <a:off x="3733920" y="3962520"/>
            <a:ext cx="310500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9" descr="wdataMux.bmp"/>
          <p:cNvPicPr/>
          <p:nvPr/>
        </p:nvPicPr>
        <p:blipFill>
          <a:blip r:embed="rId2"/>
          <a:stretch/>
        </p:blipFill>
        <p:spPr>
          <a:xfrm>
            <a:off x="4495680" y="1295280"/>
            <a:ext cx="309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lobal Vi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Content Placeholder 5" descr="mips1.bmp"/>
          <p:cNvPicPr/>
          <p:nvPr/>
        </p:nvPicPr>
        <p:blipFill>
          <a:blip r:embed="rId1"/>
          <a:stretch/>
        </p:blipFill>
        <p:spPr>
          <a:xfrm>
            <a:off x="609480" y="838080"/>
            <a:ext cx="76964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Format Oper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2014560"/>
          <a:ext cx="7848360" cy="2041560"/>
        </p:xfrm>
        <a:graphic>
          <a:graphicData uri="http://schemas.openxmlformats.org/drawingml/2006/table">
            <a:tbl>
              <a:tblPr/>
              <a:tblGrid>
                <a:gridCol w="1143000"/>
                <a:gridCol w="2921040"/>
                <a:gridCol w="1193760"/>
                <a:gridCol w="259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d = rs +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d = rs –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d = (rs &lt; rt) ? 1 : 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 on less t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=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mp to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-Format Ops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616040"/>
          <a:ext cx="8001000" cy="3894120"/>
        </p:xfrm>
        <a:graphic>
          <a:graphicData uri="http://schemas.openxmlformats.org/drawingml/2006/table">
            <a:tbl>
              <a:tblPr/>
              <a:tblGrid>
                <a:gridCol w="838080"/>
                <a:gridCol w="3048120"/>
                <a:gridCol w="1905120"/>
                <a:gridCol w="220968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= rs+SE(i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= rs | i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= imm &lt;&lt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 upper im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= MEM[rs+se(imm)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[rs+se(imm)] =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s == rt)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+1+(0|i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J-Format Ops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2014560"/>
          <a:ext cx="7848360" cy="1249200"/>
        </p:xfrm>
        <a:graphic>
          <a:graphicData uri="http://schemas.openxmlformats.org/drawingml/2006/table">
            <a:tbl>
              <a:tblPr/>
              <a:tblGrid>
                <a:gridCol w="1143000"/>
                <a:gridCol w="2438280"/>
                <a:gridCol w="1676520"/>
                <a:gridCol w="259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= 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k.a G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31 = PC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 = 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mp and 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72"/>
          <p:cNvSpPr/>
          <p:nvPr/>
        </p:nvSpPr>
        <p:spPr>
          <a:xfrm>
            <a:off x="609480" y="4191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L stores next address, jumps to target (a.k.a fn call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al Tips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uses “?” for Don’t Ca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will make things eas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sure to set clk and re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: 14000ns limit-- longer, controller is bro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't use opcode defs from 378 text-- ours are differ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ing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:  A is an array of size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Comp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 use a for loop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3886200" y="2819520"/>
                <a:ext cx="12193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 Assembly Language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ray Acces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ad (name+offs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al Contro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s ( A &lt; B, A &gt;= B, A !=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 to A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 = 0; i &lt; B; i = i+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C + 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uedo-A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0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: bge i, B, Exi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= A+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2 = load 0(te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 + temp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: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grou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have built a model processor in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et to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vily based on MIPS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by Patterson &amp; Henness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-cycl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erations take 1 (long)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M to RT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= r0, P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 = r0, P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: PC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r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≥ r2) ? Exit : PC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6 = MEM[r4+r1 ],P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= r3 + r6, P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 = r4 + 1, P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=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0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: bge i, B, Exit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= load 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 +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: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struction Set Spec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-Store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d Addr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Formats for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to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4490-0A34-4ED8-97D3-1770660583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struction Encodin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720" y="1599840"/>
            <a:ext cx="868680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 marL="34200" indent="-342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839880"/>
                <a:tab algn="l" pos="2201760"/>
                <a:tab algn="l" pos="2930400"/>
                <a:tab algn="l" pos="3548160"/>
                <a:tab algn="l" pos="4233960"/>
                <a:tab algn="l" pos="4964040"/>
                <a:tab algn="l" pos="5637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principal types (32 bits in each instruction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       shift     fun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egister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(mmediat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 immedi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um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- im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839880"/>
                <a:tab algn="l" pos="2201760"/>
                <a:tab algn="l" pos="2930400"/>
                <a:tab algn="l" pos="3548160"/>
                <a:tab algn="l" pos="4233960"/>
                <a:tab algn="l" pos="4964040"/>
                <a:tab algn="l" pos="5637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instruction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+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-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&amp;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|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(rs &lt; r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 = mem[rs + offset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[rs + offset] =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= pc + offset, if (rs == r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 = rs + offs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= target addr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3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execution until reset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271520" y="2106720"/>
            <a:ext cx="5307120" cy="67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271520" y="2106720"/>
            <a:ext cx="53071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271520" y="2332080"/>
            <a:ext cx="53071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271520" y="2557440"/>
            <a:ext cx="195444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2549520" y="2106720"/>
            <a:ext cx="0" cy="67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3225960" y="2106720"/>
            <a:ext cx="0" cy="67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3902040" y="2106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4503600" y="2106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5254560" y="210672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257480" y="4362480"/>
            <a:ext cx="765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1239840" y="5210280"/>
            <a:ext cx="765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825120" y="3475080"/>
            <a:ext cx="364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86960" y="4602240"/>
            <a:ext cx="364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793440" y="5265720"/>
            <a:ext cx="364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5261040" y="3309840"/>
            <a:ext cx="0" cy="10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097680" y="3263760"/>
            <a:ext cx="0" cy="240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4510080" y="3254400"/>
            <a:ext cx="0" cy="195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3908520" y="3254400"/>
            <a:ext cx="0" cy="195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351240" y="3271680"/>
            <a:ext cx="0" cy="240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2546280" y="3281400"/>
            <a:ext cx="0" cy="24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30"/>
          <p:cNvSpPr/>
          <p:nvPr/>
        </p:nvSpPr>
        <p:spPr>
          <a:xfrm>
            <a:off x="1251000" y="3271680"/>
            <a:ext cx="7665840" cy="240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5938920" y="210996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ps2000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Content Placeholder 5" descr="mips1.bmp"/>
          <p:cNvPicPr/>
          <p:nvPr/>
        </p:nvPicPr>
        <p:blipFill>
          <a:blip r:embed="rId1"/>
          <a:stretch/>
        </p:blipFill>
        <p:spPr>
          <a:xfrm>
            <a:off x="1450800" y="1600200"/>
            <a:ext cx="624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lipArt Placeholder 6" descr="pc1.bmp"/>
          <p:cNvPicPr/>
          <p:nvPr/>
        </p:nvPicPr>
        <p:blipFill>
          <a:blip r:embed="rId1"/>
          <a:stretch/>
        </p:blipFill>
        <p:spPr>
          <a:xfrm>
            <a:off x="4800600" y="2819520"/>
            <a:ext cx="4038480" cy="253980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4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 offset = {{16{Inst[15]}},Inst};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sign extend the im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 Branch = Next + offs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 Jump = {Next[31:26],Inst[25:0]};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used by J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There are 4 possible sources for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0.  PC = Next  (Move to next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1.  PC = Next + offset (Conditional Bran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2.  PC = Reg (Jump to Register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3.  PC = Next[31:26],jump_target( J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 PC = (PCSel[1]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(PCSel[0])? Jump : Reg)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(PCSel[0])? Branch : Nex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controller1.bmp"/>
          <p:cNvPicPr/>
          <p:nvPr/>
        </p:nvPicPr>
        <p:blipFill>
          <a:blip r:embed="rId1"/>
          <a:stretch/>
        </p:blipFill>
        <p:spPr>
          <a:xfrm>
            <a:off x="2590920" y="1676520"/>
            <a:ext cx="6284880" cy="3628800"/>
          </a:xfrm>
          <a:prstGeom prst="rect">
            <a:avLst/>
          </a:prstGeom>
          <a:ln w="0">
            <a:noFill/>
          </a:ln>
        </p:spPr>
      </p:pic>
      <p:sp>
        <p:nvSpPr>
          <p:cNvPr id="126" name="Footer Placeholder 5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on Co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: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DataSel = 2'b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 = 1'b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1'b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Sel = 2'b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B = 1'b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Write = 1'b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RegSel = 2'b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= 6'bxxxx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 Fi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decide which register is the one that might be written to (depends on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00 – rd, 01 – rt, 1X – hardwired to 31 for J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 wrReg = wrRegSel[1]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'b11111 : (wrRegSel[0] ? rd : rt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do two reads and, optionally, one write with the regist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read two registers and send them to the 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A = RegFile[rs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B = RegFile[r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// write into a register (but not the register storing our constant 0)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@(posedge clk) 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regWrite &amp;&amp; (wrReg != 0)) 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File[wrReg] = Write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lipArt Placeholder 6" descr="regfile1.bmp"/>
          <p:cNvPicPr/>
          <p:nvPr/>
        </p:nvPicPr>
        <p:blipFill>
          <a:blip r:embed="rId1"/>
          <a:stretch/>
        </p:blipFill>
        <p:spPr>
          <a:xfrm>
            <a:off x="5257800" y="1752480"/>
            <a:ext cx="3143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673360" y="62485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W C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U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// use srcB to select between RegB and I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B = (srcB === 0)? RegB : Im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@(A or B or op)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(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'b000001: result = A +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:   result = 32'hxxxxxx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= (result == 32'h00000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  = result[31]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lipArt Placeholder 6" descr="alu1.bmp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34:58Z</dcterms:created>
  <dc:creator>Steven Balensiefer</dc:creator>
  <dc:description/>
  <dc:language>en-US</dc:language>
  <cp:lastModifiedBy>bruceh</cp:lastModifiedBy>
  <cp:lastPrinted>2009-04-22T19:24:48Z</cp:lastPrinted>
  <dcterms:modified xsi:type="dcterms:W3CDTF">2007-05-16T21:15:33Z</dcterms:modified>
  <cp:revision>54</cp:revision>
  <dc:subject/>
  <dc:title>Computer Organization II</dc:title>
</cp:coreProperties>
</file>