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BC2-89DF-4287-9849-6859B6D1B3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of D latches and flip-fl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flip-flops and SR 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65280" y="1498320"/>
            <a:ext cx="7929360" cy="438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flip-flop to a know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at startup,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 logic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ous: Q=0 when next clock edge ar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: Q=0 when reset is ass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n't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tate to logic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ous: Q=1 when next clock edge ar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: Q=1 when reset is ass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n't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5320" y="1476360"/>
            <a:ext cx="7864560" cy="44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characterize logic circ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al circuits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ruth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circuits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draw the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ique circuit configu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draw the transitions between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ransi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anges in state caused by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R l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5320" y="1463760"/>
            <a:ext cx="5207040" cy="32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by drawing the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ique circuit configu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e values for feedback (Q, Q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5532480" y="2602080"/>
            <a:ext cx="762120" cy="749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1880" y="2602080"/>
            <a:ext cx="761760" cy="749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88000" y="3846600"/>
            <a:ext cx="762120" cy="749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95840" y="2665440"/>
            <a:ext cx="64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Q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88000" y="5091120"/>
            <a:ext cx="762120" cy="749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08760" y="2665440"/>
            <a:ext cx="64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Q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38760" y="3922560"/>
            <a:ext cx="64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Q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51720" y="5180040"/>
            <a:ext cx="64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Q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3280" y="3114720"/>
            <a:ext cx="2504520" cy="1620720"/>
            <a:chOff x="1673280" y="3114720"/>
            <a:chExt cx="2504520" cy="16207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1773720" y="3114720"/>
              <a:ext cx="2091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673280" y="33400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3280" y="42796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39680" y="3427920"/>
              <a:ext cx="225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64880" y="4204800"/>
              <a:ext cx="412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R l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5920" y="1417680"/>
            <a:ext cx="340488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draw the state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eling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47880" y="3198960"/>
            <a:ext cx="2504520" cy="1620720"/>
            <a:chOff x="947880" y="3198960"/>
            <a:chExt cx="2504520" cy="162072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1048320" y="3198960"/>
              <a:ext cx="2091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47880" y="342432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47880" y="436392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14280" y="3512160"/>
              <a:ext cx="225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39480" y="4289040"/>
              <a:ext cx="412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437560" y="5332320"/>
            <a:ext cx="2927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ossible oscill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etween states 00 an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457440" y="1670040"/>
            <a:ext cx="5686560" cy="4280040"/>
            <a:chOff x="3457440" y="1670040"/>
            <a:chExt cx="5686560" cy="4280040"/>
          </a:xfrm>
        </p:grpSpPr>
        <p:sp>
          <p:nvSpPr>
            <p:cNvPr id="369" name=""/>
            <p:cNvSpPr/>
            <p:nvPr/>
          </p:nvSpPr>
          <p:spPr>
            <a:xfrm>
              <a:off x="4776840" y="2286000"/>
              <a:ext cx="588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2360" y="2286000"/>
              <a:ext cx="588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4600" y="3573360"/>
              <a:ext cx="588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4600" y="5289480"/>
              <a:ext cx="588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07000" y="2232000"/>
              <a:ext cx="693720" cy="714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02520" y="2232000"/>
              <a:ext cx="693720" cy="714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258400">
              <a:off x="5954760" y="3519000"/>
              <a:ext cx="693720" cy="714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54760" y="5235480"/>
              <a:ext cx="693720" cy="714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86560" y="4336920"/>
              <a:ext cx="1098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/>
            <p:nvPr/>
          </p:nvCxnSpPr>
          <p:spPr>
            <a:xfrm flipV="1" rot="16200000">
              <a:off x="5922360" y="4713840"/>
              <a:ext cx="1134360" cy="115200"/>
            </a:xfrm>
            <a:prstGeom prst="curvedConnector5">
              <a:avLst>
                <a:gd name="adj1" fmla="val 48476"/>
                <a:gd name="adj2" fmla="val 49843"/>
                <a:gd name="adj3" fmla="val 4847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4975200" y="4479840"/>
              <a:ext cx="1052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/>
            <p:nvPr/>
          </p:nvCxnSpPr>
          <p:spPr>
            <a:xfrm rot="5400000">
              <a:off x="5544360" y="4716000"/>
              <a:ext cx="1134360" cy="111960"/>
            </a:xfrm>
            <a:prstGeom prst="curvedConnector5">
              <a:avLst>
                <a:gd name="adj1" fmla="val 51365"/>
                <a:gd name="adj2" fmla="val 50000"/>
                <a:gd name="adj3" fmla="val 5136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1" name=""/>
            <p:cNvSpPr/>
            <p:nvPr/>
          </p:nvSpPr>
          <p:spPr>
            <a:xfrm>
              <a:off x="5816520" y="1670040"/>
              <a:ext cx="91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/>
            <p:nvPr/>
          </p:nvCxnSpPr>
          <p:spPr>
            <a:xfrm flipH="1" rot="16200000">
              <a:off x="6300720" y="1333440"/>
              <a:ext cx="2160" cy="200556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816520" y="2286000"/>
              <a:ext cx="100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/>
            <p:nvPr/>
          </p:nvCxnSpPr>
          <p:spPr>
            <a:xfrm rot="10800000">
              <a:off x="5400000" y="2588400"/>
              <a:ext cx="1802520" cy="10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"/>
            <p:cNvSpPr/>
            <p:nvPr/>
          </p:nvSpPr>
          <p:spPr>
            <a:xfrm>
              <a:off x="8174160" y="1955880"/>
              <a:ext cx="9698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/>
            <p:nvPr/>
          </p:nvCxnSpPr>
          <p:spPr>
            <a:xfrm flipH="1" flipV="1">
              <a:off x="7549560" y="2231640"/>
              <a:ext cx="346680" cy="357840"/>
            </a:xfrm>
            <a:prstGeom prst="curvedConnector5">
              <a:avLst>
                <a:gd name="adj1" fmla="val -59979"/>
                <a:gd name="adj2" fmla="val 79959"/>
                <a:gd name="adj3" fmla="val -5997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7" name=""/>
            <p:cNvSpPr/>
            <p:nvPr/>
          </p:nvSpPr>
          <p:spPr>
            <a:xfrm>
              <a:off x="3457440" y="1955880"/>
              <a:ext cx="982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/>
            <p:nvPr/>
          </p:nvCxnSpPr>
          <p:spPr>
            <a:xfrm flipH="1" rot="10800000">
              <a:off x="4705920" y="2231280"/>
              <a:ext cx="346680" cy="357840"/>
            </a:xfrm>
            <a:prstGeom prst="curvedConnector5">
              <a:avLst>
                <a:gd name="adj1" fmla="val -59979"/>
                <a:gd name="adj2" fmla="val 79959"/>
                <a:gd name="adj3" fmla="val -5997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4707000" y="3952800"/>
              <a:ext cx="1074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/>
            <p:nvPr/>
          </p:nvCxnSpPr>
          <p:spPr>
            <a:xfrm flipH="1" rot="16200000">
              <a:off x="4982760" y="3015000"/>
              <a:ext cx="1065960" cy="9277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1" name=""/>
            <p:cNvSpPr/>
            <p:nvPr/>
          </p:nvSpPr>
          <p:spPr>
            <a:xfrm>
              <a:off x="6845400" y="3952800"/>
              <a:ext cx="91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/>
            <p:nvPr/>
          </p:nvCxnSpPr>
          <p:spPr>
            <a:xfrm rot="5400000">
              <a:off x="6578640" y="3048480"/>
              <a:ext cx="1065960" cy="9277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"/>
            <p:cNvSpPr/>
            <p:nvPr/>
          </p:nvSpPr>
          <p:spPr>
            <a:xfrm>
              <a:off x="7423200" y="4734000"/>
              <a:ext cx="98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1000" y="4707000"/>
              <a:ext cx="1017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5" name=""/>
            <p:cNvCxnSpPr/>
            <p:nvPr/>
          </p:nvCxnSpPr>
          <p:spPr>
            <a:xfrm rot="10800000">
              <a:off x="4807800" y="2842560"/>
              <a:ext cx="1146960" cy="27500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"/>
            <p:cNvCxnSpPr/>
            <p:nvPr/>
          </p:nvCxnSpPr>
          <p:spPr>
            <a:xfrm flipV="1">
              <a:off x="6648480" y="2842560"/>
              <a:ext cx="1148040" cy="27500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5402160" y="2787480"/>
              <a:ext cx="1144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5960" y="2787480"/>
              <a:ext cx="1052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"/>
            <p:cNvCxnSpPr/>
            <p:nvPr/>
          </p:nvCxnSpPr>
          <p:spPr>
            <a:xfrm flipV="1" rot="16200000">
              <a:off x="5193720" y="2948400"/>
              <a:ext cx="894240" cy="682920"/>
            </a:xfrm>
            <a:prstGeom prst="curvedConnector5">
              <a:avLst>
                <a:gd name="adj1" fmla="val 62545"/>
                <a:gd name="adj2" fmla="val 50000"/>
                <a:gd name="adj3" fmla="val 6254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"/>
            <p:cNvCxnSpPr/>
            <p:nvPr/>
          </p:nvCxnSpPr>
          <p:spPr>
            <a:xfrm flipH="1" flipV="1" rot="5400000">
              <a:off x="6542640" y="2981520"/>
              <a:ext cx="894600" cy="682920"/>
            </a:xfrm>
            <a:prstGeom prst="curvedConnector5">
              <a:avLst>
                <a:gd name="adj1" fmla="val 62520"/>
                <a:gd name="adj2" fmla="val 50000"/>
                <a:gd name="adj3" fmla="val 6252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"/>
            <p:cNvSpPr/>
            <p:nvPr/>
          </p:nvSpPr>
          <p:spPr>
            <a:xfrm>
              <a:off x="5816520" y="2943360"/>
              <a:ext cx="1005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" name=""/>
            <p:cNvCxnSpPr/>
            <p:nvPr/>
          </p:nvCxnSpPr>
          <p:spPr>
            <a:xfrm flipH="1" rot="16200000">
              <a:off x="6300360" y="3413520"/>
              <a:ext cx="2520" cy="26604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6094440" y="4089240"/>
              <a:ext cx="415800" cy="1287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40400" y="4735440"/>
              <a:ext cx="138240" cy="14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024600" y="4734720"/>
              <a:ext cx="138240" cy="14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606920" y="4882680"/>
              <a:ext cx="1428840" cy="69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d SR latch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1–1 state is tran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ther R or S “gets ahea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 settles to 0–1 or 1–0 state ambiguous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e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-deterministic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ff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isallow (R,S) = (1,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879480" y="3854520"/>
            <a:ext cx="2505240" cy="1620720"/>
            <a:chOff x="879480" y="3854520"/>
            <a:chExt cx="2505240" cy="162072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979920" y="3854520"/>
              <a:ext cx="20916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79480" y="40798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9480" y="50194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45880" y="4167720"/>
              <a:ext cx="225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440" y="4944600"/>
              <a:ext cx="41328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232080" y="3898800"/>
            <a:ext cx="5799240" cy="1606320"/>
            <a:chOff x="3232080" y="3898800"/>
            <a:chExt cx="5799240" cy="1606320"/>
          </a:xfrm>
        </p:grpSpPr>
        <p:sp>
          <p:nvSpPr>
            <p:cNvPr id="416" name=""/>
            <p:cNvSpPr/>
            <p:nvPr/>
          </p:nvSpPr>
          <p:spPr>
            <a:xfrm>
              <a:off x="8040600" y="4187880"/>
              <a:ext cx="9907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" rIns="16200" tIns="23040" bIns="23040" anchor="t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232080" y="3898800"/>
              <a:ext cx="4737960" cy="1606320"/>
              <a:chOff x="3232080" y="3898800"/>
              <a:chExt cx="4737960" cy="1606320"/>
            </a:xfrm>
          </p:grpSpPr>
          <p:sp>
            <p:nvSpPr>
              <p:cNvPr id="418" name=""/>
              <p:cNvSpPr/>
              <p:nvPr/>
            </p:nvSpPr>
            <p:spPr>
              <a:xfrm>
                <a:off x="4575240" y="4476600"/>
                <a:ext cx="601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3040" bIns="23040" anchor="t">
                <a:noAutofit/>
              </a:bodyPr>
              <a:p>
                <a:pPr algn="ct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 Q'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21520" y="4476600"/>
                <a:ext cx="601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3040" bIns="23040" anchor="t">
                <a:noAutofit/>
              </a:bodyPr>
              <a:p>
                <a:pPr algn="ct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 Q'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  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05400" y="4421160"/>
                <a:ext cx="706320" cy="72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51680" y="4421160"/>
                <a:ext cx="706320" cy="72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35800" y="3898800"/>
                <a:ext cx="9316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3040" bIns="23040" anchor="t">
                <a:noAutofit/>
              </a:bodyPr>
              <a:p>
                <a:pPr algn="ct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3" name=""/>
              <p:cNvCxnSpPr/>
              <p:nvPr/>
            </p:nvCxnSpPr>
            <p:spPr>
              <a:xfrm flipH="1" rot="16200000">
                <a:off x="6130080" y="3503880"/>
                <a:ext cx="2520" cy="2046960"/>
              </a:xfrm>
              <a:prstGeom prst="curvedConnector5">
                <a:avLst>
                  <a:gd name="adj1" fmla="val -21400000"/>
                  <a:gd name="adj2" fmla="val 49991"/>
                  <a:gd name="adj3" fmla="val -214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4" name=""/>
              <p:cNvSpPr/>
              <p:nvPr/>
            </p:nvSpPr>
            <p:spPr>
              <a:xfrm>
                <a:off x="5635800" y="5121360"/>
                <a:ext cx="102708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3040" bIns="23040" anchor="t">
                <a:noAutofit/>
              </a:bodyPr>
              <a:p>
                <a:pPr algn="ct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/>
              <p:nvPr/>
            </p:nvCxnSpPr>
            <p:spPr>
              <a:xfrm flipH="1" flipV="1">
                <a:off x="7403400" y="4420440"/>
                <a:ext cx="354600" cy="362520"/>
              </a:xfrm>
              <a:prstGeom prst="curvedConnector5">
                <a:avLst>
                  <a:gd name="adj1" fmla="val -59959"/>
                  <a:gd name="adj2" fmla="val 79920"/>
                  <a:gd name="adj3" fmla="val -59959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3232080" y="4187880"/>
                <a:ext cx="10018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" rIns="16200" tIns="23040" bIns="23040" anchor="t">
                <a:no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7" name=""/>
              <p:cNvCxnSpPr/>
              <p:nvPr/>
            </p:nvCxnSpPr>
            <p:spPr>
              <a:xfrm flipH="1" rot="10800000">
                <a:off x="4504320" y="4420440"/>
                <a:ext cx="354600" cy="362520"/>
              </a:xfrm>
              <a:prstGeom prst="curvedConnector5">
                <a:avLst>
                  <a:gd name="adj1" fmla="val -59959"/>
                  <a:gd name="adj2" fmla="val 79920"/>
                  <a:gd name="adj3" fmla="val -59959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"/>
              <p:cNvCxnSpPr/>
              <p:nvPr/>
            </p:nvCxnSpPr>
            <p:spPr>
              <a:xfrm flipH="1" rot="16200000">
                <a:off x="6129360" y="4025520"/>
                <a:ext cx="2160" cy="2046960"/>
              </a:xfrm>
              <a:prstGeom prst="curvedConnector5">
                <a:avLst>
                  <a:gd name="adj1" fmla="val 25380000"/>
                  <a:gd name="adj2" fmla="val 49991"/>
                  <a:gd name="adj3" fmla="val 25380000"/>
                </a:avLst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dge-triggered flip-flops wherev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ommon: Master-slave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ules for correct 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flip-flops synchronously (all at the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ip-flop changes state more than once per clock cyc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 propagation delay &gt; hold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mixing positive-edge triggered and negative-edge triggered flip-flops in the same circ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ynchronous in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ed circuit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changes state only at clock 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 (voltages) settle in-between clock ed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locked circuits or signal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ynchrono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master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-world inputs (e.g. a keypress) are asynchron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circuits have asynchronous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t signal, memory wait, user input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“bounc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can change at any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must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ynchronize the inpu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u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will violate flip-flop setup/hold t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oun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71600" y="1412640"/>
            <a:ext cx="7556400" cy="210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inputs bou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e. don’t make clean tran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SR latch for debou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s dynamic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eans-up”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065480" y="3946680"/>
            <a:ext cx="2092320" cy="1620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965400" y="4038480"/>
            <a:ext cx="212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65400" y="4911840"/>
            <a:ext cx="212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32520" y="4248000"/>
            <a:ext cx="225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58080" y="5025960"/>
            <a:ext cx="412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97000" y="5439960"/>
            <a:ext cx="1878120" cy="258840"/>
            <a:chOff x="1197000" y="5439960"/>
            <a:chExt cx="1878120" cy="258840"/>
          </a:xfrm>
        </p:grpSpPr>
        <p:sp>
          <p:nvSpPr>
            <p:cNvPr id="441" name=""/>
            <p:cNvSpPr/>
            <p:nvPr/>
          </p:nvSpPr>
          <p:spPr>
            <a:xfrm>
              <a:off x="1197000" y="5689440"/>
              <a:ext cx="93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135160" y="54432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35160" y="5443560"/>
              <a:ext cx="200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35320" y="5449680"/>
              <a:ext cx="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5320" y="5689440"/>
              <a:ext cx="21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546640" y="543996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46640" y="5445000"/>
              <a:ext cx="52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384960" y="4243320"/>
            <a:ext cx="1877760" cy="246240"/>
            <a:chOff x="6384960" y="4243320"/>
            <a:chExt cx="1877760" cy="246240"/>
          </a:xfrm>
        </p:grpSpPr>
        <p:sp>
          <p:nvSpPr>
            <p:cNvPr id="449" name=""/>
            <p:cNvSpPr/>
            <p:nvPr/>
          </p:nvSpPr>
          <p:spPr>
            <a:xfrm>
              <a:off x="6384960" y="448956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323120" y="4243320"/>
              <a:ext cx="0" cy="2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3120" y="424512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384960" y="5062320"/>
            <a:ext cx="1877760" cy="246240"/>
            <a:chOff x="6384960" y="5062320"/>
            <a:chExt cx="1877760" cy="246240"/>
          </a:xfrm>
        </p:grpSpPr>
        <p:sp>
          <p:nvSpPr>
            <p:cNvPr id="453" name=""/>
            <p:cNvSpPr/>
            <p:nvPr/>
          </p:nvSpPr>
          <p:spPr>
            <a:xfrm>
              <a:off x="6384960" y="506232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23120" y="50626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23120" y="530676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>
            <a:off x="3311640" y="5280120"/>
            <a:ext cx="9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67240" y="4240080"/>
            <a:ext cx="164880" cy="16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92120" y="479916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085840" y="4584240"/>
            <a:ext cx="60660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03400" y="4718160"/>
            <a:ext cx="1652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429080"/>
            <a:ext cx="1648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89200" y="4497480"/>
            <a:ext cx="6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9400" y="4462560"/>
            <a:ext cx="4982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94000" y="4327560"/>
            <a:ext cx="9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67240" y="5197320"/>
            <a:ext cx="164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56000" y="5041800"/>
            <a:ext cx="164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39880" y="511020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84640" y="432108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17760" y="511344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548160" y="4368960"/>
            <a:ext cx="218880" cy="645840"/>
            <a:chOff x="3548160" y="4368960"/>
            <a:chExt cx="218880" cy="645840"/>
          </a:xfrm>
        </p:grpSpPr>
        <p:sp>
          <p:nvSpPr>
            <p:cNvPr id="471" name=""/>
            <p:cNvSpPr/>
            <p:nvPr/>
          </p:nvSpPr>
          <p:spPr>
            <a:xfrm>
              <a:off x="3659040" y="436896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52920" y="4471920"/>
              <a:ext cx="10008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567240" y="4514760"/>
              <a:ext cx="1857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3567240" y="4576680"/>
              <a:ext cx="1857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567240" y="4638600"/>
              <a:ext cx="185760" cy="170640"/>
              <a:chOff x="3567240" y="4638600"/>
              <a:chExt cx="185760" cy="170640"/>
            </a:xfrm>
          </p:grpSpPr>
          <p:sp>
            <p:nvSpPr>
              <p:cNvPr id="476" name=""/>
              <p:cNvSpPr/>
              <p:nvPr/>
            </p:nvSpPr>
            <p:spPr>
              <a:xfrm flipV="1">
                <a:off x="3652920" y="4762080"/>
                <a:ext cx="100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3567240" y="4700520"/>
                <a:ext cx="1857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567240" y="4638600"/>
                <a:ext cx="1857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3659040" y="4811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48160" y="4919400"/>
              <a:ext cx="21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8040" y="4966920"/>
              <a:ext cx="15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11520" y="501480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548160" y="5316480"/>
            <a:ext cx="218880" cy="646200"/>
            <a:chOff x="3548160" y="5316480"/>
            <a:chExt cx="218880" cy="646200"/>
          </a:xfrm>
        </p:grpSpPr>
        <p:sp>
          <p:nvSpPr>
            <p:cNvPr id="484" name=""/>
            <p:cNvSpPr/>
            <p:nvPr/>
          </p:nvSpPr>
          <p:spPr>
            <a:xfrm>
              <a:off x="3659040" y="5316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2920" y="5419800"/>
              <a:ext cx="10008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567240" y="5462640"/>
              <a:ext cx="1857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3567240" y="5524200"/>
              <a:ext cx="18576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567240" y="5586840"/>
              <a:ext cx="185760" cy="171000"/>
              <a:chOff x="3567240" y="5586840"/>
              <a:chExt cx="185760" cy="1710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3652920" y="5710320"/>
                <a:ext cx="100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3567240" y="5648400"/>
                <a:ext cx="18576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567240" y="5586840"/>
                <a:ext cx="18576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659040" y="57592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48160" y="5867280"/>
              <a:ext cx="21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8040" y="5914800"/>
              <a:ext cx="15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11520" y="596268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196640" y="3792240"/>
            <a:ext cx="1878120" cy="258840"/>
            <a:chOff x="1196640" y="3792240"/>
            <a:chExt cx="1878120" cy="258840"/>
          </a:xfrm>
        </p:grpSpPr>
        <p:sp>
          <p:nvSpPr>
            <p:cNvPr id="497" name=""/>
            <p:cNvSpPr/>
            <p:nvPr/>
          </p:nvSpPr>
          <p:spPr>
            <a:xfrm flipH="1">
              <a:off x="2134800" y="4041720"/>
              <a:ext cx="93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136600" y="37954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936440" y="3795840"/>
              <a:ext cx="200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6440" y="3801960"/>
              <a:ext cx="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717200" y="4041720"/>
              <a:ext cx="21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725120" y="379224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1196640" y="3797280"/>
              <a:ext cx="52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79680" y="3592440"/>
            <a:ext cx="4982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9680" y="5229360"/>
            <a:ext cx="4982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4480" y="4027320"/>
            <a:ext cx="1692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39400" y="4826160"/>
            <a:ext cx="1692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r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s when FF input changes near clock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ut is neither 1 or 0 when clock goes hi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ts val="2098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may be neither 0 or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stay undefined for a long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fined state is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ta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3886560" y="2583000"/>
            <a:ext cx="271692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5640" y="258300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3573360"/>
            <a:ext cx="419040" cy="444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88200" y="3560760"/>
            <a:ext cx="444240" cy="46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94440" y="4995720"/>
            <a:ext cx="419040" cy="44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4983120"/>
            <a:ext cx="444600" cy="46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05640" y="4995720"/>
            <a:ext cx="432000" cy="444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983120"/>
            <a:ext cx="432000" cy="46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2440" y="4068720"/>
            <a:ext cx="648000" cy="9144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3880" y="4068720"/>
            <a:ext cx="723960" cy="87624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68880" y="555480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32440" y="5580000"/>
            <a:ext cx="1117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16040" y="413388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543040" y="3676320"/>
            <a:ext cx="266760" cy="46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35360" y="3689280"/>
            <a:ext cx="81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77880" y="4863960"/>
            <a:ext cx="9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530440" y="4412880"/>
            <a:ext cx="266760" cy="44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2400" y="442584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68720" y="4438800"/>
            <a:ext cx="22860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22520" y="4844880"/>
            <a:ext cx="90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676600" y="353052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58800" y="5607000"/>
            <a:ext cx="112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406680" y="5137200"/>
            <a:ext cx="2034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5280" y="514980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12680" y="3753000"/>
            <a:ext cx="559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7040" y="4489560"/>
            <a:ext cx="78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87480" y="521352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3406320" y="5137200"/>
            <a:ext cx="2034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684520" y="5388120"/>
            <a:ext cx="106200" cy="20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95760" y="5359320"/>
            <a:ext cx="610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ing synchronizer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probability can never be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make it sm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cade two (or more) flip-flop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ively synchronizes tw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h would have to fail for system to f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3201840" y="3838680"/>
            <a:ext cx="78768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4680" y="3825720"/>
            <a:ext cx="78732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95720" y="401652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60800" y="402912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52920" y="4016520"/>
            <a:ext cx="34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89520" y="4187880"/>
            <a:ext cx="95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81520" y="398628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40000" y="4191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17880" y="398952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42000" y="4191120"/>
            <a:ext cx="77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6520" y="398952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02160" y="46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08280" y="4911840"/>
            <a:ext cx="30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54640" y="4676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6480" y="3860640"/>
            <a:ext cx="1752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18240" y="3860640"/>
            <a:ext cx="1663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78600" y="4467240"/>
            <a:ext cx="81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94240" y="4016520"/>
            <a:ext cx="34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91280" y="4856040"/>
            <a:ext cx="11736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87680" y="4457520"/>
            <a:ext cx="226800" cy="161640"/>
            <a:chOff x="3487680" y="4457520"/>
            <a:chExt cx="226800" cy="161640"/>
          </a:xfrm>
        </p:grpSpPr>
        <p:sp>
          <p:nvSpPr>
            <p:cNvPr id="562" name=""/>
            <p:cNvSpPr/>
            <p:nvPr/>
          </p:nvSpPr>
          <p:spPr>
            <a:xfrm flipV="1">
              <a:off x="3487680" y="4457520"/>
              <a:ext cx="11268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01800" y="4457880"/>
              <a:ext cx="112680" cy="1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238720" y="4446360"/>
            <a:ext cx="226800" cy="161640"/>
            <a:chOff x="5238720" y="4446360"/>
            <a:chExt cx="226800" cy="161640"/>
          </a:xfrm>
        </p:grpSpPr>
        <p:sp>
          <p:nvSpPr>
            <p:cNvPr id="565" name=""/>
            <p:cNvSpPr/>
            <p:nvPr/>
          </p:nvSpPr>
          <p:spPr>
            <a:xfrm flipV="1">
              <a:off x="5238720" y="4446360"/>
              <a:ext cx="11268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52840" y="4446720"/>
              <a:ext cx="112680" cy="1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30760" y="5070600"/>
            <a:ext cx="4281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 is the sam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while the clock i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18000" y="171576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94200" y="2304720"/>
            <a:ext cx="4508280" cy="1866600"/>
            <a:chOff x="3994200" y="2304720"/>
            <a:chExt cx="4508280" cy="1866600"/>
          </a:xfrm>
        </p:grpSpPr>
        <p:sp>
          <p:nvSpPr>
            <p:cNvPr id="46" name=""/>
            <p:cNvSpPr/>
            <p:nvPr/>
          </p:nvSpPr>
          <p:spPr>
            <a:xfrm flipV="1">
              <a:off x="399420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7451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4975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2485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70009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775188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502480" y="2304720"/>
              <a:ext cx="0" cy="183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841480" y="1876320"/>
            <a:ext cx="695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1800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942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420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704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0400" y="223344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7451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516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213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2136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975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9756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723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723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2485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47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0009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0092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56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7568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7518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5188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280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28080" y="223344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02160" y="3672000"/>
            <a:ext cx="40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0536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05360" y="34466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36720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01208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2080" y="3446640"/>
            <a:ext cx="75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6304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63040" y="36720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3600" y="4424400"/>
            <a:ext cx="41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0536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05360" y="41990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4244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01208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2080" y="4199040"/>
            <a:ext cx="1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44244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8390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9000" y="4199040"/>
            <a:ext cx="14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884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88400" y="4424400"/>
            <a:ext cx="52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ches versus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616200" y="2711160"/>
            <a:ext cx="4884840" cy="232200"/>
            <a:chOff x="3616200" y="2711160"/>
            <a:chExt cx="4884840" cy="232200"/>
          </a:xfrm>
        </p:grpSpPr>
        <p:sp>
          <p:nvSpPr>
            <p:cNvPr id="103" name=""/>
            <p:cNvSpPr/>
            <p:nvPr/>
          </p:nvSpPr>
          <p:spPr>
            <a:xfrm>
              <a:off x="3616200" y="294336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91644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16440" y="2716200"/>
              <a:ext cx="142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449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44920" y="2943360"/>
              <a:ext cx="66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828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8280" y="271620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485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8520" y="294336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82460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24600" y="271620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7544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75440" y="2943360"/>
              <a:ext cx="52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999040" y="27111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99040" y="271152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9880" y="271152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8440" y="2943360"/>
              <a:ext cx="70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88840" y="1892160"/>
            <a:ext cx="1362240" cy="1246320"/>
            <a:chOff x="888840" y="1892160"/>
            <a:chExt cx="1362240" cy="1246320"/>
          </a:xfrm>
        </p:grpSpPr>
        <p:sp>
          <p:nvSpPr>
            <p:cNvPr id="121" name=""/>
            <p:cNvSpPr/>
            <p:nvPr/>
          </p:nvSpPr>
          <p:spPr>
            <a:xfrm>
              <a:off x="1104840" y="1892160"/>
              <a:ext cx="90828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62080" y="2090880"/>
              <a:ext cx="168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1840" y="2090880"/>
              <a:ext cx="1789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8840" y="217800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23920" y="217800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0600" y="2822400"/>
              <a:ext cx="144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61840" y="2476440"/>
              <a:ext cx="1789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3920" y="254016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17800" y="2489040"/>
              <a:ext cx="12384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28760" y="3189240"/>
            <a:ext cx="71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88840" y="4016520"/>
            <a:ext cx="1362240" cy="1674720"/>
            <a:chOff x="888840" y="4016520"/>
            <a:chExt cx="1362240" cy="1674720"/>
          </a:xfrm>
        </p:grpSpPr>
        <p:grpSp>
          <p:nvGrpSpPr>
            <p:cNvPr id="132" name=""/>
            <p:cNvGrpSpPr/>
            <p:nvPr/>
          </p:nvGrpSpPr>
          <p:grpSpPr>
            <a:xfrm>
              <a:off x="888840" y="4016520"/>
              <a:ext cx="1362240" cy="1674720"/>
              <a:chOff x="888840" y="4016520"/>
              <a:chExt cx="1362240" cy="1674720"/>
            </a:xfrm>
          </p:grpSpPr>
          <p:sp>
            <p:nvSpPr>
              <p:cNvPr id="133" name=""/>
              <p:cNvSpPr/>
              <p:nvPr/>
            </p:nvSpPr>
            <p:spPr>
              <a:xfrm>
                <a:off x="1104840" y="4016520"/>
                <a:ext cx="907920" cy="9176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62080" y="4214880"/>
                <a:ext cx="168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61840" y="4214880"/>
                <a:ext cx="1789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8840" y="430236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23920" y="430236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0600" y="4946760"/>
                <a:ext cx="1440" cy="316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61840" y="4600800"/>
                <a:ext cx="1789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23920" y="4664160"/>
                <a:ext cx="227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17800" y="4613400"/>
                <a:ext cx="123840" cy="1112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28760" y="5313600"/>
                <a:ext cx="71100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430280" y="4707000"/>
              <a:ext cx="226800" cy="162000"/>
              <a:chOff x="1430280" y="4707000"/>
              <a:chExt cx="226800" cy="16200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430280" y="4707000"/>
                <a:ext cx="11268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44400" y="4707000"/>
                <a:ext cx="112680" cy="15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30240" y="2795760"/>
            <a:ext cx="3371760" cy="3390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531800" y="3200040"/>
            <a:ext cx="2219400" cy="26067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asynchronous in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ver fan-out asynchronous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e at circuit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n-out synchronized sig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2647800" y="3637080"/>
            <a:ext cx="4827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01440" y="3718080"/>
            <a:ext cx="146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48400" y="3718080"/>
            <a:ext cx="157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47800" y="4713120"/>
            <a:ext cx="4827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01440" y="4794120"/>
            <a:ext cx="146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48400" y="4794120"/>
            <a:ext cx="157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6680" y="3770280"/>
            <a:ext cx="1332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168280" y="3757680"/>
            <a:ext cx="4680" cy="11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85920" y="4832280"/>
            <a:ext cx="468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76400" y="3106800"/>
            <a:ext cx="76320" cy="26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37040" y="3770280"/>
            <a:ext cx="671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4870440"/>
            <a:ext cx="696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08440" y="4398840"/>
            <a:ext cx="144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08440" y="4525920"/>
            <a:ext cx="785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08440" y="5478480"/>
            <a:ext cx="144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08440" y="5603760"/>
            <a:ext cx="861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76960" y="3554280"/>
            <a:ext cx="270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60880" y="4299120"/>
            <a:ext cx="5522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98680" y="5389560"/>
            <a:ext cx="5522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15120" y="4667400"/>
            <a:ext cx="270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2920" y="3541680"/>
            <a:ext cx="665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41000" y="3844800"/>
            <a:ext cx="494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70680" y="3611520"/>
            <a:ext cx="4827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24320" y="3693960"/>
            <a:ext cx="146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71280" y="3693960"/>
            <a:ext cx="157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70680" y="4700520"/>
            <a:ext cx="4827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24320" y="4781520"/>
            <a:ext cx="146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71280" y="4781520"/>
            <a:ext cx="157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2360" y="3757680"/>
            <a:ext cx="1800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08800" y="3757680"/>
            <a:ext cx="1440" cy="10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08800" y="4819680"/>
            <a:ext cx="468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40480" y="3086280"/>
            <a:ext cx="74520" cy="268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59560" y="3757680"/>
            <a:ext cx="671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46960" y="4844880"/>
            <a:ext cx="696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0960" y="4363920"/>
            <a:ext cx="180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02360" y="4491000"/>
            <a:ext cx="1914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230960" y="5465880"/>
            <a:ext cx="180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30960" y="5591160"/>
            <a:ext cx="862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99840" y="3529080"/>
            <a:ext cx="270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85200" y="4275000"/>
            <a:ext cx="5522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3000" y="5376960"/>
            <a:ext cx="5522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38000" y="4654440"/>
            <a:ext cx="270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7920" y="3529080"/>
            <a:ext cx="665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86000" y="3819600"/>
            <a:ext cx="494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43520" y="3611520"/>
            <a:ext cx="4809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84560" y="3693960"/>
            <a:ext cx="146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42320" y="3693960"/>
            <a:ext cx="157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102360" y="4363560"/>
            <a:ext cx="1440" cy="12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502320" y="3738600"/>
            <a:ext cx="38160" cy="50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205760" y="4465800"/>
            <a:ext cx="38160" cy="37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95480" y="2965320"/>
            <a:ext cx="140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Synchron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17880" y="3703680"/>
            <a:ext cx="11736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5979960" y="4163760"/>
            <a:ext cx="226800" cy="161640"/>
            <a:chOff x="5979960" y="4163760"/>
            <a:chExt cx="226800" cy="161640"/>
          </a:xfrm>
        </p:grpSpPr>
        <p:sp>
          <p:nvSpPr>
            <p:cNvPr id="624" name=""/>
            <p:cNvSpPr/>
            <p:nvPr/>
          </p:nvSpPr>
          <p:spPr>
            <a:xfrm flipV="1">
              <a:off x="5979960" y="4163760"/>
              <a:ext cx="11268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4080" y="4164120"/>
              <a:ext cx="112680" cy="1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107120" y="4160880"/>
            <a:ext cx="226800" cy="162000"/>
            <a:chOff x="7107120" y="4160880"/>
            <a:chExt cx="226800" cy="162000"/>
          </a:xfrm>
        </p:grpSpPr>
        <p:sp>
          <p:nvSpPr>
            <p:cNvPr id="627" name=""/>
            <p:cNvSpPr/>
            <p:nvPr/>
          </p:nvSpPr>
          <p:spPr>
            <a:xfrm flipV="1">
              <a:off x="7107120" y="4160880"/>
              <a:ext cx="11268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21240" y="4160880"/>
              <a:ext cx="112680" cy="15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107120" y="5241960"/>
            <a:ext cx="226800" cy="162000"/>
            <a:chOff x="7107120" y="5241960"/>
            <a:chExt cx="226800" cy="162000"/>
          </a:xfrm>
        </p:grpSpPr>
        <p:sp>
          <p:nvSpPr>
            <p:cNvPr id="630" name=""/>
            <p:cNvSpPr/>
            <p:nvPr/>
          </p:nvSpPr>
          <p:spPr>
            <a:xfrm flipV="1">
              <a:off x="7107120" y="5241960"/>
              <a:ext cx="11268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21240" y="5241960"/>
              <a:ext cx="112680" cy="15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79560" y="4194000"/>
            <a:ext cx="226800" cy="162000"/>
            <a:chOff x="2779560" y="4194000"/>
            <a:chExt cx="226800" cy="162000"/>
          </a:xfrm>
        </p:grpSpPr>
        <p:sp>
          <p:nvSpPr>
            <p:cNvPr id="633" name=""/>
            <p:cNvSpPr/>
            <p:nvPr/>
          </p:nvSpPr>
          <p:spPr>
            <a:xfrm flipV="1">
              <a:off x="2779560" y="4194000"/>
              <a:ext cx="11268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93680" y="4194000"/>
              <a:ext cx="112680" cy="15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779560" y="5263920"/>
            <a:ext cx="226800" cy="161640"/>
            <a:chOff x="2779560" y="5263920"/>
            <a:chExt cx="226800" cy="161640"/>
          </a:xfrm>
        </p:grpSpPr>
        <p:sp>
          <p:nvSpPr>
            <p:cNvPr id="636" name=""/>
            <p:cNvSpPr/>
            <p:nvPr/>
          </p:nvSpPr>
          <p:spPr>
            <a:xfrm flipV="1">
              <a:off x="2779560" y="5263920"/>
              <a:ext cx="11268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3680" y="5264280"/>
              <a:ext cx="112680" cy="1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 flipH="1">
            <a:off x="6291360" y="3209760"/>
            <a:ext cx="234720" cy="365400"/>
          </a:xfrm>
          <a:prstGeom prst="line">
            <a:avLst/>
          </a:prstGeom>
          <a:ln w="19080">
            <a:solidFill>
              <a:srgbClr val="d6009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ster-slav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67984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6720" y="2505240"/>
            <a:ext cx="168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36480" y="2505240"/>
            <a:ext cx="178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78120" y="2587680"/>
            <a:ext cx="812520" cy="6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524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8760" y="341964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71800" y="2459160"/>
            <a:ext cx="622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8424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2136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78240" y="2505240"/>
            <a:ext cx="168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8000" y="2505240"/>
            <a:ext cx="178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40440" y="2592360"/>
            <a:ext cx="911160" cy="6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7676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26840" y="2457360"/>
            <a:ext cx="805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576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lave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0800" y="3228840"/>
            <a:ext cx="136440" cy="123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76600" y="2567160"/>
            <a:ext cx="15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5434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70080" y="3473280"/>
            <a:ext cx="136800" cy="123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1806480"/>
            <a:ext cx="4224240" cy="2308320"/>
          </a:xfrm>
          <a:prstGeom prst="rect">
            <a:avLst/>
          </a:prstGeom>
          <a:noFill/>
          <a:ln w="1908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74960" y="3733920"/>
            <a:ext cx="2925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-slave D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20920" y="4786200"/>
            <a:ext cx="5661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example: Draw the timing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ake a latch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nverters hold a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long as power is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new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rily break the feedback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084480" y="2913120"/>
            <a:ext cx="2541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84480" y="3090600"/>
            <a:ext cx="2541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1880" y="291312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1240" y="306540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8880" y="2913120"/>
            <a:ext cx="2541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998880" y="3090600"/>
            <a:ext cx="2541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6280" y="291312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9960" y="3065400"/>
            <a:ext cx="50760" cy="63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97360" y="306540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78240" y="310356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7920" y="3065400"/>
            <a:ext cx="50760" cy="6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6640" y="310356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8680" y="31035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4040" y="262080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6640" y="2608200"/>
            <a:ext cx="15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56080" y="262080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03440" y="3103560"/>
            <a:ext cx="4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0160" y="2786040"/>
            <a:ext cx="507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2290680"/>
            <a:ext cx="507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1440" y="2887560"/>
            <a:ext cx="1790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ored bi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10080" y="5484960"/>
            <a:ext cx="25380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10080" y="5662440"/>
            <a:ext cx="253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97120" y="54849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6840" y="563724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24480" y="5484960"/>
            <a:ext cx="25380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24480" y="5662440"/>
            <a:ext cx="253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11520" y="54849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5560" y="5637240"/>
            <a:ext cx="50760" cy="6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2600" y="5637240"/>
            <a:ext cx="6372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3840" y="567540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43520" y="5637240"/>
            <a:ext cx="507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56754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81480" y="5637240"/>
            <a:ext cx="507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94280" y="56754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2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2240" y="51800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81680" y="5192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8080" y="5675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27600" y="567540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790720" y="5605560"/>
            <a:ext cx="40032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78120" y="564372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1200" y="564372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3800" y="56754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022640" y="4982760"/>
            <a:ext cx="34308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10040" y="514836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2760" y="51483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2600" y="51800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4200" y="4697280"/>
            <a:ext cx="1600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remembe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84520" y="5289480"/>
            <a:ext cx="72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ad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27080" y="5494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da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64080" y="5459400"/>
            <a:ext cx="1790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ored bi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ake a D F/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43131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 triggering is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el the internal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timing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Clk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73520" y="2189160"/>
            <a:ext cx="3743280" cy="3222720"/>
            <a:chOff x="4673520" y="2189160"/>
            <a:chExt cx="3743280" cy="322272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097600" y="2189160"/>
              <a:ext cx="321768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213760" y="3400560"/>
              <a:ext cx="2030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41800" y="5030640"/>
              <a:ext cx="193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3520" y="3765600"/>
              <a:ext cx="568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5600" y="2467080"/>
              <a:ext cx="2552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5960" y="4325760"/>
              <a:ext cx="191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5960" y="2948040"/>
              <a:ext cx="191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5600" y="4865760"/>
              <a:ext cx="178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13760" y="395136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flip-fl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2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name: Toggle flip-f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toggles when input is ass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=1, then 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'  when CL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=0, then 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  when CL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600280" y="4214880"/>
            <a:ext cx="55872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5960" y="4411800"/>
            <a:ext cx="53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59000" y="4411800"/>
            <a:ext cx="43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84280" y="4792680"/>
            <a:ext cx="20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16000" y="5389560"/>
            <a:ext cx="35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78160" y="4799160"/>
            <a:ext cx="0" cy="58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58840" y="5207040"/>
            <a:ext cx="82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81480" y="4048200"/>
            <a:ext cx="57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31960" y="42260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24280" y="4226040"/>
            <a:ext cx="25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31960" y="462276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27600" y="4006800"/>
            <a:ext cx="310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      Q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       Q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73840" y="4078440"/>
            <a:ext cx="7920" cy="14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48280" y="45277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9960" y="45277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53440" y="45277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8280" y="48085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48085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53440" y="48085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48280" y="50911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9960" y="50911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53440" y="509112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8280" y="537228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9960" y="537228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53440" y="5372280"/>
            <a:ext cx="131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98480" y="4048200"/>
            <a:ext cx="57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62440" y="4362480"/>
            <a:ext cx="336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R l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33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upled N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et (S=1, R=0) or reset (R=1, S=0) the outpu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upled NAND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et (S=1, R=0) or reset (R=1, S=0) th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524400" y="2114640"/>
            <a:ext cx="2504520" cy="1622160"/>
            <a:chOff x="3524400" y="2114640"/>
            <a:chExt cx="2504520" cy="162216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3624840" y="2114640"/>
              <a:ext cx="209124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524400" y="2340000"/>
              <a:ext cx="212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24400" y="3280680"/>
              <a:ext cx="212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90800" y="2427840"/>
              <a:ext cx="225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16000" y="3205440"/>
              <a:ext cx="4129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524400" y="4522680"/>
            <a:ext cx="2466360" cy="1622520"/>
            <a:chOff x="3524400" y="4522680"/>
            <a:chExt cx="2466360" cy="162252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599280" y="4522680"/>
              <a:ext cx="2091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53000" y="4823280"/>
              <a:ext cx="225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77840" y="5601240"/>
              <a:ext cx="4129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4400" y="4748400"/>
              <a:ext cx="36288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24400" y="5713920"/>
              <a:ext cx="4507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 latch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th table and 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81120" y="3895560"/>
            <a:ext cx="7518240" cy="21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83040" y="444168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70560" y="4454640"/>
            <a:ext cx="119376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81120" y="3895560"/>
            <a:ext cx="7505640" cy="2095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57360" y="378144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2200" y="376884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3240" y="3781440"/>
            <a:ext cx="6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43560" y="3781440"/>
            <a:ext cx="6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68840" y="378144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0000" y="3768840"/>
            <a:ext cx="838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7240" y="4371840"/>
            <a:ext cx="3938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09720" y="4403880"/>
            <a:ext cx="5713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9360" y="384480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1520" y="3844800"/>
            <a:ext cx="838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54360" y="1892160"/>
            <a:ext cx="2504520" cy="1621080"/>
            <a:chOff x="1854360" y="1892160"/>
            <a:chExt cx="2504520" cy="1621080"/>
          </a:xfrm>
        </p:grpSpPr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1954800" y="1892160"/>
              <a:ext cx="2091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854360" y="211752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54360" y="30574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0760" y="2205360"/>
              <a:ext cx="225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45960" y="2982240"/>
              <a:ext cx="412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678640" y="1825560"/>
            <a:ext cx="2117160" cy="1781280"/>
            <a:chOff x="5678640" y="1825560"/>
            <a:chExt cx="2117160" cy="1781280"/>
          </a:xfrm>
        </p:grpSpPr>
        <p:sp>
          <p:nvSpPr>
            <p:cNvPr id="300" name=""/>
            <p:cNvSpPr/>
            <p:nvPr/>
          </p:nvSpPr>
          <p:spPr>
            <a:xfrm>
              <a:off x="5703480" y="1825560"/>
              <a:ext cx="2092320" cy="17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dis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678640" y="1875600"/>
              <a:ext cx="2029680" cy="1392120"/>
              <a:chOff x="5678640" y="1875600"/>
              <a:chExt cx="2029680" cy="139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543000" y="1875600"/>
                <a:ext cx="0" cy="139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78640" y="2138760"/>
                <a:ext cx="202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1855800" y="4076640"/>
            <a:ext cx="14400" cy="480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81360" y="4076640"/>
            <a:ext cx="282240" cy="1009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25720" y="4076640"/>
            <a:ext cx="14400" cy="561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1280" y="4076640"/>
            <a:ext cx="282600" cy="1009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598920" y="4100400"/>
            <a:ext cx="185760" cy="574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100400"/>
            <a:ext cx="0" cy="8463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69000" y="4087800"/>
            <a:ext cx="185760" cy="4827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9960" y="4087800"/>
            <a:ext cx="0" cy="96372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200" y="4111560"/>
            <a:ext cx="14400" cy="561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19760" y="4111560"/>
            <a:ext cx="236520" cy="8463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738920" y="4122720"/>
            <a:ext cx="479520" cy="117648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950240" y="4122720"/>
            <a:ext cx="293760" cy="157644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 latch is glitch 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0 hazards can set/reset l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tch on S input sets lat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tch on R input resets l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3708360"/>
            <a:ext cx="2092320" cy="1620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679920" y="3922560"/>
            <a:ext cx="212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79920" y="4673520"/>
            <a:ext cx="212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6680" y="4010040"/>
            <a:ext cx="225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72240" y="4788000"/>
            <a:ext cx="412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24080" y="5124600"/>
            <a:ext cx="93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262240" y="4878360"/>
            <a:ext cx="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2240" y="4878360"/>
            <a:ext cx="19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62040" y="488484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62040" y="5124600"/>
            <a:ext cx="84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99120" y="4005000"/>
            <a:ext cx="1877760" cy="246240"/>
            <a:chOff x="6099120" y="4005000"/>
            <a:chExt cx="1877760" cy="246240"/>
          </a:xfrm>
        </p:grpSpPr>
        <p:sp>
          <p:nvSpPr>
            <p:cNvPr id="329" name=""/>
            <p:cNvSpPr/>
            <p:nvPr/>
          </p:nvSpPr>
          <p:spPr>
            <a:xfrm>
              <a:off x="6099120" y="425124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037280" y="40050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37280" y="400680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099120" y="4824360"/>
            <a:ext cx="1877760" cy="246240"/>
            <a:chOff x="6099120" y="4824360"/>
            <a:chExt cx="1877760" cy="246240"/>
          </a:xfrm>
        </p:grpSpPr>
        <p:sp>
          <p:nvSpPr>
            <p:cNvPr id="333" name=""/>
            <p:cNvSpPr/>
            <p:nvPr/>
          </p:nvSpPr>
          <p:spPr>
            <a:xfrm>
              <a:off x="6099120" y="482436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37280" y="4824360"/>
              <a:ext cx="0" cy="2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37280" y="506880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324080" y="4167360"/>
            <a:ext cx="196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55880" y="3978360"/>
            <a:ext cx="1692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55880" y="4944960"/>
            <a:ext cx="1692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19T20:09:20Z</cp:lastPrinted>
  <dcterms:modified xsi:type="dcterms:W3CDTF">2004-11-03T17:07:57Z</dcterms:modified>
  <cp:revision>605</cp:revision>
  <dc:subject>CSE370</dc:subject>
  <dc:title>Lecture1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