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957040" y="553680"/>
            <a:ext cx="3691080" cy="276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convince yourself that the row matching method doesn’t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of the other left as an exercise to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’re a skeptical sort of person, you might ask, “why would anyone ever design the top state mach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this small is a little silly, but this kind of thing really happens on a large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s in the traces are just f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263-1A4C-418D-93CE-2EA7D9994F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 Brai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w match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ication chart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s about minimization and 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the matching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1397160"/>
          <a:ext cx="6858000" cy="4520880"/>
        </p:xfrm>
        <a:graphic>
          <a:graphicData uri="http://schemas.openxmlformats.org/drawingml/2006/table">
            <a:tbl>
              <a:tblPr/>
              <a:tblGrid>
                <a:gridCol w="1916280"/>
                <a:gridCol w="1685880"/>
                <a:gridCol w="958680"/>
                <a:gridCol w="808200"/>
                <a:gridCol w="726840"/>
                <a:gridCol w="762120"/>
              </a:tblGrid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x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equ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 or 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until no more rows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1397160"/>
          <a:ext cx="6858000" cy="3108240"/>
        </p:xfrm>
        <a:graphic>
          <a:graphicData uri="http://schemas.openxmlformats.org/drawingml/2006/table">
            <a:tbl>
              <a:tblPr/>
              <a:tblGrid>
                <a:gridCol w="1916280"/>
                <a:gridCol w="1685880"/>
                <a:gridCol w="958680"/>
                <a:gridCol w="808200"/>
                <a:gridCol w="726840"/>
                <a:gridCol w="762120"/>
              </a:tblGrid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x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equ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e00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(011 or 10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 or 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nal state 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43000" y="1397160"/>
          <a:ext cx="6858000" cy="2543040"/>
        </p:xfrm>
        <a:graphic>
          <a:graphicData uri="http://schemas.openxmlformats.org/drawingml/2006/table">
            <a:tbl>
              <a:tblPr/>
              <a:tblGrid>
                <a:gridCol w="1916280"/>
                <a:gridCol w="1685880"/>
                <a:gridCol w="958680"/>
                <a:gridCol w="808200"/>
                <a:gridCol w="726840"/>
                <a:gridCol w="762120"/>
              </a:tblGrid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x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equ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 or 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 or 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(011 or 10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 or 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re efficient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98920" y="1365120"/>
            <a:ext cx="19447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mplication table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’s a slightly funkier F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25680" y="1803240"/>
            <a:ext cx="24926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Draw th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36840" y="1422360"/>
            <a:ext cx="66434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Consider the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1422360"/>
            <a:ext cx="607032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Add transition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36840" y="1424160"/>
            <a:ext cx="60703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4 (repeated): Consider trans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36840" y="1424160"/>
            <a:ext cx="60703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reduced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03840" y="1514520"/>
            <a:ext cx="13348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Min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imple FSMs for odd parit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9400" y="2179800"/>
            <a:ext cx="52452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ing FSMs isn’t always g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FSMs for 0-&gt;1 edge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61920" y="1906560"/>
            <a:ext cx="721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mplementation of the first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66920" y="2595600"/>
            <a:ext cx="6410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ttle persp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kinds of optimizations are what CAD(Computer Aided Design)/EDA(Electronic Design Automation) is all ab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esting problems are almost always computationally intractable to solve optim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re about the automation of the design of billion-transistor c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next few l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about F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and tricks for improv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psing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ake the top machine match the bottom machine by collapsing states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to on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9400" y="2171880"/>
            <a:ext cx="5245200" cy="40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 on the 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say we start with this FSM for even parit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54080" y="2657520"/>
            <a:ext cx="373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 on the 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n enterprising engineer comes along and says, “Hey, we can turn our even parity checker into an odd parity checker by just adding one state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60560" y="2658960"/>
            <a:ext cx="52452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ethods for FSM Min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do by h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ses minimization opport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pessim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ca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to find the most reduced F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mplicated algorithm (but still relatively easy to write a program to do 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ptim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 Mealy machine with a single bit input and a single bit output.  The machine should output a 0, except once every four cycles, if the previous four inputs matched one of two patterns (0110, 1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input/output tra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10 0110 1100 1010 0011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 0001 0000 0001 0000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simple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520" y="1384200"/>
            <a:ext cx="883296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matching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1397160"/>
          <a:ext cx="6858000" cy="4803480"/>
        </p:xfrm>
        <a:graphic>
          <a:graphicData uri="http://schemas.openxmlformats.org/drawingml/2006/table">
            <a:tbl>
              <a:tblPr/>
              <a:tblGrid>
                <a:gridCol w="1916280"/>
                <a:gridCol w="1685880"/>
                <a:gridCol w="958680"/>
                <a:gridCol w="808200"/>
                <a:gridCol w="726840"/>
                <a:gridCol w="762120"/>
              </a:tblGrid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x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equ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S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=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27000" bIns="27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0:48:04Z</dcterms:created>
  <dc:creator>Benjamin Ylvisaker</dc:creator>
  <dc:description/>
  <cp:keywords/>
  <dc:language>en-US</dc:language>
  <cp:lastModifiedBy>Bruce Hemingway</cp:lastModifiedBy>
  <cp:lastPrinted>2007-04-13T21:27:11Z</cp:lastPrinted>
  <dcterms:modified xsi:type="dcterms:W3CDTF">2008-02-04T19:09:12Z</dcterms:modified>
  <cp:revision>30</cp:revision>
  <dc:subject>CSE370</dc:subject>
  <dc:title>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833208863</vt:r8>
  </property>
  <property fmtid="{D5CDD505-2E9C-101B-9397-08002B2CF9AE}" pid="23" name="_AuthorEmail">
    <vt:lpwstr>bruceh@cs.washington.edu</vt:lpwstr>
  </property>
  <property fmtid="{D5CDD505-2E9C-101B-9397-08002B2CF9AE}" pid="24" name="_AuthorEmailDisplayName">
    <vt:lpwstr>Bruce Hemingway</vt:lpwstr>
  </property>
  <property fmtid="{D5CDD505-2E9C-101B-9397-08002B2CF9AE}" pid="25" name="_EmailSubject">
    <vt:lpwstr>lectures</vt:lpwstr>
  </property>
  <property fmtid="{D5CDD505-2E9C-101B-9397-08002B2CF9AE}" pid="26" name="_NewReviewCycle">
    <vt:lpwstr/>
  </property>
</Properties>
</file>