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25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25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25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D67D-6D3E-4C5E-A414-34ED4D4D7F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image" Target="../media/image8.pct"/><Relationship Id="rId6" Type="http://schemas.openxmlformats.org/officeDocument/2006/relationships/image" Target="../media/image9.pct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r>
              <a:rPr b="0" lang="en-US" sz="3200" spc="-1" strike="noStrike">
                <a:solidFill>
                  <a:srgbClr val="000000"/>
                </a:solidFill>
                <a:latin typeface="Fenc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Minim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quential Logic Examp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28720" y="2181240"/>
            <a:ext cx="595008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774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Timer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teger   val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S = (value &gt;=  4); //  5 cycles after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L = (value &gt;= 14); // 15 cycles after res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ST) value = 0; // async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 value = value +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r for traffic light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other FS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27160" y="2633760"/>
            <a:ext cx="685152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774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main(HR, HY, HG, FR, FY, FG, reset, C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output HR, HY, HG, FR, FY, FG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nput  reset, C, Clk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Timer part1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FSM   part2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traffic light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ing it all together (FSM + tim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313320" y="4513320"/>
            <a:ext cx="1803600" cy="90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13320" y="5867280"/>
            <a:ext cx="1803600" cy="45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07080" y="4619520"/>
            <a:ext cx="12034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1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96160" y="5873760"/>
            <a:ext cx="625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1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57920" y="542916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46840" y="542916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72240" y="542916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21640" y="5535720"/>
            <a:ext cx="627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2520" y="553572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30800" y="54482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29520" y="46069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29520" y="474516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29520" y="488304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29520" y="502128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29520" y="51595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129520" y="529740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2600" y="487044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62600" y="500868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929120" y="5278320"/>
            <a:ext cx="369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s advance in lock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 inputs/outputs: X = 0, Y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041800" y="2633760"/>
            <a:ext cx="3156120" cy="2181240"/>
            <a:chOff x="5041800" y="2633760"/>
            <a:chExt cx="3156120" cy="2181240"/>
          </a:xfrm>
        </p:grpSpPr>
        <p:sp>
          <p:nvSpPr>
            <p:cNvPr id="199" name=""/>
            <p:cNvSpPr/>
            <p:nvPr/>
          </p:nvSpPr>
          <p:spPr>
            <a:xfrm>
              <a:off x="6224760" y="3022200"/>
              <a:ext cx="28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219000" y="2752560"/>
              <a:ext cx="0" cy="27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943240" y="2752560"/>
              <a:ext cx="0" cy="27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9360" y="2759040"/>
              <a:ext cx="26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01120" y="302220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794640" y="2752560"/>
              <a:ext cx="0" cy="27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19240" y="2752560"/>
              <a:ext cx="0" cy="27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25720" y="2759040"/>
              <a:ext cx="26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64880" y="302220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7358400" y="2752560"/>
              <a:ext cx="0" cy="27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7083000" y="2752560"/>
              <a:ext cx="0" cy="27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89120" y="2759040"/>
              <a:ext cx="26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28280" y="3022200"/>
              <a:ext cx="26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921800" y="2752560"/>
              <a:ext cx="0" cy="27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659360" y="2752560"/>
              <a:ext cx="0" cy="27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65120" y="275904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798880" y="302220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3240" y="2633760"/>
              <a:ext cx="0" cy="21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19240" y="2633760"/>
              <a:ext cx="0" cy="215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83000" y="2633760"/>
              <a:ext cx="0" cy="215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59360" y="2633760"/>
              <a:ext cx="0" cy="215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97920" y="2633760"/>
              <a:ext cx="0" cy="215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41800" y="2733840"/>
              <a:ext cx="650880" cy="20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1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2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49360" y="3862080"/>
              <a:ext cx="67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644520" y="3555000"/>
              <a:ext cx="0" cy="31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51000" y="3561480"/>
              <a:ext cx="113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96880" y="3567600"/>
              <a:ext cx="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03000" y="3862080"/>
              <a:ext cx="38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49360" y="4677120"/>
              <a:ext cx="127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233120" y="4407480"/>
              <a:ext cx="0" cy="27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39600" y="4413960"/>
              <a:ext cx="95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69720" y="3160080"/>
              <a:ext cx="287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33120" y="3160080"/>
              <a:ext cx="275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1680" y="3160080"/>
              <a:ext cx="287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69720" y="4037760"/>
              <a:ext cx="3002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20880" y="4037760"/>
              <a:ext cx="2876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84280" y="4037760"/>
              <a:ext cx="3006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052640" y="2406600"/>
            <a:ext cx="2993400" cy="1234800"/>
            <a:chOff x="1052640" y="2406600"/>
            <a:chExt cx="2993400" cy="1234800"/>
          </a:xfrm>
        </p:grpSpPr>
        <p:sp>
          <p:nvSpPr>
            <p:cNvPr id="237" name=""/>
            <p:cNvSpPr/>
            <p:nvPr/>
          </p:nvSpPr>
          <p:spPr>
            <a:xfrm>
              <a:off x="1052640" y="2462760"/>
              <a:ext cx="976680" cy="1178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08880" y="2908080"/>
              <a:ext cx="66348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56760" y="2462760"/>
              <a:ext cx="989280" cy="1166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13360" y="2908080"/>
              <a:ext cx="738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86440" y="2406600"/>
              <a:ext cx="2502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86440" y="3146040"/>
              <a:ext cx="2502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29320" y="2657520"/>
              <a:ext cx="10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016720" y="3396960"/>
              <a:ext cx="10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1720" y="4062240"/>
            <a:ext cx="1954080" cy="2187360"/>
            <a:chOff x="531720" y="4062240"/>
            <a:chExt cx="1954080" cy="2187360"/>
          </a:xfrm>
        </p:grpSpPr>
        <p:grpSp>
          <p:nvGrpSpPr>
            <p:cNvPr id="246" name=""/>
            <p:cNvGrpSpPr/>
            <p:nvPr/>
          </p:nvGrpSpPr>
          <p:grpSpPr>
            <a:xfrm>
              <a:off x="637560" y="4368960"/>
              <a:ext cx="601560" cy="676800"/>
              <a:chOff x="637560" y="4368960"/>
              <a:chExt cx="601560" cy="676800"/>
            </a:xfrm>
          </p:grpSpPr>
          <p:sp>
            <p:nvSpPr>
              <p:cNvPr id="247" name=""/>
              <p:cNvSpPr/>
              <p:nvPr/>
            </p:nvSpPr>
            <p:spPr>
              <a:xfrm>
                <a:off x="637560" y="4368960"/>
                <a:ext cx="601560" cy="67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1076040" y="4882680"/>
                <a:ext cx="12528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V="1">
              <a:off x="1464840" y="4118040"/>
              <a:ext cx="375480" cy="40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46040" y="4989600"/>
              <a:ext cx="9770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1320840" y="4920480"/>
              <a:ext cx="0" cy="53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01600" y="4482000"/>
              <a:ext cx="450720" cy="451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57760" y="4413240"/>
              <a:ext cx="32580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1720" y="4062240"/>
              <a:ext cx="751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1451880" y="5848560"/>
              <a:ext cx="388440" cy="40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88640" y="5447160"/>
              <a:ext cx="450720" cy="451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57760" y="5391000"/>
              <a:ext cx="32580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34120" y="4187520"/>
              <a:ext cx="751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624040" y="4049640"/>
            <a:ext cx="1966680" cy="2231640"/>
            <a:chOff x="2624040" y="4049640"/>
            <a:chExt cx="1966680" cy="2231640"/>
          </a:xfrm>
        </p:grpSpPr>
        <p:grpSp>
          <p:nvGrpSpPr>
            <p:cNvPr id="260" name=""/>
            <p:cNvGrpSpPr/>
            <p:nvPr/>
          </p:nvGrpSpPr>
          <p:grpSpPr>
            <a:xfrm>
              <a:off x="2818080" y="4356720"/>
              <a:ext cx="601200" cy="676800"/>
              <a:chOff x="2818080" y="4356720"/>
              <a:chExt cx="601200" cy="676800"/>
            </a:xfrm>
          </p:grpSpPr>
          <p:sp>
            <p:nvSpPr>
              <p:cNvPr id="261" name=""/>
              <p:cNvSpPr/>
              <p:nvPr/>
            </p:nvSpPr>
            <p:spPr>
              <a:xfrm>
                <a:off x="2818080" y="4356720"/>
                <a:ext cx="601200" cy="67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3256200" y="4870440"/>
                <a:ext cx="12528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 flipV="1">
              <a:off x="3645000" y="4105800"/>
              <a:ext cx="375480" cy="40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25840" y="4977360"/>
              <a:ext cx="9644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500640" y="4908240"/>
              <a:ext cx="0" cy="53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81400" y="4469400"/>
              <a:ext cx="450720" cy="451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37920" y="4400640"/>
              <a:ext cx="3254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11520" y="4049640"/>
              <a:ext cx="75168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3632400" y="5835960"/>
              <a:ext cx="388080" cy="40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39040" y="4224960"/>
              <a:ext cx="75168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2818080" y="5322240"/>
              <a:ext cx="601200" cy="676800"/>
              <a:chOff x="2818080" y="5322240"/>
              <a:chExt cx="601200" cy="676800"/>
            </a:xfrm>
          </p:grpSpPr>
          <p:sp>
            <p:nvSpPr>
              <p:cNvPr id="272" name=""/>
              <p:cNvSpPr/>
              <p:nvPr/>
            </p:nvSpPr>
            <p:spPr>
              <a:xfrm>
                <a:off x="2818080" y="5322240"/>
                <a:ext cx="601200" cy="67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256200" y="5836320"/>
                <a:ext cx="125280" cy="11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3281400" y="5435280"/>
              <a:ext cx="450720" cy="451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37920" y="5366160"/>
              <a:ext cx="3254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24040" y="5942880"/>
              <a:ext cx="9644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39040" y="5729760"/>
              <a:ext cx="751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ng finite state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machine's output is another machine's 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66920" y="3384720"/>
            <a:ext cx="1892160" cy="9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60440" y="3378240"/>
            <a:ext cx="1905120" cy="97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92480" y="5303880"/>
            <a:ext cx="187956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73400" y="5297400"/>
            <a:ext cx="19159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70120" y="4356000"/>
            <a:ext cx="0" cy="30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762280" y="4664160"/>
            <a:ext cx="814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560" y="5716440"/>
            <a:ext cx="11397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35440" y="3535200"/>
            <a:ext cx="359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774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eer who pulls the string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05040" y="3724200"/>
            <a:ext cx="10033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3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17640" y="5641920"/>
            <a:ext cx="10018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3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15960" y="4425840"/>
            <a:ext cx="10018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774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u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95640" y="4425840"/>
            <a:ext cx="1214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774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17720" y="4651200"/>
            <a:ext cx="827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774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505240" y="4344840"/>
            <a:ext cx="0" cy="95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768760" y="434484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46400" y="4356000"/>
            <a:ext cx="0" cy="9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-path and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gital hardware systems = data-path +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path: registers, counters, combinational functional units (e.g., ALU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(e.g., buss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: FSM generating sequences of control signals that instruc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path what to do nex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682800" y="3686040"/>
            <a:ext cx="1277640" cy="15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3831840" y="5792400"/>
            <a:ext cx="1428840" cy="74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ombinational 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or combination lock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nch in 3 values in sequence and the door opens; if there is an error the lock must be reset; once the door opens the lock must be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: sequence of input values, r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: door open/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: must remember combination or always have it avail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questions: how do you set the internal combinatio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ed in registers (how loaded?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ired via switches set by u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n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492120" y="1297080"/>
            <a:ext cx="7770960" cy="50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lnSpc>
                <a:spcPts val="1774"/>
              </a:lnSpc>
              <a:spcBef>
                <a:spcPts val="3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ts val="1774"/>
              </a:lnSpc>
              <a:spcBef>
                <a:spcPts val="3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ts val="1774"/>
              </a:lnSpc>
              <a:spcBef>
                <a:spcPts val="3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ts val="1774"/>
              </a:lnSpc>
              <a:spcBef>
                <a:spcPts val="3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ts val="1774"/>
              </a:lnSpc>
              <a:spcBef>
                <a:spcPts val="3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ts val="1774"/>
              </a:lnSpc>
              <a:spcBef>
                <a:spcPts val="3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ts val="1774"/>
              </a:lnSpc>
              <a:spcBef>
                <a:spcPts val="3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ts val="1774"/>
              </a:lnSpc>
              <a:spcBef>
                <a:spcPts val="3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ts val="1774"/>
              </a:lnSpc>
              <a:spcBef>
                <a:spcPts val="3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ts val="1774"/>
              </a:lnSpc>
              <a:spcBef>
                <a:spcPts val="3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ts val="1774"/>
              </a:lnSpc>
              <a:spcBef>
                <a:spcPts val="3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ts val="1774"/>
              </a:lnSpc>
              <a:spcBef>
                <a:spcPts val="3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ts val="1774"/>
              </a:lnSpc>
              <a:spcBef>
                <a:spcPts val="3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ts val="1774"/>
              </a:lnSpc>
              <a:spcBef>
                <a:spcPts val="3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ts val="1774"/>
              </a:lnSpc>
              <a:spcBef>
                <a:spcPts val="3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ts val="1774"/>
              </a:lnSpc>
              <a:spcBef>
                <a:spcPts val="3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ts val="1774"/>
              </a:lnSpc>
              <a:spcBef>
                <a:spcPts val="3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ts val="1774"/>
              </a:lnSpc>
              <a:spcBef>
                <a:spcPts val="3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3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2543040" y="3724200"/>
            <a:ext cx="3670200" cy="2444400"/>
            <a:chOff x="2543040" y="3724200"/>
            <a:chExt cx="3670200" cy="2444400"/>
          </a:xfrm>
        </p:grpSpPr>
        <p:sp>
          <p:nvSpPr>
            <p:cNvPr id="305" name=""/>
            <p:cNvSpPr/>
            <p:nvPr/>
          </p:nvSpPr>
          <p:spPr>
            <a:xfrm>
              <a:off x="3902040" y="4482720"/>
              <a:ext cx="180360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59680" y="4031280"/>
              <a:ext cx="0" cy="43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74160" y="4031280"/>
              <a:ext cx="0" cy="43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10760" y="4031280"/>
              <a:ext cx="0" cy="43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85040" y="4031280"/>
              <a:ext cx="0" cy="43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36120" y="4031280"/>
              <a:ext cx="0" cy="43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61480" y="3724200"/>
              <a:ext cx="8517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96520" y="3724200"/>
              <a:ext cx="121500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21200" y="5767560"/>
              <a:ext cx="16534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22920" y="5385240"/>
              <a:ext cx="0" cy="43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21280" y="4031280"/>
              <a:ext cx="0" cy="43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58040" y="3724200"/>
              <a:ext cx="8391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02040" y="5046480"/>
              <a:ext cx="10008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889800" y="5159520"/>
              <a:ext cx="12528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3438360" y="5153040"/>
              <a:ext cx="46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43040" y="4977720"/>
              <a:ext cx="8391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ng details of the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the states and state transitions of the syste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ombination lock state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: 5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itions: 6 from state to state, 5 self transitions, 1 glob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nges of state occur when clock says its 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: reset, new, results of comparis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 open/clo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4146480" y="5234040"/>
            <a:ext cx="557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4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15000" y="5234040"/>
            <a:ext cx="5554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4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00280" y="5234040"/>
            <a:ext cx="557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4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21040" y="5421240"/>
            <a:ext cx="148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9840" y="5421240"/>
            <a:ext cx="148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37200" y="5421240"/>
            <a:ext cx="1481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11680" y="4417920"/>
            <a:ext cx="14842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529160"/>
            <a:ext cx="1482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81800" y="4529160"/>
            <a:ext cx="1481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33680" y="5043600"/>
            <a:ext cx="668160" cy="668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89080" y="537048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01840" y="5370480"/>
            <a:ext cx="876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201840" y="4029120"/>
            <a:ext cx="3989520" cy="13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756320" y="4029120"/>
            <a:ext cx="2435040" cy="13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315120" y="4029120"/>
            <a:ext cx="876240" cy="13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259760" y="3898800"/>
            <a:ext cx="556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4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28840" y="5222880"/>
            <a:ext cx="7030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40480" y="6002280"/>
            <a:ext cx="792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84560" y="6002280"/>
            <a:ext cx="789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27200" y="6002280"/>
            <a:ext cx="792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74960" y="4915080"/>
            <a:ext cx="639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29080" y="4915080"/>
            <a:ext cx="64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87880" y="4915080"/>
            <a:ext cx="641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55040" y="4915080"/>
            <a:ext cx="642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80160" y="3576600"/>
            <a:ext cx="790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91040" y="5043600"/>
            <a:ext cx="665280" cy="668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56320" y="5370480"/>
            <a:ext cx="877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6600" y="5043600"/>
            <a:ext cx="668520" cy="668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315120" y="537048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203960" y="5043600"/>
            <a:ext cx="665280" cy="668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321680" y="5234040"/>
            <a:ext cx="457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4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203960" y="3706920"/>
            <a:ext cx="665280" cy="666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642080" y="3384360"/>
            <a:ext cx="0" cy="347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418520" y="3384360"/>
            <a:ext cx="0" cy="34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424640" y="3390840"/>
            <a:ext cx="21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34" idx="3"/>
            <a:endCxn id="334" idx="5"/>
          </p:cNvCxnSpPr>
          <p:nvPr/>
        </p:nvCxnSpPr>
        <p:spPr>
          <a:xfrm flipH="1" rot="16200000">
            <a:off x="2905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0" idx="3"/>
            <a:endCxn id="350" idx="5"/>
          </p:cNvCxnSpPr>
          <p:nvPr/>
        </p:nvCxnSpPr>
        <p:spPr>
          <a:xfrm flipH="1" rot="16200000">
            <a:off x="448380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52" idx="3"/>
            <a:endCxn id="352" idx="5"/>
          </p:cNvCxnSpPr>
          <p:nvPr/>
        </p:nvCxnSpPr>
        <p:spPr>
          <a:xfrm flipH="1" rot="16200000">
            <a:off x="6062760" y="5447880"/>
            <a:ext cx="2160" cy="47880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4" idx="3"/>
            <a:endCxn id="354" idx="5"/>
          </p:cNvCxnSpPr>
          <p:nvPr/>
        </p:nvCxnSpPr>
        <p:spPr>
          <a:xfrm flipH="1" rot="16200000">
            <a:off x="7639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1490760" y="4249800"/>
            <a:ext cx="7527600" cy="2444400"/>
            <a:chOff x="1490760" y="4249800"/>
            <a:chExt cx="7527600" cy="2444400"/>
          </a:xfrm>
        </p:grpSpPr>
        <p:sp>
          <p:nvSpPr>
            <p:cNvPr id="365" name=""/>
            <p:cNvSpPr/>
            <p:nvPr/>
          </p:nvSpPr>
          <p:spPr>
            <a:xfrm>
              <a:off x="5931000" y="5007960"/>
              <a:ext cx="180360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502760" y="4556520"/>
              <a:ext cx="0" cy="43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14680" y="4262040"/>
              <a:ext cx="8517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37560" y="6293160"/>
              <a:ext cx="15278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26320" y="5910840"/>
              <a:ext cx="0" cy="43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49880" y="4556520"/>
              <a:ext cx="0" cy="43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74400" y="4249800"/>
              <a:ext cx="8391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874600" y="4381560"/>
              <a:ext cx="45072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51040" y="4381560"/>
              <a:ext cx="45072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27480" y="4381560"/>
              <a:ext cx="45072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87720" y="5660280"/>
              <a:ext cx="135252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74600" y="5033160"/>
              <a:ext cx="180360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905920" y="4325040"/>
              <a:ext cx="413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07040" y="4325040"/>
              <a:ext cx="7261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83480" y="4325040"/>
              <a:ext cx="7261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94200" y="4607280"/>
              <a:ext cx="0" cy="41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70280" y="4607280"/>
              <a:ext cx="0" cy="41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46720" y="4607280"/>
              <a:ext cx="0" cy="41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70280" y="5258880"/>
              <a:ext cx="0" cy="3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81760" y="5641200"/>
              <a:ext cx="10141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90760" y="5565960"/>
              <a:ext cx="9640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22040" y="5716800"/>
              <a:ext cx="9640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06600" y="5014440"/>
              <a:ext cx="9770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00800" y="5290200"/>
              <a:ext cx="8517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22640" y="4663440"/>
              <a:ext cx="851760" cy="5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4665600" y="5139720"/>
              <a:ext cx="12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7609320" y="5672520"/>
              <a:ext cx="1252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621920" y="5559480"/>
              <a:ext cx="10008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34600" y="567900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179200" y="5503320"/>
              <a:ext cx="8391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52840" y="5766840"/>
              <a:ext cx="147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61320" y="5766840"/>
              <a:ext cx="6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3037680" y="4682160"/>
              <a:ext cx="1000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3726360" y="4682160"/>
              <a:ext cx="1000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4402800" y="4682160"/>
              <a:ext cx="1000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661840" y="5697720"/>
              <a:ext cx="1000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67880" y="5766840"/>
              <a:ext cx="350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55800" y="4613040"/>
              <a:ext cx="350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57080" y="4613040"/>
              <a:ext cx="3502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08320" y="4626000"/>
              <a:ext cx="350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726360" y="5308920"/>
              <a:ext cx="1000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31880" y="5252400"/>
              <a:ext cx="350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797120" y="3165480"/>
            <a:ext cx="6463800" cy="3271320"/>
            <a:chOff x="1797120" y="3165480"/>
            <a:chExt cx="6463800" cy="3271320"/>
          </a:xfrm>
        </p:grpSpPr>
        <p:sp>
          <p:nvSpPr>
            <p:cNvPr id="408" name=""/>
            <p:cNvSpPr/>
            <p:nvPr/>
          </p:nvSpPr>
          <p:spPr>
            <a:xfrm>
              <a:off x="1797120" y="3165480"/>
              <a:ext cx="4159080" cy="10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67600" y="4030200"/>
              <a:ext cx="2893320" cy="2406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035080" y="1811160"/>
            <a:ext cx="3193920" cy="4601880"/>
            <a:chOff x="2035080" y="1811160"/>
            <a:chExt cx="3193920" cy="4601880"/>
          </a:xfrm>
        </p:grpSpPr>
        <p:sp>
          <p:nvSpPr>
            <p:cNvPr id="411" name=""/>
            <p:cNvSpPr/>
            <p:nvPr/>
          </p:nvSpPr>
          <p:spPr>
            <a:xfrm>
              <a:off x="2035080" y="1811160"/>
              <a:ext cx="1051920" cy="233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35320" y="4005360"/>
              <a:ext cx="2893680" cy="2407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-path and control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age registers for combination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 for data-path (which value to compar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table for combination 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ite-state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ine state diagram to take internal structure into accou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table ready for enco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81040" y="2849400"/>
            <a:ext cx="728028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81360" y="1817640"/>
            <a:ext cx="45846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tial logic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design approach: a 4-step design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description languages and 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examples and case stud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x coun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ffic light contro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or combination 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186520" y="5200560"/>
            <a:ext cx="36446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x is identical to last 3 bits of st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/closed is identical to first bit of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refore, we do not even need to implem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s to hold state, just use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5705280" y="3084480"/>
            <a:ext cx="3138480" cy="1817280"/>
            <a:chOff x="5705280" y="3084480"/>
            <a:chExt cx="3138480" cy="1817280"/>
          </a:xfrm>
        </p:grpSpPr>
        <p:sp>
          <p:nvSpPr>
            <p:cNvPr id="420" name=""/>
            <p:cNvSpPr/>
            <p:nvPr/>
          </p:nvSpPr>
          <p:spPr>
            <a:xfrm>
              <a:off x="6620400" y="3629520"/>
              <a:ext cx="1302840" cy="65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754040" y="3303720"/>
              <a:ext cx="0" cy="31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66040" y="3096720"/>
              <a:ext cx="6264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689160" y="4563720"/>
              <a:ext cx="110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65160" y="4281480"/>
              <a:ext cx="0" cy="32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77000" y="3303720"/>
              <a:ext cx="0" cy="31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13840" y="3084480"/>
              <a:ext cx="588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24800" y="4112280"/>
              <a:ext cx="701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39640" y="3786120"/>
              <a:ext cx="8517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87440" y="3347640"/>
              <a:ext cx="6886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5705280" y="372348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7835400" y="4118040"/>
              <a:ext cx="874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848000" y="4030200"/>
              <a:ext cx="62280" cy="10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3240" y="4124880"/>
              <a:ext cx="31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42560" y="3987000"/>
              <a:ext cx="6012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30840" y="4174920"/>
              <a:ext cx="88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dings for combination 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1436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code state t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eds at least 3 bits to encode: 000, 001, 010, 011, 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d as many as 5: 00001, 00010, 00100, 01000, 100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eds 2 to 3 bits to en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eds 1 or 2 bits to en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hoose 1 bit: 1,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660240" y="4597560"/>
            <a:ext cx="8137800" cy="15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225360" y="3711600"/>
            <a:ext cx="4439880" cy="1842840"/>
            <a:chOff x="225360" y="3711600"/>
            <a:chExt cx="4439880" cy="1842840"/>
          </a:xfrm>
        </p:grpSpPr>
        <p:sp>
          <p:nvSpPr>
            <p:cNvPr id="440" name=""/>
            <p:cNvSpPr/>
            <p:nvPr/>
          </p:nvSpPr>
          <p:spPr>
            <a:xfrm>
              <a:off x="1609200" y="3767760"/>
              <a:ext cx="45072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85640" y="3767760"/>
              <a:ext cx="45072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61720" y="3767760"/>
              <a:ext cx="45072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22320" y="5046840"/>
              <a:ext cx="135252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609200" y="4419720"/>
              <a:ext cx="180360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40520" y="3711600"/>
              <a:ext cx="4129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41280" y="3711600"/>
              <a:ext cx="7264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17720" y="3711600"/>
              <a:ext cx="7264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28080" y="3993480"/>
              <a:ext cx="0" cy="41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04520" y="3993480"/>
              <a:ext cx="0" cy="41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80960" y="3993480"/>
              <a:ext cx="0" cy="41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04520" y="4645440"/>
              <a:ext cx="0" cy="3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16360" y="5027760"/>
              <a:ext cx="10141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56280" y="5103360"/>
              <a:ext cx="9644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41200" y="4401000"/>
              <a:ext cx="9770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57240" y="4050000"/>
              <a:ext cx="851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3400200" y="4526280"/>
              <a:ext cx="12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87440" y="5153400"/>
              <a:ext cx="147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95920" y="5153400"/>
              <a:ext cx="6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1772280" y="4068720"/>
              <a:ext cx="10008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460960" y="4068720"/>
              <a:ext cx="10008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137400" y="4068720"/>
              <a:ext cx="10008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396080" y="5084280"/>
              <a:ext cx="10044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02480" y="5153400"/>
              <a:ext cx="350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490400" y="3999960"/>
              <a:ext cx="350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91680" y="3999960"/>
              <a:ext cx="350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42920" y="4012560"/>
              <a:ext cx="350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2460960" y="4695480"/>
              <a:ext cx="1000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166480" y="4639320"/>
              <a:ext cx="350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25360" y="4952880"/>
              <a:ext cx="9640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335560" y="2708280"/>
            <a:ext cx="3607920" cy="3998520"/>
            <a:chOff x="5335560" y="2708280"/>
            <a:chExt cx="3607920" cy="3998520"/>
          </a:xfrm>
        </p:grpSpPr>
        <p:sp>
          <p:nvSpPr>
            <p:cNvPr id="471" name=""/>
            <p:cNvSpPr/>
            <p:nvPr/>
          </p:nvSpPr>
          <p:spPr>
            <a:xfrm>
              <a:off x="6237360" y="2708280"/>
              <a:ext cx="4636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13640" y="2708280"/>
              <a:ext cx="7264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52640" y="2708280"/>
              <a:ext cx="7264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91720" y="3146760"/>
              <a:ext cx="8517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35560" y="2708280"/>
              <a:ext cx="96480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48240" y="6305760"/>
              <a:ext cx="9644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51000" y="3629520"/>
              <a:ext cx="0" cy="28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50400" y="3629520"/>
              <a:ext cx="0" cy="3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56520" y="3623040"/>
              <a:ext cx="28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50400" y="3786480"/>
              <a:ext cx="299880" cy="27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43920" y="3780000"/>
              <a:ext cx="312840" cy="2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364080" y="3786480"/>
              <a:ext cx="300600" cy="27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58320" y="3780000"/>
              <a:ext cx="312840" cy="2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77400" y="3629520"/>
              <a:ext cx="0" cy="28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76800" y="3629520"/>
              <a:ext cx="0" cy="3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82920" y="3623040"/>
              <a:ext cx="28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76800" y="3786480"/>
              <a:ext cx="299880" cy="27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70320" y="3780000"/>
              <a:ext cx="312840" cy="2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90840" y="3786480"/>
              <a:ext cx="300600" cy="27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84720" y="3780000"/>
              <a:ext cx="312840" cy="2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3800" y="3629520"/>
              <a:ext cx="0" cy="28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03200" y="3629520"/>
              <a:ext cx="0" cy="3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09320" y="3623040"/>
              <a:ext cx="28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03560" y="3786480"/>
              <a:ext cx="299880" cy="27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97080" y="3780000"/>
              <a:ext cx="312840" cy="2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17240" y="3786480"/>
              <a:ext cx="300600" cy="27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11120" y="3780000"/>
              <a:ext cx="312840" cy="2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89400" y="3811320"/>
              <a:ext cx="27468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82920" y="3805200"/>
              <a:ext cx="287640" cy="93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03440" y="3861360"/>
              <a:ext cx="274680" cy="87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96960" y="3854880"/>
              <a:ext cx="287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03440" y="4212720"/>
              <a:ext cx="274680" cy="12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6960" y="4206240"/>
              <a:ext cx="28764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26920" y="4318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14240" y="4212720"/>
              <a:ext cx="250200" cy="12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08120" y="4206240"/>
              <a:ext cx="26244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87240" y="5823000"/>
              <a:ext cx="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86280" y="5823000"/>
              <a:ext cx="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92760" y="5816880"/>
              <a:ext cx="28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5679360" y="5816880"/>
              <a:ext cx="51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87000" y="5979960"/>
              <a:ext cx="29988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80520" y="5973480"/>
              <a:ext cx="312840" cy="2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00680" y="5979960"/>
              <a:ext cx="29988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94200" y="5973480"/>
              <a:ext cx="312840" cy="2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40800" y="4613400"/>
              <a:ext cx="274680" cy="90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34680" y="4606920"/>
              <a:ext cx="286920" cy="91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27120" y="4613400"/>
              <a:ext cx="274680" cy="90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21000" y="4606920"/>
              <a:ext cx="286920" cy="91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51600" y="5001840"/>
              <a:ext cx="250200" cy="12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480" y="4995720"/>
              <a:ext cx="26244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40800" y="5001840"/>
              <a:ext cx="274680" cy="12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34680" y="4995720"/>
              <a:ext cx="28692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45920" y="5522400"/>
              <a:ext cx="50040" cy="50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51600" y="4939920"/>
              <a:ext cx="250200" cy="12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45480" y="4933440"/>
              <a:ext cx="26244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40800" y="4939920"/>
              <a:ext cx="274680" cy="12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34680" y="4933440"/>
              <a:ext cx="28692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26920" y="5008320"/>
              <a:ext cx="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01640" y="500832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63160" y="35038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63160" y="3253320"/>
              <a:ext cx="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0560" y="3234600"/>
              <a:ext cx="37440" cy="3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567400" y="3247200"/>
              <a:ext cx="98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69640" y="3247200"/>
              <a:ext cx="155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38240" y="35038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38240" y="3002760"/>
              <a:ext cx="0" cy="48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9560" y="35038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89560" y="337860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77320" y="3359880"/>
              <a:ext cx="37440" cy="3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67400" y="3372480"/>
              <a:ext cx="161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96040" y="3372480"/>
              <a:ext cx="9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64640" y="35038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64640" y="3002760"/>
              <a:ext cx="0" cy="48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15960" y="35038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803720" y="3485160"/>
              <a:ext cx="37440" cy="3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567400" y="3497760"/>
              <a:ext cx="224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822440" y="3497760"/>
              <a:ext cx="30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690680" y="35038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90680" y="3002760"/>
              <a:ext cx="0" cy="48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53680" y="4068360"/>
              <a:ext cx="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52560" y="41932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58320" y="4187160"/>
              <a:ext cx="48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126920" y="4068360"/>
              <a:ext cx="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126920" y="41932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00520" y="4068360"/>
              <a:ext cx="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01640" y="41932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07000" y="4187160"/>
              <a:ext cx="48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64640" y="5572440"/>
              <a:ext cx="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25040" y="5697720"/>
              <a:ext cx="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0800" y="5691600"/>
              <a:ext cx="9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99400" y="5697720"/>
              <a:ext cx="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874120" y="5697720"/>
              <a:ext cx="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48840" y="5697720"/>
              <a:ext cx="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37120" y="626184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126920" y="4757760"/>
              <a:ext cx="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126920" y="4883040"/>
              <a:ext cx="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01640" y="4883040"/>
              <a:ext cx="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11480" y="3002760"/>
              <a:ext cx="0" cy="186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17600" y="4876560"/>
              <a:ext cx="117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086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-path implementation for combination 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y to implement as combinational logic when few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 can easily get too big for most PL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376200" y="4287960"/>
            <a:ext cx="4439880" cy="1842480"/>
            <a:chOff x="376200" y="4287960"/>
            <a:chExt cx="4439880" cy="1842480"/>
          </a:xfrm>
        </p:grpSpPr>
        <p:sp>
          <p:nvSpPr>
            <p:cNvPr id="573" name=""/>
            <p:cNvSpPr/>
            <p:nvPr/>
          </p:nvSpPr>
          <p:spPr>
            <a:xfrm>
              <a:off x="1760040" y="4344120"/>
              <a:ext cx="45072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436480" y="4344120"/>
              <a:ext cx="45072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12560" y="4344120"/>
              <a:ext cx="45072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73160" y="5622840"/>
              <a:ext cx="135252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60040" y="4996080"/>
              <a:ext cx="180360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91360" y="4287960"/>
              <a:ext cx="4129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292120" y="4287960"/>
              <a:ext cx="7264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68560" y="4287960"/>
              <a:ext cx="7264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78920" y="4569840"/>
              <a:ext cx="0" cy="41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55360" y="4569840"/>
              <a:ext cx="0" cy="41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331800" y="4569840"/>
              <a:ext cx="0" cy="41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55360" y="5221800"/>
              <a:ext cx="0" cy="38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167200" y="5604120"/>
              <a:ext cx="10141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07120" y="5679360"/>
              <a:ext cx="9644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192040" y="4977000"/>
              <a:ext cx="9770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808080" y="4626360"/>
              <a:ext cx="851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3551040" y="5102640"/>
              <a:ext cx="12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338280" y="5729400"/>
              <a:ext cx="147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346760" y="5729400"/>
              <a:ext cx="6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1923120" y="4645080"/>
              <a:ext cx="10008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2611800" y="4645080"/>
              <a:ext cx="10008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288240" y="4645080"/>
              <a:ext cx="10008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1546920" y="5660640"/>
              <a:ext cx="10044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453320" y="5729400"/>
              <a:ext cx="350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41240" y="4576320"/>
              <a:ext cx="350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342520" y="4576320"/>
              <a:ext cx="350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993760" y="4588920"/>
              <a:ext cx="350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2611800" y="5271840"/>
              <a:ext cx="1000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17320" y="5215680"/>
              <a:ext cx="350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76200" y="5528880"/>
              <a:ext cx="9640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5286240" y="2695680"/>
            <a:ext cx="3644640" cy="2971440"/>
            <a:chOff x="5286240" y="2695680"/>
            <a:chExt cx="3644640" cy="2971440"/>
          </a:xfrm>
        </p:grpSpPr>
        <p:sp>
          <p:nvSpPr>
            <p:cNvPr id="604" name=""/>
            <p:cNvSpPr/>
            <p:nvPr/>
          </p:nvSpPr>
          <p:spPr>
            <a:xfrm>
              <a:off x="6188040" y="2695680"/>
              <a:ext cx="4636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63960" y="2695680"/>
              <a:ext cx="7261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02600" y="2695680"/>
              <a:ext cx="7261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079120" y="3109320"/>
              <a:ext cx="851760" cy="5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86240" y="2695680"/>
              <a:ext cx="9644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36720" y="5266080"/>
              <a:ext cx="9640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68280" y="4739400"/>
              <a:ext cx="28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593320" y="4739400"/>
              <a:ext cx="7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62160" y="4902840"/>
              <a:ext cx="29988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76200" y="4902840"/>
              <a:ext cx="3006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39880" y="3661200"/>
              <a:ext cx="274680" cy="90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33400" y="3654720"/>
              <a:ext cx="287640" cy="91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225840" y="3661200"/>
              <a:ext cx="274680" cy="90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219360" y="3654720"/>
              <a:ext cx="287640" cy="91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250320" y="4049640"/>
              <a:ext cx="250200" cy="12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244200" y="4043520"/>
              <a:ext cx="26244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39880" y="4049640"/>
              <a:ext cx="274680" cy="12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33400" y="4043520"/>
              <a:ext cx="28764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44640" y="4570200"/>
              <a:ext cx="50040" cy="50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250320" y="3987360"/>
              <a:ext cx="250200" cy="12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44200" y="3980880"/>
              <a:ext cx="26244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39880" y="3987360"/>
              <a:ext cx="274680" cy="12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33400" y="3980880"/>
              <a:ext cx="28764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426000" y="4056120"/>
              <a:ext cx="0" cy="3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00720" y="405612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6419880" y="3629520"/>
              <a:ext cx="13752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6294240" y="3617280"/>
              <a:ext cx="13752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306840" y="362304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32200" y="3654720"/>
              <a:ext cx="50040" cy="50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7045920" y="3629520"/>
              <a:ext cx="13752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6920640" y="3617280"/>
              <a:ext cx="13752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933240" y="362304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158600" y="3654720"/>
              <a:ext cx="50040" cy="50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7622280" y="3629520"/>
              <a:ext cx="13752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7497000" y="3617280"/>
              <a:ext cx="13752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509600" y="3623040"/>
              <a:ext cx="23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734960" y="3654720"/>
              <a:ext cx="50040" cy="50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11600" y="4125240"/>
              <a:ext cx="23796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086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99080" y="4306680"/>
              <a:ext cx="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05560" y="4369320"/>
              <a:ext cx="2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5555160" y="4381920"/>
              <a:ext cx="8748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68120" y="4419720"/>
              <a:ext cx="6228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555160" y="4457160"/>
              <a:ext cx="8748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568120" y="4494600"/>
              <a:ext cx="6228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5555160" y="4532400"/>
              <a:ext cx="8748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8120" y="4570200"/>
              <a:ext cx="2520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99080" y="4595040"/>
              <a:ext cx="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28400" y="349164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628400" y="2990160"/>
              <a:ext cx="0" cy="48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363360" y="462024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100200" y="462024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75280" y="462024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850000" y="462024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12280" y="4745520"/>
              <a:ext cx="0" cy="55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426000" y="3805200"/>
              <a:ext cx="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13400" y="3911760"/>
              <a:ext cx="37440" cy="3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52040" y="3805200"/>
              <a:ext cx="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039800" y="3911760"/>
              <a:ext cx="37440" cy="3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28400" y="3805200"/>
              <a:ext cx="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26000" y="3930480"/>
              <a:ext cx="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2120" y="3924360"/>
              <a:ext cx="61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058520" y="3924360"/>
              <a:ext cx="56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300720" y="3930480"/>
              <a:ext cx="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793480" y="3924360"/>
              <a:ext cx="50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87000" y="2990160"/>
              <a:ext cx="0" cy="92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595200" y="367380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42920" y="3234600"/>
              <a:ext cx="11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663960" y="3222360"/>
              <a:ext cx="37440" cy="3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82680" y="3234600"/>
              <a:ext cx="144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676560" y="3240720"/>
              <a:ext cx="0" cy="42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426000" y="349164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426000" y="2990160"/>
              <a:ext cx="0" cy="48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221600" y="367380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542920" y="3360240"/>
              <a:ext cx="175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290360" y="3347280"/>
              <a:ext cx="37440" cy="3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309080" y="3360240"/>
              <a:ext cx="81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302600" y="3366360"/>
              <a:ext cx="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052040" y="349164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052040" y="2990160"/>
              <a:ext cx="0" cy="48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85000" y="3673800"/>
              <a:ext cx="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42920" y="3485160"/>
              <a:ext cx="232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866360" y="3472920"/>
              <a:ext cx="37440" cy="3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885080" y="34851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878960" y="3491640"/>
              <a:ext cx="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99080" y="462024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900040" y="4726800"/>
              <a:ext cx="37440" cy="3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62320" y="4726800"/>
              <a:ext cx="37440" cy="3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087600" y="4726800"/>
              <a:ext cx="37440" cy="3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837040" y="4726800"/>
              <a:ext cx="37440" cy="3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7145280" y="3792600"/>
            <a:ext cx="514440" cy="1103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56280" y="4821120"/>
            <a:ext cx="40644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37200" y="4124160"/>
            <a:ext cx="6634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533840" y="5792760"/>
            <a:ext cx="44355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-collector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zero whenever one connection is zero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otherwise – wired A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726240" y="4927680"/>
            <a:ext cx="20667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-state 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can disconn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m outp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-path implementation (cont’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7760" indent="-34776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-state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tilize a third output state: “no connection” or “float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nect outputs together as long as only one is “enabled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-collector gates c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output 0, not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6920" indent="-23184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be used to i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AND with only wi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6313320" y="3460680"/>
            <a:ext cx="202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097000" y="5052960"/>
            <a:ext cx="1584000" cy="1505160"/>
            <a:chOff x="2097000" y="5052960"/>
            <a:chExt cx="1584000" cy="1505160"/>
          </a:xfrm>
        </p:grpSpPr>
        <p:sp>
          <p:nvSpPr>
            <p:cNvPr id="702" name=""/>
            <p:cNvSpPr/>
            <p:nvPr/>
          </p:nvSpPr>
          <p:spPr>
            <a:xfrm>
              <a:off x="2097000" y="5366160"/>
              <a:ext cx="147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130200" y="5109480"/>
              <a:ext cx="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65760" y="5052960"/>
              <a:ext cx="1515240" cy="15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174"/>
                </a:lnSpc>
                <a:spcAft>
                  <a:spcPts val="1976"/>
                </a:spcAft>
                <a:tabLst>
                  <a:tab algn="l" pos="0"/>
                  <a:tab algn="l" pos="450720"/>
                  <a:tab algn="l" pos="101448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401760" y="5278320"/>
            <a:ext cx="14652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21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n-inve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1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-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rcRect l="13955" t="0" r="0" b="0"/>
          <a:stretch/>
        </p:blipFill>
        <p:spPr>
          <a:xfrm>
            <a:off x="4208400" y="5140440"/>
            <a:ext cx="4597560" cy="141588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8217000" y="5127480"/>
            <a:ext cx="714240" cy="2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83040" y="5554800"/>
            <a:ext cx="614520" cy="9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178840" y="5040360"/>
            <a:ext cx="8017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1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95800" y="5491080"/>
            <a:ext cx="51444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266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6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6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-state g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third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values: “0”, “1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n't care: “X” (must be 0 or 1 in real circuit!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value or state: “Z” — high impedance, infinite R, no conn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i-state g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itional input – output enable (O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values are 0, 1, and 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OE is high, the gate functions normal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OE is low, the gate is disconnected from wire at outpu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more than one gate to be connected to the same output wi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 long as only one has its output enabled at any one time (otherwise, sparks could fly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 rot="5400000">
            <a:off x="7101000" y="3121560"/>
            <a:ext cx="601920" cy="676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7365960" y="29332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909760" y="3309840"/>
            <a:ext cx="4251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345880" y="3309840"/>
            <a:ext cx="5472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385040" y="2859120"/>
            <a:ext cx="4251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5222880" y="3944880"/>
            <a:ext cx="321948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774"/>
              </a:lnSpc>
              <a:spcBef>
                <a:spcPts val="1474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hig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1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474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low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0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474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is essentially a 2:1 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888840" y="3424320"/>
            <a:ext cx="4197240" cy="3152520"/>
            <a:chOff x="888840" y="3424320"/>
            <a:chExt cx="4197240" cy="3152520"/>
          </a:xfrm>
        </p:grpSpPr>
        <p:sp>
          <p:nvSpPr>
            <p:cNvPr id="720" name=""/>
            <p:cNvSpPr/>
            <p:nvPr/>
          </p:nvSpPr>
          <p:spPr>
            <a:xfrm>
              <a:off x="3037680" y="3424320"/>
              <a:ext cx="288000" cy="18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037680" y="3612240"/>
              <a:ext cx="2880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031200" y="3424320"/>
              <a:ext cx="0" cy="40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6120" y="4439520"/>
              <a:ext cx="288000" cy="18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2436120" y="4627440"/>
              <a:ext cx="28800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29640" y="4439520"/>
              <a:ext cx="0" cy="38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36800" y="3618360"/>
              <a:ext cx="18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35080" y="3618360"/>
              <a:ext cx="78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35600" y="4633920"/>
              <a:ext cx="18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35080" y="4633920"/>
              <a:ext cx="18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36720" y="4633920"/>
              <a:ext cx="28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363120" y="3618360"/>
              <a:ext cx="26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607560" y="3606120"/>
              <a:ext cx="50040" cy="50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38880" y="3618360"/>
              <a:ext cx="18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037680" y="4633920"/>
              <a:ext cx="58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632760" y="3624840"/>
              <a:ext cx="0" cy="100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39400" y="3618360"/>
              <a:ext cx="58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3194280" y="3724560"/>
              <a:ext cx="0" cy="180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605320" y="4727520"/>
              <a:ext cx="0" cy="122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2605320" y="5943240"/>
              <a:ext cx="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110320" y="6112800"/>
              <a:ext cx="10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92720" y="6087960"/>
              <a:ext cx="37080" cy="50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18000" y="3819240"/>
              <a:ext cx="52632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129040" y="4821840"/>
              <a:ext cx="50112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3012480" y="5567760"/>
              <a:ext cx="399960" cy="387360"/>
              <a:chOff x="3012480" y="5567760"/>
              <a:chExt cx="399960" cy="387360"/>
            </a:xfrm>
          </p:grpSpPr>
          <p:sp>
            <p:nvSpPr>
              <p:cNvPr id="745" name=""/>
              <p:cNvSpPr/>
              <p:nvPr/>
            </p:nvSpPr>
            <p:spPr>
              <a:xfrm flipV="1">
                <a:off x="3012480" y="5642280"/>
                <a:ext cx="18756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 flipV="1">
                <a:off x="3199680" y="5642280"/>
                <a:ext cx="21276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012480" y="5949720"/>
                <a:ext cx="38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175200" y="5567760"/>
                <a:ext cx="74880" cy="74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 flipV="1">
              <a:off x="3206520" y="5968440"/>
              <a:ext cx="0" cy="15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534920" y="3430440"/>
              <a:ext cx="551160" cy="6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174"/>
                </a:lnSpc>
                <a:spcAft>
                  <a:spcPts val="1976"/>
                </a:spcAft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88840" y="3455640"/>
              <a:ext cx="1089720" cy="6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ts val="2174"/>
                </a:lnSpc>
                <a:spcAft>
                  <a:spcPts val="1976"/>
                </a:spcAft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38880" y="4483440"/>
              <a:ext cx="108972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ts val="2174"/>
                </a:lnSpc>
                <a:spcAft>
                  <a:spcPts val="1976"/>
                </a:spcAft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51120" y="5924880"/>
              <a:ext cx="108972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ts val="2174"/>
                </a:lnSpc>
                <a:spcAft>
                  <a:spcPts val="1976"/>
                </a:spcAft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-state and multiplex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using tri-state logi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) make sure never more than one "driver" for a wire at any one tim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pulling high and low at the same time can severely damage circuit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2) make sure to only use value on wire when its being driven (using 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oating value may cause failur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ri-state gates to implement an economical multiplex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3889440" y="555480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889440" y="58546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3882960" y="554796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057920" y="5568840"/>
            <a:ext cx="275760" cy="29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051800" y="5562720"/>
            <a:ext cx="2880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057560" y="5578200"/>
            <a:ext cx="276120" cy="27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051440" y="5572080"/>
            <a:ext cx="28836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46640" y="5692680"/>
            <a:ext cx="38160" cy="3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340160" y="5686560"/>
            <a:ext cx="50760" cy="48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4334040" y="5572080"/>
            <a:ext cx="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4572000" y="550980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4578480" y="5497560"/>
            <a:ext cx="2520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527720" y="5459040"/>
            <a:ext cx="8856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4540320" y="5423040"/>
            <a:ext cx="63360" cy="4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4527720" y="5384520"/>
            <a:ext cx="8856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4540320" y="5346360"/>
            <a:ext cx="6336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4527720" y="5310360"/>
            <a:ext cx="88560" cy="4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540320" y="5284800"/>
            <a:ext cx="2520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572000" y="525924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4459320" y="4802040"/>
            <a:ext cx="476280" cy="15084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 flipV="1">
            <a:off x="4572000" y="502128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4514760" y="4946400"/>
            <a:ext cx="114480" cy="74520"/>
            <a:chOff x="4514760" y="4946400"/>
            <a:chExt cx="114480" cy="74520"/>
          </a:xfrm>
        </p:grpSpPr>
        <p:sp>
          <p:nvSpPr>
            <p:cNvPr id="778" name=""/>
            <p:cNvSpPr/>
            <p:nvPr/>
          </p:nvSpPr>
          <p:spPr>
            <a:xfrm>
              <a:off x="4514760" y="5015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514760" y="4946400"/>
              <a:ext cx="507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578480" y="4959000"/>
              <a:ext cx="5076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4572000" y="507204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89440" y="611820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89440" y="64198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3882960" y="6111720"/>
            <a:ext cx="0" cy="31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057920" y="6132600"/>
            <a:ext cx="27576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051800" y="6126120"/>
            <a:ext cx="28800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057560" y="6143400"/>
            <a:ext cx="276120" cy="27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51440" y="6137280"/>
            <a:ext cx="28836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346640" y="625644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340160" y="624996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4334040" y="6137280"/>
            <a:ext cx="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763800" y="5641920"/>
            <a:ext cx="11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387600" y="5641920"/>
            <a:ext cx="36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3406680" y="5504040"/>
            <a:ext cx="476280" cy="1504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3763800" y="5767560"/>
            <a:ext cx="11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387600" y="5767560"/>
            <a:ext cx="36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3"/>
          <a:stretch/>
        </p:blipFill>
        <p:spPr>
          <a:xfrm>
            <a:off x="3406680" y="5754600"/>
            <a:ext cx="476280" cy="15084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4572000" y="514656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572000" y="50832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763800" y="6205680"/>
            <a:ext cx="11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387600" y="6205680"/>
            <a:ext cx="36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4"/>
          <a:stretch/>
        </p:blipFill>
        <p:spPr>
          <a:xfrm>
            <a:off x="3406680" y="6067440"/>
            <a:ext cx="476280" cy="15084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3763800" y="6330960"/>
            <a:ext cx="11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87600" y="6330960"/>
            <a:ext cx="36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5"/>
          <a:stretch/>
        </p:blipFill>
        <p:spPr>
          <a:xfrm>
            <a:off x="3406680" y="6318360"/>
            <a:ext cx="476280" cy="15084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4390920" y="626904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390920" y="570384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572000" y="558468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559400" y="5692680"/>
            <a:ext cx="381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14760" y="570384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59400" y="5692680"/>
            <a:ext cx="381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578480" y="570384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572000" y="5710320"/>
            <a:ext cx="0" cy="55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514760" y="626904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6"/>
          <a:stretch/>
        </p:blipFill>
        <p:spPr>
          <a:xfrm>
            <a:off x="4659480" y="5816520"/>
            <a:ext cx="475920" cy="15084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1165320" y="5680080"/>
            <a:ext cx="1903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-collect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173560" y="5529240"/>
            <a:ext cx="2868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ouputs wired 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"wired-AN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form (AB)'(CD)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-collector gates and wired-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10680" cy="445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collector: another way to connect gate outputs to the same w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ate only has the ability to pull its output 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cannot actively drive the wire high (default – pulled high through resisto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d-AND can be implemented with open collector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A and B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C and D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one gate output is low and the other high, then low wi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both gate outputs are "1", the wire value "floats", pulled high by resis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w to high transition usually slower than it would have been with a gate pulling hig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nce, the two NAND functions are ANDed togeth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"/>
          <p:cNvGrpSpPr/>
          <p:nvPr/>
        </p:nvGrpSpPr>
        <p:grpSpPr>
          <a:xfrm>
            <a:off x="3187800" y="3686040"/>
            <a:ext cx="5079600" cy="2833560"/>
            <a:chOff x="3187800" y="3686040"/>
            <a:chExt cx="5079600" cy="2833560"/>
          </a:xfrm>
        </p:grpSpPr>
        <p:sp>
          <p:nvSpPr>
            <p:cNvPr id="821" name=""/>
            <p:cNvSpPr/>
            <p:nvPr/>
          </p:nvSpPr>
          <p:spPr>
            <a:xfrm>
              <a:off x="5210640" y="4732560"/>
              <a:ext cx="45072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887080" y="4732560"/>
              <a:ext cx="45072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563880" y="4732560"/>
              <a:ext cx="45072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23760" y="6012000"/>
              <a:ext cx="135288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210640" y="5384880"/>
              <a:ext cx="180396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241960" y="4676400"/>
              <a:ext cx="413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743440" y="4676400"/>
              <a:ext cx="7264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19880" y="4676400"/>
              <a:ext cx="7264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430240" y="4958280"/>
              <a:ext cx="0" cy="41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06680" y="4958280"/>
              <a:ext cx="0" cy="41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783120" y="4958280"/>
              <a:ext cx="0" cy="41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06680" y="5610600"/>
              <a:ext cx="0" cy="3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618160" y="5992920"/>
              <a:ext cx="10144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87800" y="5917680"/>
              <a:ext cx="9644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958440" y="6068520"/>
              <a:ext cx="964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643000" y="5366160"/>
              <a:ext cx="9770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259040" y="5014800"/>
              <a:ext cx="851760" cy="5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7002360" y="5491440"/>
              <a:ext cx="125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89240" y="6118560"/>
              <a:ext cx="147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208760" y="6118560"/>
              <a:ext cx="12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5373720" y="5033520"/>
              <a:ext cx="1000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6062760" y="5033520"/>
              <a:ext cx="1000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6739200" y="5033520"/>
              <a:ext cx="1000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4459320" y="6049080"/>
              <a:ext cx="10008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365360" y="6118560"/>
              <a:ext cx="350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091840" y="4964760"/>
              <a:ext cx="350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793480" y="4964760"/>
              <a:ext cx="3502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44720" y="4977000"/>
              <a:ext cx="350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6062760" y="5660640"/>
              <a:ext cx="1000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68280" y="5604120"/>
              <a:ext cx="350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4853880" y="4381920"/>
              <a:ext cx="0" cy="174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860000" y="4387680"/>
              <a:ext cx="19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430240" y="4394160"/>
              <a:ext cx="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06680" y="4394160"/>
              <a:ext cx="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783120" y="4394160"/>
              <a:ext cx="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711760" y="4839120"/>
              <a:ext cx="17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388200" y="4839120"/>
              <a:ext cx="17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35320" y="4839120"/>
              <a:ext cx="17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382440" y="3967560"/>
              <a:ext cx="0" cy="87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705640" y="3967560"/>
              <a:ext cx="0" cy="87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5029200" y="3967560"/>
              <a:ext cx="0" cy="87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703760" y="3686040"/>
              <a:ext cx="7264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380200" y="3686040"/>
              <a:ext cx="7264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43680" y="3686040"/>
              <a:ext cx="7264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ombination lock (new data-pa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ase number of in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 3 code digits as in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code regis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ke them loadable from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ed 3 load signal inputs (net gain in input (4*3)–3=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ld be done with 2 signals and deco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d1, ld2, ld3, load non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 FSM design proced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 Determine inputs and out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2) Determine possible states of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minim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) Encode states and outputs into a binary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assignment or state enco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enco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y input encoding (if under our contro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4) Realize logic to implement functions for states and out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ational logic implementation and optim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ices made in steps 2 and 3 can have large effect on resulting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653840" y="4287960"/>
            <a:ext cx="5867280" cy="1930320"/>
            <a:chOff x="1653840" y="4287960"/>
            <a:chExt cx="5867280" cy="1930320"/>
          </a:xfrm>
        </p:grpSpPr>
        <p:sp>
          <p:nvSpPr>
            <p:cNvPr id="49" name=""/>
            <p:cNvSpPr/>
            <p:nvPr/>
          </p:nvSpPr>
          <p:spPr>
            <a:xfrm>
              <a:off x="1710360" y="4287960"/>
              <a:ext cx="1602720" cy="19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de Input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14040" y="4287960"/>
              <a:ext cx="1577880" cy="19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41880" y="4287960"/>
              <a:ext cx="2379240" cy="19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74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3840" y="4513320"/>
              <a:ext cx="52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54640" y="4306680"/>
              <a:ext cx="0" cy="177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x cou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ynchronous 3-bit counter has a mode control 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M = 0, the counter counts up in the binary seq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M = 1, the counter advances through the Gray code sequenc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nary:   000, 001, 010, 011, 100, 101, 110, 11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y:     000, 001, 011, 010, 110, 111, 101,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 I/O behavior (part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x counter (state diagra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 state for each output combina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 appropriate arcs for the mode contr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5360" y="3460680"/>
            <a:ext cx="8029440" cy="1377720"/>
            <a:chOff x="225360" y="3460680"/>
            <a:chExt cx="8029440" cy="1377720"/>
          </a:xfrm>
        </p:grpSpPr>
        <p:sp>
          <p:nvSpPr>
            <p:cNvPr id="59" name=""/>
            <p:cNvSpPr/>
            <p:nvPr/>
          </p:nvSpPr>
          <p:spPr>
            <a:xfrm>
              <a:off x="1427760" y="4362480"/>
              <a:ext cx="513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29920" y="4362480"/>
              <a:ext cx="513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31720" y="4362480"/>
              <a:ext cx="513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33880" y="4362480"/>
              <a:ext cx="513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35680" y="4362480"/>
              <a:ext cx="513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37480" y="4362480"/>
              <a:ext cx="513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39640" y="4362480"/>
              <a:ext cx="513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41440" y="4362480"/>
              <a:ext cx="513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25360" y="3460680"/>
              <a:ext cx="7966800" cy="1352520"/>
              <a:chOff x="225360" y="3460680"/>
              <a:chExt cx="7966800" cy="1352520"/>
            </a:xfrm>
          </p:grpSpPr>
          <p:sp>
            <p:nvSpPr>
              <p:cNvPr id="68" name=""/>
              <p:cNvSpPr/>
              <p:nvPr/>
            </p:nvSpPr>
            <p:spPr>
              <a:xfrm>
                <a:off x="225360" y="4287240"/>
                <a:ext cx="9644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26640" bIns="26640" anchor="t">
                <a:noAutofit/>
              </a:bodyPr>
              <a:p>
                <a:pPr algn="r">
                  <a:lnSpc>
                    <a:spcPts val="2174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s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584600" y="3460680"/>
                <a:ext cx="5511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26640" bIns="26640" anchor="t">
                <a:noAutofit/>
              </a:bodyPr>
              <a:p>
                <a:pPr algn="ctr">
                  <a:lnSpc>
                    <a:spcPts val="2174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35320" y="4362480"/>
                <a:ext cx="450720" cy="450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937480" y="4362480"/>
                <a:ext cx="450720" cy="450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39280" y="4362480"/>
                <a:ext cx="450720" cy="450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741440" y="4362480"/>
                <a:ext cx="450720" cy="450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27400" y="4362480"/>
                <a:ext cx="450720" cy="450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29560" y="4362480"/>
                <a:ext cx="450720" cy="450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231360" y="4362480"/>
                <a:ext cx="450720" cy="450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33520" y="4362480"/>
                <a:ext cx="450720" cy="450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8" name=""/>
              <p:cNvCxnSpPr>
                <a:stCxn id="74" idx="6"/>
                <a:endCxn id="75" idx="2"/>
              </p:cNvCxnSpPr>
              <p:nvPr/>
            </p:nvCxnSpPr>
            <p:spPr>
              <a:xfrm>
                <a:off x="1878480" y="4587480"/>
                <a:ext cx="4514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9" name=""/>
              <p:cNvCxnSpPr>
                <a:stCxn id="75" idx="6"/>
                <a:endCxn id="76" idx="2"/>
              </p:cNvCxnSpPr>
              <p:nvPr/>
            </p:nvCxnSpPr>
            <p:spPr>
              <a:xfrm>
                <a:off x="2780640" y="4587480"/>
                <a:ext cx="4514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0" name=""/>
              <p:cNvCxnSpPr>
                <a:stCxn id="76" idx="6"/>
                <a:endCxn id="77" idx="2"/>
              </p:cNvCxnSpPr>
              <p:nvPr/>
            </p:nvCxnSpPr>
            <p:spPr>
              <a:xfrm>
                <a:off x="3682440" y="4587480"/>
                <a:ext cx="4514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1" name=""/>
              <p:cNvCxnSpPr>
                <a:stCxn id="77" idx="6"/>
                <a:endCxn id="70" idx="2"/>
              </p:cNvCxnSpPr>
              <p:nvPr/>
            </p:nvCxnSpPr>
            <p:spPr>
              <a:xfrm>
                <a:off x="4584600" y="4587480"/>
                <a:ext cx="4514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2" name=""/>
              <p:cNvCxnSpPr>
                <a:stCxn id="70" idx="6"/>
                <a:endCxn id="71" idx="2"/>
              </p:cNvCxnSpPr>
              <p:nvPr/>
            </p:nvCxnSpPr>
            <p:spPr>
              <a:xfrm>
                <a:off x="5486400" y="4587480"/>
                <a:ext cx="4514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3" name=""/>
              <p:cNvCxnSpPr>
                <a:stCxn id="71" idx="6"/>
                <a:endCxn id="72" idx="2"/>
              </p:cNvCxnSpPr>
              <p:nvPr/>
            </p:nvCxnSpPr>
            <p:spPr>
              <a:xfrm>
                <a:off x="6388560" y="4587480"/>
                <a:ext cx="4514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4" name=""/>
              <p:cNvCxnSpPr>
                <a:stCxn id="72" idx="6"/>
                <a:endCxn id="73" idx="2"/>
              </p:cNvCxnSpPr>
              <p:nvPr/>
            </p:nvCxnSpPr>
            <p:spPr>
              <a:xfrm>
                <a:off x="7290360" y="4587480"/>
                <a:ext cx="4514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5" name=""/>
              <p:cNvCxnSpPr/>
              <p:nvPr/>
            </p:nvCxnSpPr>
            <p:spPr>
              <a:xfrm>
                <a:off x="976680" y="4587480"/>
                <a:ext cx="4514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6" name=""/>
              <p:cNvCxnSpPr>
                <a:stCxn id="73" idx="0"/>
                <a:endCxn id="74" idx="0"/>
              </p:cNvCxnSpPr>
              <p:nvPr/>
            </p:nvCxnSpPr>
            <p:spPr>
              <a:xfrm rot="5400000">
                <a:off x="4808880" y="1205280"/>
                <a:ext cx="1800" cy="6314400"/>
              </a:xfrm>
              <a:prstGeom prst="curvedConnector5">
                <a:avLst>
                  <a:gd name="adj1" fmla="val -38400000"/>
                  <a:gd name="adj2" fmla="val 49997"/>
                  <a:gd name="adj3" fmla="val -38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7" name=""/>
              <p:cNvSpPr/>
              <p:nvPr/>
            </p:nvSpPr>
            <p:spPr>
              <a:xfrm>
                <a:off x="4509360" y="4287240"/>
                <a:ext cx="550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26640" bIns="26640" anchor="t">
                <a:noAutofit/>
              </a:bodyPr>
              <a:p>
                <a:pPr algn="ctr">
                  <a:lnSpc>
                    <a:spcPts val="2174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411520" y="4287240"/>
                <a:ext cx="550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26640" bIns="26640" anchor="t">
                <a:noAutofit/>
              </a:bodyPr>
              <a:p>
                <a:pPr algn="ctr">
                  <a:lnSpc>
                    <a:spcPts val="2174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288120" y="4287240"/>
                <a:ext cx="550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26640" bIns="26640" anchor="t">
                <a:noAutofit/>
              </a:bodyPr>
              <a:p>
                <a:pPr algn="ctr">
                  <a:lnSpc>
                    <a:spcPts val="2174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90280" y="4287240"/>
                <a:ext cx="550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26640" bIns="26640" anchor="t">
                <a:noAutofit/>
              </a:bodyPr>
              <a:p>
                <a:pPr algn="ctr">
                  <a:lnSpc>
                    <a:spcPts val="2174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82360" y="4287240"/>
                <a:ext cx="550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26640" bIns="26640" anchor="t">
                <a:noAutofit/>
              </a:bodyPr>
              <a:p>
                <a:pPr algn="ctr">
                  <a:lnSpc>
                    <a:spcPts val="2174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705760" y="4287240"/>
                <a:ext cx="550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26640" bIns="26640" anchor="t">
                <a:noAutofit/>
              </a:bodyPr>
              <a:p>
                <a:pPr algn="ctr">
                  <a:lnSpc>
                    <a:spcPts val="2174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803600" y="4287240"/>
                <a:ext cx="550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26640" bIns="26640" anchor="t">
                <a:noAutofit/>
              </a:bodyPr>
              <a:p>
                <a:pPr algn="ctr">
                  <a:lnSpc>
                    <a:spcPts val="2174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1653840" y="4589640"/>
            <a:ext cx="6311520" cy="1001520"/>
            <a:chOff x="1653840" y="4589640"/>
            <a:chExt cx="6311520" cy="1001520"/>
          </a:xfrm>
        </p:grpSpPr>
        <p:sp>
          <p:nvSpPr>
            <p:cNvPr id="95" name=""/>
            <p:cNvSpPr/>
            <p:nvPr/>
          </p:nvSpPr>
          <p:spPr>
            <a:xfrm>
              <a:off x="3682800" y="4589640"/>
              <a:ext cx="550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64280" y="4789800"/>
              <a:ext cx="550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653840" y="4748040"/>
              <a:ext cx="6311520" cy="517320"/>
              <a:chOff x="1653840" y="4748040"/>
              <a:chExt cx="6311520" cy="517320"/>
            </a:xfrm>
          </p:grpSpPr>
          <p:cxnSp>
            <p:nvCxnSpPr>
              <p:cNvPr id="98" name=""/>
              <p:cNvCxnSpPr>
                <a:stCxn id="74" idx="5"/>
                <a:endCxn id="75" idx="3"/>
              </p:cNvCxnSpPr>
              <p:nvPr/>
            </p:nvCxnSpPr>
            <p:spPr>
              <a:xfrm flipH="1" rot="16200000">
                <a:off x="2104200" y="4457520"/>
                <a:ext cx="1800" cy="583200"/>
              </a:xfrm>
              <a:prstGeom prst="curvedConnector5">
                <a:avLst>
                  <a:gd name="adj1" fmla="val 11275000"/>
                  <a:gd name="adj2" fmla="val 49969"/>
                  <a:gd name="adj3" fmla="val 11275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9" name=""/>
              <p:cNvCxnSpPr>
                <a:stCxn id="75" idx="5"/>
                <a:endCxn id="77" idx="4"/>
              </p:cNvCxnSpPr>
              <p:nvPr/>
            </p:nvCxnSpPr>
            <p:spPr>
              <a:xfrm flipH="1" rot="16200000">
                <a:off x="3503160" y="3959640"/>
                <a:ext cx="66600" cy="1644120"/>
              </a:xfrm>
              <a:prstGeom prst="curvedConnector5">
                <a:avLst>
                  <a:gd name="adj1" fmla="val 580434"/>
                  <a:gd name="adj2" fmla="val 50000"/>
                  <a:gd name="adj3" fmla="val 580434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0" name=""/>
              <p:cNvCxnSpPr>
                <a:stCxn id="77" idx="3"/>
                <a:endCxn id="76" idx="5"/>
              </p:cNvCxnSpPr>
              <p:nvPr/>
            </p:nvCxnSpPr>
            <p:spPr>
              <a:xfrm rot="5400000">
                <a:off x="3907440" y="4457880"/>
                <a:ext cx="1800" cy="583200"/>
              </a:xfrm>
              <a:prstGeom prst="curvedConnector5">
                <a:avLst>
                  <a:gd name="adj1" fmla="val 11275000"/>
                  <a:gd name="adj2" fmla="val 49969"/>
                  <a:gd name="adj3" fmla="val 11275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1" name=""/>
              <p:cNvCxnSpPr>
                <a:stCxn id="70" idx="3"/>
                <a:endCxn id="74" idx="4"/>
              </p:cNvCxnSpPr>
              <p:nvPr/>
            </p:nvCxnSpPr>
            <p:spPr>
              <a:xfrm rot="5400000">
                <a:off x="3344400" y="3057840"/>
                <a:ext cx="66600" cy="3448080"/>
              </a:xfrm>
              <a:prstGeom prst="curvedConnector5">
                <a:avLst>
                  <a:gd name="adj1" fmla="val 780434"/>
                  <a:gd name="adj2" fmla="val 49994"/>
                  <a:gd name="adj3" fmla="val 780434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2" name=""/>
              <p:cNvCxnSpPr>
                <a:stCxn id="76" idx="4"/>
                <a:endCxn id="72" idx="3"/>
              </p:cNvCxnSpPr>
              <p:nvPr/>
            </p:nvCxnSpPr>
            <p:spPr>
              <a:xfrm flipH="1" flipV="1" rot="5400000">
                <a:off x="5148000" y="3057480"/>
                <a:ext cx="66600" cy="3448080"/>
              </a:xfrm>
              <a:prstGeom prst="curvedConnector5">
                <a:avLst>
                  <a:gd name="adj1" fmla="val -626086"/>
                  <a:gd name="adj2" fmla="val 49994"/>
                  <a:gd name="adj3" fmla="val -62608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3" name=""/>
              <p:cNvCxnSpPr>
                <a:stCxn id="72" idx="5"/>
                <a:endCxn id="73" idx="3"/>
              </p:cNvCxnSpPr>
              <p:nvPr/>
            </p:nvCxnSpPr>
            <p:spPr>
              <a:xfrm flipH="1" rot="16200000">
                <a:off x="7514640" y="4457520"/>
                <a:ext cx="1800" cy="583200"/>
              </a:xfrm>
              <a:prstGeom prst="curvedConnector5">
                <a:avLst>
                  <a:gd name="adj1" fmla="val 7675000"/>
                  <a:gd name="adj2" fmla="val 49969"/>
                  <a:gd name="adj3" fmla="val 7675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4" name=""/>
              <p:cNvCxnSpPr>
                <a:stCxn id="73" idx="4"/>
                <a:endCxn id="71" idx="5"/>
              </p:cNvCxnSpPr>
              <p:nvPr/>
            </p:nvCxnSpPr>
            <p:spPr>
              <a:xfrm flipV="1" rot="16200000">
                <a:off x="7110360" y="3959280"/>
                <a:ext cx="66600" cy="1644120"/>
              </a:xfrm>
              <a:prstGeom prst="curvedConnector5">
                <a:avLst>
                  <a:gd name="adj1" fmla="val -626086"/>
                  <a:gd name="adj2" fmla="val 50000"/>
                  <a:gd name="adj3" fmla="val -62608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5" name=""/>
              <p:cNvCxnSpPr>
                <a:stCxn id="71" idx="3"/>
                <a:endCxn id="70" idx="5"/>
              </p:cNvCxnSpPr>
              <p:nvPr/>
            </p:nvCxnSpPr>
            <p:spPr>
              <a:xfrm rot="5400000">
                <a:off x="5710680" y="4457880"/>
                <a:ext cx="1800" cy="583200"/>
              </a:xfrm>
              <a:prstGeom prst="curvedConnector5">
                <a:avLst>
                  <a:gd name="adj1" fmla="val 12475000"/>
                  <a:gd name="adj2" fmla="val 49969"/>
                  <a:gd name="adj3" fmla="val 12475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06" name=""/>
            <p:cNvSpPr/>
            <p:nvPr/>
          </p:nvSpPr>
          <p:spPr>
            <a:xfrm>
              <a:off x="6663240" y="5165280"/>
              <a:ext cx="550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60680" y="4865040"/>
              <a:ext cx="550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60080" y="5190480"/>
              <a:ext cx="550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31480" y="5190480"/>
              <a:ext cx="550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55880" y="4739760"/>
              <a:ext cx="551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9720" y="4789800"/>
              <a:ext cx="550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x counter (state encod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log description including state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76200" y="2406600"/>
            <a:ext cx="4359240" cy="38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M, rst, Z0, Z1, Z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Z0, Z1, Z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S0 = [0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S1 = [0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S2 = [0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S3 = [0,1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S4 = [1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S5 = [1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S6 = [1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S7 = [1,1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84600" y="2406600"/>
            <a:ext cx="420840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rst state = ‘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state = ‘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‘S1: if (M) state = ‘S3 else state = ‘S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‘S2: if (M) state = ‘S6 else state = ‘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‘S3: if (M) state = ‘S2 else state = ‘S4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‘S4: if (M) state = ‘S0 else state = ‘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‘S5: if (M) state = ‘S4 else state = ‘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‘S6: state = ‘S7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‘S7: if (M) state = ‘S5 else state = ‘S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33760" y="2332080"/>
            <a:ext cx="0" cy="406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4359240" y="1730160"/>
            <a:ext cx="2015640" cy="1541160"/>
            <a:chOff x="4359240" y="1730160"/>
            <a:chExt cx="2015640" cy="1541160"/>
          </a:xfrm>
        </p:grpSpPr>
        <p:grpSp>
          <p:nvGrpSpPr>
            <p:cNvPr id="118" name=""/>
            <p:cNvGrpSpPr/>
            <p:nvPr/>
          </p:nvGrpSpPr>
          <p:grpSpPr>
            <a:xfrm>
              <a:off x="4415040" y="2169000"/>
              <a:ext cx="601200" cy="676440"/>
              <a:chOff x="4415040" y="2169000"/>
              <a:chExt cx="601200" cy="676440"/>
            </a:xfrm>
          </p:grpSpPr>
          <p:sp>
            <p:nvSpPr>
              <p:cNvPr id="119" name=""/>
              <p:cNvSpPr/>
              <p:nvPr/>
            </p:nvSpPr>
            <p:spPr>
              <a:xfrm>
                <a:off x="4415040" y="2169000"/>
                <a:ext cx="601200" cy="676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4853160" y="2682360"/>
                <a:ext cx="12528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 flipV="1">
              <a:off x="5241960" y="1730160"/>
              <a:ext cx="56304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98560" y="2688840"/>
              <a:ext cx="976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5241600" y="2657880"/>
              <a:ext cx="600840" cy="6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8720" y="2281680"/>
              <a:ext cx="450720" cy="451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47480" y="2363400"/>
              <a:ext cx="337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59240" y="1824480"/>
              <a:ext cx="7509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00880" y="1704600"/>
            <a:ext cx="2404800" cy="2357280"/>
            <a:chOff x="6500880" y="1704600"/>
            <a:chExt cx="2404800" cy="2357280"/>
          </a:xfrm>
        </p:grpSpPr>
        <p:sp>
          <p:nvSpPr>
            <p:cNvPr id="128" name=""/>
            <p:cNvSpPr/>
            <p:nvPr/>
          </p:nvSpPr>
          <p:spPr>
            <a:xfrm>
              <a:off x="8003880" y="3616560"/>
              <a:ext cx="90180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6895080" y="2607480"/>
              <a:ext cx="262800" cy="27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31840" y="2231280"/>
              <a:ext cx="450720" cy="451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00880" y="2313000"/>
              <a:ext cx="5385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7459200" y="3196800"/>
              <a:ext cx="262800" cy="27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95960" y="2820600"/>
              <a:ext cx="450720" cy="451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14680" y="2902320"/>
              <a:ext cx="4381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8022600" y="3786120"/>
              <a:ext cx="262800" cy="27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59360" y="3409920"/>
              <a:ext cx="450720" cy="451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28040" y="3491640"/>
              <a:ext cx="5385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920280" y="1704600"/>
              <a:ext cx="563400" cy="58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313320" y="4513320"/>
            <a:ext cx="1803600" cy="90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13320" y="5867280"/>
            <a:ext cx="1803600" cy="45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07080" y="4619520"/>
            <a:ext cx="12034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1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96160" y="5873760"/>
            <a:ext cx="625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1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57920" y="542916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746840" y="542916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72240" y="542916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21640" y="5535720"/>
            <a:ext cx="627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2520" y="553572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30800" y="54482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29520" y="46069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29520" y="474516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29520" y="488304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29520" y="502128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129520" y="51595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29520" y="529740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2600" y="487044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2600" y="500868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737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ffic light controller as two communicating F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out separate ti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0 would require 7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 would require 3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2 would require 7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would require 3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 and S3 have simple trans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0 and S2 would require many more ar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could change in any of seven sta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factoring out ti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eatly reduce number of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instead of 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er only requires seven or eight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2 total instead of 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25600" y="2181240"/>
            <a:ext cx="821844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774"/>
              </a:spcAft>
              <a:tabLst>
                <a:tab algn="l" pos="0"/>
                <a:tab algn="l" pos="450720"/>
                <a:tab algn="l" pos="901800"/>
                <a:tab algn="l" pos="1352520"/>
                <a:tab algn="l" pos="1805040"/>
                <a:tab algn="l" pos="2255760"/>
                <a:tab algn="l" pos="270684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FSM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e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6:1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35440" y="2921040"/>
            <a:ext cx="403236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774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`define highwaygreen   6'b001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`define highwayyellow  6'b010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`define farmroadgreen  6'b10000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`define farmroadyellow 6'b100010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72"/>
              </a:lnSpc>
              <a:spcAft>
                <a:spcPts val="1774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ssign HR = state[6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Y = state[5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G = state[4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R = state[3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Y = state[2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G = state[1]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98760" y="5448240"/>
            <a:ext cx="958680" cy="48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457080" y="3371760"/>
            <a:ext cx="1427400" cy="2559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457080" y="4952880"/>
            <a:ext cx="1427400" cy="97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6680" y="5880240"/>
            <a:ext cx="26053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cify state bits and cod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state as well 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nections to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ffic light controller F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0360" y="1579680"/>
            <a:ext cx="8178840" cy="445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ation of inputs, outputs, and state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828800" y="1504800"/>
            <a:ext cx="718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560" y="1579680"/>
            <a:ext cx="806616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774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itial begin state = `highwaygreen; ST = 0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if (rese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 state = `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S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`highway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&amp; C) begin state = `highway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`highway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`farmroad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`farmroad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| !C) begin state = `farmroad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`farmroad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`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ffic light controller FSM (cont’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6365520" y="2044800"/>
            <a:ext cx="1888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e stat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ggerred b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3155760" y="2181240"/>
            <a:ext cx="3382920" cy="30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080880" y="2482920"/>
            <a:ext cx="3457800" cy="11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cp:keywords/>
  <dc:language>en-US</dc:language>
  <cp:lastModifiedBy>Bruce Hemingway</cp:lastModifiedBy>
  <cp:lastPrinted>2002-04-19T20:09:20Z</cp:lastPrinted>
  <dcterms:modified xsi:type="dcterms:W3CDTF">2007-05-23T14:50:59Z</dcterms:modified>
  <cp:revision>830</cp:revision>
  <dc:subject>CSE370</dc:subject>
  <dc:title>Lecture2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