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8942-4AC0-4ECC-8E85-D29BA3B90D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r>
              <a:rPr b="0" lang="en-US" sz="3200" spc="-1" strike="noStrike">
                <a:solidFill>
                  <a:srgbClr val="000000"/>
                </a:solidFill>
                <a:latin typeface="Fenc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cading flip-fl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ck sk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diagr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s as 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er desig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Encode the next state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87160" y="1455480"/>
            <a:ext cx="335916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D flip-flops as state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739800" y="2801880"/>
            <a:ext cx="2743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20040" bIns="27000" anchor="t">
            <a:noAutofit/>
          </a:bodyPr>
          <a:p>
            <a:pPr>
              <a:lnSpc>
                <a:spcPts val="22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9960" y="3395520"/>
            <a:ext cx="288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320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48040" y="3132000"/>
            <a:ext cx="0" cy="250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353280" y="3224160"/>
            <a:ext cx="2489040" cy="1638360"/>
            <a:chOff x="6353280" y="3224160"/>
            <a:chExt cx="2489040" cy="1638360"/>
          </a:xfrm>
        </p:grpSpPr>
        <p:sp>
          <p:nvSpPr>
            <p:cNvPr id="361" name=""/>
            <p:cNvSpPr/>
            <p:nvPr/>
          </p:nvSpPr>
          <p:spPr>
            <a:xfrm>
              <a:off x="7153200" y="3605040"/>
              <a:ext cx="16891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393840"/>
                  <a:tab algn="l" pos="800280"/>
                  <a:tab algn="l" pos="1193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89840" y="3643200"/>
              <a:ext cx="1549440" cy="774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83320" y="365616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77160" y="365616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271000" y="365616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02440" y="404964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89760" y="35542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00920" y="4062240"/>
              <a:ext cx="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96280" y="4506840"/>
              <a:ext cx="76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23000" y="4405320"/>
              <a:ext cx="50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91640" y="3224160"/>
              <a:ext cx="520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53280" y="3986280"/>
              <a:ext cx="63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16640" y="3262320"/>
              <a:ext cx="63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27880" y="3700440"/>
              <a:ext cx="279720" cy="685800"/>
            </a:xfrm>
            <a:prstGeom prst="rect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0560" y="4094280"/>
              <a:ext cx="292320" cy="279360"/>
            </a:xfrm>
            <a:prstGeom prst="rect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921800" y="3738600"/>
              <a:ext cx="647640" cy="266760"/>
            </a:xfrm>
            <a:prstGeom prst="rect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1375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736800" y="1674720"/>
            <a:ext cx="2324160" cy="1625760"/>
            <a:chOff x="3736800" y="1674720"/>
            <a:chExt cx="2324160" cy="1625760"/>
          </a:xfrm>
        </p:grpSpPr>
        <p:sp>
          <p:nvSpPr>
            <p:cNvPr id="378" name=""/>
            <p:cNvSpPr/>
            <p:nvPr/>
          </p:nvSpPr>
          <p:spPr>
            <a:xfrm>
              <a:off x="4537080" y="2081160"/>
              <a:ext cx="15238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393840"/>
                  <a:tab algn="l" pos="800280"/>
                  <a:tab algn="l" pos="119376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73720" y="2093760"/>
              <a:ext cx="1549080" cy="774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7200" y="210672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61040" y="210672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54520" y="210672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86320" y="248760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73640" y="200484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84800" y="250020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79800" y="29574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06880" y="2843280"/>
              <a:ext cx="50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75160" y="1674720"/>
              <a:ext cx="520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36800" y="2436840"/>
              <a:ext cx="63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00520" y="1712880"/>
              <a:ext cx="63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18000" y="2151000"/>
              <a:ext cx="1473120" cy="292320"/>
            </a:xfrm>
            <a:prstGeom prst="rect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353280" y="1674720"/>
            <a:ext cx="2425680" cy="1625760"/>
            <a:chOff x="6353280" y="1674720"/>
            <a:chExt cx="2425680" cy="1625760"/>
          </a:xfrm>
        </p:grpSpPr>
        <p:sp>
          <p:nvSpPr>
            <p:cNvPr id="393" name=""/>
            <p:cNvSpPr/>
            <p:nvPr/>
          </p:nvSpPr>
          <p:spPr>
            <a:xfrm>
              <a:off x="7153200" y="2081160"/>
              <a:ext cx="162576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393840"/>
                  <a:tab algn="l" pos="800280"/>
                  <a:tab algn="l" pos="1193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9840" y="2093760"/>
              <a:ext cx="1549440" cy="774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83320" y="210672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77160" y="210672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71000" y="210672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02440" y="248760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89760" y="200484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00920" y="250020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96280" y="2957400"/>
              <a:ext cx="76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23000" y="2843280"/>
              <a:ext cx="50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91640" y="1674720"/>
              <a:ext cx="520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353280" y="2436840"/>
              <a:ext cx="63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16640" y="1712880"/>
              <a:ext cx="63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53160" y="2163600"/>
              <a:ext cx="648000" cy="279720"/>
            </a:xfrm>
            <a:prstGeom prst="rect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8327880" y="2538360"/>
              <a:ext cx="393840" cy="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34360" y="2544840"/>
              <a:ext cx="0" cy="2538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353440" y="2805120"/>
              <a:ext cx="368280" cy="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45200" y="2550960"/>
              <a:ext cx="330480" cy="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94400" y="2570040"/>
              <a:ext cx="0" cy="216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032600" y="2792520"/>
              <a:ext cx="355680" cy="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4081320" y="3645000"/>
            <a:ext cx="351504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C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C1C2' + C1'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C1 xor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C1C2C3' + C1'C3 + C2'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C1C2C3' + (C1' + C2')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(C1C2) xor 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2073240" y="3121200"/>
            <a:ext cx="5213160" cy="2844720"/>
            <a:chOff x="2073240" y="3121200"/>
            <a:chExt cx="5213160" cy="2844720"/>
          </a:xfrm>
        </p:grpSpPr>
        <p:sp>
          <p:nvSpPr>
            <p:cNvPr id="415" name=""/>
            <p:cNvSpPr/>
            <p:nvPr/>
          </p:nvSpPr>
          <p:spPr>
            <a:xfrm>
              <a:off x="3273120" y="3521160"/>
              <a:ext cx="520920" cy="54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3463560" y="3914640"/>
              <a:ext cx="637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3526920" y="3914640"/>
              <a:ext cx="759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92200" y="364176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16200" y="36417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81360" y="3521160"/>
              <a:ext cx="520560" cy="54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4771800" y="3914640"/>
              <a:ext cx="50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4822560" y="391464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00440" y="36417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11480" y="364176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76640" y="3521160"/>
              <a:ext cx="520920" cy="54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6067080" y="3914640"/>
              <a:ext cx="637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130440" y="3914640"/>
              <a:ext cx="759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95720" y="364176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19720" y="36417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74760" y="3781440"/>
              <a:ext cx="19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94040" y="3781440"/>
              <a:ext cx="16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66880" y="3781440"/>
              <a:ext cx="101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27240" y="3768840"/>
              <a:ext cx="38160" cy="507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39840" y="3178080"/>
              <a:ext cx="0" cy="59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58920" y="312120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01920" y="378144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75120" y="3781440"/>
              <a:ext cx="8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35480" y="3768840"/>
              <a:ext cx="38160" cy="507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48080" y="3178080"/>
              <a:ext cx="0" cy="59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67160" y="312120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97560" y="3781440"/>
              <a:ext cx="196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43360" y="3768840"/>
              <a:ext cx="38160" cy="507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56320" y="3178080"/>
              <a:ext cx="0" cy="59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75040" y="312120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33400" y="406728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08200" y="4187880"/>
              <a:ext cx="50760" cy="38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29040" y="406728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16440" y="4187880"/>
              <a:ext cx="37800" cy="38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36920" y="406728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25480" y="4200480"/>
              <a:ext cx="90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39880" y="4200480"/>
              <a:ext cx="128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35160" y="420048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73240" y="4048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329000" y="481824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15320" y="481824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4397040" y="4829040"/>
              <a:ext cx="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4524120" y="4829040"/>
              <a:ext cx="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29000" y="475452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29000" y="434808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15320" y="4348080"/>
              <a:ext cx="29088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15320" y="475452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24280" y="481824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10600" y="481824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5705280" y="4829040"/>
              <a:ext cx="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5832360" y="4829040"/>
              <a:ext cx="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24280" y="47545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24280" y="4348080"/>
              <a:ext cx="30420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10600" y="4348080"/>
              <a:ext cx="30384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10600" y="475452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5476680" y="5248440"/>
              <a:ext cx="0" cy="31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794200" y="5235480"/>
              <a:ext cx="0" cy="33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470200" y="5559480"/>
              <a:ext cx="33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491080" y="51166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4600" y="511020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477040" y="511668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70560" y="5110200"/>
              <a:ext cx="3297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957400" y="481824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43720" y="481824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025440" y="4829040"/>
              <a:ext cx="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3152520" y="4829040"/>
              <a:ext cx="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57400" y="475452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57400" y="434808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43720" y="4348080"/>
              <a:ext cx="29088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43720" y="475452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60760" y="42325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5600" y="5565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24120" y="48672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48080" y="3787920"/>
              <a:ext cx="0" cy="119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35480" y="4975200"/>
              <a:ext cx="38160" cy="38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48080" y="4994280"/>
              <a:ext cx="0" cy="81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30600" y="4988160"/>
              <a:ext cx="71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54560" y="58136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5600" y="569268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68640" y="42325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32360" y="48672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56320" y="3787920"/>
              <a:ext cx="0" cy="119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38480" y="4988160"/>
              <a:ext cx="71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05280" y="48672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28960" y="499428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35440" y="4988160"/>
              <a:ext cx="6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025440" y="48672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025440" y="4994280"/>
              <a:ext cx="0" cy="43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09800" y="544536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05280" y="5565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97040" y="48672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52520" y="48672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46320" y="5940360"/>
              <a:ext cx="44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84440" y="5927760"/>
              <a:ext cx="38160" cy="38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03520" y="594036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05280" y="5692680"/>
              <a:ext cx="0" cy="24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97040" y="4994280"/>
              <a:ext cx="0" cy="93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39840" y="3787920"/>
              <a:ext cx="0" cy="119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927240" y="4975200"/>
              <a:ext cx="38160" cy="38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39840" y="4994280"/>
              <a:ext cx="0" cy="93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59000" y="4988160"/>
              <a:ext cx="77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89160" y="3760920"/>
              <a:ext cx="0" cy="59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60760" y="3787920"/>
              <a:ext cx="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68640" y="3787920"/>
              <a:ext cx="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 Implement th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flip-flops hold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 is synchronously clock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d logic computes next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34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 the 3-bit up counter using T flip-fl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Draw a state di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Draw a state-transition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 Encode the next-state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the logic using k-m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 Implement the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Draw a state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630440" y="2664000"/>
            <a:ext cx="5994360" cy="2304360"/>
            <a:chOff x="1630440" y="2664000"/>
            <a:chExt cx="5994360" cy="2304360"/>
          </a:xfrm>
        </p:grpSpPr>
        <p:sp>
          <p:nvSpPr>
            <p:cNvPr id="525" name=""/>
            <p:cNvSpPr/>
            <p:nvPr/>
          </p:nvSpPr>
          <p:spPr>
            <a:xfrm>
              <a:off x="6221520" y="266400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135920" y="357804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92720" y="266400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92720" y="449244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63920" y="266400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21120" y="2885760"/>
              <a:ext cx="135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6602400" y="3031560"/>
              <a:ext cx="596880" cy="62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2017800" y="3044520"/>
              <a:ext cx="584280" cy="58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73640" y="270792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16840" y="362232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73640" y="453672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02440" y="270792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44840" y="273348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21520" y="449244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49520" y="357804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63920" y="449244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49920" y="4714560"/>
              <a:ext cx="1346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630440" y="362232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02440" y="453672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44840" y="456228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49920" y="2873160"/>
              <a:ext cx="135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33720" y="4714560"/>
              <a:ext cx="1346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11520" y="3673080"/>
              <a:ext cx="20448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flipV="1">
              <a:off x="2004480" y="3971520"/>
              <a:ext cx="597240" cy="62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6615000" y="3971520"/>
              <a:ext cx="584280" cy="58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Draw a state-transition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00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e a truth-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encoding is easy for counte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e count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4884840" y="2862360"/>
            <a:ext cx="294624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4320" bIns="27000" anchor="t">
            <a:noAutofit/>
          </a:bodyPr>
          <a:p>
            <a:pPr>
              <a:lnSpc>
                <a:spcPts val="2200"/>
              </a:lnSpc>
              <a:spcBef>
                <a:spcPts val="2001"/>
              </a:spcBef>
              <a:tabLst>
                <a:tab algn="l" pos="0"/>
                <a:tab algn="l" pos="457200"/>
                <a:tab algn="l" pos="1600200"/>
                <a:tab algn="l" pos="1828800"/>
                <a:tab algn="l" pos="245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15000" y="3414600"/>
            <a:ext cx="27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27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83160" y="3179880"/>
            <a:ext cx="0" cy="250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59760" y="3411360"/>
            <a:ext cx="0" cy="225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27560" y="3411360"/>
            <a:ext cx="0" cy="225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588960" y="3514680"/>
            <a:ext cx="3911760" cy="1771560"/>
            <a:chOff x="588960" y="3514680"/>
            <a:chExt cx="3911760" cy="1771560"/>
          </a:xfrm>
        </p:grpSpPr>
        <p:sp>
          <p:nvSpPr>
            <p:cNvPr id="558" name=""/>
            <p:cNvSpPr/>
            <p:nvPr/>
          </p:nvSpPr>
          <p:spPr>
            <a:xfrm>
              <a:off x="3389400" y="3514680"/>
              <a:ext cx="35568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00760" y="4213080"/>
              <a:ext cx="3553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60880" y="35146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360880" y="49114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06800" y="35146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62120" y="368604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3694320" y="3794040"/>
              <a:ext cx="44424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887400" y="3806280"/>
              <a:ext cx="457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41800" y="35463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81680" y="42321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341800" y="49179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82920" y="35463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87720" y="35589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89400" y="4911480"/>
              <a:ext cx="35568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1000" y="42130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06800" y="49114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16200" y="5057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8960" y="42321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82920" y="49179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287720" y="49431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16200" y="36734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75080" y="5057640"/>
              <a:ext cx="66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70120" y="4270320"/>
              <a:ext cx="1549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874800" y="4505040"/>
              <a:ext cx="4572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706920" y="4504680"/>
              <a:ext cx="431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5399280" y="307800"/>
            <a:ext cx="32288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me: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Encode the next state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7640" y="1473120"/>
            <a:ext cx="3359160" cy="10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flip-flop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654960" y="1386000"/>
            <a:ext cx="2489040" cy="1638360"/>
            <a:chOff x="6654960" y="1386000"/>
            <a:chExt cx="2489040" cy="1638360"/>
          </a:xfrm>
        </p:grpSpPr>
        <p:sp>
          <p:nvSpPr>
            <p:cNvPr id="587" name=""/>
            <p:cNvSpPr/>
            <p:nvPr/>
          </p:nvSpPr>
          <p:spPr>
            <a:xfrm>
              <a:off x="7454880" y="1766880"/>
              <a:ext cx="16891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393840"/>
                  <a:tab algn="l" pos="800280"/>
                  <a:tab algn="l" pos="1193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391520" y="1805040"/>
              <a:ext cx="1549440" cy="774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785000" y="181800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178840" y="181800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72680" y="181800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404120" y="221148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191440" y="171612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302600" y="2224080"/>
              <a:ext cx="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797960" y="2668680"/>
              <a:ext cx="76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24680" y="2567160"/>
              <a:ext cx="50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293320" y="1386000"/>
              <a:ext cx="520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54960" y="2148120"/>
              <a:ext cx="63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18320" y="1424160"/>
              <a:ext cx="63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1454040" y="1386000"/>
            <a:ext cx="2324160" cy="1625040"/>
            <a:chOff x="1454040" y="1386000"/>
            <a:chExt cx="2324160" cy="1625040"/>
          </a:xfrm>
        </p:grpSpPr>
        <p:sp>
          <p:nvSpPr>
            <p:cNvPr id="601" name=""/>
            <p:cNvSpPr/>
            <p:nvPr/>
          </p:nvSpPr>
          <p:spPr>
            <a:xfrm>
              <a:off x="2254320" y="1792080"/>
              <a:ext cx="152388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393840"/>
                  <a:tab algn="l" pos="800280"/>
                  <a:tab algn="l" pos="119376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90960" y="1804680"/>
              <a:ext cx="1549080" cy="774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84440" y="1817640"/>
              <a:ext cx="0" cy="74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78280" y="1817640"/>
              <a:ext cx="0" cy="74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71760" y="1817640"/>
              <a:ext cx="0" cy="74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203560" y="219852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990880" y="171576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02040" y="2211120"/>
              <a:ext cx="0" cy="35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597040" y="266832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724120" y="2554200"/>
              <a:ext cx="507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92400" y="1386000"/>
              <a:ext cx="520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54040" y="2147760"/>
              <a:ext cx="635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517760" y="1423800"/>
              <a:ext cx="635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4003560" y="1386000"/>
            <a:ext cx="2425680" cy="1625040"/>
            <a:chOff x="4003560" y="1386000"/>
            <a:chExt cx="2425680" cy="1625040"/>
          </a:xfrm>
        </p:grpSpPr>
        <p:sp>
          <p:nvSpPr>
            <p:cNvPr id="615" name=""/>
            <p:cNvSpPr/>
            <p:nvPr/>
          </p:nvSpPr>
          <p:spPr>
            <a:xfrm>
              <a:off x="4803480" y="1792080"/>
              <a:ext cx="162576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393840"/>
                  <a:tab algn="l" pos="800280"/>
                  <a:tab algn="l" pos="1193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740120" y="1804680"/>
              <a:ext cx="1549440" cy="774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3600" y="1817640"/>
              <a:ext cx="0" cy="74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27440" y="1817640"/>
              <a:ext cx="0" cy="74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21280" y="1817640"/>
              <a:ext cx="0" cy="74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52720" y="219852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40040" y="171576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51200" y="2211120"/>
              <a:ext cx="0" cy="35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46560" y="2668320"/>
              <a:ext cx="76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73280" y="2554200"/>
              <a:ext cx="508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41920" y="1386000"/>
              <a:ext cx="5205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003560" y="2147760"/>
              <a:ext cx="635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66920" y="1423800"/>
              <a:ext cx="635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2422440" y="2960640"/>
            <a:ext cx="8571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365040" y="2111400"/>
            <a:ext cx="922320" cy="673200"/>
            <a:chOff x="365040" y="2111400"/>
            <a:chExt cx="922320" cy="673200"/>
          </a:xfrm>
        </p:grpSpPr>
        <p:sp>
          <p:nvSpPr>
            <p:cNvPr id="630" name=""/>
            <p:cNvSpPr/>
            <p:nvPr/>
          </p:nvSpPr>
          <p:spPr>
            <a:xfrm>
              <a:off x="563400" y="2111400"/>
              <a:ext cx="520920" cy="54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753840" y="2504880"/>
              <a:ext cx="637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817200" y="2504880"/>
              <a:ext cx="759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2480" y="223200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06480" y="223200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5040" y="2371680"/>
              <a:ext cx="19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23680" y="26575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90440" y="2362320"/>
              <a:ext cx="19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133200" y="3201840"/>
            <a:ext cx="4044960" cy="2895480"/>
            <a:chOff x="133200" y="3201840"/>
            <a:chExt cx="4044960" cy="2895480"/>
          </a:xfrm>
        </p:grpSpPr>
        <p:sp>
          <p:nvSpPr>
            <p:cNvPr id="639" name=""/>
            <p:cNvSpPr/>
            <p:nvPr/>
          </p:nvSpPr>
          <p:spPr>
            <a:xfrm>
              <a:off x="203040" y="3201840"/>
              <a:ext cx="27432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1   T3  T2  T1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510920" y="3531960"/>
              <a:ext cx="0" cy="250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850840" y="3538440"/>
              <a:ext cx="0" cy="250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346200" y="3536640"/>
              <a:ext cx="0" cy="250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730320" y="3544560"/>
              <a:ext cx="0" cy="250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133200" y="3785400"/>
              <a:ext cx="40449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1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133200" y="4063320"/>
              <a:ext cx="40449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1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133200" y="4342680"/>
              <a:ext cx="40449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1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133200" y="4622040"/>
              <a:ext cx="40449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1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133200" y="4901400"/>
              <a:ext cx="40449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1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133200" y="5181480"/>
              <a:ext cx="40449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1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33200" y="5460840"/>
              <a:ext cx="40449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1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33200" y="5740200"/>
              <a:ext cx="40449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1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5122800" y="3017880"/>
            <a:ext cx="8571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574040" y="3002040"/>
            <a:ext cx="8571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303800" y="4840200"/>
            <a:ext cx="5212800" cy="1269720"/>
            <a:chOff x="4303800" y="4840200"/>
            <a:chExt cx="5212800" cy="1269720"/>
          </a:xfrm>
        </p:grpSpPr>
        <p:sp>
          <p:nvSpPr>
            <p:cNvPr id="655" name=""/>
            <p:cNvSpPr/>
            <p:nvPr/>
          </p:nvSpPr>
          <p:spPr>
            <a:xfrm>
              <a:off x="5503680" y="5240160"/>
              <a:ext cx="520200" cy="54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5694120" y="5633640"/>
              <a:ext cx="6300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5757120" y="5633640"/>
              <a:ext cx="7596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22760" y="5360760"/>
              <a:ext cx="253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846400" y="53607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11560" y="5240160"/>
              <a:ext cx="520560" cy="54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7002360" y="5633640"/>
              <a:ext cx="5040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7053120" y="5633640"/>
              <a:ext cx="7560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30640" y="53607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42040" y="5360760"/>
              <a:ext cx="253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107200" y="5240160"/>
              <a:ext cx="520200" cy="54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8297640" y="5633640"/>
              <a:ext cx="6300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8360640" y="5633640"/>
              <a:ext cx="7596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126280" y="5360760"/>
              <a:ext cx="253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449920" y="53607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05320" y="5500440"/>
              <a:ext cx="196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24240" y="5500440"/>
              <a:ext cx="16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97440" y="5500440"/>
              <a:ext cx="10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157800" y="5487840"/>
              <a:ext cx="37440" cy="507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170400" y="4897080"/>
              <a:ext cx="0" cy="59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189480" y="484020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332480" y="5500440"/>
              <a:ext cx="113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05680" y="5500440"/>
              <a:ext cx="8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65680" y="5487840"/>
              <a:ext cx="37800" cy="507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78640" y="4897080"/>
              <a:ext cx="0" cy="59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497360" y="484020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627760" y="5500440"/>
              <a:ext cx="196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773920" y="5487840"/>
              <a:ext cx="37800" cy="507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786520" y="4897080"/>
              <a:ext cx="0" cy="59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805600" y="484020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63960" y="5786280"/>
              <a:ext cx="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738400" y="5906880"/>
              <a:ext cx="50760" cy="38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59240" y="5786280"/>
              <a:ext cx="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046640" y="5906880"/>
              <a:ext cx="37800" cy="38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367480" y="5786280"/>
              <a:ext cx="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856040" y="5919480"/>
              <a:ext cx="90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70440" y="5919480"/>
              <a:ext cx="128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065720" y="5919480"/>
              <a:ext cx="129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03800" y="5767200"/>
              <a:ext cx="507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4042800" y="343224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 Implement the desig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90760" y="3510000"/>
            <a:ext cx="2262240" cy="92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ombinationa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33400" y="3706920"/>
            <a:ext cx="1557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33400" y="3905280"/>
            <a:ext cx="1557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33400" y="3575160"/>
            <a:ext cx="1557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00400" y="40370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1360" y="4233960"/>
            <a:ext cx="77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54280" y="4365720"/>
            <a:ext cx="636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53000" y="3706920"/>
            <a:ext cx="1557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53000" y="3905280"/>
            <a:ext cx="1557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53000" y="3575160"/>
            <a:ext cx="1557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53000" y="4037040"/>
            <a:ext cx="106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53000" y="4233960"/>
            <a:ext cx="84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53000" y="4365720"/>
            <a:ext cx="70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05200" y="4761000"/>
            <a:ext cx="1554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05200" y="5089680"/>
            <a:ext cx="1697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05200" y="5616720"/>
            <a:ext cx="1908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08400" y="4629240"/>
            <a:ext cx="496800" cy="26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08400" y="4957920"/>
            <a:ext cx="496800" cy="26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08400" y="5484960"/>
            <a:ext cx="496800" cy="26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54280" y="4761000"/>
            <a:ext cx="155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1360" y="5089680"/>
            <a:ext cx="169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0400" y="5616720"/>
            <a:ext cx="19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59680" y="436572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2240" y="4233960"/>
            <a:ext cx="0" cy="85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13560" y="4037040"/>
            <a:ext cx="0" cy="157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654280" y="436572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1360" y="4233960"/>
            <a:ext cx="0" cy="85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00400" y="4037040"/>
            <a:ext cx="0" cy="157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7720" y="5197320"/>
            <a:ext cx="2179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Storage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80200" y="3575160"/>
            <a:ext cx="10256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13560" y="4761000"/>
            <a:ext cx="16524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3200" y="4761000"/>
            <a:ext cx="1503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3040" y="3575160"/>
            <a:ext cx="877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8280" y="1341000"/>
            <a:ext cx="7813440" cy="173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al logic and storage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ized feedback lo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ice of storage elements alters the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600" indent="-22608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flip-flop, T flip-flop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03360" y="1396800"/>
            <a:ext cx="7813440" cy="232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changes occur when state inputs chang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edback elements may be wires or del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changes occur synchronousl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edback elements are clock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ynchronous versus synchro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602240" y="4327560"/>
            <a:ext cx="3771720" cy="2135160"/>
            <a:chOff x="4602240" y="4327560"/>
            <a:chExt cx="3771720" cy="2135160"/>
          </a:xfrm>
        </p:grpSpPr>
        <p:sp>
          <p:nvSpPr>
            <p:cNvPr id="81" name=""/>
            <p:cNvSpPr/>
            <p:nvPr/>
          </p:nvSpPr>
          <p:spPr>
            <a:xfrm>
              <a:off x="5694480" y="4327560"/>
              <a:ext cx="1587240" cy="733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02240" y="4484520"/>
              <a:ext cx="10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02240" y="4641840"/>
              <a:ext cx="10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02240" y="4379760"/>
              <a:ext cx="10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98960" y="4746600"/>
              <a:ext cx="695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48360" y="4903920"/>
              <a:ext cx="54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46640" y="5008680"/>
              <a:ext cx="44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81720" y="4484520"/>
              <a:ext cx="10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81720" y="4641840"/>
              <a:ext cx="10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81720" y="4379760"/>
              <a:ext cx="10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81720" y="4746600"/>
              <a:ext cx="74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81720" y="4903920"/>
              <a:ext cx="59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81720" y="5008680"/>
              <a:ext cx="497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86640" y="5270400"/>
              <a:ext cx="10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86640" y="5532480"/>
              <a:ext cx="11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86640" y="5951520"/>
              <a:ext cx="13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38880" y="5218200"/>
              <a:ext cx="347760" cy="209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38880" y="5479920"/>
              <a:ext cx="347760" cy="209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38880" y="5899320"/>
              <a:ext cx="347760" cy="209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46640" y="5322960"/>
              <a:ext cx="10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48360" y="5584680"/>
              <a:ext cx="11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98960" y="6004080"/>
              <a:ext cx="13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8880" y="5008680"/>
              <a:ext cx="0" cy="26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77160" y="4903920"/>
              <a:ext cx="0" cy="62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26560" y="4746600"/>
              <a:ext cx="0" cy="12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246640" y="5008320"/>
              <a:ext cx="0" cy="3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48360" y="4903920"/>
              <a:ext cx="0" cy="68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98960" y="4746600"/>
              <a:ext cx="0" cy="125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86640" y="5375160"/>
              <a:ext cx="34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86640" y="5637240"/>
              <a:ext cx="34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86640" y="6056280"/>
              <a:ext cx="34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34040" y="5375160"/>
              <a:ext cx="0" cy="8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34040" y="6108840"/>
              <a:ext cx="7369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99800" y="4430880"/>
              <a:ext cx="176580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mbinational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9200" y="4327560"/>
            <a:ext cx="3471840" cy="1619280"/>
            <a:chOff x="619200" y="4327560"/>
            <a:chExt cx="3471840" cy="1619280"/>
          </a:xfrm>
        </p:grpSpPr>
        <p:sp>
          <p:nvSpPr>
            <p:cNvPr id="116" name=""/>
            <p:cNvSpPr/>
            <p:nvPr/>
          </p:nvSpPr>
          <p:spPr>
            <a:xfrm>
              <a:off x="619200" y="4478400"/>
              <a:ext cx="10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9200" y="4630680"/>
              <a:ext cx="1004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9200" y="4378320"/>
              <a:ext cx="10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84240" y="4732200"/>
              <a:ext cx="63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2480" y="4884840"/>
              <a:ext cx="501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2840" y="4984920"/>
              <a:ext cx="411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86280" y="4478400"/>
              <a:ext cx="10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86280" y="4630680"/>
              <a:ext cx="1004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6280" y="4378320"/>
              <a:ext cx="10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86280" y="4732200"/>
              <a:ext cx="685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86280" y="4884840"/>
              <a:ext cx="549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86280" y="4984920"/>
              <a:ext cx="455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01920" y="5288040"/>
              <a:ext cx="1139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401920" y="5541480"/>
              <a:ext cx="123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01920" y="5945040"/>
              <a:ext cx="1370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12840" y="5288040"/>
              <a:ext cx="118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22480" y="5541840"/>
              <a:ext cx="127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84240" y="5945040"/>
              <a:ext cx="1417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41680" y="4984920"/>
              <a:ext cx="1800" cy="30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35280" y="4884840"/>
              <a:ext cx="1800" cy="65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72080" y="4732200"/>
              <a:ext cx="1440" cy="12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212840" y="4984920"/>
              <a:ext cx="1440" cy="30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22480" y="4884840"/>
              <a:ext cx="1440" cy="65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84240" y="4732200"/>
              <a:ext cx="1440" cy="12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23960" y="4327560"/>
              <a:ext cx="1565280" cy="708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0440" y="4443480"/>
              <a:ext cx="176580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mbinational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713920" y="3886200"/>
            <a:ext cx="1521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Synchron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7440" y="3886200"/>
            <a:ext cx="16437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Tahoma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2327400" y="4365720"/>
            <a:ext cx="4273560" cy="1485360"/>
            <a:chOff x="2327400" y="4365720"/>
            <a:chExt cx="4273560" cy="1485360"/>
          </a:xfrm>
        </p:grpSpPr>
        <p:sp>
          <p:nvSpPr>
            <p:cNvPr id="145" name=""/>
            <p:cNvSpPr/>
            <p:nvPr/>
          </p:nvSpPr>
          <p:spPr>
            <a:xfrm>
              <a:off x="6118560" y="4365720"/>
              <a:ext cx="450720" cy="45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14960" y="4365720"/>
              <a:ext cx="451080" cy="45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3520" y="5268960"/>
              <a:ext cx="450720" cy="450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6760" y="5268960"/>
              <a:ext cx="450720" cy="450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1720" y="4365720"/>
              <a:ext cx="450720" cy="45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62440" y="4584600"/>
              <a:ext cx="13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66040" y="4584600"/>
              <a:ext cx="133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18160" y="4779720"/>
              <a:ext cx="587160" cy="56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851640" y="5487840"/>
              <a:ext cx="136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2862360" y="4767120"/>
              <a:ext cx="588960" cy="61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13480" y="4767120"/>
              <a:ext cx="57636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4665600" y="4766760"/>
              <a:ext cx="625320" cy="56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27400" y="5067360"/>
              <a:ext cx="8762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 algn="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70600" y="5449680"/>
              <a:ext cx="87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 =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83480" y="4773600"/>
              <a:ext cx="8762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4773600"/>
              <a:ext cx="8776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 algn="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 =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4440" y="5311800"/>
              <a:ext cx="5014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95880" y="4410000"/>
              <a:ext cx="5018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97680" y="5311800"/>
              <a:ext cx="5018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9480" y="4410000"/>
              <a:ext cx="5014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92640" y="4433760"/>
              <a:ext cx="5014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 algn="ctr">
                <a:lnSpc>
                  <a:spcPts val="21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-state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277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: Possible storage-element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s: Changes in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ck synchronizes the state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tia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ces through a series of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inputs and present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303560" y="3692520"/>
            <a:ext cx="6793200" cy="2406600"/>
            <a:chOff x="1303560" y="3692520"/>
            <a:chExt cx="6793200" cy="2406600"/>
          </a:xfrm>
        </p:grpSpPr>
        <p:sp>
          <p:nvSpPr>
            <p:cNvPr id="169" name=""/>
            <p:cNvSpPr/>
            <p:nvPr/>
          </p:nvSpPr>
          <p:spPr>
            <a:xfrm>
              <a:off x="2793960" y="3692520"/>
              <a:ext cx="576360" cy="601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35360" y="3827520"/>
              <a:ext cx="5306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65920" y="3692520"/>
              <a:ext cx="576000" cy="601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94360" y="3811680"/>
              <a:ext cx="5306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31000" y="4595760"/>
              <a:ext cx="576360" cy="601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70600" y="4726080"/>
              <a:ext cx="5306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65920" y="5497560"/>
              <a:ext cx="576000" cy="601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05520" y="5619960"/>
              <a:ext cx="5306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00480" y="4595760"/>
              <a:ext cx="576360" cy="601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26040" y="4714920"/>
              <a:ext cx="5306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59040" y="4595760"/>
              <a:ext cx="576360" cy="601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4600" y="4714920"/>
              <a:ext cx="5306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28880" y="4595760"/>
              <a:ext cx="576360" cy="601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57320" y="4740480"/>
              <a:ext cx="5306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93960" y="5497560"/>
              <a:ext cx="576360" cy="601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35360" y="5616720"/>
              <a:ext cx="5306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5" name=""/>
            <p:cNvCxnSpPr/>
            <p:nvPr/>
          </p:nvCxnSpPr>
          <p:spPr>
            <a:xfrm rot="5400000">
              <a:off x="4644720" y="4605480"/>
              <a:ext cx="2160" cy="1033560"/>
            </a:xfrm>
            <a:prstGeom prst="curvedConnector5">
              <a:avLst>
                <a:gd name="adj1" fmla="val 20000000"/>
                <a:gd name="adj2" fmla="val 50000"/>
                <a:gd name="adj3" fmla="val 20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6" name=""/>
            <p:cNvSpPr/>
            <p:nvPr/>
          </p:nvSpPr>
          <p:spPr>
            <a:xfrm>
              <a:off x="4527360" y="5129280"/>
              <a:ext cx="270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/>
            <p:nvPr/>
          </p:nvCxnSpPr>
          <p:spPr>
            <a:xfrm>
              <a:off x="3359160" y="3992400"/>
              <a:ext cx="2596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4525920" y="3710160"/>
              <a:ext cx="270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/>
            <p:nvPr/>
          </p:nvCxnSpPr>
          <p:spPr>
            <a:xfrm flipH="1" rot="16200000">
              <a:off x="4645080" y="4178520"/>
              <a:ext cx="2160" cy="1033560"/>
            </a:xfrm>
            <a:prstGeom prst="curvedConnector5">
              <a:avLst>
                <a:gd name="adj1" fmla="val -20000000"/>
                <a:gd name="adj2" fmla="val 50000"/>
                <a:gd name="adj3" fmla="val -20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0" name=""/>
            <p:cNvSpPr/>
            <p:nvPr/>
          </p:nvSpPr>
          <p:spPr>
            <a:xfrm>
              <a:off x="4527360" y="4330800"/>
              <a:ext cx="270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/>
            <p:nvPr/>
          </p:nvCxnSpPr>
          <p:spPr>
            <a:xfrm flipV="1">
              <a:off x="5581800" y="4206240"/>
              <a:ext cx="457920" cy="477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2" name=""/>
            <p:cNvSpPr/>
            <p:nvPr/>
          </p:nvSpPr>
          <p:spPr>
            <a:xfrm>
              <a:off x="5564160" y="4254480"/>
              <a:ext cx="270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" name=""/>
            <p:cNvCxnSpPr/>
            <p:nvPr/>
          </p:nvCxnSpPr>
          <p:spPr>
            <a:xfrm flipH="1" flipV="1" rot="5400000">
              <a:off x="7098120" y="4895280"/>
              <a:ext cx="427680" cy="2520"/>
            </a:xfrm>
            <a:prstGeom prst="curvedConnector5">
              <a:avLst>
                <a:gd name="adj1" fmla="val -73462"/>
                <a:gd name="adj2" fmla="val 18183333"/>
                <a:gd name="adj3" fmla="val -7346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7603920" y="4695840"/>
              <a:ext cx="270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/>
            <p:nvPr/>
          </p:nvCxnSpPr>
          <p:spPr>
            <a:xfrm flipV="1">
              <a:off x="3060360" y="4304520"/>
              <a:ext cx="1080" cy="12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6" name=""/>
            <p:cNvSpPr/>
            <p:nvPr/>
          </p:nvSpPr>
          <p:spPr>
            <a:xfrm>
              <a:off x="2820960" y="4732560"/>
              <a:ext cx="270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/>
            <p:nvPr/>
          </p:nvCxnSpPr>
          <p:spPr>
            <a:xfrm flipV="1">
              <a:off x="2411280" y="4195080"/>
              <a:ext cx="456480" cy="477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2406600" y="4202280"/>
              <a:ext cx="270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9" name=""/>
            <p:cNvCxnSpPr/>
            <p:nvPr/>
          </p:nvCxnSpPr>
          <p:spPr>
            <a:xfrm flipH="1" flipV="1">
              <a:off x="5581440" y="5109480"/>
              <a:ext cx="457920" cy="477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5597280" y="5245200"/>
              <a:ext cx="270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" name=""/>
            <p:cNvCxnSpPr/>
            <p:nvPr/>
          </p:nvCxnSpPr>
          <p:spPr>
            <a:xfrm flipH="1">
              <a:off x="3358800" y="5800320"/>
              <a:ext cx="2596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2" name=""/>
            <p:cNvSpPr/>
            <p:nvPr/>
          </p:nvSpPr>
          <p:spPr>
            <a:xfrm>
              <a:off x="4556160" y="5751720"/>
              <a:ext cx="270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/>
            <p:nvPr/>
          </p:nvCxnSpPr>
          <p:spPr>
            <a:xfrm flipH="1">
              <a:off x="3274560" y="5109840"/>
              <a:ext cx="457920" cy="477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4" name=""/>
            <p:cNvSpPr/>
            <p:nvPr/>
          </p:nvSpPr>
          <p:spPr>
            <a:xfrm>
              <a:off x="3422520" y="5292720"/>
              <a:ext cx="270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/>
            <p:nvPr/>
          </p:nvCxnSpPr>
          <p:spPr>
            <a:xfrm>
              <a:off x="3263760" y="4217760"/>
              <a:ext cx="457920" cy="477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6" name=""/>
            <p:cNvSpPr/>
            <p:nvPr/>
          </p:nvSpPr>
          <p:spPr>
            <a:xfrm>
              <a:off x="3413160" y="4168800"/>
              <a:ext cx="270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" name=""/>
            <p:cNvCxnSpPr/>
            <p:nvPr/>
          </p:nvCxnSpPr>
          <p:spPr>
            <a:xfrm flipH="1" flipV="1">
              <a:off x="2410920" y="5109480"/>
              <a:ext cx="456480" cy="477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2408040" y="5267520"/>
              <a:ext cx="270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/>
            <p:nvPr/>
          </p:nvCxnSpPr>
          <p:spPr>
            <a:xfrm flipH="1">
              <a:off x="6446520" y="5109840"/>
              <a:ext cx="457920" cy="477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0" name=""/>
            <p:cNvSpPr/>
            <p:nvPr/>
          </p:nvSpPr>
          <p:spPr>
            <a:xfrm>
              <a:off x="6667200" y="5251680"/>
              <a:ext cx="270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/>
            <p:nvPr/>
          </p:nvCxnSpPr>
          <p:spPr>
            <a:xfrm>
              <a:off x="6446520" y="4206600"/>
              <a:ext cx="456120" cy="477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2" name=""/>
            <p:cNvSpPr/>
            <p:nvPr/>
          </p:nvSpPr>
          <p:spPr>
            <a:xfrm>
              <a:off x="6621480" y="4168800"/>
              <a:ext cx="270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3" name=""/>
            <p:cNvCxnSpPr/>
            <p:nvPr/>
          </p:nvCxnSpPr>
          <p:spPr>
            <a:xfrm>
              <a:off x="6232320" y="4304880"/>
              <a:ext cx="1080" cy="12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" name=""/>
            <p:cNvSpPr/>
            <p:nvPr/>
          </p:nvSpPr>
          <p:spPr>
            <a:xfrm>
              <a:off x="6192720" y="4726080"/>
              <a:ext cx="270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/>
            <p:nvPr/>
          </p:nvCxnSpPr>
          <p:spPr>
            <a:xfrm flipH="1" flipV="1" rot="5400000">
              <a:off x="1788840" y="4895640"/>
              <a:ext cx="427680" cy="2160"/>
            </a:xfrm>
            <a:prstGeom prst="curvedConnector5">
              <a:avLst>
                <a:gd name="adj1" fmla="val -73462"/>
                <a:gd name="adj2" fmla="val -19400000"/>
                <a:gd name="adj3" fmla="val -7346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" name=""/>
            <p:cNvSpPr/>
            <p:nvPr/>
          </p:nvSpPr>
          <p:spPr>
            <a:xfrm>
              <a:off x="1384200" y="4748400"/>
              <a:ext cx="270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968640" y="1752480"/>
            <a:ext cx="4891320" cy="1422360"/>
            <a:chOff x="3968640" y="1752480"/>
            <a:chExt cx="4891320" cy="1422360"/>
          </a:xfrm>
        </p:grpSpPr>
        <p:sp>
          <p:nvSpPr>
            <p:cNvPr id="218" name=""/>
            <p:cNvSpPr/>
            <p:nvPr/>
          </p:nvSpPr>
          <p:spPr>
            <a:xfrm>
              <a:off x="5078520" y="2304720"/>
              <a:ext cx="465120" cy="54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248440" y="2698200"/>
              <a:ext cx="568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5305320" y="2698200"/>
              <a:ext cx="6840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95800" y="2425320"/>
              <a:ext cx="225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67240" y="2425320"/>
              <a:ext cx="216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49960" y="2304720"/>
              <a:ext cx="466920" cy="54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419880" y="2698200"/>
              <a:ext cx="460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6465600" y="2698200"/>
              <a:ext cx="680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5800" y="2425320"/>
              <a:ext cx="216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27880" y="2425320"/>
              <a:ext cx="226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10600" y="2304720"/>
              <a:ext cx="466560" cy="54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7580160" y="2698200"/>
              <a:ext cx="572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7637400" y="2698200"/>
              <a:ext cx="6840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26440" y="2425320"/>
              <a:ext cx="2286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99320" y="2425320"/>
              <a:ext cx="216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64040" y="2565000"/>
              <a:ext cx="10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7480" y="2565000"/>
              <a:ext cx="453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68640" y="2450880"/>
              <a:ext cx="478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 algn="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43640" y="2565000"/>
              <a:ext cx="10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24680" y="2565000"/>
              <a:ext cx="11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57760" y="25650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80240" y="2552400"/>
              <a:ext cx="33120" cy="507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96080" y="256500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89600" y="1962000"/>
              <a:ext cx="0" cy="59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89600" y="1752480"/>
              <a:ext cx="649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16880" y="2565000"/>
              <a:ext cx="10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96120" y="2565000"/>
              <a:ext cx="10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29560" y="256500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40520" y="2552400"/>
              <a:ext cx="33480" cy="507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56360" y="25650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50240" y="1962000"/>
              <a:ext cx="0" cy="59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50240" y="1752480"/>
              <a:ext cx="637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7160" y="2565000"/>
              <a:ext cx="10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89840" y="2565000"/>
              <a:ext cx="227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23120" y="1962000"/>
              <a:ext cx="0" cy="59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223120" y="1752480"/>
              <a:ext cx="6368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10360" y="285084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88040" y="2971440"/>
              <a:ext cx="46080" cy="38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" rIns="162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70640" y="285084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61280" y="2971440"/>
              <a:ext cx="33120" cy="38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" rIns="162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42080" y="285084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97480" y="2984040"/>
              <a:ext cx="80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16480" y="2984040"/>
              <a:ext cx="114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77120" y="2984040"/>
              <a:ext cx="116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" rIns="162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2831760"/>
              <a:ext cx="4557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 algn="r">
                <a:lnSpc>
                  <a:spcPts val="1672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awing stat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4440" y="1390680"/>
            <a:ext cx="3606840" cy="20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input valu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ransition ar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output valu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tate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1630440" y="3575160"/>
            <a:ext cx="5994360" cy="2305080"/>
            <a:chOff x="1630440" y="3575160"/>
            <a:chExt cx="5994360" cy="2305080"/>
          </a:xfrm>
        </p:grpSpPr>
        <p:sp>
          <p:nvSpPr>
            <p:cNvPr id="266" name=""/>
            <p:cNvSpPr/>
            <p:nvPr/>
          </p:nvSpPr>
          <p:spPr>
            <a:xfrm>
              <a:off x="6221520" y="35751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35920" y="44895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92720" y="35751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92720" y="54039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63920" y="35751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21120" y="3797280"/>
              <a:ext cx="135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6602400" y="3943440"/>
              <a:ext cx="596880" cy="62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017800" y="3955680"/>
              <a:ext cx="58428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73640" y="361944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6840" y="453384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73640" y="544824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02440" y="361944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44840" y="364500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21520" y="54039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49520" y="44895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63920" y="54039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49920" y="5626080"/>
              <a:ext cx="1346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30440" y="453384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2440" y="544824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44840" y="547380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49920" y="3784680"/>
              <a:ext cx="135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720" y="5626080"/>
              <a:ext cx="1346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11520" y="4584600"/>
              <a:ext cx="2044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2004480" y="4882680"/>
              <a:ext cx="597240" cy="6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615000" y="4882680"/>
              <a:ext cx="58428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 by studying cou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state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is the counter’s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state is well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depend on input (no inpu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nter design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424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Draw a state di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Draw a state-transition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 Encode the next-state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the logic using k-m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 Implement the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Example: Design the 3-bit up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Draw a state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30440" y="2664000"/>
            <a:ext cx="5994360" cy="2304360"/>
            <a:chOff x="1630440" y="2664000"/>
            <a:chExt cx="5994360" cy="2304360"/>
          </a:xfrm>
        </p:grpSpPr>
        <p:sp>
          <p:nvSpPr>
            <p:cNvPr id="297" name=""/>
            <p:cNvSpPr/>
            <p:nvPr/>
          </p:nvSpPr>
          <p:spPr>
            <a:xfrm>
              <a:off x="6221520" y="266400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35920" y="357804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92720" y="266400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2720" y="449244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63920" y="266400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21120" y="2885760"/>
              <a:ext cx="135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6602400" y="3031560"/>
              <a:ext cx="596880" cy="62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17800" y="3044520"/>
              <a:ext cx="584280" cy="58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73640" y="270792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16840" y="362232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73640" y="453672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02440" y="270792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44840" y="273348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21520" y="449244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49520" y="357804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63920" y="4492440"/>
              <a:ext cx="457200" cy="45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49920" y="4714560"/>
              <a:ext cx="1346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30440" y="362232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02440" y="453672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44840" y="456228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49920" y="2873160"/>
              <a:ext cx="135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33720" y="4714560"/>
              <a:ext cx="1346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11520" y="3673080"/>
              <a:ext cx="20448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2004480" y="3971520"/>
              <a:ext cx="597240" cy="62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6615000" y="3971520"/>
              <a:ext cx="584280" cy="58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Draw a state-transition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00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e a truth-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encoding is easy for counte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e count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5465880" y="2809800"/>
            <a:ext cx="29462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4320" bIns="27000" anchor="t">
            <a:noAutofit/>
          </a:bodyPr>
          <a:p>
            <a:pPr>
              <a:lnSpc>
                <a:spcPts val="2200"/>
              </a:lnSpc>
              <a:spcBef>
                <a:spcPts val="2001"/>
              </a:spcBef>
              <a:tabLst>
                <a:tab algn="l" pos="0"/>
                <a:tab algn="l" pos="457200"/>
                <a:tab algn="l" pos="1600200"/>
                <a:tab algn="l" pos="1828800"/>
                <a:tab algn="l" pos="245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96040" y="3362400"/>
            <a:ext cx="288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27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64200" y="3127320"/>
            <a:ext cx="0" cy="250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40800" y="3359160"/>
            <a:ext cx="0" cy="225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08600" y="3359160"/>
            <a:ext cx="0" cy="225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88960" y="3514680"/>
            <a:ext cx="3911760" cy="1771560"/>
            <a:chOff x="588960" y="3514680"/>
            <a:chExt cx="3911760" cy="1771560"/>
          </a:xfrm>
        </p:grpSpPr>
        <p:sp>
          <p:nvSpPr>
            <p:cNvPr id="330" name=""/>
            <p:cNvSpPr/>
            <p:nvPr/>
          </p:nvSpPr>
          <p:spPr>
            <a:xfrm>
              <a:off x="3389400" y="3514680"/>
              <a:ext cx="35568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00760" y="4213080"/>
              <a:ext cx="3553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60880" y="35146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60880" y="49114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06800" y="35146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62120" y="368604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3694320" y="3794040"/>
              <a:ext cx="44424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887400" y="3806280"/>
              <a:ext cx="457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41800" y="35463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81680" y="42321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41800" y="49179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82920" y="35463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87720" y="35589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89400" y="4911480"/>
              <a:ext cx="35568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1000" y="42130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06800" y="49114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16200" y="5057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8960" y="42321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82920" y="49179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87720" y="49431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16200" y="36734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75080" y="5057640"/>
              <a:ext cx="66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70120" y="4270320"/>
              <a:ext cx="1549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874800" y="4505040"/>
              <a:ext cx="4572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3706920" y="4504680"/>
              <a:ext cx="431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cp:keywords/>
  <dc:language>en-US</dc:language>
  <cp:lastModifiedBy>Bruce Hemingway</cp:lastModifiedBy>
  <cp:lastPrinted>2007-02-12T04:52:55Z</cp:lastPrinted>
  <dcterms:modified xsi:type="dcterms:W3CDTF">2007-02-12T04:53:04Z</dcterms:modified>
  <cp:revision>626</cp:revision>
  <dc:subject>CSE370</dc:subject>
  <dc:title>Lecture1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