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76480" y="686880"/>
            <a:ext cx="4582800" cy="343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6480" y="687240"/>
            <a:ext cx="458280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“integ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7FF8-7BC6-4531-9C3C-3DD7DC3DF7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-flop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Veril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6400" y="1567800"/>
            <a:ext cx="699768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// Simple 4-1 mu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dule mux4 (sel, A, B, C, D, Y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 [1:0] sel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// 2-bit control sig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 A, B, C, 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utput Y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g Y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// target of assign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ways @(sel or A or B or C or 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sel[0] == 0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sel[1] == 0)  Y = A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              Y = B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sel[1] == 0)  Y = C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              Y = 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nother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35040" y="1436760"/>
            <a:ext cx="699768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imple 4-1 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4 (sel, A, B, C, D,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[1:0] sel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2-bit control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A, B, C,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Y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target of 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sel or A or B or C 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(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’b00: Y =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’b01: Y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’b10: Y =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’b11: Y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338720" y="4819680"/>
            <a:ext cx="4303800" cy="1280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case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executes sequen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irst match exec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on’t need to break out of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case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statements synthesize to mu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nother w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712800" y="1495800"/>
            <a:ext cx="5770440" cy="47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imple 4-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 mux4 (sel, A, B, C, D,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 [1:0] sel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2-bit control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 A, B, C,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ign out = mymux(sel, A, B, C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ion mymu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 [1:0] sel, A, B, C,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(s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’b00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mu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’b01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mu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’b10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mu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’b11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mu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89680" y="5369040"/>
            <a:ext cx="4488840" cy="8139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118800" bIns="118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ote: You can define a function in 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n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include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it into your Verilog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9600" y="1414800"/>
            <a:ext cx="7296120" cy="47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imple binary encoder (input is 1-ho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 encode (A,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  [7:0] A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8-bit input 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 [2:0] Y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3-bit encod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    [2:0] Y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target of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ways @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’b00000001: Y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’b00000010: Y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’b00000100: Y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’b00001000: Y =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’b00010000: Y =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’b00100000: Y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’b01000000: Y = 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’b10000000: Y = 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:  Y = 3’bx; // Don’t care about other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702320" y="3338640"/>
            <a:ext cx="4033800" cy="14000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If you omit the </a:t>
            </a:r>
            <a:r>
              <a:rPr b="0" i="1" lang="en-US" sz="1600" spc="-1" strike="noStrike">
                <a:solidFill>
                  <a:srgbClr val="0000ff"/>
                </a:solidFill>
                <a:latin typeface="Tahoma"/>
              </a:rPr>
              <a:t>default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, the compiler will create a latch f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Either list all 256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Or use a function (compiler wi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warn you of missing ca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38280" y="1462320"/>
            <a:ext cx="8008920" cy="47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riority 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 encode (A,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  [7:0] A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8-bit input 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 [2:0] Y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3-bit encod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    [2:0] Y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target of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ways @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(1’b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0]: Y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1]: Y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2]: Y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3]: Y =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4]: Y =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5]: Y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6]: Y = 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7]: Y = 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:  Y = 3’bx;   // Don’t care when input is all 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ecutes sequenti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023720" y="3670200"/>
            <a:ext cx="4681080" cy="7592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ase statements execute sequen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ake the first alternative that ma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1440" y="1497600"/>
            <a:ext cx="777060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imple 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 encode (A,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put  [7:0] A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8-bit input 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put [2:0] Y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3-bit encod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    [2:0] Y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target of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i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Temporary variables for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    [7:0] te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= 8b’0000000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3’b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8; i = i + 1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 == test) Y =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= test &lt;&lt; 1;  // Shift left, pad with 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118120"/>
            <a:ext cx="3597120" cy="1006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for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statements synthesize as cascaded 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Verilog unrolls the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lo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pe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pression)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 statement while expression is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pression)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 statement a fixed number of ti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e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 statement fore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11120" y="4226040"/>
            <a:ext cx="24368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7040" y="4221000"/>
            <a:ext cx="2367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ing and non-blocking assig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31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assignments  (Q = 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ble is assigned immediat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value is used by subsequent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assignments  (Q &lt;= 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ble is assigned after all scheduled statements are exec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to be assigned is computed but saved for la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w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186520" y="2039760"/>
            <a:ext cx="2901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g B, C, 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5760" y="2039760"/>
            <a:ext cx="2901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g B, C, 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60800" y="4276800"/>
            <a:ext cx="3033720" cy="920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38240" y="4145040"/>
            <a:ext cx="3035160" cy="1052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ing and non-blocking assig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89040" y="2681280"/>
            <a:ext cx="23288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 = B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91120" y="2681280"/>
            <a:ext cx="23302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9040" y="4896000"/>
            <a:ext cx="232884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1120" y="4896000"/>
            <a:ext cx="23302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executes in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block executes fir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es previous value of variabl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 assignment fixe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blocks are scheduled by posedge C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s components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ves a valu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 of a behavioral 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cessarily become a register when you synthe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become a w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 a variable as reg if it is a target of an assignment statement inside an always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ous assign doesn’t 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mple statefu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873080"/>
            <a:ext cx="45417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4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stateful_and (out, in, clk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, clk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lways @(posedge clk)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&lt;= in &amp; ou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el versus serial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 are implicitly parall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” means continuous assig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assign E = A &amp; D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assign A = B &amp; C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ange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s execute in parall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ways @(posedge clo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block internals not necessarily parall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” is a blocking assignment (sequen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=” is a nonblocking assignment (parall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 of procedur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759280" y="1909800"/>
          <a:ext cx="285300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9280" y="1909800"/>
                    <a:ext cx="285300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1560" y="1881360"/>
            <a:ext cx="359532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ire [3:0] x, y, a, b, c,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ign apr = ^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ign y = a &amp; ~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ign x = (a == b)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+ c : d +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288880" y="3398760"/>
            <a:ext cx="390600" cy="36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73360" y="3398760"/>
            <a:ext cx="1241280" cy="101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43360" y="2782800"/>
            <a:ext cx="2779560" cy="98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45240" y="3584520"/>
            <a:ext cx="2779560" cy="822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02240" y="2282760"/>
            <a:ext cx="2705040" cy="987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84720" y="1146240"/>
            <a:ext cx="3494160" cy="987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2705040" y="1936800"/>
            <a:ext cx="2535120" cy="62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05040" y="2557440"/>
            <a:ext cx="27828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25600" y="3836880"/>
            <a:ext cx="3006360" cy="2282400"/>
            <a:chOff x="525600" y="3836880"/>
            <a:chExt cx="3006360" cy="2282400"/>
          </a:xfrm>
        </p:grpSpPr>
        <p:sp>
          <p:nvSpPr>
            <p:cNvPr id="131" name=""/>
            <p:cNvSpPr/>
            <p:nvPr/>
          </p:nvSpPr>
          <p:spPr>
            <a:xfrm>
              <a:off x="3167280" y="4436640"/>
              <a:ext cx="36468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120" bIns="24120" anchor="t">
              <a:noAutofit/>
            </a:bodyPr>
            <a:p>
              <a:pPr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5360" y="3836880"/>
              <a:ext cx="300600" cy="599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120" bIns="24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45360" y="4678200"/>
              <a:ext cx="300600" cy="599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120" bIns="24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45360" y="5519520"/>
              <a:ext cx="300600" cy="599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120" bIns="24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=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4" idx="3"/>
              <a:endCxn id="136" idx="2"/>
            </p:cNvCxnSpPr>
            <p:nvPr/>
          </p:nvCxnSpPr>
          <p:spPr>
            <a:xfrm flipV="1">
              <a:off x="2146320" y="4824720"/>
              <a:ext cx="451440" cy="9954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2746080" y="4557240"/>
              <a:ext cx="36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45000" y="4016880"/>
              <a:ext cx="9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45000" y="4256640"/>
              <a:ext cx="9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25600" y="4858200"/>
              <a:ext cx="4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45000" y="5097960"/>
              <a:ext cx="9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5600" y="5699520"/>
              <a:ext cx="4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45000" y="5939280"/>
              <a:ext cx="9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425600" y="4016880"/>
              <a:ext cx="0" cy="16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66560" y="4436640"/>
              <a:ext cx="18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66560" y="4678200"/>
              <a:ext cx="18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920" rIns="1692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32" idx="3"/>
              <a:endCxn id="145" idx="0"/>
            </p:cNvCxnSpPr>
            <p:nvPr/>
          </p:nvCxnSpPr>
          <p:spPr>
            <a:xfrm>
              <a:off x="2146320" y="4137480"/>
              <a:ext cx="120960" cy="2995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>
              <a:stCxn id="133" idx="3"/>
              <a:endCxn id="146" idx="0"/>
            </p:cNvCxnSpPr>
            <p:nvPr/>
          </p:nvCxnSpPr>
          <p:spPr>
            <a:xfrm flipV="1">
              <a:off x="2146320" y="4677480"/>
              <a:ext cx="120960" cy="301320"/>
            </a:xfrm>
            <a:prstGeom prst="bentConnector4">
              <a:avLst>
                <a:gd name="adj1" fmla="val 49850"/>
                <a:gd name="adj2" fmla="val 1196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>
              <a:off x="525600" y="3896280"/>
              <a:ext cx="36468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120" bIns="24120" anchor="t">
              <a:noAutofit/>
            </a:bodyPr>
            <a:p>
              <a:pPr algn="r"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600" y="5818680"/>
              <a:ext cx="36468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120" bIns="24120" anchor="t">
              <a:noAutofit/>
            </a:bodyPr>
            <a:p>
              <a:pPr algn="r"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00" y="4137480"/>
              <a:ext cx="36468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120" bIns="24120" anchor="t">
              <a:noAutofit/>
            </a:bodyPr>
            <a:p>
              <a:pPr algn="r"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00" y="4978800"/>
              <a:ext cx="36468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120" bIns="24120" anchor="t">
              <a:noAutofit/>
            </a:bodyPr>
            <a:p>
              <a:pPr algn="r"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197600">
              <a:off x="2259720" y="4401360"/>
              <a:ext cx="676800" cy="295920"/>
            </a:xfrm>
            <a:custGeom>
              <a:avLst/>
              <a:gdLst>
                <a:gd name="textAreaLeft" fmla="*/ 125280 w 676800"/>
                <a:gd name="textAreaRight" fmla="*/ 551520 w 676800"/>
                <a:gd name="textAreaTop" fmla="*/ 54720 h 295920"/>
                <a:gd name="textAreaBottom" fmla="*/ 241200 h 29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6" y="21600"/>
                  </a:lnTo>
                  <a:lnTo>
                    <a:pt x="4044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63800" y="4411800"/>
            <a:ext cx="3412800" cy="1855440"/>
            <a:chOff x="3763800" y="4411800"/>
            <a:chExt cx="3412800" cy="1855440"/>
          </a:xfrm>
        </p:grpSpPr>
        <p:sp>
          <p:nvSpPr>
            <p:cNvPr id="154" name=""/>
            <p:cNvSpPr/>
            <p:nvPr/>
          </p:nvSpPr>
          <p:spPr>
            <a:xfrm>
              <a:off x="6813360" y="4890960"/>
              <a:ext cx="3632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4800" y="4710960"/>
              <a:ext cx="299160" cy="59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8880" y="5668920"/>
              <a:ext cx="298800" cy="59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=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"/>
            <p:cNvCxnSpPr>
              <a:stCxn id="156" idx="3"/>
              <a:endCxn id="158" idx="2"/>
            </p:cNvCxnSpPr>
            <p:nvPr/>
          </p:nvCxnSpPr>
          <p:spPr>
            <a:xfrm flipV="1">
              <a:off x="5378040" y="5409720"/>
              <a:ext cx="199440" cy="5587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5736600" y="5129640"/>
              <a:ext cx="3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81760" y="4530600"/>
              <a:ext cx="173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81760" y="5010480"/>
              <a:ext cx="12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16600" y="4890960"/>
              <a:ext cx="17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81760" y="5250240"/>
              <a:ext cx="12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60920" y="5848920"/>
              <a:ext cx="41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1760" y="6087240"/>
              <a:ext cx="89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660920" y="4530600"/>
              <a:ext cx="0" cy="131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3800" y="4411800"/>
              <a:ext cx="3628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63800" y="5968080"/>
              <a:ext cx="36288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3800" y="4890960"/>
              <a:ext cx="3628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3800" y="5129640"/>
              <a:ext cx="36288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672"/>
                </a:lnSpc>
                <a:spcBef>
                  <a:spcPts val="587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60" idx="0"/>
              <a:endCxn id="162" idx="0"/>
            </p:cNvCxnSpPr>
            <p:nvPr/>
          </p:nvCxnSpPr>
          <p:spPr>
            <a:xfrm flipV="1" rot="10800000">
              <a:off x="5915880" y="4530240"/>
              <a:ext cx="1080" cy="361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72" name=""/>
            <p:cNvSpPr/>
            <p:nvPr/>
          </p:nvSpPr>
          <p:spPr>
            <a:xfrm>
              <a:off x="6393960" y="5010480"/>
              <a:ext cx="3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197600">
              <a:off x="5231160" y="4988880"/>
              <a:ext cx="687600" cy="278640"/>
            </a:xfrm>
            <a:custGeom>
              <a:avLst/>
              <a:gdLst>
                <a:gd name="textAreaLeft" fmla="*/ 126360 w 687600"/>
                <a:gd name="textAreaRight" fmla="*/ 561240 w 687600"/>
                <a:gd name="textAreaTop" fmla="*/ 51120 h 278640"/>
                <a:gd name="textAreaBottom" fmla="*/ 227520 h 27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07" y="21600"/>
                  </a:lnTo>
                  <a:lnTo>
                    <a:pt x="3993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s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Veri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8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circuits: Registers &amp; combinationa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positive edge-triggered 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latches and negative edge-triggered 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is triggered by “posedge clk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031760" y="3441600"/>
            <a:ext cx="5139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register(Q, D, clock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, clock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lways @(posedge clock)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 &lt;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68880" y="3273480"/>
            <a:ext cx="2562480" cy="664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ample: A D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48360" y="4341960"/>
            <a:ext cx="2635200" cy="577080"/>
          </a:xfrm>
          <a:prstGeom prst="borderCallout1">
            <a:avLst>
              <a:gd name="adj1" fmla="val 18750"/>
              <a:gd name="adj2" fmla="val -8333"/>
              <a:gd name="adj3" fmla="val 17078"/>
              <a:gd name="adj4" fmla="val -124148"/>
            </a:avLst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A real register. Holds </a:t>
            </a:r>
            <a:r>
              <a:rPr b="1" i="1" lang="en-US" sz="1600" spc="-1" strike="noStrike">
                <a:solidFill>
                  <a:srgbClr val="d60093"/>
                </a:solidFill>
                <a:latin typeface="Tahoma"/>
              </a:rPr>
              <a:t>Q</a:t>
            </a: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 between clock ed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struct that describes a circuit’s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contain multiple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conta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f, for, while,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ggers at the specified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gin/e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groups statements with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741320" y="3419640"/>
            <a:ext cx="5139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register(Q, D, clock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, clock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lways @(posedge clock)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 &lt;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1873080"/>
            <a:ext cx="45417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4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and_gate(out, in1, in2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1, in2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lways @(in1 or in2)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= in1 &amp; in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7000" y="1859040"/>
            <a:ext cx="2635200" cy="844200"/>
          </a:xfrm>
          <a:prstGeom prst="borderCallout1">
            <a:avLst>
              <a:gd name="adj1" fmla="val 18750"/>
              <a:gd name="adj2" fmla="val -8333"/>
              <a:gd name="adj3" fmla="val 131199"/>
              <a:gd name="adj4" fmla="val -122768"/>
            </a:avLst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Not a real register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Holds assignment in always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48000" y="5495760"/>
            <a:ext cx="4050000" cy="600840"/>
          </a:xfrm>
          <a:prstGeom prst="borderCallout1">
            <a:avLst>
              <a:gd name="adj1" fmla="val 18750"/>
              <a:gd name="adj2" fmla="val -8333"/>
              <a:gd name="adj3" fmla="val -284069"/>
              <a:gd name="adj4" fmla="val -18296"/>
            </a:avLst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specifies when block is executed </a:t>
            </a:r>
            <a:br>
              <a:rPr sz="1600"/>
            </a:b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i.e. triggered by changes in </a:t>
            </a:r>
            <a:r>
              <a:rPr b="1" i="1" lang="en-US" sz="1600" spc="-1" strike="noStrike">
                <a:solidFill>
                  <a:srgbClr val="d60093"/>
                </a:solidFill>
                <a:latin typeface="Tahoma"/>
              </a:rPr>
              <a:t>in1</a:t>
            </a: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 or </a:t>
            </a:r>
            <a:r>
              <a:rPr b="1" i="1" lang="en-US" sz="1600" spc="-1" strike="noStrike">
                <a:solidFill>
                  <a:srgbClr val="d60093"/>
                </a:solidFill>
                <a:latin typeface="Tahoma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way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4925880" y="3068640"/>
            <a:ext cx="3760920" cy="1938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compiler will not synthesize this code to a register, because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out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changes whenever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in1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or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in2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change. Can instead simply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re out, in1, in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4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(out, in1, in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7080" y="2654280"/>
            <a:ext cx="4973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dule and_gate (out, in1, in2)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input         in1, in2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 out;</a:t>
            </a:r>
            <a:br>
              <a:rPr sz="1700"/>
            </a:b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always @(in1) be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ut = in1 &amp; in2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ncomplete sensitivity list or incomplete assign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2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you omit an input trigger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r will insert a latch to hold the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omes a sequential circuit —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at you wa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359880" y="4645080"/>
            <a:ext cx="5652000" cy="16779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118800" bIns="118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2 ru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) Include all inputs in the trigg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) Use complete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very path must lead to an assignment for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Otherwise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out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needs a state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91040" y="2909880"/>
            <a:ext cx="2976840" cy="820440"/>
          </a:xfrm>
          <a:prstGeom prst="borderCallout1">
            <a:avLst>
              <a:gd name="adj1" fmla="val 18750"/>
              <a:gd name="adj2" fmla="val -8333"/>
              <a:gd name="adj3" fmla="val 82412"/>
              <a:gd name="adj4" fmla="val -82393"/>
            </a:avLst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Real state!!  Holds </a:t>
            </a:r>
            <a:r>
              <a:rPr b="1" i="1" lang="en-US" sz="1600" spc="-1" strike="noStrike">
                <a:solidFill>
                  <a:srgbClr val="d60093"/>
                </a:solidFill>
                <a:latin typeface="Tahoma"/>
              </a:rPr>
              <a:t>out</a:t>
            </a: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  because </a:t>
            </a:r>
            <a:r>
              <a:rPr b="1" i="1" lang="en-US" sz="1600" spc="-1" strike="noStrike">
                <a:solidFill>
                  <a:srgbClr val="d60093"/>
                </a:solidFill>
                <a:latin typeface="Tahoma"/>
              </a:rPr>
              <a:t>in2</a:t>
            </a: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  isn’t specified in </a:t>
            </a:r>
            <a:r>
              <a:rPr b="1" i="1" lang="en-US" sz="1600" spc="-1" strike="noStrike">
                <a:solidFill>
                  <a:srgbClr val="d60093"/>
                </a:solidFill>
                <a:latin typeface="Tahoma"/>
              </a:rPr>
              <a:t>always</a:t>
            </a: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 sensitivity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445760"/>
            <a:ext cx="807876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careful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ig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f these statements generate stat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1172880" y="2384280"/>
            <a:ext cx="2863800" cy="1550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ways @(c or x)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f (c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9400" y="2384280"/>
            <a:ext cx="2863800" cy="1793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ways @(c or x)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value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80" y="4060800"/>
            <a:ext cx="2863800" cy="1550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ways @(c or x)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f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7760" y="4362480"/>
            <a:ext cx="1983960" cy="6836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ways @(a or 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f = a &amp; b &amp;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85520" y="5118120"/>
            <a:ext cx="547056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2 ru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) Include all inputs in the sensitivity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) Use complete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very path must lead to an assignment for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Otherwise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out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needs a state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5280" y="2394000"/>
            <a:ext cx="49863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dule and_gate (out, in1, in2)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input         in1, in2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ssign out = myfunction(in1, in2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unction myfunction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 in1, in2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yfunction = in1 &amp; in2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11560" y="3925800"/>
            <a:ext cx="3910320" cy="2377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Benefits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unctions force a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mpiler will fail if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oes not generate a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f you build a function wro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circuit will not synthesiz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f you build an always bloc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rong you get a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way: Us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for combinationa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can’t have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74640" y="1958760"/>
            <a:ext cx="699768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// Simple 4-1 mu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dule mux4 (sel, A, B, C, D, Y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 [1:0] sel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// 2-bit control sig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 A, B, C, 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utput Y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g Y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// target of assign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lways @(sel or A or B or C or 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sel == 2’b00) Y = A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 if (sel == 2’b01) Y = B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 if (sel == 2’b10) Y = C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 if (sel == 2’b11) Y = 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409400"/>
            <a:ext cx="803448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as 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2508120" y="5465880"/>
            <a:ext cx="5927760" cy="1006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ingle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 if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statements synthesize to multiplex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ested 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if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ff"/>
                </a:solidFill>
                <a:latin typeface="Tahoma"/>
              </a:rPr>
              <a:t>else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statements usually synthesize to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2-04-19T20:09:20Z</cp:lastPrinted>
  <dcterms:modified xsi:type="dcterms:W3CDTF">2008-02-13T08:55:34Z</dcterms:modified>
  <cp:revision>541</cp:revision>
  <dc:subject>CSE370</dc:subject>
  <dc:title>Lecture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620710177</vt:r8>
  </property>
  <property fmtid="{D5CDD505-2E9C-101B-9397-08002B2CF9AE}" pid="23" name="_AuthorEmail">
    <vt:lpwstr>bruceh@cs.washington.edu</vt:lpwstr>
  </property>
  <property fmtid="{D5CDD505-2E9C-101B-9397-08002B2CF9AE}" pid="24" name="_AuthorEmailDisplayName">
    <vt:lpwstr>Bruce Hemingway</vt:lpwstr>
  </property>
  <property fmtid="{D5CDD505-2E9C-101B-9397-08002B2CF9AE}" pid="25" name="_EmailSubject">
    <vt:lpwstr>lectures</vt:lpwstr>
  </property>
  <property fmtid="{D5CDD505-2E9C-101B-9397-08002B2CF9AE}" pid="26" name="_NewReviewCycle">
    <vt:lpwstr/>
  </property>
</Properties>
</file>