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9078913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4800" y="3916800"/>
            <a:ext cx="79344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4800" y="391680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1680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520" y="139068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0240" y="139068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4800" y="391680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520" y="391680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0240" y="391680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4800" y="475920"/>
            <a:ext cx="7935840" cy="347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4800" y="391680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1680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4800" y="3916800"/>
            <a:ext cx="79344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500"/>
              </a:spcBef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spcBef>
                <a:spcPts val="1500"/>
              </a:spcBef>
              <a:buClr>
                <a:srgbClr val="000000"/>
              </a:buClr>
              <a:buFont typeface="Monotype Sorts" charset="2"/>
              <a:buChar char="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278000"/>
            <a:ext cx="779004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132760" y="6308640"/>
            <a:ext cx="3524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63EA7-6625-4D52-9C53-73A8A0E6A3A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90480" y="6291360"/>
            <a:ext cx="33879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E370, Lecture 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r>
              <a:rPr b="0" lang="en-US" sz="3200" spc="-1" strike="noStrike">
                <a:solidFill>
                  <a:srgbClr val="000000"/>
                </a:solidFill>
                <a:latin typeface="Fence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e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d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roduction to sequential logic and syst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basic concep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simple examp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ite-state dia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894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125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es: 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ach state has outpu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125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puts: open/clo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49760" y="1390680"/>
            <a:ext cx="3889440" cy="144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puts: reset, new, results of compari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ume synchronous inpu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008000" y="3212640"/>
            <a:ext cx="7038720" cy="2991240"/>
            <a:chOff x="1008000" y="3212640"/>
            <a:chExt cx="7038720" cy="2991240"/>
          </a:xfrm>
        </p:grpSpPr>
        <p:sp>
          <p:nvSpPr>
            <p:cNvPr id="219" name=""/>
            <p:cNvSpPr/>
            <p:nvPr/>
          </p:nvSpPr>
          <p:spPr>
            <a:xfrm>
              <a:off x="3763800" y="5086080"/>
              <a:ext cx="565200" cy="3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354280" y="5086080"/>
              <a:ext cx="563760" cy="3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197080" y="5086080"/>
              <a:ext cx="564840" cy="3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22520" y="5275080"/>
              <a:ext cx="15033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== valu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101840" y="5275080"/>
              <a:ext cx="15033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2== valu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681520" y="5275080"/>
              <a:ext cx="15015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3== valu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423960" y="4259160"/>
              <a:ext cx="15051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!= valu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890960" y="4371840"/>
              <a:ext cx="15033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2!= valu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32240" y="4371840"/>
              <a:ext cx="15019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3!= valu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128680" y="4892400"/>
              <a:ext cx="67788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677960" y="5224320"/>
              <a:ext cx="43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806560" y="5224320"/>
              <a:ext cx="88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2806560" y="3864960"/>
              <a:ext cx="4044960" cy="136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4383000" y="3864960"/>
              <a:ext cx="2468520" cy="136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5962320" y="3864960"/>
              <a:ext cx="889200" cy="136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921360" y="3733560"/>
              <a:ext cx="5634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008000" y="5075280"/>
              <a:ext cx="7142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278320" y="5864040"/>
              <a:ext cx="80316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701880" y="5864040"/>
              <a:ext cx="79992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122200" y="5864040"/>
              <a:ext cx="80352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474640" y="4762440"/>
              <a:ext cx="6494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051080" y="4762440"/>
              <a:ext cx="6526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30760" y="4762440"/>
              <a:ext cx="6508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321320" y="4762440"/>
              <a:ext cx="6526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245000" y="3406680"/>
              <a:ext cx="80172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708360" y="4892400"/>
              <a:ext cx="67464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383000" y="5224320"/>
              <a:ext cx="88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84440" y="4892400"/>
              <a:ext cx="67788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962320" y="5224320"/>
              <a:ext cx="88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864120" y="4892400"/>
              <a:ext cx="67464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983280" y="5086080"/>
              <a:ext cx="463680" cy="3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64120" y="3538440"/>
              <a:ext cx="674640" cy="676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7308720" y="3212640"/>
              <a:ext cx="0" cy="35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7081560" y="3212640"/>
              <a:ext cx="0" cy="35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088040" y="3219480"/>
              <a:ext cx="21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4" name=""/>
            <p:cNvCxnSpPr>
              <a:stCxn id="228" idx="3"/>
              <a:endCxn id="228" idx="5"/>
            </p:cNvCxnSpPr>
            <p:nvPr/>
          </p:nvCxnSpPr>
          <p:spPr>
            <a:xfrm flipH="1" rot="16200000">
              <a:off x="2466000" y="5232240"/>
              <a:ext cx="2160" cy="478440"/>
            </a:xfrm>
            <a:prstGeom prst="curvedConnector5">
              <a:avLst>
                <a:gd name="adj1" fmla="val 20700000"/>
                <a:gd name="adj2" fmla="val 50000"/>
                <a:gd name="adj3" fmla="val 207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4" idx="3"/>
              <a:endCxn id="244" idx="5"/>
            </p:cNvCxnSpPr>
            <p:nvPr/>
          </p:nvCxnSpPr>
          <p:spPr>
            <a:xfrm flipH="1" rot="16200000">
              <a:off x="4043880" y="5232240"/>
              <a:ext cx="2160" cy="478440"/>
            </a:xfrm>
            <a:prstGeom prst="curvedConnector5">
              <a:avLst>
                <a:gd name="adj1" fmla="val 20700000"/>
                <a:gd name="adj2" fmla="val 50000"/>
                <a:gd name="adj3" fmla="val 207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46" idx="3"/>
              <a:endCxn id="246" idx="5"/>
            </p:cNvCxnSpPr>
            <p:nvPr/>
          </p:nvCxnSpPr>
          <p:spPr>
            <a:xfrm flipH="1" rot="16200000">
              <a:off x="5622840" y="5231880"/>
              <a:ext cx="2160" cy="478800"/>
            </a:xfrm>
            <a:prstGeom prst="curvedConnector5">
              <a:avLst>
                <a:gd name="adj1" fmla="val 20700000"/>
                <a:gd name="adj2" fmla="val 49962"/>
                <a:gd name="adj3" fmla="val 207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48" idx="3"/>
              <a:endCxn id="248" idx="5"/>
            </p:cNvCxnSpPr>
            <p:nvPr/>
          </p:nvCxnSpPr>
          <p:spPr>
            <a:xfrm flipH="1" rot="16200000">
              <a:off x="7200000" y="5232240"/>
              <a:ext cx="2160" cy="478440"/>
            </a:xfrm>
            <a:prstGeom prst="curvedConnector5">
              <a:avLst>
                <a:gd name="adj1" fmla="val 20700000"/>
                <a:gd name="adj2" fmla="val 50000"/>
                <a:gd name="adj3" fmla="val 207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58" name=""/>
          <p:cNvSpPr/>
          <p:nvPr/>
        </p:nvSpPr>
        <p:spPr>
          <a:xfrm>
            <a:off x="496800" y="2708280"/>
            <a:ext cx="380520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1000"/>
          </a:bodyPr>
          <a:p>
            <a:pPr marL="277560" indent="-27756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c0128"/>
                </a:solidFill>
                <a:latin typeface="Tahoma"/>
              </a:rPr>
              <a:t>We use state diagrams to represent sequential log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c0128"/>
                </a:solidFill>
                <a:latin typeface="Tahoma"/>
              </a:rPr>
              <a:t>System transitions between finite numbers of st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parate data path and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89440" cy="154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c0128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es comb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ares inputs with comb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429080" y="1390320"/>
            <a:ext cx="4533840" cy="13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-27072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6800" indent="-22572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ite state-machine control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6800" indent="-22572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rol for data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6800" indent="-22572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e changes clock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601560" y="3313080"/>
            <a:ext cx="7632720" cy="2828880"/>
            <a:chOff x="601560" y="3313080"/>
            <a:chExt cx="7632720" cy="2828880"/>
          </a:xfrm>
        </p:grpSpPr>
        <p:sp>
          <p:nvSpPr>
            <p:cNvPr id="263" name=""/>
            <p:cNvSpPr/>
            <p:nvPr/>
          </p:nvSpPr>
          <p:spPr>
            <a:xfrm>
              <a:off x="5103720" y="4433760"/>
              <a:ext cx="18288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697800" y="397656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303960" y="3678120"/>
              <a:ext cx="8636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211720" y="5735520"/>
              <a:ext cx="15494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open/clos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012000" y="534816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326200" y="397656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944960" y="3665520"/>
              <a:ext cx="8510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004840" y="379872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690640" y="379872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376440" y="379872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220840" y="5094360"/>
              <a:ext cx="1371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004840" y="4459320"/>
              <a:ext cx="18288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036880" y="3741840"/>
              <a:ext cx="4190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544840" y="3741840"/>
              <a:ext cx="736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230640" y="3741840"/>
              <a:ext cx="736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227320" y="4027320"/>
              <a:ext cx="0" cy="41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913120" y="4027320"/>
              <a:ext cx="0" cy="41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598920" y="4027320"/>
              <a:ext cx="0" cy="41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913120" y="468792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417760" y="5075280"/>
              <a:ext cx="102888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mpar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01560" y="4998960"/>
              <a:ext cx="9781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776760" y="5151600"/>
              <a:ext cx="9777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443320" y="4440240"/>
              <a:ext cx="9903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ltiplex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580000" y="4719600"/>
              <a:ext cx="8636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ntrol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978360" y="4084560"/>
              <a:ext cx="8636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ux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3821040" y="4567320"/>
              <a:ext cx="1270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 flipV="1">
              <a:off x="6805080" y="5106600"/>
              <a:ext cx="12708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6818400" y="499284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932520" y="511344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383600" y="4935600"/>
              <a:ext cx="850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605040" y="5202360"/>
              <a:ext cx="149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585800" y="5202360"/>
              <a:ext cx="63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2170080" y="4103280"/>
              <a:ext cx="10152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2868480" y="4103280"/>
              <a:ext cx="10188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3554280" y="4103280"/>
              <a:ext cx="10188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1789200" y="513252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693800" y="520236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884240" y="403380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5600" y="403380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255840" y="404640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868480" y="4738320"/>
              <a:ext cx="10188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70040" y="468144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714920" y="3330720"/>
              <a:ext cx="2657520" cy="242064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623960" y="3313080"/>
              <a:ext cx="2543400" cy="240336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7277040" y="1111320"/>
            <a:ext cx="1233720" cy="21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ine diagram; generate state 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89440" cy="94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125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ine state diagram to include internal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819000" y="4468320"/>
            <a:ext cx="1774800" cy="61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260640" indent="-260640">
              <a:spcBef>
                <a:spcPts val="125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te state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614600" y="1001880"/>
            <a:ext cx="7036920" cy="2989080"/>
            <a:chOff x="1614600" y="1001880"/>
            <a:chExt cx="7036920" cy="2989080"/>
          </a:xfrm>
        </p:grpSpPr>
        <p:sp>
          <p:nvSpPr>
            <p:cNvPr id="312" name=""/>
            <p:cNvSpPr/>
            <p:nvPr/>
          </p:nvSpPr>
          <p:spPr>
            <a:xfrm>
              <a:off x="6900840" y="1189080"/>
              <a:ext cx="1728360" cy="406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33480" y="2681280"/>
              <a:ext cx="67752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282760" y="3013200"/>
              <a:ext cx="43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411360" y="3013200"/>
              <a:ext cx="88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3411360" y="1654200"/>
              <a:ext cx="4044600" cy="136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4987800" y="1654200"/>
              <a:ext cx="2468160" cy="136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567480" y="1654200"/>
              <a:ext cx="888480" cy="136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526160" y="1521000"/>
              <a:ext cx="5616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739960" y="2774880"/>
              <a:ext cx="69012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=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614600" y="2863800"/>
              <a:ext cx="7124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128760" y="2949480"/>
              <a:ext cx="150300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255920" y="2048040"/>
              <a:ext cx="150156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495760" y="2160720"/>
              <a:ext cx="1503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624720" y="2273400"/>
              <a:ext cx="150120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110280" y="3359160"/>
              <a:ext cx="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335640" y="3359160"/>
              <a:ext cx="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6103440" y="369108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530600" y="3359160"/>
              <a:ext cx="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757760" y="3359160"/>
              <a:ext cx="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4523760" y="3691080"/>
              <a:ext cx="23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954160" y="3359160"/>
              <a:ext cx="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78080" y="3359160"/>
              <a:ext cx="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2948040" y="3691080"/>
              <a:ext cx="23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688160" y="3359160"/>
              <a:ext cx="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913520" y="3359160"/>
              <a:ext cx="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7681320" y="369108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884920" y="3652920"/>
              <a:ext cx="7995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306680" y="3652920"/>
              <a:ext cx="8013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27360" y="3652920"/>
              <a:ext cx="8013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078000" y="2549520"/>
              <a:ext cx="6523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657680" y="2549520"/>
              <a:ext cx="6487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234120" y="2549520"/>
              <a:ext cx="6519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926120" y="2549520"/>
              <a:ext cx="6505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51600" y="1195560"/>
              <a:ext cx="7999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313160" y="2681280"/>
              <a:ext cx="67428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319640" y="2774880"/>
              <a:ext cx="68688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=C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987800" y="3013200"/>
              <a:ext cx="89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707000" y="2949480"/>
              <a:ext cx="150120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889600" y="2681280"/>
              <a:ext cx="67752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895720" y="2774880"/>
              <a:ext cx="69048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=C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567480" y="3013200"/>
              <a:ext cx="88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84880" y="2949480"/>
              <a:ext cx="150300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68920" y="2681280"/>
              <a:ext cx="67608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586640" y="2874960"/>
              <a:ext cx="4629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468920" y="1327320"/>
              <a:ext cx="676080" cy="67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7900920" y="1001880"/>
              <a:ext cx="0" cy="3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7675560" y="1001880"/>
              <a:ext cx="0" cy="3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681680" y="1006560"/>
              <a:ext cx="21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3102120" y="4203720"/>
            <a:ext cx="5709960" cy="20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9080" tIns="274320" bIns="27000" anchor="t">
            <a:noAutofit/>
          </a:bodyPr>
          <a:p>
            <a:pPr>
              <a:lnSpc>
                <a:spcPts val="1800"/>
              </a:lnSpc>
              <a:spcBef>
                <a:spcPts val="2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w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qual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/clos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s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s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R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s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s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.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3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57400" y="4705200"/>
            <a:ext cx="5510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27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69000" y="4325760"/>
            <a:ext cx="0" cy="187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432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819760" y="3989520"/>
            <a:ext cx="78912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9080" tIns="274320" bIns="27000" anchor="t">
            <a:noAutofit/>
          </a:bodyPr>
          <a:p>
            <a:pPr>
              <a:lnSpc>
                <a:spcPts val="18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code state 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can be: S1, S2, S3, OPEN, or ER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t least 3 bits to encode: 000, 001, 010, 011, 1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use 5 bits: 00001, 00010, 00100, 01000, 100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oose 4 bits: 0001, 0010, 0100, 1000, 00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 to mux can be: C1, C2, or C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2 or 3 bits to en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oose 3 bits: 001, 010, 1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 open/closed can be: Open or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1 or 2 bits to en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oose 1 bit: 1,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"/>
          <p:cNvGrpSpPr/>
          <p:nvPr/>
        </p:nvGrpSpPr>
        <p:grpSpPr>
          <a:xfrm>
            <a:off x="1409760" y="2824200"/>
            <a:ext cx="5892840" cy="2928960"/>
            <a:chOff x="1409760" y="2824200"/>
            <a:chExt cx="5892840" cy="2928960"/>
          </a:xfrm>
        </p:grpSpPr>
        <p:sp>
          <p:nvSpPr>
            <p:cNvPr id="367" name=""/>
            <p:cNvSpPr/>
            <p:nvPr/>
          </p:nvSpPr>
          <p:spPr>
            <a:xfrm>
              <a:off x="1555920" y="3036960"/>
              <a:ext cx="5746680" cy="27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ct val="105000"/>
                </a:lnSpc>
                <a:spcBef>
                  <a:spcPts val="200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open/closed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0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0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0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0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10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00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1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409760" y="3598920"/>
              <a:ext cx="5510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87880" y="3187800"/>
              <a:ext cx="0" cy="2350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273560" y="2824200"/>
              <a:ext cx="78912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ct val="105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code state table (con’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04800" y="1390320"/>
            <a:ext cx="7934400" cy="141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277560" indent="-27756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encoding choice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x control is identical to last 3 state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n/closed is identical to first stat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put encoding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e outputs and state bits are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ing the control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2517840" y="1312920"/>
            <a:ext cx="456876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5183280" y="4021200"/>
            <a:ext cx="2031840" cy="1116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826320" y="3692520"/>
            <a:ext cx="0" cy="577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711840" y="3398760"/>
            <a:ext cx="85248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863960" y="5433840"/>
            <a:ext cx="152892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/clo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635800" y="4551480"/>
            <a:ext cx="0" cy="939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473800" y="3692520"/>
            <a:ext cx="0" cy="588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022720" y="3398760"/>
            <a:ext cx="8384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148440" y="3692520"/>
            <a:ext cx="0" cy="588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810400" y="3398760"/>
            <a:ext cx="85248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q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214880" y="4089240"/>
            <a:ext cx="8506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x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4000680" y="4414680"/>
            <a:ext cx="1390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 flipV="1">
            <a:off x="6819840" y="4834080"/>
            <a:ext cx="12384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6832440" y="4721400"/>
            <a:ext cx="9864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943680" y="4853160"/>
            <a:ext cx="538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488360" y="4676760"/>
            <a:ext cx="83952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267600" y="4734000"/>
            <a:ext cx="676080" cy="237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391000" y="4281480"/>
            <a:ext cx="1565280" cy="264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5985000" y="4533480"/>
            <a:ext cx="0" cy="312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5978160" y="4853160"/>
            <a:ext cx="289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586560" y="4559400"/>
            <a:ext cx="0" cy="17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587920" y="4299120"/>
            <a:ext cx="15652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b. 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299280" y="472608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6852960" y="3657600"/>
            <a:ext cx="1292040" cy="1054080"/>
          </a:xfrm>
          <a:prstGeom prst="line">
            <a:avLst/>
          </a:prstGeom>
          <a:ln w="1908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 flipV="1">
            <a:off x="7432200" y="2703600"/>
            <a:ext cx="701640" cy="977760"/>
          </a:xfrm>
          <a:prstGeom prst="line">
            <a:avLst/>
          </a:prstGeom>
          <a:ln w="1908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010120" y="1542960"/>
            <a:ext cx="305604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al circuit element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register, fo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oring inputs wh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ld to by the c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857840" y="1515960"/>
            <a:ext cx="2587680" cy="1270080"/>
          </a:xfrm>
          <a:prstGeom prst="rect">
            <a:avLst/>
          </a:prstGeom>
          <a:noFill/>
          <a:ln w="1908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ing the control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4440" y="1390680"/>
            <a:ext cx="331956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will learn how to design the controller given the encoded state-transition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203040" y="1422360"/>
            <a:ext cx="5245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311040" y="4037040"/>
            <a:ext cx="4502160" cy="1866960"/>
            <a:chOff x="311040" y="4037040"/>
            <a:chExt cx="4502160" cy="1866960"/>
          </a:xfrm>
        </p:grpSpPr>
        <p:sp>
          <p:nvSpPr>
            <p:cNvPr id="405" name=""/>
            <p:cNvSpPr/>
            <p:nvPr/>
          </p:nvSpPr>
          <p:spPr>
            <a:xfrm>
              <a:off x="1714320" y="409428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400120" y="409428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085920" y="409428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930320" y="5389560"/>
              <a:ext cx="1371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714320" y="4754520"/>
              <a:ext cx="18288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46000" y="4037040"/>
              <a:ext cx="4190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253960" y="4037040"/>
              <a:ext cx="7369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939760" y="4037040"/>
              <a:ext cx="7369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936440" y="432288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622240" y="432288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308040" y="432288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622240" y="498312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127240" y="5370480"/>
              <a:ext cx="10285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mpar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485880" y="5446800"/>
              <a:ext cx="9781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qu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152440" y="4735440"/>
              <a:ext cx="9907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ultiplex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790800" y="4380120"/>
              <a:ext cx="8636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ux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3530520" y="4862520"/>
              <a:ext cx="1270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314520" y="5497560"/>
              <a:ext cx="149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295280" y="5497560"/>
              <a:ext cx="63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1879560" y="439920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2577960" y="439920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3263760" y="439920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1498320" y="5427360"/>
              <a:ext cx="10188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403280" y="549756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593720" y="4329360"/>
              <a:ext cx="3556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305080" y="4329360"/>
              <a:ext cx="3553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965320" y="434196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2577960" y="5033520"/>
              <a:ext cx="10152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279520" y="497700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11040" y="5294520"/>
              <a:ext cx="977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6157800" y="1749600"/>
            <a:ext cx="47016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1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640560" y="1749600"/>
            <a:ext cx="73656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2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288200" y="1749600"/>
            <a:ext cx="73656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3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8037360" y="2166840"/>
            <a:ext cx="8636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x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243400" y="1749600"/>
            <a:ext cx="97812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675400" y="5394240"/>
            <a:ext cx="9777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576840" y="268272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272280" y="26827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278400" y="2676600"/>
            <a:ext cx="29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272280" y="2841120"/>
            <a:ext cx="304200" cy="27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265800" y="2835000"/>
            <a:ext cx="31716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286680" y="2841120"/>
            <a:ext cx="304200" cy="27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280200" y="2835000"/>
            <a:ext cx="31716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211880" y="268272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907320" y="26827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913440" y="2676600"/>
            <a:ext cx="29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907320" y="2841120"/>
            <a:ext cx="304200" cy="27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900840" y="2835000"/>
            <a:ext cx="31716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921360" y="2841120"/>
            <a:ext cx="304920" cy="27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915240" y="2835000"/>
            <a:ext cx="31716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846920" y="268272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42360" y="26827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548480" y="2676600"/>
            <a:ext cx="29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542360" y="2841120"/>
            <a:ext cx="304200" cy="27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535880" y="2835000"/>
            <a:ext cx="31716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556400" y="2841120"/>
            <a:ext cx="304920" cy="27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550280" y="2835000"/>
            <a:ext cx="31716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919920" y="2866680"/>
            <a:ext cx="279000" cy="939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913440" y="2860560"/>
            <a:ext cx="291960" cy="95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934320" y="2917800"/>
            <a:ext cx="279000" cy="88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927840" y="2911680"/>
            <a:ext cx="291960" cy="90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934320" y="3273120"/>
            <a:ext cx="279000" cy="12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927840" y="3267000"/>
            <a:ext cx="29196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059600" y="338148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945120" y="3273120"/>
            <a:ext cx="253800" cy="12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939000" y="3267000"/>
            <a:ext cx="26640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323040" y="49053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018120" y="490536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24600" y="489888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5909760" y="489888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018480" y="5064120"/>
            <a:ext cx="30420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012000" y="5057640"/>
            <a:ext cx="31716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032520" y="5064120"/>
            <a:ext cx="30420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6040" y="5057640"/>
            <a:ext cx="31716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870600" y="3679920"/>
            <a:ext cx="27900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64480" y="3673800"/>
            <a:ext cx="291240" cy="92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856560" y="3679920"/>
            <a:ext cx="27900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850440" y="3673800"/>
            <a:ext cx="291240" cy="92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881760" y="4074120"/>
            <a:ext cx="253800" cy="126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875640" y="4067280"/>
            <a:ext cx="26604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870600" y="4074120"/>
            <a:ext cx="279000" cy="126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864480" y="4067280"/>
            <a:ext cx="29124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977160" y="4600440"/>
            <a:ext cx="50760" cy="5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881760" y="4009680"/>
            <a:ext cx="253800" cy="12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875640" y="4003560"/>
            <a:ext cx="26604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870600" y="4009680"/>
            <a:ext cx="279000" cy="12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64480" y="4003560"/>
            <a:ext cx="29124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059600" y="4079880"/>
            <a:ext cx="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932520" y="4079880"/>
            <a:ext cx="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488280" y="2556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488280" y="230184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475320" y="228276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478480" y="2295360"/>
            <a:ext cx="100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494400" y="2295360"/>
            <a:ext cx="157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361200" y="2556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361200" y="2048040"/>
            <a:ext cx="0" cy="49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122960" y="2556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122960" y="242892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110360" y="240984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478480" y="2422440"/>
            <a:ext cx="163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129440" y="2422440"/>
            <a:ext cx="9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996240" y="2556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996240" y="2048040"/>
            <a:ext cx="0" cy="49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758000" y="2556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745400" y="253692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478480" y="2549520"/>
            <a:ext cx="227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764480" y="25495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31280" y="2556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631280" y="2048040"/>
            <a:ext cx="0" cy="49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94640" y="312732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186680" y="32544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192800" y="3247920"/>
            <a:ext cx="495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059600" y="312732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059600" y="32544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424560" y="312732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932520" y="32544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431040" y="3247920"/>
            <a:ext cx="495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996240" y="46512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361200" y="477828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364440" y="4770360"/>
            <a:ext cx="637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234120" y="477828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107040" y="477828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979960" y="477828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170760" y="534996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059600" y="382572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059600" y="39528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932520" y="39528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726160" y="2048040"/>
            <a:ext cx="0" cy="18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732640" y="3946680"/>
            <a:ext cx="119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ing the data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221760" y="1460520"/>
            <a:ext cx="4907160" cy="230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 3:1 multiplexe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-input ANDs and 3-input 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 single-bit comparato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-input XNOR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-input 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did we use 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memor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04800" y="1390320"/>
            <a:ext cx="7934400" cy="20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Memo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tored combination, state (errors or successes in past inpu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"/>
          <p:cNvSpPr/>
          <p:nvPr/>
        </p:nvSpPr>
        <p:spPr>
          <a:xfrm>
            <a:off x="5315040" y="3768840"/>
            <a:ext cx="1803240" cy="901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888240" y="331776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669000" y="2968560"/>
            <a:ext cx="8510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475240" y="5106960"/>
            <a:ext cx="152892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/clo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210360" y="467028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535720" y="331776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349960" y="2968560"/>
            <a:ext cx="8380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219400" y="3656160"/>
            <a:ext cx="450720" cy="223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897280" y="3656160"/>
            <a:ext cx="450720" cy="223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571920" y="3656160"/>
            <a:ext cx="450720" cy="223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317600" y="4444920"/>
            <a:ext cx="1352520" cy="225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219400" y="3994200"/>
            <a:ext cx="1803240" cy="225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762200" y="365616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251080" y="3598920"/>
            <a:ext cx="41292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752560" y="3598920"/>
            <a:ext cx="7257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427560" y="3598920"/>
            <a:ext cx="7286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C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440080" y="3879720"/>
            <a:ext cx="0" cy="1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114720" y="3879720"/>
            <a:ext cx="0" cy="1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792600" y="3879720"/>
            <a:ext cx="0" cy="1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14720" y="4219560"/>
            <a:ext cx="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206800" y="432576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212920" y="4332240"/>
            <a:ext cx="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512720" y="4427640"/>
            <a:ext cx="10130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a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989000" y="467028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285920" y="3348000"/>
            <a:ext cx="9651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565280" y="5041800"/>
            <a:ext cx="96516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q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651040" y="3975120"/>
            <a:ext cx="9781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plex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210360" y="331776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945040" y="2968560"/>
            <a:ext cx="8510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q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784840" y="4051440"/>
            <a:ext cx="8539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330800" y="3795840"/>
            <a:ext cx="85068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x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4062240" y="4100400"/>
            <a:ext cx="1252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6994440" y="4432320"/>
            <a:ext cx="12384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7007400" y="4319640"/>
            <a:ext cx="9828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118280" y="4438800"/>
            <a:ext cx="4413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562880" y="4264200"/>
            <a:ext cx="84132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did we use 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feedback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4800" y="1390320"/>
            <a:ext cx="7934400" cy="72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Feedba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omparator output ("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equ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 sign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"/>
          <p:cNvSpPr/>
          <p:nvPr/>
        </p:nvSpPr>
        <p:spPr>
          <a:xfrm>
            <a:off x="5276880" y="3548160"/>
            <a:ext cx="1803240" cy="901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850080" y="309708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630840" y="2747880"/>
            <a:ext cx="8510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437080" y="4886280"/>
            <a:ext cx="152892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n/clo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172200" y="4449600"/>
            <a:ext cx="0" cy="438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497560" y="309708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311800" y="2747880"/>
            <a:ext cx="8380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181240" y="3435480"/>
            <a:ext cx="450720" cy="223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859120" y="3435480"/>
            <a:ext cx="450720" cy="223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533760" y="3435480"/>
            <a:ext cx="450720" cy="223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279440" y="4224240"/>
            <a:ext cx="1352520" cy="225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181240" y="3773520"/>
            <a:ext cx="1803240" cy="225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724040" y="343548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212920" y="3378240"/>
            <a:ext cx="41292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714760" y="3378240"/>
            <a:ext cx="7254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389400" y="3378240"/>
            <a:ext cx="7286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401920" y="3659040"/>
            <a:ext cx="0" cy="1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076560" y="3659040"/>
            <a:ext cx="0" cy="1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754440" y="3659040"/>
            <a:ext cx="0" cy="1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076560" y="3998880"/>
            <a:ext cx="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2168640" y="41054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174760" y="4111560"/>
            <a:ext cx="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474920" y="4206960"/>
            <a:ext cx="10126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951200" y="4449600"/>
            <a:ext cx="0" cy="438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247760" y="3127320"/>
            <a:ext cx="9651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527120" y="4821120"/>
            <a:ext cx="96516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eq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612880" y="3754440"/>
            <a:ext cx="9781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plex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172200" y="309708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907240" y="2747880"/>
            <a:ext cx="8506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eq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746680" y="3830760"/>
            <a:ext cx="8542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292640" y="3575160"/>
            <a:ext cx="85104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x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4024080" y="3879720"/>
            <a:ext cx="1252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6956280" y="4211640"/>
            <a:ext cx="12384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6969240" y="4098960"/>
            <a:ext cx="9828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080120" y="4218120"/>
            <a:ext cx="4413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524720" y="4043520"/>
            <a:ext cx="84132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quential versus combin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009960" y="1649520"/>
            <a:ext cx="2624040" cy="1593720"/>
            <a:chOff x="3009960" y="1649520"/>
            <a:chExt cx="2624040" cy="1593720"/>
          </a:xfrm>
        </p:grpSpPr>
        <p:sp>
          <p:nvSpPr>
            <p:cNvPr id="45" name=""/>
            <p:cNvSpPr/>
            <p:nvPr/>
          </p:nvSpPr>
          <p:spPr>
            <a:xfrm>
              <a:off x="3737160" y="1649520"/>
              <a:ext cx="901800" cy="901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284640" y="1868760"/>
              <a:ext cx="43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84640" y="2319480"/>
              <a:ext cx="43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38960" y="2094120"/>
              <a:ext cx="43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9960" y="2205000"/>
              <a:ext cx="552600" cy="5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009960" y="1746360"/>
              <a:ext cx="55260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083200" y="1878120"/>
              <a:ext cx="55080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ahom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4187880" y="2563920"/>
              <a:ext cx="0" cy="46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262400" y="2654280"/>
              <a:ext cx="66528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c0128"/>
                  </a:solidFill>
                  <a:latin typeface="Tahoma"/>
                </a:rPr>
                <a:t>clo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2228760" y="3193920"/>
            <a:ext cx="421488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27000" bIns="270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ly fixed inputs A,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ait for clock 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bserve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ait for another clock 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bserve C a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binational: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C will stay the s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quential: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C may be diffe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did we use 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clock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"/>
          <p:cNvSpPr/>
          <p:nvPr/>
        </p:nvSpPr>
        <p:spPr>
          <a:xfrm>
            <a:off x="665280" y="1420920"/>
            <a:ext cx="803412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Clo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ynchronizes the in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pt inputs when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cloc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goes 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r is cloc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x-control and open/closed signals change on the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cloc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362560" y="4289400"/>
            <a:ext cx="1803240" cy="901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935760" y="383868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716880" y="3489480"/>
            <a:ext cx="8506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522760" y="5627520"/>
            <a:ext cx="152892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n/clo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257880" y="519120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583240" y="383868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397480" y="3489480"/>
            <a:ext cx="8380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266920" y="4176720"/>
            <a:ext cx="450720" cy="22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944800" y="4176720"/>
            <a:ext cx="450720" cy="22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619440" y="4176720"/>
            <a:ext cx="451080" cy="22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365120" y="4965840"/>
            <a:ext cx="1352520" cy="225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266920" y="4514760"/>
            <a:ext cx="1803600" cy="225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809720" y="417672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298600" y="4119480"/>
            <a:ext cx="41292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800440" y="4119480"/>
            <a:ext cx="7254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475080" y="4119480"/>
            <a:ext cx="7286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487600" y="440064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162240" y="440064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840120" y="440064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162240" y="4740120"/>
            <a:ext cx="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H="1">
            <a:off x="2254320" y="48466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260440" y="4853160"/>
            <a:ext cx="0" cy="9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560600" y="4948200"/>
            <a:ext cx="10126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036880" y="519120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333440" y="3868560"/>
            <a:ext cx="9651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612800" y="5562720"/>
            <a:ext cx="9651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q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698920" y="4495680"/>
            <a:ext cx="97776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plex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257880" y="383868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992920" y="3489480"/>
            <a:ext cx="8506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q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832360" y="4572000"/>
            <a:ext cx="8542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378320" y="4316400"/>
            <a:ext cx="85104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x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H="1">
            <a:off x="4109760" y="4621320"/>
            <a:ext cx="1252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 flipV="1">
            <a:off x="7041960" y="4952520"/>
            <a:ext cx="123480" cy="12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7054920" y="4839840"/>
            <a:ext cx="98280" cy="12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165800" y="4959360"/>
            <a:ext cx="4413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610400" y="4784760"/>
            <a:ext cx="84132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next 5 week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learn the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ches, flip-flops, regis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ift registers, coun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e mach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ming and timing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ynchronous and asynchronous inpu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tastab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ck ske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ore and Mealy mach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-hot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quential log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4440" y="1390680"/>
            <a:ext cx="673884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0093"/>
                </a:solidFill>
                <a:latin typeface="Tahoma"/>
              </a:rPr>
              <a:t>Synchrono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clock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0093"/>
                </a:solidFill>
                <a:latin typeface="Tahoma"/>
              </a:rPr>
              <a:t>Asynchrono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self-tim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0093"/>
                </a:solidFill>
                <a:latin typeface="Tahoma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mem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ploys </a:t>
            </a:r>
            <a:r>
              <a:rPr b="0" lang="en-US" sz="2400" spc="-1" strike="noStrike">
                <a:solidFill>
                  <a:srgbClr val="cc3399"/>
                </a:solidFill>
                <a:latin typeface="Tahoma"/>
              </a:rPr>
              <a:t>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s </a:t>
            </a:r>
            <a:r>
              <a:rPr b="0" lang="en-US" sz="2400" spc="-1" strike="noStrike">
                <a:solidFill>
                  <a:srgbClr val="cc3399"/>
                </a:solidFill>
                <a:latin typeface="Tahoma"/>
              </a:rPr>
              <a:t>steady-state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s are valid after they have settl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e elements hold their settled output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quential versus combinational (agai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64920" y="1422000"/>
            <a:ext cx="7916760" cy="32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al systems are </a:t>
            </a:r>
            <a:r>
              <a:rPr b="0" lang="en-US" sz="2400" spc="-1" strike="noStrike">
                <a:solidFill>
                  <a:srgbClr val="d60093"/>
                </a:solidFill>
                <a:latin typeface="Tahoma"/>
              </a:rPr>
              <a:t>memory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puts depend only on the present input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tial systems have </a:t>
            </a:r>
            <a:r>
              <a:rPr b="0" lang="en-US" sz="2400" spc="-1" strike="noStrike">
                <a:solidFill>
                  <a:srgbClr val="d60093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puts depend on the present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e previous inpu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914480" y="2351160"/>
            <a:ext cx="5035680" cy="954000"/>
            <a:chOff x="1914480" y="2351160"/>
            <a:chExt cx="5035680" cy="954000"/>
          </a:xfrm>
        </p:grpSpPr>
        <p:sp>
          <p:nvSpPr>
            <p:cNvPr id="60" name=""/>
            <p:cNvSpPr/>
            <p:nvPr/>
          </p:nvSpPr>
          <p:spPr>
            <a:xfrm>
              <a:off x="3649680" y="2351160"/>
              <a:ext cx="1301760" cy="95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2873520" y="2470320"/>
              <a:ext cx="7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2873160" y="2797200"/>
              <a:ext cx="763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2886120" y="3211560"/>
              <a:ext cx="750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173400" y="2865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173400" y="31035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173400" y="2990880"/>
              <a:ext cx="50760" cy="49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4940280" y="2470320"/>
              <a:ext cx="77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940280" y="2797200"/>
              <a:ext cx="76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4951080" y="3211560"/>
              <a:ext cx="75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241960" y="2865600"/>
              <a:ext cx="475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241960" y="3103560"/>
              <a:ext cx="475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241960" y="2990880"/>
              <a:ext cx="47520" cy="49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914480" y="2646360"/>
              <a:ext cx="81432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pu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935680" y="2646360"/>
              <a:ext cx="10144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utpu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92680" y="2658960"/>
              <a:ext cx="101592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1906560" y="4660920"/>
            <a:ext cx="5043600" cy="1622520"/>
            <a:chOff x="1906560" y="4660920"/>
            <a:chExt cx="5043600" cy="1622520"/>
          </a:xfrm>
        </p:grpSpPr>
        <p:sp>
          <p:nvSpPr>
            <p:cNvPr id="77" name=""/>
            <p:cNvSpPr/>
            <p:nvPr/>
          </p:nvSpPr>
          <p:spPr>
            <a:xfrm>
              <a:off x="5202360" y="5530680"/>
              <a:ext cx="0" cy="3715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2935080" y="5897520"/>
              <a:ext cx="22698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2940120" y="5517720"/>
              <a:ext cx="0" cy="374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649680" y="4660920"/>
              <a:ext cx="1301760" cy="95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2873520" y="4780080"/>
              <a:ext cx="7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2873160" y="5106960"/>
              <a:ext cx="763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2935080" y="5521320"/>
              <a:ext cx="7095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73400" y="51753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173400" y="54133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73400" y="5300640"/>
              <a:ext cx="50760" cy="49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4940280" y="4780080"/>
              <a:ext cx="77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4940280" y="5106960"/>
              <a:ext cx="76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4951080" y="5521320"/>
              <a:ext cx="75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241960" y="5175360"/>
              <a:ext cx="475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41960" y="5413320"/>
              <a:ext cx="475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241960" y="5300640"/>
              <a:ext cx="47520" cy="49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906560" y="4727520"/>
              <a:ext cx="81432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pu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935680" y="4956120"/>
              <a:ext cx="101448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utpu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92680" y="4968720"/>
              <a:ext cx="101592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753000" y="5943600"/>
              <a:ext cx="122544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Arial"/>
                </a:rPr>
                <a:t>Feedba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chron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equential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166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Tahoma"/>
              </a:rPr>
              <a:t>Memo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olds a system’s </a:t>
            </a:r>
            <a:r>
              <a:rPr b="0" i="1" lang="en-US" sz="2400" spc="-1" strike="noStrike">
                <a:solidFill>
                  <a:srgbClr val="d60093"/>
                </a:solidFill>
                <a:latin typeface="Tahoma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nges in state occur at specific ti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periodic signal times or </a:t>
            </a:r>
            <a:r>
              <a:rPr b="0" lang="en-US" sz="2000" spc="-1" strike="noStrike">
                <a:solidFill>
                  <a:srgbClr val="d60093"/>
                </a:solidFill>
                <a:latin typeface="Tahoma"/>
              </a:rPr>
              <a:t>cloc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e state chang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lock period is the time between state chan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712880" y="5314680"/>
            <a:ext cx="3613320" cy="237960"/>
            <a:chOff x="1712880" y="5314680"/>
            <a:chExt cx="3613320" cy="237960"/>
          </a:xfrm>
        </p:grpSpPr>
        <p:sp>
          <p:nvSpPr>
            <p:cNvPr id="100" name=""/>
            <p:cNvSpPr/>
            <p:nvPr/>
          </p:nvSpPr>
          <p:spPr>
            <a:xfrm flipV="1">
              <a:off x="1712880" y="5314680"/>
              <a:ext cx="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719360" y="5321160"/>
              <a:ext cx="4381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163600" y="5327640"/>
              <a:ext cx="0" cy="212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70080" y="5546880"/>
              <a:ext cx="4381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2614680" y="5314680"/>
              <a:ext cx="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620800" y="5321160"/>
              <a:ext cx="4384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065400" y="5327640"/>
              <a:ext cx="0" cy="212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071880" y="5546880"/>
              <a:ext cx="4381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3516480" y="5314680"/>
              <a:ext cx="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22600" y="5321160"/>
              <a:ext cx="4381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967200" y="5327640"/>
              <a:ext cx="0" cy="212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986280" y="5546880"/>
              <a:ext cx="4381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4430880" y="5314680"/>
              <a:ext cx="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37000" y="5321160"/>
              <a:ext cx="4381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81600" y="5327640"/>
              <a:ext cx="0" cy="212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88080" y="5546880"/>
              <a:ext cx="4381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614680" y="5715000"/>
            <a:ext cx="0" cy="212760"/>
          </a:xfrm>
          <a:prstGeom prst="line">
            <a:avLst/>
          </a:prstGeom>
          <a:ln w="1908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16480" y="5715000"/>
            <a:ext cx="0" cy="212760"/>
          </a:xfrm>
          <a:prstGeom prst="line">
            <a:avLst/>
          </a:prstGeom>
          <a:ln w="1908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20800" y="5059440"/>
            <a:ext cx="438480" cy="0"/>
          </a:xfrm>
          <a:prstGeom prst="line">
            <a:avLst/>
          </a:prstGeom>
          <a:ln w="19080">
            <a:solidFill>
              <a:srgbClr val="d6009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38360" y="5821200"/>
            <a:ext cx="10526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2174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d60093"/>
                </a:solidFill>
                <a:latin typeface="Tahoma"/>
              </a:rPr>
              <a:t>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614680" y="4951440"/>
            <a:ext cx="0" cy="214200"/>
          </a:xfrm>
          <a:prstGeom prst="line">
            <a:avLst/>
          </a:prstGeom>
          <a:ln w="1908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65400" y="4951440"/>
            <a:ext cx="0" cy="214200"/>
          </a:xfrm>
          <a:prstGeom prst="line">
            <a:avLst/>
          </a:prstGeom>
          <a:ln w="1908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20800" y="5821200"/>
            <a:ext cx="889200" cy="0"/>
          </a:xfrm>
          <a:prstGeom prst="line">
            <a:avLst/>
          </a:prstGeom>
          <a:ln w="19080">
            <a:solidFill>
              <a:srgbClr val="d6009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95920" y="4637160"/>
            <a:ext cx="29354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2174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d60093"/>
                </a:solidFill>
                <a:latin typeface="Tahoma"/>
              </a:rPr>
              <a:t>duty cycle = pulsewidth/perio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174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d60093"/>
                </a:solidFill>
                <a:latin typeface="Tahoma"/>
              </a:rPr>
              <a:t>(here it is 50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33520" y="4573440"/>
            <a:ext cx="10890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d60093"/>
                </a:solidFill>
                <a:latin typeface="Tahoma"/>
              </a:rPr>
              <a:t>pulsewid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894040" y="3098880"/>
            <a:ext cx="2624040" cy="1593720"/>
            <a:chOff x="2894040" y="3098880"/>
            <a:chExt cx="2624040" cy="1593720"/>
          </a:xfrm>
        </p:grpSpPr>
        <p:sp>
          <p:nvSpPr>
            <p:cNvPr id="126" name=""/>
            <p:cNvSpPr/>
            <p:nvPr/>
          </p:nvSpPr>
          <p:spPr>
            <a:xfrm>
              <a:off x="3621240" y="3098880"/>
              <a:ext cx="901800" cy="901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168720" y="3318120"/>
              <a:ext cx="43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168720" y="3768840"/>
              <a:ext cx="43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23040" y="3543480"/>
              <a:ext cx="43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894040" y="3654360"/>
              <a:ext cx="552600" cy="5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94040" y="3195720"/>
              <a:ext cx="55260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967280" y="3327480"/>
              <a:ext cx="55080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4071960" y="4013280"/>
              <a:ext cx="0" cy="46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146480" y="4103640"/>
              <a:ext cx="66528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c0128"/>
                  </a:solidFill>
                  <a:latin typeface="Tahoma"/>
                </a:rPr>
                <a:t>clo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5975280" y="3824280"/>
            <a:ext cx="2368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t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d60093"/>
                </a:solidFill>
                <a:latin typeface="Tahoma"/>
              </a:rPr>
              <a:t>State changes occur at rising edge of c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66880" y="5246640"/>
            <a:ext cx="664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Tahoma"/>
              </a:rPr>
              <a:t>c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ady-state a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4800" y="1390320"/>
            <a:ext cx="7934400" cy="118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retain their </a:t>
            </a:r>
            <a:r>
              <a:rPr b="0" i="1" lang="en-US" sz="2400" spc="-1" strike="noStrike">
                <a:solidFill>
                  <a:srgbClr val="0000ff"/>
                </a:solidFill>
                <a:latin typeface="Tahoma"/>
              </a:rPr>
              <a:t>settled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ff"/>
                </a:solidFill>
                <a:latin typeface="Tahoma"/>
              </a:rPr>
              <a:t>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lock period must be long enough for all voltages to settle to a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steady stat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efore the next state chan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854440" y="4694040"/>
            <a:ext cx="3612960" cy="237960"/>
            <a:chOff x="2854440" y="4694040"/>
            <a:chExt cx="3612960" cy="237960"/>
          </a:xfrm>
        </p:grpSpPr>
        <p:sp>
          <p:nvSpPr>
            <p:cNvPr id="140" name=""/>
            <p:cNvSpPr/>
            <p:nvPr/>
          </p:nvSpPr>
          <p:spPr>
            <a:xfrm flipV="1">
              <a:off x="2854440" y="4694040"/>
              <a:ext cx="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860920" y="4700880"/>
              <a:ext cx="4381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05160" y="4707000"/>
              <a:ext cx="0" cy="212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311640" y="4926240"/>
              <a:ext cx="4381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3756240" y="4694040"/>
              <a:ext cx="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762360" y="4700880"/>
              <a:ext cx="4381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206960" y="4707000"/>
              <a:ext cx="0" cy="212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13440" y="4926240"/>
              <a:ext cx="4381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4657680" y="4694040"/>
              <a:ext cx="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664160" y="4700880"/>
              <a:ext cx="4381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8760" y="4707000"/>
              <a:ext cx="0" cy="212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127840" y="4926240"/>
              <a:ext cx="4381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5572080" y="4694040"/>
              <a:ext cx="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578560" y="4700880"/>
              <a:ext cx="4381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023160" y="4707000"/>
              <a:ext cx="0" cy="212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029280" y="4926240"/>
              <a:ext cx="4381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4035600" y="2795760"/>
            <a:ext cx="901440" cy="901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83080" y="3014640"/>
            <a:ext cx="439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3080" y="3465360"/>
            <a:ext cx="439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937040" y="3240000"/>
            <a:ext cx="438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308400" y="3351240"/>
            <a:ext cx="55224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308400" y="2892600"/>
            <a:ext cx="55224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81640" y="3024360"/>
            <a:ext cx="5508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4486320" y="3710160"/>
            <a:ext cx="0" cy="465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60840" y="3800520"/>
            <a:ext cx="66528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Tahoma"/>
              </a:rPr>
              <a:t>c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771560" y="4613400"/>
            <a:ext cx="66528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Tahoma"/>
              </a:rPr>
              <a:t>c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76640" y="5099040"/>
            <a:ext cx="5508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849400" y="4979880"/>
            <a:ext cx="3633840" cy="640800"/>
            <a:chOff x="2849400" y="4979880"/>
            <a:chExt cx="3633840" cy="640800"/>
          </a:xfrm>
        </p:grpSpPr>
        <p:sp>
          <p:nvSpPr>
            <p:cNvPr id="168" name=""/>
            <p:cNvSpPr/>
            <p:nvPr/>
          </p:nvSpPr>
          <p:spPr>
            <a:xfrm>
              <a:off x="2849400" y="4989240"/>
              <a:ext cx="914400" cy="436680"/>
            </a:xfrm>
            <a:custGeom>
              <a:avLst/>
              <a:gdLst/>
              <a:ahLst/>
              <a:rect l="l" t="t" r="r" b="b"/>
              <a:pathLst>
                <a:path w="576" h="275">
                  <a:moveTo>
                    <a:pt x="0" y="275"/>
                  </a:moveTo>
                  <a:cubicBezTo>
                    <a:pt x="21" y="148"/>
                    <a:pt x="43" y="22"/>
                    <a:pt x="60" y="11"/>
                  </a:cubicBezTo>
                  <a:cubicBezTo>
                    <a:pt x="77" y="0"/>
                    <a:pt x="88" y="197"/>
                    <a:pt x="102" y="209"/>
                  </a:cubicBezTo>
                  <a:cubicBezTo>
                    <a:pt x="116" y="221"/>
                    <a:pt x="133" y="90"/>
                    <a:pt x="147" y="83"/>
                  </a:cubicBezTo>
                  <a:cubicBezTo>
                    <a:pt x="161" y="76"/>
                    <a:pt x="177" y="163"/>
                    <a:pt x="189" y="167"/>
                  </a:cubicBezTo>
                  <a:cubicBezTo>
                    <a:pt x="201" y="171"/>
                    <a:pt x="209" y="110"/>
                    <a:pt x="219" y="107"/>
                  </a:cubicBezTo>
                  <a:cubicBezTo>
                    <a:pt x="229" y="104"/>
                    <a:pt x="242" y="143"/>
                    <a:pt x="252" y="146"/>
                  </a:cubicBezTo>
                  <a:cubicBezTo>
                    <a:pt x="262" y="149"/>
                    <a:pt x="272" y="131"/>
                    <a:pt x="282" y="128"/>
                  </a:cubicBezTo>
                  <a:cubicBezTo>
                    <a:pt x="292" y="125"/>
                    <a:pt x="266" y="126"/>
                    <a:pt x="315" y="125"/>
                  </a:cubicBezTo>
                  <a:cubicBezTo>
                    <a:pt x="364" y="124"/>
                    <a:pt x="470" y="124"/>
                    <a:pt x="576" y="125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744720" y="5187600"/>
              <a:ext cx="9190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-26640" bIns="-26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4663800" y="5183640"/>
              <a:ext cx="914400" cy="436680"/>
            </a:xfrm>
            <a:custGeom>
              <a:avLst/>
              <a:gdLst/>
              <a:ahLst/>
              <a:rect l="l" t="t" r="r" b="b"/>
              <a:pathLst>
                <a:path w="576" h="275">
                  <a:moveTo>
                    <a:pt x="0" y="275"/>
                  </a:moveTo>
                  <a:cubicBezTo>
                    <a:pt x="21" y="148"/>
                    <a:pt x="43" y="22"/>
                    <a:pt x="60" y="11"/>
                  </a:cubicBezTo>
                  <a:cubicBezTo>
                    <a:pt x="77" y="0"/>
                    <a:pt x="88" y="197"/>
                    <a:pt x="102" y="209"/>
                  </a:cubicBezTo>
                  <a:cubicBezTo>
                    <a:pt x="116" y="221"/>
                    <a:pt x="133" y="90"/>
                    <a:pt x="147" y="83"/>
                  </a:cubicBezTo>
                  <a:cubicBezTo>
                    <a:pt x="161" y="76"/>
                    <a:pt x="177" y="163"/>
                    <a:pt x="189" y="167"/>
                  </a:cubicBezTo>
                  <a:cubicBezTo>
                    <a:pt x="201" y="171"/>
                    <a:pt x="209" y="110"/>
                    <a:pt x="219" y="107"/>
                  </a:cubicBezTo>
                  <a:cubicBezTo>
                    <a:pt x="229" y="104"/>
                    <a:pt x="242" y="143"/>
                    <a:pt x="252" y="146"/>
                  </a:cubicBezTo>
                  <a:cubicBezTo>
                    <a:pt x="262" y="149"/>
                    <a:pt x="272" y="131"/>
                    <a:pt x="282" y="128"/>
                  </a:cubicBezTo>
                  <a:cubicBezTo>
                    <a:pt x="292" y="125"/>
                    <a:pt x="266" y="126"/>
                    <a:pt x="315" y="125"/>
                  </a:cubicBezTo>
                  <a:cubicBezTo>
                    <a:pt x="364" y="124"/>
                    <a:pt x="470" y="124"/>
                    <a:pt x="576" y="125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568840" y="4979880"/>
              <a:ext cx="914400" cy="436320"/>
            </a:xfrm>
            <a:custGeom>
              <a:avLst/>
              <a:gdLst/>
              <a:ahLst/>
              <a:rect l="l" t="t" r="r" b="b"/>
              <a:pathLst>
                <a:path w="576" h="275">
                  <a:moveTo>
                    <a:pt x="0" y="275"/>
                  </a:moveTo>
                  <a:cubicBezTo>
                    <a:pt x="21" y="148"/>
                    <a:pt x="43" y="22"/>
                    <a:pt x="60" y="11"/>
                  </a:cubicBezTo>
                  <a:cubicBezTo>
                    <a:pt x="77" y="0"/>
                    <a:pt x="88" y="197"/>
                    <a:pt x="102" y="209"/>
                  </a:cubicBezTo>
                  <a:cubicBezTo>
                    <a:pt x="116" y="221"/>
                    <a:pt x="133" y="90"/>
                    <a:pt x="147" y="83"/>
                  </a:cubicBezTo>
                  <a:cubicBezTo>
                    <a:pt x="161" y="76"/>
                    <a:pt x="177" y="163"/>
                    <a:pt x="189" y="167"/>
                  </a:cubicBezTo>
                  <a:cubicBezTo>
                    <a:pt x="201" y="171"/>
                    <a:pt x="209" y="110"/>
                    <a:pt x="219" y="107"/>
                  </a:cubicBezTo>
                  <a:cubicBezTo>
                    <a:pt x="229" y="104"/>
                    <a:pt x="242" y="143"/>
                    <a:pt x="252" y="146"/>
                  </a:cubicBezTo>
                  <a:cubicBezTo>
                    <a:pt x="262" y="149"/>
                    <a:pt x="272" y="131"/>
                    <a:pt x="282" y="128"/>
                  </a:cubicBezTo>
                  <a:cubicBezTo>
                    <a:pt x="292" y="125"/>
                    <a:pt x="266" y="126"/>
                    <a:pt x="315" y="125"/>
                  </a:cubicBezTo>
                  <a:cubicBezTo>
                    <a:pt x="364" y="124"/>
                    <a:pt x="470" y="124"/>
                    <a:pt x="576" y="125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2762280" y="5740560"/>
            <a:ext cx="194148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t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Settled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760920" y="5262120"/>
            <a:ext cx="220680" cy="47628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975280" y="3824280"/>
            <a:ext cx="2368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t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d60093"/>
                </a:solidFill>
                <a:latin typeface="Tahoma"/>
              </a:rPr>
              <a:t>Clock hides transient behav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 sequentia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or combination 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er 3 numbers in sequence and the door ope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there is an error the lock must be res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the door opens the lock must be res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puts: Sequence of numbers, res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puts: Door open/clo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: Must remember the comb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probl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3080" y="1390320"/>
            <a:ext cx="5591160" cy="188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277560" indent="-27756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I/O and unknow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many bits per input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many inputs in sequenc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do we know a new input is entered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do we represent the system state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2278080" y="3519360"/>
            <a:ext cx="3370320" cy="2503080"/>
            <a:chOff x="2278080" y="3519360"/>
            <a:chExt cx="3370320" cy="2503080"/>
          </a:xfrm>
        </p:grpSpPr>
        <p:sp>
          <p:nvSpPr>
            <p:cNvPr id="180" name=""/>
            <p:cNvSpPr/>
            <p:nvPr/>
          </p:nvSpPr>
          <p:spPr>
            <a:xfrm>
              <a:off x="3462480" y="4301640"/>
              <a:ext cx="1803240" cy="903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019760" y="3849480"/>
              <a:ext cx="0" cy="43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033880" y="3849480"/>
              <a:ext cx="0" cy="43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470480" y="3849480"/>
              <a:ext cx="0" cy="43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243320" y="3849480"/>
              <a:ext cx="0" cy="43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694400" y="3849480"/>
              <a:ext cx="0" cy="43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97360" y="3519360"/>
              <a:ext cx="85104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757680" y="3519360"/>
              <a:ext cx="121428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val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81640" y="5622480"/>
              <a:ext cx="1652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pen/clos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383000" y="5205240"/>
              <a:ext cx="0" cy="43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681360" y="3849480"/>
              <a:ext cx="0" cy="43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389400" y="3519360"/>
              <a:ext cx="83988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525840" y="4865400"/>
              <a:ext cx="10008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3513240" y="4952520"/>
              <a:ext cx="125280" cy="9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3170160" y="49734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78080" y="4789080"/>
              <a:ext cx="83988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 using sequential log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ck tells us when to look at inpu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fter inputs have settl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quential: Enter sequence of numb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quential: Remember if error occur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a finite-state di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ume synchronous inpu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e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ter 3 numbers seriall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member if error occurr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es have outpu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ck open or clo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5135400" y="3349800"/>
            <a:ext cx="3370320" cy="2503080"/>
            <a:chOff x="5135400" y="3349800"/>
            <a:chExt cx="3370320" cy="2503080"/>
          </a:xfrm>
        </p:grpSpPr>
        <p:sp>
          <p:nvSpPr>
            <p:cNvPr id="199" name=""/>
            <p:cNvSpPr/>
            <p:nvPr/>
          </p:nvSpPr>
          <p:spPr>
            <a:xfrm>
              <a:off x="6319800" y="4132080"/>
              <a:ext cx="1803240" cy="903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877080" y="3679920"/>
              <a:ext cx="0" cy="43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891200" y="3679920"/>
              <a:ext cx="0" cy="43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327800" y="3679920"/>
              <a:ext cx="0" cy="43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100640" y="3679920"/>
              <a:ext cx="0" cy="43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51720" y="3679920"/>
              <a:ext cx="0" cy="43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654680" y="3349800"/>
              <a:ext cx="85104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615000" y="3349800"/>
              <a:ext cx="121428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val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438960" y="5452920"/>
              <a:ext cx="1652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pen/clos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240320" y="5035680"/>
              <a:ext cx="0" cy="43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538680" y="3679920"/>
              <a:ext cx="0" cy="43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246720" y="3349800"/>
              <a:ext cx="83988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383160" y="4695840"/>
              <a:ext cx="10008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6370560" y="4782960"/>
              <a:ext cx="125280" cy="9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6027480" y="480384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135400" y="4619520"/>
              <a:ext cx="83988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1:12:26Z</dcterms:created>
  <dc:creator/>
  <dc:description/>
  <cp:keywords/>
  <dc:language>en-US</dc:language>
  <cp:lastModifiedBy>Bruce Hemingway</cp:lastModifiedBy>
  <cp:lastPrinted>2006-01-20T19:15:52Z</cp:lastPrinted>
  <dcterms:modified xsi:type="dcterms:W3CDTF">2007-02-02T18:24:34Z</dcterms:modified>
  <cp:revision>512</cp:revision>
  <dc:subject>CSE370</dc:subject>
  <dc:title>Lecture14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5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people/faculty/diorio/</vt:lpwstr>
  </property>
  <property fmtid="{D5CDD505-2E9C-101B-9397-08002B2CF9AE}" pid="9" name="LinkColor">
    <vt:r8>16711782</vt:r8>
  </property>
  <property fmtid="{D5CDD505-2E9C-101B-9397-08002B2CF9AE}" pid="10" name="MailAddress">
    <vt:lpwstr>diorio@cs.washington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E:\Classes\CSE 370\Autumn 98\web\admin\Slides\Week1Lecture1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