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4800" y="391680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52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24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480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52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24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4800" y="475920"/>
            <a:ext cx="793584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00"/>
              </a:spcBef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278000"/>
            <a:ext cx="779004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32760" y="6308640"/>
            <a:ext cx="352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3A4D-98BC-409E-B29F-2014BC60643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0480" y="6291360"/>
            <a:ext cx="33879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E370, Lecture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"Switching-network" logic b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xers/select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multiplexers/decod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able logic devices (PL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ular structures for 2-level log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d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ist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 exam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re implemen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hared logic terms in this exam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 decoded functions (10 AND gat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 requires 4 product te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2200" indent="-21924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6 decoded functions (16 AND gat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42200" indent="-21924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 unused AND g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decoder is a poor candidate for PLAs/P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 of 16 possible inputs are deco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haring among AND te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ption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Tahoma"/>
              </a:rPr>
              <a:t>Yes — a 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-only memories (RO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612360" y="1376280"/>
            <a:ext cx="7813800" cy="15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wo dimensional array of stored 1s and 0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 is an addres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ROM decodes all possible input address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ored row entry is called a "word"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M output is the decoded wo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"/>
          <p:cNvSpPr/>
          <p:nvPr/>
        </p:nvSpPr>
        <p:spPr>
          <a:xfrm>
            <a:off x="1963800" y="3568680"/>
            <a:ext cx="5702400" cy="217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1969920" y="3549600"/>
            <a:ext cx="5727960" cy="2311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2313000" y="3981600"/>
            <a:ext cx="1739880" cy="153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5602320" y="3981600"/>
            <a:ext cx="1739880" cy="153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2827440" y="3543480"/>
            <a:ext cx="9270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5951520" y="5486400"/>
            <a:ext cx="11811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4027320" y="4254480"/>
            <a:ext cx="1575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027320" y="4483080"/>
            <a:ext cx="1575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4027320" y="5283360"/>
            <a:ext cx="1575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2192400" y="2901960"/>
            <a:ext cx="201924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address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122720" y="4537080"/>
            <a:ext cx="146052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or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2624040" y="4597560"/>
            <a:ext cx="109224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co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2878200" y="3265560"/>
            <a:ext cx="8762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•   •   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103800" y="5842080"/>
            <a:ext cx="10922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•   •   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1" name=""/>
          <p:cNvGrpSpPr/>
          <p:nvPr/>
        </p:nvGrpSpPr>
        <p:grpSpPr>
          <a:xfrm>
            <a:off x="2421000" y="3274920"/>
            <a:ext cx="1485720" cy="709560"/>
            <a:chOff x="2421000" y="3274920"/>
            <a:chExt cx="1485720" cy="709560"/>
          </a:xfrm>
        </p:grpSpPr>
        <p:sp>
          <p:nvSpPr>
            <p:cNvPr id="1542" name=""/>
            <p:cNvSpPr/>
            <p:nvPr/>
          </p:nvSpPr>
          <p:spPr>
            <a:xfrm>
              <a:off x="3906720" y="3274920"/>
              <a:ext cx="0" cy="70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763720" y="3274920"/>
              <a:ext cx="0" cy="70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421000" y="3274920"/>
              <a:ext cx="0" cy="70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5735520" y="5518080"/>
            <a:ext cx="1486080" cy="639720"/>
            <a:chOff x="5735520" y="5518080"/>
            <a:chExt cx="1486080" cy="639720"/>
          </a:xfrm>
        </p:grpSpPr>
        <p:sp>
          <p:nvSpPr>
            <p:cNvPr id="1546" name=""/>
            <p:cNvSpPr/>
            <p:nvPr/>
          </p:nvSpPr>
          <p:spPr>
            <a:xfrm>
              <a:off x="7221600" y="5518080"/>
              <a:ext cx="0" cy="63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078600" y="5518080"/>
              <a:ext cx="0" cy="63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735520" y="5518080"/>
              <a:ext cx="0" cy="63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9" name=""/>
          <p:cNvSpPr/>
          <p:nvPr/>
        </p:nvSpPr>
        <p:spPr>
          <a:xfrm>
            <a:off x="5634000" y="4089240"/>
            <a:ext cx="1854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a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ord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 m bi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M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146160" y="1380960"/>
            <a:ext cx="7813440" cy="126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lvl="1" marL="631440" indent="-2426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ilar to a PLA but with a fully decoded AND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tely flexible OR array (unlike a P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remely dense: One transistor per stored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"/>
          <p:cNvSpPr/>
          <p:nvPr/>
        </p:nvSpPr>
        <p:spPr>
          <a:xfrm>
            <a:off x="1184400" y="3017880"/>
            <a:ext cx="1092240" cy="186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1228680" y="3811680"/>
            <a:ext cx="8380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1330200" y="488484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482840" y="488484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647720" y="488484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800360" y="488484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1952640" y="488484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2117880" y="488484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1139760" y="5119560"/>
            <a:ext cx="1575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939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           n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39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1787400" y="3125880"/>
            <a:ext cx="596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1901880" y="3011400"/>
            <a:ext cx="22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2041560" y="4500720"/>
            <a:ext cx="22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276640" y="3240000"/>
            <a:ext cx="200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2276640" y="4627440"/>
            <a:ext cx="20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2276640" y="3710160"/>
            <a:ext cx="200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2739960" y="3157560"/>
            <a:ext cx="0" cy="199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3146400" y="3170160"/>
            <a:ext cx="0" cy="199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540240" y="3170160"/>
            <a:ext cx="0" cy="202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946680" y="3170160"/>
            <a:ext cx="0" cy="203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2276640" y="4129200"/>
            <a:ext cx="200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2" name=""/>
          <p:cNvGrpSpPr/>
          <p:nvPr/>
        </p:nvGrpSpPr>
        <p:grpSpPr>
          <a:xfrm>
            <a:off x="2453760" y="3691080"/>
            <a:ext cx="292320" cy="374040"/>
            <a:chOff x="2453760" y="3691080"/>
            <a:chExt cx="292320" cy="374040"/>
          </a:xfrm>
        </p:grpSpPr>
        <p:sp>
          <p:nvSpPr>
            <p:cNvPr id="1573" name=""/>
            <p:cNvSpPr/>
            <p:nvPr/>
          </p:nvSpPr>
          <p:spPr>
            <a:xfrm flipH="1">
              <a:off x="2631960" y="377352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625480" y="377964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H="1">
              <a:off x="2542680" y="38620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2555640" y="39510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549160" y="386856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8" name=""/>
            <p:cNvGrpSpPr/>
            <p:nvPr/>
          </p:nvGrpSpPr>
          <p:grpSpPr>
            <a:xfrm>
              <a:off x="2543040" y="3957480"/>
              <a:ext cx="152280" cy="107640"/>
              <a:chOff x="2543040" y="3957480"/>
              <a:chExt cx="152280" cy="107640"/>
            </a:xfrm>
          </p:grpSpPr>
          <p:sp>
            <p:nvSpPr>
              <p:cNvPr id="1579" name=""/>
              <p:cNvSpPr/>
              <p:nvPr/>
            </p:nvSpPr>
            <p:spPr>
              <a:xfrm>
                <a:off x="2543040" y="400176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568240" y="4026960"/>
                <a:ext cx="10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606400" y="4065120"/>
                <a:ext cx="25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2625480" y="39762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625480" y="3957480"/>
                <a:ext cx="0" cy="37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4" name=""/>
            <p:cNvSpPr/>
            <p:nvPr/>
          </p:nvSpPr>
          <p:spPr>
            <a:xfrm>
              <a:off x="2511360" y="386856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2453760" y="388764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V="1">
              <a:off x="2460600" y="3702960"/>
              <a:ext cx="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454120" y="3691080"/>
              <a:ext cx="38160" cy="25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733480" y="3767040"/>
              <a:ext cx="1260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9" name=""/>
          <p:cNvGrpSpPr/>
          <p:nvPr/>
        </p:nvGrpSpPr>
        <p:grpSpPr>
          <a:xfrm>
            <a:off x="2847960" y="3691080"/>
            <a:ext cx="304920" cy="374040"/>
            <a:chOff x="2847960" y="3691080"/>
            <a:chExt cx="304920" cy="374040"/>
          </a:xfrm>
        </p:grpSpPr>
        <p:sp>
          <p:nvSpPr>
            <p:cNvPr id="1590" name=""/>
            <p:cNvSpPr/>
            <p:nvPr/>
          </p:nvSpPr>
          <p:spPr>
            <a:xfrm flipH="1">
              <a:off x="3025440" y="37735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019680" y="377964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H="1">
              <a:off x="2949480" y="386208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H="1">
              <a:off x="2962440" y="395100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955960" y="386856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5" name=""/>
            <p:cNvGrpSpPr/>
            <p:nvPr/>
          </p:nvGrpSpPr>
          <p:grpSpPr>
            <a:xfrm>
              <a:off x="2936880" y="3957480"/>
              <a:ext cx="165240" cy="107640"/>
              <a:chOff x="2936880" y="3957480"/>
              <a:chExt cx="165240" cy="107640"/>
            </a:xfrm>
          </p:grpSpPr>
          <p:sp>
            <p:nvSpPr>
              <p:cNvPr id="1596" name=""/>
              <p:cNvSpPr/>
              <p:nvPr/>
            </p:nvSpPr>
            <p:spPr>
              <a:xfrm>
                <a:off x="2936880" y="4001760"/>
                <a:ext cx="165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2975040" y="4026960"/>
                <a:ext cx="8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3013200" y="4065120"/>
                <a:ext cx="12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3019680" y="39762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3019680" y="3957480"/>
                <a:ext cx="0" cy="37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1" name=""/>
            <p:cNvSpPr/>
            <p:nvPr/>
          </p:nvSpPr>
          <p:spPr>
            <a:xfrm>
              <a:off x="2918160" y="386856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>
              <a:off x="2860920" y="3887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V="1">
              <a:off x="2867040" y="3702960"/>
              <a:ext cx="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847960" y="3691080"/>
              <a:ext cx="38160" cy="25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3127680" y="3767040"/>
              <a:ext cx="2520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6" name=""/>
          <p:cNvGrpSpPr/>
          <p:nvPr/>
        </p:nvGrpSpPr>
        <p:grpSpPr>
          <a:xfrm>
            <a:off x="2847960" y="4122720"/>
            <a:ext cx="304920" cy="374400"/>
            <a:chOff x="2847960" y="4122720"/>
            <a:chExt cx="304920" cy="374400"/>
          </a:xfrm>
        </p:grpSpPr>
        <p:sp>
          <p:nvSpPr>
            <p:cNvPr id="1607" name=""/>
            <p:cNvSpPr/>
            <p:nvPr/>
          </p:nvSpPr>
          <p:spPr>
            <a:xfrm flipH="1">
              <a:off x="3025440" y="420516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019680" y="421164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>
              <a:off x="2949480" y="430668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>
              <a:off x="2962440" y="437040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955960" y="431316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2" name=""/>
            <p:cNvGrpSpPr/>
            <p:nvPr/>
          </p:nvGrpSpPr>
          <p:grpSpPr>
            <a:xfrm>
              <a:off x="2936880" y="4376520"/>
              <a:ext cx="165240" cy="120600"/>
              <a:chOff x="2936880" y="4376520"/>
              <a:chExt cx="165240" cy="120600"/>
            </a:xfrm>
          </p:grpSpPr>
          <p:sp>
            <p:nvSpPr>
              <p:cNvPr id="1613" name=""/>
              <p:cNvSpPr/>
              <p:nvPr/>
            </p:nvSpPr>
            <p:spPr>
              <a:xfrm>
                <a:off x="2936880" y="4433760"/>
                <a:ext cx="165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2975040" y="4459320"/>
                <a:ext cx="8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013200" y="4497120"/>
                <a:ext cx="12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019680" y="44082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019680" y="4376520"/>
                <a:ext cx="0" cy="5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8" name=""/>
            <p:cNvSpPr/>
            <p:nvPr/>
          </p:nvSpPr>
          <p:spPr>
            <a:xfrm>
              <a:off x="2918160" y="430056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H="1">
              <a:off x="2860920" y="43192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V="1">
              <a:off x="2867040" y="412272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2847960" y="4122720"/>
              <a:ext cx="3816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3127680" y="4198680"/>
              <a:ext cx="2520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3" name=""/>
          <p:cNvGrpSpPr/>
          <p:nvPr/>
        </p:nvGrpSpPr>
        <p:grpSpPr>
          <a:xfrm>
            <a:off x="3648240" y="4122720"/>
            <a:ext cx="304200" cy="374400"/>
            <a:chOff x="3648240" y="4122720"/>
            <a:chExt cx="304200" cy="374400"/>
          </a:xfrm>
        </p:grpSpPr>
        <p:sp>
          <p:nvSpPr>
            <p:cNvPr id="1624" name=""/>
            <p:cNvSpPr/>
            <p:nvPr/>
          </p:nvSpPr>
          <p:spPr>
            <a:xfrm flipH="1">
              <a:off x="3825360" y="420516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819240" y="421164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H="1">
              <a:off x="3749040" y="430668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>
              <a:off x="3762000" y="437040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3755880" y="431316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9" name=""/>
            <p:cNvGrpSpPr/>
            <p:nvPr/>
          </p:nvGrpSpPr>
          <p:grpSpPr>
            <a:xfrm>
              <a:off x="3736800" y="4376520"/>
              <a:ext cx="164880" cy="120600"/>
              <a:chOff x="3736800" y="4376520"/>
              <a:chExt cx="164880" cy="120600"/>
            </a:xfrm>
          </p:grpSpPr>
          <p:sp>
            <p:nvSpPr>
              <p:cNvPr id="1630" name=""/>
              <p:cNvSpPr/>
              <p:nvPr/>
            </p:nvSpPr>
            <p:spPr>
              <a:xfrm>
                <a:off x="3736800" y="4433760"/>
                <a:ext cx="16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774600" y="4459320"/>
                <a:ext cx="88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3812760" y="4497120"/>
                <a:ext cx="12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3818880" y="44082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818880" y="4376520"/>
                <a:ext cx="0" cy="5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5" name=""/>
            <p:cNvSpPr/>
            <p:nvPr/>
          </p:nvSpPr>
          <p:spPr>
            <a:xfrm>
              <a:off x="3717720" y="430056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>
              <a:off x="3660120" y="431928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V="1">
              <a:off x="3666960" y="412272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648240" y="4122720"/>
              <a:ext cx="3780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927240" y="4198680"/>
              <a:ext cx="2520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0" name=""/>
          <p:cNvSpPr/>
          <p:nvPr/>
        </p:nvSpPr>
        <p:spPr>
          <a:xfrm>
            <a:off x="2730600" y="267336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V="1">
            <a:off x="2739960" y="310680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flipV="1">
            <a:off x="2746440" y="3094200"/>
            <a:ext cx="38160" cy="2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 flipH="1" flipV="1">
            <a:off x="2682720" y="3042720"/>
            <a:ext cx="114480" cy="6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 flipV="1">
            <a:off x="2695680" y="2991960"/>
            <a:ext cx="88920" cy="6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 flipH="1" flipV="1">
            <a:off x="2682720" y="2941200"/>
            <a:ext cx="114480" cy="6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 flipV="1">
            <a:off x="2695680" y="2890800"/>
            <a:ext cx="8892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 flipH="1" flipV="1">
            <a:off x="2682720" y="2840040"/>
            <a:ext cx="11448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 flipV="1">
            <a:off x="2695680" y="2801520"/>
            <a:ext cx="3816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 flipV="1">
            <a:off x="2730600" y="274932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3137040" y="267336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 flipV="1">
            <a:off x="3146400" y="310680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 flipV="1">
            <a:off x="3152880" y="3094200"/>
            <a:ext cx="38160" cy="2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 flipH="1" flipV="1">
            <a:off x="3089160" y="3042720"/>
            <a:ext cx="114480" cy="6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 flipV="1">
            <a:off x="3102120" y="2991960"/>
            <a:ext cx="88920" cy="6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 flipH="1" flipV="1">
            <a:off x="3089160" y="2941200"/>
            <a:ext cx="114480" cy="6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 flipV="1">
            <a:off x="3102120" y="2890800"/>
            <a:ext cx="8892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 flipH="1" flipV="1">
            <a:off x="3089160" y="2840040"/>
            <a:ext cx="11448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 flipV="1">
            <a:off x="3102120" y="2801520"/>
            <a:ext cx="3780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V="1">
            <a:off x="3137040" y="274932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530520" y="267336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 flipV="1">
            <a:off x="3540240" y="310680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V="1">
            <a:off x="3546360" y="3094200"/>
            <a:ext cx="38160" cy="2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 flipH="1" flipV="1">
            <a:off x="3482640" y="3042720"/>
            <a:ext cx="114120" cy="6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 flipV="1">
            <a:off x="3495600" y="2991960"/>
            <a:ext cx="88920" cy="6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H="1" flipV="1">
            <a:off x="3482640" y="2941200"/>
            <a:ext cx="114120" cy="6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 flipV="1">
            <a:off x="3495600" y="2890800"/>
            <a:ext cx="8892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 flipH="1" flipV="1">
            <a:off x="3482640" y="2840040"/>
            <a:ext cx="11412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3495600" y="2801520"/>
            <a:ext cx="3816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flipV="1">
            <a:off x="3530520" y="274932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2195640" y="2592360"/>
            <a:ext cx="36828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936960" y="267336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 flipV="1">
            <a:off x="3946680" y="310680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 flipV="1">
            <a:off x="3952800" y="3094200"/>
            <a:ext cx="38160" cy="2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 flipH="1" flipV="1">
            <a:off x="3889080" y="3042720"/>
            <a:ext cx="114120" cy="6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 flipV="1">
            <a:off x="3902040" y="2991960"/>
            <a:ext cx="88920" cy="6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 flipH="1" flipV="1">
            <a:off x="3889080" y="2941200"/>
            <a:ext cx="114120" cy="6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 flipV="1">
            <a:off x="3902040" y="2890800"/>
            <a:ext cx="8892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 flipH="1" flipV="1">
            <a:off x="3889080" y="2840040"/>
            <a:ext cx="11412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 flipV="1">
            <a:off x="3902040" y="2801520"/>
            <a:ext cx="3816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 flipV="1">
            <a:off x="3936960" y="274932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4498920" y="5214960"/>
            <a:ext cx="40831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it line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Normally pulled high throug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istor. If transistor stores a zero,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e pulls low when row is sel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2041560" y="4011480"/>
            <a:ext cx="1904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2054160" y="3570120"/>
            <a:ext cx="1904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759040" y="4738680"/>
            <a:ext cx="1625760" cy="558720"/>
          </a:xfrm>
          <a:prstGeom prst="line">
            <a:avLst/>
          </a:prstGeom>
          <a:ln w="19080">
            <a:solidFill>
              <a:srgbClr val="d6009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3203640" y="4751280"/>
            <a:ext cx="1193760" cy="559080"/>
          </a:xfrm>
          <a:prstGeom prst="line">
            <a:avLst/>
          </a:prstGeom>
          <a:ln w="19080">
            <a:solidFill>
              <a:srgbClr val="d6009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3584520" y="4751280"/>
            <a:ext cx="825480" cy="559080"/>
          </a:xfrm>
          <a:prstGeom prst="line">
            <a:avLst/>
          </a:prstGeom>
          <a:ln w="19080">
            <a:solidFill>
              <a:srgbClr val="d6009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3990960" y="4764240"/>
            <a:ext cx="406440" cy="546120"/>
          </a:xfrm>
          <a:prstGeom prst="line">
            <a:avLst/>
          </a:prstGeom>
          <a:ln w="19080">
            <a:solidFill>
              <a:srgbClr val="d6009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V="1">
            <a:off x="4346640" y="3171960"/>
            <a:ext cx="785880" cy="48960"/>
          </a:xfrm>
          <a:prstGeom prst="line">
            <a:avLst/>
          </a:prstGeom>
          <a:ln w="19080">
            <a:solidFill>
              <a:srgbClr val="d6009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 flipV="1">
            <a:off x="4346640" y="3161880"/>
            <a:ext cx="793800" cy="554040"/>
          </a:xfrm>
          <a:prstGeom prst="line">
            <a:avLst/>
          </a:prstGeom>
          <a:ln w="19080">
            <a:solidFill>
              <a:srgbClr val="d6009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 flipV="1">
            <a:off x="4359240" y="3169800"/>
            <a:ext cx="770040" cy="939960"/>
          </a:xfrm>
          <a:prstGeom prst="line">
            <a:avLst/>
          </a:prstGeom>
          <a:ln w="19080">
            <a:solidFill>
              <a:srgbClr val="d6009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V="1">
            <a:off x="4359240" y="3174840"/>
            <a:ext cx="770040" cy="1455840"/>
          </a:xfrm>
          <a:prstGeom prst="line">
            <a:avLst/>
          </a:prstGeom>
          <a:ln w="19080">
            <a:solidFill>
              <a:srgbClr val="d6009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5203800" y="2689200"/>
            <a:ext cx="20192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ly one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word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active at any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2573280" y="2674800"/>
            <a:ext cx="1366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-26640" bIns="-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2655720" y="5119560"/>
            <a:ext cx="1575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939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m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39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d60093"/>
                </a:solidFill>
                <a:latin typeface="Tahoma"/>
              </a:rPr>
              <a:t>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"/>
          <p:cNvSpPr/>
          <p:nvPr/>
        </p:nvSpPr>
        <p:spPr>
          <a:xfrm>
            <a:off x="933480" y="3949560"/>
            <a:ext cx="222264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228600"/>
                <a:tab algn="l" pos="457200"/>
                <a:tab algn="l" pos="685800"/>
                <a:tab algn="l" pos="1028880"/>
                <a:tab algn="l" pos="13716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228600"/>
                <a:tab algn="l" pos="457200"/>
                <a:tab algn="l" pos="685800"/>
                <a:tab algn="l" pos="1028880"/>
                <a:tab algn="l" pos="13716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228600"/>
                <a:tab algn="l" pos="457200"/>
                <a:tab algn="l" pos="685800"/>
                <a:tab algn="l" pos="1028880"/>
                <a:tab algn="l" pos="13716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228600"/>
                <a:tab algn="l" pos="457200"/>
                <a:tab algn="l" pos="685800"/>
                <a:tab algn="l" pos="1028880"/>
                <a:tab algn="l" pos="13716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228600"/>
                <a:tab algn="l" pos="457200"/>
                <a:tab algn="l" pos="685800"/>
                <a:tab algn="l" pos="1028880"/>
                <a:tab algn="l" pos="13716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228600"/>
                <a:tab algn="l" pos="457200"/>
                <a:tab algn="l" pos="685800"/>
                <a:tab algn="l" pos="1028880"/>
                <a:tab algn="l" pos="13716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876240" y="4178160"/>
            <a:ext cx="215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1593720" y="3968640"/>
            <a:ext cx="0" cy="1866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3755880" y="4019400"/>
            <a:ext cx="2305080" cy="914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 flipV="1">
            <a:off x="4108320" y="4920840"/>
            <a:ext cx="0" cy="469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 flipV="1">
            <a:off x="4336920" y="4920840"/>
            <a:ext cx="0" cy="469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 flipV="1">
            <a:off x="4565520" y="4920840"/>
            <a:ext cx="0" cy="469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5022720" y="4933800"/>
            <a:ext cx="0" cy="444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5251320" y="4933800"/>
            <a:ext cx="0" cy="444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5479920" y="4933800"/>
            <a:ext cx="0" cy="444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708520" y="4933800"/>
            <a:ext cx="0" cy="444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014720" y="4152960"/>
            <a:ext cx="1866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8 words x 4 bits/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3732120" y="5668920"/>
            <a:ext cx="10796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870440" y="5668920"/>
            <a:ext cx="1015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3968640" y="5359320"/>
            <a:ext cx="20066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228600"/>
                <a:tab algn="l" pos="4572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-level combinational logic using a R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604440" y="1390680"/>
            <a:ext cx="779148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 ROM to directly store a truth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need to minimize log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0 = A'B'C + AB'C' + AB'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1 = A'B'C + A'BC' + AB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2 = A'B'C' + A'B'C + AB'C'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3 = A'BC + AB'C' + ABC'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2" name=""/>
          <p:cNvSpPr/>
          <p:nvPr/>
        </p:nvSpPr>
        <p:spPr>
          <a:xfrm>
            <a:off x="6446880" y="4021200"/>
            <a:ext cx="2303280" cy="14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27000" bIns="270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Tahoma"/>
              </a:rPr>
              <a:t>You specify whether to store 1 or 0 in each location in the 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Ms versus PLAs/P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3000" indent="-2214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uick to design, simple, den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ation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3000" indent="-2214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ze doubles for each additional in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53000" indent="-2214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't exploit don't ca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s/P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3000" indent="-2214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ic minimization reduces siz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3000" indent="-2214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L OR-plane has hard-wired fan-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answer: Field programmable gate arr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arn about in 46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se end: Tri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113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state buffers have a control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abled: Buffer works norm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abled: Buffer output is disconn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7" name=""/>
          <p:cNvGrpSpPr/>
          <p:nvPr/>
        </p:nvGrpSpPr>
        <p:grpSpPr>
          <a:xfrm>
            <a:off x="1080720" y="3763800"/>
            <a:ext cx="2506320" cy="2260440"/>
            <a:chOff x="1080720" y="3763800"/>
            <a:chExt cx="2506320" cy="2260440"/>
          </a:xfrm>
        </p:grpSpPr>
        <p:sp>
          <p:nvSpPr>
            <p:cNvPr id="1718" name=""/>
            <p:cNvSpPr/>
            <p:nvPr/>
          </p:nvSpPr>
          <p:spPr>
            <a:xfrm flipH="1">
              <a:off x="1517040" y="4029120"/>
              <a:ext cx="1506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1505880" y="5133960"/>
              <a:ext cx="121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1519200" y="5862600"/>
              <a:ext cx="590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104920" y="4174920"/>
              <a:ext cx="0" cy="169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022120" y="5279760"/>
              <a:ext cx="165240" cy="154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rot="5400000">
              <a:off x="1856160" y="4904280"/>
              <a:ext cx="530280" cy="458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rot="5400000">
              <a:off x="1856160" y="3799440"/>
              <a:ext cx="530280" cy="458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715840" y="4044960"/>
              <a:ext cx="0" cy="11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633400" y="3962160"/>
              <a:ext cx="165240" cy="15408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140280" y="3865320"/>
              <a:ext cx="44676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099800" y="3854520"/>
              <a:ext cx="44676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n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099800" y="4959360"/>
              <a:ext cx="44676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n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080720" y="5700600"/>
              <a:ext cx="44676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1" name=""/>
          <p:cNvSpPr/>
          <p:nvPr/>
        </p:nvSpPr>
        <p:spPr>
          <a:xfrm>
            <a:off x="826560" y="3060720"/>
            <a:ext cx="27176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d60093"/>
                </a:solidFill>
                <a:uFillTx/>
                <a:latin typeface="Tahoma"/>
              </a:rPr>
              <a:t>2:1 Tristate Mu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4097160" y="3103920"/>
            <a:ext cx="4570560" cy="20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ule muxtri (In1,In2,Sel,OU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put  In1,In2,S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put OU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    OU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fif1 (OUT,In1,Se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fif0 (OUT,In2,Se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"/>
          <p:cNvSpPr/>
          <p:nvPr/>
        </p:nvSpPr>
        <p:spPr>
          <a:xfrm>
            <a:off x="4421160" y="457668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4195800" y="457668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3970440" y="457668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745080" y="457668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3519360" y="457668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3294000" y="457668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3068640" y="457668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2849400" y="4984920"/>
            <a:ext cx="1803600" cy="79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2855880" y="5016600"/>
            <a:ext cx="18036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CD to 7–seg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-signa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3406680" y="577548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3632040" y="577548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3857760" y="577548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083120" y="577548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2849400" y="2798640"/>
            <a:ext cx="1803600" cy="177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2781360" y="4332240"/>
            <a:ext cx="19159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3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0  c1  c2  c3  c4  c5  c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3132000" y="6081840"/>
            <a:ext cx="1239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3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  B   C  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9" name=""/>
          <p:cNvGrpSpPr/>
          <p:nvPr/>
        </p:nvGrpSpPr>
        <p:grpSpPr>
          <a:xfrm>
            <a:off x="7365960" y="3487680"/>
            <a:ext cx="374400" cy="676080"/>
            <a:chOff x="7365960" y="3487680"/>
            <a:chExt cx="374400" cy="676080"/>
          </a:xfrm>
        </p:grpSpPr>
        <p:sp>
          <p:nvSpPr>
            <p:cNvPr id="1750" name=""/>
            <p:cNvSpPr/>
            <p:nvPr/>
          </p:nvSpPr>
          <p:spPr>
            <a:xfrm>
              <a:off x="7365960" y="3525120"/>
              <a:ext cx="74880" cy="300600"/>
            </a:xfrm>
            <a:prstGeom prst="upDownArrow">
              <a:avLst>
                <a:gd name="adj1" fmla="val 100000"/>
                <a:gd name="adj2" fmla="val 50180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365960" y="3826080"/>
              <a:ext cx="74880" cy="300240"/>
            </a:xfrm>
            <a:prstGeom prst="upDownArrow">
              <a:avLst>
                <a:gd name="adj1" fmla="val 100000"/>
                <a:gd name="adj2" fmla="val 50120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 rot="5400000">
              <a:off x="7515360" y="3675960"/>
              <a:ext cx="75240" cy="299520"/>
            </a:xfrm>
            <a:prstGeom prst="upDownArrow">
              <a:avLst>
                <a:gd name="adj1" fmla="val 100000"/>
                <a:gd name="adj2" fmla="val 4976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7665480" y="3525120"/>
              <a:ext cx="74880" cy="300600"/>
            </a:xfrm>
            <a:prstGeom prst="upDownArrow">
              <a:avLst>
                <a:gd name="adj1" fmla="val 100000"/>
                <a:gd name="adj2" fmla="val 50180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7665480" y="3826080"/>
              <a:ext cx="74880" cy="300240"/>
            </a:xfrm>
            <a:prstGeom prst="upDownArrow">
              <a:avLst>
                <a:gd name="adj1" fmla="val 100000"/>
                <a:gd name="adj2" fmla="val 50120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rot="5400000">
              <a:off x="7515360" y="3375360"/>
              <a:ext cx="75240" cy="299520"/>
            </a:xfrm>
            <a:prstGeom prst="upDownArrow">
              <a:avLst>
                <a:gd name="adj1" fmla="val 100000"/>
                <a:gd name="adj2" fmla="val 4976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rot="5400000">
              <a:off x="7515720" y="3976560"/>
              <a:ext cx="74880" cy="299520"/>
            </a:xfrm>
            <a:prstGeom prst="upDownArrow">
              <a:avLst>
                <a:gd name="adj1" fmla="val 100000"/>
                <a:gd name="adj2" fmla="val 50000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7" name=""/>
          <p:cNvGrpSpPr/>
          <p:nvPr/>
        </p:nvGrpSpPr>
        <p:grpSpPr>
          <a:xfrm>
            <a:off x="6764400" y="3487680"/>
            <a:ext cx="375840" cy="676080"/>
            <a:chOff x="6764400" y="3487680"/>
            <a:chExt cx="375840" cy="676080"/>
          </a:xfrm>
        </p:grpSpPr>
        <p:sp>
          <p:nvSpPr>
            <p:cNvPr id="1758" name=""/>
            <p:cNvSpPr/>
            <p:nvPr/>
          </p:nvSpPr>
          <p:spPr>
            <a:xfrm>
              <a:off x="6764400" y="3525120"/>
              <a:ext cx="75240" cy="300600"/>
            </a:xfrm>
            <a:prstGeom prst="upDownArrow">
              <a:avLst>
                <a:gd name="adj1" fmla="val 100000"/>
                <a:gd name="adj2" fmla="val 49940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6764400" y="3826080"/>
              <a:ext cx="75240" cy="300240"/>
            </a:xfrm>
            <a:prstGeom prst="upDownArrow">
              <a:avLst>
                <a:gd name="adj1" fmla="val 100000"/>
                <a:gd name="adj2" fmla="val 49880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rot="5400000">
              <a:off x="6914520" y="3675240"/>
              <a:ext cx="75240" cy="300960"/>
            </a:xfrm>
            <a:prstGeom prst="upDownArrow">
              <a:avLst>
                <a:gd name="adj1" fmla="val 100000"/>
                <a:gd name="adj2" fmla="val 50000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7065360" y="3525120"/>
              <a:ext cx="74880" cy="300600"/>
            </a:xfrm>
            <a:prstGeom prst="upDownArrow">
              <a:avLst>
                <a:gd name="adj1" fmla="val 100000"/>
                <a:gd name="adj2" fmla="val 50180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7065360" y="3826080"/>
              <a:ext cx="74880" cy="300240"/>
            </a:xfrm>
            <a:prstGeom prst="upDownArrow">
              <a:avLst>
                <a:gd name="adj1" fmla="val 100000"/>
                <a:gd name="adj2" fmla="val 50120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rot="5400000">
              <a:off x="6914520" y="3374640"/>
              <a:ext cx="75240" cy="300960"/>
            </a:xfrm>
            <a:prstGeom prst="upDownArrow">
              <a:avLst>
                <a:gd name="adj1" fmla="val 100000"/>
                <a:gd name="adj2" fmla="val 50000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rot="5400000">
              <a:off x="6914880" y="3975840"/>
              <a:ext cx="74880" cy="300960"/>
            </a:xfrm>
            <a:prstGeom prst="upDownArrow">
              <a:avLst>
                <a:gd name="adj1" fmla="val 100000"/>
                <a:gd name="adj2" fmla="val 50240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5" name=""/>
          <p:cNvGrpSpPr/>
          <p:nvPr/>
        </p:nvGrpSpPr>
        <p:grpSpPr>
          <a:xfrm>
            <a:off x="6162840" y="3487680"/>
            <a:ext cx="375840" cy="676080"/>
            <a:chOff x="6162840" y="3487680"/>
            <a:chExt cx="375840" cy="676080"/>
          </a:xfrm>
        </p:grpSpPr>
        <p:sp>
          <p:nvSpPr>
            <p:cNvPr id="1766" name=""/>
            <p:cNvSpPr/>
            <p:nvPr/>
          </p:nvSpPr>
          <p:spPr>
            <a:xfrm>
              <a:off x="6162840" y="3525120"/>
              <a:ext cx="74880" cy="300600"/>
            </a:xfrm>
            <a:prstGeom prst="upDownArrow">
              <a:avLst>
                <a:gd name="adj1" fmla="val 100000"/>
                <a:gd name="adj2" fmla="val 50180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6162840" y="3826080"/>
              <a:ext cx="74880" cy="300240"/>
            </a:xfrm>
            <a:prstGeom prst="upDownArrow">
              <a:avLst>
                <a:gd name="adj1" fmla="val 100000"/>
                <a:gd name="adj2" fmla="val 50120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rot="5400000">
              <a:off x="6312600" y="3675600"/>
              <a:ext cx="75240" cy="300600"/>
            </a:xfrm>
            <a:prstGeom prst="upDownArrow">
              <a:avLst>
                <a:gd name="adj1" fmla="val 100000"/>
                <a:gd name="adj2" fmla="val 49940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6463440" y="3525120"/>
              <a:ext cx="75240" cy="300600"/>
            </a:xfrm>
            <a:prstGeom prst="upDownArrow">
              <a:avLst>
                <a:gd name="adj1" fmla="val 100000"/>
                <a:gd name="adj2" fmla="val 49940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6463440" y="3826080"/>
              <a:ext cx="75240" cy="300240"/>
            </a:xfrm>
            <a:prstGeom prst="upDownArrow">
              <a:avLst>
                <a:gd name="adj1" fmla="val 100000"/>
                <a:gd name="adj2" fmla="val 49880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rot="5400000">
              <a:off x="6312600" y="3375000"/>
              <a:ext cx="75240" cy="300600"/>
            </a:xfrm>
            <a:prstGeom prst="upDownArrow">
              <a:avLst>
                <a:gd name="adj1" fmla="val 100000"/>
                <a:gd name="adj2" fmla="val 49940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rot="5400000">
              <a:off x="6312600" y="3975840"/>
              <a:ext cx="74880" cy="300600"/>
            </a:xfrm>
            <a:prstGeom prst="upDownArrow">
              <a:avLst>
                <a:gd name="adj1" fmla="val 100000"/>
                <a:gd name="adj2" fmla="val 50180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3" name=""/>
          <p:cNvGrpSpPr/>
          <p:nvPr/>
        </p:nvGrpSpPr>
        <p:grpSpPr>
          <a:xfrm>
            <a:off x="7966080" y="3487680"/>
            <a:ext cx="375840" cy="676080"/>
            <a:chOff x="7966080" y="3487680"/>
            <a:chExt cx="375840" cy="676080"/>
          </a:xfrm>
        </p:grpSpPr>
        <p:sp>
          <p:nvSpPr>
            <p:cNvPr id="1774" name=""/>
            <p:cNvSpPr/>
            <p:nvPr/>
          </p:nvSpPr>
          <p:spPr>
            <a:xfrm>
              <a:off x="7966080" y="3525120"/>
              <a:ext cx="74880" cy="300600"/>
            </a:xfrm>
            <a:prstGeom prst="upDownArrow">
              <a:avLst>
                <a:gd name="adj1" fmla="val 100000"/>
                <a:gd name="adj2" fmla="val 50180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7966080" y="3826080"/>
              <a:ext cx="74880" cy="300240"/>
            </a:xfrm>
            <a:prstGeom prst="upDownArrow">
              <a:avLst>
                <a:gd name="adj1" fmla="val 100000"/>
                <a:gd name="adj2" fmla="val 50120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 rot="5400000">
              <a:off x="8115840" y="3675600"/>
              <a:ext cx="75240" cy="300600"/>
            </a:xfrm>
            <a:prstGeom prst="upDownArrow">
              <a:avLst>
                <a:gd name="adj1" fmla="val 100000"/>
                <a:gd name="adj2" fmla="val 49940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8266680" y="3525120"/>
              <a:ext cx="75240" cy="300600"/>
            </a:xfrm>
            <a:prstGeom prst="upDownArrow">
              <a:avLst>
                <a:gd name="adj1" fmla="val 100000"/>
                <a:gd name="adj2" fmla="val 49940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8266680" y="3826080"/>
              <a:ext cx="75240" cy="300240"/>
            </a:xfrm>
            <a:prstGeom prst="upDownArrow">
              <a:avLst>
                <a:gd name="adj1" fmla="val 100000"/>
                <a:gd name="adj2" fmla="val 49880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 rot="5400000">
              <a:off x="8115840" y="3375000"/>
              <a:ext cx="75240" cy="300600"/>
            </a:xfrm>
            <a:prstGeom prst="upDownArrow">
              <a:avLst>
                <a:gd name="adj1" fmla="val 100000"/>
                <a:gd name="adj2" fmla="val 49940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rot="5400000">
              <a:off x="8115840" y="3975840"/>
              <a:ext cx="74880" cy="300600"/>
            </a:xfrm>
            <a:prstGeom prst="upDownArrow">
              <a:avLst>
                <a:gd name="adj1" fmla="val 100000"/>
                <a:gd name="adj2" fmla="val 50180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1" name=""/>
          <p:cNvGrpSpPr/>
          <p:nvPr/>
        </p:nvGrpSpPr>
        <p:grpSpPr>
          <a:xfrm>
            <a:off x="5560920" y="3487680"/>
            <a:ext cx="375840" cy="676080"/>
            <a:chOff x="5560920" y="3487680"/>
            <a:chExt cx="375840" cy="676080"/>
          </a:xfrm>
        </p:grpSpPr>
        <p:sp>
          <p:nvSpPr>
            <p:cNvPr id="1782" name=""/>
            <p:cNvSpPr/>
            <p:nvPr/>
          </p:nvSpPr>
          <p:spPr>
            <a:xfrm>
              <a:off x="5560920" y="3525120"/>
              <a:ext cx="75240" cy="300600"/>
            </a:xfrm>
            <a:prstGeom prst="upDownArrow">
              <a:avLst>
                <a:gd name="adj1" fmla="val 100000"/>
                <a:gd name="adj2" fmla="val 49940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560920" y="3826080"/>
              <a:ext cx="75240" cy="300240"/>
            </a:xfrm>
            <a:prstGeom prst="upDownArrow">
              <a:avLst>
                <a:gd name="adj1" fmla="val 100000"/>
                <a:gd name="adj2" fmla="val 49880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rot="5400000">
              <a:off x="5710680" y="3675600"/>
              <a:ext cx="75240" cy="300600"/>
            </a:xfrm>
            <a:prstGeom prst="upDownArrow">
              <a:avLst>
                <a:gd name="adj1" fmla="val 100000"/>
                <a:gd name="adj2" fmla="val 49940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861520" y="3525120"/>
              <a:ext cx="75240" cy="300600"/>
            </a:xfrm>
            <a:prstGeom prst="upDownArrow">
              <a:avLst>
                <a:gd name="adj1" fmla="val 100000"/>
                <a:gd name="adj2" fmla="val 49940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861520" y="3826080"/>
              <a:ext cx="75240" cy="300240"/>
            </a:xfrm>
            <a:prstGeom prst="upDownArrow">
              <a:avLst>
                <a:gd name="adj1" fmla="val 100000"/>
                <a:gd name="adj2" fmla="val 49880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rot="5400000">
              <a:off x="5710680" y="3375000"/>
              <a:ext cx="75240" cy="300600"/>
            </a:xfrm>
            <a:prstGeom prst="upDownArrow">
              <a:avLst>
                <a:gd name="adj1" fmla="val 100000"/>
                <a:gd name="adj2" fmla="val 49940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rot="5400000">
              <a:off x="5710680" y="3975840"/>
              <a:ext cx="74880" cy="300600"/>
            </a:xfrm>
            <a:prstGeom prst="upDownArrow">
              <a:avLst>
                <a:gd name="adj1" fmla="val 100000"/>
                <a:gd name="adj2" fmla="val 50180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9" name=""/>
          <p:cNvGrpSpPr/>
          <p:nvPr/>
        </p:nvGrpSpPr>
        <p:grpSpPr>
          <a:xfrm>
            <a:off x="7365960" y="4390920"/>
            <a:ext cx="374400" cy="676080"/>
            <a:chOff x="7365960" y="4390920"/>
            <a:chExt cx="374400" cy="676080"/>
          </a:xfrm>
        </p:grpSpPr>
        <p:sp>
          <p:nvSpPr>
            <p:cNvPr id="1790" name=""/>
            <p:cNvSpPr/>
            <p:nvPr/>
          </p:nvSpPr>
          <p:spPr>
            <a:xfrm>
              <a:off x="7365960" y="4428360"/>
              <a:ext cx="74880" cy="300600"/>
            </a:xfrm>
            <a:prstGeom prst="upDownArrow">
              <a:avLst>
                <a:gd name="adj1" fmla="val 100000"/>
                <a:gd name="adj2" fmla="val 50180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7365960" y="4729320"/>
              <a:ext cx="74880" cy="300240"/>
            </a:xfrm>
            <a:prstGeom prst="upDownArrow">
              <a:avLst>
                <a:gd name="adj1" fmla="val 100000"/>
                <a:gd name="adj2" fmla="val 50120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 rot="5400000">
              <a:off x="7515360" y="4579200"/>
              <a:ext cx="75240" cy="299520"/>
            </a:xfrm>
            <a:prstGeom prst="upDownArrow">
              <a:avLst>
                <a:gd name="adj1" fmla="val 100000"/>
                <a:gd name="adj2" fmla="val 4976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7665480" y="4428360"/>
              <a:ext cx="74880" cy="300600"/>
            </a:xfrm>
            <a:prstGeom prst="upDownArrow">
              <a:avLst>
                <a:gd name="adj1" fmla="val 100000"/>
                <a:gd name="adj2" fmla="val 50180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7665480" y="4729320"/>
              <a:ext cx="74880" cy="300240"/>
            </a:xfrm>
            <a:prstGeom prst="upDownArrow">
              <a:avLst>
                <a:gd name="adj1" fmla="val 100000"/>
                <a:gd name="adj2" fmla="val 50120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rot="5400000">
              <a:off x="7515360" y="4278600"/>
              <a:ext cx="75240" cy="299520"/>
            </a:xfrm>
            <a:prstGeom prst="upDownArrow">
              <a:avLst>
                <a:gd name="adj1" fmla="val 100000"/>
                <a:gd name="adj2" fmla="val 4976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rot="5400000">
              <a:off x="7515720" y="4879800"/>
              <a:ext cx="74880" cy="299520"/>
            </a:xfrm>
            <a:prstGeom prst="upDownArrow">
              <a:avLst>
                <a:gd name="adj1" fmla="val 100000"/>
                <a:gd name="adj2" fmla="val 50000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7" name=""/>
          <p:cNvGrpSpPr/>
          <p:nvPr/>
        </p:nvGrpSpPr>
        <p:grpSpPr>
          <a:xfrm>
            <a:off x="6764400" y="4390920"/>
            <a:ext cx="375840" cy="676080"/>
            <a:chOff x="6764400" y="4390920"/>
            <a:chExt cx="375840" cy="676080"/>
          </a:xfrm>
        </p:grpSpPr>
        <p:sp>
          <p:nvSpPr>
            <p:cNvPr id="1798" name=""/>
            <p:cNvSpPr/>
            <p:nvPr/>
          </p:nvSpPr>
          <p:spPr>
            <a:xfrm>
              <a:off x="6764400" y="4428360"/>
              <a:ext cx="75240" cy="300600"/>
            </a:xfrm>
            <a:prstGeom prst="upDownArrow">
              <a:avLst>
                <a:gd name="adj1" fmla="val 100000"/>
                <a:gd name="adj2" fmla="val 49940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764400" y="4729320"/>
              <a:ext cx="75240" cy="300240"/>
            </a:xfrm>
            <a:prstGeom prst="upDownArrow">
              <a:avLst>
                <a:gd name="adj1" fmla="val 100000"/>
                <a:gd name="adj2" fmla="val 49880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 rot="5400000">
              <a:off x="6914520" y="4578480"/>
              <a:ext cx="75240" cy="300960"/>
            </a:xfrm>
            <a:prstGeom prst="upDownArrow">
              <a:avLst>
                <a:gd name="adj1" fmla="val 100000"/>
                <a:gd name="adj2" fmla="val 50000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7065360" y="4428360"/>
              <a:ext cx="74880" cy="300600"/>
            </a:xfrm>
            <a:prstGeom prst="upDownArrow">
              <a:avLst>
                <a:gd name="adj1" fmla="val 100000"/>
                <a:gd name="adj2" fmla="val 50180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7065360" y="4729320"/>
              <a:ext cx="74880" cy="300240"/>
            </a:xfrm>
            <a:prstGeom prst="upDownArrow">
              <a:avLst>
                <a:gd name="adj1" fmla="val 100000"/>
                <a:gd name="adj2" fmla="val 50120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 rot="5400000">
              <a:off x="6914520" y="4277880"/>
              <a:ext cx="75240" cy="300960"/>
            </a:xfrm>
            <a:prstGeom prst="upDownArrow">
              <a:avLst>
                <a:gd name="adj1" fmla="val 100000"/>
                <a:gd name="adj2" fmla="val 50000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 rot="5400000">
              <a:off x="6914880" y="4879080"/>
              <a:ext cx="74880" cy="300960"/>
            </a:xfrm>
            <a:prstGeom prst="upDownArrow">
              <a:avLst>
                <a:gd name="adj1" fmla="val 100000"/>
                <a:gd name="adj2" fmla="val 50240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5" name=""/>
          <p:cNvGrpSpPr/>
          <p:nvPr/>
        </p:nvGrpSpPr>
        <p:grpSpPr>
          <a:xfrm>
            <a:off x="6162840" y="4390920"/>
            <a:ext cx="375840" cy="676080"/>
            <a:chOff x="6162840" y="4390920"/>
            <a:chExt cx="375840" cy="676080"/>
          </a:xfrm>
        </p:grpSpPr>
        <p:sp>
          <p:nvSpPr>
            <p:cNvPr id="1806" name=""/>
            <p:cNvSpPr/>
            <p:nvPr/>
          </p:nvSpPr>
          <p:spPr>
            <a:xfrm>
              <a:off x="6162840" y="4428360"/>
              <a:ext cx="74880" cy="300600"/>
            </a:xfrm>
            <a:prstGeom prst="upDownArrow">
              <a:avLst>
                <a:gd name="adj1" fmla="val 100000"/>
                <a:gd name="adj2" fmla="val 50180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162840" y="4729320"/>
              <a:ext cx="74880" cy="300240"/>
            </a:xfrm>
            <a:prstGeom prst="upDownArrow">
              <a:avLst>
                <a:gd name="adj1" fmla="val 100000"/>
                <a:gd name="adj2" fmla="val 50120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 rot="5400000">
              <a:off x="6312600" y="4578840"/>
              <a:ext cx="75240" cy="300600"/>
            </a:xfrm>
            <a:prstGeom prst="upDownArrow">
              <a:avLst>
                <a:gd name="adj1" fmla="val 100000"/>
                <a:gd name="adj2" fmla="val 49940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463440" y="4428360"/>
              <a:ext cx="75240" cy="300600"/>
            </a:xfrm>
            <a:prstGeom prst="upDownArrow">
              <a:avLst>
                <a:gd name="adj1" fmla="val 100000"/>
                <a:gd name="adj2" fmla="val 49940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6463440" y="4729320"/>
              <a:ext cx="75240" cy="300240"/>
            </a:xfrm>
            <a:prstGeom prst="upDownArrow">
              <a:avLst>
                <a:gd name="adj1" fmla="val 100000"/>
                <a:gd name="adj2" fmla="val 49880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 rot="5400000">
              <a:off x="6312600" y="4278240"/>
              <a:ext cx="75240" cy="300600"/>
            </a:xfrm>
            <a:prstGeom prst="upDownArrow">
              <a:avLst>
                <a:gd name="adj1" fmla="val 100000"/>
                <a:gd name="adj2" fmla="val 49940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 rot="5400000">
              <a:off x="6312600" y="4879080"/>
              <a:ext cx="74880" cy="300600"/>
            </a:xfrm>
            <a:prstGeom prst="upDownArrow">
              <a:avLst>
                <a:gd name="adj1" fmla="val 100000"/>
                <a:gd name="adj2" fmla="val 50180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3" name=""/>
          <p:cNvGrpSpPr/>
          <p:nvPr/>
        </p:nvGrpSpPr>
        <p:grpSpPr>
          <a:xfrm>
            <a:off x="7966080" y="4390920"/>
            <a:ext cx="375840" cy="676080"/>
            <a:chOff x="7966080" y="4390920"/>
            <a:chExt cx="375840" cy="676080"/>
          </a:xfrm>
        </p:grpSpPr>
        <p:sp>
          <p:nvSpPr>
            <p:cNvPr id="1814" name=""/>
            <p:cNvSpPr/>
            <p:nvPr/>
          </p:nvSpPr>
          <p:spPr>
            <a:xfrm>
              <a:off x="7966080" y="4428360"/>
              <a:ext cx="74880" cy="300600"/>
            </a:xfrm>
            <a:prstGeom prst="upDownArrow">
              <a:avLst>
                <a:gd name="adj1" fmla="val 100000"/>
                <a:gd name="adj2" fmla="val 50180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966080" y="4729320"/>
              <a:ext cx="74880" cy="300240"/>
            </a:xfrm>
            <a:prstGeom prst="upDownArrow">
              <a:avLst>
                <a:gd name="adj1" fmla="val 100000"/>
                <a:gd name="adj2" fmla="val 50120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rot="5400000">
              <a:off x="8115840" y="4578840"/>
              <a:ext cx="75240" cy="300600"/>
            </a:xfrm>
            <a:prstGeom prst="upDownArrow">
              <a:avLst>
                <a:gd name="adj1" fmla="val 100000"/>
                <a:gd name="adj2" fmla="val 49940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8266680" y="4428360"/>
              <a:ext cx="75240" cy="300600"/>
            </a:xfrm>
            <a:prstGeom prst="upDownArrow">
              <a:avLst>
                <a:gd name="adj1" fmla="val 100000"/>
                <a:gd name="adj2" fmla="val 49940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8266680" y="4729320"/>
              <a:ext cx="75240" cy="300240"/>
            </a:xfrm>
            <a:prstGeom prst="upDownArrow">
              <a:avLst>
                <a:gd name="adj1" fmla="val 100000"/>
                <a:gd name="adj2" fmla="val 49880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 rot="5400000">
              <a:off x="8115840" y="4278240"/>
              <a:ext cx="75240" cy="300600"/>
            </a:xfrm>
            <a:prstGeom prst="upDownArrow">
              <a:avLst>
                <a:gd name="adj1" fmla="val 100000"/>
                <a:gd name="adj2" fmla="val 49940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 rot="5400000">
              <a:off x="8115840" y="4879080"/>
              <a:ext cx="74880" cy="300600"/>
            </a:xfrm>
            <a:prstGeom prst="upDownArrow">
              <a:avLst>
                <a:gd name="adj1" fmla="val 100000"/>
                <a:gd name="adj2" fmla="val 50180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1" name=""/>
          <p:cNvGrpSpPr/>
          <p:nvPr/>
        </p:nvGrpSpPr>
        <p:grpSpPr>
          <a:xfrm>
            <a:off x="5560920" y="4390920"/>
            <a:ext cx="375840" cy="676080"/>
            <a:chOff x="5560920" y="4390920"/>
            <a:chExt cx="375840" cy="676080"/>
          </a:xfrm>
        </p:grpSpPr>
        <p:sp>
          <p:nvSpPr>
            <p:cNvPr id="1822" name=""/>
            <p:cNvSpPr/>
            <p:nvPr/>
          </p:nvSpPr>
          <p:spPr>
            <a:xfrm>
              <a:off x="5560920" y="4428360"/>
              <a:ext cx="75240" cy="300600"/>
            </a:xfrm>
            <a:prstGeom prst="upDownArrow">
              <a:avLst>
                <a:gd name="adj1" fmla="val 100000"/>
                <a:gd name="adj2" fmla="val 49940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560920" y="4729320"/>
              <a:ext cx="75240" cy="300240"/>
            </a:xfrm>
            <a:prstGeom prst="upDownArrow">
              <a:avLst>
                <a:gd name="adj1" fmla="val 100000"/>
                <a:gd name="adj2" fmla="val 49880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rot="5400000">
              <a:off x="5710680" y="4578840"/>
              <a:ext cx="75240" cy="300600"/>
            </a:xfrm>
            <a:prstGeom prst="upDownArrow">
              <a:avLst>
                <a:gd name="adj1" fmla="val 100000"/>
                <a:gd name="adj2" fmla="val 49940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861520" y="4428360"/>
              <a:ext cx="75240" cy="300600"/>
            </a:xfrm>
            <a:prstGeom prst="upDownArrow">
              <a:avLst>
                <a:gd name="adj1" fmla="val 100000"/>
                <a:gd name="adj2" fmla="val 49940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861520" y="4729320"/>
              <a:ext cx="75240" cy="300240"/>
            </a:xfrm>
            <a:prstGeom prst="upDownArrow">
              <a:avLst>
                <a:gd name="adj1" fmla="val 100000"/>
                <a:gd name="adj2" fmla="val 49880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rot="5400000">
              <a:off x="5710680" y="4278240"/>
              <a:ext cx="75240" cy="300600"/>
            </a:xfrm>
            <a:prstGeom prst="upDownArrow">
              <a:avLst>
                <a:gd name="adj1" fmla="val 100000"/>
                <a:gd name="adj2" fmla="val 49940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rot="5400000">
              <a:off x="5710680" y="4879080"/>
              <a:ext cx="74880" cy="300600"/>
            </a:xfrm>
            <a:prstGeom prst="upDownArrow">
              <a:avLst>
                <a:gd name="adj1" fmla="val 100000"/>
                <a:gd name="adj2" fmla="val 50180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9" name=""/>
          <p:cNvGrpSpPr/>
          <p:nvPr/>
        </p:nvGrpSpPr>
        <p:grpSpPr>
          <a:xfrm>
            <a:off x="2814480" y="2924280"/>
            <a:ext cx="1879560" cy="1487160"/>
            <a:chOff x="2814480" y="2924280"/>
            <a:chExt cx="1879560" cy="1487160"/>
          </a:xfrm>
        </p:grpSpPr>
        <p:sp>
          <p:nvSpPr>
            <p:cNvPr id="1830" name=""/>
            <p:cNvSpPr/>
            <p:nvPr/>
          </p:nvSpPr>
          <p:spPr>
            <a:xfrm>
              <a:off x="4105080" y="3165120"/>
              <a:ext cx="58896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pPr>
                <a:lnSpc>
                  <a:spcPts val="137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814480" y="3168360"/>
              <a:ext cx="58896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pPr algn="r">
                <a:lnSpc>
                  <a:spcPts val="137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4105080" y="3694680"/>
              <a:ext cx="58896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pPr>
                <a:lnSpc>
                  <a:spcPts val="137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814480" y="3678840"/>
              <a:ext cx="58896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pPr algn="r">
                <a:lnSpc>
                  <a:spcPts val="137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3641760" y="3569400"/>
              <a:ext cx="58896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pPr>
                <a:lnSpc>
                  <a:spcPts val="137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641760" y="3043080"/>
              <a:ext cx="58896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pPr>
                <a:lnSpc>
                  <a:spcPts val="137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641760" y="4111200"/>
              <a:ext cx="58896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pPr>
                <a:lnSpc>
                  <a:spcPts val="137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7" name=""/>
            <p:cNvGrpSpPr/>
            <p:nvPr/>
          </p:nvGrpSpPr>
          <p:grpSpPr>
            <a:xfrm>
              <a:off x="3400560" y="2924280"/>
              <a:ext cx="668160" cy="1201680"/>
              <a:chOff x="3400560" y="2924280"/>
              <a:chExt cx="668160" cy="1201680"/>
            </a:xfrm>
          </p:grpSpPr>
          <p:sp>
            <p:nvSpPr>
              <p:cNvPr id="1838" name=""/>
              <p:cNvSpPr/>
              <p:nvPr/>
            </p:nvSpPr>
            <p:spPr>
              <a:xfrm>
                <a:off x="3400560" y="2990880"/>
                <a:ext cx="133560" cy="534240"/>
              </a:xfrm>
              <a:prstGeom prst="upDownArrow">
                <a:avLst>
                  <a:gd name="adj1" fmla="val 100000"/>
                  <a:gd name="adj2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7280" rIns="1728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3400560" y="3525480"/>
                <a:ext cx="133560" cy="533520"/>
              </a:xfrm>
              <a:prstGeom prst="upDownArrow">
                <a:avLst>
                  <a:gd name="adj1" fmla="val 100000"/>
                  <a:gd name="adj2" fmla="val 49933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7280" rIns="1728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 rot="5400000">
                <a:off x="3667320" y="3258000"/>
                <a:ext cx="133560" cy="534600"/>
              </a:xfrm>
              <a:prstGeom prst="upDownArrow">
                <a:avLst>
                  <a:gd name="adj1" fmla="val 100000"/>
                  <a:gd name="adj2" fmla="val 50034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7280" rIns="1728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3935160" y="2990880"/>
                <a:ext cx="133560" cy="534240"/>
              </a:xfrm>
              <a:prstGeom prst="upDownArrow">
                <a:avLst>
                  <a:gd name="adj1" fmla="val 100000"/>
                  <a:gd name="adj2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7280" rIns="1728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3935160" y="3525480"/>
                <a:ext cx="133560" cy="533520"/>
              </a:xfrm>
              <a:prstGeom prst="upDownArrow">
                <a:avLst>
                  <a:gd name="adj1" fmla="val 100000"/>
                  <a:gd name="adj2" fmla="val 49933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7280" rIns="1728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rot="5400000">
                <a:off x="3667320" y="2723760"/>
                <a:ext cx="133560" cy="534600"/>
              </a:xfrm>
              <a:prstGeom prst="upDownArrow">
                <a:avLst>
                  <a:gd name="adj1" fmla="val 100000"/>
                  <a:gd name="adj2" fmla="val 50034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7280" rIns="1728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rot="5400000">
                <a:off x="3667680" y="3792240"/>
                <a:ext cx="132840" cy="534600"/>
              </a:xfrm>
              <a:prstGeom prst="upDownArrow">
                <a:avLst>
                  <a:gd name="adj1" fmla="val 100000"/>
                  <a:gd name="adj2" fmla="val 5030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7280" rIns="1728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664920" y="479160"/>
            <a:ext cx="8132760" cy="80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Example: BCD to 7-segment display controller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620280" y="1415520"/>
            <a:ext cx="7813800" cy="120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put is a 4-bit BCD digit (A, B, C, 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signals to drive a display (7 outputs C0 – C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"/>
          <p:cNvSpPr/>
          <p:nvPr/>
        </p:nvSpPr>
        <p:spPr>
          <a:xfrm>
            <a:off x="4932360" y="2003400"/>
            <a:ext cx="3795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6278400" y="1720800"/>
            <a:ext cx="0" cy="367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4964040" y="1703520"/>
            <a:ext cx="3845160" cy="37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174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2360"/>
                <a:tab algn="l" pos="2030400"/>
                <a:tab algn="l" pos="2368440"/>
                <a:tab algn="l" pos="2706840"/>
                <a:tab algn="l" pos="3044880"/>
                <a:tab algn="l" pos="338292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174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2360"/>
                <a:tab algn="l" pos="2030400"/>
                <a:tab algn="l" pos="2368440"/>
                <a:tab algn="l" pos="2706840"/>
                <a:tab algn="l" pos="3044880"/>
                <a:tab algn="l" pos="338292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174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2360"/>
                <a:tab algn="l" pos="2030400"/>
                <a:tab algn="l" pos="2368440"/>
                <a:tab algn="l" pos="2706840"/>
                <a:tab algn="l" pos="3044880"/>
                <a:tab algn="l" pos="338292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174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2360"/>
                <a:tab algn="l" pos="2030400"/>
                <a:tab algn="l" pos="2368440"/>
                <a:tab algn="l" pos="2706840"/>
                <a:tab algn="l" pos="3044880"/>
                <a:tab algn="l" pos="338292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174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2360"/>
                <a:tab algn="l" pos="2030400"/>
                <a:tab algn="l" pos="2368440"/>
                <a:tab algn="l" pos="2706840"/>
                <a:tab algn="l" pos="3044880"/>
                <a:tab algn="l" pos="338292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174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2360"/>
                <a:tab algn="l" pos="2030400"/>
                <a:tab algn="l" pos="2368440"/>
                <a:tab algn="l" pos="2706840"/>
                <a:tab algn="l" pos="3044880"/>
                <a:tab algn="l" pos="338292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174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2360"/>
                <a:tab algn="l" pos="2030400"/>
                <a:tab algn="l" pos="2368440"/>
                <a:tab algn="l" pos="2706840"/>
                <a:tab algn="l" pos="3044880"/>
                <a:tab algn="l" pos="338292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174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2360"/>
                <a:tab algn="l" pos="2030400"/>
                <a:tab algn="l" pos="2368440"/>
                <a:tab algn="l" pos="2706840"/>
                <a:tab algn="l" pos="3044880"/>
                <a:tab algn="l" pos="338292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174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2360"/>
                <a:tab algn="l" pos="2030400"/>
                <a:tab algn="l" pos="2368440"/>
                <a:tab algn="l" pos="2706840"/>
                <a:tab algn="l" pos="3044880"/>
                <a:tab algn="l" pos="338292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174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2360"/>
                <a:tab algn="l" pos="2030400"/>
                <a:tab algn="l" pos="2368440"/>
                <a:tab algn="l" pos="2706840"/>
                <a:tab algn="l" pos="3044880"/>
                <a:tab algn="l" pos="338292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174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2360"/>
                <a:tab algn="l" pos="2030400"/>
                <a:tab algn="l" pos="2368440"/>
                <a:tab algn="l" pos="2706840"/>
                <a:tab algn="l" pos="3044880"/>
                <a:tab algn="l" pos="338292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174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2360"/>
                <a:tab algn="l" pos="2030400"/>
                <a:tab algn="l" pos="2368440"/>
                <a:tab algn="l" pos="2706840"/>
                <a:tab algn="l" pos="3044880"/>
                <a:tab algn="l" pos="338292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174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2360"/>
                <a:tab algn="l" pos="2030400"/>
                <a:tab algn="l" pos="2368440"/>
                <a:tab algn="l" pos="2706840"/>
                <a:tab algn="l" pos="3044880"/>
                <a:tab algn="l" pos="338292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ze th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509760" y="1558440"/>
            <a:ext cx="4246560" cy="402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th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don’t ca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ose implementation targ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ROM, we ar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n't cares imply PAL/PLA may be good cho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 de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ize the log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 into PAL/PL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"/>
          <p:cNvSpPr/>
          <p:nvPr/>
        </p:nvSpPr>
        <p:spPr>
          <a:xfrm>
            <a:off x="4510080" y="4049640"/>
            <a:ext cx="34164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 = A + B D + C + B'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 = C' D' + C D + B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 = B + C' +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 = B' D' + C D' + B C' D +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4 = B' D' + C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5 = A + C' D' + B D' + B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6 = A + C D' + B C' +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3" name=""/>
          <p:cNvGrpSpPr/>
          <p:nvPr/>
        </p:nvGrpSpPr>
        <p:grpSpPr>
          <a:xfrm>
            <a:off x="376200" y="2179800"/>
            <a:ext cx="1652400" cy="1679040"/>
            <a:chOff x="376200" y="2179800"/>
            <a:chExt cx="1652400" cy="1679040"/>
          </a:xfrm>
        </p:grpSpPr>
        <p:sp>
          <p:nvSpPr>
            <p:cNvPr id="1854" name=""/>
            <p:cNvSpPr/>
            <p:nvPr/>
          </p:nvSpPr>
          <p:spPr>
            <a:xfrm>
              <a:off x="676440" y="2430000"/>
              <a:ext cx="1126800" cy="12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pPr>
                <a:lnSpc>
                  <a:spcPts val="22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202400" y="2430000"/>
              <a:ext cx="600840" cy="601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202400" y="2430000"/>
              <a:ext cx="600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1803600" y="2730960"/>
              <a:ext cx="0" cy="60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828440" y="2881440"/>
              <a:ext cx="20016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pPr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227600" y="2179800"/>
              <a:ext cx="57600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10560" y="2430000"/>
              <a:ext cx="591480" cy="601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902160" y="2430000"/>
              <a:ext cx="0" cy="60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>
              <a:off x="601200" y="2730960"/>
              <a:ext cx="120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902160" y="3633480"/>
              <a:ext cx="600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601560" y="3031920"/>
              <a:ext cx="0" cy="60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927000" y="3633480"/>
              <a:ext cx="5760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76200" y="3106800"/>
              <a:ext cx="226440" cy="2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503000" y="2430000"/>
              <a:ext cx="0" cy="60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1202400" y="3031920"/>
              <a:ext cx="600840" cy="60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10560" y="3031920"/>
              <a:ext cx="591480" cy="60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902160" y="3031920"/>
              <a:ext cx="0" cy="60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H="1">
              <a:off x="601200" y="3332520"/>
              <a:ext cx="120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503000" y="3031920"/>
              <a:ext cx="0" cy="60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3" name=""/>
          <p:cNvGrpSpPr/>
          <p:nvPr/>
        </p:nvGrpSpPr>
        <p:grpSpPr>
          <a:xfrm>
            <a:off x="2028960" y="2179800"/>
            <a:ext cx="1653840" cy="1679040"/>
            <a:chOff x="2028960" y="2179800"/>
            <a:chExt cx="1653840" cy="1679040"/>
          </a:xfrm>
        </p:grpSpPr>
        <p:sp>
          <p:nvSpPr>
            <p:cNvPr id="1874" name=""/>
            <p:cNvSpPr/>
            <p:nvPr/>
          </p:nvSpPr>
          <p:spPr>
            <a:xfrm>
              <a:off x="2329560" y="2430000"/>
              <a:ext cx="1127520" cy="12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pPr>
                <a:lnSpc>
                  <a:spcPts val="22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2855880" y="2430000"/>
              <a:ext cx="601560" cy="601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2855880" y="2430000"/>
              <a:ext cx="601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3457440" y="2730960"/>
              <a:ext cx="0" cy="60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3482280" y="2881440"/>
              <a:ext cx="20052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pPr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881080" y="2179800"/>
              <a:ext cx="57636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263680" y="2430000"/>
              <a:ext cx="591840" cy="601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555280" y="2430000"/>
              <a:ext cx="0" cy="60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H="1">
              <a:off x="2253960" y="2730960"/>
              <a:ext cx="120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2555280" y="3633480"/>
              <a:ext cx="60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2254320" y="3031920"/>
              <a:ext cx="0" cy="60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2580120" y="3633480"/>
              <a:ext cx="57636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028960" y="3106800"/>
              <a:ext cx="226800" cy="2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156480" y="2430000"/>
              <a:ext cx="0" cy="60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855880" y="3031920"/>
              <a:ext cx="601560" cy="60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263680" y="3031920"/>
              <a:ext cx="591840" cy="60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555280" y="3031920"/>
              <a:ext cx="0" cy="60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H="1">
              <a:off x="2253960" y="3332520"/>
              <a:ext cx="120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156480" y="3031920"/>
              <a:ext cx="0" cy="60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3" name=""/>
          <p:cNvGrpSpPr/>
          <p:nvPr/>
        </p:nvGrpSpPr>
        <p:grpSpPr>
          <a:xfrm>
            <a:off x="2028960" y="3908520"/>
            <a:ext cx="1653840" cy="1680840"/>
            <a:chOff x="2028960" y="3908520"/>
            <a:chExt cx="1653840" cy="1680840"/>
          </a:xfrm>
        </p:grpSpPr>
        <p:sp>
          <p:nvSpPr>
            <p:cNvPr id="1894" name=""/>
            <p:cNvSpPr/>
            <p:nvPr/>
          </p:nvSpPr>
          <p:spPr>
            <a:xfrm>
              <a:off x="2329560" y="4159080"/>
              <a:ext cx="1127520" cy="12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pPr>
                <a:lnSpc>
                  <a:spcPts val="22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855880" y="4159080"/>
              <a:ext cx="601560" cy="60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2855880" y="4159080"/>
              <a:ext cx="601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457440" y="446040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482280" y="4610880"/>
              <a:ext cx="200520" cy="32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pPr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881080" y="3908520"/>
              <a:ext cx="57636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263680" y="4159080"/>
              <a:ext cx="591840" cy="60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2555280" y="4159080"/>
              <a:ext cx="0" cy="60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H="1">
              <a:off x="2253960" y="4460400"/>
              <a:ext cx="120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555280" y="5363640"/>
              <a:ext cx="60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254320" y="47617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580120" y="5363640"/>
              <a:ext cx="5763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028960" y="4836600"/>
              <a:ext cx="2268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156480" y="4159080"/>
              <a:ext cx="0" cy="60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855880" y="4761720"/>
              <a:ext cx="601560" cy="601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263680" y="4761720"/>
              <a:ext cx="591840" cy="601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555280" y="4761720"/>
              <a:ext cx="0" cy="60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H="1">
              <a:off x="2253960" y="5062320"/>
              <a:ext cx="120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156480" y="4761720"/>
              <a:ext cx="0" cy="60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3" name=""/>
          <p:cNvGrpSpPr/>
          <p:nvPr/>
        </p:nvGrpSpPr>
        <p:grpSpPr>
          <a:xfrm>
            <a:off x="3757680" y="2179800"/>
            <a:ext cx="1653840" cy="1679040"/>
            <a:chOff x="3757680" y="2179800"/>
            <a:chExt cx="1653840" cy="1679040"/>
          </a:xfrm>
        </p:grpSpPr>
        <p:sp>
          <p:nvSpPr>
            <p:cNvPr id="1914" name=""/>
            <p:cNvSpPr/>
            <p:nvPr/>
          </p:nvSpPr>
          <p:spPr>
            <a:xfrm>
              <a:off x="4058280" y="2430000"/>
              <a:ext cx="1127520" cy="12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pPr>
                <a:lnSpc>
                  <a:spcPts val="22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584600" y="2430000"/>
              <a:ext cx="601560" cy="601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4584600" y="2430000"/>
              <a:ext cx="601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186160" y="2730960"/>
              <a:ext cx="0" cy="60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211000" y="2881440"/>
              <a:ext cx="20052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pPr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4609800" y="2179800"/>
              <a:ext cx="57636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992400" y="2430000"/>
              <a:ext cx="591840" cy="601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284000" y="2430000"/>
              <a:ext cx="0" cy="60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 flipH="1">
              <a:off x="3982680" y="2730960"/>
              <a:ext cx="120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284000" y="3633480"/>
              <a:ext cx="60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983040" y="3031920"/>
              <a:ext cx="0" cy="60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308840" y="3633480"/>
              <a:ext cx="57636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757680" y="3106800"/>
              <a:ext cx="226800" cy="2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885200" y="2430000"/>
              <a:ext cx="0" cy="60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584600" y="3031920"/>
              <a:ext cx="601560" cy="60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992400" y="3031920"/>
              <a:ext cx="591840" cy="60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284000" y="3031920"/>
              <a:ext cx="0" cy="60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 flipH="1">
              <a:off x="3982680" y="3332520"/>
              <a:ext cx="120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4885200" y="3031920"/>
              <a:ext cx="0" cy="60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3" name=""/>
          <p:cNvGrpSpPr/>
          <p:nvPr/>
        </p:nvGrpSpPr>
        <p:grpSpPr>
          <a:xfrm>
            <a:off x="5486400" y="2179800"/>
            <a:ext cx="1653840" cy="1679040"/>
            <a:chOff x="5486400" y="2179800"/>
            <a:chExt cx="1653840" cy="1679040"/>
          </a:xfrm>
        </p:grpSpPr>
        <p:sp>
          <p:nvSpPr>
            <p:cNvPr id="1934" name=""/>
            <p:cNvSpPr/>
            <p:nvPr/>
          </p:nvSpPr>
          <p:spPr>
            <a:xfrm>
              <a:off x="5787000" y="2430000"/>
              <a:ext cx="1127520" cy="12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pPr>
                <a:lnSpc>
                  <a:spcPts val="22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0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6313320" y="2430000"/>
              <a:ext cx="601560" cy="601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313320" y="2430000"/>
              <a:ext cx="601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914880" y="2730960"/>
              <a:ext cx="0" cy="60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6939720" y="2881440"/>
              <a:ext cx="20052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pPr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6338520" y="2179800"/>
              <a:ext cx="57636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721120" y="2430000"/>
              <a:ext cx="591840" cy="601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6012720" y="2430000"/>
              <a:ext cx="0" cy="60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 flipH="1">
              <a:off x="5711400" y="2730960"/>
              <a:ext cx="120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012720" y="3633480"/>
              <a:ext cx="60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5711760" y="3031920"/>
              <a:ext cx="0" cy="60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037560" y="3633480"/>
              <a:ext cx="57636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486400" y="3106800"/>
              <a:ext cx="226800" cy="2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613920" y="2430000"/>
              <a:ext cx="0" cy="60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6313320" y="3031920"/>
              <a:ext cx="601560" cy="60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5721120" y="3031920"/>
              <a:ext cx="591840" cy="60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012720" y="3031920"/>
              <a:ext cx="0" cy="60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H="1">
              <a:off x="5711400" y="3332520"/>
              <a:ext cx="120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6613920" y="3031920"/>
              <a:ext cx="0" cy="60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3" name=""/>
          <p:cNvGrpSpPr/>
          <p:nvPr/>
        </p:nvGrpSpPr>
        <p:grpSpPr>
          <a:xfrm>
            <a:off x="7140600" y="2179800"/>
            <a:ext cx="1652040" cy="1679040"/>
            <a:chOff x="7140600" y="2179800"/>
            <a:chExt cx="1652040" cy="1679040"/>
          </a:xfrm>
        </p:grpSpPr>
        <p:sp>
          <p:nvSpPr>
            <p:cNvPr id="1954" name=""/>
            <p:cNvSpPr/>
            <p:nvPr/>
          </p:nvSpPr>
          <p:spPr>
            <a:xfrm>
              <a:off x="7440840" y="2430000"/>
              <a:ext cx="1126440" cy="12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pPr>
                <a:lnSpc>
                  <a:spcPts val="22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0    X    0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0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7966440" y="2430000"/>
              <a:ext cx="600840" cy="601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7966440" y="2430000"/>
              <a:ext cx="600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8567640" y="2730960"/>
              <a:ext cx="0" cy="60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8592480" y="2881440"/>
              <a:ext cx="20016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pPr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991640" y="2179800"/>
              <a:ext cx="5756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7374960" y="2430000"/>
              <a:ext cx="591480" cy="601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7666200" y="2430000"/>
              <a:ext cx="0" cy="60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flipH="1">
              <a:off x="7365600" y="2730960"/>
              <a:ext cx="12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7666200" y="3633480"/>
              <a:ext cx="60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7365600" y="3031920"/>
              <a:ext cx="0" cy="60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7691040" y="3633480"/>
              <a:ext cx="57564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7140600" y="3106800"/>
              <a:ext cx="226440" cy="2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8267040" y="2430000"/>
              <a:ext cx="0" cy="60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7966440" y="3031920"/>
              <a:ext cx="600840" cy="60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7374960" y="3031920"/>
              <a:ext cx="591480" cy="60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7666200" y="3031920"/>
              <a:ext cx="0" cy="60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H="1">
              <a:off x="7365600" y="3332520"/>
              <a:ext cx="12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8267040" y="3031920"/>
              <a:ext cx="0" cy="60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3" name=""/>
          <p:cNvGrpSpPr/>
          <p:nvPr/>
        </p:nvGrpSpPr>
        <p:grpSpPr>
          <a:xfrm>
            <a:off x="376200" y="3908520"/>
            <a:ext cx="1652400" cy="1680840"/>
            <a:chOff x="376200" y="3908520"/>
            <a:chExt cx="1652400" cy="1680840"/>
          </a:xfrm>
        </p:grpSpPr>
        <p:sp>
          <p:nvSpPr>
            <p:cNvPr id="1974" name=""/>
            <p:cNvSpPr/>
            <p:nvPr/>
          </p:nvSpPr>
          <p:spPr>
            <a:xfrm>
              <a:off x="676440" y="4159080"/>
              <a:ext cx="1126800" cy="12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pPr>
                <a:lnSpc>
                  <a:spcPts val="22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0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202400" y="4159080"/>
              <a:ext cx="600840" cy="60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202400" y="4159080"/>
              <a:ext cx="600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1803600" y="446040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1828440" y="4610880"/>
              <a:ext cx="200160" cy="32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pPr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227600" y="3908520"/>
              <a:ext cx="57600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610560" y="4159080"/>
              <a:ext cx="591480" cy="60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902160" y="4159080"/>
              <a:ext cx="0" cy="60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flipH="1">
              <a:off x="601200" y="4460400"/>
              <a:ext cx="120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902160" y="5363640"/>
              <a:ext cx="600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601560" y="47617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927000" y="5363640"/>
              <a:ext cx="57600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76200" y="4836600"/>
              <a:ext cx="226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1503000" y="4159080"/>
              <a:ext cx="0" cy="60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202400" y="4761720"/>
              <a:ext cx="600840" cy="601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610560" y="4761720"/>
              <a:ext cx="591480" cy="601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902160" y="4761720"/>
              <a:ext cx="0" cy="60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H="1">
              <a:off x="601200" y="5062320"/>
              <a:ext cx="120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503000" y="4761720"/>
              <a:ext cx="0" cy="60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m-of-products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 unique product terms if we minimize individu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"/>
          <p:cNvSpPr/>
          <p:nvPr/>
        </p:nvSpPr>
        <p:spPr>
          <a:xfrm>
            <a:off x="5153040" y="4308480"/>
            <a:ext cx="364176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 = BC'D + CD + B'D' + BCD' +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 = B'D + C'D' + CD + B'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 = B'D + BC'D + C'D' + CD + BC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 = BC'D + B'D + B'D' + BC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4 = B'D' + BC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5 = BC'D + C'D' + A + BC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6 = B'C + BC' + BCD' +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1017720" y="4308480"/>
            <a:ext cx="283032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 = A + BD + C + B'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 = C'D' + CD + B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 = B + C' +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 = B'D' + CD' + BC'D + B'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4 = B'D' + C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5 = A + C'D' + BD' + B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6 = A + CD' + BC' + B'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1212840" y="2776680"/>
            <a:ext cx="6508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8" name=""/>
          <p:cNvGrpSpPr/>
          <p:nvPr/>
        </p:nvGrpSpPr>
        <p:grpSpPr>
          <a:xfrm>
            <a:off x="5797440" y="2549520"/>
            <a:ext cx="1653840" cy="1680840"/>
            <a:chOff x="5797440" y="2549520"/>
            <a:chExt cx="1653840" cy="1680840"/>
          </a:xfrm>
        </p:grpSpPr>
        <p:sp>
          <p:nvSpPr>
            <p:cNvPr id="1999" name=""/>
            <p:cNvSpPr/>
            <p:nvPr/>
          </p:nvSpPr>
          <p:spPr>
            <a:xfrm>
              <a:off x="6098040" y="2800080"/>
              <a:ext cx="1127520" cy="12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pPr>
                <a:lnSpc>
                  <a:spcPts val="22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6624360" y="2800080"/>
              <a:ext cx="601560" cy="60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624360" y="2800080"/>
              <a:ext cx="601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7225920" y="310140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7250760" y="3251880"/>
              <a:ext cx="200520" cy="32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pPr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6649560" y="2549520"/>
              <a:ext cx="57636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6032160" y="2800080"/>
              <a:ext cx="591840" cy="60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6323760" y="2800080"/>
              <a:ext cx="0" cy="60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 flipH="1">
              <a:off x="6022440" y="3101400"/>
              <a:ext cx="120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323760" y="4004640"/>
              <a:ext cx="60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6022800" y="34027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348600" y="4004640"/>
              <a:ext cx="5763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797440" y="3477600"/>
              <a:ext cx="2268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6924960" y="2800080"/>
              <a:ext cx="0" cy="60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624360" y="3402720"/>
              <a:ext cx="601560" cy="601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6032160" y="3402720"/>
              <a:ext cx="591840" cy="601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6323760" y="3402720"/>
              <a:ext cx="0" cy="60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 flipH="1">
              <a:off x="6022440" y="3703320"/>
              <a:ext cx="120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924960" y="3402720"/>
              <a:ext cx="0" cy="60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8" name=""/>
          <p:cNvSpPr/>
          <p:nvPr/>
        </p:nvSpPr>
        <p:spPr>
          <a:xfrm>
            <a:off x="6399360" y="3152880"/>
            <a:ext cx="450720" cy="225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6097680" y="3452760"/>
            <a:ext cx="1052280" cy="225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6097680" y="2851200"/>
            <a:ext cx="1052280" cy="225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6399360" y="3754440"/>
            <a:ext cx="450720" cy="225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7000920" y="3152880"/>
            <a:ext cx="225360" cy="525240"/>
          </a:xfrm>
          <a:custGeom>
            <a:avLst/>
            <a:gdLst>
              <a:gd name="textAreaLeft" fmla="*/ 66240 w 225360"/>
              <a:gd name="textAreaRight" fmla="*/ 225720 w 225360"/>
              <a:gd name="textAreaTop" fmla="*/ 26280 h 525240"/>
              <a:gd name="textAreaBottom" fmla="*/ 498960 h 525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93"/>
                  <a:pt x="0" y="2186"/>
                </a:cubicBezTo>
                <a:lnTo>
                  <a:pt x="0" y="19414"/>
                </a:lnTo>
                <a:cubicBezTo>
                  <a:pt x="0" y="20507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 flipH="1">
            <a:off x="6022080" y="3152880"/>
            <a:ext cx="225720" cy="525240"/>
          </a:xfrm>
          <a:custGeom>
            <a:avLst/>
            <a:gdLst>
              <a:gd name="textAreaLeft" fmla="*/ 65880 w 225720"/>
              <a:gd name="textAreaRight" fmla="*/ 225720 w 225720"/>
              <a:gd name="textAreaTop" fmla="*/ 26280 h 525240"/>
              <a:gd name="textAreaBottom" fmla="*/ 498960 h 525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93"/>
                  <a:pt x="0" y="2186"/>
                </a:cubicBezTo>
                <a:lnTo>
                  <a:pt x="0" y="19414"/>
                </a:lnTo>
                <a:cubicBezTo>
                  <a:pt x="0" y="20507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4" name=""/>
          <p:cNvGrpSpPr/>
          <p:nvPr/>
        </p:nvGrpSpPr>
        <p:grpSpPr>
          <a:xfrm>
            <a:off x="1363680" y="2549520"/>
            <a:ext cx="1652040" cy="1680840"/>
            <a:chOff x="1363680" y="2549520"/>
            <a:chExt cx="1652040" cy="1680840"/>
          </a:xfrm>
        </p:grpSpPr>
        <p:sp>
          <p:nvSpPr>
            <p:cNvPr id="2025" name=""/>
            <p:cNvSpPr/>
            <p:nvPr/>
          </p:nvSpPr>
          <p:spPr>
            <a:xfrm>
              <a:off x="1663920" y="2800080"/>
              <a:ext cx="1126440" cy="12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pPr>
                <a:lnSpc>
                  <a:spcPts val="22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189520" y="2800080"/>
              <a:ext cx="600840" cy="60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2189520" y="2800080"/>
              <a:ext cx="600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2790720" y="310140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2815560" y="3251880"/>
              <a:ext cx="200160" cy="32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pPr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2214720" y="2549520"/>
              <a:ext cx="57564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1598040" y="2800080"/>
              <a:ext cx="591480" cy="60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889280" y="2800080"/>
              <a:ext cx="0" cy="60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 flipH="1">
              <a:off x="1588680" y="3101400"/>
              <a:ext cx="12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1889280" y="4004640"/>
              <a:ext cx="60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1588680" y="34027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1914120" y="4004640"/>
              <a:ext cx="57564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1363680" y="3477600"/>
              <a:ext cx="226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2490120" y="2800080"/>
              <a:ext cx="0" cy="60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2189520" y="3402720"/>
              <a:ext cx="600840" cy="601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598040" y="3402720"/>
              <a:ext cx="591480" cy="601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889280" y="3402720"/>
              <a:ext cx="0" cy="60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 flipH="1">
              <a:off x="1588680" y="3703320"/>
              <a:ext cx="12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2490120" y="3402720"/>
              <a:ext cx="0" cy="60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4" name=""/>
          <p:cNvSpPr/>
          <p:nvPr/>
        </p:nvSpPr>
        <p:spPr>
          <a:xfrm>
            <a:off x="1914480" y="2851200"/>
            <a:ext cx="525600" cy="1128600"/>
          </a:xfrm>
          <a:custGeom>
            <a:avLst/>
            <a:gdLst>
              <a:gd name="textAreaLeft" fmla="*/ 25560 w 525600"/>
              <a:gd name="textAreaRight" fmla="*/ 500040 w 525600"/>
              <a:gd name="textAreaTop" fmla="*/ 25560 h 1128600"/>
              <a:gd name="textAreaBottom" fmla="*/ 1103040 h 1128600"/>
            </a:gdLst>
            <a:ahLst/>
            <a:rect l="textAreaLeft" t="textAreaTop" r="textAreaRight" b="textAreaBottom"/>
            <a:pathLst>
              <a:path w="21600" h="46364">
                <a:moveTo>
                  <a:pt x="3600" y="0"/>
                </a:moveTo>
                <a:arcTo wR="3600" hR="3600" stAng="16200000" swAng="-5400000"/>
                <a:lnTo>
                  <a:pt x="0" y="42764"/>
                </a:lnTo>
                <a:arcTo wR="3600" hR="3600" stAng="10800000" swAng="-5400000"/>
                <a:lnTo>
                  <a:pt x="18000" y="463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 rot="16200000">
            <a:off x="1914480" y="2550960"/>
            <a:ext cx="527040" cy="1127160"/>
          </a:xfrm>
          <a:custGeom>
            <a:avLst/>
            <a:gdLst>
              <a:gd name="textAreaLeft" fmla="*/ 25560 w 527040"/>
              <a:gd name="textAreaRight" fmla="*/ 501480 w 527040"/>
              <a:gd name="textAreaTop" fmla="*/ 25560 h 1127160"/>
              <a:gd name="textAreaBottom" fmla="*/ 1101600 h 1127160"/>
            </a:gdLst>
            <a:ahLst/>
            <a:rect l="textAreaLeft" t="textAreaTop" r="textAreaRight" b="textAreaBottom"/>
            <a:pathLst>
              <a:path w="21600" h="46178">
                <a:moveTo>
                  <a:pt x="3600" y="0"/>
                </a:moveTo>
                <a:arcTo wR="3600" hR="3600" stAng="16200000" swAng="-5400000"/>
                <a:lnTo>
                  <a:pt x="0" y="42578"/>
                </a:lnTo>
                <a:arcTo wR="3600" hR="3600" stAng="10800000" swAng="-5400000"/>
                <a:lnTo>
                  <a:pt x="18000" y="461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 rot="16200000">
            <a:off x="1915560" y="2851560"/>
            <a:ext cx="525240" cy="1127160"/>
          </a:xfrm>
          <a:custGeom>
            <a:avLst/>
            <a:gdLst>
              <a:gd name="textAreaLeft" fmla="*/ 25560 w 525240"/>
              <a:gd name="textAreaRight" fmla="*/ 499680 w 525240"/>
              <a:gd name="textAreaTop" fmla="*/ 25560 h 1127160"/>
              <a:gd name="textAreaBottom" fmla="*/ 1101600 h 1127160"/>
            </a:gdLst>
            <a:ahLst/>
            <a:rect l="textAreaLeft" t="textAreaTop" r="textAreaRight" b="textAreaBottom"/>
            <a:pathLst>
              <a:path w="21600" h="46336">
                <a:moveTo>
                  <a:pt x="3600" y="0"/>
                </a:moveTo>
                <a:arcTo wR="3600" hR="3600" stAng="16200000" swAng="-5400000"/>
                <a:lnTo>
                  <a:pt x="0" y="42736"/>
                </a:lnTo>
                <a:arcTo wR="3600" hR="3600" stAng="10800000" swAng="-5400000"/>
                <a:lnTo>
                  <a:pt x="18000" y="463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5646600" y="2776680"/>
            <a:ext cx="652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SOP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125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do better than 15 product ter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 terms among output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nly 9 unique product te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77040" indent="-20556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ch term not necessarily minim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79400" y="3421080"/>
            <a:ext cx="5650200" cy="2282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3848040"/>
            <a:ext cx="1716120" cy="151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62480" y="3848040"/>
            <a:ext cx="1716120" cy="151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40160" y="3038400"/>
            <a:ext cx="8650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pPr algn="ctr">
              <a:lnSpc>
                <a:spcPts val="20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•   •   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57840" y="5684760"/>
            <a:ext cx="10764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pPr algn="ctr">
              <a:lnSpc>
                <a:spcPts val="20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•   •   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90840" y="3414600"/>
            <a:ext cx="91440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pPr algn="ctr">
              <a:lnSpc>
                <a:spcPts val="2174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07000" y="5334120"/>
            <a:ext cx="11653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pPr algn="ctr">
              <a:lnSpc>
                <a:spcPts val="2174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78120" y="4430880"/>
            <a:ext cx="14400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pPr algn="ctr">
              <a:lnSpc>
                <a:spcPts val="2174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duc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9240" y="4092480"/>
            <a:ext cx="107784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pPr algn="ctr">
              <a:lnSpc>
                <a:spcPts val="2174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81480" y="4205160"/>
            <a:ext cx="182880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pPr algn="ctr">
              <a:lnSpc>
                <a:spcPts val="2174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54280" y="3057480"/>
            <a:ext cx="0" cy="77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27120" y="3057480"/>
            <a:ext cx="0" cy="77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89080" y="3057480"/>
            <a:ext cx="0" cy="77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9440" y="5364000"/>
            <a:ext cx="0" cy="777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32640" y="5364000"/>
            <a:ext cx="0" cy="777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4240" y="5364000"/>
            <a:ext cx="0" cy="777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08360" y="4118040"/>
            <a:ext cx="155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7280" rIns="1728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08360" y="4343400"/>
            <a:ext cx="155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7280" rIns="1728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08360" y="5132520"/>
            <a:ext cx="155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7280" rIns="1728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able logic (PLAs &amp; PALs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pt: Large array of uncommitted AND/OR g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tually NAND/NOR g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program the array by making or breaking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grammable block for sum-of-products log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"/>
          <p:cNvSpPr/>
          <p:nvPr/>
        </p:nvSpPr>
        <p:spPr>
          <a:xfrm>
            <a:off x="8364600" y="2185920"/>
            <a:ext cx="54144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25920" bIns="25920" anchor="t">
            <a:noAutofit/>
          </a:bodyPr>
          <a:p>
            <a:pPr>
              <a:lnSpc>
                <a:spcPts val="1573"/>
              </a:lnSpc>
              <a:spcBef>
                <a:spcPts val="1188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spcBef>
                <a:spcPts val="1188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'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spcBef>
                <a:spcPts val="1188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'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spcBef>
                <a:spcPts val="1188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C'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spcBef>
                <a:spcPts val="1188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'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spcBef>
                <a:spcPts val="1188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spcBef>
                <a:spcPts val="1188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'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spcBef>
                <a:spcPts val="1188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spcBef>
                <a:spcPts val="1188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C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4708440" y="2168640"/>
            <a:ext cx="0" cy="349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4583160" y="2093760"/>
            <a:ext cx="0" cy="357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4295880" y="2093760"/>
            <a:ext cx="0" cy="357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4132440" y="2168640"/>
            <a:ext cx="0" cy="349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719520" y="2093760"/>
            <a:ext cx="0" cy="357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844800" y="2168640"/>
            <a:ext cx="0" cy="349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4978440" y="322740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4978440" y="3529080"/>
            <a:ext cx="29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 flipV="1">
            <a:off x="4971960" y="3220560"/>
            <a:ext cx="0" cy="31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5128200" y="3235320"/>
            <a:ext cx="288000" cy="31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5127840" y="3221280"/>
            <a:ext cx="288360" cy="3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587760" y="3378240"/>
            <a:ext cx="136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5416560" y="3378240"/>
            <a:ext cx="284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 flipH="1">
            <a:off x="4640040" y="1992240"/>
            <a:ext cx="137880" cy="1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4527720" y="1992240"/>
            <a:ext cx="112680" cy="1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 flipH="1">
            <a:off x="4514760" y="1986120"/>
            <a:ext cx="26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4689360" y="210492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4646520" y="186696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4978440" y="213660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4978440" y="2438280"/>
            <a:ext cx="29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 flipV="1">
            <a:off x="4971960" y="2130120"/>
            <a:ext cx="0" cy="31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5128200" y="2144880"/>
            <a:ext cx="288000" cy="3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5127840" y="2130120"/>
            <a:ext cx="288360" cy="31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3587760" y="2287440"/>
            <a:ext cx="136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5416560" y="2287440"/>
            <a:ext cx="281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4978440" y="250020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4978440" y="2801880"/>
            <a:ext cx="29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 flipV="1">
            <a:off x="4971960" y="2493720"/>
            <a:ext cx="0" cy="31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5128200" y="2508120"/>
            <a:ext cx="288000" cy="31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5127840" y="2493720"/>
            <a:ext cx="288360" cy="31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587760" y="2651040"/>
            <a:ext cx="136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5416560" y="2651040"/>
            <a:ext cx="284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978440" y="286380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4978440" y="3165480"/>
            <a:ext cx="29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 flipV="1">
            <a:off x="4971960" y="2857320"/>
            <a:ext cx="0" cy="31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5128200" y="2871720"/>
            <a:ext cx="288000" cy="31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5127840" y="2857320"/>
            <a:ext cx="288360" cy="31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3587760" y="3014640"/>
            <a:ext cx="136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5416560" y="3014640"/>
            <a:ext cx="284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 flipH="1">
            <a:off x="4351320" y="1992240"/>
            <a:ext cx="138240" cy="1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4238640" y="1992240"/>
            <a:ext cx="112680" cy="1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 flipH="1">
            <a:off x="4226040" y="1986120"/>
            <a:ext cx="26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4402080" y="2104920"/>
            <a:ext cx="4932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4357800" y="186696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4421160" y="2168640"/>
            <a:ext cx="0" cy="351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 flipH="1">
            <a:off x="4064040" y="1992240"/>
            <a:ext cx="138240" cy="1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3951360" y="1992240"/>
            <a:ext cx="112680" cy="1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 flipH="1">
            <a:off x="3938760" y="1986120"/>
            <a:ext cx="26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4113360" y="210492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4070520" y="186696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4006800" y="2093760"/>
            <a:ext cx="0" cy="357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 flipH="1">
            <a:off x="3774960" y="1992240"/>
            <a:ext cx="138240" cy="1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3662280" y="1992240"/>
            <a:ext cx="112680" cy="1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 flipH="1">
            <a:off x="3649680" y="1986120"/>
            <a:ext cx="26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825720" y="2104920"/>
            <a:ext cx="4932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781440" y="186696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4978440" y="357840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4978440" y="3879720"/>
            <a:ext cx="29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 flipV="1">
            <a:off x="4971960" y="3571560"/>
            <a:ext cx="0" cy="31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5128200" y="3586320"/>
            <a:ext cx="288000" cy="3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5127840" y="3571560"/>
            <a:ext cx="288360" cy="31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3587760" y="3728880"/>
            <a:ext cx="136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5416560" y="3728880"/>
            <a:ext cx="28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4978440" y="392904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4978440" y="4230720"/>
            <a:ext cx="29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 flipV="1">
            <a:off x="4971960" y="3922560"/>
            <a:ext cx="0" cy="31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5128200" y="3936960"/>
            <a:ext cx="288000" cy="31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5127840" y="3922560"/>
            <a:ext cx="288360" cy="31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3587760" y="4079880"/>
            <a:ext cx="136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5416560" y="4079880"/>
            <a:ext cx="284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978440" y="428004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978440" y="4581360"/>
            <a:ext cx="29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 flipV="1">
            <a:off x="4971960" y="4274640"/>
            <a:ext cx="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5128200" y="4287960"/>
            <a:ext cx="288000" cy="3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5127840" y="4273920"/>
            <a:ext cx="288360" cy="3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3587760" y="4430880"/>
            <a:ext cx="136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5416560" y="4430880"/>
            <a:ext cx="284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4978440" y="463248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4978440" y="4932360"/>
            <a:ext cx="29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 flipV="1">
            <a:off x="4971960" y="4625640"/>
            <a:ext cx="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5128200" y="4640400"/>
            <a:ext cx="28800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5127840" y="4624200"/>
            <a:ext cx="288360" cy="31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3587760" y="4781520"/>
            <a:ext cx="136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5416560" y="4781520"/>
            <a:ext cx="281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4978440" y="498312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4978440" y="5283360"/>
            <a:ext cx="29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 flipV="1">
            <a:off x="4971960" y="4976280"/>
            <a:ext cx="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5128200" y="4991040"/>
            <a:ext cx="28800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5127840" y="4975560"/>
            <a:ext cx="288360" cy="3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3587760" y="5132520"/>
            <a:ext cx="136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5416560" y="5132520"/>
            <a:ext cx="281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4978440" y="533412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4978440" y="5634000"/>
            <a:ext cx="29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 flipV="1">
            <a:off x="4971960" y="5327280"/>
            <a:ext cx="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5128200" y="5342040"/>
            <a:ext cx="28800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5127840" y="5329440"/>
            <a:ext cx="28836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3587760" y="5484960"/>
            <a:ext cx="136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5416560" y="5484960"/>
            <a:ext cx="284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5661000" y="2093760"/>
            <a:ext cx="0" cy="355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0" name=""/>
          <p:cNvGrpSpPr/>
          <p:nvPr/>
        </p:nvGrpSpPr>
        <p:grpSpPr>
          <a:xfrm>
            <a:off x="5516280" y="5128200"/>
            <a:ext cx="302760" cy="1051560"/>
            <a:chOff x="5516280" y="5128200"/>
            <a:chExt cx="302760" cy="1051560"/>
          </a:xfrm>
        </p:grpSpPr>
        <p:sp>
          <p:nvSpPr>
            <p:cNvPr id="2151" name=""/>
            <p:cNvSpPr/>
            <p:nvPr/>
          </p:nvSpPr>
          <p:spPr>
            <a:xfrm>
              <a:off x="5541480" y="5528880"/>
              <a:ext cx="263160" cy="13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5516280" y="5128200"/>
              <a:ext cx="288360" cy="93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5530680" y="5178600"/>
              <a:ext cx="28836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5530680" y="5528880"/>
              <a:ext cx="288360" cy="13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660640" y="606708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6" name=""/>
          <p:cNvSpPr/>
          <p:nvPr/>
        </p:nvSpPr>
        <p:spPr>
          <a:xfrm>
            <a:off x="6012000" y="2093760"/>
            <a:ext cx="0" cy="355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7" name=""/>
          <p:cNvGrpSpPr/>
          <p:nvPr/>
        </p:nvGrpSpPr>
        <p:grpSpPr>
          <a:xfrm>
            <a:off x="5868000" y="5128200"/>
            <a:ext cx="301320" cy="1051560"/>
            <a:chOff x="5868000" y="5128200"/>
            <a:chExt cx="301320" cy="1051560"/>
          </a:xfrm>
        </p:grpSpPr>
        <p:sp>
          <p:nvSpPr>
            <p:cNvPr id="2158" name=""/>
            <p:cNvSpPr/>
            <p:nvPr/>
          </p:nvSpPr>
          <p:spPr>
            <a:xfrm>
              <a:off x="5892480" y="5528880"/>
              <a:ext cx="263160" cy="13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868000" y="5128200"/>
              <a:ext cx="287640" cy="93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881680" y="5178600"/>
              <a:ext cx="28764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881680" y="5528880"/>
              <a:ext cx="287640" cy="13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6012000" y="606708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3" name=""/>
          <p:cNvSpPr/>
          <p:nvPr/>
        </p:nvSpPr>
        <p:spPr>
          <a:xfrm>
            <a:off x="6362640" y="2093760"/>
            <a:ext cx="0" cy="355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4" name=""/>
          <p:cNvGrpSpPr/>
          <p:nvPr/>
        </p:nvGrpSpPr>
        <p:grpSpPr>
          <a:xfrm>
            <a:off x="6218640" y="5128200"/>
            <a:ext cx="300240" cy="1051560"/>
            <a:chOff x="6218640" y="5128200"/>
            <a:chExt cx="300240" cy="1051560"/>
          </a:xfrm>
        </p:grpSpPr>
        <p:sp>
          <p:nvSpPr>
            <p:cNvPr id="2165" name=""/>
            <p:cNvSpPr/>
            <p:nvPr/>
          </p:nvSpPr>
          <p:spPr>
            <a:xfrm>
              <a:off x="6243840" y="5528880"/>
              <a:ext cx="261000" cy="13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6218640" y="5128200"/>
              <a:ext cx="286200" cy="93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6232680" y="5178600"/>
              <a:ext cx="28620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6232680" y="5528880"/>
              <a:ext cx="286200" cy="13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6361920" y="606708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0" name=""/>
          <p:cNvSpPr/>
          <p:nvPr/>
        </p:nvSpPr>
        <p:spPr>
          <a:xfrm>
            <a:off x="6726240" y="2093760"/>
            <a:ext cx="0" cy="355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1" name=""/>
          <p:cNvGrpSpPr/>
          <p:nvPr/>
        </p:nvGrpSpPr>
        <p:grpSpPr>
          <a:xfrm>
            <a:off x="6582240" y="5128200"/>
            <a:ext cx="299880" cy="1051560"/>
            <a:chOff x="6582240" y="5128200"/>
            <a:chExt cx="299880" cy="1051560"/>
          </a:xfrm>
        </p:grpSpPr>
        <p:sp>
          <p:nvSpPr>
            <p:cNvPr id="2172" name=""/>
            <p:cNvSpPr/>
            <p:nvPr/>
          </p:nvSpPr>
          <p:spPr>
            <a:xfrm>
              <a:off x="6607080" y="5528880"/>
              <a:ext cx="261360" cy="13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6582240" y="5128200"/>
              <a:ext cx="286200" cy="93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6595920" y="5178600"/>
              <a:ext cx="28620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6595920" y="5528880"/>
              <a:ext cx="286200" cy="13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6725520" y="606708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7" name=""/>
          <p:cNvSpPr/>
          <p:nvPr/>
        </p:nvSpPr>
        <p:spPr>
          <a:xfrm>
            <a:off x="7088040" y="2093760"/>
            <a:ext cx="0" cy="355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8" name=""/>
          <p:cNvGrpSpPr/>
          <p:nvPr/>
        </p:nvGrpSpPr>
        <p:grpSpPr>
          <a:xfrm>
            <a:off x="6945840" y="5128200"/>
            <a:ext cx="299880" cy="1051560"/>
            <a:chOff x="6945840" y="5128200"/>
            <a:chExt cx="299880" cy="1051560"/>
          </a:xfrm>
        </p:grpSpPr>
        <p:sp>
          <p:nvSpPr>
            <p:cNvPr id="2179" name=""/>
            <p:cNvSpPr/>
            <p:nvPr/>
          </p:nvSpPr>
          <p:spPr>
            <a:xfrm>
              <a:off x="6970680" y="5528880"/>
              <a:ext cx="261360" cy="13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6945840" y="5128200"/>
              <a:ext cx="286200" cy="93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6959520" y="5178600"/>
              <a:ext cx="28620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6959520" y="5528880"/>
              <a:ext cx="286200" cy="13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7089120" y="606708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4" name=""/>
          <p:cNvSpPr/>
          <p:nvPr/>
        </p:nvSpPr>
        <p:spPr>
          <a:xfrm>
            <a:off x="7439040" y="2093760"/>
            <a:ext cx="0" cy="355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5" name=""/>
          <p:cNvGrpSpPr/>
          <p:nvPr/>
        </p:nvGrpSpPr>
        <p:grpSpPr>
          <a:xfrm>
            <a:off x="7294320" y="5128200"/>
            <a:ext cx="302760" cy="1051560"/>
            <a:chOff x="7294320" y="5128200"/>
            <a:chExt cx="302760" cy="1051560"/>
          </a:xfrm>
        </p:grpSpPr>
        <p:sp>
          <p:nvSpPr>
            <p:cNvPr id="2186" name=""/>
            <p:cNvSpPr/>
            <p:nvPr/>
          </p:nvSpPr>
          <p:spPr>
            <a:xfrm>
              <a:off x="7320240" y="5528880"/>
              <a:ext cx="262440" cy="13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7294320" y="5128200"/>
              <a:ext cx="288360" cy="93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7308720" y="5178600"/>
              <a:ext cx="28836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7308720" y="5528880"/>
              <a:ext cx="288360" cy="13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7438680" y="606708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1" name=""/>
          <p:cNvSpPr/>
          <p:nvPr/>
        </p:nvSpPr>
        <p:spPr>
          <a:xfrm>
            <a:off x="7790040" y="2093760"/>
            <a:ext cx="0" cy="355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2" name=""/>
          <p:cNvGrpSpPr/>
          <p:nvPr/>
        </p:nvGrpSpPr>
        <p:grpSpPr>
          <a:xfrm>
            <a:off x="7645320" y="5128200"/>
            <a:ext cx="302760" cy="1051560"/>
            <a:chOff x="7645320" y="5128200"/>
            <a:chExt cx="302760" cy="1051560"/>
          </a:xfrm>
        </p:grpSpPr>
        <p:sp>
          <p:nvSpPr>
            <p:cNvPr id="2193" name=""/>
            <p:cNvSpPr/>
            <p:nvPr/>
          </p:nvSpPr>
          <p:spPr>
            <a:xfrm>
              <a:off x="7671240" y="5528880"/>
              <a:ext cx="262440" cy="13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7645320" y="5128200"/>
              <a:ext cx="288360" cy="93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7659720" y="5178600"/>
              <a:ext cx="28836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7659720" y="5528880"/>
              <a:ext cx="288360" cy="13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7789680" y="606708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8" name=""/>
          <p:cNvSpPr/>
          <p:nvPr/>
        </p:nvSpPr>
        <p:spPr>
          <a:xfrm>
            <a:off x="8153280" y="2093760"/>
            <a:ext cx="0" cy="355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9" name=""/>
          <p:cNvGrpSpPr/>
          <p:nvPr/>
        </p:nvGrpSpPr>
        <p:grpSpPr>
          <a:xfrm>
            <a:off x="8008920" y="5128200"/>
            <a:ext cx="302760" cy="1051560"/>
            <a:chOff x="8008920" y="5128200"/>
            <a:chExt cx="302760" cy="1051560"/>
          </a:xfrm>
        </p:grpSpPr>
        <p:sp>
          <p:nvSpPr>
            <p:cNvPr id="2200" name=""/>
            <p:cNvSpPr/>
            <p:nvPr/>
          </p:nvSpPr>
          <p:spPr>
            <a:xfrm>
              <a:off x="8034840" y="5528880"/>
              <a:ext cx="262440" cy="13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8008920" y="5128200"/>
              <a:ext cx="288360" cy="93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8023320" y="5178600"/>
              <a:ext cx="28836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8023320" y="5528880"/>
              <a:ext cx="288360" cy="13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8153280" y="606708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5" name=""/>
          <p:cNvSpPr/>
          <p:nvPr/>
        </p:nvSpPr>
        <p:spPr>
          <a:xfrm>
            <a:off x="3701880" y="1631880"/>
            <a:ext cx="1390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25920" bIns="25920" anchor="t">
            <a:noAutofit/>
          </a:bodyPr>
          <a:p>
            <a:pPr>
              <a:lnSpc>
                <a:spcPts val="1573"/>
              </a:lnSpc>
              <a:spcBef>
                <a:spcPts val="1188"/>
              </a:spcBef>
              <a:tabLst>
                <a:tab algn="l" pos="0"/>
                <a:tab algn="l" pos="276120"/>
                <a:tab algn="l" pos="563400"/>
                <a:tab algn="l" pos="83988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5492880" y="6191280"/>
            <a:ext cx="301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25920" bIns="25920" anchor="t">
            <a:noAutofit/>
          </a:bodyPr>
          <a:p>
            <a:pPr>
              <a:lnSpc>
                <a:spcPts val="1573"/>
              </a:lnSpc>
              <a:spcBef>
                <a:spcPts val="1188"/>
              </a:spcBef>
              <a:tabLst>
                <a:tab algn="l" pos="0"/>
                <a:tab algn="l" pos="388800"/>
                <a:tab algn="l" pos="789120"/>
                <a:tab algn="l" pos="1177920"/>
                <a:tab algn="l" pos="1577880"/>
                <a:tab algn="l" pos="1967040"/>
                <a:tab algn="l" pos="23684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  C1  C2  C3  C4  C5  C6  C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7" name=""/>
          <p:cNvGrpSpPr/>
          <p:nvPr/>
        </p:nvGrpSpPr>
        <p:grpSpPr>
          <a:xfrm>
            <a:off x="3931920" y="2211480"/>
            <a:ext cx="151200" cy="150840"/>
            <a:chOff x="3931920" y="2211480"/>
            <a:chExt cx="151200" cy="150840"/>
          </a:xfrm>
        </p:grpSpPr>
        <p:sp>
          <p:nvSpPr>
            <p:cNvPr id="2208" name=""/>
            <p:cNvSpPr/>
            <p:nvPr/>
          </p:nvSpPr>
          <p:spPr>
            <a:xfrm>
              <a:off x="3932280" y="221148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 flipH="1">
              <a:off x="3931920" y="221148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0" name=""/>
          <p:cNvGrpSpPr/>
          <p:nvPr/>
        </p:nvGrpSpPr>
        <p:grpSpPr>
          <a:xfrm>
            <a:off x="4347720" y="2211480"/>
            <a:ext cx="151200" cy="150840"/>
            <a:chOff x="4347720" y="2211480"/>
            <a:chExt cx="151200" cy="150840"/>
          </a:xfrm>
        </p:grpSpPr>
        <p:sp>
          <p:nvSpPr>
            <p:cNvPr id="2211" name=""/>
            <p:cNvSpPr/>
            <p:nvPr/>
          </p:nvSpPr>
          <p:spPr>
            <a:xfrm>
              <a:off x="4348080" y="221148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 flipH="1">
              <a:off x="4347720" y="221148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3" name=""/>
          <p:cNvGrpSpPr/>
          <p:nvPr/>
        </p:nvGrpSpPr>
        <p:grpSpPr>
          <a:xfrm>
            <a:off x="4225680" y="2568600"/>
            <a:ext cx="151200" cy="150840"/>
            <a:chOff x="4225680" y="2568600"/>
            <a:chExt cx="151200" cy="150840"/>
          </a:xfrm>
        </p:grpSpPr>
        <p:sp>
          <p:nvSpPr>
            <p:cNvPr id="2214" name=""/>
            <p:cNvSpPr/>
            <p:nvPr/>
          </p:nvSpPr>
          <p:spPr>
            <a:xfrm>
              <a:off x="4226040" y="256860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 flipH="1">
              <a:off x="4225680" y="256860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6" name=""/>
          <p:cNvGrpSpPr/>
          <p:nvPr/>
        </p:nvGrpSpPr>
        <p:grpSpPr>
          <a:xfrm>
            <a:off x="4057200" y="2568600"/>
            <a:ext cx="151200" cy="150840"/>
            <a:chOff x="4057200" y="2568600"/>
            <a:chExt cx="151200" cy="150840"/>
          </a:xfrm>
        </p:grpSpPr>
        <p:sp>
          <p:nvSpPr>
            <p:cNvPr id="2217" name=""/>
            <p:cNvSpPr/>
            <p:nvPr/>
          </p:nvSpPr>
          <p:spPr>
            <a:xfrm>
              <a:off x="4057560" y="256860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 flipH="1">
              <a:off x="4057200" y="256860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9" name=""/>
          <p:cNvGrpSpPr/>
          <p:nvPr/>
        </p:nvGrpSpPr>
        <p:grpSpPr>
          <a:xfrm>
            <a:off x="4508640" y="2935440"/>
            <a:ext cx="149040" cy="150840"/>
            <a:chOff x="4508640" y="2935440"/>
            <a:chExt cx="149040" cy="150840"/>
          </a:xfrm>
        </p:grpSpPr>
        <p:sp>
          <p:nvSpPr>
            <p:cNvPr id="2220" name=""/>
            <p:cNvSpPr/>
            <p:nvPr/>
          </p:nvSpPr>
          <p:spPr>
            <a:xfrm>
              <a:off x="4508640" y="2935440"/>
              <a:ext cx="1490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 flipH="1">
              <a:off x="4508640" y="2935440"/>
              <a:ext cx="1490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2" name=""/>
          <p:cNvGrpSpPr/>
          <p:nvPr/>
        </p:nvGrpSpPr>
        <p:grpSpPr>
          <a:xfrm>
            <a:off x="4057200" y="2935440"/>
            <a:ext cx="151200" cy="150840"/>
            <a:chOff x="4057200" y="2935440"/>
            <a:chExt cx="151200" cy="150840"/>
          </a:xfrm>
        </p:grpSpPr>
        <p:sp>
          <p:nvSpPr>
            <p:cNvPr id="2223" name=""/>
            <p:cNvSpPr/>
            <p:nvPr/>
          </p:nvSpPr>
          <p:spPr>
            <a:xfrm>
              <a:off x="4057560" y="293544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 flipH="1">
              <a:off x="4057200" y="293544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5" name=""/>
          <p:cNvGrpSpPr/>
          <p:nvPr/>
        </p:nvGrpSpPr>
        <p:grpSpPr>
          <a:xfrm>
            <a:off x="3935160" y="3301920"/>
            <a:ext cx="151200" cy="150840"/>
            <a:chOff x="3935160" y="3301920"/>
            <a:chExt cx="151200" cy="150840"/>
          </a:xfrm>
        </p:grpSpPr>
        <p:sp>
          <p:nvSpPr>
            <p:cNvPr id="2226" name=""/>
            <p:cNvSpPr/>
            <p:nvPr/>
          </p:nvSpPr>
          <p:spPr>
            <a:xfrm>
              <a:off x="3935520" y="330192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 flipH="1">
              <a:off x="3935160" y="330192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8" name=""/>
          <p:cNvGrpSpPr/>
          <p:nvPr/>
        </p:nvGrpSpPr>
        <p:grpSpPr>
          <a:xfrm>
            <a:off x="4347720" y="3301920"/>
            <a:ext cx="151200" cy="150840"/>
            <a:chOff x="4347720" y="3301920"/>
            <a:chExt cx="151200" cy="150840"/>
          </a:xfrm>
        </p:grpSpPr>
        <p:sp>
          <p:nvSpPr>
            <p:cNvPr id="2229" name=""/>
            <p:cNvSpPr/>
            <p:nvPr/>
          </p:nvSpPr>
          <p:spPr>
            <a:xfrm>
              <a:off x="4348080" y="330192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H="1">
              <a:off x="4347720" y="330192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1" name=""/>
          <p:cNvGrpSpPr/>
          <p:nvPr/>
        </p:nvGrpSpPr>
        <p:grpSpPr>
          <a:xfrm>
            <a:off x="4506480" y="3301920"/>
            <a:ext cx="151200" cy="150840"/>
            <a:chOff x="4506480" y="3301920"/>
            <a:chExt cx="151200" cy="150840"/>
          </a:xfrm>
        </p:grpSpPr>
        <p:sp>
          <p:nvSpPr>
            <p:cNvPr id="2232" name=""/>
            <p:cNvSpPr/>
            <p:nvPr/>
          </p:nvSpPr>
          <p:spPr>
            <a:xfrm>
              <a:off x="4506840" y="330192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 flipH="1">
              <a:off x="4506480" y="330192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4" name=""/>
          <p:cNvGrpSpPr/>
          <p:nvPr/>
        </p:nvGrpSpPr>
        <p:grpSpPr>
          <a:xfrm>
            <a:off x="4347720" y="3649680"/>
            <a:ext cx="151200" cy="150840"/>
            <a:chOff x="4347720" y="3649680"/>
            <a:chExt cx="151200" cy="150840"/>
          </a:xfrm>
        </p:grpSpPr>
        <p:sp>
          <p:nvSpPr>
            <p:cNvPr id="2235" name=""/>
            <p:cNvSpPr/>
            <p:nvPr/>
          </p:nvSpPr>
          <p:spPr>
            <a:xfrm>
              <a:off x="4348080" y="364968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H="1">
              <a:off x="4347720" y="364968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7" name=""/>
          <p:cNvGrpSpPr/>
          <p:nvPr/>
        </p:nvGrpSpPr>
        <p:grpSpPr>
          <a:xfrm>
            <a:off x="4638240" y="3649680"/>
            <a:ext cx="151200" cy="150840"/>
            <a:chOff x="4638240" y="3649680"/>
            <a:chExt cx="151200" cy="150840"/>
          </a:xfrm>
        </p:grpSpPr>
        <p:sp>
          <p:nvSpPr>
            <p:cNvPr id="2238" name=""/>
            <p:cNvSpPr/>
            <p:nvPr/>
          </p:nvSpPr>
          <p:spPr>
            <a:xfrm>
              <a:off x="4638600" y="364968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 flipH="1">
              <a:off x="4638240" y="364968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0" name=""/>
          <p:cNvGrpSpPr/>
          <p:nvPr/>
        </p:nvGrpSpPr>
        <p:grpSpPr>
          <a:xfrm>
            <a:off x="4506480" y="3997440"/>
            <a:ext cx="151200" cy="150840"/>
            <a:chOff x="4506480" y="3997440"/>
            <a:chExt cx="151200" cy="150840"/>
          </a:xfrm>
        </p:grpSpPr>
        <p:sp>
          <p:nvSpPr>
            <p:cNvPr id="2241" name=""/>
            <p:cNvSpPr/>
            <p:nvPr/>
          </p:nvSpPr>
          <p:spPr>
            <a:xfrm>
              <a:off x="4506840" y="399744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H="1">
              <a:off x="4506480" y="399744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3" name=""/>
          <p:cNvGrpSpPr/>
          <p:nvPr/>
        </p:nvGrpSpPr>
        <p:grpSpPr>
          <a:xfrm>
            <a:off x="4225680" y="3997440"/>
            <a:ext cx="151200" cy="150840"/>
            <a:chOff x="4225680" y="3997440"/>
            <a:chExt cx="151200" cy="150840"/>
          </a:xfrm>
        </p:grpSpPr>
        <p:sp>
          <p:nvSpPr>
            <p:cNvPr id="2244" name=""/>
            <p:cNvSpPr/>
            <p:nvPr/>
          </p:nvSpPr>
          <p:spPr>
            <a:xfrm>
              <a:off x="4226040" y="399744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H="1">
              <a:off x="4225680" y="399744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6" name=""/>
          <p:cNvGrpSpPr/>
          <p:nvPr/>
        </p:nvGrpSpPr>
        <p:grpSpPr>
          <a:xfrm>
            <a:off x="4055760" y="4356000"/>
            <a:ext cx="151200" cy="149400"/>
            <a:chOff x="4055760" y="4356000"/>
            <a:chExt cx="151200" cy="149400"/>
          </a:xfrm>
        </p:grpSpPr>
        <p:sp>
          <p:nvSpPr>
            <p:cNvPr id="2247" name=""/>
            <p:cNvSpPr/>
            <p:nvPr/>
          </p:nvSpPr>
          <p:spPr>
            <a:xfrm>
              <a:off x="4056120" y="4356000"/>
              <a:ext cx="150840" cy="14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H="1">
              <a:off x="4055760" y="4356000"/>
              <a:ext cx="150840" cy="14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9" name=""/>
          <p:cNvGrpSpPr/>
          <p:nvPr/>
        </p:nvGrpSpPr>
        <p:grpSpPr>
          <a:xfrm>
            <a:off x="4638240" y="4356000"/>
            <a:ext cx="151200" cy="149400"/>
            <a:chOff x="4638240" y="4356000"/>
            <a:chExt cx="151200" cy="149400"/>
          </a:xfrm>
        </p:grpSpPr>
        <p:sp>
          <p:nvSpPr>
            <p:cNvPr id="2250" name=""/>
            <p:cNvSpPr/>
            <p:nvPr/>
          </p:nvSpPr>
          <p:spPr>
            <a:xfrm>
              <a:off x="4638600" y="4356000"/>
              <a:ext cx="150840" cy="14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>
              <a:off x="4638240" y="4356000"/>
              <a:ext cx="150840" cy="14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2" name=""/>
          <p:cNvGrpSpPr/>
          <p:nvPr/>
        </p:nvGrpSpPr>
        <p:grpSpPr>
          <a:xfrm>
            <a:off x="3642840" y="4703760"/>
            <a:ext cx="151200" cy="150840"/>
            <a:chOff x="3642840" y="4703760"/>
            <a:chExt cx="151200" cy="150840"/>
          </a:xfrm>
        </p:grpSpPr>
        <p:sp>
          <p:nvSpPr>
            <p:cNvPr id="2253" name=""/>
            <p:cNvSpPr/>
            <p:nvPr/>
          </p:nvSpPr>
          <p:spPr>
            <a:xfrm>
              <a:off x="3643200" y="470376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 flipH="1">
              <a:off x="3642840" y="470376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5" name=""/>
          <p:cNvGrpSpPr/>
          <p:nvPr/>
        </p:nvGrpSpPr>
        <p:grpSpPr>
          <a:xfrm>
            <a:off x="3933360" y="5051520"/>
            <a:ext cx="151200" cy="150840"/>
            <a:chOff x="3933360" y="5051520"/>
            <a:chExt cx="151200" cy="150840"/>
          </a:xfrm>
        </p:grpSpPr>
        <p:sp>
          <p:nvSpPr>
            <p:cNvPr id="2256" name=""/>
            <p:cNvSpPr/>
            <p:nvPr/>
          </p:nvSpPr>
          <p:spPr>
            <a:xfrm>
              <a:off x="3933720" y="505152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 flipH="1">
              <a:off x="3933360" y="505152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8" name=""/>
          <p:cNvGrpSpPr/>
          <p:nvPr/>
        </p:nvGrpSpPr>
        <p:grpSpPr>
          <a:xfrm>
            <a:off x="4225680" y="5051520"/>
            <a:ext cx="151200" cy="150840"/>
            <a:chOff x="4225680" y="5051520"/>
            <a:chExt cx="151200" cy="150840"/>
          </a:xfrm>
        </p:grpSpPr>
        <p:sp>
          <p:nvSpPr>
            <p:cNvPr id="2259" name=""/>
            <p:cNvSpPr/>
            <p:nvPr/>
          </p:nvSpPr>
          <p:spPr>
            <a:xfrm>
              <a:off x="4226040" y="505152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 flipH="1">
              <a:off x="4225680" y="505152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1" name=""/>
          <p:cNvGrpSpPr/>
          <p:nvPr/>
        </p:nvGrpSpPr>
        <p:grpSpPr>
          <a:xfrm>
            <a:off x="4638240" y="5051520"/>
            <a:ext cx="151200" cy="150840"/>
            <a:chOff x="4638240" y="5051520"/>
            <a:chExt cx="151200" cy="150840"/>
          </a:xfrm>
        </p:grpSpPr>
        <p:sp>
          <p:nvSpPr>
            <p:cNvPr id="2262" name=""/>
            <p:cNvSpPr/>
            <p:nvPr/>
          </p:nvSpPr>
          <p:spPr>
            <a:xfrm>
              <a:off x="4638600" y="505152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 flipH="1">
              <a:off x="4638240" y="505152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4" name=""/>
          <p:cNvGrpSpPr/>
          <p:nvPr/>
        </p:nvGrpSpPr>
        <p:grpSpPr>
          <a:xfrm>
            <a:off x="5587560" y="3301920"/>
            <a:ext cx="151200" cy="150840"/>
            <a:chOff x="5587560" y="3301920"/>
            <a:chExt cx="151200" cy="150840"/>
          </a:xfrm>
        </p:grpSpPr>
        <p:sp>
          <p:nvSpPr>
            <p:cNvPr id="2265" name=""/>
            <p:cNvSpPr/>
            <p:nvPr/>
          </p:nvSpPr>
          <p:spPr>
            <a:xfrm>
              <a:off x="5587920" y="330192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 flipH="1">
              <a:off x="5587560" y="330192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7" name=""/>
          <p:cNvGrpSpPr/>
          <p:nvPr/>
        </p:nvGrpSpPr>
        <p:grpSpPr>
          <a:xfrm>
            <a:off x="5587560" y="3998880"/>
            <a:ext cx="151200" cy="149400"/>
            <a:chOff x="5587560" y="3998880"/>
            <a:chExt cx="151200" cy="149400"/>
          </a:xfrm>
        </p:grpSpPr>
        <p:sp>
          <p:nvSpPr>
            <p:cNvPr id="2268" name=""/>
            <p:cNvSpPr/>
            <p:nvPr/>
          </p:nvSpPr>
          <p:spPr>
            <a:xfrm>
              <a:off x="5587920" y="3998880"/>
              <a:ext cx="150840" cy="14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 flipH="1">
              <a:off x="5587560" y="3998880"/>
              <a:ext cx="150840" cy="14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0" name=""/>
          <p:cNvGrpSpPr/>
          <p:nvPr/>
        </p:nvGrpSpPr>
        <p:grpSpPr>
          <a:xfrm>
            <a:off x="5587560" y="4356000"/>
            <a:ext cx="151200" cy="149400"/>
            <a:chOff x="5587560" y="4356000"/>
            <a:chExt cx="151200" cy="149400"/>
          </a:xfrm>
        </p:grpSpPr>
        <p:sp>
          <p:nvSpPr>
            <p:cNvPr id="2271" name=""/>
            <p:cNvSpPr/>
            <p:nvPr/>
          </p:nvSpPr>
          <p:spPr>
            <a:xfrm>
              <a:off x="5587920" y="4356000"/>
              <a:ext cx="150840" cy="14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 flipH="1">
              <a:off x="5587560" y="4356000"/>
              <a:ext cx="150840" cy="14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3" name=""/>
          <p:cNvGrpSpPr/>
          <p:nvPr/>
        </p:nvGrpSpPr>
        <p:grpSpPr>
          <a:xfrm>
            <a:off x="5587560" y="5051520"/>
            <a:ext cx="151200" cy="150840"/>
            <a:chOff x="5587560" y="5051520"/>
            <a:chExt cx="151200" cy="150840"/>
          </a:xfrm>
        </p:grpSpPr>
        <p:sp>
          <p:nvSpPr>
            <p:cNvPr id="2274" name=""/>
            <p:cNvSpPr/>
            <p:nvPr/>
          </p:nvSpPr>
          <p:spPr>
            <a:xfrm>
              <a:off x="5587920" y="505152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 flipH="1">
              <a:off x="5587560" y="505152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6" name=""/>
          <p:cNvGrpSpPr/>
          <p:nvPr/>
        </p:nvGrpSpPr>
        <p:grpSpPr>
          <a:xfrm>
            <a:off x="5935320" y="2935440"/>
            <a:ext cx="151200" cy="150840"/>
            <a:chOff x="5935320" y="2935440"/>
            <a:chExt cx="151200" cy="150840"/>
          </a:xfrm>
        </p:grpSpPr>
        <p:sp>
          <p:nvSpPr>
            <p:cNvPr id="2277" name=""/>
            <p:cNvSpPr/>
            <p:nvPr/>
          </p:nvSpPr>
          <p:spPr>
            <a:xfrm>
              <a:off x="5935680" y="293544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 flipH="1">
              <a:off x="5935320" y="293544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9" name=""/>
          <p:cNvGrpSpPr/>
          <p:nvPr/>
        </p:nvGrpSpPr>
        <p:grpSpPr>
          <a:xfrm>
            <a:off x="5935320" y="3649680"/>
            <a:ext cx="151200" cy="150840"/>
            <a:chOff x="5935320" y="3649680"/>
            <a:chExt cx="151200" cy="150840"/>
          </a:xfrm>
        </p:grpSpPr>
        <p:sp>
          <p:nvSpPr>
            <p:cNvPr id="2280" name=""/>
            <p:cNvSpPr/>
            <p:nvPr/>
          </p:nvSpPr>
          <p:spPr>
            <a:xfrm>
              <a:off x="5935680" y="364968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 flipH="1">
              <a:off x="5935320" y="364968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2" name=""/>
          <p:cNvGrpSpPr/>
          <p:nvPr/>
        </p:nvGrpSpPr>
        <p:grpSpPr>
          <a:xfrm>
            <a:off x="5935320" y="3997440"/>
            <a:ext cx="151200" cy="150840"/>
            <a:chOff x="5935320" y="3997440"/>
            <a:chExt cx="151200" cy="150840"/>
          </a:xfrm>
        </p:grpSpPr>
        <p:sp>
          <p:nvSpPr>
            <p:cNvPr id="2283" name=""/>
            <p:cNvSpPr/>
            <p:nvPr/>
          </p:nvSpPr>
          <p:spPr>
            <a:xfrm>
              <a:off x="5935680" y="399744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 flipH="1">
              <a:off x="5935320" y="399744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5" name=""/>
          <p:cNvGrpSpPr/>
          <p:nvPr/>
        </p:nvGrpSpPr>
        <p:grpSpPr>
          <a:xfrm>
            <a:off x="5935320" y="4354560"/>
            <a:ext cx="151200" cy="150840"/>
            <a:chOff x="5935320" y="4354560"/>
            <a:chExt cx="151200" cy="150840"/>
          </a:xfrm>
        </p:grpSpPr>
        <p:sp>
          <p:nvSpPr>
            <p:cNvPr id="2286" name=""/>
            <p:cNvSpPr/>
            <p:nvPr/>
          </p:nvSpPr>
          <p:spPr>
            <a:xfrm>
              <a:off x="5935680" y="435456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 flipH="1">
              <a:off x="5935320" y="435456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8" name=""/>
          <p:cNvGrpSpPr/>
          <p:nvPr/>
        </p:nvGrpSpPr>
        <p:grpSpPr>
          <a:xfrm>
            <a:off x="6292440" y="2935440"/>
            <a:ext cx="151200" cy="150840"/>
            <a:chOff x="6292440" y="2935440"/>
            <a:chExt cx="151200" cy="150840"/>
          </a:xfrm>
        </p:grpSpPr>
        <p:sp>
          <p:nvSpPr>
            <p:cNvPr id="2289" name=""/>
            <p:cNvSpPr/>
            <p:nvPr/>
          </p:nvSpPr>
          <p:spPr>
            <a:xfrm>
              <a:off x="6292800" y="293544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 flipH="1">
              <a:off x="6292440" y="293544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1" name=""/>
          <p:cNvGrpSpPr/>
          <p:nvPr/>
        </p:nvGrpSpPr>
        <p:grpSpPr>
          <a:xfrm>
            <a:off x="6292440" y="3301920"/>
            <a:ext cx="151200" cy="150840"/>
            <a:chOff x="6292440" y="3301920"/>
            <a:chExt cx="151200" cy="150840"/>
          </a:xfrm>
        </p:grpSpPr>
        <p:sp>
          <p:nvSpPr>
            <p:cNvPr id="2292" name=""/>
            <p:cNvSpPr/>
            <p:nvPr/>
          </p:nvSpPr>
          <p:spPr>
            <a:xfrm>
              <a:off x="6292800" y="330192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 flipH="1">
              <a:off x="6292440" y="330192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4" name=""/>
          <p:cNvGrpSpPr/>
          <p:nvPr/>
        </p:nvGrpSpPr>
        <p:grpSpPr>
          <a:xfrm>
            <a:off x="6292440" y="3649680"/>
            <a:ext cx="151200" cy="150840"/>
            <a:chOff x="6292440" y="3649680"/>
            <a:chExt cx="151200" cy="150840"/>
          </a:xfrm>
        </p:grpSpPr>
        <p:sp>
          <p:nvSpPr>
            <p:cNvPr id="2295" name=""/>
            <p:cNvSpPr/>
            <p:nvPr/>
          </p:nvSpPr>
          <p:spPr>
            <a:xfrm>
              <a:off x="6292800" y="364968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 flipH="1">
              <a:off x="6292440" y="364968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7" name=""/>
          <p:cNvGrpSpPr/>
          <p:nvPr/>
        </p:nvGrpSpPr>
        <p:grpSpPr>
          <a:xfrm>
            <a:off x="6292440" y="3998880"/>
            <a:ext cx="151200" cy="149400"/>
            <a:chOff x="6292440" y="3998880"/>
            <a:chExt cx="151200" cy="149400"/>
          </a:xfrm>
        </p:grpSpPr>
        <p:sp>
          <p:nvSpPr>
            <p:cNvPr id="2298" name=""/>
            <p:cNvSpPr/>
            <p:nvPr/>
          </p:nvSpPr>
          <p:spPr>
            <a:xfrm>
              <a:off x="6292800" y="3998880"/>
              <a:ext cx="150840" cy="14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 flipH="1">
              <a:off x="6292440" y="3998880"/>
              <a:ext cx="150840" cy="14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0" name=""/>
          <p:cNvGrpSpPr/>
          <p:nvPr/>
        </p:nvGrpSpPr>
        <p:grpSpPr>
          <a:xfrm>
            <a:off x="6292440" y="5051520"/>
            <a:ext cx="151200" cy="150840"/>
            <a:chOff x="6292440" y="5051520"/>
            <a:chExt cx="151200" cy="150840"/>
          </a:xfrm>
        </p:grpSpPr>
        <p:sp>
          <p:nvSpPr>
            <p:cNvPr id="2301" name=""/>
            <p:cNvSpPr/>
            <p:nvPr/>
          </p:nvSpPr>
          <p:spPr>
            <a:xfrm>
              <a:off x="6292800" y="505152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 flipH="1">
              <a:off x="6292440" y="505152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3" name=""/>
          <p:cNvGrpSpPr/>
          <p:nvPr/>
        </p:nvGrpSpPr>
        <p:grpSpPr>
          <a:xfrm>
            <a:off x="6649560" y="3301920"/>
            <a:ext cx="151200" cy="150840"/>
            <a:chOff x="6649560" y="3301920"/>
            <a:chExt cx="151200" cy="150840"/>
          </a:xfrm>
        </p:grpSpPr>
        <p:sp>
          <p:nvSpPr>
            <p:cNvPr id="2304" name=""/>
            <p:cNvSpPr/>
            <p:nvPr/>
          </p:nvSpPr>
          <p:spPr>
            <a:xfrm>
              <a:off x="6649920" y="330192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 flipH="1">
              <a:off x="6649560" y="330192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6" name=""/>
          <p:cNvGrpSpPr/>
          <p:nvPr/>
        </p:nvGrpSpPr>
        <p:grpSpPr>
          <a:xfrm>
            <a:off x="6649560" y="2935440"/>
            <a:ext cx="151200" cy="150840"/>
            <a:chOff x="6649560" y="2935440"/>
            <a:chExt cx="151200" cy="150840"/>
          </a:xfrm>
        </p:grpSpPr>
        <p:sp>
          <p:nvSpPr>
            <p:cNvPr id="2307" name=""/>
            <p:cNvSpPr/>
            <p:nvPr/>
          </p:nvSpPr>
          <p:spPr>
            <a:xfrm>
              <a:off x="6649920" y="293544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 flipH="1">
              <a:off x="6649560" y="293544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9" name=""/>
          <p:cNvGrpSpPr/>
          <p:nvPr/>
        </p:nvGrpSpPr>
        <p:grpSpPr>
          <a:xfrm>
            <a:off x="6649560" y="4356000"/>
            <a:ext cx="151200" cy="150840"/>
            <a:chOff x="6649560" y="4356000"/>
            <a:chExt cx="151200" cy="150840"/>
          </a:xfrm>
        </p:grpSpPr>
        <p:sp>
          <p:nvSpPr>
            <p:cNvPr id="2310" name=""/>
            <p:cNvSpPr/>
            <p:nvPr/>
          </p:nvSpPr>
          <p:spPr>
            <a:xfrm>
              <a:off x="6649920" y="435600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 flipH="1">
              <a:off x="6649560" y="435600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2" name=""/>
          <p:cNvGrpSpPr/>
          <p:nvPr/>
        </p:nvGrpSpPr>
        <p:grpSpPr>
          <a:xfrm>
            <a:off x="6649560" y="5051520"/>
            <a:ext cx="151200" cy="150840"/>
            <a:chOff x="6649560" y="5051520"/>
            <a:chExt cx="151200" cy="150840"/>
          </a:xfrm>
        </p:grpSpPr>
        <p:sp>
          <p:nvSpPr>
            <p:cNvPr id="2313" name=""/>
            <p:cNvSpPr/>
            <p:nvPr/>
          </p:nvSpPr>
          <p:spPr>
            <a:xfrm>
              <a:off x="6649920" y="505152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 flipH="1">
              <a:off x="6649560" y="505152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5" name=""/>
          <p:cNvGrpSpPr/>
          <p:nvPr/>
        </p:nvGrpSpPr>
        <p:grpSpPr>
          <a:xfrm>
            <a:off x="7016760" y="4356000"/>
            <a:ext cx="149040" cy="150840"/>
            <a:chOff x="7016760" y="4356000"/>
            <a:chExt cx="149040" cy="150840"/>
          </a:xfrm>
        </p:grpSpPr>
        <p:sp>
          <p:nvSpPr>
            <p:cNvPr id="2316" name=""/>
            <p:cNvSpPr/>
            <p:nvPr/>
          </p:nvSpPr>
          <p:spPr>
            <a:xfrm>
              <a:off x="7016760" y="4356000"/>
              <a:ext cx="1490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 flipH="1">
              <a:off x="7016760" y="4356000"/>
              <a:ext cx="1490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8" name=""/>
          <p:cNvGrpSpPr/>
          <p:nvPr/>
        </p:nvGrpSpPr>
        <p:grpSpPr>
          <a:xfrm>
            <a:off x="7016760" y="5051520"/>
            <a:ext cx="149040" cy="150840"/>
            <a:chOff x="7016760" y="5051520"/>
            <a:chExt cx="149040" cy="150840"/>
          </a:xfrm>
        </p:grpSpPr>
        <p:sp>
          <p:nvSpPr>
            <p:cNvPr id="2319" name=""/>
            <p:cNvSpPr/>
            <p:nvPr/>
          </p:nvSpPr>
          <p:spPr>
            <a:xfrm>
              <a:off x="7016760" y="5051520"/>
              <a:ext cx="1490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 flipH="1">
              <a:off x="7016760" y="5051520"/>
              <a:ext cx="1490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1" name=""/>
          <p:cNvGrpSpPr/>
          <p:nvPr/>
        </p:nvGrpSpPr>
        <p:grpSpPr>
          <a:xfrm>
            <a:off x="7364520" y="5051520"/>
            <a:ext cx="149040" cy="150840"/>
            <a:chOff x="7364520" y="5051520"/>
            <a:chExt cx="149040" cy="150840"/>
          </a:xfrm>
        </p:grpSpPr>
        <p:sp>
          <p:nvSpPr>
            <p:cNvPr id="2322" name=""/>
            <p:cNvSpPr/>
            <p:nvPr/>
          </p:nvSpPr>
          <p:spPr>
            <a:xfrm>
              <a:off x="7364520" y="5051520"/>
              <a:ext cx="1490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H="1">
              <a:off x="7364520" y="5051520"/>
              <a:ext cx="1490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4" name=""/>
          <p:cNvGrpSpPr/>
          <p:nvPr/>
        </p:nvGrpSpPr>
        <p:grpSpPr>
          <a:xfrm>
            <a:off x="7364520" y="3301920"/>
            <a:ext cx="149040" cy="150840"/>
            <a:chOff x="7364520" y="3301920"/>
            <a:chExt cx="149040" cy="150840"/>
          </a:xfrm>
        </p:grpSpPr>
        <p:sp>
          <p:nvSpPr>
            <p:cNvPr id="2325" name=""/>
            <p:cNvSpPr/>
            <p:nvPr/>
          </p:nvSpPr>
          <p:spPr>
            <a:xfrm>
              <a:off x="7364520" y="3301920"/>
              <a:ext cx="1490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 flipH="1">
              <a:off x="7364520" y="3301920"/>
              <a:ext cx="1490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7" name=""/>
          <p:cNvGrpSpPr/>
          <p:nvPr/>
        </p:nvGrpSpPr>
        <p:grpSpPr>
          <a:xfrm>
            <a:off x="7364520" y="3649680"/>
            <a:ext cx="149040" cy="150840"/>
            <a:chOff x="7364520" y="3649680"/>
            <a:chExt cx="149040" cy="150840"/>
          </a:xfrm>
        </p:grpSpPr>
        <p:sp>
          <p:nvSpPr>
            <p:cNvPr id="2328" name=""/>
            <p:cNvSpPr/>
            <p:nvPr/>
          </p:nvSpPr>
          <p:spPr>
            <a:xfrm>
              <a:off x="7364520" y="3649680"/>
              <a:ext cx="1490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 flipH="1">
              <a:off x="7364520" y="3649680"/>
              <a:ext cx="1490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0" name=""/>
          <p:cNvGrpSpPr/>
          <p:nvPr/>
        </p:nvGrpSpPr>
        <p:grpSpPr>
          <a:xfrm>
            <a:off x="7364520" y="4703760"/>
            <a:ext cx="149040" cy="150840"/>
            <a:chOff x="7364520" y="4703760"/>
            <a:chExt cx="149040" cy="150840"/>
          </a:xfrm>
        </p:grpSpPr>
        <p:sp>
          <p:nvSpPr>
            <p:cNvPr id="2331" name=""/>
            <p:cNvSpPr/>
            <p:nvPr/>
          </p:nvSpPr>
          <p:spPr>
            <a:xfrm>
              <a:off x="7364520" y="4703760"/>
              <a:ext cx="1490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 flipH="1">
              <a:off x="7364520" y="4703760"/>
              <a:ext cx="1490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3" name=""/>
          <p:cNvGrpSpPr/>
          <p:nvPr/>
        </p:nvGrpSpPr>
        <p:grpSpPr>
          <a:xfrm>
            <a:off x="7719480" y="2568600"/>
            <a:ext cx="151200" cy="150840"/>
            <a:chOff x="7719480" y="2568600"/>
            <a:chExt cx="151200" cy="150840"/>
          </a:xfrm>
        </p:grpSpPr>
        <p:sp>
          <p:nvSpPr>
            <p:cNvPr id="2334" name=""/>
            <p:cNvSpPr/>
            <p:nvPr/>
          </p:nvSpPr>
          <p:spPr>
            <a:xfrm>
              <a:off x="7719840" y="256860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 flipH="1">
              <a:off x="7719480" y="256860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6" name=""/>
          <p:cNvGrpSpPr/>
          <p:nvPr/>
        </p:nvGrpSpPr>
        <p:grpSpPr>
          <a:xfrm>
            <a:off x="7719480" y="2211480"/>
            <a:ext cx="151200" cy="150840"/>
            <a:chOff x="7719480" y="2211480"/>
            <a:chExt cx="151200" cy="150840"/>
          </a:xfrm>
        </p:grpSpPr>
        <p:sp>
          <p:nvSpPr>
            <p:cNvPr id="2337" name=""/>
            <p:cNvSpPr/>
            <p:nvPr/>
          </p:nvSpPr>
          <p:spPr>
            <a:xfrm>
              <a:off x="7719840" y="221148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H="1">
              <a:off x="7719480" y="221148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9" name=""/>
          <p:cNvGrpSpPr/>
          <p:nvPr/>
        </p:nvGrpSpPr>
        <p:grpSpPr>
          <a:xfrm>
            <a:off x="7719480" y="5051520"/>
            <a:ext cx="151200" cy="150840"/>
            <a:chOff x="7719480" y="5051520"/>
            <a:chExt cx="151200" cy="150840"/>
          </a:xfrm>
        </p:grpSpPr>
        <p:sp>
          <p:nvSpPr>
            <p:cNvPr id="2340" name=""/>
            <p:cNvSpPr/>
            <p:nvPr/>
          </p:nvSpPr>
          <p:spPr>
            <a:xfrm>
              <a:off x="7719840" y="505152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 flipH="1">
              <a:off x="7719480" y="505152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2" name=""/>
          <p:cNvGrpSpPr/>
          <p:nvPr/>
        </p:nvGrpSpPr>
        <p:grpSpPr>
          <a:xfrm>
            <a:off x="7719480" y="4703760"/>
            <a:ext cx="151200" cy="150840"/>
            <a:chOff x="7719480" y="4703760"/>
            <a:chExt cx="151200" cy="150840"/>
          </a:xfrm>
        </p:grpSpPr>
        <p:sp>
          <p:nvSpPr>
            <p:cNvPr id="2343" name=""/>
            <p:cNvSpPr/>
            <p:nvPr/>
          </p:nvSpPr>
          <p:spPr>
            <a:xfrm>
              <a:off x="7719840" y="470376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H="1">
              <a:off x="7719480" y="4703760"/>
              <a:ext cx="1508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6" name=""/>
          <p:cNvSpPr/>
          <p:nvPr/>
        </p:nvSpPr>
        <p:spPr>
          <a:xfrm>
            <a:off x="333360" y="1535040"/>
            <a:ext cx="284472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C0 = BC'D + CD + B'D' + BCD' + A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C1 = B'D + C'D' + CD + B'D'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C2 = B'D + BC'D + C'D' + CD + BCD'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C3 = BC'D + B'D + B'D' + BCD'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C4 = B'D' + BCD'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C5 = BC'D + C'D' + A + BCD'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C6 = B'C + BC' + BCD' + 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"/>
          <p:cNvSpPr/>
          <p:nvPr/>
        </p:nvSpPr>
        <p:spPr>
          <a:xfrm>
            <a:off x="1087560" y="3343320"/>
            <a:ext cx="4333680" cy="28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174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27068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en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ways 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+ 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 • B)'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N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xor 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x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xnor 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xn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• 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 + B)'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N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ways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1049400" y="3645000"/>
            <a:ext cx="4522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2349360" y="3394080"/>
            <a:ext cx="0" cy="25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3692520" y="3381480"/>
            <a:ext cx="0" cy="25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5560920" y="3935520"/>
            <a:ext cx="301788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Tahoma"/>
              </a:rPr>
              <a:t>3 control inputs: C0, C1, C2</a:t>
            </a:r>
            <a:br>
              <a:rPr sz="2000"/>
            </a:br>
            <a:r>
              <a:rPr b="0" lang="en-US" sz="2000" spc="-1" strike="noStrike">
                <a:solidFill>
                  <a:srgbClr val="d60093"/>
                </a:solidFill>
                <a:latin typeface="Tahoma"/>
              </a:rPr>
              <a:t>2 data inputs: A, B</a:t>
            </a:r>
            <a:br>
              <a:rPr sz="2000"/>
            </a:br>
            <a:r>
              <a:rPr b="0" lang="en-US" sz="2000" spc="-1" strike="noStrike">
                <a:solidFill>
                  <a:srgbClr val="d60093"/>
                </a:solidFill>
                <a:latin typeface="Tahoma"/>
              </a:rPr>
              <a:t>1 output: 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Logical function u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urpose functional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 control inputs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specify fun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data inputs (operands)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output (same bit-width as input operan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"/>
          <p:cNvSpPr/>
          <p:nvPr/>
        </p:nvSpPr>
        <p:spPr>
          <a:xfrm>
            <a:off x="3832200" y="1874880"/>
            <a:ext cx="462276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Tahoma"/>
              </a:rPr>
              <a:t>Implementation choice:</a:t>
            </a:r>
            <a:br>
              <a:rPr sz="2000"/>
            </a:br>
            <a:r>
              <a:rPr b="0" lang="en-US" sz="2000" spc="-1" strike="noStrike">
                <a:solidFill>
                  <a:srgbClr val="d60093"/>
                </a:solidFill>
                <a:latin typeface="Tahoma"/>
              </a:rPr>
              <a:t>multiplexer with discrete g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654120" y="1503360"/>
            <a:ext cx="302112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6040"/>
                <a:tab algn="l" pos="907920"/>
                <a:tab algn="l" pos="1352520"/>
                <a:tab algn="l" pos="1800360"/>
                <a:tab algn="l" pos="2262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2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6040"/>
                <a:tab algn="l" pos="907920"/>
                <a:tab algn="l" pos="1352520"/>
                <a:tab algn="l" pos="1800360"/>
                <a:tab algn="l" pos="2262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6040"/>
                <a:tab algn="l" pos="907920"/>
                <a:tab algn="l" pos="1352520"/>
                <a:tab algn="l" pos="1800360"/>
                <a:tab algn="l" pos="2262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6040"/>
                <a:tab algn="l" pos="907920"/>
                <a:tab algn="l" pos="1352520"/>
                <a:tab algn="l" pos="1800360"/>
                <a:tab algn="l" pos="2262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6040"/>
                <a:tab algn="l" pos="907920"/>
                <a:tab algn="l" pos="1352520"/>
                <a:tab algn="l" pos="1800360"/>
                <a:tab algn="l" pos="2262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6040"/>
                <a:tab algn="l" pos="907920"/>
                <a:tab algn="l" pos="1352520"/>
                <a:tab algn="l" pos="1800360"/>
                <a:tab algn="l" pos="2262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6040"/>
                <a:tab algn="l" pos="907920"/>
                <a:tab algn="l" pos="1352520"/>
                <a:tab algn="l" pos="1800360"/>
                <a:tab algn="l" pos="2262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6040"/>
                <a:tab algn="l" pos="907920"/>
                <a:tab algn="l" pos="1352520"/>
                <a:tab algn="l" pos="1800360"/>
                <a:tab algn="l" pos="2262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6040"/>
                <a:tab algn="l" pos="907920"/>
                <a:tab algn="l" pos="1352520"/>
                <a:tab algn="l" pos="1800360"/>
                <a:tab algn="l" pos="2262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6040"/>
                <a:tab algn="l" pos="907920"/>
                <a:tab algn="l" pos="1352520"/>
                <a:tab algn="l" pos="1800360"/>
                <a:tab algn="l" pos="2262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6040"/>
                <a:tab algn="l" pos="907920"/>
                <a:tab algn="l" pos="1352520"/>
                <a:tab algn="l" pos="1800360"/>
                <a:tab algn="l" pos="2262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6040"/>
                <a:tab algn="l" pos="907920"/>
                <a:tab algn="l" pos="1352520"/>
                <a:tab algn="l" pos="1800360"/>
                <a:tab algn="l" pos="2262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6040"/>
                <a:tab algn="l" pos="907920"/>
                <a:tab algn="l" pos="1352520"/>
                <a:tab algn="l" pos="1800360"/>
                <a:tab algn="l" pos="2262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6040"/>
                <a:tab algn="l" pos="907920"/>
                <a:tab algn="l" pos="1352520"/>
                <a:tab algn="l" pos="1800360"/>
                <a:tab algn="l" pos="2262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6040"/>
                <a:tab algn="l" pos="907920"/>
                <a:tab algn="l" pos="1352520"/>
                <a:tab algn="l" pos="1800360"/>
                <a:tab algn="l" pos="2262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6040"/>
                <a:tab algn="l" pos="907920"/>
                <a:tab algn="l" pos="1352520"/>
                <a:tab algn="l" pos="1800360"/>
                <a:tab algn="l" pos="2262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6040"/>
                <a:tab algn="l" pos="907920"/>
                <a:tab algn="l" pos="1352520"/>
                <a:tab algn="l" pos="1800360"/>
                <a:tab algn="l" pos="2262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6040"/>
                <a:tab algn="l" pos="907920"/>
                <a:tab algn="l" pos="1352520"/>
                <a:tab algn="l" pos="1800360"/>
                <a:tab algn="l" pos="2262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6040"/>
                <a:tab algn="l" pos="907920"/>
                <a:tab algn="l" pos="1352520"/>
                <a:tab algn="l" pos="1800360"/>
                <a:tab algn="l" pos="2262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6040"/>
                <a:tab algn="l" pos="907920"/>
                <a:tab algn="l" pos="1352520"/>
                <a:tab algn="l" pos="1800360"/>
                <a:tab algn="l" pos="2262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6040"/>
                <a:tab algn="l" pos="907920"/>
                <a:tab algn="l" pos="1352520"/>
                <a:tab algn="l" pos="1800360"/>
                <a:tab algn="l" pos="2262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6040"/>
                <a:tab algn="l" pos="907920"/>
                <a:tab algn="l" pos="1352520"/>
                <a:tab algn="l" pos="1800360"/>
                <a:tab algn="l" pos="2262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6040"/>
                <a:tab algn="l" pos="907920"/>
                <a:tab algn="l" pos="1352520"/>
                <a:tab algn="l" pos="1800360"/>
                <a:tab algn="l" pos="2262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6040"/>
                <a:tab algn="l" pos="907920"/>
                <a:tab algn="l" pos="1352520"/>
                <a:tab algn="l" pos="1800360"/>
                <a:tab algn="l" pos="2262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6040"/>
                <a:tab algn="l" pos="907920"/>
                <a:tab algn="l" pos="1352520"/>
                <a:tab algn="l" pos="1800360"/>
                <a:tab algn="l" pos="2262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6040"/>
                <a:tab algn="l" pos="907920"/>
                <a:tab algn="l" pos="1352520"/>
                <a:tab algn="l" pos="1800360"/>
                <a:tab algn="l" pos="2262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6040"/>
                <a:tab algn="l" pos="907920"/>
                <a:tab algn="l" pos="1352520"/>
                <a:tab algn="l" pos="1800360"/>
                <a:tab algn="l" pos="2262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6040"/>
                <a:tab algn="l" pos="907920"/>
                <a:tab algn="l" pos="1352520"/>
                <a:tab algn="l" pos="1800360"/>
                <a:tab algn="l" pos="2262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6040"/>
                <a:tab algn="l" pos="907920"/>
                <a:tab algn="l" pos="1352520"/>
                <a:tab algn="l" pos="1800360"/>
                <a:tab algn="l" pos="2262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6040"/>
                <a:tab algn="l" pos="907920"/>
                <a:tab algn="l" pos="1352520"/>
                <a:tab algn="l" pos="1800360"/>
                <a:tab algn="l" pos="2262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6040"/>
                <a:tab algn="l" pos="907920"/>
                <a:tab algn="l" pos="1352520"/>
                <a:tab algn="l" pos="1800360"/>
                <a:tab algn="l" pos="2262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6040"/>
                <a:tab algn="l" pos="907920"/>
                <a:tab algn="l" pos="1352520"/>
                <a:tab algn="l" pos="1800360"/>
                <a:tab algn="l" pos="2262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6040"/>
                <a:tab algn="l" pos="907920"/>
                <a:tab algn="l" pos="1352520"/>
                <a:tab algn="l" pos="1800360"/>
                <a:tab algn="l" pos="2262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6040"/>
                <a:tab algn="l" pos="907920"/>
                <a:tab algn="l" pos="1352520"/>
                <a:tab algn="l" pos="1800360"/>
                <a:tab algn="l" pos="2262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6040"/>
                <a:tab algn="l" pos="907920"/>
                <a:tab algn="l" pos="1352520"/>
                <a:tab algn="l" pos="1800360"/>
                <a:tab algn="l" pos="2262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2827440" y="1563840"/>
            <a:ext cx="0" cy="456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7" name=""/>
          <p:cNvGrpSpPr/>
          <p:nvPr/>
        </p:nvGrpSpPr>
        <p:grpSpPr>
          <a:xfrm>
            <a:off x="673200" y="1685880"/>
            <a:ext cx="2730240" cy="3811680"/>
            <a:chOff x="673200" y="1685880"/>
            <a:chExt cx="2730240" cy="3811680"/>
          </a:xfrm>
        </p:grpSpPr>
        <p:sp>
          <p:nvSpPr>
            <p:cNvPr id="2358" name=""/>
            <p:cNvSpPr/>
            <p:nvPr/>
          </p:nvSpPr>
          <p:spPr>
            <a:xfrm>
              <a:off x="673200" y="1685880"/>
              <a:ext cx="273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673200" y="2228400"/>
              <a:ext cx="273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673200" y="2770920"/>
              <a:ext cx="273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673200" y="3327480"/>
              <a:ext cx="273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673200" y="3855600"/>
              <a:ext cx="273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673200" y="4398480"/>
              <a:ext cx="273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673200" y="4940640"/>
              <a:ext cx="273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673200" y="5497560"/>
              <a:ext cx="273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6" name=""/>
          <p:cNvGrpSpPr/>
          <p:nvPr/>
        </p:nvGrpSpPr>
        <p:grpSpPr>
          <a:xfrm>
            <a:off x="3964320" y="3137040"/>
            <a:ext cx="4167000" cy="3251160"/>
            <a:chOff x="3964320" y="3137040"/>
            <a:chExt cx="4167000" cy="3251160"/>
          </a:xfrm>
        </p:grpSpPr>
        <p:sp>
          <p:nvSpPr>
            <p:cNvPr id="2367" name=""/>
            <p:cNvSpPr/>
            <p:nvPr/>
          </p:nvSpPr>
          <p:spPr>
            <a:xfrm>
              <a:off x="5499000" y="3219480"/>
              <a:ext cx="400320" cy="20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1973"/>
                </a:lnSpc>
                <a:spcAft>
                  <a:spcPts val="1976"/>
                </a:spcAft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8" name=""/>
            <p:cNvGrpSpPr/>
            <p:nvPr/>
          </p:nvGrpSpPr>
          <p:grpSpPr>
            <a:xfrm>
              <a:off x="3976560" y="4654440"/>
              <a:ext cx="1791720" cy="463680"/>
              <a:chOff x="3976560" y="4654440"/>
              <a:chExt cx="1791720" cy="463680"/>
            </a:xfrm>
          </p:grpSpPr>
          <p:sp>
            <p:nvSpPr>
              <p:cNvPr id="2369" name=""/>
              <p:cNvSpPr/>
              <p:nvPr/>
            </p:nvSpPr>
            <p:spPr>
              <a:xfrm>
                <a:off x="3989520" y="4654440"/>
                <a:ext cx="181800" cy="46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26640" bIns="26640" anchor="t">
                <a:noAutofit/>
              </a:bodyPr>
              <a:p>
                <a:pPr>
                  <a:lnSpc>
                    <a:spcPts val="1672"/>
                  </a:lnSpc>
                  <a:spcAft>
                    <a:spcPts val="1976"/>
                  </a:spcAft>
                  <a:tabLst>
                    <a:tab algn="l" pos="0"/>
                    <a:tab algn="l" pos="450720"/>
                    <a:tab algn="l" pos="901800"/>
                    <a:tab algn="l" pos="1352520"/>
                    <a:tab algn="l" pos="1803240"/>
                    <a:tab algn="l" pos="2705040"/>
                    <a:tab algn="l" pos="3606840"/>
                    <a:tab algn="l" pos="4508640"/>
                    <a:tab algn="l" pos="5410080"/>
                    <a:tab algn="l" pos="6311880"/>
                    <a:tab algn="l" pos="7213680"/>
                    <a:tab algn="l" pos="8115480"/>
                    <a:tab algn="l" pos="9016920"/>
                    <a:tab algn="l" pos="9918720"/>
                    <a:tab algn="l" pos="1082052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70" name=""/>
              <p:cNvGrpSpPr/>
              <p:nvPr/>
            </p:nvGrpSpPr>
            <p:grpSpPr>
              <a:xfrm>
                <a:off x="3976560" y="4742280"/>
                <a:ext cx="1791720" cy="300960"/>
                <a:chOff x="3976560" y="4742280"/>
                <a:chExt cx="1791720" cy="300960"/>
              </a:xfrm>
            </p:grpSpPr>
            <p:grpSp>
              <p:nvGrpSpPr>
                <p:cNvPr id="2371" name=""/>
                <p:cNvGrpSpPr/>
                <p:nvPr/>
              </p:nvGrpSpPr>
              <p:grpSpPr>
                <a:xfrm>
                  <a:off x="3976560" y="4742280"/>
                  <a:ext cx="901800" cy="300960"/>
                  <a:chOff x="3976560" y="4742280"/>
                  <a:chExt cx="901800" cy="300960"/>
                </a:xfrm>
              </p:grpSpPr>
              <p:sp>
                <p:nvSpPr>
                  <p:cNvPr id="2372" name=""/>
                  <p:cNvSpPr/>
                  <p:nvPr/>
                </p:nvSpPr>
                <p:spPr>
                  <a:xfrm>
                    <a:off x="3983040" y="4748760"/>
                    <a:ext cx="838440" cy="273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8720" rIns="1872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3" name=""/>
                  <p:cNvSpPr/>
                  <p:nvPr/>
                </p:nvSpPr>
                <p:spPr>
                  <a:xfrm>
                    <a:off x="3976560" y="4742280"/>
                    <a:ext cx="851400" cy="286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8720" rIns="1872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4" name=""/>
                  <p:cNvSpPr/>
                  <p:nvPr/>
                </p:nvSpPr>
                <p:spPr>
                  <a:xfrm>
                    <a:off x="3983400" y="4762440"/>
                    <a:ext cx="838080" cy="273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8720" rIns="1872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5" name=""/>
                  <p:cNvSpPr/>
                  <p:nvPr/>
                </p:nvSpPr>
                <p:spPr>
                  <a:xfrm>
                    <a:off x="3976920" y="4756320"/>
                    <a:ext cx="851040" cy="286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8720" rIns="1872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6" name=""/>
                  <p:cNvSpPr/>
                  <p:nvPr/>
                </p:nvSpPr>
                <p:spPr>
                  <a:xfrm>
                    <a:off x="4359600" y="4762440"/>
                    <a:ext cx="7344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8720" rIns="1872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7" name=""/>
                  <p:cNvSpPr/>
                  <p:nvPr/>
                </p:nvSpPr>
                <p:spPr>
                  <a:xfrm>
                    <a:off x="4353120" y="4756320"/>
                    <a:ext cx="86400" cy="26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8720" rIns="1872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8" name=""/>
                  <p:cNvSpPr/>
                  <p:nvPr/>
                </p:nvSpPr>
                <p:spPr>
                  <a:xfrm>
                    <a:off x="4384080" y="4761000"/>
                    <a:ext cx="4932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8720" rIns="1872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9" name=""/>
                  <p:cNvSpPr/>
                  <p:nvPr/>
                </p:nvSpPr>
                <p:spPr>
                  <a:xfrm>
                    <a:off x="4377960" y="4754520"/>
                    <a:ext cx="61560" cy="26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8720" rIns="1872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0" name=""/>
                  <p:cNvSpPr/>
                  <p:nvPr/>
                </p:nvSpPr>
                <p:spPr>
                  <a:xfrm>
                    <a:off x="4390200" y="4823640"/>
                    <a:ext cx="37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720" rIns="1872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1" name=""/>
                  <p:cNvSpPr/>
                  <p:nvPr/>
                </p:nvSpPr>
                <p:spPr>
                  <a:xfrm>
                    <a:off x="4390200" y="4948560"/>
                    <a:ext cx="37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720" rIns="1872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2" name=""/>
                  <p:cNvSpPr/>
                  <p:nvPr/>
                </p:nvSpPr>
                <p:spPr>
                  <a:xfrm>
                    <a:off x="4834440" y="4873320"/>
                    <a:ext cx="37440" cy="3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8720" rIns="1872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3" name=""/>
                  <p:cNvSpPr/>
                  <p:nvPr/>
                </p:nvSpPr>
                <p:spPr>
                  <a:xfrm>
                    <a:off x="4828320" y="4867200"/>
                    <a:ext cx="50040" cy="4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8720" rIns="1872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84" name=""/>
                <p:cNvSpPr/>
                <p:nvPr/>
              </p:nvSpPr>
              <p:spPr>
                <a:xfrm>
                  <a:off x="4277520" y="4823280"/>
                  <a:ext cx="112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>
                  <a:off x="4277520" y="4948560"/>
                  <a:ext cx="112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>
                  <a:off x="4891320" y="4885920"/>
                  <a:ext cx="125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>
                  <a:off x="4947840" y="4885920"/>
                  <a:ext cx="194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>
                  <a:off x="5154840" y="4885920"/>
                  <a:ext cx="613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89" name=""/>
            <p:cNvGrpSpPr/>
            <p:nvPr/>
          </p:nvGrpSpPr>
          <p:grpSpPr>
            <a:xfrm>
              <a:off x="5129280" y="3513240"/>
              <a:ext cx="639360" cy="1391760"/>
              <a:chOff x="5129280" y="3513240"/>
              <a:chExt cx="639360" cy="1391760"/>
            </a:xfrm>
          </p:grpSpPr>
          <p:grpSp>
            <p:nvGrpSpPr>
              <p:cNvPr id="2390" name=""/>
              <p:cNvGrpSpPr/>
              <p:nvPr/>
            </p:nvGrpSpPr>
            <p:grpSpPr>
              <a:xfrm>
                <a:off x="5273640" y="3513240"/>
                <a:ext cx="244080" cy="249840"/>
                <a:chOff x="5273640" y="3513240"/>
                <a:chExt cx="244080" cy="249840"/>
              </a:xfrm>
            </p:grpSpPr>
            <p:sp>
              <p:nvSpPr>
                <p:cNvPr id="2391" name=""/>
                <p:cNvSpPr/>
                <p:nvPr/>
              </p:nvSpPr>
              <p:spPr>
                <a:xfrm>
                  <a:off x="5279760" y="3513240"/>
                  <a:ext cx="175320" cy="112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 flipV="1">
                  <a:off x="5279760" y="3625200"/>
                  <a:ext cx="17532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>
                  <a:off x="5273640" y="3513240"/>
                  <a:ext cx="0" cy="237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>
                  <a:off x="5467680" y="3613320"/>
                  <a:ext cx="50040" cy="5004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5" name=""/>
              <p:cNvSpPr/>
              <p:nvPr/>
            </p:nvSpPr>
            <p:spPr>
              <a:xfrm>
                <a:off x="5154480" y="3632040"/>
                <a:ext cx="112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129280" y="4867920"/>
                <a:ext cx="37440" cy="37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5148000" y="3625920"/>
                <a:ext cx="0" cy="125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530680" y="3632040"/>
                <a:ext cx="23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9" name=""/>
            <p:cNvGrpSpPr/>
            <p:nvPr/>
          </p:nvGrpSpPr>
          <p:grpSpPr>
            <a:xfrm>
              <a:off x="3964320" y="4052880"/>
              <a:ext cx="2029320" cy="469800"/>
              <a:chOff x="3964320" y="4052880"/>
              <a:chExt cx="2029320" cy="469800"/>
            </a:xfrm>
          </p:grpSpPr>
          <p:sp>
            <p:nvSpPr>
              <p:cNvPr id="2400" name=""/>
              <p:cNvSpPr/>
              <p:nvPr/>
            </p:nvSpPr>
            <p:spPr>
              <a:xfrm>
                <a:off x="3983040" y="4052880"/>
                <a:ext cx="200520" cy="4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26640" bIns="26640" anchor="t">
                <a:noAutofit/>
              </a:bodyPr>
              <a:p>
                <a:pPr>
                  <a:lnSpc>
                    <a:spcPts val="1672"/>
                  </a:lnSpc>
                  <a:spcAft>
                    <a:spcPts val="1976"/>
                  </a:spcAft>
                  <a:tabLst>
                    <a:tab algn="l" pos="0"/>
                    <a:tab algn="l" pos="450720"/>
                    <a:tab algn="l" pos="901800"/>
                    <a:tab algn="l" pos="1352520"/>
                    <a:tab algn="l" pos="1803240"/>
                    <a:tab algn="l" pos="2705040"/>
                    <a:tab algn="l" pos="3606840"/>
                    <a:tab algn="l" pos="4508640"/>
                    <a:tab algn="l" pos="5410080"/>
                    <a:tab algn="l" pos="6311880"/>
                    <a:tab algn="l" pos="7213680"/>
                    <a:tab algn="l" pos="8115480"/>
                    <a:tab algn="l" pos="9016920"/>
                    <a:tab algn="l" pos="9918720"/>
                    <a:tab algn="l" pos="1082052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01" name=""/>
              <p:cNvGrpSpPr/>
              <p:nvPr/>
            </p:nvGrpSpPr>
            <p:grpSpPr>
              <a:xfrm>
                <a:off x="3964320" y="4115160"/>
                <a:ext cx="2029320" cy="400680"/>
                <a:chOff x="3964320" y="4115160"/>
                <a:chExt cx="2029320" cy="400680"/>
              </a:xfrm>
            </p:grpSpPr>
            <p:sp>
              <p:nvSpPr>
                <p:cNvPr id="2402" name=""/>
                <p:cNvSpPr/>
                <p:nvPr/>
              </p:nvSpPr>
              <p:spPr>
                <a:xfrm flipH="1">
                  <a:off x="5705640" y="4133880"/>
                  <a:ext cx="288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 flipH="1">
                  <a:off x="5705280" y="4384440"/>
                  <a:ext cx="275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04" name=""/>
                <p:cNvGrpSpPr/>
                <p:nvPr/>
              </p:nvGrpSpPr>
              <p:grpSpPr>
                <a:xfrm>
                  <a:off x="3964320" y="4115160"/>
                  <a:ext cx="925920" cy="302040"/>
                  <a:chOff x="3964320" y="4115160"/>
                  <a:chExt cx="925920" cy="302040"/>
                </a:xfrm>
              </p:grpSpPr>
              <p:sp>
                <p:nvSpPr>
                  <p:cNvPr id="2405" name=""/>
                  <p:cNvSpPr/>
                  <p:nvPr/>
                </p:nvSpPr>
                <p:spPr>
                  <a:xfrm>
                    <a:off x="4264920" y="4129560"/>
                    <a:ext cx="162000" cy="287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8720" rIns="1872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6" name=""/>
                  <p:cNvSpPr/>
                  <p:nvPr/>
                </p:nvSpPr>
                <p:spPr>
                  <a:xfrm>
                    <a:off x="4264920" y="4115160"/>
                    <a:ext cx="162000" cy="287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8720" rIns="1872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7" name=""/>
                  <p:cNvSpPr/>
                  <p:nvPr/>
                </p:nvSpPr>
                <p:spPr>
                  <a:xfrm>
                    <a:off x="4377240" y="4196880"/>
                    <a:ext cx="248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720" rIns="1872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8" name=""/>
                  <p:cNvSpPr/>
                  <p:nvPr/>
                </p:nvSpPr>
                <p:spPr>
                  <a:xfrm>
                    <a:off x="4377240" y="4322160"/>
                    <a:ext cx="248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720" rIns="1872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9" name=""/>
                  <p:cNvSpPr/>
                  <p:nvPr/>
                </p:nvSpPr>
                <p:spPr>
                  <a:xfrm>
                    <a:off x="4352760" y="4129560"/>
                    <a:ext cx="136800" cy="26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8720" rIns="1872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0" name=""/>
                  <p:cNvSpPr/>
                  <p:nvPr/>
                </p:nvSpPr>
                <p:spPr>
                  <a:xfrm>
                    <a:off x="3964320" y="4129560"/>
                    <a:ext cx="925920" cy="287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8720" rIns="1872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1" name=""/>
                  <p:cNvSpPr/>
                  <p:nvPr/>
                </p:nvSpPr>
                <p:spPr>
                  <a:xfrm>
                    <a:off x="4013640" y="4115160"/>
                    <a:ext cx="876600" cy="287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8720" rIns="1872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2" name=""/>
                  <p:cNvSpPr/>
                  <p:nvPr/>
                </p:nvSpPr>
                <p:spPr>
                  <a:xfrm>
                    <a:off x="4352400" y="4115160"/>
                    <a:ext cx="137160" cy="287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8720" rIns="1872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13" name=""/>
                <p:cNvSpPr/>
                <p:nvPr/>
              </p:nvSpPr>
              <p:spPr>
                <a:xfrm>
                  <a:off x="4264920" y="4196520"/>
                  <a:ext cx="112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4264920" y="4322160"/>
                  <a:ext cx="112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>
                  <a:off x="4903560" y="4259520"/>
                  <a:ext cx="112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>
                  <a:off x="5004000" y="4240440"/>
                  <a:ext cx="37440" cy="37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720" rIns="1872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>
                  <a:off x="5279760" y="4384440"/>
                  <a:ext cx="112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>
                  <a:off x="5016600" y="4133880"/>
                  <a:ext cx="757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>
                  <a:off x="5022720" y="4140000"/>
                  <a:ext cx="0" cy="244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>
                  <a:off x="5016600" y="4384440"/>
                  <a:ext cx="250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21" name=""/>
                <p:cNvGrpSpPr/>
                <p:nvPr/>
              </p:nvGrpSpPr>
              <p:grpSpPr>
                <a:xfrm>
                  <a:off x="5398920" y="4265640"/>
                  <a:ext cx="369000" cy="250200"/>
                  <a:chOff x="5398920" y="4265640"/>
                  <a:chExt cx="369000" cy="250200"/>
                </a:xfrm>
              </p:grpSpPr>
              <p:sp>
                <p:nvSpPr>
                  <p:cNvPr id="2422" name=""/>
                  <p:cNvSpPr/>
                  <p:nvPr/>
                </p:nvSpPr>
                <p:spPr>
                  <a:xfrm>
                    <a:off x="5404680" y="4265640"/>
                    <a:ext cx="175320" cy="112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720" rIns="1872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3" name=""/>
                  <p:cNvSpPr/>
                  <p:nvPr/>
                </p:nvSpPr>
                <p:spPr>
                  <a:xfrm flipV="1">
                    <a:off x="5404680" y="4378320"/>
                    <a:ext cx="175320" cy="1375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720" rIns="1872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4" name=""/>
                  <p:cNvSpPr/>
                  <p:nvPr/>
                </p:nvSpPr>
                <p:spPr>
                  <a:xfrm>
                    <a:off x="5398920" y="4265640"/>
                    <a:ext cx="0" cy="237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720" rIns="1872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5" name=""/>
                  <p:cNvSpPr/>
                  <p:nvPr/>
                </p:nvSpPr>
                <p:spPr>
                  <a:xfrm>
                    <a:off x="5592960" y="4365720"/>
                    <a:ext cx="50040" cy="500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8720" rIns="18720" tIns="9360" bIns="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6" name=""/>
                  <p:cNvSpPr/>
                  <p:nvPr/>
                </p:nvSpPr>
                <p:spPr>
                  <a:xfrm>
                    <a:off x="5655600" y="4384440"/>
                    <a:ext cx="112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720" rIns="1872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427" name=""/>
            <p:cNvGrpSpPr/>
            <p:nvPr/>
          </p:nvGrpSpPr>
          <p:grpSpPr>
            <a:xfrm>
              <a:off x="3983040" y="3632040"/>
              <a:ext cx="1785240" cy="452520"/>
              <a:chOff x="3983040" y="3632040"/>
              <a:chExt cx="1785240" cy="452520"/>
            </a:xfrm>
          </p:grpSpPr>
          <p:sp>
            <p:nvSpPr>
              <p:cNvPr id="2428" name=""/>
              <p:cNvSpPr/>
              <p:nvPr/>
            </p:nvSpPr>
            <p:spPr>
              <a:xfrm>
                <a:off x="3983040" y="3632040"/>
                <a:ext cx="200520" cy="4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26640" bIns="26640" anchor="t">
                <a:noAutofit/>
              </a:bodyPr>
              <a:p>
                <a:pPr>
                  <a:lnSpc>
                    <a:spcPts val="1672"/>
                  </a:lnSpc>
                  <a:spcAft>
                    <a:spcPts val="1976"/>
                  </a:spcAft>
                  <a:tabLst>
                    <a:tab algn="l" pos="0"/>
                    <a:tab algn="l" pos="450720"/>
                    <a:tab algn="l" pos="901800"/>
                    <a:tab algn="l" pos="1352520"/>
                    <a:tab algn="l" pos="1803240"/>
                    <a:tab algn="l" pos="2705040"/>
                    <a:tab algn="l" pos="3606840"/>
                    <a:tab algn="l" pos="4508640"/>
                    <a:tab algn="l" pos="5410080"/>
                    <a:tab algn="l" pos="6311880"/>
                    <a:tab algn="l" pos="7213680"/>
                    <a:tab algn="l" pos="8115480"/>
                    <a:tab algn="l" pos="9016920"/>
                    <a:tab algn="l" pos="9918720"/>
                    <a:tab algn="l" pos="1082052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29" name=""/>
              <p:cNvGrpSpPr/>
              <p:nvPr/>
            </p:nvGrpSpPr>
            <p:grpSpPr>
              <a:xfrm>
                <a:off x="4271400" y="3726720"/>
                <a:ext cx="1496880" cy="326880"/>
                <a:chOff x="4271400" y="3726720"/>
                <a:chExt cx="1496880" cy="326880"/>
              </a:xfrm>
            </p:grpSpPr>
            <p:grpSp>
              <p:nvGrpSpPr>
                <p:cNvPr id="2430" name=""/>
                <p:cNvGrpSpPr/>
                <p:nvPr/>
              </p:nvGrpSpPr>
              <p:grpSpPr>
                <a:xfrm>
                  <a:off x="4390200" y="3726720"/>
                  <a:ext cx="513000" cy="326880"/>
                  <a:chOff x="4390200" y="3726720"/>
                  <a:chExt cx="513000" cy="326880"/>
                </a:xfrm>
              </p:grpSpPr>
              <p:sp>
                <p:nvSpPr>
                  <p:cNvPr id="2431" name=""/>
                  <p:cNvSpPr/>
                  <p:nvPr/>
                </p:nvSpPr>
                <p:spPr>
                  <a:xfrm>
                    <a:off x="4396320" y="3732480"/>
                    <a:ext cx="300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720" rIns="1872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2" name=""/>
                  <p:cNvSpPr/>
                  <p:nvPr/>
                </p:nvSpPr>
                <p:spPr>
                  <a:xfrm>
                    <a:off x="4396320" y="4034160"/>
                    <a:ext cx="300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720" rIns="1872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3" name=""/>
                  <p:cNvSpPr/>
                  <p:nvPr/>
                </p:nvSpPr>
                <p:spPr>
                  <a:xfrm>
                    <a:off x="4390200" y="3738600"/>
                    <a:ext cx="0" cy="288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720" rIns="1872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4" name=""/>
                  <p:cNvSpPr/>
                  <p:nvPr/>
                </p:nvSpPr>
                <p:spPr>
                  <a:xfrm>
                    <a:off x="4565880" y="3746520"/>
                    <a:ext cx="274320" cy="300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8720" rIns="1872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5" name=""/>
                  <p:cNvSpPr/>
                  <p:nvPr/>
                </p:nvSpPr>
                <p:spPr>
                  <a:xfrm>
                    <a:off x="4559400" y="3740040"/>
                    <a:ext cx="287280" cy="313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8720" rIns="1872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6" name=""/>
                  <p:cNvSpPr/>
                  <p:nvPr/>
                </p:nvSpPr>
                <p:spPr>
                  <a:xfrm>
                    <a:off x="4565520" y="3732840"/>
                    <a:ext cx="274680" cy="300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8720" rIns="1872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7" name=""/>
                  <p:cNvSpPr/>
                  <p:nvPr/>
                </p:nvSpPr>
                <p:spPr>
                  <a:xfrm>
                    <a:off x="4559040" y="3726720"/>
                    <a:ext cx="287640" cy="312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8720" rIns="1872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8" name=""/>
                  <p:cNvSpPr/>
                  <p:nvPr/>
                </p:nvSpPr>
                <p:spPr>
                  <a:xfrm>
                    <a:off x="4865760" y="3870360"/>
                    <a:ext cx="37440" cy="3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8720" rIns="1872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9" name=""/>
                  <p:cNvSpPr/>
                  <p:nvPr/>
                </p:nvSpPr>
                <p:spPr>
                  <a:xfrm>
                    <a:off x="4847040" y="3864600"/>
                    <a:ext cx="49680" cy="500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8720" rIns="18720" tIns="9360" bIns="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40" name=""/>
                <p:cNvSpPr/>
                <p:nvPr/>
              </p:nvSpPr>
              <p:spPr>
                <a:xfrm>
                  <a:off x="4271400" y="3820320"/>
                  <a:ext cx="112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>
                  <a:off x="4271400" y="3945960"/>
                  <a:ext cx="112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>
                  <a:off x="4910400" y="3882960"/>
                  <a:ext cx="112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>
                  <a:off x="5280120" y="3882960"/>
                  <a:ext cx="488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>
                  <a:off x="4960440" y="3882960"/>
                  <a:ext cx="306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45" name=""/>
            <p:cNvGrpSpPr/>
            <p:nvPr/>
          </p:nvGrpSpPr>
          <p:grpSpPr>
            <a:xfrm>
              <a:off x="5254560" y="3863880"/>
              <a:ext cx="514080" cy="902160"/>
              <a:chOff x="5254560" y="3863880"/>
              <a:chExt cx="514080" cy="902160"/>
            </a:xfrm>
          </p:grpSpPr>
          <p:grpSp>
            <p:nvGrpSpPr>
              <p:cNvPr id="2446" name=""/>
              <p:cNvGrpSpPr/>
              <p:nvPr/>
            </p:nvGrpSpPr>
            <p:grpSpPr>
              <a:xfrm>
                <a:off x="5398920" y="4516200"/>
                <a:ext cx="244080" cy="249840"/>
                <a:chOff x="5398920" y="4516200"/>
                <a:chExt cx="244080" cy="249840"/>
              </a:xfrm>
            </p:grpSpPr>
            <p:sp>
              <p:nvSpPr>
                <p:cNvPr id="2447" name=""/>
                <p:cNvSpPr/>
                <p:nvPr/>
              </p:nvSpPr>
              <p:spPr>
                <a:xfrm>
                  <a:off x="5404680" y="4516200"/>
                  <a:ext cx="175320" cy="112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 flipV="1">
                  <a:off x="5404680" y="4628160"/>
                  <a:ext cx="17532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>
                  <a:off x="5398920" y="4516200"/>
                  <a:ext cx="0" cy="237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>
                  <a:off x="5592960" y="4616280"/>
                  <a:ext cx="50040" cy="5004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51" name=""/>
              <p:cNvSpPr/>
              <p:nvPr/>
            </p:nvSpPr>
            <p:spPr>
              <a:xfrm>
                <a:off x="5266800" y="4628880"/>
                <a:ext cx="13176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5254560" y="3863880"/>
                <a:ext cx="37440" cy="37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5273280" y="3889080"/>
                <a:ext cx="0" cy="73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5655960" y="4635360"/>
                <a:ext cx="112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5" name=""/>
            <p:cNvSpPr/>
            <p:nvPr/>
          </p:nvSpPr>
          <p:spPr>
            <a:xfrm>
              <a:off x="7094520" y="5799240"/>
              <a:ext cx="55080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920" rIns="16920" tIns="23760" bIns="23760" anchor="t">
              <a:noAutofit/>
            </a:bodyPr>
            <a:p>
              <a:pPr>
                <a:lnSpc>
                  <a:spcPts val="1672"/>
                </a:lnSpc>
                <a:spcAft>
                  <a:spcPts val="1976"/>
                </a:spcAft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6154560" y="5799240"/>
              <a:ext cx="5511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920" rIns="16920" tIns="23760" bIns="23760" anchor="t">
              <a:noAutofit/>
            </a:bodyPr>
            <a:p>
              <a:pPr>
                <a:lnSpc>
                  <a:spcPts val="1672"/>
                </a:lnSpc>
                <a:spcAft>
                  <a:spcPts val="1976"/>
                </a:spcAft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6605640" y="5799240"/>
              <a:ext cx="55080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920" rIns="16920" tIns="23760" bIns="23760" anchor="t">
              <a:noAutofit/>
            </a:bodyPr>
            <a:p>
              <a:pPr>
                <a:lnSpc>
                  <a:spcPts val="1672"/>
                </a:lnSpc>
                <a:spcAft>
                  <a:spcPts val="1976"/>
                </a:spcAft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6135840" y="3218040"/>
              <a:ext cx="263520" cy="23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920" rIns="16920" tIns="23760" bIns="23760" anchor="t">
              <a:noAutofit/>
            </a:bodyPr>
            <a:p>
              <a:pPr>
                <a:lnSpc>
                  <a:spcPts val="1973"/>
                </a:lnSpc>
                <a:spcAft>
                  <a:spcPts val="1976"/>
                </a:spcAft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6183360" y="5200560"/>
              <a:ext cx="73800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920" rIns="16920" tIns="23760" bIns="23760" anchor="t">
              <a:noAutofit/>
            </a:bodyPr>
            <a:p>
              <a:pPr>
                <a:lnSpc>
                  <a:spcPts val="1672"/>
                </a:lnSpc>
                <a:spcAft>
                  <a:spcPts val="1976"/>
                </a:spcAft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6153120" y="4071960"/>
              <a:ext cx="13017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920" rIns="16920" tIns="23760" bIns="23760" anchor="t">
              <a:noAutofit/>
            </a:bodyPr>
            <a:p>
              <a:pPr algn="ctr">
                <a:lnSpc>
                  <a:spcPts val="1672"/>
                </a:lnSpc>
                <a:spcAft>
                  <a:spcPts val="1976"/>
                </a:spcAft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:1 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6608880" y="5200560"/>
              <a:ext cx="75240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920" rIns="16920" tIns="23760" bIns="23760" anchor="t">
              <a:noAutofit/>
            </a:bodyPr>
            <a:p>
              <a:pPr>
                <a:lnSpc>
                  <a:spcPts val="1672"/>
                </a:lnSpc>
                <a:spcAft>
                  <a:spcPts val="1976"/>
                </a:spcAft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7034040" y="5200560"/>
              <a:ext cx="73980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920" rIns="16920" tIns="23760" bIns="23760" anchor="t">
              <a:noAutofit/>
            </a:bodyPr>
            <a:p>
              <a:pPr>
                <a:lnSpc>
                  <a:spcPts val="1672"/>
                </a:lnSpc>
                <a:spcAft>
                  <a:spcPts val="1976"/>
                </a:spcAft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7516800" y="3895560"/>
              <a:ext cx="6145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920" rIns="16920" tIns="23760" bIns="23760" anchor="t">
              <a:noAutofit/>
            </a:bodyPr>
            <a:p>
              <a:pPr>
                <a:lnSpc>
                  <a:spcPts val="1672"/>
                </a:lnSpc>
                <a:spcAft>
                  <a:spcPts val="1976"/>
                </a:spcAft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6075360" y="3137040"/>
              <a:ext cx="1303200" cy="2307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560" rIns="1656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7385040" y="4259160"/>
              <a:ext cx="38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6560" rIns="1656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 flipH="1">
              <a:off x="5788080" y="3381480"/>
              <a:ext cx="28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560" rIns="1656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 flipH="1">
              <a:off x="5788080" y="3632040"/>
              <a:ext cx="28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560" rIns="1656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 flipH="1">
              <a:off x="5788080" y="3882960"/>
              <a:ext cx="28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560" rIns="1656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6257880" y="5456160"/>
              <a:ext cx="0" cy="37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560" rIns="1656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6708600" y="545616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560" rIns="1656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 flipH="1">
              <a:off x="5787720" y="4635360"/>
              <a:ext cx="27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560" rIns="1656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 flipH="1">
              <a:off x="5787720" y="4886280"/>
              <a:ext cx="27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560" rIns="1656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 flipH="1">
              <a:off x="5787720" y="5137200"/>
              <a:ext cx="27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560" rIns="1656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7184880" y="5445000"/>
              <a:ext cx="0" cy="36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560" rIns="1656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 flipH="1">
              <a:off x="5781240" y="4133880"/>
              <a:ext cx="28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560" rIns="1656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 flipH="1">
              <a:off x="5781240" y="4384800"/>
              <a:ext cx="28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560" rIns="1656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ze the problem and sol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l Feature: Tri-stated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79" name="" descr=""/>
          <p:cNvPicPr/>
          <p:nvPr/>
        </p:nvPicPr>
        <p:blipFill>
          <a:blip r:embed="rId1"/>
          <a:stretch/>
        </p:blipFill>
        <p:spPr>
          <a:xfrm>
            <a:off x="2571840" y="1390680"/>
            <a:ext cx="3998880" cy="4835520"/>
          </a:xfrm>
          <a:prstGeom prst="rect">
            <a:avLst/>
          </a:prstGeom>
          <a:ln w="0">
            <a:noFill/>
          </a:ln>
        </p:spPr>
      </p:pic>
      <p:sp>
        <p:nvSpPr>
          <p:cNvPr id="2480" name=""/>
          <p:cNvSpPr/>
          <p:nvPr/>
        </p:nvSpPr>
        <p:spPr>
          <a:xfrm>
            <a:off x="2185920" y="3801960"/>
            <a:ext cx="160488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280" rIns="17280" tIns="24480" bIns="24480" anchor="t">
            <a:spAutoFit/>
          </a:bodyPr>
          <a:p>
            <a:pPr>
              <a:lnSpc>
                <a:spcPts val="1672"/>
              </a:lnSpc>
              <a:spcBef>
                <a:spcPts val="1250"/>
              </a:spcBef>
              <a:spcAft>
                <a:spcPts val="19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72"/>
              </a:lnSpc>
              <a:spcBef>
                <a:spcPts val="1250"/>
              </a:spcBef>
              <a:spcAft>
                <a:spcPts val="19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ctive L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1806480" y="1639800"/>
            <a:ext cx="1629000" cy="164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l Feature: Individually Tri-stated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83" name="" descr=""/>
          <p:cNvPicPr/>
          <p:nvPr/>
        </p:nvPicPr>
        <p:blipFill>
          <a:blip r:embed="rId1"/>
          <a:stretch/>
        </p:blipFill>
        <p:spPr>
          <a:xfrm>
            <a:off x="2508120" y="1390680"/>
            <a:ext cx="4125960" cy="4835520"/>
          </a:xfrm>
          <a:prstGeom prst="rect">
            <a:avLst/>
          </a:prstGeom>
          <a:ln w="0">
            <a:noFill/>
          </a:ln>
        </p:spPr>
      </p:pic>
      <p:sp>
        <p:nvSpPr>
          <p:cNvPr id="2484" name=""/>
          <p:cNvSpPr/>
          <p:nvPr/>
        </p:nvSpPr>
        <p:spPr>
          <a:xfrm>
            <a:off x="2185920" y="3801960"/>
            <a:ext cx="160488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280" rIns="17280" tIns="24480" bIns="24480" anchor="t">
            <a:spAutoFit/>
          </a:bodyPr>
          <a:p>
            <a:pPr>
              <a:lnSpc>
                <a:spcPts val="1672"/>
              </a:lnSpc>
              <a:spcBef>
                <a:spcPts val="1250"/>
              </a:spcBef>
              <a:spcAft>
                <a:spcPts val="19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72"/>
              </a:lnSpc>
              <a:spcBef>
                <a:spcPts val="1250"/>
              </a:spcBef>
              <a:spcAft>
                <a:spcPts val="19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ctive L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1851120" y="1393920"/>
            <a:ext cx="1628640" cy="164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l Feature: Feedback te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87" name="" descr=""/>
          <p:cNvPicPr/>
          <p:nvPr/>
        </p:nvPicPr>
        <p:blipFill>
          <a:blip r:embed="rId1"/>
          <a:stretch/>
        </p:blipFill>
        <p:spPr>
          <a:xfrm>
            <a:off x="604800" y="1549440"/>
            <a:ext cx="793440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l Feature: Registered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89" name="" descr=""/>
          <p:cNvPicPr/>
          <p:nvPr/>
        </p:nvPicPr>
        <p:blipFill>
          <a:blip r:embed="rId1"/>
          <a:stretch/>
        </p:blipFill>
        <p:spPr>
          <a:xfrm>
            <a:off x="1239840" y="1459080"/>
            <a:ext cx="635472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l Feature: Registers with bypass multiplex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1" name="" descr=""/>
          <p:cNvPicPr/>
          <p:nvPr/>
        </p:nvPicPr>
        <p:blipFill>
          <a:blip r:embed="rId1"/>
          <a:stretch/>
        </p:blipFill>
        <p:spPr>
          <a:xfrm>
            <a:off x="1125360" y="1490760"/>
            <a:ext cx="68248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LC22V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3" name="" descr=""/>
          <p:cNvPicPr/>
          <p:nvPr/>
        </p:nvPicPr>
        <p:blipFill>
          <a:blip r:embed="rId1"/>
          <a:stretch/>
        </p:blipFill>
        <p:spPr>
          <a:xfrm>
            <a:off x="0" y="190440"/>
            <a:ext cx="5118120" cy="6667560"/>
          </a:xfrm>
          <a:prstGeom prst="rect">
            <a:avLst/>
          </a:prstGeom>
          <a:ln w="0">
            <a:noFill/>
          </a:ln>
        </p:spPr>
      </p:pic>
      <p:pic>
        <p:nvPicPr>
          <p:cNvPr id="2494" name="" descr=""/>
          <p:cNvPicPr/>
          <p:nvPr/>
        </p:nvPicPr>
        <p:blipFill>
          <a:blip r:embed="rId2"/>
          <a:stretch/>
        </p:blipFill>
        <p:spPr>
          <a:xfrm>
            <a:off x="4921200" y="1609560"/>
            <a:ext cx="4222800" cy="29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the wire conne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2840" y="1420560"/>
            <a:ext cx="781380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lvl="1" marL="631440" indent="-2426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se: Comes connected; break unwanted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ti-fuse: Comes disconnected; make wanted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785680" y="2681280"/>
            <a:ext cx="15084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0760" y="2681280"/>
            <a:ext cx="12528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647440" y="2674800"/>
            <a:ext cx="28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73440" y="2894040"/>
            <a:ext cx="61920" cy="63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223800" y="2681280"/>
            <a:ext cx="15084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98880" y="2681280"/>
            <a:ext cx="12528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086280" y="2674800"/>
            <a:ext cx="28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98960" y="2894040"/>
            <a:ext cx="63360" cy="63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649320" y="2681280"/>
            <a:ext cx="15084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13240" y="2681280"/>
            <a:ext cx="13644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500280" y="2674800"/>
            <a:ext cx="30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37080" y="2894040"/>
            <a:ext cx="63360" cy="63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89240" y="3138480"/>
            <a:ext cx="33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9240" y="3476520"/>
            <a:ext cx="35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083120" y="3131640"/>
            <a:ext cx="0" cy="35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72120" y="3152880"/>
            <a:ext cx="323280" cy="33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66000" y="3146400"/>
            <a:ext cx="323280" cy="35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71760" y="3140280"/>
            <a:ext cx="323640" cy="3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65640" y="3133800"/>
            <a:ext cx="323640" cy="34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89240" y="4116240"/>
            <a:ext cx="33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89240" y="4454640"/>
            <a:ext cx="35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083120" y="4110120"/>
            <a:ext cx="0" cy="35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72120" y="4143240"/>
            <a:ext cx="32328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6000" y="4124160"/>
            <a:ext cx="323280" cy="36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71760" y="4117680"/>
            <a:ext cx="323640" cy="336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65640" y="4111560"/>
            <a:ext cx="323640" cy="34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89240" y="4618080"/>
            <a:ext cx="33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89240" y="4956120"/>
            <a:ext cx="35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083120" y="4611240"/>
            <a:ext cx="0" cy="35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72120" y="4632480"/>
            <a:ext cx="323280" cy="3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66000" y="4626000"/>
            <a:ext cx="323280" cy="34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71760" y="4619880"/>
            <a:ext cx="323640" cy="3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65640" y="4600440"/>
            <a:ext cx="323640" cy="36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89240" y="5106960"/>
            <a:ext cx="33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89240" y="5432400"/>
            <a:ext cx="35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083120" y="5100480"/>
            <a:ext cx="0" cy="33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72120" y="5121360"/>
            <a:ext cx="323280" cy="3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66000" y="5114880"/>
            <a:ext cx="323280" cy="34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71760" y="5108760"/>
            <a:ext cx="323640" cy="3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65640" y="5102280"/>
            <a:ext cx="323640" cy="34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8120" y="5565600"/>
            <a:ext cx="300600" cy="16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89960" y="5126040"/>
            <a:ext cx="338760" cy="105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05440" y="5177160"/>
            <a:ext cx="335880" cy="100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05440" y="5565600"/>
            <a:ext cx="335880" cy="16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35480" y="5689440"/>
            <a:ext cx="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84640" y="5689440"/>
            <a:ext cx="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16520" y="5565600"/>
            <a:ext cx="301320" cy="16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81960" y="5126040"/>
            <a:ext cx="335880" cy="105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07160" y="5177160"/>
            <a:ext cx="323640" cy="100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07160" y="5565600"/>
            <a:ext cx="323640" cy="16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24600" y="5689440"/>
            <a:ext cx="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86360" y="5689440"/>
            <a:ext cx="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08520" y="5565600"/>
            <a:ext cx="298440" cy="16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70360" y="5126040"/>
            <a:ext cx="336600" cy="105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95920" y="5177160"/>
            <a:ext cx="327240" cy="100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95920" y="5565600"/>
            <a:ext cx="327240" cy="16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13720" y="5689440"/>
            <a:ext cx="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75480" y="5689440"/>
            <a:ext cx="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98360" y="5565600"/>
            <a:ext cx="297360" cy="16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59840" y="5126040"/>
            <a:ext cx="335880" cy="105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85040" y="5177160"/>
            <a:ext cx="339480" cy="100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85040" y="5565600"/>
            <a:ext cx="339480" cy="16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02480" y="5689440"/>
            <a:ext cx="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464600" y="5689440"/>
            <a:ext cx="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89240" y="3627360"/>
            <a:ext cx="33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89240" y="3965400"/>
            <a:ext cx="35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083120" y="3621240"/>
            <a:ext cx="0" cy="35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72120" y="3641760"/>
            <a:ext cx="323280" cy="33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66000" y="3635280"/>
            <a:ext cx="323280" cy="35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71760" y="3629160"/>
            <a:ext cx="323640" cy="3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5640" y="3622680"/>
            <a:ext cx="323640" cy="34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92520" y="295740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92520" y="3094200"/>
            <a:ext cx="0" cy="245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59520" y="6167520"/>
            <a:ext cx="0" cy="13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59520" y="6299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86360" y="5587920"/>
            <a:ext cx="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89640" y="429264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86360" y="4299120"/>
            <a:ext cx="0" cy="132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1160" y="4280040"/>
            <a:ext cx="507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40120" y="4292640"/>
            <a:ext cx="114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92840" y="4292640"/>
            <a:ext cx="220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50080" y="6167520"/>
            <a:ext cx="0" cy="13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50080" y="6299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13720" y="5587920"/>
            <a:ext cx="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24600" y="5587920"/>
            <a:ext cx="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89640" y="330192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13720" y="3308400"/>
            <a:ext cx="0" cy="23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00760" y="3289320"/>
            <a:ext cx="38160" cy="4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24600" y="3308400"/>
            <a:ext cx="0" cy="23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12000" y="3289320"/>
            <a:ext cx="37800" cy="4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40120" y="3301920"/>
            <a:ext cx="127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31080" y="3301920"/>
            <a:ext cx="7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19840" y="3301920"/>
            <a:ext cx="127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75480" y="5587920"/>
            <a:ext cx="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35480" y="5587920"/>
            <a:ext cx="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89640" y="478152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75480" y="4788000"/>
            <a:ext cx="0" cy="83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649920" y="4768920"/>
            <a:ext cx="507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35480" y="4788000"/>
            <a:ext cx="0" cy="83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22880" y="4768920"/>
            <a:ext cx="36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40120" y="4781520"/>
            <a:ext cx="48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41960" y="4781520"/>
            <a:ext cx="142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1960" y="4781520"/>
            <a:ext cx="141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38840" y="6167520"/>
            <a:ext cx="0" cy="13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38840" y="6299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89640" y="527040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02480" y="5587920"/>
            <a:ext cx="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84640" y="5587920"/>
            <a:ext cx="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02480" y="5276880"/>
            <a:ext cx="0" cy="35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89880" y="5257800"/>
            <a:ext cx="50760" cy="4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84640" y="5276880"/>
            <a:ext cx="0" cy="35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72040" y="5257800"/>
            <a:ext cx="50760" cy="4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40120" y="5270400"/>
            <a:ext cx="33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91120" y="5270400"/>
            <a:ext cx="250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08960" y="5270400"/>
            <a:ext cx="48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89640" y="380376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64600" y="5587920"/>
            <a:ext cx="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464600" y="3809880"/>
            <a:ext cx="0" cy="181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440480" y="3778200"/>
            <a:ext cx="49320" cy="4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40120" y="3803760"/>
            <a:ext cx="271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470720" y="380376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27960" y="6167520"/>
            <a:ext cx="0" cy="13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27960" y="6299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92520" y="2543040"/>
            <a:ext cx="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51360" y="3225960"/>
            <a:ext cx="12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51360" y="4229280"/>
            <a:ext cx="12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51360" y="5207040"/>
            <a:ext cx="12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11400" y="5207040"/>
            <a:ext cx="92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05280" y="5181480"/>
            <a:ext cx="37800" cy="5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11400" y="4229280"/>
            <a:ext cx="92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05280" y="420372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11400" y="3225960"/>
            <a:ext cx="92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05280" y="3213000"/>
            <a:ext cx="37800" cy="5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05280" y="240516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05280" y="252396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05280" y="2543040"/>
            <a:ext cx="0" cy="67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05280" y="32320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05280" y="4235400"/>
            <a:ext cx="0" cy="9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05280" y="5213520"/>
            <a:ext cx="0" cy="33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98640" y="2536920"/>
            <a:ext cx="20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30640" y="2543040"/>
            <a:ext cx="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51360" y="3376440"/>
            <a:ext cx="12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49520" y="3376440"/>
            <a:ext cx="48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17840" y="3351240"/>
            <a:ext cx="50760" cy="5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43400" y="240516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17840" y="2523960"/>
            <a:ext cx="507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43400" y="2543040"/>
            <a:ext cx="0" cy="82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43400" y="3382920"/>
            <a:ext cx="0" cy="216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36760" y="2536920"/>
            <a:ext cx="20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30640" y="295740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51360" y="3727440"/>
            <a:ext cx="12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51360" y="4705200"/>
            <a:ext cx="12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30640" y="3094200"/>
            <a:ext cx="0" cy="62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5080" y="3714840"/>
            <a:ext cx="50760" cy="5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30640" y="3733920"/>
            <a:ext cx="0" cy="9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05080" y="4692600"/>
            <a:ext cx="50760" cy="5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30640" y="4711680"/>
            <a:ext cx="0" cy="8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36760" y="4705200"/>
            <a:ext cx="7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36760" y="3727440"/>
            <a:ext cx="7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56160" y="2543040"/>
            <a:ext cx="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70200" y="484344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51360" y="3865680"/>
            <a:ext cx="12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73440" y="4843440"/>
            <a:ext cx="5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43200" y="4830840"/>
            <a:ext cx="36720" cy="5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81520" y="240516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57760" y="2523960"/>
            <a:ext cx="36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1520" y="2543040"/>
            <a:ext cx="0" cy="131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57760" y="3852720"/>
            <a:ext cx="36360" cy="5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81520" y="3871800"/>
            <a:ext cx="0" cy="9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1520" y="4849920"/>
            <a:ext cx="0" cy="7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662280" y="2536920"/>
            <a:ext cx="21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87640" y="3865680"/>
            <a:ext cx="5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56160" y="295740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51360" y="4367160"/>
            <a:ext cx="12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62280" y="4367160"/>
            <a:ext cx="27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43200" y="43545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56160" y="3094200"/>
            <a:ext cx="0" cy="126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6160" y="4373640"/>
            <a:ext cx="0" cy="117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013280" y="534528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92600" y="2173320"/>
            <a:ext cx="537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3040" bIns="23040" anchor="t">
            <a:noAutofit/>
          </a:bodyPr>
          <a:p>
            <a:pPr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30720" y="2160720"/>
            <a:ext cx="537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3040" bIns="23040" anchor="t">
            <a:noAutofit/>
          </a:bodyPr>
          <a:p>
            <a:pPr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755880" y="2160720"/>
            <a:ext cx="5526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3040" bIns="23040" anchor="t">
            <a:noAutofit/>
          </a:bodyPr>
          <a:p>
            <a:pPr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673600" y="6148440"/>
            <a:ext cx="6271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3040" bIns="23040" anchor="t">
            <a:noAutofit/>
          </a:bodyPr>
          <a:p>
            <a:pPr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F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37160" y="6148440"/>
            <a:ext cx="6271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3040" bIns="23040" anchor="t">
            <a:noAutofit/>
          </a:bodyPr>
          <a:p>
            <a:pPr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Tahoma"/>
              </a:rPr>
              <a:t>F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238880" y="6148440"/>
            <a:ext cx="6271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3040" bIns="23040" anchor="t">
            <a:noAutofit/>
          </a:bodyPr>
          <a:p>
            <a:pPr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ae00"/>
                </a:solidFill>
                <a:latin typeface="Tahoma"/>
              </a:rPr>
              <a:t>F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71880" y="6135840"/>
            <a:ext cx="625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3040" bIns="23040" anchor="t">
            <a:noAutofit/>
          </a:bodyPr>
          <a:p>
            <a:pPr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cc3399"/>
                </a:solidFill>
                <a:latin typeface="Tahoma"/>
              </a:rPr>
              <a:t>F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08360" y="3063960"/>
            <a:ext cx="663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3040" bIns="23040" anchor="t">
            <a:noAutofit/>
          </a:bodyPr>
          <a:p>
            <a:pPr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83160" y="3565440"/>
            <a:ext cx="701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3040" bIns="23040" anchor="t">
            <a:noAutofit/>
          </a:bodyPr>
          <a:p>
            <a:pPr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'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95760" y="4054320"/>
            <a:ext cx="701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3040" bIns="23040" anchor="t">
            <a:noAutofit/>
          </a:bodyPr>
          <a:p>
            <a:pPr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83160" y="4543560"/>
            <a:ext cx="7398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3040" bIns="23040" anchor="t">
            <a:noAutofit/>
          </a:bodyPr>
          <a:p>
            <a:pPr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'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08360" y="5032440"/>
            <a:ext cx="538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3040" bIns="23040" anchor="t">
            <a:noAutofit/>
          </a:bodyPr>
          <a:p>
            <a:pPr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7680" y="3011400"/>
            <a:ext cx="2206440" cy="13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5000"/>
          </a:bodyPr>
          <a:p>
            <a:pPr lvl="1" marL="631440" indent="-242640">
              <a:lnSpc>
                <a:spcPct val="105000"/>
              </a:lnSpc>
              <a:tabLst>
                <a:tab algn="l" pos="0"/>
                <a:tab algn="l" pos="1940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F0 = A + B'C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05000"/>
              </a:lnSpc>
              <a:tabLst>
                <a:tab algn="l" pos="0"/>
                <a:tab algn="l" pos="1940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F1 = AC' + 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05000"/>
              </a:lnSpc>
              <a:tabLst>
                <a:tab algn="l" pos="0"/>
                <a:tab algn="l" pos="1940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F2 = B'C' + 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05000"/>
              </a:lnSpc>
              <a:tabLst>
                <a:tab algn="l" pos="0"/>
                <a:tab algn="l" pos="1940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ahoma"/>
              </a:rPr>
              <a:t>F3 = B'C +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82960" y="5186520"/>
            <a:ext cx="2462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280" rIns="17280" tIns="24480" bIns="24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rt-hand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0840" y="1393560"/>
            <a:ext cx="7813800" cy="10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aw multiple wires as a single wire or b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×  signifies a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689040" y="3286080"/>
            <a:ext cx="3406320" cy="2305800"/>
            <a:chOff x="689040" y="3286080"/>
            <a:chExt cx="3406320" cy="2305800"/>
          </a:xfrm>
        </p:grpSpPr>
        <p:sp>
          <p:nvSpPr>
            <p:cNvPr id="262" name=""/>
            <p:cNvSpPr/>
            <p:nvPr/>
          </p:nvSpPr>
          <p:spPr>
            <a:xfrm flipH="1">
              <a:off x="1740960" y="3411360"/>
              <a:ext cx="137520" cy="17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28280" y="3411360"/>
              <a:ext cx="112680" cy="17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1615680" y="3404880"/>
              <a:ext cx="26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91000" y="3524040"/>
              <a:ext cx="50040" cy="50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47080" y="3286080"/>
              <a:ext cx="0" cy="11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810080" y="3586680"/>
              <a:ext cx="0" cy="14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84800" y="3511440"/>
              <a:ext cx="0" cy="152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79000" y="3555360"/>
              <a:ext cx="28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79000" y="3856320"/>
              <a:ext cx="30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2072520" y="3549240"/>
              <a:ext cx="0" cy="31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36320" y="3569400"/>
              <a:ext cx="274320" cy="29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29840" y="3562920"/>
              <a:ext cx="28728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35960" y="3555720"/>
              <a:ext cx="274680" cy="29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29480" y="3549240"/>
              <a:ext cx="2876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89040" y="3705840"/>
              <a:ext cx="136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17480" y="3705840"/>
              <a:ext cx="152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079000" y="3918600"/>
              <a:ext cx="28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79000" y="4219560"/>
              <a:ext cx="30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2072520" y="3912840"/>
              <a:ext cx="0" cy="31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236320" y="3933000"/>
              <a:ext cx="274320" cy="29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229840" y="3926520"/>
              <a:ext cx="28728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35960" y="3919320"/>
              <a:ext cx="274680" cy="29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29480" y="3912840"/>
              <a:ext cx="2876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89040" y="4069440"/>
              <a:ext cx="136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517480" y="4069440"/>
              <a:ext cx="155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79000" y="4282200"/>
              <a:ext cx="28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79000" y="4583160"/>
              <a:ext cx="30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2072520" y="4276080"/>
              <a:ext cx="0" cy="31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36320" y="4296600"/>
              <a:ext cx="274320" cy="29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29840" y="4290120"/>
              <a:ext cx="28728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235960" y="4282920"/>
              <a:ext cx="274680" cy="29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229480" y="4276440"/>
              <a:ext cx="2876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89040" y="4433040"/>
              <a:ext cx="136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17480" y="4433040"/>
              <a:ext cx="155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079000" y="4645800"/>
              <a:ext cx="28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079000" y="4946760"/>
              <a:ext cx="30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2072520" y="4639680"/>
              <a:ext cx="0" cy="31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236320" y="4659840"/>
              <a:ext cx="274320" cy="29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29840" y="4653720"/>
              <a:ext cx="28728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235960" y="4646160"/>
              <a:ext cx="274680" cy="29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229480" y="4639680"/>
              <a:ext cx="2876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9040" y="4796280"/>
              <a:ext cx="136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17480" y="4796280"/>
              <a:ext cx="157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1753560" y="3661920"/>
              <a:ext cx="112320" cy="87480"/>
              <a:chOff x="1753560" y="3661920"/>
              <a:chExt cx="112320" cy="87480"/>
            </a:xfrm>
          </p:grpSpPr>
          <p:sp>
            <p:nvSpPr>
              <p:cNvPr id="306" name=""/>
              <p:cNvSpPr/>
              <p:nvPr/>
            </p:nvSpPr>
            <p:spPr>
              <a:xfrm>
                <a:off x="1765800" y="3661920"/>
                <a:ext cx="874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1753560" y="3661920"/>
                <a:ext cx="11232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1753560" y="4025520"/>
              <a:ext cx="112320" cy="87480"/>
              <a:chOff x="1753560" y="4025520"/>
              <a:chExt cx="112320" cy="87480"/>
            </a:xfrm>
          </p:grpSpPr>
          <p:sp>
            <p:nvSpPr>
              <p:cNvPr id="309" name=""/>
              <p:cNvSpPr/>
              <p:nvPr/>
            </p:nvSpPr>
            <p:spPr>
              <a:xfrm>
                <a:off x="1765800" y="4025520"/>
                <a:ext cx="874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1753560" y="4025520"/>
                <a:ext cx="11232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1753560" y="4388760"/>
              <a:ext cx="112320" cy="87480"/>
              <a:chOff x="1753560" y="4388760"/>
              <a:chExt cx="112320" cy="87480"/>
            </a:xfrm>
          </p:grpSpPr>
          <p:sp>
            <p:nvSpPr>
              <p:cNvPr id="312" name=""/>
              <p:cNvSpPr/>
              <p:nvPr/>
            </p:nvSpPr>
            <p:spPr>
              <a:xfrm>
                <a:off x="1765800" y="4388760"/>
                <a:ext cx="874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1753560" y="4388760"/>
                <a:ext cx="11232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1753560" y="4752360"/>
              <a:ext cx="112320" cy="87480"/>
              <a:chOff x="1753560" y="4752360"/>
              <a:chExt cx="112320" cy="87480"/>
            </a:xfrm>
          </p:grpSpPr>
          <p:sp>
            <p:nvSpPr>
              <p:cNvPr id="315" name=""/>
              <p:cNvSpPr/>
              <p:nvPr/>
            </p:nvSpPr>
            <p:spPr>
              <a:xfrm>
                <a:off x="1765800" y="4752360"/>
                <a:ext cx="874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1753560" y="4752360"/>
                <a:ext cx="11232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1627920" y="3661920"/>
              <a:ext cx="112680" cy="87480"/>
              <a:chOff x="1627920" y="3661920"/>
              <a:chExt cx="112680" cy="87480"/>
            </a:xfrm>
          </p:grpSpPr>
          <p:sp>
            <p:nvSpPr>
              <p:cNvPr id="318" name=""/>
              <p:cNvSpPr/>
              <p:nvPr/>
            </p:nvSpPr>
            <p:spPr>
              <a:xfrm>
                <a:off x="1640520" y="3661920"/>
                <a:ext cx="874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1627920" y="3661920"/>
                <a:ext cx="1126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1627920" y="4025520"/>
              <a:ext cx="112680" cy="87480"/>
              <a:chOff x="1627920" y="4025520"/>
              <a:chExt cx="112680" cy="87480"/>
            </a:xfrm>
          </p:grpSpPr>
          <p:sp>
            <p:nvSpPr>
              <p:cNvPr id="321" name=""/>
              <p:cNvSpPr/>
              <p:nvPr/>
            </p:nvSpPr>
            <p:spPr>
              <a:xfrm>
                <a:off x="1640520" y="4025520"/>
                <a:ext cx="874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1627920" y="4025520"/>
                <a:ext cx="1126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1627920" y="4388760"/>
              <a:ext cx="112680" cy="87480"/>
              <a:chOff x="1627920" y="4388760"/>
              <a:chExt cx="112680" cy="87480"/>
            </a:xfrm>
          </p:grpSpPr>
          <p:sp>
            <p:nvSpPr>
              <p:cNvPr id="324" name=""/>
              <p:cNvSpPr/>
              <p:nvPr/>
            </p:nvSpPr>
            <p:spPr>
              <a:xfrm>
                <a:off x="1640520" y="4388760"/>
                <a:ext cx="874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1627920" y="4388760"/>
                <a:ext cx="1126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1627920" y="4752360"/>
              <a:ext cx="112680" cy="87480"/>
              <a:chOff x="1627920" y="4752360"/>
              <a:chExt cx="112680" cy="87480"/>
            </a:xfrm>
          </p:grpSpPr>
          <p:sp>
            <p:nvSpPr>
              <p:cNvPr id="327" name=""/>
              <p:cNvSpPr/>
              <p:nvPr/>
            </p:nvSpPr>
            <p:spPr>
              <a:xfrm>
                <a:off x="1640520" y="4752360"/>
                <a:ext cx="874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1627920" y="4752360"/>
                <a:ext cx="1126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 flipH="1">
              <a:off x="1452960" y="3411360"/>
              <a:ext cx="137520" cy="17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340280" y="3411360"/>
              <a:ext cx="112320" cy="17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1327680" y="3404880"/>
              <a:ext cx="26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503000" y="3524040"/>
              <a:ext cx="50040" cy="50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459080" y="3286080"/>
              <a:ext cx="0" cy="11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521720" y="3586680"/>
              <a:ext cx="0" cy="14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396440" y="3511440"/>
              <a:ext cx="0" cy="152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1464840" y="3661920"/>
              <a:ext cx="112680" cy="87480"/>
              <a:chOff x="1464840" y="3661920"/>
              <a:chExt cx="112680" cy="87480"/>
            </a:xfrm>
          </p:grpSpPr>
          <p:sp>
            <p:nvSpPr>
              <p:cNvPr id="337" name=""/>
              <p:cNvSpPr/>
              <p:nvPr/>
            </p:nvSpPr>
            <p:spPr>
              <a:xfrm>
                <a:off x="1477800" y="3661920"/>
                <a:ext cx="874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1464840" y="3661920"/>
                <a:ext cx="1126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1464840" y="4025520"/>
              <a:ext cx="112680" cy="87480"/>
              <a:chOff x="1464840" y="4025520"/>
              <a:chExt cx="112680" cy="87480"/>
            </a:xfrm>
          </p:grpSpPr>
          <p:sp>
            <p:nvSpPr>
              <p:cNvPr id="340" name=""/>
              <p:cNvSpPr/>
              <p:nvPr/>
            </p:nvSpPr>
            <p:spPr>
              <a:xfrm>
                <a:off x="1477800" y="4025520"/>
                <a:ext cx="874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1464840" y="4025520"/>
                <a:ext cx="1126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1464840" y="4388760"/>
              <a:ext cx="112680" cy="87480"/>
              <a:chOff x="1464840" y="4388760"/>
              <a:chExt cx="112680" cy="87480"/>
            </a:xfrm>
          </p:grpSpPr>
          <p:sp>
            <p:nvSpPr>
              <p:cNvPr id="343" name=""/>
              <p:cNvSpPr/>
              <p:nvPr/>
            </p:nvSpPr>
            <p:spPr>
              <a:xfrm>
                <a:off x="1477800" y="4388760"/>
                <a:ext cx="874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1464840" y="4388760"/>
                <a:ext cx="1126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1464840" y="4752360"/>
              <a:ext cx="112680" cy="87480"/>
              <a:chOff x="1464840" y="4752360"/>
              <a:chExt cx="112680" cy="87480"/>
            </a:xfrm>
          </p:grpSpPr>
          <p:sp>
            <p:nvSpPr>
              <p:cNvPr id="346" name=""/>
              <p:cNvSpPr/>
              <p:nvPr/>
            </p:nvSpPr>
            <p:spPr>
              <a:xfrm>
                <a:off x="1477800" y="4752360"/>
                <a:ext cx="874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1464840" y="4752360"/>
                <a:ext cx="1126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1340280" y="3661920"/>
              <a:ext cx="112320" cy="87480"/>
              <a:chOff x="1340280" y="3661920"/>
              <a:chExt cx="112320" cy="87480"/>
            </a:xfrm>
          </p:grpSpPr>
          <p:sp>
            <p:nvSpPr>
              <p:cNvPr id="349" name=""/>
              <p:cNvSpPr/>
              <p:nvPr/>
            </p:nvSpPr>
            <p:spPr>
              <a:xfrm>
                <a:off x="1352520" y="3661920"/>
                <a:ext cx="874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1340280" y="3661920"/>
                <a:ext cx="11232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1340280" y="4025520"/>
              <a:ext cx="112320" cy="87480"/>
              <a:chOff x="1340280" y="4025520"/>
              <a:chExt cx="112320" cy="87480"/>
            </a:xfrm>
          </p:grpSpPr>
          <p:sp>
            <p:nvSpPr>
              <p:cNvPr id="352" name=""/>
              <p:cNvSpPr/>
              <p:nvPr/>
            </p:nvSpPr>
            <p:spPr>
              <a:xfrm>
                <a:off x="1352520" y="4025520"/>
                <a:ext cx="874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1340280" y="4025520"/>
                <a:ext cx="11232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340280" y="4388760"/>
              <a:ext cx="112320" cy="87480"/>
              <a:chOff x="1340280" y="4388760"/>
              <a:chExt cx="112320" cy="87480"/>
            </a:xfrm>
          </p:grpSpPr>
          <p:sp>
            <p:nvSpPr>
              <p:cNvPr id="355" name=""/>
              <p:cNvSpPr/>
              <p:nvPr/>
            </p:nvSpPr>
            <p:spPr>
              <a:xfrm>
                <a:off x="1352520" y="4388760"/>
                <a:ext cx="874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1340280" y="4388760"/>
                <a:ext cx="11232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340280" y="4752360"/>
              <a:ext cx="112320" cy="87480"/>
              <a:chOff x="1340280" y="4752360"/>
              <a:chExt cx="112320" cy="87480"/>
            </a:xfrm>
          </p:grpSpPr>
          <p:sp>
            <p:nvSpPr>
              <p:cNvPr id="358" name=""/>
              <p:cNvSpPr/>
              <p:nvPr/>
            </p:nvSpPr>
            <p:spPr>
              <a:xfrm>
                <a:off x="1352520" y="4752360"/>
                <a:ext cx="874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1340280" y="4752360"/>
                <a:ext cx="11232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 flipH="1">
              <a:off x="1164960" y="3411360"/>
              <a:ext cx="137520" cy="17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51920" y="3411360"/>
              <a:ext cx="112680" cy="17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1039680" y="3404880"/>
              <a:ext cx="26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15000" y="3524040"/>
              <a:ext cx="50040" cy="50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171080" y="3286080"/>
              <a:ext cx="0" cy="11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233720" y="3586680"/>
              <a:ext cx="0" cy="14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108440" y="3511440"/>
              <a:ext cx="0" cy="152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1176840" y="3661920"/>
              <a:ext cx="112680" cy="87480"/>
              <a:chOff x="1176840" y="3661920"/>
              <a:chExt cx="112680" cy="87480"/>
            </a:xfrm>
          </p:grpSpPr>
          <p:sp>
            <p:nvSpPr>
              <p:cNvPr id="368" name=""/>
              <p:cNvSpPr/>
              <p:nvPr/>
            </p:nvSpPr>
            <p:spPr>
              <a:xfrm>
                <a:off x="1189440" y="3661920"/>
                <a:ext cx="874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1176840" y="3661920"/>
                <a:ext cx="1126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1176840" y="4025520"/>
              <a:ext cx="112680" cy="87480"/>
              <a:chOff x="1176840" y="4025520"/>
              <a:chExt cx="112680" cy="87480"/>
            </a:xfrm>
          </p:grpSpPr>
          <p:sp>
            <p:nvSpPr>
              <p:cNvPr id="371" name=""/>
              <p:cNvSpPr/>
              <p:nvPr/>
            </p:nvSpPr>
            <p:spPr>
              <a:xfrm>
                <a:off x="1189440" y="4025520"/>
                <a:ext cx="874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1176840" y="4025520"/>
                <a:ext cx="1126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1176840" y="4388760"/>
              <a:ext cx="112680" cy="87480"/>
              <a:chOff x="1176840" y="4388760"/>
              <a:chExt cx="112680" cy="87480"/>
            </a:xfrm>
          </p:grpSpPr>
          <p:sp>
            <p:nvSpPr>
              <p:cNvPr id="374" name=""/>
              <p:cNvSpPr/>
              <p:nvPr/>
            </p:nvSpPr>
            <p:spPr>
              <a:xfrm>
                <a:off x="1189440" y="4388760"/>
                <a:ext cx="874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1176840" y="4388760"/>
                <a:ext cx="1126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1176840" y="4752360"/>
              <a:ext cx="112680" cy="87480"/>
              <a:chOff x="1176840" y="4752360"/>
              <a:chExt cx="112680" cy="87480"/>
            </a:xfrm>
          </p:grpSpPr>
          <p:sp>
            <p:nvSpPr>
              <p:cNvPr id="377" name=""/>
              <p:cNvSpPr/>
              <p:nvPr/>
            </p:nvSpPr>
            <p:spPr>
              <a:xfrm>
                <a:off x="1189440" y="4752360"/>
                <a:ext cx="874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1176840" y="4752360"/>
                <a:ext cx="1126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1051560" y="3661920"/>
              <a:ext cx="112680" cy="87480"/>
              <a:chOff x="1051560" y="3661920"/>
              <a:chExt cx="112680" cy="87480"/>
            </a:xfrm>
          </p:grpSpPr>
          <p:sp>
            <p:nvSpPr>
              <p:cNvPr id="380" name=""/>
              <p:cNvSpPr/>
              <p:nvPr/>
            </p:nvSpPr>
            <p:spPr>
              <a:xfrm>
                <a:off x="1064520" y="3661920"/>
                <a:ext cx="8712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1051560" y="3661920"/>
                <a:ext cx="1126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1051560" y="4025520"/>
              <a:ext cx="112680" cy="87480"/>
              <a:chOff x="1051560" y="4025520"/>
              <a:chExt cx="112680" cy="87480"/>
            </a:xfrm>
          </p:grpSpPr>
          <p:sp>
            <p:nvSpPr>
              <p:cNvPr id="383" name=""/>
              <p:cNvSpPr/>
              <p:nvPr/>
            </p:nvSpPr>
            <p:spPr>
              <a:xfrm>
                <a:off x="1064520" y="4025520"/>
                <a:ext cx="8712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1051560" y="4025520"/>
                <a:ext cx="1126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1051560" y="4388760"/>
              <a:ext cx="112680" cy="87480"/>
              <a:chOff x="1051560" y="4388760"/>
              <a:chExt cx="112680" cy="87480"/>
            </a:xfrm>
          </p:grpSpPr>
          <p:sp>
            <p:nvSpPr>
              <p:cNvPr id="386" name=""/>
              <p:cNvSpPr/>
              <p:nvPr/>
            </p:nvSpPr>
            <p:spPr>
              <a:xfrm>
                <a:off x="1064520" y="4388760"/>
                <a:ext cx="8712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1051560" y="4388760"/>
                <a:ext cx="1126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1051560" y="4752360"/>
              <a:ext cx="112680" cy="87480"/>
              <a:chOff x="1051560" y="4752360"/>
              <a:chExt cx="112680" cy="87480"/>
            </a:xfrm>
          </p:grpSpPr>
          <p:sp>
            <p:nvSpPr>
              <p:cNvPr id="389" name=""/>
              <p:cNvSpPr/>
              <p:nvPr/>
            </p:nvSpPr>
            <p:spPr>
              <a:xfrm>
                <a:off x="1064520" y="4752360"/>
                <a:ext cx="8712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1051560" y="4752360"/>
                <a:ext cx="1126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 flipH="1">
              <a:off x="876600" y="3411360"/>
              <a:ext cx="137520" cy="17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64280" y="3411360"/>
              <a:ext cx="112320" cy="17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751320" y="3404880"/>
              <a:ext cx="26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26640" y="3524040"/>
              <a:ext cx="50400" cy="50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83080" y="3286080"/>
              <a:ext cx="0" cy="11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45360" y="3586680"/>
              <a:ext cx="0" cy="14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20440" y="3511440"/>
              <a:ext cx="0" cy="151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889560" y="3661920"/>
              <a:ext cx="112320" cy="87480"/>
              <a:chOff x="889560" y="3661920"/>
              <a:chExt cx="112320" cy="87480"/>
            </a:xfrm>
          </p:grpSpPr>
          <p:sp>
            <p:nvSpPr>
              <p:cNvPr id="399" name=""/>
              <p:cNvSpPr/>
              <p:nvPr/>
            </p:nvSpPr>
            <p:spPr>
              <a:xfrm>
                <a:off x="901800" y="3661920"/>
                <a:ext cx="874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889560" y="3661920"/>
                <a:ext cx="11232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889560" y="4025520"/>
              <a:ext cx="112320" cy="87480"/>
              <a:chOff x="889560" y="4025520"/>
              <a:chExt cx="112320" cy="87480"/>
            </a:xfrm>
          </p:grpSpPr>
          <p:sp>
            <p:nvSpPr>
              <p:cNvPr id="402" name=""/>
              <p:cNvSpPr/>
              <p:nvPr/>
            </p:nvSpPr>
            <p:spPr>
              <a:xfrm>
                <a:off x="901800" y="4025520"/>
                <a:ext cx="874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889560" y="4025520"/>
                <a:ext cx="11232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889560" y="4388760"/>
              <a:ext cx="112320" cy="87480"/>
              <a:chOff x="889560" y="4388760"/>
              <a:chExt cx="112320" cy="87480"/>
            </a:xfrm>
          </p:grpSpPr>
          <p:sp>
            <p:nvSpPr>
              <p:cNvPr id="405" name=""/>
              <p:cNvSpPr/>
              <p:nvPr/>
            </p:nvSpPr>
            <p:spPr>
              <a:xfrm>
                <a:off x="901800" y="4388760"/>
                <a:ext cx="874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889560" y="4388760"/>
                <a:ext cx="11232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889560" y="4752360"/>
              <a:ext cx="112320" cy="87480"/>
              <a:chOff x="889560" y="4752360"/>
              <a:chExt cx="112320" cy="87480"/>
            </a:xfrm>
          </p:grpSpPr>
          <p:sp>
            <p:nvSpPr>
              <p:cNvPr id="408" name=""/>
              <p:cNvSpPr/>
              <p:nvPr/>
            </p:nvSpPr>
            <p:spPr>
              <a:xfrm>
                <a:off x="901800" y="4752360"/>
                <a:ext cx="874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889560" y="4752360"/>
                <a:ext cx="11232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764280" y="3661920"/>
              <a:ext cx="112320" cy="87480"/>
              <a:chOff x="764280" y="3661920"/>
              <a:chExt cx="112320" cy="87480"/>
            </a:xfrm>
          </p:grpSpPr>
          <p:sp>
            <p:nvSpPr>
              <p:cNvPr id="411" name=""/>
              <p:cNvSpPr/>
              <p:nvPr/>
            </p:nvSpPr>
            <p:spPr>
              <a:xfrm>
                <a:off x="776520" y="3661920"/>
                <a:ext cx="874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764280" y="3661920"/>
                <a:ext cx="11232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764280" y="4025520"/>
              <a:ext cx="112320" cy="87480"/>
              <a:chOff x="764280" y="4025520"/>
              <a:chExt cx="112320" cy="87480"/>
            </a:xfrm>
          </p:grpSpPr>
          <p:sp>
            <p:nvSpPr>
              <p:cNvPr id="414" name=""/>
              <p:cNvSpPr/>
              <p:nvPr/>
            </p:nvSpPr>
            <p:spPr>
              <a:xfrm>
                <a:off x="776520" y="4025520"/>
                <a:ext cx="874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764280" y="4025520"/>
                <a:ext cx="11232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764280" y="4388760"/>
              <a:ext cx="112320" cy="87480"/>
              <a:chOff x="764280" y="4388760"/>
              <a:chExt cx="112320" cy="87480"/>
            </a:xfrm>
          </p:grpSpPr>
          <p:sp>
            <p:nvSpPr>
              <p:cNvPr id="417" name=""/>
              <p:cNvSpPr/>
              <p:nvPr/>
            </p:nvSpPr>
            <p:spPr>
              <a:xfrm>
                <a:off x="776520" y="4388760"/>
                <a:ext cx="874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764280" y="4388760"/>
                <a:ext cx="11232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764280" y="4752360"/>
              <a:ext cx="112320" cy="87480"/>
              <a:chOff x="764280" y="4752360"/>
              <a:chExt cx="112320" cy="87480"/>
            </a:xfrm>
          </p:grpSpPr>
          <p:sp>
            <p:nvSpPr>
              <p:cNvPr id="420" name=""/>
              <p:cNvSpPr/>
              <p:nvPr/>
            </p:nvSpPr>
            <p:spPr>
              <a:xfrm>
                <a:off x="776520" y="4752360"/>
                <a:ext cx="874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764280" y="4752360"/>
                <a:ext cx="11232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2617920" y="3511440"/>
              <a:ext cx="300960" cy="2080440"/>
              <a:chOff x="2617920" y="3511440"/>
              <a:chExt cx="300960" cy="2080440"/>
            </a:xfrm>
          </p:grpSpPr>
          <p:sp>
            <p:nvSpPr>
              <p:cNvPr id="423" name=""/>
              <p:cNvSpPr/>
              <p:nvPr/>
            </p:nvSpPr>
            <p:spPr>
              <a:xfrm>
                <a:off x="2643480" y="4940280"/>
                <a:ext cx="261360" cy="1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617920" y="4539240"/>
                <a:ext cx="286920" cy="939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631960" y="4589640"/>
                <a:ext cx="286920" cy="88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631960" y="4940280"/>
                <a:ext cx="286920" cy="1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761560" y="3511440"/>
                <a:ext cx="0" cy="154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761560" y="5479200"/>
                <a:ext cx="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9" name=""/>
              <p:cNvGrpSpPr/>
              <p:nvPr/>
            </p:nvGrpSpPr>
            <p:grpSpPr>
              <a:xfrm>
                <a:off x="2705400" y="3661560"/>
                <a:ext cx="112320" cy="87480"/>
                <a:chOff x="2705400" y="3661560"/>
                <a:chExt cx="112320" cy="8748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2717640" y="3661560"/>
                  <a:ext cx="87480" cy="8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flipH="1">
                  <a:off x="2705400" y="3661560"/>
                  <a:ext cx="112320" cy="8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2705400" y="4025160"/>
                <a:ext cx="112320" cy="87480"/>
                <a:chOff x="2705400" y="4025160"/>
                <a:chExt cx="112320" cy="8748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2717640" y="4025160"/>
                  <a:ext cx="87480" cy="8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flipH="1">
                  <a:off x="2705400" y="4025160"/>
                  <a:ext cx="112320" cy="8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2705400" y="4388400"/>
                <a:ext cx="112320" cy="87480"/>
                <a:chOff x="2705400" y="4388400"/>
                <a:chExt cx="112320" cy="8748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2717640" y="4388400"/>
                  <a:ext cx="87480" cy="8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flipH="1">
                  <a:off x="2705400" y="4388400"/>
                  <a:ext cx="112320" cy="8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2705400" y="4752000"/>
                <a:ext cx="112320" cy="87480"/>
                <a:chOff x="2705400" y="4752000"/>
                <a:chExt cx="112320" cy="8748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2717640" y="4752000"/>
                  <a:ext cx="87480" cy="8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flipH="1">
                  <a:off x="2705400" y="4752000"/>
                  <a:ext cx="112320" cy="8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1" name=""/>
            <p:cNvGrpSpPr/>
            <p:nvPr/>
          </p:nvGrpSpPr>
          <p:grpSpPr>
            <a:xfrm>
              <a:off x="2980800" y="3511440"/>
              <a:ext cx="300960" cy="2080440"/>
              <a:chOff x="2980800" y="3511440"/>
              <a:chExt cx="300960" cy="2080440"/>
            </a:xfrm>
          </p:grpSpPr>
          <p:sp>
            <p:nvSpPr>
              <p:cNvPr id="442" name=""/>
              <p:cNvSpPr/>
              <p:nvPr/>
            </p:nvSpPr>
            <p:spPr>
              <a:xfrm>
                <a:off x="3006360" y="4940280"/>
                <a:ext cx="261360" cy="1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980800" y="4539240"/>
                <a:ext cx="286920" cy="939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994840" y="4589640"/>
                <a:ext cx="286920" cy="88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994840" y="4940280"/>
                <a:ext cx="286920" cy="1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124440" y="3511440"/>
                <a:ext cx="0" cy="154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124440" y="5479200"/>
                <a:ext cx="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"/>
              <p:cNvGrpSpPr/>
              <p:nvPr/>
            </p:nvGrpSpPr>
            <p:grpSpPr>
              <a:xfrm>
                <a:off x="3068280" y="3661560"/>
                <a:ext cx="112320" cy="87480"/>
                <a:chOff x="3068280" y="3661560"/>
                <a:chExt cx="112320" cy="8748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3080520" y="3661560"/>
                  <a:ext cx="87480" cy="8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flipH="1">
                  <a:off x="3068280" y="3661560"/>
                  <a:ext cx="112320" cy="8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3068280" y="4025160"/>
                <a:ext cx="112320" cy="87480"/>
                <a:chOff x="3068280" y="4025160"/>
                <a:chExt cx="112320" cy="8748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3080520" y="4025160"/>
                  <a:ext cx="87480" cy="8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flipH="1">
                  <a:off x="3068280" y="4025160"/>
                  <a:ext cx="112320" cy="8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3068280" y="4388400"/>
                <a:ext cx="112320" cy="87480"/>
                <a:chOff x="3068280" y="4388400"/>
                <a:chExt cx="112320" cy="8748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3080520" y="4388400"/>
                  <a:ext cx="87480" cy="8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flipH="1">
                  <a:off x="3068280" y="4388400"/>
                  <a:ext cx="112320" cy="8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3068280" y="4752000"/>
                <a:ext cx="112320" cy="87480"/>
                <a:chOff x="3068280" y="4752000"/>
                <a:chExt cx="112320" cy="8748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3080520" y="4752000"/>
                  <a:ext cx="87480" cy="8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flipH="1">
                  <a:off x="3068280" y="4752000"/>
                  <a:ext cx="112320" cy="8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0" name=""/>
            <p:cNvGrpSpPr/>
            <p:nvPr/>
          </p:nvGrpSpPr>
          <p:grpSpPr>
            <a:xfrm>
              <a:off x="3331800" y="3511440"/>
              <a:ext cx="301320" cy="2080440"/>
              <a:chOff x="3331800" y="3511440"/>
              <a:chExt cx="301320" cy="2080440"/>
            </a:xfrm>
          </p:grpSpPr>
          <p:sp>
            <p:nvSpPr>
              <p:cNvPr id="461" name=""/>
              <p:cNvSpPr/>
              <p:nvPr/>
            </p:nvSpPr>
            <p:spPr>
              <a:xfrm>
                <a:off x="3357360" y="4940280"/>
                <a:ext cx="261360" cy="1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331800" y="4539240"/>
                <a:ext cx="286920" cy="939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345480" y="4589640"/>
                <a:ext cx="287640" cy="88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345480" y="4940280"/>
                <a:ext cx="287640" cy="1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475440" y="3511440"/>
                <a:ext cx="0" cy="154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475440" y="5479200"/>
                <a:ext cx="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7" name=""/>
              <p:cNvGrpSpPr/>
              <p:nvPr/>
            </p:nvGrpSpPr>
            <p:grpSpPr>
              <a:xfrm>
                <a:off x="3419280" y="3661560"/>
                <a:ext cx="112320" cy="87480"/>
                <a:chOff x="3419280" y="3661560"/>
                <a:chExt cx="112320" cy="8748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3431520" y="3661560"/>
                  <a:ext cx="87480" cy="8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H="1">
                  <a:off x="3419280" y="3661560"/>
                  <a:ext cx="112320" cy="8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3419280" y="4025160"/>
                <a:ext cx="112320" cy="87480"/>
                <a:chOff x="3419280" y="4025160"/>
                <a:chExt cx="112320" cy="8748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3431520" y="4025160"/>
                  <a:ext cx="87480" cy="8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H="1">
                  <a:off x="3419280" y="4025160"/>
                  <a:ext cx="112320" cy="8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3419280" y="4388400"/>
                <a:ext cx="112320" cy="87480"/>
                <a:chOff x="3419280" y="4388400"/>
                <a:chExt cx="112320" cy="8748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3431520" y="4388400"/>
                  <a:ext cx="87480" cy="8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>
                  <a:off x="3419280" y="4388400"/>
                  <a:ext cx="112320" cy="8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3419280" y="4752000"/>
                <a:ext cx="112320" cy="87480"/>
                <a:chOff x="3419280" y="4752000"/>
                <a:chExt cx="112320" cy="8748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3431520" y="4752000"/>
                  <a:ext cx="87480" cy="8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H="1">
                  <a:off x="3419280" y="4752000"/>
                  <a:ext cx="112320" cy="8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9" name=""/>
            <p:cNvGrpSpPr/>
            <p:nvPr/>
          </p:nvGrpSpPr>
          <p:grpSpPr>
            <a:xfrm>
              <a:off x="3681720" y="3511440"/>
              <a:ext cx="302040" cy="2080440"/>
              <a:chOff x="3681720" y="3511440"/>
              <a:chExt cx="302040" cy="2080440"/>
            </a:xfrm>
          </p:grpSpPr>
          <p:sp>
            <p:nvSpPr>
              <p:cNvPr id="480" name=""/>
              <p:cNvSpPr/>
              <p:nvPr/>
            </p:nvSpPr>
            <p:spPr>
              <a:xfrm>
                <a:off x="3708000" y="4940280"/>
                <a:ext cx="261360" cy="1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681720" y="4539240"/>
                <a:ext cx="287640" cy="939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696120" y="4589640"/>
                <a:ext cx="287640" cy="88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696120" y="4940280"/>
                <a:ext cx="287640" cy="1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825720" y="3511440"/>
                <a:ext cx="0" cy="154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825720" y="5479200"/>
                <a:ext cx="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6" name=""/>
              <p:cNvGrpSpPr/>
              <p:nvPr/>
            </p:nvGrpSpPr>
            <p:grpSpPr>
              <a:xfrm>
                <a:off x="3769920" y="3661560"/>
                <a:ext cx="112320" cy="87480"/>
                <a:chOff x="3769920" y="3661560"/>
                <a:chExt cx="112320" cy="8748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3782160" y="3661560"/>
                  <a:ext cx="87480" cy="8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flipH="1">
                  <a:off x="3769920" y="3661560"/>
                  <a:ext cx="112320" cy="8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3769920" y="4025160"/>
                <a:ext cx="112320" cy="87480"/>
                <a:chOff x="3769920" y="4025160"/>
                <a:chExt cx="112320" cy="8748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3782160" y="4025160"/>
                  <a:ext cx="87480" cy="8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H="1">
                  <a:off x="3769920" y="4025160"/>
                  <a:ext cx="112320" cy="8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3769920" y="4388400"/>
                <a:ext cx="112320" cy="87480"/>
                <a:chOff x="3769920" y="4388400"/>
                <a:chExt cx="112320" cy="8748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3782160" y="4388400"/>
                  <a:ext cx="87480" cy="8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flipH="1">
                  <a:off x="3769920" y="4388400"/>
                  <a:ext cx="112320" cy="8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3769920" y="4752000"/>
                <a:ext cx="112320" cy="87480"/>
                <a:chOff x="3769920" y="4752000"/>
                <a:chExt cx="112320" cy="8748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3782160" y="4752000"/>
                  <a:ext cx="87480" cy="8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>
                  <a:off x="3769920" y="4752000"/>
                  <a:ext cx="112320" cy="8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98" name=""/>
          <p:cNvSpPr/>
          <p:nvPr/>
        </p:nvSpPr>
        <p:spPr>
          <a:xfrm>
            <a:off x="5310360" y="2598840"/>
            <a:ext cx="2955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2075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 u="sng">
                <a:solidFill>
                  <a:srgbClr val="cc3399"/>
                </a:solidFill>
                <a:uFillTx/>
                <a:latin typeface="Tahoma"/>
              </a:rPr>
              <a:t>After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5972040" y="3413160"/>
            <a:ext cx="138240" cy="17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859360" y="3413160"/>
            <a:ext cx="112680" cy="17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5846760" y="3406680"/>
            <a:ext cx="26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-23400" bIns="-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021360" y="352584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978520" y="3287880"/>
            <a:ext cx="0" cy="11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40440" y="3589200"/>
            <a:ext cx="0" cy="145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915160" y="3513240"/>
            <a:ext cx="0" cy="15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310440" y="355752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-23400" bIns="-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310440" y="3857760"/>
            <a:ext cx="29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-23400" bIns="-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6303960" y="3551400"/>
            <a:ext cx="0" cy="31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465960" y="3571920"/>
            <a:ext cx="275760" cy="29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459480" y="3565440"/>
            <a:ext cx="28872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65600" y="3558960"/>
            <a:ext cx="276120" cy="29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59480" y="3552840"/>
            <a:ext cx="28872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919760" y="3708360"/>
            <a:ext cx="136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-23400" bIns="-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748560" y="3708360"/>
            <a:ext cx="152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-23400" bIns="-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310440" y="392112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-23400" bIns="-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310440" y="4221000"/>
            <a:ext cx="29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-23400" bIns="-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6303960" y="3914280"/>
            <a:ext cx="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465960" y="3935520"/>
            <a:ext cx="275760" cy="29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459480" y="3929040"/>
            <a:ext cx="28872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465600" y="3923280"/>
            <a:ext cx="276120" cy="29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459480" y="3916440"/>
            <a:ext cx="28872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19760" y="4071960"/>
            <a:ext cx="136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-23400" bIns="-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748560" y="4071960"/>
            <a:ext cx="155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-23400" bIns="-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310440" y="428472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-23400" bIns="-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310440" y="4584600"/>
            <a:ext cx="29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-23400" bIns="-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6303960" y="4277880"/>
            <a:ext cx="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465960" y="4299120"/>
            <a:ext cx="275760" cy="29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459480" y="4292640"/>
            <a:ext cx="28872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465600" y="4286880"/>
            <a:ext cx="276120" cy="29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459480" y="4280040"/>
            <a:ext cx="28872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919760" y="4435560"/>
            <a:ext cx="136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-23400" bIns="-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748560" y="4435560"/>
            <a:ext cx="155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-23400" bIns="-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310440" y="464832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-23400" bIns="-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310440" y="4948200"/>
            <a:ext cx="29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-23400" bIns="-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6303960" y="4641480"/>
            <a:ext cx="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465960" y="4662360"/>
            <a:ext cx="275760" cy="29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59480" y="4656240"/>
            <a:ext cx="28872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465600" y="4650480"/>
            <a:ext cx="276120" cy="29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59480" y="4643640"/>
            <a:ext cx="28872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919760" y="4799160"/>
            <a:ext cx="136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-23400" bIns="-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748560" y="4799160"/>
            <a:ext cx="157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-23400" bIns="-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5984640" y="4390920"/>
            <a:ext cx="112680" cy="87480"/>
            <a:chOff x="5984640" y="4390920"/>
            <a:chExt cx="112680" cy="87480"/>
          </a:xfrm>
        </p:grpSpPr>
        <p:sp>
          <p:nvSpPr>
            <p:cNvPr id="543" name=""/>
            <p:cNvSpPr/>
            <p:nvPr/>
          </p:nvSpPr>
          <p:spPr>
            <a:xfrm>
              <a:off x="5997240" y="4390920"/>
              <a:ext cx="8748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560" rIns="1656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5984640" y="4390920"/>
              <a:ext cx="11268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560" rIns="1656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5859000" y="4754520"/>
            <a:ext cx="112680" cy="87480"/>
            <a:chOff x="5859000" y="4754520"/>
            <a:chExt cx="112680" cy="87480"/>
          </a:xfrm>
        </p:grpSpPr>
        <p:sp>
          <p:nvSpPr>
            <p:cNvPr id="546" name=""/>
            <p:cNvSpPr/>
            <p:nvPr/>
          </p:nvSpPr>
          <p:spPr>
            <a:xfrm>
              <a:off x="5871600" y="4754520"/>
              <a:ext cx="8748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560" rIns="1656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5859000" y="4754520"/>
              <a:ext cx="11268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560" rIns="1656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" name=""/>
          <p:cNvSpPr/>
          <p:nvPr/>
        </p:nvSpPr>
        <p:spPr>
          <a:xfrm flipH="1">
            <a:off x="5682960" y="3413160"/>
            <a:ext cx="137880" cy="17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70640" y="3413160"/>
            <a:ext cx="112680" cy="17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5557680" y="3406680"/>
            <a:ext cx="26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-23400" bIns="-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734080" y="3525840"/>
            <a:ext cx="4932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689440" y="3287880"/>
            <a:ext cx="0" cy="11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53160" y="3589200"/>
            <a:ext cx="0" cy="145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627520" y="3513240"/>
            <a:ext cx="0" cy="15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5695560" y="4754520"/>
            <a:ext cx="112680" cy="87480"/>
            <a:chOff x="5695560" y="4754520"/>
            <a:chExt cx="112680" cy="87480"/>
          </a:xfrm>
        </p:grpSpPr>
        <p:sp>
          <p:nvSpPr>
            <p:cNvPr id="556" name=""/>
            <p:cNvSpPr/>
            <p:nvPr/>
          </p:nvSpPr>
          <p:spPr>
            <a:xfrm>
              <a:off x="5708520" y="4754520"/>
              <a:ext cx="8748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560" rIns="1656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5695560" y="4754520"/>
              <a:ext cx="11268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560" rIns="1656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5570280" y="4390920"/>
            <a:ext cx="112680" cy="87480"/>
            <a:chOff x="5570280" y="4390920"/>
            <a:chExt cx="112680" cy="87480"/>
          </a:xfrm>
        </p:grpSpPr>
        <p:sp>
          <p:nvSpPr>
            <p:cNvPr id="559" name=""/>
            <p:cNvSpPr/>
            <p:nvPr/>
          </p:nvSpPr>
          <p:spPr>
            <a:xfrm>
              <a:off x="5582880" y="4390920"/>
              <a:ext cx="8748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560" rIns="1656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5570280" y="4390920"/>
              <a:ext cx="11268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560" rIns="1656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 flipH="1">
            <a:off x="5395680" y="3413160"/>
            <a:ext cx="137880" cy="17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283360" y="3413160"/>
            <a:ext cx="112680" cy="17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5270400" y="3406680"/>
            <a:ext cx="26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-23400" bIns="-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445000" y="352584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02160" y="3287880"/>
            <a:ext cx="0" cy="11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464080" y="3589200"/>
            <a:ext cx="0" cy="145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338800" y="3513240"/>
            <a:ext cx="0" cy="15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5408280" y="4027320"/>
            <a:ext cx="112680" cy="87480"/>
            <a:chOff x="5408280" y="4027320"/>
            <a:chExt cx="112680" cy="87480"/>
          </a:xfrm>
        </p:grpSpPr>
        <p:sp>
          <p:nvSpPr>
            <p:cNvPr id="569" name=""/>
            <p:cNvSpPr/>
            <p:nvPr/>
          </p:nvSpPr>
          <p:spPr>
            <a:xfrm>
              <a:off x="5420880" y="4027320"/>
              <a:ext cx="8748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560" rIns="1656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5408280" y="4027320"/>
              <a:ext cx="11268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560" rIns="1656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5283000" y="3664080"/>
            <a:ext cx="112680" cy="87120"/>
            <a:chOff x="5283000" y="3664080"/>
            <a:chExt cx="112680" cy="87120"/>
          </a:xfrm>
        </p:grpSpPr>
        <p:sp>
          <p:nvSpPr>
            <p:cNvPr id="572" name=""/>
            <p:cNvSpPr/>
            <p:nvPr/>
          </p:nvSpPr>
          <p:spPr>
            <a:xfrm>
              <a:off x="5295960" y="3664080"/>
              <a:ext cx="87120" cy="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560" rIns="1656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5283000" y="3664080"/>
              <a:ext cx="112680" cy="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560" rIns="1656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 flipH="1">
            <a:off x="5106960" y="3413160"/>
            <a:ext cx="138240" cy="17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994280" y="3413160"/>
            <a:ext cx="112680" cy="17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981680" y="3406680"/>
            <a:ext cx="26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-23400" bIns="-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157720" y="3525840"/>
            <a:ext cx="4932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113440" y="3287880"/>
            <a:ext cx="0" cy="11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76800" y="3589200"/>
            <a:ext cx="0" cy="145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051520" y="3513240"/>
            <a:ext cx="0" cy="151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119200" y="4027320"/>
            <a:ext cx="112680" cy="87480"/>
            <a:chOff x="5119200" y="4027320"/>
            <a:chExt cx="112680" cy="87480"/>
          </a:xfrm>
        </p:grpSpPr>
        <p:sp>
          <p:nvSpPr>
            <p:cNvPr id="582" name=""/>
            <p:cNvSpPr/>
            <p:nvPr/>
          </p:nvSpPr>
          <p:spPr>
            <a:xfrm>
              <a:off x="5131800" y="4027320"/>
              <a:ext cx="8748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560" rIns="1656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5119200" y="4027320"/>
              <a:ext cx="11268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560" rIns="1656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4993920" y="3664080"/>
            <a:ext cx="112680" cy="87120"/>
            <a:chOff x="4993920" y="3664080"/>
            <a:chExt cx="112680" cy="87120"/>
          </a:xfrm>
        </p:grpSpPr>
        <p:sp>
          <p:nvSpPr>
            <p:cNvPr id="585" name=""/>
            <p:cNvSpPr/>
            <p:nvPr/>
          </p:nvSpPr>
          <p:spPr>
            <a:xfrm>
              <a:off x="5006520" y="3664080"/>
              <a:ext cx="87480" cy="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560" rIns="1656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4993920" y="3664080"/>
              <a:ext cx="112680" cy="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560" rIns="1656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6873840" y="4943160"/>
            <a:ext cx="263160" cy="13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848640" y="4541400"/>
            <a:ext cx="288360" cy="93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862680" y="4592520"/>
            <a:ext cx="288720" cy="88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862680" y="4943160"/>
            <a:ext cx="288720" cy="13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993000" y="3513240"/>
            <a:ext cx="0" cy="154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993000" y="5481720"/>
            <a:ext cx="0" cy="11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6935400" y="3664080"/>
            <a:ext cx="112680" cy="87120"/>
            <a:chOff x="6935400" y="3664080"/>
            <a:chExt cx="112680" cy="87120"/>
          </a:xfrm>
        </p:grpSpPr>
        <p:sp>
          <p:nvSpPr>
            <p:cNvPr id="594" name=""/>
            <p:cNvSpPr/>
            <p:nvPr/>
          </p:nvSpPr>
          <p:spPr>
            <a:xfrm>
              <a:off x="6948000" y="3664080"/>
              <a:ext cx="87480" cy="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560" rIns="1656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6935400" y="3664080"/>
              <a:ext cx="112680" cy="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560" rIns="1656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6935400" y="4027320"/>
            <a:ext cx="112680" cy="87480"/>
            <a:chOff x="6935400" y="4027320"/>
            <a:chExt cx="112680" cy="87480"/>
          </a:xfrm>
        </p:grpSpPr>
        <p:sp>
          <p:nvSpPr>
            <p:cNvPr id="597" name=""/>
            <p:cNvSpPr/>
            <p:nvPr/>
          </p:nvSpPr>
          <p:spPr>
            <a:xfrm>
              <a:off x="6948000" y="4027320"/>
              <a:ext cx="8748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560" rIns="1656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6935400" y="4027320"/>
              <a:ext cx="11268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560" rIns="1656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7238880" y="4943160"/>
            <a:ext cx="260280" cy="13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213680" y="4541400"/>
            <a:ext cx="285480" cy="93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226280" y="4592520"/>
            <a:ext cx="288360" cy="88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226280" y="4943160"/>
            <a:ext cx="288360" cy="13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356600" y="3513240"/>
            <a:ext cx="0" cy="154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356600" y="5481720"/>
            <a:ext cx="0" cy="11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7299000" y="4390920"/>
            <a:ext cx="112680" cy="87480"/>
            <a:chOff x="7299000" y="4390920"/>
            <a:chExt cx="112680" cy="87480"/>
          </a:xfrm>
        </p:grpSpPr>
        <p:sp>
          <p:nvSpPr>
            <p:cNvPr id="606" name=""/>
            <p:cNvSpPr/>
            <p:nvPr/>
          </p:nvSpPr>
          <p:spPr>
            <a:xfrm>
              <a:off x="7311600" y="4390920"/>
              <a:ext cx="8748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560" rIns="1656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7299000" y="4390920"/>
              <a:ext cx="11268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560" rIns="1656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7299000" y="4754520"/>
            <a:ext cx="112680" cy="87480"/>
            <a:chOff x="7299000" y="4754520"/>
            <a:chExt cx="112680" cy="87480"/>
          </a:xfrm>
        </p:grpSpPr>
        <p:sp>
          <p:nvSpPr>
            <p:cNvPr id="609" name=""/>
            <p:cNvSpPr/>
            <p:nvPr/>
          </p:nvSpPr>
          <p:spPr>
            <a:xfrm>
              <a:off x="7311600" y="4754520"/>
              <a:ext cx="8748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560" rIns="1656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7299000" y="4754520"/>
              <a:ext cx="11268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560" rIns="1656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7589520" y="4943160"/>
            <a:ext cx="260280" cy="13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564320" y="4541400"/>
            <a:ext cx="285480" cy="93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577280" y="4592520"/>
            <a:ext cx="284760" cy="88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577280" y="4943160"/>
            <a:ext cx="284760" cy="13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707240" y="3513240"/>
            <a:ext cx="0" cy="154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707240" y="5481720"/>
            <a:ext cx="0" cy="11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937640" y="4943160"/>
            <a:ext cx="263160" cy="13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915320" y="4541400"/>
            <a:ext cx="285480" cy="93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927920" y="4592520"/>
            <a:ext cx="285480" cy="88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927920" y="4943160"/>
            <a:ext cx="285480" cy="13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058240" y="3513240"/>
            <a:ext cx="0" cy="154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8058240" y="5481720"/>
            <a:ext cx="0" cy="11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434280" y="5645160"/>
            <a:ext cx="10778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760" bIns="237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835680" y="5646600"/>
            <a:ext cx="1103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760" bIns="237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305920" y="3548160"/>
            <a:ext cx="6634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760" bIns="23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8318520" y="3898800"/>
            <a:ext cx="725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760" bIns="23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'B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318520" y="4275000"/>
            <a:ext cx="725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760" bIns="23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342280" y="4638600"/>
            <a:ext cx="7272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760" bIns="23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'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000760" y="3043080"/>
            <a:ext cx="53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760" bIns="23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302080" y="3043080"/>
            <a:ext cx="5382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760" bIns="23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576760" y="3043080"/>
            <a:ext cx="5511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760" bIns="23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865840" y="3043080"/>
            <a:ext cx="5508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760" bIns="23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963720" y="2598840"/>
            <a:ext cx="295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2075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 u="sng">
                <a:solidFill>
                  <a:srgbClr val="cc3399"/>
                </a:solidFill>
                <a:uFillTx/>
                <a:latin typeface="Tahoma"/>
              </a:rPr>
              <a:t>Before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307040" y="5573880"/>
            <a:ext cx="198576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0 = AB  + A'B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 = CD' + C'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905040" y="3710160"/>
            <a:ext cx="250164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99"/>
              </a:lnSpc>
              <a:tabLst>
                <a:tab algn="l" pos="0"/>
                <a:tab algn="l" pos="228600"/>
                <a:tab algn="l" pos="457200"/>
                <a:tab algn="l" pos="687240"/>
                <a:tab algn="l" pos="965160"/>
                <a:tab algn="l" pos="1257480"/>
                <a:tab algn="l" pos="1536840"/>
                <a:tab algn="l" pos="182880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5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228600"/>
                <a:tab algn="l" pos="457200"/>
                <a:tab algn="l" pos="687240"/>
                <a:tab algn="l" pos="965160"/>
                <a:tab algn="l" pos="1257480"/>
                <a:tab algn="l" pos="1536840"/>
                <a:tab algn="l" pos="182880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228600"/>
                <a:tab algn="l" pos="457200"/>
                <a:tab algn="l" pos="687240"/>
                <a:tab algn="l" pos="965160"/>
                <a:tab algn="l" pos="1257480"/>
                <a:tab algn="l" pos="1536840"/>
                <a:tab algn="l" pos="182880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1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228600"/>
                <a:tab algn="l" pos="457200"/>
                <a:tab algn="l" pos="687240"/>
                <a:tab algn="l" pos="965160"/>
                <a:tab algn="l" pos="1257480"/>
                <a:tab algn="l" pos="1536840"/>
                <a:tab algn="l" pos="182880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228600"/>
                <a:tab algn="l" pos="457200"/>
                <a:tab algn="l" pos="687240"/>
                <a:tab algn="l" pos="965160"/>
                <a:tab algn="l" pos="1257480"/>
                <a:tab algn="l" pos="1536840"/>
                <a:tab algn="l" pos="182880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228600"/>
                <a:tab algn="l" pos="457200"/>
                <a:tab algn="l" pos="687240"/>
                <a:tab algn="l" pos="965160"/>
                <a:tab algn="l" pos="1257480"/>
                <a:tab algn="l" pos="1536840"/>
                <a:tab algn="l" pos="182880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228600"/>
                <a:tab algn="l" pos="457200"/>
                <a:tab algn="l" pos="687240"/>
                <a:tab algn="l" pos="965160"/>
                <a:tab algn="l" pos="1257480"/>
                <a:tab algn="l" pos="1536840"/>
                <a:tab algn="l" pos="182880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228600"/>
                <a:tab algn="l" pos="457200"/>
                <a:tab algn="l" pos="687240"/>
                <a:tab algn="l" pos="965160"/>
                <a:tab algn="l" pos="1257480"/>
                <a:tab algn="l" pos="1536840"/>
                <a:tab algn="l" pos="182880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228600"/>
                <a:tab algn="l" pos="457200"/>
                <a:tab algn="l" pos="687240"/>
                <a:tab algn="l" pos="965160"/>
                <a:tab algn="l" pos="1257480"/>
                <a:tab algn="l" pos="1536840"/>
                <a:tab algn="l" pos="182880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880920" y="3989520"/>
            <a:ext cx="246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555920" y="3679920"/>
            <a:ext cx="0" cy="2263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4307040" y="1976400"/>
            <a:ext cx="4248000" cy="4495680"/>
            <a:chOff x="4307040" y="1976400"/>
            <a:chExt cx="4248000" cy="4495680"/>
          </a:xfrm>
        </p:grpSpPr>
        <p:sp>
          <p:nvSpPr>
            <p:cNvPr id="639" name=""/>
            <p:cNvSpPr/>
            <p:nvPr/>
          </p:nvSpPr>
          <p:spPr>
            <a:xfrm>
              <a:off x="7856640" y="2395440"/>
              <a:ext cx="698400" cy="30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424480" y="24969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24480" y="28018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5418360" y="24908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83600" y="25113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577120" y="25048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583240" y="24973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576760" y="24908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307040" y="26496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69080" y="264960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424480" y="28652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424480" y="31701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5418360" y="28591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583600" y="28796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577120" y="28731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583240" y="28656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576760" y="28591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07040" y="301788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869080" y="301788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424480" y="32335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424480" y="3538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5418360" y="32274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583600" y="32479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577120" y="32414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583240" y="32338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576760" y="32274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307040" y="338616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869080" y="338616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424480" y="36018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24480" y="3906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5418360" y="35956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583600" y="36162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577120" y="3609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583240" y="36021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576760" y="35956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307040" y="375444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869080" y="375444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5119200" y="2351160"/>
              <a:ext cx="14004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005440" y="2351160"/>
              <a:ext cx="11412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4992480" y="23446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26040" y="22240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189760" y="249084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062680" y="245268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4827600" y="2351160"/>
              <a:ext cx="1396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713480" y="2351160"/>
              <a:ext cx="11412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4700160" y="23446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834080" y="22240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897440" y="249084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770360" y="2439720"/>
              <a:ext cx="0" cy="30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4840200" y="2604960"/>
              <a:ext cx="114480" cy="88920"/>
              <a:chOff x="4840200" y="2604960"/>
              <a:chExt cx="114480" cy="88920"/>
            </a:xfrm>
          </p:grpSpPr>
          <p:sp>
            <p:nvSpPr>
              <p:cNvPr id="689" name=""/>
              <p:cNvSpPr/>
              <p:nvPr/>
            </p:nvSpPr>
            <p:spPr>
              <a:xfrm>
                <a:off x="4853160" y="2604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H="1">
                <a:off x="4840200" y="26049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1" name=""/>
            <p:cNvSpPr/>
            <p:nvPr/>
          </p:nvSpPr>
          <p:spPr>
            <a:xfrm flipH="1">
              <a:off x="4535640" y="2351160"/>
              <a:ext cx="1396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21160" y="2351160"/>
              <a:ext cx="1144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4408200" y="23446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541760" y="22240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605480" y="249084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478400" y="245268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"/>
            <p:cNvGrpSpPr/>
            <p:nvPr/>
          </p:nvGrpSpPr>
          <p:grpSpPr>
            <a:xfrm>
              <a:off x="4547880" y="2604960"/>
              <a:ext cx="114120" cy="88920"/>
              <a:chOff x="4547880" y="2604960"/>
              <a:chExt cx="114120" cy="88920"/>
            </a:xfrm>
          </p:grpSpPr>
          <p:sp>
            <p:nvSpPr>
              <p:cNvPr id="698" name=""/>
              <p:cNvSpPr/>
              <p:nvPr/>
            </p:nvSpPr>
            <p:spPr>
              <a:xfrm>
                <a:off x="4560840" y="2604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>
                <a:off x="4547880" y="2604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0" name=""/>
            <p:cNvSpPr/>
            <p:nvPr/>
          </p:nvSpPr>
          <p:spPr>
            <a:xfrm>
              <a:off x="5996160" y="534816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970960" y="4941720"/>
              <a:ext cx="2912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985000" y="4992840"/>
              <a:ext cx="2912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985000" y="534816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116760" y="245268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116760" y="58942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6" name=""/>
            <p:cNvGrpSpPr/>
            <p:nvPr/>
          </p:nvGrpSpPr>
          <p:grpSpPr>
            <a:xfrm>
              <a:off x="6059520" y="5182920"/>
              <a:ext cx="114480" cy="88920"/>
              <a:chOff x="6059520" y="5182920"/>
              <a:chExt cx="114480" cy="88920"/>
            </a:xfrm>
          </p:grpSpPr>
          <p:sp>
            <p:nvSpPr>
              <p:cNvPr id="707" name=""/>
              <p:cNvSpPr/>
              <p:nvPr/>
            </p:nvSpPr>
            <p:spPr>
              <a:xfrm>
                <a:off x="6072120" y="5182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>
                <a:off x="6059520" y="51829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" name=""/>
            <p:cNvSpPr/>
            <p:nvPr/>
          </p:nvSpPr>
          <p:spPr>
            <a:xfrm>
              <a:off x="6364440" y="534816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338880" y="494172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353280" y="499284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353280" y="534816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485040" y="245268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485040" y="58942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6427800" y="4814640"/>
              <a:ext cx="114480" cy="88920"/>
              <a:chOff x="6427800" y="4814640"/>
              <a:chExt cx="114480" cy="88920"/>
            </a:xfrm>
          </p:grpSpPr>
          <p:sp>
            <p:nvSpPr>
              <p:cNvPr id="716" name=""/>
              <p:cNvSpPr/>
              <p:nvPr/>
            </p:nvSpPr>
            <p:spPr>
              <a:xfrm>
                <a:off x="6440400" y="4814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6427800" y="48146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6427800" y="5182920"/>
              <a:ext cx="114480" cy="88920"/>
              <a:chOff x="6427800" y="5182920"/>
              <a:chExt cx="114480" cy="88920"/>
            </a:xfrm>
          </p:grpSpPr>
          <p:sp>
            <p:nvSpPr>
              <p:cNvPr id="719" name=""/>
              <p:cNvSpPr/>
              <p:nvPr/>
            </p:nvSpPr>
            <p:spPr>
              <a:xfrm>
                <a:off x="6440400" y="5182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6427800" y="51829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1" name=""/>
            <p:cNvSpPr/>
            <p:nvPr/>
          </p:nvSpPr>
          <p:spPr>
            <a:xfrm>
              <a:off x="6720120" y="534816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694920" y="4941720"/>
              <a:ext cx="2912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708960" y="4992840"/>
              <a:ext cx="2912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708960" y="534816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840720" y="245268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840720" y="58942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075800" y="534816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49880" y="494172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64280" y="499284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064280" y="534816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196040" y="245268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196040" y="58942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27640" y="197640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732560" y="1976400"/>
              <a:ext cx="5457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998960" y="197640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444080" y="534816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418160" y="494172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432560" y="499284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432560" y="534816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564320" y="245268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564320" y="58942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424480" y="39700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424480" y="42750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5418360" y="39639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583600" y="398448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577120" y="39780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583240" y="39704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6760" y="39639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307040" y="412272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869080" y="41227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424480" y="43387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424480" y="46432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5418360" y="43322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583600" y="43527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577120" y="43466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583240" y="43387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576760" y="43322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307040" y="44910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869080" y="449100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424480" y="47070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424480" y="50115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5418360" y="47005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583600" y="472104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577120" y="47149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583240" y="47070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576760" y="47005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307040" y="485928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869080" y="485928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424480" y="50752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424480" y="53798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5418360" y="50688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583600" y="508932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577120" y="50832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583240" y="50752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576760" y="50688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307040" y="522756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869080" y="522756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8" name=""/>
            <p:cNvGrpSpPr/>
            <p:nvPr/>
          </p:nvGrpSpPr>
          <p:grpSpPr>
            <a:xfrm>
              <a:off x="5132160" y="2604960"/>
              <a:ext cx="114120" cy="88920"/>
              <a:chOff x="5132160" y="2604960"/>
              <a:chExt cx="114120" cy="88920"/>
            </a:xfrm>
          </p:grpSpPr>
          <p:sp>
            <p:nvSpPr>
              <p:cNvPr id="779" name=""/>
              <p:cNvSpPr/>
              <p:nvPr/>
            </p:nvSpPr>
            <p:spPr>
              <a:xfrm>
                <a:off x="5145120" y="2604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>
                <a:off x="5132160" y="2604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7507080" y="2973240"/>
              <a:ext cx="114120" cy="88920"/>
              <a:chOff x="7507080" y="2973240"/>
              <a:chExt cx="114120" cy="88920"/>
            </a:xfrm>
          </p:grpSpPr>
          <p:sp>
            <p:nvSpPr>
              <p:cNvPr id="782" name=""/>
              <p:cNvSpPr/>
              <p:nvPr/>
            </p:nvSpPr>
            <p:spPr>
              <a:xfrm>
                <a:off x="7520040" y="2973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7507080" y="29732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4" name=""/>
            <p:cNvGrpSpPr/>
            <p:nvPr/>
          </p:nvGrpSpPr>
          <p:grpSpPr>
            <a:xfrm>
              <a:off x="6427800" y="4446360"/>
              <a:ext cx="114480" cy="88920"/>
              <a:chOff x="6427800" y="4446360"/>
              <a:chExt cx="114480" cy="88920"/>
            </a:xfrm>
          </p:grpSpPr>
          <p:sp>
            <p:nvSpPr>
              <p:cNvPr id="785" name=""/>
              <p:cNvSpPr/>
              <p:nvPr/>
            </p:nvSpPr>
            <p:spPr>
              <a:xfrm>
                <a:off x="6440400" y="44463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>
                <a:off x="6427800" y="44463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"/>
            <p:cNvGrpSpPr/>
            <p:nvPr/>
          </p:nvGrpSpPr>
          <p:grpSpPr>
            <a:xfrm>
              <a:off x="6783120" y="2604960"/>
              <a:ext cx="114120" cy="88920"/>
              <a:chOff x="6783120" y="2604960"/>
              <a:chExt cx="114120" cy="88920"/>
            </a:xfrm>
          </p:grpSpPr>
          <p:sp>
            <p:nvSpPr>
              <p:cNvPr id="788" name=""/>
              <p:cNvSpPr/>
              <p:nvPr/>
            </p:nvSpPr>
            <p:spPr>
              <a:xfrm>
                <a:off x="6796080" y="2604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H="1">
                <a:off x="6783120" y="2604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0" name=""/>
            <p:cNvSpPr/>
            <p:nvPr/>
          </p:nvSpPr>
          <p:spPr>
            <a:xfrm>
              <a:off x="5170680" y="246528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878360" y="246528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586400" y="246528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3" name=""/>
            <p:cNvGrpSpPr/>
            <p:nvPr/>
          </p:nvGrpSpPr>
          <p:grpSpPr>
            <a:xfrm>
              <a:off x="4840200" y="2973240"/>
              <a:ext cx="114480" cy="88920"/>
              <a:chOff x="4840200" y="2973240"/>
              <a:chExt cx="114480" cy="88920"/>
            </a:xfrm>
          </p:grpSpPr>
          <p:sp>
            <p:nvSpPr>
              <p:cNvPr id="794" name=""/>
              <p:cNvSpPr/>
              <p:nvPr/>
            </p:nvSpPr>
            <p:spPr>
              <a:xfrm>
                <a:off x="4853160" y="2973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4840200" y="29732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"/>
            <p:cNvGrpSpPr/>
            <p:nvPr/>
          </p:nvGrpSpPr>
          <p:grpSpPr>
            <a:xfrm>
              <a:off x="4547880" y="2973240"/>
              <a:ext cx="114120" cy="88920"/>
              <a:chOff x="4547880" y="2973240"/>
              <a:chExt cx="114120" cy="88920"/>
            </a:xfrm>
          </p:grpSpPr>
          <p:sp>
            <p:nvSpPr>
              <p:cNvPr id="797" name=""/>
              <p:cNvSpPr/>
              <p:nvPr/>
            </p:nvSpPr>
            <p:spPr>
              <a:xfrm>
                <a:off x="4560840" y="2973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H="1">
                <a:off x="4547880" y="29732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5005080" y="2973240"/>
              <a:ext cx="114120" cy="88920"/>
              <a:chOff x="5005080" y="2973240"/>
              <a:chExt cx="114120" cy="88920"/>
            </a:xfrm>
          </p:grpSpPr>
          <p:sp>
            <p:nvSpPr>
              <p:cNvPr id="800" name=""/>
              <p:cNvSpPr/>
              <p:nvPr/>
            </p:nvSpPr>
            <p:spPr>
              <a:xfrm>
                <a:off x="5018040" y="2973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H="1">
                <a:off x="5005080" y="29732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4713120" y="3341520"/>
              <a:ext cx="114120" cy="88920"/>
              <a:chOff x="4713120" y="3341520"/>
              <a:chExt cx="114120" cy="88920"/>
            </a:xfrm>
          </p:grpSpPr>
          <p:sp>
            <p:nvSpPr>
              <p:cNvPr id="803" name=""/>
              <p:cNvSpPr/>
              <p:nvPr/>
            </p:nvSpPr>
            <p:spPr>
              <a:xfrm>
                <a:off x="4726080" y="3341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>
                <a:off x="4713120" y="33415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4547880" y="3341520"/>
              <a:ext cx="114120" cy="88920"/>
              <a:chOff x="4547880" y="3341520"/>
              <a:chExt cx="114120" cy="88920"/>
            </a:xfrm>
          </p:grpSpPr>
          <p:sp>
            <p:nvSpPr>
              <p:cNvPr id="806" name=""/>
              <p:cNvSpPr/>
              <p:nvPr/>
            </p:nvSpPr>
            <p:spPr>
              <a:xfrm>
                <a:off x="4560840" y="3341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H="1">
                <a:off x="4547880" y="33415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132160" y="3341520"/>
              <a:ext cx="114120" cy="88920"/>
              <a:chOff x="5132160" y="3341520"/>
              <a:chExt cx="114120" cy="88920"/>
            </a:xfrm>
          </p:grpSpPr>
          <p:sp>
            <p:nvSpPr>
              <p:cNvPr id="809" name=""/>
              <p:cNvSpPr/>
              <p:nvPr/>
            </p:nvSpPr>
            <p:spPr>
              <a:xfrm>
                <a:off x="5145120" y="3341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H="1">
                <a:off x="5132160" y="33415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4713120" y="3709800"/>
              <a:ext cx="114120" cy="88920"/>
              <a:chOff x="4713120" y="3709800"/>
              <a:chExt cx="114120" cy="88920"/>
            </a:xfrm>
          </p:grpSpPr>
          <p:sp>
            <p:nvSpPr>
              <p:cNvPr id="812" name=""/>
              <p:cNvSpPr/>
              <p:nvPr/>
            </p:nvSpPr>
            <p:spPr>
              <a:xfrm>
                <a:off x="4726080" y="3709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>
                <a:off x="4713120" y="37098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4" name=""/>
            <p:cNvGrpSpPr/>
            <p:nvPr/>
          </p:nvGrpSpPr>
          <p:grpSpPr>
            <a:xfrm>
              <a:off x="4547880" y="3709800"/>
              <a:ext cx="114120" cy="88920"/>
              <a:chOff x="4547880" y="3709800"/>
              <a:chExt cx="114120" cy="88920"/>
            </a:xfrm>
          </p:grpSpPr>
          <p:sp>
            <p:nvSpPr>
              <p:cNvPr id="815" name=""/>
              <p:cNvSpPr/>
              <p:nvPr/>
            </p:nvSpPr>
            <p:spPr>
              <a:xfrm>
                <a:off x="4560840" y="3709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>
                <a:off x="4547880" y="37098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"/>
            <p:cNvGrpSpPr/>
            <p:nvPr/>
          </p:nvGrpSpPr>
          <p:grpSpPr>
            <a:xfrm>
              <a:off x="5005080" y="3709800"/>
              <a:ext cx="114120" cy="88920"/>
              <a:chOff x="5005080" y="3709800"/>
              <a:chExt cx="114120" cy="88920"/>
            </a:xfrm>
          </p:grpSpPr>
          <p:sp>
            <p:nvSpPr>
              <p:cNvPr id="818" name=""/>
              <p:cNvSpPr/>
              <p:nvPr/>
            </p:nvSpPr>
            <p:spPr>
              <a:xfrm>
                <a:off x="5018040" y="3709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H="1">
                <a:off x="5005080" y="37098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"/>
            <p:cNvGrpSpPr/>
            <p:nvPr/>
          </p:nvGrpSpPr>
          <p:grpSpPr>
            <a:xfrm>
              <a:off x="4840200" y="4078080"/>
              <a:ext cx="114480" cy="88920"/>
              <a:chOff x="4840200" y="4078080"/>
              <a:chExt cx="114480" cy="88920"/>
            </a:xfrm>
          </p:grpSpPr>
          <p:sp>
            <p:nvSpPr>
              <p:cNvPr id="821" name=""/>
              <p:cNvSpPr/>
              <p:nvPr/>
            </p:nvSpPr>
            <p:spPr>
              <a:xfrm>
                <a:off x="4853160" y="40780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>
                <a:off x="4840200" y="407808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5132160" y="4078080"/>
              <a:ext cx="114120" cy="88920"/>
              <a:chOff x="5132160" y="4078080"/>
              <a:chExt cx="114120" cy="88920"/>
            </a:xfrm>
          </p:grpSpPr>
          <p:sp>
            <p:nvSpPr>
              <p:cNvPr id="824" name=""/>
              <p:cNvSpPr/>
              <p:nvPr/>
            </p:nvSpPr>
            <p:spPr>
              <a:xfrm>
                <a:off x="5145120" y="40780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5132160" y="40780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"/>
            <p:cNvGrpSpPr/>
            <p:nvPr/>
          </p:nvGrpSpPr>
          <p:grpSpPr>
            <a:xfrm>
              <a:off x="4840200" y="4446360"/>
              <a:ext cx="114480" cy="88920"/>
              <a:chOff x="4840200" y="4446360"/>
              <a:chExt cx="114480" cy="88920"/>
            </a:xfrm>
          </p:grpSpPr>
          <p:sp>
            <p:nvSpPr>
              <p:cNvPr id="827" name=""/>
              <p:cNvSpPr/>
              <p:nvPr/>
            </p:nvSpPr>
            <p:spPr>
              <a:xfrm>
                <a:off x="4853160" y="44463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4840200" y="44463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9" name=""/>
            <p:cNvGrpSpPr/>
            <p:nvPr/>
          </p:nvGrpSpPr>
          <p:grpSpPr>
            <a:xfrm>
              <a:off x="5005080" y="4446360"/>
              <a:ext cx="114120" cy="88920"/>
              <a:chOff x="5005080" y="4446360"/>
              <a:chExt cx="114120" cy="88920"/>
            </a:xfrm>
          </p:grpSpPr>
          <p:sp>
            <p:nvSpPr>
              <p:cNvPr id="830" name=""/>
              <p:cNvSpPr/>
              <p:nvPr/>
            </p:nvSpPr>
            <p:spPr>
              <a:xfrm>
                <a:off x="5018040" y="44463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5005080" y="44463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"/>
            <p:cNvGrpSpPr/>
            <p:nvPr/>
          </p:nvGrpSpPr>
          <p:grpSpPr>
            <a:xfrm>
              <a:off x="4713120" y="4814640"/>
              <a:ext cx="114120" cy="88920"/>
              <a:chOff x="4713120" y="4814640"/>
              <a:chExt cx="114120" cy="88920"/>
            </a:xfrm>
          </p:grpSpPr>
          <p:sp>
            <p:nvSpPr>
              <p:cNvPr id="833" name=""/>
              <p:cNvSpPr/>
              <p:nvPr/>
            </p:nvSpPr>
            <p:spPr>
              <a:xfrm>
                <a:off x="4726080" y="4814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4713120" y="48146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"/>
            <p:cNvGrpSpPr/>
            <p:nvPr/>
          </p:nvGrpSpPr>
          <p:grpSpPr>
            <a:xfrm>
              <a:off x="5132160" y="4814640"/>
              <a:ext cx="114120" cy="88920"/>
              <a:chOff x="5132160" y="4814640"/>
              <a:chExt cx="114120" cy="88920"/>
            </a:xfrm>
          </p:grpSpPr>
          <p:sp>
            <p:nvSpPr>
              <p:cNvPr id="836" name=""/>
              <p:cNvSpPr/>
              <p:nvPr/>
            </p:nvSpPr>
            <p:spPr>
              <a:xfrm>
                <a:off x="5145120" y="4814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>
                <a:off x="5132160" y="48146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"/>
            <p:cNvGrpSpPr/>
            <p:nvPr/>
          </p:nvGrpSpPr>
          <p:grpSpPr>
            <a:xfrm>
              <a:off x="4713120" y="5182920"/>
              <a:ext cx="114120" cy="88920"/>
              <a:chOff x="4713120" y="5182920"/>
              <a:chExt cx="114120" cy="88920"/>
            </a:xfrm>
          </p:grpSpPr>
          <p:sp>
            <p:nvSpPr>
              <p:cNvPr id="839" name=""/>
              <p:cNvSpPr/>
              <p:nvPr/>
            </p:nvSpPr>
            <p:spPr>
              <a:xfrm>
                <a:off x="4726080" y="5182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4713120" y="5182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5005080" y="5182920"/>
              <a:ext cx="114120" cy="88920"/>
              <a:chOff x="5005080" y="5182920"/>
              <a:chExt cx="114120" cy="88920"/>
            </a:xfrm>
          </p:grpSpPr>
          <p:sp>
            <p:nvSpPr>
              <p:cNvPr id="842" name=""/>
              <p:cNvSpPr/>
              <p:nvPr/>
            </p:nvSpPr>
            <p:spPr>
              <a:xfrm>
                <a:off x="5018040" y="5182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5005080" y="5182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4421160" y="4078080"/>
              <a:ext cx="114480" cy="88920"/>
              <a:chOff x="4421160" y="4078080"/>
              <a:chExt cx="114480" cy="88920"/>
            </a:xfrm>
          </p:grpSpPr>
          <p:sp>
            <p:nvSpPr>
              <p:cNvPr id="845" name=""/>
              <p:cNvSpPr/>
              <p:nvPr/>
            </p:nvSpPr>
            <p:spPr>
              <a:xfrm>
                <a:off x="4433760" y="40780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4421160" y="407808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4421160" y="4446360"/>
              <a:ext cx="114480" cy="88920"/>
              <a:chOff x="4421160" y="4446360"/>
              <a:chExt cx="114480" cy="88920"/>
            </a:xfrm>
          </p:grpSpPr>
          <p:sp>
            <p:nvSpPr>
              <p:cNvPr id="848" name=""/>
              <p:cNvSpPr/>
              <p:nvPr/>
            </p:nvSpPr>
            <p:spPr>
              <a:xfrm>
                <a:off x="4433760" y="44463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4421160" y="44463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4421160" y="4814640"/>
              <a:ext cx="114480" cy="88920"/>
              <a:chOff x="4421160" y="4814640"/>
              <a:chExt cx="114480" cy="88920"/>
            </a:xfrm>
          </p:grpSpPr>
          <p:sp>
            <p:nvSpPr>
              <p:cNvPr id="851" name=""/>
              <p:cNvSpPr/>
              <p:nvPr/>
            </p:nvSpPr>
            <p:spPr>
              <a:xfrm>
                <a:off x="4433760" y="4814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4421160" y="48146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4421160" y="5182920"/>
              <a:ext cx="114480" cy="88920"/>
              <a:chOff x="4421160" y="5182920"/>
              <a:chExt cx="114480" cy="88920"/>
            </a:xfrm>
          </p:grpSpPr>
          <p:sp>
            <p:nvSpPr>
              <p:cNvPr id="854" name=""/>
              <p:cNvSpPr/>
              <p:nvPr/>
            </p:nvSpPr>
            <p:spPr>
              <a:xfrm>
                <a:off x="4433760" y="5182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4421160" y="51829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"/>
            <p:cNvGrpSpPr/>
            <p:nvPr/>
          </p:nvGrpSpPr>
          <p:grpSpPr>
            <a:xfrm>
              <a:off x="6427800" y="3722760"/>
              <a:ext cx="114480" cy="88560"/>
              <a:chOff x="6427800" y="3722760"/>
              <a:chExt cx="114480" cy="88560"/>
            </a:xfrm>
          </p:grpSpPr>
          <p:sp>
            <p:nvSpPr>
              <p:cNvPr id="857" name=""/>
              <p:cNvSpPr/>
              <p:nvPr/>
            </p:nvSpPr>
            <p:spPr>
              <a:xfrm>
                <a:off x="6440400" y="3722760"/>
                <a:ext cx="88920" cy="8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H="1">
                <a:off x="6427800" y="3722760"/>
                <a:ext cx="114480" cy="8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"/>
            <p:cNvGrpSpPr/>
            <p:nvPr/>
          </p:nvGrpSpPr>
          <p:grpSpPr>
            <a:xfrm>
              <a:off x="6427800" y="4078080"/>
              <a:ext cx="114480" cy="88920"/>
              <a:chOff x="6427800" y="4078080"/>
              <a:chExt cx="114480" cy="88920"/>
            </a:xfrm>
          </p:grpSpPr>
          <p:sp>
            <p:nvSpPr>
              <p:cNvPr id="860" name=""/>
              <p:cNvSpPr/>
              <p:nvPr/>
            </p:nvSpPr>
            <p:spPr>
              <a:xfrm>
                <a:off x="6440400" y="40780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H="1">
                <a:off x="6427800" y="407808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6427800" y="3341520"/>
              <a:ext cx="114480" cy="88920"/>
              <a:chOff x="6427800" y="3341520"/>
              <a:chExt cx="114480" cy="88920"/>
            </a:xfrm>
          </p:grpSpPr>
          <p:sp>
            <p:nvSpPr>
              <p:cNvPr id="863" name=""/>
              <p:cNvSpPr/>
              <p:nvPr/>
            </p:nvSpPr>
            <p:spPr>
              <a:xfrm>
                <a:off x="6440400" y="3341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6427800" y="33415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5" name=""/>
            <p:cNvGrpSpPr/>
            <p:nvPr/>
          </p:nvGrpSpPr>
          <p:grpSpPr>
            <a:xfrm>
              <a:off x="7138800" y="4446360"/>
              <a:ext cx="114120" cy="88920"/>
              <a:chOff x="7138800" y="4446360"/>
              <a:chExt cx="114120" cy="88920"/>
            </a:xfrm>
          </p:grpSpPr>
          <p:sp>
            <p:nvSpPr>
              <p:cNvPr id="866" name=""/>
              <p:cNvSpPr/>
              <p:nvPr/>
            </p:nvSpPr>
            <p:spPr>
              <a:xfrm>
                <a:off x="7151760" y="44463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7138800" y="44463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7138800" y="4814640"/>
              <a:ext cx="114120" cy="88920"/>
              <a:chOff x="7138800" y="4814640"/>
              <a:chExt cx="114120" cy="88920"/>
            </a:xfrm>
          </p:grpSpPr>
          <p:sp>
            <p:nvSpPr>
              <p:cNvPr id="869" name=""/>
              <p:cNvSpPr/>
              <p:nvPr/>
            </p:nvSpPr>
            <p:spPr>
              <a:xfrm>
                <a:off x="7151760" y="4814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7138800" y="48146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1" name=""/>
            <p:cNvGrpSpPr/>
            <p:nvPr/>
          </p:nvGrpSpPr>
          <p:grpSpPr>
            <a:xfrm>
              <a:off x="7138800" y="4078080"/>
              <a:ext cx="114120" cy="88920"/>
              <a:chOff x="7138800" y="4078080"/>
              <a:chExt cx="114120" cy="88920"/>
            </a:xfrm>
          </p:grpSpPr>
          <p:sp>
            <p:nvSpPr>
              <p:cNvPr id="872" name=""/>
              <p:cNvSpPr/>
              <p:nvPr/>
            </p:nvSpPr>
            <p:spPr>
              <a:xfrm>
                <a:off x="7151760" y="40780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H="1">
                <a:off x="7138800" y="40780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"/>
            <p:cNvGrpSpPr/>
            <p:nvPr/>
          </p:nvGrpSpPr>
          <p:grpSpPr>
            <a:xfrm>
              <a:off x="7138800" y="3341520"/>
              <a:ext cx="114120" cy="88920"/>
              <a:chOff x="7138800" y="3341520"/>
              <a:chExt cx="114120" cy="88920"/>
            </a:xfrm>
          </p:grpSpPr>
          <p:sp>
            <p:nvSpPr>
              <p:cNvPr id="875" name=""/>
              <p:cNvSpPr/>
              <p:nvPr/>
            </p:nvSpPr>
            <p:spPr>
              <a:xfrm>
                <a:off x="7151760" y="3341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H="1">
                <a:off x="7138800" y="33415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"/>
            <p:cNvGrpSpPr/>
            <p:nvPr/>
          </p:nvGrpSpPr>
          <p:grpSpPr>
            <a:xfrm>
              <a:off x="7138800" y="3709800"/>
              <a:ext cx="114120" cy="88920"/>
              <a:chOff x="7138800" y="3709800"/>
              <a:chExt cx="114120" cy="88920"/>
            </a:xfrm>
          </p:grpSpPr>
          <p:sp>
            <p:nvSpPr>
              <p:cNvPr id="878" name=""/>
              <p:cNvSpPr/>
              <p:nvPr/>
            </p:nvSpPr>
            <p:spPr>
              <a:xfrm>
                <a:off x="7151760" y="3709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H="1">
                <a:off x="7138800" y="37098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"/>
            <p:cNvGrpSpPr/>
            <p:nvPr/>
          </p:nvGrpSpPr>
          <p:grpSpPr>
            <a:xfrm>
              <a:off x="7138800" y="2973240"/>
              <a:ext cx="114120" cy="88920"/>
              <a:chOff x="7138800" y="2973240"/>
              <a:chExt cx="114120" cy="88920"/>
            </a:xfrm>
          </p:grpSpPr>
          <p:sp>
            <p:nvSpPr>
              <p:cNvPr id="881" name=""/>
              <p:cNvSpPr/>
              <p:nvPr/>
            </p:nvSpPr>
            <p:spPr>
              <a:xfrm>
                <a:off x="7151760" y="2973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>
                <a:off x="7138800" y="29732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3" name=""/>
            <p:cNvGrpSpPr/>
            <p:nvPr/>
          </p:nvGrpSpPr>
          <p:grpSpPr>
            <a:xfrm>
              <a:off x="6427800" y="2973240"/>
              <a:ext cx="114480" cy="88920"/>
              <a:chOff x="6427800" y="2973240"/>
              <a:chExt cx="114480" cy="88920"/>
            </a:xfrm>
          </p:grpSpPr>
          <p:sp>
            <p:nvSpPr>
              <p:cNvPr id="884" name=""/>
              <p:cNvSpPr/>
              <p:nvPr/>
            </p:nvSpPr>
            <p:spPr>
              <a:xfrm>
                <a:off x="6440400" y="2973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>
                <a:off x="6427800" y="29732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"/>
            <p:cNvGrpSpPr/>
            <p:nvPr/>
          </p:nvGrpSpPr>
          <p:grpSpPr>
            <a:xfrm>
              <a:off x="7138800" y="2604960"/>
              <a:ext cx="114120" cy="88920"/>
              <a:chOff x="7138800" y="2604960"/>
              <a:chExt cx="114120" cy="88920"/>
            </a:xfrm>
          </p:grpSpPr>
          <p:sp>
            <p:nvSpPr>
              <p:cNvPr id="887" name=""/>
              <p:cNvSpPr/>
              <p:nvPr/>
            </p:nvSpPr>
            <p:spPr>
              <a:xfrm>
                <a:off x="7151760" y="2604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flipH="1">
                <a:off x="7138800" y="2604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"/>
            <p:cNvGrpSpPr/>
            <p:nvPr/>
          </p:nvGrpSpPr>
          <p:grpSpPr>
            <a:xfrm>
              <a:off x="7507080" y="3341520"/>
              <a:ext cx="114120" cy="88920"/>
              <a:chOff x="7507080" y="3341520"/>
              <a:chExt cx="114120" cy="88920"/>
            </a:xfrm>
          </p:grpSpPr>
          <p:sp>
            <p:nvSpPr>
              <p:cNvPr id="890" name=""/>
              <p:cNvSpPr/>
              <p:nvPr/>
            </p:nvSpPr>
            <p:spPr>
              <a:xfrm>
                <a:off x="7520040" y="3341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H="1">
                <a:off x="7507080" y="33415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"/>
            <p:cNvGrpSpPr/>
            <p:nvPr/>
          </p:nvGrpSpPr>
          <p:grpSpPr>
            <a:xfrm>
              <a:off x="7507080" y="4078080"/>
              <a:ext cx="114120" cy="88920"/>
              <a:chOff x="7507080" y="4078080"/>
              <a:chExt cx="114120" cy="88920"/>
            </a:xfrm>
          </p:grpSpPr>
          <p:sp>
            <p:nvSpPr>
              <p:cNvPr id="893" name=""/>
              <p:cNvSpPr/>
              <p:nvPr/>
            </p:nvSpPr>
            <p:spPr>
              <a:xfrm>
                <a:off x="7520040" y="40780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H="1">
                <a:off x="7507080" y="40780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"/>
            <p:cNvGrpSpPr/>
            <p:nvPr/>
          </p:nvGrpSpPr>
          <p:grpSpPr>
            <a:xfrm>
              <a:off x="7507080" y="5182920"/>
              <a:ext cx="114120" cy="88920"/>
              <a:chOff x="7507080" y="5182920"/>
              <a:chExt cx="114120" cy="88920"/>
            </a:xfrm>
          </p:grpSpPr>
          <p:sp>
            <p:nvSpPr>
              <p:cNvPr id="896" name=""/>
              <p:cNvSpPr/>
              <p:nvPr/>
            </p:nvSpPr>
            <p:spPr>
              <a:xfrm>
                <a:off x="7520040" y="5182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7507080" y="5182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8" name=""/>
            <p:cNvSpPr/>
            <p:nvPr/>
          </p:nvSpPr>
          <p:spPr>
            <a:xfrm>
              <a:off x="5977080" y="5976720"/>
              <a:ext cx="6350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307200" y="5976720"/>
              <a:ext cx="6350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675480" y="5976720"/>
              <a:ext cx="6350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031160" y="5976720"/>
              <a:ext cx="6350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399440" y="5976720"/>
              <a:ext cx="6350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399440" y="614196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4" name=""/>
          <p:cNvSpPr/>
          <p:nvPr/>
        </p:nvSpPr>
        <p:spPr>
          <a:xfrm>
            <a:off x="4344840" y="2262240"/>
            <a:ext cx="1587600" cy="317484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5640480" y="1776240"/>
            <a:ext cx="279360" cy="486000"/>
          </a:xfrm>
          <a:prstGeom prst="line">
            <a:avLst/>
          </a:prstGeom>
          <a:ln w="19080">
            <a:solidFill>
              <a:srgbClr val="cc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132440" y="1411200"/>
            <a:ext cx="41655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ink of as a memory-address dec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7002360" y="2136240"/>
            <a:ext cx="155520" cy="333720"/>
          </a:xfrm>
          <a:prstGeom prst="line">
            <a:avLst/>
          </a:prstGeom>
          <a:ln w="19080">
            <a:solidFill>
              <a:srgbClr val="cc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746760" y="1789200"/>
            <a:ext cx="15987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emory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258480" y="1428840"/>
            <a:ext cx="3243240" cy="22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lvl="1" marL="705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1 = AB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2 = A + B +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3 = A' B' C'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4 = A' + B' + C'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5 = A xor B xor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6 = A xnor B xnor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s versus P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37600" y="1460520"/>
            <a:ext cx="5210280" cy="289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've been looking at PL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lly programmable AND / OR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3480" indent="-19656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 share AND te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mable array logic (P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able AND arra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 array is prew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3480" indent="-19656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sharing 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33480" indent="-19656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aper and faster than PL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5354640" y="2401920"/>
            <a:ext cx="3314160" cy="3749760"/>
            <a:chOff x="5354640" y="2401920"/>
            <a:chExt cx="3314160" cy="3749760"/>
          </a:xfrm>
        </p:grpSpPr>
        <p:sp>
          <p:nvSpPr>
            <p:cNvPr id="914" name=""/>
            <p:cNvSpPr/>
            <p:nvPr/>
          </p:nvSpPr>
          <p:spPr>
            <a:xfrm>
              <a:off x="6700680" y="2675160"/>
              <a:ext cx="29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700680" y="297972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6694200" y="26686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860160" y="2689200"/>
              <a:ext cx="27792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853680" y="268308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859800" y="2675160"/>
              <a:ext cx="2782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853320" y="266868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354640" y="2827440"/>
              <a:ext cx="132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145280" y="2827440"/>
              <a:ext cx="152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700680" y="3043440"/>
              <a:ext cx="29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700680" y="334800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V="1">
              <a:off x="6694200" y="30369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860160" y="3057480"/>
              <a:ext cx="27792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853680" y="305136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859800" y="3043440"/>
              <a:ext cx="2782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853320" y="303696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354640" y="3195720"/>
              <a:ext cx="132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145280" y="3195720"/>
              <a:ext cx="152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700680" y="3411720"/>
              <a:ext cx="29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700680" y="371628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V="1">
              <a:off x="6694200" y="34052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860160" y="3425760"/>
              <a:ext cx="27792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853680" y="341964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859800" y="3411720"/>
              <a:ext cx="2782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853320" y="340524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354640" y="3564000"/>
              <a:ext cx="132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145280" y="3564000"/>
              <a:ext cx="152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700680" y="3780000"/>
              <a:ext cx="29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700680" y="408456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6694200" y="37735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860160" y="3794040"/>
              <a:ext cx="27792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853680" y="378792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859800" y="3780000"/>
              <a:ext cx="2782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853320" y="377352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354640" y="3932280"/>
              <a:ext cx="132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145280" y="3932280"/>
              <a:ext cx="152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6395400" y="2529000"/>
              <a:ext cx="1393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281640" y="2529000"/>
              <a:ext cx="11376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6268680" y="252252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402240" y="2401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465600" y="266868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338520" y="263052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>
              <a:off x="6103440" y="2529000"/>
              <a:ext cx="1393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989320" y="252900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>
              <a:off x="5976720" y="252252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109920" y="2401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173640" y="266868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046560" y="2617920"/>
              <a:ext cx="0" cy="30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5811120" y="2529000"/>
              <a:ext cx="1393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697360" y="2529000"/>
              <a:ext cx="11376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5684400" y="2522520"/>
              <a:ext cx="26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817960" y="2401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881320" y="266868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754600" y="263052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272720" y="5491080"/>
              <a:ext cx="26532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246800" y="5084640"/>
              <a:ext cx="2912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260840" y="5135760"/>
              <a:ext cx="2912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260840" y="549108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392600" y="263052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392600" y="60372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641000" y="5491080"/>
              <a:ext cx="26532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615800" y="5084640"/>
              <a:ext cx="29052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629120" y="5135760"/>
              <a:ext cx="2912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629120" y="549108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761240" y="263052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61240" y="60372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996680" y="5491080"/>
              <a:ext cx="26532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970760" y="5084640"/>
              <a:ext cx="2912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984800" y="5135760"/>
              <a:ext cx="2912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984800" y="549108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8116560" y="263052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116560" y="60372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8351640" y="549108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8326440" y="5084640"/>
              <a:ext cx="2912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8340480" y="5135760"/>
              <a:ext cx="2912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8340480" y="549108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8472240" y="263052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8472240" y="60372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700680" y="4148280"/>
              <a:ext cx="29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700680" y="445284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V="1">
              <a:off x="6694200" y="41418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860160" y="4162320"/>
              <a:ext cx="27792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853680" y="415620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859800" y="4148280"/>
              <a:ext cx="2782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853320" y="414180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354640" y="4300560"/>
              <a:ext cx="132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145280" y="4300560"/>
              <a:ext cx="152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700680" y="4516560"/>
              <a:ext cx="29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700680" y="482148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V="1">
              <a:off x="6694200" y="45100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860160" y="4530960"/>
              <a:ext cx="27792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853680" y="452448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859800" y="4516200"/>
              <a:ext cx="27828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853320" y="451008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354640" y="4668840"/>
              <a:ext cx="132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145280" y="4668840"/>
              <a:ext cx="152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700680" y="4884840"/>
              <a:ext cx="29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700680" y="518976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V="1">
              <a:off x="6694200" y="48783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860160" y="4899240"/>
              <a:ext cx="27792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853680" y="489276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859800" y="4884480"/>
              <a:ext cx="27828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853320" y="487836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354640" y="5037120"/>
              <a:ext cx="132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145280" y="5037120"/>
              <a:ext cx="152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700680" y="5253120"/>
              <a:ext cx="29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700680" y="555804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V="1">
              <a:off x="6694200" y="52466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860160" y="5267520"/>
              <a:ext cx="27792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853680" y="526104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859800" y="5252760"/>
              <a:ext cx="27828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853320" y="524664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354640" y="5405400"/>
              <a:ext cx="132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145280" y="5405400"/>
              <a:ext cx="152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446520" y="2643120"/>
              <a:ext cx="5040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154560" y="2643120"/>
              <a:ext cx="5040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862240" y="26431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5531760" y="2529000"/>
              <a:ext cx="1393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418000" y="2529000"/>
              <a:ext cx="11376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>
              <a:off x="5405040" y="252252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538600" y="2401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601960" y="266868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475240" y="263052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582880" y="2643120"/>
              <a:ext cx="5040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8" name=""/>
            <p:cNvGrpSpPr/>
            <p:nvPr/>
          </p:nvGrpSpPr>
          <p:grpSpPr>
            <a:xfrm>
              <a:off x="5418000" y="2782800"/>
              <a:ext cx="1103760" cy="88920"/>
              <a:chOff x="5418000" y="2782800"/>
              <a:chExt cx="1103760" cy="88920"/>
            </a:xfrm>
          </p:grpSpPr>
          <p:grpSp>
            <p:nvGrpSpPr>
              <p:cNvPr id="1039" name=""/>
              <p:cNvGrpSpPr/>
              <p:nvPr/>
            </p:nvGrpSpPr>
            <p:grpSpPr>
              <a:xfrm>
                <a:off x="6115680" y="2782800"/>
                <a:ext cx="114120" cy="88920"/>
                <a:chOff x="6115680" y="2782800"/>
                <a:chExt cx="114120" cy="88920"/>
              </a:xfrm>
            </p:grpSpPr>
            <p:sp>
              <p:nvSpPr>
                <p:cNvPr id="1040" name=""/>
                <p:cNvSpPr/>
                <p:nvPr/>
              </p:nvSpPr>
              <p:spPr>
                <a:xfrm>
                  <a:off x="6128280" y="278280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flipH="1">
                  <a:off x="6115680" y="2782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2" name=""/>
              <p:cNvGrpSpPr/>
              <p:nvPr/>
            </p:nvGrpSpPr>
            <p:grpSpPr>
              <a:xfrm>
                <a:off x="5824080" y="2782800"/>
                <a:ext cx="113760" cy="88920"/>
                <a:chOff x="5824080" y="2782800"/>
                <a:chExt cx="113760" cy="88920"/>
              </a:xfrm>
            </p:grpSpPr>
            <p:sp>
              <p:nvSpPr>
                <p:cNvPr id="1043" name=""/>
                <p:cNvSpPr/>
                <p:nvPr/>
              </p:nvSpPr>
              <p:spPr>
                <a:xfrm>
                  <a:off x="5836320" y="278280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 flipH="1">
                  <a:off x="5824080" y="2782800"/>
                  <a:ext cx="1137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5" name=""/>
              <p:cNvGrpSpPr/>
              <p:nvPr/>
            </p:nvGrpSpPr>
            <p:grpSpPr>
              <a:xfrm>
                <a:off x="6407640" y="2782800"/>
                <a:ext cx="114120" cy="88920"/>
                <a:chOff x="6407640" y="2782800"/>
                <a:chExt cx="114120" cy="88920"/>
              </a:xfrm>
            </p:grpSpPr>
            <p:sp>
              <p:nvSpPr>
                <p:cNvPr id="1046" name=""/>
                <p:cNvSpPr/>
                <p:nvPr/>
              </p:nvSpPr>
              <p:spPr>
                <a:xfrm>
                  <a:off x="6420600" y="278280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 flipH="1">
                  <a:off x="6407640" y="2782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8" name=""/>
              <p:cNvGrpSpPr/>
              <p:nvPr/>
            </p:nvGrpSpPr>
            <p:grpSpPr>
              <a:xfrm>
                <a:off x="5988600" y="2782800"/>
                <a:ext cx="114120" cy="88920"/>
                <a:chOff x="5988600" y="2782800"/>
                <a:chExt cx="114120" cy="88920"/>
              </a:xfrm>
            </p:grpSpPr>
            <p:sp>
              <p:nvSpPr>
                <p:cNvPr id="1049" name=""/>
                <p:cNvSpPr/>
                <p:nvPr/>
              </p:nvSpPr>
              <p:spPr>
                <a:xfrm>
                  <a:off x="6001560" y="2782800"/>
                  <a:ext cx="8820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 flipH="1">
                  <a:off x="5988600" y="2782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1" name=""/>
              <p:cNvGrpSpPr/>
              <p:nvPr/>
            </p:nvGrpSpPr>
            <p:grpSpPr>
              <a:xfrm>
                <a:off x="5697000" y="2782800"/>
                <a:ext cx="113760" cy="88920"/>
                <a:chOff x="5697000" y="2782800"/>
                <a:chExt cx="113760" cy="8892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5709240" y="278280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 flipH="1">
                  <a:off x="5697000" y="2782800"/>
                  <a:ext cx="1137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4" name=""/>
              <p:cNvGrpSpPr/>
              <p:nvPr/>
            </p:nvGrpSpPr>
            <p:grpSpPr>
              <a:xfrm>
                <a:off x="6281280" y="2782800"/>
                <a:ext cx="113760" cy="88920"/>
                <a:chOff x="6281280" y="2782800"/>
                <a:chExt cx="113760" cy="88920"/>
              </a:xfrm>
            </p:grpSpPr>
            <p:sp>
              <p:nvSpPr>
                <p:cNvPr id="1055" name=""/>
                <p:cNvSpPr/>
                <p:nvPr/>
              </p:nvSpPr>
              <p:spPr>
                <a:xfrm>
                  <a:off x="6293520" y="278280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 flipH="1">
                  <a:off x="6281280" y="2782800"/>
                  <a:ext cx="1137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7" name=""/>
              <p:cNvGrpSpPr/>
              <p:nvPr/>
            </p:nvGrpSpPr>
            <p:grpSpPr>
              <a:xfrm>
                <a:off x="5544720" y="2782800"/>
                <a:ext cx="113760" cy="88920"/>
                <a:chOff x="5544720" y="2782800"/>
                <a:chExt cx="113760" cy="88920"/>
              </a:xfrm>
            </p:grpSpPr>
            <p:sp>
              <p:nvSpPr>
                <p:cNvPr id="1058" name=""/>
                <p:cNvSpPr/>
                <p:nvPr/>
              </p:nvSpPr>
              <p:spPr>
                <a:xfrm>
                  <a:off x="5556960" y="278280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 flipH="1">
                  <a:off x="5544720" y="2782800"/>
                  <a:ext cx="1137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0" name=""/>
              <p:cNvGrpSpPr/>
              <p:nvPr/>
            </p:nvGrpSpPr>
            <p:grpSpPr>
              <a:xfrm>
                <a:off x="5418000" y="2782800"/>
                <a:ext cx="113760" cy="88920"/>
                <a:chOff x="5418000" y="2782800"/>
                <a:chExt cx="113760" cy="88920"/>
              </a:xfrm>
            </p:grpSpPr>
            <p:sp>
              <p:nvSpPr>
                <p:cNvPr id="1061" name=""/>
                <p:cNvSpPr/>
                <p:nvPr/>
              </p:nvSpPr>
              <p:spPr>
                <a:xfrm>
                  <a:off x="5430240" y="278280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 flipH="1">
                  <a:off x="5418000" y="2782800"/>
                  <a:ext cx="1137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3" name=""/>
            <p:cNvGrpSpPr/>
            <p:nvPr/>
          </p:nvGrpSpPr>
          <p:grpSpPr>
            <a:xfrm>
              <a:off x="5418000" y="3151080"/>
              <a:ext cx="1103760" cy="88920"/>
              <a:chOff x="5418000" y="3151080"/>
              <a:chExt cx="1103760" cy="88920"/>
            </a:xfrm>
          </p:grpSpPr>
          <p:grpSp>
            <p:nvGrpSpPr>
              <p:cNvPr id="1064" name=""/>
              <p:cNvGrpSpPr/>
              <p:nvPr/>
            </p:nvGrpSpPr>
            <p:grpSpPr>
              <a:xfrm>
                <a:off x="6115680" y="3151080"/>
                <a:ext cx="114120" cy="88920"/>
                <a:chOff x="6115680" y="3151080"/>
                <a:chExt cx="114120" cy="88920"/>
              </a:xfrm>
            </p:grpSpPr>
            <p:sp>
              <p:nvSpPr>
                <p:cNvPr id="1065" name=""/>
                <p:cNvSpPr/>
                <p:nvPr/>
              </p:nvSpPr>
              <p:spPr>
                <a:xfrm>
                  <a:off x="6128280" y="315108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 flipH="1">
                  <a:off x="6115680" y="3151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7" name=""/>
              <p:cNvGrpSpPr/>
              <p:nvPr/>
            </p:nvGrpSpPr>
            <p:grpSpPr>
              <a:xfrm>
                <a:off x="5824080" y="3151080"/>
                <a:ext cx="113760" cy="88920"/>
                <a:chOff x="5824080" y="3151080"/>
                <a:chExt cx="113760" cy="88920"/>
              </a:xfrm>
            </p:grpSpPr>
            <p:sp>
              <p:nvSpPr>
                <p:cNvPr id="1068" name=""/>
                <p:cNvSpPr/>
                <p:nvPr/>
              </p:nvSpPr>
              <p:spPr>
                <a:xfrm>
                  <a:off x="5836320" y="315108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 flipH="1">
                  <a:off x="5824080" y="3151080"/>
                  <a:ext cx="1137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0" name=""/>
              <p:cNvGrpSpPr/>
              <p:nvPr/>
            </p:nvGrpSpPr>
            <p:grpSpPr>
              <a:xfrm>
                <a:off x="6407640" y="3151080"/>
                <a:ext cx="114120" cy="88920"/>
                <a:chOff x="6407640" y="3151080"/>
                <a:chExt cx="114120" cy="88920"/>
              </a:xfrm>
            </p:grpSpPr>
            <p:sp>
              <p:nvSpPr>
                <p:cNvPr id="1071" name=""/>
                <p:cNvSpPr/>
                <p:nvPr/>
              </p:nvSpPr>
              <p:spPr>
                <a:xfrm>
                  <a:off x="6420600" y="315108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 flipH="1">
                  <a:off x="6407640" y="3151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3" name=""/>
              <p:cNvGrpSpPr/>
              <p:nvPr/>
            </p:nvGrpSpPr>
            <p:grpSpPr>
              <a:xfrm>
                <a:off x="5988600" y="3151080"/>
                <a:ext cx="114120" cy="88920"/>
                <a:chOff x="5988600" y="3151080"/>
                <a:chExt cx="114120" cy="88920"/>
              </a:xfrm>
            </p:grpSpPr>
            <p:sp>
              <p:nvSpPr>
                <p:cNvPr id="1074" name=""/>
                <p:cNvSpPr/>
                <p:nvPr/>
              </p:nvSpPr>
              <p:spPr>
                <a:xfrm>
                  <a:off x="6001560" y="3151080"/>
                  <a:ext cx="8820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 flipH="1">
                  <a:off x="5988600" y="3151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6" name=""/>
              <p:cNvGrpSpPr/>
              <p:nvPr/>
            </p:nvGrpSpPr>
            <p:grpSpPr>
              <a:xfrm>
                <a:off x="5697000" y="3151080"/>
                <a:ext cx="113760" cy="88920"/>
                <a:chOff x="5697000" y="3151080"/>
                <a:chExt cx="113760" cy="88920"/>
              </a:xfrm>
            </p:grpSpPr>
            <p:sp>
              <p:nvSpPr>
                <p:cNvPr id="1077" name=""/>
                <p:cNvSpPr/>
                <p:nvPr/>
              </p:nvSpPr>
              <p:spPr>
                <a:xfrm>
                  <a:off x="5709240" y="315108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 flipH="1">
                  <a:off x="5697000" y="3151080"/>
                  <a:ext cx="1137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9" name=""/>
              <p:cNvGrpSpPr/>
              <p:nvPr/>
            </p:nvGrpSpPr>
            <p:grpSpPr>
              <a:xfrm>
                <a:off x="6281280" y="3151080"/>
                <a:ext cx="113760" cy="88920"/>
                <a:chOff x="6281280" y="3151080"/>
                <a:chExt cx="113760" cy="88920"/>
              </a:xfrm>
            </p:grpSpPr>
            <p:sp>
              <p:nvSpPr>
                <p:cNvPr id="1080" name=""/>
                <p:cNvSpPr/>
                <p:nvPr/>
              </p:nvSpPr>
              <p:spPr>
                <a:xfrm>
                  <a:off x="6293520" y="315108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 flipH="1">
                  <a:off x="6281280" y="3151080"/>
                  <a:ext cx="1137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2" name=""/>
              <p:cNvGrpSpPr/>
              <p:nvPr/>
            </p:nvGrpSpPr>
            <p:grpSpPr>
              <a:xfrm>
                <a:off x="5544720" y="3151080"/>
                <a:ext cx="113760" cy="88920"/>
                <a:chOff x="5544720" y="3151080"/>
                <a:chExt cx="113760" cy="88920"/>
              </a:xfrm>
            </p:grpSpPr>
            <p:sp>
              <p:nvSpPr>
                <p:cNvPr id="1083" name=""/>
                <p:cNvSpPr/>
                <p:nvPr/>
              </p:nvSpPr>
              <p:spPr>
                <a:xfrm>
                  <a:off x="5556960" y="315108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flipH="1">
                  <a:off x="5544720" y="3151080"/>
                  <a:ext cx="1137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5" name=""/>
              <p:cNvGrpSpPr/>
              <p:nvPr/>
            </p:nvGrpSpPr>
            <p:grpSpPr>
              <a:xfrm>
                <a:off x="5418000" y="3151080"/>
                <a:ext cx="113760" cy="88920"/>
                <a:chOff x="5418000" y="3151080"/>
                <a:chExt cx="113760" cy="88920"/>
              </a:xfrm>
            </p:grpSpPr>
            <p:sp>
              <p:nvSpPr>
                <p:cNvPr id="1086" name=""/>
                <p:cNvSpPr/>
                <p:nvPr/>
              </p:nvSpPr>
              <p:spPr>
                <a:xfrm>
                  <a:off x="5430240" y="315108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 flipH="1">
                  <a:off x="5418000" y="3151080"/>
                  <a:ext cx="1137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8" name=""/>
            <p:cNvGrpSpPr/>
            <p:nvPr/>
          </p:nvGrpSpPr>
          <p:grpSpPr>
            <a:xfrm>
              <a:off x="5418000" y="3519720"/>
              <a:ext cx="1103760" cy="88560"/>
              <a:chOff x="5418000" y="3519720"/>
              <a:chExt cx="1103760" cy="88560"/>
            </a:xfrm>
          </p:grpSpPr>
          <p:grpSp>
            <p:nvGrpSpPr>
              <p:cNvPr id="1089" name=""/>
              <p:cNvGrpSpPr/>
              <p:nvPr/>
            </p:nvGrpSpPr>
            <p:grpSpPr>
              <a:xfrm>
                <a:off x="6115680" y="3519720"/>
                <a:ext cx="114120" cy="88560"/>
                <a:chOff x="6115680" y="3519720"/>
                <a:chExt cx="114120" cy="8856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6128280" y="3519720"/>
                  <a:ext cx="8856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 flipH="1">
                  <a:off x="6115680" y="35197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5824080" y="3519720"/>
                <a:ext cx="113760" cy="88560"/>
                <a:chOff x="5824080" y="3519720"/>
                <a:chExt cx="113760" cy="8856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5836320" y="3519720"/>
                  <a:ext cx="8856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 flipH="1">
                  <a:off x="5824080" y="3519720"/>
                  <a:ext cx="11376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6407640" y="3519720"/>
                <a:ext cx="114120" cy="88560"/>
                <a:chOff x="6407640" y="3519720"/>
                <a:chExt cx="114120" cy="8856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6420600" y="3519720"/>
                  <a:ext cx="8856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 flipH="1">
                  <a:off x="6407640" y="35197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5988600" y="3519720"/>
                <a:ext cx="114120" cy="88560"/>
                <a:chOff x="5988600" y="3519720"/>
                <a:chExt cx="114120" cy="8856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6001560" y="3519720"/>
                  <a:ext cx="8820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 flipH="1">
                  <a:off x="5988600" y="35197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5697000" y="3519720"/>
                <a:ext cx="113760" cy="88560"/>
                <a:chOff x="5697000" y="3519720"/>
                <a:chExt cx="113760" cy="8856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5709240" y="3519720"/>
                  <a:ext cx="8856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 flipH="1">
                  <a:off x="5697000" y="3519720"/>
                  <a:ext cx="11376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6281280" y="3519720"/>
                <a:ext cx="113760" cy="88560"/>
                <a:chOff x="6281280" y="3519720"/>
                <a:chExt cx="113760" cy="8856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6293520" y="3519720"/>
                  <a:ext cx="8856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 flipH="1">
                  <a:off x="6281280" y="3519720"/>
                  <a:ext cx="11376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5544720" y="3519720"/>
                <a:ext cx="113760" cy="88560"/>
                <a:chOff x="5544720" y="3519720"/>
                <a:chExt cx="113760" cy="8856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5556960" y="3519720"/>
                  <a:ext cx="8856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 flipH="1">
                  <a:off x="5544720" y="3519720"/>
                  <a:ext cx="11376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5418000" y="3519720"/>
                <a:ext cx="113760" cy="88560"/>
                <a:chOff x="5418000" y="3519720"/>
                <a:chExt cx="113760" cy="8856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5430240" y="3519720"/>
                  <a:ext cx="8856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 flipH="1">
                  <a:off x="5418000" y="3519720"/>
                  <a:ext cx="11376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3" name=""/>
            <p:cNvGrpSpPr/>
            <p:nvPr/>
          </p:nvGrpSpPr>
          <p:grpSpPr>
            <a:xfrm>
              <a:off x="5418000" y="3888000"/>
              <a:ext cx="1103760" cy="88920"/>
              <a:chOff x="5418000" y="3888000"/>
              <a:chExt cx="1103760" cy="88920"/>
            </a:xfrm>
          </p:grpSpPr>
          <p:grpSp>
            <p:nvGrpSpPr>
              <p:cNvPr id="1114" name=""/>
              <p:cNvGrpSpPr/>
              <p:nvPr/>
            </p:nvGrpSpPr>
            <p:grpSpPr>
              <a:xfrm>
                <a:off x="6115680" y="3888000"/>
                <a:ext cx="114120" cy="88920"/>
                <a:chOff x="6115680" y="3888000"/>
                <a:chExt cx="114120" cy="88920"/>
              </a:xfrm>
            </p:grpSpPr>
            <p:sp>
              <p:nvSpPr>
                <p:cNvPr id="1115" name=""/>
                <p:cNvSpPr/>
                <p:nvPr/>
              </p:nvSpPr>
              <p:spPr>
                <a:xfrm>
                  <a:off x="6128280" y="388800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 flipH="1">
                  <a:off x="6115680" y="38880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7" name=""/>
              <p:cNvGrpSpPr/>
              <p:nvPr/>
            </p:nvGrpSpPr>
            <p:grpSpPr>
              <a:xfrm>
                <a:off x="5824080" y="3888000"/>
                <a:ext cx="113760" cy="88920"/>
                <a:chOff x="5824080" y="3888000"/>
                <a:chExt cx="113760" cy="88920"/>
              </a:xfrm>
            </p:grpSpPr>
            <p:sp>
              <p:nvSpPr>
                <p:cNvPr id="1118" name=""/>
                <p:cNvSpPr/>
                <p:nvPr/>
              </p:nvSpPr>
              <p:spPr>
                <a:xfrm>
                  <a:off x="5836320" y="388800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 flipH="1">
                  <a:off x="5824080" y="3888000"/>
                  <a:ext cx="1137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0" name=""/>
              <p:cNvGrpSpPr/>
              <p:nvPr/>
            </p:nvGrpSpPr>
            <p:grpSpPr>
              <a:xfrm>
                <a:off x="6407640" y="3888000"/>
                <a:ext cx="114120" cy="88920"/>
                <a:chOff x="6407640" y="3888000"/>
                <a:chExt cx="114120" cy="88920"/>
              </a:xfrm>
            </p:grpSpPr>
            <p:sp>
              <p:nvSpPr>
                <p:cNvPr id="1121" name=""/>
                <p:cNvSpPr/>
                <p:nvPr/>
              </p:nvSpPr>
              <p:spPr>
                <a:xfrm>
                  <a:off x="6420600" y="388800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flipH="1">
                  <a:off x="6407640" y="38880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3" name=""/>
              <p:cNvGrpSpPr/>
              <p:nvPr/>
            </p:nvGrpSpPr>
            <p:grpSpPr>
              <a:xfrm>
                <a:off x="5988600" y="3888000"/>
                <a:ext cx="114120" cy="88920"/>
                <a:chOff x="5988600" y="3888000"/>
                <a:chExt cx="114120" cy="88920"/>
              </a:xfrm>
            </p:grpSpPr>
            <p:sp>
              <p:nvSpPr>
                <p:cNvPr id="1124" name=""/>
                <p:cNvSpPr/>
                <p:nvPr/>
              </p:nvSpPr>
              <p:spPr>
                <a:xfrm>
                  <a:off x="6001560" y="3888000"/>
                  <a:ext cx="8820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 flipH="1">
                  <a:off x="5988600" y="38880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6" name=""/>
              <p:cNvGrpSpPr/>
              <p:nvPr/>
            </p:nvGrpSpPr>
            <p:grpSpPr>
              <a:xfrm>
                <a:off x="5697000" y="3888000"/>
                <a:ext cx="113760" cy="88920"/>
                <a:chOff x="5697000" y="3888000"/>
                <a:chExt cx="113760" cy="88920"/>
              </a:xfrm>
            </p:grpSpPr>
            <p:sp>
              <p:nvSpPr>
                <p:cNvPr id="1127" name=""/>
                <p:cNvSpPr/>
                <p:nvPr/>
              </p:nvSpPr>
              <p:spPr>
                <a:xfrm>
                  <a:off x="5709240" y="388800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 flipH="1">
                  <a:off x="5697000" y="3888000"/>
                  <a:ext cx="1137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9" name=""/>
              <p:cNvGrpSpPr/>
              <p:nvPr/>
            </p:nvGrpSpPr>
            <p:grpSpPr>
              <a:xfrm>
                <a:off x="6281280" y="3888000"/>
                <a:ext cx="113760" cy="88920"/>
                <a:chOff x="6281280" y="3888000"/>
                <a:chExt cx="113760" cy="88920"/>
              </a:xfrm>
            </p:grpSpPr>
            <p:sp>
              <p:nvSpPr>
                <p:cNvPr id="1130" name=""/>
                <p:cNvSpPr/>
                <p:nvPr/>
              </p:nvSpPr>
              <p:spPr>
                <a:xfrm>
                  <a:off x="6293520" y="388800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 flipH="1">
                  <a:off x="6281280" y="3888000"/>
                  <a:ext cx="1137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2" name=""/>
              <p:cNvGrpSpPr/>
              <p:nvPr/>
            </p:nvGrpSpPr>
            <p:grpSpPr>
              <a:xfrm>
                <a:off x="5544720" y="3888000"/>
                <a:ext cx="113760" cy="88920"/>
                <a:chOff x="5544720" y="3888000"/>
                <a:chExt cx="113760" cy="88920"/>
              </a:xfrm>
            </p:grpSpPr>
            <p:sp>
              <p:nvSpPr>
                <p:cNvPr id="1133" name=""/>
                <p:cNvSpPr/>
                <p:nvPr/>
              </p:nvSpPr>
              <p:spPr>
                <a:xfrm>
                  <a:off x="5556960" y="388800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 flipH="1">
                  <a:off x="5544720" y="3888000"/>
                  <a:ext cx="1137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5" name=""/>
              <p:cNvGrpSpPr/>
              <p:nvPr/>
            </p:nvGrpSpPr>
            <p:grpSpPr>
              <a:xfrm>
                <a:off x="5418000" y="3888000"/>
                <a:ext cx="113760" cy="88920"/>
                <a:chOff x="5418000" y="3888000"/>
                <a:chExt cx="113760" cy="88920"/>
              </a:xfrm>
            </p:grpSpPr>
            <p:sp>
              <p:nvSpPr>
                <p:cNvPr id="1136" name=""/>
                <p:cNvSpPr/>
                <p:nvPr/>
              </p:nvSpPr>
              <p:spPr>
                <a:xfrm>
                  <a:off x="5430240" y="388800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 flipH="1">
                  <a:off x="5418000" y="3888000"/>
                  <a:ext cx="1137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8" name=""/>
            <p:cNvGrpSpPr/>
            <p:nvPr/>
          </p:nvGrpSpPr>
          <p:grpSpPr>
            <a:xfrm>
              <a:off x="5418000" y="4256280"/>
              <a:ext cx="1103760" cy="88920"/>
              <a:chOff x="5418000" y="4256280"/>
              <a:chExt cx="1103760" cy="88920"/>
            </a:xfrm>
          </p:grpSpPr>
          <p:grpSp>
            <p:nvGrpSpPr>
              <p:cNvPr id="1139" name=""/>
              <p:cNvGrpSpPr/>
              <p:nvPr/>
            </p:nvGrpSpPr>
            <p:grpSpPr>
              <a:xfrm>
                <a:off x="6115680" y="4256280"/>
                <a:ext cx="114120" cy="88920"/>
                <a:chOff x="6115680" y="4256280"/>
                <a:chExt cx="114120" cy="8892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6128280" y="425628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flipH="1">
                  <a:off x="6115680" y="42562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2" name=""/>
              <p:cNvGrpSpPr/>
              <p:nvPr/>
            </p:nvGrpSpPr>
            <p:grpSpPr>
              <a:xfrm>
                <a:off x="5824080" y="4256280"/>
                <a:ext cx="113760" cy="88920"/>
                <a:chOff x="5824080" y="4256280"/>
                <a:chExt cx="113760" cy="88920"/>
              </a:xfrm>
            </p:grpSpPr>
            <p:sp>
              <p:nvSpPr>
                <p:cNvPr id="1143" name=""/>
                <p:cNvSpPr/>
                <p:nvPr/>
              </p:nvSpPr>
              <p:spPr>
                <a:xfrm>
                  <a:off x="5836320" y="425628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 flipH="1">
                  <a:off x="5824080" y="4256280"/>
                  <a:ext cx="1137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6407640" y="4256280"/>
                <a:ext cx="114120" cy="88920"/>
                <a:chOff x="6407640" y="4256280"/>
                <a:chExt cx="114120" cy="8892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6420600" y="425628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 flipH="1">
                  <a:off x="6407640" y="42562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5988600" y="4256280"/>
                <a:ext cx="114120" cy="88920"/>
                <a:chOff x="5988600" y="4256280"/>
                <a:chExt cx="114120" cy="88920"/>
              </a:xfrm>
            </p:grpSpPr>
            <p:sp>
              <p:nvSpPr>
                <p:cNvPr id="1149" name=""/>
                <p:cNvSpPr/>
                <p:nvPr/>
              </p:nvSpPr>
              <p:spPr>
                <a:xfrm>
                  <a:off x="6001560" y="4256280"/>
                  <a:ext cx="8820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 flipH="1">
                  <a:off x="5988600" y="42562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5697000" y="4256280"/>
                <a:ext cx="113760" cy="88920"/>
                <a:chOff x="5697000" y="4256280"/>
                <a:chExt cx="113760" cy="8892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5709240" y="425628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 flipH="1">
                  <a:off x="5697000" y="4256280"/>
                  <a:ext cx="1137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4" name=""/>
              <p:cNvGrpSpPr/>
              <p:nvPr/>
            </p:nvGrpSpPr>
            <p:grpSpPr>
              <a:xfrm>
                <a:off x="6281280" y="4256280"/>
                <a:ext cx="113760" cy="88920"/>
                <a:chOff x="6281280" y="4256280"/>
                <a:chExt cx="113760" cy="8892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6293520" y="425628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 flipH="1">
                  <a:off x="6281280" y="4256280"/>
                  <a:ext cx="1137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7" name=""/>
              <p:cNvGrpSpPr/>
              <p:nvPr/>
            </p:nvGrpSpPr>
            <p:grpSpPr>
              <a:xfrm>
                <a:off x="5544720" y="4256280"/>
                <a:ext cx="113760" cy="88920"/>
                <a:chOff x="5544720" y="4256280"/>
                <a:chExt cx="113760" cy="88920"/>
              </a:xfrm>
            </p:grpSpPr>
            <p:sp>
              <p:nvSpPr>
                <p:cNvPr id="1158" name=""/>
                <p:cNvSpPr/>
                <p:nvPr/>
              </p:nvSpPr>
              <p:spPr>
                <a:xfrm>
                  <a:off x="5556960" y="425628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flipH="1">
                  <a:off x="5544720" y="4256280"/>
                  <a:ext cx="1137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5418000" y="4256280"/>
                <a:ext cx="113760" cy="88920"/>
                <a:chOff x="5418000" y="4256280"/>
                <a:chExt cx="113760" cy="88920"/>
              </a:xfrm>
            </p:grpSpPr>
            <p:sp>
              <p:nvSpPr>
                <p:cNvPr id="1161" name=""/>
                <p:cNvSpPr/>
                <p:nvPr/>
              </p:nvSpPr>
              <p:spPr>
                <a:xfrm>
                  <a:off x="5430240" y="425628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 flipH="1">
                  <a:off x="5418000" y="4256280"/>
                  <a:ext cx="1137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63" name=""/>
            <p:cNvGrpSpPr/>
            <p:nvPr/>
          </p:nvGrpSpPr>
          <p:grpSpPr>
            <a:xfrm>
              <a:off x="5418000" y="4624560"/>
              <a:ext cx="1103760" cy="88920"/>
              <a:chOff x="5418000" y="4624560"/>
              <a:chExt cx="1103760" cy="88920"/>
            </a:xfrm>
          </p:grpSpPr>
          <p:grpSp>
            <p:nvGrpSpPr>
              <p:cNvPr id="1164" name=""/>
              <p:cNvGrpSpPr/>
              <p:nvPr/>
            </p:nvGrpSpPr>
            <p:grpSpPr>
              <a:xfrm>
                <a:off x="6115680" y="4624560"/>
                <a:ext cx="114120" cy="88920"/>
                <a:chOff x="6115680" y="4624560"/>
                <a:chExt cx="114120" cy="88920"/>
              </a:xfrm>
            </p:grpSpPr>
            <p:sp>
              <p:nvSpPr>
                <p:cNvPr id="1165" name=""/>
                <p:cNvSpPr/>
                <p:nvPr/>
              </p:nvSpPr>
              <p:spPr>
                <a:xfrm>
                  <a:off x="6128280" y="462456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flipH="1">
                  <a:off x="6115680" y="46245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7" name=""/>
              <p:cNvGrpSpPr/>
              <p:nvPr/>
            </p:nvGrpSpPr>
            <p:grpSpPr>
              <a:xfrm>
                <a:off x="5824080" y="4624560"/>
                <a:ext cx="113760" cy="88920"/>
                <a:chOff x="5824080" y="4624560"/>
                <a:chExt cx="113760" cy="88920"/>
              </a:xfrm>
            </p:grpSpPr>
            <p:sp>
              <p:nvSpPr>
                <p:cNvPr id="1168" name=""/>
                <p:cNvSpPr/>
                <p:nvPr/>
              </p:nvSpPr>
              <p:spPr>
                <a:xfrm>
                  <a:off x="5836320" y="462456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flipH="1">
                  <a:off x="5824080" y="4624560"/>
                  <a:ext cx="1137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0" name=""/>
              <p:cNvGrpSpPr/>
              <p:nvPr/>
            </p:nvGrpSpPr>
            <p:grpSpPr>
              <a:xfrm>
                <a:off x="6407640" y="4624560"/>
                <a:ext cx="114120" cy="88920"/>
                <a:chOff x="6407640" y="4624560"/>
                <a:chExt cx="114120" cy="88920"/>
              </a:xfrm>
            </p:grpSpPr>
            <p:sp>
              <p:nvSpPr>
                <p:cNvPr id="1171" name=""/>
                <p:cNvSpPr/>
                <p:nvPr/>
              </p:nvSpPr>
              <p:spPr>
                <a:xfrm>
                  <a:off x="6420600" y="462456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 flipH="1">
                  <a:off x="6407640" y="46245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3" name=""/>
              <p:cNvGrpSpPr/>
              <p:nvPr/>
            </p:nvGrpSpPr>
            <p:grpSpPr>
              <a:xfrm>
                <a:off x="5988600" y="4624560"/>
                <a:ext cx="114120" cy="88920"/>
                <a:chOff x="5988600" y="4624560"/>
                <a:chExt cx="114120" cy="88920"/>
              </a:xfrm>
            </p:grpSpPr>
            <p:sp>
              <p:nvSpPr>
                <p:cNvPr id="1174" name=""/>
                <p:cNvSpPr/>
                <p:nvPr/>
              </p:nvSpPr>
              <p:spPr>
                <a:xfrm>
                  <a:off x="6001560" y="4624560"/>
                  <a:ext cx="8820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 flipH="1">
                  <a:off x="5988600" y="46245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6" name=""/>
              <p:cNvGrpSpPr/>
              <p:nvPr/>
            </p:nvGrpSpPr>
            <p:grpSpPr>
              <a:xfrm>
                <a:off x="5697000" y="4624560"/>
                <a:ext cx="113760" cy="88920"/>
                <a:chOff x="5697000" y="4624560"/>
                <a:chExt cx="113760" cy="8892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5709240" y="462456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 flipH="1">
                  <a:off x="5697000" y="4624560"/>
                  <a:ext cx="1137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9" name=""/>
              <p:cNvGrpSpPr/>
              <p:nvPr/>
            </p:nvGrpSpPr>
            <p:grpSpPr>
              <a:xfrm>
                <a:off x="6281280" y="4624560"/>
                <a:ext cx="113760" cy="88920"/>
                <a:chOff x="6281280" y="4624560"/>
                <a:chExt cx="113760" cy="88920"/>
              </a:xfrm>
            </p:grpSpPr>
            <p:sp>
              <p:nvSpPr>
                <p:cNvPr id="1180" name=""/>
                <p:cNvSpPr/>
                <p:nvPr/>
              </p:nvSpPr>
              <p:spPr>
                <a:xfrm>
                  <a:off x="6293520" y="462456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 flipH="1">
                  <a:off x="6281280" y="4624560"/>
                  <a:ext cx="1137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2" name=""/>
              <p:cNvGrpSpPr/>
              <p:nvPr/>
            </p:nvGrpSpPr>
            <p:grpSpPr>
              <a:xfrm>
                <a:off x="5544720" y="4624560"/>
                <a:ext cx="113760" cy="88920"/>
                <a:chOff x="5544720" y="4624560"/>
                <a:chExt cx="113760" cy="88920"/>
              </a:xfrm>
            </p:grpSpPr>
            <p:sp>
              <p:nvSpPr>
                <p:cNvPr id="1183" name=""/>
                <p:cNvSpPr/>
                <p:nvPr/>
              </p:nvSpPr>
              <p:spPr>
                <a:xfrm>
                  <a:off x="5556960" y="462456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 flipH="1">
                  <a:off x="5544720" y="4624560"/>
                  <a:ext cx="1137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5" name=""/>
              <p:cNvGrpSpPr/>
              <p:nvPr/>
            </p:nvGrpSpPr>
            <p:grpSpPr>
              <a:xfrm>
                <a:off x="5418000" y="4624560"/>
                <a:ext cx="113760" cy="88920"/>
                <a:chOff x="5418000" y="4624560"/>
                <a:chExt cx="113760" cy="88920"/>
              </a:xfrm>
            </p:grpSpPr>
            <p:sp>
              <p:nvSpPr>
                <p:cNvPr id="1186" name=""/>
                <p:cNvSpPr/>
                <p:nvPr/>
              </p:nvSpPr>
              <p:spPr>
                <a:xfrm>
                  <a:off x="5430240" y="462456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 flipH="1">
                  <a:off x="5418000" y="4624560"/>
                  <a:ext cx="1137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8" name=""/>
            <p:cNvGrpSpPr/>
            <p:nvPr/>
          </p:nvGrpSpPr>
          <p:grpSpPr>
            <a:xfrm>
              <a:off x="5418000" y="4992840"/>
              <a:ext cx="1103760" cy="88920"/>
              <a:chOff x="5418000" y="4992840"/>
              <a:chExt cx="1103760" cy="88920"/>
            </a:xfrm>
          </p:grpSpPr>
          <p:grpSp>
            <p:nvGrpSpPr>
              <p:cNvPr id="1189" name=""/>
              <p:cNvGrpSpPr/>
              <p:nvPr/>
            </p:nvGrpSpPr>
            <p:grpSpPr>
              <a:xfrm>
                <a:off x="6115680" y="4992840"/>
                <a:ext cx="114120" cy="88920"/>
                <a:chOff x="6115680" y="4992840"/>
                <a:chExt cx="114120" cy="88920"/>
              </a:xfrm>
            </p:grpSpPr>
            <p:sp>
              <p:nvSpPr>
                <p:cNvPr id="1190" name=""/>
                <p:cNvSpPr/>
                <p:nvPr/>
              </p:nvSpPr>
              <p:spPr>
                <a:xfrm>
                  <a:off x="6128280" y="499284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 flipH="1">
                  <a:off x="6115680" y="49928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2" name=""/>
              <p:cNvGrpSpPr/>
              <p:nvPr/>
            </p:nvGrpSpPr>
            <p:grpSpPr>
              <a:xfrm>
                <a:off x="5824080" y="4992840"/>
                <a:ext cx="113760" cy="88920"/>
                <a:chOff x="5824080" y="4992840"/>
                <a:chExt cx="113760" cy="88920"/>
              </a:xfrm>
            </p:grpSpPr>
            <p:sp>
              <p:nvSpPr>
                <p:cNvPr id="1193" name=""/>
                <p:cNvSpPr/>
                <p:nvPr/>
              </p:nvSpPr>
              <p:spPr>
                <a:xfrm>
                  <a:off x="5836320" y="499284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 flipH="1">
                  <a:off x="5824080" y="4992840"/>
                  <a:ext cx="1137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5" name=""/>
              <p:cNvGrpSpPr/>
              <p:nvPr/>
            </p:nvGrpSpPr>
            <p:grpSpPr>
              <a:xfrm>
                <a:off x="6407640" y="4992840"/>
                <a:ext cx="114120" cy="88920"/>
                <a:chOff x="6407640" y="4992840"/>
                <a:chExt cx="114120" cy="88920"/>
              </a:xfrm>
            </p:grpSpPr>
            <p:sp>
              <p:nvSpPr>
                <p:cNvPr id="1196" name=""/>
                <p:cNvSpPr/>
                <p:nvPr/>
              </p:nvSpPr>
              <p:spPr>
                <a:xfrm>
                  <a:off x="6420600" y="499284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 flipH="1">
                  <a:off x="6407640" y="49928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8" name=""/>
              <p:cNvGrpSpPr/>
              <p:nvPr/>
            </p:nvGrpSpPr>
            <p:grpSpPr>
              <a:xfrm>
                <a:off x="5988600" y="4992840"/>
                <a:ext cx="114120" cy="88920"/>
                <a:chOff x="5988600" y="4992840"/>
                <a:chExt cx="114120" cy="88920"/>
              </a:xfrm>
            </p:grpSpPr>
            <p:sp>
              <p:nvSpPr>
                <p:cNvPr id="1199" name=""/>
                <p:cNvSpPr/>
                <p:nvPr/>
              </p:nvSpPr>
              <p:spPr>
                <a:xfrm>
                  <a:off x="6001560" y="4992840"/>
                  <a:ext cx="8820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 flipH="1">
                  <a:off x="5988600" y="49928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1" name=""/>
              <p:cNvGrpSpPr/>
              <p:nvPr/>
            </p:nvGrpSpPr>
            <p:grpSpPr>
              <a:xfrm>
                <a:off x="5697000" y="4992840"/>
                <a:ext cx="113760" cy="88920"/>
                <a:chOff x="5697000" y="4992840"/>
                <a:chExt cx="113760" cy="88920"/>
              </a:xfrm>
            </p:grpSpPr>
            <p:sp>
              <p:nvSpPr>
                <p:cNvPr id="1202" name=""/>
                <p:cNvSpPr/>
                <p:nvPr/>
              </p:nvSpPr>
              <p:spPr>
                <a:xfrm>
                  <a:off x="5709240" y="499284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 flipH="1">
                  <a:off x="5697000" y="4992840"/>
                  <a:ext cx="1137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4" name=""/>
              <p:cNvGrpSpPr/>
              <p:nvPr/>
            </p:nvGrpSpPr>
            <p:grpSpPr>
              <a:xfrm>
                <a:off x="6281280" y="4992840"/>
                <a:ext cx="113760" cy="88920"/>
                <a:chOff x="6281280" y="4992840"/>
                <a:chExt cx="113760" cy="88920"/>
              </a:xfrm>
            </p:grpSpPr>
            <p:sp>
              <p:nvSpPr>
                <p:cNvPr id="1205" name=""/>
                <p:cNvSpPr/>
                <p:nvPr/>
              </p:nvSpPr>
              <p:spPr>
                <a:xfrm>
                  <a:off x="6293520" y="499284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 flipH="1">
                  <a:off x="6281280" y="4992840"/>
                  <a:ext cx="1137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7" name=""/>
              <p:cNvGrpSpPr/>
              <p:nvPr/>
            </p:nvGrpSpPr>
            <p:grpSpPr>
              <a:xfrm>
                <a:off x="5544720" y="4992840"/>
                <a:ext cx="113760" cy="88920"/>
                <a:chOff x="5544720" y="4992840"/>
                <a:chExt cx="113760" cy="88920"/>
              </a:xfrm>
            </p:grpSpPr>
            <p:sp>
              <p:nvSpPr>
                <p:cNvPr id="1208" name=""/>
                <p:cNvSpPr/>
                <p:nvPr/>
              </p:nvSpPr>
              <p:spPr>
                <a:xfrm>
                  <a:off x="5556960" y="499284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 flipH="1">
                  <a:off x="5544720" y="4992840"/>
                  <a:ext cx="1137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0" name=""/>
              <p:cNvGrpSpPr/>
              <p:nvPr/>
            </p:nvGrpSpPr>
            <p:grpSpPr>
              <a:xfrm>
                <a:off x="5418000" y="4992840"/>
                <a:ext cx="113760" cy="88920"/>
                <a:chOff x="5418000" y="4992840"/>
                <a:chExt cx="113760" cy="88920"/>
              </a:xfrm>
            </p:grpSpPr>
            <p:sp>
              <p:nvSpPr>
                <p:cNvPr id="1211" name=""/>
                <p:cNvSpPr/>
                <p:nvPr/>
              </p:nvSpPr>
              <p:spPr>
                <a:xfrm>
                  <a:off x="5430240" y="499284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 flipH="1">
                  <a:off x="5418000" y="4992840"/>
                  <a:ext cx="1137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3" name=""/>
            <p:cNvGrpSpPr/>
            <p:nvPr/>
          </p:nvGrpSpPr>
          <p:grpSpPr>
            <a:xfrm>
              <a:off x="5418000" y="5361120"/>
              <a:ext cx="1103760" cy="88920"/>
              <a:chOff x="5418000" y="5361120"/>
              <a:chExt cx="1103760" cy="88920"/>
            </a:xfrm>
          </p:grpSpPr>
          <p:grpSp>
            <p:nvGrpSpPr>
              <p:cNvPr id="1214" name=""/>
              <p:cNvGrpSpPr/>
              <p:nvPr/>
            </p:nvGrpSpPr>
            <p:grpSpPr>
              <a:xfrm>
                <a:off x="6115680" y="5361120"/>
                <a:ext cx="114120" cy="88920"/>
                <a:chOff x="6115680" y="5361120"/>
                <a:chExt cx="114120" cy="88920"/>
              </a:xfrm>
            </p:grpSpPr>
            <p:sp>
              <p:nvSpPr>
                <p:cNvPr id="1215" name=""/>
                <p:cNvSpPr/>
                <p:nvPr/>
              </p:nvSpPr>
              <p:spPr>
                <a:xfrm>
                  <a:off x="6128280" y="536112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 flipH="1">
                  <a:off x="6115680" y="53611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7" name=""/>
              <p:cNvGrpSpPr/>
              <p:nvPr/>
            </p:nvGrpSpPr>
            <p:grpSpPr>
              <a:xfrm>
                <a:off x="5824080" y="5361120"/>
                <a:ext cx="113760" cy="88920"/>
                <a:chOff x="5824080" y="5361120"/>
                <a:chExt cx="113760" cy="88920"/>
              </a:xfrm>
            </p:grpSpPr>
            <p:sp>
              <p:nvSpPr>
                <p:cNvPr id="1218" name=""/>
                <p:cNvSpPr/>
                <p:nvPr/>
              </p:nvSpPr>
              <p:spPr>
                <a:xfrm>
                  <a:off x="5836320" y="536112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 flipH="1">
                  <a:off x="5824080" y="5361120"/>
                  <a:ext cx="1137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0" name=""/>
              <p:cNvGrpSpPr/>
              <p:nvPr/>
            </p:nvGrpSpPr>
            <p:grpSpPr>
              <a:xfrm>
                <a:off x="6407640" y="5361120"/>
                <a:ext cx="114120" cy="88920"/>
                <a:chOff x="6407640" y="5361120"/>
                <a:chExt cx="114120" cy="88920"/>
              </a:xfrm>
            </p:grpSpPr>
            <p:sp>
              <p:nvSpPr>
                <p:cNvPr id="1221" name=""/>
                <p:cNvSpPr/>
                <p:nvPr/>
              </p:nvSpPr>
              <p:spPr>
                <a:xfrm>
                  <a:off x="6420600" y="536112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 flipH="1">
                  <a:off x="6407640" y="53611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3" name=""/>
              <p:cNvGrpSpPr/>
              <p:nvPr/>
            </p:nvGrpSpPr>
            <p:grpSpPr>
              <a:xfrm>
                <a:off x="5988600" y="5361120"/>
                <a:ext cx="114120" cy="88920"/>
                <a:chOff x="5988600" y="5361120"/>
                <a:chExt cx="114120" cy="8892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6001560" y="5361120"/>
                  <a:ext cx="8820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 flipH="1">
                  <a:off x="5988600" y="53611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6" name=""/>
              <p:cNvGrpSpPr/>
              <p:nvPr/>
            </p:nvGrpSpPr>
            <p:grpSpPr>
              <a:xfrm>
                <a:off x="5697000" y="5361120"/>
                <a:ext cx="113760" cy="88920"/>
                <a:chOff x="5697000" y="5361120"/>
                <a:chExt cx="113760" cy="88920"/>
              </a:xfrm>
            </p:grpSpPr>
            <p:sp>
              <p:nvSpPr>
                <p:cNvPr id="1227" name=""/>
                <p:cNvSpPr/>
                <p:nvPr/>
              </p:nvSpPr>
              <p:spPr>
                <a:xfrm>
                  <a:off x="5709240" y="536112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 flipH="1">
                  <a:off x="5697000" y="5361120"/>
                  <a:ext cx="1137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9" name=""/>
              <p:cNvGrpSpPr/>
              <p:nvPr/>
            </p:nvGrpSpPr>
            <p:grpSpPr>
              <a:xfrm>
                <a:off x="6281280" y="5361120"/>
                <a:ext cx="113760" cy="88920"/>
                <a:chOff x="6281280" y="5361120"/>
                <a:chExt cx="113760" cy="88920"/>
              </a:xfrm>
            </p:grpSpPr>
            <p:sp>
              <p:nvSpPr>
                <p:cNvPr id="1230" name=""/>
                <p:cNvSpPr/>
                <p:nvPr/>
              </p:nvSpPr>
              <p:spPr>
                <a:xfrm>
                  <a:off x="6293520" y="536112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 flipH="1">
                  <a:off x="6281280" y="5361120"/>
                  <a:ext cx="1137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2" name=""/>
              <p:cNvGrpSpPr/>
              <p:nvPr/>
            </p:nvGrpSpPr>
            <p:grpSpPr>
              <a:xfrm>
                <a:off x="5544720" y="5361120"/>
                <a:ext cx="113760" cy="88920"/>
                <a:chOff x="5544720" y="5361120"/>
                <a:chExt cx="113760" cy="88920"/>
              </a:xfrm>
            </p:grpSpPr>
            <p:sp>
              <p:nvSpPr>
                <p:cNvPr id="1233" name=""/>
                <p:cNvSpPr/>
                <p:nvPr/>
              </p:nvSpPr>
              <p:spPr>
                <a:xfrm>
                  <a:off x="5556960" y="536112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 flipH="1">
                  <a:off x="5544720" y="5361120"/>
                  <a:ext cx="1137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5" name=""/>
              <p:cNvGrpSpPr/>
              <p:nvPr/>
            </p:nvGrpSpPr>
            <p:grpSpPr>
              <a:xfrm>
                <a:off x="5418000" y="5361120"/>
                <a:ext cx="113760" cy="88920"/>
                <a:chOff x="5418000" y="5361120"/>
                <a:chExt cx="113760" cy="8892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5430240" y="536112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 flipH="1">
                  <a:off x="5418000" y="5361120"/>
                  <a:ext cx="1137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38" name=""/>
            <p:cNvSpPr/>
            <p:nvPr/>
          </p:nvSpPr>
          <p:spPr>
            <a:xfrm>
              <a:off x="7335720" y="2770200"/>
              <a:ext cx="11376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335720" y="3138480"/>
              <a:ext cx="11376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704000" y="3506760"/>
              <a:ext cx="11376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704000" y="3875040"/>
              <a:ext cx="11376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8059680" y="4243320"/>
              <a:ext cx="11376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8059680" y="4611600"/>
              <a:ext cx="11376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8427960" y="4979880"/>
              <a:ext cx="11376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8427960" y="5348520"/>
              <a:ext cx="11376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/>
          <p:nvPr/>
        </p:nvSpPr>
        <p:spPr>
          <a:xfrm>
            <a:off x="4927680" y="1906560"/>
            <a:ext cx="143496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343080"/>
                <a:tab algn="l" pos="622440"/>
                <a:tab algn="l" pos="914400"/>
                <a:tab algn="l" pos="11937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086600" y="1906560"/>
            <a:ext cx="143496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343080"/>
                <a:tab algn="l" pos="622440"/>
                <a:tab algn="l" pos="914400"/>
                <a:tab algn="l" pos="11937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7086600" y="4205160"/>
            <a:ext cx="143496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343080"/>
                <a:tab algn="l" pos="622440"/>
                <a:tab algn="l" pos="914400"/>
                <a:tab algn="l" pos="11937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7943760" y="4871880"/>
            <a:ext cx="584280" cy="584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CD to Gray code conver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1" name=""/>
          <p:cNvSpPr/>
          <p:nvPr/>
        </p:nvSpPr>
        <p:spPr>
          <a:xfrm>
            <a:off x="5823000" y="2001960"/>
            <a:ext cx="520560" cy="11174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518080" y="2598840"/>
            <a:ext cx="533520" cy="5331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543640" y="2306520"/>
            <a:ext cx="482400" cy="5209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677000" y="2014560"/>
            <a:ext cx="520920" cy="520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505480" y="4275000"/>
            <a:ext cx="519120" cy="11178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226120" y="4871880"/>
            <a:ext cx="1117440" cy="5335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396200" y="4618080"/>
            <a:ext cx="190440" cy="2030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677000" y="4910040"/>
            <a:ext cx="533520" cy="2160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978680" y="4257720"/>
            <a:ext cx="0" cy="2538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980480" y="4510080"/>
            <a:ext cx="52056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V="1">
            <a:off x="8488440" y="4237200"/>
            <a:ext cx="0" cy="279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986600" y="5203800"/>
            <a:ext cx="0" cy="2811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981920" y="5195880"/>
            <a:ext cx="49536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8483760" y="5202360"/>
            <a:ext cx="0" cy="279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308720" y="5208480"/>
            <a:ext cx="2588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569360" y="5211720"/>
            <a:ext cx="0" cy="2192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H="1">
            <a:off x="7289280" y="5430960"/>
            <a:ext cx="28908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8269200" y="5221440"/>
            <a:ext cx="29376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8273880" y="5227560"/>
            <a:ext cx="0" cy="1954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8280360" y="5418000"/>
            <a:ext cx="2858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36560" y="1488960"/>
            <a:ext cx="3657600" cy="35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463840" y="1521000"/>
            <a:ext cx="0" cy="353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79320" y="1709640"/>
            <a:ext cx="3505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5892840" y="156672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316560" y="246528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187960" y="2573280"/>
            <a:ext cx="596880" cy="584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5187960" y="2859120"/>
            <a:ext cx="58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5473800" y="25606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5784840" y="2573280"/>
            <a:ext cx="584280" cy="584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5784840" y="285912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V="1">
            <a:off x="6070680" y="25606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187960" y="1976400"/>
            <a:ext cx="5968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187960" y="2262240"/>
            <a:ext cx="58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V="1">
            <a:off x="5473800" y="19634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784840" y="1976400"/>
            <a:ext cx="5842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784840" y="226224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V="1">
            <a:off x="6070680" y="19634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5035680" y="1623960"/>
            <a:ext cx="49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788000" y="1805040"/>
            <a:ext cx="48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118120" y="1766880"/>
            <a:ext cx="419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410080" y="1766880"/>
            <a:ext cx="44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702400" y="1766880"/>
            <a:ext cx="444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981760" y="1766880"/>
            <a:ext cx="44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 flipV="1">
            <a:off x="4971960" y="1773360"/>
            <a:ext cx="21600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772240" y="1782720"/>
            <a:ext cx="58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479920" y="321156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913280" y="2573280"/>
            <a:ext cx="0" cy="57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418440" y="2268360"/>
            <a:ext cx="0" cy="57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4672080" y="2757600"/>
            <a:ext cx="342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613480" y="3195720"/>
            <a:ext cx="342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156280" y="3379680"/>
            <a:ext cx="128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K-map for 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8051760" y="156672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8475840" y="246528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7346880" y="2573280"/>
            <a:ext cx="596880" cy="584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7346880" y="2859120"/>
            <a:ext cx="58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7632720" y="25606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7943760" y="2573280"/>
            <a:ext cx="584280" cy="584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7943760" y="285912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V="1">
            <a:off x="8229600" y="25606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7346880" y="1976400"/>
            <a:ext cx="5968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346880" y="2262240"/>
            <a:ext cx="58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7632720" y="19634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7943760" y="1976400"/>
            <a:ext cx="5842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7943760" y="226224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8229600" y="19634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194600" y="1623960"/>
            <a:ext cx="495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946920" y="1805040"/>
            <a:ext cx="482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7277040" y="1766880"/>
            <a:ext cx="419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7569360" y="1766880"/>
            <a:ext cx="444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861320" y="1766880"/>
            <a:ext cx="44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8140680" y="1766880"/>
            <a:ext cx="44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H="1" flipV="1">
            <a:off x="7130880" y="1773360"/>
            <a:ext cx="21600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931160" y="1782720"/>
            <a:ext cx="58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639200" y="3211560"/>
            <a:ext cx="57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086600" y="2600280"/>
            <a:ext cx="0" cy="57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8577360" y="2268360"/>
            <a:ext cx="0" cy="57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6826320" y="2784600"/>
            <a:ext cx="342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772400" y="3195720"/>
            <a:ext cx="343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892840" y="384012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316560" y="473868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927680" y="4179960"/>
            <a:ext cx="143496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343080"/>
                <a:tab algn="l" pos="622440"/>
                <a:tab algn="l" pos="914400"/>
                <a:tab algn="l" pos="11937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187960" y="4846680"/>
            <a:ext cx="596880" cy="584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187960" y="5132520"/>
            <a:ext cx="58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5473800" y="48340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784840" y="4846680"/>
            <a:ext cx="584280" cy="584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784840" y="513252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6070680" y="48340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187960" y="4249800"/>
            <a:ext cx="5968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187960" y="4535640"/>
            <a:ext cx="58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5473800" y="42368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784840" y="4249800"/>
            <a:ext cx="5842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784840" y="453564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6070680" y="42368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005440" y="3894120"/>
            <a:ext cx="495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788000" y="4078440"/>
            <a:ext cx="482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118120" y="4040280"/>
            <a:ext cx="419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410080" y="4040280"/>
            <a:ext cx="444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702400" y="4040280"/>
            <a:ext cx="444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981760" y="4040280"/>
            <a:ext cx="444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H="1" flipV="1">
            <a:off x="4971960" y="4046040"/>
            <a:ext cx="21600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772240" y="4056120"/>
            <a:ext cx="58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5479920" y="548496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4913280" y="484668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6418440" y="4541760"/>
            <a:ext cx="0" cy="57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672080" y="5030640"/>
            <a:ext cx="342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5613480" y="5468760"/>
            <a:ext cx="342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8051760" y="386568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8475840" y="476424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7346880" y="4871880"/>
            <a:ext cx="596880" cy="584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346880" y="5157720"/>
            <a:ext cx="58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V="1">
            <a:off x="7632720" y="48592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943760" y="515772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flipV="1">
            <a:off x="8229600" y="48592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7346880" y="4275000"/>
            <a:ext cx="5968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7346880" y="4560840"/>
            <a:ext cx="58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7632720" y="4262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7943760" y="4275000"/>
            <a:ext cx="5842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7943760" y="456084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8229600" y="4262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7164360" y="3919680"/>
            <a:ext cx="495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6946920" y="4103640"/>
            <a:ext cx="482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277040" y="4065480"/>
            <a:ext cx="419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7569360" y="4065480"/>
            <a:ext cx="444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861320" y="4065480"/>
            <a:ext cx="44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140680" y="4065480"/>
            <a:ext cx="44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 flipH="1" flipV="1">
            <a:off x="7130880" y="4071960"/>
            <a:ext cx="21600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7931160" y="4081320"/>
            <a:ext cx="58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639200" y="5510160"/>
            <a:ext cx="57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7078680" y="4871880"/>
            <a:ext cx="0" cy="57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8577360" y="456732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837480" y="5056200"/>
            <a:ext cx="342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7772400" y="5494320"/>
            <a:ext cx="34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7277040" y="3379680"/>
            <a:ext cx="125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K-map for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5194440" y="5678640"/>
            <a:ext cx="1257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K-map for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7315200" y="5678640"/>
            <a:ext cx="1231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K-map for 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(con’t): Wire a P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87" name=""/>
          <p:cNvGrpSpPr/>
          <p:nvPr/>
        </p:nvGrpSpPr>
        <p:grpSpPr>
          <a:xfrm>
            <a:off x="4089240" y="1461960"/>
            <a:ext cx="3454560" cy="4991400"/>
            <a:chOff x="4089240" y="1461960"/>
            <a:chExt cx="3454560" cy="4991400"/>
          </a:xfrm>
        </p:grpSpPr>
        <p:sp>
          <p:nvSpPr>
            <p:cNvPr id="1388" name=""/>
            <p:cNvSpPr/>
            <p:nvPr/>
          </p:nvSpPr>
          <p:spPr>
            <a:xfrm>
              <a:off x="5226120" y="2065320"/>
              <a:ext cx="0" cy="354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099040" y="1989000"/>
              <a:ext cx="0" cy="36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807080" y="1989000"/>
              <a:ext cx="0" cy="36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641840" y="2065320"/>
              <a:ext cx="0" cy="354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222800" y="1989000"/>
              <a:ext cx="0" cy="36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349880" y="2065320"/>
              <a:ext cx="0" cy="354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499000" y="31384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499000" y="34434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V="1">
              <a:off x="5492880" y="31320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651640" y="31464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651280" y="31320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089240" y="329076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943600" y="329076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H="1">
              <a:off x="5156280" y="18874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041800" y="188748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5028840" y="18813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207040" y="2001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162400" y="17604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499000" y="20336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499000" y="23385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 flipV="1">
              <a:off x="5492880" y="20271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651640" y="20415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651280" y="20271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089240" y="218592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943600" y="2185920"/>
              <a:ext cx="154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499000" y="24019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499000" y="27068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V="1">
              <a:off x="5492880" y="23954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651640" y="24098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651280" y="23954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089240" y="255420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943600" y="2554200"/>
              <a:ext cx="15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499000" y="27702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499000" y="3075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V="1">
              <a:off x="5492880" y="27637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651640" y="27781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651280" y="27637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089240" y="292248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943600" y="2922480"/>
              <a:ext cx="15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>
              <a:off x="4863960" y="18874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749840" y="188748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>
              <a:off x="4737240" y="188136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915080" y="2001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870440" y="17604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933800" y="2065320"/>
              <a:ext cx="0" cy="355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>
              <a:off x="4572000" y="18874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457880" y="188748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H="1">
              <a:off x="4444560" y="18813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622760" y="2001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578480" y="17604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514760" y="1989000"/>
              <a:ext cx="0" cy="36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H="1">
              <a:off x="4280040" y="18874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165560" y="188748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4152600" y="18813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330800" y="2001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286160" y="17604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499000" y="34941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499000" y="3798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V="1">
              <a:off x="5492880" y="34876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651640" y="35020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651280" y="34876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089240" y="364644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943600" y="364644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499000" y="38498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499000" y="41544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V="1">
              <a:off x="5492880" y="38433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651640" y="38577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651280" y="38433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089240" y="400212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943600" y="400212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499000" y="42051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499000" y="4510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V="1">
              <a:off x="5492880" y="41990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651640" y="42130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651280" y="41990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089240" y="435780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943600" y="435780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499000" y="45608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5499000" y="48657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V="1">
              <a:off x="5492880" y="455436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651640" y="45687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651280" y="45543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089240" y="471312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943600" y="471312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499000" y="49165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499000" y="5221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V="1">
              <a:off x="5492880" y="49100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651640" y="49244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651280" y="49100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089240" y="506880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943600" y="506880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499000" y="52722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499000" y="55767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V="1">
              <a:off x="5492880" y="52657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651640" y="52801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651280" y="52657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089240" y="542448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943600" y="542448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191280" y="198900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7" name=""/>
            <p:cNvGrpSpPr/>
            <p:nvPr/>
          </p:nvGrpSpPr>
          <p:grpSpPr>
            <a:xfrm>
              <a:off x="6045840" y="5063040"/>
              <a:ext cx="305640" cy="1065960"/>
              <a:chOff x="6045840" y="5063040"/>
              <a:chExt cx="305640" cy="1065960"/>
            </a:xfrm>
          </p:grpSpPr>
          <p:sp>
            <p:nvSpPr>
              <p:cNvPr id="1488" name=""/>
              <p:cNvSpPr/>
              <p:nvPr/>
            </p:nvSpPr>
            <p:spPr>
              <a:xfrm>
                <a:off x="6071040" y="546948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6045840" y="5063040"/>
                <a:ext cx="29124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6059520" y="5113800"/>
                <a:ext cx="29196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6059520" y="5469480"/>
                <a:ext cx="29196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6191640" y="601488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3" name=""/>
            <p:cNvSpPr/>
            <p:nvPr/>
          </p:nvSpPr>
          <p:spPr>
            <a:xfrm>
              <a:off x="6546960" y="198900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4" name=""/>
            <p:cNvGrpSpPr/>
            <p:nvPr/>
          </p:nvGrpSpPr>
          <p:grpSpPr>
            <a:xfrm>
              <a:off x="6400800" y="5063040"/>
              <a:ext cx="305640" cy="1065960"/>
              <a:chOff x="6400800" y="5063040"/>
              <a:chExt cx="305640" cy="1065960"/>
            </a:xfrm>
          </p:grpSpPr>
          <p:sp>
            <p:nvSpPr>
              <p:cNvPr id="1495" name=""/>
              <p:cNvSpPr/>
              <p:nvPr/>
            </p:nvSpPr>
            <p:spPr>
              <a:xfrm>
                <a:off x="6426720" y="5469480"/>
                <a:ext cx="26532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6400800" y="5063040"/>
                <a:ext cx="29124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6415200" y="5113800"/>
                <a:ext cx="29124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6415200" y="5469480"/>
                <a:ext cx="2912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6546600" y="601488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0" name=""/>
            <p:cNvSpPr/>
            <p:nvPr/>
          </p:nvSpPr>
          <p:spPr>
            <a:xfrm>
              <a:off x="6902280" y="198900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1" name=""/>
            <p:cNvGrpSpPr/>
            <p:nvPr/>
          </p:nvGrpSpPr>
          <p:grpSpPr>
            <a:xfrm>
              <a:off x="6756120" y="5063040"/>
              <a:ext cx="306360" cy="1065960"/>
              <a:chOff x="6756120" y="5063040"/>
              <a:chExt cx="306360" cy="1065960"/>
            </a:xfrm>
          </p:grpSpPr>
          <p:sp>
            <p:nvSpPr>
              <p:cNvPr id="1502" name=""/>
              <p:cNvSpPr/>
              <p:nvPr/>
            </p:nvSpPr>
            <p:spPr>
              <a:xfrm>
                <a:off x="6781680" y="5469480"/>
                <a:ext cx="26640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6756120" y="5063040"/>
                <a:ext cx="29196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6770520" y="5113800"/>
                <a:ext cx="29196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6770520" y="5469480"/>
                <a:ext cx="29196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6902280" y="601488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7" name=""/>
            <p:cNvSpPr/>
            <p:nvPr/>
          </p:nvSpPr>
          <p:spPr>
            <a:xfrm>
              <a:off x="7270920" y="198900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8" name=""/>
            <p:cNvGrpSpPr/>
            <p:nvPr/>
          </p:nvGrpSpPr>
          <p:grpSpPr>
            <a:xfrm>
              <a:off x="7124760" y="5063040"/>
              <a:ext cx="305640" cy="1065960"/>
              <a:chOff x="7124760" y="5063040"/>
              <a:chExt cx="305640" cy="1065960"/>
            </a:xfrm>
          </p:grpSpPr>
          <p:sp>
            <p:nvSpPr>
              <p:cNvPr id="1509" name=""/>
              <p:cNvSpPr/>
              <p:nvPr/>
            </p:nvSpPr>
            <p:spPr>
              <a:xfrm>
                <a:off x="7149960" y="546948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7124760" y="5063040"/>
                <a:ext cx="29124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7139160" y="5113800"/>
                <a:ext cx="29124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7139160" y="5469480"/>
                <a:ext cx="2912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7270560" y="601488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4" name=""/>
            <p:cNvSpPr/>
            <p:nvPr/>
          </p:nvSpPr>
          <p:spPr>
            <a:xfrm>
              <a:off x="4197240" y="1461960"/>
              <a:ext cx="1409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279360"/>
                  <a:tab algn="l" pos="57168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114960" y="6046920"/>
              <a:ext cx="1409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6" name=""/>
          <p:cNvSpPr/>
          <p:nvPr/>
        </p:nvSpPr>
        <p:spPr>
          <a:xfrm>
            <a:off x="687240" y="1481040"/>
            <a:ext cx="258300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334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Tahoma"/>
              </a:rPr>
              <a:t>Minimized func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334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 = A + BC + 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334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  = BC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334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  = B +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334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  = A'B'C'D + BC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334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AD' + B'CD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"/>
          <p:cNvSpPr/>
          <p:nvPr/>
        </p:nvSpPr>
        <p:spPr>
          <a:xfrm>
            <a:off x="4692600" y="998640"/>
            <a:ext cx="384804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881520" y="1411200"/>
            <a:ext cx="4727520" cy="17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Wire a P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9088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"/>
          <p:cNvSpPr/>
          <p:nvPr/>
        </p:nvSpPr>
        <p:spPr>
          <a:xfrm>
            <a:off x="685800" y="1481040"/>
            <a:ext cx="28764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334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Tahoma"/>
              </a:rPr>
              <a:t>Minimized func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334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 = A + BC + 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334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  = BC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334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  = B +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334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  = A'B'C'D + BC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334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AD' + B'CD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334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334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Tahoma"/>
              </a:rPr>
              <a:t>What do we do with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334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Tahoma"/>
              </a:rPr>
              <a:t>unused AND ga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2" name="" descr=""/>
          <p:cNvPicPr/>
          <p:nvPr/>
        </p:nvPicPr>
        <p:blipFill>
          <a:blip r:embed="rId1"/>
          <a:stretch/>
        </p:blipFill>
        <p:spPr>
          <a:xfrm>
            <a:off x="4896000" y="343080"/>
            <a:ext cx="3406680" cy="60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12:26Z</dcterms:created>
  <dc:creator/>
  <dc:description/>
  <cp:keywords/>
  <dc:language>en-US</dc:language>
  <cp:lastModifiedBy>Bruce Hemingway</cp:lastModifiedBy>
  <cp:lastPrinted>2006-01-20T19:14:20Z</cp:lastPrinted>
  <dcterms:modified xsi:type="dcterms:W3CDTF">2007-04-18T07:10:00Z</dcterms:modified>
  <cp:revision>431</cp:revision>
  <dc:subject>CSE370</dc:subject>
  <dc:title>Lecture1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5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people/faculty/diorio/</vt:lpwstr>
  </property>
  <property fmtid="{D5CDD505-2E9C-101B-9397-08002B2CF9AE}" pid="9" name="LinkColor">
    <vt:r8>16711782</vt:r8>
  </property>
  <property fmtid="{D5CDD505-2E9C-101B-9397-08002B2CF9AE}" pid="10" name="MailAddress">
    <vt:lpwstr>diorio@cs.washington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E:\Classes\CSE 370\Autumn 98\web\admin\Slides\Week1Lecture1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