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76480" y="686880"/>
            <a:ext cx="4582800" cy="343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76480" y="687240"/>
            <a:ext cx="4582800" cy="34369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rule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Interru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hen you don’t underst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 are doing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73240" y="687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8032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: Simplification of two-level combinational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22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gebraic simp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n algorithmic/systematic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when the minimum realization has been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22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uter-aided design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se solutions require very long computation times (NP h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 methods employed – "educated guesse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22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 methods still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real-world problems are solvable by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73240" y="687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8032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m-subcube within an n-cube (m &lt; n) yields a term with n – m lit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E00-9A5A-4496-A43E-321423F8BA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organ’s theor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ND and N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m-of-products (minterm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t-of-sums (maxterm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’s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simpl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olean cub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rnaugh map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jac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–around at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column to last colum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row to bottom 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062080" y="3894120"/>
            <a:ext cx="2276280" cy="1028520"/>
            <a:chOff x="2062080" y="3894120"/>
            <a:chExt cx="2276280" cy="1028520"/>
          </a:xfrm>
        </p:grpSpPr>
        <p:sp>
          <p:nvSpPr>
            <p:cNvPr id="374" name=""/>
            <p:cNvSpPr/>
            <p:nvPr/>
          </p:nvSpPr>
          <p:spPr>
            <a:xfrm>
              <a:off x="2062080" y="3894120"/>
              <a:ext cx="5205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8720" tIns="6300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79360" y="4498920"/>
              <a:ext cx="5191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8720" tIns="6300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47800" y="3894120"/>
              <a:ext cx="5191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8720" tIns="6300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47800" y="4498920"/>
              <a:ext cx="5191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8720" tIns="6300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33520" y="3894120"/>
              <a:ext cx="5191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8720" tIns="6300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9360" y="4498920"/>
              <a:ext cx="5191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8720" tIns="6300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19240" y="3894120"/>
              <a:ext cx="5191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8720" tIns="6300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19240" y="4498920"/>
              <a:ext cx="5191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8720" tIns="63000" bIns="26640" anchor="t">
              <a:noAutofit/>
            </a:bodyPr>
            <a:p>
              <a:pPr>
                <a:lnSpc>
                  <a:spcPts val="1375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006640" y="4030560"/>
            <a:ext cx="211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48040" y="3760920"/>
            <a:ext cx="1170000" cy="117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8040" y="4341960"/>
            <a:ext cx="115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624040" y="3755520"/>
            <a:ext cx="0" cy="119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18040" y="3760920"/>
            <a:ext cx="1171440" cy="117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18040" y="4341960"/>
            <a:ext cx="11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795840" y="3755520"/>
            <a:ext cx="0" cy="119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52760" y="3902040"/>
            <a:ext cx="30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25760" y="4440240"/>
            <a:ext cx="714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30520" y="3181320"/>
            <a:ext cx="9601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98760" y="3132000"/>
            <a:ext cx="74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9800" y="3425760"/>
            <a:ext cx="828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95520" y="3425760"/>
            <a:ext cx="87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79800" y="3425760"/>
            <a:ext cx="877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16200" y="3425760"/>
            <a:ext cx="87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1641240" y="3384360"/>
            <a:ext cx="406440" cy="40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18040" y="3392640"/>
            <a:ext cx="117144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0600" y="3475080"/>
            <a:ext cx="7491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68480" y="5076720"/>
            <a:ext cx="747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31960" y="5032440"/>
            <a:ext cx="113832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19160" y="4438800"/>
            <a:ext cx="7477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41520" y="4357800"/>
            <a:ext cx="0" cy="57312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9280" y="4030560"/>
            <a:ext cx="258840" cy="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332080" y="3596760"/>
            <a:ext cx="0" cy="32724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32080" y="4137120"/>
            <a:ext cx="0" cy="32688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819440" y="4013280"/>
            <a:ext cx="325440" cy="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956200" y="3417840"/>
            <a:ext cx="45396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877080" y="3417840"/>
            <a:ext cx="45396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877080" y="4406400"/>
            <a:ext cx="453960" cy="50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979960" y="4383000"/>
            <a:ext cx="406440" cy="555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8280" y="3948120"/>
            <a:ext cx="0" cy="922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69160" y="3921120"/>
            <a:ext cx="0" cy="9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79960" y="4902120"/>
            <a:ext cx="860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92840" y="4843440"/>
            <a:ext cx="125280" cy="13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16600" y="4843440"/>
            <a:ext cx="123840" cy="13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72040" y="391320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92840" y="3852720"/>
            <a:ext cx="125280" cy="13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16600" y="3852720"/>
            <a:ext cx="123840" cy="13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18440" y="3435480"/>
            <a:ext cx="0" cy="9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38960" y="3435480"/>
            <a:ext cx="0" cy="9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26360" y="4416480"/>
            <a:ext cx="90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62640" y="4357800"/>
            <a:ext cx="125640" cy="13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84960" y="4357800"/>
            <a:ext cx="125640" cy="13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0400" y="342576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62640" y="3367080"/>
            <a:ext cx="125640" cy="13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84960" y="3367080"/>
            <a:ext cx="125640" cy="13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45280" y="4919760"/>
            <a:ext cx="68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67480" y="4241880"/>
            <a:ext cx="68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26040" y="4210200"/>
            <a:ext cx="6890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10160" y="4867200"/>
            <a:ext cx="890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7640" y="3138480"/>
            <a:ext cx="100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02680" y="4241880"/>
            <a:ext cx="888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70680" y="4896000"/>
            <a:ext cx="8920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35720" y="4102200"/>
            <a:ext cx="888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73920" y="3138480"/>
            <a:ext cx="892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11960" y="3625920"/>
            <a:ext cx="890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0920" y="4032360"/>
            <a:ext cx="20401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   2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      6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        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7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   3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      7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-map minimization: 2 and 3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84160" y="1579320"/>
            <a:ext cx="3052800" cy="29034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26640" bIns="26640" anchor="t">
            <a:normAutofit/>
          </a:bodyPr>
          <a:p>
            <a:pPr indent="0">
              <a:lnSpc>
                <a:spcPts val="1800"/>
              </a:lnSpc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= B'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1800"/>
              </a:lnSpc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t = AB + BCin + AC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1800"/>
              </a:lnSpc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0,4,5,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18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B'C'+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7118280" y="2359080"/>
            <a:ext cx="8143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73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51600" y="2282760"/>
            <a:ext cx="901800" cy="90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51600" y="2727360"/>
            <a:ext cx="8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7396200" y="22701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94360" y="2000160"/>
            <a:ext cx="552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2000160"/>
            <a:ext cx="552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9760" y="183816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68920" y="202572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6638400" y="1968120"/>
            <a:ext cx="31284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94560" y="2363760"/>
            <a:ext cx="550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81960" y="2816280"/>
            <a:ext cx="55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08840" y="2357280"/>
            <a:ext cx="836640" cy="37476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61000" y="4522680"/>
            <a:ext cx="1629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73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80280" y="4433760"/>
            <a:ext cx="90144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80280" y="4879800"/>
            <a:ext cx="89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824520" y="4421160"/>
            <a:ext cx="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81720" y="4433760"/>
            <a:ext cx="9036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81720" y="4879800"/>
            <a:ext cx="89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728120" y="4421160"/>
            <a:ext cx="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35840" y="4503600"/>
            <a:ext cx="552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24680" y="4954680"/>
            <a:ext cx="55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35840" y="398952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88280" y="385128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73720" y="4176720"/>
            <a:ext cx="639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24800" y="4176720"/>
            <a:ext cx="67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75520" y="4176720"/>
            <a:ext cx="67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89880" y="4176720"/>
            <a:ext cx="67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6067080" y="4146120"/>
            <a:ext cx="31284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81720" y="4152960"/>
            <a:ext cx="9036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22920" y="421488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3520" y="551196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43600" y="5456160"/>
            <a:ext cx="87804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8280" y="4497480"/>
            <a:ext cx="312840" cy="78876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45440" y="4964040"/>
            <a:ext cx="801720" cy="36036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19920" y="4973760"/>
            <a:ext cx="738360" cy="33804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90640" y="4871880"/>
            <a:ext cx="1629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73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54200" y="4782960"/>
            <a:ext cx="901800" cy="90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54200" y="522756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98800" y="4770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56000" y="4782960"/>
            <a:ext cx="901440" cy="90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56000" y="5227560"/>
            <a:ext cx="89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000240" y="4770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09760" y="4851360"/>
            <a:ext cx="527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97160" y="5302080"/>
            <a:ext cx="552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09760" y="433692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62200" y="4199040"/>
            <a:ext cx="576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4525920"/>
            <a:ext cx="640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98720" y="452592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9440" y="452592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63800" y="452592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1341000" y="4493880"/>
            <a:ext cx="31284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56000" y="4500720"/>
            <a:ext cx="90144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96920" y="4562640"/>
            <a:ext cx="525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7440" y="5859360"/>
            <a:ext cx="576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17880" y="5803920"/>
            <a:ext cx="87624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19360" y="5359320"/>
            <a:ext cx="801720" cy="28728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5760" y="4884840"/>
            <a:ext cx="78984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2440" y="4919760"/>
            <a:ext cx="80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71880" y="4872240"/>
            <a:ext cx="774360" cy="29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89" y="21172"/>
                </a:moveTo>
                <a:arcTo wR="10800" hR="10800" stAng="6371353" swAng="5404812"/>
                <a:lnTo>
                  <a:pt x="10800" y="10800"/>
                </a:lnTo>
                <a:close/>
              </a:path>
              <a:path fill="none" w="21600" h="21600">
                <a:moveTo>
                  <a:pt x="7789" y="21172"/>
                </a:moveTo>
                <a:arcTo wR="10800" hR="10800" stAng="6371353" swAng="5404812"/>
              </a:path>
            </a:pathLst>
          </a:custGeom>
          <a:noFill/>
          <a:ln cap="rnd"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70440" y="4884840"/>
            <a:ext cx="777240" cy="27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1" y="7746"/>
                </a:moveTo>
                <a:arcTo wR="10800" hR="10800" stAng="-9814504" swAng="5365367"/>
                <a:lnTo>
                  <a:pt x="10800" y="10800"/>
                </a:lnTo>
                <a:close/>
              </a:path>
              <a:path fill="none" w="21600" h="21600">
                <a:moveTo>
                  <a:pt x="441" y="7746"/>
                </a:moveTo>
                <a:arcTo wR="10800" hR="10800" stAng="-9814504" swAng="5365367"/>
              </a:path>
            </a:pathLst>
          </a:custGeom>
          <a:noFill/>
          <a:ln cap="rnd"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81200" y="1697040"/>
            <a:ext cx="4525920" cy="56664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87920" y="2641680"/>
            <a:ext cx="1850760" cy="129384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69960" y="3497400"/>
            <a:ext cx="322200" cy="80784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47720" y="4975200"/>
            <a:ext cx="1650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0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6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3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7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04040" y="4621320"/>
            <a:ext cx="16509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0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6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3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7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69240" y="2475000"/>
            <a:ext cx="29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81840" y="2944800"/>
            <a:ext cx="228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26440" y="2944800"/>
            <a:ext cx="269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26440" y="2475000"/>
            <a:ext cx="26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057320" y="4408560"/>
            <a:ext cx="296208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800"/>
              </a:lnSpc>
              <a:spcBef>
                <a:spcPts val="2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0,4,5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B'C'+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61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'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1,2,3,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61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’C + BC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2040" y="5035680"/>
            <a:ext cx="2751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761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83160" y="4408560"/>
            <a:ext cx="26226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'(A,B,C) = ??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03800" y="2890800"/>
            <a:ext cx="16272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73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67360" y="284652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67360" y="3292560"/>
            <a:ext cx="8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411960" y="283320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69160" y="284652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69160" y="329256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313760" y="283320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22920" y="291636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10320" y="3367080"/>
            <a:ext cx="55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57840" y="2367000"/>
            <a:ext cx="738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2080" y="2338560"/>
            <a:ext cx="576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59360" y="2589120"/>
            <a:ext cx="639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11880" y="2589120"/>
            <a:ext cx="676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62600" y="2589120"/>
            <a:ext cx="676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75520" y="2589120"/>
            <a:ext cx="6760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5652720" y="2558520"/>
            <a:ext cx="31428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69160" y="2565360"/>
            <a:ext cx="9018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73720" y="2662200"/>
            <a:ext cx="527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81880" y="3916440"/>
            <a:ext cx="57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29240" y="3868560"/>
            <a:ext cx="87804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81120" y="2548080"/>
            <a:ext cx="9018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98480" y="2898720"/>
            <a:ext cx="1629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73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60600" y="2833560"/>
            <a:ext cx="90144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60600" y="327960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04840" y="2822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62040" y="283356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62040" y="3279600"/>
            <a:ext cx="8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906640" y="2822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16160" y="2903400"/>
            <a:ext cx="527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03200" y="3354480"/>
            <a:ext cx="551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16160" y="238932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19360" y="231444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54040" y="2577960"/>
            <a:ext cx="638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5120" y="257796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55840" y="257796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68760" y="257796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1247400" y="2545920"/>
            <a:ext cx="31284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69840" y="2647800"/>
            <a:ext cx="525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23920" y="3855960"/>
            <a:ext cx="8766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57480" y="391644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63840" y="3019320"/>
            <a:ext cx="1650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0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6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3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7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81760" y="3019320"/>
            <a:ext cx="1650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0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6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3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7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-map minimization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 the complement by covering 0s with sub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-map minimization: 4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F(A,B,C,D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(0,2,3,5,6,7,8,10,11,14,1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least number of subcubes, each as large as possible, that cover the ON-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924440" y="4611600"/>
            <a:ext cx="1690560" cy="2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662440" y="4611600"/>
            <a:ext cx="169092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039000" y="4260600"/>
            <a:ext cx="169056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299200" y="4260600"/>
            <a:ext cx="169200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924440" y="3897000"/>
            <a:ext cx="169056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662440" y="3897000"/>
            <a:ext cx="169092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039000" y="3546360"/>
            <a:ext cx="169056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99200" y="3546360"/>
            <a:ext cx="1692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924440" y="3771720"/>
            <a:ext cx="36360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2440" y="3771720"/>
            <a:ext cx="363600" cy="36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662440" y="4487760"/>
            <a:ext cx="3636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4924440" y="4487760"/>
            <a:ext cx="363600" cy="36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17960" y="4135320"/>
            <a:ext cx="0" cy="703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56320" y="4135320"/>
            <a:ext cx="0" cy="70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24440" y="484488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73680" y="480060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613480" y="4800600"/>
            <a:ext cx="1000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37040" y="412920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73680" y="4086360"/>
            <a:ext cx="100080" cy="99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13480" y="4086360"/>
            <a:ext cx="100080" cy="99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94160" y="3784680"/>
            <a:ext cx="0" cy="70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2520" y="3784680"/>
            <a:ext cx="0" cy="70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9200" y="4492800"/>
            <a:ext cx="72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87880" y="4449600"/>
            <a:ext cx="1018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11800" y="3778200"/>
            <a:ext cx="71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49880" y="373536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987880" y="3735360"/>
            <a:ext cx="1018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6627960" y="3546360"/>
            <a:ext cx="3632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365960" y="3546360"/>
            <a:ext cx="3636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365960" y="4260960"/>
            <a:ext cx="3636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627960" y="4260960"/>
            <a:ext cx="36324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1480" y="390996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9480" y="390996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7960" y="461808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76840" y="457524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6640" y="4575240"/>
            <a:ext cx="1000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40560" y="390384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76840" y="386064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16640" y="386064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97680" y="355932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36040" y="355932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004160" y="426708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53400" y="4224240"/>
            <a:ext cx="9972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93200" y="4224240"/>
            <a:ext cx="9972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15320" y="3552840"/>
            <a:ext cx="71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53400" y="3510000"/>
            <a:ext cx="9972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693200" y="3510000"/>
            <a:ext cx="9972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05320" y="4530600"/>
            <a:ext cx="552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05200" y="4392720"/>
            <a:ext cx="551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943520" y="4405320"/>
            <a:ext cx="525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354560" y="4794120"/>
            <a:ext cx="801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48640" y="3378240"/>
            <a:ext cx="801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58040" y="4681440"/>
            <a:ext cx="927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07160" y="3427560"/>
            <a:ext cx="927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9880" y="4449600"/>
            <a:ext cx="1000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43680" y="4832280"/>
            <a:ext cx="55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81280" y="3743280"/>
            <a:ext cx="2016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74"/>
              </a:lnSpc>
              <a:spcBef>
                <a:spcPts val="17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30440" y="456264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30440" y="500688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075040" y="454932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32240" y="4562640"/>
            <a:ext cx="90144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32240" y="500688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76480" y="454932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30440" y="3659040"/>
            <a:ext cx="901800" cy="90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30440" y="410544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075040" y="364608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32240" y="3659040"/>
            <a:ext cx="901440" cy="90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32240" y="410544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976480" y="364608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86000" y="3189240"/>
            <a:ext cx="73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36800" y="3449520"/>
            <a:ext cx="739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87760" y="3102120"/>
            <a:ext cx="57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49640" y="5589720"/>
            <a:ext cx="57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63840" y="4417920"/>
            <a:ext cx="57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522440" y="3378240"/>
            <a:ext cx="639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74960" y="337824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25680" y="337824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38600" y="337824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22320" y="376560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909720" y="419256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58680" y="4643280"/>
            <a:ext cx="6271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58680" y="5106960"/>
            <a:ext cx="627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1315800" y="3346560"/>
            <a:ext cx="314280" cy="31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32240" y="3352680"/>
            <a:ext cx="90144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81160" y="5559480"/>
            <a:ext cx="876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35160" y="4562640"/>
            <a:ext cx="0" cy="89028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27280" y="4111560"/>
            <a:ext cx="0" cy="88920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71560" y="4881600"/>
            <a:ext cx="527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38360" y="3867120"/>
            <a:ext cx="2044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0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4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2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5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3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3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7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5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6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4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cc3399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naugh map: 4-variable example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28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F(A,B,C,D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(0,2,3,5,6,7,8,10,11,14,1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F =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A'B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B'D'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4849920" y="4202280"/>
            <a:ext cx="1704960" cy="942840"/>
          </a:xfrm>
          <a:custGeom>
            <a:avLst/>
            <a:gdLst/>
            <a:ahLst/>
            <a:rect l="l" t="t" r="r" b="b"/>
            <a:pathLst>
              <a:path w="1089" h="601">
                <a:moveTo>
                  <a:pt x="0" y="144"/>
                </a:moveTo>
                <a:lnTo>
                  <a:pt x="0" y="600"/>
                </a:lnTo>
                <a:lnTo>
                  <a:pt x="1088" y="456"/>
                </a:lnTo>
                <a:lnTo>
                  <a:pt x="1088" y="0"/>
                </a:lnTo>
                <a:lnTo>
                  <a:pt x="0" y="14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856040" y="4911480"/>
            <a:ext cx="1690920" cy="2379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595840" y="4911480"/>
            <a:ext cx="169092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970600" y="4559400"/>
            <a:ext cx="169236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232240" y="4559400"/>
            <a:ext cx="169092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856040" y="4195800"/>
            <a:ext cx="1690920" cy="23976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595840" y="4195800"/>
            <a:ext cx="169092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970600" y="3844800"/>
            <a:ext cx="169236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32240" y="3844800"/>
            <a:ext cx="169092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856040" y="4070520"/>
            <a:ext cx="36360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595840" y="4070520"/>
            <a:ext cx="36360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595840" y="4786200"/>
            <a:ext cx="3636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856040" y="4786200"/>
            <a:ext cx="363600" cy="36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49920" y="4435560"/>
            <a:ext cx="0" cy="70164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9720" y="443556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56040" y="5143680"/>
            <a:ext cx="72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07080" y="5099040"/>
            <a:ext cx="9972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45080" y="5099040"/>
            <a:ext cx="1000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69000" y="4429080"/>
            <a:ext cx="71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07080" y="4384800"/>
            <a:ext cx="99720" cy="99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45080" y="4384800"/>
            <a:ext cx="100080" cy="99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26120" y="4083120"/>
            <a:ext cx="0" cy="70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65920" y="4083120"/>
            <a:ext cx="0" cy="70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32240" y="4792680"/>
            <a:ext cx="7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21280" y="474804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5200" y="4076640"/>
            <a:ext cx="71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81480" y="403380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21280" y="403380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559560" y="3844800"/>
            <a:ext cx="3636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299360" y="3844800"/>
            <a:ext cx="36360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7299360" y="4559400"/>
            <a:ext cx="36360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559560" y="4559400"/>
            <a:ext cx="36360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208400"/>
            <a:ext cx="0" cy="7034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92880" y="4208400"/>
            <a:ext cx="0" cy="70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59560" y="4917960"/>
            <a:ext cx="7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10240" y="487368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48600" y="4873680"/>
            <a:ext cx="1000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72160" y="4202280"/>
            <a:ext cx="7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10240" y="415908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248600" y="415908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29280" y="385776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669080" y="385776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935760" y="4565520"/>
            <a:ext cx="7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85000" y="4522680"/>
            <a:ext cx="10152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4800" y="4522680"/>
            <a:ext cx="1000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948360" y="3851280"/>
            <a:ext cx="7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85000" y="3808440"/>
            <a:ext cx="10152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24800" y="3808440"/>
            <a:ext cx="10008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38720" y="4829040"/>
            <a:ext cx="550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37160" y="4691160"/>
            <a:ext cx="550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875120" y="4703760"/>
            <a:ext cx="525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86160" y="5092560"/>
            <a:ext cx="801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80240" y="3676680"/>
            <a:ext cx="801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91440" y="4979880"/>
            <a:ext cx="927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38760" y="3726000"/>
            <a:ext cx="927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81480" y="4748040"/>
            <a:ext cx="10008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75280" y="5130720"/>
            <a:ext cx="55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62280" y="3670200"/>
            <a:ext cx="20160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9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99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12880" y="449748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12880" y="4941720"/>
            <a:ext cx="8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157480" y="448416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14680" y="449748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4680" y="494172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059280" y="448416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12880" y="359424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12880" y="4040280"/>
            <a:ext cx="8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157480" y="358092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614680" y="359424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14680" y="404028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059280" y="3580920"/>
            <a:ext cx="0" cy="9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68440" y="3124080"/>
            <a:ext cx="738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144440" y="338616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20880" y="2986200"/>
            <a:ext cx="576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346480" y="5543640"/>
            <a:ext cx="576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84440" y="4327560"/>
            <a:ext cx="576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06680" y="3313080"/>
            <a:ext cx="637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331308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08120" y="331308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921040" y="331308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004760" y="370188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92160" y="412740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042920" y="4578480"/>
            <a:ext cx="625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042920" y="5043600"/>
            <a:ext cx="625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398240" y="3281040"/>
            <a:ext cx="31428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614680" y="3232080"/>
            <a:ext cx="9018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163600" y="5494320"/>
            <a:ext cx="8766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73320" y="4497480"/>
            <a:ext cx="0" cy="89064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10080" y="4046400"/>
            <a:ext cx="0" cy="88920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800360" y="4610160"/>
            <a:ext cx="1652400" cy="739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38480" y="4146480"/>
            <a:ext cx="276120" cy="752400"/>
          </a:xfrm>
          <a:prstGeom prst="rect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33800" y="3532320"/>
            <a:ext cx="0" cy="4251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39920" y="3963960"/>
            <a:ext cx="43848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139560" y="5054760"/>
            <a:ext cx="45108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46400" y="5060880"/>
            <a:ext cx="0" cy="4017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081160" y="5024520"/>
            <a:ext cx="0" cy="45072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623960" y="5030640"/>
            <a:ext cx="46368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49520" y="3976560"/>
            <a:ext cx="42696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081160" y="3506760"/>
            <a:ext cx="0" cy="46368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92080" y="476712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-map class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1712880" y="470844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12880" y="5153040"/>
            <a:ext cx="8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157480" y="4695840"/>
            <a:ext cx="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14680" y="470844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14680" y="515304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059280" y="4695840"/>
            <a:ext cx="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12880" y="380520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12880" y="4251240"/>
            <a:ext cx="8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157480" y="3792600"/>
            <a:ext cx="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14680" y="380520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614680" y="425124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059280" y="3792600"/>
            <a:ext cx="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68440" y="3335400"/>
            <a:ext cx="738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144440" y="3597120"/>
            <a:ext cx="739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6680" y="3524400"/>
            <a:ext cx="637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57400" y="352440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08120" y="352440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921040" y="3524400"/>
            <a:ext cx="676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04760" y="391320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92160" y="4338720"/>
            <a:ext cx="676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42920" y="4789440"/>
            <a:ext cx="625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5254560"/>
            <a:ext cx="625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1398240" y="3492000"/>
            <a:ext cx="31428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38360" y="1614600"/>
            <a:ext cx="3537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,D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0,3,7,8,11,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,D) =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’(A,B,C,D) =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4520" y="1701720"/>
            <a:ext cx="26496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0,3,6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75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'(A,B,C) = ??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21280" y="470376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921280" y="5149800"/>
            <a:ext cx="8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6365880" y="4691160"/>
            <a:ext cx="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23080" y="4703760"/>
            <a:ext cx="901800" cy="90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823080" y="5149800"/>
            <a:ext cx="888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7267680" y="4691160"/>
            <a:ext cx="0" cy="9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676840" y="4773600"/>
            <a:ext cx="525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664240" y="5224320"/>
            <a:ext cx="55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76840" y="4259160"/>
            <a:ext cx="738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813280" y="4446720"/>
            <a:ext cx="640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265800" y="444672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16880" y="4446720"/>
            <a:ext cx="67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129440" y="4446720"/>
            <a:ext cx="676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 flipV="1">
            <a:off x="5606640" y="4416120"/>
            <a:ext cx="314280" cy="3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316480" y="4519440"/>
            <a:ext cx="527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87520" y="1600200"/>
            <a:ext cx="7886520" cy="31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0 pt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–36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a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-bit twos-comp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inary num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10 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1 1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dd 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1 110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swer: _1_  _1_  _0_  _1_   _1_  _1_  _0_  _0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sb                                                   l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431640" y="1601640"/>
            <a:ext cx="816300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27000" bIns="27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omplement of F.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 the exp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=(A+B')(A'D' + E)+(AC' + BD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set of rules for complement (deMorgan’s), this turns out to be a one-step process. We 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' =A'B+(A+D)E'(A' + C)(B' + D'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ual of F.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the expressio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=AB+(A' + C)(B+E'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set of rules for duals (Duality), this turns out to be a one-step process. We 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 =(A+B)(A'C+BE'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825516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Simplify two-level combinationa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4200" y="1481040"/>
            <a:ext cx="8331480" cy="45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ebraic simpl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n algorithmic/systematic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you know when the minimum realization has been foun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-aided design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olutions require very long computation times (NP har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 methods employed – "educated guess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 methods are still relev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real-world problems are solvable by h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-function si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4920" y="1511280"/>
            <a:ext cx="7831080" cy="23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tool: The uniting theore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(B’+B) =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pproac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subsets of the ON-set where some variables don’t change (the A’s above) and others do (the B’s abo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iminate the changing variables (the B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498680" y="410832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400640"/>
            <a:ext cx="13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24160" y="4127400"/>
            <a:ext cx="0" cy="16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4680" y="4441680"/>
            <a:ext cx="266760" cy="6130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2160" y="4441680"/>
            <a:ext cx="266760" cy="6130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74760" y="4940280"/>
            <a:ext cx="1343160" cy="22212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20800" y="4573440"/>
            <a:ext cx="1782720" cy="26208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19440" y="4273560"/>
            <a:ext cx="4711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as the same value in both on-set r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keep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9440" y="5027760"/>
            <a:ext cx="44830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has a different value in the two r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eliminat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19440" y="5815080"/>
            <a:ext cx="3416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= A'B'+A'B = A'(B+B') = 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ean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02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sual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can apply the uniting theor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input variables = n-dimensional "cub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2185920" y="3218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2560" y="317340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62360" y="317340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62680" y="290052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11840" y="2843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68800" y="356076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18040" y="35164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7560" y="35164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81760" y="283680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18040" y="27925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67560" y="27925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008080" y="444312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57600" y="444312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57600" y="516708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008080" y="5214600"/>
            <a:ext cx="358920" cy="32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01960" y="485928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1120" y="481176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27160" y="553896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54849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06840" y="54849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1040" y="480528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7320" y="476100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6840" y="476100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82840" y="445608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445608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89320" y="517356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38560" y="51292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87720" y="51292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01920" y="44496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38560" y="44053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7720" y="44053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484520" y="5354640"/>
            <a:ext cx="1676520" cy="23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34040" y="5345280"/>
            <a:ext cx="17143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614920" y="4989600"/>
            <a:ext cx="17146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865760" y="4989600"/>
            <a:ext cx="17143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84520" y="4621320"/>
            <a:ext cx="17146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234040" y="4621320"/>
            <a:ext cx="17143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614920" y="4265640"/>
            <a:ext cx="17146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65760" y="4265640"/>
            <a:ext cx="17143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84520" y="4493880"/>
            <a:ext cx="3686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34040" y="449388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34040" y="5256000"/>
            <a:ext cx="35856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84520" y="5265360"/>
            <a:ext cx="349560" cy="32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8400" y="49006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7560" y="486252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84520" y="5580000"/>
            <a:ext cx="698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33760" y="553572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3280" y="55357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7480" y="48560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33760" y="481176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3280" y="48117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4506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08800" y="4506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65760" y="522432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15000" y="518004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160" y="518004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8360" y="45007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15000" y="44560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4160" y="44560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211800" y="426528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961320" y="426528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961320" y="498924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1800" y="498924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05680" y="463392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54840" y="463392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11800" y="53514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61040" y="53071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10560" y="530712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4760" y="462744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61040" y="45831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10560" y="45831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86560" y="42782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35720" y="42782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93040" y="499572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41920" y="495144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91440" y="495144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05640" y="42721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1920" y="4227480"/>
            <a:ext cx="10188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91440" y="42274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0920" y="3046320"/>
            <a:ext cx="9813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4320" y="3027240"/>
            <a:ext cx="115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5200" y="4900680"/>
            <a:ext cx="1155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69080" y="4618080"/>
            <a:ext cx="876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1000" y="321804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43480" y="3598920"/>
            <a:ext cx="222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36960" y="3078000"/>
            <a:ext cx="212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71600" y="5560920"/>
            <a:ext cx="241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11160" y="5065560"/>
            <a:ext cx="2224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90880" y="51102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38760" y="5186520"/>
            <a:ext cx="254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19600" y="5580000"/>
            <a:ext cx="222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1480" y="5065560"/>
            <a:ext cx="222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60840" y="5154480"/>
            <a:ext cx="177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17880" y="2890800"/>
            <a:ext cx="263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36800" y="2890800"/>
            <a:ext cx="225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00760" y="2709720"/>
            <a:ext cx="304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94400" y="3433680"/>
            <a:ext cx="787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94400" y="2709720"/>
            <a:ext cx="6858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13360" y="3446640"/>
            <a:ext cx="276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95520" y="5516640"/>
            <a:ext cx="441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95720" y="4290840"/>
            <a:ext cx="517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21200" y="5595840"/>
            <a:ext cx="488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48680" y="3997440"/>
            <a:ext cx="517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3200" y="5462640"/>
            <a:ext cx="511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8640" y="4154400"/>
            <a:ext cx="501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11560" y="504360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7720" y="5516640"/>
            <a:ext cx="276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43280" y="4289400"/>
            <a:ext cx="441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49720" y="5651640"/>
            <a:ext cx="489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79800" y="4737240"/>
            <a:ext cx="4888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44920" y="4211640"/>
            <a:ext cx="4888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35680" y="5418000"/>
            <a:ext cx="488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10160" y="3962520"/>
            <a:ext cx="489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ping truth tables onto Boolean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3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et = solid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 set = empty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008600" y="42022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5560" y="4919760"/>
            <a:ext cx="717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487512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3960" y="487512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8160" y="41958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415116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3960" y="415116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7240" y="5100480"/>
            <a:ext cx="2728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24360" y="4446720"/>
            <a:ext cx="253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8360" y="4799160"/>
            <a:ext cx="301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4480" y="4068720"/>
            <a:ext cx="285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38440" y="3687840"/>
            <a:ext cx="282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00320" y="4761000"/>
            <a:ext cx="1117800" cy="31752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76720" y="4068720"/>
            <a:ext cx="295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4880" y="479916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92880" y="2978280"/>
            <a:ext cx="30225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ube (a line) compri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s within the subcub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does no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ubcube repres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iteral B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228920" y="3613320"/>
            <a:ext cx="1228680" cy="113184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2320" y="36147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78040" y="3906720"/>
            <a:ext cx="13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47800" y="3633840"/>
            <a:ext cx="0" cy="166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62320" y="4254480"/>
            <a:ext cx="0" cy="654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minimization using Boolean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37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ting theorem = find reduced-dimensionality subcub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Binary full-adder carry-out log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-set is covered by the OR of three 2-D subcub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952560" y="34146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21080" y="3144960"/>
            <a:ext cx="0" cy="263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3112920"/>
            <a:ext cx="2539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n      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43800" y="3422520"/>
            <a:ext cx="441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272200" y="372852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021360" y="372852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021360" y="445248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272200" y="4500720"/>
            <a:ext cx="339480" cy="32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65720" y="414504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4880" y="409716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2200" y="4815000"/>
            <a:ext cx="698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21440" y="47703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70600" y="47703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84800" y="40910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21440" y="40464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70600" y="4046400"/>
            <a:ext cx="10152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46600" y="374184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6120" y="374184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3080" y="445932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02320" y="441468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51480" y="4414680"/>
            <a:ext cx="10188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65680" y="37353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02320" y="36910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1480" y="3691080"/>
            <a:ext cx="1018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16640" y="4836960"/>
            <a:ext cx="2221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6840" y="4341960"/>
            <a:ext cx="18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92600" y="4481640"/>
            <a:ext cx="282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53160" y="4800600"/>
            <a:ext cx="422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8760" y="4379760"/>
            <a:ext cx="565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75520" y="3475080"/>
            <a:ext cx="291960" cy="124452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61120" y="3589200"/>
            <a:ext cx="1333440" cy="304920"/>
          </a:xfrm>
          <a:prstGeom prst="ellipse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069160" y="2865600"/>
            <a:ext cx="2261160" cy="2122200"/>
            <a:chOff x="5069160" y="2865600"/>
            <a:chExt cx="2261160" cy="2122200"/>
          </a:xfrm>
        </p:grpSpPr>
        <p:sp>
          <p:nvSpPr>
            <p:cNvPr id="232" name=""/>
            <p:cNvSpPr/>
            <p:nvPr/>
          </p:nvSpPr>
          <p:spPr>
            <a:xfrm>
              <a:off x="5069160" y="2865600"/>
              <a:ext cx="1497240" cy="14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07160" y="3590640"/>
              <a:ext cx="152316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838"/>
                </a:path>
              </a:pathLst>
            </a:custGeom>
            <a:noFill/>
            <a:ln cap="rnd" w="1908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344840" y="3135240"/>
            <a:ext cx="1330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68960" y="5029200"/>
            <a:ext cx="153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7080" y="3963960"/>
            <a:ext cx="132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4840" y="5654520"/>
            <a:ext cx="287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29280" y="3462480"/>
            <a:ext cx="250920" cy="26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097320" y="4223880"/>
            <a:ext cx="244440" cy="83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576840" y="4109760"/>
            <a:ext cx="51768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-dimensional cubes in n-dimensional spa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94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-cube (three variable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0-cube (a single node) yields a term in 3 liter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1-cube (a line of two nodes) yields a term in 2 liter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2-cube (a plane of four nodes) yields a term in 1 lit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3-cube (a cube of eight nodes) yields a constant term "1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2136600" y="3862440"/>
            <a:ext cx="382680" cy="1081080"/>
          </a:xfrm>
          <a:custGeom>
            <a:avLst/>
            <a:gdLst/>
            <a:ahLst/>
            <a:rect l="l" t="t" r="r" b="b"/>
            <a:pathLst>
              <a:path w="241" h="681">
                <a:moveTo>
                  <a:pt x="0" y="224"/>
                </a:moveTo>
                <a:lnTo>
                  <a:pt x="240" y="0"/>
                </a:lnTo>
                <a:lnTo>
                  <a:pt x="240" y="456"/>
                </a:lnTo>
                <a:lnTo>
                  <a:pt x="0" y="680"/>
                </a:lnTo>
                <a:lnTo>
                  <a:pt x="0" y="224"/>
                </a:lnTo>
                <a:lnTo>
                  <a:pt x="24" y="256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2960" y="3754440"/>
            <a:ext cx="426384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-set forms a square (a 2-D cub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is asserted (true) and uncha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ubcube represents the literal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441160" y="4727160"/>
            <a:ext cx="1629000" cy="94140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393920" y="385560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143080" y="385560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143080" y="457956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393920" y="4617720"/>
            <a:ext cx="35856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87440" y="4281480"/>
            <a:ext cx="0" cy="654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6600" y="42242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3920" y="4941720"/>
            <a:ext cx="698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43160" y="489744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92320" y="489744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06520" y="42181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43160" y="417348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92320" y="4173480"/>
            <a:ext cx="1015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68320" y="386856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7840" y="386856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74800" y="45864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24040" y="4541760"/>
            <a:ext cx="101520" cy="101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73200" y="4541760"/>
            <a:ext cx="1018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87400" y="38624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24040" y="3817800"/>
            <a:ext cx="101520" cy="101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3200" y="3817800"/>
            <a:ext cx="101880" cy="101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57440" y="4964040"/>
            <a:ext cx="225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468680"/>
            <a:ext cx="216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86080" y="4503600"/>
            <a:ext cx="187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52560" y="4871880"/>
            <a:ext cx="4381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10000" y="3665520"/>
            <a:ext cx="36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16120" y="4484520"/>
            <a:ext cx="4381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38480" y="4871880"/>
            <a:ext cx="3808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68360" y="3649680"/>
            <a:ext cx="399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52560" y="4071960"/>
            <a:ext cx="438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70200" y="395136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naugh ma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1600" y="1558440"/>
            <a:ext cx="5514840" cy="432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t representation of Boolean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use for 2– 4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for 4 – 6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ly impossible for 6+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CAD to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visualize adjac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-set elements that have one variable changing are adjac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ke a truth-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 way to apply the uniting theor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986520" y="4853160"/>
            <a:ext cx="825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80400" y="4633920"/>
            <a:ext cx="9144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999120" y="5094360"/>
            <a:ext cx="9115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431120" y="4620960"/>
            <a:ext cx="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23160" y="434808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2960" y="434808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05440" y="4205160"/>
            <a:ext cx="212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70720" y="4459320"/>
            <a:ext cx="269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675480" y="4316400"/>
            <a:ext cx="317520" cy="3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19760" y="4716360"/>
            <a:ext cx="5590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7160" y="517356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48560" y="203832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684840" y="2340000"/>
            <a:ext cx="13795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54960" y="2019240"/>
            <a:ext cx="0" cy="170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21520" y="4748040"/>
            <a:ext cx="29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34120" y="5218200"/>
            <a:ext cx="228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78720" y="5234040"/>
            <a:ext cx="270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78720" y="4748040"/>
            <a:ext cx="270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07120" y="2341440"/>
            <a:ext cx="3697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-map cell numb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64920" y="1417680"/>
            <a:ext cx="7846920" cy="16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y–code: Only one bit changes between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0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out for 2 – 4 dimension K-ma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5521320" y="5018040"/>
            <a:ext cx="393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70480" y="3978360"/>
            <a:ext cx="2044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4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2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5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3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3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7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5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6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4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54640" y="4694400"/>
            <a:ext cx="9144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54640" y="5145120"/>
            <a:ext cx="90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705720" y="4681440"/>
            <a:ext cx="0" cy="9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9040" y="4694400"/>
            <a:ext cx="9144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9040" y="5145120"/>
            <a:ext cx="90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620120" y="4681440"/>
            <a:ext cx="0" cy="9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54640" y="3780000"/>
            <a:ext cx="9144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54640" y="4230720"/>
            <a:ext cx="90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705720" y="3767040"/>
            <a:ext cx="0" cy="9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9040" y="3780000"/>
            <a:ext cx="9144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9040" y="4230720"/>
            <a:ext cx="90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20120" y="3767040"/>
            <a:ext cx="0" cy="9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58080" y="3270240"/>
            <a:ext cx="550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72160" y="3541680"/>
            <a:ext cx="549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77040" y="316404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51760" y="4522680"/>
            <a:ext cx="584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6640" y="3494160"/>
            <a:ext cx="648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03840" y="34941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61040" y="34941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0440" y="34941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37160" y="3887640"/>
            <a:ext cx="6858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24560" y="431964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24560" y="477684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24560" y="524664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937120" y="3462480"/>
            <a:ext cx="317520" cy="3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9040" y="3468600"/>
            <a:ext cx="9144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11840" y="5703840"/>
            <a:ext cx="8892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54680" y="4694400"/>
            <a:ext cx="0" cy="90144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23120" y="4237200"/>
            <a:ext cx="0" cy="90144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14800" y="4384800"/>
            <a:ext cx="16509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6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3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7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92480" y="4195800"/>
            <a:ext cx="9144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92480" y="4646520"/>
            <a:ext cx="90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643200" y="4182840"/>
            <a:ext cx="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06880" y="4195800"/>
            <a:ext cx="9144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06880" y="4646520"/>
            <a:ext cx="90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57600" y="4182840"/>
            <a:ext cx="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44800" y="4265640"/>
            <a:ext cx="255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32200" y="4722840"/>
            <a:ext cx="264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67120" y="3711600"/>
            <a:ext cx="749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14880" y="3605040"/>
            <a:ext cx="584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84480" y="3935520"/>
            <a:ext cx="64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41680" y="393552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8880" y="393552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7920" y="393552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2874960" y="3903480"/>
            <a:ext cx="317520" cy="31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06880" y="3909960"/>
            <a:ext cx="9144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68600" y="4006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98720" y="5253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62280" y="5230800"/>
            <a:ext cx="8892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70600" y="57657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4722840"/>
            <a:ext cx="479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19240" y="4653000"/>
            <a:ext cx="0" cy="44460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62080" y="4165560"/>
            <a:ext cx="9144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181160" y="4626000"/>
            <a:ext cx="9111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12800" y="4152600"/>
            <a:ext cx="0" cy="9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04840" y="387972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74640" y="3879720"/>
            <a:ext cx="5590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87480" y="3736800"/>
            <a:ext cx="212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2400" y="3990960"/>
            <a:ext cx="270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857160" y="3848040"/>
            <a:ext cx="317520" cy="3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01800" y="424800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88840" y="4705200"/>
            <a:ext cx="5590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5840" y="4346640"/>
            <a:ext cx="290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98440" y="4816440"/>
            <a:ext cx="228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43040" y="4832280"/>
            <a:ext cx="270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43040" y="4346640"/>
            <a:ext cx="27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99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81120" y="35449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38360" y="3824280"/>
            <a:ext cx="43812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040" y="4740120"/>
            <a:ext cx="479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7040" y="4670280"/>
            <a:ext cx="0" cy="44460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2-04-08T19:59:46Z</cp:lastPrinted>
  <dcterms:modified xsi:type="dcterms:W3CDTF">2008-01-23T19:18:09Z</dcterms:modified>
  <cp:revision>259</cp:revision>
  <dc:subject>CSE370</dc:subject>
  <dc:title>Lecture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