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9.pct" ContentType="image/x-pict"/>
  <Override PartName="/ppt/media/image10.png" ContentType="image/png"/>
  <Override PartName="/ppt/media/image8.pct" ContentType="image/x-pict"/>
  <Override PartName="/ppt/media/image7.pct" ContentType="image/x-pict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6.pct" ContentType="image/x-pict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25560" y="4312800"/>
            <a:ext cx="5083200" cy="4086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76480" y="686880"/>
            <a:ext cx="4582800" cy="343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76480" y="687240"/>
            <a:ext cx="4582800" cy="343692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5560" y="4312800"/>
            <a:ext cx="5083200" cy="4086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 rule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Interrup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hen you don’t underst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e are doing some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25560" y="4312800"/>
            <a:ext cx="5083200" cy="4086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hair is 70um. Transistor is 500times sma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deen won 2 nobel prizes in physics. Second was for theory of superconductivity, usually called the BCS-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52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24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480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52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24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4800" y="475920"/>
            <a:ext cx="793584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278000"/>
            <a:ext cx="77900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32760" y="6308640"/>
            <a:ext cx="352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B382-C9AC-4D67-9C83-29B7A508E34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0480" y="6291360"/>
            <a:ext cx="3387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E370, Lectur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ct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gat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olean algeb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xiom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ful laws and theor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plifying Boolean expres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’s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ic gates and truth t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ing logic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MOS swit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pping truth tables to logic g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4800" y="1390320"/>
            <a:ext cx="7934400" cy="14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truth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the Boolean exp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e the Boolean exp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 as g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912600" y="3009960"/>
            <a:ext cx="2782080" cy="3052080"/>
            <a:chOff x="912600" y="3009960"/>
            <a:chExt cx="2782080" cy="3052080"/>
          </a:xfrm>
        </p:grpSpPr>
        <p:sp>
          <p:nvSpPr>
            <p:cNvPr id="224" name=""/>
            <p:cNvSpPr/>
            <p:nvPr/>
          </p:nvSpPr>
          <p:spPr>
            <a:xfrm>
              <a:off x="912600" y="3009960"/>
              <a:ext cx="2782080" cy="30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   B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    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0    0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0   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0    0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   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0    1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0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0    1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    0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0   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    0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    1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0   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    1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81040" y="3375000"/>
              <a:ext cx="168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51120" y="3044880"/>
              <a:ext cx="0" cy="301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149000" y="2765520"/>
            <a:ext cx="42451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= A’BC’+A’BC+AB’C+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A’B(C’+C)+AC(B’+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A’B+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357800" y="4346640"/>
            <a:ext cx="3759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800568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possible mapp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4440" y="1390680"/>
            <a:ext cx="7489800" cy="13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ways to map expressions to g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735280" y="1886040"/>
            <a:ext cx="4248000" cy="388800"/>
            <a:chOff x="2735280" y="1886040"/>
            <a:chExt cx="4248000" cy="388800"/>
          </a:xfrm>
        </p:grpSpPr>
        <p:sp>
          <p:nvSpPr>
            <p:cNvPr id="232" name=""/>
            <p:cNvSpPr/>
            <p:nvPr/>
          </p:nvSpPr>
          <p:spPr>
            <a:xfrm>
              <a:off x="2735280" y="1944360"/>
              <a:ext cx="1713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01840" y="1944360"/>
              <a:ext cx="201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31680" y="1944360"/>
              <a:ext cx="1864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14440" y="1944360"/>
              <a:ext cx="1864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57600" y="1944360"/>
              <a:ext cx="201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30800" y="1944360"/>
              <a:ext cx="201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51000" y="1944360"/>
              <a:ext cx="1864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235200" y="1944360"/>
              <a:ext cx="1864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76920" y="1944360"/>
              <a:ext cx="201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40840" y="1912680"/>
              <a:ext cx="2217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56000" y="1912680"/>
              <a:ext cx="1152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63880" y="1912680"/>
              <a:ext cx="1152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346280" y="1912680"/>
              <a:ext cx="163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11840" y="1886040"/>
              <a:ext cx="1090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753080" y="1886040"/>
              <a:ext cx="1090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79440" y="1912680"/>
              <a:ext cx="2217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84960" y="1912680"/>
              <a:ext cx="1152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83200" y="1912680"/>
              <a:ext cx="1152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65600" y="1912680"/>
              <a:ext cx="163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131160" y="1886040"/>
              <a:ext cx="1090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874200" y="1886040"/>
              <a:ext cx="1090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58800" y="2338560"/>
            <a:ext cx="7620120" cy="30351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112920" y="1600200"/>
            <a:ext cx="42483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   _                   _     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optimal gate realiz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use the axioms and theorems of Boolean algebra to “optimize” our desig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goals v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 the number of input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 the number of gat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 number of gate level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explore the tradeoff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D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ic minimization: Reduce number of gates and complex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ic optimization: Maximize speed and/or minimize pow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411800" y="3594240"/>
            <a:ext cx="19936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nand 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71640" y="3594240"/>
            <a:ext cx="190512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nor 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04800" y="1390680"/>
            <a:ext cx="7840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implement any logic function from NOT, NOR, and N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 (X and Y) = not (X nand 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fact, we can do it with only NOR or only N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is just NAND or NOR with two identical inpu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ND and NOR are duals: Can implement one from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8640" indent="-21024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nand Y = not ((not X) nor (not Y)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98640" indent="-21024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nor Y = not ((not X) nand (not Y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imal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400640" y="3905280"/>
            <a:ext cx="1993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02360" y="3638520"/>
            <a:ext cx="0" cy="78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01800" y="3905280"/>
            <a:ext cx="1866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74800" y="3638520"/>
            <a:ext cx="0" cy="779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162320" y="5757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k Bohr In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762120" y="3300480"/>
            <a:ext cx="3363840" cy="2879640"/>
            <a:chOff x="762120" y="3300480"/>
            <a:chExt cx="3363840" cy="287964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rcRect l="18395" t="0" r="12938" b="0"/>
            <a:stretch/>
          </p:blipFill>
          <p:spPr>
            <a:xfrm>
              <a:off x="762120" y="3300480"/>
              <a:ext cx="336384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2068560" y="4203720"/>
              <a:ext cx="661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79720" y="4235400"/>
              <a:ext cx="74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0.13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µ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1579320" y="4997520"/>
              <a:ext cx="1674360" cy="498240"/>
              <a:chOff x="1579320" y="4997520"/>
              <a:chExt cx="1674360" cy="498240"/>
            </a:xfrm>
          </p:grpSpPr>
          <p:sp>
            <p:nvSpPr>
              <p:cNvPr id="271" name=""/>
              <p:cNvSpPr/>
              <p:nvPr/>
            </p:nvSpPr>
            <p:spPr>
              <a:xfrm>
                <a:off x="1579320" y="5400720"/>
                <a:ext cx="465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47600" y="5287320"/>
                <a:ext cx="226080" cy="20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2089440" y="4997520"/>
                <a:ext cx="564120" cy="403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671560" y="5400720"/>
                <a:ext cx="582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90560" y="5285160"/>
                <a:ext cx="226440" cy="207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6" name=""/>
          <p:cNvGrpSpPr/>
          <p:nvPr/>
        </p:nvGrpSpPr>
        <p:grpSpPr>
          <a:xfrm>
            <a:off x="7186680" y="2163600"/>
            <a:ext cx="1177920" cy="889200"/>
            <a:chOff x="7186680" y="2163600"/>
            <a:chExt cx="1177920" cy="889200"/>
          </a:xfrm>
        </p:grpSpPr>
        <p:sp>
          <p:nvSpPr>
            <p:cNvPr id="277" name=""/>
            <p:cNvSpPr/>
            <p:nvPr/>
          </p:nvSpPr>
          <p:spPr>
            <a:xfrm>
              <a:off x="7186680" y="2163600"/>
              <a:ext cx="965160" cy="8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Y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1.8V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8V   0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86680" y="2471760"/>
              <a:ext cx="117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738920" y="2170080"/>
              <a:ext cx="0" cy="87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898880" y="208440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11800" y="207180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7095960" y="3341520"/>
            <a:ext cx="1652760" cy="2755800"/>
            <a:chOff x="7095960" y="3341520"/>
            <a:chExt cx="1652760" cy="2755800"/>
          </a:xfrm>
        </p:grpSpPr>
        <p:grpSp>
          <p:nvGrpSpPr>
            <p:cNvPr id="283" name=""/>
            <p:cNvGrpSpPr/>
            <p:nvPr/>
          </p:nvGrpSpPr>
          <p:grpSpPr>
            <a:xfrm>
              <a:off x="7837200" y="4009680"/>
              <a:ext cx="295200" cy="525240"/>
              <a:chOff x="7837200" y="4009680"/>
              <a:chExt cx="295200" cy="525240"/>
            </a:xfrm>
          </p:grpSpPr>
          <p:sp>
            <p:nvSpPr>
              <p:cNvPr id="284" name=""/>
              <p:cNvSpPr/>
              <p:nvPr/>
            </p:nvSpPr>
            <p:spPr>
              <a:xfrm flipH="1">
                <a:off x="7837200" y="4071600"/>
                <a:ext cx="239400" cy="384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018280" y="4420800"/>
                <a:ext cx="112320" cy="1141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018280" y="4009680"/>
                <a:ext cx="114120" cy="1141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7095960" y="4458960"/>
              <a:ext cx="2174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8003880" y="4868640"/>
              <a:ext cx="128880" cy="525240"/>
              <a:chOff x="8003880" y="4868640"/>
              <a:chExt cx="128880" cy="525240"/>
            </a:xfrm>
          </p:grpSpPr>
          <p:sp>
            <p:nvSpPr>
              <p:cNvPr id="289" name=""/>
              <p:cNvSpPr/>
              <p:nvPr/>
            </p:nvSpPr>
            <p:spPr>
              <a:xfrm flipH="1">
                <a:off x="8003880" y="4930560"/>
                <a:ext cx="73080" cy="41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018280" y="5279760"/>
                <a:ext cx="113040" cy="1141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018280" y="4868640"/>
                <a:ext cx="114480" cy="1141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8078760" y="4512960"/>
              <a:ext cx="0" cy="38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78760" y="5335200"/>
              <a:ext cx="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67600" y="3758760"/>
              <a:ext cx="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59680" y="4700160"/>
              <a:ext cx="43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18280" y="4641480"/>
              <a:ext cx="112680" cy="1144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396200" y="5138280"/>
              <a:ext cx="57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7389720" y="4271760"/>
              <a:ext cx="475920" cy="0"/>
              <a:chOff x="7389720" y="4271760"/>
              <a:chExt cx="475920" cy="0"/>
            </a:xfrm>
          </p:grpSpPr>
          <p:sp>
            <p:nvSpPr>
              <p:cNvPr id="299" name=""/>
              <p:cNvSpPr/>
              <p:nvPr/>
            </p:nvSpPr>
            <p:spPr>
              <a:xfrm flipH="1">
                <a:off x="7713360" y="427176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389720" y="4271760"/>
                <a:ext cx="43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7399080" y="4257360"/>
              <a:ext cx="0" cy="89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31280" y="4481280"/>
              <a:ext cx="2174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7959600" y="5582880"/>
              <a:ext cx="26820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7923240" y="3666960"/>
              <a:ext cx="26820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624800" y="3341520"/>
              <a:ext cx="5936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.8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64280" y="5681520"/>
              <a:ext cx="5940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014800" y="3341520"/>
            <a:ext cx="1652760" cy="2756160"/>
            <a:chOff x="5014800" y="3341520"/>
            <a:chExt cx="1652760" cy="2756160"/>
          </a:xfrm>
        </p:grpSpPr>
        <p:grpSp>
          <p:nvGrpSpPr>
            <p:cNvPr id="308" name=""/>
            <p:cNvGrpSpPr/>
            <p:nvPr/>
          </p:nvGrpSpPr>
          <p:grpSpPr>
            <a:xfrm>
              <a:off x="5319720" y="4840200"/>
              <a:ext cx="677880" cy="833040"/>
              <a:chOff x="5319720" y="4840200"/>
              <a:chExt cx="677880" cy="833040"/>
            </a:xfrm>
          </p:grpSpPr>
          <p:sp>
            <p:nvSpPr>
              <p:cNvPr id="309" name=""/>
              <p:cNvSpPr/>
              <p:nvPr/>
            </p:nvSpPr>
            <p:spPr>
              <a:xfrm flipH="1">
                <a:off x="5691240" y="5063760"/>
                <a:ext cx="1440" cy="404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96000" y="5082840"/>
                <a:ext cx="20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5319720" y="5257440"/>
                <a:ext cx="371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96000" y="4954320"/>
                <a:ext cx="0" cy="62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796000" y="5430600"/>
                <a:ext cx="20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996160" y="5430600"/>
                <a:ext cx="1440" cy="24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96160" y="4840200"/>
                <a:ext cx="1440" cy="24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5314680" y="3753000"/>
              <a:ext cx="682920" cy="833400"/>
              <a:chOff x="5314680" y="3753000"/>
              <a:chExt cx="682920" cy="833400"/>
            </a:xfrm>
          </p:grpSpPr>
          <p:sp>
            <p:nvSpPr>
              <p:cNvPr id="317" name=""/>
              <p:cNvSpPr/>
              <p:nvPr/>
            </p:nvSpPr>
            <p:spPr>
              <a:xfrm flipH="1">
                <a:off x="5314680" y="4170600"/>
                <a:ext cx="37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5691240" y="3976920"/>
                <a:ext cx="1440" cy="404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796000" y="3995640"/>
                <a:ext cx="20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796000" y="3867120"/>
                <a:ext cx="0" cy="62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96000" y="4343400"/>
                <a:ext cx="20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996160" y="4343400"/>
                <a:ext cx="1440" cy="24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996160" y="3753000"/>
                <a:ext cx="1440" cy="24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70640" y="4108680"/>
                <a:ext cx="112680" cy="122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5997600" y="4518000"/>
              <a:ext cx="0" cy="38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78520" y="4705200"/>
              <a:ext cx="43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37120" y="4646520"/>
              <a:ext cx="112680" cy="1144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50120" y="4486320"/>
              <a:ext cx="2174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29080" y="4167360"/>
              <a:ext cx="0" cy="109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14800" y="4476600"/>
              <a:ext cx="21744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5867280" y="5576400"/>
              <a:ext cx="268560" cy="15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856120" y="3670200"/>
              <a:ext cx="26856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67400" y="3341520"/>
              <a:ext cx="59364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.8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884920" y="5681520"/>
              <a:ext cx="59364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digital logic is CM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406728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MOS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mentary Metal-Oxide Semicond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stors act as voltage-controlled switch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6888960" y="1360440"/>
            <a:ext cx="16196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0V </a:t>
            </a:r>
            <a:r>
              <a:rPr b="1" lang="en-US" sz="1800" spc="-1" strike="noStrike">
                <a:solidFill>
                  <a:srgbClr val="cc3399"/>
                </a:solidFill>
                <a:latin typeface="Symbol"/>
                <a:ea typeface="Symbol"/>
              </a:rPr>
              <a:t></a:t>
            </a: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 Logic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1.8V </a:t>
            </a:r>
            <a:r>
              <a:rPr b="1" lang="en-US" sz="1800" spc="-1" strike="noStrike">
                <a:solidFill>
                  <a:srgbClr val="cc3399"/>
                </a:solidFill>
                <a:latin typeface="Symbol"/>
                <a:ea typeface="Symbol"/>
              </a:rPr>
              <a:t></a:t>
            </a: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 Logic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5049720" y="1903320"/>
            <a:ext cx="1219320" cy="6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input logic g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4440" y="1390320"/>
            <a:ext cx="5429160" cy="10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MOS logic gates are inve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NAND, NOR,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n’t get AND, OR, Buff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1166760" y="4273560"/>
            <a:ext cx="120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084320" y="4309920"/>
            <a:ext cx="1244520" cy="1414080"/>
            <a:chOff x="1084320" y="4309920"/>
            <a:chExt cx="1244520" cy="1414080"/>
          </a:xfrm>
        </p:grpSpPr>
        <p:sp>
          <p:nvSpPr>
            <p:cNvPr id="343" name=""/>
            <p:cNvSpPr/>
            <p:nvPr/>
          </p:nvSpPr>
          <p:spPr>
            <a:xfrm>
              <a:off x="1084320" y="4566240"/>
              <a:ext cx="12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44720" y="4309920"/>
              <a:ext cx="0" cy="141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64000" y="2540160"/>
            <a:ext cx="2239920" cy="3966840"/>
            <a:chOff x="3564000" y="2540160"/>
            <a:chExt cx="2239920" cy="3966840"/>
          </a:xfrm>
        </p:grpSpPr>
        <p:grpSp>
          <p:nvGrpSpPr>
            <p:cNvPr id="346" name=""/>
            <p:cNvGrpSpPr/>
            <p:nvPr/>
          </p:nvGrpSpPr>
          <p:grpSpPr>
            <a:xfrm>
              <a:off x="4354560" y="4405320"/>
              <a:ext cx="677880" cy="833040"/>
              <a:chOff x="4354560" y="4405320"/>
              <a:chExt cx="677880" cy="833040"/>
            </a:xfrm>
          </p:grpSpPr>
          <p:sp>
            <p:nvSpPr>
              <p:cNvPr id="347" name=""/>
              <p:cNvSpPr/>
              <p:nvPr/>
            </p:nvSpPr>
            <p:spPr>
              <a:xfrm flipH="1">
                <a:off x="4726080" y="4628880"/>
                <a:ext cx="1440" cy="404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830840" y="4647960"/>
                <a:ext cx="20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4354560" y="4822560"/>
                <a:ext cx="371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830840" y="4519440"/>
                <a:ext cx="0" cy="62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830840" y="4995720"/>
                <a:ext cx="20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031000" y="4995720"/>
                <a:ext cx="1440" cy="24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031000" y="4405320"/>
                <a:ext cx="1440" cy="24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5032440" y="3917880"/>
              <a:ext cx="0" cy="55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13360" y="4238640"/>
              <a:ext cx="43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971960" y="4179960"/>
              <a:ext cx="112680" cy="1141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84960" y="4019400"/>
              <a:ext cx="21744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049640" y="4608360"/>
              <a:ext cx="21744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4902120" y="5986440"/>
              <a:ext cx="26820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804840" y="3368520"/>
              <a:ext cx="37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4181040" y="3174840"/>
              <a:ext cx="1800" cy="4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86160" y="3193920"/>
              <a:ext cx="20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86160" y="3065400"/>
              <a:ext cx="0" cy="62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86160" y="3541680"/>
              <a:ext cx="20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480920" y="3537000"/>
              <a:ext cx="6120" cy="3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86320" y="2951280"/>
              <a:ext cx="1440" cy="24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60800" y="3306600"/>
              <a:ext cx="112680" cy="122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4346640" y="2868120"/>
              <a:ext cx="268200" cy="15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7560" y="2540160"/>
              <a:ext cx="5936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.8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919760" y="6091200"/>
              <a:ext cx="5936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4352760" y="5227560"/>
              <a:ext cx="677880" cy="833040"/>
              <a:chOff x="4352760" y="5227560"/>
              <a:chExt cx="677880" cy="833040"/>
            </a:xfrm>
          </p:grpSpPr>
          <p:sp>
            <p:nvSpPr>
              <p:cNvPr id="372" name=""/>
              <p:cNvSpPr/>
              <p:nvPr/>
            </p:nvSpPr>
            <p:spPr>
              <a:xfrm flipH="1">
                <a:off x="4724280" y="5451120"/>
                <a:ext cx="1440" cy="404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829040" y="5470200"/>
                <a:ext cx="20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4352760" y="5644800"/>
                <a:ext cx="371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829040" y="5341680"/>
                <a:ext cx="0" cy="62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829040" y="5817960"/>
                <a:ext cx="20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029200" y="5817960"/>
                <a:ext cx="1440" cy="24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29200" y="5227560"/>
                <a:ext cx="1440" cy="24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4049640" y="5435640"/>
              <a:ext cx="2174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4957560" y="3368520"/>
              <a:ext cx="37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5334120" y="3174840"/>
              <a:ext cx="1440" cy="4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38880" y="3193920"/>
              <a:ext cx="20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38880" y="3065400"/>
              <a:ext cx="0" cy="62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38880" y="3541680"/>
              <a:ext cx="20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37960" y="3541680"/>
              <a:ext cx="180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37960" y="2951280"/>
              <a:ext cx="1800" cy="24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13520" y="3306600"/>
              <a:ext cx="112680" cy="122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5499000" y="2868120"/>
              <a:ext cx="268560" cy="15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210280" y="2540160"/>
              <a:ext cx="5936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.8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71920" y="3927600"/>
              <a:ext cx="117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71960" y="3859200"/>
              <a:ext cx="112680" cy="1144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64000" y="3156120"/>
              <a:ext cx="2174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30760" y="3156120"/>
              <a:ext cx="2174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289560" y="2540160"/>
            <a:ext cx="2216160" cy="3944880"/>
            <a:chOff x="6289560" y="2540160"/>
            <a:chExt cx="2216160" cy="3944880"/>
          </a:xfrm>
        </p:grpSpPr>
        <p:sp>
          <p:nvSpPr>
            <p:cNvPr id="395" name=""/>
            <p:cNvSpPr/>
            <p:nvPr/>
          </p:nvSpPr>
          <p:spPr>
            <a:xfrm>
              <a:off x="6775200" y="4480200"/>
              <a:ext cx="2174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82760" y="4434120"/>
              <a:ext cx="128880" cy="525240"/>
              <a:chOff x="7682760" y="4434120"/>
              <a:chExt cx="128880" cy="525240"/>
            </a:xfrm>
          </p:grpSpPr>
          <p:sp>
            <p:nvSpPr>
              <p:cNvPr id="397" name=""/>
              <p:cNvSpPr/>
              <p:nvPr/>
            </p:nvSpPr>
            <p:spPr>
              <a:xfrm flipH="1">
                <a:off x="7682760" y="4496040"/>
                <a:ext cx="73080" cy="41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697160" y="4845240"/>
                <a:ext cx="113040" cy="1141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97160" y="4434120"/>
                <a:ext cx="114480" cy="1141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7758000" y="3880080"/>
              <a:ext cx="0" cy="61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758000" y="4901040"/>
              <a:ext cx="0" cy="37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738920" y="4221360"/>
              <a:ext cx="43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97520" y="4162680"/>
              <a:ext cx="112680" cy="1144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075080" y="4704120"/>
              <a:ext cx="57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210160" y="4002480"/>
              <a:ext cx="2178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7638840" y="5970960"/>
              <a:ext cx="26820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6524280" y="2540160"/>
              <a:ext cx="828720" cy="1193760"/>
              <a:chOff x="6524280" y="2540160"/>
              <a:chExt cx="828720" cy="1193760"/>
            </a:xfrm>
          </p:grpSpPr>
          <p:grpSp>
            <p:nvGrpSpPr>
              <p:cNvPr id="408" name=""/>
              <p:cNvGrpSpPr/>
              <p:nvPr/>
            </p:nvGrpSpPr>
            <p:grpSpPr>
              <a:xfrm>
                <a:off x="6971760" y="3208680"/>
                <a:ext cx="295200" cy="525240"/>
                <a:chOff x="6971760" y="3208680"/>
                <a:chExt cx="295200" cy="525240"/>
              </a:xfrm>
            </p:grpSpPr>
            <p:sp>
              <p:nvSpPr>
                <p:cNvPr id="409" name=""/>
                <p:cNvSpPr/>
                <p:nvPr/>
              </p:nvSpPr>
              <p:spPr>
                <a:xfrm flipH="1">
                  <a:off x="6971760" y="3270600"/>
                  <a:ext cx="239400" cy="384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152840" y="3619800"/>
                  <a:ext cx="112320" cy="1141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152840" y="3208680"/>
                  <a:ext cx="114120" cy="1141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2" name=""/>
              <p:cNvSpPr/>
              <p:nvPr/>
            </p:nvSpPr>
            <p:spPr>
              <a:xfrm>
                <a:off x="7202160" y="2957760"/>
                <a:ext cx="0" cy="33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3" name=""/>
              <p:cNvGrpSpPr/>
              <p:nvPr/>
            </p:nvGrpSpPr>
            <p:grpSpPr>
              <a:xfrm>
                <a:off x="6524280" y="3470400"/>
                <a:ext cx="475920" cy="0"/>
                <a:chOff x="6524280" y="3470400"/>
                <a:chExt cx="475920" cy="0"/>
              </a:xfrm>
            </p:grpSpPr>
            <p:sp>
              <p:nvSpPr>
                <p:cNvPr id="414" name=""/>
                <p:cNvSpPr/>
                <p:nvPr/>
              </p:nvSpPr>
              <p:spPr>
                <a:xfrm flipH="1">
                  <a:off x="6847920" y="347040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524280" y="3470400"/>
                  <a:ext cx="438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6" name=""/>
              <p:cNvSpPr/>
              <p:nvPr/>
            </p:nvSpPr>
            <p:spPr>
              <a:xfrm flipV="1">
                <a:off x="7057800" y="2865600"/>
                <a:ext cx="2682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759360" y="2540160"/>
                <a:ext cx="593640" cy="41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.8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7643520" y="6069240"/>
              <a:ext cx="5936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7681320" y="5256360"/>
              <a:ext cx="128880" cy="525240"/>
              <a:chOff x="7681320" y="5256360"/>
              <a:chExt cx="128880" cy="525240"/>
            </a:xfrm>
          </p:grpSpPr>
          <p:sp>
            <p:nvSpPr>
              <p:cNvPr id="420" name=""/>
              <p:cNvSpPr/>
              <p:nvPr/>
            </p:nvSpPr>
            <p:spPr>
              <a:xfrm flipH="1">
                <a:off x="7681320" y="5318280"/>
                <a:ext cx="73080" cy="41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695720" y="5667480"/>
                <a:ext cx="113040" cy="1141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695720" y="5256360"/>
                <a:ext cx="114480" cy="1141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7756200" y="5723280"/>
              <a:ext cx="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73640" y="5526360"/>
              <a:ext cx="57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75200" y="5307120"/>
              <a:ext cx="21744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7677000" y="2540160"/>
              <a:ext cx="828720" cy="1193760"/>
              <a:chOff x="7677000" y="2540160"/>
              <a:chExt cx="828720" cy="119376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8124480" y="3208680"/>
                <a:ext cx="295200" cy="525240"/>
                <a:chOff x="8124480" y="3208680"/>
                <a:chExt cx="295200" cy="525240"/>
              </a:xfrm>
            </p:grpSpPr>
            <p:sp>
              <p:nvSpPr>
                <p:cNvPr id="428" name=""/>
                <p:cNvSpPr/>
                <p:nvPr/>
              </p:nvSpPr>
              <p:spPr>
                <a:xfrm flipH="1">
                  <a:off x="8124480" y="3270600"/>
                  <a:ext cx="239400" cy="384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8305560" y="3619800"/>
                  <a:ext cx="112320" cy="1141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305560" y="3208680"/>
                  <a:ext cx="114120" cy="1141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8354880" y="2957760"/>
                <a:ext cx="0" cy="33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7677000" y="3470400"/>
                <a:ext cx="475920" cy="0"/>
                <a:chOff x="7677000" y="3470400"/>
                <a:chExt cx="475920" cy="0"/>
              </a:xfrm>
            </p:grpSpPr>
            <p:sp>
              <p:nvSpPr>
                <p:cNvPr id="433" name=""/>
                <p:cNvSpPr/>
                <p:nvPr/>
              </p:nvSpPr>
              <p:spPr>
                <a:xfrm flipH="1">
                  <a:off x="8000640" y="347040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677000" y="3470400"/>
                  <a:ext cx="438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 flipV="1">
                <a:off x="8210520" y="2865600"/>
                <a:ext cx="2682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912080" y="2540160"/>
                <a:ext cx="593640" cy="41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.8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7197480" y="3892680"/>
              <a:ext cx="117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14760" y="3672000"/>
              <a:ext cx="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67480" y="3686400"/>
              <a:ext cx="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97520" y="3837240"/>
              <a:ext cx="112680" cy="1144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9560" y="3256200"/>
              <a:ext cx="2174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56320" y="3256200"/>
              <a:ext cx="2174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946080" y="307980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9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46080" y="334656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9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84440" y="323208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1225440" y="3021120"/>
            <a:ext cx="121932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08680" y="1384200"/>
            <a:ext cx="120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03920" y="1647720"/>
            <a:ext cx="1244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12200" y="1382760"/>
            <a:ext cx="0" cy="124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08560" y="163836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9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08560" y="187956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9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94280" y="177336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18320" y="2916360"/>
            <a:ext cx="1276200" cy="1260360"/>
            <a:chOff x="6718320" y="2916360"/>
            <a:chExt cx="1276200" cy="1260360"/>
          </a:xfrm>
        </p:grpSpPr>
        <p:sp>
          <p:nvSpPr>
            <p:cNvPr id="53" name=""/>
            <p:cNvSpPr/>
            <p:nvPr/>
          </p:nvSpPr>
          <p:spPr>
            <a:xfrm>
              <a:off x="6788160" y="29163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18320" y="3181320"/>
              <a:ext cx="12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578720" y="2925720"/>
              <a:ext cx="0" cy="125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425840" y="310680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25840" y="338616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73760" y="3213000"/>
            <a:ext cx="5335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gates and truth t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4440" y="1324080"/>
            <a:ext cx="352116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0">
              <a:lnSpc>
                <a:spcPct val="105000"/>
              </a:lnSpc>
              <a:buNone/>
              <a:tabLst>
                <a:tab algn="l" pos="137628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137628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•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5000"/>
              </a:lnSpc>
              <a:buNone/>
              <a:tabLst>
                <a:tab algn="l" pos="137628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137628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137628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+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137628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5000"/>
              </a:lnSpc>
              <a:buNone/>
              <a:tabLst>
                <a:tab algn="l" pos="137628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137628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137628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137628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80320" y="4421160"/>
            <a:ext cx="869400" cy="767880"/>
            <a:chOff x="6880320" y="4421160"/>
            <a:chExt cx="869400" cy="767880"/>
          </a:xfrm>
        </p:grpSpPr>
        <p:sp>
          <p:nvSpPr>
            <p:cNvPr id="62" name=""/>
            <p:cNvSpPr/>
            <p:nvPr/>
          </p:nvSpPr>
          <p:spPr>
            <a:xfrm>
              <a:off x="6949800" y="4421160"/>
              <a:ext cx="799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80320" y="4684320"/>
              <a:ext cx="81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67320" y="442728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4259160" y="463536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49840" y="46213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33640" y="4518000"/>
            <a:ext cx="247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880320" y="5440320"/>
            <a:ext cx="869760" cy="768240"/>
            <a:chOff x="6880320" y="5440320"/>
            <a:chExt cx="869760" cy="768240"/>
          </a:xfrm>
        </p:grpSpPr>
        <p:sp>
          <p:nvSpPr>
            <p:cNvPr id="69" name=""/>
            <p:cNvSpPr/>
            <p:nvPr/>
          </p:nvSpPr>
          <p:spPr>
            <a:xfrm>
              <a:off x="6950160" y="5440320"/>
              <a:ext cx="799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80320" y="5703840"/>
              <a:ext cx="812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267680" y="5459400"/>
              <a:ext cx="0" cy="74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262400" y="5653080"/>
            <a:ext cx="4032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7240" y="565164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41840" y="1585800"/>
            <a:ext cx="1219320" cy="663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29240" y="3051000"/>
            <a:ext cx="1218960" cy="663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430880" y="4427640"/>
            <a:ext cx="1218960" cy="663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413240" y="5402160"/>
            <a:ext cx="1254240" cy="6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740640" y="1441440"/>
            <a:ext cx="120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51240" y="163188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9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51240" y="189864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9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62520" y="178452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670800" y="1473120"/>
            <a:ext cx="1244520" cy="1085760"/>
            <a:chOff x="6670800" y="1473120"/>
            <a:chExt cx="1244520" cy="1085760"/>
          </a:xfrm>
        </p:grpSpPr>
        <p:sp>
          <p:nvSpPr>
            <p:cNvPr id="83" name=""/>
            <p:cNvSpPr/>
            <p:nvPr/>
          </p:nvSpPr>
          <p:spPr>
            <a:xfrm>
              <a:off x="6670800" y="1670040"/>
              <a:ext cx="12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31200" y="1473120"/>
              <a:ext cx="0" cy="108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gates and truth tables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4440" y="1625400"/>
            <a:ext cx="3279960" cy="460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N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60440" y="1657440"/>
          <a:ext cx="75888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0440" y="1657440"/>
                    <a:ext cx="7588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375000" y="1679400"/>
          <a:ext cx="511200" cy="3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75000" y="1679400"/>
                    <a:ext cx="51120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260440" y="2874960"/>
          <a:ext cx="825840" cy="34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0440" y="2874960"/>
                    <a:ext cx="82584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260440" y="5311800"/>
          <a:ext cx="874800" cy="3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0440" y="5311800"/>
                    <a:ext cx="8748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60440" y="4160880"/>
          <a:ext cx="874800" cy="280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60440" y="4160880"/>
                    <a:ext cx="874800" cy="2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753240" y="2670120"/>
            <a:ext cx="120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49920" y="306396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51240" y="288612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9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51240" y="321624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9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670800" y="2730600"/>
            <a:ext cx="1244520" cy="1085760"/>
            <a:chOff x="6670800" y="2730600"/>
            <a:chExt cx="1244520" cy="1085760"/>
          </a:xfrm>
        </p:grpSpPr>
        <p:sp>
          <p:nvSpPr>
            <p:cNvPr id="102" name=""/>
            <p:cNvSpPr/>
            <p:nvPr/>
          </p:nvSpPr>
          <p:spPr>
            <a:xfrm>
              <a:off x="6670800" y="2927520"/>
              <a:ext cx="12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31200" y="2730600"/>
              <a:ext cx="0" cy="108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753240" y="3898800"/>
            <a:ext cx="120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33880" y="4068720"/>
            <a:ext cx="5238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9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6480" y="435780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9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1760" y="421632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670800" y="3930480"/>
            <a:ext cx="1244520" cy="1085760"/>
            <a:chOff x="6670800" y="3930480"/>
            <a:chExt cx="1244520" cy="1085760"/>
          </a:xfrm>
        </p:grpSpPr>
        <p:sp>
          <p:nvSpPr>
            <p:cNvPr id="109" name=""/>
            <p:cNvSpPr/>
            <p:nvPr/>
          </p:nvSpPr>
          <p:spPr>
            <a:xfrm>
              <a:off x="6670800" y="4127400"/>
              <a:ext cx="12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31200" y="3930480"/>
              <a:ext cx="0" cy="108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53240" y="5127480"/>
            <a:ext cx="120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24360" y="5495760"/>
            <a:ext cx="5335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21280" y="533088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9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08320" y="559764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9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670800" y="5187960"/>
            <a:ext cx="1244520" cy="1085760"/>
            <a:chOff x="6670800" y="5187960"/>
            <a:chExt cx="1244520" cy="1085760"/>
          </a:xfrm>
        </p:grpSpPr>
        <p:sp>
          <p:nvSpPr>
            <p:cNvPr id="116" name=""/>
            <p:cNvSpPr/>
            <p:nvPr/>
          </p:nvSpPr>
          <p:spPr>
            <a:xfrm>
              <a:off x="6670800" y="5384880"/>
              <a:ext cx="12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31200" y="5187960"/>
              <a:ext cx="0" cy="108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4400640" y="3987720"/>
            <a:ext cx="1218960" cy="663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2"/>
          <a:stretch/>
        </p:blipFill>
        <p:spPr>
          <a:xfrm>
            <a:off x="4430880" y="5289480"/>
            <a:ext cx="1218960" cy="663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3"/>
          <a:stretch/>
        </p:blipFill>
        <p:spPr>
          <a:xfrm>
            <a:off x="4475160" y="2871720"/>
            <a:ext cx="1219320" cy="663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4"/>
          <a:stretch/>
        </p:blipFill>
        <p:spPr>
          <a:xfrm>
            <a:off x="4460760" y="1571760"/>
            <a:ext cx="121932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matic: A drawing of interconnected g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: Wires at the same voltage (electrically connec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list: A list of all the devices and connections in a schem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n-in: The # of inputs to a gate, almost always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n-out: The # of loads the gate d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04440" y="1406520"/>
            <a:ext cx="424188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F = (A•B)’ + C•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F = C•(A+B)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04440" y="475920"/>
            <a:ext cx="80312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pping Boolean expressions to logic g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718080" y="3203640"/>
            <a:ext cx="1218960" cy="663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703680" y="2311560"/>
            <a:ext cx="1219320" cy="663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930920" y="2781360"/>
            <a:ext cx="1218960" cy="663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913280" y="263052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27680" y="3282840"/>
            <a:ext cx="0" cy="24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22240" y="2871720"/>
            <a:ext cx="287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17840" y="2190600"/>
            <a:ext cx="287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17120" y="2568600"/>
            <a:ext cx="287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17840" y="3083040"/>
            <a:ext cx="287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25040" y="3505320"/>
            <a:ext cx="287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3600360" y="4865760"/>
            <a:ext cx="1219320" cy="663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4824360" y="5305320"/>
            <a:ext cx="1219320" cy="663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822920" y="5203800"/>
            <a:ext cx="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629160" y="5789520"/>
            <a:ext cx="119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38200" y="4775040"/>
            <a:ext cx="287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37480" y="5153040"/>
            <a:ext cx="287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38200" y="5556240"/>
            <a:ext cx="287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47720" y="5397480"/>
            <a:ext cx="287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04800" y="1390320"/>
            <a:ext cx="3819600" cy="15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 fontScale="88000"/>
          </a:bodyPr>
          <a:p>
            <a:pPr marL="301680" indent="-3016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-bit binary ad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puts: A, B, Carry-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s: Sum, Carry-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81200" y="2898720"/>
            <a:ext cx="2676240" cy="2803680"/>
            <a:chOff x="781200" y="2898720"/>
            <a:chExt cx="2676240" cy="2803680"/>
          </a:xfrm>
        </p:grpSpPr>
        <p:sp>
          <p:nvSpPr>
            <p:cNvPr id="146" name=""/>
            <p:cNvSpPr/>
            <p:nvPr/>
          </p:nvSpPr>
          <p:spPr>
            <a:xfrm>
              <a:off x="917640" y="2898720"/>
              <a:ext cx="2539800" cy="21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S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22440" y="3202200"/>
              <a:ext cx="14940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73520" y="3202200"/>
              <a:ext cx="14904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1200" y="3230640"/>
              <a:ext cx="25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97160" y="2928960"/>
              <a:ext cx="0" cy="277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215160" y="4413240"/>
            <a:ext cx="6125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t = A'BCin + AB'Cin + ABCin' + ABC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32720" y="3922560"/>
            <a:ext cx="64299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m = A'B'Cin + A'BCin' + AB'Cin' + ABC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 binary full ad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645080" y="1530360"/>
            <a:ext cx="3851280" cy="992520"/>
            <a:chOff x="4645080" y="1530360"/>
            <a:chExt cx="3851280" cy="992520"/>
          </a:xfrm>
        </p:grpSpPr>
        <p:grpSp>
          <p:nvGrpSpPr>
            <p:cNvPr id="155" name=""/>
            <p:cNvGrpSpPr/>
            <p:nvPr/>
          </p:nvGrpSpPr>
          <p:grpSpPr>
            <a:xfrm>
              <a:off x="4645080" y="1530360"/>
              <a:ext cx="3851280" cy="992520"/>
              <a:chOff x="4645080" y="1530360"/>
              <a:chExt cx="3851280" cy="992520"/>
            </a:xfrm>
          </p:grpSpPr>
          <p:sp>
            <p:nvSpPr>
              <p:cNvPr id="156" name=""/>
              <p:cNvSpPr/>
              <p:nvPr/>
            </p:nvSpPr>
            <p:spPr>
              <a:xfrm>
                <a:off x="5805360" y="1579680"/>
                <a:ext cx="1354320" cy="903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5320" rIns="85320" tIns="42480" bIns="424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203800" y="1728720"/>
                <a:ext cx="601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320" rIns="8532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203800" y="2030400"/>
                <a:ext cx="601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320" rIns="8532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203800" y="2332080"/>
                <a:ext cx="601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320" rIns="8532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159680" y="1879560"/>
                <a:ext cx="601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320" rIns="8532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159680" y="2181240"/>
                <a:ext cx="601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320" rIns="8532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890960" y="1530360"/>
                <a:ext cx="32364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5320" rIns="85320" tIns="42840" bIns="4284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0180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880160" y="1830600"/>
                <a:ext cx="32364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5320" rIns="85320" tIns="42840" bIns="4284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0180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645080" y="2131920"/>
                <a:ext cx="62856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5320" rIns="85320" tIns="42840" bIns="4284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0180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715520" y="1981080"/>
                <a:ext cx="78084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5320" rIns="85320" tIns="42840" bIns="428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0180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779600" y="1649520"/>
                <a:ext cx="62856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5320" rIns="85320" tIns="42840" bIns="428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0180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Su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6044040" y="1827360"/>
              <a:ext cx="8010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d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adder: S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-15120" y="1574640"/>
            <a:ext cx="475344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Before Boolean min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m = A'B'Cin + A'BCin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AB'Cin' + ABC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18640" y="1574640"/>
            <a:ext cx="4296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fter Boolean minimiz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m = (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25400" y="2886120"/>
            <a:ext cx="77598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1200" y="1574640"/>
            <a:ext cx="46008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Before Boolean min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t = A'BCin + AB'C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ABCin' + ABC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8640" y="1574640"/>
            <a:ext cx="4296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fter Boolean minimiz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t = BCin + ACin + 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adder: Carry-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00200" y="2733840"/>
            <a:ext cx="7657920" cy="30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ew: A 2-bit ripple-carry ad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162400" y="2589120"/>
            <a:ext cx="1024200" cy="1270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94240" y="2201760"/>
            <a:ext cx="0" cy="389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00760" y="2201760"/>
            <a:ext cx="0" cy="389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66080" y="1897200"/>
            <a:ext cx="30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85200" y="1897200"/>
            <a:ext cx="30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89840" y="3184560"/>
            <a:ext cx="518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81880" y="3033720"/>
            <a:ext cx="45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57760" y="3184560"/>
            <a:ext cx="38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02720" y="303372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70720" y="3870360"/>
            <a:ext cx="0" cy="38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4255920"/>
            <a:ext cx="671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2190600"/>
            <a:ext cx="2798640" cy="3294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38240" y="1789200"/>
            <a:ext cx="0" cy="38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1789200"/>
            <a:ext cx="0" cy="38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14440" y="5494320"/>
            <a:ext cx="0" cy="38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30680" y="3808440"/>
            <a:ext cx="38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06120" y="1484280"/>
            <a:ext cx="2232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49480" y="5880240"/>
            <a:ext cx="5889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560" y="3940200"/>
            <a:ext cx="45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9760" y="3808440"/>
            <a:ext cx="38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4720" y="394020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47720" y="1484280"/>
            <a:ext cx="2232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07160" y="2271600"/>
            <a:ext cx="1411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Bit Ad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99240" y="2589120"/>
            <a:ext cx="1023840" cy="1270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31080" y="2201760"/>
            <a:ext cx="0" cy="389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37600" y="2201760"/>
            <a:ext cx="0" cy="389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02920" y="1897200"/>
            <a:ext cx="30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22040" y="1897200"/>
            <a:ext cx="30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07200" y="3870360"/>
            <a:ext cx="0" cy="38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46920" y="4255920"/>
            <a:ext cx="671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32760" y="3033720"/>
            <a:ext cx="45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53600" y="303372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22320" y="3049560"/>
            <a:ext cx="1807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86400" y="3201840"/>
            <a:ext cx="0" cy="247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35640" y="3133800"/>
            <a:ext cx="112680" cy="1141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15160" y="3201840"/>
            <a:ext cx="32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21520" y="3201840"/>
            <a:ext cx="0" cy="178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86400" y="566244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34080" y="5403960"/>
            <a:ext cx="212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627960" y="4965840"/>
            <a:ext cx="15840" cy="42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45240" y="4965840"/>
            <a:ext cx="140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785360" y="5211720"/>
            <a:ext cx="11286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834240" y="5199120"/>
            <a:ext cx="1219320" cy="6634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949320" y="2538360"/>
            <a:ext cx="26924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/>
  <dc:description/>
  <cp:keywords/>
  <dc:language>en-US</dc:language>
  <cp:lastModifiedBy>Bruce Hemingway</cp:lastModifiedBy>
  <cp:lastPrinted>2002-04-08T19:59:46Z</cp:lastPrinted>
  <dcterms:modified xsi:type="dcterms:W3CDTF">2007-01-10T19:02:52Z</dcterms:modified>
  <cp:revision>213</cp:revision>
  <dc:subject>CSE370</dc:subject>
  <dc:title>Lecture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people/faculty/diorio/</vt:lpwstr>
  </property>
  <property fmtid="{D5CDD505-2E9C-101B-9397-08002B2CF9AE}" pid="9" name="LinkColor">
    <vt:r8>16711782</vt:r8>
  </property>
  <property fmtid="{D5CDD505-2E9C-101B-9397-08002B2CF9AE}" pid="10" name="MailAddress">
    <vt:lpwstr>diorio@cs.washington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E:\Classes\CSE 370\Autumn 98\web\admin\Slides\Week1Lecture1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