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59D7-2CC7-400F-9D7E-CABA8E291B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simpl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lean c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ompletely specified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aps for POS min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bit comparato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61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ways to implement EQ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43000" y="2224080"/>
            <a:ext cx="3675240" cy="3836880"/>
            <a:chOff x="1143000" y="2224080"/>
            <a:chExt cx="3675240" cy="3836880"/>
          </a:xfrm>
        </p:grpSpPr>
        <p:sp>
          <p:nvSpPr>
            <p:cNvPr id="397" name=""/>
            <p:cNvSpPr/>
            <p:nvPr/>
          </p:nvSpPr>
          <p:spPr>
            <a:xfrm>
              <a:off x="2776680" y="3092400"/>
              <a:ext cx="268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76680" y="3344760"/>
              <a:ext cx="27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770200" y="3087720"/>
              <a:ext cx="14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70200" y="3013200"/>
              <a:ext cx="14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098880"/>
              <a:ext cx="26928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19240" y="3094200"/>
              <a:ext cx="26028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14720" y="3900600"/>
              <a:ext cx="83160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95960" y="3905280"/>
              <a:ext cx="6912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91280" y="3900600"/>
              <a:ext cx="78480" cy="2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14360" y="3889440"/>
              <a:ext cx="83196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5600" y="3894120"/>
              <a:ext cx="6948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90920" y="3889440"/>
              <a:ext cx="7884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530520" y="4121280"/>
              <a:ext cx="18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30520" y="3803760"/>
              <a:ext cx="180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7000" y="5518080"/>
              <a:ext cx="268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37000" y="5770440"/>
              <a:ext cx="27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530520" y="5511960"/>
              <a:ext cx="180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77040" y="5524560"/>
              <a:ext cx="26928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76680" y="5513400"/>
              <a:ext cx="26964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00480" y="5312880"/>
              <a:ext cx="853560" cy="24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00840" y="5324400"/>
              <a:ext cx="85320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7680" y="5329080"/>
              <a:ext cx="119520" cy="2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2640" y="5324400"/>
              <a:ext cx="12960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7320" y="5317920"/>
              <a:ext cx="11988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62280" y="5312880"/>
              <a:ext cx="129960" cy="24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54400" y="5398920"/>
              <a:ext cx="74520" cy="7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13320" y="5329080"/>
              <a:ext cx="113760" cy="2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12960" y="5317920"/>
              <a:ext cx="11412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76680" y="538164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5486400"/>
              <a:ext cx="23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471400" y="2749680"/>
              <a:ext cx="12708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7000" y="2749680"/>
              <a:ext cx="104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354040" y="2743200"/>
              <a:ext cx="24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0600" y="2908440"/>
              <a:ext cx="46080" cy="41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120760" y="2749680"/>
              <a:ext cx="12888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14560" y="2749680"/>
              <a:ext cx="1062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003400" y="2743200"/>
              <a:ext cx="246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08160" y="2908440"/>
              <a:ext cx="47520" cy="41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768320" y="2749680"/>
              <a:ext cx="13032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63560" y="2749680"/>
              <a:ext cx="104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650960" y="2743200"/>
              <a:ext cx="247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57520" y="2908440"/>
              <a:ext cx="47520" cy="41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417320" y="2749680"/>
              <a:ext cx="12852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2920" y="2749680"/>
              <a:ext cx="104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301400" y="2743200"/>
              <a:ext cx="24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06520" y="2908440"/>
              <a:ext cx="46080" cy="41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76680" y="3619440"/>
              <a:ext cx="268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76680" y="3871800"/>
              <a:ext cx="279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770200" y="3614760"/>
              <a:ext cx="14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70200" y="3541680"/>
              <a:ext cx="14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4920" y="3625920"/>
              <a:ext cx="26928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4560" y="3614760"/>
              <a:ext cx="26964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76680" y="4148280"/>
              <a:ext cx="268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76680" y="4400640"/>
              <a:ext cx="27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770200" y="4141800"/>
              <a:ext cx="14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0200" y="4067280"/>
              <a:ext cx="14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4920" y="4154400"/>
              <a:ext cx="269280" cy="2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14560" y="4141800"/>
              <a:ext cx="26964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76680" y="4675320"/>
              <a:ext cx="268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76680" y="4927680"/>
              <a:ext cx="27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770200" y="4668840"/>
              <a:ext cx="14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70200" y="4594320"/>
              <a:ext cx="144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14920" y="4681440"/>
              <a:ext cx="269280" cy="2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14560" y="4668840"/>
              <a:ext cx="26964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00480" y="5732640"/>
              <a:ext cx="85356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00840" y="5745240"/>
              <a:ext cx="85320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67680" y="5751360"/>
              <a:ext cx="119520" cy="2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62640" y="5745240"/>
              <a:ext cx="129600" cy="2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67320" y="5737320"/>
              <a:ext cx="11988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62280" y="5732640"/>
              <a:ext cx="12996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54400" y="5821200"/>
              <a:ext cx="74520" cy="7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13320" y="5751360"/>
              <a:ext cx="113760" cy="2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960" y="5737320"/>
              <a:ext cx="11412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76680" y="580392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76680" y="5908680"/>
              <a:ext cx="23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84560" y="3219480"/>
              <a:ext cx="106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19640" y="385272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01920" y="3219480"/>
              <a:ext cx="106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13160" y="3224160"/>
              <a:ext cx="1440" cy="6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4560" y="4273560"/>
              <a:ext cx="106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19640" y="40640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01920" y="4064040"/>
              <a:ext cx="106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5800" y="4067280"/>
              <a:ext cx="144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84560" y="4800600"/>
              <a:ext cx="106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19640" y="416736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13160" y="4172040"/>
              <a:ext cx="1440" cy="6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01920" y="4800600"/>
              <a:ext cx="106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46680" y="40100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46680" y="564516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24160" y="2643120"/>
              <a:ext cx="144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58960" y="411480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58960" y="464328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58960" y="53816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54240" y="2638440"/>
              <a:ext cx="163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36600" y="262728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47760" y="2486160"/>
              <a:ext cx="144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47760" y="2643120"/>
              <a:ext cx="1440" cy="14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36600" y="410544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47760" y="4121280"/>
              <a:ext cx="144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36600" y="463248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47760" y="4648320"/>
              <a:ext cx="1440" cy="72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6600" y="537048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47760" y="5386320"/>
              <a:ext cx="1440" cy="67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54240" y="4114800"/>
              <a:ext cx="1392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54240" y="4643280"/>
              <a:ext cx="1392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4240" y="5381640"/>
              <a:ext cx="1392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25800" y="2643120"/>
              <a:ext cx="144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58960" y="432576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58960" y="485460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8960" y="548640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5880" y="2638440"/>
              <a:ext cx="16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40040" y="2627280"/>
              <a:ext cx="331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49400" y="2486160"/>
              <a:ext cx="18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49400" y="2643120"/>
              <a:ext cx="1800" cy="16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40040" y="4316400"/>
              <a:ext cx="331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49400" y="4332240"/>
              <a:ext cx="180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40040" y="4843440"/>
              <a:ext cx="331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49400" y="4859280"/>
              <a:ext cx="1800" cy="6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40040" y="5477040"/>
              <a:ext cx="33120" cy="298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49400" y="5492880"/>
              <a:ext cx="180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55880" y="4325760"/>
              <a:ext cx="69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55880" y="4854600"/>
              <a:ext cx="69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55880" y="5486400"/>
              <a:ext cx="690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19640" y="559260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16320" y="5433840"/>
              <a:ext cx="106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13160" y="5438880"/>
              <a:ext cx="144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24160" y="296064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13000" y="304956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58960" y="306072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58960" y="358776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4160" y="3065400"/>
              <a:ext cx="1440" cy="51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13000" y="357660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24160" y="3592440"/>
              <a:ext cx="1440" cy="246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28840" y="3060720"/>
              <a:ext cx="121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28840" y="3587760"/>
              <a:ext cx="1217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25800" y="296064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58960" y="327168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58960" y="379872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25800" y="3065400"/>
              <a:ext cx="144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14640" y="326088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25800" y="3276720"/>
              <a:ext cx="1440" cy="51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14640" y="378792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25800" y="3803760"/>
              <a:ext cx="1440" cy="22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31920" y="3271680"/>
              <a:ext cx="514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31920" y="3798720"/>
              <a:ext cx="514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19640" y="395748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4560" y="3746520"/>
              <a:ext cx="106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95800" y="3753000"/>
              <a:ext cx="1440" cy="19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1920" y="3957480"/>
              <a:ext cx="106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4800" y="296064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58960" y="316548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58960" y="474804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74800" y="3065400"/>
              <a:ext cx="144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63640" y="3154320"/>
              <a:ext cx="34920" cy="334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4800" y="3171960"/>
              <a:ext cx="144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63640" y="4737240"/>
              <a:ext cx="34920" cy="33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74800" y="4753080"/>
              <a:ext cx="1440" cy="130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81280" y="3165480"/>
              <a:ext cx="865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81280" y="4748040"/>
              <a:ext cx="86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78240" y="2960640"/>
              <a:ext cx="144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58960" y="337644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58960" y="495936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78240" y="3065400"/>
              <a:ext cx="1440" cy="30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65280" y="3365640"/>
              <a:ext cx="34920" cy="331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8240" y="3381480"/>
              <a:ext cx="1440" cy="157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65280" y="4948200"/>
              <a:ext cx="3492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78240" y="4964040"/>
              <a:ext cx="1440" cy="109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84360" y="3376440"/>
              <a:ext cx="16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84360" y="4959360"/>
              <a:ext cx="162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74800" y="2643120"/>
              <a:ext cx="144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8960" y="369252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58960" y="422100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58960" y="580392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04880" y="2638440"/>
              <a:ext cx="163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87600" y="262728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00200" y="2486160"/>
              <a:ext cx="144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00200" y="2643120"/>
              <a:ext cx="144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87600" y="368316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00200" y="3699000"/>
              <a:ext cx="144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87600" y="421020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00200" y="4226040"/>
              <a:ext cx="144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87600" y="5792760"/>
              <a:ext cx="36360" cy="302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0200" y="5808600"/>
              <a:ext cx="144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4880" y="3692520"/>
              <a:ext cx="104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880" y="4221000"/>
              <a:ext cx="1041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4880" y="5803920"/>
              <a:ext cx="104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78240" y="2643120"/>
              <a:ext cx="144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58960" y="390384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58960" y="443232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58960" y="5908680"/>
              <a:ext cx="10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06520" y="2638440"/>
              <a:ext cx="165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89240" y="262728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01840" y="2486160"/>
              <a:ext cx="18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01840" y="2643120"/>
              <a:ext cx="1800" cy="12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89240" y="389412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01840" y="3909960"/>
              <a:ext cx="180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9240" y="442116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01840" y="4437000"/>
              <a:ext cx="1800" cy="14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5897520"/>
              <a:ext cx="36360" cy="316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1840" y="5913360"/>
              <a:ext cx="18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06520" y="3903840"/>
              <a:ext cx="33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06520" y="4432320"/>
              <a:ext cx="33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06520" y="5908680"/>
              <a:ext cx="33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19640" y="5697360"/>
              <a:ext cx="104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16320" y="5854680"/>
              <a:ext cx="106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3160" y="5703840"/>
              <a:ext cx="1440" cy="14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2224080"/>
              <a:ext cx="1603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388800"/>
                  <a:tab algn="l" pos="727200"/>
                  <a:tab algn="l" pos="112716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4800" y="3894120"/>
              <a:ext cx="703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388800"/>
                  <a:tab algn="l" pos="727200"/>
                  <a:tab algn="l" pos="112716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81320" y="5538960"/>
              <a:ext cx="701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388800"/>
                  <a:tab algn="l" pos="727200"/>
                  <a:tab algn="l" pos="112716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938840" y="3490920"/>
            <a:ext cx="33620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NOR approach looks simp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XNORs are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XNOR constru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3 simple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40560" y="5175000"/>
            <a:ext cx="1740960" cy="816480"/>
            <a:chOff x="5740560" y="5175000"/>
            <a:chExt cx="1740960" cy="816480"/>
          </a:xfrm>
        </p:grpSpPr>
        <p:sp>
          <p:nvSpPr>
            <p:cNvPr id="608" name=""/>
            <p:cNvSpPr/>
            <p:nvPr/>
          </p:nvSpPr>
          <p:spPr>
            <a:xfrm>
              <a:off x="6178680" y="5181480"/>
              <a:ext cx="28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8680" y="5483160"/>
              <a:ext cx="29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172200" y="5175000"/>
              <a:ext cx="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28080" y="5189400"/>
              <a:ext cx="28800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27720" y="5188320"/>
              <a:ext cx="28836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53160" y="5689440"/>
              <a:ext cx="86292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53520" y="5703840"/>
              <a:ext cx="8625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47360" y="5709960"/>
              <a:ext cx="7488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40880" y="5703840"/>
              <a:ext cx="8784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2200" y="5708520"/>
              <a:ext cx="5004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66080" y="5702400"/>
              <a:ext cx="6264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8680" y="5771880"/>
              <a:ext cx="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8680" y="5897520"/>
              <a:ext cx="3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16800" y="5796000"/>
              <a:ext cx="74160" cy="74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32080" y="5452920"/>
              <a:ext cx="1350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30320" y="5452920"/>
              <a:ext cx="9381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0360" y="5439240"/>
              <a:ext cx="88812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31720" y="5439240"/>
              <a:ext cx="13500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29280" y="5521320"/>
              <a:ext cx="1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9280" y="5646600"/>
              <a:ext cx="1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53040" y="527040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33960" y="5257800"/>
              <a:ext cx="37800" cy="360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53040" y="577188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40560" y="5270400"/>
              <a:ext cx="29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46920" y="5276880"/>
              <a:ext cx="0" cy="48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53040" y="539568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53040" y="589752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27760" y="539568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40560" y="58975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08680" y="5884920"/>
              <a:ext cx="37800" cy="360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7760" y="589752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1280" y="5402160"/>
              <a:ext cx="0" cy="48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05440" y="564660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80160" y="583380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99320" y="5653080"/>
              <a:ext cx="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16800" y="533232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05440" y="552132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99320" y="5338800"/>
              <a:ext cx="0" cy="17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42080" y="5332320"/>
              <a:ext cx="5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69200" y="5583240"/>
              <a:ext cx="11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498920" y="2232000"/>
            <a:ext cx="39322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 =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'B'C'D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A'BC'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B'C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 xnor C) •(B xnor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bit comparator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76160" y="1544760"/>
            <a:ext cx="75265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example: Two-bit multipl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4483080" y="2003400"/>
            <a:ext cx="31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7280" y="1795320"/>
            <a:ext cx="0" cy="348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3080" y="2817720"/>
            <a:ext cx="31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32400" y="3619440"/>
            <a:ext cx="30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32400" y="4435560"/>
            <a:ext cx="310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89560" y="1789200"/>
            <a:ext cx="32320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81952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14400" y="2637000"/>
            <a:ext cx="6890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98960" y="2579760"/>
            <a:ext cx="4125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03440" y="2743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03440" y="29685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03440" y="319392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03440" y="341964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50920" y="2743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50920" y="29685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50920" y="319392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341964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1560" y="2630520"/>
            <a:ext cx="412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474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84160" y="3081240"/>
            <a:ext cx="4129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474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08240" y="4362480"/>
            <a:ext cx="174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0560" y="5559480"/>
            <a:ext cx="413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 4-variable Karnaugh ma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of the 4 output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893960" y="3623760"/>
            <a:ext cx="137880" cy="7686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079800" y="4017960"/>
            <a:ext cx="1346040" cy="853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525760" y="276120"/>
            <a:ext cx="409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01800"/>
                <a:tab algn="l" pos="1805040"/>
                <a:tab algn="l" pos="2706840"/>
                <a:tab algn="l" pos="3608280"/>
                <a:tab algn="l" pos="4510080"/>
                <a:tab algn="l" pos="5413320"/>
                <a:tab algn="l" pos="631512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-bit multiplier (cont'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29400" y="1488960"/>
            <a:ext cx="11415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-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746600" y="892080"/>
            <a:ext cx="3186000" cy="2768760"/>
            <a:chOff x="4746600" y="892080"/>
            <a:chExt cx="3186000" cy="2768760"/>
          </a:xfrm>
        </p:grpSpPr>
        <p:sp>
          <p:nvSpPr>
            <p:cNvPr id="677" name=""/>
            <p:cNvSpPr/>
            <p:nvPr/>
          </p:nvSpPr>
          <p:spPr>
            <a:xfrm>
              <a:off x="5729040" y="1501920"/>
              <a:ext cx="20178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56240" y="224460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80000" y="2327400"/>
              <a:ext cx="9014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80000" y="27734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02424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81440" y="2327400"/>
              <a:ext cx="9036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81440" y="27734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692784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80000" y="1425600"/>
              <a:ext cx="9014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80000" y="187020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02424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81440" y="1425600"/>
              <a:ext cx="903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81440" y="187020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92784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86240" y="94284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35520" y="120348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38760" y="892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3440" y="114300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2452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7524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960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71880" y="15318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59280" y="195732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10040" y="240984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10040" y="28735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5266800" y="111096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81440" y="1117440"/>
              <a:ext cx="90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30720" y="332424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86160" y="23274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18763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46600" y="2637000"/>
              <a:ext cx="525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92720" y="333540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746600" y="3868560"/>
            <a:ext cx="3185640" cy="2768760"/>
            <a:chOff x="4746600" y="3868560"/>
            <a:chExt cx="3185640" cy="2768760"/>
          </a:xfrm>
        </p:grpSpPr>
        <p:sp>
          <p:nvSpPr>
            <p:cNvPr id="710" name=""/>
            <p:cNvSpPr/>
            <p:nvPr/>
          </p:nvSpPr>
          <p:spPr>
            <a:xfrm>
              <a:off x="5724360" y="4498920"/>
              <a:ext cx="201564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56240" y="5221440"/>
              <a:ext cx="576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9640" y="5303880"/>
              <a:ext cx="9014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79640" y="57499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024240" y="5291280"/>
              <a:ext cx="0" cy="9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81440" y="5303880"/>
              <a:ext cx="90288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81440" y="574992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927480" y="5291280"/>
              <a:ext cx="0" cy="9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79640" y="4402080"/>
              <a:ext cx="9014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79640" y="484668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02424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81440" y="4402080"/>
              <a:ext cx="90288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81440" y="484668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692748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86240" y="3919680"/>
              <a:ext cx="73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35160" y="417996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38760" y="3868560"/>
              <a:ext cx="575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73440" y="4119480"/>
              <a:ext cx="639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2416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75240" y="4119480"/>
              <a:ext cx="67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89600" y="4119480"/>
              <a:ext cx="67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71880" y="4508640"/>
              <a:ext cx="67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58920" y="4933800"/>
              <a:ext cx="677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10040" y="5386320"/>
              <a:ext cx="626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10040" y="5850000"/>
              <a:ext cx="626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5266800" y="4087440"/>
              <a:ext cx="31212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81440" y="4094280"/>
              <a:ext cx="90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30720" y="6300720"/>
              <a:ext cx="87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86160" y="530388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8280" y="485316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46600" y="5613480"/>
              <a:ext cx="525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92720" y="6311880"/>
              <a:ext cx="5266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150920" y="892080"/>
            <a:ext cx="3186000" cy="2768760"/>
            <a:chOff x="1150920" y="892080"/>
            <a:chExt cx="3186000" cy="2768760"/>
          </a:xfrm>
        </p:grpSpPr>
        <p:sp>
          <p:nvSpPr>
            <p:cNvPr id="743" name=""/>
            <p:cNvSpPr/>
            <p:nvPr/>
          </p:nvSpPr>
          <p:spPr>
            <a:xfrm>
              <a:off x="2133720" y="1527120"/>
              <a:ext cx="201744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0920" y="2244600"/>
              <a:ext cx="576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84320" y="2327400"/>
              <a:ext cx="9018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84320" y="27734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42892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86120" y="2327400"/>
              <a:ext cx="9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86120" y="27734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3216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984320" y="1425600"/>
              <a:ext cx="9018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84320" y="187020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42892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86120" y="1425600"/>
              <a:ext cx="9032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86120" y="187020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33216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90560" y="942840"/>
              <a:ext cx="738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39840" y="1203120"/>
              <a:ext cx="738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3080" y="892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878120" y="114300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2884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956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9392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76200" y="15318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63600" y="195732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14360" y="240984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14360" y="28735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1671120" y="111096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86120" y="1117440"/>
              <a:ext cx="90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35400" y="332424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90840" y="232740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2960" y="18763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50920" y="2636640"/>
              <a:ext cx="525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97040" y="333540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150920" y="3868560"/>
            <a:ext cx="3186000" cy="2768760"/>
            <a:chOff x="1150920" y="3868560"/>
            <a:chExt cx="3186000" cy="2768760"/>
          </a:xfrm>
        </p:grpSpPr>
        <p:sp>
          <p:nvSpPr>
            <p:cNvPr id="776" name=""/>
            <p:cNvSpPr/>
            <p:nvPr/>
          </p:nvSpPr>
          <p:spPr>
            <a:xfrm>
              <a:off x="2133360" y="4503600"/>
              <a:ext cx="20178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60560" y="5221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84320" y="5303880"/>
              <a:ext cx="9014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84320" y="57499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428560" y="529056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85760" y="5303880"/>
              <a:ext cx="9036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85760" y="574992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332160" y="529056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84320" y="4402080"/>
              <a:ext cx="9014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84320" y="484668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42856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85760" y="4402080"/>
              <a:ext cx="903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85760" y="484668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33216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90560" y="391932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39840" y="417996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3080" y="386856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7760" y="411948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2884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79560" y="41194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9392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76200" y="45082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63600" y="493380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4360" y="53863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4360" y="585000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1671120" y="408744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5760" y="4093920"/>
              <a:ext cx="90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35040" y="630072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90480" y="530388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882960" y="48528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50920" y="5613480"/>
              <a:ext cx="525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97040" y="631188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23720" y="1557360"/>
            <a:ext cx="1141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-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P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48480" y="4319640"/>
            <a:ext cx="1141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-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9440" y="4597560"/>
            <a:ext cx="1141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-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494080" y="727200"/>
            <a:ext cx="4125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525760" y="276120"/>
            <a:ext cx="409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01800"/>
                <a:tab algn="l" pos="1805040"/>
                <a:tab algn="l" pos="2706840"/>
                <a:tab algn="l" pos="3608280"/>
                <a:tab algn="l" pos="4510080"/>
                <a:tab algn="l" pos="5413320"/>
                <a:tab algn="l" pos="631512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-bit multiplier (cont'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697280" y="892080"/>
            <a:ext cx="3186000" cy="2768760"/>
            <a:chOff x="4697280" y="892080"/>
            <a:chExt cx="3186000" cy="2768760"/>
          </a:xfrm>
        </p:grpSpPr>
        <p:sp>
          <p:nvSpPr>
            <p:cNvPr id="814" name=""/>
            <p:cNvSpPr/>
            <p:nvPr/>
          </p:nvSpPr>
          <p:spPr>
            <a:xfrm>
              <a:off x="5679720" y="1501920"/>
              <a:ext cx="20178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06920" y="224460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30680" y="2327400"/>
              <a:ext cx="9014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30680" y="27734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97492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32120" y="2327400"/>
              <a:ext cx="9036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32120" y="27734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87852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30680" y="1425600"/>
              <a:ext cx="9014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30680" y="187020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97492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32120" y="1425600"/>
              <a:ext cx="903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32120" y="187020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87852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36920" y="94284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786200" y="120348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89440" y="892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24120" y="114300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7520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2592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40280" y="11430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22560" y="153180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09960" y="195732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60720" y="240984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60720" y="28735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5217480" y="111096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32120" y="1117440"/>
              <a:ext cx="90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81400" y="332424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36840" y="23274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29320" y="18763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97280" y="2637000"/>
              <a:ext cx="525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43400" y="333540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97280" y="3868560"/>
            <a:ext cx="3186360" cy="2768760"/>
            <a:chOff x="4697280" y="3868560"/>
            <a:chExt cx="3186360" cy="2768760"/>
          </a:xfrm>
        </p:grpSpPr>
        <p:sp>
          <p:nvSpPr>
            <p:cNvPr id="847" name=""/>
            <p:cNvSpPr/>
            <p:nvPr/>
          </p:nvSpPr>
          <p:spPr>
            <a:xfrm>
              <a:off x="5675400" y="4508640"/>
              <a:ext cx="20160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07280" y="522144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30680" y="5303880"/>
              <a:ext cx="9018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0680" y="574992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5975280" y="5291280"/>
              <a:ext cx="0" cy="9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32480" y="5303880"/>
              <a:ext cx="9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32480" y="574992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878520" y="5291280"/>
              <a:ext cx="0" cy="9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30680" y="4402080"/>
              <a:ext cx="9018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30680" y="484668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97528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32480" y="4402080"/>
              <a:ext cx="9032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32480" y="484668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87852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37280" y="391968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86200" y="4179960"/>
              <a:ext cx="738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89800" y="3868560"/>
              <a:ext cx="576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24480" y="411948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75200" y="41194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2628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4064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22920" y="450864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9960" y="493380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61080" y="5386320"/>
              <a:ext cx="626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61080" y="5850000"/>
              <a:ext cx="626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5218200" y="4087440"/>
              <a:ext cx="3124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32480" y="4094280"/>
              <a:ext cx="90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81760" y="630072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37200" y="530388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29320" y="485316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97280" y="5613480"/>
              <a:ext cx="525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43760" y="631188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332000" y="892080"/>
            <a:ext cx="3186000" cy="2768760"/>
            <a:chOff x="1332000" y="892080"/>
            <a:chExt cx="3186000" cy="2768760"/>
          </a:xfrm>
        </p:grpSpPr>
        <p:sp>
          <p:nvSpPr>
            <p:cNvPr id="880" name=""/>
            <p:cNvSpPr/>
            <p:nvPr/>
          </p:nvSpPr>
          <p:spPr>
            <a:xfrm>
              <a:off x="2314800" y="1527120"/>
              <a:ext cx="201744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2000" y="2244600"/>
              <a:ext cx="576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65400" y="2327400"/>
              <a:ext cx="9018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65400" y="27734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61000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67200" y="2327400"/>
              <a:ext cx="9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67200" y="27734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513240" y="231408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65400" y="1425600"/>
              <a:ext cx="9018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65400" y="187020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61000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1425600"/>
              <a:ext cx="9032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67200" y="187020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513240" y="1413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71640" y="942840"/>
              <a:ext cx="738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20920" y="1203120"/>
              <a:ext cx="738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24160" y="892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9200" y="114300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50992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6064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75000" y="11430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57280" y="15318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4680" y="195732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95440" y="240984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95440" y="28735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1852200" y="111096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67200" y="1117440"/>
              <a:ext cx="90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16480" y="332424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71920" y="232740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64040" y="18763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32000" y="2636640"/>
              <a:ext cx="525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78120" y="333540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332000" y="3868560"/>
            <a:ext cx="3186000" cy="2768760"/>
            <a:chOff x="1332000" y="3868560"/>
            <a:chExt cx="3186000" cy="2768760"/>
          </a:xfrm>
        </p:grpSpPr>
        <p:sp>
          <p:nvSpPr>
            <p:cNvPr id="913" name=""/>
            <p:cNvSpPr/>
            <p:nvPr/>
          </p:nvSpPr>
          <p:spPr>
            <a:xfrm>
              <a:off x="2314440" y="4503600"/>
              <a:ext cx="20178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774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774"/>
                </a:lnSpc>
                <a:spcBef>
                  <a:spcPts val="1774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41640" y="522108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65400" y="5303880"/>
              <a:ext cx="9014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65400" y="57499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609640" y="529056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66840" y="5303880"/>
              <a:ext cx="90360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66840" y="574992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513240" y="5290560"/>
              <a:ext cx="0" cy="9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65400" y="4402080"/>
              <a:ext cx="90144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65400" y="484668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60964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66840" y="4402080"/>
              <a:ext cx="903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66840" y="484668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513240" y="43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71640" y="391932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20920" y="4179960"/>
              <a:ext cx="73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24160" y="3868560"/>
              <a:ext cx="576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58840" y="4119480"/>
              <a:ext cx="63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0992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60640" y="41194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75000" y="4119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57280" y="45082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4680" y="4933800"/>
              <a:ext cx="67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95440" y="538632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495440" y="5850000"/>
              <a:ext cx="6271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1852200" y="4087440"/>
              <a:ext cx="3128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66840" y="4093920"/>
              <a:ext cx="90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16120" y="630072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1560" y="5303880"/>
              <a:ext cx="0" cy="89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64040" y="48528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5480" rIns="1548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32000" y="5613480"/>
              <a:ext cx="525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78120" y="6311880"/>
              <a:ext cx="527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22320" bIns="2232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7320" y="2368440"/>
            <a:ext cx="351000" cy="3636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21360" y="2382840"/>
            <a:ext cx="338400" cy="801720"/>
          </a:xfrm>
          <a:prstGeom prst="rect">
            <a:avLst/>
          </a:prstGeom>
          <a:noFill/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89720" y="2857680"/>
            <a:ext cx="776160" cy="27612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40440" y="4908600"/>
            <a:ext cx="801720" cy="8031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7320" y="4900680"/>
            <a:ext cx="801720" cy="350640"/>
          </a:xfrm>
          <a:prstGeom prst="rect">
            <a:avLst/>
          </a:prstGeom>
          <a:noFill/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78400" y="4925880"/>
            <a:ext cx="325440" cy="777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649600" y="5805360"/>
            <a:ext cx="814320" cy="376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85960" y="5380200"/>
            <a:ext cx="314280" cy="7635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36440" y="1581120"/>
            <a:ext cx="14446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06200" y="4444920"/>
            <a:ext cx="13464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'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+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+</a:t>
            </a:r>
            <a:r>
              <a:rPr b="0" lang="en-US" sz="1800" spc="-1" strike="noStrike">
                <a:solidFill>
                  <a:srgbClr val="008a42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8a42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8a42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8a42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8a42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008a42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+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419960" y="1239840"/>
            <a:ext cx="1525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+</a:t>
            </a:r>
            <a:r>
              <a:rPr b="0" lang="en-US" sz="1800" spc="-1" strike="noStrike">
                <a:solidFill>
                  <a:srgbClr val="009446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944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9446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944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9446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00944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416720" y="4199040"/>
            <a:ext cx="1349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94080" y="727200"/>
            <a:ext cx="416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bit multiplier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circuit schem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+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+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'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example: BCD increment by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4514760" y="2055960"/>
            <a:ext cx="35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00720" y="184932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97560" y="1843200"/>
            <a:ext cx="371952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0720"/>
                <a:tab algn="l" pos="901800"/>
                <a:tab algn="l" pos="1352520"/>
                <a:tab algn="l" pos="1805040"/>
                <a:tab algn="l" pos="2255760"/>
                <a:tab algn="l" pos="270684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886040" y="2664000"/>
            <a:ext cx="687240" cy="91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79600" y="2627280"/>
            <a:ext cx="414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573280" y="277020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73280" y="299736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73280" y="322272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73280" y="344808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20760" y="277020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20760" y="299736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20760" y="322272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20760" y="344808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01880" y="2639880"/>
            <a:ext cx="412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33804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8240" y="4362480"/>
            <a:ext cx="174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46560" y="5602320"/>
            <a:ext cx="413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 4-variable Karnaugh ma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of the 4 output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893960" y="3623760"/>
            <a:ext cx="137880" cy="7686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079800" y="4017960"/>
            <a:ext cx="1346040" cy="853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CD increment by 1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712880" y="1738440"/>
            <a:ext cx="625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94200" y="1763640"/>
            <a:ext cx="5763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38440" y="4094280"/>
            <a:ext cx="576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94200" y="4106880"/>
            <a:ext cx="550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378160" y="187812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1738440" y="1500120"/>
            <a:ext cx="2766600" cy="2431800"/>
            <a:chOff x="1738440" y="1500120"/>
            <a:chExt cx="2766600" cy="2431800"/>
          </a:xfrm>
        </p:grpSpPr>
        <p:sp>
          <p:nvSpPr>
            <p:cNvPr id="986" name=""/>
            <p:cNvSpPr/>
            <p:nvPr/>
          </p:nvSpPr>
          <p:spPr>
            <a:xfrm>
              <a:off x="3929400" y="2515680"/>
              <a:ext cx="575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20480" y="2684880"/>
              <a:ext cx="90108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20480" y="313020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2664720" y="26719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21920" y="2684880"/>
              <a:ext cx="90108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121920" y="313020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3566160" y="26719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20480" y="1782000"/>
              <a:ext cx="90108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20480" y="222732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664720" y="176940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121920" y="1782000"/>
              <a:ext cx="90108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21920" y="222732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3566160" y="176940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78520" y="1500120"/>
              <a:ext cx="5752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96720" y="1725480"/>
              <a:ext cx="90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83800" y="3643920"/>
              <a:ext cx="87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38760" y="268488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92120" y="22334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38440" y="2992320"/>
              <a:ext cx="5256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2640" y="3606120"/>
              <a:ext cx="5256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2367000" y="4233960"/>
            <a:ext cx="201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10240" y="186516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97640" y="4221000"/>
            <a:ext cx="20174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4956120" y="1500120"/>
            <a:ext cx="2768400" cy="2431800"/>
            <a:chOff x="4956120" y="1500120"/>
            <a:chExt cx="2768400" cy="2431800"/>
          </a:xfrm>
        </p:grpSpPr>
        <p:sp>
          <p:nvSpPr>
            <p:cNvPr id="1010" name=""/>
            <p:cNvSpPr/>
            <p:nvPr/>
          </p:nvSpPr>
          <p:spPr>
            <a:xfrm>
              <a:off x="7148160" y="2515680"/>
              <a:ext cx="576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38160" y="268488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38160" y="313020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882760" y="26719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340320" y="268488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340320" y="313020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84920" y="26719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38160" y="178200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38160" y="222732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5882760" y="176940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340320" y="178200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22732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784920" y="176940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96920" y="1500120"/>
              <a:ext cx="5763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15120" y="172548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01840" y="3643920"/>
              <a:ext cx="8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56800" y="268488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11240" y="22334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6120" y="2992320"/>
              <a:ext cx="5263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71040" y="360612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1725480" y="3855960"/>
            <a:ext cx="2766960" cy="2431800"/>
            <a:chOff x="1725480" y="3855960"/>
            <a:chExt cx="2766960" cy="2431800"/>
          </a:xfrm>
        </p:grpSpPr>
        <p:sp>
          <p:nvSpPr>
            <p:cNvPr id="1031" name=""/>
            <p:cNvSpPr/>
            <p:nvPr/>
          </p:nvSpPr>
          <p:spPr>
            <a:xfrm>
              <a:off x="3916440" y="4871520"/>
              <a:ext cx="5760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07160" y="504072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07160" y="54860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652120" y="50277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08960" y="504072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08960" y="54860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3553560" y="50277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07160" y="413784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207160" y="4583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2652120" y="4125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108960" y="413784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08960" y="4583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553560" y="4125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65200" y="3855960"/>
              <a:ext cx="576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84120" y="40813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70840" y="599976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26160" y="504072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79160" y="458928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25480" y="5347800"/>
              <a:ext cx="5259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39680" y="596196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956120" y="3855960"/>
            <a:ext cx="2768400" cy="2431800"/>
            <a:chOff x="4956120" y="3855960"/>
            <a:chExt cx="2768400" cy="2431800"/>
          </a:xfrm>
        </p:grpSpPr>
        <p:sp>
          <p:nvSpPr>
            <p:cNvPr id="1052" name=""/>
            <p:cNvSpPr/>
            <p:nvPr/>
          </p:nvSpPr>
          <p:spPr>
            <a:xfrm>
              <a:off x="7148160" y="4871520"/>
              <a:ext cx="576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38160" y="504072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38160" y="548604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882760" y="50277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40320" y="504072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340320" y="548604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6784920" y="50277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38160" y="413784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38160" y="45831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882760" y="4125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40320" y="413784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40320" y="45831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784920" y="4125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96920" y="3855960"/>
              <a:ext cx="5763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15120" y="4081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901840" y="5999760"/>
              <a:ext cx="8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56800" y="504072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311240" y="458928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56120" y="5347800"/>
              <a:ext cx="52632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71040" y="596196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2225520" y="1978200"/>
            <a:ext cx="20448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448240" y="196992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456160" y="4341960"/>
            <a:ext cx="20448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17600" y="432432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CD increment by 1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2968560" y="1868400"/>
            <a:ext cx="6256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864400" y="1893960"/>
            <a:ext cx="576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994120" y="4224240"/>
            <a:ext cx="576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864400" y="4237200"/>
            <a:ext cx="550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633840" y="200808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2994120" y="1630440"/>
            <a:ext cx="2766600" cy="2431440"/>
            <a:chOff x="2994120" y="1630440"/>
            <a:chExt cx="2766600" cy="2431440"/>
          </a:xfrm>
        </p:grpSpPr>
        <p:sp>
          <p:nvSpPr>
            <p:cNvPr id="1083" name=""/>
            <p:cNvSpPr/>
            <p:nvPr/>
          </p:nvSpPr>
          <p:spPr>
            <a:xfrm>
              <a:off x="5185080" y="2645640"/>
              <a:ext cx="5756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76160" y="2814840"/>
              <a:ext cx="90108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6160" y="3260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3920400" y="2802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77600" y="2814840"/>
              <a:ext cx="90108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377600" y="3260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4821840" y="2802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476160" y="1912320"/>
              <a:ext cx="90108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76160" y="235764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3920400" y="18997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377600" y="1912320"/>
              <a:ext cx="90108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377600" y="235764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821840" y="18997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4200" y="1630440"/>
              <a:ext cx="5752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52400" y="1855800"/>
              <a:ext cx="90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39480" y="3773880"/>
              <a:ext cx="87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94440" y="28148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347800" y="236376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94120" y="3122280"/>
              <a:ext cx="5256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08320" y="3736080"/>
              <a:ext cx="5256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3622680" y="4363920"/>
            <a:ext cx="201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580080" y="199548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567480" y="435132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925960" y="1630440"/>
            <a:ext cx="2768400" cy="2431440"/>
            <a:chOff x="5925960" y="1630440"/>
            <a:chExt cx="2768400" cy="2431440"/>
          </a:xfrm>
        </p:grpSpPr>
        <p:sp>
          <p:nvSpPr>
            <p:cNvPr id="1107" name=""/>
            <p:cNvSpPr/>
            <p:nvPr/>
          </p:nvSpPr>
          <p:spPr>
            <a:xfrm>
              <a:off x="8118000" y="2645640"/>
              <a:ext cx="576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08000" y="2814840"/>
              <a:ext cx="90180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08000" y="32601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852600" y="2802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10160" y="2814840"/>
              <a:ext cx="90180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10160" y="32601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7754760" y="280224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08000" y="1912320"/>
              <a:ext cx="90180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08000" y="235764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852600" y="18997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10160" y="1912320"/>
              <a:ext cx="901800" cy="90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10160" y="235764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7754760" y="189972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66760" y="1630440"/>
              <a:ext cx="5763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84960" y="18558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71680" y="3773880"/>
              <a:ext cx="8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26640" y="28148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81080" y="236376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25960" y="3122280"/>
              <a:ext cx="5263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040880" y="373608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981160" y="3986280"/>
            <a:ext cx="2766960" cy="2431800"/>
            <a:chOff x="2981160" y="3986280"/>
            <a:chExt cx="2766960" cy="2431800"/>
          </a:xfrm>
        </p:grpSpPr>
        <p:sp>
          <p:nvSpPr>
            <p:cNvPr id="1128" name=""/>
            <p:cNvSpPr/>
            <p:nvPr/>
          </p:nvSpPr>
          <p:spPr>
            <a:xfrm>
              <a:off x="5172120" y="5001840"/>
              <a:ext cx="5760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462840" y="517104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462840" y="56163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907800" y="515808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64640" y="517104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364640" y="56163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4809240" y="515808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62840" y="426816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62840" y="471348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907800" y="42555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64640" y="4268160"/>
              <a:ext cx="90144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64640" y="471348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809240" y="42555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20880" y="3986280"/>
              <a:ext cx="576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39800" y="421164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26520" y="613008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81840" y="51710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34840" y="471960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81160" y="5478120"/>
              <a:ext cx="5259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95360" y="609228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925960" y="3986280"/>
            <a:ext cx="2768400" cy="2431800"/>
            <a:chOff x="5925960" y="3986280"/>
            <a:chExt cx="2768400" cy="2431800"/>
          </a:xfrm>
        </p:grpSpPr>
        <p:sp>
          <p:nvSpPr>
            <p:cNvPr id="1149" name=""/>
            <p:cNvSpPr/>
            <p:nvPr/>
          </p:nvSpPr>
          <p:spPr>
            <a:xfrm>
              <a:off x="8118000" y="5001840"/>
              <a:ext cx="576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408000" y="517104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408000" y="56163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6852600" y="515808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0160" y="517104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310160" y="561636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7754760" y="515808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08000" y="426816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08000" y="471348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852600" y="42555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10160" y="4268160"/>
              <a:ext cx="901800" cy="90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310160" y="4713480"/>
              <a:ext cx="88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754760" y="4255560"/>
              <a:ext cx="0" cy="9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466760" y="3986280"/>
              <a:ext cx="57636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284960" y="4211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71680" y="6130080"/>
              <a:ext cx="8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326640" y="517104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281080" y="4719600"/>
              <a:ext cx="0" cy="88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5960" y="5478120"/>
              <a:ext cx="52632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40880" y="6092280"/>
              <a:ext cx="525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25560" bIns="2556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511440" y="5665680"/>
            <a:ext cx="1703520" cy="3510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11440" y="4775040"/>
            <a:ext cx="801720" cy="339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451560" y="5653080"/>
            <a:ext cx="0" cy="4636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469200" y="5659560"/>
            <a:ext cx="16794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155080" y="5665680"/>
            <a:ext cx="0" cy="4510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142120" y="4124160"/>
            <a:ext cx="0" cy="514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6468840" y="4643280"/>
            <a:ext cx="16794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475320" y="4098960"/>
            <a:ext cx="0" cy="5508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429080" y="1803240"/>
            <a:ext cx="0" cy="5004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35560" y="2309760"/>
            <a:ext cx="7887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5230800" y="1790640"/>
            <a:ext cx="0" cy="5256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243400" y="3293640"/>
            <a:ext cx="0" cy="514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22600" y="3300480"/>
            <a:ext cx="82728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429080" y="3319560"/>
            <a:ext cx="0" cy="4888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84480" y="2855880"/>
            <a:ext cx="801720" cy="376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18480" y="1952640"/>
            <a:ext cx="825480" cy="816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73920" y="1778040"/>
            <a:ext cx="0" cy="514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93000" y="2297160"/>
            <a:ext cx="6890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688160" y="1777680"/>
            <a:ext cx="0" cy="514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7701120" y="3306600"/>
            <a:ext cx="0" cy="5270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6941880" y="3313080"/>
            <a:ext cx="7650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48360" y="3319560"/>
            <a:ext cx="0" cy="5270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291360" y="2849400"/>
            <a:ext cx="514080" cy="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11920" y="2855880"/>
            <a:ext cx="0" cy="35100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6278040" y="3213000"/>
            <a:ext cx="538200" cy="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819920" y="2836800"/>
            <a:ext cx="525600" cy="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826400" y="2855880"/>
            <a:ext cx="0" cy="33804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32880" y="3200400"/>
            <a:ext cx="512640" cy="0"/>
          </a:xfrm>
          <a:prstGeom prst="line">
            <a:avLst/>
          </a:prstGeom>
          <a:ln w="12600">
            <a:solidFill>
              <a:srgbClr val="00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54040" y="4118040"/>
            <a:ext cx="21304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eat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gic by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on’t c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CD increment by 1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2962"/>
              </a:lnSpc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circuit schemat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0720">
              <a:lnSpc>
                <a:spcPts val="2962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0720">
              <a:lnSpc>
                <a:spcPts val="2962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009446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9446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9446"/>
                </a:solidFill>
                <a:latin typeface="Tahoma"/>
              </a:rPr>
              <a:t>'I</a:t>
            </a:r>
            <a:r>
              <a:rPr b="0" lang="en-US" sz="2000" spc="-1" strike="noStrike" baseline="-25000">
                <a:solidFill>
                  <a:srgbClr val="00944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9446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944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0720">
              <a:lnSpc>
                <a:spcPts val="2962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'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'I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 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0720">
              <a:lnSpc>
                <a:spcPts val="2962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pletely specifi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of n inputs have 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ssible 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mbinations may be un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unused combinations “don’t car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it don’t cares during logic min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c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BCD increment-by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 F computes the next number in a BCD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input is 001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output is 001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D encodes decimal digits 0–9 as 000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1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’t care about binary numbers 101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111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 end: POS minimization using k-ma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-maps for POS min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ircle the zeros in th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 indices complementary to SOP 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577800" y="2703600"/>
            <a:ext cx="3168720" cy="2884320"/>
            <a:chOff x="577800" y="2703600"/>
            <a:chExt cx="3168720" cy="2884320"/>
          </a:xfrm>
        </p:grpSpPr>
        <p:sp>
          <p:nvSpPr>
            <p:cNvPr id="1203" name=""/>
            <p:cNvSpPr/>
            <p:nvPr/>
          </p:nvSpPr>
          <p:spPr>
            <a:xfrm>
              <a:off x="1548000" y="3387600"/>
              <a:ext cx="2016000" cy="18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9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998"/>
                </a:lnSpc>
                <a:spcBef>
                  <a:spcPts val="1599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998"/>
                </a:lnSpc>
                <a:spcBef>
                  <a:spcPts val="1599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998"/>
                </a:lnSpc>
                <a:spcBef>
                  <a:spcPts val="1599"/>
                </a:spcBef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98600" y="4214880"/>
              <a:ext cx="90180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98600" y="4659120"/>
              <a:ext cx="88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1843200" y="4201560"/>
              <a:ext cx="0" cy="91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00400" y="4214880"/>
              <a:ext cx="90180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00400" y="4659120"/>
              <a:ext cx="88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745000" y="4201560"/>
              <a:ext cx="0" cy="91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98600" y="3311640"/>
              <a:ext cx="90180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98600" y="3757680"/>
              <a:ext cx="88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1843200" y="3298320"/>
              <a:ext cx="0" cy="91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300400" y="3311640"/>
              <a:ext cx="901800" cy="90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300400" y="3757680"/>
              <a:ext cx="88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745000" y="3298320"/>
              <a:ext cx="0" cy="91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154160" y="2841480"/>
              <a:ext cx="738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30160" y="3103560"/>
              <a:ext cx="739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06600" y="2703600"/>
              <a:ext cx="576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032200" y="5261040"/>
              <a:ext cx="576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70160" y="4044960"/>
              <a:ext cx="576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92400" y="3030480"/>
              <a:ext cx="637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43120" y="30304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193840" y="30304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06760" y="3030480"/>
              <a:ext cx="676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90480" y="341928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7880" y="3844800"/>
              <a:ext cx="676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28640" y="4295880"/>
              <a:ext cx="625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8640" y="4761000"/>
              <a:ext cx="6256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1083960" y="2998440"/>
              <a:ext cx="31428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00400" y="2949480"/>
              <a:ext cx="901800" cy="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49320" y="5211720"/>
              <a:ext cx="876600" cy="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59040" y="4214880"/>
              <a:ext cx="0" cy="89064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95800" y="3763800"/>
              <a:ext cx="0" cy="889200"/>
            </a:xfrm>
            <a:prstGeom prst="line">
              <a:avLst/>
            </a:prstGeom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82840" y="3394080"/>
              <a:ext cx="276120" cy="752400"/>
            </a:xfrm>
            <a:prstGeom prst="rect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7800" y="4484520"/>
              <a:ext cx="525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 algn="ctr">
                <a:lnSpc>
                  <a:spcPts val="1573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32120" y="3386160"/>
              <a:ext cx="739800" cy="282600"/>
            </a:xfrm>
            <a:prstGeom prst="rect">
              <a:avLst/>
            </a:prstGeom>
            <a:noFill/>
            <a:ln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2836800" y="3786120"/>
              <a:ext cx="322200" cy="376200"/>
              <a:chOff x="2836800" y="3786120"/>
              <a:chExt cx="322200" cy="376200"/>
            </a:xfrm>
          </p:grpSpPr>
          <p:sp>
            <p:nvSpPr>
              <p:cNvPr id="1238" name=""/>
              <p:cNvSpPr/>
              <p:nvPr/>
            </p:nvSpPr>
            <p:spPr>
              <a:xfrm>
                <a:off x="2836800" y="3833640"/>
                <a:ext cx="293760" cy="2937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084480" y="3786120"/>
                <a:ext cx="745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1411560" y="3786120"/>
              <a:ext cx="322200" cy="376200"/>
              <a:chOff x="1411560" y="3786120"/>
              <a:chExt cx="322200" cy="376200"/>
            </a:xfrm>
          </p:grpSpPr>
          <p:sp>
            <p:nvSpPr>
              <p:cNvPr id="1241" name=""/>
              <p:cNvSpPr/>
              <p:nvPr/>
            </p:nvSpPr>
            <p:spPr>
              <a:xfrm flipH="1">
                <a:off x="1440000" y="3833640"/>
                <a:ext cx="293760" cy="2937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411200" y="3786120"/>
                <a:ext cx="745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"/>
          <p:cNvSpPr/>
          <p:nvPr/>
        </p:nvSpPr>
        <p:spPr>
          <a:xfrm>
            <a:off x="3182760" y="2857680"/>
            <a:ext cx="643968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= (</a:t>
            </a: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B’+C+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+C+D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A’+B’+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using de Morgan’s on S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’ = </a:t>
            </a:r>
            <a:r>
              <a:rPr b="0" lang="en-US" sz="2400" spc="-1" strike="noStrike">
                <a:solidFill>
                  <a:srgbClr val="cc3399"/>
                </a:solidFill>
                <a:latin typeface="Tahoma"/>
              </a:rPr>
              <a:t>BC’D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’C’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AB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’)’ = (BC’D’+B’C’D+AB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’)’ = (BC’D’)’+(B’C’D)’+(AB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= (B’+C+D)(B+C+D’)(A’+B’+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th table for a BCD increment-by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92280" y="2236680"/>
            <a:ext cx="363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2000" y="1990800"/>
            <a:ext cx="0" cy="424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4720" y="1984320"/>
            <a:ext cx="3505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37160" y="2549520"/>
            <a:ext cx="277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off-set for W: m0–m6, m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on-set for W: m7 and m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03880" y="4757760"/>
            <a:ext cx="3187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Don't care set for 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We </a:t>
            </a:r>
            <a:r>
              <a:rPr b="1" lang="en-US" sz="2000" spc="-1" strike="noStrike">
                <a:solidFill>
                  <a:srgbClr val="cc3399"/>
                </a:solidFill>
                <a:latin typeface="Tahoma"/>
              </a:rPr>
              <a:t>don't care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about the outpu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8600" y="2257560"/>
            <a:ext cx="260280" cy="16761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68600" y="4403880"/>
            <a:ext cx="260280" cy="24120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8600" y="3936960"/>
            <a:ext cx="260280" cy="4636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68600" y="4638600"/>
            <a:ext cx="260280" cy="14986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38600" y="2717640"/>
            <a:ext cx="2597040" cy="32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831760" y="2727360"/>
            <a:ext cx="2590920" cy="18032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32120" y="4162320"/>
            <a:ext cx="2610000" cy="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1682640"/>
            <a:ext cx="3284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           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32120" y="5232240"/>
            <a:ext cx="2610000" cy="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800424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ares in canon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distinct logical s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on}, {off}, {don’t car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onical representations of a BCD increment-by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 = m7+m8+d10+d11+d12+d13+d14+d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 = M0•M1•M2•M3•M4•M5•M6•M9•D10•D11•D12•D13•D14•D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naugh maps and don't c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8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don't cares as 0s or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ing on which is more advantage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(1,3,5,7,9) + d(6,12,1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Minimize F with and without don't c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4040280"/>
            <a:ext cx="20178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48040" y="489276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48040" y="533880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92640" y="487944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49840" y="4892760"/>
            <a:ext cx="9014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49840" y="5338800"/>
            <a:ext cx="89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294080" y="487944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8040" y="399096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040" y="443556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92640" y="3978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9840" y="3990960"/>
            <a:ext cx="9014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49840" y="4435560"/>
            <a:ext cx="89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94080" y="3978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352116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73480" y="373860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338292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6320" y="5921280"/>
            <a:ext cx="576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6600" y="476892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1480" y="3708360"/>
            <a:ext cx="640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92560" y="370836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3280" y="37083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57640" y="37083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39920" y="4097160"/>
            <a:ext cx="677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8760" y="452268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78080" y="497520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8080" y="543888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634840" y="3676320"/>
            <a:ext cx="3128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9840" y="36385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98760" y="588960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21080" y="489276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46680" y="44416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5210280"/>
            <a:ext cx="527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54160" y="417816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naugh maps and don't care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(1,3,5,7,9) + d(6,12,1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thout us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't c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A'D + C'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't c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95560" y="3686040"/>
            <a:ext cx="20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28880" y="4511520"/>
            <a:ext cx="90180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28880" y="49579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373480" y="4500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30680" y="4511520"/>
            <a:ext cx="90144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30680" y="49579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4920" y="4500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8880" y="3610080"/>
            <a:ext cx="9018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28880" y="4054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373480" y="3597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30680" y="3610080"/>
            <a:ext cx="9014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0680" y="4054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74920" y="3597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4440" y="313992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0440" y="34099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6880" y="300204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48080" y="5530680"/>
            <a:ext cx="576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0440" y="438768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2320" y="3327480"/>
            <a:ext cx="63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3400" y="332748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4120" y="332748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7040" y="332748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0760" y="371628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8160" y="414180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59432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5057640"/>
            <a:ext cx="62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614240" y="3295440"/>
            <a:ext cx="31428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30680" y="32688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9600" y="5508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440" y="451152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040" y="406080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82904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90800" y="4160880"/>
            <a:ext cx="752400" cy="7524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28960" y="4116240"/>
            <a:ext cx="1603080" cy="3286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98960" y="3948120"/>
            <a:ext cx="1312560" cy="26352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7840" y="3549600"/>
            <a:ext cx="371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 X == "1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ws a 2-cube rather than a 1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example: A two-bit compa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4335480"/>
            <a:ext cx="174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774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0720" y="5532480"/>
            <a:ext cx="413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4-variable Karnaugh ma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of the 3 outpu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58880" y="2151000"/>
            <a:ext cx="803160" cy="137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5080" y="2010960"/>
            <a:ext cx="482040" cy="62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13573"/>
                </a:moveTo>
                <a:arcTo wR="10800" hR="10800" stAng="9907459" swAng="1810120"/>
                <a:lnTo>
                  <a:pt x="10800" y="10800"/>
                </a:lnTo>
                <a:close/>
              </a:path>
              <a:path fill="none" w="21600" h="21600">
                <a:moveTo>
                  <a:pt x="362" y="13573"/>
                </a:moveTo>
                <a:arcTo wR="10800" hR="10800" stAng="9907459" swAng="181012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3400" y="23115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5080" y="2295000"/>
            <a:ext cx="482040" cy="62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13573"/>
                </a:moveTo>
                <a:arcTo wR="10800" hR="10800" stAng="9907459" swAng="1810120"/>
                <a:lnTo>
                  <a:pt x="10800" y="10800"/>
                </a:lnTo>
                <a:close/>
              </a:path>
              <a:path fill="none" w="21600" h="21600">
                <a:moveTo>
                  <a:pt x="362" y="13573"/>
                </a:moveTo>
                <a:arcTo wR="10800" hR="10800" stAng="9907459" swAng="181012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3400" y="25923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17680" y="2765160"/>
            <a:ext cx="485640" cy="62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13573"/>
                </a:moveTo>
                <a:arcTo wR="10800" hR="10800" stAng="9907459" swAng="1810120"/>
                <a:lnTo>
                  <a:pt x="10800" y="10800"/>
                </a:lnTo>
                <a:close/>
              </a:path>
              <a:path fill="none" w="21600" h="21600">
                <a:moveTo>
                  <a:pt x="362" y="13573"/>
                </a:moveTo>
                <a:arcTo wR="10800" hR="10800" stAng="9907459" swAng="181012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30654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7680" y="3030120"/>
            <a:ext cx="485640" cy="62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13573"/>
                </a:moveTo>
                <a:arcTo wR="10800" hR="10800" stAng="9907459" swAng="1810120"/>
                <a:lnTo>
                  <a:pt x="10800" y="10800"/>
                </a:lnTo>
                <a:close/>
              </a:path>
              <a:path fill="none" w="21600" h="21600">
                <a:moveTo>
                  <a:pt x="362" y="13573"/>
                </a:moveTo>
                <a:arcTo wR="10800" hR="10800" stAng="9907459" swAng="181012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7440" y="332748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2520" y="2630520"/>
            <a:ext cx="5554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68560" y="2332080"/>
            <a:ext cx="40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62040" y="2500200"/>
            <a:ext cx="1062000" cy="114120"/>
            <a:chOff x="2462040" y="2500200"/>
            <a:chExt cx="1062000" cy="114120"/>
          </a:xfrm>
        </p:grpSpPr>
        <p:sp>
          <p:nvSpPr>
            <p:cNvPr id="150" name=""/>
            <p:cNvSpPr/>
            <p:nvPr/>
          </p:nvSpPr>
          <p:spPr>
            <a:xfrm>
              <a:off x="3347280" y="2500200"/>
              <a:ext cx="176760" cy="11412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24"/>
                  </a:move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6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62040" y="255600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462040" y="2781360"/>
            <a:ext cx="1062000" cy="117000"/>
            <a:chOff x="2462040" y="2781360"/>
            <a:chExt cx="1062000" cy="117000"/>
          </a:xfrm>
        </p:grpSpPr>
        <p:sp>
          <p:nvSpPr>
            <p:cNvPr id="153" name=""/>
            <p:cNvSpPr/>
            <p:nvPr/>
          </p:nvSpPr>
          <p:spPr>
            <a:xfrm>
              <a:off x="3347280" y="2781360"/>
              <a:ext cx="176760" cy="11700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24"/>
                  </a:move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6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62040" y="2838600"/>
              <a:ext cx="87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62040" y="3065400"/>
            <a:ext cx="1047600" cy="114120"/>
            <a:chOff x="2462040" y="3065400"/>
            <a:chExt cx="1047600" cy="114120"/>
          </a:xfrm>
        </p:grpSpPr>
        <p:sp>
          <p:nvSpPr>
            <p:cNvPr id="156" name=""/>
            <p:cNvSpPr/>
            <p:nvPr/>
          </p:nvSpPr>
          <p:spPr>
            <a:xfrm>
              <a:off x="3332160" y="3065400"/>
              <a:ext cx="177480" cy="11412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24"/>
                  </a:move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6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2040" y="3120840"/>
              <a:ext cx="86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618080" y="1952640"/>
            <a:ext cx="27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89680" y="1746360"/>
            <a:ext cx="0" cy="348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8080" y="2766960"/>
            <a:ext cx="27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570120"/>
            <a:ext cx="267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0680" y="4371840"/>
            <a:ext cx="269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4560" y="1739880"/>
            <a:ext cx="305568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38040"/>
                <a:tab algn="l" pos="676440"/>
                <a:tab algn="l" pos="1014480"/>
                <a:tab algn="l" pos="1465200"/>
                <a:tab algn="l" pos="1917720"/>
                <a:tab algn="l" pos="23684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23920" y="3596760"/>
            <a:ext cx="138240" cy="7686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9760" y="3990960"/>
            <a:ext cx="1346400" cy="8539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2520" y="2225520"/>
            <a:ext cx="1440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 &lt; C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 = C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 &gt;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9480" y="2112840"/>
            <a:ext cx="26352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bit comparato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419120" y="5388120"/>
            <a:ext cx="878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T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8920" y="378612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9640" y="3094200"/>
            <a:ext cx="20174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38160" y="391176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8160" y="435780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382760" y="389844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9960" y="391176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9960" y="435780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86000" y="3898440"/>
            <a:ext cx="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8160" y="300996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8160" y="345456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382760" y="2997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9960" y="3009960"/>
            <a:ext cx="9032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39960" y="345456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86000" y="2997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254016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4520" y="278280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63800" y="244476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960" y="2727360"/>
            <a:ext cx="639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82680" y="27273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3400" y="27273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7760" y="27273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0040" y="31161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7440" y="3541680"/>
            <a:ext cx="67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200" y="399420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8200" y="4457880"/>
            <a:ext cx="627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24960" y="2696760"/>
            <a:ext cx="3128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9960" y="270180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490860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4680" y="3911760"/>
            <a:ext cx="0" cy="89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36800" y="34606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920" y="425448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71760" y="496080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59640" y="377352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0360" y="308124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99240" y="389880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9240" y="434484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143840" y="388620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1040" y="389880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01040" y="434484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047080" y="388620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9240" y="2997360"/>
            <a:ext cx="9018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99240" y="344160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143840" y="298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01040" y="2997360"/>
            <a:ext cx="9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1040" y="344160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047080" y="298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54800" y="252720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277020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24880" y="243216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93040" y="2714760"/>
            <a:ext cx="639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43760" y="271476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4480" y="27147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08840" y="27147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91120" y="31035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78520" y="3529080"/>
            <a:ext cx="67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9280" y="398160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9280" y="444492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386040" y="2684160"/>
            <a:ext cx="3128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01040" y="268920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49960" y="489600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05400" y="389880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97880" y="34480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04000" y="424188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32840" y="494820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04040" y="377352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3081240"/>
            <a:ext cx="20174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43280" y="389880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43280" y="434484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187880" y="388620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5080" y="389880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5080" y="434484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091120" y="388620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43280" y="2997360"/>
            <a:ext cx="9018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43280" y="344160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87880" y="298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5080" y="2997360"/>
            <a:ext cx="9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080" y="344160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091120" y="298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98840" y="252720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49640" y="277020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68920" y="243216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7080" y="2714760"/>
            <a:ext cx="639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7800" y="27147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38520" y="27147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271476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35160" y="31035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3529080"/>
            <a:ext cx="67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73320" y="398160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444492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430080" y="2684160"/>
            <a:ext cx="3128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5080" y="268920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4000" y="489600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9800" y="389880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41920" y="34480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48040" y="424188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76880" y="494820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24120" y="1736640"/>
            <a:ext cx="1803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ap for 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5720" y="1736640"/>
            <a:ext cx="1754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ap for 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69000" y="1736640"/>
            <a:ext cx="1803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174"/>
              </a:lnSpc>
              <a:spcAft>
                <a:spcPts val="1976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ap for 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6960" y="5388120"/>
            <a:ext cx="877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19800" y="5388120"/>
            <a:ext cx="878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47880" y="3195720"/>
            <a:ext cx="2044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59120" y="319572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11840" y="319572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5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-bit comparator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3792600" y="2448000"/>
            <a:ext cx="350640" cy="3524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43320" y="2900520"/>
            <a:ext cx="351000" cy="3506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07000" y="3351240"/>
            <a:ext cx="338040" cy="3506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5120" y="3801960"/>
            <a:ext cx="350640" cy="351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61920" y="2936880"/>
            <a:ext cx="351000" cy="80316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8640" y="3389400"/>
            <a:ext cx="765000" cy="7761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9240" y="3357720"/>
            <a:ext cx="412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68280" y="3363840"/>
            <a:ext cx="0" cy="325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49240" y="3695760"/>
            <a:ext cx="4255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01480" y="3370320"/>
            <a:ext cx="4762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08320" y="3376440"/>
            <a:ext cx="0" cy="325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14440" y="3708360"/>
            <a:ext cx="451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99280" y="2448000"/>
            <a:ext cx="789120" cy="3524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62960" y="2486160"/>
            <a:ext cx="763560" cy="7650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05720" y="2347920"/>
            <a:ext cx="0" cy="401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12200" y="2755800"/>
            <a:ext cx="3268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945560" y="2335320"/>
            <a:ext cx="0" cy="426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631280" y="3777840"/>
            <a:ext cx="0" cy="476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7400" y="3782880"/>
            <a:ext cx="325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69320" y="3789360"/>
            <a:ext cx="0" cy="452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8440" y="4772160"/>
            <a:ext cx="2609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T = </a:t>
            </a: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A'B'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'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B'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84520" y="314496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3160" y="248616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23760" y="331308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3760" y="37591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368360" y="33004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5560" y="331308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5560" y="375912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271600" y="33004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3760" y="241128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23760" y="285588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68360" y="2398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5560" y="2411280"/>
            <a:ext cx="9032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5560" y="285588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271600" y="2398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9320" y="194148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200" y="2184480"/>
            <a:ext cx="738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49400" y="182880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7560" y="2128680"/>
            <a:ext cx="639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68280" y="212868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19360" y="21286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21286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000" y="25178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2943360"/>
            <a:ext cx="67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4160" y="3395520"/>
            <a:ext cx="626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4160" y="3859200"/>
            <a:ext cx="626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611280" y="2098800"/>
            <a:ext cx="31248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5560" y="21034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4840" y="430992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0280" y="33130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2400" y="286236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520" y="362124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57360" y="435276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445600" y="313200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4240" y="247320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4840" y="330048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37465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129440" y="32878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86640" y="330048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86640" y="374652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032680" y="32878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84840" y="239868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84840" y="284328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29440" y="2386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86640" y="2398680"/>
            <a:ext cx="9032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86640" y="284328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032680" y="2386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40400" y="192888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0280" y="2171880"/>
            <a:ext cx="7383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10480" y="181620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78640" y="2116080"/>
            <a:ext cx="639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29360" y="211608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80440" y="21160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94800" y="21160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77080" y="25052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64120" y="2930400"/>
            <a:ext cx="677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4880" y="338292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4880" y="3846600"/>
            <a:ext cx="6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6372360" y="2085480"/>
            <a:ext cx="31248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86640" y="20908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35920" y="429732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91360" y="33004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83480" y="284940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89600" y="360828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8440" y="4340160"/>
            <a:ext cx="52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9640" y="313200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8280" y="2473200"/>
            <a:ext cx="2017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28880" y="3300480"/>
            <a:ext cx="9018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28880" y="37465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173480" y="32878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30680" y="3300480"/>
            <a:ext cx="90324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30680" y="374652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076720" y="3287880"/>
            <a:ext cx="0" cy="9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28880" y="239868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28880" y="284328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73480" y="2386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30680" y="2398680"/>
            <a:ext cx="9032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30680" y="284328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076720" y="2386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4440" y="192888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54320" y="2171880"/>
            <a:ext cx="7383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54520" y="181620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2680" y="2116080"/>
            <a:ext cx="639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73400" y="211608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24480" y="21160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38840" y="211608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21120" y="25052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08160" y="2930400"/>
            <a:ext cx="677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3382920"/>
            <a:ext cx="626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3846600"/>
            <a:ext cx="626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3416400" y="2085480"/>
            <a:ext cx="31248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30680" y="20908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79960" y="4297320"/>
            <a:ext cx="87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35400" y="330048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27520" y="284940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33640" y="360828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62480" y="434016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21960" bIns="2196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94600" y="4772160"/>
            <a:ext cx="24177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 = </a:t>
            </a: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BC'D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B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0800" y="5281560"/>
            <a:ext cx="39322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 =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'B'C'D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A'BC'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B'C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62"/>
              </a:lnSpc>
              <a:tabLst>
                <a:tab algn="l" pos="0"/>
                <a:tab algn="l" pos="45072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 xnor C)•(B xnor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dc:language>en-US</dc:language>
  <cp:lastModifiedBy>Bruce Hemingway</cp:lastModifiedBy>
  <cp:lastPrinted>2002-04-08T19:59:46Z</cp:lastPrinted>
  <dcterms:modified xsi:type="dcterms:W3CDTF">2006-01-17T23:24:03Z</dcterms:modified>
  <cp:revision>258</cp:revision>
  <dc:subject>CSE370</dc:subject>
  <dc:title>Lecture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