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76480" y="686880"/>
            <a:ext cx="4582800" cy="34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76480" y="68724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rule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hen you don’t underst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 are doing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8B2-2F43-4600-92DC-FC8AEC072D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gates and truth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ing logic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MOS swi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’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rgan’s theor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D and 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m-of-products (minterm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-of-sums (maxter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forms for Boolean expres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que algebraic sign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not the simplest 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minim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from truth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anon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-of-products (minterm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-of-sum (maxter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-of-products canonical form (S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0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disjunctive normal form (DN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ly called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term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934920" y="3565440"/>
            <a:ext cx="21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62240" y="3317760"/>
            <a:ext cx="0" cy="24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2160" y="3309840"/>
            <a:ext cx="2527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76560" y="2878200"/>
            <a:ext cx="45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1           011          101          110          11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= A'B'C + A'BC + AB'C + ABC' + 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76560" y="5570640"/>
            <a:ext cx="3264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' = A'B'C' + A'BC' + AB'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2360" y="3929040"/>
            <a:ext cx="213372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713120" y="3449520"/>
            <a:ext cx="0" cy="4860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2360" y="4424400"/>
            <a:ext cx="29336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526000" y="3468600"/>
            <a:ext cx="0" cy="95256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3000" y="4897440"/>
            <a:ext cx="377172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364440" y="3481200"/>
            <a:ext cx="0" cy="142236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83000" y="5138640"/>
            <a:ext cx="458460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7164360" y="3481560"/>
            <a:ext cx="0" cy="16538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83000" y="5376960"/>
            <a:ext cx="544824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8015400" y="3456000"/>
            <a:ext cx="0" cy="19080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16640" y="2263680"/>
            <a:ext cx="1100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in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7329240" y="2563920"/>
            <a:ext cx="290520" cy="58392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676520" y="5430960"/>
            <a:ext cx="2205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hort-hand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280" y="2565360"/>
            <a:ext cx="266688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te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B'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B'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B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B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'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'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0880" y="2844720"/>
            <a:ext cx="265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03400" y="2610000"/>
            <a:ext cx="0" cy="23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47960" y="4997160"/>
            <a:ext cx="150840" cy="438120"/>
          </a:xfrm>
          <a:prstGeom prst="line">
            <a:avLst/>
          </a:prstGeom>
          <a:ln w="1908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40120" y="2435400"/>
            <a:ext cx="4986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 A'B'C+A'BC+AB'C+ABC'+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'B'C+A'BC+AB'C+ABC+ABC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'B'+A'B+AB'+AB)C+AB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(A' + A)(B' + B))C + ABC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BC' +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8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appears exactly once in each minte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rue or inverted form (but not bo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7487640" y="2077920"/>
            <a:ext cx="5724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G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-of-sums canonical form (P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conjunctive normal form (CN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ly called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term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1074600" y="3352680"/>
            <a:ext cx="221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01920" y="3070080"/>
            <a:ext cx="0" cy="237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31840" y="3102120"/>
            <a:ext cx="252720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6240" y="2670120"/>
            <a:ext cx="444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                   010                     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= (A + B + C) (A + B' + C) (A' + B +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51200" y="5616720"/>
            <a:ext cx="5835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' = (A+B+C')(A+B'+C')(A'+B+C')(A'+B'+C)(A'+B'+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12960" y="3489480"/>
            <a:ext cx="242568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35400" y="3241440"/>
            <a:ext cx="0" cy="24444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703600" y="3962520"/>
            <a:ext cx="367668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2960" y="4438800"/>
            <a:ext cx="501336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723080" y="3260880"/>
            <a:ext cx="0" cy="118080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373800" y="3270240"/>
            <a:ext cx="0" cy="68256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78520" y="2211480"/>
            <a:ext cx="1100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max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765480" y="2544840"/>
            <a:ext cx="406440" cy="42840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63480" y="2732040"/>
            <a:ext cx="330192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te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+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+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'+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'+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+B+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+B+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+B'+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'+B'+C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79600" y="3007800"/>
            <a:ext cx="3004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27080" y="2763720"/>
            <a:ext cx="0" cy="246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49440" y="563256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short-hand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4960" y="2709720"/>
            <a:ext cx="490392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 (A+B+C)(A+B'+C)(A'+B+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+B+C)(A+B'+C)(A'+B+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+B+C)(A+B'+C)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+B+C)(A'+B+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2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 + C)(B +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989440" y="5176800"/>
            <a:ext cx="272880" cy="479520"/>
          </a:xfrm>
          <a:prstGeom prst="line">
            <a:avLst/>
          </a:prstGeom>
          <a:ln w="284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appears exactly once in each maxte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rue or inverted form (but not bo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7373160" y="2260440"/>
            <a:ext cx="252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ical implementations of F = AB +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257040" y="1338120"/>
            <a:ext cx="845352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P, POS, and de Morgan's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-of-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' = A'B'C' + A'BC' + AB'C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de Morgan's to get P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')' = (A'B'C' + A'BC' + AB'C')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(A+B+C)(A+B'+C)(A'+B+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24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-of-s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' = (A+B+C')(A+B'+C')(A'+B+C')(A'+B'+C)(A'+B'+C'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de Morgan's to get S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')' = ((A+B+C')(A+B'+C')(A'+B+C')(A'+B'+C)(A'+B'+C'))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 = A'B'C + A'BC + AB'C + ABC' + A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 between canonical 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term to maxte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axterms that aren’t in minterm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1,3,5,6,7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term to minte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interms that aren’t in maxterm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2,4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term of F to minterm of F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interms that don’t app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1,3,5,6,7)         F'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1199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term of F to maxterm of F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axterms that don’t app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0,2,4)              F'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organ’s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+, + with •, 0 with 1, and 1 with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variables with their comp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1:  Z = A'B' + A'C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'B' + A'C')'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0"/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'B')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'C')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0"/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+B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+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2:  Z = A'B'C + A'BC + AB'C + ABC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'B'C + A'BC + AB'C + ABC')'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0"/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'B'C)'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'BC)'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B'C)'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BC')'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05000"/>
              </a:lnSpc>
              <a:buNone/>
              <a:tabLst>
                <a:tab algn="l" pos="0"/>
                <a:tab algn="l" pos="1535040"/>
                <a:tab algn="l" pos="1835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+B+C'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+B'+C'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'+B+C'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'+B'+C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98400" y="1952640"/>
            <a:ext cx="321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 + Y)' = X' • Y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3440" y="433224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 • Y)' = X' + Y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62480" y="1887480"/>
            <a:ext cx="3835440" cy="1617840"/>
            <a:chOff x="4362480" y="1887480"/>
            <a:chExt cx="3835440" cy="1617840"/>
          </a:xfrm>
        </p:grpSpPr>
        <p:sp>
          <p:nvSpPr>
            <p:cNvPr id="51" name=""/>
            <p:cNvSpPr/>
            <p:nvPr/>
          </p:nvSpPr>
          <p:spPr>
            <a:xfrm>
              <a:off x="4491000" y="1903320"/>
              <a:ext cx="37069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'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Y'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X + Y)'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X' • Y'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1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0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62480" y="2249640"/>
              <a:ext cx="367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13600" y="1887480"/>
              <a:ext cx="0" cy="160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491000" y="4264200"/>
            <a:ext cx="40766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 • Y)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X' + Y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0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397400" y="4267080"/>
            <a:ext cx="3714840" cy="1603440"/>
            <a:chOff x="4397400" y="4267080"/>
            <a:chExt cx="3714840" cy="1603440"/>
          </a:xfrm>
        </p:grpSpPr>
        <p:sp>
          <p:nvSpPr>
            <p:cNvPr id="56" name=""/>
            <p:cNvSpPr/>
            <p:nvPr/>
          </p:nvSpPr>
          <p:spPr>
            <a:xfrm>
              <a:off x="4397400" y="4599000"/>
              <a:ext cx="371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9440" y="4267080"/>
              <a:ext cx="0" cy="160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D and N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D, NOR, and de Morgan’s the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9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Morgan'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form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'B' = (A + B)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' + B' = (AB)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rte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+ B = (A'B')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) = (A' + B')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105000"/>
              </a:lnSpc>
              <a:buNone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with complemented input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with complemented input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ND with complemented inpu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206880"/>
                <a:tab algn="l" pos="536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 with complemented inpu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601880" y="4567320"/>
            <a:ext cx="12826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2240" y="4581360"/>
            <a:ext cx="128232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4280" y="4581360"/>
            <a:ext cx="1260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12080" y="4579920"/>
            <a:ext cx="88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2640" y="4668840"/>
            <a:ext cx="9540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2640" y="4884840"/>
            <a:ext cx="9540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85120" y="454176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85120" y="504972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72520" y="4530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14440" y="4543560"/>
            <a:ext cx="430560" cy="5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080" y="4516200"/>
            <a:ext cx="43092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45360" y="4748040"/>
            <a:ext cx="95400" cy="9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83120" y="482112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07280" y="468144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6840" y="47070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7280" y="489744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46840" y="49230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34280" y="479592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6560" y="4808520"/>
            <a:ext cx="774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10320" y="4665600"/>
            <a:ext cx="939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9160" y="546264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9160" y="59832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46560" y="5460840"/>
            <a:ext cx="0" cy="5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8480" y="5464080"/>
            <a:ext cx="430560" cy="54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8120" y="5449680"/>
            <a:ext cx="43092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9400" y="5678640"/>
            <a:ext cx="9072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7920" y="5576760"/>
            <a:ext cx="77760" cy="7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7920" y="5792760"/>
            <a:ext cx="77760" cy="7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3840" y="5514840"/>
            <a:ext cx="20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960" y="5514840"/>
            <a:ext cx="139608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2920" y="5487840"/>
            <a:ext cx="132012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3480" y="5487840"/>
            <a:ext cx="20268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4480" y="561492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7920" y="5640480"/>
            <a:ext cx="23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4480" y="583092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7920" y="5856120"/>
            <a:ext cx="23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8320" y="572940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24040" y="575460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5729400"/>
            <a:ext cx="774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73280" y="5597640"/>
            <a:ext cx="698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56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24400" y="543708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24400" y="5970600"/>
            <a:ext cx="419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311800" y="54291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7800" y="5438880"/>
            <a:ext cx="40608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27440" y="5411880"/>
            <a:ext cx="40644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1600" y="5399280"/>
            <a:ext cx="123120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61600" y="5425920"/>
            <a:ext cx="12312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0320" y="5425920"/>
            <a:ext cx="11376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5160" y="5424840"/>
            <a:ext cx="889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05760" y="5627520"/>
            <a:ext cx="9216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26440" y="5513400"/>
            <a:ext cx="9504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26440" y="5742000"/>
            <a:ext cx="9504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570384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82080" y="567864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0280" y="556416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46560" y="55897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80280" y="578016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46560" y="58183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9640" y="5548320"/>
            <a:ext cx="92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89560" y="5703840"/>
            <a:ext cx="774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74680" y="4516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74680" y="5049720"/>
            <a:ext cx="419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2080" y="4505400"/>
            <a:ext cx="0" cy="55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8080" y="4518000"/>
            <a:ext cx="40608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7720" y="4491000"/>
            <a:ext cx="40644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9400" y="4626000"/>
            <a:ext cx="92160" cy="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58760" y="4846680"/>
            <a:ext cx="77760" cy="8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2240" y="4478400"/>
            <a:ext cx="124452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22600" y="4505400"/>
            <a:ext cx="124416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81320" y="4505400"/>
            <a:ext cx="1267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19120" y="4503600"/>
            <a:ext cx="889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4680" y="4643280"/>
            <a:ext cx="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4680" y="4871880"/>
            <a:ext cx="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7120" y="4707000"/>
            <a:ext cx="96840" cy="8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5320" y="4782960"/>
            <a:ext cx="1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7200" y="4643280"/>
            <a:ext cx="23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7920" y="466884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0" y="4871880"/>
            <a:ext cx="23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7920" y="489744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8640" y="4757760"/>
            <a:ext cx="16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5400" y="4795920"/>
            <a:ext cx="774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3600" y="4614840"/>
            <a:ext cx="939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89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78720" y="3090960"/>
            <a:ext cx="1500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ahoma"/>
              </a:rPr>
              <a:t>p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ahoma"/>
              </a:rPr>
              <a:t>the bub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9480" y="4689360"/>
            <a:ext cx="939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92320" y="5632560"/>
            <a:ext cx="698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56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9320" y="5572080"/>
            <a:ext cx="92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649760"/>
            <a:ext cx="93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89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between 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2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inversions ("bubbles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e bubbles in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rve inver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not alter logic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/OR to NAND/N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667480" y="449424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67480" y="500220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54520" y="450684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22000" y="4495680"/>
            <a:ext cx="44352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1640" y="4495680"/>
            <a:ext cx="456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21640" y="4481280"/>
            <a:ext cx="44388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21280" y="4469040"/>
            <a:ext cx="4568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78480" y="4697280"/>
            <a:ext cx="9540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67480" y="534528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67480" y="585324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4520" y="535788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22000" y="5346720"/>
            <a:ext cx="44352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21640" y="5346720"/>
            <a:ext cx="45648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21640" y="5332680"/>
            <a:ext cx="44388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21280" y="5319720"/>
            <a:ext cx="45684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8480" y="5548320"/>
            <a:ext cx="9072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6640" y="4925880"/>
            <a:ext cx="1371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4040" y="4912920"/>
            <a:ext cx="1396440" cy="4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17000" y="4940280"/>
            <a:ext cx="1370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4400" y="4940280"/>
            <a:ext cx="13960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39440" y="4940280"/>
            <a:ext cx="126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39440" y="4940280"/>
            <a:ext cx="1260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77240" y="4938480"/>
            <a:ext cx="882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77240" y="4938840"/>
            <a:ext cx="882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62840" y="5014800"/>
            <a:ext cx="9036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58160" y="5230800"/>
            <a:ext cx="9504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59520" y="4633920"/>
            <a:ext cx="49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59520" y="4849920"/>
            <a:ext cx="49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59520" y="5484960"/>
            <a:ext cx="49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59520" y="5700600"/>
            <a:ext cx="47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67360" y="5065560"/>
            <a:ext cx="1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64160" y="47480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73840" y="4737240"/>
            <a:ext cx="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72400" y="5281560"/>
            <a:ext cx="19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64160" y="559908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73840" y="5275440"/>
            <a:ext cx="0" cy="34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00840" y="516744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006560" y="4354560"/>
            <a:ext cx="3376440" cy="1684440"/>
            <a:chOff x="1006560" y="4354560"/>
            <a:chExt cx="3376440" cy="1684440"/>
          </a:xfrm>
        </p:grpSpPr>
        <p:sp>
          <p:nvSpPr>
            <p:cNvPr id="188" name=""/>
            <p:cNvSpPr/>
            <p:nvPr/>
          </p:nvSpPr>
          <p:spPr>
            <a:xfrm>
              <a:off x="1603440" y="449424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3440" y="500220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590840" y="44812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4640" y="44956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45000" y="44956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44280" y="44812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44640" y="44690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3440" y="534528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3440" y="585324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590840" y="533232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44640" y="53467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45000" y="5346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44280" y="53326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44640" y="53197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48680" y="494028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1040" y="4940280"/>
              <a:ext cx="1522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9240" y="49129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48320" y="491292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03680" y="5065560"/>
              <a:ext cx="2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4440" y="4748040"/>
              <a:ext cx="49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09800" y="474192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03680" y="5281560"/>
              <a:ext cx="2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4440" y="5599080"/>
              <a:ext cx="51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09800" y="5275440"/>
              <a:ext cx="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95480" y="4633920"/>
              <a:ext cx="49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95480" y="4849920"/>
              <a:ext cx="49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95480" y="5484960"/>
              <a:ext cx="49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5480" y="57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6800" y="516744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6560" y="43545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31760" y="484488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31760" y="52308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1760" y="568332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29200" y="49244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057640" y="4354560"/>
            <a:ext cx="279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83200" y="4844880"/>
            <a:ext cx="266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83200" y="5230800"/>
            <a:ext cx="266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83200" y="5683320"/>
            <a:ext cx="266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80280" y="4924440"/>
            <a:ext cx="254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26160" y="461808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26160" y="547056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86680" y="5049720"/>
            <a:ext cx="5792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75320" y="2357280"/>
            <a:ext cx="26258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Z = AB +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= (A'+B')'+(C'+D')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= [(A'+B')(C'+D')]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= [(AB)'(CD)']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between form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ND/OR network to NOR/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408800" y="34099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con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"bubble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759800" y="3985920"/>
            <a:ext cx="188640" cy="795240"/>
          </a:xfrm>
          <a:prstGeom prst="line">
            <a:avLst/>
          </a:prstGeom>
          <a:ln w="19080">
            <a:solidFill>
              <a:srgbClr val="cc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24080" y="1994040"/>
            <a:ext cx="3414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Z =  AB+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= (A'+B')'+(C'+D')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= [(A'+B')'+(C'+D')’]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cc3399"/>
                </a:solidFill>
                <a:latin typeface="Tahoma"/>
              </a:rPr>
              <a:t>= {[(A'+B')'+(C'+D')']'}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6240" y="4037040"/>
            <a:ext cx="3376440" cy="1684440"/>
            <a:chOff x="876240" y="4037040"/>
            <a:chExt cx="3376440" cy="1684440"/>
          </a:xfrm>
        </p:grpSpPr>
        <p:sp>
          <p:nvSpPr>
            <p:cNvPr id="237" name=""/>
            <p:cNvSpPr/>
            <p:nvPr/>
          </p:nvSpPr>
          <p:spPr>
            <a:xfrm>
              <a:off x="1473120" y="417672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3120" y="468468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460520" y="41637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14320" y="417816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14680" y="417816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13960" y="4163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4320" y="415152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3120" y="502776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73120" y="55357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460520" y="50148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320" y="502920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14680" y="502920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3960" y="501516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320" y="500220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18360" y="462276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70720" y="4622760"/>
              <a:ext cx="1522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58920" y="459540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18000" y="459540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3360" y="4748040"/>
              <a:ext cx="2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84120" y="4430520"/>
              <a:ext cx="49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79480" y="442440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3360" y="4964040"/>
              <a:ext cx="2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84120" y="5281560"/>
              <a:ext cx="51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79480" y="4957920"/>
              <a:ext cx="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65160" y="4316400"/>
              <a:ext cx="49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65160" y="4532400"/>
              <a:ext cx="49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65160" y="5167440"/>
              <a:ext cx="49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65160" y="538308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06480" y="484992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6240" y="403704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1440" y="452736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1440" y="491328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1440" y="53658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98880" y="460692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411880" y="417672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1880" y="468468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398920" y="416376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53080" y="4178160"/>
            <a:ext cx="44424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53440" y="4178160"/>
            <a:ext cx="456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52720" y="4163760"/>
            <a:ext cx="44460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3080" y="4151520"/>
            <a:ext cx="4568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1880" y="502776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1880" y="5535720"/>
            <a:ext cx="48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98920" y="5014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3080" y="5029200"/>
            <a:ext cx="4442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53440" y="5029200"/>
            <a:ext cx="45648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2720" y="5015160"/>
            <a:ext cx="4446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53080" y="5002200"/>
            <a:ext cx="45684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6400" y="4622760"/>
            <a:ext cx="2282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08760" y="4622760"/>
            <a:ext cx="152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7680" y="4595400"/>
            <a:ext cx="1434600" cy="4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56040" y="4595400"/>
            <a:ext cx="228600" cy="4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11760" y="4748040"/>
            <a:ext cx="263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22880" y="4430880"/>
            <a:ext cx="4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8240" y="4424400"/>
            <a:ext cx="0" cy="33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11760" y="4964040"/>
            <a:ext cx="263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22880" y="5281560"/>
            <a:ext cx="511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18240" y="49579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03920" y="4316400"/>
            <a:ext cx="40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03920" y="4532400"/>
            <a:ext cx="39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03920" y="516744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03920" y="5383080"/>
            <a:ext cx="39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45320" y="4849920"/>
            <a:ext cx="1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15000" y="4037040"/>
            <a:ext cx="279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40200" y="4527720"/>
            <a:ext cx="266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40200" y="4913280"/>
            <a:ext cx="266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0200" y="5388120"/>
            <a:ext cx="266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32640" y="4545000"/>
            <a:ext cx="254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9640" y="4300560"/>
            <a:ext cx="530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02080" y="4268880"/>
            <a:ext cx="9540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02080" y="4487760"/>
            <a:ext cx="9540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92720" y="5121360"/>
            <a:ext cx="9540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2720" y="5340240"/>
            <a:ext cx="9540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5240" y="5148360"/>
            <a:ext cx="530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5240" y="4802040"/>
            <a:ext cx="95400" cy="88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08760" y="4738680"/>
            <a:ext cx="530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4920" y="4586400"/>
            <a:ext cx="324000" cy="24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954920" y="4828680"/>
            <a:ext cx="324000" cy="24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45560" y="4586400"/>
            <a:ext cx="0" cy="48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27840" y="4794120"/>
            <a:ext cx="108000" cy="103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0" y="4832280"/>
            <a:ext cx="17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between form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OR/AND to NAND/N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14880" y="2916360"/>
            <a:ext cx="3553560" cy="1650960"/>
            <a:chOff x="614880" y="2916360"/>
            <a:chExt cx="3553560" cy="1650960"/>
          </a:xfrm>
        </p:grpSpPr>
        <p:sp>
          <p:nvSpPr>
            <p:cNvPr id="321" name=""/>
            <p:cNvSpPr/>
            <p:nvPr/>
          </p:nvSpPr>
          <p:spPr>
            <a:xfrm>
              <a:off x="2624040" y="326052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24040" y="37940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66600" y="3162240"/>
              <a:ext cx="51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27080" y="344952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7080" y="395748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814480" y="343692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9360" y="3451320"/>
              <a:ext cx="442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69360" y="3443400"/>
              <a:ext cx="45576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9000" y="3437280"/>
              <a:ext cx="44316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69000" y="3433320"/>
              <a:ext cx="4561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38440" y="3703680"/>
              <a:ext cx="44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24040" y="3589200"/>
              <a:ext cx="19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24040" y="3805200"/>
              <a:ext cx="19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66600" y="3378240"/>
              <a:ext cx="52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66600" y="3994200"/>
              <a:ext cx="51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66600" y="4219560"/>
              <a:ext cx="49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2880" y="3876480"/>
              <a:ext cx="2268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80" y="3876480"/>
              <a:ext cx="15228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080" y="3849840"/>
              <a:ext cx="1434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62520" y="3849840"/>
              <a:ext cx="22716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51000" y="4103640"/>
              <a:ext cx="48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8040" y="2916360"/>
              <a:ext cx="279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3240" y="337356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3240" y="375912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4160" y="4211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4640" y="34527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78360" y="303696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0720" y="3036960"/>
              <a:ext cx="1522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9640" y="3009960"/>
              <a:ext cx="14338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8000" y="3009960"/>
              <a:ext cx="2278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6840" y="3263760"/>
              <a:ext cx="46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24400" y="2894040"/>
            <a:ext cx="4100400" cy="1673280"/>
            <a:chOff x="4424400" y="2894040"/>
            <a:chExt cx="4100400" cy="1673280"/>
          </a:xfrm>
        </p:grpSpPr>
        <p:sp>
          <p:nvSpPr>
            <p:cNvPr id="353" name=""/>
            <p:cNvSpPr/>
            <p:nvPr/>
          </p:nvSpPr>
          <p:spPr>
            <a:xfrm>
              <a:off x="8270640" y="3381480"/>
              <a:ext cx="254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92920" y="3422520"/>
              <a:ext cx="32400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792920" y="3665160"/>
              <a:ext cx="32400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83560" y="3422520"/>
              <a:ext cx="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65840" y="3630600"/>
              <a:ext cx="108000" cy="103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07200" y="3668760"/>
              <a:ext cx="1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33920" y="3238560"/>
              <a:ext cx="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3920" y="377172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6840" y="313992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37320" y="342756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37320" y="39355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624360" y="34146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78520" y="3429000"/>
              <a:ext cx="4442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78880" y="3425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8160" y="341496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78520" y="341172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29320" y="3681360"/>
              <a:ext cx="24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33920" y="356724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33920" y="37828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76840" y="335592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76840" y="39718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76840" y="419724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2040" y="38545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24400" y="38545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13320" y="3827520"/>
              <a:ext cx="1434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71680" y="3827520"/>
              <a:ext cx="228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60880" y="408132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7920" y="289404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13120" y="337356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13120" y="37368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16360" y="4211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87880" y="301464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40240" y="301464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29160" y="298728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7520" y="298728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76720" y="3241800"/>
              <a:ext cx="46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22960" y="3124080"/>
              <a:ext cx="677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5240" y="3090960"/>
              <a:ext cx="9540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05240" y="3309840"/>
              <a:ext cx="9540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65640" y="3929040"/>
              <a:ext cx="9540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65640" y="4148280"/>
              <a:ext cx="95400" cy="8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48320" y="3633840"/>
              <a:ext cx="9540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62520" y="3552840"/>
              <a:ext cx="677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16480" y="3960720"/>
              <a:ext cx="677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between form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OR/AND to NOR/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30440" y="2787480"/>
            <a:ext cx="3554280" cy="1650960"/>
            <a:chOff x="730440" y="2787480"/>
            <a:chExt cx="3554280" cy="1650960"/>
          </a:xfrm>
        </p:grpSpPr>
        <p:sp>
          <p:nvSpPr>
            <p:cNvPr id="400" name=""/>
            <p:cNvSpPr/>
            <p:nvPr/>
          </p:nvSpPr>
          <p:spPr>
            <a:xfrm>
              <a:off x="2739960" y="313164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9960" y="366516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2520" y="3033360"/>
              <a:ext cx="51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43000" y="3320640"/>
              <a:ext cx="47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43000" y="382860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930400" y="33080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84920" y="3322440"/>
              <a:ext cx="44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84920" y="33145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84560" y="330840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4560" y="330444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54360" y="3574800"/>
              <a:ext cx="4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39960" y="346032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39960" y="367632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82520" y="3249360"/>
              <a:ext cx="52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2520" y="3865320"/>
              <a:ext cx="51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2520" y="4090680"/>
              <a:ext cx="49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78440" y="3747600"/>
              <a:ext cx="2275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0440" y="3747600"/>
              <a:ext cx="152352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9000" y="3720960"/>
              <a:ext cx="143496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8080" y="3720960"/>
              <a:ext cx="2278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66920" y="397476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93600" y="278748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19160" y="3244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19160" y="363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0080" y="408276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0560" y="332388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93920" y="29080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" y="29080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5200" y="2881080"/>
              <a:ext cx="1434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93560" y="2881080"/>
              <a:ext cx="228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2760" y="3134880"/>
              <a:ext cx="46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540320" y="2765520"/>
            <a:ext cx="3666960" cy="1673280"/>
            <a:chOff x="4540320" y="2765520"/>
            <a:chExt cx="3666960" cy="1673280"/>
          </a:xfrm>
        </p:grpSpPr>
        <p:sp>
          <p:nvSpPr>
            <p:cNvPr id="432" name=""/>
            <p:cNvSpPr/>
            <p:nvPr/>
          </p:nvSpPr>
          <p:spPr>
            <a:xfrm>
              <a:off x="7953480" y="3267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0200" y="3110040"/>
              <a:ext cx="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50200" y="364320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92760" y="3011400"/>
              <a:ext cx="53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19920" y="329868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19920" y="380700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907320" y="32860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61840" y="3300480"/>
              <a:ext cx="44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61480" y="329724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61480" y="328644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61120" y="328320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31280" y="3552840"/>
              <a:ext cx="41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0200" y="3438360"/>
              <a:ext cx="25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50200" y="3654360"/>
              <a:ext cx="25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92760" y="322740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92760" y="3843360"/>
              <a:ext cx="51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92760" y="4068720"/>
              <a:ext cx="51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87960" y="372600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40320" y="372600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9240" y="3699000"/>
              <a:ext cx="1434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87600" y="3699000"/>
              <a:ext cx="228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76880" y="3952800"/>
              <a:ext cx="38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3840" y="276552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29040" y="324468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9040" y="360828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9960" y="408312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04520" y="28861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56880" y="2886120"/>
              <a:ext cx="1522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45080" y="2859120"/>
              <a:ext cx="14346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04160" y="2859120"/>
              <a:ext cx="2278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92720" y="3112920"/>
              <a:ext cx="36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94320" y="2995560"/>
              <a:ext cx="677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87960" y="3067200"/>
              <a:ext cx="9540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73920" y="3909960"/>
              <a:ext cx="9504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97520" y="3400560"/>
              <a:ext cx="9540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00920" y="3424320"/>
              <a:ext cx="677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87840" y="3832200"/>
              <a:ext cx="677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02560" y="3610080"/>
              <a:ext cx="9504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convert between for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4440" y="1390320"/>
            <a:ext cx="5429160" cy="10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OS logic gates are inve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NAND, NOR,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get AND, OR,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166760" y="4637160"/>
            <a:ext cx="120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084320" y="4673520"/>
            <a:ext cx="1244520" cy="1414080"/>
            <a:chOff x="1084320" y="4673520"/>
            <a:chExt cx="1244520" cy="1414080"/>
          </a:xfrm>
        </p:grpSpPr>
        <p:sp>
          <p:nvSpPr>
            <p:cNvPr id="474" name=""/>
            <p:cNvSpPr/>
            <p:nvPr/>
          </p:nvSpPr>
          <p:spPr>
            <a:xfrm>
              <a:off x="1084320" y="492984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44720" y="4673520"/>
              <a:ext cx="0" cy="141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564000" y="2540160"/>
            <a:ext cx="2239920" cy="3966840"/>
            <a:chOff x="3564000" y="2540160"/>
            <a:chExt cx="2239920" cy="3966840"/>
          </a:xfrm>
        </p:grpSpPr>
        <p:grpSp>
          <p:nvGrpSpPr>
            <p:cNvPr id="477" name=""/>
            <p:cNvGrpSpPr/>
            <p:nvPr/>
          </p:nvGrpSpPr>
          <p:grpSpPr>
            <a:xfrm>
              <a:off x="4354560" y="4405320"/>
              <a:ext cx="677880" cy="833040"/>
              <a:chOff x="4354560" y="4405320"/>
              <a:chExt cx="677880" cy="8330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4726080" y="4628880"/>
                <a:ext cx="1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30840" y="464796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54560" y="4822560"/>
                <a:ext cx="37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30840" y="4519440"/>
                <a:ext cx="0" cy="62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30840" y="499572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31000" y="499572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31000" y="440532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032440" y="3917880"/>
              <a:ext cx="0" cy="55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3360" y="423864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71960" y="4179960"/>
              <a:ext cx="112680" cy="1141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84960" y="401940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9640" y="460836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4902120" y="5986440"/>
              <a:ext cx="2682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804840" y="336852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181040" y="3174840"/>
              <a:ext cx="180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86160" y="319392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86160" y="3065400"/>
              <a:ext cx="0" cy="6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86160" y="354168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0920" y="3537000"/>
              <a:ext cx="612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86320" y="2951280"/>
              <a:ext cx="14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60800" y="3306600"/>
              <a:ext cx="112680" cy="122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346640" y="2868120"/>
              <a:ext cx="268200" cy="1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57560" y="254016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8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19760" y="609120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352760" y="5227560"/>
              <a:ext cx="677880" cy="833040"/>
              <a:chOff x="4352760" y="5227560"/>
              <a:chExt cx="677880" cy="833040"/>
            </a:xfrm>
          </p:grpSpPr>
          <p:sp>
            <p:nvSpPr>
              <p:cNvPr id="503" name=""/>
              <p:cNvSpPr/>
              <p:nvPr/>
            </p:nvSpPr>
            <p:spPr>
              <a:xfrm flipH="1">
                <a:off x="4724280" y="5451120"/>
                <a:ext cx="1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29040" y="547020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352760" y="5644800"/>
                <a:ext cx="37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29040" y="5341680"/>
                <a:ext cx="0" cy="62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29040" y="581796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029200" y="581796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029200" y="522756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4049640" y="543564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957560" y="336852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334120" y="3174840"/>
              <a:ext cx="144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319392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38880" y="3065400"/>
              <a:ext cx="0" cy="6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38880" y="354168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7960" y="3541680"/>
              <a:ext cx="180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37960" y="2951280"/>
              <a:ext cx="180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13520" y="3306600"/>
              <a:ext cx="112680" cy="122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499000" y="2868120"/>
              <a:ext cx="268560" cy="1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10280" y="254016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8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71920" y="3927600"/>
              <a:ext cx="11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71960" y="385920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64000" y="315612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30760" y="315612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289560" y="2540160"/>
            <a:ext cx="2216160" cy="3944880"/>
            <a:chOff x="6289560" y="2540160"/>
            <a:chExt cx="2216160" cy="3944880"/>
          </a:xfrm>
        </p:grpSpPr>
        <p:sp>
          <p:nvSpPr>
            <p:cNvPr id="526" name=""/>
            <p:cNvSpPr/>
            <p:nvPr/>
          </p:nvSpPr>
          <p:spPr>
            <a:xfrm>
              <a:off x="6775200" y="448020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7682760" y="4434120"/>
              <a:ext cx="128880" cy="525240"/>
              <a:chOff x="7682760" y="4434120"/>
              <a:chExt cx="128880" cy="525240"/>
            </a:xfrm>
          </p:grpSpPr>
          <p:sp>
            <p:nvSpPr>
              <p:cNvPr id="528" name=""/>
              <p:cNvSpPr/>
              <p:nvPr/>
            </p:nvSpPr>
            <p:spPr>
              <a:xfrm flipH="1">
                <a:off x="7682760" y="4496040"/>
                <a:ext cx="7308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97160" y="4845240"/>
                <a:ext cx="11304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97160" y="4434120"/>
                <a:ext cx="11448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7758000" y="3880080"/>
              <a:ext cx="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8000" y="4901040"/>
              <a:ext cx="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38920" y="422136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97520" y="416268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75080" y="47041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10160" y="4002480"/>
              <a:ext cx="217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638840" y="5970960"/>
              <a:ext cx="2682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524280" y="2540160"/>
              <a:ext cx="828720" cy="1193760"/>
              <a:chOff x="6524280" y="2540160"/>
              <a:chExt cx="828720" cy="11937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6971760" y="3208680"/>
                <a:ext cx="295200" cy="525240"/>
                <a:chOff x="6971760" y="3208680"/>
                <a:chExt cx="295200" cy="525240"/>
              </a:xfrm>
            </p:grpSpPr>
            <p:sp>
              <p:nvSpPr>
                <p:cNvPr id="540" name=""/>
                <p:cNvSpPr/>
                <p:nvPr/>
              </p:nvSpPr>
              <p:spPr>
                <a:xfrm flipH="1">
                  <a:off x="6971760" y="3270600"/>
                  <a:ext cx="239400" cy="38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152840" y="3619800"/>
                  <a:ext cx="1123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152840" y="3208680"/>
                  <a:ext cx="1141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7202160" y="295776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6524280" y="3470400"/>
                <a:ext cx="475920" cy="0"/>
                <a:chOff x="6524280" y="3470400"/>
                <a:chExt cx="475920" cy="0"/>
              </a:xfrm>
            </p:grpSpPr>
            <p:sp>
              <p:nvSpPr>
                <p:cNvPr id="545" name=""/>
                <p:cNvSpPr/>
                <p:nvPr/>
              </p:nvSpPr>
              <p:spPr>
                <a:xfrm flipH="1">
                  <a:off x="6847920" y="3470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524280" y="3470400"/>
                  <a:ext cx="43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 flipV="1">
                <a:off x="7057800" y="2865600"/>
                <a:ext cx="2682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759360" y="2540160"/>
                <a:ext cx="59364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.8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7643520" y="606924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7681320" y="5256360"/>
              <a:ext cx="128880" cy="525240"/>
              <a:chOff x="7681320" y="5256360"/>
              <a:chExt cx="128880" cy="52524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681320" y="5318280"/>
                <a:ext cx="7308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695720" y="5667480"/>
                <a:ext cx="11304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95720" y="5256360"/>
                <a:ext cx="11448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7756200" y="572328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3640" y="552636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30712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7677000" y="2540160"/>
              <a:ext cx="828720" cy="1193760"/>
              <a:chOff x="7677000" y="2540160"/>
              <a:chExt cx="828720" cy="119376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8124480" y="3208680"/>
                <a:ext cx="295200" cy="525240"/>
                <a:chOff x="8124480" y="3208680"/>
                <a:chExt cx="295200" cy="525240"/>
              </a:xfrm>
            </p:grpSpPr>
            <p:sp>
              <p:nvSpPr>
                <p:cNvPr id="559" name=""/>
                <p:cNvSpPr/>
                <p:nvPr/>
              </p:nvSpPr>
              <p:spPr>
                <a:xfrm flipH="1">
                  <a:off x="8124480" y="3270600"/>
                  <a:ext cx="239400" cy="38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305560" y="3619800"/>
                  <a:ext cx="1123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305560" y="3208680"/>
                  <a:ext cx="1141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8354880" y="295776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7677000" y="3470400"/>
                <a:ext cx="475920" cy="0"/>
                <a:chOff x="7677000" y="3470400"/>
                <a:chExt cx="475920" cy="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8000640" y="3470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677000" y="3470400"/>
                  <a:ext cx="43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V="1">
                <a:off x="8210520" y="2865600"/>
                <a:ext cx="2682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12080" y="2540160"/>
                <a:ext cx="59364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.8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7197480" y="3892680"/>
              <a:ext cx="11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14760" y="36720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67480" y="36864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97520" y="383724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9560" y="325620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56320" y="325620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946080" y="3600720"/>
            <a:ext cx="2044800" cy="873000"/>
            <a:chOff x="946080" y="3600720"/>
            <a:chExt cx="2044800" cy="873000"/>
          </a:xfrm>
        </p:grpSpPr>
        <p:sp>
          <p:nvSpPr>
            <p:cNvPr id="575" name=""/>
            <p:cNvSpPr/>
            <p:nvPr/>
          </p:nvSpPr>
          <p:spPr>
            <a:xfrm>
              <a:off x="946080" y="3610080"/>
              <a:ext cx="343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46080" y="3876840"/>
              <a:ext cx="279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57360" y="3753000"/>
              <a:ext cx="533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98600" y="4149720"/>
              <a:ext cx="496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98600" y="3622680"/>
              <a:ext cx="1440" cy="527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76520" y="3635280"/>
              <a:ext cx="43776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67160" y="3622680"/>
              <a:ext cx="45648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76160" y="3613320"/>
              <a:ext cx="43812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66800" y="3600720"/>
              <a:ext cx="45684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24000" y="3841920"/>
              <a:ext cx="93600" cy="918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00240" y="3776760"/>
              <a:ext cx="198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00240" y="399564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27320" y="3886200"/>
              <a:ext cx="198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46080" y="2719440"/>
            <a:ext cx="2044800" cy="904680"/>
            <a:chOff x="946080" y="2719440"/>
            <a:chExt cx="2044800" cy="904680"/>
          </a:xfrm>
        </p:grpSpPr>
        <p:sp>
          <p:nvSpPr>
            <p:cNvPr id="589" name=""/>
            <p:cNvSpPr/>
            <p:nvPr/>
          </p:nvSpPr>
          <p:spPr>
            <a:xfrm>
              <a:off x="1398600" y="3622680"/>
              <a:ext cx="496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46080" y="2728800"/>
              <a:ext cx="343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46080" y="2995560"/>
              <a:ext cx="279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57360" y="2871720"/>
              <a:ext cx="533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98600" y="2741760"/>
              <a:ext cx="496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98600" y="3268800"/>
              <a:ext cx="496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98600" y="2741760"/>
              <a:ext cx="1440" cy="527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76520" y="2754360"/>
              <a:ext cx="43776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67160" y="2741760"/>
              <a:ext cx="45648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76160" y="2732040"/>
              <a:ext cx="43812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66800" y="2719440"/>
              <a:ext cx="45684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00240" y="28954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00240" y="3114720"/>
              <a:ext cx="198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3003480"/>
              <a:ext cx="2984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flipV="1">
            <a:off x="1371600" y="2610000"/>
            <a:ext cx="614520" cy="814320"/>
          </a:xfrm>
          <a:prstGeom prst="line">
            <a:avLst/>
          </a:prstGeom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1371240" y="2610000"/>
            <a:ext cx="614520" cy="814320"/>
          </a:xfrm>
          <a:prstGeom prst="line">
            <a:avLst/>
          </a:prstGeom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08T19:59:46Z</cp:lastPrinted>
  <dcterms:modified xsi:type="dcterms:W3CDTF">2007-01-12T05:57:00Z</dcterms:modified>
  <cp:revision>242</cp:revision>
  <dc:subject>CSE370</dc:subject>
  <dc:title>Lecture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