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7E60-8995-444E-AFD8-0BB6554BD0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19,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s as 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er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sh counter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r last design ex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f-starting cou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finite-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 versus Mealy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ous Mealy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A parity chec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state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M: A system that visits a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 of logically distinct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ers are simple F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 and states are ident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 states in a fixed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Ms are more complex than 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 can depend on current state and on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sequencing depends on current state and on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2506680" y="6253200"/>
            <a:ext cx="38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76440" y="4692600"/>
            <a:ext cx="92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7360" y="4421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05560" y="5030640"/>
            <a:ext cx="1181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5869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95520" y="4268880"/>
            <a:ext cx="1600200" cy="533160"/>
          </a:xfrm>
          <a:prstGeom prst="roundRect">
            <a:avLst>
              <a:gd name="adj" fmla="val 4791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995720" y="5564160"/>
            <a:ext cx="1066680" cy="304920"/>
            <a:chOff x="4995720" y="5564160"/>
            <a:chExt cx="1066680" cy="304920"/>
          </a:xfrm>
        </p:grpSpPr>
        <p:sp>
          <p:nvSpPr>
            <p:cNvPr id="203" name=""/>
            <p:cNvSpPr/>
            <p:nvPr/>
          </p:nvSpPr>
          <p:spPr>
            <a:xfrm>
              <a:off x="4995720" y="5564160"/>
              <a:ext cx="10666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95720" y="564048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995720" y="5716440"/>
              <a:ext cx="1522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395520" y="4878360"/>
            <a:ext cx="1600200" cy="533520"/>
          </a:xfrm>
          <a:prstGeom prst="roundRect">
            <a:avLst>
              <a:gd name="adj" fmla="val 4791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3"/>
            <a:endCxn id="203" idx="0"/>
          </p:cNvCxnSpPr>
          <p:nvPr/>
        </p:nvCxnSpPr>
        <p:spPr>
          <a:xfrm>
            <a:off x="5005080" y="5145120"/>
            <a:ext cx="524160" cy="410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3" idx="2"/>
            <a:endCxn id="201" idx="1"/>
          </p:cNvCxnSpPr>
          <p:nvPr/>
        </p:nvCxnSpPr>
        <p:spPr>
          <a:xfrm flipV="1" rot="16200000">
            <a:off x="3785760" y="4134960"/>
            <a:ext cx="1343520" cy="2143800"/>
          </a:xfrm>
          <a:prstGeom prst="bentConnector4">
            <a:avLst>
              <a:gd name="adj1" fmla="val -16295"/>
              <a:gd name="adj2" fmla="val 11021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3" idx="2"/>
            <a:endCxn id="206" idx="1"/>
          </p:cNvCxnSpPr>
          <p:nvPr/>
        </p:nvCxnSpPr>
        <p:spPr>
          <a:xfrm flipV="1" rot="16200000">
            <a:off x="4090320" y="4439520"/>
            <a:ext cx="734040" cy="2143800"/>
          </a:xfrm>
          <a:prstGeom prst="bentConnector4">
            <a:avLst>
              <a:gd name="adj1" fmla="val -29833"/>
              <a:gd name="adj2" fmla="val 11021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/>
          <p:nvPr/>
        </p:nvCxnSpPr>
        <p:spPr>
          <a:xfrm flipV="1">
            <a:off x="2514600" y="4647600"/>
            <a:ext cx="915120" cy="153000"/>
          </a:xfrm>
          <a:prstGeom prst="straightConnector1">
            <a:avLst/>
          </a:prstGeom>
          <a:ln w="19080">
            <a:solidFill>
              <a:srgbClr val="00cc66"/>
            </a:solidFill>
            <a:miter/>
            <a:tailEnd len="med" type="triangle" w="med"/>
          </a:ln>
        </p:spPr>
      </p:cxnSp>
      <p:cxnSp>
        <p:nvCxnSpPr>
          <p:cNvPr id="211" name=""/>
          <p:cNvCxnSpPr/>
          <p:nvPr/>
        </p:nvCxnSpPr>
        <p:spPr>
          <a:xfrm>
            <a:off x="2514240" y="4818240"/>
            <a:ext cx="881640" cy="265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1" idx="3"/>
          </p:cNvCxnSpPr>
          <p:nvPr/>
        </p:nvCxnSpPr>
        <p:spPr>
          <a:xfrm>
            <a:off x="5005080" y="4535280"/>
            <a:ext cx="1220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zed FSM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26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variables (state vector) holds circuit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ed in 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al logic computes next state and out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 state is a function of current state and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 are function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120" indent="-1850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tate 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o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achin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9120" indent="-1850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tate and inputs (</a:t>
            </a:r>
            <a:r>
              <a:rPr b="0" lang="en-US" sz="1800" spc="-1" strike="noStrike">
                <a:solidFill>
                  <a:srgbClr val="00cc66"/>
                </a:solidFill>
                <a:latin typeface="Tahoma"/>
              </a:rPr>
              <a:t>Meal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achin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5" name=""/>
          <p:cNvCxnSpPr/>
          <p:nvPr/>
        </p:nvCxnSpPr>
        <p:spPr>
          <a:xfrm>
            <a:off x="2514240" y="4800600"/>
            <a:ext cx="927720" cy="202320"/>
          </a:xfrm>
          <a:prstGeom prst="straightConnector1">
            <a:avLst/>
          </a:prstGeom>
          <a:ln w="19080">
            <a:solidFill>
              <a:srgbClr val="00cc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ore versus Mealy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38040" y="1701720"/>
            <a:ext cx="5980320" cy="2185920"/>
            <a:chOff x="338040" y="1701720"/>
            <a:chExt cx="5980320" cy="2185920"/>
          </a:xfrm>
        </p:grpSpPr>
        <p:sp>
          <p:nvSpPr>
            <p:cNvPr id="218" name=""/>
            <p:cNvSpPr/>
            <p:nvPr/>
          </p:nvSpPr>
          <p:spPr>
            <a:xfrm>
              <a:off x="5492880" y="2571840"/>
              <a:ext cx="825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10040" y="2508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10040" y="27367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10040" y="29653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60400" y="3537000"/>
              <a:ext cx="2019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 feed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61960" y="1701720"/>
              <a:ext cx="137160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0640" y="18097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90640" y="20383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90640" y="22669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90640" y="24955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0640" y="2724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90640" y="29527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33560" y="249552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33560" y="272412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33560" y="295272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05240" y="2374920"/>
              <a:ext cx="342720" cy="69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47960" y="29527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55960" y="295920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78040" y="3295800"/>
              <a:ext cx="298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84160" y="29462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47960" y="2724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70440" y="273060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63200" y="3409920"/>
              <a:ext cx="321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70040" y="271728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160" y="27241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47960" y="249552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84560" y="2502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9440" y="3524400"/>
              <a:ext cx="344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55560" y="2488680"/>
              <a:ext cx="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2040" y="2495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519360" y="2958840"/>
              <a:ext cx="3816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3569760" y="2958840"/>
              <a:ext cx="63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76600" y="3073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8040" y="1911240"/>
              <a:ext cx="723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27560" y="25718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55840" y="2013120"/>
              <a:ext cx="138420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ational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60920" y="24955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60920" y="2724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60920" y="29527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44840" y="2387520"/>
              <a:ext cx="812880" cy="69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37200" y="2457360"/>
              <a:ext cx="1041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292800" y="1612800"/>
            <a:ext cx="21211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Moor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are a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urrent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ous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2800" y="4165560"/>
            <a:ext cx="21589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cc66"/>
                </a:solidFill>
                <a:uFillTx/>
                <a:latin typeface="Tahoma"/>
              </a:rPr>
              <a:t>Mealy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depend on st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n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changes can cau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mediate output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asynchronou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8040" y="4070520"/>
            <a:ext cx="4854600" cy="2163600"/>
            <a:chOff x="338040" y="4070520"/>
            <a:chExt cx="4854600" cy="2163600"/>
          </a:xfrm>
        </p:grpSpPr>
        <p:sp>
          <p:nvSpPr>
            <p:cNvPr id="262" name=""/>
            <p:cNvSpPr/>
            <p:nvPr/>
          </p:nvSpPr>
          <p:spPr>
            <a:xfrm>
              <a:off x="1461960" y="4070520"/>
              <a:ext cx="137160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90640" y="4178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90640" y="44067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90640" y="46353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90640" y="48639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90640" y="50925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90640" y="5321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33560" y="4178160"/>
              <a:ext cx="147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33560" y="4406760"/>
              <a:ext cx="147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33560" y="4635360"/>
              <a:ext cx="147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33560" y="486396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560" y="509256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33560" y="532116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05240" y="4756320"/>
              <a:ext cx="34272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47960" y="5321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55960" y="53276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878040" y="5664240"/>
              <a:ext cx="298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884160" y="53150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47960" y="50925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70440" y="50990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63200" y="5778360"/>
              <a:ext cx="321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70040" y="508644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6160" y="5092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47960" y="4863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84560" y="48704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49440" y="5892840"/>
              <a:ext cx="344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5560" y="4857480"/>
              <a:ext cx="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040" y="48639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519360" y="5327640"/>
              <a:ext cx="381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3569760" y="5327640"/>
              <a:ext cx="637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6600" y="5442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8040" y="4280040"/>
              <a:ext cx="723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67160" y="4280040"/>
              <a:ext cx="825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09640" y="5931000"/>
              <a:ext cx="20192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 feed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27560" y="49021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68440" y="4748040"/>
              <a:ext cx="1384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ational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21040" y="4070520"/>
              <a:ext cx="812520" cy="69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17720" y="4165560"/>
              <a:ext cx="1041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33880" y="2541600"/>
            <a:ext cx="5389920" cy="1856880"/>
            <a:chOff x="533880" y="2541600"/>
            <a:chExt cx="5389920" cy="1856880"/>
          </a:xfrm>
        </p:grpSpPr>
        <p:sp>
          <p:nvSpPr>
            <p:cNvPr id="301" name=""/>
            <p:cNvSpPr/>
            <p:nvPr/>
          </p:nvSpPr>
          <p:spPr>
            <a:xfrm>
              <a:off x="1356120" y="3022200"/>
              <a:ext cx="393840" cy="5436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9160" y="30384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99840" y="30384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99840" y="32958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1480" y="3401640"/>
              <a:ext cx="53640" cy="5580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86000" y="3354480"/>
              <a:ext cx="129240" cy="6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384200" y="3422160"/>
              <a:ext cx="130680" cy="6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56120" y="3630960"/>
              <a:ext cx="393840" cy="5439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79160" y="36486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99840" y="36486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99840" y="39060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61480" y="4010400"/>
              <a:ext cx="53640" cy="5724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86000" y="3964680"/>
              <a:ext cx="129240" cy="6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384200" y="4032360"/>
              <a:ext cx="130680" cy="6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84600" y="2582280"/>
              <a:ext cx="313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84600" y="2907720"/>
              <a:ext cx="3265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84600" y="2581920"/>
              <a:ext cx="1080" cy="325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54880" y="2595960"/>
              <a:ext cx="28692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6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619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47680" y="2588400"/>
              <a:ext cx="301320" cy="34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6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6222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54880" y="2583000"/>
              <a:ext cx="286920" cy="32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8"/>
                  </a:moveTo>
                  <a:arcTo wR="10800" hR="10800" stAng="-3809" swAng="5403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8"/>
                  </a:moveTo>
                  <a:arcTo wR="10800" hR="10800" stAng="-3809" swAng="540380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47680" y="2573640"/>
              <a:ext cx="30132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64400" y="2541600"/>
              <a:ext cx="194400" cy="133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265840" y="2677680"/>
              <a:ext cx="193320" cy="133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62960" y="2541600"/>
              <a:ext cx="1440" cy="270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64920" y="2655720"/>
              <a:ext cx="53640" cy="5580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55520" y="3022200"/>
              <a:ext cx="393840" cy="5436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77480" y="30384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98160" y="30384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98160" y="32958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60880" y="3401640"/>
              <a:ext cx="54000" cy="5580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85760" y="3354480"/>
              <a:ext cx="129240" cy="6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883600" y="3422160"/>
              <a:ext cx="130680" cy="6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55520" y="3630960"/>
              <a:ext cx="393840" cy="5439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77480" y="36486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98160" y="36486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98160" y="39060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60880" y="4010400"/>
              <a:ext cx="54000" cy="5724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85760" y="3964680"/>
              <a:ext cx="129240" cy="66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883600" y="4032360"/>
              <a:ext cx="130680" cy="6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55120" y="3056040"/>
              <a:ext cx="3124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55120" y="3380760"/>
              <a:ext cx="325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155120" y="3056040"/>
              <a:ext cx="1080" cy="324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24680" y="3069360"/>
              <a:ext cx="28584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17480" y="3062160"/>
              <a:ext cx="300240" cy="34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4320" y="3056040"/>
              <a:ext cx="28620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17120" y="3048480"/>
              <a:ext cx="3006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33120" y="3624840"/>
              <a:ext cx="194760" cy="133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633120" y="3763080"/>
              <a:ext cx="194760" cy="133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33120" y="3624840"/>
              <a:ext cx="1440" cy="27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33640" y="3739680"/>
              <a:ext cx="54000" cy="55800"/>
            </a:xfrm>
            <a:prstGeom prst="ellipse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6680" y="2650320"/>
              <a:ext cx="3124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36680" y="2975040"/>
              <a:ext cx="326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936680" y="2650320"/>
              <a:ext cx="1440" cy="324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08040" y="2663640"/>
              <a:ext cx="28584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0"/>
                  </a:moveTo>
                  <a:arcTo wR="10800" hR="10800" stAng="-5404100" swAng="54041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0"/>
                  </a:moveTo>
                  <a:arcTo wR="10800" hR="10800" stAng="-5404100" swAng="54041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99760" y="2655720"/>
              <a:ext cx="3024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0"/>
                  </a:moveTo>
                  <a:arcTo wR="10800" hR="10800" stAng="-5404044" swAng="54040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0"/>
                  </a:moveTo>
                  <a:arcTo wR="10800" hR="10800" stAng="-5404044" swAng="5404044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8040" y="2650680"/>
              <a:ext cx="285840" cy="3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8"/>
                  </a:moveTo>
                  <a:arcTo wR="10800" hR="10800" stAng="-3790" swAng="5407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8"/>
                  </a:moveTo>
                  <a:arcTo wR="10800" hR="10800" stAng="-3790" swAng="540793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0120" y="2643480"/>
              <a:ext cx="302040" cy="34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8"/>
                  </a:moveTo>
                  <a:arcTo wR="10800" hR="10800" stAng="-3800" swAng="5407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8"/>
                  </a:moveTo>
                  <a:arcTo wR="10800" hR="10800" stAng="-3800" swAng="5407888"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6840" y="342216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06840" y="403236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5360" y="2676600"/>
              <a:ext cx="129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24680" y="2676600"/>
              <a:ext cx="13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41320" y="315180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20520" y="31518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2676600"/>
              <a:ext cx="129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72360" y="3151800"/>
              <a:ext cx="2613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20760" y="3138480"/>
              <a:ext cx="385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33720" y="3151800"/>
              <a:ext cx="5868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33720" y="2676600"/>
              <a:ext cx="1440" cy="47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41320" y="376200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20520" y="37620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55360" y="281196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72360" y="3762000"/>
              <a:ext cx="65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11720" y="3747240"/>
              <a:ext cx="38160" cy="4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24680" y="3762000"/>
              <a:ext cx="1958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24680" y="281196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24680" y="2811960"/>
              <a:ext cx="1080" cy="950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06240" y="342216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06240" y="403236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24080" y="315180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42520" y="31518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71760" y="3151800"/>
              <a:ext cx="652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02440" y="3762000"/>
              <a:ext cx="130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42520" y="37620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71760" y="376200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24080" y="3286800"/>
              <a:ext cx="13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93400" y="3762000"/>
              <a:ext cx="130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24080" y="3286800"/>
              <a:ext cx="1080" cy="47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21120" y="31518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8720" y="3151800"/>
              <a:ext cx="3920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30960" y="29574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1120" y="376200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3560" y="3762000"/>
              <a:ext cx="4575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30960" y="356616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21120" y="403236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07080" y="4019040"/>
              <a:ext cx="396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1120" y="342216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20520" y="403236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6480" y="4019040"/>
              <a:ext cx="399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20520" y="342216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21120" y="3422160"/>
              <a:ext cx="1440" cy="610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21120" y="4032360"/>
              <a:ext cx="1440" cy="33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07080" y="4357800"/>
              <a:ext cx="39600" cy="4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28720" y="4370760"/>
              <a:ext cx="3920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21120" y="4370760"/>
              <a:ext cx="1499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20520" y="3422160"/>
              <a:ext cx="1440" cy="610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20520" y="4032360"/>
              <a:ext cx="1440" cy="338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880" y="4176720"/>
              <a:ext cx="6102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42520" y="274428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07440" y="274428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71760" y="2744280"/>
              <a:ext cx="1435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11240" y="3219120"/>
              <a:ext cx="13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07440" y="2879640"/>
              <a:ext cx="129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41920" y="3219120"/>
              <a:ext cx="65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07440" y="2879640"/>
              <a:ext cx="1080" cy="339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93160" y="2811960"/>
              <a:ext cx="130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23480" y="2811960"/>
              <a:ext cx="2617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57320" y="2617920"/>
              <a:ext cx="3664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187880" y="4248000"/>
            <a:ext cx="4401360" cy="1821240"/>
            <a:chOff x="4187880" y="4248000"/>
            <a:chExt cx="4401360" cy="1821240"/>
          </a:xfrm>
        </p:grpSpPr>
        <p:sp>
          <p:nvSpPr>
            <p:cNvPr id="419" name=""/>
            <p:cNvSpPr/>
            <p:nvPr/>
          </p:nvSpPr>
          <p:spPr>
            <a:xfrm>
              <a:off x="5183280" y="4292640"/>
              <a:ext cx="34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83280" y="464040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5183280" y="4292640"/>
              <a:ext cx="1440" cy="34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67960" y="4307040"/>
              <a:ext cx="313200" cy="34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61480" y="4299120"/>
              <a:ext cx="326160" cy="36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67600" y="4291200"/>
              <a:ext cx="313560" cy="3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61120" y="4283640"/>
              <a:ext cx="3265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14840" y="4248000"/>
              <a:ext cx="2127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4614840" y="4393800"/>
              <a:ext cx="212760" cy="144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14840" y="4248000"/>
              <a:ext cx="1440" cy="29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35520" y="4371840"/>
              <a:ext cx="57240" cy="572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61040" y="4764240"/>
              <a:ext cx="426960" cy="579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87680" y="479124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38600" y="479124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38600" y="506736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02400" y="5170320"/>
              <a:ext cx="56880" cy="572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80120" y="5118120"/>
              <a:ext cx="14112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280120" y="5191200"/>
              <a:ext cx="14112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61040" y="5416560"/>
              <a:ext cx="426960" cy="581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87680" y="54450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38600" y="544500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8600" y="571968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02400" y="5823000"/>
              <a:ext cx="56880" cy="572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80120" y="5772240"/>
              <a:ext cx="14112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280120" y="5845320"/>
              <a:ext cx="141120" cy="72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76920" y="4799160"/>
              <a:ext cx="34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6920" y="514836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676920" y="4799160"/>
              <a:ext cx="1800" cy="349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61240" y="4813200"/>
              <a:ext cx="313920" cy="35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4760" y="4807080"/>
              <a:ext cx="32688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60880" y="4800960"/>
              <a:ext cx="31428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9"/>
                  </a:moveTo>
                  <a:arcTo wR="10800" hR="10800" stAng="-3440" swAng="5403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9"/>
                  </a:moveTo>
                  <a:arcTo wR="10800" hR="10800" stAng="-3440" swAng="540344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54400" y="4793400"/>
              <a:ext cx="327240" cy="36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9"/>
                  </a:moveTo>
                  <a:arcTo wR="10800" hR="10800" stAng="-3413" swAng="540341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9"/>
                  </a:moveTo>
                  <a:arcTo wR="10800" hR="10800" stAng="-3413" swAng="5403413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08840" y="5408640"/>
              <a:ext cx="2127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108840" y="5554440"/>
              <a:ext cx="212760" cy="144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08840" y="5408640"/>
              <a:ext cx="1440" cy="29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27720" y="5532480"/>
              <a:ext cx="57240" cy="572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31200" y="4365720"/>
              <a:ext cx="341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31200" y="4713120"/>
              <a:ext cx="353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31200" y="4365360"/>
              <a:ext cx="0" cy="34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17320" y="4379760"/>
              <a:ext cx="310320" cy="34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09400" y="4371840"/>
              <a:ext cx="3261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16960" y="4363920"/>
              <a:ext cx="310680" cy="3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09040" y="4355640"/>
              <a:ext cx="326520" cy="3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41800" y="4394160"/>
              <a:ext cx="141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98880" y="4394160"/>
              <a:ext cx="142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13440" y="490068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73720" y="4394160"/>
              <a:ext cx="141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87880" y="4900680"/>
              <a:ext cx="285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57880" y="4886280"/>
              <a:ext cx="42840" cy="44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73720" y="4900680"/>
              <a:ext cx="639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73720" y="4394160"/>
              <a:ext cx="0" cy="506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22440" y="470376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13440" y="555480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1800" y="4538520"/>
              <a:ext cx="141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87880" y="5554800"/>
              <a:ext cx="711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84840" y="554040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98880" y="5554800"/>
              <a:ext cx="214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98880" y="4538520"/>
              <a:ext cx="1429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98880" y="4538520"/>
              <a:ext cx="1800" cy="101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46200" y="5357880"/>
              <a:ext cx="122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13440" y="584532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97600" y="5829480"/>
              <a:ext cx="42840" cy="4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13440" y="519120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13440" y="5191200"/>
              <a:ext cx="1440" cy="65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13440" y="5845320"/>
              <a:ext cx="144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00640" y="6060960"/>
              <a:ext cx="712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29720" y="5853240"/>
              <a:ext cx="6102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51360" y="5191200"/>
              <a:ext cx="142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51360" y="5845320"/>
              <a:ext cx="142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35800" y="490068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81520" y="4900680"/>
              <a:ext cx="141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823000" y="4900680"/>
              <a:ext cx="712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65920" y="5554800"/>
              <a:ext cx="142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81520" y="5554800"/>
              <a:ext cx="141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3000" y="5554800"/>
              <a:ext cx="142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35800" y="5046840"/>
              <a:ext cx="141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91440" y="5554800"/>
              <a:ext cx="144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35800" y="5046840"/>
              <a:ext cx="0" cy="507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81520" y="4465800"/>
              <a:ext cx="141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88280" y="4465800"/>
              <a:ext cx="142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23000" y="4465800"/>
              <a:ext cx="1565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75520" y="4973760"/>
              <a:ext cx="141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88280" y="4611600"/>
              <a:ext cx="1429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16640" y="4973760"/>
              <a:ext cx="71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88280" y="4611600"/>
              <a:ext cx="1440" cy="36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28000" y="4538520"/>
              <a:ext cx="1429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70920" y="4538520"/>
              <a:ext cx="2826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222760" y="4341960"/>
              <a:ext cx="3664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oore versus Mea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96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s recognize AB=10 followed by AB=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kinds of machines are the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ing outputs for a Moore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is a function of state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output in the state bub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Detector for 01 o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3360" y="2800440"/>
            <a:ext cx="4635720" cy="3390480"/>
            <a:chOff x="63360" y="2800440"/>
            <a:chExt cx="4635720" cy="3390480"/>
          </a:xfrm>
        </p:grpSpPr>
        <p:sp>
          <p:nvSpPr>
            <p:cNvPr id="512" name=""/>
            <p:cNvSpPr/>
            <p:nvPr/>
          </p:nvSpPr>
          <p:spPr>
            <a:xfrm>
              <a:off x="2000160" y="5511600"/>
              <a:ext cx="68580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21080" y="5549760"/>
              <a:ext cx="1141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87560" y="2844720"/>
              <a:ext cx="68580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508120" y="3288960"/>
              <a:ext cx="11448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30480" y="332712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30480" y="515592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101680" y="332712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58880" y="354960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1555920" y="3708000"/>
              <a:ext cx="58392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24360" y="3371760"/>
              <a:ext cx="482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/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36960" y="5200560"/>
              <a:ext cx="4698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/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08160" y="3396960"/>
              <a:ext cx="4698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87280" y="424152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01680" y="515592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93760" y="4286160"/>
              <a:ext cx="4698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95560" y="5225760"/>
              <a:ext cx="482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71840" y="537840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1542960" y="463536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2470320" y="3708000"/>
              <a:ext cx="153648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2469960" y="3708360"/>
              <a:ext cx="152388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92640" y="374652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038480" y="374652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2600" y="44640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70200" y="4235400"/>
              <a:ext cx="5590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47920" y="37274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57400" y="28004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25680" y="39812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40360" y="423540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38280" y="4654440"/>
              <a:ext cx="5590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70000" y="5784840"/>
              <a:ext cx="5590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73120" y="481968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46240" y="3219480"/>
              <a:ext cx="55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82880" y="5352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360" y="4108320"/>
              <a:ext cx="8128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5016600" y="2486160"/>
            <a:ext cx="3987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08600" y="3105000"/>
            <a:ext cx="402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38880" y="2540160"/>
            <a:ext cx="0" cy="363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78600" y="3146400"/>
            <a:ext cx="347472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ing outputs for a Mealy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1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is a function of state and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outputs on transition ar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Detector for 01 o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4680000" y="2994120"/>
            <a:ext cx="3987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0" y="3613320"/>
            <a:ext cx="402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02280" y="3048120"/>
            <a:ext cx="0" cy="27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3840" y="2838600"/>
            <a:ext cx="2958840" cy="3365280"/>
            <a:chOff x="393840" y="2838600"/>
            <a:chExt cx="2958840" cy="3365280"/>
          </a:xfrm>
        </p:grpSpPr>
        <p:sp>
          <p:nvSpPr>
            <p:cNvPr id="556" name=""/>
            <p:cNvSpPr/>
            <p:nvPr/>
          </p:nvSpPr>
          <p:spPr>
            <a:xfrm>
              <a:off x="2406600" y="55245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14560" y="5549760"/>
              <a:ext cx="11448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94000" y="285768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08120" y="3340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1962000" y="37206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03520" y="34099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93720" y="4254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08120" y="51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89120" y="4299120"/>
              <a:ext cx="279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03520" y="52387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1949400" y="46483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82880" y="37591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629080" y="37591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14480" y="44766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84480" y="42861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/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90640" y="3701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76440" y="283860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93960" y="42861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76440" y="5797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03240" y="48830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3840" y="416556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914560" y="33015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4854600" y="3652920"/>
            <a:ext cx="349236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ng Moore and Mealy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ore machi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Safer do use because outputs change at clock 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take additional logic to decode state into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ly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ypically have fewer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act faster to inputs — don't wait for c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outputs can be danger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often design synchronous Mealy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a Mealy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register the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ous (registered) Mealy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77520" y="1407600"/>
            <a:ext cx="7729560" cy="16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ed stat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gistered out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glitches on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ace conditions between communicating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859040" y="3211560"/>
            <a:ext cx="4910040" cy="2198520"/>
            <a:chOff x="1859040" y="3211560"/>
            <a:chExt cx="4910040" cy="2198520"/>
          </a:xfrm>
        </p:grpSpPr>
        <p:sp>
          <p:nvSpPr>
            <p:cNvPr id="584" name=""/>
            <p:cNvSpPr/>
            <p:nvPr/>
          </p:nvSpPr>
          <p:spPr>
            <a:xfrm>
              <a:off x="3038400" y="3246480"/>
              <a:ext cx="137160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67080" y="33544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67080" y="3583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67080" y="38116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67080" y="40402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67080" y="42688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67080" y="44974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10000" y="33544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10000" y="3583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10000" y="38116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10000" y="40402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10000" y="42688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10000" y="44974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81680" y="3932280"/>
              <a:ext cx="34272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24400" y="44974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32400" y="4503600"/>
              <a:ext cx="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453760" y="4840200"/>
              <a:ext cx="298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2460600" y="449100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24400" y="42688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46880" y="42750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339640" y="4954680"/>
              <a:ext cx="321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346480" y="426240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352600" y="42688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24400" y="40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61000" y="40464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2225160" y="5068800"/>
              <a:ext cx="344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2232000" y="4033440"/>
              <a:ext cx="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38480" y="40402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095800" y="4503600"/>
              <a:ext cx="381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5146200" y="4503600"/>
              <a:ext cx="637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53040" y="461808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59040" y="3456000"/>
              <a:ext cx="723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43600" y="3456000"/>
              <a:ext cx="825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86080" y="5106960"/>
              <a:ext cx="20192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 feed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03640" y="407844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044880" y="3924360"/>
              <a:ext cx="138420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ational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97120" y="3246480"/>
              <a:ext cx="812880" cy="69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94160" y="3341520"/>
              <a:ext cx="1041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81680" y="3211560"/>
              <a:ext cx="34272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095800" y="3782880"/>
              <a:ext cx="38160" cy="114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5146200" y="3782880"/>
              <a:ext cx="63720" cy="114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03640" y="334656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ahoma"/>
                </a:rPr>
                <a:t>r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31440" y="1406520"/>
            <a:ext cx="7813800" cy="454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ized counter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spcBef>
                <a:spcPts val="125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unter-design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 State dia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 State-transition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 Next-state logic min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 Implement the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FSM-design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 State diagram and state-transition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 State min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 State assignment (or state encod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 Next-state logic min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 Implement the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 parity chec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28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 input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=1 if odd # of 1s in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=0 if even # of 1s in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1501920" y="3166920"/>
          <a:ext cx="1274760" cy="26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3166920"/>
                    <a:ext cx="1274760" cy="26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4191120" y="3459240"/>
            <a:ext cx="460188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        Input           Next      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State      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81560" y="4195800"/>
            <a:ext cx="39402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Ev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Od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d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Od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d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1            Ev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49640" y="4110120"/>
            <a:ext cx="4506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9440" y="2681280"/>
            <a:ext cx="62290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 State diagram and state-transi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313320" y="3429000"/>
            <a:ext cx="0" cy="209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31640" y="5715000"/>
            <a:ext cx="3884040" cy="45756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Moore-machine stat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: Counter design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424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Draw a state di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Draw a state-transition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 Encode the next-state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the logic using k-m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 Implement the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Example: A 5-state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ity checke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588960" y="1424160"/>
            <a:ext cx="6653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 State minimization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ready min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both states (even and od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ne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3.  State assignment (or state enco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4880" y="3370320"/>
            <a:ext cx="46022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        Input          Next        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State       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95320" y="4106880"/>
            <a:ext cx="39402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1         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463760" y="4021200"/>
            <a:ext cx="4506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27440" y="3340080"/>
            <a:ext cx="0" cy="209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12720" y="4892760"/>
            <a:ext cx="2006640" cy="100620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Even </a:t>
            </a:r>
            <a:r>
              <a:rPr b="0" lang="en-US" sz="1800" spc="-1" strike="noStrike">
                <a:solidFill>
                  <a:srgbClr val="cc3399"/>
                </a:solidFill>
                <a:latin typeface="Monotype Sorts"/>
                <a:ea typeface="Monotype Sorts"/>
              </a:rPr>
              <a:t>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Odd  </a:t>
            </a:r>
            <a:r>
              <a:rPr b="0" lang="en-US" sz="1800" spc="-1" strike="noStrike">
                <a:solidFill>
                  <a:srgbClr val="cc3399"/>
                </a:solidFill>
                <a:latin typeface="Monotype Sorts"/>
                <a:ea typeface="Monotype Sorts"/>
              </a:rPr>
              <a:t>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ity checke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588960" y="1411200"/>
            <a:ext cx="64962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4.  Next-state logic min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D flip-fl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 state = (present state) XOR (present 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nt output = pres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5.  Implement th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770360" y="4567320"/>
            <a:ext cx="984240" cy="25200"/>
          </a:xfrm>
          <a:custGeom>
            <a:avLst/>
            <a:gdLst/>
            <a:ahLst/>
            <a:rect l="l" t="t" r="r" b="b"/>
            <a:pathLst>
              <a:path w="620" h="16">
                <a:moveTo>
                  <a:pt x="6" y="5"/>
                </a:moveTo>
                <a:lnTo>
                  <a:pt x="3" y="5"/>
                </a:lnTo>
                <a:lnTo>
                  <a:pt x="3" y="8"/>
                </a:lnTo>
                <a:lnTo>
                  <a:pt x="0" y="8"/>
                </a:lnTo>
                <a:lnTo>
                  <a:pt x="0" y="13"/>
                </a:lnTo>
                <a:lnTo>
                  <a:pt x="3" y="13"/>
                </a:lnTo>
                <a:lnTo>
                  <a:pt x="3" y="16"/>
                </a:lnTo>
                <a:lnTo>
                  <a:pt x="6" y="16"/>
                </a:lnTo>
                <a:lnTo>
                  <a:pt x="615" y="11"/>
                </a:lnTo>
                <a:lnTo>
                  <a:pt x="617" y="11"/>
                </a:lnTo>
                <a:lnTo>
                  <a:pt x="617" y="8"/>
                </a:lnTo>
                <a:lnTo>
                  <a:pt x="620" y="8"/>
                </a:lnTo>
                <a:lnTo>
                  <a:pt x="620" y="3"/>
                </a:lnTo>
                <a:lnTo>
                  <a:pt x="617" y="3"/>
                </a:lnTo>
                <a:lnTo>
                  <a:pt x="617" y="0"/>
                </a:lnTo>
                <a:lnTo>
                  <a:pt x="615" y="0"/>
                </a:lnTo>
                <a:lnTo>
                  <a:pt x="6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93880" y="4727520"/>
            <a:ext cx="511200" cy="15840"/>
          </a:xfrm>
          <a:custGeom>
            <a:avLst/>
            <a:gdLst/>
            <a:ahLst/>
            <a:rect l="l" t="t" r="r" b="b"/>
            <a:pathLst>
              <a:path w="322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320" y="10"/>
                </a:lnTo>
                <a:lnTo>
                  <a:pt x="320" y="8"/>
                </a:lnTo>
                <a:lnTo>
                  <a:pt x="322" y="8"/>
                </a:lnTo>
                <a:lnTo>
                  <a:pt x="322" y="2"/>
                </a:lnTo>
                <a:lnTo>
                  <a:pt x="320" y="2"/>
                </a:lnTo>
                <a:lnTo>
                  <a:pt x="320" y="0"/>
                </a:lnTo>
                <a:lnTo>
                  <a:pt x="317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984400" y="4419720"/>
            <a:ext cx="212760" cy="17280"/>
          </a:xfrm>
          <a:custGeom>
            <a:avLst/>
            <a:gdLst/>
            <a:ahLst/>
            <a:rect l="l" t="t" r="r" b="b"/>
            <a:pathLst>
              <a:path w="134" h="11">
                <a:moveTo>
                  <a:pt x="5" y="0"/>
                </a:move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8"/>
                </a:lnTo>
                <a:lnTo>
                  <a:pt x="3" y="8"/>
                </a:lnTo>
                <a:lnTo>
                  <a:pt x="3" y="11"/>
                </a:lnTo>
                <a:lnTo>
                  <a:pt x="132" y="11"/>
                </a:lnTo>
                <a:lnTo>
                  <a:pt x="132" y="8"/>
                </a:lnTo>
                <a:lnTo>
                  <a:pt x="134" y="8"/>
                </a:lnTo>
                <a:lnTo>
                  <a:pt x="134" y="3"/>
                </a:lnTo>
                <a:lnTo>
                  <a:pt x="132" y="3"/>
                </a:lnTo>
                <a:lnTo>
                  <a:pt x="132" y="0"/>
                </a:lnTo>
                <a:lnTo>
                  <a:pt x="12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95680" y="5087880"/>
            <a:ext cx="912960" cy="20520"/>
          </a:xfrm>
          <a:custGeom>
            <a:avLst/>
            <a:gdLst/>
            <a:ahLst/>
            <a:rect l="l" t="t" r="r" b="b"/>
            <a:pathLst>
              <a:path w="575" h="13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5" y="10"/>
                </a:lnTo>
                <a:lnTo>
                  <a:pt x="570" y="13"/>
                </a:lnTo>
                <a:lnTo>
                  <a:pt x="573" y="13"/>
                </a:lnTo>
                <a:lnTo>
                  <a:pt x="573" y="10"/>
                </a:lnTo>
                <a:lnTo>
                  <a:pt x="575" y="10"/>
                </a:lnTo>
                <a:lnTo>
                  <a:pt x="575" y="5"/>
                </a:lnTo>
                <a:lnTo>
                  <a:pt x="573" y="5"/>
                </a:lnTo>
                <a:lnTo>
                  <a:pt x="573" y="3"/>
                </a:lnTo>
                <a:lnTo>
                  <a:pt x="570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94120" y="4199040"/>
            <a:ext cx="1274760" cy="12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1520" y="4186080"/>
            <a:ext cx="1295280" cy="1266840"/>
          </a:xfrm>
          <a:custGeom>
            <a:avLst/>
            <a:gdLst/>
            <a:ahLst/>
            <a:rect l="l" t="t" r="r" b="b"/>
            <a:pathLst>
              <a:path w="816" h="798">
                <a:moveTo>
                  <a:pt x="8" y="0"/>
                </a:moveTo>
                <a:lnTo>
                  <a:pt x="5" y="0"/>
                </a:lnTo>
                <a:lnTo>
                  <a:pt x="0" y="5"/>
                </a:lnTo>
                <a:lnTo>
                  <a:pt x="0" y="795"/>
                </a:lnTo>
                <a:lnTo>
                  <a:pt x="3" y="795"/>
                </a:lnTo>
                <a:lnTo>
                  <a:pt x="5" y="798"/>
                </a:lnTo>
                <a:lnTo>
                  <a:pt x="813" y="798"/>
                </a:lnTo>
                <a:lnTo>
                  <a:pt x="813" y="795"/>
                </a:lnTo>
                <a:lnTo>
                  <a:pt x="816" y="795"/>
                </a:lnTo>
                <a:lnTo>
                  <a:pt x="816" y="5"/>
                </a:lnTo>
                <a:lnTo>
                  <a:pt x="813" y="3"/>
                </a:lnTo>
                <a:lnTo>
                  <a:pt x="813" y="0"/>
                </a:lnTo>
                <a:lnTo>
                  <a:pt x="808" y="0"/>
                </a:lnTo>
                <a:lnTo>
                  <a:pt x="8" y="0"/>
                </a:lnTo>
                <a:lnTo>
                  <a:pt x="8" y="16"/>
                </a:lnTo>
                <a:lnTo>
                  <a:pt x="808" y="16"/>
                </a:lnTo>
                <a:lnTo>
                  <a:pt x="800" y="8"/>
                </a:lnTo>
                <a:lnTo>
                  <a:pt x="800" y="790"/>
                </a:lnTo>
                <a:lnTo>
                  <a:pt x="808" y="782"/>
                </a:lnTo>
                <a:lnTo>
                  <a:pt x="8" y="782"/>
                </a:lnTo>
                <a:lnTo>
                  <a:pt x="16" y="790"/>
                </a:lnTo>
                <a:lnTo>
                  <a:pt x="16" y="8"/>
                </a:lnTo>
                <a:lnTo>
                  <a:pt x="8" y="16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10760" y="4498920"/>
            <a:ext cx="1378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58640" y="4498920"/>
            <a:ext cx="1378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58640" y="5032440"/>
            <a:ext cx="1378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48120" y="4997520"/>
            <a:ext cx="11736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7" y="3"/>
                </a:moveTo>
                <a:lnTo>
                  <a:pt x="7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8"/>
                </a:lnTo>
                <a:lnTo>
                  <a:pt x="2" y="8"/>
                </a:lnTo>
                <a:lnTo>
                  <a:pt x="67" y="70"/>
                </a:lnTo>
                <a:lnTo>
                  <a:pt x="67" y="73"/>
                </a:lnTo>
                <a:lnTo>
                  <a:pt x="72" y="73"/>
                </a:lnTo>
                <a:lnTo>
                  <a:pt x="72" y="70"/>
                </a:lnTo>
                <a:lnTo>
                  <a:pt x="74" y="70"/>
                </a:lnTo>
                <a:lnTo>
                  <a:pt x="74" y="65"/>
                </a:lnTo>
                <a:lnTo>
                  <a:pt x="72" y="65"/>
                </a:lnTo>
                <a:lnTo>
                  <a:pt x="7" y="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48120" y="5100480"/>
            <a:ext cx="114120" cy="114480"/>
          </a:xfrm>
          <a:custGeom>
            <a:avLst/>
            <a:gdLst/>
            <a:ahLst/>
            <a:rect l="l" t="t" r="r" b="b"/>
            <a:pathLst>
              <a:path w="72" h="72">
                <a:moveTo>
                  <a:pt x="2" y="64"/>
                </a:moveTo>
                <a:lnTo>
                  <a:pt x="0" y="64"/>
                </a:lnTo>
                <a:lnTo>
                  <a:pt x="0" y="70"/>
                </a:lnTo>
                <a:lnTo>
                  <a:pt x="2" y="70"/>
                </a:lnTo>
                <a:lnTo>
                  <a:pt x="2" y="72"/>
                </a:lnTo>
                <a:lnTo>
                  <a:pt x="7" y="72"/>
                </a:lnTo>
                <a:lnTo>
                  <a:pt x="7" y="70"/>
                </a:lnTo>
                <a:lnTo>
                  <a:pt x="69" y="8"/>
                </a:lnTo>
                <a:lnTo>
                  <a:pt x="72" y="8"/>
                </a:lnTo>
                <a:lnTo>
                  <a:pt x="72" y="2"/>
                </a:lnTo>
                <a:lnTo>
                  <a:pt x="69" y="2"/>
                </a:lnTo>
                <a:lnTo>
                  <a:pt x="69" y="0"/>
                </a:lnTo>
                <a:lnTo>
                  <a:pt x="64" y="0"/>
                </a:lnTo>
                <a:lnTo>
                  <a:pt x="64" y="2"/>
                </a:lnTo>
                <a:lnTo>
                  <a:pt x="2" y="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84400" y="3882960"/>
            <a:ext cx="2557440" cy="717480"/>
          </a:xfrm>
          <a:custGeom>
            <a:avLst/>
            <a:gdLst/>
            <a:ahLst/>
            <a:rect l="l" t="t" r="r" b="b"/>
            <a:pathLst>
              <a:path w="1611" h="452">
                <a:moveTo>
                  <a:pt x="1611" y="442"/>
                </a:moveTo>
                <a:lnTo>
                  <a:pt x="1611" y="439"/>
                </a:lnTo>
                <a:lnTo>
                  <a:pt x="1608" y="439"/>
                </a:lnTo>
                <a:lnTo>
                  <a:pt x="1608" y="436"/>
                </a:lnTo>
                <a:lnTo>
                  <a:pt x="1603" y="436"/>
                </a:lnTo>
                <a:lnTo>
                  <a:pt x="1603" y="439"/>
                </a:lnTo>
                <a:lnTo>
                  <a:pt x="1600" y="439"/>
                </a:lnTo>
                <a:lnTo>
                  <a:pt x="1600" y="447"/>
                </a:lnTo>
                <a:lnTo>
                  <a:pt x="1611" y="447"/>
                </a:lnTo>
                <a:lnTo>
                  <a:pt x="1611" y="3"/>
                </a:lnTo>
                <a:lnTo>
                  <a:pt x="1608" y="3"/>
                </a:lnTo>
                <a:lnTo>
                  <a:pt x="1608" y="0"/>
                </a:ln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351"/>
                </a:lnTo>
                <a:lnTo>
                  <a:pt x="3" y="351"/>
                </a:lnTo>
                <a:lnTo>
                  <a:pt x="3" y="354"/>
                </a:lnTo>
                <a:lnTo>
                  <a:pt x="8" y="354"/>
                </a:lnTo>
                <a:lnTo>
                  <a:pt x="8" y="351"/>
                </a:lnTo>
                <a:lnTo>
                  <a:pt x="10" y="351"/>
                </a:lnTo>
                <a:lnTo>
                  <a:pt x="10" y="349"/>
                </a:lnTo>
                <a:lnTo>
                  <a:pt x="10" y="5"/>
                </a:lnTo>
                <a:lnTo>
                  <a:pt x="5" y="10"/>
                </a:lnTo>
                <a:lnTo>
                  <a:pt x="1606" y="10"/>
                </a:lnTo>
                <a:lnTo>
                  <a:pt x="1600" y="5"/>
                </a:lnTo>
                <a:lnTo>
                  <a:pt x="1600" y="447"/>
                </a:lnTo>
                <a:lnTo>
                  <a:pt x="1600" y="449"/>
                </a:lnTo>
                <a:lnTo>
                  <a:pt x="1603" y="449"/>
                </a:lnTo>
                <a:lnTo>
                  <a:pt x="1603" y="452"/>
                </a:lnTo>
                <a:lnTo>
                  <a:pt x="1606" y="452"/>
                </a:lnTo>
                <a:lnTo>
                  <a:pt x="1608" y="452"/>
                </a:lnTo>
                <a:lnTo>
                  <a:pt x="1608" y="449"/>
                </a:lnTo>
                <a:lnTo>
                  <a:pt x="1611" y="449"/>
                </a:lnTo>
                <a:lnTo>
                  <a:pt x="1611" y="447"/>
                </a:lnTo>
                <a:lnTo>
                  <a:pt x="1611" y="44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76800" y="5005440"/>
            <a:ext cx="189000" cy="1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168880" y="4997520"/>
            <a:ext cx="200160" cy="201600"/>
          </a:xfrm>
          <a:custGeom>
            <a:avLst/>
            <a:gdLst/>
            <a:ahLst/>
            <a:rect l="l" t="t" r="r" b="b"/>
            <a:pathLst>
              <a:path w="126" h="127">
                <a:moveTo>
                  <a:pt x="0" y="62"/>
                </a:moveTo>
                <a:lnTo>
                  <a:pt x="0" y="78"/>
                </a:lnTo>
                <a:lnTo>
                  <a:pt x="2" y="80"/>
                </a:lnTo>
                <a:lnTo>
                  <a:pt x="2" y="88"/>
                </a:lnTo>
                <a:lnTo>
                  <a:pt x="5" y="91"/>
                </a:lnTo>
                <a:lnTo>
                  <a:pt x="5" y="93"/>
                </a:lnTo>
                <a:lnTo>
                  <a:pt x="13" y="101"/>
                </a:lnTo>
                <a:lnTo>
                  <a:pt x="13" y="104"/>
                </a:lnTo>
                <a:lnTo>
                  <a:pt x="20" y="111"/>
                </a:lnTo>
                <a:lnTo>
                  <a:pt x="23" y="109"/>
                </a:lnTo>
                <a:lnTo>
                  <a:pt x="20" y="111"/>
                </a:lnTo>
                <a:lnTo>
                  <a:pt x="26" y="116"/>
                </a:lnTo>
                <a:lnTo>
                  <a:pt x="28" y="116"/>
                </a:lnTo>
                <a:lnTo>
                  <a:pt x="31" y="119"/>
                </a:lnTo>
                <a:lnTo>
                  <a:pt x="33" y="119"/>
                </a:lnTo>
                <a:lnTo>
                  <a:pt x="36" y="122"/>
                </a:lnTo>
                <a:lnTo>
                  <a:pt x="41" y="122"/>
                </a:lnTo>
                <a:lnTo>
                  <a:pt x="44" y="124"/>
                </a:lnTo>
                <a:lnTo>
                  <a:pt x="57" y="124"/>
                </a:lnTo>
                <a:lnTo>
                  <a:pt x="59" y="127"/>
                </a:lnTo>
                <a:lnTo>
                  <a:pt x="64" y="124"/>
                </a:lnTo>
                <a:lnTo>
                  <a:pt x="77" y="124"/>
                </a:lnTo>
                <a:lnTo>
                  <a:pt x="80" y="122"/>
                </a:lnTo>
                <a:lnTo>
                  <a:pt x="88" y="122"/>
                </a:lnTo>
                <a:lnTo>
                  <a:pt x="90" y="119"/>
                </a:lnTo>
                <a:lnTo>
                  <a:pt x="93" y="119"/>
                </a:lnTo>
                <a:lnTo>
                  <a:pt x="100" y="111"/>
                </a:lnTo>
                <a:lnTo>
                  <a:pt x="103" y="111"/>
                </a:lnTo>
                <a:lnTo>
                  <a:pt x="111" y="104"/>
                </a:lnTo>
                <a:lnTo>
                  <a:pt x="111" y="101"/>
                </a:lnTo>
                <a:lnTo>
                  <a:pt x="119" y="93"/>
                </a:lnTo>
                <a:lnTo>
                  <a:pt x="119" y="91"/>
                </a:lnTo>
                <a:lnTo>
                  <a:pt x="121" y="88"/>
                </a:lnTo>
                <a:lnTo>
                  <a:pt x="121" y="80"/>
                </a:lnTo>
                <a:lnTo>
                  <a:pt x="124" y="78"/>
                </a:lnTo>
                <a:lnTo>
                  <a:pt x="124" y="65"/>
                </a:lnTo>
                <a:lnTo>
                  <a:pt x="126" y="60"/>
                </a:lnTo>
                <a:lnTo>
                  <a:pt x="124" y="57"/>
                </a:lnTo>
                <a:lnTo>
                  <a:pt x="124" y="44"/>
                </a:lnTo>
                <a:lnTo>
                  <a:pt x="121" y="42"/>
                </a:lnTo>
                <a:lnTo>
                  <a:pt x="121" y="36"/>
                </a:lnTo>
                <a:lnTo>
                  <a:pt x="119" y="34"/>
                </a:lnTo>
                <a:lnTo>
                  <a:pt x="119" y="31"/>
                </a:lnTo>
                <a:lnTo>
                  <a:pt x="116" y="29"/>
                </a:lnTo>
                <a:lnTo>
                  <a:pt x="116" y="26"/>
                </a:lnTo>
                <a:lnTo>
                  <a:pt x="111" y="21"/>
                </a:lnTo>
                <a:lnTo>
                  <a:pt x="108" y="24"/>
                </a:lnTo>
                <a:lnTo>
                  <a:pt x="111" y="21"/>
                </a:lnTo>
                <a:lnTo>
                  <a:pt x="103" y="13"/>
                </a:lnTo>
                <a:lnTo>
                  <a:pt x="100" y="13"/>
                </a:lnTo>
                <a:lnTo>
                  <a:pt x="93" y="5"/>
                </a:lnTo>
                <a:lnTo>
                  <a:pt x="90" y="5"/>
                </a:lnTo>
                <a:lnTo>
                  <a:pt x="88" y="3"/>
                </a:lnTo>
                <a:lnTo>
                  <a:pt x="80" y="3"/>
                </a:lnTo>
                <a:lnTo>
                  <a:pt x="77" y="0"/>
                </a:lnTo>
                <a:lnTo>
                  <a:pt x="44" y="0"/>
                </a:lnTo>
                <a:lnTo>
                  <a:pt x="41" y="3"/>
                </a:lnTo>
                <a:lnTo>
                  <a:pt x="36" y="3"/>
                </a:lnTo>
                <a:lnTo>
                  <a:pt x="33" y="5"/>
                </a:lnTo>
                <a:lnTo>
                  <a:pt x="31" y="5"/>
                </a:lnTo>
                <a:lnTo>
                  <a:pt x="28" y="8"/>
                </a:lnTo>
                <a:lnTo>
                  <a:pt x="26" y="8"/>
                </a:lnTo>
                <a:lnTo>
                  <a:pt x="20" y="13"/>
                </a:lnTo>
                <a:lnTo>
                  <a:pt x="23" y="16"/>
                </a:lnTo>
                <a:lnTo>
                  <a:pt x="20" y="13"/>
                </a:lnTo>
                <a:lnTo>
                  <a:pt x="13" y="21"/>
                </a:lnTo>
                <a:lnTo>
                  <a:pt x="15" y="24"/>
                </a:lnTo>
                <a:lnTo>
                  <a:pt x="13" y="21"/>
                </a:lnTo>
                <a:lnTo>
                  <a:pt x="8" y="26"/>
                </a:lnTo>
                <a:lnTo>
                  <a:pt x="8" y="29"/>
                </a:lnTo>
                <a:lnTo>
                  <a:pt x="5" y="31"/>
                </a:lnTo>
                <a:lnTo>
                  <a:pt x="5" y="34"/>
                </a:lnTo>
                <a:lnTo>
                  <a:pt x="2" y="36"/>
                </a:lnTo>
                <a:lnTo>
                  <a:pt x="2" y="42"/>
                </a:lnTo>
                <a:lnTo>
                  <a:pt x="0" y="44"/>
                </a:lnTo>
                <a:lnTo>
                  <a:pt x="0" y="62"/>
                </a:lnTo>
                <a:lnTo>
                  <a:pt x="10" y="62"/>
                </a:lnTo>
                <a:lnTo>
                  <a:pt x="10" y="49"/>
                </a:lnTo>
                <a:lnTo>
                  <a:pt x="13" y="47"/>
                </a:lnTo>
                <a:lnTo>
                  <a:pt x="13" y="42"/>
                </a:lnTo>
                <a:lnTo>
                  <a:pt x="15" y="39"/>
                </a:lnTo>
                <a:lnTo>
                  <a:pt x="15" y="36"/>
                </a:lnTo>
                <a:lnTo>
                  <a:pt x="18" y="34"/>
                </a:lnTo>
                <a:lnTo>
                  <a:pt x="18" y="31"/>
                </a:lnTo>
                <a:lnTo>
                  <a:pt x="20" y="29"/>
                </a:lnTo>
                <a:lnTo>
                  <a:pt x="23" y="26"/>
                </a:lnTo>
                <a:lnTo>
                  <a:pt x="26" y="24"/>
                </a:lnTo>
                <a:lnTo>
                  <a:pt x="28" y="21"/>
                </a:lnTo>
                <a:lnTo>
                  <a:pt x="31" y="18"/>
                </a:lnTo>
                <a:lnTo>
                  <a:pt x="33" y="18"/>
                </a:lnTo>
                <a:lnTo>
                  <a:pt x="36" y="16"/>
                </a:lnTo>
                <a:lnTo>
                  <a:pt x="38" y="16"/>
                </a:lnTo>
                <a:lnTo>
                  <a:pt x="41" y="13"/>
                </a:lnTo>
                <a:lnTo>
                  <a:pt x="46" y="13"/>
                </a:lnTo>
                <a:lnTo>
                  <a:pt x="49" y="11"/>
                </a:lnTo>
                <a:lnTo>
                  <a:pt x="62" y="11"/>
                </a:lnTo>
                <a:lnTo>
                  <a:pt x="72" y="11"/>
                </a:lnTo>
                <a:lnTo>
                  <a:pt x="75" y="13"/>
                </a:lnTo>
                <a:lnTo>
                  <a:pt x="82" y="13"/>
                </a:lnTo>
                <a:lnTo>
                  <a:pt x="85" y="16"/>
                </a:lnTo>
                <a:lnTo>
                  <a:pt x="88" y="16"/>
                </a:lnTo>
                <a:lnTo>
                  <a:pt x="95" y="24"/>
                </a:lnTo>
                <a:lnTo>
                  <a:pt x="98" y="24"/>
                </a:lnTo>
                <a:lnTo>
                  <a:pt x="100" y="26"/>
                </a:lnTo>
                <a:lnTo>
                  <a:pt x="103" y="29"/>
                </a:lnTo>
                <a:lnTo>
                  <a:pt x="106" y="31"/>
                </a:lnTo>
                <a:lnTo>
                  <a:pt x="106" y="34"/>
                </a:lnTo>
                <a:lnTo>
                  <a:pt x="108" y="36"/>
                </a:lnTo>
                <a:lnTo>
                  <a:pt x="108" y="39"/>
                </a:lnTo>
                <a:lnTo>
                  <a:pt x="111" y="42"/>
                </a:lnTo>
                <a:lnTo>
                  <a:pt x="111" y="47"/>
                </a:lnTo>
                <a:lnTo>
                  <a:pt x="113" y="49"/>
                </a:lnTo>
                <a:lnTo>
                  <a:pt x="113" y="57"/>
                </a:lnTo>
                <a:lnTo>
                  <a:pt x="116" y="65"/>
                </a:lnTo>
                <a:lnTo>
                  <a:pt x="119" y="60"/>
                </a:lnTo>
                <a:lnTo>
                  <a:pt x="113" y="62"/>
                </a:lnTo>
                <a:lnTo>
                  <a:pt x="113" y="73"/>
                </a:lnTo>
                <a:lnTo>
                  <a:pt x="111" y="75"/>
                </a:lnTo>
                <a:lnTo>
                  <a:pt x="111" y="83"/>
                </a:lnTo>
                <a:lnTo>
                  <a:pt x="108" y="85"/>
                </a:lnTo>
                <a:lnTo>
                  <a:pt x="108" y="88"/>
                </a:lnTo>
                <a:lnTo>
                  <a:pt x="100" y="96"/>
                </a:lnTo>
                <a:lnTo>
                  <a:pt x="100" y="98"/>
                </a:lnTo>
                <a:lnTo>
                  <a:pt x="98" y="101"/>
                </a:lnTo>
                <a:lnTo>
                  <a:pt x="95" y="101"/>
                </a:lnTo>
                <a:lnTo>
                  <a:pt x="88" y="109"/>
                </a:lnTo>
                <a:lnTo>
                  <a:pt x="85" y="109"/>
                </a:lnTo>
                <a:lnTo>
                  <a:pt x="82" y="111"/>
                </a:lnTo>
                <a:lnTo>
                  <a:pt x="75" y="111"/>
                </a:lnTo>
                <a:lnTo>
                  <a:pt x="72" y="114"/>
                </a:lnTo>
                <a:lnTo>
                  <a:pt x="62" y="114"/>
                </a:lnTo>
                <a:lnTo>
                  <a:pt x="59" y="119"/>
                </a:lnTo>
                <a:lnTo>
                  <a:pt x="64" y="116"/>
                </a:lnTo>
                <a:lnTo>
                  <a:pt x="57" y="114"/>
                </a:lnTo>
                <a:lnTo>
                  <a:pt x="49" y="114"/>
                </a:lnTo>
                <a:lnTo>
                  <a:pt x="46" y="111"/>
                </a:lnTo>
                <a:lnTo>
                  <a:pt x="41" y="111"/>
                </a:lnTo>
                <a:lnTo>
                  <a:pt x="38" y="109"/>
                </a:lnTo>
                <a:lnTo>
                  <a:pt x="36" y="109"/>
                </a:lnTo>
                <a:lnTo>
                  <a:pt x="33" y="106"/>
                </a:lnTo>
                <a:lnTo>
                  <a:pt x="31" y="106"/>
                </a:lnTo>
                <a:lnTo>
                  <a:pt x="28" y="104"/>
                </a:lnTo>
                <a:lnTo>
                  <a:pt x="26" y="101"/>
                </a:lnTo>
                <a:lnTo>
                  <a:pt x="23" y="98"/>
                </a:lnTo>
                <a:lnTo>
                  <a:pt x="23" y="96"/>
                </a:lnTo>
                <a:lnTo>
                  <a:pt x="15" y="88"/>
                </a:lnTo>
                <a:lnTo>
                  <a:pt x="15" y="85"/>
                </a:lnTo>
                <a:lnTo>
                  <a:pt x="13" y="83"/>
                </a:lnTo>
                <a:lnTo>
                  <a:pt x="13" y="75"/>
                </a:lnTo>
                <a:lnTo>
                  <a:pt x="10" y="73"/>
                </a:lnTo>
                <a:lnTo>
                  <a:pt x="1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39800" y="5911920"/>
            <a:ext cx="41220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95680" y="5087880"/>
            <a:ext cx="15840" cy="754200"/>
          </a:xfrm>
          <a:custGeom>
            <a:avLst/>
            <a:gdLst/>
            <a:ahLst/>
            <a:rect l="l" t="t" r="r" b="b"/>
            <a:pathLst>
              <a:path w="10" h="475">
                <a:moveTo>
                  <a:pt x="0" y="470"/>
                </a:moveTo>
                <a:lnTo>
                  <a:pt x="0" y="473"/>
                </a:lnTo>
                <a:lnTo>
                  <a:pt x="2" y="473"/>
                </a:lnTo>
                <a:lnTo>
                  <a:pt x="2" y="475"/>
                </a:lnTo>
                <a:lnTo>
                  <a:pt x="7" y="475"/>
                </a:lnTo>
                <a:lnTo>
                  <a:pt x="7" y="473"/>
                </a:lnTo>
                <a:lnTo>
                  <a:pt x="10" y="473"/>
                </a:lnTo>
                <a:lnTo>
                  <a:pt x="10" y="3"/>
                </a:lnTo>
                <a:lnTo>
                  <a:pt x="7" y="3"/>
                </a:lnTo>
                <a:lnTo>
                  <a:pt x="7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47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67000" y="4354560"/>
            <a:ext cx="611280" cy="484200"/>
          </a:xfrm>
          <a:custGeom>
            <a:avLst/>
            <a:gdLst/>
            <a:ahLst/>
            <a:rect l="l" t="t" r="r" b="b"/>
            <a:pathLst>
              <a:path w="385" h="305">
                <a:moveTo>
                  <a:pt x="0" y="0"/>
                </a:moveTo>
                <a:lnTo>
                  <a:pt x="114" y="0"/>
                </a:lnTo>
                <a:lnTo>
                  <a:pt x="121" y="3"/>
                </a:lnTo>
                <a:lnTo>
                  <a:pt x="129" y="3"/>
                </a:lnTo>
                <a:lnTo>
                  <a:pt x="139" y="5"/>
                </a:lnTo>
                <a:lnTo>
                  <a:pt x="147" y="5"/>
                </a:lnTo>
                <a:lnTo>
                  <a:pt x="158" y="8"/>
                </a:lnTo>
                <a:lnTo>
                  <a:pt x="168" y="8"/>
                </a:lnTo>
                <a:lnTo>
                  <a:pt x="178" y="10"/>
                </a:lnTo>
                <a:lnTo>
                  <a:pt x="191" y="13"/>
                </a:lnTo>
                <a:lnTo>
                  <a:pt x="201" y="15"/>
                </a:lnTo>
                <a:lnTo>
                  <a:pt x="214" y="18"/>
                </a:lnTo>
                <a:lnTo>
                  <a:pt x="225" y="21"/>
                </a:lnTo>
                <a:lnTo>
                  <a:pt x="240" y="26"/>
                </a:lnTo>
                <a:lnTo>
                  <a:pt x="250" y="31"/>
                </a:lnTo>
                <a:lnTo>
                  <a:pt x="261" y="36"/>
                </a:lnTo>
                <a:lnTo>
                  <a:pt x="276" y="41"/>
                </a:lnTo>
                <a:lnTo>
                  <a:pt x="289" y="49"/>
                </a:lnTo>
                <a:lnTo>
                  <a:pt x="299" y="57"/>
                </a:lnTo>
                <a:lnTo>
                  <a:pt x="310" y="62"/>
                </a:lnTo>
                <a:lnTo>
                  <a:pt x="323" y="70"/>
                </a:lnTo>
                <a:lnTo>
                  <a:pt x="333" y="80"/>
                </a:lnTo>
                <a:lnTo>
                  <a:pt x="343" y="90"/>
                </a:lnTo>
                <a:lnTo>
                  <a:pt x="354" y="101"/>
                </a:lnTo>
                <a:lnTo>
                  <a:pt x="361" y="114"/>
                </a:lnTo>
                <a:lnTo>
                  <a:pt x="369" y="124"/>
                </a:lnTo>
                <a:lnTo>
                  <a:pt x="377" y="139"/>
                </a:lnTo>
                <a:lnTo>
                  <a:pt x="385" y="152"/>
                </a:lnTo>
                <a:lnTo>
                  <a:pt x="377" y="165"/>
                </a:lnTo>
                <a:lnTo>
                  <a:pt x="369" y="181"/>
                </a:lnTo>
                <a:lnTo>
                  <a:pt x="361" y="194"/>
                </a:lnTo>
                <a:lnTo>
                  <a:pt x="354" y="204"/>
                </a:lnTo>
                <a:lnTo>
                  <a:pt x="343" y="214"/>
                </a:lnTo>
                <a:lnTo>
                  <a:pt x="333" y="225"/>
                </a:lnTo>
                <a:lnTo>
                  <a:pt x="323" y="235"/>
                </a:lnTo>
                <a:lnTo>
                  <a:pt x="310" y="243"/>
                </a:lnTo>
                <a:lnTo>
                  <a:pt x="299" y="248"/>
                </a:lnTo>
                <a:lnTo>
                  <a:pt x="289" y="256"/>
                </a:lnTo>
                <a:lnTo>
                  <a:pt x="276" y="263"/>
                </a:lnTo>
                <a:lnTo>
                  <a:pt x="261" y="268"/>
                </a:lnTo>
                <a:lnTo>
                  <a:pt x="250" y="276"/>
                </a:lnTo>
                <a:lnTo>
                  <a:pt x="240" y="281"/>
                </a:lnTo>
                <a:lnTo>
                  <a:pt x="225" y="281"/>
                </a:lnTo>
                <a:lnTo>
                  <a:pt x="214" y="287"/>
                </a:lnTo>
                <a:lnTo>
                  <a:pt x="201" y="289"/>
                </a:lnTo>
                <a:lnTo>
                  <a:pt x="191" y="292"/>
                </a:lnTo>
                <a:lnTo>
                  <a:pt x="178" y="294"/>
                </a:lnTo>
                <a:lnTo>
                  <a:pt x="168" y="297"/>
                </a:lnTo>
                <a:lnTo>
                  <a:pt x="158" y="299"/>
                </a:lnTo>
                <a:lnTo>
                  <a:pt x="147" y="299"/>
                </a:lnTo>
                <a:lnTo>
                  <a:pt x="139" y="302"/>
                </a:lnTo>
                <a:lnTo>
                  <a:pt x="129" y="302"/>
                </a:lnTo>
                <a:lnTo>
                  <a:pt x="121" y="302"/>
                </a:lnTo>
                <a:lnTo>
                  <a:pt x="114" y="305"/>
                </a:lnTo>
                <a:lnTo>
                  <a:pt x="0" y="305"/>
                </a:lnTo>
                <a:lnTo>
                  <a:pt x="0" y="302"/>
                </a:lnTo>
                <a:lnTo>
                  <a:pt x="3" y="302"/>
                </a:lnTo>
                <a:lnTo>
                  <a:pt x="3" y="299"/>
                </a:lnTo>
                <a:lnTo>
                  <a:pt x="3" y="297"/>
                </a:lnTo>
                <a:lnTo>
                  <a:pt x="3" y="294"/>
                </a:lnTo>
                <a:lnTo>
                  <a:pt x="5" y="292"/>
                </a:lnTo>
                <a:lnTo>
                  <a:pt x="5" y="289"/>
                </a:lnTo>
                <a:lnTo>
                  <a:pt x="5" y="284"/>
                </a:lnTo>
                <a:lnTo>
                  <a:pt x="5" y="281"/>
                </a:lnTo>
                <a:lnTo>
                  <a:pt x="8" y="281"/>
                </a:lnTo>
                <a:lnTo>
                  <a:pt x="8" y="276"/>
                </a:lnTo>
                <a:lnTo>
                  <a:pt x="8" y="271"/>
                </a:lnTo>
                <a:lnTo>
                  <a:pt x="10" y="266"/>
                </a:lnTo>
                <a:lnTo>
                  <a:pt x="13" y="263"/>
                </a:lnTo>
                <a:lnTo>
                  <a:pt x="13" y="256"/>
                </a:lnTo>
                <a:lnTo>
                  <a:pt x="13" y="250"/>
                </a:lnTo>
                <a:lnTo>
                  <a:pt x="16" y="245"/>
                </a:lnTo>
                <a:lnTo>
                  <a:pt x="16" y="240"/>
                </a:lnTo>
                <a:lnTo>
                  <a:pt x="16" y="235"/>
                </a:lnTo>
                <a:lnTo>
                  <a:pt x="16" y="227"/>
                </a:lnTo>
                <a:lnTo>
                  <a:pt x="18" y="219"/>
                </a:lnTo>
                <a:lnTo>
                  <a:pt x="18" y="212"/>
                </a:lnTo>
                <a:lnTo>
                  <a:pt x="21" y="204"/>
                </a:lnTo>
                <a:lnTo>
                  <a:pt x="21" y="188"/>
                </a:lnTo>
                <a:lnTo>
                  <a:pt x="21" y="181"/>
                </a:lnTo>
                <a:lnTo>
                  <a:pt x="21" y="126"/>
                </a:lnTo>
                <a:lnTo>
                  <a:pt x="21" y="116"/>
                </a:lnTo>
                <a:lnTo>
                  <a:pt x="21" y="101"/>
                </a:lnTo>
                <a:lnTo>
                  <a:pt x="18" y="93"/>
                </a:lnTo>
                <a:lnTo>
                  <a:pt x="18" y="88"/>
                </a:lnTo>
                <a:lnTo>
                  <a:pt x="16" y="80"/>
                </a:lnTo>
                <a:lnTo>
                  <a:pt x="16" y="72"/>
                </a:lnTo>
                <a:lnTo>
                  <a:pt x="16" y="64"/>
                </a:lnTo>
                <a:lnTo>
                  <a:pt x="16" y="62"/>
                </a:lnTo>
                <a:lnTo>
                  <a:pt x="13" y="54"/>
                </a:lnTo>
                <a:lnTo>
                  <a:pt x="13" y="49"/>
                </a:lnTo>
                <a:lnTo>
                  <a:pt x="13" y="44"/>
                </a:lnTo>
                <a:lnTo>
                  <a:pt x="10" y="39"/>
                </a:lnTo>
                <a:lnTo>
                  <a:pt x="8" y="33"/>
                </a:lnTo>
                <a:lnTo>
                  <a:pt x="8" y="31"/>
                </a:lnTo>
                <a:lnTo>
                  <a:pt x="8" y="26"/>
                </a:lnTo>
                <a:lnTo>
                  <a:pt x="5" y="21"/>
                </a:lnTo>
                <a:lnTo>
                  <a:pt x="5" y="18"/>
                </a:lnTo>
                <a:lnTo>
                  <a:pt x="5" y="15"/>
                </a:lnTo>
                <a:lnTo>
                  <a:pt x="3" y="10"/>
                </a:lnTo>
                <a:lnTo>
                  <a:pt x="3" y="8"/>
                </a:lnTo>
                <a:lnTo>
                  <a:pt x="3" y="5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59080" y="4346640"/>
            <a:ext cx="627120" cy="500040"/>
          </a:xfrm>
          <a:custGeom>
            <a:avLst/>
            <a:gdLst/>
            <a:ahLst/>
            <a:rect l="l" t="t" r="r" b="b"/>
            <a:pathLst>
              <a:path w="395" h="315">
                <a:moveTo>
                  <a:pt x="10" y="5"/>
                </a:moveTo>
                <a:lnTo>
                  <a:pt x="5" y="10"/>
                </a:lnTo>
                <a:lnTo>
                  <a:pt x="119" y="10"/>
                </a:lnTo>
                <a:lnTo>
                  <a:pt x="116" y="10"/>
                </a:lnTo>
                <a:lnTo>
                  <a:pt x="124" y="13"/>
                </a:lnTo>
                <a:lnTo>
                  <a:pt x="134" y="13"/>
                </a:lnTo>
                <a:lnTo>
                  <a:pt x="144" y="15"/>
                </a:lnTo>
                <a:lnTo>
                  <a:pt x="152" y="15"/>
                </a:lnTo>
                <a:lnTo>
                  <a:pt x="163" y="18"/>
                </a:lnTo>
                <a:lnTo>
                  <a:pt x="173" y="18"/>
                </a:lnTo>
                <a:lnTo>
                  <a:pt x="183" y="20"/>
                </a:lnTo>
                <a:lnTo>
                  <a:pt x="196" y="23"/>
                </a:lnTo>
                <a:lnTo>
                  <a:pt x="206" y="26"/>
                </a:lnTo>
                <a:lnTo>
                  <a:pt x="219" y="28"/>
                </a:lnTo>
                <a:lnTo>
                  <a:pt x="230" y="31"/>
                </a:lnTo>
                <a:lnTo>
                  <a:pt x="227" y="31"/>
                </a:lnTo>
                <a:lnTo>
                  <a:pt x="243" y="36"/>
                </a:lnTo>
                <a:lnTo>
                  <a:pt x="263" y="46"/>
                </a:lnTo>
                <a:lnTo>
                  <a:pt x="279" y="51"/>
                </a:lnTo>
                <a:lnTo>
                  <a:pt x="292" y="59"/>
                </a:lnTo>
                <a:lnTo>
                  <a:pt x="302" y="67"/>
                </a:lnTo>
                <a:lnTo>
                  <a:pt x="312" y="72"/>
                </a:lnTo>
                <a:lnTo>
                  <a:pt x="325" y="80"/>
                </a:lnTo>
                <a:lnTo>
                  <a:pt x="325" y="77"/>
                </a:lnTo>
                <a:lnTo>
                  <a:pt x="356" y="108"/>
                </a:lnTo>
                <a:lnTo>
                  <a:pt x="354" y="108"/>
                </a:lnTo>
                <a:lnTo>
                  <a:pt x="361" y="121"/>
                </a:lnTo>
                <a:lnTo>
                  <a:pt x="369" y="131"/>
                </a:lnTo>
                <a:lnTo>
                  <a:pt x="377" y="147"/>
                </a:lnTo>
                <a:lnTo>
                  <a:pt x="384" y="160"/>
                </a:lnTo>
                <a:lnTo>
                  <a:pt x="384" y="155"/>
                </a:lnTo>
                <a:lnTo>
                  <a:pt x="377" y="168"/>
                </a:lnTo>
                <a:lnTo>
                  <a:pt x="369" y="183"/>
                </a:lnTo>
                <a:lnTo>
                  <a:pt x="361" y="196"/>
                </a:lnTo>
                <a:lnTo>
                  <a:pt x="354" y="206"/>
                </a:lnTo>
                <a:lnTo>
                  <a:pt x="356" y="206"/>
                </a:lnTo>
                <a:lnTo>
                  <a:pt x="325" y="237"/>
                </a:lnTo>
                <a:lnTo>
                  <a:pt x="325" y="235"/>
                </a:lnTo>
                <a:lnTo>
                  <a:pt x="312" y="242"/>
                </a:lnTo>
                <a:lnTo>
                  <a:pt x="302" y="248"/>
                </a:lnTo>
                <a:lnTo>
                  <a:pt x="292" y="255"/>
                </a:lnTo>
                <a:lnTo>
                  <a:pt x="279" y="263"/>
                </a:lnTo>
                <a:lnTo>
                  <a:pt x="263" y="268"/>
                </a:lnTo>
                <a:lnTo>
                  <a:pt x="253" y="276"/>
                </a:lnTo>
                <a:lnTo>
                  <a:pt x="243" y="281"/>
                </a:lnTo>
                <a:lnTo>
                  <a:pt x="245" y="281"/>
                </a:lnTo>
                <a:lnTo>
                  <a:pt x="227" y="281"/>
                </a:lnTo>
                <a:lnTo>
                  <a:pt x="217" y="286"/>
                </a:lnTo>
                <a:lnTo>
                  <a:pt x="219" y="286"/>
                </a:lnTo>
                <a:lnTo>
                  <a:pt x="206" y="289"/>
                </a:lnTo>
                <a:lnTo>
                  <a:pt x="196" y="292"/>
                </a:lnTo>
                <a:lnTo>
                  <a:pt x="183" y="294"/>
                </a:lnTo>
                <a:lnTo>
                  <a:pt x="163" y="299"/>
                </a:lnTo>
                <a:lnTo>
                  <a:pt x="150" y="299"/>
                </a:lnTo>
                <a:lnTo>
                  <a:pt x="142" y="302"/>
                </a:lnTo>
                <a:lnTo>
                  <a:pt x="144" y="302"/>
                </a:lnTo>
                <a:lnTo>
                  <a:pt x="124" y="302"/>
                </a:lnTo>
                <a:lnTo>
                  <a:pt x="116" y="304"/>
                </a:lnTo>
                <a:lnTo>
                  <a:pt x="119" y="304"/>
                </a:lnTo>
                <a:lnTo>
                  <a:pt x="5" y="304"/>
                </a:lnTo>
                <a:lnTo>
                  <a:pt x="10" y="310"/>
                </a:lnTo>
                <a:lnTo>
                  <a:pt x="10" y="307"/>
                </a:lnTo>
                <a:lnTo>
                  <a:pt x="5" y="312"/>
                </a:lnTo>
                <a:lnTo>
                  <a:pt x="10" y="312"/>
                </a:lnTo>
                <a:lnTo>
                  <a:pt x="10" y="310"/>
                </a:lnTo>
                <a:lnTo>
                  <a:pt x="13" y="310"/>
                </a:lnTo>
                <a:lnTo>
                  <a:pt x="13" y="299"/>
                </a:lnTo>
                <a:lnTo>
                  <a:pt x="10" y="302"/>
                </a:lnTo>
                <a:lnTo>
                  <a:pt x="13" y="299"/>
                </a:lnTo>
                <a:lnTo>
                  <a:pt x="15" y="299"/>
                </a:lnTo>
                <a:lnTo>
                  <a:pt x="15" y="286"/>
                </a:lnTo>
                <a:lnTo>
                  <a:pt x="10" y="292"/>
                </a:lnTo>
                <a:lnTo>
                  <a:pt x="15" y="292"/>
                </a:lnTo>
                <a:lnTo>
                  <a:pt x="15" y="289"/>
                </a:lnTo>
                <a:lnTo>
                  <a:pt x="18" y="289"/>
                </a:lnTo>
                <a:lnTo>
                  <a:pt x="18" y="276"/>
                </a:lnTo>
                <a:lnTo>
                  <a:pt x="18" y="279"/>
                </a:lnTo>
                <a:lnTo>
                  <a:pt x="21" y="273"/>
                </a:lnTo>
                <a:lnTo>
                  <a:pt x="18" y="273"/>
                </a:lnTo>
                <a:lnTo>
                  <a:pt x="21" y="271"/>
                </a:lnTo>
                <a:lnTo>
                  <a:pt x="23" y="271"/>
                </a:lnTo>
                <a:lnTo>
                  <a:pt x="23" y="255"/>
                </a:lnTo>
                <a:lnTo>
                  <a:pt x="23" y="258"/>
                </a:lnTo>
                <a:lnTo>
                  <a:pt x="26" y="253"/>
                </a:lnTo>
                <a:lnTo>
                  <a:pt x="26" y="232"/>
                </a:lnTo>
                <a:lnTo>
                  <a:pt x="26" y="235"/>
                </a:lnTo>
                <a:lnTo>
                  <a:pt x="28" y="227"/>
                </a:lnTo>
                <a:lnTo>
                  <a:pt x="28" y="217"/>
                </a:lnTo>
                <a:lnTo>
                  <a:pt x="28" y="219"/>
                </a:lnTo>
                <a:lnTo>
                  <a:pt x="31" y="211"/>
                </a:lnTo>
                <a:lnTo>
                  <a:pt x="31" y="103"/>
                </a:lnTo>
                <a:lnTo>
                  <a:pt x="28" y="95"/>
                </a:lnTo>
                <a:lnTo>
                  <a:pt x="28" y="98"/>
                </a:lnTo>
                <a:lnTo>
                  <a:pt x="28" y="90"/>
                </a:lnTo>
                <a:lnTo>
                  <a:pt x="26" y="82"/>
                </a:lnTo>
                <a:lnTo>
                  <a:pt x="26" y="85"/>
                </a:lnTo>
                <a:lnTo>
                  <a:pt x="26" y="64"/>
                </a:lnTo>
                <a:lnTo>
                  <a:pt x="23" y="57"/>
                </a:lnTo>
                <a:lnTo>
                  <a:pt x="23" y="59"/>
                </a:lnTo>
                <a:lnTo>
                  <a:pt x="23" y="46"/>
                </a:lnTo>
                <a:lnTo>
                  <a:pt x="18" y="36"/>
                </a:lnTo>
                <a:lnTo>
                  <a:pt x="18" y="38"/>
                </a:lnTo>
                <a:lnTo>
                  <a:pt x="18" y="28"/>
                </a:lnTo>
                <a:lnTo>
                  <a:pt x="15" y="23"/>
                </a:lnTo>
                <a:lnTo>
                  <a:pt x="15" y="26"/>
                </a:lnTo>
                <a:lnTo>
                  <a:pt x="15" y="18"/>
                </a:lnTo>
                <a:lnTo>
                  <a:pt x="13" y="13"/>
                </a:lnTo>
                <a:lnTo>
                  <a:pt x="13" y="15"/>
                </a:lnTo>
                <a:lnTo>
                  <a:pt x="13" y="8"/>
                </a:lnTo>
                <a:lnTo>
                  <a:pt x="10" y="8"/>
                </a:lnTo>
                <a:lnTo>
                  <a:pt x="8" y="5"/>
                </a:lnTo>
                <a:lnTo>
                  <a:pt x="10" y="8"/>
                </a:lnTo>
                <a:lnTo>
                  <a:pt x="10" y="5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  <a:lnTo>
                  <a:pt x="2" y="10"/>
                </a:lnTo>
                <a:lnTo>
                  <a:pt x="5" y="13"/>
                </a:lnTo>
                <a:lnTo>
                  <a:pt x="2" y="10"/>
                </a:lnTo>
                <a:lnTo>
                  <a:pt x="2" y="15"/>
                </a:lnTo>
                <a:lnTo>
                  <a:pt x="2" y="18"/>
                </a:lnTo>
                <a:lnTo>
                  <a:pt x="5" y="23"/>
                </a:lnTo>
                <a:lnTo>
                  <a:pt x="5" y="20"/>
                </a:lnTo>
                <a:lnTo>
                  <a:pt x="5" y="26"/>
                </a:lnTo>
                <a:lnTo>
                  <a:pt x="5" y="28"/>
                </a:lnTo>
                <a:lnTo>
                  <a:pt x="8" y="33"/>
                </a:lnTo>
                <a:lnTo>
                  <a:pt x="8" y="31"/>
                </a:lnTo>
                <a:lnTo>
                  <a:pt x="8" y="38"/>
                </a:lnTo>
                <a:lnTo>
                  <a:pt x="8" y="41"/>
                </a:lnTo>
                <a:lnTo>
                  <a:pt x="13" y="51"/>
                </a:lnTo>
                <a:lnTo>
                  <a:pt x="13" y="49"/>
                </a:lnTo>
                <a:lnTo>
                  <a:pt x="13" y="59"/>
                </a:lnTo>
                <a:lnTo>
                  <a:pt x="13" y="62"/>
                </a:lnTo>
                <a:lnTo>
                  <a:pt x="15" y="69"/>
                </a:lnTo>
                <a:lnTo>
                  <a:pt x="15" y="67"/>
                </a:lnTo>
                <a:lnTo>
                  <a:pt x="15" y="85"/>
                </a:lnTo>
                <a:lnTo>
                  <a:pt x="15" y="88"/>
                </a:lnTo>
                <a:lnTo>
                  <a:pt x="18" y="95"/>
                </a:lnTo>
                <a:lnTo>
                  <a:pt x="18" y="93"/>
                </a:lnTo>
                <a:lnTo>
                  <a:pt x="18" y="98"/>
                </a:lnTo>
                <a:lnTo>
                  <a:pt x="18" y="100"/>
                </a:lnTo>
                <a:lnTo>
                  <a:pt x="21" y="108"/>
                </a:lnTo>
                <a:lnTo>
                  <a:pt x="21" y="106"/>
                </a:lnTo>
                <a:lnTo>
                  <a:pt x="21" y="209"/>
                </a:lnTo>
                <a:lnTo>
                  <a:pt x="21" y="206"/>
                </a:lnTo>
                <a:lnTo>
                  <a:pt x="18" y="214"/>
                </a:lnTo>
                <a:lnTo>
                  <a:pt x="18" y="217"/>
                </a:lnTo>
                <a:lnTo>
                  <a:pt x="18" y="224"/>
                </a:lnTo>
                <a:lnTo>
                  <a:pt x="18" y="222"/>
                </a:lnTo>
                <a:lnTo>
                  <a:pt x="15" y="230"/>
                </a:lnTo>
                <a:lnTo>
                  <a:pt x="15" y="232"/>
                </a:lnTo>
                <a:lnTo>
                  <a:pt x="15" y="250"/>
                </a:lnTo>
                <a:lnTo>
                  <a:pt x="15" y="248"/>
                </a:lnTo>
                <a:lnTo>
                  <a:pt x="13" y="253"/>
                </a:lnTo>
                <a:lnTo>
                  <a:pt x="13" y="255"/>
                </a:lnTo>
                <a:lnTo>
                  <a:pt x="13" y="268"/>
                </a:lnTo>
                <a:lnTo>
                  <a:pt x="15" y="266"/>
                </a:lnTo>
                <a:lnTo>
                  <a:pt x="13" y="268"/>
                </a:lnTo>
                <a:lnTo>
                  <a:pt x="10" y="268"/>
                </a:lnTo>
                <a:lnTo>
                  <a:pt x="8" y="273"/>
                </a:lnTo>
                <a:lnTo>
                  <a:pt x="8" y="276"/>
                </a:lnTo>
                <a:lnTo>
                  <a:pt x="8" y="286"/>
                </a:lnTo>
                <a:lnTo>
                  <a:pt x="13" y="281"/>
                </a:lnTo>
                <a:lnTo>
                  <a:pt x="10" y="281"/>
                </a:lnTo>
                <a:lnTo>
                  <a:pt x="8" y="281"/>
                </a:lnTo>
                <a:lnTo>
                  <a:pt x="8" y="284"/>
                </a:lnTo>
                <a:lnTo>
                  <a:pt x="5" y="284"/>
                </a:lnTo>
                <a:lnTo>
                  <a:pt x="5" y="286"/>
                </a:lnTo>
                <a:lnTo>
                  <a:pt x="5" y="297"/>
                </a:lnTo>
                <a:lnTo>
                  <a:pt x="8" y="294"/>
                </a:lnTo>
                <a:lnTo>
                  <a:pt x="5" y="297"/>
                </a:lnTo>
                <a:lnTo>
                  <a:pt x="2" y="297"/>
                </a:lnTo>
                <a:lnTo>
                  <a:pt x="2" y="299"/>
                </a:lnTo>
                <a:lnTo>
                  <a:pt x="2" y="307"/>
                </a:lnTo>
                <a:lnTo>
                  <a:pt x="8" y="302"/>
                </a:lnTo>
                <a:lnTo>
                  <a:pt x="5" y="302"/>
                </a:lnTo>
                <a:lnTo>
                  <a:pt x="2" y="302"/>
                </a:lnTo>
                <a:lnTo>
                  <a:pt x="2" y="304"/>
                </a:lnTo>
                <a:lnTo>
                  <a:pt x="0" y="304"/>
                </a:lnTo>
                <a:lnTo>
                  <a:pt x="0" y="307"/>
                </a:lnTo>
                <a:lnTo>
                  <a:pt x="0" y="310"/>
                </a:lnTo>
                <a:lnTo>
                  <a:pt x="0" y="312"/>
                </a:lnTo>
                <a:lnTo>
                  <a:pt x="2" y="312"/>
                </a:lnTo>
                <a:lnTo>
                  <a:pt x="2" y="315"/>
                </a:lnTo>
                <a:lnTo>
                  <a:pt x="5" y="315"/>
                </a:lnTo>
                <a:lnTo>
                  <a:pt x="119" y="315"/>
                </a:lnTo>
                <a:lnTo>
                  <a:pt x="121" y="315"/>
                </a:lnTo>
                <a:lnTo>
                  <a:pt x="129" y="312"/>
                </a:lnTo>
                <a:lnTo>
                  <a:pt x="126" y="312"/>
                </a:lnTo>
                <a:lnTo>
                  <a:pt x="144" y="312"/>
                </a:lnTo>
                <a:lnTo>
                  <a:pt x="147" y="312"/>
                </a:lnTo>
                <a:lnTo>
                  <a:pt x="155" y="310"/>
                </a:lnTo>
                <a:lnTo>
                  <a:pt x="152" y="310"/>
                </a:lnTo>
                <a:lnTo>
                  <a:pt x="163" y="310"/>
                </a:lnTo>
                <a:lnTo>
                  <a:pt x="183" y="304"/>
                </a:lnTo>
                <a:lnTo>
                  <a:pt x="196" y="302"/>
                </a:lnTo>
                <a:lnTo>
                  <a:pt x="206" y="299"/>
                </a:lnTo>
                <a:lnTo>
                  <a:pt x="219" y="297"/>
                </a:lnTo>
                <a:lnTo>
                  <a:pt x="222" y="297"/>
                </a:lnTo>
                <a:lnTo>
                  <a:pt x="232" y="292"/>
                </a:lnTo>
                <a:lnTo>
                  <a:pt x="230" y="292"/>
                </a:lnTo>
                <a:lnTo>
                  <a:pt x="245" y="292"/>
                </a:lnTo>
                <a:lnTo>
                  <a:pt x="248" y="292"/>
                </a:lnTo>
                <a:lnTo>
                  <a:pt x="258" y="286"/>
                </a:lnTo>
                <a:lnTo>
                  <a:pt x="268" y="279"/>
                </a:lnTo>
                <a:lnTo>
                  <a:pt x="284" y="273"/>
                </a:lnTo>
                <a:lnTo>
                  <a:pt x="297" y="266"/>
                </a:lnTo>
                <a:lnTo>
                  <a:pt x="307" y="258"/>
                </a:lnTo>
                <a:lnTo>
                  <a:pt x="317" y="253"/>
                </a:lnTo>
                <a:lnTo>
                  <a:pt x="330" y="245"/>
                </a:lnTo>
                <a:lnTo>
                  <a:pt x="330" y="242"/>
                </a:lnTo>
                <a:lnTo>
                  <a:pt x="361" y="211"/>
                </a:lnTo>
                <a:lnTo>
                  <a:pt x="364" y="211"/>
                </a:lnTo>
                <a:lnTo>
                  <a:pt x="372" y="201"/>
                </a:lnTo>
                <a:lnTo>
                  <a:pt x="379" y="188"/>
                </a:lnTo>
                <a:lnTo>
                  <a:pt x="387" y="173"/>
                </a:lnTo>
                <a:lnTo>
                  <a:pt x="395" y="160"/>
                </a:lnTo>
                <a:lnTo>
                  <a:pt x="395" y="157"/>
                </a:lnTo>
                <a:lnTo>
                  <a:pt x="395" y="155"/>
                </a:lnTo>
                <a:lnTo>
                  <a:pt x="387" y="142"/>
                </a:lnTo>
                <a:lnTo>
                  <a:pt x="379" y="126"/>
                </a:lnTo>
                <a:lnTo>
                  <a:pt x="372" y="116"/>
                </a:lnTo>
                <a:lnTo>
                  <a:pt x="364" y="103"/>
                </a:lnTo>
                <a:lnTo>
                  <a:pt x="361" y="103"/>
                </a:lnTo>
                <a:lnTo>
                  <a:pt x="330" y="72"/>
                </a:lnTo>
                <a:lnTo>
                  <a:pt x="330" y="69"/>
                </a:lnTo>
                <a:lnTo>
                  <a:pt x="317" y="62"/>
                </a:lnTo>
                <a:lnTo>
                  <a:pt x="307" y="57"/>
                </a:lnTo>
                <a:lnTo>
                  <a:pt x="297" y="49"/>
                </a:lnTo>
                <a:lnTo>
                  <a:pt x="284" y="41"/>
                </a:lnTo>
                <a:lnTo>
                  <a:pt x="268" y="36"/>
                </a:lnTo>
                <a:lnTo>
                  <a:pt x="248" y="26"/>
                </a:lnTo>
                <a:lnTo>
                  <a:pt x="232" y="20"/>
                </a:lnTo>
                <a:lnTo>
                  <a:pt x="230" y="20"/>
                </a:lnTo>
                <a:lnTo>
                  <a:pt x="219" y="18"/>
                </a:lnTo>
                <a:lnTo>
                  <a:pt x="206" y="15"/>
                </a:lnTo>
                <a:lnTo>
                  <a:pt x="196" y="13"/>
                </a:lnTo>
                <a:lnTo>
                  <a:pt x="183" y="10"/>
                </a:lnTo>
                <a:lnTo>
                  <a:pt x="173" y="8"/>
                </a:lnTo>
                <a:lnTo>
                  <a:pt x="163" y="8"/>
                </a:lnTo>
                <a:lnTo>
                  <a:pt x="152" y="5"/>
                </a:lnTo>
                <a:lnTo>
                  <a:pt x="144" y="5"/>
                </a:lnTo>
                <a:lnTo>
                  <a:pt x="134" y="2"/>
                </a:lnTo>
                <a:lnTo>
                  <a:pt x="126" y="2"/>
                </a:lnTo>
                <a:lnTo>
                  <a:pt x="129" y="2"/>
                </a:lnTo>
                <a:lnTo>
                  <a:pt x="121" y="0"/>
                </a:lnTo>
                <a:lnTo>
                  <a:pt x="119" y="0"/>
                </a:lnTo>
                <a:lnTo>
                  <a:pt x="5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5"/>
                </a:lnTo>
                <a:lnTo>
                  <a:pt x="10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68720" y="4349880"/>
            <a:ext cx="44280" cy="496800"/>
          </a:xfrm>
          <a:custGeom>
            <a:avLst/>
            <a:gdLst/>
            <a:ahLst/>
            <a:rect l="l" t="t" r="r" b="b"/>
            <a:pathLst>
              <a:path w="28" h="313">
                <a:moveTo>
                  <a:pt x="8" y="3"/>
                </a:moveTo>
                <a:lnTo>
                  <a:pt x="8" y="0"/>
                </a:ln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8"/>
                </a:lnTo>
                <a:lnTo>
                  <a:pt x="3" y="8"/>
                </a:lnTo>
                <a:lnTo>
                  <a:pt x="5" y="11"/>
                </a:lnTo>
                <a:lnTo>
                  <a:pt x="3" y="8"/>
                </a:lnTo>
                <a:lnTo>
                  <a:pt x="3" y="16"/>
                </a:lnTo>
                <a:lnTo>
                  <a:pt x="5" y="21"/>
                </a:lnTo>
                <a:lnTo>
                  <a:pt x="5" y="18"/>
                </a:lnTo>
                <a:lnTo>
                  <a:pt x="5" y="26"/>
                </a:lnTo>
                <a:lnTo>
                  <a:pt x="8" y="31"/>
                </a:lnTo>
                <a:lnTo>
                  <a:pt x="8" y="29"/>
                </a:lnTo>
                <a:lnTo>
                  <a:pt x="8" y="39"/>
                </a:lnTo>
                <a:lnTo>
                  <a:pt x="13" y="49"/>
                </a:lnTo>
                <a:lnTo>
                  <a:pt x="13" y="47"/>
                </a:lnTo>
                <a:lnTo>
                  <a:pt x="13" y="86"/>
                </a:lnTo>
                <a:lnTo>
                  <a:pt x="16" y="93"/>
                </a:lnTo>
                <a:lnTo>
                  <a:pt x="16" y="91"/>
                </a:lnTo>
                <a:lnTo>
                  <a:pt x="16" y="98"/>
                </a:lnTo>
                <a:lnTo>
                  <a:pt x="18" y="106"/>
                </a:lnTo>
                <a:lnTo>
                  <a:pt x="18" y="104"/>
                </a:lnTo>
                <a:lnTo>
                  <a:pt x="18" y="207"/>
                </a:lnTo>
                <a:lnTo>
                  <a:pt x="18" y="204"/>
                </a:lnTo>
                <a:lnTo>
                  <a:pt x="16" y="212"/>
                </a:lnTo>
                <a:lnTo>
                  <a:pt x="16" y="222"/>
                </a:lnTo>
                <a:lnTo>
                  <a:pt x="16" y="220"/>
                </a:lnTo>
                <a:lnTo>
                  <a:pt x="13" y="228"/>
                </a:lnTo>
                <a:lnTo>
                  <a:pt x="13" y="266"/>
                </a:lnTo>
                <a:lnTo>
                  <a:pt x="16" y="264"/>
                </a:lnTo>
                <a:lnTo>
                  <a:pt x="13" y="266"/>
                </a:lnTo>
                <a:lnTo>
                  <a:pt x="10" y="266"/>
                </a:lnTo>
                <a:lnTo>
                  <a:pt x="8" y="271"/>
                </a:lnTo>
                <a:lnTo>
                  <a:pt x="8" y="284"/>
                </a:lnTo>
                <a:lnTo>
                  <a:pt x="13" y="279"/>
                </a:lnTo>
                <a:lnTo>
                  <a:pt x="8" y="279"/>
                </a:lnTo>
                <a:lnTo>
                  <a:pt x="8" y="282"/>
                </a:lnTo>
                <a:lnTo>
                  <a:pt x="5" y="282"/>
                </a:lnTo>
                <a:lnTo>
                  <a:pt x="5" y="295"/>
                </a:lnTo>
                <a:lnTo>
                  <a:pt x="8" y="292"/>
                </a:lnTo>
                <a:lnTo>
                  <a:pt x="5" y="295"/>
                </a:lnTo>
                <a:lnTo>
                  <a:pt x="3" y="295"/>
                </a:lnTo>
                <a:lnTo>
                  <a:pt x="3" y="305"/>
                </a:lnTo>
                <a:lnTo>
                  <a:pt x="8" y="300"/>
                </a:lnTo>
                <a:lnTo>
                  <a:pt x="3" y="300"/>
                </a:lnTo>
                <a:lnTo>
                  <a:pt x="3" y="302"/>
                </a:lnTo>
                <a:lnTo>
                  <a:pt x="0" y="302"/>
                </a:lnTo>
                <a:lnTo>
                  <a:pt x="0" y="310"/>
                </a:lnTo>
                <a:lnTo>
                  <a:pt x="3" y="310"/>
                </a:lnTo>
                <a:lnTo>
                  <a:pt x="3" y="313"/>
                </a:lnTo>
                <a:lnTo>
                  <a:pt x="8" y="313"/>
                </a:lnTo>
                <a:lnTo>
                  <a:pt x="8" y="310"/>
                </a:lnTo>
                <a:lnTo>
                  <a:pt x="10" y="310"/>
                </a:lnTo>
                <a:lnTo>
                  <a:pt x="10" y="308"/>
                </a:lnTo>
                <a:lnTo>
                  <a:pt x="10" y="305"/>
                </a:lnTo>
                <a:lnTo>
                  <a:pt x="5" y="310"/>
                </a:lnTo>
                <a:lnTo>
                  <a:pt x="8" y="310"/>
                </a:lnTo>
                <a:lnTo>
                  <a:pt x="10" y="310"/>
                </a:lnTo>
                <a:lnTo>
                  <a:pt x="10" y="308"/>
                </a:lnTo>
                <a:lnTo>
                  <a:pt x="13" y="308"/>
                </a:lnTo>
                <a:lnTo>
                  <a:pt x="13" y="305"/>
                </a:lnTo>
                <a:lnTo>
                  <a:pt x="13" y="297"/>
                </a:lnTo>
                <a:lnTo>
                  <a:pt x="10" y="300"/>
                </a:lnTo>
                <a:lnTo>
                  <a:pt x="13" y="297"/>
                </a:lnTo>
                <a:lnTo>
                  <a:pt x="16" y="297"/>
                </a:lnTo>
                <a:lnTo>
                  <a:pt x="16" y="295"/>
                </a:lnTo>
                <a:lnTo>
                  <a:pt x="16" y="284"/>
                </a:lnTo>
                <a:lnTo>
                  <a:pt x="10" y="290"/>
                </a:lnTo>
                <a:lnTo>
                  <a:pt x="13" y="290"/>
                </a:lnTo>
                <a:lnTo>
                  <a:pt x="16" y="290"/>
                </a:lnTo>
                <a:lnTo>
                  <a:pt x="16" y="287"/>
                </a:lnTo>
                <a:lnTo>
                  <a:pt x="18" y="287"/>
                </a:lnTo>
                <a:lnTo>
                  <a:pt x="18" y="284"/>
                </a:lnTo>
                <a:lnTo>
                  <a:pt x="18" y="274"/>
                </a:lnTo>
                <a:lnTo>
                  <a:pt x="18" y="277"/>
                </a:lnTo>
                <a:lnTo>
                  <a:pt x="21" y="271"/>
                </a:lnTo>
                <a:lnTo>
                  <a:pt x="18" y="271"/>
                </a:lnTo>
                <a:lnTo>
                  <a:pt x="21" y="269"/>
                </a:lnTo>
                <a:lnTo>
                  <a:pt x="23" y="269"/>
                </a:lnTo>
                <a:lnTo>
                  <a:pt x="23" y="266"/>
                </a:lnTo>
                <a:lnTo>
                  <a:pt x="23" y="230"/>
                </a:lnTo>
                <a:lnTo>
                  <a:pt x="23" y="233"/>
                </a:lnTo>
                <a:lnTo>
                  <a:pt x="26" y="225"/>
                </a:lnTo>
                <a:lnTo>
                  <a:pt x="26" y="222"/>
                </a:lnTo>
                <a:lnTo>
                  <a:pt x="26" y="215"/>
                </a:lnTo>
                <a:lnTo>
                  <a:pt x="26" y="217"/>
                </a:lnTo>
                <a:lnTo>
                  <a:pt x="28" y="209"/>
                </a:lnTo>
                <a:lnTo>
                  <a:pt x="28" y="207"/>
                </a:lnTo>
                <a:lnTo>
                  <a:pt x="28" y="104"/>
                </a:lnTo>
                <a:lnTo>
                  <a:pt x="28" y="101"/>
                </a:lnTo>
                <a:lnTo>
                  <a:pt x="26" y="93"/>
                </a:lnTo>
                <a:lnTo>
                  <a:pt x="26" y="96"/>
                </a:lnTo>
                <a:lnTo>
                  <a:pt x="26" y="91"/>
                </a:lnTo>
                <a:lnTo>
                  <a:pt x="26" y="88"/>
                </a:lnTo>
                <a:lnTo>
                  <a:pt x="23" y="80"/>
                </a:lnTo>
                <a:lnTo>
                  <a:pt x="23" y="83"/>
                </a:lnTo>
                <a:lnTo>
                  <a:pt x="23" y="47"/>
                </a:lnTo>
                <a:lnTo>
                  <a:pt x="23" y="44"/>
                </a:lnTo>
                <a:lnTo>
                  <a:pt x="18" y="34"/>
                </a:lnTo>
                <a:lnTo>
                  <a:pt x="18" y="36"/>
                </a:lnTo>
                <a:lnTo>
                  <a:pt x="18" y="29"/>
                </a:lnTo>
                <a:lnTo>
                  <a:pt x="18" y="26"/>
                </a:lnTo>
                <a:lnTo>
                  <a:pt x="16" y="21"/>
                </a:lnTo>
                <a:lnTo>
                  <a:pt x="16" y="24"/>
                </a:lnTo>
                <a:lnTo>
                  <a:pt x="16" y="18"/>
                </a:lnTo>
                <a:lnTo>
                  <a:pt x="16" y="16"/>
                </a:lnTo>
                <a:lnTo>
                  <a:pt x="13" y="11"/>
                </a:lnTo>
                <a:lnTo>
                  <a:pt x="13" y="13"/>
                </a:lnTo>
                <a:lnTo>
                  <a:pt x="13" y="8"/>
                </a:lnTo>
                <a:lnTo>
                  <a:pt x="13" y="6"/>
                </a:lnTo>
                <a:lnTo>
                  <a:pt x="10" y="6"/>
                </a:lnTo>
                <a:lnTo>
                  <a:pt x="8" y="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66920" y="4521240"/>
            <a:ext cx="68652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75240" y="4518000"/>
            <a:ext cx="115920" cy="114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67320" y="4510080"/>
            <a:ext cx="123840" cy="122400"/>
          </a:xfrm>
          <a:custGeom>
            <a:avLst/>
            <a:gdLst/>
            <a:ahLst/>
            <a:rect l="l" t="t" r="r" b="b"/>
            <a:pathLst>
              <a:path w="78" h="77">
                <a:moveTo>
                  <a:pt x="0" y="39"/>
                </a:moveTo>
                <a:lnTo>
                  <a:pt x="0" y="52"/>
                </a:lnTo>
                <a:lnTo>
                  <a:pt x="3" y="54"/>
                </a:lnTo>
                <a:lnTo>
                  <a:pt x="5" y="59"/>
                </a:lnTo>
                <a:lnTo>
                  <a:pt x="8" y="59"/>
                </a:lnTo>
                <a:lnTo>
                  <a:pt x="5" y="62"/>
                </a:lnTo>
                <a:lnTo>
                  <a:pt x="11" y="67"/>
                </a:lnTo>
                <a:lnTo>
                  <a:pt x="13" y="70"/>
                </a:lnTo>
                <a:lnTo>
                  <a:pt x="18" y="75"/>
                </a:lnTo>
                <a:lnTo>
                  <a:pt x="23" y="72"/>
                </a:lnTo>
                <a:lnTo>
                  <a:pt x="23" y="75"/>
                </a:lnTo>
                <a:lnTo>
                  <a:pt x="34" y="77"/>
                </a:lnTo>
                <a:lnTo>
                  <a:pt x="36" y="77"/>
                </a:lnTo>
                <a:lnTo>
                  <a:pt x="44" y="75"/>
                </a:lnTo>
                <a:lnTo>
                  <a:pt x="42" y="75"/>
                </a:lnTo>
                <a:lnTo>
                  <a:pt x="52" y="77"/>
                </a:lnTo>
                <a:lnTo>
                  <a:pt x="54" y="75"/>
                </a:lnTo>
                <a:lnTo>
                  <a:pt x="60" y="72"/>
                </a:lnTo>
                <a:lnTo>
                  <a:pt x="60" y="70"/>
                </a:lnTo>
                <a:lnTo>
                  <a:pt x="62" y="72"/>
                </a:lnTo>
                <a:lnTo>
                  <a:pt x="67" y="67"/>
                </a:lnTo>
                <a:lnTo>
                  <a:pt x="72" y="62"/>
                </a:lnTo>
                <a:lnTo>
                  <a:pt x="70" y="59"/>
                </a:lnTo>
                <a:lnTo>
                  <a:pt x="72" y="59"/>
                </a:lnTo>
                <a:lnTo>
                  <a:pt x="75" y="54"/>
                </a:lnTo>
                <a:lnTo>
                  <a:pt x="78" y="52"/>
                </a:lnTo>
                <a:lnTo>
                  <a:pt x="75" y="41"/>
                </a:lnTo>
                <a:lnTo>
                  <a:pt x="75" y="44"/>
                </a:lnTo>
                <a:lnTo>
                  <a:pt x="78" y="36"/>
                </a:lnTo>
                <a:lnTo>
                  <a:pt x="78" y="34"/>
                </a:lnTo>
                <a:lnTo>
                  <a:pt x="75" y="23"/>
                </a:lnTo>
                <a:lnTo>
                  <a:pt x="72" y="23"/>
                </a:lnTo>
                <a:lnTo>
                  <a:pt x="75" y="18"/>
                </a:lnTo>
                <a:lnTo>
                  <a:pt x="70" y="13"/>
                </a:lnTo>
                <a:lnTo>
                  <a:pt x="65" y="8"/>
                </a:lnTo>
                <a:lnTo>
                  <a:pt x="62" y="5"/>
                </a:lnTo>
                <a:lnTo>
                  <a:pt x="60" y="8"/>
                </a:lnTo>
                <a:lnTo>
                  <a:pt x="60" y="5"/>
                </a:lnTo>
                <a:lnTo>
                  <a:pt x="54" y="3"/>
                </a:lnTo>
                <a:lnTo>
                  <a:pt x="52" y="0"/>
                </a:lnTo>
                <a:lnTo>
                  <a:pt x="39" y="0"/>
                </a:lnTo>
                <a:lnTo>
                  <a:pt x="23" y="3"/>
                </a:lnTo>
                <a:lnTo>
                  <a:pt x="23" y="5"/>
                </a:lnTo>
                <a:lnTo>
                  <a:pt x="18" y="3"/>
                </a:lnTo>
                <a:lnTo>
                  <a:pt x="13" y="8"/>
                </a:lnTo>
                <a:lnTo>
                  <a:pt x="3" y="18"/>
                </a:lnTo>
                <a:lnTo>
                  <a:pt x="5" y="23"/>
                </a:lnTo>
                <a:lnTo>
                  <a:pt x="3" y="23"/>
                </a:lnTo>
                <a:lnTo>
                  <a:pt x="0" y="39"/>
                </a:lnTo>
                <a:lnTo>
                  <a:pt x="11" y="39"/>
                </a:lnTo>
                <a:lnTo>
                  <a:pt x="8" y="28"/>
                </a:lnTo>
                <a:lnTo>
                  <a:pt x="11" y="28"/>
                </a:lnTo>
                <a:lnTo>
                  <a:pt x="13" y="23"/>
                </a:lnTo>
                <a:lnTo>
                  <a:pt x="18" y="18"/>
                </a:lnTo>
                <a:lnTo>
                  <a:pt x="16" y="16"/>
                </a:lnTo>
                <a:lnTo>
                  <a:pt x="18" y="18"/>
                </a:lnTo>
                <a:lnTo>
                  <a:pt x="23" y="13"/>
                </a:lnTo>
                <a:lnTo>
                  <a:pt x="29" y="10"/>
                </a:lnTo>
                <a:lnTo>
                  <a:pt x="29" y="8"/>
                </a:lnTo>
                <a:lnTo>
                  <a:pt x="39" y="10"/>
                </a:lnTo>
                <a:lnTo>
                  <a:pt x="47" y="10"/>
                </a:lnTo>
                <a:lnTo>
                  <a:pt x="49" y="13"/>
                </a:lnTo>
                <a:lnTo>
                  <a:pt x="54" y="10"/>
                </a:lnTo>
                <a:lnTo>
                  <a:pt x="54" y="13"/>
                </a:lnTo>
                <a:lnTo>
                  <a:pt x="57" y="16"/>
                </a:lnTo>
                <a:lnTo>
                  <a:pt x="60" y="18"/>
                </a:lnTo>
                <a:lnTo>
                  <a:pt x="62" y="16"/>
                </a:lnTo>
                <a:lnTo>
                  <a:pt x="60" y="18"/>
                </a:lnTo>
                <a:lnTo>
                  <a:pt x="65" y="23"/>
                </a:lnTo>
                <a:lnTo>
                  <a:pt x="67" y="28"/>
                </a:lnTo>
                <a:lnTo>
                  <a:pt x="70" y="28"/>
                </a:lnTo>
                <a:lnTo>
                  <a:pt x="67" y="39"/>
                </a:lnTo>
                <a:lnTo>
                  <a:pt x="72" y="41"/>
                </a:lnTo>
                <a:lnTo>
                  <a:pt x="75" y="34"/>
                </a:lnTo>
                <a:lnTo>
                  <a:pt x="70" y="36"/>
                </a:lnTo>
                <a:lnTo>
                  <a:pt x="67" y="47"/>
                </a:lnTo>
                <a:lnTo>
                  <a:pt x="65" y="49"/>
                </a:lnTo>
                <a:lnTo>
                  <a:pt x="67" y="54"/>
                </a:lnTo>
                <a:lnTo>
                  <a:pt x="65" y="54"/>
                </a:lnTo>
                <a:lnTo>
                  <a:pt x="62" y="57"/>
                </a:lnTo>
                <a:lnTo>
                  <a:pt x="60" y="59"/>
                </a:lnTo>
                <a:lnTo>
                  <a:pt x="62" y="62"/>
                </a:lnTo>
                <a:lnTo>
                  <a:pt x="60" y="59"/>
                </a:lnTo>
                <a:lnTo>
                  <a:pt x="57" y="62"/>
                </a:lnTo>
                <a:lnTo>
                  <a:pt x="54" y="65"/>
                </a:lnTo>
                <a:lnTo>
                  <a:pt x="54" y="67"/>
                </a:lnTo>
                <a:lnTo>
                  <a:pt x="49" y="65"/>
                </a:lnTo>
                <a:lnTo>
                  <a:pt x="47" y="67"/>
                </a:lnTo>
                <a:lnTo>
                  <a:pt x="36" y="70"/>
                </a:lnTo>
                <a:lnTo>
                  <a:pt x="34" y="75"/>
                </a:lnTo>
                <a:lnTo>
                  <a:pt x="42" y="72"/>
                </a:lnTo>
                <a:lnTo>
                  <a:pt x="39" y="67"/>
                </a:lnTo>
                <a:lnTo>
                  <a:pt x="29" y="70"/>
                </a:lnTo>
                <a:lnTo>
                  <a:pt x="29" y="67"/>
                </a:lnTo>
                <a:lnTo>
                  <a:pt x="23" y="65"/>
                </a:lnTo>
                <a:lnTo>
                  <a:pt x="18" y="59"/>
                </a:lnTo>
                <a:lnTo>
                  <a:pt x="16" y="62"/>
                </a:lnTo>
                <a:lnTo>
                  <a:pt x="18" y="59"/>
                </a:lnTo>
                <a:lnTo>
                  <a:pt x="16" y="57"/>
                </a:lnTo>
                <a:lnTo>
                  <a:pt x="13" y="54"/>
                </a:lnTo>
                <a:lnTo>
                  <a:pt x="11" y="54"/>
                </a:lnTo>
                <a:lnTo>
                  <a:pt x="13" y="49"/>
                </a:lnTo>
                <a:lnTo>
                  <a:pt x="11" y="47"/>
                </a:lnTo>
                <a:lnTo>
                  <a:pt x="11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554080" y="4664160"/>
            <a:ext cx="8236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982800" y="2041560"/>
            <a:ext cx="7277040" cy="3430440"/>
            <a:chOff x="982800" y="2041560"/>
            <a:chExt cx="7277040" cy="3430440"/>
          </a:xfrm>
        </p:grpSpPr>
        <p:sp>
          <p:nvSpPr>
            <p:cNvPr id="671" name=""/>
            <p:cNvSpPr/>
            <p:nvPr/>
          </p:nvSpPr>
          <p:spPr>
            <a:xfrm>
              <a:off x="1744920" y="263196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09800" y="263196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2062440" y="2631960"/>
              <a:ext cx="152280" cy="2463840"/>
              <a:chOff x="2062440" y="2631960"/>
              <a:chExt cx="152280" cy="2463840"/>
            </a:xfrm>
          </p:grpSpPr>
          <p:sp>
            <p:nvSpPr>
              <p:cNvPr id="674" name=""/>
              <p:cNvSpPr/>
              <p:nvPr/>
            </p:nvSpPr>
            <p:spPr>
              <a:xfrm>
                <a:off x="206244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21472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2506680" y="2631960"/>
              <a:ext cx="152640" cy="2463840"/>
              <a:chOff x="2506680" y="2631960"/>
              <a:chExt cx="152640" cy="2463840"/>
            </a:xfrm>
          </p:grpSpPr>
          <p:sp>
            <p:nvSpPr>
              <p:cNvPr id="677" name=""/>
              <p:cNvSpPr/>
              <p:nvPr/>
            </p:nvSpPr>
            <p:spPr>
              <a:xfrm>
                <a:off x="250668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5932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963880" y="2631960"/>
              <a:ext cx="152640" cy="2463840"/>
              <a:chOff x="2963880" y="2631960"/>
              <a:chExt cx="152640" cy="2463840"/>
            </a:xfrm>
          </p:grpSpPr>
          <p:sp>
            <p:nvSpPr>
              <p:cNvPr id="680" name=""/>
              <p:cNvSpPr/>
              <p:nvPr/>
            </p:nvSpPr>
            <p:spPr>
              <a:xfrm>
                <a:off x="296388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11652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3421080" y="2631960"/>
              <a:ext cx="152640" cy="2463840"/>
              <a:chOff x="3421080" y="2631960"/>
              <a:chExt cx="152640" cy="2463840"/>
            </a:xfrm>
          </p:grpSpPr>
          <p:sp>
            <p:nvSpPr>
              <p:cNvPr id="683" name=""/>
              <p:cNvSpPr/>
              <p:nvPr/>
            </p:nvSpPr>
            <p:spPr>
              <a:xfrm>
                <a:off x="342108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57372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3891240" y="2631960"/>
              <a:ext cx="1828800" cy="2463840"/>
              <a:chOff x="3891240" y="2631960"/>
              <a:chExt cx="1828800" cy="2463840"/>
            </a:xfrm>
          </p:grpSpPr>
          <p:sp>
            <p:nvSpPr>
              <p:cNvPr id="686" name=""/>
              <p:cNvSpPr/>
              <p:nvPr/>
            </p:nvSpPr>
            <p:spPr>
              <a:xfrm>
                <a:off x="572004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54800" y="263196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5249880" y="2631960"/>
                <a:ext cx="152640" cy="2463840"/>
                <a:chOff x="5249880" y="2631960"/>
                <a:chExt cx="152640" cy="246384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540252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24988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792680" y="2631960"/>
                <a:ext cx="152640" cy="2463840"/>
                <a:chOff x="4792680" y="2631960"/>
                <a:chExt cx="152640" cy="246384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94532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79268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4335480" y="2631960"/>
                <a:ext cx="152640" cy="2463840"/>
                <a:chOff x="4335480" y="2631960"/>
                <a:chExt cx="152640" cy="24638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448812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33548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91240" y="2631960"/>
                <a:ext cx="152280" cy="2463840"/>
                <a:chOff x="3891240" y="2631960"/>
                <a:chExt cx="152280" cy="246384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04352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891240" y="263196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0" name=""/>
            <p:cNvSpPr/>
            <p:nvPr/>
          </p:nvSpPr>
          <p:spPr>
            <a:xfrm>
              <a:off x="1598760" y="3108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98760" y="3273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598760" y="3438360"/>
              <a:ext cx="4267080" cy="165240"/>
              <a:chOff x="1598760" y="3438360"/>
              <a:chExt cx="4267080" cy="165240"/>
            </a:xfrm>
          </p:grpSpPr>
          <p:sp>
            <p:nvSpPr>
              <p:cNvPr id="703" name=""/>
              <p:cNvSpPr/>
              <p:nvPr/>
            </p:nvSpPr>
            <p:spPr>
              <a:xfrm>
                <a:off x="1598760" y="3438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598760" y="3603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1598760" y="3755880"/>
              <a:ext cx="4267080" cy="165240"/>
              <a:chOff x="1598760" y="3755880"/>
              <a:chExt cx="4267080" cy="165240"/>
            </a:xfrm>
          </p:grpSpPr>
          <p:sp>
            <p:nvSpPr>
              <p:cNvPr id="706" name=""/>
              <p:cNvSpPr/>
              <p:nvPr/>
            </p:nvSpPr>
            <p:spPr>
              <a:xfrm>
                <a:off x="1598760" y="375588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598760" y="3921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5872320" y="3038040"/>
              <a:ext cx="171000" cy="166320"/>
              <a:chOff x="5872320" y="3038040"/>
              <a:chExt cx="171000" cy="166320"/>
            </a:xfrm>
          </p:grpSpPr>
          <p:sp>
            <p:nvSpPr>
              <p:cNvPr id="709" name=""/>
              <p:cNvSpPr/>
              <p:nvPr/>
            </p:nvSpPr>
            <p:spPr>
              <a:xfrm>
                <a:off x="5878800" y="30448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78800" y="31845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5872320" y="3038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17320" y="30528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17320" y="30387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5872320" y="3203640"/>
              <a:ext cx="171000" cy="166320"/>
              <a:chOff x="5872320" y="3203640"/>
              <a:chExt cx="171000" cy="166320"/>
            </a:xfrm>
          </p:grpSpPr>
          <p:sp>
            <p:nvSpPr>
              <p:cNvPr id="715" name=""/>
              <p:cNvSpPr/>
              <p:nvPr/>
            </p:nvSpPr>
            <p:spPr>
              <a:xfrm>
                <a:off x="5878800" y="3209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78800" y="3336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5872320" y="32036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917320" y="3217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917320" y="320364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5872320" y="3368520"/>
              <a:ext cx="171000" cy="153720"/>
              <a:chOff x="5872320" y="3368520"/>
              <a:chExt cx="171000" cy="153720"/>
            </a:xfrm>
          </p:grpSpPr>
          <p:sp>
            <p:nvSpPr>
              <p:cNvPr id="721" name=""/>
              <p:cNvSpPr/>
              <p:nvPr/>
            </p:nvSpPr>
            <p:spPr>
              <a:xfrm>
                <a:off x="5878800" y="3375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878800" y="3502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872320" y="3368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917320" y="33829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917320" y="3368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872320" y="3520800"/>
              <a:ext cx="171000" cy="166680"/>
              <a:chOff x="5872320" y="3520800"/>
              <a:chExt cx="171000" cy="166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878800" y="3527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878800" y="3666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872320" y="35208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917320" y="353520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917320" y="352080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5872320" y="3685680"/>
              <a:ext cx="171000" cy="166320"/>
              <a:chOff x="5872320" y="3685680"/>
              <a:chExt cx="171000" cy="166320"/>
            </a:xfrm>
          </p:grpSpPr>
          <p:sp>
            <p:nvSpPr>
              <p:cNvPr id="733" name=""/>
              <p:cNvSpPr/>
              <p:nvPr/>
            </p:nvSpPr>
            <p:spPr>
              <a:xfrm>
                <a:off x="5878800" y="3692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878800" y="3832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872320" y="3685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917320" y="37004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917320" y="36864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5872320" y="3851280"/>
              <a:ext cx="171000" cy="153360"/>
              <a:chOff x="5872320" y="3851280"/>
              <a:chExt cx="171000" cy="153360"/>
            </a:xfrm>
          </p:grpSpPr>
          <p:sp>
            <p:nvSpPr>
              <p:cNvPr id="739" name=""/>
              <p:cNvSpPr/>
              <p:nvPr/>
            </p:nvSpPr>
            <p:spPr>
              <a:xfrm>
                <a:off x="5878800" y="38574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78800" y="39844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872320" y="38512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17320" y="38653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917320" y="38512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1446480" y="44164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60600" y="458136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57760" y="4397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10040" y="4562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44960" y="4371840"/>
              <a:ext cx="2030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1344960" y="452448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312920" y="4371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09840" y="457524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67120" y="4530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27200" y="441648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605040" y="458136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14960" y="44100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67240" y="456264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5903640" y="4371840"/>
              <a:ext cx="2415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5903640" y="452448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51680" y="4371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16960" y="457524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6145560" y="453060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98760" y="408636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98760" y="4251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5872320" y="4003200"/>
              <a:ext cx="171000" cy="166320"/>
              <a:chOff x="5872320" y="4003200"/>
              <a:chExt cx="171000" cy="166320"/>
            </a:xfrm>
          </p:grpSpPr>
          <p:sp>
            <p:nvSpPr>
              <p:cNvPr id="765" name=""/>
              <p:cNvSpPr/>
              <p:nvPr/>
            </p:nvSpPr>
            <p:spPr>
              <a:xfrm>
                <a:off x="5878800" y="40100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78800" y="4149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5872320" y="40032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917320" y="40179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17320" y="400392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5872320" y="4168440"/>
              <a:ext cx="171000" cy="166680"/>
              <a:chOff x="5872320" y="4168440"/>
              <a:chExt cx="171000" cy="166680"/>
            </a:xfrm>
          </p:grpSpPr>
          <p:sp>
            <p:nvSpPr>
              <p:cNvPr id="771" name=""/>
              <p:cNvSpPr/>
              <p:nvPr/>
            </p:nvSpPr>
            <p:spPr>
              <a:xfrm>
                <a:off x="5878800" y="41749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78800" y="43146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5872320" y="4168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917320" y="41828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917320" y="4168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5637240" y="3508560"/>
              <a:ext cx="11048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37600" y="352260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07760" y="352260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07400" y="3508560"/>
              <a:ext cx="164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89840" y="31147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6189840" y="3863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43680" y="37558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43680" y="3108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43680" y="343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43680" y="3603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43680" y="4086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43680" y="4251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43680" y="3273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43680" y="3921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42440" y="3692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35920" y="3622680"/>
              <a:ext cx="29232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415280" y="391464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83640" y="393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434360" y="37116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504200" y="39337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35920" y="385128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135920" y="3927240"/>
              <a:ext cx="88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977160" y="2644920"/>
              <a:ext cx="0" cy="246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71040" y="391464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74040" y="3940200"/>
              <a:ext cx="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32680" y="358776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82080" y="379404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401840" y="2155680"/>
              <a:ext cx="6402600" cy="63684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82800" y="204156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401840" y="48355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995400" y="5165640"/>
              <a:ext cx="726444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604800" y="1390320"/>
            <a:ext cx="793440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map FSMs to programmable logic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ro-cell = DFF + two-level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255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options: Gate arrays, semicustom IC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31880" y="362592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695760"/>
            <a:ext cx="50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5440" y="452772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1680" y="4597560"/>
            <a:ext cx="50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90600" y="516240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8000" y="5232240"/>
            <a:ext cx="50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05000" y="448956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1240" y="4570560"/>
            <a:ext cx="50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365112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12880" y="3720960"/>
            <a:ext cx="50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542600" y="4048200"/>
            <a:ext cx="19044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4888080"/>
            <a:ext cx="595440" cy="39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31960" y="4857480"/>
            <a:ext cx="524160" cy="41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978280" y="4095360"/>
            <a:ext cx="25560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085480" y="3841920"/>
            <a:ext cx="584280" cy="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55600" y="2370240"/>
            <a:ext cx="28069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Step 1: Stat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3680" y="2370240"/>
            <a:ext cx="3651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Step 2: State transition table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ssume D flip-fl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 5-state 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er repeats 5 states 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ce is 000, 010, 011, 101, 110, 000 (not bin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24440" y="3278160"/>
            <a:ext cx="3051000" cy="3014640"/>
            <a:chOff x="4924440" y="3278160"/>
            <a:chExt cx="3051000" cy="3014640"/>
          </a:xfrm>
        </p:grpSpPr>
        <p:sp>
          <p:nvSpPr>
            <p:cNvPr id="65" name=""/>
            <p:cNvSpPr/>
            <p:nvPr/>
          </p:nvSpPr>
          <p:spPr>
            <a:xfrm>
              <a:off x="5284800" y="3641760"/>
              <a:ext cx="269064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5472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34040" y="3965760"/>
              <a:ext cx="271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54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24440" y="3278160"/>
              <a:ext cx="29257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5472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sent State      Next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0240" y="3632040"/>
              <a:ext cx="0" cy="254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-state counte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9360" y="1581120"/>
            <a:ext cx="58467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Step 3: Encode the next state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1133640" y="3205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90840" y="3205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33640" y="36622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90840" y="36622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48040" y="3205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5240" y="3205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48040" y="36622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5240" y="36622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73240" y="309096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6040" y="423396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19160" y="3687840"/>
            <a:ext cx="0" cy="406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12920" y="2814480"/>
            <a:ext cx="596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5720" y="4241880"/>
            <a:ext cx="596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600" y="3751200"/>
            <a:ext cx="584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41280" y="3306600"/>
            <a:ext cx="175284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57160" y="2660760"/>
            <a:ext cx="74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C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3205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97400" y="3205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40200" y="36622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7400" y="36622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54600" y="3205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11800" y="3205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54600" y="36622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11800" y="36622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9800" y="309096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22600" y="423396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25720" y="3687840"/>
            <a:ext cx="0" cy="406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19840" y="2814480"/>
            <a:ext cx="596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62640" y="4241880"/>
            <a:ext cx="596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0160" y="3751200"/>
            <a:ext cx="584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48200" y="3306600"/>
            <a:ext cx="1752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3320" y="2660760"/>
            <a:ext cx="74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B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46760" y="31798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03960" y="31798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46760" y="3637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960" y="3637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61160" y="31798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18360" y="31798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61160" y="3637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18360" y="3637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86720" y="306540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29520" y="4208400"/>
            <a:ext cx="86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32640" y="3662280"/>
            <a:ext cx="0" cy="406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26400" y="2789280"/>
            <a:ext cx="596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69200" y="4216320"/>
            <a:ext cx="596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77080" y="3726000"/>
            <a:ext cx="5839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4760" y="3281400"/>
            <a:ext cx="175284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Aft>
                <a:spcPts val="17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45080" y="2635200"/>
            <a:ext cx="74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A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19920" y="4654440"/>
            <a:ext cx="164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 = B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33520" y="4654440"/>
            <a:ext cx="1647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 =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95720" y="4654440"/>
            <a:ext cx="1647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+ = B' + A'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-state counte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24240" y="1504800"/>
            <a:ext cx="446544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Step 4: Implement the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74680" y="2716200"/>
          <a:ext cx="662472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2716200"/>
                    <a:ext cx="662472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17840" y="346716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85800" y="3537000"/>
            <a:ext cx="50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39920" y="426708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8240" y="4336920"/>
            <a:ext cx="50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73440" y="335268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1760" y="3422520"/>
            <a:ext cx="50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570040" y="3784680"/>
            <a:ext cx="317520" cy="507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87640" y="3581280"/>
            <a:ext cx="6858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960200" y="3885840"/>
            <a:ext cx="34308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44720" y="2482920"/>
            <a:ext cx="2320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es our counter 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tuck in invalid states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-state counte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our design robu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the counter starts in a 111 stat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586320" y="383688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73360" y="3906720"/>
            <a:ext cx="50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79880" y="473868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4808520"/>
            <a:ext cx="50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45040" y="537372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32440" y="5443560"/>
            <a:ext cx="50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59440" y="470052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35680" y="4781520"/>
            <a:ext cx="50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02240" y="386244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67320" y="3932280"/>
            <a:ext cx="50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497040" y="4259160"/>
            <a:ext cx="190440" cy="50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73360" y="5099040"/>
            <a:ext cx="595440" cy="39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586400" y="5068440"/>
            <a:ext cx="523800" cy="41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4932360" y="4307040"/>
            <a:ext cx="255600" cy="406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039920" y="4052520"/>
            <a:ext cx="584280" cy="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-state counte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60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annotate our design to check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721480" y="283680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08520" y="2906640"/>
            <a:ext cx="50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15040" y="373860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91280" y="3808440"/>
            <a:ext cx="50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80200" y="437364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7600" y="4443480"/>
            <a:ext cx="50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4600" y="370044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70840" y="3781440"/>
            <a:ext cx="50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37400" y="286236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2480" y="2932200"/>
            <a:ext cx="50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632200" y="3259080"/>
            <a:ext cx="19044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08520" y="4098960"/>
            <a:ext cx="595440" cy="39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721560" y="4068360"/>
            <a:ext cx="523800" cy="41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7067520" y="3306240"/>
            <a:ext cx="25560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175080" y="3052440"/>
            <a:ext cx="584280" cy="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45280" y="1903320"/>
            <a:ext cx="2806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Draw stat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84240" y="1903320"/>
            <a:ext cx="3651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Fill in state transition table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035000" y="2489040"/>
            <a:ext cx="3051000" cy="3014640"/>
            <a:chOff x="1035000" y="2489040"/>
            <a:chExt cx="3051000" cy="3014640"/>
          </a:xfrm>
        </p:grpSpPr>
        <p:sp>
          <p:nvSpPr>
            <p:cNvPr id="173" name=""/>
            <p:cNvSpPr/>
            <p:nvPr/>
          </p:nvSpPr>
          <p:spPr>
            <a:xfrm>
              <a:off x="1395360" y="2852640"/>
              <a:ext cx="269064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5472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44600" y="3176640"/>
              <a:ext cx="271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54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35000" y="2489040"/>
              <a:ext cx="29257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5472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sent State      Next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20800" y="2842920"/>
              <a:ext cx="0" cy="254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697880" y="253692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74120" y="2617920"/>
            <a:ext cx="50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182000" y="2830680"/>
            <a:ext cx="542880" cy="18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23000" y="455940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98880" y="4640400"/>
            <a:ext cx="508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241960" y="4158720"/>
            <a:ext cx="195120" cy="414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6440" y="498168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92680" y="5062680"/>
            <a:ext cx="50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351400" y="4952880"/>
            <a:ext cx="371520" cy="206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6600" y="5667480"/>
            <a:ext cx="4349880" cy="876600"/>
          </a:xfrm>
          <a:prstGeom prst="rect">
            <a:avLst/>
          </a:pr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Tahoma"/>
              </a:rPr>
              <a:t>The proper methodology is to </a:t>
            </a:r>
            <a:r>
              <a:rPr b="1" i="1" lang="en-US" sz="1800" spc="-1" strike="noStrike">
                <a:solidFill>
                  <a:srgbClr val="d60093"/>
                </a:solidFill>
                <a:latin typeface="Tahoma"/>
              </a:rPr>
              <a:t>design</a:t>
            </a:r>
            <a:r>
              <a:rPr b="0" lang="en-US" sz="1800" spc="-1" strike="noStrike">
                <a:solidFill>
                  <a:srgbClr val="d60093"/>
                </a:solidFill>
                <a:latin typeface="Tahoma"/>
              </a:rPr>
              <a:t> your counter to be self-sta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89720" y="4379760"/>
            <a:ext cx="164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 = B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9720" y="5141880"/>
            <a:ext cx="1648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 =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89720" y="4757760"/>
            <a:ext cx="1648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+ = B' + A'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tarting cou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alid states shoul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ition to valid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res startu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res bit-error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your counters to be self-sta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es in the state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l in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nti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e-transition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limit your ability to exploit don't c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ose startup transitions that minimize the logi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subject: Finite-state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ize the counter-design method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machines have input sig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machines have complex trans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-state machines control digita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re of digital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2-04-19T20:09:20Z</cp:lastPrinted>
  <dcterms:modified xsi:type="dcterms:W3CDTF">2007-02-14T19:18:02Z</dcterms:modified>
  <cp:revision>640</cp:revision>
  <dc:subject>CSE370</dc:subject>
  <dc:title>Lecture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