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B03-8952-4A6F-B646-919C9324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DFF-21B9-4033-BEBF-CA7EF532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B0D-C76C-4CAB-971F-D2C5070D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B05-B57B-4B29-8AC5-CA8E4CC6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3F0F-D3EC-4BE4-B657-06BAEFE9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68BF-C7DF-47D4-B36B-C513B130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A70D-00B4-4ABC-854D-3CC35DB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17C7-6FB3-4058-AE01-097C0A8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0DE-4D31-4291-B2C7-A3C6FB0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A693-BF16-44E0-BA90-E16A5E04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92E5-DA10-4985-AA55-4123BBC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E50-5E4E-47F8-8505-88D6BFD7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22A9-438B-422C-B9EB-50F4C3B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5143-DA12-4225-8497-7B8D2AB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D6B2-A531-4475-AD58-942FDCF6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4B7-5285-4FFA-A073-2A75F3C6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9FF4-9F5A-4E4B-AACB-696B2743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203-F54A-4DA2-98E3-AFC0226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2F0-9D85-4188-B3C9-1715CAE9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80D-0A0E-4CDD-A87D-D452A86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062-656B-49EF-8140-A4535919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97E-F7EA-4C70-90C8-A6651043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D99-ACC5-47A6-B8DE-12DF2A7E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C4E-532D-4019-BB43-F57FA49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95FA15-39A3-45A3-B211-DABE9DCCF0A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C6018E-7FDD-4C44-A58C-33424D9D04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tial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ming methodolog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ynchronous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ic regis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rdware description languages and sequentia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681-9788-4E35-9974-B56AA47C78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41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-S latch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reak feedback path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64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3CD-CEDB-4EED-B08B-36FD7DCEA1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79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: R-S latch using NAND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386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94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09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512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E5B-5B84-47E2-9B92-95ABB9C6B5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d R-S latc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31176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ol when R and S inputs mat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wise, the slightest glitch on R or S while enable is low could ca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 in value sto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34B-E4D4-4713-9875-1396A8CFDA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c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d to keep tim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long enough for inputs (R' and S') to se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n allow to have effect on value sto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ocks are regular periodic signal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 (time between tick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uty-cycle (time clock is high between ticks - expressed as % of perio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C35-DE3F-4A61-9855-A371EB99E9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489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492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06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13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ck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olling an R-S latch with a cloc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't let R and S change while clock is active (allowing R and S to p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have half of clock period for signal changes to propa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s must be stable for the other half of clock 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33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90A-59A9-494C-B81E-65E7F1603B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42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44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80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scading latch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nect output of one latch to input of anoth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to stop changes from racing through chain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to be able to control flow of data from one latch to the n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 one latch per clock 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ve to worry about logic between latches (arrows) that is too f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C68-9DBD-4DE5-ACC3-44223E9C5E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ter-slave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reak flow by alternating clocks (like an air-lock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positive clock to latch inputs into one R-S l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negative clock to change outputs with another R-S l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iew pair as one basic uni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 flip-fl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ice as much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changes a few gate delays after the falling edge of clock but does not affect any cascaded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25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28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38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74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059-1686-4795-9488-5B18FE6A58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16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18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21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24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27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33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46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59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71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1s catching probl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first R-S stage of master-slave FF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-1-0 glitch on R or S while clock is high is "caught" by master st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s to constraints on logic to be hazard-f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525840" y="2685960"/>
            <a:ext cx="5497200" cy="1442520"/>
            <a:chOff x="3525840" y="2685960"/>
            <a:chExt cx="5497200" cy="1442520"/>
          </a:xfrm>
        </p:grpSpPr>
        <p:sp>
          <p:nvSpPr>
            <p:cNvPr id="790" name=""/>
            <p:cNvSpPr/>
            <p:nvPr/>
          </p:nvSpPr>
          <p:spPr>
            <a:xfrm>
              <a:off x="5004000" y="268812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12120" y="268596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5264640" y="3801960"/>
              <a:ext cx="680040" cy="326520"/>
              <a:chOff x="5264640" y="3801960"/>
              <a:chExt cx="680040" cy="326520"/>
            </a:xfrm>
          </p:grpSpPr>
          <p:sp>
            <p:nvSpPr>
              <p:cNvPr id="793" name=""/>
              <p:cNvSpPr/>
              <p:nvPr/>
            </p:nvSpPr>
            <p:spPr>
              <a:xfrm>
                <a:off x="5441040" y="380196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5441040" y="395208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36720" y="380196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697360" y="392544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85920" y="395640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64640" y="395640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6550560" y="356112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550560" y="294228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5840" y="382428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4692600" y="2953080"/>
              <a:ext cx="1944000" cy="989640"/>
              <a:chOff x="4692600" y="2953080"/>
              <a:chExt cx="1944000" cy="989640"/>
            </a:xfrm>
          </p:grpSpPr>
          <p:sp>
            <p:nvSpPr>
              <p:cNvPr id="803" name=""/>
              <p:cNvSpPr/>
              <p:nvPr/>
            </p:nvSpPr>
            <p:spPr>
              <a:xfrm>
                <a:off x="5010480" y="339948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10480" y="372636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5006160" y="339480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183280" y="340920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70320" y="340488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182920" y="3399480"/>
                <a:ext cx="291240" cy="31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169960" y="338652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91240" y="2953080"/>
                <a:ext cx="821880" cy="81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62160" y="304560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62160" y="345240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34840" y="345240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119640" y="304560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010480" y="299268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010480" y="331992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5006160" y="298800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183280" y="300240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170320" y="299808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182920" y="2992680"/>
                <a:ext cx="291240" cy="31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169960" y="297972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89800" y="308124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558400" y="35586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487840" y="35586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789800" y="36291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869360" y="3496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69360" y="322272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558400" y="31518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87840" y="31518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513120" y="35586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513120" y="31518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864680" y="322704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851360" y="348336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692600" y="355860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692600" y="315180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785120" y="307908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4781880" y="35571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7079040" y="2953080"/>
              <a:ext cx="1944000" cy="989640"/>
              <a:chOff x="7079040" y="2953080"/>
              <a:chExt cx="1944000" cy="989640"/>
            </a:xfrm>
          </p:grpSpPr>
          <p:sp>
            <p:nvSpPr>
              <p:cNvPr id="839" name=""/>
              <p:cNvSpPr/>
              <p:nvPr/>
            </p:nvSpPr>
            <p:spPr>
              <a:xfrm>
                <a:off x="7396920" y="339948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396920" y="372636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7392600" y="339480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569720" y="340920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556760" y="340488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569360" y="3399480"/>
                <a:ext cx="291240" cy="31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556400" y="338652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077680" y="2953080"/>
                <a:ext cx="821880" cy="81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148600" y="304560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148600" y="345240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21280" y="345240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506080" y="304560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96920" y="299268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96920" y="331992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92600" y="298800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569720" y="300240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556760" y="299808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69360" y="2992680"/>
                <a:ext cx="291240" cy="31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56400" y="297972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176240" y="308124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944840" y="35586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74280" y="35586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176240" y="36291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255800" y="3496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255800" y="322272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44840" y="31518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874280" y="31518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899560" y="35586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899560" y="315180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251120" y="322704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237800" y="348336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79040" y="355860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79040" y="315180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171560" y="308556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7168320" y="35571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 flipH="1">
              <a:off x="4205880" y="394776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75880" y="302832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84880" y="344376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6742440" y="315216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6742440" y="355896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797080" y="395172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D91-29FF-4A01-8B8F-7B6BB889AE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ke S and R complements of each oth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iminates 1s catching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't just hold previous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ust have new value ready every clock perio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D just before clock goes low is what is stored in flip-fl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make R-S flip-flop by adding logic to make D = S + R’ 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884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888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00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10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46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E84-C09D-4A56-9C4A-1A110E380F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986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956200" y="5867280"/>
            <a:ext cx="2793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dge-triggered flip-fl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re efficient solution: only 6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itive to inputs only near edge of clock signal (not while hig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7B8-0BBF-4CB5-A4C1-0AC0AF8711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18796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circui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ircuits with feedbac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= f(inputs, past inputs, past outpu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s for building "memory" into logic circu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or combination lock is an example of a sequential circ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2DD-B5E6-4277-A723-BCD6E3E4F6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09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dge-triggered flip-flop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p-by-step analysi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25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4149000" y="586728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C92-6A3D-46EA-8CB0-3D679C6B03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dge-triggered flip-flop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ositive edge-trigger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sampled on rising edge; outputs change after rising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gative edge-triggered flip-flop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sampled on falling edge; outputs change after falling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D8A-6DD9-4A66-8524-96DAF3B113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ing methodolog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ules for interconnecting components and clock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arantee proper operation of system when strictly follow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pproach depends on building blocks used for memory elemen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'll focus on systems with edge-triggered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custom integrated circuits focus on level-sensitive la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ic rules for correct timing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) correct inputs, with respect to time, are provided to the flip-flo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) no flip-flop changes state more than once per clocking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53F-6B61-49D1-B4DD-B081CEF6D1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58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63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68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75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78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085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094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3706920" y="4995720"/>
            <a:ext cx="73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20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28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ing methodologi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finition of te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038-6F35-48FB-A397-C37943EAFF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43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53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7010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ison of latches and flip-fl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1" name=""/>
          <p:cNvSpPr/>
          <p:nvPr/>
        </p:nvSpPr>
        <p:spPr>
          <a:xfrm>
            <a:off x="35812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886200" y="243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341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4120" y="2666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858000" y="243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1629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6292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7848720" y="243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00100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001000" y="266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629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7010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10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9E9-E000-4D0C-8F03-0041F2B2C5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ison of latches and flip-flop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DD7-4464-4021-A9C5-915B2C041DC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606680" y="6019920"/>
            <a:ext cx="61214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measurements are made from the clocking event that i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ising edge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ypical timing specific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ositive edge-triggered D flip-flop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1612800" y="3270240"/>
            <a:ext cx="5524560" cy="2673360"/>
            <a:chOff x="1612800" y="3270240"/>
            <a:chExt cx="5524560" cy="2673360"/>
          </a:xfrm>
        </p:grpSpPr>
        <p:sp>
          <p:nvSpPr>
            <p:cNvPr id="1239" name=""/>
            <p:cNvSpPr/>
            <p:nvPr/>
          </p:nvSpPr>
          <p:spPr>
            <a:xfrm flipV="1">
              <a:off x="3479760" y="3270240"/>
              <a:ext cx="0" cy="259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70280" y="3282840"/>
              <a:ext cx="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89240" y="32767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22760" y="403848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70480" y="487692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689440" y="327672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80160" y="48960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403440" y="3429000"/>
              <a:ext cx="812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479760" y="4267080"/>
              <a:ext cx="11430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 2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467160" y="4813200"/>
              <a:ext cx="8506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plh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5n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42080" y="4876920"/>
              <a:ext cx="7110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ph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n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95480" y="3429000"/>
              <a:ext cx="7239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u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0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479760" y="46483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479760" y="5562720"/>
              <a:ext cx="990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89440" y="56386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0280" y="3962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828800" y="3390840"/>
              <a:ext cx="558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2800" y="4267080"/>
              <a:ext cx="787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803240" y="5067360"/>
              <a:ext cx="584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13080" y="3809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2793960" y="342900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46240" y="342900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13280" y="342900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165560" y="38098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6222960" y="342900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75240" y="34290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413080" y="46483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403440" y="4266720"/>
              <a:ext cx="1526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556080" y="42670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546440" y="4267080"/>
              <a:ext cx="1526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99080" y="4648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5613480" y="4266720"/>
              <a:ext cx="1522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65760" y="4267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80160" y="4267080"/>
              <a:ext cx="1522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8324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413080" y="54864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4394160" y="51055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46440" y="51055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03840" y="51055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756480" y="5486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479760" y="39625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27680" y="3282840"/>
              <a:ext cx="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146640" y="32767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52880" y="3352680"/>
              <a:ext cx="7239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u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0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27680" y="3962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537160" y="39625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537160" y="3352680"/>
              <a:ext cx="812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20F-EDBF-4D5F-A3B9-95397BCBB4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2819520" y="4572000"/>
            <a:ext cx="593064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scading edge-triggered flip-fl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hift regi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value goes into first st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previous value of first stage goes into second st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 setup/hold/propagation delays (prop must be &gt; hol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02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04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6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F18-0E33-4861-A6DD-EB652DDA87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8" name=""/>
          <p:cNvGrpSpPr/>
          <p:nvPr/>
        </p:nvGrpSpPr>
        <p:grpSpPr>
          <a:xfrm>
            <a:off x="1600200" y="3532320"/>
            <a:ext cx="1066680" cy="2666520"/>
            <a:chOff x="1600200" y="3532320"/>
            <a:chExt cx="1066680" cy="2666520"/>
          </a:xfrm>
        </p:grpSpPr>
        <p:sp>
          <p:nvSpPr>
            <p:cNvPr id="1329" name=""/>
            <p:cNvSpPr/>
            <p:nvPr/>
          </p:nvSpPr>
          <p:spPr>
            <a:xfrm>
              <a:off x="1600200" y="353232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14600" y="354636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666880" y="354636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09680" y="354636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581280" y="3505320"/>
            <a:ext cx="1066680" cy="2666520"/>
            <a:chOff x="3581280" y="3505320"/>
            <a:chExt cx="1066680" cy="2666520"/>
          </a:xfrm>
        </p:grpSpPr>
        <p:sp>
          <p:nvSpPr>
            <p:cNvPr id="1334" name=""/>
            <p:cNvSpPr/>
            <p:nvPr/>
          </p:nvSpPr>
          <p:spPr>
            <a:xfrm>
              <a:off x="3581280" y="350532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495680" y="351936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47960" y="351936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90760" y="3519360"/>
              <a:ext cx="0" cy="265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scading edge-triggered flip-flop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y this work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s exceed hold ti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width constraint exceeds setup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guarantees following stage will latch current value before it changes to new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1371600" y="3522600"/>
            <a:ext cx="19080" cy="264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52480" y="3759120"/>
            <a:ext cx="507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681280" y="4495680"/>
            <a:ext cx="519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14720" y="6012000"/>
            <a:ext cx="528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8080" y="3429000"/>
            <a:ext cx="457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159984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0968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371600" y="3657240"/>
            <a:ext cx="3962520" cy="152640"/>
            <a:chOff x="1371600" y="3657240"/>
            <a:chExt cx="3962520" cy="152640"/>
          </a:xfrm>
        </p:grpSpPr>
        <p:sp>
          <p:nvSpPr>
            <p:cNvPr id="1350" name=""/>
            <p:cNvSpPr/>
            <p:nvPr/>
          </p:nvSpPr>
          <p:spPr>
            <a:xfrm>
              <a:off x="1371600" y="3809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152388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3880" y="365760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0920" y="36576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90920" y="380988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2209680" y="6012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371600" y="4343040"/>
            <a:ext cx="3886200" cy="152640"/>
            <a:chOff x="1371600" y="4343040"/>
            <a:chExt cx="3886200" cy="152640"/>
          </a:xfrm>
        </p:grpSpPr>
        <p:sp>
          <p:nvSpPr>
            <p:cNvPr id="1357" name=""/>
            <p:cNvSpPr/>
            <p:nvPr/>
          </p:nvSpPr>
          <p:spPr>
            <a:xfrm>
              <a:off x="1371600" y="4495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2666880" y="43430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66880" y="43434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48320" y="43434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648320" y="4495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733920" y="3759120"/>
            <a:ext cx="507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62360" y="4495680"/>
            <a:ext cx="519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581280" y="40384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19112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91120" y="601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191120" y="6012000"/>
            <a:ext cx="528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1371600" y="5714640"/>
            <a:ext cx="3886200" cy="152640"/>
            <a:chOff x="1371600" y="5714640"/>
            <a:chExt cx="3886200" cy="152640"/>
          </a:xfrm>
        </p:grpSpPr>
        <p:sp>
          <p:nvSpPr>
            <p:cNvPr id="1369" name=""/>
            <p:cNvSpPr/>
            <p:nvPr/>
          </p:nvSpPr>
          <p:spPr>
            <a:xfrm>
              <a:off x="1371600" y="58672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2209680" y="5714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209680" y="5715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71800" y="57150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71800" y="58672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4191120" y="5714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91120" y="5715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52880" y="57150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952880" y="5867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1371600" y="5028840"/>
            <a:ext cx="3886200" cy="152640"/>
            <a:chOff x="1371600" y="5028840"/>
            <a:chExt cx="3886200" cy="152640"/>
          </a:xfrm>
        </p:grpSpPr>
        <p:sp>
          <p:nvSpPr>
            <p:cNvPr id="1379" name=""/>
            <p:cNvSpPr/>
            <p:nvPr/>
          </p:nvSpPr>
          <p:spPr>
            <a:xfrm>
              <a:off x="1371600" y="51814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4648320" y="50288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48320" y="5029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E3A-E4D9-49E7-BF09-45469919D1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53000" y="4946760"/>
            <a:ext cx="8254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4615920" y="4387680"/>
            <a:ext cx="193068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proble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ct behavior assumes next state of all storage el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d by all storage elements at the same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difficult in high-performance systems because time for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arrive at flip-flop is comparable to delays through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 of skew on cascaded flip-flop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EB8-89C6-4D3D-ACA4-04B2065D54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0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1920" y="340344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1920" y="3683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1920" y="4800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rcuits with feedbac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to control feedback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stops values from cycling around endless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C48-3929-4EA7-8F16-104BE0C8E8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mary of latches and flip-fl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velopment of D-FF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made with 4 swi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storically J-K FF was popular but now never us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eset and clear inputs are highly desirable on flip-flop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516-A9BF-4117-BE0D-26EEBEDE4B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stability and asynchronous inpu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ocked synchronous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, state, and outputs sampled or changed in relation to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reference signal (called the cloc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master/slave, edge-trigg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ynchronous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, state, and outputs sampled or changed independently of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reference signal (glitches/hazards a major concer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R-S l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ynchronous inputs to synchronous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can change at any time, will not meet setup/hold ti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gerous, synchronous inputs are greatly prefer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not be avoided (e.g., reset signal, memory wait, user inpu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ABF-3C51-4FC8-96C0-8878292FAB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ynchronization fail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ccurs when FF input changes close to clock edg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F may enter a metastable state – neither a logic 0 nor 1 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may stay in this state an indefinite amount of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not likely in practice but has some prob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D22-9341-4EE2-8EBE-B345F17AE35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65840" y="4819680"/>
            <a:ext cx="1003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457880" y="6229440"/>
            <a:ext cx="250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aling with synchronization fail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bability of failure can never be reduced to 0, but it can be reduc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92B-407D-475D-ABA1-9200D6FD0F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4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4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1446120" y="3781440"/>
            <a:ext cx="133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235320" y="3781440"/>
            <a:ext cx="671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7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7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200640" y="4502160"/>
            <a:ext cx="191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0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V="1">
            <a:off x="6200640" y="4374720"/>
            <a:ext cx="18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1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ndling asynchronous inpu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ver allow asynchronous inputs to fan-out to more than one flip-flop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6D0-D3F2-486D-B4C3-BEE91033FA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ndling asynchronous input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can go wrong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changes too close to clock edge (violating setup time constrai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ACA-415D-4CFD-9177-2900BD0B87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ip-flop featu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set (set state to 0) – 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eset or set (set state to 1) – S (or sometimes P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oth reset and prese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lective input capability (input enable or load) – LD or E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lementary outputs – Q and Q'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512-345C-475C-B0F4-02BDF5BA8C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4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llections of flip-flops with similar controls and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d values somehow related (for example, form binar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clock, reset, and set l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 logic at each st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711-6C16-4970-9B0E-40F808EA6A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3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lds samples of inp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last 4 input values in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-bit shift regist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EF9-D6FE-4C4F-A476-86CF06E272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0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iversal shift regis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lds 4 valu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558-7A42-4A64-A0FE-D3DBBDE380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mplest circuits with feedbac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 inverters form a static memory cel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l hold value as long as it has power applied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to get a new value into the memory cell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ly break feedback 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new value into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48E-DFA5-4677-86B7-6796921A20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3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73720" y="403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78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78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79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79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424188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of universal shift regis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sider one of the four flip-flop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0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0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0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1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2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3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3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54D-9AF6-44B6-A78D-50C2956039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"/>
          <p:cNvSpPr/>
          <p:nvPr/>
        </p:nvSpPr>
        <p:spPr>
          <a:xfrm>
            <a:off x="1333440" y="4381560"/>
            <a:ext cx="1994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44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71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00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ift register appl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rallel-to-serial conversion for serial transmiss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D8D-7AFF-4B0C-9D5E-C0233B4088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0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11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tern recogniz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 function of input samp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is case, recognizing the pattern 1001 on the single input sig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34D-C87F-4CA3-A706-2DB8D50FCD1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1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12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unt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ces through a fixed set of patter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is case, 1000, 0100, 0010, 00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one of the patterns is its initial state (by loading or set/rese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6F7-3977-49C2-A8D8-66181579C7F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does this counter work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081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082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460440" y="4124160"/>
            <a:ext cx="8810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99880" y="405756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B76-249B-45F1-B94B-4D98C18B59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6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57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inary coun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ogic between registers (not just multiplexer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OR decides when bit should be togg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 for low-order b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when first bit is true for second b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B54-B195-4022-8326-616D234CF27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4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15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3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4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35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211720" y="4960800"/>
            <a:ext cx="1955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-bit binary synchronous up-coun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ndard component with many applica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when counter is in its highest state 1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ed using an AND 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8C0-A4EA-4A2B-8F3D-0ED5621D4EA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5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46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6551280" y="1851120"/>
            <a:ext cx="1676520" cy="2221920"/>
            <a:chOff x="6551280" y="1851120"/>
            <a:chExt cx="1676520" cy="2221920"/>
          </a:xfrm>
        </p:grpSpPr>
        <p:sp>
          <p:nvSpPr>
            <p:cNvPr id="2399" name=""/>
            <p:cNvSpPr/>
            <p:nvPr/>
          </p:nvSpPr>
          <p:spPr>
            <a:xfrm>
              <a:off x="7104240" y="1857240"/>
              <a:ext cx="81288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097760" y="1851120"/>
              <a:ext cx="83844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097760" y="3413160"/>
              <a:ext cx="5076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7097760" y="3463920"/>
              <a:ext cx="5076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945480" y="3254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945480" y="3025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923240" y="3025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945480" y="2873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923240" y="2873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945480" y="2733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932880" y="2136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923240" y="2733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945480" y="3470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945480" y="3686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923240" y="2581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945480" y="2581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923240" y="2365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075880" y="2365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221680" y="237168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H="1">
              <a:off x="7161120" y="40669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6551280" y="406692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6558120" y="324792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64600" y="325440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659640" y="3584520"/>
              <a:ext cx="5716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091640" y="2047680"/>
              <a:ext cx="99036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901200" y="2251080"/>
              <a:ext cx="99036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647040" y="2047680"/>
              <a:ext cx="45720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6" name=""/>
          <p:cNvSpPr/>
          <p:nvPr/>
        </p:nvSpPr>
        <p:spPr>
          <a:xfrm flipH="1" flipV="1">
            <a:off x="5321160" y="2589120"/>
            <a:ext cx="1098720" cy="40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fset count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rting offset counters – use of synchronous loa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ding offset counter – comparator for ending valu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s of the above (start and stop value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C10-5C3D-4AD7-B6AC-6E9EF43A6E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dware Description Languages and Sequenti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lip-flop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ation of clocks - timing of stat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nchronous vs. synchrono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hift regis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e coun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B47-8C0C-4ED5-9498-C791A577D0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>
            <a:off x="2743200" y="2666880"/>
            <a:ext cx="388620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ip-flop in Verilo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 always block's sensitivity list to wait for clock edg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1FE-E12D-44BD-BD18-1B3C426CA7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mory with cross-coupled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ross-coupled NOR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 to inverter pair, with capability to force output to 0 (reset=1) or 1 (set=1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ross-coupled NAND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 to inverter pair, with capability to force output to 0 (reset=0) or 1 (set=0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0F7-52D5-45A0-84EB-22C3CD80AB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685800" y="335268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863960" y="3352680"/>
            <a:ext cx="440712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Flip-fl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ynchronous/asynchronous reset/se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thread that waits for the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ee parallel threads – only one of which waits for the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0">
              <a:spcBef>
                <a:spcPts val="224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"/>
          <p:cNvSpPr/>
          <p:nvPr/>
        </p:nvSpPr>
        <p:spPr>
          <a:xfrm>
            <a:off x="1512000" y="27226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246640" y="2722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1C1-F4F1-4681-BBA3-4390996877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1752480" y="2666880"/>
            <a:ext cx="388620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correct Flip-flop in Verilo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 always block's sensitivity list to wait for clock to chang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444" name=""/>
          <p:cNvSpPr/>
          <p:nvPr/>
        </p:nvSpPr>
        <p:spPr>
          <a:xfrm flipH="1">
            <a:off x="4114800" y="3886200"/>
            <a:ext cx="1447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618160" y="3440160"/>
            <a:ext cx="188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the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C77-96FC-4DCB-B2F4-5B82E834FD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/>
          <p:nvPr/>
        </p:nvSpPr>
        <p:spPr>
          <a:xfrm>
            <a:off x="2666880" y="3581280"/>
            <a:ext cx="2362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638680" y="358128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ocking and Non-Blocking Assign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296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locking assignments (X=A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s the assignment before continuing on to next stat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n-blocking assignments (X&lt;=A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s in zero time and doesn’t change the value of the target until a blocking point (delay/wait) is encount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swap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9F2-16F9-4A8F-97BE-8A1FD4C1D67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533520" y="2819520"/>
            <a:ext cx="371952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ister-transfer-level (RTL) Assign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n-blocking assignment is also known as an RTL assign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used in an always block triggered by a clock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flip-flops change toget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"/>
          <p:cNvSpPr/>
          <p:nvPr/>
        </p:nvSpPr>
        <p:spPr>
          <a:xfrm>
            <a:off x="609480" y="2895480"/>
            <a:ext cx="457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3D9-4151-4382-9F48-4DA5C5B937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bius Counter in Verilo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C57-9D5E-4531-BA30-1AEBF3475B7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inary Counter in Verilo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1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460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160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15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3AC-6871-4679-8E05-45653BA194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undamental building block of circuits with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ming methodolog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ynchronous inputs and their dang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ic regist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rdware description languages and sequentia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4160"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B86-31DB-4F2F-8A8A-4D7ADC5CE3D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95000" y="4853520"/>
            <a:ext cx="3790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ing behavi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A16-68F6-4B94-9C6F-1FAC1CB29B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7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29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behavior or R-S latc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uth table of R-S latch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4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6AA-6F9D-468A-B527-711CF00A7C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oretical R-S latch behavi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: possi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tions: chan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45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54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2" idx="7"/>
              <a:endCxn id="251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6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57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"/>
            <p:cNvCxnSpPr>
              <a:stCxn id="251" idx="3"/>
              <a:endCxn id="252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9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0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49" idx="7"/>
              <a:endCxn id="250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2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63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50" idx="2"/>
              <a:endCxn id="249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5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66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50" idx="6"/>
              <a:endCxn id="250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8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69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49" idx="2"/>
              <a:endCxn id="249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2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4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75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6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7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78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2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83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7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88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9" name=""/>
            <p:cNvCxnSpPr>
              <a:stCxn id="251" idx="0"/>
              <a:endCxn id="251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316880" y="4495680"/>
            <a:ext cx="5083920" cy="1891080"/>
            <a:chOff x="1316880" y="4495680"/>
            <a:chExt cx="5083920" cy="1891080"/>
          </a:xfrm>
        </p:grpSpPr>
        <p:sp>
          <p:nvSpPr>
            <p:cNvPr id="291" name=""/>
            <p:cNvSpPr/>
            <p:nvPr/>
          </p:nvSpPr>
          <p:spPr>
            <a:xfrm>
              <a:off x="1316880" y="5562720"/>
              <a:ext cx="261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4495680"/>
              <a:ext cx="457200" cy="13716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50292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791320" y="502848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221-08E9-4060-9428-CCC67E4060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bserved R-S latch behavi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y difficult to observe R-S latch in the 1-1 st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of R or S usually changes fir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mbiguously returns to state 0-1 or 1-0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o-called "race condition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non-deterministic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298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301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301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3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04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10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1" name=""/>
              <p:cNvCxnSpPr>
                <a:stCxn id="307" idx="7"/>
                <a:endCxn id="308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12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4" name=""/>
              <p:cNvCxnSpPr>
                <a:stCxn id="308" idx="2"/>
                <a:endCxn id="307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15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16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7" name=""/>
              <p:cNvCxnSpPr>
                <a:stCxn id="308" idx="6"/>
                <a:endCxn id="308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18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19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0" name=""/>
              <p:cNvCxnSpPr>
                <a:stCxn id="307" idx="2"/>
                <a:endCxn id="307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1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22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3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4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25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6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7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28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1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2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33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"/>
              <p:cNvCxnSpPr>
                <a:stCxn id="301" idx="0"/>
                <a:endCxn id="301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I - Sequenti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D46-EB1B-4C8A-9859-BC370375D2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0-11-11T05:40:23Z</dcterms:modified>
  <cp:revision>27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