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F97-7142-40F7-9379-F04B0F07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5A2-BC4F-4C5C-9FD2-DB5DF86C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560-994B-4BA9-AB46-6D4E4F99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B8F-1D94-4A15-A709-E12A0BC2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52DB-FA07-43CB-86BA-2C30D18C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435A-731A-4D85-BFB9-0C044B70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92E8-BED9-4597-AB06-81A2716E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32A8-55D6-4CFF-9238-848C4036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4EFB-6FC1-4C40-A2FB-0E1CCEE2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A387-830B-433D-B815-A75CE7F5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E845-676C-436B-BA2F-5A811591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229-FFE6-40A4-9698-25B43CE4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E752-3C76-4545-9A65-15A62348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97A5-961A-4E0A-B39A-F048DCD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85DB-33ED-4C84-AD4B-0737AB57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5B55-39FC-4F4D-B9B1-0F419111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59984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3928320"/>
            <a:ext cx="263340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D055-81FB-42CC-81A5-19A4750D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2BE-291F-4ABA-B75D-E0937147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47D-6D98-40B5-A12F-00D19AAF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E57-77D3-4644-A4B9-E812ADF8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45F-4E9C-4DA7-B3F0-121F1749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469-9C56-451E-ADEA-1BB96737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2832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007-65E0-416D-8CB4-1FA185FF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599840"/>
            <a:ext cx="399096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8178840" cy="21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440-357B-4960-A16E-08D2B8E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outline text forma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con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2" marL="1143000" indent="-22860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rd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3" marL="1600200" indent="-228600">
              <a:spcBef>
                <a:spcPts val="7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ur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88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f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ix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venth Outline Leve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36760" y="6400800"/>
            <a:ext cx="439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91E0-910B-4CA1-B7D2-4FBD72289BA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E0BF-37A7-4DD1-9540-AE574504E4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370/00au/" TargetMode="External"/><Relationship Id="rId2" Type="http://schemas.openxmlformats.org/officeDocument/2006/relationships/hyperlink" Target="http://www.cs.washington.edu/370/00au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737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SE370: Introduction to Digital Desig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urse staff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tano Borriello, Krishna Gummadi, Shawn Bonh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urse web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www.cs.washington.edu/education/courses/370/00au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www.cs.washington.edu/370/00au/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da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 administration, overview of course web, and log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s week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logic desig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digital hardwa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will we be doing in this class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3C1-9DBF-4BA2-B621-D90A2975F4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ation: abstract vs. 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366920"/>
                <a:tab algn="l" pos="3892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p to now, computation has been a mental exercise (paper, program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25800" indent="-32580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366920"/>
                <a:tab algn="l" pos="3892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is class is about physically implementing computation using physical 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vices that use voltages to represent logical valu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25800" indent="-32580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366920"/>
                <a:tab algn="l" pos="3892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asic units of computation are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05600" indent="-2714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366920"/>
                <a:tab algn="l" pos="3892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esentation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0", "1" on a wi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 of wires (e.g., for binary integer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366920"/>
                <a:tab algn="l" pos="3892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= 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366920"/>
                <a:tab algn="l" pos="3892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opera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+ y –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366920"/>
                <a:tab algn="l" pos="3892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quential statements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; B;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tional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  x == 1   then  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p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 i = 1 ; i == 10, i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; proc(...);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366920"/>
                <a:tab algn="l" pos="3892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e will study how each of these are implemented in hardware and 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posed into computational structur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EE2-74D1-4E9E-8542-C6E566CF2E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92600" y="2701800"/>
            <a:ext cx="40705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switch (if A is “1” or 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n light bulb (Z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92400" y="2314440"/>
            <a:ext cx="550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92600" y="2314440"/>
            <a:ext cx="550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362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92600" y="4383000"/>
            <a:ext cx="40705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switch (if A is “0” or un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ff light bulb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itches: basic element of physical implementa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lementing a simple circuit (arrow shows action if wire changes to “1”)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911400" y="5562720"/>
            <a:ext cx="87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29718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895480" y="3429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219320" y="3429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21932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123720" y="2421000"/>
            <a:ext cx="762480" cy="550800"/>
            <a:chOff x="3123720" y="2421000"/>
            <a:chExt cx="762480" cy="550800"/>
          </a:xfrm>
        </p:grpSpPr>
        <p:sp>
          <p:nvSpPr>
            <p:cNvPr id="128" name=""/>
            <p:cNvSpPr/>
            <p:nvPr/>
          </p:nvSpPr>
          <p:spPr>
            <a:xfrm>
              <a:off x="3408120" y="254016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6360" y="2421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7360" y="256536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3000" y="255276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33760" y="254016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70320" y="265284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546360" y="264024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429000" y="288612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52840" y="287172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08120" y="252720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1280" y="29718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123720" y="29718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752480" y="2742840"/>
            <a:ext cx="609840" cy="305280"/>
            <a:chOff x="1752480" y="2742840"/>
            <a:chExt cx="609840" cy="305280"/>
          </a:xfrm>
        </p:grpSpPr>
        <p:sp>
          <p:nvSpPr>
            <p:cNvPr id="141" name=""/>
            <p:cNvSpPr/>
            <p:nvPr/>
          </p:nvSpPr>
          <p:spPr>
            <a:xfrm flipH="1" flipV="1">
              <a:off x="1905120" y="274284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09680" y="2895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2895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14600" y="3200400"/>
            <a:ext cx="380880" cy="457200"/>
            <a:chOff x="2514600" y="3200400"/>
            <a:chExt cx="380880" cy="457200"/>
          </a:xfrm>
        </p:grpSpPr>
        <p:sp>
          <p:nvSpPr>
            <p:cNvPr id="145" name=""/>
            <p:cNvSpPr/>
            <p:nvPr/>
          </p:nvSpPr>
          <p:spPr>
            <a:xfrm>
              <a:off x="2895480" y="3200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19520" y="3276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3200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66880" y="3276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90920" y="3200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14600" y="3276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192400" y="41212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168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648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648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895480" y="5105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219320" y="51055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219320" y="4648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64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123720" y="4097160"/>
            <a:ext cx="762480" cy="550800"/>
            <a:chOff x="3123720" y="4097160"/>
            <a:chExt cx="762480" cy="550800"/>
          </a:xfrm>
        </p:grpSpPr>
        <p:sp>
          <p:nvSpPr>
            <p:cNvPr id="160" name=""/>
            <p:cNvSpPr/>
            <p:nvPr/>
          </p:nvSpPr>
          <p:spPr>
            <a:xfrm>
              <a:off x="3408120" y="42163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6360" y="40971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57360" y="42415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83000" y="422892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33760" y="421632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70320" y="432900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546360" y="431640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429000" y="45622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52840" y="454788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08120" y="420336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81280" y="4647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123720" y="4647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752480" y="4572000"/>
            <a:ext cx="609840" cy="152280"/>
            <a:chOff x="1752480" y="4572000"/>
            <a:chExt cx="609840" cy="152280"/>
          </a:xfrm>
        </p:grpSpPr>
        <p:sp>
          <p:nvSpPr>
            <p:cNvPr id="173" name=""/>
            <p:cNvSpPr/>
            <p:nvPr/>
          </p:nvSpPr>
          <p:spPr>
            <a:xfrm flipH="1">
              <a:off x="18288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09680" y="4572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52480" y="4572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14600" y="4876920"/>
            <a:ext cx="380880" cy="457200"/>
            <a:chOff x="2514600" y="4876920"/>
            <a:chExt cx="380880" cy="457200"/>
          </a:xfrm>
        </p:grpSpPr>
        <p:sp>
          <p:nvSpPr>
            <p:cNvPr id="177" name=""/>
            <p:cNvSpPr/>
            <p:nvPr/>
          </p:nvSpPr>
          <p:spPr>
            <a:xfrm>
              <a:off x="289548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9520" y="495324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4320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495324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9092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14600" y="495324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809880" y="3962520"/>
            <a:ext cx="55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A91-FE0E-4208-A9FD-7D43CB103C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0" y="2521080"/>
            <a:ext cx="90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36760" y="4376880"/>
            <a:ext cx="750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005280" y="2816280"/>
            <a:ext cx="2017080" cy="218880"/>
            <a:chOff x="3005280" y="2816280"/>
            <a:chExt cx="2017080" cy="218880"/>
          </a:xfrm>
        </p:grpSpPr>
        <p:sp>
          <p:nvSpPr>
            <p:cNvPr id="187" name=""/>
            <p:cNvSpPr/>
            <p:nvPr/>
          </p:nvSpPr>
          <p:spPr>
            <a:xfrm>
              <a:off x="30052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56360" y="2816280"/>
              <a:ext cx="32544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9440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45480" y="2816280"/>
              <a:ext cx="32580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838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130560" y="48783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89280" y="46594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95760" y="510552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19680" y="5110200"/>
            <a:ext cx="325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57720" y="51055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478400" y="46465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244760" y="4653000"/>
            <a:ext cx="23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906360" y="4421160"/>
            <a:ext cx="351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682800" y="465300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84520" y="4878360"/>
            <a:ext cx="4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0036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8948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41702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64040" y="52992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06680" y="2990880"/>
            <a:ext cx="1126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068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4000" y="29908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2124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4610160"/>
            <a:ext cx="1126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70360" y="5060880"/>
            <a:ext cx="1126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4000" y="5048280"/>
            <a:ext cx="1144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4000" y="4610160"/>
            <a:ext cx="1144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80080" y="2647800"/>
            <a:ext cx="1577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03840" y="4552920"/>
            <a:ext cx="1454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38520" y="2359080"/>
            <a:ext cx="549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2333520"/>
            <a:ext cx="55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925800"/>
            <a:ext cx="549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7920" y="54928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itche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pose switches into more complex ones (Boolean functions)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69E-A7F0-4239-88BF-A3FF22329B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witch setting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 whether or not a conducting path exists to ligh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ight bul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 build larger computa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a light bulb (output of the network) to set other switches (inputs to another network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nect together switching network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construct larger  switching networks, i.e., there is a way to connect outputs of one network to the inputs of the nex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6D0-8B9E-446A-95C3-61695BC0D5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362320" y="3121200"/>
            <a:ext cx="14666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h comp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witch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238720" y="3209760"/>
            <a:ext cx="163080" cy="763560"/>
            <a:chOff x="5238720" y="3209760"/>
            <a:chExt cx="163080" cy="763560"/>
          </a:xfrm>
        </p:grpSpPr>
        <p:sp>
          <p:nvSpPr>
            <p:cNvPr id="226" name=""/>
            <p:cNvSpPr/>
            <p:nvPr/>
          </p:nvSpPr>
          <p:spPr>
            <a:xfrm>
              <a:off x="5238720" y="320976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88760" y="338508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8720" y="33220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88760" y="325980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38720" y="34473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88760" y="36226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38720" y="35604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8760" y="349740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38720" y="368532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8760" y="38606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38720" y="37980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88760" y="373572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246480" y="4287960"/>
            <a:ext cx="3395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flowing through coi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gnetizes core and causes norm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 (nc) contact to be pulled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30680" y="5073480"/>
            <a:ext cx="42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no current flows, the spring of the cont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it to its norma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lay networ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15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 simple way to convert between conducting paths and switch settings is 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 use (electro-mechanical) relays.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32640" indent="-3326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is a relay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32640" indent="-3326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determines the switching speed of a relay network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72000" y="2819520"/>
            <a:ext cx="380880" cy="457200"/>
            <a:chOff x="4572000" y="2819520"/>
            <a:chExt cx="380880" cy="457200"/>
          </a:xfrm>
        </p:grpSpPr>
        <p:sp>
          <p:nvSpPr>
            <p:cNvPr id="243" name=""/>
            <p:cNvSpPr/>
            <p:nvPr/>
          </p:nvSpPr>
          <p:spPr>
            <a:xfrm>
              <a:off x="4952880" y="2819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6920" y="2895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00600" y="2819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24280" y="2895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2819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2000" y="2895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952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480" y="3048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03516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396252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38480" y="4038480"/>
            <a:ext cx="130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3962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666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28954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590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2819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6668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089680" y="2311560"/>
            <a:ext cx="1484280" cy="1587240"/>
            <a:chOff x="5089680" y="2311560"/>
            <a:chExt cx="1484280" cy="1587240"/>
          </a:xfrm>
        </p:grpSpPr>
        <p:grpSp>
          <p:nvGrpSpPr>
            <p:cNvPr id="265" name=""/>
            <p:cNvGrpSpPr/>
            <p:nvPr/>
          </p:nvGrpSpPr>
          <p:grpSpPr>
            <a:xfrm>
              <a:off x="5245200" y="2311560"/>
              <a:ext cx="1328760" cy="914400"/>
              <a:chOff x="5245200" y="2311560"/>
              <a:chExt cx="1328760" cy="914400"/>
            </a:xfrm>
          </p:grpSpPr>
          <p:sp>
            <p:nvSpPr>
              <p:cNvPr id="266" name=""/>
              <p:cNvSpPr/>
              <p:nvPr/>
            </p:nvSpPr>
            <p:spPr>
              <a:xfrm>
                <a:off x="5245200" y="2311560"/>
                <a:ext cx="1328760" cy="9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484960" y="2681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18120" y="2604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18120" y="283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5468040" y="2784240"/>
                <a:ext cx="643320" cy="254880"/>
                <a:chOff x="5468040" y="2784240"/>
                <a:chExt cx="643320" cy="254880"/>
              </a:xfrm>
            </p:grpSpPr>
            <p:sp>
              <p:nvSpPr>
                <p:cNvPr id="271" name=""/>
                <p:cNvSpPr/>
                <p:nvPr/>
              </p:nvSpPr>
              <p:spPr>
                <a:xfrm flipV="1">
                  <a:off x="5514480" y="2915640"/>
                  <a:ext cx="5968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899200">
                  <a:off x="5489280" y="279720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3" name=""/>
            <p:cNvSpPr/>
            <p:nvPr/>
          </p:nvSpPr>
          <p:spPr>
            <a:xfrm>
              <a:off x="5089680" y="327816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398-8A79-4E23-8B52-5B85FEB762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nsistor networ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lays aren't used much anymo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traffic light controllers are still electro-mechan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dern digital systems are designed in CMOS technolog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S stands for Metal-Oxide on Semicondu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is for complementary because there are both normally-open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mally-closed swit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S transistors act as voltage-controlled switch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ilar, though easier to work with than relay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D51-C03B-41D0-8E61-647405E333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6364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gt; voltage (S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852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d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lt; voltage (S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S transis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S transistors have three terminals: drain, gate, and sourc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y act as switches in the following wa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voltage on the gate terminal is (some amount) higher/lower than the source terminal then a conducting path will be established between the drain and source termin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6227640" y="350532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62720" y="4221000"/>
            <a:ext cx="325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70920" y="4221000"/>
            <a:ext cx="280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65480" y="347508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4191120"/>
            <a:ext cx="32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08400" y="4191120"/>
            <a:ext cx="28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13040" y="3809520"/>
            <a:ext cx="1371600" cy="533880"/>
            <a:chOff x="1913040" y="3809520"/>
            <a:chExt cx="1371600" cy="533880"/>
          </a:xfrm>
        </p:grpSpPr>
        <p:sp>
          <p:nvSpPr>
            <p:cNvPr id="287" name=""/>
            <p:cNvSpPr/>
            <p:nvPr/>
          </p:nvSpPr>
          <p:spPr>
            <a:xfrm flipV="1">
              <a:off x="2370240" y="411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7024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744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274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70240" y="4038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598840" y="380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130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875200" y="3839760"/>
            <a:ext cx="1371600" cy="533880"/>
            <a:chOff x="5875200" y="3839760"/>
            <a:chExt cx="1371600" cy="533880"/>
          </a:xfrm>
        </p:grpSpPr>
        <p:sp>
          <p:nvSpPr>
            <p:cNvPr id="295" name=""/>
            <p:cNvSpPr/>
            <p:nvPr/>
          </p:nvSpPr>
          <p:spPr>
            <a:xfrm flipV="1">
              <a:off x="6332400" y="4144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32400" y="4145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9600" y="4145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96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32400" y="4068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561000" y="3839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8752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00880" y="3943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CBA-1D49-4E53-8E00-D870C33643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124080" y="3200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11120" y="3048120"/>
            <a:ext cx="365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808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05080" y="21337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365760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438280" y="25142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11840" y="3745080"/>
            <a:ext cx="88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61080" y="357012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64400" y="3156120"/>
            <a:ext cx="0" cy="159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51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78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24440" y="42210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38120" y="4255920"/>
            <a:ext cx="33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86280" y="2065320"/>
            <a:ext cx="210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 and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S networ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752480" y="3885840"/>
            <a:ext cx="1371600" cy="533880"/>
            <a:chOff x="1752480" y="3885840"/>
            <a:chExt cx="1371600" cy="533880"/>
          </a:xfrm>
        </p:grpSpPr>
        <p:sp>
          <p:nvSpPr>
            <p:cNvPr id="319" name=""/>
            <p:cNvSpPr/>
            <p:nvPr/>
          </p:nvSpPr>
          <p:spPr>
            <a:xfrm flipV="1">
              <a:off x="220968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09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4191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438280" y="3885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752480" y="2666520"/>
            <a:ext cx="1371600" cy="533880"/>
            <a:chOff x="1752480" y="2666520"/>
            <a:chExt cx="1371600" cy="533880"/>
          </a:xfrm>
        </p:grpSpPr>
        <p:sp>
          <p:nvSpPr>
            <p:cNvPr id="327" name=""/>
            <p:cNvSpPr/>
            <p:nvPr/>
          </p:nvSpPr>
          <p:spPr>
            <a:xfrm flipV="1">
              <a:off x="22096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0968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2971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668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438280" y="2666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7524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8160" y="2770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8360" y="42260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3680" y="373536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0080" y="3657600"/>
            <a:ext cx="8967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40B-01FE-489F-9B6F-7D93A126190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834080" y="392436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37400" y="3573360"/>
            <a:ext cx="0" cy="220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21440" y="348444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48440" y="348444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01000" y="34974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029200" y="4091040"/>
            <a:ext cx="1773360" cy="1730160"/>
            <a:chOff x="5029200" y="4091040"/>
            <a:chExt cx="1773360" cy="1730160"/>
          </a:xfrm>
        </p:grpSpPr>
        <p:sp>
          <p:nvSpPr>
            <p:cNvPr id="345" name=""/>
            <p:cNvSpPr/>
            <p:nvPr/>
          </p:nvSpPr>
          <p:spPr>
            <a:xfrm>
              <a:off x="5900760" y="409104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13360" y="452916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3360" y="4968720"/>
              <a:ext cx="889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13360" y="5407200"/>
              <a:ext cx="88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410364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29200" y="453384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29200" y="496404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41800" y="539604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121360" y="2319480"/>
            <a:ext cx="2305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, y and 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o input networ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3659040" y="2362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0800" y="217800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904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44760" y="14479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38600" y="144792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677960" y="18284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354816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992160" y="3200040"/>
            <a:ext cx="1371600" cy="533880"/>
            <a:chOff x="992160" y="3200040"/>
            <a:chExt cx="1371600" cy="533880"/>
          </a:xfrm>
        </p:grpSpPr>
        <p:sp>
          <p:nvSpPr>
            <p:cNvPr id="363" name=""/>
            <p:cNvSpPr/>
            <p:nvPr/>
          </p:nvSpPr>
          <p:spPr>
            <a:xfrm flipV="1">
              <a:off x="1449360" y="350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49360" y="3505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6560" y="3505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06560" y="3733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9360" y="3429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677960" y="3200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992160" y="3733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992160" y="1828440"/>
            <a:ext cx="1371600" cy="533880"/>
            <a:chOff x="992160" y="1828440"/>
            <a:chExt cx="1371600" cy="533880"/>
          </a:xfrm>
        </p:grpSpPr>
        <p:sp>
          <p:nvSpPr>
            <p:cNvPr id="371" name=""/>
            <p:cNvSpPr/>
            <p:nvPr/>
          </p:nvSpPr>
          <p:spPr>
            <a:xfrm flipV="1">
              <a:off x="1449360" y="2133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49360" y="2133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6560" y="21337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6560" y="2362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9360" y="2057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677960" y="1828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992160" y="2362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17840" y="193212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287440" y="3200040"/>
            <a:ext cx="1371600" cy="533880"/>
            <a:chOff x="2287440" y="3200040"/>
            <a:chExt cx="1371600" cy="533880"/>
          </a:xfrm>
        </p:grpSpPr>
        <p:sp>
          <p:nvSpPr>
            <p:cNvPr id="380" name=""/>
            <p:cNvSpPr/>
            <p:nvPr/>
          </p:nvSpPr>
          <p:spPr>
            <a:xfrm flipV="1">
              <a:off x="2744640" y="350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44640" y="3505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1840" y="3505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01840" y="3733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4640" y="3429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973240" y="3200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287440" y="3733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 flipH="1">
            <a:off x="1144080" y="29718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287440" y="2362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973240" y="18284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4440" y="23623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92560" y="3048120"/>
            <a:ext cx="363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287440" y="2437920"/>
            <a:ext cx="1371600" cy="533880"/>
            <a:chOff x="2287440" y="2437920"/>
            <a:chExt cx="1371600" cy="533880"/>
          </a:xfrm>
        </p:grpSpPr>
        <p:sp>
          <p:nvSpPr>
            <p:cNvPr id="393" name=""/>
            <p:cNvSpPr/>
            <p:nvPr/>
          </p:nvSpPr>
          <p:spPr>
            <a:xfrm flipV="1">
              <a:off x="2744640" y="2742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44640" y="2743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1840" y="27432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0184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44640" y="2666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2973240" y="24379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28744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13120" y="25416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068480" y="2286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3080" y="28954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3080" y="31240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9040" y="50292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0800" y="484488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59040" y="5562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44760" y="41148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38600" y="411480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677960" y="4495680"/>
            <a:ext cx="0" cy="145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1280" y="621504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992160" y="5866920"/>
            <a:ext cx="1371600" cy="533880"/>
            <a:chOff x="992160" y="5866920"/>
            <a:chExt cx="1371600" cy="533880"/>
          </a:xfrm>
        </p:grpSpPr>
        <p:sp>
          <p:nvSpPr>
            <p:cNvPr id="412" name=""/>
            <p:cNvSpPr/>
            <p:nvPr/>
          </p:nvSpPr>
          <p:spPr>
            <a:xfrm flipV="1">
              <a:off x="1449360" y="6171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49360" y="6172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6560" y="61722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06560" y="64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49360" y="6095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1677960" y="58669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992160" y="64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992160" y="4495320"/>
            <a:ext cx="1371600" cy="533880"/>
            <a:chOff x="992160" y="4495320"/>
            <a:chExt cx="1371600" cy="533880"/>
          </a:xfrm>
        </p:grpSpPr>
        <p:sp>
          <p:nvSpPr>
            <p:cNvPr id="420" name=""/>
            <p:cNvSpPr/>
            <p:nvPr/>
          </p:nvSpPr>
          <p:spPr>
            <a:xfrm flipV="1">
              <a:off x="1449360" y="4800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9360" y="4800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6560" y="4800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6560" y="5029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49360" y="4724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677960" y="4495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992160" y="5029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17840" y="45990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87440" y="5257440"/>
            <a:ext cx="1371600" cy="533880"/>
            <a:chOff x="2287440" y="5257440"/>
            <a:chExt cx="1371600" cy="533880"/>
          </a:xfrm>
        </p:grpSpPr>
        <p:sp>
          <p:nvSpPr>
            <p:cNvPr id="429" name=""/>
            <p:cNvSpPr/>
            <p:nvPr/>
          </p:nvSpPr>
          <p:spPr>
            <a:xfrm flipV="1">
              <a:off x="274464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44640" y="5562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1840" y="55627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01840" y="5791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44640" y="5486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2973240" y="5257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287440" y="5791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 flipH="1">
            <a:off x="1144080" y="5791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287440" y="6400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973240" y="44953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4440" y="57913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92560" y="5410080"/>
            <a:ext cx="36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287440" y="4495320"/>
            <a:ext cx="1371600" cy="533880"/>
            <a:chOff x="2287440" y="4495320"/>
            <a:chExt cx="1371600" cy="533880"/>
          </a:xfrm>
        </p:grpSpPr>
        <p:sp>
          <p:nvSpPr>
            <p:cNvPr id="442" name=""/>
            <p:cNvSpPr/>
            <p:nvPr/>
          </p:nvSpPr>
          <p:spPr>
            <a:xfrm flipV="1">
              <a:off x="2744640" y="4800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44640" y="4800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1840" y="4800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01840" y="5029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44640" y="4724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973240" y="4495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287440" y="5029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13120" y="45990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068480" y="63244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3080" y="5715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3080" y="5486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75640" y="40640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9680" y="45054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5000" y="49482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80320" y="53910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05880" y="40784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19920" y="45194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15240" y="49626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810560" y="54054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75640" y="580536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05880" y="581976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78800" y="4019400"/>
            <a:ext cx="1846080" cy="22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31C-8EBC-41A2-9517-18D1F87047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ed of MOS network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influences the speed of CMOS networks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ing and discharging of voltages on wires and gates of transis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pacitors hold charg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acitance is at gates of transistors and wire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sistors slow movement of electr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istance mostly due to transis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CAC-A111-4B1E-AA22-A2E3B95DFD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y are we here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bvious reas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course is part of the CS/CompE requir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is the implementation basis for all modern computing de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ilding large things from small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a model of how a computer wor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re important reas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inherent parallelism in hardware is often our first exposure to parallel compu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offers an interesting counterpoint to software design and is theref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ful in furthering our understanding of computation, in gene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C4C-83C5-4D69-9C5F-7EA357E6DF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832040" y="2008080"/>
            <a:ext cx="4454640" cy="163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538080" y="3657600"/>
            <a:ext cx="2760840" cy="88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330960" y="3425760"/>
            <a:ext cx="2254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 of CSE 3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ation of digital desig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69696"/>
                </a:solidFill>
                <a:uFillTx/>
                <a:latin typeface="Tahoma"/>
              </a:rPr>
              <a:t>Physical devices (transistors,  relay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witch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ruth tabl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oolean algebra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avefor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ite state behavi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gister-transfer behavi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69696"/>
                </a:solidFill>
                <a:uFillTx/>
                <a:latin typeface="Tahoma"/>
              </a:rPr>
              <a:t>Concurrent abstract specifica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9A3-42A7-4FBA-A62C-3E02F3C15B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gital vs. analo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venient to think of digital systems as having only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iscrete, digital, input/output valu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reality, real electronic components exhibit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tinuous, analog, behavi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y do we make the digital abstraction anyway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es operate this w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ier to think about a small number of discret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y does it work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 not propagate small errors in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 resets to 0 or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367-DAE7-429D-A13F-38DDF01DBA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527040" y="1752480"/>
            <a:ext cx="811548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State 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St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y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Clo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OS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1.0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3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 transistor logic (TTL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0.8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5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er Op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f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RA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harged capaci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volatile memory (erasable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pped electr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trapped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blow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memo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gnetic bub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d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ux rever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ct dis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360" y="2128680"/>
            <a:ext cx="80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pping from physical world to binary worl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077-40BE-4B92-A2C4-C84B56464C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651120" y="2170080"/>
            <a:ext cx="1301760" cy="95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74960" y="228924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74600" y="26161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887560" y="30304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74840" y="268452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74840" y="292248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74840" y="2809800"/>
            <a:ext cx="511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41720" y="22892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41720" y="261612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952520" y="30304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43400" y="268452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43400" y="292248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43400" y="2809800"/>
            <a:ext cx="4788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16280" y="2465280"/>
            <a:ext cx="814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37120" y="2465280"/>
            <a:ext cx="1014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94120" y="2478240"/>
            <a:ext cx="101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vs. sequential digital circui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 simple model of a digital system is a unit with inputs and output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binational means "memory-less"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digital circuit is combinational if its output val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depend on its input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DC7-F8D7-4A27-90A9-89AAF1A4D7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803240" y="4168800"/>
            <a:ext cx="690840" cy="3016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1803240" y="5210280"/>
            <a:ext cx="690840" cy="27612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156120" y="4168800"/>
            <a:ext cx="750600" cy="3016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3156120" y="5210280"/>
            <a:ext cx="750600" cy="276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1803240" y="3003480"/>
            <a:ext cx="438480" cy="2494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3156120" y="3003480"/>
            <a:ext cx="501480" cy="2494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3840120" y="3235320"/>
            <a:ext cx="2241720" cy="14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51360" y="4476600"/>
            <a:ext cx="2130480" cy="21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064040" y="4689000"/>
            <a:ext cx="2017800" cy="57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164280" y="4130640"/>
            <a:ext cx="2603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CMOS transis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switches we ha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and use 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logic symbo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mon combinational logic systems have standard symbols called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ogic gat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356400" indent="-1371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ffer, NO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56400" indent="-1371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, NAN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56400" indent="-13716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, N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2286360" y="2962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6800" y="40514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85360" y="426420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47000" y="4145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08840" y="5178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75640" y="29606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83560" y="50864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82120" y="529920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0D9-63CB-45D2-9819-5C78605A58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quential syste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hibit behaviors (output values) that depend not on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he current input values, but also on previous input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reality, all real circuits are sequential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ause the outputs do not change instantaneously after an input ch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y not, and why is it then sequential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 fundamental abstraction of digital design is to reason (mostly) about 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eady-state behavior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 at the outputs only after sufficient time has elapsed for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make its required changes and settle 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FF5-1BFE-4F3E-A9F2-B3574FB12B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ynchronous sequential digital sys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utputs of a combinational circuit depend only on current inpu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sufficient time has elap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quential circuits have memor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n after waiting for the transient activity to fini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steady-state abstraction is so useful that most designers use a form of  it when constructing sequential circuits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memory of a system is represented as its 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s in system state are only allowed to occur at specific times controlled by an external periodic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ock period is the time that elapses between state changes it must be sufficiently long so that the system reaches a steady-state before the next state change at the end of the peri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4B4-CF83-4CDB-97A6-80B9597F71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207120" y="279720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301608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54600" y="346716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108920" y="32418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337356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86400" y="290844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42080" y="31240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651720" y="3686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65840" y="398304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ple of combinational and sequential logi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mbinational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A,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it for clock e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e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it for another clock e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e C again: will stay the s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equential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A,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it for clock e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e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it for another clock e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e C again: may be differ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A0C-8B4A-4C3D-9151-89E2BF8ADE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bstrac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ome we've seen already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gital interpretation of analog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s as swit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es as logic g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of a clock to realize a synchronous sequential circu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ome others we will se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uth tables and Boolean algebra to represent combinationa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coding of signals with more than two logical values into binary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diagrams to represent sequentia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scription languages to represent digital 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veforms to represent temporal behav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B6C-64CF-44F2-84D1-AF35201D2D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lendar subsystem: number of days in a month (to control watch display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: number of d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B20-855A-4102-92F8-BE4D49BC2A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will we learn in CSE370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language of logic desig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olean algebra, logic minimization, state, timing, CAD to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concept of state in digital system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ogous to variables and program counters in software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to specify/simulate/compile our desig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scription langu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s to simulate the workings of our desig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 compilers to synthesize the hardware blocks of our desig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ping onto programmable hardware (code gener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trast with software desig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quential and parallel implemen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algorithm as well as computing/storage resources it will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50A-9CD7-4267-A98D-9D17583B58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tion in softwa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: return (3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2: if (leap_year_flag == 1) then return (29) else return (2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3: return (3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26F-5068-41CD-93FB-71E484C62BA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862360" y="4568760"/>
            <a:ext cx="14634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411624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95720" y="41371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32320" y="411624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06600" y="411624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57680" y="411624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5520" y="54705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80000" y="54705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51160" y="54705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83040" y="3822840"/>
            <a:ext cx="85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94040" y="380988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76600" y="5854680"/>
            <a:ext cx="674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60720" y="5854680"/>
            <a:ext cx="67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40160" y="5854680"/>
            <a:ext cx="677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13120" y="5854680"/>
            <a:ext cx="676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25800" y="54705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48160" y="1962000"/>
            <a:ext cx="32623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9144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26040" y="2438280"/>
            <a:ext cx="359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27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75560" y="2219400"/>
            <a:ext cx="6120" cy="38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tion as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digital syst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ncoding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many bits for each input/output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nary number for mon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 wires for 28, 29, 30, and 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ehavior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uth t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9C9-4675-4D23-A1FD-AEF37D4D46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 flipV="1">
            <a:off x="7935840" y="2290320"/>
            <a:ext cx="546120" cy="83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075440" y="2064960"/>
            <a:ext cx="4680" cy="1135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6108840" y="2108160"/>
            <a:ext cx="6480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94640" y="1600200"/>
            <a:ext cx="8254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89440" y="1612800"/>
            <a:ext cx="876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58320" y="1851120"/>
            <a:ext cx="77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example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ruth-table to logic to switches to gat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28 = 1 when month=0010 and leap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28 = m8'•m4'•m2•m1'•leap'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1 when month=0001 or month=0011 or ... month=1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m8'•m4'•m2'•m1) + (m8'•m4'•m2•m1) + ... (m8•m4•m2'•m1'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can we simplify m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648320" y="3581280"/>
            <a:ext cx="4017960" cy="2728800"/>
            <a:chOff x="4648320" y="3581280"/>
            <a:chExt cx="4017960" cy="2728800"/>
          </a:xfrm>
        </p:grpSpPr>
        <p:sp>
          <p:nvSpPr>
            <p:cNvPr id="565" name=""/>
            <p:cNvSpPr/>
            <p:nvPr/>
          </p:nvSpPr>
          <p:spPr>
            <a:xfrm>
              <a:off x="4870440" y="3581280"/>
              <a:ext cx="379584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48320" y="4057560"/>
              <a:ext cx="35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97840" y="3838320"/>
              <a:ext cx="0" cy="24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489-138D-4CD2-838F-D3747FBB77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example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28 = m8'•m4'•m2•m1'•leap’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29 = m8'•m4'•m2•m1'•leap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0 = (m8'•m4•m2'•m1') + (m8'•m4•m2•m1') + (m8•m4'•m2'•m1) +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(m8•m4'•m2•m1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m8'•m4'•m2'•m1) + (m8'•m4'•m2•m1) + (m8'•m4•m2'•m1) +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(m8'•m4•m2•m1) + (m8•m4'•m2'•m1') + (m8•m4'•m2•m1') +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(m8•m4•m2'•m1'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rcRect l="19584" t="70710" r="0" b="1012"/>
          <a:stretch/>
        </p:blipFill>
        <p:spPr>
          <a:xfrm>
            <a:off x="870120" y="4321080"/>
            <a:ext cx="7256160" cy="190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023-EDC0-4FE9-A241-5EFF9AEA80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much can we simplify d31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if we started the months with 0 instead of 1?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(i.e., January is 0000 and December is 1011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1073160" y="214632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7 or less and odd (1, 3, 5, 7),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8 or more and even (8, 10, 12, and includes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60560" y="2911320"/>
            <a:ext cx="7234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 is 0 and m1 is 1, or m8 is 1 and m1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 + m8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68480" y="4686480"/>
            <a:ext cx="7234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complex expression (0, 2, 4, 6, 7, 9, 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4’m2’m1’ + m8’m4’m2m1’ + m8’m4m2’m1’ + m8’m4m2m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8’m4m2m1 + m8m4’m2’m1 + m8m4’m2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72360" y="565632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’ + m8’m4m2 + m8m1  (includes 13 and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068120" y="59864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d28 + d29 + d30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885960" y="2055960"/>
            <a:ext cx="8113680" cy="4257360"/>
            <a:chOff x="885960" y="2055960"/>
            <a:chExt cx="8113680" cy="4257360"/>
          </a:xfrm>
        </p:grpSpPr>
        <p:sp>
          <p:nvSpPr>
            <p:cNvPr id="579" name=""/>
            <p:cNvSpPr/>
            <p:nvPr/>
          </p:nvSpPr>
          <p:spPr>
            <a:xfrm>
              <a:off x="887400" y="2055960"/>
              <a:ext cx="811224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85960" y="4683240"/>
              <a:ext cx="811188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77B-8446-4EDA-AF3E-09F3ED9098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binational example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28 = m8'•m4'•m2•m1'•leap’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29 = m8'•m4'•m2•m1'•leap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0 = (m8'•m4•m2'•m1') + (m8'•m4•m2•m1') + (m8•m4'•m2'•m1) +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(m8•m4'•m2•m1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31 = (m8'•m4'•m2'•m1) + (m8'•m4'•m2•m1) + (m8'•m4•m2'•m1) +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(m8'•m4•m2•m1) + (m8•m4'•m2'•m4') + (m8•m4'•m2•m1') +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(m8•m4•m2'•m1'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349280" y="4078440"/>
            <a:ext cx="1764720" cy="1919880"/>
            <a:chOff x="1349280" y="4078440"/>
            <a:chExt cx="1764720" cy="1919880"/>
          </a:xfrm>
        </p:grpSpPr>
        <p:pic>
          <p:nvPicPr>
            <p:cNvPr id="584" name="" descr=""/>
            <p:cNvPicPr/>
            <p:nvPr/>
          </p:nvPicPr>
          <p:blipFill>
            <a:blip r:embed="rId1"/>
            <a:srcRect l="35650" t="78708" r="46228" b="1568"/>
            <a:stretch/>
          </p:blipFill>
          <p:spPr>
            <a:xfrm>
              <a:off x="1349280" y="4078440"/>
              <a:ext cx="1764720" cy="19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1396800" y="5732640"/>
              <a:ext cx="69804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6" name="" descr=""/>
          <p:cNvPicPr/>
          <p:nvPr/>
        </p:nvPicPr>
        <p:blipFill>
          <a:blip r:embed="rId2"/>
          <a:srcRect l="68283" t="51621" r="0" b="3414"/>
          <a:stretch/>
        </p:blipFill>
        <p:spPr>
          <a:xfrm>
            <a:off x="4579920" y="4138560"/>
            <a:ext cx="3030480" cy="16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3CC-B5B9-42DF-BC4D-896C15F941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other 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oor combination lock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: must remember combin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always have it available as an in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452-7EEC-4EBC-BE61-CCE61F5B4E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tion in softwa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FEA-8186-4E3D-8842-8DF1882C97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051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lementation as a sequential digital syste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ncoding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many bits per input val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many values in sequenc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do we know a new input value is entere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do we represent the states of the system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ehavior: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wire tells us when it’s ok to look at inpu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.e., they have settled after chan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quential: sequence of values must be ent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quential: remember if an error occur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ite-state spec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334120" y="3957480"/>
            <a:ext cx="3669840" cy="2442960"/>
            <a:chOff x="5334120" y="3957480"/>
            <a:chExt cx="3669840" cy="2442960"/>
          </a:xfrm>
        </p:grpSpPr>
        <p:sp>
          <p:nvSpPr>
            <p:cNvPr id="594" name=""/>
            <p:cNvSpPr/>
            <p:nvPr/>
          </p:nvSpPr>
          <p:spPr>
            <a:xfrm>
              <a:off x="6694200" y="4714560"/>
              <a:ext cx="18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51480" y="426240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65960" y="426240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02560" y="426240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75400" y="426240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26120" y="426240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153280" y="3968640"/>
              <a:ext cx="850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89760" y="3957480"/>
              <a:ext cx="1213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13360" y="600048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19760" y="56019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13440" y="426240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62720" y="3968640"/>
              <a:ext cx="839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230880" y="5386320"/>
              <a:ext cx="4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34120" y="520992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05360" y="529740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705000" y="537336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391520" y="5029200"/>
            <a:ext cx="76176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7B4-31E4-42A4-878A-831FD1B1365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4853160" y="3909600"/>
            <a:ext cx="2468520" cy="1365480"/>
            <a:chOff x="4853160" y="3909600"/>
            <a:chExt cx="2468520" cy="1365480"/>
          </a:xfrm>
        </p:grpSpPr>
        <p:sp>
          <p:nvSpPr>
            <p:cNvPr id="612" name=""/>
            <p:cNvSpPr/>
            <p:nvPr/>
          </p:nvSpPr>
          <p:spPr>
            <a:xfrm>
              <a:off x="5361120" y="4416480"/>
              <a:ext cx="15033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4853160" y="390960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432480" y="3909600"/>
            <a:ext cx="1671840" cy="1365480"/>
            <a:chOff x="6432480" y="3909600"/>
            <a:chExt cx="1671840" cy="1365480"/>
          </a:xfrm>
        </p:grpSpPr>
        <p:sp>
          <p:nvSpPr>
            <p:cNvPr id="615" name=""/>
            <p:cNvSpPr/>
            <p:nvPr/>
          </p:nvSpPr>
          <p:spPr>
            <a:xfrm>
              <a:off x="6602400" y="441648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432480" y="3909600"/>
              <a:ext cx="88920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477800" y="5119560"/>
            <a:ext cx="1108080" cy="338400"/>
            <a:chOff x="1477800" y="5119560"/>
            <a:chExt cx="1108080" cy="338400"/>
          </a:xfrm>
        </p:grpSpPr>
        <p:sp>
          <p:nvSpPr>
            <p:cNvPr id="618" name=""/>
            <p:cNvSpPr/>
            <p:nvPr/>
          </p:nvSpPr>
          <p:spPr>
            <a:xfrm>
              <a:off x="2147760" y="526896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77800" y="5119560"/>
              <a:ext cx="7146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545240" y="5614920"/>
            <a:ext cx="239760" cy="331920"/>
            <a:chOff x="7545240" y="5614920"/>
            <a:chExt cx="239760" cy="331920"/>
          </a:xfrm>
        </p:grpSpPr>
        <p:sp>
          <p:nvSpPr>
            <p:cNvPr id="621" name=""/>
            <p:cNvSpPr/>
            <p:nvPr/>
          </p:nvSpPr>
          <p:spPr>
            <a:xfrm>
              <a:off x="7551720" y="56149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778880" y="56149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545240" y="5946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748480" y="5614920"/>
            <a:ext cx="803160" cy="633600"/>
            <a:chOff x="5748480" y="5614920"/>
            <a:chExt cx="803160" cy="633600"/>
          </a:xfrm>
        </p:grpSpPr>
        <p:sp>
          <p:nvSpPr>
            <p:cNvPr id="625" name=""/>
            <p:cNvSpPr/>
            <p:nvPr/>
          </p:nvSpPr>
          <p:spPr>
            <a:xfrm>
              <a:off x="5975280" y="56149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99200" y="56149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968800" y="59468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48480" y="59086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172040" y="5614920"/>
            <a:ext cx="799920" cy="633600"/>
            <a:chOff x="4172040" y="5614920"/>
            <a:chExt cx="799920" cy="633600"/>
          </a:xfrm>
        </p:grpSpPr>
        <p:sp>
          <p:nvSpPr>
            <p:cNvPr id="630" name=""/>
            <p:cNvSpPr/>
            <p:nvPr/>
          </p:nvSpPr>
          <p:spPr>
            <a:xfrm>
              <a:off x="4395960" y="56149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22760" y="56149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389480" y="5946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72040" y="590868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592360" y="5614920"/>
            <a:ext cx="803160" cy="633600"/>
            <a:chOff x="2592360" y="5614920"/>
            <a:chExt cx="803160" cy="633600"/>
          </a:xfrm>
        </p:grpSpPr>
        <p:sp>
          <p:nvSpPr>
            <p:cNvPr id="635" name=""/>
            <p:cNvSpPr/>
            <p:nvPr/>
          </p:nvSpPr>
          <p:spPr>
            <a:xfrm>
              <a:off x="2819520" y="56149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43080" y="56149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2812680" y="59468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592360" y="59086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598840" y="4807080"/>
            <a:ext cx="995400" cy="807840"/>
            <a:chOff x="2598840" y="4807080"/>
            <a:chExt cx="995400" cy="807840"/>
          </a:xfrm>
        </p:grpSpPr>
        <p:sp>
          <p:nvSpPr>
            <p:cNvPr id="640" name=""/>
            <p:cNvSpPr/>
            <p:nvPr/>
          </p:nvSpPr>
          <p:spPr>
            <a:xfrm>
              <a:off x="2666880" y="51307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98840" y="49370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44800" y="48070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2992320" y="4807080"/>
            <a:ext cx="2181240" cy="1065240"/>
            <a:chOff x="2992320" y="4807080"/>
            <a:chExt cx="2181240" cy="1065240"/>
          </a:xfrm>
        </p:grpSpPr>
        <p:sp>
          <p:nvSpPr>
            <p:cNvPr id="644" name=""/>
            <p:cNvSpPr/>
            <p:nvPr/>
          </p:nvSpPr>
          <p:spPr>
            <a:xfrm>
              <a:off x="4233960" y="51307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92320" y="53197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76720" y="52689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21240" y="48070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78160" y="4937040"/>
              <a:ext cx="67500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572000" y="4807080"/>
            <a:ext cx="2179800" cy="1065240"/>
            <a:chOff x="4572000" y="4807080"/>
            <a:chExt cx="2179800" cy="1065240"/>
          </a:xfrm>
        </p:grpSpPr>
        <p:sp>
          <p:nvSpPr>
            <p:cNvPr id="650" name=""/>
            <p:cNvSpPr/>
            <p:nvPr/>
          </p:nvSpPr>
          <p:spPr>
            <a:xfrm>
              <a:off x="5824440" y="5130720"/>
              <a:ext cx="563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72000" y="53197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100920" y="48070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853160" y="52689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54600" y="49370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151680" y="4807080"/>
            <a:ext cx="2292120" cy="1065240"/>
            <a:chOff x="6151680" y="4807080"/>
            <a:chExt cx="2292120" cy="1065240"/>
          </a:xfrm>
        </p:grpSpPr>
        <p:sp>
          <p:nvSpPr>
            <p:cNvPr id="656" name=""/>
            <p:cNvSpPr/>
            <p:nvPr/>
          </p:nvSpPr>
          <p:spPr>
            <a:xfrm>
              <a:off x="6151680" y="5319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91480" y="48070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32480" y="52689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34280" y="49370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53440" y="5130720"/>
              <a:ext cx="463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276720" y="3451320"/>
            <a:ext cx="5240160" cy="1823760"/>
            <a:chOff x="3276720" y="3451320"/>
            <a:chExt cx="5240160" cy="1823760"/>
          </a:xfrm>
        </p:grpSpPr>
        <p:sp>
          <p:nvSpPr>
            <p:cNvPr id="662" name=""/>
            <p:cNvSpPr/>
            <p:nvPr/>
          </p:nvSpPr>
          <p:spPr>
            <a:xfrm>
              <a:off x="3894120" y="4303800"/>
              <a:ext cx="15048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276720" y="390960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91520" y="377820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15160" y="3451320"/>
              <a:ext cx="801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34280" y="3583080"/>
              <a:ext cx="6746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51720" y="3257640"/>
            <a:ext cx="227160" cy="350640"/>
            <a:chOff x="7551720" y="3257640"/>
            <a:chExt cx="227160" cy="350640"/>
          </a:xfrm>
        </p:grpSpPr>
        <p:sp>
          <p:nvSpPr>
            <p:cNvPr id="668" name=""/>
            <p:cNvSpPr/>
            <p:nvPr/>
          </p:nvSpPr>
          <p:spPr>
            <a:xfrm flipV="1">
              <a:off x="7778880" y="32576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51720" y="32576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58200" y="326376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example (cont’d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bstract contr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ite-state diagram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371520" indent="-1429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: 5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542880" indent="-1141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542880" indent="-1141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71520" indent="-1429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tions: 6 from state to state, 5 self transitions, 1 glob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542880" indent="-1141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s of state occur when clock says it’s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542880" indent="-1141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71520" indent="-1429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: reset, new, results of comparis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71520" indent="-1429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 open/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DE3-159D-47FF-BD66-7BB5713C308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pplications of logic desig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ventional computer desig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Us, busses, peripher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tworking and communication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ones, modems, rou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mbedded product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ars, toys, appliances, entertainment de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cientific equipmen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ing, sensing, repor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world of computing is much much bigger than just PCs!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93C-1B12-4632-8E30-1E4B83C2D9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729400" y="4791240"/>
            <a:ext cx="18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260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89920" y="404496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37400" y="607536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47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008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99000" y="4044960"/>
            <a:ext cx="83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96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6384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4520" y="54673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85960" y="501660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28760" y="4678200"/>
            <a:ext cx="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4621320"/>
            <a:ext cx="41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19480" y="4621320"/>
            <a:ext cx="725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4120" y="4621320"/>
            <a:ext cx="728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16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2419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673360" y="5348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79840" y="53546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45004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3704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79640" y="606420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7960" y="4997520"/>
            <a:ext cx="97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2472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8120" y="40449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9200" y="5073480"/>
            <a:ext cx="853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0240" y="483552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476600" y="51228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7408800" y="54547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421400" y="534204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32640" y="546084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77240" y="528624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example (cont’d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ata-path vs. contr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ternal structur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age for combin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for data-pa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 changes controlled by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0DD-669B-4A9C-85C7-ECBF4B06DD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1190520" y="2668680"/>
            <a:ext cx="7037280" cy="2988720"/>
            <a:chOff x="1190520" y="2668680"/>
            <a:chExt cx="7037280" cy="2988720"/>
          </a:xfrm>
        </p:grpSpPr>
        <p:sp>
          <p:nvSpPr>
            <p:cNvPr id="712" name=""/>
            <p:cNvSpPr/>
            <p:nvPr/>
          </p:nvSpPr>
          <p:spPr>
            <a:xfrm>
              <a:off x="230976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58680" y="467964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87640" y="46796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987640" y="3320640"/>
              <a:ext cx="404496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564080" y="3320640"/>
              <a:ext cx="246852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143400" y="3320640"/>
              <a:ext cx="88920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02440" y="3187440"/>
              <a:ext cx="561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15880" y="4441680"/>
              <a:ext cx="690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90520" y="4530600"/>
              <a:ext cx="712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0504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636720" y="367632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81480" y="3752640"/>
              <a:ext cx="1503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25920" y="382896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862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115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67972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068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336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100400" y="5357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530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543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2523600" y="5357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64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4898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25760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460840" y="53193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8296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0328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54280" y="4216320"/>
              <a:ext cx="6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33600" y="4216320"/>
              <a:ext cx="649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10040" y="4216320"/>
              <a:ext cx="65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02400" y="4216320"/>
              <a:ext cx="650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27880" y="2862000"/>
              <a:ext cx="79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89080" y="4348080"/>
              <a:ext cx="67500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95560" y="4441680"/>
              <a:ext cx="687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64080" y="467964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82920" y="461628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6552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72000" y="4441680"/>
              <a:ext cx="690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43400" y="46796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6080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45200" y="4348080"/>
              <a:ext cx="67644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62560" y="4541760"/>
              <a:ext cx="463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045200" y="29937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47684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25148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57960" y="26730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example (cont’d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ite-state machin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ite-state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ine state diagram to include internal struct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F4C-D2A3-4497-9696-8D75EE699B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"/>
          <p:cNvGrpSpPr/>
          <p:nvPr/>
        </p:nvGrpSpPr>
        <p:grpSpPr>
          <a:xfrm>
            <a:off x="838080" y="3282840"/>
            <a:ext cx="5854680" cy="3276720"/>
            <a:chOff x="838080" y="3282840"/>
            <a:chExt cx="5854680" cy="3276720"/>
          </a:xfrm>
        </p:grpSpPr>
        <p:sp>
          <p:nvSpPr>
            <p:cNvPr id="762" name=""/>
            <p:cNvSpPr/>
            <p:nvPr/>
          </p:nvSpPr>
          <p:spPr>
            <a:xfrm>
              <a:off x="982440" y="345924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38080" y="393552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657600" y="35877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33560" y="328284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example (cont’d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ite-state machin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nite-state machin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te state table (much like a truth-tab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649760" y="1778040"/>
            <a:ext cx="3998520" cy="1698480"/>
            <a:chOff x="4649760" y="1778040"/>
            <a:chExt cx="3998520" cy="1698480"/>
          </a:xfrm>
        </p:grpSpPr>
        <p:sp>
          <p:nvSpPr>
            <p:cNvPr id="769" name=""/>
            <p:cNvSpPr/>
            <p:nvPr/>
          </p:nvSpPr>
          <p:spPr>
            <a:xfrm>
              <a:off x="528552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29200" y="29206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67072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5670720" y="2148840"/>
              <a:ext cx="229860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566760" y="2148840"/>
              <a:ext cx="140256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464240" y="2148840"/>
              <a:ext cx="50508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009280" y="2072880"/>
              <a:ext cx="3193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89120" y="2785680"/>
              <a:ext cx="3924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49760" y="2836080"/>
              <a:ext cx="405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1016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39720" y="2350440"/>
              <a:ext cx="8532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17400" y="2394000"/>
              <a:ext cx="85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567920" y="243720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043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324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720036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068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4357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303240" y="3305880"/>
              <a:ext cx="13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1116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38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5406840" y="330588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1010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229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809712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076160" y="3284280"/>
              <a:ext cx="454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7976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28192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81360" y="2657520"/>
              <a:ext cx="370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78840" y="2657520"/>
              <a:ext cx="36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74520" y="2657520"/>
              <a:ext cx="37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236440" y="2657520"/>
              <a:ext cx="36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3960" y="1887840"/>
              <a:ext cx="45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183000" y="2732400"/>
              <a:ext cx="3834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86600" y="2785680"/>
              <a:ext cx="39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66760" y="292068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406920" y="288468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7904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82640" y="2785680"/>
              <a:ext cx="3920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6424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30368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976520" y="2732400"/>
              <a:ext cx="38412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043120" y="2842200"/>
              <a:ext cx="2631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976520" y="1962720"/>
              <a:ext cx="384120" cy="384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822204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09388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97480" y="1780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4B3-7FE5-4AE0-9311-1398061034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example (cont’d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ncode state tab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eds at least 3 bits to encode: 000, 001, 010, 011,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s many as 5: 00001, 00010, 00100, 01000, 10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4 bits: 0001, 0010, 0100, 1000, 0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eds 2 to 3 bits to enco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3 bits: 001, 010,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eds 1 or 2 bits to enco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1 bits: 1,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923-906B-4BE5-895D-1477829B532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6570720" y="4430880"/>
            <a:ext cx="235116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choice of encod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is identical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t 3 bits of sta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cal to first b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example (cont’d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ncode state tab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4 bits: 0001, 0010, 0100, 1000, 0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3 bits: 001, 010,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1 bits: 1,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1525680" y="3325680"/>
            <a:ext cx="5854680" cy="3276720"/>
            <a:chOff x="1525680" y="3325680"/>
            <a:chExt cx="5854680" cy="3276720"/>
          </a:xfrm>
        </p:grpSpPr>
        <p:sp>
          <p:nvSpPr>
            <p:cNvPr id="822" name=""/>
            <p:cNvSpPr/>
            <p:nvPr/>
          </p:nvSpPr>
          <p:spPr>
            <a:xfrm>
              <a:off x="1670040" y="350208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25680" y="397836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345200" y="363060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421160" y="332568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35F-C701-4708-97CF-7B5D6C30FA9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ve lock always wait for 3 key presses exactly before making a decisio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 r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3294000" y="3606840"/>
            <a:ext cx="1503360" cy="1387440"/>
            <a:chOff x="3294000" y="3606840"/>
            <a:chExt cx="1503360" cy="1387440"/>
          </a:xfrm>
        </p:grpSpPr>
        <p:sp>
          <p:nvSpPr>
            <p:cNvPr id="829" name=""/>
            <p:cNvSpPr/>
            <p:nvPr/>
          </p:nvSpPr>
          <p:spPr>
            <a:xfrm flipV="1">
              <a:off x="3871800" y="3606840"/>
              <a:ext cx="8701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94000" y="39117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818240" y="3629160"/>
            <a:ext cx="1521720" cy="1365120"/>
            <a:chOff x="4818240" y="3629160"/>
            <a:chExt cx="1521720" cy="1365120"/>
          </a:xfrm>
        </p:grpSpPr>
        <p:sp>
          <p:nvSpPr>
            <p:cNvPr id="832" name=""/>
            <p:cNvSpPr/>
            <p:nvPr/>
          </p:nvSpPr>
          <p:spPr>
            <a:xfrm flipV="1">
              <a:off x="5451480" y="362916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818240" y="3987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1611360" y="4524480"/>
            <a:ext cx="5850000" cy="1441440"/>
            <a:chOff x="1611360" y="4524480"/>
            <a:chExt cx="5850000" cy="1441440"/>
          </a:xfrm>
        </p:grpSpPr>
        <p:sp>
          <p:nvSpPr>
            <p:cNvPr id="835" name=""/>
            <p:cNvSpPr/>
            <p:nvPr/>
          </p:nvSpPr>
          <p:spPr>
            <a:xfrm>
              <a:off x="161748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95360" y="4988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2396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01276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942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1964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4987800" y="566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1460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6417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408120" y="566604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381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0620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1831680" y="5666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768920" y="562788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9068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1136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62000" y="452448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541680" y="45244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18120" y="4524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10480" y="45244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97160" y="4656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03640" y="4749840"/>
              <a:ext cx="6872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71800" y="4988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91000" y="492444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7360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8008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51480" y="4988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6888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53280" y="465624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70640" y="4849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1639800" y="3083040"/>
            <a:ext cx="2683080" cy="1911240"/>
            <a:chOff x="1639800" y="3083040"/>
            <a:chExt cx="2683080" cy="1911240"/>
          </a:xfrm>
        </p:grpSpPr>
        <p:sp>
          <p:nvSpPr>
            <p:cNvPr id="866" name=""/>
            <p:cNvSpPr/>
            <p:nvPr/>
          </p:nvSpPr>
          <p:spPr>
            <a:xfrm flipV="1">
              <a:off x="2295360" y="3606840"/>
              <a:ext cx="9223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39800" y="391176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7492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22600" y="308304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17680" y="32259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3141720" y="2616120"/>
            <a:ext cx="801720" cy="635040"/>
            <a:chOff x="3141720" y="2616120"/>
            <a:chExt cx="801720" cy="635040"/>
          </a:xfrm>
        </p:grpSpPr>
        <p:sp>
          <p:nvSpPr>
            <p:cNvPr id="872" name=""/>
            <p:cNvSpPr/>
            <p:nvPr/>
          </p:nvSpPr>
          <p:spPr>
            <a:xfrm flipV="1">
              <a:off x="364968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342432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3044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172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665600" y="2616120"/>
            <a:ext cx="801720" cy="635040"/>
            <a:chOff x="4665600" y="2616120"/>
            <a:chExt cx="801720" cy="635040"/>
          </a:xfrm>
        </p:grpSpPr>
        <p:sp>
          <p:nvSpPr>
            <p:cNvPr id="877" name=""/>
            <p:cNvSpPr/>
            <p:nvPr/>
          </p:nvSpPr>
          <p:spPr>
            <a:xfrm flipV="1">
              <a:off x="517356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494820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95468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6560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3643200" y="3094200"/>
            <a:ext cx="2214720" cy="807840"/>
            <a:chOff x="3643200" y="3094200"/>
            <a:chExt cx="2214720" cy="807840"/>
          </a:xfrm>
        </p:grpSpPr>
        <p:sp>
          <p:nvSpPr>
            <p:cNvPr id="882" name=""/>
            <p:cNvSpPr/>
            <p:nvPr/>
          </p:nvSpPr>
          <p:spPr>
            <a:xfrm>
              <a:off x="479916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57640" y="309420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41920" y="322596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79720" y="3575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43200" y="330048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5211720" y="3103560"/>
            <a:ext cx="2313000" cy="808200"/>
            <a:chOff x="5211720" y="3103560"/>
            <a:chExt cx="2313000" cy="808200"/>
          </a:xfrm>
        </p:grpSpPr>
        <p:sp>
          <p:nvSpPr>
            <p:cNvPr id="888" name=""/>
            <p:cNvSpPr/>
            <p:nvPr/>
          </p:nvSpPr>
          <p:spPr>
            <a:xfrm>
              <a:off x="6399360" y="342900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24800" y="310356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2120" y="323532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27720" y="357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211720" y="329400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257480" y="3547800"/>
            <a:ext cx="6526080" cy="2540160"/>
            <a:chOff x="1257480" y="3547800"/>
            <a:chExt cx="6526080" cy="2540160"/>
          </a:xfrm>
        </p:grpSpPr>
        <p:sp>
          <p:nvSpPr>
            <p:cNvPr id="894" name=""/>
            <p:cNvSpPr/>
            <p:nvPr/>
          </p:nvSpPr>
          <p:spPr>
            <a:xfrm>
              <a:off x="1257480" y="5014800"/>
              <a:ext cx="3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57480" y="5014800"/>
              <a:ext cx="0" cy="10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57480" y="6087960"/>
              <a:ext cx="65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7783560" y="354780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016400" y="3548160"/>
              <a:ext cx="76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027920" y="4992480"/>
              <a:ext cx="75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590400" y="2408400"/>
            <a:ext cx="784080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BFB-9338-4B28-831D-59654140658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658880" y="3009960"/>
            <a:ext cx="18036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23208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119400" y="2263680"/>
            <a:ext cx="85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65440" y="429408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554200" y="39117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87956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28840" y="226368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55420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216160" y="2263680"/>
            <a:ext cx="8524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28680" y="3292560"/>
            <a:ext cx="851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39720" y="305424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406080" y="33415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3338640" y="36734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3351240" y="3560400"/>
            <a:ext cx="98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462480" y="3679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06720" y="35053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479920" y="4727520"/>
            <a:ext cx="18036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077240" y="4275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6484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097600" y="599904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62600" y="513072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724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307120" y="3981600"/>
            <a:ext cx="83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99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9752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459320" y="467532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4227120" y="499752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6975360" y="5435280"/>
            <a:ext cx="1144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978600" y="5319360"/>
            <a:ext cx="1126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089840" y="5435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4160" y="5230800"/>
            <a:ext cx="563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413400" y="5316480"/>
            <a:ext cx="676440" cy="23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618160" y="4863960"/>
            <a:ext cx="1565280" cy="2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211800" y="513036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6205680" y="54356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756480" y="513864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816520" y="486108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435720" y="5302080"/>
            <a:ext cx="91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6958080" y="4267080"/>
            <a:ext cx="134784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7696080" y="3276360"/>
            <a:ext cx="6098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237280" y="2125800"/>
            <a:ext cx="3055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ing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old to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81480" y="21337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quential example (cont’d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roller implement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lementation of the controll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32C-B214-4735-A04A-168B81C2F24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4468680" y="1690560"/>
            <a:ext cx="102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263680" y="2644920"/>
            <a:ext cx="1214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72040" y="2631960"/>
            <a:ext cx="10130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805280" y="3648240"/>
            <a:ext cx="15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208560" y="3660840"/>
            <a:ext cx="216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838160" y="3722760"/>
            <a:ext cx="1365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203640" y="3735360"/>
            <a:ext cx="1390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0320" y="3584520"/>
            <a:ext cx="927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503520" y="5038560"/>
            <a:ext cx="1065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18120" y="5038560"/>
            <a:ext cx="8413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849920" y="1973160"/>
            <a:ext cx="1428480" cy="70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2784240" y="1962000"/>
            <a:ext cx="205236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406240" y="2963880"/>
            <a:ext cx="252360" cy="77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658960" y="2938320"/>
            <a:ext cx="1100160" cy="84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317600" y="2927520"/>
            <a:ext cx="135432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192320" y="4105440"/>
            <a:ext cx="2655720" cy="93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886200" y="4143240"/>
            <a:ext cx="1603440" cy="89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5552640" y="2914560"/>
            <a:ext cx="77652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353280" y="2914560"/>
            <a:ext cx="86508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59120" y="4029120"/>
            <a:ext cx="1604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06600" y="4029120"/>
            <a:ext cx="2932200" cy="10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5415120" y="4143240"/>
            <a:ext cx="1790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740040" y="5791320"/>
            <a:ext cx="1854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4800240" y="5346720"/>
            <a:ext cx="5634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886200" y="5334120"/>
            <a:ext cx="638280" cy="46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ign hierarch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C7D-4523-43E1-A5D0-CC3E4A859AA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at was what the entire course is abou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verting solutions to problems into combinational and sequenti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 effectively organizing the design hierarchica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ing so with a modern set of design tools that lets us handle large designs effective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ing advantage of optimization opportuni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w lets do it agai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ime we'll take nine wee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649-6B34-4688-B875-A225A2399B5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quick history less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850: George Boole invents Boolean algebra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s logical propositions to symbo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mits manipulation of logic statements using mathema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938: Claude Shannon links Boolean algebra to switch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s Masters’ the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945: John von Neumann develops the first stored program compu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s switching elements are vacuum tubes (a big advance from relay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946: ENIAC . . . The world’s first completely electronic compute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,000 vacuum tub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ral hundred multiplications per minu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947: Shockley, Brittain, and Bardeen invent the transistor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laces vacuum tub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able integration of multiple devices into one pack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way to modern electron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922-2BDD-45B9-9340-428F685949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is logic design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is design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ven a specification of a problem, come up with a way of solving i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osing appropriately from a collection of available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meeting some criteria for size, cost, power, beauty, elegance, etc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is logic design?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ing the collection of digital logic components to perform a specified control and/or data manipulation and/or communication function and the interconnections between th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logic components to choose? – there are many implement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hnologies (e.g., off-the-shelf fixed-function components, programmable devices, transistors on a chip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esign may need to be optimized and/or transformed to meet desig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65A-EDDA-4620-ADB2-3ADA03D2F1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5294160" y="5064120"/>
            <a:ext cx="4042080" cy="1740960"/>
            <a:chOff x="5294160" y="5064120"/>
            <a:chExt cx="4042080" cy="1740960"/>
          </a:xfrm>
        </p:grpSpPr>
        <p:sp>
          <p:nvSpPr>
            <p:cNvPr id="96" name=""/>
            <p:cNvSpPr/>
            <p:nvPr/>
          </p:nvSpPr>
          <p:spPr>
            <a:xfrm>
              <a:off x="6799320" y="5509800"/>
              <a:ext cx="762120" cy="761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65800" y="5205240"/>
              <a:ext cx="6098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265800" y="6119280"/>
              <a:ext cx="6098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61440" y="589104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00640" y="644184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94160" y="506412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10760" y="5759280"/>
              <a:ext cx="82548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r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42240" y="5773320"/>
              <a:ext cx="52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is digital hardware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llection of devices that sense and/or control wires that carry a digital 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alue (i.e., a physical quantity that can be interpreted as a “0” or “1”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7920" indent="-280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digital logic where voltage &lt; 0.8v is a “0” and &gt; 2.0v is a “1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pair of transmission wires where a “0” or “1” is distinguished by which wire has a higher voltage (differentia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orientation of magnetization signifies a “0” or a “1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imitive digital hardware devices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27920" indent="-280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 computation devices (sense and dr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 two wires both “1” - make another be “1” (AN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at least one of two wires “1” - make another be “1” (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a wire “1” - then make another be “0” (NO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 devices (sto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 a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3800" indent="-223920">
              <a:spcBef>
                <a:spcPts val="224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all a previously stored valu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CF6-CE3C-428C-8FBD-82B854C6E4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is happening now in digital design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ortant trends in how industry does hardware desig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r and larger desig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er and shorter time to mar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aper and cheaper produ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cale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vasive use of computer-aided design tools over hand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levels of design re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me 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hasis on abstract design represen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ather than fixed function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matic synthesis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ance of sound design methodolog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st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er levels of integ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of simulation to debug desig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078-9ECB-415D-B928-883588F64B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343400"/>
            <a:ext cx="807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w abi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o accomplish the logic design task with the aid of computer-ai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map a problem description into an implementation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after validation via simulation and understand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 the advantages/disadvantages as compared to a softwa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SE 370: concepts/skills/abilit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nderstanding the basics of logic design (concept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Understanding sound design methodologies (concept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odern specification methods (concept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amiliarity with a full set of CAD tools (skills)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  <a:p>
            <a:pPr marL="343080" indent="-343080">
              <a:spcBef>
                <a:spcPts val="788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ppreciation for the differences and similarities (abilities)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 hardware and software design</a:t>
            </a:r>
            <a:endParaRPr b="0" lang="en-US" sz="1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370 - I -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6D4-9674-47D8-B6AD-500423BFD1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tumn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>Gaetano Borriello</dc:creator>
  <dc:description/>
  <dc:language>en-US</dc:language>
  <cp:lastModifiedBy>gaetano</cp:lastModifiedBy>
  <cp:lastPrinted>2000-09-25T15:09:03Z</cp:lastPrinted>
  <dcterms:modified xsi:type="dcterms:W3CDTF">2000-09-29T14:59:59Z</dcterms:modified>
  <cp:revision>38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