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269413" cy="6948488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383-4E9E-40B1-8220-41FD1E38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D57-139E-44AC-AE68-07B895FF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312-218B-465B-B9DF-57A89DCB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772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76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68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772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76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6EF7-EBD1-40FD-9C86-7D062B6A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23A9-0942-434F-9182-FF8ECEE7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A6F3-25D1-4DC2-A7E3-20D7775C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0721-ADFF-4C96-97F7-5CAD83C8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D070-4937-4498-A85A-0E283103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624E-AA8F-4F07-8044-09A6E650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12560" y="231480"/>
            <a:ext cx="78800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7756-D5F9-47FC-A58B-57FF342F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BF4D-D5D2-457B-8592-17778EFF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A8A-0432-4197-897E-9A5BD0E5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4323-E9EE-40C9-8A8A-2F4EA561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C342-32DB-4E87-883C-B7CACC6E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08BE-E289-4EC2-8224-0A35D4A3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D709-6DE5-4CA8-AA73-4B021646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772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176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68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772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176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2AA8-D4AA-47B5-9159-AEB0E65C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244F-889E-44A2-89B0-15363B17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076-BA15-40F0-A990-8676A410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C58-896B-4E02-BFBF-B68D3C2C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231480"/>
            <a:ext cx="78800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23D-960C-43D9-B7EB-FF290CBD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148-0FAE-4EB3-8403-1216A973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3EE-2C26-4DA1-89F2-B2465226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3D4F-6AEA-4F95-ADA9-B734A4CB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outline text forma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cond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2" marL="1158840" indent="-23184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ird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3" marL="1622520" indent="-231840">
              <a:spcBef>
                <a:spcPts val="788"/>
              </a:spcBef>
              <a:buClr>
                <a:srgbClr val="ffcc00"/>
              </a:buClr>
              <a:buFont typeface="Tahoma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our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4" marL="2084400" indent="-231840">
              <a:spcBef>
                <a:spcPts val="788"/>
              </a:spcBef>
              <a:buClr>
                <a:srgbClr val="ffcc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f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5" marL="2084400" indent="-231840">
              <a:spcBef>
                <a:spcPts val="788"/>
              </a:spcBef>
              <a:buClr>
                <a:srgbClr val="0000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x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6" marL="2084400" indent="-231840">
              <a:spcBef>
                <a:spcPts val="788"/>
              </a:spcBef>
              <a:buClr>
                <a:srgbClr val="0000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ven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8120" y="6483240"/>
            <a:ext cx="19303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8440" y="6483240"/>
            <a:ext cx="44560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4160" y="6483240"/>
            <a:ext cx="19321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9C9D302-0FB1-4B02-A4A9-869A9CBE7A4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27000" y="1081080"/>
            <a:ext cx="834408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694800"/>
            <a:ext cx="7829640" cy="1157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20360" y="6310440"/>
            <a:ext cx="195732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93920" y="6310440"/>
            <a:ext cx="288288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95640" y="6310440"/>
            <a:ext cx="185436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E187F67-23D8-48A0-80B7-51A3931F35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27000" y="1852560"/>
            <a:ext cx="8344080" cy="3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nite state machine optimiz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te minimiz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wer states require fewer state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wer bits require fewer logic equ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ncodings: state, inputs, outpu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encoding with fewer bits has fewer equations to impl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ever, each may be more comple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encoding with more bits (e.g., one-hot) has simpler equ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xity directly related to complexity of state diagr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/output encoding may or may not be under designer contr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 - Sequenti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3D74-B661-4904-AE1A-2D233B86458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nother implementation of edge detect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"Ad hoc" solution - not minimal but cheap and fas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2286000"/>
            <a:ext cx="2971800" cy="3614040"/>
            <a:chOff x="990720" y="2286000"/>
            <a:chExt cx="2971800" cy="3614040"/>
          </a:xfrm>
        </p:grpSpPr>
        <p:sp>
          <p:nvSpPr>
            <p:cNvPr id="369" name=""/>
            <p:cNvSpPr/>
            <p:nvPr/>
          </p:nvSpPr>
          <p:spPr>
            <a:xfrm>
              <a:off x="2209680" y="28195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907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29000" y="38098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2" name=""/>
            <p:cNvCxnSpPr>
              <a:stCxn id="371" idx="3"/>
              <a:endCxn id="370" idx="5"/>
            </p:cNvCxnSpPr>
            <p:nvPr/>
          </p:nvCxnSpPr>
          <p:spPr>
            <a:xfrm rot="5400000">
              <a:off x="2475000" y="3236040"/>
              <a:ext cx="2160" cy="2061360"/>
            </a:xfrm>
            <a:prstGeom prst="curvedConnector5">
              <a:avLst>
                <a:gd name="adj1" fmla="val 19300000"/>
                <a:gd name="adj2" fmla="val 49991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3" name=""/>
            <p:cNvCxnSpPr>
              <a:stCxn id="370" idx="0"/>
              <a:endCxn id="369" idx="2"/>
            </p:cNvCxnSpPr>
            <p:nvPr/>
          </p:nvCxnSpPr>
          <p:spPr>
            <a:xfrm flipH="1" flipV="1" rot="5400000">
              <a:off x="1371240" y="2971440"/>
              <a:ext cx="724320" cy="9529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4" name=""/>
            <p:cNvCxnSpPr>
              <a:stCxn id="369" idx="6"/>
              <a:endCxn id="371" idx="0"/>
            </p:cNvCxnSpPr>
            <p:nvPr/>
          </p:nvCxnSpPr>
          <p:spPr>
            <a:xfrm>
              <a:off x="2743200" y="3086280"/>
              <a:ext cx="953280" cy="7243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5" name=""/>
            <p:cNvCxnSpPr>
              <a:stCxn id="369" idx="7"/>
              <a:endCxn id="369" idx="1"/>
            </p:cNvCxnSpPr>
            <p:nvPr/>
          </p:nvCxnSpPr>
          <p:spPr>
            <a:xfrm rot="5400000">
              <a:off x="2475000" y="2709000"/>
              <a:ext cx="216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6" name=""/>
            <p:cNvSpPr/>
            <p:nvPr/>
          </p:nvSpPr>
          <p:spPr>
            <a:xfrm>
              <a:off x="1224000" y="30481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53760" y="304812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90680" y="228600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63400" y="358128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63400" y="556272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53760" y="480060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2" name=""/>
            <p:cNvCxnSpPr>
              <a:stCxn id="370" idx="7"/>
              <a:endCxn id="371" idx="1"/>
            </p:cNvCxnSpPr>
            <p:nvPr/>
          </p:nvCxnSpPr>
          <p:spPr>
            <a:xfrm flipH="1" rot="16200000">
              <a:off x="2475360" y="2856960"/>
              <a:ext cx="2520" cy="2061360"/>
            </a:xfrm>
            <a:prstGeom prst="curvedConnector5">
              <a:avLst>
                <a:gd name="adj1" fmla="val -19300000"/>
                <a:gd name="adj2" fmla="val 49991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2209680" y="48006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4" name=""/>
            <p:cNvCxnSpPr>
              <a:stCxn id="383" idx="2"/>
              <a:endCxn id="370" idx="4"/>
            </p:cNvCxnSpPr>
            <p:nvPr/>
          </p:nvCxnSpPr>
          <p:spPr>
            <a:xfrm rot="10800000">
              <a:off x="1256760" y="4342680"/>
              <a:ext cx="952920" cy="7246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5" name=""/>
            <p:cNvCxnSpPr>
              <a:stCxn id="371" idx="4"/>
              <a:endCxn id="383" idx="6"/>
            </p:cNvCxnSpPr>
            <p:nvPr/>
          </p:nvCxnSpPr>
          <p:spPr>
            <a:xfrm rot="5400000">
              <a:off x="2856960" y="4228920"/>
              <a:ext cx="724680" cy="953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"/>
            <p:cNvCxnSpPr>
              <a:stCxn id="383" idx="3"/>
              <a:endCxn id="383" idx="5"/>
            </p:cNvCxnSpPr>
            <p:nvPr/>
          </p:nvCxnSpPr>
          <p:spPr>
            <a:xfrm flipH="1" rot="16200000">
              <a:off x="2475720" y="5067720"/>
              <a:ext cx="2160" cy="378720"/>
            </a:xfrm>
            <a:prstGeom prst="curvedConnector5">
              <a:avLst>
                <a:gd name="adj1" fmla="val 19300000"/>
                <a:gd name="adj2" fmla="val 49952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7" name=""/>
            <p:cNvSpPr/>
            <p:nvPr/>
          </p:nvSpPr>
          <p:spPr>
            <a:xfrm>
              <a:off x="2367000" y="426708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99960" y="480060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410000" cy="15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 - Sequenti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50F-9F5C-4F91-8C06-2D107062F1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te assign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hoose bit vectors to assign to each “symbolic” stat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n state bits for m states there ar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! /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– m)!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log n &lt;=  m &lt;= 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des possible for 1st state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1 for 2nd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2 for 3rd,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uge number even for small values of n and 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ractable for state machines of any si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uristics are necessary for practical solu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mize some metric for the combinational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ze (amount of logic and number of FF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d (depth of logic and fanou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endencies (decomposi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 - Sequenti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50E-6644-46CA-986B-BC1651E56B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te assignment strategi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ossible strategi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quential – just number states as they appear in the state t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– pick random co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-hot – use as many state bits as there are states (bit=1 –&gt; stat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 – use outputs to help encode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uristic – rules of thumb that seem to work in most ca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 guarantee of optimality – another intractable proble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 - Sequenti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D87B-5298-4356-9601-1D9F871640B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ne-hot state assign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mpl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y to enc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y to debu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mall logic function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state function requires only predecessor state bits as in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ood for programmable devic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ts of flip-flops readily avail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e functions with small support (signals its dependent up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mpractical for large machin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 many states require too many flip-flo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ompose FSMs into smaller pieces that can be one-hot enco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any slight variations to one-ho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-hot + all-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 - Sequenti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1C5C-EE02-41AD-ABD5-0573624880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879560" y="2286000"/>
            <a:ext cx="2565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666880" y="2286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52480" y="2590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47880" y="3886200"/>
            <a:ext cx="2565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38862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28800" y="419112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79560" y="5384880"/>
            <a:ext cx="2565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666880" y="542304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52480" y="572760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19720" y="2438280"/>
            <a:ext cx="1536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= i *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 *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19720" y="3962520"/>
            <a:ext cx="15364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 = i  *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= k *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5486400"/>
            <a:ext cx="1536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 = i  * a +  i  * 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 = i *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= i *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858000" y="1676520"/>
            <a:ext cx="2031480" cy="1155240"/>
            <a:chOff x="6858000" y="1676520"/>
            <a:chExt cx="2031480" cy="1155240"/>
          </a:xfrm>
        </p:grpSpPr>
        <p:sp>
          <p:nvSpPr>
            <p:cNvPr id="409" name=""/>
            <p:cNvSpPr/>
            <p:nvPr/>
          </p:nvSpPr>
          <p:spPr>
            <a:xfrm>
              <a:off x="7080120" y="16952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94520" y="16952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537320" y="23810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7867080" y="2038320"/>
              <a:ext cx="24084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08720" y="2038320"/>
              <a:ext cx="21528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58000" y="2070000"/>
              <a:ext cx="749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76960" y="2120760"/>
              <a:ext cx="812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137000" y="1676520"/>
              <a:ext cx="558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38800" y="1701720"/>
              <a:ext cx="558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94200" y="2374920"/>
              <a:ext cx="558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7010280" y="3581280"/>
            <a:ext cx="1968480" cy="1143000"/>
            <a:chOff x="7010280" y="3581280"/>
            <a:chExt cx="1968480" cy="1143000"/>
          </a:xfrm>
        </p:grpSpPr>
        <p:sp>
          <p:nvSpPr>
            <p:cNvPr id="420" name=""/>
            <p:cNvSpPr/>
            <p:nvPr/>
          </p:nvSpPr>
          <p:spPr>
            <a:xfrm>
              <a:off x="7194240" y="4273560"/>
              <a:ext cx="34308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08640" y="4273560"/>
              <a:ext cx="34308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51440" y="3587760"/>
              <a:ext cx="34308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7410240" y="3816360"/>
              <a:ext cx="2412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94520" y="3816360"/>
              <a:ext cx="2160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6080" y="358128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38880" y="426708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153280" y="426708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10280" y="3809880"/>
              <a:ext cx="749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65880" y="3860640"/>
              <a:ext cx="812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k /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648480" y="5562720"/>
            <a:ext cx="2622600" cy="1168200"/>
            <a:chOff x="6648480" y="5562720"/>
            <a:chExt cx="2622600" cy="1168200"/>
          </a:xfrm>
        </p:grpSpPr>
        <p:sp>
          <p:nvSpPr>
            <p:cNvPr id="431" name=""/>
            <p:cNvSpPr/>
            <p:nvPr/>
          </p:nvSpPr>
          <p:spPr>
            <a:xfrm>
              <a:off x="7162920" y="627372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496360" y="627372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05680" y="63183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48480" y="56325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91200" y="5861160"/>
              <a:ext cx="2160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77280" y="63183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20080" y="56325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362800" y="5861160"/>
              <a:ext cx="2160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12160" y="5892840"/>
              <a:ext cx="749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18320" y="556272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77320" y="558792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521560" y="5854680"/>
              <a:ext cx="749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uristics for state assign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45600" cy="4862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djacent codes to states that share a common next stat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up 1's in next state ma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djacent codes to states that share a common ancestor state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up 1's in next state ma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djacent codes to states that have a common output behavio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up 1's in output m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 - Sequenti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83F6-DDB2-4026-94CD-D7FFEED8DF9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024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neral approach to heuristic state assign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ll current methods are variants of thi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determine which states “attract” each other (weighted pair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generate constraints on codes (which should be in same cub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) place codes on Boolean cube so as to maximize constraints satisf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eighted su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ifferent weights make sense depending on whether we are optimizing for two-level or multi-level form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an't consider all possible embeddings of state clusters in Boolean cub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uristics for ordering embed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prune search for best embed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and cube (more state bits) to satisfy more constra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 - Sequenti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4909-4182-4727-A126-6050E6E25FB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utput-based encod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use outputs as state bits - use outputs to help distinguish stat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y create new functions for state bits when output can serve as we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ts in nicely with synchronous Mealy implemen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351000" y="5529240"/>
            <a:ext cx="41274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ST’ H1’ H0’ F1 F0’ + ST H1 H0’ F1’ F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ST H1’ H0’ F1 F0’ + ST’ H1’ H0 F1 F0’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ST H1’ H0 F1 F0’ + ST’ H1 H0’ F1’ F0’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ST H1 H0’ F1’ F0’ + ST’ H1 H0’ F1’ F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637160" y="5521320"/>
            <a:ext cx="43513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patterns are unique to states, we do no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ed ANY state bits – implement 5 fun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one for each output) instead of 7 (outputs plu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state b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60440" y="2665440"/>
            <a:ext cx="8489880" cy="2978280"/>
            <a:chOff x="460440" y="2665440"/>
            <a:chExt cx="8489880" cy="2978280"/>
          </a:xfrm>
        </p:grpSpPr>
        <p:sp>
          <p:nvSpPr>
            <p:cNvPr id="452" name=""/>
            <p:cNvSpPr/>
            <p:nvPr/>
          </p:nvSpPr>
          <p:spPr>
            <a:xfrm>
              <a:off x="555480" y="2709720"/>
              <a:ext cx="8394840" cy="29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9436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0440" y="3166920"/>
              <a:ext cx="82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908520" y="267804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04080" y="2678040"/>
              <a:ext cx="0" cy="27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66760" y="2665440"/>
              <a:ext cx="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 - Sequenti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D5D-FB72-47B5-A242-458CBF90D84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urrent state assignment approach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or tight encodings using close to the minimum number of state bi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 of 10 random seems to be adequate (averages as well as heuristic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uristic approaches are not even close to optima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d in custom chip desig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ne-hot encoding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y for small state machi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ates small equations with easy to estimate complex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in FPGAs and other programmable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utput-based encoding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 hoc - no too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st common approach taken by human design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elds very small circuits for most FS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 - Sequenti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AA5-3920-4696-AB34-45FD3B367B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quential logic optimization summar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te minimiz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aightforward in fully-specified machi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utationally intractable, in general (with don’t car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te assignmen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y heuris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-of-10-random just as good or better for most machi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 encoding can be attractive (especially for PAL implementation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 - Sequenti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6A2-828F-4DDA-8745-75390A8BF36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lgorithmic approach to state minimiz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oal – identify and combine states that have equivalent behavio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quivalent states: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me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all input combinations, states transition to same or equivalent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lgorithm sketch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place all states in one 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initially partition set based on output behavi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 successively partition resulting subsets based on next state trans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repeat (3) until no further partitioning is requi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 left in the same set are equival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ynomial time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 - Sequenti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EAD7-15E7-42CE-9028-8C42782A8B8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479680" y="2303640"/>
            <a:ext cx="6343200" cy="2158920"/>
            <a:chOff x="2479680" y="2303640"/>
            <a:chExt cx="6343200" cy="2158920"/>
          </a:xfrm>
        </p:grpSpPr>
        <p:sp>
          <p:nvSpPr>
            <p:cNvPr id="88" name=""/>
            <p:cNvSpPr/>
            <p:nvPr/>
          </p:nvSpPr>
          <p:spPr>
            <a:xfrm>
              <a:off x="2600280" y="2303640"/>
              <a:ext cx="622260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92280" y="2836800"/>
              <a:ext cx="621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56280" y="2322720"/>
              <a:ext cx="0" cy="20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92720" y="2309760"/>
              <a:ext cx="0" cy="20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94040" y="2322720"/>
              <a:ext cx="0" cy="20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9680" y="2322720"/>
              <a:ext cx="6235560" cy="210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te minimization examp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quence detector for 010 or 110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50880" y="4284720"/>
            <a:ext cx="2923920" cy="2265120"/>
            <a:chOff x="650880" y="4284720"/>
            <a:chExt cx="2923920" cy="2265120"/>
          </a:xfrm>
        </p:grpSpPr>
        <p:sp>
          <p:nvSpPr>
            <p:cNvPr id="97" name=""/>
            <p:cNvSpPr/>
            <p:nvPr/>
          </p:nvSpPr>
          <p:spPr>
            <a:xfrm>
              <a:off x="1946160" y="4492440"/>
              <a:ext cx="38052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3176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55640" y="510228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36320" y="51022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50720" y="57117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6056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4124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7" idx="3"/>
              <a:endCxn id="100" idx="7"/>
            </p:cNvCxnSpPr>
            <p:nvPr/>
          </p:nvCxnSpPr>
          <p:spPr>
            <a:xfrm flipH="1">
              <a:off x="1661040" y="4817880"/>
              <a:ext cx="34020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100" idx="3"/>
              <a:endCxn id="98" idx="0"/>
            </p:cNvCxnSpPr>
            <p:nvPr/>
          </p:nvCxnSpPr>
          <p:spPr>
            <a:xfrm flipH="1">
              <a:off x="122148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100" idx="5"/>
              <a:endCxn id="103" idx="0"/>
            </p:cNvCxnSpPr>
            <p:nvPr/>
          </p:nvCxnSpPr>
          <p:spPr>
            <a:xfrm>
              <a:off x="166140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99" idx="3"/>
              <a:endCxn id="101" idx="0"/>
            </p:cNvCxnSpPr>
            <p:nvPr/>
          </p:nvCxnSpPr>
          <p:spPr>
            <a:xfrm flipH="1">
              <a:off x="2441160" y="5427360"/>
              <a:ext cx="16992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99" idx="5"/>
              <a:endCxn id="102" idx="0"/>
            </p:cNvCxnSpPr>
            <p:nvPr/>
          </p:nvCxnSpPr>
          <p:spPr>
            <a:xfrm>
              <a:off x="288072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97" idx="5"/>
              <a:endCxn id="99" idx="1"/>
            </p:cNvCxnSpPr>
            <p:nvPr/>
          </p:nvCxnSpPr>
          <p:spPr>
            <a:xfrm>
              <a:off x="2271600" y="4817880"/>
              <a:ext cx="33984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endCxn id="97" idx="1"/>
            </p:cNvCxnSpPr>
            <p:nvPr/>
          </p:nvCxnSpPr>
          <p:spPr>
            <a:xfrm>
              <a:off x="1737720" y="4284720"/>
              <a:ext cx="26388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endCxn id="97" idx="2"/>
            </p:cNvCxnSpPr>
            <p:nvPr/>
          </p:nvCxnSpPr>
          <p:spPr>
            <a:xfrm flipH="1" flipV="1" rot="5400000">
              <a:off x="383760" y="4949640"/>
              <a:ext cx="1829520" cy="12960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 flipH="1">
              <a:off x="650880" y="65498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01920" y="469404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11200" y="469404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59120" y="530388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87720" y="591336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82800" y="614196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9554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3632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56456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4616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17476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556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7842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6512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73320" y="530388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39800" y="530388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77680" y="530388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77880" y="591336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73320" y="614196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68400" y="591336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3480" y="614196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58920" y="591336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54000" y="614196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 - Sequenti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081-1AD4-4EBE-89E0-5A903ADF2C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71560" y="4140360"/>
            <a:ext cx="5600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1 S2 S3 S4 S5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1 S2 S3 S5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3 S5 )   ( S1 S2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)   ( S3 S5 )   ( S1 S2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600200" y="1676520"/>
            <a:ext cx="6343560" cy="2158920"/>
            <a:chOff x="1600200" y="1676520"/>
            <a:chExt cx="6343560" cy="2158920"/>
          </a:xfrm>
        </p:grpSpPr>
        <p:sp>
          <p:nvSpPr>
            <p:cNvPr id="137" name=""/>
            <p:cNvSpPr/>
            <p:nvPr/>
          </p:nvSpPr>
          <p:spPr>
            <a:xfrm>
              <a:off x="1720800" y="1676520"/>
              <a:ext cx="622296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12800" y="2209680"/>
              <a:ext cx="621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77160" y="1695240"/>
              <a:ext cx="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13240" y="1682640"/>
              <a:ext cx="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14560" y="1695240"/>
              <a:ext cx="0" cy="20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1695240"/>
              <a:ext cx="6235920" cy="21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791320" y="4419720"/>
            <a:ext cx="24382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is equivalent to 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3 is equivalent to S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4 is equivalent to S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thod of successive parti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 - Sequential Logic Optim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9500-4FE9-4396-A19D-C93E9935398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2590920" y="2133720"/>
            <a:ext cx="6178320" cy="1568160"/>
            <a:chOff x="2590920" y="2133720"/>
            <a:chExt cx="6178320" cy="1568160"/>
          </a:xfrm>
        </p:grpSpPr>
        <p:sp>
          <p:nvSpPr>
            <p:cNvPr id="146" name=""/>
            <p:cNvSpPr/>
            <p:nvPr/>
          </p:nvSpPr>
          <p:spPr>
            <a:xfrm>
              <a:off x="2622600" y="2152440"/>
              <a:ext cx="61466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+ 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1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90920" y="2647800"/>
              <a:ext cx="59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40440" y="213372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76880" y="2133720"/>
              <a:ext cx="0" cy="14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90800" y="214632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90920" y="2133720"/>
              <a:ext cx="5994360" cy="151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nimized FS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te minimized sequence detector for 010 or 110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00280" y="3773520"/>
            <a:ext cx="2999520" cy="2493720"/>
            <a:chOff x="800280" y="3773520"/>
            <a:chExt cx="2999520" cy="2493720"/>
          </a:xfrm>
        </p:grpSpPr>
        <p:sp>
          <p:nvSpPr>
            <p:cNvPr id="155" name=""/>
            <p:cNvSpPr/>
            <p:nvPr/>
          </p:nvSpPr>
          <p:spPr>
            <a:xfrm>
              <a:off x="2400120" y="3981240"/>
              <a:ext cx="38088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00120" y="4819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90640" y="54291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09960" y="540864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" name=""/>
            <p:cNvCxnSpPr>
              <a:stCxn id="156" idx="3"/>
              <a:endCxn id="157" idx="0"/>
            </p:cNvCxnSpPr>
            <p:nvPr/>
          </p:nvCxnSpPr>
          <p:spPr>
            <a:xfrm flipH="1">
              <a:off x="1980720" y="5144760"/>
              <a:ext cx="47520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6" idx="5"/>
              <a:endCxn id="158" idx="0"/>
            </p:cNvCxnSpPr>
            <p:nvPr/>
          </p:nvCxnSpPr>
          <p:spPr>
            <a:xfrm>
              <a:off x="2725560" y="5145120"/>
              <a:ext cx="47520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5" idx="4"/>
              <a:endCxn id="156" idx="0"/>
            </p:cNvCxnSpPr>
            <p:nvPr/>
          </p:nvCxnSpPr>
          <p:spPr>
            <a:xfrm>
              <a:off x="2590560" y="43624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endCxn id="155" idx="1"/>
            </p:cNvCxnSpPr>
            <p:nvPr/>
          </p:nvCxnSpPr>
          <p:spPr>
            <a:xfrm>
              <a:off x="2192040" y="3773520"/>
              <a:ext cx="26388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64" idx="0"/>
              <a:endCxn id="155" idx="2"/>
            </p:cNvCxnSpPr>
            <p:nvPr/>
          </p:nvCxnSpPr>
          <p:spPr>
            <a:xfrm flipH="1" flipV="1" rot="5400000">
              <a:off x="562680" y="4408920"/>
              <a:ext cx="2075400" cy="1600560"/>
            </a:xfrm>
            <a:prstGeom prst="bentConnector4">
              <a:avLst>
                <a:gd name="adj1" fmla="val 99913"/>
                <a:gd name="adj2" fmla="val 8569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5" name=""/>
            <p:cNvSpPr/>
            <p:nvPr/>
          </p:nvSpPr>
          <p:spPr>
            <a:xfrm flipH="1">
              <a:off x="800280" y="62467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76160" y="4417920"/>
              <a:ext cx="47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84680" y="504828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41880" y="581004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79760" y="581004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81080" y="5810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933640" y="5713200"/>
              <a:ext cx="151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14520" y="5713200"/>
              <a:ext cx="1522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93960" y="504828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66320" y="5790960"/>
              <a:ext cx="47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 - Sequenti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DBE-0FF8-4E13-9DBF-4487F90335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60920" y="5283360"/>
            <a:ext cx="3022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mbolic stat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ition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533840" y="3213000"/>
            <a:ext cx="4254480" cy="2108160"/>
            <a:chOff x="4533840" y="3213000"/>
            <a:chExt cx="4254480" cy="2108160"/>
          </a:xfrm>
        </p:grpSpPr>
        <p:sp>
          <p:nvSpPr>
            <p:cNvPr id="177" name=""/>
            <p:cNvSpPr/>
            <p:nvPr/>
          </p:nvSpPr>
          <p:spPr>
            <a:xfrm>
              <a:off x="4572000" y="3213000"/>
              <a:ext cx="42163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1143000"/>
                  <a:tab algn="l" pos="1600200"/>
                  <a:tab algn="l" pos="2057400"/>
                  <a:tab algn="l" pos="25146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next state           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33840" y="369576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67480" y="327672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76840" y="327672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610160" y="2133720"/>
            <a:ext cx="2997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re complex state minimiz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ultiple input exampl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083600" y="2588040"/>
            <a:ext cx="2538720" cy="3347640"/>
            <a:chOff x="1083600" y="2588040"/>
            <a:chExt cx="2538720" cy="3347640"/>
          </a:xfrm>
        </p:grpSpPr>
        <p:sp>
          <p:nvSpPr>
            <p:cNvPr id="185" name=""/>
            <p:cNvSpPr/>
            <p:nvPr/>
          </p:nvSpPr>
          <p:spPr>
            <a:xfrm>
              <a:off x="1549440" y="34228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85840" y="32133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11320" y="35816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84240" y="2730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52560" y="3905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12760" y="4280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33480" y="4577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07880" y="45324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88960" y="49723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19320" y="4714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70000" y="5227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12840" y="52945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78000" y="2730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92280" y="29322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6400" y="34657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43200" y="3714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63880" y="4560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01640" y="4475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70120" y="3873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89040" y="49276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14720" y="56880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08120" y="5507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27480" y="5264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04800" y="2924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4800" y="4067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4800" y="521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24120" y="2924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24120" y="4067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24120" y="521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52720" y="4524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09720" y="4524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1657080" y="4524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62000" y="53625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961640" y="55152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876400" y="3381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28680" y="33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62000" y="4295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885680" y="3304800"/>
              <a:ext cx="9144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1885680" y="4448160"/>
              <a:ext cx="9144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1838160" y="3353040"/>
              <a:ext cx="1000080" cy="18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62000" y="32292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961640" y="30765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33400" y="33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1790640" y="3381480"/>
              <a:ext cx="100944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38160" y="3343320"/>
              <a:ext cx="90504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1914480" y="3285720"/>
              <a:ext cx="88560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13" idx="5"/>
              <a:endCxn id="213" idx="3"/>
            </p:cNvCxnSpPr>
            <p:nvPr/>
          </p:nvCxnSpPr>
          <p:spPr>
            <a:xfrm rot="5400000">
              <a:off x="2950920" y="5439600"/>
              <a:ext cx="2160" cy="324360"/>
            </a:xfrm>
            <a:prstGeom prst="curvedConnector5">
              <a:avLst>
                <a:gd name="adj1" fmla="val 18600000"/>
                <a:gd name="adj2" fmla="val 50000"/>
                <a:gd name="adj3" fmla="val 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2" name=""/>
            <p:cNvCxnSpPr>
              <a:stCxn id="211" idx="7"/>
              <a:endCxn id="211" idx="1"/>
            </p:cNvCxnSpPr>
            <p:nvPr/>
          </p:nvCxnSpPr>
          <p:spPr>
            <a:xfrm rot="5400000">
              <a:off x="2950920" y="2828880"/>
              <a:ext cx="2520" cy="324360"/>
            </a:xfrm>
            <a:prstGeom prst="curvedConnector5">
              <a:avLst>
                <a:gd name="adj1" fmla="val -18600000"/>
                <a:gd name="adj2" fmla="val 50000"/>
                <a:gd name="adj3" fmla="val -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3" name=""/>
            <p:cNvCxnSpPr>
              <a:stCxn id="208" idx="7"/>
              <a:endCxn id="208" idx="1"/>
            </p:cNvCxnSpPr>
            <p:nvPr/>
          </p:nvCxnSpPr>
          <p:spPr>
            <a:xfrm rot="5400000">
              <a:off x="1731960" y="2828880"/>
              <a:ext cx="2520" cy="324720"/>
            </a:xfrm>
            <a:prstGeom prst="curvedConnector5">
              <a:avLst>
                <a:gd name="adj1" fmla="val -18600000"/>
                <a:gd name="adj2" fmla="val 49944"/>
                <a:gd name="adj3" fmla="val -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10" idx="2"/>
              <a:endCxn id="208" idx="2"/>
            </p:cNvCxnSpPr>
            <p:nvPr/>
          </p:nvCxnSpPr>
          <p:spPr>
            <a:xfrm flipH="1" rot="10800000">
              <a:off x="1504440" y="3152160"/>
              <a:ext cx="2160" cy="2286720"/>
            </a:xfrm>
            <a:prstGeom prst="curvedConnector5">
              <a:avLst>
                <a:gd name="adj1" fmla="val -23400000"/>
                <a:gd name="adj2" fmla="val 49992"/>
                <a:gd name="adj3" fmla="val -23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09" idx="3"/>
              <a:endCxn id="209" idx="1"/>
            </p:cNvCxnSpPr>
            <p:nvPr/>
          </p:nvCxnSpPr>
          <p:spPr>
            <a:xfrm flipH="1" flipV="1" rot="5400000">
              <a:off x="1409040" y="4294440"/>
              <a:ext cx="324720" cy="2520"/>
            </a:xfrm>
            <a:prstGeom prst="curvedConnector5">
              <a:avLst>
                <a:gd name="adj1" fmla="val -29411"/>
                <a:gd name="adj2" fmla="val -7800000"/>
                <a:gd name="adj3" fmla="val -294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6" name=""/>
            <p:cNvCxnSpPr>
              <a:stCxn id="211" idx="6"/>
              <a:endCxn id="213" idx="6"/>
            </p:cNvCxnSpPr>
            <p:nvPr/>
          </p:nvCxnSpPr>
          <p:spPr>
            <a:xfrm>
              <a:off x="3181320" y="3152880"/>
              <a:ext cx="2160" cy="2286720"/>
            </a:xfrm>
            <a:prstGeom prst="curvedConnector5">
              <a:avLst>
                <a:gd name="adj1" fmla="val 12000000"/>
                <a:gd name="adj2" fmla="val 49992"/>
                <a:gd name="adj3" fmla="val 120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213" idx="6"/>
              <a:endCxn id="211" idx="6"/>
            </p:cNvCxnSpPr>
            <p:nvPr/>
          </p:nvCxnSpPr>
          <p:spPr>
            <a:xfrm flipV="1">
              <a:off x="3181320" y="3152520"/>
              <a:ext cx="2160" cy="2286720"/>
            </a:xfrm>
            <a:prstGeom prst="curvedConnector5">
              <a:avLst>
                <a:gd name="adj1" fmla="val 24500000"/>
                <a:gd name="adj2" fmla="val 49992"/>
                <a:gd name="adj3" fmla="val 245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8" name=""/>
            <p:cNvSpPr/>
            <p:nvPr/>
          </p:nvSpPr>
          <p:spPr>
            <a:xfrm>
              <a:off x="3041640" y="3683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334120" y="2438280"/>
            <a:ext cx="4953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 - Sequenti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08B-74CC-4685-8C94-6CB8AD945A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222920" y="3405240"/>
            <a:ext cx="516240" cy="732600"/>
            <a:chOff x="1222920" y="3405240"/>
            <a:chExt cx="516240" cy="732600"/>
          </a:xfrm>
        </p:grpSpPr>
        <p:sp>
          <p:nvSpPr>
            <p:cNvPr id="241" name=""/>
            <p:cNvSpPr/>
            <p:nvPr/>
          </p:nvSpPr>
          <p:spPr>
            <a:xfrm>
              <a:off x="1235520" y="340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35520" y="358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22920" y="37479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22920" y="39243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222920" y="4776840"/>
            <a:ext cx="503640" cy="732600"/>
            <a:chOff x="1222920" y="4776840"/>
            <a:chExt cx="503640" cy="732600"/>
          </a:xfrm>
        </p:grpSpPr>
        <p:sp>
          <p:nvSpPr>
            <p:cNvPr id="246" name=""/>
            <p:cNvSpPr/>
            <p:nvPr/>
          </p:nvSpPr>
          <p:spPr>
            <a:xfrm>
              <a:off x="1222920" y="47768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22920" y="49546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22920" y="51195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22920" y="52959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908720" y="4103640"/>
            <a:ext cx="503640" cy="720000"/>
            <a:chOff x="1908720" y="4103640"/>
            <a:chExt cx="503640" cy="720000"/>
          </a:xfrm>
        </p:grpSpPr>
        <p:sp>
          <p:nvSpPr>
            <p:cNvPr id="251" name=""/>
            <p:cNvSpPr/>
            <p:nvPr/>
          </p:nvSpPr>
          <p:spPr>
            <a:xfrm>
              <a:off x="1908720" y="41036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08720" y="4280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08720" y="443232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8720" y="46101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908720" y="5475240"/>
            <a:ext cx="503640" cy="720000"/>
            <a:chOff x="1908720" y="5475240"/>
            <a:chExt cx="503640" cy="720000"/>
          </a:xfrm>
        </p:grpSpPr>
        <p:sp>
          <p:nvSpPr>
            <p:cNvPr id="256" name=""/>
            <p:cNvSpPr/>
            <p:nvPr/>
          </p:nvSpPr>
          <p:spPr>
            <a:xfrm>
              <a:off x="1908720" y="547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08720" y="565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08720" y="58294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08720" y="59817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594520" y="4776840"/>
            <a:ext cx="516240" cy="732600"/>
            <a:chOff x="2594520" y="4776840"/>
            <a:chExt cx="516240" cy="732600"/>
          </a:xfrm>
        </p:grpSpPr>
        <p:sp>
          <p:nvSpPr>
            <p:cNvPr id="261" name=""/>
            <p:cNvSpPr/>
            <p:nvPr/>
          </p:nvSpPr>
          <p:spPr>
            <a:xfrm>
              <a:off x="2607120" y="47768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7120" y="49546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02440" y="5119560"/>
              <a:ext cx="45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94520" y="52959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275640" y="5475240"/>
            <a:ext cx="508320" cy="720000"/>
            <a:chOff x="3275640" y="5475240"/>
            <a:chExt cx="508320" cy="720000"/>
          </a:xfrm>
        </p:grpSpPr>
        <p:sp>
          <p:nvSpPr>
            <p:cNvPr id="266" name=""/>
            <p:cNvSpPr/>
            <p:nvPr/>
          </p:nvSpPr>
          <p:spPr>
            <a:xfrm>
              <a:off x="3275640" y="5829480"/>
              <a:ext cx="45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80320" y="59817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80320" y="547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80320" y="565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521240" y="2844720"/>
            <a:ext cx="4254480" cy="2006640"/>
            <a:chOff x="4521240" y="2844720"/>
            <a:chExt cx="4254480" cy="2006640"/>
          </a:xfrm>
        </p:grpSpPr>
        <p:sp>
          <p:nvSpPr>
            <p:cNvPr id="271" name=""/>
            <p:cNvSpPr/>
            <p:nvPr/>
          </p:nvSpPr>
          <p:spPr>
            <a:xfrm>
              <a:off x="5334120" y="4495680"/>
              <a:ext cx="2743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inimized stat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S0==S4) (S3==S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59400" y="2844720"/>
              <a:ext cx="421632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1143000"/>
                  <a:tab algn="l" pos="1600200"/>
                  <a:tab algn="l" pos="2057400"/>
                  <a:tab algn="l" pos="25146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next state           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0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3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21240" y="328464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67480" y="2908440"/>
              <a:ext cx="0" cy="132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64240" y="2908440"/>
              <a:ext cx="0" cy="132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nimized FS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mplication chart method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oss out incompatible states based on out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n cross out more cells if indexed chart entries are already crossed 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827640" y="2743200"/>
            <a:ext cx="3744360" cy="3718800"/>
            <a:chOff x="827640" y="2743200"/>
            <a:chExt cx="3744360" cy="3718800"/>
          </a:xfrm>
        </p:grpSpPr>
        <p:sp>
          <p:nvSpPr>
            <p:cNvPr id="279" name=""/>
            <p:cNvSpPr/>
            <p:nvPr/>
          </p:nvSpPr>
          <p:spPr>
            <a:xfrm>
              <a:off x="840240" y="295596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0240" y="363852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27640" y="433548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40240" y="501804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5560" y="571500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4676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5488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9000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5996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0580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1143000" y="2743200"/>
              <a:ext cx="3429000" cy="3429000"/>
              <a:chOff x="1143000" y="2743200"/>
              <a:chExt cx="3429000" cy="3429000"/>
            </a:xfrm>
          </p:grpSpPr>
          <p:sp>
            <p:nvSpPr>
              <p:cNvPr id="290" name=""/>
              <p:cNvSpPr/>
              <p:nvPr/>
            </p:nvSpPr>
            <p:spPr>
              <a:xfrm>
                <a:off x="1143000" y="5486400"/>
                <a:ext cx="34290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143000" y="4800600"/>
                <a:ext cx="27432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43000" y="4114800"/>
                <a:ext cx="20574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43000" y="3429000"/>
                <a:ext cx="13716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43000" y="2743200"/>
                <a:ext cx="6858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43000" y="2743200"/>
                <a:ext cx="685800" cy="3429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828800" y="3429000"/>
                <a:ext cx="685800" cy="2743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14600" y="4114800"/>
                <a:ext cx="685800" cy="2057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00400" y="4800600"/>
                <a:ext cx="685800" cy="13716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886200" y="5486400"/>
                <a:ext cx="6858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1828440" y="3429000"/>
            <a:ext cx="686160" cy="685800"/>
            <a:chOff x="1828440" y="3429000"/>
            <a:chExt cx="686160" cy="685800"/>
          </a:xfrm>
        </p:grpSpPr>
        <p:sp>
          <p:nvSpPr>
            <p:cNvPr id="301" name=""/>
            <p:cNvSpPr/>
            <p:nvPr/>
          </p:nvSpPr>
          <p:spPr>
            <a:xfrm>
              <a:off x="1828800" y="34290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828440" y="34290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142640" y="4114800"/>
            <a:ext cx="3429360" cy="2057400"/>
            <a:chOff x="1142640" y="4114800"/>
            <a:chExt cx="3429360" cy="2057400"/>
          </a:xfrm>
        </p:grpSpPr>
        <p:grpSp>
          <p:nvGrpSpPr>
            <p:cNvPr id="304" name=""/>
            <p:cNvGrpSpPr/>
            <p:nvPr/>
          </p:nvGrpSpPr>
          <p:grpSpPr>
            <a:xfrm>
              <a:off x="1142640" y="5486400"/>
              <a:ext cx="686160" cy="685800"/>
              <a:chOff x="1142640" y="5486400"/>
              <a:chExt cx="686160" cy="685800"/>
            </a:xfrm>
          </p:grpSpPr>
          <p:sp>
            <p:nvSpPr>
              <p:cNvPr id="305" name=""/>
              <p:cNvSpPr/>
              <p:nvPr/>
            </p:nvSpPr>
            <p:spPr>
              <a:xfrm>
                <a:off x="11430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11426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2514240" y="5486400"/>
              <a:ext cx="686160" cy="685800"/>
              <a:chOff x="2514240" y="5486400"/>
              <a:chExt cx="686160" cy="685800"/>
            </a:xfrm>
          </p:grpSpPr>
          <p:sp>
            <p:nvSpPr>
              <p:cNvPr id="308" name=""/>
              <p:cNvSpPr/>
              <p:nvPr/>
            </p:nvSpPr>
            <p:spPr>
              <a:xfrm>
                <a:off x="25146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25142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200040" y="4800600"/>
              <a:ext cx="686160" cy="685800"/>
              <a:chOff x="3200040" y="4800600"/>
              <a:chExt cx="686160" cy="685800"/>
            </a:xfrm>
          </p:grpSpPr>
          <p:sp>
            <p:nvSpPr>
              <p:cNvPr id="311" name=""/>
              <p:cNvSpPr/>
              <p:nvPr/>
            </p:nvSpPr>
            <p:spPr>
              <a:xfrm>
                <a:off x="320040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320004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3885840" y="5486400"/>
              <a:ext cx="686160" cy="685800"/>
              <a:chOff x="3885840" y="5486400"/>
              <a:chExt cx="686160" cy="685800"/>
            </a:xfrm>
          </p:grpSpPr>
          <p:sp>
            <p:nvSpPr>
              <p:cNvPr id="314" name=""/>
              <p:cNvSpPr/>
              <p:nvPr/>
            </p:nvSpPr>
            <p:spPr>
              <a:xfrm>
                <a:off x="38862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38858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2514240" y="4114800"/>
              <a:ext cx="686160" cy="685800"/>
              <a:chOff x="2514240" y="4114800"/>
              <a:chExt cx="686160" cy="685800"/>
            </a:xfrm>
          </p:grpSpPr>
          <p:sp>
            <p:nvSpPr>
              <p:cNvPr id="317" name=""/>
              <p:cNvSpPr/>
              <p:nvPr/>
            </p:nvSpPr>
            <p:spPr>
              <a:xfrm>
                <a:off x="251460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251424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1142640" y="4114800"/>
              <a:ext cx="686160" cy="685800"/>
              <a:chOff x="1142640" y="4114800"/>
              <a:chExt cx="686160" cy="685800"/>
            </a:xfrm>
          </p:grpSpPr>
          <p:sp>
            <p:nvSpPr>
              <p:cNvPr id="320" name=""/>
              <p:cNvSpPr/>
              <p:nvPr/>
            </p:nvSpPr>
            <p:spPr>
              <a:xfrm>
                <a:off x="114300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114264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1828440" y="4800600"/>
              <a:ext cx="686160" cy="685800"/>
              <a:chOff x="1828440" y="4800600"/>
              <a:chExt cx="686160" cy="685800"/>
            </a:xfrm>
          </p:grpSpPr>
          <p:sp>
            <p:nvSpPr>
              <p:cNvPr id="323" name=""/>
              <p:cNvSpPr/>
              <p:nvPr/>
            </p:nvSpPr>
            <p:spPr>
              <a:xfrm>
                <a:off x="182880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182844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1142640" y="2743200"/>
            <a:ext cx="686160" cy="685800"/>
            <a:chOff x="1142640" y="2743200"/>
            <a:chExt cx="686160" cy="685800"/>
          </a:xfrm>
        </p:grpSpPr>
        <p:sp>
          <p:nvSpPr>
            <p:cNvPr id="326" name=""/>
            <p:cNvSpPr/>
            <p:nvPr/>
          </p:nvSpPr>
          <p:spPr>
            <a:xfrm>
              <a:off x="1143000" y="27432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1142640" y="27432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142640" y="3429000"/>
            <a:ext cx="686160" cy="685800"/>
            <a:chOff x="1142640" y="3429000"/>
            <a:chExt cx="686160" cy="685800"/>
          </a:xfrm>
        </p:grpSpPr>
        <p:sp>
          <p:nvSpPr>
            <p:cNvPr id="329" name=""/>
            <p:cNvSpPr/>
            <p:nvPr/>
          </p:nvSpPr>
          <p:spPr>
            <a:xfrm>
              <a:off x="1143000" y="34290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142640" y="34290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828440" y="4114800"/>
            <a:ext cx="686160" cy="685800"/>
            <a:chOff x="1828440" y="4114800"/>
            <a:chExt cx="686160" cy="685800"/>
          </a:xfrm>
        </p:grpSpPr>
        <p:sp>
          <p:nvSpPr>
            <p:cNvPr id="332" name=""/>
            <p:cNvSpPr/>
            <p:nvPr/>
          </p:nvSpPr>
          <p:spPr>
            <a:xfrm>
              <a:off x="1828800" y="41148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828440" y="41148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514240" y="4800600"/>
            <a:ext cx="686160" cy="685800"/>
            <a:chOff x="2514240" y="4800600"/>
            <a:chExt cx="686160" cy="685800"/>
          </a:xfrm>
        </p:grpSpPr>
        <p:sp>
          <p:nvSpPr>
            <p:cNvPr id="335" name=""/>
            <p:cNvSpPr/>
            <p:nvPr/>
          </p:nvSpPr>
          <p:spPr>
            <a:xfrm>
              <a:off x="2514600" y="48006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514240" y="48006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828440" y="5486400"/>
            <a:ext cx="686160" cy="685800"/>
            <a:chOff x="1828440" y="5486400"/>
            <a:chExt cx="686160" cy="685800"/>
          </a:xfrm>
        </p:grpSpPr>
        <p:sp>
          <p:nvSpPr>
            <p:cNvPr id="338" name=""/>
            <p:cNvSpPr/>
            <p:nvPr/>
          </p:nvSpPr>
          <p:spPr>
            <a:xfrm>
              <a:off x="1828800" y="54864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1828440" y="54864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 - Sequenti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C01B-D585-4372-83C9-6D41CCBFB2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nimizing incompletely specified FS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3332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6000"/>
          </a:bodyPr>
          <a:p>
            <a:pPr marL="333720" indent="-33372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quivalence of states is transitive when machine is fully specified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33720" indent="-33372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ut its not transitive when don't cares are presen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1 is compatible with both S0 and S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t S0 and S2 are incompat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33720" indent="-33372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 polynomial time algorithm exists for determining best grouping of states into equivalent sets that will yield the smallest number of final states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 - Sequenti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78EF-D17B-4E1C-BB01-C9416C01961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5029200" y="2362320"/>
            <a:ext cx="2539800" cy="2286000"/>
            <a:chOff x="5029200" y="2362320"/>
            <a:chExt cx="2539800" cy="2286000"/>
          </a:xfrm>
        </p:grpSpPr>
        <p:sp>
          <p:nvSpPr>
            <p:cNvPr id="343" name=""/>
            <p:cNvSpPr/>
            <p:nvPr/>
          </p:nvSpPr>
          <p:spPr>
            <a:xfrm>
              <a:off x="5092560" y="2362320"/>
              <a:ext cx="228600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48608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29200" y="2692440"/>
              <a:ext cx="253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87840" y="2362320"/>
              <a:ext cx="1800" cy="22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5105520" y="4952880"/>
            <a:ext cx="2273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X  (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or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18120" y="5397480"/>
            <a:ext cx="1930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X 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nimizing states may not yield best circui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xample: edge detector - outputs 1 when last two input changes from 0 to 1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147680" y="2590920"/>
            <a:ext cx="2281320" cy="2851920"/>
            <a:chOff x="1147680" y="2590920"/>
            <a:chExt cx="2281320" cy="2851920"/>
          </a:xfrm>
        </p:grpSpPr>
        <p:sp>
          <p:nvSpPr>
            <p:cNvPr id="351" name=""/>
            <p:cNvSpPr/>
            <p:nvPr/>
          </p:nvSpPr>
          <p:spPr>
            <a:xfrm>
              <a:off x="1371600" y="30481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71600" y="44956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95480" y="37339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4" name=""/>
            <p:cNvCxnSpPr>
              <a:stCxn id="353" idx="4"/>
              <a:endCxn id="352" idx="6"/>
            </p:cNvCxnSpPr>
            <p:nvPr/>
          </p:nvCxnSpPr>
          <p:spPr>
            <a:xfrm rot="5400000">
              <a:off x="2285280" y="3886200"/>
              <a:ext cx="49608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5" name=""/>
            <p:cNvCxnSpPr>
              <a:stCxn id="352" idx="5"/>
              <a:endCxn id="352" idx="3"/>
            </p:cNvCxnSpPr>
            <p:nvPr/>
          </p:nvCxnSpPr>
          <p:spPr>
            <a:xfrm rot="5400000">
              <a:off x="1636920" y="4763160"/>
              <a:ext cx="2160" cy="378720"/>
            </a:xfrm>
            <a:prstGeom prst="curvedConnector5">
              <a:avLst>
                <a:gd name="adj1" fmla="val 19300000"/>
                <a:gd name="adj2" fmla="val 49952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6" name=""/>
            <p:cNvCxnSpPr>
              <a:stCxn id="352" idx="1"/>
              <a:endCxn id="351" idx="3"/>
            </p:cNvCxnSpPr>
            <p:nvPr/>
          </p:nvCxnSpPr>
          <p:spPr>
            <a:xfrm flipV="1">
              <a:off x="1449000" y="3503160"/>
              <a:ext cx="1080" cy="1070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"/>
            <p:cNvCxnSpPr>
              <a:stCxn id="351" idx="4"/>
              <a:endCxn id="353" idx="2"/>
            </p:cNvCxnSpPr>
            <p:nvPr/>
          </p:nvCxnSpPr>
          <p:spPr>
            <a:xfrm flipH="1" rot="16200000">
              <a:off x="2057040" y="3161880"/>
              <a:ext cx="42012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3" idx="0"/>
              <a:endCxn id="351" idx="6"/>
            </p:cNvCxnSpPr>
            <p:nvPr/>
          </p:nvCxnSpPr>
          <p:spPr>
            <a:xfrm flipV="1" rot="16200000">
              <a:off x="2323800" y="2895120"/>
              <a:ext cx="41976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"/>
            <p:cNvCxnSpPr>
              <a:stCxn id="351" idx="7"/>
              <a:endCxn id="351" idx="1"/>
            </p:cNvCxnSpPr>
            <p:nvPr/>
          </p:nvCxnSpPr>
          <p:spPr>
            <a:xfrm rot="5400000">
              <a:off x="1636920" y="2937600"/>
              <a:ext cx="216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0" name=""/>
            <p:cNvSpPr/>
            <p:nvPr/>
          </p:nvSpPr>
          <p:spPr>
            <a:xfrm>
              <a:off x="1147680" y="39625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19280" y="30481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81200" y="25909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06200" y="388620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77600" y="510552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92000" y="457200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X - Sequenti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130-75D7-49B4-A5A5-4345703F35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0-11-22T07:54:42Z</dcterms:modified>
  <cp:revision>22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