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7AA-CFB8-4259-998E-5640A2C7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E1B-B146-43EE-B8DB-79DED58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871-DA90-47D0-8257-0D90357A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CE6-B538-4D6D-B47F-B1087537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5FA-D0C6-45B5-A7C3-CF7B340D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F86-E9EC-4FFB-B32A-59DFECB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A565-9448-424F-B632-6AC560E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65D8-C83B-48FD-9537-6C536DB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3A3D-3F04-44CD-A1D6-72941ED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4AF1-60FF-481C-828F-AADED06D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BA3-ADE7-4D82-83CB-F000F95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06B-69DB-41AE-8AE3-89196C0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65AB-8B50-47AF-8014-E143E40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054-BBDE-446B-B8D1-FD34103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913-685E-464D-8436-06CC65B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3E43-7895-405C-BFD1-A9B6D4AC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6AF-3C89-4CFD-A127-A5E3080C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8DA-256F-43C5-B201-E6E1B03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EE1-E1C0-4C44-B287-D7A4D1F4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82E-96D0-407D-8DB2-D1C3B38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C35-A86D-420B-83BF-C2811AE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78F-3C2B-4B73-B610-BABF45C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026-49CE-46F9-BB84-BBFB158F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051-C8AE-497C-9C09-395BA92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655982-FA32-4FAF-AB83-3C957D02E5E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D532F4-D51B-4940-AD56-0A6DCF958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Technolog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ndard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 pack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ular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-level programmable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F35-8043-4C73-B487-C257CE6F27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 level implementation of mux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:1 mux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4:1 mu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428-BB6A-48E6-9F8E-2C61E680A4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5181480"/>
            <a:ext cx="3848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666880"/>
            <a:ext cx="1917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7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scading multiplex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arge multiplexers can be implemented by cascading smaller on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38080" y="1955880"/>
            <a:ext cx="4000680" cy="2984400"/>
            <a:chOff x="838080" y="1955880"/>
            <a:chExt cx="4000680" cy="2984400"/>
          </a:xfrm>
        </p:grpSpPr>
        <p:sp>
          <p:nvSpPr>
            <p:cNvPr id="396" name=""/>
            <p:cNvSpPr/>
            <p:nvPr/>
          </p:nvSpPr>
          <p:spPr>
            <a:xfrm>
              <a:off x="4280040" y="28195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8080" y="1955880"/>
              <a:ext cx="3049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11320" y="231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11320" y="2768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11320" y="2540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1320" y="2997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54040" y="22035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1790640" y="310464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019240" y="310464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68440" y="265428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11520" y="3111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11520" y="3340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54240" y="30034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5053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90840" y="43308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68640" y="3225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8080" y="3098880"/>
              <a:ext cx="3049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11320" y="345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11320" y="3911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11320" y="368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11320" y="4140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54040" y="3346560"/>
              <a:ext cx="91440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790640" y="4248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019240" y="424800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9120" y="431784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68440" y="379728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5040" y="266076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705040" y="333360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9920" y="2089080"/>
              <a:ext cx="274320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84000" y="350532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84000" y="236232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5240" y="29242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88760" y="20574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17C-25DC-4CD7-AABD-97A8EC31B1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6515280" y="4114800"/>
            <a:ext cx="2628720" cy="2666880"/>
            <a:chOff x="6515280" y="4114800"/>
            <a:chExt cx="2628720" cy="2666880"/>
          </a:xfrm>
        </p:grpSpPr>
        <p:sp>
          <p:nvSpPr>
            <p:cNvPr id="430" name=""/>
            <p:cNvSpPr/>
            <p:nvPr/>
          </p:nvSpPr>
          <p:spPr>
            <a:xfrm>
              <a:off x="7950240" y="65023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62920" y="64897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6400" y="648972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74000" y="4140360"/>
              <a:ext cx="16488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15280" y="414036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9960" y="588024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6600" y="502920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18240" y="588024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86880" y="588024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10480" y="495288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10280" y="411480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53280" y="5105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81320" y="4267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81320" y="4495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81320" y="472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781320" y="4952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6172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6172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81320" y="5181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81320" y="5410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781320" y="5638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81320" y="5867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01000" y="6172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xers as general-purpose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:1 multiplexer can implement any function of n vari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the variables used as control inputs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inputs tied to 0 o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essence, a lookup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m0 + m2 + m6 + m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= A'B'C' + A'BC' + ABC' + AB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= A'B'(C') + A'B(C') + AB'(0) + AB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FCD-B321-4BA2-BB6D-4FE0AB8C83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3778200" y="4133880"/>
            <a:ext cx="2076480" cy="2324160"/>
            <a:chOff x="3778200" y="4133880"/>
            <a:chExt cx="2076480" cy="2324160"/>
          </a:xfrm>
        </p:grpSpPr>
        <p:sp>
          <p:nvSpPr>
            <p:cNvPr id="456" name=""/>
            <p:cNvSpPr/>
            <p:nvPr/>
          </p:nvSpPr>
          <p:spPr>
            <a:xfrm>
              <a:off x="3848040" y="41338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73440" y="44388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90800" y="44006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05160" y="41529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47960" y="44067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8200" y="48196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790440" y="52513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5695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553080" y="4419720"/>
            <a:ext cx="2324160" cy="1847880"/>
            <a:chOff x="6553080" y="4419720"/>
            <a:chExt cx="2324160" cy="1847880"/>
          </a:xfrm>
        </p:grpSpPr>
        <p:sp>
          <p:nvSpPr>
            <p:cNvPr id="465" name=""/>
            <p:cNvSpPr/>
            <p:nvPr/>
          </p:nvSpPr>
          <p:spPr>
            <a:xfrm>
              <a:off x="7619760" y="56707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13600" y="56707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93040" y="52135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61320" y="52135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43720" y="46544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61040" y="44766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67520" y="44197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61040" y="47815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23120" y="49593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13360" y="4629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13360" y="48448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825600" y="50734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38560" y="5276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53080" y="44766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45320" y="5486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26200" y="5486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200400" y="48006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104840" y="3962520"/>
            <a:ext cx="2019240" cy="2666880"/>
            <a:chOff x="1104840" y="3962520"/>
            <a:chExt cx="2019240" cy="2666880"/>
          </a:xfrm>
        </p:grpSpPr>
        <p:sp>
          <p:nvSpPr>
            <p:cNvPr id="483" name=""/>
            <p:cNvSpPr/>
            <p:nvPr/>
          </p:nvSpPr>
          <p:spPr>
            <a:xfrm>
              <a:off x="2514600" y="6350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2480" y="63374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6320" y="63374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63560" y="39877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4840" y="39877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9880" y="57276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76520" y="48769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08160" y="57276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76440" y="57276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39625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43200" y="495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371240" y="411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371240" y="434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371240" y="457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371240" y="480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28800" y="6019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9680" y="6019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5029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5257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486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137124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90920" y="6019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xers as general-purpose logic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n-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:1 multiplexer can implement any function of n vari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n-1 variables used as control inputs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inputs tied to the last variable or its co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m0 + m2 + m6 + m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= A'B'C' + A'BC' + ABC' + AB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= A'B'(C') + A'B(C') + AB'(0) + AB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07E-2261-428E-884A-3729B7418F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560" y="5024520"/>
            <a:ext cx="231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A,B,C as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xers as general-purpose logic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lizatio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G(A,B,C,D)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be implemented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y an 8:1 MU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178680" y="3807000"/>
            <a:ext cx="2019240" cy="2666880"/>
            <a:chOff x="6178680" y="3807000"/>
            <a:chExt cx="2019240" cy="2666880"/>
          </a:xfrm>
        </p:grpSpPr>
        <p:sp>
          <p:nvSpPr>
            <p:cNvPr id="525" name=""/>
            <p:cNvSpPr/>
            <p:nvPr/>
          </p:nvSpPr>
          <p:spPr>
            <a:xfrm>
              <a:off x="7588440" y="61945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6320" y="618192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20160" y="618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37400" y="383220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8680" y="383220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13720" y="5572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50360" y="472140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2000" y="5572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50280" y="5572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74040" y="380700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17040" y="4797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45080" y="3959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445080" y="4187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445080" y="4416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445080" y="4645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02640" y="5864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83520" y="5864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445080" y="4873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445080" y="5102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445080" y="5330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445080" y="5559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64760" y="5864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048120" y="2963880"/>
            <a:ext cx="2464920" cy="3744720"/>
            <a:chOff x="3048120" y="2963880"/>
            <a:chExt cx="2464920" cy="3744720"/>
          </a:xfrm>
        </p:grpSpPr>
        <p:sp>
          <p:nvSpPr>
            <p:cNvPr id="548" name=""/>
            <p:cNvSpPr/>
            <p:nvPr/>
          </p:nvSpPr>
          <p:spPr>
            <a:xfrm>
              <a:off x="4849560" y="3254400"/>
              <a:ext cx="241200" cy="3711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73320" y="2963880"/>
              <a:ext cx="204444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32160" y="3281400"/>
              <a:ext cx="380880" cy="33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98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8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D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8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D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’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80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8120" y="323028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81520" y="298296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17840" y="3236760"/>
              <a:ext cx="0" cy="347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8120" y="36496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048120" y="40813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45259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9449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8120" y="536400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48120" y="579600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62402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49560" y="3673440"/>
              <a:ext cx="241200" cy="37152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48120" y="364968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48120" y="408132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8120" y="452592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48120" y="494496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48120" y="536400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48120" y="579600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48120" y="6240240"/>
              <a:ext cx="22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49560" y="4130640"/>
              <a:ext cx="241200" cy="37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49560" y="4549680"/>
              <a:ext cx="241200" cy="3715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49560" y="4968720"/>
              <a:ext cx="241200" cy="371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49560" y="5387760"/>
              <a:ext cx="241200" cy="37152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49560" y="5844960"/>
              <a:ext cx="241200" cy="371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49560" y="6264000"/>
              <a:ext cx="241200" cy="371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E72-6A6A-415C-A886-7702BFDE34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166760" y="2552760"/>
            <a:ext cx="903240" cy="3805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p the following equation to an 4:1 multiplexer using a minimum of external gate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79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971800" y="2571840"/>
            <a:ext cx="2386080" cy="2200320"/>
            <a:chOff x="2971800" y="2571840"/>
            <a:chExt cx="2386080" cy="2200320"/>
          </a:xfrm>
        </p:grpSpPr>
        <p:sp>
          <p:nvSpPr>
            <p:cNvPr id="597" name=""/>
            <p:cNvSpPr/>
            <p:nvPr/>
          </p:nvSpPr>
          <p:spPr>
            <a:xfrm flipH="1">
              <a:off x="2984760" y="2784600"/>
              <a:ext cx="113328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971800" y="2784600"/>
              <a:ext cx="1146240" cy="19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01120" y="2571840"/>
              <a:ext cx="125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when 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003480" y="3473280"/>
            <a:ext cx="2351880" cy="1742760"/>
            <a:chOff x="3003480" y="3473280"/>
            <a:chExt cx="2351880" cy="1742760"/>
          </a:xfrm>
        </p:grpSpPr>
        <p:sp>
          <p:nvSpPr>
            <p:cNvPr id="601" name=""/>
            <p:cNvSpPr/>
            <p:nvPr/>
          </p:nvSpPr>
          <p:spPr>
            <a:xfrm flipH="1" flipV="1">
              <a:off x="3026880" y="3473280"/>
              <a:ext cx="1036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003480" y="3644640"/>
              <a:ext cx="1072800" cy="15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6560" y="3482640"/>
              <a:ext cx="128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 when 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041280" y="3940200"/>
            <a:ext cx="2208240" cy="1676520"/>
            <a:chOff x="3041280" y="3940200"/>
            <a:chExt cx="2208240" cy="1676520"/>
          </a:xfrm>
        </p:grpSpPr>
        <p:sp>
          <p:nvSpPr>
            <p:cNvPr id="605" name=""/>
            <p:cNvSpPr/>
            <p:nvPr/>
          </p:nvSpPr>
          <p:spPr>
            <a:xfrm flipH="1" flipV="1">
              <a:off x="3041280" y="394020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041280" y="4397400"/>
              <a:ext cx="99684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14360" y="4245120"/>
              <a:ext cx="123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when 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041640" y="4397040"/>
            <a:ext cx="2211120" cy="1676880"/>
            <a:chOff x="3041640" y="4397040"/>
            <a:chExt cx="2211120" cy="1676880"/>
          </a:xfrm>
        </p:grpSpPr>
        <p:sp>
          <p:nvSpPr>
            <p:cNvPr id="609" name=""/>
            <p:cNvSpPr/>
            <p:nvPr/>
          </p:nvSpPr>
          <p:spPr>
            <a:xfrm flipH="1" flipV="1">
              <a:off x="3041640" y="4397040"/>
              <a:ext cx="9907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041640" y="5083200"/>
              <a:ext cx="9907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66200" y="4930920"/>
              <a:ext cx="118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when 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14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457200" y="2362320"/>
            <a:ext cx="853452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915-9168-4DD9-9616-8D69B6432C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ultiplexers/decod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coders/demultiplexers: general concep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data input, n control inputs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inputs (called “selects” (S)) represent binary index of output to which the input is conn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input usually called “enable” (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9AD-4538-4938-AF37-15C143D412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1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84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1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0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e level implementation of demultiplex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:2 decoder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:4 decod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C05-7635-4176-A7C3-B4821BF7D1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ultiplexers as general-purpose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n:2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decoder can implement any function of n vari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the variables used as control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nable inputs tied to 1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ppropriate minterms summed to form the fun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66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43C-F1B5-4AF2-9068-A1500A2BDB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"/>
          <p:cNvGrpSpPr/>
          <p:nvPr/>
        </p:nvGrpSpPr>
        <p:grpSpPr>
          <a:xfrm>
            <a:off x="5943240" y="2558880"/>
            <a:ext cx="2730960" cy="3175200"/>
            <a:chOff x="5943240" y="2558880"/>
            <a:chExt cx="2730960" cy="3175200"/>
          </a:xfrm>
        </p:grpSpPr>
        <p:sp>
          <p:nvSpPr>
            <p:cNvPr id="990" name=""/>
            <p:cNvSpPr/>
            <p:nvPr/>
          </p:nvSpPr>
          <p:spPr>
            <a:xfrm>
              <a:off x="6490080" y="258588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83600" y="256716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66400" y="255888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59920" y="256536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61040" y="255888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54560" y="256536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07200" y="27748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61400" y="258588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54920" y="256716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54640" y="258444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07280" y="27748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85120" y="2965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2964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48520" y="25909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94324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43600" y="34290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6400800" y="276876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87880" y="573408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6553080" y="295884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039160" y="26226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943600" y="3949560"/>
            <a:ext cx="2705040" cy="1536840"/>
            <a:chOff x="5943600" y="3949560"/>
            <a:chExt cx="2705040" cy="1536840"/>
          </a:xfrm>
        </p:grpSpPr>
        <p:sp>
          <p:nvSpPr>
            <p:cNvPr id="1011" name=""/>
            <p:cNvSpPr/>
            <p:nvPr/>
          </p:nvSpPr>
          <p:spPr>
            <a:xfrm>
              <a:off x="6490080" y="397044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83600" y="396396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566400" y="395640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59920" y="394956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61040" y="395640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054560" y="394956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07200" y="41846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061400" y="397044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54920" y="396396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242040" y="39686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07280" y="41846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572160" y="437508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29640" y="41846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00800" y="420372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5975280" y="5486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43600" y="50292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248520" y="39625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9560" y="436248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53080" y="434340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013600" y="404496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553080" y="5549760"/>
            <a:ext cx="1854360" cy="622440"/>
            <a:chOff x="6553080" y="5549760"/>
            <a:chExt cx="1854360" cy="622440"/>
          </a:xfrm>
        </p:grpSpPr>
        <p:sp>
          <p:nvSpPr>
            <p:cNvPr id="1032" name=""/>
            <p:cNvSpPr/>
            <p:nvPr/>
          </p:nvSpPr>
          <p:spPr>
            <a:xfrm>
              <a:off x="7207200" y="5549760"/>
              <a:ext cx="2541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07200" y="5727600"/>
              <a:ext cx="2541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01080" y="5549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473960" y="57024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85120" y="57340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62880" y="57340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59560" y="5721480"/>
              <a:ext cx="3816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553080" y="571500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57532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multiplexers as general-purpose logic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1 = A' B C' D + A' B' C D + A B C 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2 = A B C' D’ + A B 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3 = (A' + B' + C' + D'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2743200" y="2133720"/>
            <a:ext cx="3276720" cy="4635360"/>
            <a:chOff x="2743200" y="2133720"/>
            <a:chExt cx="3276720" cy="4635360"/>
          </a:xfrm>
        </p:grpSpPr>
        <p:sp>
          <p:nvSpPr>
            <p:cNvPr id="1044" name=""/>
            <p:cNvSpPr/>
            <p:nvPr/>
          </p:nvSpPr>
          <p:spPr>
            <a:xfrm>
              <a:off x="3898800" y="617220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140360" y="617220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8320" y="2133720"/>
              <a:ext cx="13716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08360" y="3816360"/>
              <a:ext cx="1104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43200" y="3962520"/>
              <a:ext cx="787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09880" y="2133720"/>
              <a:ext cx="114300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29000" y="411480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962520" y="5867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91120" y="5867280"/>
              <a:ext cx="1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8320" y="5867280"/>
              <a:ext cx="1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952880" y="22860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952880" y="25146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419720" y="5867280"/>
              <a:ext cx="1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68960" y="617220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84600" y="617220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2880" y="27432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952880" y="29718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52880" y="32004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52880" y="34290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52880" y="36576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4952880" y="38862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52880" y="41148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952880" y="43434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52880" y="45720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4952880" y="48006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52880" y="50292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952880" y="52578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52880" y="54864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4952880" y="5715000"/>
              <a:ext cx="381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3E3-3E06-424B-A34D-C715957B66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ndom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ansistors quickly integrated into logic gates (1960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talog of common gates (1970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xas Instruments Logic Data Book – the yellow b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common packages listed and characterized (delays, pow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ical package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ay, very few parts are still in u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ever, parts libraries exist for chip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ers reuse already characterized logic gates on chi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reasons as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ce is that the parts don’t exist in physical inventory – created as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BE2-1503-4B54-89BE-379839BD29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scading decod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5:32 decod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x2:4 deco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3:8 deco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28A-3C2B-4B1B-A580-49DBFDFAF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88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196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04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-fabricated building block of many AND/OR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ually NOR or N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personalized" by making or breaking connections among the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array block diagram for sum of products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4CD-256D-4E39-A129-64E92F59AA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18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23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abling concep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hared product terms among out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00A-3860-4B94-B6B6-B4549F1798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0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22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26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42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fore programm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l possible connections are available before "programming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reality, all AND and OR gates are N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CF4-DB22-4555-BF0A-F45B964CE9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3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64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programm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wanted connections are "blown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(normally connected, break unwanted on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-fuse (normally disconnected, make wanted conne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D63-B366-4A41-8470-4E685C068E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7" name=""/>
          <p:cNvGrpSpPr/>
          <p:nvPr/>
        </p:nvGrpSpPr>
        <p:grpSpPr>
          <a:xfrm>
            <a:off x="609480" y="2927520"/>
            <a:ext cx="3454560" cy="2336760"/>
            <a:chOff x="609480" y="2927520"/>
            <a:chExt cx="3454560" cy="2336760"/>
          </a:xfrm>
        </p:grpSpPr>
        <p:sp>
          <p:nvSpPr>
            <p:cNvPr id="1758" name=""/>
            <p:cNvSpPr/>
            <p:nvPr/>
          </p:nvSpPr>
          <p:spPr>
            <a:xfrm flipH="1">
              <a:off x="1676520" y="305460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62040" y="305460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549080" y="30481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27280" y="3168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82640" y="2927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46360" y="323208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619280" y="315612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9240" y="32004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19240" y="350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2012760" y="319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178360" y="321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171880" y="320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178000" y="320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171520" y="319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9480" y="33530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63840" y="335304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686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019240" y="387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12760" y="356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8360" y="35830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1880" y="35766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8000" y="35690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71520" y="3562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09480" y="3721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463840" y="372132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36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19240" y="4241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012760" y="3930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360" y="3951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1880" y="3944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8000" y="3937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71520" y="3930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09480" y="4089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463840" y="408960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05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19240" y="4610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2012760" y="4299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8360" y="4319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1880" y="4313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8000" y="4305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171520" y="4299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09480" y="4457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463840" y="44578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1688760" y="3308400"/>
              <a:ext cx="114120" cy="88920"/>
              <a:chOff x="1688760" y="3308400"/>
              <a:chExt cx="114120" cy="88920"/>
            </a:xfrm>
          </p:grpSpPr>
          <p:sp>
            <p:nvSpPr>
              <p:cNvPr id="1802" name=""/>
              <p:cNvSpPr/>
              <p:nvPr/>
            </p:nvSpPr>
            <p:spPr>
              <a:xfrm>
                <a:off x="170172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1688760" y="330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1688760" y="3676680"/>
              <a:ext cx="114120" cy="88920"/>
              <a:chOff x="1688760" y="3676680"/>
              <a:chExt cx="114120" cy="88920"/>
            </a:xfrm>
          </p:grpSpPr>
          <p:sp>
            <p:nvSpPr>
              <p:cNvPr id="1805" name=""/>
              <p:cNvSpPr/>
              <p:nvPr/>
            </p:nvSpPr>
            <p:spPr>
              <a:xfrm>
                <a:off x="170172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1688760" y="3676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1688760" y="4044960"/>
              <a:ext cx="114120" cy="88920"/>
              <a:chOff x="1688760" y="4044960"/>
              <a:chExt cx="114120" cy="88920"/>
            </a:xfrm>
          </p:grpSpPr>
          <p:sp>
            <p:nvSpPr>
              <p:cNvPr id="1808" name=""/>
              <p:cNvSpPr/>
              <p:nvPr/>
            </p:nvSpPr>
            <p:spPr>
              <a:xfrm>
                <a:off x="170172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1688760" y="40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1688760" y="4413240"/>
              <a:ext cx="114120" cy="88920"/>
              <a:chOff x="1688760" y="4413240"/>
              <a:chExt cx="114120" cy="88920"/>
            </a:xfrm>
          </p:grpSpPr>
          <p:sp>
            <p:nvSpPr>
              <p:cNvPr id="1811" name=""/>
              <p:cNvSpPr/>
              <p:nvPr/>
            </p:nvSpPr>
            <p:spPr>
              <a:xfrm>
                <a:off x="170172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1688760" y="441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1562040" y="3308400"/>
              <a:ext cx="114480" cy="88920"/>
              <a:chOff x="1562040" y="3308400"/>
              <a:chExt cx="114480" cy="88920"/>
            </a:xfrm>
          </p:grpSpPr>
          <p:sp>
            <p:nvSpPr>
              <p:cNvPr id="1814" name=""/>
              <p:cNvSpPr/>
              <p:nvPr/>
            </p:nvSpPr>
            <p:spPr>
              <a:xfrm>
                <a:off x="157464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1562040" y="330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1562040" y="3676680"/>
              <a:ext cx="114480" cy="88920"/>
              <a:chOff x="1562040" y="3676680"/>
              <a:chExt cx="114480" cy="88920"/>
            </a:xfrm>
          </p:grpSpPr>
          <p:sp>
            <p:nvSpPr>
              <p:cNvPr id="1817" name=""/>
              <p:cNvSpPr/>
              <p:nvPr/>
            </p:nvSpPr>
            <p:spPr>
              <a:xfrm>
                <a:off x="157464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1562040" y="3676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1562040" y="4044960"/>
              <a:ext cx="114480" cy="88920"/>
              <a:chOff x="1562040" y="4044960"/>
              <a:chExt cx="114480" cy="88920"/>
            </a:xfrm>
          </p:grpSpPr>
          <p:sp>
            <p:nvSpPr>
              <p:cNvPr id="1820" name=""/>
              <p:cNvSpPr/>
              <p:nvPr/>
            </p:nvSpPr>
            <p:spPr>
              <a:xfrm>
                <a:off x="157464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1562040" y="4044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1562040" y="4413240"/>
              <a:ext cx="114480" cy="88920"/>
              <a:chOff x="1562040" y="4413240"/>
              <a:chExt cx="114480" cy="88920"/>
            </a:xfrm>
          </p:grpSpPr>
          <p:sp>
            <p:nvSpPr>
              <p:cNvPr id="1823" name=""/>
              <p:cNvSpPr/>
              <p:nvPr/>
            </p:nvSpPr>
            <p:spPr>
              <a:xfrm>
                <a:off x="157464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1562040" y="441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 flipH="1">
              <a:off x="1384200" y="305460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70080" y="305460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256760" y="30481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34960" y="3168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90680" y="2927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454040" y="323208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326960" y="315612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1396800" y="3308400"/>
              <a:ext cx="114480" cy="88920"/>
              <a:chOff x="1396800" y="3308400"/>
              <a:chExt cx="114480" cy="88920"/>
            </a:xfrm>
          </p:grpSpPr>
          <p:sp>
            <p:nvSpPr>
              <p:cNvPr id="1833" name=""/>
              <p:cNvSpPr/>
              <p:nvPr/>
            </p:nvSpPr>
            <p:spPr>
              <a:xfrm>
                <a:off x="140976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1396800" y="330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1396800" y="3676680"/>
              <a:ext cx="114480" cy="88920"/>
              <a:chOff x="1396800" y="3676680"/>
              <a:chExt cx="114480" cy="88920"/>
            </a:xfrm>
          </p:grpSpPr>
          <p:sp>
            <p:nvSpPr>
              <p:cNvPr id="1836" name=""/>
              <p:cNvSpPr/>
              <p:nvPr/>
            </p:nvSpPr>
            <p:spPr>
              <a:xfrm>
                <a:off x="140976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1396800" y="3676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1396800" y="4044960"/>
              <a:ext cx="114480" cy="88920"/>
              <a:chOff x="1396800" y="4044960"/>
              <a:chExt cx="114480" cy="88920"/>
            </a:xfrm>
          </p:grpSpPr>
          <p:sp>
            <p:nvSpPr>
              <p:cNvPr id="1839" name=""/>
              <p:cNvSpPr/>
              <p:nvPr/>
            </p:nvSpPr>
            <p:spPr>
              <a:xfrm>
                <a:off x="140976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1396800" y="4044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1396800" y="4413240"/>
              <a:ext cx="114480" cy="88920"/>
              <a:chOff x="1396800" y="4413240"/>
              <a:chExt cx="114480" cy="88920"/>
            </a:xfrm>
          </p:grpSpPr>
          <p:sp>
            <p:nvSpPr>
              <p:cNvPr id="1842" name=""/>
              <p:cNvSpPr/>
              <p:nvPr/>
            </p:nvSpPr>
            <p:spPr>
              <a:xfrm>
                <a:off x="140976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1396800" y="441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1269720" y="3308400"/>
              <a:ext cx="114120" cy="88920"/>
              <a:chOff x="1269720" y="3308400"/>
              <a:chExt cx="114120" cy="88920"/>
            </a:xfrm>
          </p:grpSpPr>
          <p:sp>
            <p:nvSpPr>
              <p:cNvPr id="1845" name=""/>
              <p:cNvSpPr/>
              <p:nvPr/>
            </p:nvSpPr>
            <p:spPr>
              <a:xfrm>
                <a:off x="128268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1269720" y="330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1269720" y="3676680"/>
              <a:ext cx="114120" cy="88920"/>
              <a:chOff x="1269720" y="3676680"/>
              <a:chExt cx="114120" cy="88920"/>
            </a:xfrm>
          </p:grpSpPr>
          <p:sp>
            <p:nvSpPr>
              <p:cNvPr id="1848" name=""/>
              <p:cNvSpPr/>
              <p:nvPr/>
            </p:nvSpPr>
            <p:spPr>
              <a:xfrm>
                <a:off x="128268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1269720" y="3676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1269720" y="4044960"/>
              <a:ext cx="114120" cy="88920"/>
              <a:chOff x="1269720" y="4044960"/>
              <a:chExt cx="114120" cy="88920"/>
            </a:xfrm>
          </p:grpSpPr>
          <p:sp>
            <p:nvSpPr>
              <p:cNvPr id="1851" name=""/>
              <p:cNvSpPr/>
              <p:nvPr/>
            </p:nvSpPr>
            <p:spPr>
              <a:xfrm>
                <a:off x="128268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69720" y="40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1269720" y="4413240"/>
              <a:ext cx="114120" cy="88920"/>
              <a:chOff x="1269720" y="4413240"/>
              <a:chExt cx="114120" cy="88920"/>
            </a:xfrm>
          </p:grpSpPr>
          <p:sp>
            <p:nvSpPr>
              <p:cNvPr id="1854" name=""/>
              <p:cNvSpPr/>
              <p:nvPr/>
            </p:nvSpPr>
            <p:spPr>
              <a:xfrm>
                <a:off x="128268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69720" y="441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 flipH="1">
              <a:off x="1092240" y="305460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977760" y="305460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964800" y="30481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143000" y="3168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098360" y="2927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162080" y="323208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035000" y="315612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3" name=""/>
            <p:cNvGrpSpPr/>
            <p:nvPr/>
          </p:nvGrpSpPr>
          <p:grpSpPr>
            <a:xfrm>
              <a:off x="1104840" y="3308400"/>
              <a:ext cx="114480" cy="88920"/>
              <a:chOff x="1104840" y="3308400"/>
              <a:chExt cx="114480" cy="88920"/>
            </a:xfrm>
          </p:grpSpPr>
          <p:sp>
            <p:nvSpPr>
              <p:cNvPr id="1864" name=""/>
              <p:cNvSpPr/>
              <p:nvPr/>
            </p:nvSpPr>
            <p:spPr>
              <a:xfrm>
                <a:off x="111744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1104840" y="330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1104840" y="3676680"/>
              <a:ext cx="114480" cy="88920"/>
              <a:chOff x="1104840" y="3676680"/>
              <a:chExt cx="114480" cy="88920"/>
            </a:xfrm>
          </p:grpSpPr>
          <p:sp>
            <p:nvSpPr>
              <p:cNvPr id="1867" name=""/>
              <p:cNvSpPr/>
              <p:nvPr/>
            </p:nvSpPr>
            <p:spPr>
              <a:xfrm>
                <a:off x="111744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1104840" y="3676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1104840" y="4044960"/>
              <a:ext cx="114480" cy="88920"/>
              <a:chOff x="1104840" y="4044960"/>
              <a:chExt cx="114480" cy="88920"/>
            </a:xfrm>
          </p:grpSpPr>
          <p:sp>
            <p:nvSpPr>
              <p:cNvPr id="1870" name=""/>
              <p:cNvSpPr/>
              <p:nvPr/>
            </p:nvSpPr>
            <p:spPr>
              <a:xfrm>
                <a:off x="111744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1104840" y="4044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1104840" y="4413240"/>
              <a:ext cx="114480" cy="88920"/>
              <a:chOff x="1104840" y="4413240"/>
              <a:chExt cx="114480" cy="889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11744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1104840" y="441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977760" y="3308400"/>
              <a:ext cx="114480" cy="88920"/>
              <a:chOff x="977760" y="3308400"/>
              <a:chExt cx="114480" cy="88920"/>
            </a:xfrm>
          </p:grpSpPr>
          <p:sp>
            <p:nvSpPr>
              <p:cNvPr id="1876" name=""/>
              <p:cNvSpPr/>
              <p:nvPr/>
            </p:nvSpPr>
            <p:spPr>
              <a:xfrm>
                <a:off x="990720" y="330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977760" y="330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977760" y="3676680"/>
              <a:ext cx="114480" cy="88920"/>
              <a:chOff x="977760" y="3676680"/>
              <a:chExt cx="114480" cy="88920"/>
            </a:xfrm>
          </p:grpSpPr>
          <p:sp>
            <p:nvSpPr>
              <p:cNvPr id="1879" name=""/>
              <p:cNvSpPr/>
              <p:nvPr/>
            </p:nvSpPr>
            <p:spPr>
              <a:xfrm>
                <a:off x="990720" y="367668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977760" y="3676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977760" y="4044960"/>
              <a:ext cx="114480" cy="88920"/>
              <a:chOff x="977760" y="4044960"/>
              <a:chExt cx="114480" cy="88920"/>
            </a:xfrm>
          </p:grpSpPr>
          <p:sp>
            <p:nvSpPr>
              <p:cNvPr id="1882" name=""/>
              <p:cNvSpPr/>
              <p:nvPr/>
            </p:nvSpPr>
            <p:spPr>
              <a:xfrm>
                <a:off x="990720" y="4044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977760" y="4044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977760" y="4413240"/>
              <a:ext cx="114480" cy="88920"/>
              <a:chOff x="977760" y="4413240"/>
              <a:chExt cx="114480" cy="88920"/>
            </a:xfrm>
          </p:grpSpPr>
          <p:sp>
            <p:nvSpPr>
              <p:cNvPr id="1885" name=""/>
              <p:cNvSpPr/>
              <p:nvPr/>
            </p:nvSpPr>
            <p:spPr>
              <a:xfrm>
                <a:off x="990720" y="4413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977760" y="4413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 flipH="1">
              <a:off x="799920" y="305460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85800" y="305460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673200" y="30481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0680" y="316872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06400" y="2927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69760" y="323208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3040" y="315612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812520" y="3308400"/>
              <a:ext cx="114120" cy="88920"/>
              <a:chOff x="812520" y="3308400"/>
              <a:chExt cx="114120" cy="88920"/>
            </a:xfrm>
          </p:grpSpPr>
          <p:sp>
            <p:nvSpPr>
              <p:cNvPr id="1895" name=""/>
              <p:cNvSpPr/>
              <p:nvPr/>
            </p:nvSpPr>
            <p:spPr>
              <a:xfrm>
                <a:off x="82548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812520" y="330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812520" y="3676680"/>
              <a:ext cx="114120" cy="88920"/>
              <a:chOff x="812520" y="3676680"/>
              <a:chExt cx="114120" cy="88920"/>
            </a:xfrm>
          </p:grpSpPr>
          <p:sp>
            <p:nvSpPr>
              <p:cNvPr id="1898" name=""/>
              <p:cNvSpPr/>
              <p:nvPr/>
            </p:nvSpPr>
            <p:spPr>
              <a:xfrm>
                <a:off x="82548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812520" y="3676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812520" y="4044960"/>
              <a:ext cx="114120" cy="88920"/>
              <a:chOff x="812520" y="4044960"/>
              <a:chExt cx="114120" cy="88920"/>
            </a:xfrm>
          </p:grpSpPr>
          <p:sp>
            <p:nvSpPr>
              <p:cNvPr id="1901" name=""/>
              <p:cNvSpPr/>
              <p:nvPr/>
            </p:nvSpPr>
            <p:spPr>
              <a:xfrm>
                <a:off x="82548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812520" y="40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812520" y="4413240"/>
              <a:ext cx="114120" cy="88920"/>
              <a:chOff x="812520" y="4413240"/>
              <a:chExt cx="114120" cy="88920"/>
            </a:xfrm>
          </p:grpSpPr>
          <p:sp>
            <p:nvSpPr>
              <p:cNvPr id="1904" name=""/>
              <p:cNvSpPr/>
              <p:nvPr/>
            </p:nvSpPr>
            <p:spPr>
              <a:xfrm>
                <a:off x="82548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812520" y="441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685440" y="3308400"/>
              <a:ext cx="114120" cy="88920"/>
              <a:chOff x="685440" y="3308400"/>
              <a:chExt cx="114120" cy="88920"/>
            </a:xfrm>
          </p:grpSpPr>
          <p:sp>
            <p:nvSpPr>
              <p:cNvPr id="1907" name=""/>
              <p:cNvSpPr/>
              <p:nvPr/>
            </p:nvSpPr>
            <p:spPr>
              <a:xfrm>
                <a:off x="698400" y="330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685440" y="330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685440" y="3676680"/>
              <a:ext cx="114120" cy="88920"/>
              <a:chOff x="685440" y="3676680"/>
              <a:chExt cx="114120" cy="88920"/>
            </a:xfrm>
          </p:grpSpPr>
          <p:sp>
            <p:nvSpPr>
              <p:cNvPr id="1910" name=""/>
              <p:cNvSpPr/>
              <p:nvPr/>
            </p:nvSpPr>
            <p:spPr>
              <a:xfrm>
                <a:off x="698400" y="3676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685440" y="3676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685440" y="4044960"/>
              <a:ext cx="114120" cy="88920"/>
              <a:chOff x="685440" y="4044960"/>
              <a:chExt cx="114120" cy="88920"/>
            </a:xfrm>
          </p:grpSpPr>
          <p:sp>
            <p:nvSpPr>
              <p:cNvPr id="1913" name=""/>
              <p:cNvSpPr/>
              <p:nvPr/>
            </p:nvSpPr>
            <p:spPr>
              <a:xfrm>
                <a:off x="698400" y="40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85440" y="40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685440" y="4413240"/>
              <a:ext cx="114120" cy="88920"/>
              <a:chOff x="685440" y="4413240"/>
              <a:chExt cx="114120" cy="88920"/>
            </a:xfrm>
          </p:grpSpPr>
          <p:sp>
            <p:nvSpPr>
              <p:cNvPr id="1916" name=""/>
              <p:cNvSpPr/>
              <p:nvPr/>
            </p:nvSpPr>
            <p:spPr>
              <a:xfrm>
                <a:off x="698400" y="4413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685440" y="4413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2565720" y="3156120"/>
              <a:ext cx="305280" cy="2108160"/>
              <a:chOff x="2565720" y="3156120"/>
              <a:chExt cx="305280" cy="2108160"/>
            </a:xfrm>
          </p:grpSpPr>
          <p:sp>
            <p:nvSpPr>
              <p:cNvPr id="1919" name=""/>
              <p:cNvSpPr/>
              <p:nvPr/>
            </p:nvSpPr>
            <p:spPr>
              <a:xfrm>
                <a:off x="2590920" y="460368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565720" y="419724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579760" y="424836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579760" y="460368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711520" y="315612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11520" y="514980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5" name=""/>
              <p:cNvGrpSpPr/>
              <p:nvPr/>
            </p:nvGrpSpPr>
            <p:grpSpPr>
              <a:xfrm>
                <a:off x="2653920" y="3308400"/>
                <a:ext cx="114120" cy="88920"/>
                <a:chOff x="2653920" y="3308400"/>
                <a:chExt cx="114120" cy="8892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2666880" y="3308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>
                  <a:off x="2653920" y="3308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2653920" y="3676680"/>
                <a:ext cx="114120" cy="88920"/>
                <a:chOff x="2653920" y="3676680"/>
                <a:chExt cx="114120" cy="8892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2666880" y="36766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2653920" y="36766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2653920" y="4044960"/>
                <a:ext cx="114120" cy="88920"/>
                <a:chOff x="2653920" y="4044960"/>
                <a:chExt cx="114120" cy="8892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2666880" y="4044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>
                  <a:off x="2653920" y="4044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2653920" y="4413240"/>
                <a:ext cx="114120" cy="88920"/>
                <a:chOff x="2653920" y="4413240"/>
                <a:chExt cx="114120" cy="8892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2666880" y="4413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>
                  <a:off x="2653920" y="4413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7" name=""/>
            <p:cNvGrpSpPr/>
            <p:nvPr/>
          </p:nvGrpSpPr>
          <p:grpSpPr>
            <a:xfrm>
              <a:off x="2934000" y="3156120"/>
              <a:ext cx="305280" cy="2108160"/>
              <a:chOff x="2934000" y="3156120"/>
              <a:chExt cx="305280" cy="2108160"/>
            </a:xfrm>
          </p:grpSpPr>
          <p:sp>
            <p:nvSpPr>
              <p:cNvPr id="1938" name=""/>
              <p:cNvSpPr/>
              <p:nvPr/>
            </p:nvSpPr>
            <p:spPr>
              <a:xfrm>
                <a:off x="2959200" y="460368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934000" y="419724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948040" y="424836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948040" y="460368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079800" y="315612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79800" y="514980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3022200" y="3308400"/>
                <a:ext cx="114120" cy="88920"/>
                <a:chOff x="3022200" y="3308400"/>
                <a:chExt cx="114120" cy="8892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3035160" y="3308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>
                  <a:off x="3022200" y="3308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3022200" y="3676680"/>
                <a:ext cx="114120" cy="88920"/>
                <a:chOff x="3022200" y="3676680"/>
                <a:chExt cx="114120" cy="8892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3035160" y="36766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flipH="1">
                  <a:off x="3022200" y="36766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3022200" y="4044960"/>
                <a:ext cx="114120" cy="88920"/>
                <a:chOff x="3022200" y="4044960"/>
                <a:chExt cx="114120" cy="8892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3035160" y="4044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H="1">
                  <a:off x="3022200" y="4044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3022200" y="4413240"/>
                <a:ext cx="114120" cy="88920"/>
                <a:chOff x="3022200" y="4413240"/>
                <a:chExt cx="114120" cy="8892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035160" y="4413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H="1">
                  <a:off x="3022200" y="4413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6" name=""/>
            <p:cNvGrpSpPr/>
            <p:nvPr/>
          </p:nvGrpSpPr>
          <p:grpSpPr>
            <a:xfrm>
              <a:off x="3289680" y="3156120"/>
              <a:ext cx="305640" cy="2108160"/>
              <a:chOff x="3289680" y="3156120"/>
              <a:chExt cx="305640" cy="2108160"/>
            </a:xfrm>
          </p:grpSpPr>
          <p:sp>
            <p:nvSpPr>
              <p:cNvPr id="1957" name=""/>
              <p:cNvSpPr/>
              <p:nvPr/>
            </p:nvSpPr>
            <p:spPr>
              <a:xfrm>
                <a:off x="3314880" y="460368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289680" y="419724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303360" y="424836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303360" y="460368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435480" y="315612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435480" y="514980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3" name=""/>
              <p:cNvGrpSpPr/>
              <p:nvPr/>
            </p:nvGrpSpPr>
            <p:grpSpPr>
              <a:xfrm>
                <a:off x="3377880" y="3308400"/>
                <a:ext cx="114120" cy="88920"/>
                <a:chOff x="3377880" y="3308400"/>
                <a:chExt cx="114120" cy="8892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3390840" y="3308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3377880" y="3308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3377880" y="3676680"/>
                <a:ext cx="114120" cy="88920"/>
                <a:chOff x="3377880" y="3676680"/>
                <a:chExt cx="114120" cy="8892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3390840" y="36766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flipH="1">
                  <a:off x="3377880" y="36766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3377880" y="4044960"/>
                <a:ext cx="114120" cy="88920"/>
                <a:chOff x="3377880" y="4044960"/>
                <a:chExt cx="114120" cy="8892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3390840" y="4044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>
                  <a:off x="3377880" y="4044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3377880" y="4413240"/>
                <a:ext cx="114120" cy="88920"/>
                <a:chOff x="3377880" y="4413240"/>
                <a:chExt cx="114120" cy="8892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3390840" y="4413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>
                  <a:off x="3377880" y="4413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5" name=""/>
            <p:cNvGrpSpPr/>
            <p:nvPr/>
          </p:nvGrpSpPr>
          <p:grpSpPr>
            <a:xfrm>
              <a:off x="3644640" y="3156120"/>
              <a:ext cx="306360" cy="2108160"/>
              <a:chOff x="3644640" y="3156120"/>
              <a:chExt cx="306360" cy="2108160"/>
            </a:xfrm>
          </p:grpSpPr>
          <p:sp>
            <p:nvSpPr>
              <p:cNvPr id="1976" name=""/>
              <p:cNvSpPr/>
              <p:nvPr/>
            </p:nvSpPr>
            <p:spPr>
              <a:xfrm>
                <a:off x="3670560" y="460368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44640" y="419724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659040" y="424836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659040" y="460368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790800" y="315612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790800" y="514980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2" name=""/>
              <p:cNvGrpSpPr/>
              <p:nvPr/>
            </p:nvGrpSpPr>
            <p:grpSpPr>
              <a:xfrm>
                <a:off x="3733560" y="3308400"/>
                <a:ext cx="114120" cy="88920"/>
                <a:chOff x="3733560" y="3308400"/>
                <a:chExt cx="114120" cy="8892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3746520" y="3308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>
                  <a:off x="3733560" y="3308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"/>
              <p:cNvGrpSpPr/>
              <p:nvPr/>
            </p:nvGrpSpPr>
            <p:grpSpPr>
              <a:xfrm>
                <a:off x="3733560" y="3676680"/>
                <a:ext cx="114120" cy="88920"/>
                <a:chOff x="3733560" y="3676680"/>
                <a:chExt cx="114120" cy="8892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746520" y="36766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 flipH="1">
                  <a:off x="3733560" y="36766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8" name=""/>
              <p:cNvGrpSpPr/>
              <p:nvPr/>
            </p:nvGrpSpPr>
            <p:grpSpPr>
              <a:xfrm>
                <a:off x="3733560" y="4044960"/>
                <a:ext cx="114120" cy="88920"/>
                <a:chOff x="3733560" y="4044960"/>
                <a:chExt cx="114120" cy="8892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3746520" y="4044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>
                  <a:off x="3733560" y="4044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1" name=""/>
              <p:cNvGrpSpPr/>
              <p:nvPr/>
            </p:nvGrpSpPr>
            <p:grpSpPr>
              <a:xfrm>
                <a:off x="3733560" y="4413240"/>
                <a:ext cx="114120" cy="88920"/>
                <a:chOff x="3733560" y="4413240"/>
                <a:chExt cx="114120" cy="8892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3746520" y="4413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>
                  <a:off x="3733560" y="4413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4" name=""/>
          <p:cNvSpPr/>
          <p:nvPr/>
        </p:nvSpPr>
        <p:spPr>
          <a:xfrm>
            <a:off x="5365800" y="259092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1333080" y="2057400"/>
            <a:ext cx="114120" cy="88560"/>
            <a:chOff x="1333080" y="2057400"/>
            <a:chExt cx="114120" cy="88560"/>
          </a:xfrm>
        </p:grpSpPr>
        <p:sp>
          <p:nvSpPr>
            <p:cNvPr id="1996" name=""/>
            <p:cNvSpPr/>
            <p:nvPr/>
          </p:nvSpPr>
          <p:spPr>
            <a:xfrm>
              <a:off x="1346040" y="20574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1333080" y="20574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6559560" y="4184640"/>
            <a:ext cx="1092240" cy="2266920"/>
            <a:chOff x="6559560" y="4184640"/>
            <a:chExt cx="1092240" cy="2266920"/>
          </a:xfrm>
        </p:grpSpPr>
        <p:grpSp>
          <p:nvGrpSpPr>
            <p:cNvPr id="1999" name=""/>
            <p:cNvGrpSpPr/>
            <p:nvPr/>
          </p:nvGrpSpPr>
          <p:grpSpPr>
            <a:xfrm>
              <a:off x="6997320" y="4184640"/>
              <a:ext cx="114120" cy="88920"/>
              <a:chOff x="6997320" y="4184640"/>
              <a:chExt cx="114120" cy="88920"/>
            </a:xfrm>
          </p:grpSpPr>
          <p:sp>
            <p:nvSpPr>
              <p:cNvPr id="2000" name=""/>
              <p:cNvSpPr/>
              <p:nvPr/>
            </p:nvSpPr>
            <p:spPr>
              <a:xfrm>
                <a:off x="7010280" y="418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6997320" y="4184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6997320" y="4552920"/>
              <a:ext cx="114120" cy="88920"/>
              <a:chOff x="6997320" y="4552920"/>
              <a:chExt cx="114120" cy="88920"/>
            </a:xfrm>
          </p:grpSpPr>
          <p:sp>
            <p:nvSpPr>
              <p:cNvPr id="2003" name=""/>
              <p:cNvSpPr/>
              <p:nvPr/>
            </p:nvSpPr>
            <p:spPr>
              <a:xfrm>
                <a:off x="7010280" y="455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6997320" y="4552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5" name=""/>
            <p:cNvSpPr/>
            <p:nvPr/>
          </p:nvSpPr>
          <p:spPr>
            <a:xfrm>
              <a:off x="6559560" y="612144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877080" y="4921200"/>
            <a:ext cx="1117440" cy="1720800"/>
            <a:chOff x="6877080" y="4921200"/>
            <a:chExt cx="1117440" cy="1720800"/>
          </a:xfrm>
        </p:grpSpPr>
        <p:grpSp>
          <p:nvGrpSpPr>
            <p:cNvPr id="2007" name=""/>
            <p:cNvGrpSpPr/>
            <p:nvPr/>
          </p:nvGrpSpPr>
          <p:grpSpPr>
            <a:xfrm>
              <a:off x="7365600" y="4921200"/>
              <a:ext cx="114120" cy="88920"/>
              <a:chOff x="7365600" y="492120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378560" y="4921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7365600" y="4921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7365600" y="5289480"/>
              <a:ext cx="114120" cy="88920"/>
              <a:chOff x="7365600" y="528948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378560" y="5289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7365600" y="5289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877080" y="631188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5028840" y="4089240"/>
            <a:ext cx="3994560" cy="330480"/>
            <a:chOff x="5028840" y="4089240"/>
            <a:chExt cx="3994560" cy="330480"/>
          </a:xfrm>
        </p:grpSpPr>
        <p:grpSp>
          <p:nvGrpSpPr>
            <p:cNvPr id="2015" name=""/>
            <p:cNvGrpSpPr/>
            <p:nvPr/>
          </p:nvGrpSpPr>
          <p:grpSpPr>
            <a:xfrm>
              <a:off x="5321160" y="4184640"/>
              <a:ext cx="114480" cy="88920"/>
              <a:chOff x="5321160" y="4184640"/>
              <a:chExt cx="11448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5334120" y="41846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5321160" y="4184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5028840" y="4184640"/>
              <a:ext cx="114120" cy="88920"/>
              <a:chOff x="5028840" y="418464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5041800" y="4184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5028840" y="4184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8350200" y="408924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155920" y="4444920"/>
            <a:ext cx="3943800" cy="330120"/>
            <a:chOff x="5155920" y="4444920"/>
            <a:chExt cx="3943800" cy="330120"/>
          </a:xfrm>
        </p:grpSpPr>
        <p:grpSp>
          <p:nvGrpSpPr>
            <p:cNvPr id="2023" name=""/>
            <p:cNvGrpSpPr/>
            <p:nvPr/>
          </p:nvGrpSpPr>
          <p:grpSpPr>
            <a:xfrm>
              <a:off x="5448240" y="4552920"/>
              <a:ext cx="114480" cy="88920"/>
              <a:chOff x="5448240" y="455292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460840" y="455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448240" y="4552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155920" y="4552920"/>
              <a:ext cx="114120" cy="88920"/>
              <a:chOff x="5155920" y="455292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168880" y="4552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155920" y="4552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62800" y="444492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613120" y="4826160"/>
            <a:ext cx="3486600" cy="330120"/>
            <a:chOff x="5613120" y="4826160"/>
            <a:chExt cx="34866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6032160" y="4921200"/>
              <a:ext cx="114120" cy="88920"/>
              <a:chOff x="6032160" y="4921200"/>
              <a:chExt cx="11412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6045120" y="4921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6032160" y="4921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613120" y="4921200"/>
              <a:ext cx="114120" cy="88920"/>
              <a:chOff x="5613120" y="492120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626080" y="4921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613120" y="4921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82616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740200" y="5194440"/>
            <a:ext cx="3384720" cy="330120"/>
            <a:chOff x="5740200" y="5194440"/>
            <a:chExt cx="338472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5905440" y="5289480"/>
              <a:ext cx="114480" cy="88920"/>
              <a:chOff x="5905440" y="5289480"/>
              <a:chExt cx="11448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5918040" y="5289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5905440" y="52894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740200" y="5289480"/>
              <a:ext cx="114120" cy="88920"/>
              <a:chOff x="5740200" y="528948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753160" y="528948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740200" y="5289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8836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4952880" y="3556080"/>
            <a:ext cx="3454560" cy="2584440"/>
            <a:chOff x="4952880" y="3556080"/>
            <a:chExt cx="3454560" cy="2584440"/>
          </a:xfrm>
        </p:grpSpPr>
        <p:sp>
          <p:nvSpPr>
            <p:cNvPr id="2047" name=""/>
            <p:cNvSpPr/>
            <p:nvPr/>
          </p:nvSpPr>
          <p:spPr>
            <a:xfrm flipH="1">
              <a:off x="6019920" y="393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905440" y="3930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5892480" y="392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07068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26040" y="3803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89760" y="410832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62680" y="403236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3626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626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63565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217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152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5214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14920" y="407088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952880" y="42292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807240" y="422928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44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2640" y="4749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6356520" y="44388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21760" y="4459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15280" y="4452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21400" y="44452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514920" y="44388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52880" y="45975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07240" y="45975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13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362640" y="5118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6356520" y="4807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21760" y="4827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15280" y="4821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21400" y="4813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514920" y="48070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952880" y="49658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807240" y="496584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181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62640" y="5486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6356520" y="5175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21760" y="5195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15280" y="5189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21400" y="5181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514920" y="5175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952880" y="533412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807240" y="5334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5727600" y="393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13480" y="3930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5600880" y="39243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78360" y="404496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34080" y="3803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797440" y="410832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670720" y="403236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5435640" y="393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21160" y="3930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5308200" y="392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864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42120" y="3803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505480" y="410832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378400" y="403236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5143680" y="3930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029200" y="3930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5016240" y="3924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9444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49800" y="3803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13520" y="410832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086440" y="403236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934320" y="54799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908760" y="507348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923160" y="512460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923160" y="54799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54920" y="403236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54920" y="60260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302600" y="54799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277040" y="507348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91440" y="512460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291440" y="547992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423200" y="403236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423200" y="60260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658280" y="54799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633080" y="507348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47120" y="512460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47120" y="54799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78880" y="403236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778880" y="60260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013960" y="54799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988040" y="507348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02440" y="512460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02440" y="547992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134200" y="403236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134200" y="602604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035680" y="3556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340240" y="3556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619600" y="3556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11920" y="35560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ternate representation for high fan-in structu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hort-hand notation so we don't have to draw all the wir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ifies a connection is present and perpendicular signal is an input to 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E3D-6D46-40E9-9EA1-E0513180C3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1" name=""/>
          <p:cNvGrpSpPr/>
          <p:nvPr/>
        </p:nvGrpSpPr>
        <p:grpSpPr>
          <a:xfrm>
            <a:off x="958680" y="4330800"/>
            <a:ext cx="2508480" cy="2070000"/>
            <a:chOff x="958680" y="4330800"/>
            <a:chExt cx="2508480" cy="2070000"/>
          </a:xfrm>
        </p:grpSpPr>
        <p:sp>
          <p:nvSpPr>
            <p:cNvPr id="2142" name=""/>
            <p:cNvSpPr/>
            <p:nvPr/>
          </p:nvSpPr>
          <p:spPr>
            <a:xfrm>
              <a:off x="965160" y="433080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958680" y="455940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600200" y="438768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4260960" y="2133720"/>
            <a:ext cx="4248000" cy="4495680"/>
            <a:chOff x="4260960" y="2133720"/>
            <a:chExt cx="4248000" cy="4495680"/>
          </a:xfrm>
        </p:grpSpPr>
        <p:sp>
          <p:nvSpPr>
            <p:cNvPr id="2146" name=""/>
            <p:cNvSpPr/>
            <p:nvPr/>
          </p:nvSpPr>
          <p:spPr>
            <a:xfrm>
              <a:off x="7810560" y="255276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378400" y="26542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378400" y="29592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5372280" y="26478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537520" y="26686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531040" y="26622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537160" y="265392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530680" y="26478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260960" y="28065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23000" y="28065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378400" y="3022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378400" y="3327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5372280" y="3016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537520" y="3036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31040" y="3030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37160" y="30222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30160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260960" y="3174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823000" y="3174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378400" y="3390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378400" y="3695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5372280" y="33843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37520" y="3405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1040" y="3398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537160" y="3391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30680" y="338508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60960" y="35434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823000" y="35434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378400" y="3759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378400" y="4064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5372280" y="3753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537520" y="3773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531040" y="3767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537160" y="3759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530680" y="3753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260960" y="39117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23000" y="39117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5073120" y="250812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959360" y="250812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4946400" y="2502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079960" y="2381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43680" y="264780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016600" y="26100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>
              <a:off x="4781520" y="250812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667400" y="250812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4654080" y="2502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788000" y="2381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851360" y="264780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724280" y="259704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5" name=""/>
            <p:cNvGrpSpPr/>
            <p:nvPr/>
          </p:nvGrpSpPr>
          <p:grpSpPr>
            <a:xfrm>
              <a:off x="4794120" y="2762280"/>
              <a:ext cx="114480" cy="88920"/>
              <a:chOff x="4794120" y="2762280"/>
              <a:chExt cx="114480" cy="88920"/>
            </a:xfrm>
          </p:grpSpPr>
          <p:sp>
            <p:nvSpPr>
              <p:cNvPr id="2196" name=""/>
              <p:cNvSpPr/>
              <p:nvPr/>
            </p:nvSpPr>
            <p:spPr>
              <a:xfrm>
                <a:off x="4807080" y="27622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>
                <a:off x="4794120" y="27622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 flipH="1">
              <a:off x="4489560" y="250812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375080" y="250812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4362120" y="2502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95680" y="23814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559400" y="264780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432320" y="26100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4" name=""/>
            <p:cNvGrpSpPr/>
            <p:nvPr/>
          </p:nvGrpSpPr>
          <p:grpSpPr>
            <a:xfrm>
              <a:off x="4501800" y="2762280"/>
              <a:ext cx="114120" cy="88920"/>
              <a:chOff x="4501800" y="2762280"/>
              <a:chExt cx="114120" cy="88920"/>
            </a:xfrm>
          </p:grpSpPr>
          <p:sp>
            <p:nvSpPr>
              <p:cNvPr id="2205" name=""/>
              <p:cNvSpPr/>
              <p:nvPr/>
            </p:nvSpPr>
            <p:spPr>
              <a:xfrm>
                <a:off x="4514760" y="27622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>
                <a:off x="4501800" y="27622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>
              <a:off x="5950080" y="55054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24880" y="509904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38920" y="51501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38920" y="55054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70680" y="261000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70680" y="605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6013440" y="5340240"/>
              <a:ext cx="114480" cy="88920"/>
              <a:chOff x="6013440" y="5340240"/>
              <a:chExt cx="114480" cy="88920"/>
            </a:xfrm>
          </p:grpSpPr>
          <p:sp>
            <p:nvSpPr>
              <p:cNvPr id="2214" name=""/>
              <p:cNvSpPr/>
              <p:nvPr/>
            </p:nvSpPr>
            <p:spPr>
              <a:xfrm>
                <a:off x="602604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>
                <a:off x="6013440" y="5340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6318360" y="55054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92800" y="50990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307200" y="51501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07200" y="55054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438960" y="261000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438960" y="605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6381720" y="4971960"/>
              <a:ext cx="114480" cy="88920"/>
              <a:chOff x="6381720" y="4971960"/>
              <a:chExt cx="114480" cy="88920"/>
            </a:xfrm>
          </p:grpSpPr>
          <p:sp>
            <p:nvSpPr>
              <p:cNvPr id="2223" name=""/>
              <p:cNvSpPr/>
              <p:nvPr/>
            </p:nvSpPr>
            <p:spPr>
              <a:xfrm>
                <a:off x="6394320" y="4971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6381720" y="4971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6381720" y="5340240"/>
              <a:ext cx="114480" cy="88920"/>
              <a:chOff x="6381720" y="5340240"/>
              <a:chExt cx="114480" cy="88920"/>
            </a:xfrm>
          </p:grpSpPr>
          <p:sp>
            <p:nvSpPr>
              <p:cNvPr id="2226" name=""/>
              <p:cNvSpPr/>
              <p:nvPr/>
            </p:nvSpPr>
            <p:spPr>
              <a:xfrm>
                <a:off x="639432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6381720" y="5340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6674040" y="55054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648840" y="509904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662880" y="515016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662880" y="55054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794640" y="261000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794640" y="605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29720" y="55054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003800" y="50990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18200" y="51501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18200" y="55054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49960" y="261000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149960" y="605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81560" y="21337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86480" y="213372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52880" y="213372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398000" y="55054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372080" y="50990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86480" y="51501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386480" y="55054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518240" y="261000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518240" y="605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378400" y="4127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378400" y="4432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5372280" y="4121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537520" y="4141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531040" y="4135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37160" y="4127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530680" y="4121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60960" y="42800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23000" y="42800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378400" y="4495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378400" y="4800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5372280" y="448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37520" y="45100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31040" y="45036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537160" y="44960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530680" y="448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60960" y="46483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23000" y="46483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378400" y="48639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378400" y="5168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5372280" y="4857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537520" y="4878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531040" y="4871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537160" y="4864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530680" y="4857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60960" y="50166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23000" y="50166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378400" y="52322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378400" y="5537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5372280" y="5226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37520" y="5246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531040" y="5240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537160" y="5232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30680" y="5226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60960" y="53848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23000" y="53848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5086080" y="2762280"/>
              <a:ext cx="114120" cy="88920"/>
              <a:chOff x="5086080" y="2762280"/>
              <a:chExt cx="114120" cy="88920"/>
            </a:xfrm>
          </p:grpSpPr>
          <p:sp>
            <p:nvSpPr>
              <p:cNvPr id="2286" name=""/>
              <p:cNvSpPr/>
              <p:nvPr/>
            </p:nvSpPr>
            <p:spPr>
              <a:xfrm>
                <a:off x="5099040" y="27622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>
                <a:off x="5086080" y="27622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7461000" y="3130560"/>
              <a:ext cx="114120" cy="88920"/>
              <a:chOff x="7461000" y="3130560"/>
              <a:chExt cx="114120" cy="88920"/>
            </a:xfrm>
          </p:grpSpPr>
          <p:sp>
            <p:nvSpPr>
              <p:cNvPr id="2289" name=""/>
              <p:cNvSpPr/>
              <p:nvPr/>
            </p:nvSpPr>
            <p:spPr>
              <a:xfrm>
                <a:off x="747396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>
                <a:off x="7461000" y="3130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6381720" y="4603680"/>
              <a:ext cx="114480" cy="88920"/>
              <a:chOff x="6381720" y="4603680"/>
              <a:chExt cx="114480" cy="88920"/>
            </a:xfrm>
          </p:grpSpPr>
          <p:sp>
            <p:nvSpPr>
              <p:cNvPr id="2292" name=""/>
              <p:cNvSpPr/>
              <p:nvPr/>
            </p:nvSpPr>
            <p:spPr>
              <a:xfrm>
                <a:off x="6394320" y="4603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>
                <a:off x="6381720" y="4603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6737040" y="2762280"/>
              <a:ext cx="114120" cy="88920"/>
              <a:chOff x="6737040" y="2762280"/>
              <a:chExt cx="114120" cy="88920"/>
            </a:xfrm>
          </p:grpSpPr>
          <p:sp>
            <p:nvSpPr>
              <p:cNvPr id="2295" name=""/>
              <p:cNvSpPr/>
              <p:nvPr/>
            </p:nvSpPr>
            <p:spPr>
              <a:xfrm>
                <a:off x="6750000" y="27622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>
                <a:off x="6737040" y="27622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7" name=""/>
            <p:cNvSpPr/>
            <p:nvPr/>
          </p:nvSpPr>
          <p:spPr>
            <a:xfrm>
              <a:off x="5124600" y="2622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832280" y="2622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540320" y="2622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0" name=""/>
            <p:cNvGrpSpPr/>
            <p:nvPr/>
          </p:nvGrpSpPr>
          <p:grpSpPr>
            <a:xfrm>
              <a:off x="4794120" y="3130560"/>
              <a:ext cx="114480" cy="88920"/>
              <a:chOff x="4794120" y="3130560"/>
              <a:chExt cx="114480" cy="88920"/>
            </a:xfrm>
          </p:grpSpPr>
          <p:sp>
            <p:nvSpPr>
              <p:cNvPr id="2301" name=""/>
              <p:cNvSpPr/>
              <p:nvPr/>
            </p:nvSpPr>
            <p:spPr>
              <a:xfrm>
                <a:off x="480708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4794120" y="3130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4501800" y="3130560"/>
              <a:ext cx="114120" cy="88920"/>
              <a:chOff x="4501800" y="3130560"/>
              <a:chExt cx="114120" cy="88920"/>
            </a:xfrm>
          </p:grpSpPr>
          <p:sp>
            <p:nvSpPr>
              <p:cNvPr id="2304" name=""/>
              <p:cNvSpPr/>
              <p:nvPr/>
            </p:nvSpPr>
            <p:spPr>
              <a:xfrm>
                <a:off x="451476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4501800" y="3130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4959000" y="3130560"/>
              <a:ext cx="114120" cy="88920"/>
              <a:chOff x="4959000" y="3130560"/>
              <a:chExt cx="114120" cy="88920"/>
            </a:xfrm>
          </p:grpSpPr>
          <p:sp>
            <p:nvSpPr>
              <p:cNvPr id="2307" name=""/>
              <p:cNvSpPr/>
              <p:nvPr/>
            </p:nvSpPr>
            <p:spPr>
              <a:xfrm>
                <a:off x="497196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4959000" y="3130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4667040" y="3498840"/>
              <a:ext cx="114120" cy="88920"/>
              <a:chOff x="4667040" y="3498840"/>
              <a:chExt cx="114120" cy="88920"/>
            </a:xfrm>
          </p:grpSpPr>
          <p:sp>
            <p:nvSpPr>
              <p:cNvPr id="2310" name=""/>
              <p:cNvSpPr/>
              <p:nvPr/>
            </p:nvSpPr>
            <p:spPr>
              <a:xfrm>
                <a:off x="468000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>
                <a:off x="4667040" y="3498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4501800" y="3498840"/>
              <a:ext cx="114120" cy="88920"/>
              <a:chOff x="4501800" y="3498840"/>
              <a:chExt cx="114120" cy="88920"/>
            </a:xfrm>
          </p:grpSpPr>
          <p:sp>
            <p:nvSpPr>
              <p:cNvPr id="2313" name=""/>
              <p:cNvSpPr/>
              <p:nvPr/>
            </p:nvSpPr>
            <p:spPr>
              <a:xfrm>
                <a:off x="451476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4501800" y="3498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5086080" y="3498840"/>
              <a:ext cx="114120" cy="88920"/>
              <a:chOff x="5086080" y="3498840"/>
              <a:chExt cx="114120" cy="88920"/>
            </a:xfrm>
          </p:grpSpPr>
          <p:sp>
            <p:nvSpPr>
              <p:cNvPr id="2316" name=""/>
              <p:cNvSpPr/>
              <p:nvPr/>
            </p:nvSpPr>
            <p:spPr>
              <a:xfrm>
                <a:off x="509904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5086080" y="3498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4667040" y="3867120"/>
              <a:ext cx="114120" cy="88920"/>
              <a:chOff x="4667040" y="3867120"/>
              <a:chExt cx="114120" cy="88920"/>
            </a:xfrm>
          </p:grpSpPr>
          <p:sp>
            <p:nvSpPr>
              <p:cNvPr id="2319" name=""/>
              <p:cNvSpPr/>
              <p:nvPr/>
            </p:nvSpPr>
            <p:spPr>
              <a:xfrm>
                <a:off x="4680000" y="3867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>
                <a:off x="4667040" y="3867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4501800" y="3867120"/>
              <a:ext cx="114120" cy="88920"/>
              <a:chOff x="4501800" y="3867120"/>
              <a:chExt cx="114120" cy="88920"/>
            </a:xfrm>
          </p:grpSpPr>
          <p:sp>
            <p:nvSpPr>
              <p:cNvPr id="2322" name=""/>
              <p:cNvSpPr/>
              <p:nvPr/>
            </p:nvSpPr>
            <p:spPr>
              <a:xfrm>
                <a:off x="4514760" y="3867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4501800" y="3867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4959000" y="3867120"/>
              <a:ext cx="114120" cy="88920"/>
              <a:chOff x="4959000" y="3867120"/>
              <a:chExt cx="114120" cy="88920"/>
            </a:xfrm>
          </p:grpSpPr>
          <p:sp>
            <p:nvSpPr>
              <p:cNvPr id="2325" name=""/>
              <p:cNvSpPr/>
              <p:nvPr/>
            </p:nvSpPr>
            <p:spPr>
              <a:xfrm>
                <a:off x="4971960" y="3867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4959000" y="3867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4794120" y="4235400"/>
              <a:ext cx="114480" cy="88920"/>
              <a:chOff x="4794120" y="4235400"/>
              <a:chExt cx="114480" cy="88920"/>
            </a:xfrm>
          </p:grpSpPr>
          <p:sp>
            <p:nvSpPr>
              <p:cNvPr id="2328" name=""/>
              <p:cNvSpPr/>
              <p:nvPr/>
            </p:nvSpPr>
            <p:spPr>
              <a:xfrm>
                <a:off x="480708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>
                <a:off x="4794120" y="4235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5086080" y="4235400"/>
              <a:ext cx="114120" cy="88920"/>
              <a:chOff x="5086080" y="4235400"/>
              <a:chExt cx="114120" cy="88920"/>
            </a:xfrm>
          </p:grpSpPr>
          <p:sp>
            <p:nvSpPr>
              <p:cNvPr id="2331" name=""/>
              <p:cNvSpPr/>
              <p:nvPr/>
            </p:nvSpPr>
            <p:spPr>
              <a:xfrm>
                <a:off x="509904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>
                <a:off x="5086080" y="4235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4794120" y="4603680"/>
              <a:ext cx="114480" cy="88920"/>
              <a:chOff x="4794120" y="4603680"/>
              <a:chExt cx="114480" cy="88920"/>
            </a:xfrm>
          </p:grpSpPr>
          <p:sp>
            <p:nvSpPr>
              <p:cNvPr id="2334" name=""/>
              <p:cNvSpPr/>
              <p:nvPr/>
            </p:nvSpPr>
            <p:spPr>
              <a:xfrm>
                <a:off x="4807080" y="4603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>
                <a:off x="4794120" y="4603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4959000" y="4603680"/>
              <a:ext cx="114120" cy="88920"/>
              <a:chOff x="4959000" y="4603680"/>
              <a:chExt cx="114120" cy="88920"/>
            </a:xfrm>
          </p:grpSpPr>
          <p:sp>
            <p:nvSpPr>
              <p:cNvPr id="2337" name=""/>
              <p:cNvSpPr/>
              <p:nvPr/>
            </p:nvSpPr>
            <p:spPr>
              <a:xfrm>
                <a:off x="4971960" y="4603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4959000" y="4603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4667040" y="4971960"/>
              <a:ext cx="114120" cy="88920"/>
              <a:chOff x="4667040" y="4971960"/>
              <a:chExt cx="114120" cy="88920"/>
            </a:xfrm>
          </p:grpSpPr>
          <p:sp>
            <p:nvSpPr>
              <p:cNvPr id="2340" name=""/>
              <p:cNvSpPr/>
              <p:nvPr/>
            </p:nvSpPr>
            <p:spPr>
              <a:xfrm>
                <a:off x="4680000" y="4971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4667040" y="4971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5086080" y="4971960"/>
              <a:ext cx="114120" cy="88920"/>
              <a:chOff x="5086080" y="4971960"/>
              <a:chExt cx="114120" cy="88920"/>
            </a:xfrm>
          </p:grpSpPr>
          <p:sp>
            <p:nvSpPr>
              <p:cNvPr id="2343" name=""/>
              <p:cNvSpPr/>
              <p:nvPr/>
            </p:nvSpPr>
            <p:spPr>
              <a:xfrm>
                <a:off x="5099040" y="4971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5086080" y="4971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4667040" y="5340240"/>
              <a:ext cx="114120" cy="88920"/>
              <a:chOff x="4667040" y="5340240"/>
              <a:chExt cx="114120" cy="88920"/>
            </a:xfrm>
          </p:grpSpPr>
          <p:sp>
            <p:nvSpPr>
              <p:cNvPr id="2346" name=""/>
              <p:cNvSpPr/>
              <p:nvPr/>
            </p:nvSpPr>
            <p:spPr>
              <a:xfrm>
                <a:off x="468000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>
                <a:off x="4667040" y="5340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4959000" y="5340240"/>
              <a:ext cx="114120" cy="88920"/>
              <a:chOff x="4959000" y="5340240"/>
              <a:chExt cx="114120" cy="88920"/>
            </a:xfrm>
          </p:grpSpPr>
          <p:sp>
            <p:nvSpPr>
              <p:cNvPr id="2349" name=""/>
              <p:cNvSpPr/>
              <p:nvPr/>
            </p:nvSpPr>
            <p:spPr>
              <a:xfrm>
                <a:off x="497196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>
                <a:off x="4959000" y="5340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4375080" y="4235400"/>
              <a:ext cx="114480" cy="88920"/>
              <a:chOff x="4375080" y="4235400"/>
              <a:chExt cx="114480" cy="88920"/>
            </a:xfrm>
          </p:grpSpPr>
          <p:sp>
            <p:nvSpPr>
              <p:cNvPr id="2352" name=""/>
              <p:cNvSpPr/>
              <p:nvPr/>
            </p:nvSpPr>
            <p:spPr>
              <a:xfrm>
                <a:off x="438768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>
                <a:off x="4375080" y="4235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4375080" y="4603680"/>
              <a:ext cx="114480" cy="88920"/>
              <a:chOff x="4375080" y="4603680"/>
              <a:chExt cx="114480" cy="88920"/>
            </a:xfrm>
          </p:grpSpPr>
          <p:sp>
            <p:nvSpPr>
              <p:cNvPr id="2355" name=""/>
              <p:cNvSpPr/>
              <p:nvPr/>
            </p:nvSpPr>
            <p:spPr>
              <a:xfrm>
                <a:off x="4387680" y="4603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>
                <a:off x="4375080" y="460368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4375080" y="4971960"/>
              <a:ext cx="114480" cy="88920"/>
              <a:chOff x="4375080" y="4971960"/>
              <a:chExt cx="114480" cy="88920"/>
            </a:xfrm>
          </p:grpSpPr>
          <p:sp>
            <p:nvSpPr>
              <p:cNvPr id="2358" name=""/>
              <p:cNvSpPr/>
              <p:nvPr/>
            </p:nvSpPr>
            <p:spPr>
              <a:xfrm>
                <a:off x="4387680" y="4971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4375080" y="4971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0" name=""/>
            <p:cNvGrpSpPr/>
            <p:nvPr/>
          </p:nvGrpSpPr>
          <p:grpSpPr>
            <a:xfrm>
              <a:off x="4375080" y="5340240"/>
              <a:ext cx="114480" cy="88920"/>
              <a:chOff x="4375080" y="5340240"/>
              <a:chExt cx="114480" cy="88920"/>
            </a:xfrm>
          </p:grpSpPr>
          <p:sp>
            <p:nvSpPr>
              <p:cNvPr id="2361" name=""/>
              <p:cNvSpPr/>
              <p:nvPr/>
            </p:nvSpPr>
            <p:spPr>
              <a:xfrm>
                <a:off x="438768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4375080" y="5340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3" name=""/>
            <p:cNvGrpSpPr/>
            <p:nvPr/>
          </p:nvGrpSpPr>
          <p:grpSpPr>
            <a:xfrm>
              <a:off x="6381720" y="3879720"/>
              <a:ext cx="114480" cy="88560"/>
              <a:chOff x="6381720" y="3879720"/>
              <a:chExt cx="114480" cy="88560"/>
            </a:xfrm>
          </p:grpSpPr>
          <p:sp>
            <p:nvSpPr>
              <p:cNvPr id="2364" name=""/>
              <p:cNvSpPr/>
              <p:nvPr/>
            </p:nvSpPr>
            <p:spPr>
              <a:xfrm>
                <a:off x="6394320" y="387972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>
                <a:off x="6381720" y="387972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6" name=""/>
            <p:cNvGrpSpPr/>
            <p:nvPr/>
          </p:nvGrpSpPr>
          <p:grpSpPr>
            <a:xfrm>
              <a:off x="6381720" y="4235400"/>
              <a:ext cx="114480" cy="88920"/>
              <a:chOff x="6381720" y="4235400"/>
              <a:chExt cx="114480" cy="88920"/>
            </a:xfrm>
          </p:grpSpPr>
          <p:sp>
            <p:nvSpPr>
              <p:cNvPr id="2367" name=""/>
              <p:cNvSpPr/>
              <p:nvPr/>
            </p:nvSpPr>
            <p:spPr>
              <a:xfrm>
                <a:off x="639432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6381720" y="4235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6381720" y="3498840"/>
              <a:ext cx="114480" cy="88920"/>
              <a:chOff x="6381720" y="3498840"/>
              <a:chExt cx="114480" cy="88920"/>
            </a:xfrm>
          </p:grpSpPr>
          <p:sp>
            <p:nvSpPr>
              <p:cNvPr id="2370" name=""/>
              <p:cNvSpPr/>
              <p:nvPr/>
            </p:nvSpPr>
            <p:spPr>
              <a:xfrm>
                <a:off x="639432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6381720" y="3498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7092720" y="4603680"/>
              <a:ext cx="114120" cy="88920"/>
              <a:chOff x="7092720" y="4603680"/>
              <a:chExt cx="114120" cy="88920"/>
            </a:xfrm>
          </p:grpSpPr>
          <p:sp>
            <p:nvSpPr>
              <p:cNvPr id="2373" name=""/>
              <p:cNvSpPr/>
              <p:nvPr/>
            </p:nvSpPr>
            <p:spPr>
              <a:xfrm>
                <a:off x="7105680" y="46036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7092720" y="46036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7092720" y="4971960"/>
              <a:ext cx="114120" cy="88920"/>
              <a:chOff x="7092720" y="4971960"/>
              <a:chExt cx="114120" cy="88920"/>
            </a:xfrm>
          </p:grpSpPr>
          <p:sp>
            <p:nvSpPr>
              <p:cNvPr id="2376" name=""/>
              <p:cNvSpPr/>
              <p:nvPr/>
            </p:nvSpPr>
            <p:spPr>
              <a:xfrm>
                <a:off x="7105680" y="4971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7092720" y="4971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7092720" y="4235400"/>
              <a:ext cx="114120" cy="88920"/>
              <a:chOff x="7092720" y="4235400"/>
              <a:chExt cx="114120" cy="88920"/>
            </a:xfrm>
          </p:grpSpPr>
          <p:sp>
            <p:nvSpPr>
              <p:cNvPr id="2379" name=""/>
              <p:cNvSpPr/>
              <p:nvPr/>
            </p:nvSpPr>
            <p:spPr>
              <a:xfrm>
                <a:off x="710568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>
                <a:off x="7092720" y="4235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7092720" y="3498840"/>
              <a:ext cx="114120" cy="88920"/>
              <a:chOff x="7092720" y="3498840"/>
              <a:chExt cx="114120" cy="88920"/>
            </a:xfrm>
          </p:grpSpPr>
          <p:sp>
            <p:nvSpPr>
              <p:cNvPr id="2382" name=""/>
              <p:cNvSpPr/>
              <p:nvPr/>
            </p:nvSpPr>
            <p:spPr>
              <a:xfrm>
                <a:off x="710568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7092720" y="3498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7092720" y="3867120"/>
              <a:ext cx="114120" cy="88920"/>
              <a:chOff x="7092720" y="3867120"/>
              <a:chExt cx="114120" cy="88920"/>
            </a:xfrm>
          </p:grpSpPr>
          <p:sp>
            <p:nvSpPr>
              <p:cNvPr id="2385" name=""/>
              <p:cNvSpPr/>
              <p:nvPr/>
            </p:nvSpPr>
            <p:spPr>
              <a:xfrm>
                <a:off x="7105680" y="3867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7092720" y="3867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7092720" y="3130560"/>
              <a:ext cx="114120" cy="88920"/>
              <a:chOff x="7092720" y="3130560"/>
              <a:chExt cx="114120" cy="88920"/>
            </a:xfrm>
          </p:grpSpPr>
          <p:sp>
            <p:nvSpPr>
              <p:cNvPr id="2388" name=""/>
              <p:cNvSpPr/>
              <p:nvPr/>
            </p:nvSpPr>
            <p:spPr>
              <a:xfrm>
                <a:off x="710568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7092720" y="3130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6381720" y="3130560"/>
              <a:ext cx="114480" cy="88920"/>
              <a:chOff x="6381720" y="3130560"/>
              <a:chExt cx="114480" cy="88920"/>
            </a:xfrm>
          </p:grpSpPr>
          <p:sp>
            <p:nvSpPr>
              <p:cNvPr id="2391" name=""/>
              <p:cNvSpPr/>
              <p:nvPr/>
            </p:nvSpPr>
            <p:spPr>
              <a:xfrm>
                <a:off x="6394320" y="3130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6381720" y="3130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7092720" y="2762280"/>
              <a:ext cx="114120" cy="88920"/>
              <a:chOff x="7092720" y="2762280"/>
              <a:chExt cx="114120" cy="88920"/>
            </a:xfrm>
          </p:grpSpPr>
          <p:sp>
            <p:nvSpPr>
              <p:cNvPr id="2394" name=""/>
              <p:cNvSpPr/>
              <p:nvPr/>
            </p:nvSpPr>
            <p:spPr>
              <a:xfrm>
                <a:off x="7105680" y="27622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>
                <a:off x="7092720" y="27622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7461000" y="3498840"/>
              <a:ext cx="114120" cy="88920"/>
              <a:chOff x="7461000" y="3498840"/>
              <a:chExt cx="114120" cy="88920"/>
            </a:xfrm>
          </p:grpSpPr>
          <p:sp>
            <p:nvSpPr>
              <p:cNvPr id="2397" name=""/>
              <p:cNvSpPr/>
              <p:nvPr/>
            </p:nvSpPr>
            <p:spPr>
              <a:xfrm>
                <a:off x="7473960" y="3498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>
                <a:off x="7461000" y="3498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7461000" y="4235400"/>
              <a:ext cx="114120" cy="88920"/>
              <a:chOff x="7461000" y="4235400"/>
              <a:chExt cx="114120" cy="88920"/>
            </a:xfrm>
          </p:grpSpPr>
          <p:sp>
            <p:nvSpPr>
              <p:cNvPr id="2400" name=""/>
              <p:cNvSpPr/>
              <p:nvPr/>
            </p:nvSpPr>
            <p:spPr>
              <a:xfrm>
                <a:off x="7473960" y="4235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7461000" y="4235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7461000" y="5340240"/>
              <a:ext cx="114120" cy="88920"/>
              <a:chOff x="7461000" y="5340240"/>
              <a:chExt cx="114120" cy="88920"/>
            </a:xfrm>
          </p:grpSpPr>
          <p:sp>
            <p:nvSpPr>
              <p:cNvPr id="2403" name=""/>
              <p:cNvSpPr/>
              <p:nvPr/>
            </p:nvSpPr>
            <p:spPr>
              <a:xfrm>
                <a:off x="7473960" y="5340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7461000" y="5340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5" name=""/>
            <p:cNvSpPr/>
            <p:nvPr/>
          </p:nvSpPr>
          <p:spPr>
            <a:xfrm>
              <a:off x="5931000" y="61340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61120" y="61340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629400" y="61340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985080" y="61340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353360" y="61340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353360" y="629928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1" name=""/>
          <p:cNvSpPr/>
          <p:nvPr/>
        </p:nvSpPr>
        <p:spPr>
          <a:xfrm>
            <a:off x="4299120" y="2419200"/>
            <a:ext cx="1587240" cy="317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5594400" y="189864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753160" y="163836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6673680" y="2241360"/>
            <a:ext cx="1908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578640" y="1981080"/>
            <a:ext cx="2133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grammable logic array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 functions of A, B, 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1 = A B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2 = A + B +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3 = A' B' 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4 = A' + B' + 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5 = A xor B xor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6 = A xnor B xnor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884-605C-49B8-AA85-AE55C4F76E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"/>
          <p:cNvSpPr/>
          <p:nvPr/>
        </p:nvSpPr>
        <p:spPr>
          <a:xfrm>
            <a:off x="1473120" y="4533840"/>
            <a:ext cx="3314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5251320" y="2844720"/>
            <a:ext cx="3314880" cy="3784680"/>
            <a:chOff x="5251320" y="2844720"/>
            <a:chExt cx="3314880" cy="3784680"/>
          </a:xfrm>
        </p:grpSpPr>
        <p:sp>
          <p:nvSpPr>
            <p:cNvPr id="2420" name=""/>
            <p:cNvSpPr/>
            <p:nvPr/>
          </p:nvSpPr>
          <p:spPr>
            <a:xfrm>
              <a:off x="659772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9772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659124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75684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75036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75648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75000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5132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04232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9772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59772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659124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75684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75036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75648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75000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25132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04232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59772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59772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659124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75684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75036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75648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75000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25132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4232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9772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9772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659124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75684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75036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5648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75000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25132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04232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62928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1786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616536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2992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626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2355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6000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8636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5873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06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70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94360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5708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59440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558180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71500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778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6516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16940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14348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15788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15788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28964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28964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5376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51248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61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5261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658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58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6744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1360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01360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24868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9772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9772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659124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5684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75036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75648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75000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5132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04232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59772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59772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659124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5684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5036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75648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75000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5132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04232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9772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9772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659124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75684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75036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75648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75000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25132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04232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9772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9772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659124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75684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75036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75648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5000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25132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4232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34356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51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75928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542916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31504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530172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35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49900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37228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47992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4" name=""/>
            <p:cNvGrpSpPr/>
            <p:nvPr/>
          </p:nvGrpSpPr>
          <p:grpSpPr>
            <a:xfrm>
              <a:off x="5314680" y="3225600"/>
              <a:ext cx="1105200" cy="88920"/>
              <a:chOff x="5314680" y="3225600"/>
              <a:chExt cx="1105200" cy="88920"/>
            </a:xfrm>
          </p:grpSpPr>
          <p:grpSp>
            <p:nvGrpSpPr>
              <p:cNvPr id="2545" name=""/>
              <p:cNvGrpSpPr/>
              <p:nvPr/>
            </p:nvGrpSpPr>
            <p:grpSpPr>
              <a:xfrm>
                <a:off x="6013440" y="3225600"/>
                <a:ext cx="114480" cy="88920"/>
                <a:chOff x="6013440" y="3225600"/>
                <a:chExt cx="114480" cy="88920"/>
              </a:xfrm>
            </p:grpSpPr>
            <p:sp>
              <p:nvSpPr>
                <p:cNvPr id="2546" name=""/>
                <p:cNvSpPr/>
                <p:nvPr/>
              </p:nvSpPr>
              <p:spPr>
                <a:xfrm>
                  <a:off x="6026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>
                  <a:off x="60134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5721120" y="3225600"/>
                <a:ext cx="114120" cy="88920"/>
                <a:chOff x="5721120" y="3225600"/>
                <a:chExt cx="114120" cy="8892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57340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57211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1" name=""/>
              <p:cNvGrpSpPr/>
              <p:nvPr/>
            </p:nvGrpSpPr>
            <p:grpSpPr>
              <a:xfrm>
                <a:off x="6305400" y="3225600"/>
                <a:ext cx="114480" cy="88920"/>
                <a:chOff x="6305400" y="3225600"/>
                <a:chExt cx="114480" cy="88920"/>
              </a:xfrm>
            </p:grpSpPr>
            <p:sp>
              <p:nvSpPr>
                <p:cNvPr id="2552" name=""/>
                <p:cNvSpPr/>
                <p:nvPr/>
              </p:nvSpPr>
              <p:spPr>
                <a:xfrm>
                  <a:off x="63183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>
                  <a:off x="630540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5886360" y="3225600"/>
                <a:ext cx="114480" cy="88920"/>
                <a:chOff x="5886360" y="3225600"/>
                <a:chExt cx="114480" cy="88920"/>
              </a:xfrm>
            </p:grpSpPr>
            <p:sp>
              <p:nvSpPr>
                <p:cNvPr id="2555" name=""/>
                <p:cNvSpPr/>
                <p:nvPr/>
              </p:nvSpPr>
              <p:spPr>
                <a:xfrm>
                  <a:off x="589932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>
                  <a:off x="588636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5594040" y="3225600"/>
                <a:ext cx="114120" cy="88920"/>
                <a:chOff x="5594040" y="3225600"/>
                <a:chExt cx="114120" cy="8892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56070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flipH="1">
                  <a:off x="55940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0" name=""/>
              <p:cNvGrpSpPr/>
              <p:nvPr/>
            </p:nvGrpSpPr>
            <p:grpSpPr>
              <a:xfrm>
                <a:off x="6178320" y="3225600"/>
                <a:ext cx="114120" cy="88920"/>
                <a:chOff x="6178320" y="3225600"/>
                <a:chExt cx="114120" cy="8892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61912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>
                  <a:off x="61783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3" name=""/>
              <p:cNvGrpSpPr/>
              <p:nvPr/>
            </p:nvGrpSpPr>
            <p:grpSpPr>
              <a:xfrm>
                <a:off x="5441760" y="3225600"/>
                <a:ext cx="114120" cy="88920"/>
                <a:chOff x="5441760" y="3225600"/>
                <a:chExt cx="114120" cy="8892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5454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>
                  <a:off x="54417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6" name=""/>
              <p:cNvGrpSpPr/>
              <p:nvPr/>
            </p:nvGrpSpPr>
            <p:grpSpPr>
              <a:xfrm>
                <a:off x="5314680" y="3225600"/>
                <a:ext cx="114120" cy="88920"/>
                <a:chOff x="5314680" y="3225600"/>
                <a:chExt cx="114120" cy="8892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53276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>
                  <a:off x="531468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9" name=""/>
            <p:cNvGrpSpPr/>
            <p:nvPr/>
          </p:nvGrpSpPr>
          <p:grpSpPr>
            <a:xfrm>
              <a:off x="5314680" y="3593880"/>
              <a:ext cx="1105200" cy="88920"/>
              <a:chOff x="5314680" y="3593880"/>
              <a:chExt cx="1105200" cy="88920"/>
            </a:xfrm>
          </p:grpSpPr>
          <p:grpSp>
            <p:nvGrpSpPr>
              <p:cNvPr id="2570" name=""/>
              <p:cNvGrpSpPr/>
              <p:nvPr/>
            </p:nvGrpSpPr>
            <p:grpSpPr>
              <a:xfrm>
                <a:off x="6013440" y="3593880"/>
                <a:ext cx="114480" cy="88920"/>
                <a:chOff x="6013440" y="3593880"/>
                <a:chExt cx="114480" cy="8892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6026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60134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5721120" y="3593880"/>
                <a:ext cx="114120" cy="88920"/>
                <a:chOff x="5721120" y="3593880"/>
                <a:chExt cx="114120" cy="889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7340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H="1">
                  <a:off x="57211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6305400" y="3593880"/>
                <a:ext cx="114480" cy="88920"/>
                <a:chOff x="6305400" y="3593880"/>
                <a:chExt cx="114480" cy="8892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63183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630540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5886360" y="3593880"/>
                <a:ext cx="114480" cy="88920"/>
                <a:chOff x="5886360" y="3593880"/>
                <a:chExt cx="114480" cy="8892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589932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flipH="1">
                  <a:off x="588636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5594040" y="3593880"/>
                <a:ext cx="114120" cy="88920"/>
                <a:chOff x="5594040" y="3593880"/>
                <a:chExt cx="114120" cy="8892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56070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H="1">
                  <a:off x="55940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6178320" y="3593880"/>
                <a:ext cx="114120" cy="88920"/>
                <a:chOff x="6178320" y="3593880"/>
                <a:chExt cx="114120" cy="8892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61912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>
                  <a:off x="61783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5441760" y="3593880"/>
                <a:ext cx="114120" cy="88920"/>
                <a:chOff x="5441760" y="3593880"/>
                <a:chExt cx="114120" cy="8892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5454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54417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5314680" y="3593880"/>
                <a:ext cx="114120" cy="88920"/>
                <a:chOff x="5314680" y="3593880"/>
                <a:chExt cx="114120" cy="8892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53276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>
                  <a:off x="531468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4" name=""/>
            <p:cNvGrpSpPr/>
            <p:nvPr/>
          </p:nvGrpSpPr>
          <p:grpSpPr>
            <a:xfrm>
              <a:off x="5314680" y="3962520"/>
              <a:ext cx="1105200" cy="88560"/>
              <a:chOff x="5314680" y="3962520"/>
              <a:chExt cx="1105200" cy="88560"/>
            </a:xfrm>
          </p:grpSpPr>
          <p:grpSp>
            <p:nvGrpSpPr>
              <p:cNvPr id="2595" name=""/>
              <p:cNvGrpSpPr/>
              <p:nvPr/>
            </p:nvGrpSpPr>
            <p:grpSpPr>
              <a:xfrm>
                <a:off x="6013440" y="3962520"/>
                <a:ext cx="114480" cy="88560"/>
                <a:chOff x="6013440" y="3962520"/>
                <a:chExt cx="114480" cy="8856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6026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H="1">
                  <a:off x="60134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5721120" y="3962520"/>
                <a:ext cx="114120" cy="88560"/>
                <a:chOff x="5721120" y="3962520"/>
                <a:chExt cx="114120" cy="8856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57340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57211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6305400" y="3962520"/>
                <a:ext cx="114480" cy="88560"/>
                <a:chOff x="6305400" y="3962520"/>
                <a:chExt cx="114480" cy="8856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3183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>
                  <a:off x="630540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5886360" y="3962520"/>
                <a:ext cx="114480" cy="88560"/>
                <a:chOff x="5886360" y="3962520"/>
                <a:chExt cx="114480" cy="8856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589932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>
                  <a:off x="588636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5594040" y="3962520"/>
                <a:ext cx="114120" cy="88560"/>
                <a:chOff x="5594040" y="3962520"/>
                <a:chExt cx="114120" cy="8856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56070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H="1">
                  <a:off x="55940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6178320" y="3962520"/>
                <a:ext cx="114120" cy="88560"/>
                <a:chOff x="6178320" y="3962520"/>
                <a:chExt cx="114120" cy="8856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61912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H="1">
                  <a:off x="61783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5441760" y="3962520"/>
                <a:ext cx="114120" cy="88560"/>
                <a:chOff x="5441760" y="3962520"/>
                <a:chExt cx="114120" cy="8856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5454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flipH="1">
                  <a:off x="54417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5314680" y="3962520"/>
                <a:ext cx="114120" cy="88560"/>
                <a:chOff x="5314680" y="3962520"/>
                <a:chExt cx="114120" cy="8856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53276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>
                  <a:off x="531468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5314680" y="4330800"/>
              <a:ext cx="1105200" cy="88920"/>
              <a:chOff x="5314680" y="4330800"/>
              <a:chExt cx="1105200" cy="88920"/>
            </a:xfrm>
          </p:grpSpPr>
          <p:grpSp>
            <p:nvGrpSpPr>
              <p:cNvPr id="2620" name=""/>
              <p:cNvGrpSpPr/>
              <p:nvPr/>
            </p:nvGrpSpPr>
            <p:grpSpPr>
              <a:xfrm>
                <a:off x="6013440" y="4330800"/>
                <a:ext cx="114480" cy="88920"/>
                <a:chOff x="6013440" y="4330800"/>
                <a:chExt cx="114480" cy="88920"/>
              </a:xfrm>
            </p:grpSpPr>
            <p:sp>
              <p:nvSpPr>
                <p:cNvPr id="2621" name=""/>
                <p:cNvSpPr/>
                <p:nvPr/>
              </p:nvSpPr>
              <p:spPr>
                <a:xfrm>
                  <a:off x="6026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flipH="1">
                  <a:off x="60134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5721120" y="4330800"/>
                <a:ext cx="114120" cy="88920"/>
                <a:chOff x="5721120" y="4330800"/>
                <a:chExt cx="114120" cy="8892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57340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flipH="1">
                  <a:off x="57211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6305400" y="4330800"/>
                <a:ext cx="114480" cy="88920"/>
                <a:chOff x="6305400" y="4330800"/>
                <a:chExt cx="114480" cy="8892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6318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flipH="1">
                  <a:off x="630540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5886360" y="4330800"/>
                <a:ext cx="114480" cy="88920"/>
                <a:chOff x="5886360" y="4330800"/>
                <a:chExt cx="114480" cy="8892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589932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>
                  <a:off x="588636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5594040" y="4330800"/>
                <a:ext cx="114120" cy="88920"/>
                <a:chOff x="5594040" y="4330800"/>
                <a:chExt cx="114120" cy="8892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56070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H="1">
                  <a:off x="55940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6178320" y="4330800"/>
                <a:ext cx="114120" cy="88920"/>
                <a:chOff x="6178320" y="4330800"/>
                <a:chExt cx="114120" cy="88920"/>
              </a:xfrm>
            </p:grpSpPr>
            <p:sp>
              <p:nvSpPr>
                <p:cNvPr id="2636" name=""/>
                <p:cNvSpPr/>
                <p:nvPr/>
              </p:nvSpPr>
              <p:spPr>
                <a:xfrm>
                  <a:off x="61912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>
                  <a:off x="61783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8" name=""/>
              <p:cNvGrpSpPr/>
              <p:nvPr/>
            </p:nvGrpSpPr>
            <p:grpSpPr>
              <a:xfrm>
                <a:off x="5441760" y="4330800"/>
                <a:ext cx="114120" cy="88920"/>
                <a:chOff x="5441760" y="4330800"/>
                <a:chExt cx="114120" cy="8892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5454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>
                  <a:off x="54417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1" name=""/>
              <p:cNvGrpSpPr/>
              <p:nvPr/>
            </p:nvGrpSpPr>
            <p:grpSpPr>
              <a:xfrm>
                <a:off x="5314680" y="4330800"/>
                <a:ext cx="114120" cy="88920"/>
                <a:chOff x="5314680" y="4330800"/>
                <a:chExt cx="114120" cy="88920"/>
              </a:xfrm>
            </p:grpSpPr>
            <p:sp>
              <p:nvSpPr>
                <p:cNvPr id="2642" name=""/>
                <p:cNvSpPr/>
                <p:nvPr/>
              </p:nvSpPr>
              <p:spPr>
                <a:xfrm>
                  <a:off x="53276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>
                  <a:off x="531468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4" name=""/>
            <p:cNvGrpSpPr/>
            <p:nvPr/>
          </p:nvGrpSpPr>
          <p:grpSpPr>
            <a:xfrm>
              <a:off x="5314680" y="4699080"/>
              <a:ext cx="1105200" cy="88920"/>
              <a:chOff x="5314680" y="4699080"/>
              <a:chExt cx="1105200" cy="88920"/>
            </a:xfrm>
          </p:grpSpPr>
          <p:grpSp>
            <p:nvGrpSpPr>
              <p:cNvPr id="2645" name=""/>
              <p:cNvGrpSpPr/>
              <p:nvPr/>
            </p:nvGrpSpPr>
            <p:grpSpPr>
              <a:xfrm>
                <a:off x="6013440" y="4699080"/>
                <a:ext cx="114480" cy="88920"/>
                <a:chOff x="6013440" y="4699080"/>
                <a:chExt cx="114480" cy="8892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6026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H="1">
                  <a:off x="60134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5721120" y="4699080"/>
                <a:ext cx="114120" cy="88920"/>
                <a:chOff x="5721120" y="4699080"/>
                <a:chExt cx="114120" cy="8892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57340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flipH="1">
                  <a:off x="57211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6305400" y="4699080"/>
                <a:ext cx="114480" cy="88920"/>
                <a:chOff x="6305400" y="4699080"/>
                <a:chExt cx="114480" cy="8892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63183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>
                  <a:off x="630540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5886360" y="4699080"/>
                <a:ext cx="114480" cy="88920"/>
                <a:chOff x="5886360" y="4699080"/>
                <a:chExt cx="114480" cy="8892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589932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H="1">
                  <a:off x="588636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5594040" y="4699080"/>
                <a:ext cx="114120" cy="88920"/>
                <a:chOff x="5594040" y="4699080"/>
                <a:chExt cx="114120" cy="8892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56070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>
                  <a:off x="55940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6178320" y="4699080"/>
                <a:ext cx="114120" cy="88920"/>
                <a:chOff x="6178320" y="4699080"/>
                <a:chExt cx="114120" cy="8892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61912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H="1">
                  <a:off x="61783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3" name=""/>
              <p:cNvGrpSpPr/>
              <p:nvPr/>
            </p:nvGrpSpPr>
            <p:grpSpPr>
              <a:xfrm>
                <a:off x="5441760" y="4699080"/>
                <a:ext cx="114120" cy="88920"/>
                <a:chOff x="5441760" y="4699080"/>
                <a:chExt cx="114120" cy="8892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5454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>
                  <a:off x="54417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5314680" y="4699080"/>
                <a:ext cx="114120" cy="88920"/>
                <a:chOff x="5314680" y="4699080"/>
                <a:chExt cx="114120" cy="8892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53276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>
                  <a:off x="531468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9" name=""/>
            <p:cNvGrpSpPr/>
            <p:nvPr/>
          </p:nvGrpSpPr>
          <p:grpSpPr>
            <a:xfrm>
              <a:off x="5314680" y="5067360"/>
              <a:ext cx="1105200" cy="88920"/>
              <a:chOff x="5314680" y="5067360"/>
              <a:chExt cx="1105200" cy="88920"/>
            </a:xfrm>
          </p:grpSpPr>
          <p:grpSp>
            <p:nvGrpSpPr>
              <p:cNvPr id="2670" name=""/>
              <p:cNvGrpSpPr/>
              <p:nvPr/>
            </p:nvGrpSpPr>
            <p:grpSpPr>
              <a:xfrm>
                <a:off x="6013440" y="5067360"/>
                <a:ext cx="114480" cy="88920"/>
                <a:chOff x="6013440" y="5067360"/>
                <a:chExt cx="114480" cy="8892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6026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flipH="1">
                  <a:off x="60134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5721120" y="5067360"/>
                <a:ext cx="114120" cy="88920"/>
                <a:chOff x="5721120" y="5067360"/>
                <a:chExt cx="114120" cy="8892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57340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>
                  <a:off x="57211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6305400" y="5067360"/>
                <a:ext cx="114480" cy="88920"/>
                <a:chOff x="6305400" y="5067360"/>
                <a:chExt cx="114480" cy="8892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63183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>
                  <a:off x="630540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5886360" y="5067360"/>
                <a:ext cx="114480" cy="88920"/>
                <a:chOff x="5886360" y="5067360"/>
                <a:chExt cx="114480" cy="8892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589932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H="1">
                  <a:off x="588636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5594040" y="5067360"/>
                <a:ext cx="114120" cy="88920"/>
                <a:chOff x="5594040" y="5067360"/>
                <a:chExt cx="114120" cy="8892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56070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>
                  <a:off x="55940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6178320" y="5067360"/>
                <a:ext cx="114120" cy="88920"/>
                <a:chOff x="6178320" y="5067360"/>
                <a:chExt cx="114120" cy="889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61912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H="1">
                  <a:off x="61783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5441760" y="5067360"/>
                <a:ext cx="114120" cy="88920"/>
                <a:chOff x="5441760" y="5067360"/>
                <a:chExt cx="114120" cy="889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5454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>
                  <a:off x="54417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314680" y="5067360"/>
                <a:ext cx="114120" cy="88920"/>
                <a:chOff x="5314680" y="5067360"/>
                <a:chExt cx="114120" cy="8892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53276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>
                  <a:off x="531468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4" name=""/>
            <p:cNvGrpSpPr/>
            <p:nvPr/>
          </p:nvGrpSpPr>
          <p:grpSpPr>
            <a:xfrm>
              <a:off x="5314680" y="5435640"/>
              <a:ext cx="1105200" cy="88920"/>
              <a:chOff x="5314680" y="5435640"/>
              <a:chExt cx="1105200" cy="88920"/>
            </a:xfrm>
          </p:grpSpPr>
          <p:grpSp>
            <p:nvGrpSpPr>
              <p:cNvPr id="2695" name=""/>
              <p:cNvGrpSpPr/>
              <p:nvPr/>
            </p:nvGrpSpPr>
            <p:grpSpPr>
              <a:xfrm>
                <a:off x="6013440" y="5435640"/>
                <a:ext cx="114480" cy="88920"/>
                <a:chOff x="6013440" y="5435640"/>
                <a:chExt cx="114480" cy="88920"/>
              </a:xfrm>
            </p:grpSpPr>
            <p:sp>
              <p:nvSpPr>
                <p:cNvPr id="2696" name=""/>
                <p:cNvSpPr/>
                <p:nvPr/>
              </p:nvSpPr>
              <p:spPr>
                <a:xfrm>
                  <a:off x="6026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H="1">
                  <a:off x="60134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8" name=""/>
              <p:cNvGrpSpPr/>
              <p:nvPr/>
            </p:nvGrpSpPr>
            <p:grpSpPr>
              <a:xfrm>
                <a:off x="5721120" y="5435640"/>
                <a:ext cx="114120" cy="88920"/>
                <a:chOff x="5721120" y="5435640"/>
                <a:chExt cx="114120" cy="88920"/>
              </a:xfrm>
            </p:grpSpPr>
            <p:sp>
              <p:nvSpPr>
                <p:cNvPr id="2699" name=""/>
                <p:cNvSpPr/>
                <p:nvPr/>
              </p:nvSpPr>
              <p:spPr>
                <a:xfrm>
                  <a:off x="57340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>
                  <a:off x="57211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6305400" y="5435640"/>
                <a:ext cx="114480" cy="88920"/>
                <a:chOff x="6305400" y="5435640"/>
                <a:chExt cx="114480" cy="88920"/>
              </a:xfrm>
            </p:grpSpPr>
            <p:sp>
              <p:nvSpPr>
                <p:cNvPr id="2702" name=""/>
                <p:cNvSpPr/>
                <p:nvPr/>
              </p:nvSpPr>
              <p:spPr>
                <a:xfrm>
                  <a:off x="63183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>
                  <a:off x="630540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4" name=""/>
              <p:cNvGrpSpPr/>
              <p:nvPr/>
            </p:nvGrpSpPr>
            <p:grpSpPr>
              <a:xfrm>
                <a:off x="5886360" y="5435640"/>
                <a:ext cx="114480" cy="88920"/>
                <a:chOff x="5886360" y="5435640"/>
                <a:chExt cx="114480" cy="8892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589932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H="1">
                  <a:off x="588636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7" name=""/>
              <p:cNvGrpSpPr/>
              <p:nvPr/>
            </p:nvGrpSpPr>
            <p:grpSpPr>
              <a:xfrm>
                <a:off x="5594040" y="5435640"/>
                <a:ext cx="114120" cy="88920"/>
                <a:chOff x="5594040" y="5435640"/>
                <a:chExt cx="114120" cy="88920"/>
              </a:xfrm>
            </p:grpSpPr>
            <p:sp>
              <p:nvSpPr>
                <p:cNvPr id="2708" name=""/>
                <p:cNvSpPr/>
                <p:nvPr/>
              </p:nvSpPr>
              <p:spPr>
                <a:xfrm>
                  <a:off x="56070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>
                  <a:off x="55940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6178320" y="5435640"/>
                <a:ext cx="114120" cy="88920"/>
                <a:chOff x="6178320" y="5435640"/>
                <a:chExt cx="114120" cy="8892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61912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H="1">
                  <a:off x="61783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3" name=""/>
              <p:cNvGrpSpPr/>
              <p:nvPr/>
            </p:nvGrpSpPr>
            <p:grpSpPr>
              <a:xfrm>
                <a:off x="5441760" y="5435640"/>
                <a:ext cx="114120" cy="88920"/>
                <a:chOff x="5441760" y="5435640"/>
                <a:chExt cx="114120" cy="889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5454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>
                  <a:off x="54417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5314680" y="5435640"/>
                <a:ext cx="114120" cy="88920"/>
                <a:chOff x="5314680" y="5435640"/>
                <a:chExt cx="114120" cy="8892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53276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>
                  <a:off x="531468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9" name=""/>
            <p:cNvGrpSpPr/>
            <p:nvPr/>
          </p:nvGrpSpPr>
          <p:grpSpPr>
            <a:xfrm>
              <a:off x="5314680" y="5803920"/>
              <a:ext cx="1105200" cy="88920"/>
              <a:chOff x="5314680" y="5803920"/>
              <a:chExt cx="1105200" cy="88920"/>
            </a:xfrm>
          </p:grpSpPr>
          <p:grpSp>
            <p:nvGrpSpPr>
              <p:cNvPr id="2720" name=""/>
              <p:cNvGrpSpPr/>
              <p:nvPr/>
            </p:nvGrpSpPr>
            <p:grpSpPr>
              <a:xfrm>
                <a:off x="6013440" y="5803920"/>
                <a:ext cx="114480" cy="88920"/>
                <a:chOff x="6013440" y="5803920"/>
                <a:chExt cx="114480" cy="8892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6026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>
                  <a:off x="60134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5721120" y="5803920"/>
                <a:ext cx="114120" cy="88920"/>
                <a:chOff x="5721120" y="5803920"/>
                <a:chExt cx="114120" cy="8892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57340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>
                  <a:off x="57211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6305400" y="5803920"/>
                <a:ext cx="114480" cy="88920"/>
                <a:chOff x="6305400" y="5803920"/>
                <a:chExt cx="114480" cy="8892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63183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>
                  <a:off x="630540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5886360" y="5803920"/>
                <a:ext cx="114480" cy="88920"/>
                <a:chOff x="5886360" y="5803920"/>
                <a:chExt cx="114480" cy="8892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589932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H="1">
                  <a:off x="588636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5594040" y="5803920"/>
                <a:ext cx="114120" cy="88920"/>
                <a:chOff x="5594040" y="5803920"/>
                <a:chExt cx="114120" cy="8892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56070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>
                  <a:off x="55940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6178320" y="5803920"/>
                <a:ext cx="114120" cy="88920"/>
                <a:chOff x="6178320" y="5803920"/>
                <a:chExt cx="114120" cy="8892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61912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H="1">
                  <a:off x="61783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5441760" y="5803920"/>
                <a:ext cx="114120" cy="88920"/>
                <a:chOff x="5441760" y="5803920"/>
                <a:chExt cx="114120" cy="8892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5454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>
                  <a:off x="54417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5314680" y="5803920"/>
                <a:ext cx="114120" cy="88920"/>
                <a:chOff x="5314680" y="5803920"/>
                <a:chExt cx="114120" cy="8892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53276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>
                  <a:off x="531468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4" name=""/>
            <p:cNvSpPr/>
            <p:nvPr/>
          </p:nvSpPr>
          <p:spPr>
            <a:xfrm>
              <a:off x="723276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3276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60104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60104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95672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95672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500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32500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mable logic array (PLA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we've seen so f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onstrained fully-general AND and OR arr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mable array logic (PAL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ed topology of the OR arr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novation by Monolithic Mem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er and smaller OR 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EDC-FD26-42AC-800B-60F07E79E6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 D +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 C D + A D' + B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56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: design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CD to Gray code conver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ED6-C7F9-4368-8662-32EC8C3D63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2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63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2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63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8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9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0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5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6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77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2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3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84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0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 D +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 C D + A D' + B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: design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de converter: programmed PL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893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894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5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896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897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5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06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8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1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12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4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15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7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18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0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1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3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24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6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9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0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33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5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8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39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1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42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4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45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7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48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0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3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54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6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57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9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0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1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62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5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66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8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69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1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72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4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75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7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78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0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1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3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84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6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87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9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0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2A1-44D5-4064-BC5E-361CBB284C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andom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o hard to figure out exactly what gates to us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 from logic to NAND/NOR net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minimum number of pack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anges to difficult to realiz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to rewire pa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need new par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with spares (few extra inverters and gates on every boar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28C-99B9-4E55-8D07-BBE2D2BA8E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3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2994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9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0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2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13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5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1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42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0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1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3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9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0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63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5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0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1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3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0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1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3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1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04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6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07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0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2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9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0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2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23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5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26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5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36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39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8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49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52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4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55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8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59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4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5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66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2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73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8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9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0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5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0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1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3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34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6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37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9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0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2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43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5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46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49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1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52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4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0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1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3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74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6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77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9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0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2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83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86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89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1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292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4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295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7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298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0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1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3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04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07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0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13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5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16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8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19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1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22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4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25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7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28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1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3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34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6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37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9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0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2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43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46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49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1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52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55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58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1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64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6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67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9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0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2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73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5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76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8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79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1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82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85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7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88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0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1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: design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de converter: programmed P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483-36FF-4396-9621-84E707E1FD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: design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de converter: NAND gate implem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s or regularity, harder to underst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er to make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37D-B5A4-424E-A781-4BC38B513A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6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77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1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594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6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2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23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5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1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32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4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0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1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3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44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1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1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62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4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1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72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4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1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82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4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85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7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88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0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1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3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0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1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3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04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6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07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9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6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17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9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0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2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9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0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33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5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36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8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9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0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2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43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46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49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4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56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8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59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4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5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66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1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72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4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75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7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8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79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4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85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7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88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0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1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3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794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6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4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05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7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08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0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7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0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1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3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24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6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27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0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2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33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5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36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39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42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45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48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1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54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6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57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9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0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2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63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66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8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s and PLAs: another design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gnitude comparat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872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73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6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002-C7A3-43AE-A8B1-7EBAF4B870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p the following functions to the PLA below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 = AB + A’C’ + BC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9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A23-EB00-46E8-93CE-CCA1CDA101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9 terms won’t fit in a 7 term PLA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apply concensus theor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W to simplify to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B + A’C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8 terms wont’ fit in a 7 term PLA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serve that AB = ABC + ABC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rewrite W to reuse term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BC + ABC’ + A’C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w it fits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BC + ABC’ + A’C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ABC + AB’ + A’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ABC’ + BC + B’C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is called technology mapping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ipulating logic func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 that they can use availab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9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0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3992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3993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8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3999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1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02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4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05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0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1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3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14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6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17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2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23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5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26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8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29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4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35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7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38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0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1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0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1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3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54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57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9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0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2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63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5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66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8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69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1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72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4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75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7" name=""/>
          <p:cNvSpPr/>
          <p:nvPr/>
        </p:nvSpPr>
        <p:spPr>
          <a:xfrm>
            <a:off x="369720" y="1581120"/>
            <a:ext cx="8693280" cy="50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CCF-CD22-4C3A-BA05-B489818C47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3851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3895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39974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4149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3149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67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4619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4784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3807000" y="5254560"/>
            <a:ext cx="1574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45464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568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708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943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943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943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540720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5813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207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6613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943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8" name=""/>
          <p:cNvGrpSpPr/>
          <p:nvPr/>
        </p:nvGrpSpPr>
        <p:grpSpPr>
          <a:xfrm>
            <a:off x="5121000" y="3914640"/>
            <a:ext cx="292320" cy="374760"/>
            <a:chOff x="5121000" y="3914640"/>
            <a:chExt cx="292320" cy="374760"/>
          </a:xfrm>
        </p:grpSpPr>
        <p:sp>
          <p:nvSpPr>
            <p:cNvPr id="4199" name=""/>
            <p:cNvSpPr/>
            <p:nvPr/>
          </p:nvSpPr>
          <p:spPr>
            <a:xfrm flipH="1">
              <a:off x="5299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292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209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 flipH="1">
              <a:off x="5222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216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4" name=""/>
            <p:cNvGrpSpPr/>
            <p:nvPr/>
          </p:nvGrpSpPr>
          <p:grpSpPr>
            <a:xfrm>
              <a:off x="5210280" y="4181400"/>
              <a:ext cx="152280" cy="108000"/>
              <a:chOff x="5210280" y="4181400"/>
              <a:chExt cx="152280" cy="108000"/>
            </a:xfrm>
          </p:grpSpPr>
          <p:sp>
            <p:nvSpPr>
              <p:cNvPr id="4205" name=""/>
              <p:cNvSpPr/>
              <p:nvPr/>
            </p:nvSpPr>
            <p:spPr>
              <a:xfrm>
                <a:off x="5210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235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273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292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292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0" name=""/>
            <p:cNvSpPr/>
            <p:nvPr/>
          </p:nvSpPr>
          <p:spPr>
            <a:xfrm>
              <a:off x="5178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H="1">
              <a:off x="5121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5127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121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5400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5514840" y="3914640"/>
            <a:ext cx="304920" cy="374760"/>
            <a:chOff x="5514840" y="3914640"/>
            <a:chExt cx="304920" cy="374760"/>
          </a:xfrm>
        </p:grpSpPr>
        <p:sp>
          <p:nvSpPr>
            <p:cNvPr id="4216" name=""/>
            <p:cNvSpPr/>
            <p:nvPr/>
          </p:nvSpPr>
          <p:spPr>
            <a:xfrm flipH="1">
              <a:off x="5692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5686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H="1">
              <a:off x="5616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629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622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1" name=""/>
            <p:cNvGrpSpPr/>
            <p:nvPr/>
          </p:nvGrpSpPr>
          <p:grpSpPr>
            <a:xfrm>
              <a:off x="5603760" y="4181400"/>
              <a:ext cx="165240" cy="108000"/>
              <a:chOff x="5603760" y="4181400"/>
              <a:chExt cx="165240" cy="108000"/>
            </a:xfrm>
          </p:grpSpPr>
          <p:sp>
            <p:nvSpPr>
              <p:cNvPr id="4222" name=""/>
              <p:cNvSpPr/>
              <p:nvPr/>
            </p:nvSpPr>
            <p:spPr>
              <a:xfrm>
                <a:off x="5603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641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680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686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686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7" name=""/>
            <p:cNvSpPr/>
            <p:nvPr/>
          </p:nvSpPr>
          <p:spPr>
            <a:xfrm>
              <a:off x="5585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H="1">
              <a:off x="5527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5533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514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794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2" name=""/>
          <p:cNvGrpSpPr/>
          <p:nvPr/>
        </p:nvGrpSpPr>
        <p:grpSpPr>
          <a:xfrm>
            <a:off x="5514840" y="4346640"/>
            <a:ext cx="304920" cy="374400"/>
            <a:chOff x="5514840" y="4346640"/>
            <a:chExt cx="304920" cy="374400"/>
          </a:xfrm>
        </p:grpSpPr>
        <p:sp>
          <p:nvSpPr>
            <p:cNvPr id="4233" name=""/>
            <p:cNvSpPr/>
            <p:nvPr/>
          </p:nvSpPr>
          <p:spPr>
            <a:xfrm flipH="1">
              <a:off x="5692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686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 flipH="1">
              <a:off x="5616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629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622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8" name=""/>
            <p:cNvGrpSpPr/>
            <p:nvPr/>
          </p:nvGrpSpPr>
          <p:grpSpPr>
            <a:xfrm>
              <a:off x="5603760" y="4600440"/>
              <a:ext cx="165240" cy="120600"/>
              <a:chOff x="5603760" y="4600440"/>
              <a:chExt cx="165240" cy="120600"/>
            </a:xfrm>
          </p:grpSpPr>
          <p:sp>
            <p:nvSpPr>
              <p:cNvPr id="4239" name=""/>
              <p:cNvSpPr/>
              <p:nvPr/>
            </p:nvSpPr>
            <p:spPr>
              <a:xfrm>
                <a:off x="5603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641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680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686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686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4" name=""/>
            <p:cNvSpPr/>
            <p:nvPr/>
          </p:nvSpPr>
          <p:spPr>
            <a:xfrm>
              <a:off x="5585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 flipH="1">
              <a:off x="5527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 flipV="1">
              <a:off x="5533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514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794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9" name=""/>
          <p:cNvGrpSpPr/>
          <p:nvPr/>
        </p:nvGrpSpPr>
        <p:grpSpPr>
          <a:xfrm>
            <a:off x="6315120" y="4346640"/>
            <a:ext cx="304920" cy="374400"/>
            <a:chOff x="6315120" y="4346640"/>
            <a:chExt cx="304920" cy="374400"/>
          </a:xfrm>
        </p:grpSpPr>
        <p:sp>
          <p:nvSpPr>
            <p:cNvPr id="4250" name=""/>
            <p:cNvSpPr/>
            <p:nvPr/>
          </p:nvSpPr>
          <p:spPr>
            <a:xfrm flipH="1">
              <a:off x="6492960" y="44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48648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H="1">
              <a:off x="6416640" y="4530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6428880" y="4594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42312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5" name=""/>
            <p:cNvGrpSpPr/>
            <p:nvPr/>
          </p:nvGrpSpPr>
          <p:grpSpPr>
            <a:xfrm>
              <a:off x="6404040" y="4600440"/>
              <a:ext cx="165240" cy="120600"/>
              <a:chOff x="6404040" y="4600440"/>
              <a:chExt cx="165240" cy="120600"/>
            </a:xfrm>
          </p:grpSpPr>
          <p:sp>
            <p:nvSpPr>
              <p:cNvPr id="4256" name=""/>
              <p:cNvSpPr/>
              <p:nvPr/>
            </p:nvSpPr>
            <p:spPr>
              <a:xfrm>
                <a:off x="640404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44220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48036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48648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48648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1" name=""/>
            <p:cNvSpPr/>
            <p:nvPr/>
          </p:nvSpPr>
          <p:spPr>
            <a:xfrm>
              <a:off x="638496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 flipH="1">
              <a:off x="632772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 flipV="1">
              <a:off x="633420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31512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594480" y="442260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5203800" y="2625840"/>
            <a:ext cx="368280" cy="806040"/>
            <a:chOff x="5203800" y="2625840"/>
            <a:chExt cx="368280" cy="806040"/>
          </a:xfrm>
        </p:grpSpPr>
        <p:sp>
          <p:nvSpPr>
            <p:cNvPr id="4267" name=""/>
            <p:cNvSpPr/>
            <p:nvPr/>
          </p:nvSpPr>
          <p:spPr>
            <a:xfrm>
              <a:off x="5203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407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9" name=""/>
            <p:cNvGrpSpPr/>
            <p:nvPr/>
          </p:nvGrpSpPr>
          <p:grpSpPr>
            <a:xfrm>
              <a:off x="5324400" y="2797200"/>
              <a:ext cx="165240" cy="101520"/>
              <a:chOff x="5324400" y="2797200"/>
              <a:chExt cx="165240" cy="101520"/>
            </a:xfrm>
          </p:grpSpPr>
          <p:sp>
            <p:nvSpPr>
              <p:cNvPr id="4270" name=""/>
              <p:cNvSpPr/>
              <p:nvPr/>
            </p:nvSpPr>
            <p:spPr>
              <a:xfrm>
                <a:off x="5324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V="1">
                <a:off x="5324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413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3" name=""/>
            <p:cNvSpPr/>
            <p:nvPr/>
          </p:nvSpPr>
          <p:spPr>
            <a:xfrm flipV="1">
              <a:off x="5407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5413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H="1" flipV="1">
              <a:off x="5349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5362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H="1" flipV="1">
              <a:off x="5349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5362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 flipV="1">
              <a:off x="5349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5362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V="1">
              <a:off x="5407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5610240" y="2625840"/>
            <a:ext cx="368280" cy="806040"/>
            <a:chOff x="5610240" y="2625840"/>
            <a:chExt cx="368280" cy="806040"/>
          </a:xfrm>
        </p:grpSpPr>
        <p:sp>
          <p:nvSpPr>
            <p:cNvPr id="4283" name=""/>
            <p:cNvSpPr/>
            <p:nvPr/>
          </p:nvSpPr>
          <p:spPr>
            <a:xfrm>
              <a:off x="5610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813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5" name=""/>
            <p:cNvGrpSpPr/>
            <p:nvPr/>
          </p:nvGrpSpPr>
          <p:grpSpPr>
            <a:xfrm>
              <a:off x="5730840" y="2797200"/>
              <a:ext cx="152640" cy="101520"/>
              <a:chOff x="5730840" y="2797200"/>
              <a:chExt cx="152640" cy="101520"/>
            </a:xfrm>
          </p:grpSpPr>
          <p:sp>
            <p:nvSpPr>
              <p:cNvPr id="4286" name=""/>
              <p:cNvSpPr/>
              <p:nvPr/>
            </p:nvSpPr>
            <p:spPr>
              <a:xfrm>
                <a:off x="5730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V="1">
                <a:off x="5730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819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9" name=""/>
            <p:cNvSpPr/>
            <p:nvPr/>
          </p:nvSpPr>
          <p:spPr>
            <a:xfrm flipV="1">
              <a:off x="5813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5819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 flipV="1">
              <a:off x="5756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5769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 flipV="1">
              <a:off x="5756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5769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 flipV="1">
              <a:off x="5756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5769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V="1">
              <a:off x="5813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8" name=""/>
          <p:cNvGrpSpPr/>
          <p:nvPr/>
        </p:nvGrpSpPr>
        <p:grpSpPr>
          <a:xfrm>
            <a:off x="6004080" y="2625840"/>
            <a:ext cx="368280" cy="806040"/>
            <a:chOff x="6004080" y="2625840"/>
            <a:chExt cx="368280" cy="806040"/>
          </a:xfrm>
        </p:grpSpPr>
        <p:sp>
          <p:nvSpPr>
            <p:cNvPr id="4299" name=""/>
            <p:cNvSpPr/>
            <p:nvPr/>
          </p:nvSpPr>
          <p:spPr>
            <a:xfrm>
              <a:off x="600408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20712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1" name=""/>
            <p:cNvGrpSpPr/>
            <p:nvPr/>
          </p:nvGrpSpPr>
          <p:grpSpPr>
            <a:xfrm>
              <a:off x="6124680" y="2797200"/>
              <a:ext cx="164880" cy="101520"/>
              <a:chOff x="6124680" y="2797200"/>
              <a:chExt cx="164880" cy="101520"/>
            </a:xfrm>
          </p:grpSpPr>
          <p:sp>
            <p:nvSpPr>
              <p:cNvPr id="4302" name=""/>
              <p:cNvSpPr/>
              <p:nvPr/>
            </p:nvSpPr>
            <p:spPr>
              <a:xfrm>
                <a:off x="612468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612468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621360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5" name=""/>
            <p:cNvSpPr/>
            <p:nvPr/>
          </p:nvSpPr>
          <p:spPr>
            <a:xfrm flipV="1">
              <a:off x="620712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V="1">
              <a:off x="621360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 flipV="1">
              <a:off x="614988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616284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 flipV="1">
              <a:off x="614988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V="1">
              <a:off x="616284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 flipV="1">
              <a:off x="614988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616284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620712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4" name=""/>
          <p:cNvGrpSpPr/>
          <p:nvPr/>
        </p:nvGrpSpPr>
        <p:grpSpPr>
          <a:xfrm>
            <a:off x="6410160" y="2625840"/>
            <a:ext cx="368280" cy="806040"/>
            <a:chOff x="6410160" y="2625840"/>
            <a:chExt cx="368280" cy="806040"/>
          </a:xfrm>
        </p:grpSpPr>
        <p:sp>
          <p:nvSpPr>
            <p:cNvPr id="4315" name=""/>
            <p:cNvSpPr/>
            <p:nvPr/>
          </p:nvSpPr>
          <p:spPr>
            <a:xfrm>
              <a:off x="6410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13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6530760" y="2797200"/>
              <a:ext cx="164880" cy="101520"/>
              <a:chOff x="6530760" y="2797200"/>
              <a:chExt cx="164880" cy="101520"/>
            </a:xfrm>
          </p:grpSpPr>
          <p:sp>
            <p:nvSpPr>
              <p:cNvPr id="4318" name=""/>
              <p:cNvSpPr/>
              <p:nvPr/>
            </p:nvSpPr>
            <p:spPr>
              <a:xfrm>
                <a:off x="6530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530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619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1" name=""/>
            <p:cNvSpPr/>
            <p:nvPr/>
          </p:nvSpPr>
          <p:spPr>
            <a:xfrm flipV="1">
              <a:off x="6613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V="1">
              <a:off x="6619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 flipV="1">
              <a:off x="6555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V="1">
              <a:off x="6568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 flipV="1">
              <a:off x="6555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V="1">
              <a:off x="6568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 flipV="1">
              <a:off x="6555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6568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6613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0" name=""/>
          <p:cNvSpPr/>
          <p:nvPr/>
        </p:nvSpPr>
        <p:spPr>
          <a:xfrm>
            <a:off x="7311960" y="3794040"/>
            <a:ext cx="1625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5597640" y="5775480"/>
            <a:ext cx="3416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4708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472140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1089000" y="5102280"/>
            <a:ext cx="2324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5425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5870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6251400" y="5197320"/>
            <a:ext cx="82584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6657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V="1">
            <a:off x="7013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7013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 flipV="1">
            <a:off x="7026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V="1">
            <a:off x="7026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91848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 dimensional array of 1s and 0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y (row) is called a "wor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th of row = word-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x is called an "addres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is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ed word is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B89-4BC9-4BC6-915C-324CE82BE3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2781360" y="2206800"/>
            <a:ext cx="37083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1504800" y="4022640"/>
            <a:ext cx="2279880" cy="2361960"/>
            <a:chOff x="1504800" y="4022640"/>
            <a:chExt cx="2279880" cy="2361960"/>
          </a:xfrm>
        </p:grpSpPr>
        <p:sp>
          <p:nvSpPr>
            <p:cNvPr id="4348" name=""/>
            <p:cNvSpPr/>
            <p:nvPr/>
          </p:nvSpPr>
          <p:spPr>
            <a:xfrm>
              <a:off x="1828800" y="59911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562040" y="40226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504800" y="42512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222640" y="40417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2" name=""/>
          <p:cNvGrpSpPr/>
          <p:nvPr/>
        </p:nvGrpSpPr>
        <p:grpSpPr>
          <a:xfrm>
            <a:off x="5460840" y="4092480"/>
            <a:ext cx="2121120" cy="2292120"/>
            <a:chOff x="5460840" y="4092480"/>
            <a:chExt cx="2121120" cy="2292120"/>
          </a:xfrm>
        </p:grpSpPr>
        <p:sp>
          <p:nvSpPr>
            <p:cNvPr id="4353" name=""/>
            <p:cNvSpPr/>
            <p:nvPr/>
          </p:nvSpPr>
          <p:spPr>
            <a:xfrm>
              <a:off x="5689440" y="59911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5492880" y="40924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5715000" y="49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5943600" y="49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V="1">
              <a:off x="6172200" y="49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629400" y="5006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58000" y="5006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086600" y="5006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315200" y="5006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575320" y="42256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60840" y="56736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477120" y="56736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575320" y="54320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Ms and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logic implementation (two-level canonical form) using a RO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866-F86A-47B4-A61D-302DEE83E2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M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ilar to a PLA structure but with a fully decoded AND arra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ly flexible OR array (unlike P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0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1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72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3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74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1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82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6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87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88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5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7FA-940D-431F-BE56-51DE5DEA67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M vs. PL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M approach advantageous whe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ime is short (no need to minimize output fun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t input combinations are needed (e.g., code converte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sharing of product terms among outpu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M proble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 doubles for each additional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't exploit don't c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LA approach advantageous whe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re available for multi-output min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are relatively few unique minterm combin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minterms are shared among the output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L proble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ed fan-ins on OR pl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A7A-B241-4EBD-A107-804D2958CE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ular logic structures for two-leve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M – full AND plane, general OR pla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L – programmable AND plane, fixed OR pla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LA – programmable AND and OR plan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E47-1EEA-4FAB-AC6A-A2BB73F163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ular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ed to make design fas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ed to make engineering changes easier to mak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er for designers to understand and map to functionalit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er to think in terms of specific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to think in terms of a large multi-purpose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1A8-5A07-4668-9AB3-E376860E6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gular logic structures for multi-leve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fficult to devise a regular structure for arbitrary connections between a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arge set of different types of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iciency/speed concerns for such a 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467 you'll learn about field programmable gate arrays (FPGAs) that are just such programmable multi-level struc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 multiple levels of PALs/PLAs/RO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 intermediate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it an input to be used in further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ECB-D697-47F6-9D10-9DD48BEA4C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technology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andom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e response in combinational networ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ular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C57-CF59-4F45-B3F9-46AA41A54E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2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7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4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39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king conne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rect point-to-point connections between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s we've seen so f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ute one of many inputs to a single output --- multiplex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oute a single input to one of many outputs --- demultiplex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B8F-969B-4EE2-9F59-1509B6C031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x and demux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witch implementation of multiplexers and demultiplexe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composed to make arbitrary size switching net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to implement multiple-source/multiple-destination inter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69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3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8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7" name=""/>
            <p:cNvCxnSpPr>
              <a:stCxn id="183" idx="6"/>
              <a:endCxn id="193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84" idx="5"/>
              <a:endCxn id="188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78" idx="7"/>
              <a:endCxn id="194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6"/>
              <a:endCxn id="189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1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6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0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4" name=""/>
            <p:cNvCxnSpPr>
              <a:stCxn id="220" idx="6"/>
              <a:endCxn id="230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1" idx="5"/>
              <a:endCxn id="225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15" idx="7"/>
              <a:endCxn id="231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6"/>
              <a:endCxn id="226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A1D-38A6-4415-AD39-2D27DCBDE7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x and demux (cont'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es of multiplexers/demultiplexers in multi-point connec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056-8C8E-4100-ABEC-450165ADA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2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6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xers/sel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ultiplexers/selectors: general concep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ata inputs, n control inputs (called "selects"), 1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to connec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ints to a single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signal pattern forms binary index of input connected to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6CA-63F8-4AD6-8025-EDC5C31BA5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666880" y="31878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4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2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5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90920" y="3413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23040" y="309096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xers/selectors (cont'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:1 mux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A' I0 + A I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4:1 mux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A' B' I0 + A' B I1 + A B' I2 + A B I3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8:1 mux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A' B' C' I0 + A' B' C I1 + A' B C' I2 + A' B C I3 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A B' C' I4 + A B' C I5  + A B C' I6  + A B C I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general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interm shorthand form for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1 M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I - Combinational Logic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EB0-6B40-4365-BFD3-1756B27422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Administrator</cp:lastModifiedBy>
  <cp:lastPrinted>1999-04-12T19:46:03Z</cp:lastPrinted>
  <dcterms:modified xsi:type="dcterms:W3CDTF">2000-10-16T07:33:08Z</dcterms:modified>
  <cp:revision>28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