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714-CBCC-4A6E-8756-30638186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74E-54FF-4321-81DD-B34947DF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89A-D1E4-4A65-B1B4-3F67B3CE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669-07CB-4EC0-B36B-3F0B4909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7E07-2DDD-470E-8A4A-DA110930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D13C-9454-43DE-9961-3558B5B1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3696-A630-44A2-8F35-DF758888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1FD8-A6DA-4ED8-AAA8-5594D94B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B7DD-FD16-4696-BC17-10EAE818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5848-7A0F-4C70-8599-49B4B6FA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5D19-4142-491A-94B7-C226D60C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FE8-DF66-4F78-86F7-56BC9C35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DDC9-1844-4E2B-A4D5-1E01A575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D267-05E8-41B2-9F68-3391615F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201-463C-4C17-B8EC-2A3B5400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1BE3-ACB1-4336-A023-0D8BC0BB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037E-69B1-4D76-A4A1-DD0B5F21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426-FDC1-44E3-B5C5-57B1898C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268-B9B7-43C1-82A2-A3F5B330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B0A-B51D-48DD-B991-0979867E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FD2-0590-4E47-9734-7737281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628-39E1-40C9-9F47-89ABD4C4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178-026F-4615-8C6A-7BBE1004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A65-0E1A-4361-9F51-487ABEB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9200A3-5AF6-4979-BEAC-AAD36179854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4DB612-CA26-4374-AD3D-F9ED2923C1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organ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uter design – an application of digital logic design procedur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uter = processing unit + memory syste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cessing unit = control + datapath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rol = finite state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 = machine instruction, datapath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= register transfer control signals, ALU operation c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 interpretation = instruction fetch, decode, execu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atapath = functional units + regis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units = ALU, multipliers, divide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 = program counter, shifters, storage regi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271-89BF-44FC-B186-0F3F182E469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162920" y="175248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2666880"/>
            <a:ext cx="914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iz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10560" y="5029200"/>
            <a:ext cx="1104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ister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-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460840"/>
            <a:ext cx="1003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ran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Ta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59400" y="5460840"/>
            <a:ext cx="774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ranc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struction execu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rol state diagram (for each diagram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tch instr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structions partitioned into three class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/st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-to-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fferent sequence through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agram for each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struction typ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146640" y="2209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46640" y="3352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46640" y="4495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46640" y="5638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89640" y="4495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03640" y="4495680"/>
            <a:ext cx="685800" cy="68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4"/>
            <a:endCxn id="325" idx="0"/>
          </p:cNvCxnSpPr>
          <p:nvPr/>
        </p:nvCxnSpPr>
        <p:spPr>
          <a:xfrm>
            <a:off x="6489360" y="289548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5" idx="4"/>
            <a:endCxn id="326" idx="0"/>
          </p:cNvCxnSpPr>
          <p:nvPr/>
        </p:nvCxnSpPr>
        <p:spPr>
          <a:xfrm>
            <a:off x="6489360" y="403848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25" idx="5"/>
            <a:endCxn id="328" idx="1"/>
          </p:cNvCxnSpPr>
          <p:nvPr/>
        </p:nvCxnSpPr>
        <p:spPr>
          <a:xfrm>
            <a:off x="6732360" y="3938400"/>
            <a:ext cx="657720" cy="65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25" idx="3"/>
            <a:endCxn id="329" idx="7"/>
          </p:cNvCxnSpPr>
          <p:nvPr/>
        </p:nvCxnSpPr>
        <p:spPr>
          <a:xfrm flipH="1">
            <a:off x="5589000" y="3938400"/>
            <a:ext cx="657720" cy="65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26" idx="4"/>
            <a:endCxn id="327" idx="0"/>
          </p:cNvCxnSpPr>
          <p:nvPr/>
        </p:nvCxnSpPr>
        <p:spPr>
          <a:xfrm>
            <a:off x="6489360" y="518148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28" idx="3"/>
            <a:endCxn id="327" idx="7"/>
          </p:cNvCxnSpPr>
          <p:nvPr/>
        </p:nvCxnSpPr>
        <p:spPr>
          <a:xfrm flipH="1">
            <a:off x="6732000" y="5081400"/>
            <a:ext cx="657720" cy="65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29" idx="5"/>
            <a:endCxn id="327" idx="1"/>
          </p:cNvCxnSpPr>
          <p:nvPr/>
        </p:nvCxnSpPr>
        <p:spPr>
          <a:xfrm>
            <a:off x="5589360" y="5081400"/>
            <a:ext cx="657720" cy="65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27" idx="4"/>
            <a:endCxn id="325" idx="2"/>
          </p:cNvCxnSpPr>
          <p:nvPr/>
        </p:nvCxnSpPr>
        <p:spPr>
          <a:xfrm flipV="1" rot="16200000">
            <a:off x="5003280" y="4838040"/>
            <a:ext cx="2629440" cy="343800"/>
          </a:xfrm>
          <a:prstGeom prst="curvedConnector5">
            <a:avLst>
              <a:gd name="adj1" fmla="val -7544"/>
              <a:gd name="adj2" fmla="val 309643"/>
              <a:gd name="adj3" fmla="val -754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29" idx="4"/>
            <a:endCxn id="325" idx="2"/>
          </p:cNvCxnSpPr>
          <p:nvPr/>
        </p:nvCxnSpPr>
        <p:spPr>
          <a:xfrm flipH="1" flipV="1" rot="5400000">
            <a:off x="5003640" y="4038120"/>
            <a:ext cx="1486440" cy="800640"/>
          </a:xfrm>
          <a:prstGeom prst="curvedConnector5">
            <a:avLst>
              <a:gd name="adj1" fmla="val -15382"/>
              <a:gd name="adj2" fmla="val -35492"/>
              <a:gd name="adj3" fmla="val -1538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endCxn id="324" idx="7"/>
          </p:cNvCxnSpPr>
          <p:nvPr/>
        </p:nvCxnSpPr>
        <p:spPr>
          <a:xfrm flipH="1">
            <a:off x="6732000" y="1905120"/>
            <a:ext cx="430920" cy="40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6172200" y="24382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3505320"/>
            <a:ext cx="6094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tc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15200" y="4622760"/>
            <a:ext cx="6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EQ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10360" y="4622760"/>
            <a:ext cx="647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4724280"/>
            <a:ext cx="787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48520" y="5791320"/>
            <a:ext cx="546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914-AA42-4397-8C73-FE9C57EA3D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4648320" y="1905120"/>
            <a:ext cx="4622400" cy="4743360"/>
            <a:chOff x="4648320" y="1905120"/>
            <a:chExt cx="4622400" cy="4743360"/>
          </a:xfrm>
        </p:grpSpPr>
        <p:sp>
          <p:nvSpPr>
            <p:cNvPr id="347" name=""/>
            <p:cNvSpPr/>
            <p:nvPr/>
          </p:nvSpPr>
          <p:spPr>
            <a:xfrm flipH="1">
              <a:off x="5403240" y="2597400"/>
              <a:ext cx="92700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403240" y="3130560"/>
              <a:ext cx="927000" cy="18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59480" y="2597400"/>
              <a:ext cx="96480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59480" y="3130560"/>
              <a:ext cx="964800" cy="18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6560" y="3753000"/>
              <a:ext cx="2920680" cy="127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022360" y="4921200"/>
              <a:ext cx="571320" cy="170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03880" y="4946760"/>
              <a:ext cx="68544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35320" y="5403960"/>
              <a:ext cx="1892160" cy="124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94400" y="4311720"/>
              <a:ext cx="621720" cy="62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403240" y="441972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03240" y="48006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03880" y="44197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29080" y="4813560"/>
              <a:ext cx="114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84760" y="3917880"/>
              <a:ext cx="6220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416560" y="4025880"/>
              <a:ext cx="11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394320" y="441972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07200" y="4025880"/>
              <a:ext cx="10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19800" y="4445280"/>
              <a:ext cx="15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6902280" y="4324320"/>
              <a:ext cx="1396440" cy="407520"/>
              <a:chOff x="6902280" y="4324320"/>
              <a:chExt cx="1396440" cy="407520"/>
            </a:xfrm>
          </p:grpSpPr>
          <p:sp>
            <p:nvSpPr>
              <p:cNvPr id="366" name=""/>
              <p:cNvSpPr/>
              <p:nvPr/>
            </p:nvSpPr>
            <p:spPr>
              <a:xfrm>
                <a:off x="7435800" y="4351320"/>
                <a:ext cx="189360" cy="34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02280" y="4351320"/>
                <a:ext cx="1256400" cy="38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66000" y="4324320"/>
                <a:ext cx="119268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435440" y="4324320"/>
                <a:ext cx="18972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575120" y="444528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575120" y="461016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97640" y="44452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97640" y="461016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146440" y="4521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flipV="1">
              <a:off x="7378560" y="46036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29080" y="4311720"/>
              <a:ext cx="68544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054400" y="5397480"/>
              <a:ext cx="2298240" cy="1150560"/>
              <a:chOff x="5054400" y="5397480"/>
              <a:chExt cx="2298240" cy="1150560"/>
            </a:xfrm>
          </p:grpSpPr>
          <p:sp>
            <p:nvSpPr>
              <p:cNvPr id="378" name=""/>
              <p:cNvSpPr/>
              <p:nvPr/>
            </p:nvSpPr>
            <p:spPr>
              <a:xfrm>
                <a:off x="5531040" y="5481720"/>
                <a:ext cx="21456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30680" y="5467680"/>
                <a:ext cx="214920" cy="38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82960" y="5575320"/>
                <a:ext cx="2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82960" y="5740560"/>
                <a:ext cx="2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45160" y="5481720"/>
                <a:ext cx="189360" cy="35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12360" y="5481720"/>
                <a:ext cx="124272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75360" y="5467680"/>
                <a:ext cx="1179720" cy="38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644800" y="5467680"/>
                <a:ext cx="189720" cy="38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95560" y="6121440"/>
                <a:ext cx="38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95560" y="654048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689080" y="6115320"/>
                <a:ext cx="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98960" y="6129360"/>
                <a:ext cx="380160" cy="41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98600" y="6115320"/>
                <a:ext cx="380520" cy="41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55800" y="5664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521040" y="5664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717960" y="5562720"/>
                <a:ext cx="634680" cy="20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5530320" y="55753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98640" y="5562720"/>
                <a:ext cx="50400" cy="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30320" y="6235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200200" y="5575320"/>
                <a:ext cx="31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524200" y="5581800"/>
                <a:ext cx="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4400" y="5397480"/>
                <a:ext cx="63468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5530320" y="57405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530320" y="64008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200200" y="574056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333400" y="5727960"/>
                <a:ext cx="50760" cy="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365440" y="574056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365440" y="640080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58960" y="5746680"/>
                <a:ext cx="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54400" y="5727960"/>
                <a:ext cx="634680" cy="20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6279840" y="63248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44720" y="632484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717960" y="6222960"/>
                <a:ext cx="634680" cy="203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1" name=""/>
            <p:cNvSpPr/>
            <p:nvPr/>
          </p:nvSpPr>
          <p:spPr>
            <a:xfrm flipH="1">
              <a:off x="5022360" y="4311720"/>
              <a:ext cx="571320" cy="10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30960" y="2597400"/>
              <a:ext cx="102816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4160" y="1905120"/>
              <a:ext cx="774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03640" y="256536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91040" y="280692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75440" y="2692440"/>
              <a:ext cx="901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2640" y="3390840"/>
              <a:ext cx="914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502320" y="2692440"/>
              <a:ext cx="723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0480" y="4076640"/>
              <a:ext cx="748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59480" y="285768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59280" y="275616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59280" y="298476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48320" y="383544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60920" y="4229280"/>
              <a:ext cx="761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45040" y="2190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32440" y="313056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43720" y="3835440"/>
              <a:ext cx="901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48320" y="4584960"/>
              <a:ext cx="774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6680" y="4330800"/>
              <a:ext cx="914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7160" y="4445280"/>
              <a:ext cx="7488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 path (heirarchy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rithmetic circuits constructed in hierarchical and iterative fash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bit in datapath is functionally ident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-bit, 8-bit, 16-bit, 32-bit datapath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2E0-336F-4AC0-956B-9CF6DF67C9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1752480" y="3352680"/>
            <a:ext cx="4648320" cy="2603520"/>
            <a:chOff x="1752480" y="3352680"/>
            <a:chExt cx="4648320" cy="2603520"/>
          </a:xfrm>
        </p:grpSpPr>
        <p:sp>
          <p:nvSpPr>
            <p:cNvPr id="434" name=""/>
            <p:cNvSpPr/>
            <p:nvPr/>
          </p:nvSpPr>
          <p:spPr>
            <a:xfrm>
              <a:off x="3848040" y="4216320"/>
              <a:ext cx="2287440" cy="687240"/>
            </a:xfrm>
            <a:custGeom>
              <a:avLst/>
              <a:gdLst/>
              <a:ahLst/>
              <a:rect l="l" t="t" r="r" b="b"/>
              <a:pathLst>
                <a:path w="1441" h="433">
                  <a:moveTo>
                    <a:pt x="0" y="0"/>
                  </a:moveTo>
                  <a:lnTo>
                    <a:pt x="576" y="0"/>
                  </a:lnTo>
                  <a:lnTo>
                    <a:pt x="720" y="144"/>
                  </a:lnTo>
                  <a:lnTo>
                    <a:pt x="864" y="0"/>
                  </a:lnTo>
                  <a:lnTo>
                    <a:pt x="1440" y="0"/>
                  </a:lnTo>
                  <a:lnTo>
                    <a:pt x="1152" y="432"/>
                  </a:lnTo>
                  <a:lnTo>
                    <a:pt x="288" y="4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6840" y="365112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05240" y="365112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91040" y="4908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33840" y="4908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48240" y="4908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82840" y="444492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82840" y="455904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82840" y="46735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197240" y="375228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568840" y="375228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3080" y="3682800"/>
              <a:ext cx="558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42080" y="3670200"/>
              <a:ext cx="558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13280" y="335268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97480" y="335268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24280" y="560052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81480" y="5600520"/>
              <a:ext cx="571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28920" y="56005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52480" y="4394160"/>
              <a:ext cx="1511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870440" y="514944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67360" y="5054400"/>
              <a:ext cx="558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 path (ALU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U block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: data and operation to per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 result of operation and status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3A4-8796-4AEE-8E97-2718B9C023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5410080" y="3473280"/>
            <a:ext cx="3282480" cy="2889000"/>
            <a:chOff x="5410080" y="3473280"/>
            <a:chExt cx="3282480" cy="2889000"/>
          </a:xfrm>
        </p:grpSpPr>
        <p:sp>
          <p:nvSpPr>
            <p:cNvPr id="458" name=""/>
            <p:cNvSpPr/>
            <p:nvPr/>
          </p:nvSpPr>
          <p:spPr>
            <a:xfrm>
              <a:off x="6057720" y="4990680"/>
              <a:ext cx="2287440" cy="687600"/>
            </a:xfrm>
            <a:custGeom>
              <a:avLst/>
              <a:gdLst/>
              <a:ahLst/>
              <a:rect l="l" t="t" r="r" b="b"/>
              <a:pathLst>
                <a:path w="1441" h="433">
                  <a:moveTo>
                    <a:pt x="0" y="0"/>
                  </a:moveTo>
                  <a:lnTo>
                    <a:pt x="576" y="0"/>
                  </a:lnTo>
                  <a:lnTo>
                    <a:pt x="720" y="144"/>
                  </a:lnTo>
                  <a:lnTo>
                    <a:pt x="864" y="0"/>
                  </a:lnTo>
                  <a:lnTo>
                    <a:pt x="1440" y="0"/>
                  </a:lnTo>
                  <a:lnTo>
                    <a:pt x="1152" y="432"/>
                  </a:lnTo>
                  <a:lnTo>
                    <a:pt x="288" y="4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86520" y="44258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14920" y="44258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00720" y="56829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3520" y="5682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57920" y="5682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92520" y="521928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92520" y="533376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92520" y="544788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406920" y="452700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778520" y="452700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51400" y="4444560"/>
              <a:ext cx="5590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90960" y="6006960"/>
              <a:ext cx="571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65400" y="5600520"/>
              <a:ext cx="597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10080" y="4965480"/>
              <a:ext cx="736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092720" y="574596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89640" y="5689440"/>
              <a:ext cx="5587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479560" y="600696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479560" y="5841720"/>
              <a:ext cx="126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33920" y="4044600"/>
              <a:ext cx="1104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43440" y="4101840"/>
              <a:ext cx="736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87880" y="4044600"/>
              <a:ext cx="1104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97400" y="4101840"/>
              <a:ext cx="736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06840" y="629892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8686440" y="3714120"/>
              <a:ext cx="0" cy="25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905240" y="372096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11720" y="37270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14920" y="44258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406920" y="452700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05360" y="4457520"/>
              <a:ext cx="5587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27520" y="34732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419520" y="3574440"/>
              <a:ext cx="2160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05360" y="3504960"/>
              <a:ext cx="558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 path (ALU + register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umulat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of the inputs to A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of ALU stored back in accumul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ne-address instruc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 and address of one oper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operand and destin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accumulator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 &lt;– AC op Mem[addr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single address instructions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C implicit operan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ultiple regis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 of instruction u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choose register oper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46D-A421-4E71-B8B2-EE22890D21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5715000" y="6324480"/>
            <a:ext cx="1434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bits w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6324480"/>
            <a:ext cx="119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 w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 path (bit-slic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it-slice concept – iterate to build n-bit wide datapath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914400" y="2133720"/>
            <a:ext cx="2400480" cy="4114800"/>
            <a:chOff x="914400" y="2133720"/>
            <a:chExt cx="2400480" cy="4114800"/>
          </a:xfrm>
        </p:grpSpPr>
        <p:sp>
          <p:nvSpPr>
            <p:cNvPr id="498" name=""/>
            <p:cNvSpPr/>
            <p:nvPr/>
          </p:nvSpPr>
          <p:spPr>
            <a:xfrm>
              <a:off x="914400" y="2781360"/>
              <a:ext cx="470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46600" y="279396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7920" y="31240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47920" y="2895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52840" y="2666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279396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52840" y="3276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27280" y="34034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14600" y="22860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9520" y="213372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33720" y="2286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28800" y="21337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81440" y="31240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3720" y="22986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28800" y="213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1435320" y="3962520"/>
              <a:ext cx="1384200" cy="457200"/>
              <a:chOff x="1435320" y="3962520"/>
              <a:chExt cx="1384200" cy="457200"/>
            </a:xfrm>
          </p:grpSpPr>
          <p:sp>
            <p:nvSpPr>
              <p:cNvPr id="514" name=""/>
              <p:cNvSpPr/>
              <p:nvPr/>
            </p:nvSpPr>
            <p:spPr>
              <a:xfrm>
                <a:off x="1752840" y="3962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65440" y="40892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210040" y="41148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210040" y="4267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435320" y="41911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flipH="1">
              <a:off x="2209680" y="3505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1004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47920" y="6095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2840" y="5867280"/>
              <a:ext cx="128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35320" y="35053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1435320" y="4419720"/>
              <a:ext cx="1384200" cy="457200"/>
              <a:chOff x="1435320" y="4419720"/>
              <a:chExt cx="1384200" cy="457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752840" y="44197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765440" y="45464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210040" y="45720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210040" y="47242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35320" y="46483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1435320" y="4876920"/>
              <a:ext cx="1384200" cy="457200"/>
              <a:chOff x="1435320" y="4876920"/>
              <a:chExt cx="1384200" cy="457200"/>
            </a:xfrm>
          </p:grpSpPr>
          <p:sp>
            <p:nvSpPr>
              <p:cNvPr id="531" name=""/>
              <p:cNvSpPr/>
              <p:nvPr/>
            </p:nvSpPr>
            <p:spPr>
              <a:xfrm>
                <a:off x="1752840" y="4876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5440" y="50036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210040" y="50292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210040" y="51814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35320" y="51055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1435320" y="5334120"/>
              <a:ext cx="1384200" cy="457200"/>
              <a:chOff x="1435320" y="5334120"/>
              <a:chExt cx="1384200" cy="457200"/>
            </a:xfrm>
          </p:grpSpPr>
          <p:sp>
            <p:nvSpPr>
              <p:cNvPr id="537" name=""/>
              <p:cNvSpPr/>
              <p:nvPr/>
            </p:nvSpPr>
            <p:spPr>
              <a:xfrm>
                <a:off x="1752840" y="5334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765440" y="54608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10040" y="5486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10040" y="56386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435320" y="5562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4305240" y="2133720"/>
            <a:ext cx="4152960" cy="4114800"/>
            <a:chOff x="4305240" y="2133720"/>
            <a:chExt cx="4152960" cy="4114800"/>
          </a:xfrm>
        </p:grpSpPr>
        <p:sp>
          <p:nvSpPr>
            <p:cNvPr id="543" name=""/>
            <p:cNvSpPr/>
            <p:nvPr/>
          </p:nvSpPr>
          <p:spPr>
            <a:xfrm>
              <a:off x="4305240" y="2781360"/>
              <a:ext cx="469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38760" y="31240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38760" y="2895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43680" y="2666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67360" y="279396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43680" y="3276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18120" y="34034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05440" y="22860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10360" y="213372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24560" y="2286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5219640" y="21337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72280" y="31240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24560" y="22986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19640" y="213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4826160" y="3962520"/>
              <a:ext cx="1384200" cy="457200"/>
              <a:chOff x="4826160" y="3962520"/>
              <a:chExt cx="1384200" cy="457200"/>
            </a:xfrm>
          </p:grpSpPr>
          <p:sp>
            <p:nvSpPr>
              <p:cNvPr id="558" name=""/>
              <p:cNvSpPr/>
              <p:nvPr/>
            </p:nvSpPr>
            <p:spPr>
              <a:xfrm>
                <a:off x="5143680" y="3962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156280" y="40892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600880" y="41148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600880" y="4267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826160" y="41911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 flipH="1">
              <a:off x="5600520" y="3505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00880" y="2895480"/>
              <a:ext cx="9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38760" y="6095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43680" y="5867280"/>
              <a:ext cx="128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26160" y="35053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4826160" y="4419720"/>
              <a:ext cx="1384200" cy="457200"/>
              <a:chOff x="4826160" y="4419720"/>
              <a:chExt cx="1384200" cy="457200"/>
            </a:xfrm>
          </p:grpSpPr>
          <p:sp>
            <p:nvSpPr>
              <p:cNvPr id="569" name=""/>
              <p:cNvSpPr/>
              <p:nvPr/>
            </p:nvSpPr>
            <p:spPr>
              <a:xfrm>
                <a:off x="5143680" y="44197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56280" y="45464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600880" y="45720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00880" y="47242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26160" y="46483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826160" y="4876920"/>
              <a:ext cx="1384200" cy="457200"/>
              <a:chOff x="4826160" y="4876920"/>
              <a:chExt cx="1384200" cy="457200"/>
            </a:xfrm>
          </p:grpSpPr>
          <p:sp>
            <p:nvSpPr>
              <p:cNvPr id="575" name=""/>
              <p:cNvSpPr/>
              <p:nvPr/>
            </p:nvSpPr>
            <p:spPr>
              <a:xfrm>
                <a:off x="5143680" y="4876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56280" y="50036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600880" y="50292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00880" y="51814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826160" y="51055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4826160" y="5334120"/>
              <a:ext cx="1384200" cy="457200"/>
              <a:chOff x="4826160" y="5334120"/>
              <a:chExt cx="13842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5143680" y="5334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56280" y="54608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600880" y="5486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600880" y="56386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26160" y="5562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8089920" y="279396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91240" y="31240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24480" y="289548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6160" y="2666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19840" y="279396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96160" y="3276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70600" y="34034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58280" y="228600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62840" y="2133720"/>
              <a:ext cx="0" cy="38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77040" y="2286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972120" y="21337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24760" y="31240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77040" y="22986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72480" y="213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6578640" y="3962520"/>
              <a:ext cx="1384200" cy="457200"/>
              <a:chOff x="6578640" y="3962520"/>
              <a:chExt cx="1384200" cy="457200"/>
            </a:xfrm>
          </p:grpSpPr>
          <p:sp>
            <p:nvSpPr>
              <p:cNvPr id="601" name=""/>
              <p:cNvSpPr/>
              <p:nvPr/>
            </p:nvSpPr>
            <p:spPr>
              <a:xfrm>
                <a:off x="6896160" y="3962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908760" y="40892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353360" y="41148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53360" y="4267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78640" y="41911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 flipH="1">
              <a:off x="7353000" y="3505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53360" y="2895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91240" y="6095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96160" y="5867280"/>
              <a:ext cx="128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78640" y="35053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6578640" y="4419720"/>
              <a:ext cx="1384200" cy="457200"/>
              <a:chOff x="6578640" y="4419720"/>
              <a:chExt cx="1384200" cy="457200"/>
            </a:xfrm>
          </p:grpSpPr>
          <p:sp>
            <p:nvSpPr>
              <p:cNvPr id="612" name=""/>
              <p:cNvSpPr/>
              <p:nvPr/>
            </p:nvSpPr>
            <p:spPr>
              <a:xfrm>
                <a:off x="6896160" y="44197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908760" y="45464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53360" y="45720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53360" y="47242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578640" y="46483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6578640" y="4876920"/>
              <a:ext cx="1384200" cy="457200"/>
              <a:chOff x="6578640" y="4876920"/>
              <a:chExt cx="1384200" cy="457200"/>
            </a:xfrm>
          </p:grpSpPr>
          <p:sp>
            <p:nvSpPr>
              <p:cNvPr id="618" name=""/>
              <p:cNvSpPr/>
              <p:nvPr/>
            </p:nvSpPr>
            <p:spPr>
              <a:xfrm>
                <a:off x="6896160" y="4876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08760" y="50036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53360" y="50292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53360" y="51814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78640" y="51055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578640" y="5334120"/>
              <a:ext cx="1384200" cy="457200"/>
              <a:chOff x="6578640" y="5334120"/>
              <a:chExt cx="1384200" cy="4572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96160" y="5334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08760" y="5460840"/>
                <a:ext cx="431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53360" y="5486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53360" y="56386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78640" y="5562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85D-51AC-4CF5-A10C-CFB37EE355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struction pat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gram coun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s track of program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ress of next instruction to read from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have auto-increment feature or use A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struction regis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instr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es ALU operation and address of oper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so holds target of jump instr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mediate oper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lationship to data path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 may be incremented through A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nts of IR may also be required as input to A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B6E-774D-4C4A-89FB-E1DDC9A793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 path (memory interfac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3680" y="144756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mor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arate data and instruction memory (Harvard architectu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ddress busses, two data bu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ombined memory (Princeton architectu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address bus, single data b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parate memor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U output goes to data memory 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 input from data memory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memory address from instruction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 register from instruction memory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 memory address from program cou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ngle memor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ress from PC or 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 output to instruction and data regi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 input from ALU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986-DAFD-4B8C-BB56-914EA72DFE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851360" y="3867120"/>
            <a:ext cx="1487520" cy="458640"/>
          </a:xfrm>
          <a:custGeom>
            <a:avLst/>
            <a:gdLst/>
            <a:ahLst/>
            <a:rect l="l" t="t" r="r" b="b"/>
            <a:pathLst>
              <a:path w="937" h="289">
                <a:moveTo>
                  <a:pt x="0" y="0"/>
                </a:moveTo>
                <a:lnTo>
                  <a:pt x="376" y="0"/>
                </a:lnTo>
                <a:lnTo>
                  <a:pt x="472" y="96"/>
                </a:lnTo>
                <a:lnTo>
                  <a:pt x="560" y="0"/>
                </a:lnTo>
                <a:lnTo>
                  <a:pt x="936" y="0"/>
                </a:lnTo>
                <a:lnTo>
                  <a:pt x="752" y="288"/>
                </a:lnTo>
                <a:lnTo>
                  <a:pt x="184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45120" y="350532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43680" y="350532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600880" y="43308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95960" y="433080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92840" y="43308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89560" y="401940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89560" y="40957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89560" y="4172040"/>
            <a:ext cx="58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086440" y="3568320"/>
            <a:ext cx="127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975280" y="3568320"/>
            <a:ext cx="1396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46640" y="3511440"/>
            <a:ext cx="368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73520" y="4540320"/>
            <a:ext cx="381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60920" y="4273560"/>
            <a:ext cx="393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32320" y="3854520"/>
            <a:ext cx="469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530680" y="4368600"/>
            <a:ext cx="1400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51640" y="4324320"/>
            <a:ext cx="368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476600" y="4540320"/>
            <a:ext cx="142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4476240" y="44258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83320" y="3251160"/>
            <a:ext cx="7239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16520" y="3295800"/>
            <a:ext cx="4827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07080" y="3251160"/>
            <a:ext cx="7236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40280" y="3295800"/>
            <a:ext cx="4827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07000" y="473076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566040" y="3035160"/>
            <a:ext cx="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6051600" y="304164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58080" y="30481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143680" y="350532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086440" y="3568320"/>
            <a:ext cx="1270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57800" y="3524400"/>
            <a:ext cx="355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56280" y="2882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5086440" y="2945880"/>
            <a:ext cx="1396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70400" y="2901960"/>
            <a:ext cx="368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51600" y="36766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62400" y="2876400"/>
            <a:ext cx="223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15280" y="2698920"/>
            <a:ext cx="533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26360" y="3498840"/>
            <a:ext cx="723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o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72480" y="3600360"/>
            <a:ext cx="179280" cy="154080"/>
          </a:xfrm>
          <a:custGeom>
            <a:avLst/>
            <a:gdLst/>
            <a:ahLst/>
            <a:rect l="l" t="t" r="r" b="b"/>
            <a:pathLst>
              <a:path w="113" h="97">
                <a:moveTo>
                  <a:pt x="0" y="0"/>
                </a:moveTo>
                <a:lnTo>
                  <a:pt x="0" y="96"/>
                </a:lnTo>
                <a:lnTo>
                  <a:pt x="112" y="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156440" y="3676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16720" y="28828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613640" y="3403440"/>
            <a:ext cx="90180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56400" y="3778200"/>
            <a:ext cx="105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16-bit wor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38760" y="5848200"/>
            <a:ext cx="1500120" cy="446400"/>
          </a:xfrm>
          <a:custGeom>
            <a:avLst/>
            <a:gdLst/>
            <a:ahLst/>
            <a:rect l="l" t="t" r="r" b="b"/>
            <a:pathLst>
              <a:path w="945" h="281">
                <a:moveTo>
                  <a:pt x="0" y="0"/>
                </a:moveTo>
                <a:lnTo>
                  <a:pt x="376" y="0"/>
                </a:lnTo>
                <a:lnTo>
                  <a:pt x="472" y="96"/>
                </a:lnTo>
                <a:lnTo>
                  <a:pt x="568" y="0"/>
                </a:lnTo>
                <a:lnTo>
                  <a:pt x="944" y="0"/>
                </a:lnTo>
                <a:lnTo>
                  <a:pt x="752" y="280"/>
                </a:lnTo>
                <a:lnTo>
                  <a:pt x="192" y="2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32520" y="5486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3680" y="5486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587920" y="629928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76600" y="600084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76600" y="6076800"/>
            <a:ext cx="50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073480" y="5536800"/>
            <a:ext cx="1400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5962680" y="5536800"/>
            <a:ext cx="1396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146640" y="5492880"/>
            <a:ext cx="355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19720" y="5835600"/>
            <a:ext cx="482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518080" y="6337080"/>
            <a:ext cx="1396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51640" y="6305400"/>
            <a:ext cx="3553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83320" y="5232240"/>
            <a:ext cx="7110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16520" y="5264280"/>
            <a:ext cx="470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94120" y="5232240"/>
            <a:ext cx="72396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927680" y="5264280"/>
            <a:ext cx="482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94400" y="669924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553080" y="5016600"/>
            <a:ext cx="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051240" y="50227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58080" y="50292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43680" y="5486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073480" y="5536800"/>
            <a:ext cx="1400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257800" y="5505480"/>
            <a:ext cx="368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143680" y="48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086440" y="4915080"/>
            <a:ext cx="127080" cy="8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70400" y="4870440"/>
            <a:ext cx="355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416720" y="3683160"/>
            <a:ext cx="0" cy="11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136840" y="48448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0120" y="3587760"/>
            <a:ext cx="507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23160" y="4222800"/>
            <a:ext cx="507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797960" y="3384720"/>
            <a:ext cx="520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d  w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715160" y="4622760"/>
            <a:ext cx="7239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848720" y="4654440"/>
            <a:ext cx="482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8077320" y="43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49800" y="5670720"/>
            <a:ext cx="308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8242200" y="485100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912080" y="48639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025680" y="5505480"/>
            <a:ext cx="189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8128080" y="30607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7962840" y="3073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06880" y="4191120"/>
            <a:ext cx="9144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52680" y="4654440"/>
            <a:ext cx="622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lock diagram of process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3320" y="1447560"/>
            <a:ext cx="84517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ister transfer view of Princeton architect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register outputs are connected to which register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ows represent data-flow, other are control signals from control F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 may be a simple multiplexer rather than separate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BR is split in two (REG and 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control for each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D85-7A88-476B-A092-A927F9907C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"/>
          <p:cNvGrpSpPr/>
          <p:nvPr/>
        </p:nvGrpSpPr>
        <p:grpSpPr>
          <a:xfrm>
            <a:off x="3473280" y="2622600"/>
            <a:ext cx="5442120" cy="4006800"/>
            <a:chOff x="3473280" y="2622600"/>
            <a:chExt cx="5442120" cy="4006800"/>
          </a:xfrm>
        </p:grpSpPr>
        <p:sp>
          <p:nvSpPr>
            <p:cNvPr id="720" name=""/>
            <p:cNvSpPr/>
            <p:nvPr/>
          </p:nvSpPr>
          <p:spPr>
            <a:xfrm>
              <a:off x="3473280" y="4267080"/>
              <a:ext cx="91440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19440" y="4730760"/>
              <a:ext cx="622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43680" y="3790800"/>
              <a:ext cx="1487160" cy="459000"/>
            </a:xfrm>
            <a:custGeom>
              <a:avLst/>
              <a:gdLst/>
              <a:ahLst/>
              <a:rect l="l" t="t" r="r" b="b"/>
              <a:pathLst>
                <a:path w="937" h="289">
                  <a:moveTo>
                    <a:pt x="0" y="0"/>
                  </a:moveTo>
                  <a:lnTo>
                    <a:pt x="376" y="0"/>
                  </a:lnTo>
                  <a:lnTo>
                    <a:pt x="472" y="96"/>
                  </a:lnTo>
                  <a:lnTo>
                    <a:pt x="560" y="0"/>
                  </a:lnTo>
                  <a:lnTo>
                    <a:pt x="936" y="0"/>
                  </a:lnTo>
                  <a:lnTo>
                    <a:pt x="752" y="288"/>
                  </a:lnTo>
                  <a:lnTo>
                    <a:pt x="184" y="2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37440" y="3429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435640" y="3429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892840" y="4254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87920" y="4254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84800" y="425448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81520" y="3943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81520" y="40194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81520" y="409572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378400" y="3492000"/>
              <a:ext cx="127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267600" y="349200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62720" y="3448080"/>
              <a:ext cx="35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438960" y="343548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65840" y="4464000"/>
              <a:ext cx="380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4197240"/>
              <a:ext cx="3938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4280" y="3778200"/>
              <a:ext cx="4701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823000" y="4292640"/>
              <a:ext cx="1396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43600" y="424800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768560" y="4464000"/>
              <a:ext cx="14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768560" y="43498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75280" y="3174840"/>
              <a:ext cx="72396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08840" y="3219480"/>
              <a:ext cx="482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099040" y="3174840"/>
              <a:ext cx="72396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32240" y="321948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99320" y="4654440"/>
              <a:ext cx="9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6858000" y="2959200"/>
              <a:ext cx="0" cy="168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343200" y="296532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50040" y="29718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35640" y="3429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378400" y="3492000"/>
              <a:ext cx="127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48240" y="2806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378400" y="286992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562720" y="282564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43560" y="360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54720" y="2800440"/>
              <a:ext cx="22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07240" y="2622600"/>
              <a:ext cx="5335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18320" y="3422520"/>
              <a:ext cx="723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or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64440" y="3524400"/>
              <a:ext cx="179280" cy="153720"/>
            </a:xfrm>
            <a:custGeom>
              <a:avLst/>
              <a:gdLst/>
              <a:ahLst/>
              <a:rect l="l" t="t" r="r" b="b"/>
              <a:pathLst>
                <a:path w="113" h="97">
                  <a:moveTo>
                    <a:pt x="0" y="0"/>
                  </a:moveTo>
                  <a:lnTo>
                    <a:pt x="0" y="96"/>
                  </a:lnTo>
                  <a:lnTo>
                    <a:pt x="112" y="4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48400" y="36003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09040" y="280656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05600" y="3327480"/>
              <a:ext cx="901800" cy="100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48720" y="3701880"/>
              <a:ext cx="1054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6-bit word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30720" y="5772240"/>
              <a:ext cx="1500120" cy="446040"/>
            </a:xfrm>
            <a:custGeom>
              <a:avLst/>
              <a:gdLst/>
              <a:ahLst/>
              <a:rect l="l" t="t" r="r" b="b"/>
              <a:pathLst>
                <a:path w="945" h="281">
                  <a:moveTo>
                    <a:pt x="0" y="0"/>
                  </a:moveTo>
                  <a:lnTo>
                    <a:pt x="376" y="0"/>
                  </a:lnTo>
                  <a:lnTo>
                    <a:pt x="472" y="96"/>
                  </a:lnTo>
                  <a:lnTo>
                    <a:pt x="568" y="0"/>
                  </a:lnTo>
                  <a:lnTo>
                    <a:pt x="944" y="0"/>
                  </a:lnTo>
                  <a:lnTo>
                    <a:pt x="752" y="280"/>
                  </a:lnTo>
                  <a:lnTo>
                    <a:pt x="192" y="28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24480" y="5410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35640" y="5410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80240" y="622296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68920" y="59245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68920" y="60008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365800" y="546048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6254640" y="546048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49760" y="542916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38960" y="541656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711680" y="5759280"/>
              <a:ext cx="4827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5810400" y="626076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43600" y="622944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75280" y="5156280"/>
              <a:ext cx="7113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08840" y="51879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086440" y="5156280"/>
              <a:ext cx="7239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219640" y="518796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886360" y="662292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845400" y="4940280"/>
              <a:ext cx="0" cy="168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343200" y="49467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50040" y="49528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35640" y="5410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365800" y="5460480"/>
              <a:ext cx="1396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35640" y="4775040"/>
              <a:ext cx="0" cy="3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5378400" y="4838400"/>
              <a:ext cx="127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62720" y="4794120"/>
              <a:ext cx="35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54880" y="4775040"/>
              <a:ext cx="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28800" y="4768920"/>
              <a:ext cx="203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12080" y="3511440"/>
              <a:ext cx="507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115480" y="4146480"/>
              <a:ext cx="507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89920" y="330840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d  w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369280" y="4317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2120" y="5594400"/>
              <a:ext cx="223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683480" y="4546080"/>
              <a:ext cx="0" cy="105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81880" y="6019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318000" y="5429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420040" y="29840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255160" y="29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1360" y="5289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18560" y="5016600"/>
              <a:ext cx="901440" cy="100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61320" y="5391000"/>
              <a:ext cx="1054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st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8-bit word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24680" y="5200560"/>
              <a:ext cx="507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28080" y="5835600"/>
              <a:ext cx="507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89960" y="4552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54880" y="5435640"/>
              <a:ext cx="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448040" y="63309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lock diagram of process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3320" y="152388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ister transfer view of Harvard architect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register outputs are connected to which register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ows represent data-flow, other are control signals from control F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MARs (PC and 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MBRs (REG and 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control for each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F65-6C43-4317-ADD8-9FFB5E71C8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simplified processor data-path and memo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inceton architect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ister fi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struction regis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C incremented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rough ALU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deled after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IPS rt000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used in 378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extbook by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tterson &amp;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ennessy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lly a 32 b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’ll do a 16 b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3429000" y="1527120"/>
            <a:ext cx="5334120" cy="510552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5410080" y="2209680"/>
            <a:ext cx="11430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14680" y="160020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 has only 255 word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a display on the last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6324480" y="182880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D9D-7990-4097-9C7C-51A314787F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838080" y="2743200"/>
            <a:ext cx="2673000" cy="584280"/>
            <a:chOff x="838080" y="2743200"/>
            <a:chExt cx="2673000" cy="584280"/>
          </a:xfrm>
        </p:grpSpPr>
        <p:sp>
          <p:nvSpPr>
            <p:cNvPr id="86" name=""/>
            <p:cNvSpPr/>
            <p:nvPr/>
          </p:nvSpPr>
          <p:spPr>
            <a:xfrm>
              <a:off x="838080" y="2743200"/>
              <a:ext cx="21718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ntral processing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it (CPU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748960" y="2749680"/>
              <a:ext cx="7621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14400" y="5257800"/>
            <a:ext cx="2590560" cy="1276200"/>
            <a:chOff x="914400" y="5257800"/>
            <a:chExt cx="2590560" cy="1276200"/>
          </a:xfrm>
        </p:grpSpPr>
        <p:sp>
          <p:nvSpPr>
            <p:cNvPr id="89" name=""/>
            <p:cNvSpPr/>
            <p:nvPr/>
          </p:nvSpPr>
          <p:spPr>
            <a:xfrm>
              <a:off x="914400" y="5721120"/>
              <a:ext cx="25905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struction uni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instruction fetch an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terpretation F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520720" y="5257800"/>
              <a:ext cx="3556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715000" y="5257800"/>
            <a:ext cx="2876040" cy="1314360"/>
            <a:chOff x="5715000" y="5257800"/>
            <a:chExt cx="2876040" cy="1314360"/>
          </a:xfrm>
        </p:grpSpPr>
        <p:sp>
          <p:nvSpPr>
            <p:cNvPr id="92" name=""/>
            <p:cNvSpPr/>
            <p:nvPr/>
          </p:nvSpPr>
          <p:spPr>
            <a:xfrm>
              <a:off x="6419520" y="5759280"/>
              <a:ext cx="2171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xecution uni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functional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5257800"/>
              <a:ext cx="660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276720" y="2057400"/>
            <a:ext cx="4775040" cy="1143000"/>
            <a:chOff x="3276720" y="2057400"/>
            <a:chExt cx="4775040" cy="1143000"/>
          </a:xfrm>
        </p:grpSpPr>
        <p:sp>
          <p:nvSpPr>
            <p:cNvPr id="95" name=""/>
            <p:cNvSpPr/>
            <p:nvPr/>
          </p:nvSpPr>
          <p:spPr>
            <a:xfrm>
              <a:off x="6147000" y="2057400"/>
              <a:ext cx="1904760" cy="1143000"/>
            </a:xfrm>
            <a:prstGeom prst="parallelogram">
              <a:avLst>
                <a:gd name="adj" fmla="val 41661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76720" y="2057400"/>
              <a:ext cx="1905120" cy="1143000"/>
            </a:xfrm>
            <a:prstGeom prst="parallelogram">
              <a:avLst>
                <a:gd name="adj" fmla="val 41669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30720" y="2057400"/>
              <a:ext cx="1244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64320" y="2438640"/>
              <a:ext cx="1434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ad/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2160" y="2819520"/>
              <a:ext cx="876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79960" y="22860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27680" y="266724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75400" y="30481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2400" y="2438640"/>
              <a:ext cx="11556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ces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04200" y="2362320"/>
              <a:ext cx="952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ructure of a compu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lock diagram view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980720" y="2057400"/>
            <a:ext cx="4800960" cy="3301920"/>
            <a:chOff x="1980720" y="2057400"/>
            <a:chExt cx="4800960" cy="3301920"/>
          </a:xfrm>
        </p:grpSpPr>
        <p:sp>
          <p:nvSpPr>
            <p:cNvPr id="108" name=""/>
            <p:cNvSpPr/>
            <p:nvPr/>
          </p:nvSpPr>
          <p:spPr>
            <a:xfrm>
              <a:off x="3911760" y="4343400"/>
              <a:ext cx="1117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06840" y="4876920"/>
              <a:ext cx="12700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cond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51360" y="4114800"/>
              <a:ext cx="1905120" cy="1143000"/>
            </a:xfrm>
            <a:prstGeom prst="parallelogram">
              <a:avLst>
                <a:gd name="adj" fmla="val 41669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4114800"/>
              <a:ext cx="1905120" cy="1143000"/>
            </a:xfrm>
            <a:prstGeom prst="parallelogram">
              <a:avLst>
                <a:gd name="adj" fmla="val 41669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4680" y="43434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79760" y="510552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4521240"/>
              <a:ext cx="1143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89040" y="4521240"/>
              <a:ext cx="863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437920" y="2057400"/>
              <a:ext cx="12956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80720" y="3200400"/>
              <a:ext cx="12956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3200400"/>
              <a:ext cx="160020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1480" y="2057400"/>
              <a:ext cx="160020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F8C-BFDA-4132-B10F-BCDCE40D75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cessor contr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ynchronous Mealy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ultiple cycles per instru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8160" cy="42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2D7-7656-4646-80AE-6E0AB92559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cessor instru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620360"/>
            <a:ext cx="8807400" cy="51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10000"/>
          </a:bodyPr>
          <a:p>
            <a:pPr marL="34560" indent="-34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2480"/>
                <a:tab algn="l" pos="2232000"/>
                <a:tab algn="l" pos="2971800"/>
                <a:tab algn="l" pos="3597120"/>
                <a:tab algn="l" pos="4292640"/>
                <a:tab algn="l" pos="5032440"/>
                <a:tab algn="l" pos="571500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ree principal types (16 bits in each instruction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(egister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(mmediat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(ump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560" indent="-345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852480"/>
                <a:tab algn="l" pos="2232000"/>
                <a:tab algn="l" pos="2971800"/>
                <a:tab algn="l" pos="3597120"/>
                <a:tab algn="l" pos="4292640"/>
                <a:tab algn="l" pos="5032440"/>
                <a:tab algn="l" pos="571500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ome of the instructions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 = rs +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 = rs -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 = rs &amp;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 = rs |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 = (rs &lt; r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 = mem[rs + offset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se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[rs + offset] = 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se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c = pc + offset, if (rs == r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 = rs + offs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addres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c = target addre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l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p execution until reset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1289160" y="2133720"/>
            <a:ext cx="48765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89160" y="2133720"/>
            <a:ext cx="48765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89160" y="2362320"/>
            <a:ext cx="48765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89160" y="2590920"/>
            <a:ext cx="1981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84440" y="2133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70240" y="2133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5604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655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2764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19320" y="441972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533412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3400" y="35193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360" y="466236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9960" y="533412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334120" y="3352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172200" y="33526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0" y="33526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2520" y="33526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76720" y="33526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90920" y="33526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212840" y="3352680"/>
            <a:ext cx="7772400" cy="243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3FB-C28E-45E0-93AE-466ACF63EF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cing an instruction's execu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struction:     r3 = r1 + r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=r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=r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=r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=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.  instruction fetch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 instruction address from PC to memory address b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rt memory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 data from memory data bus into 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gure ALU to add 1 to P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gure PC to store new value from ALU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.  instruction decod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-code bits of IR are input to control F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 of IR bits encode the operand addresses (rs and 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go to register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1981080"/>
            <a:ext cx="5105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1992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95288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3848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4812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6B1-08DD-49BC-B6EE-983BFB7A1C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cing an instruction's execu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struction:     r3 = r1 + r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s=r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=r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=r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=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3. instruction execu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 up ALU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gure ALU to perform ADD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gure register file to store ALU result (r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1981080" y="1981080"/>
            <a:ext cx="5105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1992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3848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04812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17E-76A8-4BBD-BBC1-4BEEBA5051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cing an instruction's execu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rcRect l="0" t="21021" r="0" b="0"/>
          <a:stretch/>
        </p:blipFill>
        <p:spPr>
          <a:xfrm>
            <a:off x="1447920" y="1523880"/>
            <a:ext cx="6858000" cy="5184720"/>
          </a:xfrm>
          <a:prstGeom prst="rect">
            <a:avLst/>
          </a:prstGeom>
          <a:ln w="0">
            <a:noFill/>
          </a:ln>
        </p:spPr>
      </p:pic>
      <p:grpSp>
        <p:nvGrpSpPr>
          <p:cNvPr id="860" name=""/>
          <p:cNvGrpSpPr/>
          <p:nvPr/>
        </p:nvGrpSpPr>
        <p:grpSpPr>
          <a:xfrm>
            <a:off x="2971800" y="2286000"/>
            <a:ext cx="1905120" cy="1066680"/>
            <a:chOff x="2971800" y="2286000"/>
            <a:chExt cx="1905120" cy="1066680"/>
          </a:xfrm>
        </p:grpSpPr>
        <p:sp>
          <p:nvSpPr>
            <p:cNvPr id="861" name=""/>
            <p:cNvSpPr/>
            <p:nvPr/>
          </p:nvSpPr>
          <p:spPr>
            <a:xfrm>
              <a:off x="2971800" y="2286000"/>
              <a:ext cx="190512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67080" y="2819520"/>
              <a:ext cx="381240" cy="5331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266720" y="2819520"/>
              <a:ext cx="381240" cy="5331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486400" y="1371600"/>
            <a:ext cx="609480" cy="2438280"/>
            <a:chOff x="5486400" y="1371600"/>
            <a:chExt cx="609480" cy="2438280"/>
          </a:xfrm>
        </p:grpSpPr>
        <p:sp>
          <p:nvSpPr>
            <p:cNvPr id="865" name=""/>
            <p:cNvSpPr/>
            <p:nvPr/>
          </p:nvSpPr>
          <p:spPr>
            <a:xfrm>
              <a:off x="6095880" y="1371600"/>
              <a:ext cx="0" cy="762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86400" y="3276720"/>
              <a:ext cx="380880" cy="5331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486400" y="3276720"/>
              <a:ext cx="380880" cy="5331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019920" y="1600200"/>
            <a:ext cx="1066680" cy="838080"/>
            <a:chOff x="6019920" y="1600200"/>
            <a:chExt cx="1066680" cy="838080"/>
          </a:xfrm>
        </p:grpSpPr>
        <p:sp>
          <p:nvSpPr>
            <p:cNvPr id="869" name=""/>
            <p:cNvSpPr/>
            <p:nvPr/>
          </p:nvSpPr>
          <p:spPr>
            <a:xfrm>
              <a:off x="6019920" y="2438280"/>
              <a:ext cx="838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86600" y="1600200"/>
              <a:ext cx="0" cy="609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971800" y="2438280"/>
            <a:ext cx="1905120" cy="2133720"/>
            <a:chOff x="2971800" y="2438280"/>
            <a:chExt cx="1905120" cy="2133720"/>
          </a:xfrm>
        </p:grpSpPr>
        <p:sp>
          <p:nvSpPr>
            <p:cNvPr id="872" name=""/>
            <p:cNvSpPr/>
            <p:nvPr/>
          </p:nvSpPr>
          <p:spPr>
            <a:xfrm>
              <a:off x="2971800" y="2438280"/>
              <a:ext cx="76212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33920" y="2438280"/>
              <a:ext cx="0" cy="2133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33920" y="4572000"/>
              <a:ext cx="91440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76920" y="4038480"/>
              <a:ext cx="0" cy="4572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876920" y="4114800"/>
            <a:ext cx="380880" cy="1981080"/>
            <a:chOff x="4876920" y="4114800"/>
            <a:chExt cx="380880" cy="1981080"/>
          </a:xfrm>
        </p:grpSpPr>
        <p:sp>
          <p:nvSpPr>
            <p:cNvPr id="877" name=""/>
            <p:cNvSpPr/>
            <p:nvPr/>
          </p:nvSpPr>
          <p:spPr>
            <a:xfrm>
              <a:off x="4876920" y="5638680"/>
              <a:ext cx="0" cy="4572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7800" y="4114800"/>
              <a:ext cx="0" cy="4572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28800" y="1600200"/>
            <a:ext cx="4038480" cy="4724280"/>
            <a:chOff x="1828800" y="1600200"/>
            <a:chExt cx="4038480" cy="4724280"/>
          </a:xfrm>
        </p:grpSpPr>
        <p:sp>
          <p:nvSpPr>
            <p:cNvPr id="880" name=""/>
            <p:cNvSpPr/>
            <p:nvPr/>
          </p:nvSpPr>
          <p:spPr>
            <a:xfrm>
              <a:off x="3276720" y="1600200"/>
              <a:ext cx="0" cy="4572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590920" y="1600200"/>
              <a:ext cx="0" cy="4572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410080" y="5029200"/>
              <a:ext cx="45720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867280" y="5029200"/>
              <a:ext cx="0" cy="1295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28800" y="6324480"/>
              <a:ext cx="403848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28800" y="2514600"/>
              <a:ext cx="0" cy="3809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28800" y="2514600"/>
              <a:ext cx="60948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B1D-8DAB-4DD4-AD90-42437F1B5B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cing an instruction's execu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rcRect l="0" t="21021" r="0" b="0"/>
          <a:stretch/>
        </p:blipFill>
        <p:spPr>
          <a:xfrm>
            <a:off x="1447920" y="1523880"/>
            <a:ext cx="6858000" cy="518472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676520" y="2362320"/>
            <a:ext cx="6172200" cy="4114800"/>
            <a:chOff x="1676520" y="2362320"/>
            <a:chExt cx="6172200" cy="4114800"/>
          </a:xfrm>
        </p:grpSpPr>
        <p:sp>
          <p:nvSpPr>
            <p:cNvPr id="892" name=""/>
            <p:cNvSpPr/>
            <p:nvPr/>
          </p:nvSpPr>
          <p:spPr>
            <a:xfrm>
              <a:off x="7365960" y="2362320"/>
              <a:ext cx="48276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676520" y="487692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848720" y="2362320"/>
              <a:ext cx="0" cy="41148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76520" y="6477120"/>
              <a:ext cx="6172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676520" y="4876560"/>
              <a:ext cx="0" cy="1600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3429000" y="4800600"/>
            <a:ext cx="228600" cy="533520"/>
            <a:chOff x="3429000" y="4800600"/>
            <a:chExt cx="228600" cy="533520"/>
          </a:xfrm>
        </p:grpSpPr>
        <p:sp>
          <p:nvSpPr>
            <p:cNvPr id="898" name=""/>
            <p:cNvSpPr/>
            <p:nvPr/>
          </p:nvSpPr>
          <p:spPr>
            <a:xfrm>
              <a:off x="3429000" y="48006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29000" y="51055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848720" y="6248520"/>
            <a:ext cx="1465200" cy="699120"/>
            <a:chOff x="7848720" y="6248520"/>
            <a:chExt cx="1465200" cy="699120"/>
          </a:xfrm>
        </p:grpSpPr>
        <p:sp>
          <p:nvSpPr>
            <p:cNvPr id="901" name=""/>
            <p:cNvSpPr/>
            <p:nvPr/>
          </p:nvSpPr>
          <p:spPr>
            <a:xfrm>
              <a:off x="7848720" y="6248520"/>
              <a:ext cx="0" cy="609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59600" y="6610320"/>
              <a:ext cx="135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B02-38FA-440E-AD83-55A094F27E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cing an instruction's execu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rcRect l="0" t="21021" r="0" b="0"/>
          <a:stretch/>
        </p:blipFill>
        <p:spPr>
          <a:xfrm>
            <a:off x="1447920" y="1523880"/>
            <a:ext cx="6858000" cy="51847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3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828800" y="4114800"/>
            <a:ext cx="4038480" cy="2209680"/>
            <a:chOff x="1828800" y="4114800"/>
            <a:chExt cx="4038480" cy="2209680"/>
          </a:xfrm>
        </p:grpSpPr>
        <p:sp>
          <p:nvSpPr>
            <p:cNvPr id="907" name=""/>
            <p:cNvSpPr/>
            <p:nvPr/>
          </p:nvSpPr>
          <p:spPr>
            <a:xfrm>
              <a:off x="2590920" y="4114800"/>
              <a:ext cx="0" cy="4572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19520" y="4114800"/>
              <a:ext cx="0" cy="4572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10080" y="5029200"/>
              <a:ext cx="45720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867280" y="5029200"/>
              <a:ext cx="0" cy="1295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28800" y="6324480"/>
              <a:ext cx="403848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28800" y="5105520"/>
              <a:ext cx="0" cy="1218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28800" y="5105520"/>
              <a:ext cx="60948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8120" y="4114800"/>
              <a:ext cx="0" cy="4572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733920" y="4038480"/>
            <a:ext cx="1523880" cy="1981440"/>
            <a:chOff x="3733920" y="4038480"/>
            <a:chExt cx="1523880" cy="1981440"/>
          </a:xfrm>
        </p:grpSpPr>
        <p:sp>
          <p:nvSpPr>
            <p:cNvPr id="916" name=""/>
            <p:cNvSpPr/>
            <p:nvPr/>
          </p:nvSpPr>
          <p:spPr>
            <a:xfrm>
              <a:off x="5257800" y="403848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724280" y="403848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00600" y="5562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33920" y="4724280"/>
              <a:ext cx="6094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733920" y="5410080"/>
              <a:ext cx="6094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EE4-2EDA-4A0F-BDE7-C8A90BC85C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5334120" y="393696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880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ister-transfer-level descrip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ro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fer data between registers by asserting appropriate control sign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6880" indent="-3268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ister transfer notation - work from register to regis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 fetch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bu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C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move PC to memory address bus (PCmaEN, ALUmaEN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 read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assert memory read signal (mr, RegBmdEN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ory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load IR from memory data bus (IR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d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send PC into A input, 1 into B input, ad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rcA, srcB0, scrB1,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LU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load result of incrementing in ALU into PC (PCld, PCse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 de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 to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s of A and B read from register file (rs, r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25640"/>
                <a:tab algn="l" pos="252108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 executio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d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send regA into A input, regB into B input, ad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rcA, srcB0, scrB1,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LU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store result of add into destination regis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regWrite, wrDataSel, wrRegSe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C0D-25BC-464C-B60A-C671439CE2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ister-transfer-level descrip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many states are needed to accomplish these transfers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dependencies (where do values that are needed come from?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ource conflicts (ALU, busses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our case, it takes three cyc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for each ste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peration within a cycle occur between rising edges of the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do we set all of the control signals to be output by the state machine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ends on the type of machine (Mealy, Moore, synchronous Meal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376-4273-4185-9B0B-D17C2186B7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view of FSM tim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066680" y="4114800"/>
            <a:ext cx="7238880" cy="380880"/>
            <a:chOff x="1066680" y="4114800"/>
            <a:chExt cx="7238880" cy="380880"/>
          </a:xfrm>
        </p:grpSpPr>
        <p:sp>
          <p:nvSpPr>
            <p:cNvPr id="928" name=""/>
            <p:cNvSpPr/>
            <p:nvPr/>
          </p:nvSpPr>
          <p:spPr>
            <a:xfrm flipV="1">
              <a:off x="2514240" y="4114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3962160" y="4114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410080" y="4114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6857640" y="4114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305560" y="4114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1066680" y="4114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33160" y="3733920"/>
            <a:ext cx="8229960" cy="337320"/>
            <a:chOff x="533160" y="3733920"/>
            <a:chExt cx="8229960" cy="337320"/>
          </a:xfrm>
        </p:grpSpPr>
        <p:sp>
          <p:nvSpPr>
            <p:cNvPr id="935" name=""/>
            <p:cNvSpPr/>
            <p:nvPr/>
          </p:nvSpPr>
          <p:spPr>
            <a:xfrm>
              <a:off x="2133720" y="3733920"/>
              <a:ext cx="380880" cy="304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81280" y="3733920"/>
              <a:ext cx="381240" cy="304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29200" y="3733920"/>
              <a:ext cx="380880" cy="304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77120" y="3733920"/>
              <a:ext cx="380880" cy="304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924680" y="3733920"/>
              <a:ext cx="381240" cy="304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62120" y="3733920"/>
              <a:ext cx="304560" cy="304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14600" y="3733920"/>
              <a:ext cx="1447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962520" y="3733920"/>
              <a:ext cx="144756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410080" y="3733920"/>
              <a:ext cx="1447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66680" y="3733920"/>
              <a:ext cx="1447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58000" y="3733920"/>
              <a:ext cx="1447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05920" y="3733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305920" y="4038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305920" y="37339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66680" y="3733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533160" y="40384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533160" y="37339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69840" y="37339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e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17760" y="37339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ep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665320" y="37339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ep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514600" y="3048120"/>
            <a:ext cx="4343400" cy="685800"/>
            <a:chOff x="2514600" y="3048120"/>
            <a:chExt cx="4343400" cy="685800"/>
          </a:xfrm>
        </p:grpSpPr>
        <p:sp>
          <p:nvSpPr>
            <p:cNvPr id="956" name=""/>
            <p:cNvSpPr/>
            <p:nvPr/>
          </p:nvSpPr>
          <p:spPr>
            <a:xfrm rot="5400000">
              <a:off x="3085920" y="285732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rot="5400000">
              <a:off x="5981400" y="285732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5400000">
              <a:off x="4533480" y="2857680"/>
              <a:ext cx="304920" cy="14475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935800" y="3124080"/>
              <a:ext cx="66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e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298760" y="30481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70360" y="304812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xec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2590920" y="4038480"/>
            <a:ext cx="4007880" cy="520200"/>
            <a:chOff x="2590920" y="4038480"/>
            <a:chExt cx="4007880" cy="520200"/>
          </a:xfrm>
        </p:grpSpPr>
        <p:sp>
          <p:nvSpPr>
            <p:cNvPr id="963" name=""/>
            <p:cNvSpPr/>
            <p:nvPr/>
          </p:nvSpPr>
          <p:spPr>
            <a:xfrm>
              <a:off x="2590920" y="4038480"/>
              <a:ext cx="159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R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mem[PC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C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PC + 1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75320" y="4038480"/>
              <a:ext cx="102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d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A + B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95000" y="4038480"/>
              <a:ext cx="68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352680" y="4572000"/>
            <a:ext cx="4311360" cy="1037880"/>
            <a:chOff x="3352680" y="4572000"/>
            <a:chExt cx="4311360" cy="1037880"/>
          </a:xfrm>
        </p:grpSpPr>
        <p:sp>
          <p:nvSpPr>
            <p:cNvPr id="967" name=""/>
            <p:cNvSpPr/>
            <p:nvPr/>
          </p:nvSpPr>
          <p:spPr>
            <a:xfrm>
              <a:off x="3352680" y="457200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476880" y="5029200"/>
              <a:ext cx="418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nfigure the data-path to do this her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hen do we set the control signal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0F1-2386-4925-8579-469448AF5E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451400" y="4971960"/>
            <a:ext cx="4127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 asserted during a lo-to-hi clo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loads new data into F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62480" y="4019400"/>
            <a:ext cx="42926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 asserted causes FF state to b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ed to output pins; otherwise the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left unconnected (high imped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71600" y="3657600"/>
            <a:ext cx="2286000" cy="2437920"/>
            <a:chOff x="1371600" y="3657600"/>
            <a:chExt cx="2286000" cy="2437920"/>
          </a:xfrm>
        </p:grpSpPr>
        <p:sp>
          <p:nvSpPr>
            <p:cNvPr id="123" name=""/>
            <p:cNvSpPr/>
            <p:nvPr/>
          </p:nvSpPr>
          <p:spPr>
            <a:xfrm>
              <a:off x="1841760" y="3657600"/>
              <a:ext cx="1371600" cy="21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0760" y="3790800"/>
              <a:ext cx="558720" cy="19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7880" y="3803400"/>
              <a:ext cx="4701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13360" y="393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13360" y="427320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13360" y="445104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13360" y="46288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3360" y="480672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13360" y="49845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13360" y="516240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13360" y="534024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3360" y="5518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1600" y="39304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4273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44510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71600" y="46288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48067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1600" y="4984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1600" y="5162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1600" y="53402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55180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7560" y="5689440"/>
              <a:ext cx="1267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387880" y="5689440"/>
              <a:ext cx="1396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21080" y="58291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40200" y="5454360"/>
              <a:ext cx="774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lectively loaded – EN or LD inp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 enable – OE inp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ultiple registers – group 4 or 8 in parall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030-A14D-4BDF-8A69-552701F1D9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4419720" y="426708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05520" y="48769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09880" y="488304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477120" y="48769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374920" y="487044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4800600" y="4648320"/>
            <a:ext cx="38088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4191120" y="4648320"/>
            <a:ext cx="30456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2819520" y="4495680"/>
            <a:ext cx="16002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4876560" y="4495680"/>
            <a:ext cx="16002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334120" y="533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6705720" y="533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590920" y="533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4038480" y="533376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1904760" y="57913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05120" y="3505320"/>
            <a:ext cx="252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905120" y="3505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934320" y="4876920"/>
            <a:ext cx="1092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70440" y="4102200"/>
            <a:ext cx="952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48120" y="4952880"/>
            <a:ext cx="66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14800" y="4800600"/>
            <a:ext cx="69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495680" y="4876920"/>
            <a:ext cx="812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619600" y="4851360"/>
            <a:ext cx="6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28195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73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SM controller for CPU (skeletal Moore FSM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rst pass at deriving the state diagram (Moore machine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will be further refined into sub-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4648320" y="3733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419720" y="32767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05200" y="3073320"/>
            <a:ext cx="952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4114800" y="297828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BFF-C848-48B8-BE72-1AEA00F240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SM controller for CPU (reset and inst. fetch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sume Moore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associated with states rather than ar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set state and instruction fetch sequenc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n reset (go to Fetch state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fetching instru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 will set itself to zero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bu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C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 read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ory data bus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C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"/>
          <p:cNvSpPr/>
          <p:nvPr/>
        </p:nvSpPr>
        <p:spPr>
          <a:xfrm>
            <a:off x="4883040" y="38098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172200" y="4876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67280" y="42670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29400" y="4343400"/>
            <a:ext cx="952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flipV="1">
            <a:off x="5562720" y="39682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67280" y="4419720"/>
            <a:ext cx="609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738-2ABF-4FB3-B71A-323D4C5EB2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SM controller for CPU (decod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peration decode st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xt state branch based on operation code in instr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 two operands out of register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692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f the instruction doesn’t have two operand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1814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876920" y="40384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38680" y="4114800"/>
            <a:ext cx="952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876920" y="41911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181480" y="3504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5333760" y="4571640"/>
            <a:ext cx="53316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 flipV="1">
            <a:off x="5486040" y="4419720"/>
            <a:ext cx="121932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4572000" y="457164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733920" y="4419720"/>
            <a:ext cx="114300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00200" y="4343400"/>
            <a:ext cx="2362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ranch based on value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[15:13] and Inst[3: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76920" y="51814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15000" y="51814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553080" y="51814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038480" y="5181480"/>
            <a:ext cx="60984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60948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038480" y="5410080"/>
            <a:ext cx="609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E17-5E0D-4BDE-8D51-2412117CB1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73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SM controller for CPU (instruction execution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r add instru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gure ALU and store result in regis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 +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instructions may require multiple cyc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09588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91320" y="4343400"/>
            <a:ext cx="60948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553080" y="4419720"/>
            <a:ext cx="952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2485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91320" y="449568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EB5-3D57-4CE5-B8D2-5B9D790631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SM controller for CPU (add instruction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utting it all together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 closing the loop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amo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t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cu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4114800" y="2514600"/>
            <a:ext cx="2698920" cy="1600200"/>
            <a:chOff x="4114800" y="2514600"/>
            <a:chExt cx="2698920" cy="1600200"/>
          </a:xfrm>
        </p:grpSpPr>
        <p:sp>
          <p:nvSpPr>
            <p:cNvPr id="1034" name=""/>
            <p:cNvSpPr/>
            <p:nvPr/>
          </p:nvSpPr>
          <p:spPr>
            <a:xfrm>
              <a:off x="4114800" y="251460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5403960" y="3581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99040" y="2971800"/>
              <a:ext cx="60948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61160" y="3048120"/>
              <a:ext cx="952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e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 flipV="1">
              <a:off x="4793760" y="26733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99040" y="3124080"/>
              <a:ext cx="609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e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422520" y="3580920"/>
            <a:ext cx="3962160" cy="2286360"/>
            <a:chOff x="3422520" y="3580920"/>
            <a:chExt cx="3962160" cy="2286360"/>
          </a:xfrm>
        </p:grpSpPr>
        <p:sp>
          <p:nvSpPr>
            <p:cNvPr id="1041" name=""/>
            <p:cNvSpPr/>
            <p:nvPr/>
          </p:nvSpPr>
          <p:spPr>
            <a:xfrm flipV="1">
              <a:off x="5403600" y="4723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98680" y="4114440"/>
              <a:ext cx="60984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60800" y="4190760"/>
              <a:ext cx="952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098680" y="4267080"/>
              <a:ext cx="609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5403600" y="3580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5555880" y="4647600"/>
              <a:ext cx="533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 flipV="1">
              <a:off x="5708520" y="4495680"/>
              <a:ext cx="12189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4794120" y="464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3955680" y="4495680"/>
              <a:ext cx="1143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98680" y="5257440"/>
              <a:ext cx="60984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937120" y="52574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775200" y="52574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60600" y="52574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422520" y="52574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260600" y="5486040"/>
              <a:ext cx="609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4260960" y="5257800"/>
            <a:ext cx="4457520" cy="1143000"/>
            <a:chOff x="4260960" y="5257800"/>
            <a:chExt cx="4457520" cy="1143000"/>
          </a:xfrm>
        </p:grpSpPr>
        <p:sp>
          <p:nvSpPr>
            <p:cNvPr id="1057" name=""/>
            <p:cNvSpPr/>
            <p:nvPr/>
          </p:nvSpPr>
          <p:spPr>
            <a:xfrm flipV="1">
              <a:off x="4565520" y="5867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60960" y="5257800"/>
              <a:ext cx="60948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765920" y="5333760"/>
              <a:ext cx="952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260960" y="5486400"/>
              <a:ext cx="609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041280" y="3276720"/>
            <a:ext cx="2057760" cy="3124080"/>
            <a:chOff x="3041280" y="3276720"/>
            <a:chExt cx="2057760" cy="3124080"/>
          </a:xfrm>
        </p:grpSpPr>
        <p:sp>
          <p:nvSpPr>
            <p:cNvPr id="1062" name=""/>
            <p:cNvSpPr/>
            <p:nvPr/>
          </p:nvSpPr>
          <p:spPr>
            <a:xfrm flipH="1">
              <a:off x="3041280" y="6400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3041640" y="327672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041640" y="32767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049-F6DC-4783-8227-DBBC8FDAB70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SM controller for CPU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w we need to repeat this for all the instructions of our process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tch and decode states stay the s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execution states for each instr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may require multiple states if available register transfer paths require sequencing of ste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59B-0F48-4F3E-B20A-87118AA8B5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ister transf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oint-to-point conne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dicated w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es on inputs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regis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mon input from multiplex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enab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ach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multiplex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mon bus with output enab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enables and lo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ables for each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2000" y="1523880"/>
            <a:ext cx="4419720" cy="1752480"/>
            <a:chOff x="4572000" y="1523880"/>
            <a:chExt cx="4419720" cy="1752480"/>
          </a:xfrm>
        </p:grpSpPr>
        <p:grpSp>
          <p:nvGrpSpPr>
            <p:cNvPr id="153" name=""/>
            <p:cNvGrpSpPr/>
            <p:nvPr/>
          </p:nvGrpSpPr>
          <p:grpSpPr>
            <a:xfrm>
              <a:off x="5638680" y="1523880"/>
              <a:ext cx="762120" cy="1523880"/>
              <a:chOff x="5638680" y="1523880"/>
              <a:chExt cx="76212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5638680" y="2514600"/>
                <a:ext cx="76212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03920" y="25272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9560" y="2819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19560" y="22096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38680" y="1981080"/>
                <a:ext cx="7621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65680" y="1957320"/>
                <a:ext cx="711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U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43600" y="16002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90960" y="1523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248160" y="1752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95880" y="16761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53280" y="304776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763120" y="1752480"/>
              <a:ext cx="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181120" y="1752480"/>
              <a:ext cx="358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31240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839080" y="167616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028840" y="167616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320040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915400" y="159984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876920" y="16002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991720" y="152388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724280" y="1523880"/>
              <a:ext cx="426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952520" y="3276360"/>
              <a:ext cx="403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572000" y="1523880"/>
              <a:ext cx="762120" cy="1523880"/>
              <a:chOff x="4572000" y="1523880"/>
              <a:chExt cx="762120" cy="1523880"/>
            </a:xfrm>
          </p:grpSpPr>
          <p:sp>
            <p:nvSpPr>
              <p:cNvPr id="177" name=""/>
              <p:cNvSpPr/>
              <p:nvPr/>
            </p:nvSpPr>
            <p:spPr>
              <a:xfrm>
                <a:off x="4572000" y="2514600"/>
                <a:ext cx="76212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37240" y="25272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52880" y="2819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52880" y="22096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72000" y="1981080"/>
                <a:ext cx="7621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99000" y="1957320"/>
                <a:ext cx="711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U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76920" y="16002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24280" y="1523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752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29200" y="16761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05720" y="1523880"/>
              <a:ext cx="761760" cy="1523880"/>
              <a:chOff x="6705720" y="1523880"/>
              <a:chExt cx="761760" cy="1523880"/>
            </a:xfrm>
          </p:grpSpPr>
          <p:sp>
            <p:nvSpPr>
              <p:cNvPr id="188" name=""/>
              <p:cNvSpPr/>
              <p:nvPr/>
            </p:nvSpPr>
            <p:spPr>
              <a:xfrm>
                <a:off x="6705720" y="2514600"/>
                <a:ext cx="76176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70600" y="2527200"/>
                <a:ext cx="4186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86240" y="2819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6240" y="22096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05720" y="1981080"/>
                <a:ext cx="76176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32360" y="1957320"/>
                <a:ext cx="711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U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10280" y="16002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57640" y="1523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14840" y="1752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62560" y="16761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772400" y="1523880"/>
              <a:ext cx="762120" cy="1523880"/>
              <a:chOff x="7772400" y="1523880"/>
              <a:chExt cx="762120" cy="1523880"/>
            </a:xfrm>
          </p:grpSpPr>
          <p:sp>
            <p:nvSpPr>
              <p:cNvPr id="199" name=""/>
              <p:cNvSpPr/>
              <p:nvPr/>
            </p:nvSpPr>
            <p:spPr>
              <a:xfrm>
                <a:off x="7772400" y="2514600"/>
                <a:ext cx="76212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37640" y="25272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153280" y="28191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153280" y="22096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72400" y="1981080"/>
                <a:ext cx="7621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99400" y="1957320"/>
                <a:ext cx="711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U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077320" y="16002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4680" y="15238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81880" y="1752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229600" y="16761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952880" y="3047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9920" y="30477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6600" y="30477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1640" y="3505320"/>
            <a:ext cx="4420080" cy="1371600"/>
            <a:chOff x="4571640" y="3505320"/>
            <a:chExt cx="4420080" cy="1371600"/>
          </a:xfrm>
        </p:grpSpPr>
        <p:sp>
          <p:nvSpPr>
            <p:cNvPr id="213" name=""/>
            <p:cNvSpPr/>
            <p:nvPr/>
          </p:nvSpPr>
          <p:spPr>
            <a:xfrm flipV="1">
              <a:off x="8991720" y="3505320"/>
              <a:ext cx="0" cy="137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571640" y="3505320"/>
              <a:ext cx="4419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572000" y="3505320"/>
              <a:ext cx="762120" cy="914400"/>
              <a:chOff x="4572000" y="3505320"/>
              <a:chExt cx="7621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4572000" y="381024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62440" y="381024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52880" y="411516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52880" y="350532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572000" y="4419720"/>
              <a:ext cx="396252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46640" y="4368960"/>
              <a:ext cx="711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324120" y="4876920"/>
              <a:ext cx="2667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4648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5638680" y="3505320"/>
              <a:ext cx="762120" cy="914400"/>
              <a:chOff x="5638680" y="3505320"/>
              <a:chExt cx="762120" cy="914400"/>
            </a:xfrm>
          </p:grpSpPr>
          <p:sp>
            <p:nvSpPr>
              <p:cNvPr id="225" name=""/>
              <p:cNvSpPr/>
              <p:nvPr/>
            </p:nvSpPr>
            <p:spPr>
              <a:xfrm>
                <a:off x="5638680" y="381024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29120" y="381024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19560" y="411516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19560" y="350532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705720" y="3505320"/>
              <a:ext cx="761760" cy="914400"/>
              <a:chOff x="6705720" y="3505320"/>
              <a:chExt cx="761760" cy="914400"/>
            </a:xfrm>
          </p:grpSpPr>
          <p:sp>
            <p:nvSpPr>
              <p:cNvPr id="230" name=""/>
              <p:cNvSpPr/>
              <p:nvPr/>
            </p:nvSpPr>
            <p:spPr>
              <a:xfrm>
                <a:off x="6705720" y="3810240"/>
                <a:ext cx="7617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95800" y="3810240"/>
                <a:ext cx="4186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86240" y="411516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86240" y="350532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772400" y="3505320"/>
              <a:ext cx="762120" cy="914400"/>
              <a:chOff x="7772400" y="3505320"/>
              <a:chExt cx="762120" cy="914400"/>
            </a:xfrm>
          </p:grpSpPr>
          <p:sp>
            <p:nvSpPr>
              <p:cNvPr id="235" name=""/>
              <p:cNvSpPr/>
              <p:nvPr/>
            </p:nvSpPr>
            <p:spPr>
              <a:xfrm>
                <a:off x="7772400" y="381024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62840" y="381024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53280" y="411516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153280" y="350532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4571640" y="5410080"/>
            <a:ext cx="4420080" cy="1346040"/>
            <a:chOff x="4571640" y="5410080"/>
            <a:chExt cx="4420080" cy="1346040"/>
          </a:xfrm>
        </p:grpSpPr>
        <p:sp>
          <p:nvSpPr>
            <p:cNvPr id="240" name=""/>
            <p:cNvSpPr/>
            <p:nvPr/>
          </p:nvSpPr>
          <p:spPr>
            <a:xfrm>
              <a:off x="6095880" y="6324480"/>
              <a:ext cx="9781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991720" y="5410080"/>
              <a:ext cx="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571640" y="5410080"/>
              <a:ext cx="4419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572000" y="5410080"/>
              <a:ext cx="762120" cy="914400"/>
              <a:chOff x="4572000" y="5410080"/>
              <a:chExt cx="762120" cy="914400"/>
            </a:xfrm>
          </p:grpSpPr>
          <p:sp>
            <p:nvSpPr>
              <p:cNvPr id="244" name=""/>
              <p:cNvSpPr/>
              <p:nvPr/>
            </p:nvSpPr>
            <p:spPr>
              <a:xfrm>
                <a:off x="4572000" y="57150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62440" y="57150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2880" y="60199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52880" y="54100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4571640" y="6324480"/>
              <a:ext cx="4419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638680" y="5410080"/>
              <a:ext cx="762120" cy="914400"/>
              <a:chOff x="5638680" y="5410080"/>
              <a:chExt cx="762120" cy="914400"/>
            </a:xfrm>
          </p:grpSpPr>
          <p:sp>
            <p:nvSpPr>
              <p:cNvPr id="250" name=""/>
              <p:cNvSpPr/>
              <p:nvPr/>
            </p:nvSpPr>
            <p:spPr>
              <a:xfrm>
                <a:off x="5638680" y="57150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29120" y="57150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19560" y="60199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19560" y="54100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705720" y="5410080"/>
              <a:ext cx="761760" cy="914400"/>
              <a:chOff x="6705720" y="5410080"/>
              <a:chExt cx="761760" cy="914400"/>
            </a:xfrm>
          </p:grpSpPr>
          <p:sp>
            <p:nvSpPr>
              <p:cNvPr id="255" name=""/>
              <p:cNvSpPr/>
              <p:nvPr/>
            </p:nvSpPr>
            <p:spPr>
              <a:xfrm>
                <a:off x="6705720" y="5715000"/>
                <a:ext cx="7617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95800" y="5715000"/>
                <a:ext cx="4186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86240" y="60199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86240" y="54100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772400" y="5410080"/>
              <a:ext cx="762120" cy="914400"/>
              <a:chOff x="7772400" y="5410080"/>
              <a:chExt cx="762120" cy="914400"/>
            </a:xfrm>
          </p:grpSpPr>
          <p:sp>
            <p:nvSpPr>
              <p:cNvPr id="260" name=""/>
              <p:cNvSpPr/>
              <p:nvPr/>
            </p:nvSpPr>
            <p:spPr>
              <a:xfrm>
                <a:off x="7772400" y="57150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62840" y="5715000"/>
                <a:ext cx="419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53280" y="60199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53280" y="54100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4D3-29BD-4FE9-8F50-1326849166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6172200" y="4038480"/>
            <a:ext cx="2247840" cy="2279880"/>
            <a:chOff x="6172200" y="4038480"/>
            <a:chExt cx="2247840" cy="2279880"/>
          </a:xfrm>
        </p:grpSpPr>
        <p:sp>
          <p:nvSpPr>
            <p:cNvPr id="265" name=""/>
            <p:cNvSpPr/>
            <p:nvPr/>
          </p:nvSpPr>
          <p:spPr>
            <a:xfrm>
              <a:off x="6616800" y="4038480"/>
              <a:ext cx="1371600" cy="227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48480" y="4057560"/>
              <a:ext cx="419040" cy="22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5800" y="4743360"/>
              <a:ext cx="5716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01000" y="48578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01000" y="50356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01000" y="5226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01000" y="5378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72200" y="45277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72200" y="4362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41846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85160" y="5619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85160" y="5797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85160" y="59882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85160" y="614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97760" y="52387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97760" y="50738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7760" y="48960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ister file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llections of registers in one packag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dimensional array of 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ress used as index to a particular wo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have separate read and write addresses so can do both at same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4 by 4 register fi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D-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anized as four words of four bits ea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-enable (lo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-enable (output ena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62F-6993-4911-9AD9-CB38521F48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629400" y="3886200"/>
            <a:ext cx="2247840" cy="2813040"/>
            <a:chOff x="6629400" y="3886200"/>
            <a:chExt cx="2247840" cy="2813040"/>
          </a:xfrm>
        </p:grpSpPr>
        <p:sp>
          <p:nvSpPr>
            <p:cNvPr id="285" name=""/>
            <p:cNvSpPr/>
            <p:nvPr/>
          </p:nvSpPr>
          <p:spPr>
            <a:xfrm>
              <a:off x="7074000" y="3886200"/>
              <a:ext cx="137160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18280" y="3905280"/>
              <a:ext cx="457200" cy="27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93000" y="4857480"/>
              <a:ext cx="5716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58200" y="497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58200" y="5149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58200" y="53402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58200" y="5492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58200" y="497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58200" y="5149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58200" y="53402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458200" y="5492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42000" y="5987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2000" y="61657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42000" y="63561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2000" y="6508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29400" y="530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29400" y="5479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9400" y="5670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29400" y="58230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42000" y="47685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42000" y="49593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42000" y="511164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42000" y="4044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42000" y="43876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mor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arger collections of storage elemen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14600" indent="-273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ed not as FFs but as much more efficient latch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3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-density memories use 1 to 5 switches (transitors) per memory 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0120" indent="-3301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ic RAM – 1024 words each 4 bits wid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14600" indent="-273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ce written, memory holds forever (not true for denser dynamic RA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3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ress lines to select word (10 lines for 1024 wor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3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 en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-219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e as output en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-219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ten called chip sel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-219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mits connection of m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ps into larger arr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3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enable (same as load ena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3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-directional data l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-2199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when reading, input when wri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E43-FD2C-4EE2-96B3-FD59E00552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struction sequenc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 – an instruction to add the contents of two registers (Rx and Ry)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 place result in a third register (Rz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1: get the ADD instruction from memory into an instruction regis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2: decode instru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 in IR has the code of an ADD instr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 indices used to generate output enables for registers Rx and 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 index used to generate load signal for register R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3: execute instru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able Rx and Ry output and direct to A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up ALU to perform ADD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 result to Rz so that it can be loaded into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380-35AF-4A72-AA47-86E6C8F6E0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struction typ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ata manipul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, subtr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rement, decr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ft, ro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mediate oper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ata stagin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/store data to/from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-to-register 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ro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tional/unconditional branches in program f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routine call and retu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B42-3B01-4662-B167-905AFD4A3B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ements of the control unit (aka instruction unit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ndard FSM elemen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xt-state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logic (datapath/control signall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 or synchronous Mealy machine to avoid loops unbroken by 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lus additional "control" regis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ion register (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 counter (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puts/out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control elements of data p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 from data path used to alter flow of program (test if zer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I - Computer Orga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600-1E1C-4B79-B9DD-5BBD70EEA1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30:41Z</dcterms:created>
  <dc:creator>Gaetano Borriello</dc:creator>
  <dc:description/>
  <dc:language>en-US</dc:language>
  <cp:lastModifiedBy>Gaetano Borriello</cp:lastModifiedBy>
  <cp:lastPrinted>2000-05-26T18:05:53Z</cp:lastPrinted>
  <dcterms:modified xsi:type="dcterms:W3CDTF">2000-11-22T07:51:53Z</dcterms:modified>
  <cp:revision>36</cp:revision>
  <dc:subject/>
  <dc:title>Computer organ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