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269413" cy="6948488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3FA9-D9BF-429F-B6FD-5CAA5736F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680" y="397908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8CD9-BF81-4FA1-BEB0-3F2846F7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312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2C15-385F-41E4-84C8-DC2398345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772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176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68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772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176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9CB9-2CB9-4719-87EE-4CCEF1834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4C0B-0B59-4F05-BAFD-0A748F1E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88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AA8C-D0E2-4AF3-9200-9069856A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5D87-61D9-4F20-AE40-4E7220D8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36AB-382A-4582-9B31-EE53EFE1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A4BC-2CEA-46AB-B60D-7FF7AB8F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12560" y="231480"/>
            <a:ext cx="788004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E37F-B2BE-4A4C-9C74-A90B4AEA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6CC7-FE11-409C-AD9F-8411BB80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88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561B-F468-415C-B36D-49580FF9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312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A236-795F-4AAC-BCFF-4BDC3B1F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B159-7762-4FAE-A0DC-E48477F7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680" y="397908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EE13-E1F2-43CB-A30E-475D1263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312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14C6-0019-4D1E-8DCB-6A768E5CD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772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176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68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772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176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B198-A086-4891-BBF4-11F7FFC6F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1743-6364-48FD-B50A-D9AD3A3D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D792-20EC-4328-96ED-0EE123DE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3F3D-5AE7-41F1-852C-8177CEE5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12560" y="231480"/>
            <a:ext cx="788004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8C36-BFE2-4349-8E81-A2243079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3405-1A71-4D7C-B27C-C6BF36AD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312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2A06-075E-45EF-94DA-C51E8124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8806-42D5-4AA4-BEF5-8A2E08A7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lick to edit the outline text forma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econd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2" marL="1158840" indent="-23184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hird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3" marL="1622520" indent="-231840">
              <a:spcBef>
                <a:spcPts val="788"/>
              </a:spcBef>
              <a:buClr>
                <a:srgbClr val="ffcc00"/>
              </a:buClr>
              <a:buFont typeface="Tahoma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ourth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4" marL="2084400" indent="-231840">
              <a:spcBef>
                <a:spcPts val="788"/>
              </a:spcBef>
              <a:buClr>
                <a:srgbClr val="ffcc00"/>
              </a:buClr>
              <a:buFont typeface="Tahoma"/>
              <a:buChar char="–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ifth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5" marL="2084400" indent="-231840">
              <a:spcBef>
                <a:spcPts val="788"/>
              </a:spcBef>
              <a:buClr>
                <a:srgbClr val="000000"/>
              </a:buClr>
              <a:buFont typeface="Tahoma"/>
              <a:buChar char="–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ixth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6" marL="2084400" indent="-231840">
              <a:spcBef>
                <a:spcPts val="788"/>
              </a:spcBef>
              <a:buClr>
                <a:srgbClr val="000000"/>
              </a:buClr>
              <a:buFont typeface="Tahoma"/>
              <a:buChar char="–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eventh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8120" y="6483240"/>
            <a:ext cx="19303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4d4d4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8440" y="6483240"/>
            <a:ext cx="44560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4d4d4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4160" y="6483240"/>
            <a:ext cx="19321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4d4d4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E205043-BACF-4C6C-A4F6-3DDA46EC068E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27000" y="1081080"/>
            <a:ext cx="834408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694800"/>
            <a:ext cx="7829640" cy="1157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20360" y="6310440"/>
            <a:ext cx="1957320" cy="520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93920" y="6310440"/>
            <a:ext cx="2882880" cy="520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95640" y="6310440"/>
            <a:ext cx="1854360" cy="520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AB68C29-D9DE-4DA6-AF3B-464516B8F1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27000" y="1852560"/>
            <a:ext cx="8344080" cy="3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nite State Machin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equential circuit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mitive sequential ele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binational log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odels for representing sequential circuit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nite-state machines (Moore and Meal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Basic sequential circuits revisited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ift regist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nt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Design procedur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 diagra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 transition ta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xt state fun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ardware description languag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0">
              <a:spcBef>
                <a:spcPts val="224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 - Finite State Machi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D45C-5560-47CE-B9CD-4BEFC20EABE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"/>
          <p:cNvGrpSpPr/>
          <p:nvPr/>
        </p:nvGrpSpPr>
        <p:grpSpPr>
          <a:xfrm>
            <a:off x="609480" y="3664080"/>
            <a:ext cx="3911760" cy="1771560"/>
            <a:chOff x="609480" y="3664080"/>
            <a:chExt cx="3911760" cy="1771560"/>
          </a:xfrm>
        </p:grpSpPr>
        <p:sp>
          <p:nvSpPr>
            <p:cNvPr id="509" name=""/>
            <p:cNvSpPr/>
            <p:nvPr/>
          </p:nvSpPr>
          <p:spPr>
            <a:xfrm>
              <a:off x="3409920" y="3664080"/>
              <a:ext cx="355680" cy="35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121280" y="4362480"/>
              <a:ext cx="355320" cy="342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381400" y="3664080"/>
              <a:ext cx="355320" cy="35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381400" y="5060880"/>
              <a:ext cx="355320" cy="33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327320" y="3664080"/>
              <a:ext cx="355320" cy="35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682640" y="3835440"/>
              <a:ext cx="67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 flipV="1">
              <a:off x="3714840" y="3943440"/>
              <a:ext cx="44424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907920" y="3955680"/>
              <a:ext cx="45720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362320" y="3695760"/>
              <a:ext cx="419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102200" y="4381560"/>
              <a:ext cx="419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362320" y="5067360"/>
              <a:ext cx="419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03440" y="3695760"/>
              <a:ext cx="419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308240" y="3708360"/>
              <a:ext cx="4190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409920" y="5060880"/>
              <a:ext cx="355680" cy="33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1520" y="4362480"/>
              <a:ext cx="342720" cy="342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327320" y="5060880"/>
              <a:ext cx="355320" cy="33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36720" y="5207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09480" y="4381560"/>
              <a:ext cx="419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403440" y="5067360"/>
              <a:ext cx="419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308240" y="5092560"/>
              <a:ext cx="4190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736720" y="38228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95600" y="5207040"/>
              <a:ext cx="66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790640" y="4419720"/>
              <a:ext cx="15494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-bit up-coun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 flipV="1">
              <a:off x="895320" y="4654440"/>
              <a:ext cx="45720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3727440" y="4654080"/>
              <a:ext cx="43164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5268960" y="3073320"/>
            <a:ext cx="3476520" cy="3175200"/>
            <a:chOff x="5268960" y="3073320"/>
            <a:chExt cx="3476520" cy="3175200"/>
          </a:xfrm>
        </p:grpSpPr>
        <p:sp>
          <p:nvSpPr>
            <p:cNvPr id="535" name=""/>
            <p:cNvSpPr/>
            <p:nvPr/>
          </p:nvSpPr>
          <p:spPr>
            <a:xfrm>
              <a:off x="5486400" y="3073320"/>
              <a:ext cx="3259080" cy="31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22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1600200"/>
                  <a:tab algn="l" pos="1828800"/>
                  <a:tab algn="l" pos="2513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urr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next stat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268960" y="3645000"/>
              <a:ext cx="30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826320" y="3390840"/>
              <a:ext cx="0" cy="250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29640" y="3664080"/>
              <a:ext cx="0" cy="21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781600" y="3664080"/>
              <a:ext cx="0" cy="21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SM design procedure: state diagram to encoded state transition tabl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abular form of state diagram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Like a truth-table (specify output for all input combinations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Encoding of states: easy for counters – just use valu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 - Finite State Machi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3B79-13CD-4BB9-8A9E-9B02B809439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"/>
          <p:cNvGrpSpPr/>
          <p:nvPr/>
        </p:nvGrpSpPr>
        <p:grpSpPr>
          <a:xfrm>
            <a:off x="1365120" y="2251080"/>
            <a:ext cx="2882880" cy="2895480"/>
            <a:chOff x="1365120" y="2251080"/>
            <a:chExt cx="2882880" cy="2895480"/>
          </a:xfrm>
        </p:grpSpPr>
        <p:sp>
          <p:nvSpPr>
            <p:cNvPr id="543" name=""/>
            <p:cNvSpPr/>
            <p:nvPr/>
          </p:nvSpPr>
          <p:spPr>
            <a:xfrm>
              <a:off x="1434960" y="2251080"/>
              <a:ext cx="274320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22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365120" y="282240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743200" y="2581200"/>
              <a:ext cx="0" cy="250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5041800" y="3139920"/>
            <a:ext cx="386100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C2’ + C1’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C2C3’ + C1’C3 + C2’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(C1C2)C3’ + (C1’ + C2’)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(C1C2)C3’ + (C1C2)’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(C1C2)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594400" y="2295000"/>
            <a:ext cx="762120" cy="876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489720" y="1844640"/>
            <a:ext cx="20829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ilog notation to 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 represents a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 to D-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D flip-flop for each state bi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mbinational logic based on encoding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90040" y="5195880"/>
            <a:ext cx="2382480" cy="1574280"/>
            <a:chOff x="590040" y="5195880"/>
            <a:chExt cx="2382480" cy="1574280"/>
          </a:xfrm>
        </p:grpSpPr>
        <p:grpSp>
          <p:nvGrpSpPr>
            <p:cNvPr id="552" name=""/>
            <p:cNvGrpSpPr/>
            <p:nvPr/>
          </p:nvGrpSpPr>
          <p:grpSpPr>
            <a:xfrm>
              <a:off x="779400" y="5281200"/>
              <a:ext cx="2193120" cy="1488960"/>
              <a:chOff x="779400" y="5281200"/>
              <a:chExt cx="2193120" cy="1488960"/>
            </a:xfrm>
          </p:grpSpPr>
          <p:sp>
            <p:nvSpPr>
              <p:cNvPr id="553" name=""/>
              <p:cNvSpPr/>
              <p:nvPr/>
            </p:nvSpPr>
            <p:spPr>
              <a:xfrm>
                <a:off x="1217160" y="560196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147040" y="560196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972440" y="552564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420280" y="5528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>
                <a:off x="1962720" y="597636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972440" y="552564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506240" y="644004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058400" y="598284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79400" y="609408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912320" y="64400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378880" y="52812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058400" y="552564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506240" y="5528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1048680" y="597636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590040" y="519588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3450600" y="5195880"/>
            <a:ext cx="2383200" cy="1574280"/>
            <a:chOff x="3450600" y="5195880"/>
            <a:chExt cx="2383200" cy="1574280"/>
          </a:xfrm>
        </p:grpSpPr>
        <p:grpSp>
          <p:nvGrpSpPr>
            <p:cNvPr id="569" name=""/>
            <p:cNvGrpSpPr/>
            <p:nvPr/>
          </p:nvGrpSpPr>
          <p:grpSpPr>
            <a:xfrm>
              <a:off x="3640320" y="5281200"/>
              <a:ext cx="2193480" cy="1488960"/>
              <a:chOff x="3640320" y="5281200"/>
              <a:chExt cx="2193480" cy="1488960"/>
            </a:xfrm>
          </p:grpSpPr>
          <p:sp>
            <p:nvSpPr>
              <p:cNvPr id="570" name=""/>
              <p:cNvSpPr/>
              <p:nvPr/>
            </p:nvSpPr>
            <p:spPr>
              <a:xfrm>
                <a:off x="4078080" y="560196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008320" y="560196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833720" y="552564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281560" y="5528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4824000" y="597636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833720" y="552564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367160" y="644004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919320" y="598284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640320" y="609408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773600" y="64400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240160" y="52812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919320" y="552564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367160" y="5528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3909600" y="597636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4" name=""/>
            <p:cNvSpPr/>
            <p:nvPr/>
          </p:nvSpPr>
          <p:spPr>
            <a:xfrm>
              <a:off x="3450600" y="519588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6312960" y="5194440"/>
            <a:ext cx="2382480" cy="1574280"/>
            <a:chOff x="6312960" y="5194440"/>
            <a:chExt cx="2382480" cy="1574280"/>
          </a:xfrm>
        </p:grpSpPr>
        <p:grpSp>
          <p:nvGrpSpPr>
            <p:cNvPr id="586" name=""/>
            <p:cNvGrpSpPr/>
            <p:nvPr/>
          </p:nvGrpSpPr>
          <p:grpSpPr>
            <a:xfrm>
              <a:off x="6502320" y="5279760"/>
              <a:ext cx="2193120" cy="1488960"/>
              <a:chOff x="6502320" y="5279760"/>
              <a:chExt cx="2193120" cy="1488960"/>
            </a:xfrm>
          </p:grpSpPr>
          <p:sp>
            <p:nvSpPr>
              <p:cNvPr id="587" name=""/>
              <p:cNvSpPr/>
              <p:nvPr/>
            </p:nvSpPr>
            <p:spPr>
              <a:xfrm>
                <a:off x="6940080" y="560052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869960" y="56005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695360" y="55242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8143200" y="55274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7685640" y="59749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695360" y="55242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229160" y="64386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781320" y="59814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502320" y="60926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635240" y="64386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101800" y="52797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781320" y="55242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229160" y="55274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6771600" y="59749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1" name=""/>
            <p:cNvSpPr/>
            <p:nvPr/>
          </p:nvSpPr>
          <p:spPr>
            <a:xfrm>
              <a:off x="6312960" y="519444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2019240" y="5551560"/>
            <a:ext cx="822240" cy="3776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463840" y="5600880"/>
            <a:ext cx="328680" cy="771480"/>
          </a:xfrm>
          <a:custGeom>
            <a:avLst/>
            <a:gdLst>
              <a:gd name="textAreaLeft" fmla="*/ 15840 w 328680"/>
              <a:gd name="textAreaRight" fmla="*/ 312840 w 328680"/>
              <a:gd name="textAreaTop" fmla="*/ 15840 h 771480"/>
              <a:gd name="textAreaBottom" fmla="*/ 755640 h 771480"/>
            </a:gdLst>
            <a:ahLst/>
            <a:rect l="textAreaLeft" t="textAreaTop" r="textAreaRight" b="textAreaBottom"/>
            <a:pathLst>
              <a:path w="21600" h="50668">
                <a:moveTo>
                  <a:pt x="3600" y="0"/>
                </a:moveTo>
                <a:arcTo wR="3600" hR="3600" stAng="16200000" swAng="-5400000"/>
                <a:lnTo>
                  <a:pt x="0" y="47068"/>
                </a:lnTo>
                <a:arcTo wR="3600" hR="3600" stAng="10800000" swAng="-5400000"/>
                <a:lnTo>
                  <a:pt x="18000" y="506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576440" y="6043680"/>
            <a:ext cx="328680" cy="3286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417920" y="5567400"/>
            <a:ext cx="820800" cy="3618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848640" y="5567400"/>
            <a:ext cx="1692000" cy="3445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337000" y="6043680"/>
            <a:ext cx="476280" cy="328680"/>
          </a:xfrm>
          <a:custGeom>
            <a:avLst/>
            <a:gdLst>
              <a:gd name="textAreaLeft" fmla="*/ 140040 w 476280"/>
              <a:gd name="textAreaRight" fmla="*/ 476640 w 476280"/>
              <a:gd name="textAreaTop" fmla="*/ 13680 h 328680"/>
              <a:gd name="textAreaBottom" fmla="*/ 315000 h 32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3845880" y="6048360"/>
            <a:ext cx="476280" cy="328680"/>
          </a:xfrm>
          <a:custGeom>
            <a:avLst/>
            <a:gdLst>
              <a:gd name="textAreaLeft" fmla="*/ 140040 w 476280"/>
              <a:gd name="textAreaRight" fmla="*/ 476640 w 476280"/>
              <a:gd name="textAreaTop" fmla="*/ 13680 h 328680"/>
              <a:gd name="textAreaBottom" fmla="*/ 315000 h 32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 - Finite State Machi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8F19-2E25-4D35-AF11-4F72A213AC1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"/>
          <p:cNvGrpSpPr/>
          <p:nvPr/>
        </p:nvGrpSpPr>
        <p:grpSpPr>
          <a:xfrm>
            <a:off x="317520" y="2195640"/>
            <a:ext cx="3232080" cy="4051080"/>
            <a:chOff x="317520" y="2195640"/>
            <a:chExt cx="3232080" cy="4051080"/>
          </a:xfrm>
        </p:grpSpPr>
        <p:sp>
          <p:nvSpPr>
            <p:cNvPr id="610" name=""/>
            <p:cNvSpPr/>
            <p:nvPr/>
          </p:nvSpPr>
          <p:spPr>
            <a:xfrm>
              <a:off x="323640" y="2195640"/>
              <a:ext cx="3225960" cy="40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17520" y="2716200"/>
              <a:ext cx="313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076480" y="2500200"/>
              <a:ext cx="0" cy="363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91920" y="2722680"/>
              <a:ext cx="0" cy="340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3809880" y="4737240"/>
            <a:ext cx="137160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648640" y="3936960"/>
            <a:ext cx="52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ack to the shift registe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nput determines next stat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3939480" y="2693880"/>
            <a:ext cx="5117400" cy="1867680"/>
            <a:chOff x="3939480" y="2693880"/>
            <a:chExt cx="5117400" cy="1867680"/>
          </a:xfrm>
        </p:grpSpPr>
        <p:grpSp>
          <p:nvGrpSpPr>
            <p:cNvPr id="619" name=""/>
            <p:cNvGrpSpPr/>
            <p:nvPr/>
          </p:nvGrpSpPr>
          <p:grpSpPr>
            <a:xfrm>
              <a:off x="4341600" y="2693880"/>
              <a:ext cx="4338720" cy="1793160"/>
              <a:chOff x="4341600" y="2693880"/>
              <a:chExt cx="4338720" cy="1793160"/>
            </a:xfrm>
          </p:grpSpPr>
          <p:grpSp>
            <p:nvGrpSpPr>
              <p:cNvPr id="620" name=""/>
              <p:cNvGrpSpPr/>
              <p:nvPr/>
            </p:nvGrpSpPr>
            <p:grpSpPr>
              <a:xfrm>
                <a:off x="5013720" y="2693880"/>
                <a:ext cx="525600" cy="448200"/>
                <a:chOff x="5013720" y="2693880"/>
                <a:chExt cx="525600" cy="44820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5013720" y="269388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052240" y="2820960"/>
                  <a:ext cx="487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7479000" y="2693880"/>
                <a:ext cx="518040" cy="448200"/>
                <a:chOff x="7479000" y="2693880"/>
                <a:chExt cx="518040" cy="44820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7479000" y="269388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7509960" y="2809080"/>
                  <a:ext cx="487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8151480" y="3366360"/>
                <a:ext cx="528840" cy="448200"/>
                <a:chOff x="8151480" y="3366360"/>
                <a:chExt cx="528840" cy="44820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8151480" y="336636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8193240" y="3483000"/>
                  <a:ext cx="487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7479000" y="4038840"/>
                <a:ext cx="526320" cy="448200"/>
                <a:chOff x="7479000" y="4038840"/>
                <a:chExt cx="526320" cy="44820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7479000" y="403884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7518240" y="4154040"/>
                  <a:ext cx="487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806520" y="3366360"/>
                <a:ext cx="514440" cy="448200"/>
                <a:chOff x="6806520" y="3366360"/>
                <a:chExt cx="514440" cy="44820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806520" y="336636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833880" y="3483000"/>
                  <a:ext cx="487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0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5686200" y="3366360"/>
                <a:ext cx="512280" cy="448200"/>
                <a:chOff x="5686200" y="3366360"/>
                <a:chExt cx="512280" cy="44820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5686200" y="336636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5711400" y="3483000"/>
                  <a:ext cx="487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4341600" y="3366360"/>
                <a:ext cx="515880" cy="448200"/>
                <a:chOff x="4341600" y="3366360"/>
                <a:chExt cx="515880" cy="44820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4341600" y="336636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370400" y="3497040"/>
                  <a:ext cx="487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5013720" y="4038840"/>
                <a:ext cx="525600" cy="448200"/>
                <a:chOff x="5013720" y="4038840"/>
                <a:chExt cx="525600" cy="44820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5013720" y="403884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5052240" y="4152960"/>
                  <a:ext cx="487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0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4" name=""/>
            <p:cNvGrpSpPr/>
            <p:nvPr/>
          </p:nvGrpSpPr>
          <p:grpSpPr>
            <a:xfrm>
              <a:off x="3939480" y="2732400"/>
              <a:ext cx="5117400" cy="1829160"/>
              <a:chOff x="3939480" y="2732400"/>
              <a:chExt cx="5117400" cy="1829160"/>
            </a:xfrm>
          </p:grpSpPr>
          <p:grpSp>
            <p:nvGrpSpPr>
              <p:cNvPr id="645" name=""/>
              <p:cNvGrpSpPr/>
              <p:nvPr/>
            </p:nvGrpSpPr>
            <p:grpSpPr>
              <a:xfrm>
                <a:off x="6068880" y="3748320"/>
                <a:ext cx="803160" cy="347040"/>
                <a:chOff x="6068880" y="3748320"/>
                <a:chExt cx="803160" cy="347040"/>
              </a:xfrm>
            </p:grpSpPr>
            <p:cxnSp>
              <p:nvCxnSpPr>
                <p:cNvPr id="646" name=""/>
                <p:cNvCxnSpPr>
                  <a:stCxn id="633" idx="3"/>
                  <a:endCxn id="636" idx="5"/>
                </p:cNvCxnSpPr>
                <p:nvPr/>
              </p:nvCxnSpPr>
              <p:spPr>
                <a:xfrm rot="5400000">
                  <a:off x="6469560" y="3347640"/>
                  <a:ext cx="1800" cy="803520"/>
                </a:xfrm>
                <a:prstGeom prst="curvedConnector5">
                  <a:avLst>
                    <a:gd name="adj1" fmla="val 20000000"/>
                    <a:gd name="adj2" fmla="val 49977"/>
                    <a:gd name="adj3" fmla="val 20000000"/>
                  </a:avLst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47" name=""/>
                <p:cNvSpPr/>
                <p:nvPr/>
              </p:nvSpPr>
              <p:spPr>
                <a:xfrm>
                  <a:off x="6387120" y="378828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8" name=""/>
              <p:cNvGrpSpPr/>
              <p:nvPr/>
            </p:nvGrpSpPr>
            <p:grpSpPr>
              <a:xfrm>
                <a:off x="5461560" y="2732400"/>
                <a:ext cx="2017080" cy="307080"/>
                <a:chOff x="5461560" y="2732400"/>
                <a:chExt cx="2017080" cy="307080"/>
              </a:xfrm>
            </p:grpSpPr>
            <p:cxnSp>
              <p:nvCxnSpPr>
                <p:cNvPr id="649" name=""/>
                <p:cNvCxnSpPr>
                  <a:stCxn id="621" idx="6"/>
                  <a:endCxn id="624" idx="2"/>
                </p:cNvCxnSpPr>
                <p:nvPr/>
              </p:nvCxnSpPr>
              <p:spPr>
                <a:xfrm>
                  <a:off x="5461560" y="2917440"/>
                  <a:ext cx="201744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50" name=""/>
                <p:cNvSpPr/>
                <p:nvPr/>
              </p:nvSpPr>
              <p:spPr>
                <a:xfrm>
                  <a:off x="6382080" y="273240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1" name=""/>
              <p:cNvGrpSpPr/>
              <p:nvPr/>
            </p:nvGrpSpPr>
            <p:grpSpPr>
              <a:xfrm>
                <a:off x="6069240" y="3193200"/>
                <a:ext cx="803160" cy="307080"/>
                <a:chOff x="6069240" y="3193200"/>
                <a:chExt cx="803160" cy="307080"/>
              </a:xfrm>
            </p:grpSpPr>
            <p:cxnSp>
              <p:nvCxnSpPr>
                <p:cNvPr id="652" name=""/>
                <p:cNvCxnSpPr>
                  <a:stCxn id="636" idx="7"/>
                  <a:endCxn id="633" idx="1"/>
                </p:cNvCxnSpPr>
                <p:nvPr/>
              </p:nvCxnSpPr>
              <p:spPr>
                <a:xfrm flipH="1" rot="16200000">
                  <a:off x="6470280" y="3029760"/>
                  <a:ext cx="1440" cy="803520"/>
                </a:xfrm>
                <a:prstGeom prst="curvedConnector5">
                  <a:avLst>
                    <a:gd name="adj1" fmla="val -20000000"/>
                    <a:gd name="adj2" fmla="val 49977"/>
                    <a:gd name="adj3" fmla="val -20000000"/>
                  </a:avLst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53" name=""/>
                <p:cNvSpPr/>
                <p:nvPr/>
              </p:nvSpPr>
              <p:spPr>
                <a:xfrm>
                  <a:off x="6387120" y="319320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4" name=""/>
              <p:cNvGrpSpPr/>
              <p:nvPr/>
            </p:nvGrpSpPr>
            <p:grpSpPr>
              <a:xfrm>
                <a:off x="7188840" y="3075840"/>
                <a:ext cx="356040" cy="366120"/>
                <a:chOff x="7188840" y="3075840"/>
                <a:chExt cx="356040" cy="366120"/>
              </a:xfrm>
            </p:grpSpPr>
            <p:cxnSp>
              <p:nvCxnSpPr>
                <p:cNvPr id="655" name=""/>
                <p:cNvCxnSpPr>
                  <a:stCxn id="633" idx="7"/>
                  <a:endCxn id="624" idx="3"/>
                </p:cNvCxnSpPr>
                <p:nvPr/>
              </p:nvCxnSpPr>
              <p:spPr>
                <a:xfrm flipV="1">
                  <a:off x="7189560" y="3075840"/>
                  <a:ext cx="35568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56" name=""/>
                <p:cNvSpPr/>
                <p:nvPr/>
              </p:nvSpPr>
              <p:spPr>
                <a:xfrm>
                  <a:off x="7188840" y="313488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7" name=""/>
              <p:cNvGrpSpPr/>
              <p:nvPr/>
            </p:nvGrpSpPr>
            <p:grpSpPr>
              <a:xfrm>
                <a:off x="8533080" y="3198240"/>
                <a:ext cx="523800" cy="783000"/>
                <a:chOff x="8533080" y="3198240"/>
                <a:chExt cx="523800" cy="783000"/>
              </a:xfrm>
            </p:grpSpPr>
            <p:cxnSp>
              <p:nvCxnSpPr>
                <p:cNvPr id="658" name=""/>
                <p:cNvCxnSpPr>
                  <a:stCxn id="627" idx="5"/>
                  <a:endCxn id="627" idx="7"/>
                </p:cNvCxnSpPr>
                <p:nvPr/>
              </p:nvCxnSpPr>
              <p:spPr>
                <a:xfrm flipH="1" flipV="1" rot="5400000">
                  <a:off x="8375040" y="3588840"/>
                  <a:ext cx="317520" cy="1800"/>
                </a:xfrm>
                <a:prstGeom prst="curvedConnector5">
                  <a:avLst>
                    <a:gd name="adj1" fmla="val -73439"/>
                    <a:gd name="adj2" fmla="val 18175000"/>
                    <a:gd name="adj3" fmla="val -73439"/>
                  </a:avLst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59" name=""/>
                <p:cNvSpPr/>
                <p:nvPr/>
              </p:nvSpPr>
              <p:spPr>
                <a:xfrm>
                  <a:off x="8772480" y="346860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5056200" y="3141720"/>
                <a:ext cx="282960" cy="896760"/>
                <a:chOff x="5056200" y="3141720"/>
                <a:chExt cx="282960" cy="896760"/>
              </a:xfrm>
            </p:grpSpPr>
            <p:cxnSp>
              <p:nvCxnSpPr>
                <p:cNvPr id="661" name=""/>
                <p:cNvCxnSpPr>
                  <a:stCxn id="642" idx="0"/>
                  <a:endCxn id="621" idx="4"/>
                </p:cNvCxnSpPr>
                <p:nvPr/>
              </p:nvCxnSpPr>
              <p:spPr>
                <a:xfrm flipV="1">
                  <a:off x="5236920" y="3141720"/>
                  <a:ext cx="1080" cy="8971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62" name=""/>
                <p:cNvSpPr/>
                <p:nvPr/>
              </p:nvSpPr>
              <p:spPr>
                <a:xfrm>
                  <a:off x="5056200" y="349200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3" name=""/>
              <p:cNvGrpSpPr/>
              <p:nvPr/>
            </p:nvGrpSpPr>
            <p:grpSpPr>
              <a:xfrm>
                <a:off x="4724280" y="3075840"/>
                <a:ext cx="355320" cy="354960"/>
                <a:chOff x="4724280" y="3075840"/>
                <a:chExt cx="355320" cy="354960"/>
              </a:xfrm>
            </p:grpSpPr>
            <p:cxnSp>
              <p:nvCxnSpPr>
                <p:cNvPr id="664" name=""/>
                <p:cNvCxnSpPr>
                  <a:stCxn id="639" idx="7"/>
                  <a:endCxn id="621" idx="3"/>
                </p:cNvCxnSpPr>
                <p:nvPr/>
              </p:nvCxnSpPr>
              <p:spPr>
                <a:xfrm flipV="1">
                  <a:off x="4724280" y="3075840"/>
                  <a:ext cx="35568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65" name=""/>
                <p:cNvSpPr/>
                <p:nvPr/>
              </p:nvSpPr>
              <p:spPr>
                <a:xfrm>
                  <a:off x="4732560" y="309996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7189200" y="3747960"/>
                <a:ext cx="355320" cy="437400"/>
                <a:chOff x="7189200" y="3747960"/>
                <a:chExt cx="355320" cy="437400"/>
              </a:xfrm>
            </p:grpSpPr>
            <p:cxnSp>
              <p:nvCxnSpPr>
                <p:cNvPr id="667" name=""/>
                <p:cNvCxnSpPr>
                  <a:stCxn id="630" idx="1"/>
                  <a:endCxn id="633" idx="5"/>
                </p:cNvCxnSpPr>
                <p:nvPr/>
              </p:nvCxnSpPr>
              <p:spPr>
                <a:xfrm flipH="1" flipV="1">
                  <a:off x="7189200" y="3747960"/>
                  <a:ext cx="35568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68" name=""/>
                <p:cNvSpPr/>
                <p:nvPr/>
              </p:nvSpPr>
              <p:spPr>
                <a:xfrm>
                  <a:off x="7210800" y="387828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5461560" y="4254480"/>
                <a:ext cx="2017080" cy="307080"/>
                <a:chOff x="5461560" y="4254480"/>
                <a:chExt cx="2017080" cy="307080"/>
              </a:xfrm>
            </p:grpSpPr>
            <p:cxnSp>
              <p:nvCxnSpPr>
                <p:cNvPr id="670" name=""/>
                <p:cNvCxnSpPr>
                  <a:stCxn id="630" idx="2"/>
                  <a:endCxn id="642" idx="6"/>
                </p:cNvCxnSpPr>
                <p:nvPr/>
              </p:nvCxnSpPr>
              <p:spPr>
                <a:xfrm flipH="1">
                  <a:off x="5461560" y="4262040"/>
                  <a:ext cx="201744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71" name=""/>
                <p:cNvSpPr/>
                <p:nvPr/>
              </p:nvSpPr>
              <p:spPr>
                <a:xfrm>
                  <a:off x="6404400" y="425448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2" name=""/>
              <p:cNvGrpSpPr/>
              <p:nvPr/>
            </p:nvGrpSpPr>
            <p:grpSpPr>
              <a:xfrm>
                <a:off x="5396040" y="3748320"/>
                <a:ext cx="413640" cy="465120"/>
                <a:chOff x="5396040" y="3748320"/>
                <a:chExt cx="413640" cy="465120"/>
              </a:xfrm>
            </p:grpSpPr>
            <p:cxnSp>
              <p:nvCxnSpPr>
                <p:cNvPr id="673" name=""/>
                <p:cNvCxnSpPr>
                  <a:stCxn id="636" idx="3"/>
                  <a:endCxn id="642" idx="7"/>
                </p:cNvCxnSpPr>
                <p:nvPr/>
              </p:nvCxnSpPr>
              <p:spPr>
                <a:xfrm flipH="1">
                  <a:off x="5396040" y="3748320"/>
                  <a:ext cx="35532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74" name=""/>
                <p:cNvSpPr/>
                <p:nvPr/>
              </p:nvSpPr>
              <p:spPr>
                <a:xfrm>
                  <a:off x="5526720" y="390636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5" name=""/>
              <p:cNvGrpSpPr/>
              <p:nvPr/>
            </p:nvGrpSpPr>
            <p:grpSpPr>
              <a:xfrm>
                <a:off x="5396760" y="3072960"/>
                <a:ext cx="403560" cy="357840"/>
                <a:chOff x="5396760" y="3072960"/>
                <a:chExt cx="403560" cy="357840"/>
              </a:xfrm>
            </p:grpSpPr>
            <p:cxnSp>
              <p:nvCxnSpPr>
                <p:cNvPr id="676" name=""/>
                <p:cNvCxnSpPr>
                  <a:stCxn id="621" idx="5"/>
                  <a:endCxn id="636" idx="1"/>
                </p:cNvCxnSpPr>
                <p:nvPr/>
              </p:nvCxnSpPr>
              <p:spPr>
                <a:xfrm>
                  <a:off x="5396760" y="3075840"/>
                  <a:ext cx="35568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77" name=""/>
                <p:cNvSpPr/>
                <p:nvPr/>
              </p:nvSpPr>
              <p:spPr>
                <a:xfrm>
                  <a:off x="5517360" y="307296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4723920" y="3748320"/>
                <a:ext cx="355320" cy="447480"/>
                <a:chOff x="4723920" y="3748320"/>
                <a:chExt cx="355320" cy="447480"/>
              </a:xfrm>
            </p:grpSpPr>
            <p:cxnSp>
              <p:nvCxnSpPr>
                <p:cNvPr id="679" name=""/>
                <p:cNvCxnSpPr>
                  <a:stCxn id="642" idx="1"/>
                  <a:endCxn id="639" idx="5"/>
                </p:cNvCxnSpPr>
                <p:nvPr/>
              </p:nvCxnSpPr>
              <p:spPr>
                <a:xfrm flipH="1" flipV="1">
                  <a:off x="4723920" y="3748320"/>
                  <a:ext cx="355680" cy="3556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80" name=""/>
                <p:cNvSpPr/>
                <p:nvPr/>
              </p:nvSpPr>
              <p:spPr>
                <a:xfrm>
                  <a:off x="4734000" y="388872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1" name=""/>
              <p:cNvGrpSpPr/>
              <p:nvPr/>
            </p:nvGrpSpPr>
            <p:grpSpPr>
              <a:xfrm>
                <a:off x="7861320" y="3748680"/>
                <a:ext cx="470520" cy="438840"/>
                <a:chOff x="7861320" y="3748680"/>
                <a:chExt cx="470520" cy="438840"/>
              </a:xfrm>
            </p:grpSpPr>
            <p:cxnSp>
              <p:nvCxnSpPr>
                <p:cNvPr id="682" name=""/>
                <p:cNvCxnSpPr>
                  <a:stCxn id="627" idx="3"/>
                  <a:endCxn id="630" idx="7"/>
                </p:cNvCxnSpPr>
                <p:nvPr/>
              </p:nvCxnSpPr>
              <p:spPr>
                <a:xfrm flipH="1">
                  <a:off x="7861320" y="3748680"/>
                  <a:ext cx="355320" cy="3556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83" name=""/>
                <p:cNvSpPr/>
                <p:nvPr/>
              </p:nvSpPr>
              <p:spPr>
                <a:xfrm>
                  <a:off x="8048880" y="388044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4" name=""/>
              <p:cNvGrpSpPr/>
              <p:nvPr/>
            </p:nvGrpSpPr>
            <p:grpSpPr>
              <a:xfrm>
                <a:off x="7861680" y="3072960"/>
                <a:ext cx="435240" cy="357840"/>
                <a:chOff x="7861680" y="3072960"/>
                <a:chExt cx="435240" cy="357840"/>
              </a:xfrm>
            </p:grpSpPr>
            <p:cxnSp>
              <p:nvCxnSpPr>
                <p:cNvPr id="685" name=""/>
                <p:cNvCxnSpPr>
                  <a:stCxn id="624" idx="5"/>
                  <a:endCxn id="627" idx="1"/>
                </p:cNvCxnSpPr>
                <p:nvPr/>
              </p:nvCxnSpPr>
              <p:spPr>
                <a:xfrm>
                  <a:off x="7861680" y="3075840"/>
                  <a:ext cx="35532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86" name=""/>
                <p:cNvSpPr/>
                <p:nvPr/>
              </p:nvSpPr>
              <p:spPr>
                <a:xfrm>
                  <a:off x="8013960" y="307296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7" name=""/>
              <p:cNvGrpSpPr/>
              <p:nvPr/>
            </p:nvGrpSpPr>
            <p:grpSpPr>
              <a:xfrm>
                <a:off x="7678080" y="3142080"/>
                <a:ext cx="282960" cy="896760"/>
                <a:chOff x="7678080" y="3142080"/>
                <a:chExt cx="282960" cy="896760"/>
              </a:xfrm>
            </p:grpSpPr>
            <p:cxnSp>
              <p:nvCxnSpPr>
                <p:cNvPr id="688" name=""/>
                <p:cNvCxnSpPr>
                  <a:stCxn id="624" idx="4"/>
                  <a:endCxn id="630" idx="0"/>
                </p:cNvCxnSpPr>
                <p:nvPr/>
              </p:nvCxnSpPr>
              <p:spPr>
                <a:xfrm>
                  <a:off x="7702920" y="3142080"/>
                  <a:ext cx="1080" cy="8971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89" name=""/>
                <p:cNvSpPr/>
                <p:nvPr/>
              </p:nvSpPr>
              <p:spPr>
                <a:xfrm>
                  <a:off x="7678080" y="348768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0" name=""/>
              <p:cNvGrpSpPr/>
              <p:nvPr/>
            </p:nvGrpSpPr>
            <p:grpSpPr>
              <a:xfrm>
                <a:off x="3939480" y="3197520"/>
                <a:ext cx="468720" cy="784080"/>
                <a:chOff x="3939480" y="3197520"/>
                <a:chExt cx="468720" cy="784080"/>
              </a:xfrm>
            </p:grpSpPr>
            <p:cxnSp>
              <p:nvCxnSpPr>
                <p:cNvPr id="691" name=""/>
                <p:cNvCxnSpPr>
                  <a:stCxn id="639" idx="3"/>
                  <a:endCxn id="639" idx="1"/>
                </p:cNvCxnSpPr>
                <p:nvPr/>
              </p:nvCxnSpPr>
              <p:spPr>
                <a:xfrm flipH="1" flipV="1" rot="5400000">
                  <a:off x="4248720" y="3589200"/>
                  <a:ext cx="317880" cy="1440"/>
                </a:xfrm>
                <a:prstGeom prst="curvedConnector5">
                  <a:avLst>
                    <a:gd name="adj1" fmla="val -73469"/>
                    <a:gd name="adj2" fmla="val -19400000"/>
                    <a:gd name="adj3" fmla="val -73469"/>
                  </a:avLst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92" name=""/>
                <p:cNvSpPr/>
                <p:nvPr/>
              </p:nvSpPr>
              <p:spPr>
                <a:xfrm>
                  <a:off x="3939480" y="350604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93" name=""/>
          <p:cNvGrpSpPr/>
          <p:nvPr/>
        </p:nvGrpSpPr>
        <p:grpSpPr>
          <a:xfrm>
            <a:off x="4019400" y="5222880"/>
            <a:ext cx="4894200" cy="1274400"/>
            <a:chOff x="4019400" y="5222880"/>
            <a:chExt cx="4894200" cy="1274400"/>
          </a:xfrm>
        </p:grpSpPr>
        <p:sp>
          <p:nvSpPr>
            <p:cNvPr id="694" name=""/>
            <p:cNvSpPr/>
            <p:nvPr/>
          </p:nvSpPr>
          <p:spPr>
            <a:xfrm>
              <a:off x="5129280" y="5717880"/>
              <a:ext cx="466200" cy="48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5299920" y="6070680"/>
              <a:ext cx="5652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 flipV="1">
              <a:off x="5356440" y="6070680"/>
              <a:ext cx="6840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146200" y="5825880"/>
              <a:ext cx="2271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384880" y="5825880"/>
              <a:ext cx="2163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301440" y="5717880"/>
              <a:ext cx="466560" cy="48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6472080" y="6070680"/>
              <a:ext cx="4572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6517440" y="6070680"/>
              <a:ext cx="6804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318360" y="5825880"/>
              <a:ext cx="2163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546240" y="5825880"/>
              <a:ext cx="2271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462440" y="5717880"/>
              <a:ext cx="466200" cy="48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7633080" y="6070680"/>
              <a:ext cx="5652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 flipV="1">
              <a:off x="7689960" y="6070680"/>
              <a:ext cx="6840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479720" y="5825880"/>
              <a:ext cx="2271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718400" y="5825880"/>
              <a:ext cx="2163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015160" y="5951160"/>
              <a:ext cx="10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548600" y="5951160"/>
              <a:ext cx="45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019400" y="584892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595840" y="5951160"/>
              <a:ext cx="10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176160" y="5951160"/>
              <a:ext cx="11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709600" y="595116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931720" y="5940000"/>
              <a:ext cx="34200" cy="4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948640" y="595116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942880" y="5410440"/>
              <a:ext cx="0" cy="53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942880" y="5222880"/>
              <a:ext cx="64872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768360" y="5951160"/>
              <a:ext cx="10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348680" y="5951160"/>
              <a:ext cx="10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881760" y="5951160"/>
              <a:ext cx="21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092360" y="5940000"/>
              <a:ext cx="34200" cy="4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109640" y="5951160"/>
              <a:ext cx="22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103880" y="5410440"/>
              <a:ext cx="0" cy="53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103880" y="5222880"/>
              <a:ext cx="63720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929000" y="5951160"/>
              <a:ext cx="10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043120" y="595116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276400" y="5410440"/>
              <a:ext cx="0" cy="53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276400" y="5222880"/>
              <a:ext cx="63720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362560" y="6207480"/>
              <a:ext cx="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339520" y="6315480"/>
              <a:ext cx="45360" cy="3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523200" y="6207480"/>
              <a:ext cx="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512040" y="6315480"/>
              <a:ext cx="34200" cy="3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695720" y="6207480"/>
              <a:ext cx="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48600" y="6326640"/>
              <a:ext cx="80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368320" y="6326640"/>
              <a:ext cx="114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528960" y="6326640"/>
              <a:ext cx="116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087800" y="6190200"/>
              <a:ext cx="45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 - Finite State Machi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B4E0-F575-4CF8-ACE4-4CB4BAC2DB2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ore complex counter exampl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mplex counter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peats 5 states in seque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a binary number represen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ep 1: derive the state transition diagram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nt sequence: 000, 010, 011, 101, 1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ep 2: derive the state transition table from the state transition diagram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5375160" y="4029120"/>
            <a:ext cx="2805120" cy="2201760"/>
            <a:chOff x="5375160" y="4029120"/>
            <a:chExt cx="2805120" cy="2201760"/>
          </a:xfrm>
        </p:grpSpPr>
        <p:sp>
          <p:nvSpPr>
            <p:cNvPr id="742" name=""/>
            <p:cNvSpPr/>
            <p:nvPr/>
          </p:nvSpPr>
          <p:spPr>
            <a:xfrm>
              <a:off x="5475240" y="4079880"/>
              <a:ext cx="27050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375160" y="450864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6714720" y="4029120"/>
              <a:ext cx="17640" cy="220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1398600" y="6343560"/>
            <a:ext cx="647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e the don't care conditions that arise from the unused state c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1170000" y="4051440"/>
            <a:ext cx="2438280" cy="2133360"/>
            <a:chOff x="1170000" y="4051440"/>
            <a:chExt cx="2438280" cy="2133360"/>
          </a:xfrm>
        </p:grpSpPr>
        <p:sp>
          <p:nvSpPr>
            <p:cNvPr id="747" name=""/>
            <p:cNvSpPr/>
            <p:nvPr/>
          </p:nvSpPr>
          <p:spPr>
            <a:xfrm>
              <a:off x="1170000" y="504180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550880" y="405144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617920" y="405144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075120" y="504180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160720" y="565164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52" name=""/>
            <p:cNvCxnSpPr>
              <a:stCxn id="748" idx="3"/>
              <a:endCxn id="747" idx="0"/>
            </p:cNvCxnSpPr>
            <p:nvPr/>
          </p:nvCxnSpPr>
          <p:spPr>
            <a:xfrm flipH="1">
              <a:off x="1436040" y="4506840"/>
              <a:ext cx="19260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3" name=""/>
            <p:cNvCxnSpPr>
              <a:stCxn id="747" idx="5"/>
              <a:endCxn id="751" idx="2"/>
            </p:cNvCxnSpPr>
            <p:nvPr/>
          </p:nvCxnSpPr>
          <p:spPr>
            <a:xfrm>
              <a:off x="1625760" y="5497200"/>
              <a:ext cx="535680" cy="421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4" name=""/>
            <p:cNvCxnSpPr>
              <a:stCxn id="751" idx="6"/>
              <a:endCxn id="750" idx="3"/>
            </p:cNvCxnSpPr>
            <p:nvPr/>
          </p:nvCxnSpPr>
          <p:spPr>
            <a:xfrm flipV="1">
              <a:off x="2693520" y="5496840"/>
              <a:ext cx="459720" cy="421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5" name=""/>
            <p:cNvCxnSpPr>
              <a:stCxn id="750" idx="0"/>
              <a:endCxn id="749" idx="5"/>
            </p:cNvCxnSpPr>
            <p:nvPr/>
          </p:nvCxnSpPr>
          <p:spPr>
            <a:xfrm flipH="1" flipV="1">
              <a:off x="3072960" y="4506480"/>
              <a:ext cx="26928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6" name=""/>
            <p:cNvCxnSpPr>
              <a:stCxn id="749" idx="2"/>
              <a:endCxn id="748" idx="6"/>
            </p:cNvCxnSpPr>
            <p:nvPr/>
          </p:nvCxnSpPr>
          <p:spPr>
            <a:xfrm flipH="1">
              <a:off x="2084040" y="4317840"/>
              <a:ext cx="5342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 - Finite State Machi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7818-584B-4CC4-9427-E736B9D5421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4086360" y="4325760"/>
            <a:ext cx="20952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+ &lt;=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+ &lt;= B’ + A’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+ &lt;= B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ore complex counter example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ep 3: K-maps for next state function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657720" y="2249640"/>
            <a:ext cx="2357640" cy="1574280"/>
            <a:chOff x="657720" y="2249640"/>
            <a:chExt cx="2357640" cy="1574280"/>
          </a:xfrm>
        </p:grpSpPr>
        <p:grpSp>
          <p:nvGrpSpPr>
            <p:cNvPr id="761" name=""/>
            <p:cNvGrpSpPr/>
            <p:nvPr/>
          </p:nvGrpSpPr>
          <p:grpSpPr>
            <a:xfrm>
              <a:off x="822240" y="2334960"/>
              <a:ext cx="2193120" cy="1488960"/>
              <a:chOff x="822240" y="2334960"/>
              <a:chExt cx="2193120" cy="1488960"/>
            </a:xfrm>
          </p:grpSpPr>
          <p:sp>
            <p:nvSpPr>
              <p:cNvPr id="762" name=""/>
              <p:cNvSpPr/>
              <p:nvPr/>
            </p:nvSpPr>
            <p:spPr>
              <a:xfrm>
                <a:off x="1260000" y="265572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189880" y="26557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01528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246312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200556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015280" y="25794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549080" y="34938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101240" y="3036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822240" y="31478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955160" y="34938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421720" y="2334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10124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54908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109152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>
              <a:off x="657720" y="224964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3532680" y="2249640"/>
            <a:ext cx="2360880" cy="1574280"/>
            <a:chOff x="3532680" y="2249640"/>
            <a:chExt cx="2360880" cy="1574280"/>
          </a:xfrm>
        </p:grpSpPr>
        <p:grpSp>
          <p:nvGrpSpPr>
            <p:cNvPr id="778" name=""/>
            <p:cNvGrpSpPr/>
            <p:nvPr/>
          </p:nvGrpSpPr>
          <p:grpSpPr>
            <a:xfrm>
              <a:off x="3700440" y="2334960"/>
              <a:ext cx="2193120" cy="1488960"/>
              <a:chOff x="3700440" y="2334960"/>
              <a:chExt cx="2193120" cy="1488960"/>
            </a:xfrm>
          </p:grpSpPr>
          <p:sp>
            <p:nvSpPr>
              <p:cNvPr id="779" name=""/>
              <p:cNvSpPr/>
              <p:nvPr/>
            </p:nvSpPr>
            <p:spPr>
              <a:xfrm>
                <a:off x="4138200" y="265572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068080" y="26557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89348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34132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488376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893480" y="25794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427280" y="34938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979440" y="3036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700440" y="31478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833360" y="34938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299920" y="2334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97944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42728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396972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3" name=""/>
            <p:cNvSpPr/>
            <p:nvPr/>
          </p:nvSpPr>
          <p:spPr>
            <a:xfrm>
              <a:off x="3532680" y="224964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6413040" y="2249640"/>
            <a:ext cx="2358720" cy="1574280"/>
            <a:chOff x="6413040" y="2249640"/>
            <a:chExt cx="2358720" cy="1574280"/>
          </a:xfrm>
        </p:grpSpPr>
        <p:grpSp>
          <p:nvGrpSpPr>
            <p:cNvPr id="795" name=""/>
            <p:cNvGrpSpPr/>
            <p:nvPr/>
          </p:nvGrpSpPr>
          <p:grpSpPr>
            <a:xfrm>
              <a:off x="6578640" y="2334960"/>
              <a:ext cx="2193120" cy="1488960"/>
              <a:chOff x="6578640" y="2334960"/>
              <a:chExt cx="2193120" cy="1488960"/>
            </a:xfrm>
          </p:grpSpPr>
          <p:sp>
            <p:nvSpPr>
              <p:cNvPr id="796" name=""/>
              <p:cNvSpPr/>
              <p:nvPr/>
            </p:nvSpPr>
            <p:spPr>
              <a:xfrm>
                <a:off x="7016400" y="265572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946280" y="26557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77168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21952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H="1">
                <a:off x="776196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771680" y="25794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305480" y="34938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857640" y="3036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578640" y="31478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711560" y="34938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8178120" y="2334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85764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30548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H="1">
                <a:off x="684792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0" name=""/>
            <p:cNvSpPr/>
            <p:nvPr/>
          </p:nvSpPr>
          <p:spPr>
            <a:xfrm>
              <a:off x="6413040" y="2249640"/>
              <a:ext cx="42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1" name=""/>
          <p:cNvSpPr/>
          <p:nvPr/>
        </p:nvSpPr>
        <p:spPr>
          <a:xfrm>
            <a:off x="1163520" y="3089160"/>
            <a:ext cx="1731960" cy="3463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906720" y="2604960"/>
            <a:ext cx="457200" cy="830520"/>
          </a:xfrm>
          <a:custGeom>
            <a:avLst/>
            <a:gdLst>
              <a:gd name="textAreaLeft" fmla="*/ 0 w 457200"/>
              <a:gd name="textAreaRight" fmla="*/ 320760 w 457200"/>
              <a:gd name="textAreaTop" fmla="*/ 34560 h 830520"/>
              <a:gd name="textAreaBottom" fmla="*/ 795960 h 83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430960" y="2617920"/>
            <a:ext cx="471240" cy="803160"/>
          </a:xfrm>
          <a:custGeom>
            <a:avLst/>
            <a:gdLst>
              <a:gd name="textAreaLeft" fmla="*/ 138600 w 471240"/>
              <a:gd name="textAreaRight" fmla="*/ 471600 w 471240"/>
              <a:gd name="textAreaTop" fmla="*/ 33480 h 803160"/>
              <a:gd name="textAreaBottom" fmla="*/ 770040 h 80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044960" y="2660760"/>
            <a:ext cx="762120" cy="276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385040" y="2646360"/>
            <a:ext cx="290520" cy="762120"/>
          </a:xfrm>
          <a:custGeom>
            <a:avLst/>
            <a:gdLst>
              <a:gd name="textAreaLeft" fmla="*/ 14040 w 290520"/>
              <a:gd name="textAreaRight" fmla="*/ 276480 w 290520"/>
              <a:gd name="textAreaTop" fmla="*/ 14040 h 762120"/>
              <a:gd name="textAreaBottom" fmla="*/ 748080 h 762120"/>
            </a:gdLst>
            <a:ahLst/>
            <a:rect l="textAreaLeft" t="textAreaTop" r="textAreaRight" b="textAreaBottom"/>
            <a:pathLst>
              <a:path w="21600" h="56620">
                <a:moveTo>
                  <a:pt x="3600" y="0"/>
                </a:moveTo>
                <a:arcTo wR="3600" hR="3600" stAng="16200000" swAng="-5400000"/>
                <a:lnTo>
                  <a:pt x="0" y="53020"/>
                </a:lnTo>
                <a:arcTo wR="3600" hR="3600" stAng="10800000" swAng="-5400000"/>
                <a:lnTo>
                  <a:pt x="18000" y="566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 - Finite State Machi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9302-141B-43F0-A85A-09A57A7CDE9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lf-starting counters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e-deriving state transition table from don't care assignmen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606960" y="2100240"/>
            <a:ext cx="2357640" cy="1574640"/>
            <a:chOff x="606960" y="2100240"/>
            <a:chExt cx="2357640" cy="1574640"/>
          </a:xfrm>
        </p:grpSpPr>
        <p:grpSp>
          <p:nvGrpSpPr>
            <p:cNvPr id="819" name=""/>
            <p:cNvGrpSpPr/>
            <p:nvPr/>
          </p:nvGrpSpPr>
          <p:grpSpPr>
            <a:xfrm>
              <a:off x="771480" y="2185920"/>
              <a:ext cx="2193120" cy="1488960"/>
              <a:chOff x="771480" y="2185920"/>
              <a:chExt cx="2193120" cy="1488960"/>
            </a:xfrm>
          </p:grpSpPr>
          <p:sp>
            <p:nvSpPr>
              <p:cNvPr id="820" name=""/>
              <p:cNvSpPr/>
              <p:nvPr/>
            </p:nvSpPr>
            <p:spPr>
              <a:xfrm>
                <a:off x="1209240" y="250668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139120" y="250668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964520" y="24303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412360" y="2433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>
                <a:off x="1954800" y="28810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964520" y="24303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498320" y="33447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050480" y="28875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71480" y="29988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904400" y="33447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370960" y="218592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1050480" y="24303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1498320" y="2433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1040760" y="28810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4" name=""/>
            <p:cNvSpPr/>
            <p:nvPr/>
          </p:nvSpPr>
          <p:spPr>
            <a:xfrm>
              <a:off x="606960" y="210024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3522960" y="2098800"/>
            <a:ext cx="2361600" cy="1574280"/>
            <a:chOff x="3522960" y="2098800"/>
            <a:chExt cx="2361600" cy="1574280"/>
          </a:xfrm>
        </p:grpSpPr>
        <p:grpSp>
          <p:nvGrpSpPr>
            <p:cNvPr id="836" name=""/>
            <p:cNvGrpSpPr/>
            <p:nvPr/>
          </p:nvGrpSpPr>
          <p:grpSpPr>
            <a:xfrm>
              <a:off x="3691080" y="2184120"/>
              <a:ext cx="2193480" cy="1488960"/>
              <a:chOff x="3691080" y="2184120"/>
              <a:chExt cx="2193480" cy="1488960"/>
            </a:xfrm>
          </p:grpSpPr>
          <p:sp>
            <p:nvSpPr>
              <p:cNvPr id="837" name=""/>
              <p:cNvSpPr/>
              <p:nvPr/>
            </p:nvSpPr>
            <p:spPr>
              <a:xfrm>
                <a:off x="4128840" y="250488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059080" y="250488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884480" y="24285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332320" y="24318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4874760" y="28792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884480" y="24285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417920" y="33429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970080" y="28857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691080" y="29970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824360" y="3342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290920" y="218412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970080" y="24285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417920" y="24318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3960360" y="28792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1" name=""/>
            <p:cNvSpPr/>
            <p:nvPr/>
          </p:nvSpPr>
          <p:spPr>
            <a:xfrm>
              <a:off x="3522960" y="209880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6444720" y="2098800"/>
            <a:ext cx="2358720" cy="1574280"/>
            <a:chOff x="6444720" y="2098800"/>
            <a:chExt cx="2358720" cy="1574280"/>
          </a:xfrm>
        </p:grpSpPr>
        <p:grpSp>
          <p:nvGrpSpPr>
            <p:cNvPr id="853" name=""/>
            <p:cNvGrpSpPr/>
            <p:nvPr/>
          </p:nvGrpSpPr>
          <p:grpSpPr>
            <a:xfrm>
              <a:off x="6610320" y="2184120"/>
              <a:ext cx="2193120" cy="1488960"/>
              <a:chOff x="6610320" y="2184120"/>
              <a:chExt cx="2193120" cy="1488960"/>
            </a:xfrm>
          </p:grpSpPr>
          <p:sp>
            <p:nvSpPr>
              <p:cNvPr id="854" name=""/>
              <p:cNvSpPr/>
              <p:nvPr/>
            </p:nvSpPr>
            <p:spPr>
              <a:xfrm>
                <a:off x="7048080" y="250488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977960" y="250488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803360" y="24285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8251200" y="24318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H="1">
                <a:off x="7793640" y="28792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803360" y="24285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337160" y="33429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889320" y="28857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610320" y="29970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743240" y="3342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8209800" y="218412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889320" y="24285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337160" y="24318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6879600" y="28792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8" name=""/>
            <p:cNvSpPr/>
            <p:nvPr/>
          </p:nvSpPr>
          <p:spPr>
            <a:xfrm>
              <a:off x="6444720" y="2098800"/>
              <a:ext cx="42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1104840" y="3962520"/>
            <a:ext cx="2805120" cy="2201760"/>
            <a:chOff x="1104840" y="3962520"/>
            <a:chExt cx="2805120" cy="2201760"/>
          </a:xfrm>
        </p:grpSpPr>
        <p:sp>
          <p:nvSpPr>
            <p:cNvPr id="870" name=""/>
            <p:cNvSpPr/>
            <p:nvPr/>
          </p:nvSpPr>
          <p:spPr>
            <a:xfrm>
              <a:off x="1204920" y="4013280"/>
              <a:ext cx="27050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104840" y="444204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2444400" y="3962520"/>
              <a:ext cx="17640" cy="220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3" name=""/>
          <p:cNvSpPr/>
          <p:nvPr/>
        </p:nvSpPr>
        <p:spPr>
          <a:xfrm>
            <a:off x="2513160" y="4630680"/>
            <a:ext cx="1164960" cy="19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506680" y="5259240"/>
            <a:ext cx="1165320" cy="19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516040" y="5856120"/>
            <a:ext cx="1165320" cy="19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5661000" y="4392720"/>
            <a:ext cx="2438280" cy="2133360"/>
            <a:chOff x="5661000" y="4392720"/>
            <a:chExt cx="2438280" cy="2133360"/>
          </a:xfrm>
        </p:grpSpPr>
        <p:sp>
          <p:nvSpPr>
            <p:cNvPr id="877" name=""/>
            <p:cNvSpPr/>
            <p:nvPr/>
          </p:nvSpPr>
          <p:spPr>
            <a:xfrm>
              <a:off x="5661000" y="53830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041880" y="43927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108920" y="439272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566120" y="53830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651720" y="599292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2" name=""/>
            <p:cNvCxnSpPr>
              <a:stCxn id="878" idx="3"/>
              <a:endCxn id="877" idx="0"/>
            </p:cNvCxnSpPr>
            <p:nvPr/>
          </p:nvCxnSpPr>
          <p:spPr>
            <a:xfrm flipH="1">
              <a:off x="5927040" y="4848120"/>
              <a:ext cx="19260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3" name=""/>
            <p:cNvCxnSpPr>
              <a:stCxn id="877" idx="5"/>
              <a:endCxn id="881" idx="2"/>
            </p:cNvCxnSpPr>
            <p:nvPr/>
          </p:nvCxnSpPr>
          <p:spPr>
            <a:xfrm>
              <a:off x="6116760" y="5838480"/>
              <a:ext cx="535680" cy="421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4" name=""/>
            <p:cNvCxnSpPr>
              <a:stCxn id="881" idx="6"/>
              <a:endCxn id="880" idx="3"/>
            </p:cNvCxnSpPr>
            <p:nvPr/>
          </p:nvCxnSpPr>
          <p:spPr>
            <a:xfrm flipV="1">
              <a:off x="7184520" y="5838120"/>
              <a:ext cx="459720" cy="421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5" name=""/>
            <p:cNvCxnSpPr>
              <a:stCxn id="880" idx="0"/>
              <a:endCxn id="879" idx="5"/>
            </p:cNvCxnSpPr>
            <p:nvPr/>
          </p:nvCxnSpPr>
          <p:spPr>
            <a:xfrm flipH="1" flipV="1">
              <a:off x="7563960" y="4847760"/>
              <a:ext cx="26928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6" name=""/>
            <p:cNvCxnSpPr>
              <a:stCxn id="879" idx="2"/>
              <a:endCxn id="878" idx="6"/>
            </p:cNvCxnSpPr>
            <p:nvPr/>
          </p:nvCxnSpPr>
          <p:spPr>
            <a:xfrm flipH="1">
              <a:off x="6575040" y="4659120"/>
              <a:ext cx="5342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87" name=""/>
          <p:cNvGrpSpPr/>
          <p:nvPr/>
        </p:nvGrpSpPr>
        <p:grpSpPr>
          <a:xfrm>
            <a:off x="7563600" y="3782880"/>
            <a:ext cx="992880" cy="687960"/>
            <a:chOff x="7563600" y="3782880"/>
            <a:chExt cx="992880" cy="687960"/>
          </a:xfrm>
        </p:grpSpPr>
        <p:sp>
          <p:nvSpPr>
            <p:cNvPr id="888" name=""/>
            <p:cNvSpPr/>
            <p:nvPr/>
          </p:nvSpPr>
          <p:spPr>
            <a:xfrm>
              <a:off x="8023320" y="37828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9" name=""/>
            <p:cNvCxnSpPr>
              <a:stCxn id="888" idx="3"/>
              <a:endCxn id="879" idx="7"/>
            </p:cNvCxnSpPr>
            <p:nvPr/>
          </p:nvCxnSpPr>
          <p:spPr>
            <a:xfrm flipH="1">
              <a:off x="7563600" y="4238640"/>
              <a:ext cx="537480" cy="232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90" name=""/>
          <p:cNvGrpSpPr/>
          <p:nvPr/>
        </p:nvGrpSpPr>
        <p:grpSpPr>
          <a:xfrm>
            <a:off x="4936320" y="3782880"/>
            <a:ext cx="724680" cy="914760"/>
            <a:chOff x="4936320" y="3782880"/>
            <a:chExt cx="724680" cy="914760"/>
          </a:xfrm>
        </p:grpSpPr>
        <p:sp>
          <p:nvSpPr>
            <p:cNvPr id="891" name=""/>
            <p:cNvSpPr/>
            <p:nvPr/>
          </p:nvSpPr>
          <p:spPr>
            <a:xfrm>
              <a:off x="5127480" y="37828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2" name=""/>
            <p:cNvCxnSpPr>
              <a:stCxn id="891" idx="3"/>
              <a:endCxn id="893" idx="0"/>
            </p:cNvCxnSpPr>
            <p:nvPr/>
          </p:nvCxnSpPr>
          <p:spPr>
            <a:xfrm flipH="1">
              <a:off x="4936320" y="4238640"/>
              <a:ext cx="268920" cy="459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94" name=""/>
          <p:cNvGrpSpPr/>
          <p:nvPr/>
        </p:nvGrpSpPr>
        <p:grpSpPr>
          <a:xfrm>
            <a:off x="4670280" y="4697280"/>
            <a:ext cx="1068840" cy="763560"/>
            <a:chOff x="4670280" y="4697280"/>
            <a:chExt cx="1068840" cy="763560"/>
          </a:xfrm>
        </p:grpSpPr>
        <p:sp>
          <p:nvSpPr>
            <p:cNvPr id="893" name=""/>
            <p:cNvSpPr/>
            <p:nvPr/>
          </p:nvSpPr>
          <p:spPr>
            <a:xfrm>
              <a:off x="4670280" y="46972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5" name=""/>
            <p:cNvCxnSpPr>
              <a:stCxn id="893" idx="5"/>
              <a:endCxn id="877" idx="1"/>
            </p:cNvCxnSpPr>
            <p:nvPr/>
          </p:nvCxnSpPr>
          <p:spPr>
            <a:xfrm>
              <a:off x="5126040" y="5152680"/>
              <a:ext cx="613440" cy="308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 - Finite State Machi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20AB-38F9-402D-9746-E1C1535CB52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lf-starting counte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art-up stat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 power-up, counter may be in an unused or invalid st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er must guarantee that it (eventually) enters a valid st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elf-starting solu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counter so that invalid states eventually transition to a valid st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y limit exploitation of don't ca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5051520" y="3909960"/>
            <a:ext cx="3886200" cy="2743200"/>
            <a:chOff x="5051520" y="3909960"/>
            <a:chExt cx="3886200" cy="2743200"/>
          </a:xfrm>
        </p:grpSpPr>
        <p:sp>
          <p:nvSpPr>
            <p:cNvPr id="899" name=""/>
            <p:cNvSpPr/>
            <p:nvPr/>
          </p:nvSpPr>
          <p:spPr>
            <a:xfrm>
              <a:off x="6186600" y="3962520"/>
              <a:ext cx="20444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mplem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 previous sli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0" name=""/>
            <p:cNvGrpSpPr/>
            <p:nvPr/>
          </p:nvGrpSpPr>
          <p:grpSpPr>
            <a:xfrm>
              <a:off x="5051520" y="3909960"/>
              <a:ext cx="3886200" cy="2743200"/>
              <a:chOff x="5051520" y="3909960"/>
              <a:chExt cx="3886200" cy="2743200"/>
            </a:xfrm>
          </p:grpSpPr>
          <p:sp>
            <p:nvSpPr>
              <p:cNvPr id="901" name=""/>
              <p:cNvSpPr/>
              <p:nvPr/>
            </p:nvSpPr>
            <p:spPr>
              <a:xfrm>
                <a:off x="6041880" y="5510160"/>
                <a:ext cx="53352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423120" y="4519800"/>
                <a:ext cx="533160" cy="533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489800" y="4519800"/>
                <a:ext cx="533520" cy="533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947000" y="5510160"/>
                <a:ext cx="53352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032600" y="6120000"/>
                <a:ext cx="533520" cy="533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06" name=""/>
              <p:cNvCxnSpPr>
                <a:stCxn id="902" idx="3"/>
                <a:endCxn id="901" idx="0"/>
              </p:cNvCxnSpPr>
              <p:nvPr/>
            </p:nvCxnSpPr>
            <p:spPr>
              <a:xfrm flipH="1">
                <a:off x="6308280" y="4975200"/>
                <a:ext cx="192960" cy="5356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07" name=""/>
              <p:cNvCxnSpPr>
                <a:stCxn id="901" idx="5"/>
                <a:endCxn id="905" idx="2"/>
              </p:cNvCxnSpPr>
              <p:nvPr/>
            </p:nvCxnSpPr>
            <p:spPr>
              <a:xfrm>
                <a:off x="6497640" y="5965560"/>
                <a:ext cx="535680" cy="4215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08" name=""/>
              <p:cNvCxnSpPr>
                <a:stCxn id="905" idx="6"/>
                <a:endCxn id="904" idx="3"/>
              </p:cNvCxnSpPr>
              <p:nvPr/>
            </p:nvCxnSpPr>
            <p:spPr>
              <a:xfrm flipV="1">
                <a:off x="7566120" y="5965200"/>
                <a:ext cx="459360" cy="4215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09" name=""/>
              <p:cNvCxnSpPr>
                <a:stCxn id="904" idx="0"/>
                <a:endCxn id="903" idx="5"/>
              </p:cNvCxnSpPr>
              <p:nvPr/>
            </p:nvCxnSpPr>
            <p:spPr>
              <a:xfrm flipH="1" flipV="1">
                <a:off x="7944840" y="4974840"/>
                <a:ext cx="268920" cy="5356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10" name=""/>
              <p:cNvCxnSpPr>
                <a:stCxn id="903" idx="2"/>
                <a:endCxn id="902" idx="6"/>
              </p:cNvCxnSpPr>
              <p:nvPr/>
            </p:nvCxnSpPr>
            <p:spPr>
              <a:xfrm flipH="1">
                <a:off x="6955920" y="4786200"/>
                <a:ext cx="5342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11" name=""/>
              <p:cNvSpPr/>
              <p:nvPr/>
            </p:nvSpPr>
            <p:spPr>
              <a:xfrm>
                <a:off x="8404200" y="3909960"/>
                <a:ext cx="53352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508720" y="3909960"/>
                <a:ext cx="53316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051520" y="4824360"/>
                <a:ext cx="53316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14" name=""/>
              <p:cNvCxnSpPr>
                <a:stCxn id="911" idx="3"/>
                <a:endCxn id="903" idx="7"/>
              </p:cNvCxnSpPr>
              <p:nvPr/>
            </p:nvCxnSpPr>
            <p:spPr>
              <a:xfrm flipH="1">
                <a:off x="7945560" y="4365720"/>
                <a:ext cx="536760" cy="2325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15" name=""/>
              <p:cNvCxnSpPr>
                <a:stCxn id="912" idx="3"/>
                <a:endCxn id="913" idx="0"/>
              </p:cNvCxnSpPr>
              <p:nvPr/>
            </p:nvCxnSpPr>
            <p:spPr>
              <a:xfrm flipH="1">
                <a:off x="5317560" y="4365720"/>
                <a:ext cx="268920" cy="4593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16" name=""/>
              <p:cNvCxnSpPr>
                <a:stCxn id="913" idx="5"/>
                <a:endCxn id="901" idx="1"/>
              </p:cNvCxnSpPr>
              <p:nvPr/>
            </p:nvCxnSpPr>
            <p:spPr>
              <a:xfrm>
                <a:off x="5506920" y="5279760"/>
                <a:ext cx="613440" cy="3085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917" name=""/>
          <p:cNvGrpSpPr/>
          <p:nvPr/>
        </p:nvGrpSpPr>
        <p:grpSpPr>
          <a:xfrm>
            <a:off x="393840" y="3925800"/>
            <a:ext cx="3999960" cy="2727360"/>
            <a:chOff x="393840" y="3925800"/>
            <a:chExt cx="3999960" cy="2727360"/>
          </a:xfrm>
        </p:grpSpPr>
        <p:sp>
          <p:nvSpPr>
            <p:cNvPr id="918" name=""/>
            <p:cNvSpPr/>
            <p:nvPr/>
          </p:nvSpPr>
          <p:spPr>
            <a:xfrm>
              <a:off x="1955520" y="551016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336760" y="4519440"/>
              <a:ext cx="53280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403440" y="451944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860640" y="551016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946240" y="611964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23" name=""/>
            <p:cNvCxnSpPr>
              <a:stCxn id="919" idx="3"/>
              <a:endCxn id="918" idx="0"/>
            </p:cNvCxnSpPr>
            <p:nvPr/>
          </p:nvCxnSpPr>
          <p:spPr>
            <a:xfrm flipH="1">
              <a:off x="2221560" y="4975200"/>
              <a:ext cx="19260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4" name=""/>
            <p:cNvCxnSpPr>
              <a:stCxn id="918" idx="5"/>
              <a:endCxn id="922" idx="2"/>
            </p:cNvCxnSpPr>
            <p:nvPr/>
          </p:nvCxnSpPr>
          <p:spPr>
            <a:xfrm>
              <a:off x="2410920" y="5965920"/>
              <a:ext cx="535320" cy="421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5" name=""/>
            <p:cNvCxnSpPr>
              <a:stCxn id="922" idx="6"/>
              <a:endCxn id="921" idx="3"/>
            </p:cNvCxnSpPr>
            <p:nvPr/>
          </p:nvCxnSpPr>
          <p:spPr>
            <a:xfrm flipV="1">
              <a:off x="3479400" y="5965560"/>
              <a:ext cx="459000" cy="421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6" name=""/>
            <p:cNvCxnSpPr>
              <a:stCxn id="921" idx="0"/>
              <a:endCxn id="920" idx="5"/>
            </p:cNvCxnSpPr>
            <p:nvPr/>
          </p:nvCxnSpPr>
          <p:spPr>
            <a:xfrm flipH="1" flipV="1">
              <a:off x="3858840" y="4974840"/>
              <a:ext cx="26856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7" name=""/>
            <p:cNvCxnSpPr>
              <a:stCxn id="920" idx="2"/>
              <a:endCxn id="919" idx="6"/>
            </p:cNvCxnSpPr>
            <p:nvPr/>
          </p:nvCxnSpPr>
          <p:spPr>
            <a:xfrm flipH="1">
              <a:off x="2869200" y="4785840"/>
              <a:ext cx="5338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8" name=""/>
            <p:cNvSpPr/>
            <p:nvPr/>
          </p:nvSpPr>
          <p:spPr>
            <a:xfrm>
              <a:off x="393840" y="395928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644480" y="392580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965160" y="4824360"/>
              <a:ext cx="53280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1" name=""/>
            <p:cNvCxnSpPr>
              <a:stCxn id="929" idx="3"/>
              <a:endCxn id="930" idx="7"/>
            </p:cNvCxnSpPr>
            <p:nvPr/>
          </p:nvCxnSpPr>
          <p:spPr>
            <a:xfrm flipH="1">
              <a:off x="1419840" y="4381560"/>
              <a:ext cx="302040" cy="521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32" name=""/>
            <p:cNvCxnSpPr>
              <a:stCxn id="928" idx="6"/>
              <a:endCxn id="929" idx="2"/>
            </p:cNvCxnSpPr>
            <p:nvPr/>
          </p:nvCxnSpPr>
          <p:spPr>
            <a:xfrm flipV="1">
              <a:off x="927000" y="4192200"/>
              <a:ext cx="717840" cy="33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33" name=""/>
            <p:cNvCxnSpPr>
              <a:stCxn id="930" idx="1"/>
              <a:endCxn id="928" idx="5"/>
            </p:cNvCxnSpPr>
            <p:nvPr/>
          </p:nvCxnSpPr>
          <p:spPr>
            <a:xfrm flipH="1" flipV="1">
              <a:off x="848520" y="4414320"/>
              <a:ext cx="194040" cy="488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 - Finite State Machi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BE15-904C-462A-86CE-1A42E2117AA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2-bit up-down counter (2 inputs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rection: D = 0 for up, D = 1 for dow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nt: C = 0  for hold, C = 1 for cou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1676520" y="3809880"/>
            <a:ext cx="1676160" cy="1600200"/>
            <a:chOff x="1676520" y="3809880"/>
            <a:chExt cx="1676160" cy="1600200"/>
          </a:xfrm>
        </p:grpSpPr>
        <p:sp>
          <p:nvSpPr>
            <p:cNvPr id="937" name=""/>
            <p:cNvSpPr/>
            <p:nvPr/>
          </p:nvSpPr>
          <p:spPr>
            <a:xfrm>
              <a:off x="1676520" y="487692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676520" y="38098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819520" y="38098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819520" y="487692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1038240" y="3238560"/>
            <a:ext cx="2955960" cy="2745720"/>
            <a:chOff x="1038240" y="3238560"/>
            <a:chExt cx="2955960" cy="2745720"/>
          </a:xfrm>
        </p:grpSpPr>
        <p:cxnSp>
          <p:nvCxnSpPr>
            <p:cNvPr id="942" name=""/>
            <p:cNvCxnSpPr>
              <a:stCxn id="939" idx="0"/>
              <a:endCxn id="939" idx="6"/>
            </p:cNvCxnSpPr>
            <p:nvPr/>
          </p:nvCxnSpPr>
          <p:spPr>
            <a:xfrm flipH="1" rot="16200000">
              <a:off x="3086280" y="3808440"/>
              <a:ext cx="267120" cy="267120"/>
            </a:xfrm>
            <a:prstGeom prst="curvedConnector5">
              <a:avLst>
                <a:gd name="adj1" fmla="val -85695"/>
                <a:gd name="adj2" fmla="val 92847"/>
                <a:gd name="adj3" fmla="val -8569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3" name=""/>
            <p:cNvCxnSpPr>
              <a:stCxn id="940" idx="6"/>
              <a:endCxn id="940" idx="4"/>
            </p:cNvCxnSpPr>
            <p:nvPr/>
          </p:nvCxnSpPr>
          <p:spPr>
            <a:xfrm flipH="1">
              <a:off x="3085920" y="5143680"/>
              <a:ext cx="267120" cy="267120"/>
            </a:xfrm>
            <a:prstGeom prst="curvedConnector5">
              <a:avLst>
                <a:gd name="adj1" fmla="val -85695"/>
                <a:gd name="adj2" fmla="val 92847"/>
                <a:gd name="adj3" fmla="val -8569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4" name=""/>
            <p:cNvCxnSpPr>
              <a:stCxn id="937" idx="4"/>
              <a:endCxn id="937" idx="2"/>
            </p:cNvCxnSpPr>
            <p:nvPr/>
          </p:nvCxnSpPr>
          <p:spPr>
            <a:xfrm flipV="1" rot="16200000">
              <a:off x="1676160" y="5142960"/>
              <a:ext cx="267120" cy="267120"/>
            </a:xfrm>
            <a:prstGeom prst="curvedConnector5">
              <a:avLst>
                <a:gd name="adj1" fmla="val -85695"/>
                <a:gd name="adj2" fmla="val 92847"/>
                <a:gd name="adj3" fmla="val -8569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5" name=""/>
            <p:cNvCxnSpPr>
              <a:stCxn id="938" idx="2"/>
              <a:endCxn id="938" idx="0"/>
            </p:cNvCxnSpPr>
            <p:nvPr/>
          </p:nvCxnSpPr>
          <p:spPr>
            <a:xfrm flipH="1" rot="10800000">
              <a:off x="1675080" y="3809160"/>
              <a:ext cx="267120" cy="267120"/>
            </a:xfrm>
            <a:prstGeom prst="curvedConnector5">
              <a:avLst>
                <a:gd name="adj1" fmla="val -85695"/>
                <a:gd name="adj2" fmla="val 92847"/>
                <a:gd name="adj3" fmla="val -8569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6" name=""/>
            <p:cNvSpPr/>
            <p:nvPr/>
          </p:nvSpPr>
          <p:spPr>
            <a:xfrm>
              <a:off x="1038240" y="3238560"/>
              <a:ext cx="517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476520" y="3238560"/>
              <a:ext cx="517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473280" y="5464080"/>
              <a:ext cx="517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038240" y="5448240"/>
              <a:ext cx="517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1265040" y="3390840"/>
            <a:ext cx="2495880" cy="2425320"/>
            <a:chOff x="1265040" y="3390840"/>
            <a:chExt cx="2495880" cy="2425320"/>
          </a:xfrm>
        </p:grpSpPr>
        <p:cxnSp>
          <p:nvCxnSpPr>
            <p:cNvPr id="951" name=""/>
            <p:cNvCxnSpPr>
              <a:stCxn id="938" idx="3"/>
              <a:endCxn id="937" idx="1"/>
            </p:cNvCxnSpPr>
            <p:nvPr/>
          </p:nvCxnSpPr>
          <p:spPr>
            <a:xfrm>
              <a:off x="1753920" y="4265640"/>
              <a:ext cx="1080" cy="689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2" name=""/>
            <p:cNvCxnSpPr>
              <a:stCxn id="937" idx="5"/>
              <a:endCxn id="940" idx="3"/>
            </p:cNvCxnSpPr>
            <p:nvPr/>
          </p:nvCxnSpPr>
          <p:spPr>
            <a:xfrm>
              <a:off x="2131920" y="5331960"/>
              <a:ext cx="7660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3" name=""/>
            <p:cNvCxnSpPr>
              <a:stCxn id="940" idx="7"/>
              <a:endCxn id="939" idx="5"/>
            </p:cNvCxnSpPr>
            <p:nvPr/>
          </p:nvCxnSpPr>
          <p:spPr>
            <a:xfrm flipV="1">
              <a:off x="3274560" y="4265280"/>
              <a:ext cx="1080" cy="689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4" name=""/>
            <p:cNvCxnSpPr>
              <a:stCxn id="939" idx="1"/>
              <a:endCxn id="938" idx="7"/>
            </p:cNvCxnSpPr>
            <p:nvPr/>
          </p:nvCxnSpPr>
          <p:spPr>
            <a:xfrm flipH="1">
              <a:off x="2131560" y="3887280"/>
              <a:ext cx="7660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55" name=""/>
            <p:cNvSpPr/>
            <p:nvPr/>
          </p:nvSpPr>
          <p:spPr>
            <a:xfrm>
              <a:off x="3246480" y="4381560"/>
              <a:ext cx="514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255760" y="5295960"/>
              <a:ext cx="514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332080" y="3390840"/>
              <a:ext cx="514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265040" y="4305240"/>
              <a:ext cx="514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1942920" y="4076280"/>
            <a:ext cx="1143720" cy="1067760"/>
            <a:chOff x="1942920" y="4076280"/>
            <a:chExt cx="1143720" cy="1067760"/>
          </a:xfrm>
        </p:grpSpPr>
        <p:cxnSp>
          <p:nvCxnSpPr>
            <p:cNvPr id="960" name=""/>
            <p:cNvCxnSpPr>
              <a:stCxn id="939" idx="4"/>
              <a:endCxn id="940" idx="0"/>
            </p:cNvCxnSpPr>
            <p:nvPr/>
          </p:nvCxnSpPr>
          <p:spPr>
            <a:xfrm>
              <a:off x="3085920" y="4343400"/>
              <a:ext cx="1080" cy="53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1" name=""/>
            <p:cNvCxnSpPr>
              <a:stCxn id="940" idx="2"/>
              <a:endCxn id="937" idx="6"/>
            </p:cNvCxnSpPr>
            <p:nvPr/>
          </p:nvCxnSpPr>
          <p:spPr>
            <a:xfrm flipH="1">
              <a:off x="2209320" y="5143320"/>
              <a:ext cx="6105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2" name=""/>
            <p:cNvCxnSpPr>
              <a:stCxn id="937" idx="0"/>
              <a:endCxn id="938" idx="4"/>
            </p:cNvCxnSpPr>
            <p:nvPr/>
          </p:nvCxnSpPr>
          <p:spPr>
            <a:xfrm flipV="1">
              <a:off x="1942920" y="4343040"/>
              <a:ext cx="1080" cy="53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3" name=""/>
            <p:cNvCxnSpPr>
              <a:stCxn id="938" idx="6"/>
              <a:endCxn id="939" idx="2"/>
            </p:cNvCxnSpPr>
            <p:nvPr/>
          </p:nvCxnSpPr>
          <p:spPr>
            <a:xfrm>
              <a:off x="2209680" y="4076280"/>
              <a:ext cx="6105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4" name=""/>
            <p:cNvSpPr/>
            <p:nvPr/>
          </p:nvSpPr>
          <p:spPr>
            <a:xfrm>
              <a:off x="2255760" y="4305240"/>
              <a:ext cx="514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5556240" y="2438280"/>
            <a:ext cx="2819520" cy="4051440"/>
            <a:chOff x="5556240" y="2438280"/>
            <a:chExt cx="2819520" cy="4051440"/>
          </a:xfrm>
        </p:grpSpPr>
        <p:sp>
          <p:nvSpPr>
            <p:cNvPr id="966" name=""/>
            <p:cNvSpPr/>
            <p:nvPr/>
          </p:nvSpPr>
          <p:spPr>
            <a:xfrm>
              <a:off x="5638680" y="2438280"/>
              <a:ext cx="2737080" cy="40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556240" y="2971800"/>
              <a:ext cx="274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7385040" y="2743200"/>
              <a:ext cx="6480" cy="373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394320" y="2971800"/>
              <a:ext cx="0" cy="350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0" name=""/>
          <p:cNvSpPr/>
          <p:nvPr/>
        </p:nvSpPr>
        <p:spPr>
          <a:xfrm>
            <a:off x="228600" y="2590920"/>
            <a:ext cx="904248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 - Finite State Machi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D0AE-6069-4467-A1A8-01B3C390FFD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" descr=""/>
          <p:cNvPicPr/>
          <p:nvPr/>
        </p:nvPicPr>
        <p:blipFill>
          <a:blip r:embed="rId1"/>
          <a:stretch/>
        </p:blipFill>
        <p:spPr>
          <a:xfrm>
            <a:off x="4952880" y="4714920"/>
            <a:ext cx="4318200" cy="1958760"/>
          </a:xfrm>
          <a:prstGeom prst="rect">
            <a:avLst/>
          </a:prstGeom>
          <a:ln w="0">
            <a:noFill/>
          </a:ln>
        </p:spPr>
      </p:pic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ctivity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3" name=""/>
          <p:cNvSpPr/>
          <p:nvPr/>
        </p:nvSpPr>
        <p:spPr>
          <a:xfrm>
            <a:off x="685800" y="1752480"/>
            <a:ext cx="2662200" cy="40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32004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03360" y="228600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320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2431800" y="2057400"/>
            <a:ext cx="6120" cy="3733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04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441440" y="2286000"/>
            <a:ext cx="0" cy="350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04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743080" y="1727280"/>
            <a:ext cx="2875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1 = C’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+ CDS0’S1’ + CDS0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+ CD’S0S1’ + CD’S0’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= C’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+ C(D’(S1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S0) + D(S1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S0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748480" y="342900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0 = CS0’ + C’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3733920" y="3048120"/>
            <a:ext cx="1675800" cy="1701720"/>
            <a:chOff x="3733920" y="3048120"/>
            <a:chExt cx="1675800" cy="1701720"/>
          </a:xfrm>
        </p:grpSpPr>
        <p:grpSp>
          <p:nvGrpSpPr>
            <p:cNvPr id="980" name=""/>
            <p:cNvGrpSpPr/>
            <p:nvPr/>
          </p:nvGrpSpPr>
          <p:grpSpPr>
            <a:xfrm>
              <a:off x="3733920" y="3048120"/>
              <a:ext cx="1675800" cy="1701720"/>
              <a:chOff x="3733920" y="3048120"/>
              <a:chExt cx="1675800" cy="1701720"/>
            </a:xfrm>
          </p:grpSpPr>
          <p:sp>
            <p:nvSpPr>
              <p:cNvPr id="981" name=""/>
              <p:cNvSpPr/>
              <p:nvPr/>
            </p:nvSpPr>
            <p:spPr>
              <a:xfrm>
                <a:off x="4038480" y="3301920"/>
                <a:ext cx="114264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1    1    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1    1    0 </a:t>
                </a:r>
                <a:br>
                  <a:rPr sz="1300"/>
                </a:b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   0    0    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   0    0   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571640" y="330192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571640" y="330192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181480" y="360684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206680" y="3759120"/>
                <a:ext cx="20304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4597200" y="3048120"/>
                <a:ext cx="58392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3971520" y="3301920"/>
                <a:ext cx="59976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4267080" y="330192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H="1">
                <a:off x="3962160" y="360684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4267080" y="4521240"/>
                <a:ext cx="609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3962160" y="391176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4292280" y="4521240"/>
                <a:ext cx="583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3733920" y="3987720"/>
                <a:ext cx="22968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4876560" y="330192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4571640" y="3911760"/>
                <a:ext cx="60948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3971520" y="3911760"/>
                <a:ext cx="59976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4267080" y="391176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H="1">
                <a:off x="3962160" y="421632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876560" y="391176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0" name=""/>
            <p:cNvSpPr/>
            <p:nvPr/>
          </p:nvSpPr>
          <p:spPr>
            <a:xfrm>
              <a:off x="4343400" y="3353040"/>
              <a:ext cx="457200" cy="53316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533160"/>
                <a:gd name="textAreaBottom" fmla="*/ 510840 h 533160"/>
              </a:gdLst>
              <a:ahLst/>
              <a:rect l="textAreaLeft" t="textAreaTop" r="textAreaRight" b="textAreaBottom"/>
              <a:pathLst>
                <a:path w="21600" h="25186">
                  <a:moveTo>
                    <a:pt x="3600" y="0"/>
                  </a:moveTo>
                  <a:arcTo wR="3600" hR="3600" stAng="16200000" swAng="-5400000"/>
                  <a:lnTo>
                    <a:pt x="0" y="21586"/>
                  </a:lnTo>
                  <a:arcTo wR="3600" hR="3600" stAng="10800000" swAng="-5400000"/>
                  <a:lnTo>
                    <a:pt x="18000" y="251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886200" y="3946680"/>
              <a:ext cx="304920" cy="533520"/>
            </a:xfrm>
            <a:custGeom>
              <a:avLst/>
              <a:gdLst>
                <a:gd name="textAreaLeft" fmla="*/ 0 w 304920"/>
                <a:gd name="textAreaRight" fmla="*/ 213840 w 30492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4952160" y="3946680"/>
              <a:ext cx="304920" cy="533520"/>
            </a:xfrm>
            <a:custGeom>
              <a:avLst/>
              <a:gdLst>
                <a:gd name="textAreaLeft" fmla="*/ -360 w 304920"/>
                <a:gd name="textAreaRight" fmla="*/ 213480 w 30492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3733920" y="1422360"/>
            <a:ext cx="1675800" cy="1701720"/>
            <a:chOff x="3733920" y="1422360"/>
            <a:chExt cx="1675800" cy="1701720"/>
          </a:xfrm>
        </p:grpSpPr>
        <p:grpSp>
          <p:nvGrpSpPr>
            <p:cNvPr id="1004" name=""/>
            <p:cNvGrpSpPr/>
            <p:nvPr/>
          </p:nvGrpSpPr>
          <p:grpSpPr>
            <a:xfrm>
              <a:off x="3733920" y="1422360"/>
              <a:ext cx="1675800" cy="1701720"/>
              <a:chOff x="3733920" y="1422360"/>
              <a:chExt cx="1675800" cy="1701720"/>
            </a:xfrm>
          </p:grpSpPr>
          <p:sp>
            <p:nvSpPr>
              <p:cNvPr id="1005" name=""/>
              <p:cNvSpPr/>
              <p:nvPr/>
            </p:nvSpPr>
            <p:spPr>
              <a:xfrm>
                <a:off x="4038480" y="1676160"/>
                <a:ext cx="114264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0    1    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0    1    1 </a:t>
                </a:r>
                <a:br>
                  <a:rPr sz="1300"/>
                </a:b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   0    1    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1    0   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571640" y="167616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571640" y="167616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181480" y="198108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206680" y="2133360"/>
                <a:ext cx="20304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597200" y="1422360"/>
                <a:ext cx="58392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3971520" y="1676160"/>
                <a:ext cx="59976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4267080" y="167616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flipH="1">
                <a:off x="3962160" y="198108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267080" y="2895480"/>
                <a:ext cx="609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962160" y="228600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4292280" y="2895480"/>
                <a:ext cx="583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733920" y="2361960"/>
                <a:ext cx="22968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876560" y="167616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571640" y="2286000"/>
                <a:ext cx="60948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971520" y="2286000"/>
                <a:ext cx="59976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4267080" y="2286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H="1">
                <a:off x="3962160" y="259056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876560" y="2286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4" name=""/>
            <p:cNvSpPr/>
            <p:nvPr/>
          </p:nvSpPr>
          <p:spPr>
            <a:xfrm>
              <a:off x="4648320" y="1726920"/>
              <a:ext cx="457200" cy="5335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533520"/>
                <a:gd name="textAreaBottom" fmla="*/ 511200 h 533520"/>
              </a:gdLst>
              <a:ahLst/>
              <a:rect l="textAreaLeft" t="textAreaTop" r="textAreaRight" b="textAreaBottom"/>
              <a:pathLst>
                <a:path w="21600" h="25203">
                  <a:moveTo>
                    <a:pt x="3600" y="0"/>
                  </a:moveTo>
                  <a:arcTo wR="3600" hR="3600" stAng="16200000" swAng="-5400000"/>
                  <a:lnTo>
                    <a:pt x="0" y="21603"/>
                  </a:lnTo>
                  <a:arcTo wR="3600" hR="3600" stAng="10800000" swAng="-5400000"/>
                  <a:lnTo>
                    <a:pt x="18000" y="252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038480" y="2336760"/>
              <a:ext cx="152640" cy="228600"/>
            </a:xfrm>
            <a:custGeom>
              <a:avLst/>
              <a:gdLst>
                <a:gd name="textAreaLeft" fmla="*/ 7200 w 152640"/>
                <a:gd name="textAreaRight" fmla="*/ 145440 w 152640"/>
                <a:gd name="textAreaTop" fmla="*/ 7200 h 228600"/>
                <a:gd name="textAreaBottom" fmla="*/ 221400 h 228600"/>
              </a:gdLst>
              <a:ahLst/>
              <a:rect l="textAreaLeft" t="textAreaTop" r="textAreaRight" b="textAreaBottom"/>
              <a:pathLst>
                <a:path w="21600" h="32324">
                  <a:moveTo>
                    <a:pt x="3600" y="0"/>
                  </a:moveTo>
                  <a:arcTo wR="3600" hR="3600" stAng="16200000" swAng="-5400000"/>
                  <a:lnTo>
                    <a:pt x="0" y="28724"/>
                  </a:lnTo>
                  <a:arcTo wR="3600" hR="3600" stAng="10800000" swAng="-5400000"/>
                  <a:lnTo>
                    <a:pt x="18000" y="323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343400" y="2641320"/>
              <a:ext cx="152280" cy="22860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228600"/>
                <a:gd name="textAreaBottom" fmla="*/ 221400 h 228600"/>
              </a:gdLst>
              <a:ahLst/>
              <a:rect l="textAreaLeft" t="textAreaTop" r="textAreaRight" b="textAreaBottom"/>
              <a:pathLst>
                <a:path w="21600" h="32400">
                  <a:moveTo>
                    <a:pt x="3600" y="0"/>
                  </a:moveTo>
                  <a:arcTo wR="3600" hR="3600" stAng="16200000" swAng="-5400000"/>
                  <a:lnTo>
                    <a:pt x="0" y="28800"/>
                  </a:lnTo>
                  <a:arcTo wR="3600" hR="3600" stAng="10800000" swAng="-5400000"/>
                  <a:lnTo>
                    <a:pt x="18000" y="32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952880" y="2641320"/>
              <a:ext cx="152640" cy="228600"/>
            </a:xfrm>
            <a:custGeom>
              <a:avLst/>
              <a:gdLst>
                <a:gd name="textAreaLeft" fmla="*/ 7200 w 152640"/>
                <a:gd name="textAreaRight" fmla="*/ 145440 w 152640"/>
                <a:gd name="textAreaTop" fmla="*/ 7200 h 228600"/>
                <a:gd name="textAreaBottom" fmla="*/ 221400 h 228600"/>
              </a:gdLst>
              <a:ahLst/>
              <a:rect l="textAreaLeft" t="textAreaTop" r="textAreaRight" b="textAreaBottom"/>
              <a:pathLst>
                <a:path w="21600" h="32324">
                  <a:moveTo>
                    <a:pt x="3600" y="0"/>
                  </a:moveTo>
                  <a:arcTo wR="3600" hR="3600" stAng="16200000" swAng="-5400000"/>
                  <a:lnTo>
                    <a:pt x="0" y="28724"/>
                  </a:lnTo>
                  <a:arcTo wR="3600" hR="3600" stAng="10800000" swAng="-5400000"/>
                  <a:lnTo>
                    <a:pt x="18000" y="323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648320" y="2336760"/>
              <a:ext cx="152280" cy="22860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228600"/>
                <a:gd name="textAreaBottom" fmla="*/ 221400 h 228600"/>
              </a:gdLst>
              <a:ahLst/>
              <a:rect l="textAreaLeft" t="textAreaTop" r="textAreaRight" b="textAreaBottom"/>
              <a:pathLst>
                <a:path w="21600" h="32400">
                  <a:moveTo>
                    <a:pt x="3600" y="0"/>
                  </a:moveTo>
                  <a:arcTo wR="3600" hR="3600" stAng="16200000" swAng="-5400000"/>
                  <a:lnTo>
                    <a:pt x="0" y="28800"/>
                  </a:lnTo>
                  <a:arcTo wR="3600" hR="3600" stAng="10800000" swAng="-5400000"/>
                  <a:lnTo>
                    <a:pt x="18000" y="32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9" name=""/>
          <p:cNvSpPr/>
          <p:nvPr/>
        </p:nvSpPr>
        <p:spPr>
          <a:xfrm>
            <a:off x="228600" y="1447920"/>
            <a:ext cx="904248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 - Finite State Machi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B315-F317-4157-BBA2-5FC2C4309D6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unter/shift-register mod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Values stored in registers represent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at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of the circui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mbinational logic computes: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xt st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 of current state and inp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s of flip-flop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1143000" y="4419720"/>
            <a:ext cx="7112160" cy="1523520"/>
            <a:chOff x="1143000" y="4419720"/>
            <a:chExt cx="7112160" cy="1523520"/>
          </a:xfrm>
        </p:grpSpPr>
        <p:sp>
          <p:nvSpPr>
            <p:cNvPr id="1033" name=""/>
            <p:cNvSpPr/>
            <p:nvPr/>
          </p:nvSpPr>
          <p:spPr>
            <a:xfrm>
              <a:off x="1143000" y="4647960"/>
              <a:ext cx="927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934320" y="5638680"/>
              <a:ext cx="1320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638680" y="4647960"/>
              <a:ext cx="1181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276720" y="5486400"/>
              <a:ext cx="1396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urr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7" name=""/>
            <p:cNvGrpSpPr/>
            <p:nvPr/>
          </p:nvGrpSpPr>
          <p:grpSpPr>
            <a:xfrm>
              <a:off x="5029200" y="5181480"/>
              <a:ext cx="1066680" cy="304560"/>
              <a:chOff x="5029200" y="5181480"/>
              <a:chExt cx="1066680" cy="304560"/>
            </a:xfrm>
          </p:grpSpPr>
          <p:sp>
            <p:nvSpPr>
              <p:cNvPr id="1038" name=""/>
              <p:cNvSpPr/>
              <p:nvPr/>
            </p:nvSpPr>
            <p:spPr>
              <a:xfrm>
                <a:off x="5029200" y="5181480"/>
                <a:ext cx="1066680" cy="304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029200" y="5257440"/>
                <a:ext cx="15228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V="1">
                <a:off x="5029200" y="5333760"/>
                <a:ext cx="152280" cy="75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1" name=""/>
            <p:cNvSpPr/>
            <p:nvPr/>
          </p:nvSpPr>
          <p:spPr>
            <a:xfrm>
              <a:off x="3429000" y="4419720"/>
              <a:ext cx="1600200" cy="60948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2" name=""/>
            <p:cNvCxnSpPr>
              <a:stCxn id="1041" idx="3"/>
              <a:endCxn id="1038" idx="0"/>
            </p:cNvCxnSpPr>
            <p:nvPr/>
          </p:nvCxnSpPr>
          <p:spPr>
            <a:xfrm>
              <a:off x="5029200" y="4723920"/>
              <a:ext cx="534240" cy="4575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3" name=""/>
            <p:cNvCxnSpPr>
              <a:stCxn id="1038" idx="2"/>
              <a:endCxn id="1041" idx="1"/>
            </p:cNvCxnSpPr>
            <p:nvPr/>
          </p:nvCxnSpPr>
          <p:spPr>
            <a:xfrm flipV="1" rot="16200000">
              <a:off x="4114440" y="4037760"/>
              <a:ext cx="762480" cy="2134440"/>
            </a:xfrm>
            <a:prstGeom prst="bentConnector4">
              <a:avLst>
                <a:gd name="adj1" fmla="val -29995"/>
                <a:gd name="adj2" fmla="val 12893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4" name=""/>
            <p:cNvCxnSpPr/>
            <p:nvPr/>
          </p:nvCxnSpPr>
          <p:spPr>
            <a:xfrm>
              <a:off x="5562720" y="5714640"/>
              <a:ext cx="12196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5" name=""/>
            <p:cNvCxnSpPr/>
            <p:nvPr/>
          </p:nvCxnSpPr>
          <p:spPr>
            <a:xfrm>
              <a:off x="2209320" y="4723920"/>
              <a:ext cx="12200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 - Finite State Machi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3258-B8BB-466F-9AEB-ABBE3D825B5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bstraction of state elemen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3320" y="1599840"/>
            <a:ext cx="880740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Divide circuit into combinational logic and stat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Localize the feedback loops and make it easy to break cycl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mplementation of storage elements leads to various forms of sequential logic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49360" y="3276720"/>
            <a:ext cx="8164440" cy="2590560"/>
            <a:chOff x="549360" y="3276720"/>
            <a:chExt cx="8164440" cy="2590560"/>
          </a:xfrm>
        </p:grpSpPr>
        <p:sp>
          <p:nvSpPr>
            <p:cNvPr id="88" name=""/>
            <p:cNvSpPr/>
            <p:nvPr/>
          </p:nvSpPr>
          <p:spPr>
            <a:xfrm>
              <a:off x="3352680" y="3276720"/>
              <a:ext cx="243864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al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6520" y="350532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76520" y="373392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6520" y="33526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86000" y="388620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14600" y="411480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6880" y="42670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791320" y="350532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373392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91320" y="33526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91320" y="388620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91320" y="41148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91320" y="426708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76920" y="47242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76920" y="510552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76920" y="571500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43400" y="4572000"/>
              <a:ext cx="5335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43400" y="4952880"/>
              <a:ext cx="5335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343400" y="5562720"/>
              <a:ext cx="53352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66880" y="4724280"/>
              <a:ext cx="167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14600" y="510552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86000" y="571500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553080" y="4267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05720" y="411480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934320" y="388620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2666880" y="4267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14600" y="411480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86000" y="388620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76240" y="5257800"/>
              <a:ext cx="218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torage El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35880" y="3352680"/>
              <a:ext cx="112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934320" y="4724280"/>
              <a:ext cx="17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tate Out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9360" y="4724280"/>
              <a:ext cx="158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tate In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17040" y="335268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 - Finite State Machi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0517-C848-4502-A192-60E72FE5196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eneral state machine mod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Values stored in registers represent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at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of the circui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mbinational logic computes: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xt st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 of current state and inp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 of current state and inputs (Mealy machin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 of current state only (Moore machin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1643040" y="4451400"/>
            <a:ext cx="5892840" cy="1905120"/>
            <a:chOff x="1643040" y="4451400"/>
            <a:chExt cx="5892840" cy="1905120"/>
          </a:xfrm>
        </p:grpSpPr>
        <p:sp>
          <p:nvSpPr>
            <p:cNvPr id="1049" name=""/>
            <p:cNvSpPr/>
            <p:nvPr/>
          </p:nvSpPr>
          <p:spPr>
            <a:xfrm>
              <a:off x="1643040" y="4908600"/>
              <a:ext cx="927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215040" y="4603680"/>
              <a:ext cx="1320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605560" y="5213520"/>
              <a:ext cx="1181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243240" y="6051600"/>
              <a:ext cx="1397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urr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395520" y="4451400"/>
              <a:ext cx="1600200" cy="53352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4" name=""/>
            <p:cNvGrpSpPr/>
            <p:nvPr/>
          </p:nvGrpSpPr>
          <p:grpSpPr>
            <a:xfrm>
              <a:off x="4995720" y="5746680"/>
              <a:ext cx="1066680" cy="304920"/>
              <a:chOff x="4995720" y="5746680"/>
              <a:chExt cx="1066680" cy="304920"/>
            </a:xfrm>
          </p:grpSpPr>
          <p:sp>
            <p:nvSpPr>
              <p:cNvPr id="1055" name=""/>
              <p:cNvSpPr/>
              <p:nvPr/>
            </p:nvSpPr>
            <p:spPr>
              <a:xfrm>
                <a:off x="4995720" y="5746680"/>
                <a:ext cx="106668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995720" y="5823000"/>
                <a:ext cx="15228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V="1">
                <a:off x="4995720" y="5898960"/>
                <a:ext cx="15228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8" name=""/>
            <p:cNvSpPr/>
            <p:nvPr/>
          </p:nvSpPr>
          <p:spPr>
            <a:xfrm>
              <a:off x="3395520" y="5060880"/>
              <a:ext cx="1600200" cy="53352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9" name=""/>
            <p:cNvCxnSpPr>
              <a:stCxn id="1058" idx="3"/>
              <a:endCxn id="1055" idx="0"/>
            </p:cNvCxnSpPr>
            <p:nvPr/>
          </p:nvCxnSpPr>
          <p:spPr>
            <a:xfrm>
              <a:off x="4995720" y="5327640"/>
              <a:ext cx="534240" cy="4197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0" name=""/>
            <p:cNvCxnSpPr>
              <a:stCxn id="1055" idx="2"/>
              <a:endCxn id="1053" idx="1"/>
            </p:cNvCxnSpPr>
            <p:nvPr/>
          </p:nvCxnSpPr>
          <p:spPr>
            <a:xfrm flipV="1" rot="16200000">
              <a:off x="3795120" y="4317480"/>
              <a:ext cx="1334160" cy="2134440"/>
            </a:xfrm>
            <a:prstGeom prst="bentConnector4">
              <a:avLst>
                <a:gd name="adj1" fmla="val -17139"/>
                <a:gd name="adj2" fmla="val 1107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1" name=""/>
            <p:cNvCxnSpPr>
              <a:stCxn id="1055" idx="2"/>
              <a:endCxn id="1058" idx="1"/>
            </p:cNvCxnSpPr>
            <p:nvPr/>
          </p:nvCxnSpPr>
          <p:spPr>
            <a:xfrm flipV="1" rot="16200000">
              <a:off x="4099680" y="4622040"/>
              <a:ext cx="724680" cy="2134440"/>
            </a:xfrm>
            <a:prstGeom prst="bentConnector4">
              <a:avLst>
                <a:gd name="adj1" fmla="val -31560"/>
                <a:gd name="adj2" fmla="val 1107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2" name=""/>
            <p:cNvCxnSpPr>
              <a:endCxn id="1053" idx="1"/>
            </p:cNvCxnSpPr>
            <p:nvPr/>
          </p:nvCxnSpPr>
          <p:spPr>
            <a:xfrm flipV="1">
              <a:off x="2557440" y="4717800"/>
              <a:ext cx="83880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3" name=""/>
            <p:cNvCxnSpPr>
              <a:endCxn id="1058" idx="1"/>
            </p:cNvCxnSpPr>
            <p:nvPr/>
          </p:nvCxnSpPr>
          <p:spPr>
            <a:xfrm>
              <a:off x="2557440" y="5022360"/>
              <a:ext cx="83880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4" name=""/>
            <p:cNvCxnSpPr>
              <a:stCxn id="1053" idx="3"/>
            </p:cNvCxnSpPr>
            <p:nvPr/>
          </p:nvCxnSpPr>
          <p:spPr>
            <a:xfrm>
              <a:off x="4995360" y="4717800"/>
              <a:ext cx="12200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 - Finite State Machi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F08B-868B-4E6D-BA37-8B3777DC9A8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tate machine model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ates: S1, S2, ..., Sk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nputs: I1, I2, ..., Im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utputs: O1, O2, ..., O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ransition function: Fs(Si, Ij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utput function: Fo(Si) or Fo(Si, Ij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1067" name=""/>
          <p:cNvGrpSpPr/>
          <p:nvPr/>
        </p:nvGrpSpPr>
        <p:grpSpPr>
          <a:xfrm>
            <a:off x="3378240" y="3379680"/>
            <a:ext cx="5892840" cy="1905120"/>
            <a:chOff x="3378240" y="3379680"/>
            <a:chExt cx="5892840" cy="1905120"/>
          </a:xfrm>
        </p:grpSpPr>
        <p:sp>
          <p:nvSpPr>
            <p:cNvPr id="1068" name=""/>
            <p:cNvSpPr/>
            <p:nvPr/>
          </p:nvSpPr>
          <p:spPr>
            <a:xfrm>
              <a:off x="3378240" y="3836880"/>
              <a:ext cx="927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950240" y="3531960"/>
              <a:ext cx="1320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340760" y="4141800"/>
              <a:ext cx="1181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978440" y="4979880"/>
              <a:ext cx="1397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urr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131080" y="3379680"/>
              <a:ext cx="1600200" cy="53352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3" name=""/>
            <p:cNvGrpSpPr/>
            <p:nvPr/>
          </p:nvGrpSpPr>
          <p:grpSpPr>
            <a:xfrm>
              <a:off x="6731280" y="4674960"/>
              <a:ext cx="1066680" cy="304920"/>
              <a:chOff x="6731280" y="4674960"/>
              <a:chExt cx="1066680" cy="304920"/>
            </a:xfrm>
          </p:grpSpPr>
          <p:sp>
            <p:nvSpPr>
              <p:cNvPr id="1074" name=""/>
              <p:cNvSpPr/>
              <p:nvPr/>
            </p:nvSpPr>
            <p:spPr>
              <a:xfrm>
                <a:off x="6731280" y="4674960"/>
                <a:ext cx="106668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731280" y="4751280"/>
                <a:ext cx="15228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V="1">
                <a:off x="6731280" y="4827240"/>
                <a:ext cx="15228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7" name=""/>
            <p:cNvSpPr/>
            <p:nvPr/>
          </p:nvSpPr>
          <p:spPr>
            <a:xfrm>
              <a:off x="5131080" y="3989160"/>
              <a:ext cx="1600200" cy="53352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78" name=""/>
            <p:cNvCxnSpPr>
              <a:stCxn id="1077" idx="3"/>
              <a:endCxn id="1074" idx="0"/>
            </p:cNvCxnSpPr>
            <p:nvPr/>
          </p:nvCxnSpPr>
          <p:spPr>
            <a:xfrm>
              <a:off x="6730920" y="4255920"/>
              <a:ext cx="533880" cy="4197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79" name=""/>
            <p:cNvCxnSpPr>
              <a:stCxn id="1074" idx="2"/>
              <a:endCxn id="1072" idx="1"/>
            </p:cNvCxnSpPr>
            <p:nvPr/>
          </p:nvCxnSpPr>
          <p:spPr>
            <a:xfrm flipV="1" rot="16200000">
              <a:off x="5530680" y="3245760"/>
              <a:ext cx="1334160" cy="2134080"/>
            </a:xfrm>
            <a:prstGeom prst="bentConnector4">
              <a:avLst>
                <a:gd name="adj1" fmla="val -17139"/>
                <a:gd name="adj2" fmla="val 110696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0" name=""/>
            <p:cNvCxnSpPr>
              <a:stCxn id="1074" idx="2"/>
              <a:endCxn id="1077" idx="1"/>
            </p:cNvCxnSpPr>
            <p:nvPr/>
          </p:nvCxnSpPr>
          <p:spPr>
            <a:xfrm flipV="1" rot="16200000">
              <a:off x="5835240" y="3550320"/>
              <a:ext cx="724680" cy="2134080"/>
            </a:xfrm>
            <a:prstGeom prst="bentConnector4">
              <a:avLst>
                <a:gd name="adj1" fmla="val -31560"/>
                <a:gd name="adj2" fmla="val 110696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1" name=""/>
            <p:cNvCxnSpPr>
              <a:endCxn id="1072" idx="1"/>
            </p:cNvCxnSpPr>
            <p:nvPr/>
          </p:nvCxnSpPr>
          <p:spPr>
            <a:xfrm flipV="1">
              <a:off x="4292280" y="3645720"/>
              <a:ext cx="83916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2" name=""/>
            <p:cNvCxnSpPr>
              <a:endCxn id="1077" idx="1"/>
            </p:cNvCxnSpPr>
            <p:nvPr/>
          </p:nvCxnSpPr>
          <p:spPr>
            <a:xfrm>
              <a:off x="4292280" y="3951360"/>
              <a:ext cx="83916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3" name=""/>
            <p:cNvCxnSpPr>
              <a:stCxn id="1072" idx="3"/>
            </p:cNvCxnSpPr>
            <p:nvPr/>
          </p:nvCxnSpPr>
          <p:spPr>
            <a:xfrm>
              <a:off x="6731280" y="3646080"/>
              <a:ext cx="12196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84" name=""/>
          <p:cNvGrpSpPr/>
          <p:nvPr/>
        </p:nvGrpSpPr>
        <p:grpSpPr>
          <a:xfrm>
            <a:off x="420840" y="5457600"/>
            <a:ext cx="6400800" cy="1143360"/>
            <a:chOff x="420840" y="5457600"/>
            <a:chExt cx="6400800" cy="1143360"/>
          </a:xfrm>
        </p:grpSpPr>
        <p:sp>
          <p:nvSpPr>
            <p:cNvPr id="1085" name=""/>
            <p:cNvSpPr/>
            <p:nvPr/>
          </p:nvSpPr>
          <p:spPr>
            <a:xfrm flipV="1">
              <a:off x="23259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32403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41547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50691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V="1">
              <a:off x="59835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878040" y="6296040"/>
              <a:ext cx="851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20840" y="5457960"/>
              <a:ext cx="1359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8040" y="5915160"/>
              <a:ext cx="889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94508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94508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1736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21736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2496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2496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4782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24782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5545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25545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6308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26308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7068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27068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7831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27831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8594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28594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9354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V="1">
              <a:off x="29354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0117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30117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0880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V="1">
              <a:off x="30880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1640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1640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3926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V="1">
              <a:off x="33926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4689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34689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5452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>
              <a:off x="35452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6212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V="1">
              <a:off x="36212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6975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V="1">
              <a:off x="36975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738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V="1">
              <a:off x="37738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8498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>
              <a:off x="38498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9261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V="1">
              <a:off x="39261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0024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V="1">
              <a:off x="40024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84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784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3070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V="1">
              <a:off x="43070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3833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V="1">
              <a:off x="43833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4596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V="1">
              <a:off x="44596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5356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>
              <a:off x="45356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6119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46119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6882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V="1">
              <a:off x="46882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7642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V="1">
              <a:off x="47642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8405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V="1">
              <a:off x="48405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9168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V="1">
              <a:off x="49168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9928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9928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2214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V="1">
              <a:off x="52214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2977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V="1">
              <a:off x="52977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3740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V="1">
              <a:off x="53740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4500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54500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5263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55263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6026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V="1">
              <a:off x="56026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6786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V="1">
              <a:off x="56786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7549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V="1">
              <a:off x="57549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8312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V="1">
              <a:off x="58312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9072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9072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1358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V="1">
              <a:off x="61358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2121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V="1">
              <a:off x="62121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2884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V="1">
              <a:off x="62884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3644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V="1">
              <a:off x="63644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4407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V="1">
              <a:off x="64407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5170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65170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5930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V="1">
              <a:off x="65930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6693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66693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7456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V="1">
              <a:off x="67456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945080" y="61437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945080" y="59151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3259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V="1">
              <a:off x="23259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402280" y="61437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402280" y="59151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2403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V="1">
              <a:off x="32403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316680" y="61437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316680" y="59151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1547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V="1">
              <a:off x="41547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231080" y="61437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31080" y="59151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0691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V="1">
              <a:off x="50691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145480" y="61437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145480" y="59151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9835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59835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059880" y="614376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059880" y="591516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9835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0691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1547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2403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3259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792080" y="6192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630160" y="6192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544560" y="6192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458960" y="6192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373360" y="6192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287760" y="6192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 - Finite State Machi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68BE-BF4D-4898-B06E-3791FF5E90E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0" name=""/>
          <p:cNvGrpSpPr/>
          <p:nvPr/>
        </p:nvGrpSpPr>
        <p:grpSpPr>
          <a:xfrm>
            <a:off x="7848720" y="1904760"/>
            <a:ext cx="291960" cy="698400"/>
            <a:chOff x="7848720" y="1904760"/>
            <a:chExt cx="291960" cy="698400"/>
          </a:xfrm>
        </p:grpSpPr>
        <p:sp>
          <p:nvSpPr>
            <p:cNvPr id="1231" name=""/>
            <p:cNvSpPr/>
            <p:nvPr/>
          </p:nvSpPr>
          <p:spPr>
            <a:xfrm>
              <a:off x="7861320" y="2095560"/>
              <a:ext cx="228600" cy="22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861320" y="2324160"/>
              <a:ext cx="228600" cy="279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H="1" flipV="1">
              <a:off x="7848720" y="1904760"/>
              <a:ext cx="7632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8039160" y="1904760"/>
              <a:ext cx="10152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5" name=""/>
          <p:cNvSpPr/>
          <p:nvPr/>
        </p:nvSpPr>
        <p:spPr>
          <a:xfrm>
            <a:off x="1930320" y="927000"/>
            <a:ext cx="69850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851360" y="3949560"/>
            <a:ext cx="12600" cy="24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7" name=""/>
          <p:cNvGrpSpPr/>
          <p:nvPr/>
        </p:nvGrpSpPr>
        <p:grpSpPr>
          <a:xfrm>
            <a:off x="4184640" y="3664080"/>
            <a:ext cx="177840" cy="457200"/>
            <a:chOff x="4184640" y="3664080"/>
            <a:chExt cx="177840" cy="457200"/>
          </a:xfrm>
        </p:grpSpPr>
        <p:sp>
          <p:nvSpPr>
            <p:cNvPr id="1238" name=""/>
            <p:cNvSpPr/>
            <p:nvPr/>
          </p:nvSpPr>
          <p:spPr>
            <a:xfrm>
              <a:off x="4197600" y="3790800"/>
              <a:ext cx="139680" cy="152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197600" y="3943440"/>
              <a:ext cx="139680" cy="177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 flipV="1">
              <a:off x="4184640" y="3664080"/>
              <a:ext cx="511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V="1">
              <a:off x="4311720" y="3664080"/>
              <a:ext cx="5076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xample: ant brain (Ward, MIT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ts val="22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ensor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L and R antennae, 1 if in touching wal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lnSpc>
                <a:spcPts val="22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ctuator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 - forward step, TL/TR - turn left/right slightly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lnSpc>
                <a:spcPts val="22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Goal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ind way out of maz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lnSpc>
                <a:spcPts val="22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rategy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keep the wall on the righ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1244" name=""/>
          <p:cNvGrpSpPr/>
          <p:nvPr/>
        </p:nvGrpSpPr>
        <p:grpSpPr>
          <a:xfrm>
            <a:off x="1295280" y="3276720"/>
            <a:ext cx="6324840" cy="3047760"/>
            <a:chOff x="1295280" y="3276720"/>
            <a:chExt cx="6324840" cy="3047760"/>
          </a:xfrm>
        </p:grpSpPr>
        <p:sp>
          <p:nvSpPr>
            <p:cNvPr id="1245" name=""/>
            <p:cNvSpPr/>
            <p:nvPr/>
          </p:nvSpPr>
          <p:spPr>
            <a:xfrm>
              <a:off x="1295280" y="3276720"/>
              <a:ext cx="3581640" cy="304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181480" y="3276720"/>
              <a:ext cx="2438640" cy="304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572000" y="3886200"/>
              <a:ext cx="1828800" cy="3049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362320" y="4191120"/>
              <a:ext cx="2514600" cy="3045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191120" y="4800600"/>
              <a:ext cx="3429000" cy="3049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905120" y="5410080"/>
              <a:ext cx="5105160" cy="3049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581280" y="4191120"/>
              <a:ext cx="304920" cy="15238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705720" y="3276720"/>
              <a:ext cx="304560" cy="9144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315200" y="3276720"/>
              <a:ext cx="304920" cy="289548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362320" y="4191120"/>
              <a:ext cx="304560" cy="9014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295280" y="3276720"/>
              <a:ext cx="304920" cy="28954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295280" y="6019920"/>
              <a:ext cx="6324840" cy="30456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572000" y="3276720"/>
              <a:ext cx="304920" cy="12189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 - Finite State Machi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5FE6-6CC7-4A6F-ADCF-DDED0B19925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8" name=""/>
          <p:cNvGrpSpPr/>
          <p:nvPr/>
        </p:nvGrpSpPr>
        <p:grpSpPr>
          <a:xfrm>
            <a:off x="844200" y="1962000"/>
            <a:ext cx="292320" cy="698760"/>
            <a:chOff x="844200" y="1962000"/>
            <a:chExt cx="292320" cy="698760"/>
          </a:xfrm>
        </p:grpSpPr>
        <p:sp>
          <p:nvSpPr>
            <p:cNvPr id="1259" name=""/>
            <p:cNvSpPr/>
            <p:nvPr/>
          </p:nvSpPr>
          <p:spPr>
            <a:xfrm>
              <a:off x="857160" y="2152800"/>
              <a:ext cx="228600" cy="22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857160" y="2381400"/>
              <a:ext cx="228600" cy="279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H="1" flipV="1">
              <a:off x="844200" y="1962000"/>
              <a:ext cx="7596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1035000" y="1962000"/>
              <a:ext cx="10152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3" name=""/>
          <p:cNvSpPr/>
          <p:nvPr/>
        </p:nvSpPr>
        <p:spPr>
          <a:xfrm>
            <a:off x="1143000" y="1854360"/>
            <a:ext cx="241200" cy="977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536840" y="1832040"/>
            <a:ext cx="30225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601"/>
              </a:spcBef>
              <a:tabLst>
                <a:tab algn="l" pos="0"/>
                <a:tab algn="l" pos="27936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: Following wall, touching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o forward, turning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ft slight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5" name=""/>
          <p:cNvGrpSpPr/>
          <p:nvPr/>
        </p:nvGrpSpPr>
        <p:grpSpPr>
          <a:xfrm>
            <a:off x="4781160" y="1949040"/>
            <a:ext cx="292320" cy="698760"/>
            <a:chOff x="4781160" y="1949040"/>
            <a:chExt cx="292320" cy="698760"/>
          </a:xfrm>
        </p:grpSpPr>
        <p:sp>
          <p:nvSpPr>
            <p:cNvPr id="1266" name=""/>
            <p:cNvSpPr/>
            <p:nvPr/>
          </p:nvSpPr>
          <p:spPr>
            <a:xfrm>
              <a:off x="4794120" y="2139840"/>
              <a:ext cx="228600" cy="22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794120" y="2368440"/>
              <a:ext cx="228600" cy="279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 flipV="1">
              <a:off x="4781160" y="1949040"/>
              <a:ext cx="7596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V="1">
              <a:off x="4971960" y="1949040"/>
              <a:ext cx="10152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0" name=""/>
          <p:cNvSpPr/>
          <p:nvPr/>
        </p:nvSpPr>
        <p:spPr>
          <a:xfrm>
            <a:off x="5207040" y="1841400"/>
            <a:ext cx="241200" cy="978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5600880" y="1819440"/>
            <a:ext cx="34797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601"/>
              </a:spcBef>
              <a:tabLst>
                <a:tab algn="l" pos="0"/>
                <a:tab algn="l" pos="27936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: Following wall, not touching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o forward, turning righ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light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2" name=""/>
          <p:cNvGrpSpPr/>
          <p:nvPr/>
        </p:nvGrpSpPr>
        <p:grpSpPr>
          <a:xfrm>
            <a:off x="679320" y="3168360"/>
            <a:ext cx="291960" cy="698760"/>
            <a:chOff x="679320" y="3168360"/>
            <a:chExt cx="291960" cy="698760"/>
          </a:xfrm>
        </p:grpSpPr>
        <p:sp>
          <p:nvSpPr>
            <p:cNvPr id="1273" name=""/>
            <p:cNvSpPr/>
            <p:nvPr/>
          </p:nvSpPr>
          <p:spPr>
            <a:xfrm>
              <a:off x="691920" y="3359160"/>
              <a:ext cx="228600" cy="22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91920" y="3587760"/>
              <a:ext cx="228600" cy="279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H="1" flipV="1">
              <a:off x="679320" y="3168360"/>
              <a:ext cx="7632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V="1">
              <a:off x="869760" y="3168360"/>
              <a:ext cx="10152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7" name=""/>
          <p:cNvSpPr/>
          <p:nvPr/>
        </p:nvSpPr>
        <p:spPr>
          <a:xfrm>
            <a:off x="1028880" y="3568680"/>
            <a:ext cx="241200" cy="584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814400" y="3495600"/>
            <a:ext cx="30225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601"/>
              </a:spcBef>
              <a:tabLst>
                <a:tab algn="l" pos="0"/>
                <a:tab algn="l" pos="27936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: Break in wall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o forward, turning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ight slight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257480" y="3568680"/>
            <a:ext cx="469800" cy="241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5137200" y="3066840"/>
            <a:ext cx="673200" cy="292320"/>
            <a:chOff x="5137200" y="3066840"/>
            <a:chExt cx="673200" cy="292320"/>
          </a:xfrm>
        </p:grpSpPr>
        <p:sp>
          <p:nvSpPr>
            <p:cNvPr id="1281" name=""/>
            <p:cNvSpPr/>
            <p:nvPr/>
          </p:nvSpPr>
          <p:spPr>
            <a:xfrm>
              <a:off x="5416920" y="3079800"/>
              <a:ext cx="228600" cy="22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137200" y="3079800"/>
              <a:ext cx="279720" cy="22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V="1">
              <a:off x="5645520" y="3066840"/>
              <a:ext cx="16488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645520" y="3257640"/>
              <a:ext cx="16488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5" name=""/>
          <p:cNvSpPr/>
          <p:nvPr/>
        </p:nvSpPr>
        <p:spPr>
          <a:xfrm>
            <a:off x="5029200" y="3390840"/>
            <a:ext cx="241200" cy="584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121440" y="3346560"/>
            <a:ext cx="30225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601"/>
              </a:spcBef>
              <a:tabLst>
                <a:tab algn="l" pos="0"/>
                <a:tab algn="l" pos="27936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: Hit wall again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 to stat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5257800" y="3390840"/>
            <a:ext cx="647640" cy="241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8" name=""/>
          <p:cNvGrpSpPr/>
          <p:nvPr/>
        </p:nvGrpSpPr>
        <p:grpSpPr>
          <a:xfrm>
            <a:off x="1187280" y="4743000"/>
            <a:ext cx="291960" cy="698760"/>
            <a:chOff x="1187280" y="4743000"/>
            <a:chExt cx="291960" cy="698760"/>
          </a:xfrm>
        </p:grpSpPr>
        <p:sp>
          <p:nvSpPr>
            <p:cNvPr id="1289" name=""/>
            <p:cNvSpPr/>
            <p:nvPr/>
          </p:nvSpPr>
          <p:spPr>
            <a:xfrm>
              <a:off x="1199880" y="4933800"/>
              <a:ext cx="228600" cy="22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199880" y="5162400"/>
              <a:ext cx="228600" cy="279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H="1" flipV="1">
              <a:off x="1187280" y="4743000"/>
              <a:ext cx="7632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V="1">
              <a:off x="1377720" y="4743000"/>
              <a:ext cx="10152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3" name=""/>
          <p:cNvSpPr/>
          <p:nvPr/>
        </p:nvSpPr>
        <p:spPr>
          <a:xfrm>
            <a:off x="1928880" y="4495680"/>
            <a:ext cx="30225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601"/>
              </a:spcBef>
              <a:tabLst>
                <a:tab algn="l" pos="0"/>
                <a:tab algn="l" pos="27936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: Wall in front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urn left until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800280" y="4521240"/>
            <a:ext cx="1041120" cy="241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5" name=""/>
          <p:cNvGrpSpPr/>
          <p:nvPr/>
        </p:nvGrpSpPr>
        <p:grpSpPr>
          <a:xfrm>
            <a:off x="4997520" y="4807080"/>
            <a:ext cx="698040" cy="304200"/>
            <a:chOff x="4997520" y="4807080"/>
            <a:chExt cx="698040" cy="304200"/>
          </a:xfrm>
        </p:grpSpPr>
        <p:sp>
          <p:nvSpPr>
            <p:cNvPr id="1296" name=""/>
            <p:cNvSpPr/>
            <p:nvPr/>
          </p:nvSpPr>
          <p:spPr>
            <a:xfrm>
              <a:off x="5187600" y="4883040"/>
              <a:ext cx="228240" cy="22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416200" y="4883040"/>
              <a:ext cx="279360" cy="22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H="1">
              <a:off x="4997520" y="5048280"/>
              <a:ext cx="190080" cy="5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H="1" flipV="1">
              <a:off x="4997520" y="4807080"/>
              <a:ext cx="19008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0" name=""/>
          <p:cNvSpPr/>
          <p:nvPr/>
        </p:nvSpPr>
        <p:spPr>
          <a:xfrm>
            <a:off x="5994360" y="4495680"/>
            <a:ext cx="30225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601"/>
              </a:spcBef>
              <a:tabLst>
                <a:tab algn="l" pos="0"/>
                <a:tab algn="l" pos="27936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: ...we are here, same a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800600" y="4521240"/>
            <a:ext cx="1041480" cy="241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931000" y="5638680"/>
            <a:ext cx="24130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601"/>
              </a:spcBef>
              <a:tabLst>
                <a:tab algn="l" pos="0"/>
                <a:tab algn="l" pos="27936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: Turn left until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737240" y="5664240"/>
            <a:ext cx="1041120" cy="241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4" name=""/>
          <p:cNvGrpSpPr/>
          <p:nvPr/>
        </p:nvGrpSpPr>
        <p:grpSpPr>
          <a:xfrm>
            <a:off x="4959360" y="5886000"/>
            <a:ext cx="673200" cy="368640"/>
            <a:chOff x="4959360" y="5886000"/>
            <a:chExt cx="673200" cy="368640"/>
          </a:xfrm>
        </p:grpSpPr>
        <p:sp>
          <p:nvSpPr>
            <p:cNvPr id="1305" name=""/>
            <p:cNvSpPr/>
            <p:nvPr/>
          </p:nvSpPr>
          <p:spPr>
            <a:xfrm>
              <a:off x="5239080" y="5975280"/>
              <a:ext cx="228600" cy="22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959360" y="5975280"/>
              <a:ext cx="279720" cy="22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V="1">
              <a:off x="5467680" y="5886000"/>
              <a:ext cx="1267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467680" y="6153120"/>
              <a:ext cx="16488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9" name=""/>
          <p:cNvSpPr/>
          <p:nvPr/>
        </p:nvSpPr>
        <p:spPr>
          <a:xfrm flipV="1">
            <a:off x="3797280" y="4680000"/>
            <a:ext cx="882720" cy="6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0" name=""/>
          <p:cNvGrpSpPr/>
          <p:nvPr/>
        </p:nvGrpSpPr>
        <p:grpSpPr>
          <a:xfrm>
            <a:off x="945720" y="5886000"/>
            <a:ext cx="292320" cy="698760"/>
            <a:chOff x="945720" y="5886000"/>
            <a:chExt cx="292320" cy="698760"/>
          </a:xfrm>
        </p:grpSpPr>
        <p:sp>
          <p:nvSpPr>
            <p:cNvPr id="1311" name=""/>
            <p:cNvSpPr/>
            <p:nvPr/>
          </p:nvSpPr>
          <p:spPr>
            <a:xfrm>
              <a:off x="958680" y="6076800"/>
              <a:ext cx="228600" cy="22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958680" y="6305400"/>
              <a:ext cx="228600" cy="279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H="1" flipV="1">
              <a:off x="945720" y="5886000"/>
              <a:ext cx="7596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V="1">
              <a:off x="1136520" y="5886000"/>
              <a:ext cx="10152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5" name=""/>
          <p:cNvSpPr/>
          <p:nvPr/>
        </p:nvSpPr>
        <p:spPr>
          <a:xfrm>
            <a:off x="1473120" y="5867280"/>
            <a:ext cx="30225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601"/>
              </a:spcBef>
              <a:tabLst>
                <a:tab algn="l" pos="0"/>
                <a:tab algn="l" pos="27936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ST: Forward until w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uch somet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664080" y="1803240"/>
            <a:ext cx="1130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H="1">
            <a:off x="3308400" y="2654280"/>
            <a:ext cx="1270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H="1">
            <a:off x="3600360" y="2724120"/>
            <a:ext cx="1206720" cy="55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778200" y="3911760"/>
            <a:ext cx="1015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5035680" y="5200560"/>
            <a:ext cx="15228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nt behavio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 - Finite State Machi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43D5-38FF-443E-A66A-145C0D89F21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signing an ant brai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2960" cy="512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ate diagram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1324" name=""/>
          <p:cNvGrpSpPr/>
          <p:nvPr/>
        </p:nvGrpSpPr>
        <p:grpSpPr>
          <a:xfrm>
            <a:off x="6969240" y="4311000"/>
            <a:ext cx="1074240" cy="1371600"/>
            <a:chOff x="6969240" y="4311000"/>
            <a:chExt cx="1074240" cy="1371600"/>
          </a:xfrm>
        </p:grpSpPr>
        <p:sp>
          <p:nvSpPr>
            <p:cNvPr id="1325" name=""/>
            <p:cNvSpPr/>
            <p:nvPr/>
          </p:nvSpPr>
          <p:spPr>
            <a:xfrm>
              <a:off x="7701120" y="4824360"/>
              <a:ext cx="34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26" name=""/>
            <p:cNvCxnSpPr>
              <a:stCxn id="1327" idx="5"/>
              <a:endCxn id="1327" idx="7"/>
            </p:cNvCxnSpPr>
            <p:nvPr/>
          </p:nvCxnSpPr>
          <p:spPr>
            <a:xfrm flipH="1" flipV="1" rot="5400000">
              <a:off x="6645960" y="4996080"/>
              <a:ext cx="648360" cy="2160"/>
            </a:xfrm>
            <a:prstGeom prst="curvedConnector5">
              <a:avLst>
                <a:gd name="adj1" fmla="val -55833"/>
                <a:gd name="adj2" fmla="val 21840000"/>
                <a:gd name="adj3" fmla="val -55833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28" name=""/>
          <p:cNvGrpSpPr/>
          <p:nvPr/>
        </p:nvGrpSpPr>
        <p:grpSpPr>
          <a:xfrm>
            <a:off x="4511160" y="4540320"/>
            <a:ext cx="2591280" cy="926280"/>
            <a:chOff x="4511160" y="4540320"/>
            <a:chExt cx="2591280" cy="926280"/>
          </a:xfrm>
        </p:grpSpPr>
        <p:sp>
          <p:nvSpPr>
            <p:cNvPr id="1327" name=""/>
            <p:cNvSpPr/>
            <p:nvPr/>
          </p:nvSpPr>
          <p:spPr>
            <a:xfrm>
              <a:off x="6188040" y="4540320"/>
              <a:ext cx="914400" cy="91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TR, F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29" name=""/>
            <p:cNvCxnSpPr>
              <a:stCxn id="1330" idx="6"/>
              <a:endCxn id="1327" idx="2"/>
            </p:cNvCxnSpPr>
            <p:nvPr/>
          </p:nvCxnSpPr>
          <p:spPr>
            <a:xfrm>
              <a:off x="4511160" y="4997160"/>
              <a:ext cx="167724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31" name=""/>
            <p:cNvSpPr/>
            <p:nvPr/>
          </p:nvSpPr>
          <p:spPr>
            <a:xfrm>
              <a:off x="5110560" y="5129280"/>
              <a:ext cx="34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2" name=""/>
          <p:cNvGrpSpPr/>
          <p:nvPr/>
        </p:nvGrpSpPr>
        <p:grpSpPr>
          <a:xfrm>
            <a:off x="4435200" y="3549600"/>
            <a:ext cx="1904760" cy="1219320"/>
            <a:chOff x="4435200" y="3549600"/>
            <a:chExt cx="1904760" cy="1219320"/>
          </a:xfrm>
        </p:grpSpPr>
        <p:sp>
          <p:nvSpPr>
            <p:cNvPr id="1333" name=""/>
            <p:cNvSpPr/>
            <p:nvPr/>
          </p:nvSpPr>
          <p:spPr>
            <a:xfrm flipH="1">
              <a:off x="4435200" y="3549600"/>
              <a:ext cx="190476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421600" y="413856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’ 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5" name=""/>
          <p:cNvGrpSpPr/>
          <p:nvPr/>
        </p:nvGrpSpPr>
        <p:grpSpPr>
          <a:xfrm>
            <a:off x="3364200" y="3625920"/>
            <a:ext cx="1147320" cy="1828800"/>
            <a:chOff x="3364200" y="3625920"/>
            <a:chExt cx="1147320" cy="1828800"/>
          </a:xfrm>
        </p:grpSpPr>
        <p:sp>
          <p:nvSpPr>
            <p:cNvPr id="1330" name=""/>
            <p:cNvSpPr/>
            <p:nvPr/>
          </p:nvSpPr>
          <p:spPr>
            <a:xfrm>
              <a:off x="3597120" y="4540320"/>
              <a:ext cx="914400" cy="91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TR, F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36" name=""/>
            <p:cNvCxnSpPr>
              <a:stCxn id="1337" idx="4"/>
              <a:endCxn id="1330" idx="0"/>
            </p:cNvCxnSpPr>
            <p:nvPr/>
          </p:nvCxnSpPr>
          <p:spPr>
            <a:xfrm flipV="1" rot="10800000">
              <a:off x="4053600" y="3625560"/>
              <a:ext cx="1080" cy="9151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38" name=""/>
            <p:cNvSpPr/>
            <p:nvPr/>
          </p:nvSpPr>
          <p:spPr>
            <a:xfrm>
              <a:off x="3364200" y="383364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’ 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4510800" y="2843280"/>
            <a:ext cx="1676880" cy="337320"/>
            <a:chOff x="4510800" y="2843280"/>
            <a:chExt cx="1676880" cy="337320"/>
          </a:xfrm>
        </p:grpSpPr>
        <p:cxnSp>
          <p:nvCxnSpPr>
            <p:cNvPr id="1340" name=""/>
            <p:cNvCxnSpPr>
              <a:stCxn id="1341" idx="2"/>
              <a:endCxn id="1337" idx="6"/>
            </p:cNvCxnSpPr>
            <p:nvPr/>
          </p:nvCxnSpPr>
          <p:spPr>
            <a:xfrm rot="10800000">
              <a:off x="4510800" y="3168000"/>
              <a:ext cx="167724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42" name=""/>
            <p:cNvSpPr/>
            <p:nvPr/>
          </p:nvSpPr>
          <p:spPr>
            <a:xfrm>
              <a:off x="5257080" y="2843280"/>
              <a:ext cx="28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3" name=""/>
          <p:cNvGrpSpPr/>
          <p:nvPr/>
        </p:nvGrpSpPr>
        <p:grpSpPr>
          <a:xfrm>
            <a:off x="4359240" y="2711520"/>
            <a:ext cx="2743200" cy="1904760"/>
            <a:chOff x="4359240" y="2711520"/>
            <a:chExt cx="2743200" cy="1904760"/>
          </a:xfrm>
        </p:grpSpPr>
        <p:grpSp>
          <p:nvGrpSpPr>
            <p:cNvPr id="1344" name=""/>
            <p:cNvGrpSpPr/>
            <p:nvPr/>
          </p:nvGrpSpPr>
          <p:grpSpPr>
            <a:xfrm>
              <a:off x="4359240" y="3397320"/>
              <a:ext cx="1905120" cy="1218960"/>
              <a:chOff x="4359240" y="3397320"/>
              <a:chExt cx="1905120" cy="1218960"/>
            </a:xfrm>
          </p:grpSpPr>
          <p:sp>
            <p:nvSpPr>
              <p:cNvPr id="1345" name=""/>
              <p:cNvSpPr/>
              <p:nvPr/>
            </p:nvSpPr>
            <p:spPr>
              <a:xfrm flipV="1">
                <a:off x="4359240" y="3397320"/>
                <a:ext cx="190512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4878000" y="3757680"/>
                <a:ext cx="30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1" name=""/>
            <p:cNvSpPr/>
            <p:nvPr/>
          </p:nvSpPr>
          <p:spPr>
            <a:xfrm>
              <a:off x="6188040" y="2711520"/>
              <a:ext cx="914400" cy="91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TL, F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6644880" y="3625560"/>
            <a:ext cx="369000" cy="914760"/>
            <a:chOff x="6644880" y="3625560"/>
            <a:chExt cx="369000" cy="914760"/>
          </a:xfrm>
        </p:grpSpPr>
        <p:cxnSp>
          <p:nvCxnSpPr>
            <p:cNvPr id="1348" name=""/>
            <p:cNvCxnSpPr>
              <a:stCxn id="1327" idx="0"/>
              <a:endCxn id="1341" idx="4"/>
            </p:cNvCxnSpPr>
            <p:nvPr/>
          </p:nvCxnSpPr>
          <p:spPr>
            <a:xfrm flipV="1">
              <a:off x="6644880" y="3625560"/>
              <a:ext cx="1080" cy="9151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49" name=""/>
            <p:cNvSpPr/>
            <p:nvPr/>
          </p:nvSpPr>
          <p:spPr>
            <a:xfrm>
              <a:off x="6706800" y="3909960"/>
              <a:ext cx="30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0" name=""/>
          <p:cNvGrpSpPr/>
          <p:nvPr/>
        </p:nvGrpSpPr>
        <p:grpSpPr>
          <a:xfrm>
            <a:off x="6644880" y="2462040"/>
            <a:ext cx="1256400" cy="706680"/>
            <a:chOff x="6644880" y="2462040"/>
            <a:chExt cx="1256400" cy="706680"/>
          </a:xfrm>
        </p:grpSpPr>
        <p:cxnSp>
          <p:nvCxnSpPr>
            <p:cNvPr id="1351" name=""/>
            <p:cNvCxnSpPr>
              <a:stCxn id="1341" idx="6"/>
              <a:endCxn id="1341" idx="0"/>
            </p:cNvCxnSpPr>
            <p:nvPr/>
          </p:nvCxnSpPr>
          <p:spPr>
            <a:xfrm flipH="1" flipV="1">
              <a:off x="6644880" y="2711160"/>
              <a:ext cx="457920" cy="457920"/>
            </a:xfrm>
            <a:prstGeom prst="curvedConnector5">
              <a:avLst>
                <a:gd name="adj1" fmla="val -49960"/>
                <a:gd name="adj2" fmla="val 74980"/>
                <a:gd name="adj3" fmla="val -4996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52" name=""/>
            <p:cNvSpPr/>
            <p:nvPr/>
          </p:nvSpPr>
          <p:spPr>
            <a:xfrm>
              <a:off x="7399080" y="2462040"/>
              <a:ext cx="50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’ 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3729960" y="2351160"/>
            <a:ext cx="1274400" cy="494640"/>
            <a:chOff x="3729960" y="2351160"/>
            <a:chExt cx="1274400" cy="494640"/>
          </a:xfrm>
        </p:grpSpPr>
        <p:cxnSp>
          <p:nvCxnSpPr>
            <p:cNvPr id="1354" name=""/>
            <p:cNvCxnSpPr>
              <a:stCxn id="1337" idx="7"/>
              <a:endCxn id="1337" idx="1"/>
            </p:cNvCxnSpPr>
            <p:nvPr/>
          </p:nvCxnSpPr>
          <p:spPr>
            <a:xfrm rot="5400000">
              <a:off x="4052880" y="2520720"/>
              <a:ext cx="2520" cy="648360"/>
            </a:xfrm>
            <a:prstGeom prst="curvedConnector5">
              <a:avLst>
                <a:gd name="adj1" fmla="val -22800000"/>
                <a:gd name="adj2" fmla="val 50000"/>
                <a:gd name="adj3" fmla="val -228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55" name=""/>
            <p:cNvSpPr/>
            <p:nvPr/>
          </p:nvSpPr>
          <p:spPr>
            <a:xfrm>
              <a:off x="4367880" y="2386080"/>
              <a:ext cx="63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 + 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2225520" y="2711520"/>
            <a:ext cx="2286000" cy="914400"/>
            <a:chOff x="2225520" y="2711520"/>
            <a:chExt cx="2286000" cy="914400"/>
          </a:xfrm>
        </p:grpSpPr>
        <p:sp>
          <p:nvSpPr>
            <p:cNvPr id="1337" name=""/>
            <p:cNvSpPr/>
            <p:nvPr/>
          </p:nvSpPr>
          <p:spPr>
            <a:xfrm>
              <a:off x="3597120" y="2711520"/>
              <a:ext cx="914400" cy="91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/G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T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7" name=""/>
            <p:cNvCxnSpPr>
              <a:stCxn id="1358" idx="6"/>
              <a:endCxn id="1337" idx="2"/>
            </p:cNvCxnSpPr>
            <p:nvPr/>
          </p:nvCxnSpPr>
          <p:spPr>
            <a:xfrm>
              <a:off x="2225520" y="3168360"/>
              <a:ext cx="137232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59" name=""/>
            <p:cNvSpPr/>
            <p:nvPr/>
          </p:nvSpPr>
          <p:spPr>
            <a:xfrm>
              <a:off x="2539080" y="2843280"/>
              <a:ext cx="63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 + 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0" name=""/>
          <p:cNvGrpSpPr/>
          <p:nvPr/>
        </p:nvGrpSpPr>
        <p:grpSpPr>
          <a:xfrm>
            <a:off x="1082160" y="2711520"/>
            <a:ext cx="1143360" cy="1459440"/>
            <a:chOff x="1082160" y="2711520"/>
            <a:chExt cx="1143360" cy="1459440"/>
          </a:xfrm>
        </p:grpSpPr>
        <p:sp>
          <p:nvSpPr>
            <p:cNvPr id="1358" name=""/>
            <p:cNvSpPr/>
            <p:nvPr/>
          </p:nvSpPr>
          <p:spPr>
            <a:xfrm>
              <a:off x="1311120" y="2711520"/>
              <a:ext cx="914400" cy="91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F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1" name=""/>
            <p:cNvCxnSpPr>
              <a:stCxn id="1358" idx="4"/>
              <a:endCxn id="1358" idx="2"/>
            </p:cNvCxnSpPr>
            <p:nvPr/>
          </p:nvCxnSpPr>
          <p:spPr>
            <a:xfrm flipV="1" rot="16200000">
              <a:off x="1310760" y="3168000"/>
              <a:ext cx="457920" cy="457920"/>
            </a:xfrm>
            <a:prstGeom prst="curvedConnector5">
              <a:avLst>
                <a:gd name="adj1" fmla="val -49960"/>
                <a:gd name="adj2" fmla="val 74980"/>
                <a:gd name="adj3" fmla="val -4996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62" name=""/>
            <p:cNvSpPr/>
            <p:nvPr/>
          </p:nvSpPr>
          <p:spPr>
            <a:xfrm>
              <a:off x="1306800" y="383364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’ 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 - Finite State Machi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C37A-D05C-4B33-A66C-8DE9988B8A1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ynthesizing the ant brain circui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Encode states using a set of state variabl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bitrary choice - may affect cost, spe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Use transition truth tabl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fine next state function for each state varia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fine output function for each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mplement next state and output functions using combinational logic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-level logic (ROM/PLA/PA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-level log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xt state and output functions can be optimized togeth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 - Finite State Machi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835B-1E82-4481-B3E6-61CC60E17EA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ransition truth tabl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Using symbolic states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nd output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1367" name=""/>
          <p:cNvGrpSpPr/>
          <p:nvPr/>
        </p:nvGrpSpPr>
        <p:grpSpPr>
          <a:xfrm>
            <a:off x="3020040" y="1508040"/>
            <a:ext cx="5926320" cy="2744280"/>
            <a:chOff x="3020040" y="1508040"/>
            <a:chExt cx="5926320" cy="2744280"/>
          </a:xfrm>
        </p:grpSpPr>
        <p:sp>
          <p:nvSpPr>
            <p:cNvPr id="1368" name=""/>
            <p:cNvSpPr/>
            <p:nvPr/>
          </p:nvSpPr>
          <p:spPr>
            <a:xfrm>
              <a:off x="3213720" y="1870560"/>
              <a:ext cx="771120" cy="77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F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141880" y="1870560"/>
              <a:ext cx="771120" cy="77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/G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T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327440" y="1870560"/>
              <a:ext cx="771120" cy="77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TL, F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141880" y="3413880"/>
              <a:ext cx="771120" cy="77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TR, F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327440" y="3413880"/>
              <a:ext cx="771120" cy="77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TR, F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73" name=""/>
            <p:cNvCxnSpPr>
              <a:stCxn id="1369" idx="4"/>
              <a:endCxn id="1371" idx="0"/>
            </p:cNvCxnSpPr>
            <p:nvPr/>
          </p:nvCxnSpPr>
          <p:spPr>
            <a:xfrm flipV="1" rot="10800000">
              <a:off x="5526720" y="2642040"/>
              <a:ext cx="1080" cy="77220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4" name=""/>
            <p:cNvCxnSpPr>
              <a:stCxn id="1372" idx="0"/>
              <a:endCxn id="1370" idx="4"/>
            </p:cNvCxnSpPr>
            <p:nvPr/>
          </p:nvCxnSpPr>
          <p:spPr>
            <a:xfrm flipV="1">
              <a:off x="7712640" y="2641680"/>
              <a:ext cx="1080" cy="77220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5" name=""/>
            <p:cNvCxnSpPr>
              <a:stCxn id="1368" idx="6"/>
              <a:endCxn id="1369" idx="2"/>
            </p:cNvCxnSpPr>
            <p:nvPr/>
          </p:nvCxnSpPr>
          <p:spPr>
            <a:xfrm>
              <a:off x="3984480" y="2256120"/>
              <a:ext cx="115740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6" name=""/>
            <p:cNvCxnSpPr>
              <a:stCxn id="1368" idx="4"/>
              <a:endCxn id="1368" idx="2"/>
            </p:cNvCxnSpPr>
            <p:nvPr/>
          </p:nvCxnSpPr>
          <p:spPr>
            <a:xfrm flipV="1" rot="16200000">
              <a:off x="3213000" y="2255760"/>
              <a:ext cx="386280" cy="386280"/>
            </a:xfrm>
            <a:prstGeom prst="curvedConnector5">
              <a:avLst>
                <a:gd name="adj1" fmla="val -50000"/>
                <a:gd name="adj2" fmla="val 75000"/>
                <a:gd name="adj3" fmla="val -5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7" name=""/>
            <p:cNvCxnSpPr>
              <a:stCxn id="1369" idx="7"/>
              <a:endCxn id="1369" idx="1"/>
            </p:cNvCxnSpPr>
            <p:nvPr/>
          </p:nvCxnSpPr>
          <p:spPr>
            <a:xfrm rot="5400000">
              <a:off x="5526000" y="1710720"/>
              <a:ext cx="2160" cy="547200"/>
            </a:xfrm>
            <a:prstGeom prst="curvedConnector5">
              <a:avLst>
                <a:gd name="adj1" fmla="val -26400000"/>
                <a:gd name="adj2" fmla="val 49967"/>
                <a:gd name="adj3" fmla="val -26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8" name=""/>
            <p:cNvCxnSpPr>
              <a:stCxn id="1370" idx="6"/>
              <a:endCxn id="1370" idx="0"/>
            </p:cNvCxnSpPr>
            <p:nvPr/>
          </p:nvCxnSpPr>
          <p:spPr>
            <a:xfrm flipH="1" flipV="1">
              <a:off x="7712280" y="1869840"/>
              <a:ext cx="386280" cy="386280"/>
            </a:xfrm>
            <a:prstGeom prst="curvedConnector5">
              <a:avLst>
                <a:gd name="adj1" fmla="val -50000"/>
                <a:gd name="adj2" fmla="val 77052"/>
                <a:gd name="adj3" fmla="val -5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9" name=""/>
            <p:cNvCxnSpPr>
              <a:stCxn id="1372" idx="5"/>
              <a:endCxn id="1372" idx="7"/>
            </p:cNvCxnSpPr>
            <p:nvPr/>
          </p:nvCxnSpPr>
          <p:spPr>
            <a:xfrm flipH="1" flipV="1" rot="5400000">
              <a:off x="7713000" y="3798360"/>
              <a:ext cx="547200" cy="2160"/>
            </a:xfrm>
            <a:prstGeom prst="curvedConnector5">
              <a:avLst>
                <a:gd name="adj1" fmla="val -17840"/>
                <a:gd name="adj2" fmla="val 20980000"/>
                <a:gd name="adj3" fmla="val -1784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0" name=""/>
            <p:cNvCxnSpPr>
              <a:stCxn id="1371" idx="6"/>
              <a:endCxn id="1372" idx="2"/>
            </p:cNvCxnSpPr>
            <p:nvPr/>
          </p:nvCxnSpPr>
          <p:spPr>
            <a:xfrm>
              <a:off x="5913000" y="3799440"/>
              <a:ext cx="141480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1" name=""/>
            <p:cNvCxnSpPr>
              <a:stCxn id="1370" idx="2"/>
              <a:endCxn id="1369" idx="6"/>
            </p:cNvCxnSpPr>
            <p:nvPr/>
          </p:nvCxnSpPr>
          <p:spPr>
            <a:xfrm rot="10800000">
              <a:off x="5912280" y="2255760"/>
              <a:ext cx="141480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82" name=""/>
            <p:cNvSpPr/>
            <p:nvPr/>
          </p:nvSpPr>
          <p:spPr>
            <a:xfrm flipV="1">
              <a:off x="5784840" y="2449440"/>
              <a:ext cx="1606680" cy="10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H="1">
              <a:off x="5848560" y="2577960"/>
              <a:ext cx="1606680" cy="10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8604000" y="3657960"/>
              <a:ext cx="34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419160" y="3915000"/>
              <a:ext cx="34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683400" y="307908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’ 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222240" y="2757600"/>
              <a:ext cx="30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946400" y="282168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’ 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542640" y="1985760"/>
              <a:ext cx="28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764840" y="2886120"/>
              <a:ext cx="30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8350920" y="1665720"/>
              <a:ext cx="50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’ 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96720" y="1600200"/>
              <a:ext cx="63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 + 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252680" y="1985760"/>
              <a:ext cx="63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 + 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211200" y="282168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’ 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5" name=""/>
          <p:cNvGrpSpPr/>
          <p:nvPr/>
        </p:nvGrpSpPr>
        <p:grpSpPr>
          <a:xfrm>
            <a:off x="560520" y="3457440"/>
            <a:ext cx="3797280" cy="3137040"/>
            <a:chOff x="560520" y="3457440"/>
            <a:chExt cx="3797280" cy="3137040"/>
          </a:xfrm>
        </p:grpSpPr>
        <p:sp>
          <p:nvSpPr>
            <p:cNvPr id="1396" name=""/>
            <p:cNvSpPr/>
            <p:nvPr/>
          </p:nvSpPr>
          <p:spPr>
            <a:xfrm>
              <a:off x="560520" y="3762360"/>
              <a:ext cx="375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12800" y="3533760"/>
              <a:ext cx="3645000" cy="30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00"/>
                </a:lnSpc>
                <a:spcBef>
                  <a:spcPts val="601"/>
                </a:spcBef>
                <a:tabLst>
                  <a:tab algn="l" pos="0"/>
                  <a:tab algn="l" pos="571680"/>
                  <a:tab algn="l" pos="851040"/>
                  <a:tab algn="l" pos="1371600"/>
                  <a:tab algn="l" pos="2629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00"/>
                </a:lnSpc>
                <a:spcBef>
                  <a:spcPts val="601"/>
                </a:spcBef>
                <a:tabLst>
                  <a:tab algn="l" pos="0"/>
                  <a:tab algn="l" pos="571680"/>
                  <a:tab algn="l" pos="851040"/>
                  <a:tab algn="l" pos="1371600"/>
                  <a:tab algn="l" pos="2629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S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S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00"/>
                </a:lnSpc>
                <a:spcBef>
                  <a:spcPts val="601"/>
                </a:spcBef>
                <a:tabLst>
                  <a:tab algn="l" pos="0"/>
                  <a:tab algn="l" pos="571680"/>
                  <a:tab algn="l" pos="851040"/>
                  <a:tab algn="l" pos="1371600"/>
                  <a:tab algn="l" pos="2629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S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/G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00"/>
                </a:lnSpc>
                <a:spcBef>
                  <a:spcPts val="601"/>
                </a:spcBef>
                <a:tabLst>
                  <a:tab algn="l" pos="0"/>
                  <a:tab algn="l" pos="571680"/>
                  <a:tab algn="l" pos="851040"/>
                  <a:tab algn="l" pos="1371600"/>
                  <a:tab algn="l" pos="2629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S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/G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00"/>
                </a:lnSpc>
                <a:spcBef>
                  <a:spcPts val="601"/>
                </a:spcBef>
                <a:tabLst>
                  <a:tab algn="l" pos="0"/>
                  <a:tab algn="l" pos="571680"/>
                  <a:tab algn="l" pos="851040"/>
                  <a:tab algn="l" pos="1371600"/>
                  <a:tab algn="l" pos="2629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L, 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00"/>
                </a:lnSpc>
                <a:spcBef>
                  <a:spcPts val="601"/>
                </a:spcBef>
                <a:tabLst>
                  <a:tab algn="l" pos="0"/>
                  <a:tab algn="l" pos="571680"/>
                  <a:tab algn="l" pos="851040"/>
                  <a:tab algn="l" pos="1371600"/>
                  <a:tab algn="l" pos="2629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L, 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00"/>
                </a:lnSpc>
                <a:spcBef>
                  <a:spcPts val="601"/>
                </a:spcBef>
                <a:tabLst>
                  <a:tab algn="l" pos="0"/>
                  <a:tab algn="l" pos="571680"/>
                  <a:tab algn="l" pos="851040"/>
                  <a:tab algn="l" pos="1371600"/>
                  <a:tab algn="l" pos="2629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/G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L, 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00"/>
                </a:lnSpc>
                <a:spcBef>
                  <a:spcPts val="601"/>
                </a:spcBef>
                <a:tabLst>
                  <a:tab algn="l" pos="0"/>
                  <a:tab algn="l" pos="571680"/>
                  <a:tab algn="l" pos="851040"/>
                  <a:tab algn="l" pos="1371600"/>
                  <a:tab algn="l" pos="2629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R, 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00"/>
                </a:lnSpc>
                <a:spcBef>
                  <a:spcPts val="601"/>
                </a:spcBef>
                <a:tabLst>
                  <a:tab algn="l" pos="0"/>
                  <a:tab algn="l" pos="571680"/>
                  <a:tab algn="l" pos="851040"/>
                  <a:tab algn="l" pos="1371600"/>
                  <a:tab algn="l" pos="2629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R, 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00"/>
                </a:lnSpc>
                <a:spcBef>
                  <a:spcPts val="601"/>
                </a:spcBef>
                <a:tabLst>
                  <a:tab algn="l" pos="0"/>
                  <a:tab algn="l" pos="571680"/>
                  <a:tab algn="l" pos="851040"/>
                  <a:tab algn="l" pos="1371600"/>
                  <a:tab algn="l" pos="2629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855800" y="3457440"/>
              <a:ext cx="0" cy="280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 - Finite State Machi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7BFA-F632-49FD-A81C-5D5776621DF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1231920" y="3327480"/>
            <a:ext cx="4940280" cy="33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spcBef>
                <a:spcPts val="601"/>
              </a:spcBef>
              <a:tabLst>
                <a:tab algn="l" pos="0"/>
                <a:tab algn="l" pos="622440"/>
                <a:tab algn="l" pos="851040"/>
                <a:tab algn="l" pos="1371600"/>
                <a:tab algn="l" pos="2629080"/>
                <a:tab algn="l" pos="285768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xt st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601"/>
              </a:spcBef>
              <a:tabLst>
                <a:tab algn="l" pos="0"/>
                <a:tab algn="l" pos="622440"/>
                <a:tab algn="l" pos="851040"/>
                <a:tab algn="l" pos="1371600"/>
                <a:tab algn="l" pos="2629080"/>
                <a:tab algn="l" pos="285768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,Y,Z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Z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601"/>
              </a:spcBef>
              <a:tabLst>
                <a:tab algn="l" pos="0"/>
                <a:tab algn="l" pos="622440"/>
                <a:tab algn="l" pos="851040"/>
                <a:tab algn="l" pos="1371600"/>
                <a:tab algn="l" pos="2629080"/>
                <a:tab algn="l" pos="285768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0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0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601"/>
              </a:spcBef>
              <a:tabLst>
                <a:tab algn="l" pos="0"/>
                <a:tab algn="l" pos="622440"/>
                <a:tab algn="l" pos="851040"/>
                <a:tab algn="l" pos="1371600"/>
                <a:tab algn="l" pos="2629080"/>
                <a:tab algn="l" pos="285768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0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0 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601"/>
              </a:spcBef>
              <a:tabLst>
                <a:tab algn="l" pos="0"/>
                <a:tab algn="l" pos="622440"/>
                <a:tab algn="l" pos="851040"/>
                <a:tab algn="l" pos="1371600"/>
                <a:tab algn="l" pos="2629080"/>
                <a:tab algn="l" pos="285768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601"/>
              </a:spcBef>
              <a:tabLst>
                <a:tab algn="l" pos="0"/>
                <a:tab algn="l" pos="622440"/>
                <a:tab algn="l" pos="851040"/>
                <a:tab algn="l" pos="1371600"/>
                <a:tab algn="l" pos="2629080"/>
                <a:tab algn="l" pos="285768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1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1 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601"/>
              </a:spcBef>
              <a:tabLst>
                <a:tab algn="l" pos="0"/>
                <a:tab algn="l" pos="622440"/>
                <a:tab algn="l" pos="851040"/>
                <a:tab algn="l" pos="1371600"/>
                <a:tab algn="l" pos="2629080"/>
                <a:tab algn="l" pos="285768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1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1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601"/>
              </a:spcBef>
              <a:tabLst>
                <a:tab algn="l" pos="0"/>
                <a:tab algn="l" pos="622440"/>
                <a:tab algn="l" pos="851040"/>
                <a:tab algn="l" pos="1371600"/>
                <a:tab algn="l" pos="2629080"/>
                <a:tab algn="l" pos="285768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1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0 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601"/>
              </a:spcBef>
              <a:tabLst>
                <a:tab algn="l" pos="0"/>
                <a:tab algn="l" pos="622440"/>
                <a:tab algn="l" pos="851040"/>
                <a:tab algn="l" pos="1371600"/>
                <a:tab algn="l" pos="2629080"/>
                <a:tab algn="l" pos="285768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1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0 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601"/>
              </a:spcBef>
              <a:tabLst>
                <a:tab algn="l" pos="0"/>
                <a:tab algn="l" pos="622440"/>
                <a:tab algn="l" pos="851040"/>
                <a:tab algn="l" pos="1371600"/>
                <a:tab algn="l" pos="2629080"/>
                <a:tab algn="l" pos="285768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1 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0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601"/>
              </a:spcBef>
              <a:tabLst>
                <a:tab algn="l" pos="0"/>
                <a:tab algn="l" pos="622440"/>
                <a:tab algn="l" pos="851040"/>
                <a:tab algn="l" pos="1371600"/>
                <a:tab algn="l" pos="2629080"/>
                <a:tab algn="l" pos="285768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1 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1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601"/>
              </a:spcBef>
              <a:tabLst>
                <a:tab algn="l" pos="0"/>
                <a:tab algn="l" pos="622440"/>
                <a:tab algn="l" pos="851040"/>
                <a:tab algn="l" pos="1371600"/>
                <a:tab algn="l" pos="2629080"/>
                <a:tab algn="l" pos="285768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176960" y="1795320"/>
            <a:ext cx="135900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62244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S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62244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/G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62244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62244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62244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5791320" y="3352680"/>
            <a:ext cx="2133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 now remai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synthesiz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se 6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 flipH="1">
            <a:off x="4793760" y="3625920"/>
            <a:ext cx="863640" cy="10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514600" y="3581280"/>
            <a:ext cx="2171880" cy="292320"/>
          </a:xfrm>
          <a:prstGeom prst="roundRect">
            <a:avLst>
              <a:gd name="adj" fmla="val 24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ynthesi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5 states : at least 3 state variables required (X, Y, Z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 assignment (in this case, arbitrarily chose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"/>
          <p:cNvSpPr/>
          <p:nvPr/>
        </p:nvSpPr>
        <p:spPr>
          <a:xfrm>
            <a:off x="2438280" y="327672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1066680" y="38098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 - Finite State Machi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9E04-46D0-484A-80A7-A0B98136064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/>
          <p:nvPr/>
        </p:nvSpPr>
        <p:spPr>
          <a:xfrm>
            <a:off x="577800" y="2557440"/>
            <a:ext cx="375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908000" y="2055960"/>
            <a:ext cx="0" cy="410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92280" y="2049480"/>
            <a:ext cx="494028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spcBef>
                <a:spcPts val="601"/>
              </a:spcBef>
              <a:tabLst>
                <a:tab algn="l" pos="0"/>
                <a:tab algn="l" pos="622440"/>
                <a:tab algn="l" pos="851040"/>
                <a:tab algn="l" pos="1371600"/>
                <a:tab algn="l" pos="2400480"/>
                <a:tab algn="l" pos="2629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xt st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601"/>
              </a:spcBef>
              <a:tabLst>
                <a:tab algn="l" pos="0"/>
                <a:tab algn="l" pos="622440"/>
                <a:tab algn="l" pos="851040"/>
                <a:tab algn="l" pos="1371600"/>
                <a:tab algn="l" pos="2400480"/>
                <a:tab algn="l" pos="2629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,Y,Z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  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Y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Z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601"/>
              </a:spcBef>
              <a:tabLst>
                <a:tab algn="l" pos="0"/>
                <a:tab algn="l" pos="622440"/>
                <a:tab algn="l" pos="851040"/>
                <a:tab algn="l" pos="1371600"/>
                <a:tab algn="l" pos="2400480"/>
                <a:tab algn="l" pos="2629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0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0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601"/>
              </a:spcBef>
              <a:tabLst>
                <a:tab algn="l" pos="0"/>
                <a:tab algn="l" pos="622440"/>
                <a:tab algn="l" pos="851040"/>
                <a:tab algn="l" pos="1371600"/>
                <a:tab algn="l" pos="2400480"/>
                <a:tab algn="l" pos="2629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0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0 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601"/>
              </a:spcBef>
              <a:tabLst>
                <a:tab algn="l" pos="0"/>
                <a:tab algn="l" pos="622440"/>
                <a:tab algn="l" pos="851040"/>
                <a:tab algn="l" pos="1371600"/>
                <a:tab algn="l" pos="2400480"/>
                <a:tab algn="l" pos="2629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0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0 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601"/>
              </a:spcBef>
              <a:tabLst>
                <a:tab algn="l" pos="0"/>
                <a:tab algn="l" pos="622440"/>
                <a:tab algn="l" pos="851040"/>
                <a:tab algn="l" pos="1371600"/>
                <a:tab algn="l" pos="2400480"/>
                <a:tab algn="l" pos="2629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0 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1 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601"/>
              </a:spcBef>
              <a:tabLst>
                <a:tab algn="l" pos="0"/>
                <a:tab algn="l" pos="622440"/>
                <a:tab algn="l" pos="851040"/>
                <a:tab algn="l" pos="1371600"/>
                <a:tab algn="l" pos="2400480"/>
                <a:tab algn="l" pos="2629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0 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1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601"/>
              </a:spcBef>
              <a:tabLst>
                <a:tab algn="l" pos="0"/>
                <a:tab algn="l" pos="622440"/>
                <a:tab algn="l" pos="851040"/>
                <a:tab algn="l" pos="1371600"/>
                <a:tab algn="l" pos="2400480"/>
                <a:tab algn="l" pos="2629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0 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1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601"/>
              </a:spcBef>
              <a:tabLst>
                <a:tab algn="l" pos="0"/>
                <a:tab algn="l" pos="622440"/>
                <a:tab algn="l" pos="851040"/>
                <a:tab algn="l" pos="1371600"/>
                <a:tab algn="l" pos="2400480"/>
                <a:tab algn="l" pos="2629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1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1 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601"/>
              </a:spcBef>
              <a:tabLst>
                <a:tab algn="l" pos="0"/>
                <a:tab algn="l" pos="622440"/>
                <a:tab algn="l" pos="851040"/>
                <a:tab algn="l" pos="1371600"/>
                <a:tab algn="l" pos="2400480"/>
                <a:tab algn="l" pos="2629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1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1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601"/>
              </a:spcBef>
              <a:tabLst>
                <a:tab algn="l" pos="0"/>
                <a:tab algn="l" pos="622440"/>
                <a:tab algn="l" pos="851040"/>
                <a:tab algn="l" pos="1371600"/>
                <a:tab algn="l" pos="2400480"/>
                <a:tab algn="l" pos="2629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1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0 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601"/>
              </a:spcBef>
              <a:tabLst>
                <a:tab algn="l" pos="0"/>
                <a:tab algn="l" pos="622440"/>
                <a:tab algn="l" pos="851040"/>
                <a:tab algn="l" pos="1371600"/>
                <a:tab algn="l" pos="2400480"/>
                <a:tab algn="l" pos="2629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1 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0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601"/>
              </a:spcBef>
              <a:tabLst>
                <a:tab algn="l" pos="0"/>
                <a:tab algn="l" pos="622440"/>
                <a:tab algn="l" pos="851040"/>
                <a:tab algn="l" pos="1371600"/>
                <a:tab algn="l" pos="2400480"/>
                <a:tab algn="l" pos="2629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1 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1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601"/>
              </a:spcBef>
              <a:tabLst>
                <a:tab algn="l" pos="0"/>
                <a:tab algn="l" pos="622440"/>
                <a:tab algn="l" pos="851040"/>
                <a:tab algn="l" pos="1371600"/>
                <a:tab algn="l" pos="2400480"/>
                <a:tab algn="l" pos="2629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0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0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601"/>
              </a:spcBef>
              <a:tabLst>
                <a:tab algn="l" pos="0"/>
                <a:tab algn="l" pos="622440"/>
                <a:tab algn="l" pos="851040"/>
                <a:tab algn="l" pos="1371600"/>
                <a:tab algn="l" pos="2400480"/>
                <a:tab algn="l" pos="2629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0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1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601"/>
              </a:spcBef>
              <a:tabLst>
                <a:tab algn="l" pos="0"/>
                <a:tab algn="l" pos="622440"/>
                <a:tab algn="l" pos="851040"/>
                <a:tab algn="l" pos="1371600"/>
                <a:tab algn="l" pos="2400480"/>
                <a:tab algn="l" pos="2629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883040" y="3649680"/>
            <a:ext cx="36705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 = X + Y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X R’ + Y Z R’ = R’ 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ynthesis of next state and output function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 - Finite State Machi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11B8-1BF3-4669-A30A-09E2C5C2178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ircuit implementa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63680" y="1620360"/>
            <a:ext cx="8292960" cy="438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utputs are a function of the current state only - Moore machin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1415" name=""/>
          <p:cNvGrpSpPr/>
          <p:nvPr/>
        </p:nvGrpSpPr>
        <p:grpSpPr>
          <a:xfrm>
            <a:off x="2381400" y="2676600"/>
            <a:ext cx="4638600" cy="3044880"/>
            <a:chOff x="2381400" y="2676600"/>
            <a:chExt cx="4638600" cy="3044880"/>
          </a:xfrm>
        </p:grpSpPr>
        <p:sp>
          <p:nvSpPr>
            <p:cNvPr id="1416" name=""/>
            <p:cNvSpPr/>
            <p:nvPr/>
          </p:nvSpPr>
          <p:spPr>
            <a:xfrm>
              <a:off x="2381400" y="3391200"/>
              <a:ext cx="2412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6562800" y="2676600"/>
              <a:ext cx="4572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124600" y="3372120"/>
              <a:ext cx="1181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295800" y="5353200"/>
              <a:ext cx="1396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urr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448080" y="2762280"/>
              <a:ext cx="1600200" cy="53352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048280" y="5048280"/>
              <a:ext cx="3808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048280" y="5124600"/>
              <a:ext cx="15228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V="1">
              <a:off x="5048280" y="5200560"/>
              <a:ext cx="15228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448080" y="3372120"/>
              <a:ext cx="1600200" cy="53316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25" name=""/>
            <p:cNvCxnSpPr>
              <a:stCxn id="1424" idx="3"/>
              <a:endCxn id="1421" idx="0"/>
            </p:cNvCxnSpPr>
            <p:nvPr/>
          </p:nvCxnSpPr>
          <p:spPr>
            <a:xfrm>
              <a:off x="5047920" y="3638520"/>
              <a:ext cx="191160" cy="141012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6" name=""/>
            <p:cNvCxnSpPr>
              <a:stCxn id="1421" idx="2"/>
              <a:endCxn id="1420" idx="1"/>
            </p:cNvCxnSpPr>
            <p:nvPr/>
          </p:nvCxnSpPr>
          <p:spPr>
            <a:xfrm flipV="1" rot="16200000">
              <a:off x="3180960" y="3295080"/>
              <a:ext cx="2324880" cy="1791360"/>
            </a:xfrm>
            <a:prstGeom prst="bentConnector4">
              <a:avLst>
                <a:gd name="adj1" fmla="val -15843"/>
                <a:gd name="adj2" fmla="val 112763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7" name=""/>
            <p:cNvCxnSpPr>
              <a:stCxn id="1421" idx="2"/>
              <a:endCxn id="1424" idx="1"/>
            </p:cNvCxnSpPr>
            <p:nvPr/>
          </p:nvCxnSpPr>
          <p:spPr>
            <a:xfrm flipV="1" rot="16200000">
              <a:off x="3485880" y="3600000"/>
              <a:ext cx="1715040" cy="1791360"/>
            </a:xfrm>
            <a:prstGeom prst="bentConnector4">
              <a:avLst>
                <a:gd name="adj1" fmla="val -21373"/>
                <a:gd name="adj2" fmla="val 112763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28" name=""/>
            <p:cNvSpPr/>
            <p:nvPr/>
          </p:nvSpPr>
          <p:spPr>
            <a:xfrm>
              <a:off x="5581800" y="5048280"/>
              <a:ext cx="3808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29" name=""/>
            <p:cNvCxnSpPr>
              <a:endCxn id="1428" idx="0"/>
            </p:cNvCxnSpPr>
            <p:nvPr/>
          </p:nvCxnSpPr>
          <p:spPr>
            <a:xfrm>
              <a:off x="5581440" y="3638520"/>
              <a:ext cx="191160" cy="141012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30" name=""/>
            <p:cNvSpPr/>
            <p:nvPr/>
          </p:nvSpPr>
          <p:spPr>
            <a:xfrm>
              <a:off x="6114960" y="5048280"/>
              <a:ext cx="38124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31" name=""/>
            <p:cNvCxnSpPr>
              <a:endCxn id="1430" idx="0"/>
            </p:cNvCxnSpPr>
            <p:nvPr/>
          </p:nvCxnSpPr>
          <p:spPr>
            <a:xfrm>
              <a:off x="6114960" y="3638520"/>
              <a:ext cx="191520" cy="141012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2" name=""/>
            <p:cNvCxnSpPr>
              <a:stCxn id="1424" idx="3"/>
              <a:endCxn id="1428" idx="0"/>
            </p:cNvCxnSpPr>
            <p:nvPr/>
          </p:nvCxnSpPr>
          <p:spPr>
            <a:xfrm>
              <a:off x="5047920" y="3638520"/>
              <a:ext cx="724680" cy="141012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3" name=""/>
            <p:cNvCxnSpPr>
              <a:stCxn id="1424" idx="3"/>
              <a:endCxn id="1430" idx="0"/>
            </p:cNvCxnSpPr>
            <p:nvPr/>
          </p:nvCxnSpPr>
          <p:spPr>
            <a:xfrm>
              <a:off x="5047920" y="3638520"/>
              <a:ext cx="1258200" cy="141012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4" name=""/>
            <p:cNvCxnSpPr>
              <a:stCxn id="1428" idx="2"/>
              <a:endCxn id="1424" idx="1"/>
            </p:cNvCxnSpPr>
            <p:nvPr/>
          </p:nvCxnSpPr>
          <p:spPr>
            <a:xfrm flipV="1" rot="16200000">
              <a:off x="3752640" y="3333240"/>
              <a:ext cx="1715040" cy="2324880"/>
            </a:xfrm>
            <a:prstGeom prst="bentConnector4">
              <a:avLst>
                <a:gd name="adj1" fmla="val -21373"/>
                <a:gd name="adj2" fmla="val 109834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5" name=""/>
            <p:cNvCxnSpPr>
              <a:stCxn id="1430" idx="2"/>
              <a:endCxn id="1424" idx="1"/>
            </p:cNvCxnSpPr>
            <p:nvPr/>
          </p:nvCxnSpPr>
          <p:spPr>
            <a:xfrm flipV="1" rot="16200000">
              <a:off x="4019400" y="3066480"/>
              <a:ext cx="1715040" cy="2858400"/>
            </a:xfrm>
            <a:prstGeom prst="bentConnector4">
              <a:avLst>
                <a:gd name="adj1" fmla="val -21373"/>
                <a:gd name="adj2" fmla="val 107998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36" name=""/>
            <p:cNvSpPr/>
            <p:nvPr/>
          </p:nvSpPr>
          <p:spPr>
            <a:xfrm>
              <a:off x="5581800" y="5124600"/>
              <a:ext cx="15228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V="1">
              <a:off x="5581800" y="5200560"/>
              <a:ext cx="15228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114960" y="5124600"/>
              <a:ext cx="15264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V="1">
              <a:off x="6114960" y="5200560"/>
              <a:ext cx="15264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218920" y="3700440"/>
              <a:ext cx="36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754600" y="370044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285600" y="3700440"/>
              <a:ext cx="36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201640" y="537696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737320" y="53769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268320" y="53769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029200" y="3029040"/>
              <a:ext cx="145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029200" y="3181680"/>
              <a:ext cx="146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029200" y="2876760"/>
              <a:ext cx="14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685960" y="3515040"/>
              <a:ext cx="80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676600" y="3762360"/>
              <a:ext cx="809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 - Finite State Machi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EB07-2985-493A-B0D4-9153AF9DCBB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rms of sequential logic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synchronous sequential logic – state changes occur whenever state inputs change (elements may be simple wires or delay elements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ynchronous sequential logic – state changes occur in lock step across all storage elements (using a periodic waveform - the clock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7200" y="3809880"/>
            <a:ext cx="3809520" cy="1752840"/>
            <a:chOff x="457200" y="3809880"/>
            <a:chExt cx="3809520" cy="1752840"/>
          </a:xfrm>
        </p:grpSpPr>
        <p:sp>
          <p:nvSpPr>
            <p:cNvPr id="124" name=""/>
            <p:cNvSpPr/>
            <p:nvPr/>
          </p:nvSpPr>
          <p:spPr>
            <a:xfrm>
              <a:off x="1559880" y="3809880"/>
              <a:ext cx="1603800" cy="76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7200" y="397404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413856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200" y="386460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57880" y="4248000"/>
              <a:ext cx="70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08360" y="4412160"/>
              <a:ext cx="55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08800" y="4521960"/>
              <a:ext cx="45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64040" y="397404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64040" y="413856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64040" y="386460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164040" y="4248000"/>
              <a:ext cx="75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64040" y="4412160"/>
              <a:ext cx="60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64040" y="4521960"/>
              <a:ext cx="50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12000" y="4850640"/>
              <a:ext cx="125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12000" y="5124600"/>
              <a:ext cx="135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12000" y="5562720"/>
              <a:ext cx="150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08800" y="4850640"/>
              <a:ext cx="130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08360" y="5124600"/>
              <a:ext cx="140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57880" y="5562720"/>
              <a:ext cx="155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65520" y="452196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65600" y="4412160"/>
              <a:ext cx="0" cy="71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6080" y="4248000"/>
              <a:ext cx="0" cy="131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1108800" y="452160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08360" y="4412160"/>
              <a:ext cx="0" cy="71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57880" y="4248000"/>
              <a:ext cx="0" cy="131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648320" y="3809880"/>
            <a:ext cx="4114440" cy="2208600"/>
            <a:chOff x="4648320" y="3809880"/>
            <a:chExt cx="4114440" cy="2208600"/>
          </a:xfrm>
        </p:grpSpPr>
        <p:sp>
          <p:nvSpPr>
            <p:cNvPr id="150" name=""/>
            <p:cNvSpPr/>
            <p:nvPr/>
          </p:nvSpPr>
          <p:spPr>
            <a:xfrm>
              <a:off x="5839200" y="3809880"/>
              <a:ext cx="1732680" cy="757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48320" y="397224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48320" y="413460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48320" y="386388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81400" y="4242600"/>
              <a:ext cx="7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43760" y="4404960"/>
              <a:ext cx="59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51760" y="4513320"/>
              <a:ext cx="48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571880" y="397224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71880" y="413460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71880" y="386388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571880" y="4242600"/>
              <a:ext cx="81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71880" y="4404960"/>
              <a:ext cx="64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571880" y="4513320"/>
              <a:ext cx="54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22440" y="478404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22440" y="5054400"/>
              <a:ext cx="129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22440" y="5487840"/>
              <a:ext cx="146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43000" y="4729680"/>
              <a:ext cx="379080" cy="21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43000" y="5000760"/>
              <a:ext cx="37908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543000" y="5433480"/>
              <a:ext cx="379080" cy="21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51760" y="4838400"/>
              <a:ext cx="119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43760" y="5108760"/>
              <a:ext cx="129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081400" y="5541840"/>
              <a:ext cx="146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13320" y="4513320"/>
              <a:ext cx="0" cy="27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221680" y="4404960"/>
              <a:ext cx="0" cy="6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384040" y="4242600"/>
              <a:ext cx="0" cy="124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351760" y="4513320"/>
              <a:ext cx="0" cy="32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43760" y="4404960"/>
              <a:ext cx="0" cy="70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1400" y="4242600"/>
              <a:ext cx="0" cy="129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922440" y="4892040"/>
              <a:ext cx="37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22440" y="5163120"/>
              <a:ext cx="37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22440" y="5595840"/>
              <a:ext cx="37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301160" y="4892040"/>
              <a:ext cx="0" cy="86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04040" y="5650200"/>
              <a:ext cx="79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 - Finite State Machi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3294-1ED5-465F-A916-46DD56CDE6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on’t cares in FSM synthesi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hat happens to the "unused" states (101, 110, 111)?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hey were exploited as don't cares to minimize the logic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the states can't happen, then we don't care what the functions 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states do happen, we may be in trou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"/>
          <p:cNvSpPr/>
          <p:nvPr/>
        </p:nvSpPr>
        <p:spPr>
          <a:xfrm>
            <a:off x="2298600" y="3594240"/>
            <a:ext cx="760680" cy="76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4202280" y="3594240"/>
            <a:ext cx="760320" cy="76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359400" y="3594240"/>
            <a:ext cx="760680" cy="76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L, 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202280" y="5118120"/>
            <a:ext cx="7603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R, 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359400" y="5118120"/>
            <a:ext cx="76068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R, 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8" name=""/>
          <p:cNvCxnSpPr>
            <a:stCxn id="1454" idx="4"/>
            <a:endCxn id="1456" idx="0"/>
          </p:cNvCxnSpPr>
          <p:nvPr/>
        </p:nvCxnSpPr>
        <p:spPr>
          <a:xfrm flipV="1" rot="10800000">
            <a:off x="4580640" y="4355640"/>
            <a:ext cx="1080" cy="7628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9" name=""/>
          <p:cNvCxnSpPr>
            <a:stCxn id="1457" idx="0"/>
            <a:endCxn id="1455" idx="4"/>
          </p:cNvCxnSpPr>
          <p:nvPr/>
        </p:nvCxnSpPr>
        <p:spPr>
          <a:xfrm flipV="1">
            <a:off x="6738480" y="4355280"/>
            <a:ext cx="1080" cy="7628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0" name=""/>
          <p:cNvCxnSpPr>
            <a:stCxn id="1453" idx="6"/>
            <a:endCxn id="1454" idx="2"/>
          </p:cNvCxnSpPr>
          <p:nvPr/>
        </p:nvCxnSpPr>
        <p:spPr>
          <a:xfrm>
            <a:off x="3058920" y="3974760"/>
            <a:ext cx="1143720" cy="108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1" name=""/>
          <p:cNvCxnSpPr>
            <a:stCxn id="1453" idx="1"/>
            <a:endCxn id="1453" idx="7"/>
          </p:cNvCxnSpPr>
          <p:nvPr/>
        </p:nvCxnSpPr>
        <p:spPr>
          <a:xfrm flipH="1" rot="16200000">
            <a:off x="2677680" y="3435840"/>
            <a:ext cx="2520" cy="538920"/>
          </a:xfrm>
          <a:prstGeom prst="curvedConnector5">
            <a:avLst>
              <a:gd name="adj1" fmla="val -22800000"/>
              <a:gd name="adj2" fmla="val 50000"/>
              <a:gd name="adj3" fmla="val -228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2" name=""/>
          <p:cNvCxnSpPr>
            <a:stCxn id="1454" idx="7"/>
            <a:endCxn id="1454" idx="1"/>
          </p:cNvCxnSpPr>
          <p:nvPr/>
        </p:nvCxnSpPr>
        <p:spPr>
          <a:xfrm rot="5400000">
            <a:off x="4580640" y="3435840"/>
            <a:ext cx="2520" cy="538920"/>
          </a:xfrm>
          <a:prstGeom prst="curvedConnector5">
            <a:avLst>
              <a:gd name="adj1" fmla="val -26400000"/>
              <a:gd name="adj2" fmla="val 50000"/>
              <a:gd name="adj3" fmla="val -264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3" name=""/>
          <p:cNvCxnSpPr>
            <a:stCxn id="1455" idx="6"/>
            <a:endCxn id="1455" idx="0"/>
          </p:cNvCxnSpPr>
          <p:nvPr/>
        </p:nvCxnSpPr>
        <p:spPr>
          <a:xfrm flipH="1" flipV="1">
            <a:off x="6738120" y="3593880"/>
            <a:ext cx="381960" cy="381600"/>
          </a:xfrm>
          <a:prstGeom prst="curvedConnector5">
            <a:avLst>
              <a:gd name="adj1" fmla="val -50000"/>
              <a:gd name="adj2" fmla="val 77053"/>
              <a:gd name="adj3" fmla="val -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4" name=""/>
          <p:cNvCxnSpPr>
            <a:stCxn id="1457" idx="5"/>
            <a:endCxn id="1457" idx="7"/>
          </p:cNvCxnSpPr>
          <p:nvPr/>
        </p:nvCxnSpPr>
        <p:spPr>
          <a:xfrm flipH="1" flipV="1" rot="5400000">
            <a:off x="6739560" y="5497920"/>
            <a:ext cx="540360" cy="2160"/>
          </a:xfrm>
          <a:prstGeom prst="curvedConnector5">
            <a:avLst>
              <a:gd name="adj1" fmla="val -17866"/>
              <a:gd name="adj2" fmla="val 20980000"/>
              <a:gd name="adj3" fmla="val -1786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5" name=""/>
          <p:cNvCxnSpPr>
            <a:stCxn id="1456" idx="6"/>
            <a:endCxn id="1457" idx="2"/>
          </p:cNvCxnSpPr>
          <p:nvPr/>
        </p:nvCxnSpPr>
        <p:spPr>
          <a:xfrm>
            <a:off x="4962600" y="5498640"/>
            <a:ext cx="1397520" cy="108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6" name=""/>
          <p:cNvCxnSpPr>
            <a:stCxn id="1455" idx="2"/>
            <a:endCxn id="1454" idx="6"/>
          </p:cNvCxnSpPr>
          <p:nvPr/>
        </p:nvCxnSpPr>
        <p:spPr>
          <a:xfrm rot="10800000">
            <a:off x="4961880" y="3974400"/>
            <a:ext cx="1397520" cy="108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67" name=""/>
          <p:cNvSpPr/>
          <p:nvPr/>
        </p:nvSpPr>
        <p:spPr>
          <a:xfrm flipV="1">
            <a:off x="4835520" y="4165560"/>
            <a:ext cx="1587600" cy="1015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4898880" y="4292640"/>
            <a:ext cx="1587600" cy="1015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620120" y="5359320"/>
            <a:ext cx="34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5463000" y="5611680"/>
            <a:ext cx="34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721480" y="478620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’ R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5268240" y="4470480"/>
            <a:ext cx="30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010400" y="453384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’ R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582520" y="37101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6790680" y="4597560"/>
            <a:ext cx="30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7368840" y="3390840"/>
            <a:ext cx="50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’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847400" y="3327480"/>
            <a:ext cx="63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 +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3324960" y="3710160"/>
            <a:ext cx="63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 +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2867400" y="320040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’ R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0" name=""/>
          <p:cNvGrpSpPr/>
          <p:nvPr/>
        </p:nvGrpSpPr>
        <p:grpSpPr>
          <a:xfrm>
            <a:off x="2665440" y="5333760"/>
            <a:ext cx="952560" cy="952920"/>
            <a:chOff x="2665440" y="5333760"/>
            <a:chExt cx="952560" cy="952920"/>
          </a:xfrm>
        </p:grpSpPr>
        <p:sp>
          <p:nvSpPr>
            <p:cNvPr id="1481" name=""/>
            <p:cNvSpPr/>
            <p:nvPr/>
          </p:nvSpPr>
          <p:spPr>
            <a:xfrm>
              <a:off x="2665440" y="5524560"/>
              <a:ext cx="762120" cy="76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2" name=""/>
            <p:cNvCxnSpPr>
              <a:stCxn id="1481" idx="6"/>
              <a:endCxn id="1481" idx="0"/>
            </p:cNvCxnSpPr>
            <p:nvPr/>
          </p:nvCxnSpPr>
          <p:spPr>
            <a:xfrm flipH="1" flipV="1">
              <a:off x="3045600" y="5524200"/>
              <a:ext cx="381960" cy="381600"/>
            </a:xfrm>
            <a:prstGeom prst="curvedConnector5">
              <a:avLst>
                <a:gd name="adj1" fmla="val -50000"/>
                <a:gd name="adj2" fmla="val 74976"/>
                <a:gd name="adj3" fmla="val -5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83" name=""/>
          <p:cNvGrpSpPr/>
          <p:nvPr/>
        </p:nvGrpSpPr>
        <p:grpSpPr>
          <a:xfrm>
            <a:off x="762120" y="3974760"/>
            <a:ext cx="1536840" cy="914760"/>
            <a:chOff x="762120" y="3974760"/>
            <a:chExt cx="1536840" cy="914760"/>
          </a:xfrm>
        </p:grpSpPr>
        <p:sp>
          <p:nvSpPr>
            <p:cNvPr id="1484" name=""/>
            <p:cNvSpPr/>
            <p:nvPr/>
          </p:nvSpPr>
          <p:spPr>
            <a:xfrm>
              <a:off x="762120" y="4129200"/>
              <a:ext cx="761760" cy="76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5" name=""/>
            <p:cNvCxnSpPr>
              <a:stCxn id="1484" idx="7"/>
              <a:endCxn id="1453" idx="2"/>
            </p:cNvCxnSpPr>
            <p:nvPr/>
          </p:nvCxnSpPr>
          <p:spPr>
            <a:xfrm flipH="1" flipV="1" rot="5400000">
              <a:off x="1722960" y="3664440"/>
              <a:ext cx="265680" cy="8863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86" name=""/>
          <p:cNvGrpSpPr/>
          <p:nvPr/>
        </p:nvGrpSpPr>
        <p:grpSpPr>
          <a:xfrm>
            <a:off x="1397160" y="4355640"/>
            <a:ext cx="1280880" cy="1549800"/>
            <a:chOff x="1397160" y="4355640"/>
            <a:chExt cx="1280880" cy="1549800"/>
          </a:xfrm>
        </p:grpSpPr>
        <p:sp>
          <p:nvSpPr>
            <p:cNvPr id="1487" name=""/>
            <p:cNvSpPr/>
            <p:nvPr/>
          </p:nvSpPr>
          <p:spPr>
            <a:xfrm>
              <a:off x="1397160" y="5143680"/>
              <a:ext cx="7603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8" name=""/>
            <p:cNvCxnSpPr>
              <a:stCxn id="1487" idx="7"/>
              <a:endCxn id="1453" idx="4"/>
            </p:cNvCxnSpPr>
            <p:nvPr/>
          </p:nvCxnSpPr>
          <p:spPr>
            <a:xfrm flipH="1" flipV="1" rot="5400000">
              <a:off x="1912320" y="4488840"/>
              <a:ext cx="899280" cy="632520"/>
            </a:xfrm>
            <a:prstGeom prst="curvedConnector5">
              <a:avLst>
                <a:gd name="adj1" fmla="val 56147"/>
                <a:gd name="adj2" fmla="val 50000"/>
                <a:gd name="adj3" fmla="val 56147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89" name=""/>
          <p:cNvGrpSpPr/>
          <p:nvPr/>
        </p:nvGrpSpPr>
        <p:grpSpPr>
          <a:xfrm>
            <a:off x="609480" y="6095880"/>
            <a:ext cx="2133720" cy="609840"/>
            <a:chOff x="609480" y="6095880"/>
            <a:chExt cx="2133720" cy="609840"/>
          </a:xfrm>
        </p:grpSpPr>
        <p:sp>
          <p:nvSpPr>
            <p:cNvPr id="1490" name=""/>
            <p:cNvSpPr/>
            <p:nvPr/>
          </p:nvSpPr>
          <p:spPr>
            <a:xfrm>
              <a:off x="609480" y="6095880"/>
              <a:ext cx="20574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nt is in deep trou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f it gets in this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V="1">
              <a:off x="2514600" y="624816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 - Finite State Machi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1F60-E147-47EA-BCE3-AC0FCAD447C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tate minimiza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ewer states may mean fewer state variabl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igh-level synthesis may generate many redundant stat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wo state are equivalent if they are impossible to distinguish from the outputs of the FSM, i. e., for any input sequence the outputs are the same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wo conditions for two states to be equivalent: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) output must be the same in both 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) must transition to equivalent states for all input combin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 - Finite State Machi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F52E-6870-47DD-BB10-CB6DDEB601D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nt brain revisite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ny equivalent states?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1496" name=""/>
          <p:cNvGrpSpPr/>
          <p:nvPr/>
        </p:nvGrpSpPr>
        <p:grpSpPr>
          <a:xfrm>
            <a:off x="1213920" y="2460600"/>
            <a:ext cx="6961320" cy="3193200"/>
            <a:chOff x="1213920" y="2460600"/>
            <a:chExt cx="6961320" cy="3193200"/>
          </a:xfrm>
        </p:grpSpPr>
        <p:sp>
          <p:nvSpPr>
            <p:cNvPr id="1497" name=""/>
            <p:cNvSpPr/>
            <p:nvPr/>
          </p:nvSpPr>
          <p:spPr>
            <a:xfrm>
              <a:off x="1442880" y="2898720"/>
              <a:ext cx="914400" cy="91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F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728880" y="2898720"/>
              <a:ext cx="914400" cy="91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/G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T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319800" y="2898720"/>
              <a:ext cx="914400" cy="91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TL, F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728880" y="4727520"/>
              <a:ext cx="914400" cy="91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TR, F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319800" y="4727520"/>
              <a:ext cx="914400" cy="91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TR, F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2" name=""/>
            <p:cNvCxnSpPr>
              <a:stCxn id="1498" idx="4"/>
              <a:endCxn id="1500" idx="0"/>
            </p:cNvCxnSpPr>
            <p:nvPr/>
          </p:nvCxnSpPr>
          <p:spPr>
            <a:xfrm flipV="1" rot="10800000">
              <a:off x="4185360" y="3812760"/>
              <a:ext cx="1080" cy="9151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3" name=""/>
            <p:cNvCxnSpPr>
              <a:stCxn id="1501" idx="0"/>
              <a:endCxn id="1499" idx="4"/>
            </p:cNvCxnSpPr>
            <p:nvPr/>
          </p:nvCxnSpPr>
          <p:spPr>
            <a:xfrm flipV="1">
              <a:off x="6776640" y="3812760"/>
              <a:ext cx="1080" cy="9151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4" name=""/>
            <p:cNvCxnSpPr>
              <a:stCxn id="1497" idx="6"/>
              <a:endCxn id="1498" idx="2"/>
            </p:cNvCxnSpPr>
            <p:nvPr/>
          </p:nvCxnSpPr>
          <p:spPr>
            <a:xfrm>
              <a:off x="2357280" y="3355560"/>
              <a:ext cx="137232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5" name=""/>
            <p:cNvCxnSpPr>
              <a:stCxn id="1497" idx="4"/>
              <a:endCxn id="1497" idx="2"/>
            </p:cNvCxnSpPr>
            <p:nvPr/>
          </p:nvCxnSpPr>
          <p:spPr>
            <a:xfrm flipV="1" rot="16200000">
              <a:off x="1442520" y="3355200"/>
              <a:ext cx="457920" cy="457920"/>
            </a:xfrm>
            <a:prstGeom prst="curvedConnector5">
              <a:avLst>
                <a:gd name="adj1" fmla="val -49960"/>
                <a:gd name="adj2" fmla="val 74980"/>
                <a:gd name="adj3" fmla="val -4996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6" name=""/>
            <p:cNvCxnSpPr>
              <a:stCxn id="1498" idx="7"/>
              <a:endCxn id="1498" idx="1"/>
            </p:cNvCxnSpPr>
            <p:nvPr/>
          </p:nvCxnSpPr>
          <p:spPr>
            <a:xfrm rot="5400000">
              <a:off x="4185000" y="2707920"/>
              <a:ext cx="2520" cy="648360"/>
            </a:xfrm>
            <a:prstGeom prst="curvedConnector5">
              <a:avLst>
                <a:gd name="adj1" fmla="val -26400000"/>
                <a:gd name="adj2" fmla="val 50000"/>
                <a:gd name="adj3" fmla="val -26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7" name=""/>
            <p:cNvCxnSpPr>
              <a:stCxn id="1499" idx="6"/>
              <a:endCxn id="1499" idx="0"/>
            </p:cNvCxnSpPr>
            <p:nvPr/>
          </p:nvCxnSpPr>
          <p:spPr>
            <a:xfrm flipH="1" flipV="1">
              <a:off x="6776640" y="2898360"/>
              <a:ext cx="457920" cy="457920"/>
            </a:xfrm>
            <a:prstGeom prst="curvedConnector5">
              <a:avLst>
                <a:gd name="adj1" fmla="val -49960"/>
                <a:gd name="adj2" fmla="val 77025"/>
                <a:gd name="adj3" fmla="val -4996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8" name=""/>
            <p:cNvCxnSpPr>
              <a:stCxn id="1501" idx="5"/>
              <a:endCxn id="1501" idx="7"/>
            </p:cNvCxnSpPr>
            <p:nvPr/>
          </p:nvCxnSpPr>
          <p:spPr>
            <a:xfrm flipH="1" flipV="1" rot="5400000">
              <a:off x="6776640" y="5183640"/>
              <a:ext cx="648360" cy="2520"/>
            </a:xfrm>
            <a:prstGeom prst="curvedConnector5">
              <a:avLst>
                <a:gd name="adj1" fmla="val -17888"/>
                <a:gd name="adj2" fmla="val 20983333"/>
                <a:gd name="adj3" fmla="val -17888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9" name=""/>
            <p:cNvCxnSpPr>
              <a:stCxn id="1500" idx="6"/>
              <a:endCxn id="1501" idx="2"/>
            </p:cNvCxnSpPr>
            <p:nvPr/>
          </p:nvCxnSpPr>
          <p:spPr>
            <a:xfrm>
              <a:off x="4642920" y="5184360"/>
              <a:ext cx="167724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10" name=""/>
            <p:cNvCxnSpPr>
              <a:stCxn id="1499" idx="2"/>
              <a:endCxn id="1498" idx="6"/>
            </p:cNvCxnSpPr>
            <p:nvPr/>
          </p:nvCxnSpPr>
          <p:spPr>
            <a:xfrm rot="10800000">
              <a:off x="4642560" y="3355200"/>
              <a:ext cx="167724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1" name=""/>
            <p:cNvSpPr/>
            <p:nvPr/>
          </p:nvSpPr>
          <p:spPr>
            <a:xfrm flipV="1">
              <a:off x="4491000" y="3584160"/>
              <a:ext cx="190476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>
              <a:off x="4566960" y="3736800"/>
              <a:ext cx="190512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832880" y="5011560"/>
              <a:ext cx="34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241960" y="5316480"/>
              <a:ext cx="34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553360" y="432576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’ 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009400" y="3944880"/>
              <a:ext cx="30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495960" y="402120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’ 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388840" y="3030480"/>
              <a:ext cx="28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838200" y="4097160"/>
              <a:ext cx="30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530480" y="2649600"/>
              <a:ext cx="50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’ 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499640" y="2573280"/>
              <a:ext cx="63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 + 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670840" y="3030480"/>
              <a:ext cx="63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 + 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438560" y="402120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’ 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 - Finite State Machi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D379-04A2-4520-8D40-84C6BB33559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ew improved brai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erge equivalent B and C stat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Behavior is exactly the same as the 5-state brai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e now need only 2 state variables rather than 3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1526" name=""/>
          <p:cNvGrpSpPr/>
          <p:nvPr/>
        </p:nvGrpSpPr>
        <p:grpSpPr>
          <a:xfrm>
            <a:off x="1680840" y="3149280"/>
            <a:ext cx="6819120" cy="3313080"/>
            <a:chOff x="1680840" y="3149280"/>
            <a:chExt cx="6819120" cy="3313080"/>
          </a:xfrm>
        </p:grpSpPr>
        <p:sp>
          <p:nvSpPr>
            <p:cNvPr id="1527" name=""/>
            <p:cNvSpPr/>
            <p:nvPr/>
          </p:nvSpPr>
          <p:spPr>
            <a:xfrm>
              <a:off x="1909800" y="3490920"/>
              <a:ext cx="914400" cy="91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F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195800" y="3490920"/>
              <a:ext cx="914400" cy="91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/G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T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786720" y="3490920"/>
              <a:ext cx="914400" cy="91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TL, F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195800" y="5319720"/>
              <a:ext cx="914400" cy="91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/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TR, F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31" name=""/>
            <p:cNvCxnSpPr>
              <a:stCxn id="1528" idx="4"/>
              <a:endCxn id="1530" idx="0"/>
            </p:cNvCxnSpPr>
            <p:nvPr/>
          </p:nvCxnSpPr>
          <p:spPr>
            <a:xfrm flipV="1" rot="10800000">
              <a:off x="4652280" y="4404960"/>
              <a:ext cx="1080" cy="9151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32" name=""/>
            <p:cNvCxnSpPr>
              <a:stCxn id="1527" idx="6"/>
              <a:endCxn id="1528" idx="2"/>
            </p:cNvCxnSpPr>
            <p:nvPr/>
          </p:nvCxnSpPr>
          <p:spPr>
            <a:xfrm>
              <a:off x="2824200" y="3947760"/>
              <a:ext cx="137232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33" name=""/>
            <p:cNvCxnSpPr>
              <a:stCxn id="1527" idx="4"/>
              <a:endCxn id="1527" idx="2"/>
            </p:cNvCxnSpPr>
            <p:nvPr/>
          </p:nvCxnSpPr>
          <p:spPr>
            <a:xfrm flipV="1" rot="16200000">
              <a:off x="1909440" y="3947400"/>
              <a:ext cx="457920" cy="457920"/>
            </a:xfrm>
            <a:prstGeom prst="curvedConnector5">
              <a:avLst>
                <a:gd name="adj1" fmla="val -49960"/>
                <a:gd name="adj2" fmla="val 74980"/>
                <a:gd name="adj3" fmla="val -4996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34" name=""/>
            <p:cNvCxnSpPr>
              <a:stCxn id="1528" idx="7"/>
              <a:endCxn id="1528" idx="1"/>
            </p:cNvCxnSpPr>
            <p:nvPr/>
          </p:nvCxnSpPr>
          <p:spPr>
            <a:xfrm rot="5400000">
              <a:off x="4651560" y="3301200"/>
              <a:ext cx="2160" cy="648360"/>
            </a:xfrm>
            <a:prstGeom prst="curvedConnector5">
              <a:avLst>
                <a:gd name="adj1" fmla="val -26400000"/>
                <a:gd name="adj2" fmla="val 50000"/>
                <a:gd name="adj3" fmla="val -26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35" name=""/>
            <p:cNvCxnSpPr>
              <a:stCxn id="1529" idx="6"/>
              <a:endCxn id="1529" idx="0"/>
            </p:cNvCxnSpPr>
            <p:nvPr/>
          </p:nvCxnSpPr>
          <p:spPr>
            <a:xfrm flipH="1" flipV="1">
              <a:off x="7243560" y="3490560"/>
              <a:ext cx="457920" cy="457920"/>
            </a:xfrm>
            <a:prstGeom prst="curvedConnector5">
              <a:avLst>
                <a:gd name="adj1" fmla="val -49960"/>
                <a:gd name="adj2" fmla="val 77025"/>
                <a:gd name="adj3" fmla="val -4996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36" name=""/>
            <p:cNvCxnSpPr>
              <a:stCxn id="1530" idx="3"/>
              <a:endCxn id="1530" idx="1"/>
            </p:cNvCxnSpPr>
            <p:nvPr/>
          </p:nvCxnSpPr>
          <p:spPr>
            <a:xfrm flipH="1" flipV="1" rot="5400000">
              <a:off x="4006080" y="5775840"/>
              <a:ext cx="648360" cy="2160"/>
            </a:xfrm>
            <a:prstGeom prst="curvedConnector5">
              <a:avLst>
                <a:gd name="adj1" fmla="val -55833"/>
                <a:gd name="adj2" fmla="val -22740000"/>
                <a:gd name="adj3" fmla="val -55833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37" name=""/>
            <p:cNvCxnSpPr>
              <a:stCxn id="1529" idx="2"/>
              <a:endCxn id="1528" idx="6"/>
            </p:cNvCxnSpPr>
            <p:nvPr/>
          </p:nvCxnSpPr>
          <p:spPr>
            <a:xfrm rot="10800000">
              <a:off x="5109480" y="3947400"/>
              <a:ext cx="167724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38" name=""/>
            <p:cNvSpPr/>
            <p:nvPr/>
          </p:nvSpPr>
          <p:spPr>
            <a:xfrm flipV="1">
              <a:off x="4957920" y="4176360"/>
              <a:ext cx="190512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>
              <a:off x="5033880" y="4329000"/>
              <a:ext cx="190476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292920" y="5618160"/>
              <a:ext cx="34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020280" y="491796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’ 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476680" y="4537080"/>
              <a:ext cx="30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962880" y="461340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’ 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855760" y="3622680"/>
              <a:ext cx="28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7997760" y="3241800"/>
              <a:ext cx="50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’ 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4966560" y="3165480"/>
              <a:ext cx="63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 + 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137760" y="3622680"/>
              <a:ext cx="63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 + 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905480" y="461340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’ 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 - Finite State Machi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154E-78FA-41A1-854C-E64AC9D2EBB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9" name=""/>
          <p:cNvGrpSpPr/>
          <p:nvPr/>
        </p:nvGrpSpPr>
        <p:grpSpPr>
          <a:xfrm>
            <a:off x="457200" y="2033640"/>
            <a:ext cx="3359160" cy="3618000"/>
            <a:chOff x="457200" y="2033640"/>
            <a:chExt cx="3359160" cy="3618000"/>
          </a:xfrm>
        </p:grpSpPr>
        <p:sp>
          <p:nvSpPr>
            <p:cNvPr id="1550" name=""/>
            <p:cNvSpPr/>
            <p:nvPr/>
          </p:nvSpPr>
          <p:spPr>
            <a:xfrm>
              <a:off x="457200" y="2571840"/>
              <a:ext cx="312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779480" y="2033640"/>
              <a:ext cx="0" cy="350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39640" y="2057400"/>
              <a:ext cx="3276720" cy="359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00"/>
                </a:lnSpc>
                <a:spcBef>
                  <a:spcPts val="601"/>
                </a:spcBef>
                <a:tabLst>
                  <a:tab algn="l" pos="0"/>
                  <a:tab algn="l" pos="622440"/>
                  <a:tab algn="l" pos="851040"/>
                  <a:tab algn="l" pos="1422360"/>
                  <a:tab algn="l" pos="2171880"/>
                  <a:tab algn="l" pos="2400480"/>
                  <a:tab algn="l" pos="2679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    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00"/>
                </a:lnSpc>
                <a:spcBef>
                  <a:spcPts val="601"/>
                </a:spcBef>
                <a:tabLst>
                  <a:tab algn="l" pos="0"/>
                  <a:tab algn="l" pos="622440"/>
                  <a:tab algn="l" pos="851040"/>
                  <a:tab algn="l" pos="1422360"/>
                  <a:tab algn="l" pos="2171880"/>
                  <a:tab algn="l" pos="2400480"/>
                  <a:tab algn="l" pos="2679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,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  R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,Y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R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00"/>
                </a:lnSpc>
                <a:spcBef>
                  <a:spcPts val="601"/>
                </a:spcBef>
                <a:tabLst>
                  <a:tab algn="l" pos="0"/>
                  <a:tab algn="l" pos="622440"/>
                  <a:tab algn="l" pos="851040"/>
                  <a:tab algn="l" pos="1422360"/>
                  <a:tab algn="l" pos="2171880"/>
                  <a:tab algn="l" pos="2400480"/>
                  <a:tab algn="l" pos="2679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00"/>
                </a:lnSpc>
                <a:spcBef>
                  <a:spcPts val="601"/>
                </a:spcBef>
                <a:tabLst>
                  <a:tab algn="l" pos="0"/>
                  <a:tab algn="l" pos="622440"/>
                  <a:tab algn="l" pos="851040"/>
                  <a:tab algn="l" pos="1422360"/>
                  <a:tab algn="l" pos="2171880"/>
                  <a:tab algn="l" pos="2400480"/>
                  <a:tab algn="l" pos="2679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00"/>
                </a:lnSpc>
                <a:spcBef>
                  <a:spcPts val="601"/>
                </a:spcBef>
                <a:tabLst>
                  <a:tab algn="l" pos="0"/>
                  <a:tab algn="l" pos="622440"/>
                  <a:tab algn="l" pos="851040"/>
                  <a:tab algn="l" pos="1422360"/>
                  <a:tab algn="l" pos="2171880"/>
                  <a:tab algn="l" pos="2400480"/>
                  <a:tab algn="l" pos="2679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00"/>
                </a:lnSpc>
                <a:spcBef>
                  <a:spcPts val="601"/>
                </a:spcBef>
                <a:tabLst>
                  <a:tab algn="l" pos="0"/>
                  <a:tab algn="l" pos="622440"/>
                  <a:tab algn="l" pos="851040"/>
                  <a:tab algn="l" pos="1422360"/>
                  <a:tab algn="l" pos="2171880"/>
                  <a:tab algn="l" pos="2400480"/>
                  <a:tab algn="l" pos="2679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00"/>
                </a:lnSpc>
                <a:spcBef>
                  <a:spcPts val="601"/>
                </a:spcBef>
                <a:tabLst>
                  <a:tab algn="l" pos="0"/>
                  <a:tab algn="l" pos="622440"/>
                  <a:tab algn="l" pos="851040"/>
                  <a:tab algn="l" pos="1422360"/>
                  <a:tab algn="l" pos="2171880"/>
                  <a:tab algn="l" pos="2400480"/>
                  <a:tab algn="l" pos="2679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00"/>
                </a:lnSpc>
                <a:spcBef>
                  <a:spcPts val="601"/>
                </a:spcBef>
                <a:tabLst>
                  <a:tab algn="l" pos="0"/>
                  <a:tab algn="l" pos="622440"/>
                  <a:tab algn="l" pos="851040"/>
                  <a:tab algn="l" pos="1422360"/>
                  <a:tab algn="l" pos="2171880"/>
                  <a:tab algn="l" pos="2400480"/>
                  <a:tab algn="l" pos="2679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00"/>
                </a:lnSpc>
                <a:spcBef>
                  <a:spcPts val="601"/>
                </a:spcBef>
                <a:tabLst>
                  <a:tab algn="l" pos="0"/>
                  <a:tab algn="l" pos="622440"/>
                  <a:tab algn="l" pos="851040"/>
                  <a:tab algn="l" pos="1422360"/>
                  <a:tab algn="l" pos="2171880"/>
                  <a:tab algn="l" pos="2400480"/>
                  <a:tab algn="l" pos="2679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00"/>
                </a:lnSpc>
                <a:spcBef>
                  <a:spcPts val="601"/>
                </a:spcBef>
                <a:tabLst>
                  <a:tab algn="l" pos="0"/>
                  <a:tab algn="l" pos="622440"/>
                  <a:tab algn="l" pos="851040"/>
                  <a:tab algn="l" pos="1422360"/>
                  <a:tab algn="l" pos="2171880"/>
                  <a:tab algn="l" pos="2400480"/>
                  <a:tab algn="l" pos="2679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00"/>
                </a:lnSpc>
                <a:spcBef>
                  <a:spcPts val="601"/>
                </a:spcBef>
                <a:tabLst>
                  <a:tab algn="l" pos="0"/>
                  <a:tab algn="l" pos="622440"/>
                  <a:tab algn="l" pos="851040"/>
                  <a:tab algn="l" pos="1422360"/>
                  <a:tab algn="l" pos="2171880"/>
                  <a:tab algn="l" pos="2400480"/>
                  <a:tab algn="l" pos="2679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00"/>
                </a:lnSpc>
                <a:spcBef>
                  <a:spcPts val="601"/>
                </a:spcBef>
                <a:tabLst>
                  <a:tab algn="l" pos="0"/>
                  <a:tab algn="l" pos="622440"/>
                  <a:tab algn="l" pos="851040"/>
                  <a:tab algn="l" pos="1422360"/>
                  <a:tab algn="l" pos="2171880"/>
                  <a:tab algn="l" pos="2400480"/>
                  <a:tab algn="l" pos="2679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00"/>
                </a:lnSpc>
                <a:spcBef>
                  <a:spcPts val="601"/>
                </a:spcBef>
                <a:tabLst>
                  <a:tab algn="l" pos="0"/>
                  <a:tab algn="l" pos="622440"/>
                  <a:tab algn="l" pos="851040"/>
                  <a:tab algn="l" pos="1422360"/>
                  <a:tab algn="l" pos="2171880"/>
                  <a:tab algn="l" pos="2400480"/>
                  <a:tab algn="l" pos="2679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ew brain implementa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554" name=""/>
          <p:cNvGrpSpPr/>
          <p:nvPr/>
        </p:nvGrpSpPr>
        <p:grpSpPr>
          <a:xfrm>
            <a:off x="4114800" y="4114800"/>
            <a:ext cx="1600200" cy="1600200"/>
            <a:chOff x="4114800" y="4114800"/>
            <a:chExt cx="1600200" cy="1600200"/>
          </a:xfrm>
        </p:grpSpPr>
        <p:sp>
          <p:nvSpPr>
            <p:cNvPr id="1555" name=""/>
            <p:cNvSpPr/>
            <p:nvPr/>
          </p:nvSpPr>
          <p:spPr>
            <a:xfrm>
              <a:off x="4496040" y="4343400"/>
              <a:ext cx="914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99"/>
                </a:lnSpc>
                <a:tabLst>
                  <a:tab algn="l" pos="0"/>
                  <a:tab algn="l" pos="230040"/>
                  <a:tab algn="l" pos="461880"/>
                  <a:tab algn="l" pos="692280"/>
                  <a:tab algn="l" pos="909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99"/>
                </a:lnSpc>
                <a:tabLst>
                  <a:tab algn="l" pos="0"/>
                  <a:tab algn="l" pos="230040"/>
                  <a:tab algn="l" pos="461880"/>
                  <a:tab algn="l" pos="692280"/>
                  <a:tab algn="l" pos="909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99"/>
                </a:lnSpc>
                <a:tabLst>
                  <a:tab algn="l" pos="0"/>
                  <a:tab algn="l" pos="230040"/>
                  <a:tab algn="l" pos="461880"/>
                  <a:tab algn="l" pos="692280"/>
                  <a:tab algn="l" pos="909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99"/>
                </a:lnSpc>
                <a:tabLst>
                  <a:tab algn="l" pos="0"/>
                  <a:tab algn="l" pos="230040"/>
                  <a:tab algn="l" pos="461880"/>
                  <a:tab algn="l" pos="692280"/>
                  <a:tab algn="l" pos="909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876920" y="4114800"/>
              <a:ext cx="507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191120" y="4191120"/>
              <a:ext cx="533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419720" y="44197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648320" y="44197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876920" y="44197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105520" y="44197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419720" y="46483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648320" y="46483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876920" y="46483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105520" y="46483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419720" y="48769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4648320" y="48769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4876920" y="48769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105520" y="48769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419720" y="51055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648320" y="51055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876920" y="51055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105520" y="51055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876920" y="434340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648320" y="54104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343400" y="48769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410440" y="46483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648320" y="5410440"/>
              <a:ext cx="507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486400" y="4724640"/>
              <a:ext cx="228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114800" y="4953240"/>
              <a:ext cx="2034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1" name=""/>
          <p:cNvGrpSpPr/>
          <p:nvPr/>
        </p:nvGrpSpPr>
        <p:grpSpPr>
          <a:xfrm>
            <a:off x="5791320" y="4114800"/>
            <a:ext cx="1600200" cy="1600200"/>
            <a:chOff x="5791320" y="4114800"/>
            <a:chExt cx="1600200" cy="1600200"/>
          </a:xfrm>
        </p:grpSpPr>
        <p:sp>
          <p:nvSpPr>
            <p:cNvPr id="1582" name=""/>
            <p:cNvSpPr/>
            <p:nvPr/>
          </p:nvSpPr>
          <p:spPr>
            <a:xfrm>
              <a:off x="6172560" y="4343400"/>
              <a:ext cx="914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99"/>
                </a:lnSpc>
                <a:tabLst>
                  <a:tab algn="l" pos="0"/>
                  <a:tab algn="l" pos="230040"/>
                  <a:tab algn="l" pos="461880"/>
                  <a:tab algn="l" pos="692280"/>
                  <a:tab algn="l" pos="909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99"/>
                </a:lnSpc>
                <a:tabLst>
                  <a:tab algn="l" pos="0"/>
                  <a:tab algn="l" pos="230040"/>
                  <a:tab algn="l" pos="461880"/>
                  <a:tab algn="l" pos="692280"/>
                  <a:tab algn="l" pos="909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99"/>
                </a:lnSpc>
                <a:tabLst>
                  <a:tab algn="l" pos="0"/>
                  <a:tab algn="l" pos="230040"/>
                  <a:tab algn="l" pos="461880"/>
                  <a:tab algn="l" pos="692280"/>
                  <a:tab algn="l" pos="909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99"/>
                </a:lnSpc>
                <a:tabLst>
                  <a:tab algn="l" pos="0"/>
                  <a:tab algn="l" pos="230040"/>
                  <a:tab algn="l" pos="461880"/>
                  <a:tab algn="l" pos="692280"/>
                  <a:tab algn="l" pos="909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553440" y="4114800"/>
              <a:ext cx="507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867640" y="4191120"/>
              <a:ext cx="533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096240" y="44197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324840" y="44197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553440" y="44197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782040" y="44197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096240" y="46483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324840" y="46483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553440" y="46483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782040" y="46483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096240" y="48769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324840" y="48769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553440" y="48769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782040" y="48769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096240" y="51055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324840" y="51055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553440" y="51055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782040" y="51055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553440" y="434340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324840" y="54104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019920" y="48769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086960" y="46483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324840" y="5410440"/>
              <a:ext cx="507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162920" y="4724640"/>
              <a:ext cx="228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5791320" y="4953240"/>
              <a:ext cx="2034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8" name=""/>
          <p:cNvGrpSpPr/>
          <p:nvPr/>
        </p:nvGrpSpPr>
        <p:grpSpPr>
          <a:xfrm>
            <a:off x="7467480" y="4114800"/>
            <a:ext cx="1600200" cy="1600200"/>
            <a:chOff x="7467480" y="4114800"/>
            <a:chExt cx="1600200" cy="1600200"/>
          </a:xfrm>
        </p:grpSpPr>
        <p:sp>
          <p:nvSpPr>
            <p:cNvPr id="1609" name=""/>
            <p:cNvSpPr/>
            <p:nvPr/>
          </p:nvSpPr>
          <p:spPr>
            <a:xfrm>
              <a:off x="7848720" y="4343400"/>
              <a:ext cx="914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99"/>
                </a:lnSpc>
                <a:tabLst>
                  <a:tab algn="l" pos="0"/>
                  <a:tab algn="l" pos="230040"/>
                  <a:tab algn="l" pos="461880"/>
                  <a:tab algn="l" pos="692280"/>
                  <a:tab algn="l" pos="909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99"/>
                </a:lnSpc>
                <a:tabLst>
                  <a:tab algn="l" pos="0"/>
                  <a:tab algn="l" pos="230040"/>
                  <a:tab algn="l" pos="461880"/>
                  <a:tab algn="l" pos="692280"/>
                  <a:tab algn="l" pos="909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99"/>
                </a:lnSpc>
                <a:tabLst>
                  <a:tab algn="l" pos="0"/>
                  <a:tab algn="l" pos="230040"/>
                  <a:tab algn="l" pos="461880"/>
                  <a:tab algn="l" pos="692280"/>
                  <a:tab algn="l" pos="909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99"/>
                </a:lnSpc>
                <a:tabLst>
                  <a:tab algn="l" pos="0"/>
                  <a:tab algn="l" pos="230040"/>
                  <a:tab algn="l" pos="461880"/>
                  <a:tab algn="l" pos="692280"/>
                  <a:tab algn="l" pos="909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8229600" y="4114800"/>
              <a:ext cx="507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543800" y="4191120"/>
              <a:ext cx="533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772400" y="44197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8001000" y="44197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8229600" y="44197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8458200" y="44197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772400" y="46483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8001000" y="46483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8229600" y="46483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8458200" y="46483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772400" y="48769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8001000" y="48769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8229600" y="48769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8458200" y="48769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772400" y="51055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8001000" y="51055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8229600" y="51055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8458200" y="51055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8229600" y="434340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8001000" y="54104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696080" y="48769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8763120" y="46483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8001000" y="5410440"/>
              <a:ext cx="507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8839080" y="4724640"/>
              <a:ext cx="228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467480" y="4953240"/>
              <a:ext cx="2034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5" name=""/>
          <p:cNvGrpSpPr/>
          <p:nvPr/>
        </p:nvGrpSpPr>
        <p:grpSpPr>
          <a:xfrm>
            <a:off x="4952880" y="2209680"/>
            <a:ext cx="1600200" cy="1600200"/>
            <a:chOff x="4952880" y="2209680"/>
            <a:chExt cx="1600200" cy="1600200"/>
          </a:xfrm>
        </p:grpSpPr>
        <p:sp>
          <p:nvSpPr>
            <p:cNvPr id="1636" name=""/>
            <p:cNvSpPr/>
            <p:nvPr/>
          </p:nvSpPr>
          <p:spPr>
            <a:xfrm>
              <a:off x="5334120" y="2438280"/>
              <a:ext cx="914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99"/>
                </a:lnSpc>
                <a:tabLst>
                  <a:tab algn="l" pos="0"/>
                  <a:tab algn="l" pos="230040"/>
                  <a:tab algn="l" pos="461880"/>
                  <a:tab algn="l" pos="692280"/>
                  <a:tab algn="l" pos="909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99"/>
                </a:lnSpc>
                <a:tabLst>
                  <a:tab algn="l" pos="0"/>
                  <a:tab algn="l" pos="230040"/>
                  <a:tab algn="l" pos="461880"/>
                  <a:tab algn="l" pos="692280"/>
                  <a:tab algn="l" pos="909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99"/>
                </a:lnSpc>
                <a:tabLst>
                  <a:tab algn="l" pos="0"/>
                  <a:tab algn="l" pos="230040"/>
                  <a:tab algn="l" pos="461880"/>
                  <a:tab algn="l" pos="692280"/>
                  <a:tab algn="l" pos="909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99"/>
                </a:lnSpc>
                <a:tabLst>
                  <a:tab algn="l" pos="0"/>
                  <a:tab algn="l" pos="230040"/>
                  <a:tab algn="l" pos="461880"/>
                  <a:tab algn="l" pos="692280"/>
                  <a:tab algn="l" pos="909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715000" y="2209680"/>
              <a:ext cx="507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5029200" y="2286000"/>
              <a:ext cx="533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257800" y="251460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486400" y="251460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715000" y="251460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943600" y="251460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257800" y="274320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486400" y="274320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715000" y="274320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943600" y="274320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257800" y="297180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486400" y="297180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715000" y="297180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943600" y="297180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257800" y="320040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486400" y="320040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715000" y="320040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943600" y="320040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715000" y="24382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5486400" y="35053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181480" y="29718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248520" y="27432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486400" y="3505320"/>
              <a:ext cx="507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324480" y="2819520"/>
              <a:ext cx="228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952880" y="3048120"/>
              <a:ext cx="2034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2" name=""/>
          <p:cNvGrpSpPr/>
          <p:nvPr/>
        </p:nvGrpSpPr>
        <p:grpSpPr>
          <a:xfrm>
            <a:off x="6629400" y="2209680"/>
            <a:ext cx="1600200" cy="1600200"/>
            <a:chOff x="6629400" y="2209680"/>
            <a:chExt cx="1600200" cy="1600200"/>
          </a:xfrm>
        </p:grpSpPr>
        <p:sp>
          <p:nvSpPr>
            <p:cNvPr id="1663" name=""/>
            <p:cNvSpPr/>
            <p:nvPr/>
          </p:nvSpPr>
          <p:spPr>
            <a:xfrm>
              <a:off x="7010640" y="2438280"/>
              <a:ext cx="914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99"/>
                </a:lnSpc>
                <a:tabLst>
                  <a:tab algn="l" pos="0"/>
                  <a:tab algn="l" pos="230040"/>
                  <a:tab algn="l" pos="461880"/>
                  <a:tab algn="l" pos="692280"/>
                  <a:tab algn="l" pos="909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99"/>
                </a:lnSpc>
                <a:tabLst>
                  <a:tab algn="l" pos="0"/>
                  <a:tab algn="l" pos="230040"/>
                  <a:tab algn="l" pos="461880"/>
                  <a:tab algn="l" pos="692280"/>
                  <a:tab algn="l" pos="909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99"/>
                </a:lnSpc>
                <a:tabLst>
                  <a:tab algn="l" pos="0"/>
                  <a:tab algn="l" pos="230040"/>
                  <a:tab algn="l" pos="461880"/>
                  <a:tab algn="l" pos="692280"/>
                  <a:tab algn="l" pos="909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99"/>
                </a:lnSpc>
                <a:tabLst>
                  <a:tab algn="l" pos="0"/>
                  <a:tab algn="l" pos="230040"/>
                  <a:tab algn="l" pos="461880"/>
                  <a:tab algn="l" pos="692280"/>
                  <a:tab algn="l" pos="909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391520" y="2209680"/>
              <a:ext cx="507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705720" y="2286000"/>
              <a:ext cx="533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934320" y="251460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162920" y="251460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391520" y="251460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620120" y="251460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934320" y="274320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162920" y="274320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391520" y="274320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620120" y="274320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934320" y="297180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162920" y="297180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391520" y="297180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620120" y="297180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934320" y="320040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162920" y="320040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391520" y="320040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620120" y="320040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391520" y="24382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162920" y="35053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6858000" y="29718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925040" y="27432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162920" y="3505320"/>
              <a:ext cx="507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8001000" y="2819520"/>
              <a:ext cx="228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629400" y="3048120"/>
              <a:ext cx="2034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 - Finite State Machi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921A-A0DC-49A5-860D-0DC348AF0BD2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"/>
          <p:cNvSpPr/>
          <p:nvPr/>
        </p:nvSpPr>
        <p:spPr>
          <a:xfrm>
            <a:off x="4876920" y="52894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ct right away to leaving the 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ealy vs. Moore machin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oore:  outputs depend on current state only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ealy:  outputs may depend on current state and current input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ur ant brain is a Moore machin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 does not react immediately to input chan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e could have specified a Mealy FSM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s have immediate reaction to inp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 inputs change, so does next state, doesn’t commit until clocking 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2" name=""/>
          <p:cNvGrpSpPr/>
          <p:nvPr/>
        </p:nvGrpSpPr>
        <p:grpSpPr>
          <a:xfrm>
            <a:off x="2301840" y="4246560"/>
            <a:ext cx="4101480" cy="2306520"/>
            <a:chOff x="2301840" y="4246560"/>
            <a:chExt cx="4101480" cy="2306520"/>
          </a:xfrm>
        </p:grpSpPr>
        <p:sp>
          <p:nvSpPr>
            <p:cNvPr id="1693" name=""/>
            <p:cNvSpPr/>
            <p:nvPr/>
          </p:nvSpPr>
          <p:spPr>
            <a:xfrm>
              <a:off x="4054320" y="4495680"/>
              <a:ext cx="914400" cy="91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94" name=""/>
            <p:cNvCxnSpPr>
              <a:stCxn id="1693" idx="6"/>
              <a:endCxn id="1693" idx="0"/>
            </p:cNvCxnSpPr>
            <p:nvPr/>
          </p:nvCxnSpPr>
          <p:spPr>
            <a:xfrm flipH="1" flipV="1">
              <a:off x="4511160" y="4495320"/>
              <a:ext cx="457920" cy="457920"/>
            </a:xfrm>
            <a:prstGeom prst="curvedConnector5">
              <a:avLst>
                <a:gd name="adj1" fmla="val -49960"/>
                <a:gd name="adj2" fmla="val 74980"/>
                <a:gd name="adj3" fmla="val -4996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5" name=""/>
            <p:cNvCxnSpPr>
              <a:stCxn id="1693" idx="2"/>
            </p:cNvCxnSpPr>
            <p:nvPr/>
          </p:nvCxnSpPr>
          <p:spPr>
            <a:xfrm rot="10800000">
              <a:off x="2377440" y="4952160"/>
              <a:ext cx="167688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96" name=""/>
            <p:cNvSpPr/>
            <p:nvPr/>
          </p:nvSpPr>
          <p:spPr>
            <a:xfrm flipH="1">
              <a:off x="2301840" y="5333760"/>
              <a:ext cx="190512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3311640" y="5922720"/>
              <a:ext cx="117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’ R’ / TR, 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907000" y="462744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 / T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286960" y="4246560"/>
              <a:ext cx="11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’ R / TL, 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 - Finite State Machi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FF43-EB1A-43E2-B87C-3CCDEACA3BC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0" name=""/>
          <p:cNvGrpSpPr/>
          <p:nvPr/>
        </p:nvGrpSpPr>
        <p:grpSpPr>
          <a:xfrm>
            <a:off x="0" y="3071880"/>
            <a:ext cx="4635000" cy="3390480"/>
            <a:chOff x="0" y="3071880"/>
            <a:chExt cx="4635000" cy="3390480"/>
          </a:xfrm>
        </p:grpSpPr>
        <p:sp>
          <p:nvSpPr>
            <p:cNvPr id="1701" name=""/>
            <p:cNvSpPr/>
            <p:nvPr/>
          </p:nvSpPr>
          <p:spPr>
            <a:xfrm>
              <a:off x="1936440" y="5783040"/>
              <a:ext cx="68544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457360" y="5821200"/>
              <a:ext cx="11376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923840" y="3116160"/>
              <a:ext cx="68544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V="1">
              <a:off x="2444400" y="3560400"/>
              <a:ext cx="114120" cy="12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866760" y="35985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866760" y="54273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037960" y="35985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495160" y="3821040"/>
              <a:ext cx="135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 flipV="1">
              <a:off x="1492200" y="3979440"/>
              <a:ext cx="583560" cy="58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860640" y="3643200"/>
              <a:ext cx="4820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873240" y="5472000"/>
              <a:ext cx="4694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2044440" y="3668400"/>
              <a:ext cx="4694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123560" y="45129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2037960" y="54273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130040" y="4557600"/>
              <a:ext cx="4694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031840" y="5497200"/>
              <a:ext cx="4820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508120" y="5649840"/>
              <a:ext cx="134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H="1" flipV="1">
              <a:off x="1478880" y="4906800"/>
              <a:ext cx="59652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 flipV="1">
              <a:off x="2406240" y="3979440"/>
              <a:ext cx="1536120" cy="15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2406600" y="3979800"/>
              <a:ext cx="1523520" cy="15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228920" y="4017960"/>
              <a:ext cx="0" cy="145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V="1">
              <a:off x="3974760" y="4017960"/>
              <a:ext cx="0" cy="144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88880" y="4735440"/>
              <a:ext cx="59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606480" y="4506840"/>
              <a:ext cx="5587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384200" y="399888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993680" y="307188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2361960" y="425268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4076640" y="450684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374560" y="4925880"/>
              <a:ext cx="5587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006280" y="6056280"/>
              <a:ext cx="5587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409400" y="5091120"/>
              <a:ext cx="558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882520" y="3490920"/>
              <a:ext cx="55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819160" y="562428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0" y="4379760"/>
              <a:ext cx="8125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5" name=""/>
          <p:cNvSpPr/>
          <p:nvPr/>
        </p:nvSpPr>
        <p:spPr>
          <a:xfrm>
            <a:off x="4952880" y="2665440"/>
            <a:ext cx="398808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4844880" y="3262320"/>
            <a:ext cx="4026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7089840" y="2697120"/>
            <a:ext cx="0" cy="363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pecifying outputs for a Moore machin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utput is only function of stat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in state bubble in state diagra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sequence detector for 01 or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 - Finite State Machi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9919-9A3A-44F2-8F84-0A50E03555D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"/>
          <p:cNvSpPr/>
          <p:nvPr/>
        </p:nvSpPr>
        <p:spPr>
          <a:xfrm>
            <a:off x="4971960" y="2895480"/>
            <a:ext cx="398772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160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4863960" y="3492360"/>
            <a:ext cx="40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7194600" y="2927520"/>
            <a:ext cx="0" cy="25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3" name=""/>
          <p:cNvGrpSpPr/>
          <p:nvPr/>
        </p:nvGrpSpPr>
        <p:grpSpPr>
          <a:xfrm>
            <a:off x="620640" y="2987640"/>
            <a:ext cx="3047760" cy="3365640"/>
            <a:chOff x="620640" y="2987640"/>
            <a:chExt cx="3047760" cy="3365640"/>
          </a:xfrm>
        </p:grpSpPr>
        <p:sp>
          <p:nvSpPr>
            <p:cNvPr id="1744" name=""/>
            <p:cNvSpPr/>
            <p:nvPr/>
          </p:nvSpPr>
          <p:spPr>
            <a:xfrm>
              <a:off x="2722320" y="5673960"/>
              <a:ext cx="68580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230280" y="5699160"/>
              <a:ext cx="11448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709720" y="3006720"/>
              <a:ext cx="68580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823840" y="3489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 flipV="1">
              <a:off x="2277720" y="3870000"/>
              <a:ext cx="58428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919240" y="3559320"/>
              <a:ext cx="279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909440" y="4403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2823840" y="53182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004840" y="4448160"/>
              <a:ext cx="279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919240" y="5388120"/>
              <a:ext cx="291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H="1" flipV="1">
              <a:off x="2265120" y="4797000"/>
              <a:ext cx="59688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3198600" y="3908520"/>
              <a:ext cx="0" cy="146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V="1">
              <a:off x="2944800" y="3908520"/>
              <a:ext cx="0" cy="144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274400" y="462600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2500200" y="443556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2106360" y="38512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2792160" y="29876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3109680" y="443556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792160" y="59468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118960" y="5032440"/>
              <a:ext cx="559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620640" y="427032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V="1">
              <a:off x="3230280" y="3450960"/>
              <a:ext cx="1144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pecifying outputs for a Mealy machin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utput is function of state and input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output on transition arc between 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sequence detector for 01 or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 - Finite State Machi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03E2-EBB6-4995-9732-1E68EA6006F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8" name=""/>
          <p:cNvGrpSpPr/>
          <p:nvPr/>
        </p:nvGrpSpPr>
        <p:grpSpPr>
          <a:xfrm>
            <a:off x="444600" y="5270400"/>
            <a:ext cx="4533840" cy="1822320"/>
            <a:chOff x="444600" y="5270400"/>
            <a:chExt cx="4533840" cy="1822320"/>
          </a:xfrm>
        </p:grpSpPr>
        <p:sp>
          <p:nvSpPr>
            <p:cNvPr id="1769" name=""/>
            <p:cNvSpPr/>
            <p:nvPr/>
          </p:nvSpPr>
          <p:spPr>
            <a:xfrm>
              <a:off x="1587600" y="6559560"/>
              <a:ext cx="14097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te feedb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378080" y="5270400"/>
              <a:ext cx="977760" cy="96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984240" y="535284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984240" y="55054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984240" y="56703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984240" y="58230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984240" y="59878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984240" y="61531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355840" y="58230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355840" y="59878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355840" y="61531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2749680" y="5740200"/>
              <a:ext cx="24120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990880" y="61531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3060720" y="61592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H="1">
              <a:off x="971280" y="6394320"/>
              <a:ext cx="209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V="1">
              <a:off x="977760" y="614664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990880" y="59878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3137040" y="599436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H="1">
              <a:off x="895320" y="647064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V="1">
              <a:off x="901800" y="5981400"/>
              <a:ext cx="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907920" y="598788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2990880" y="582300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3213000" y="5829120"/>
              <a:ext cx="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H="1">
              <a:off x="819000" y="6546600"/>
              <a:ext cx="24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V="1">
              <a:off x="825480" y="5816520"/>
              <a:ext cx="0" cy="73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831960" y="58230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V="1">
              <a:off x="2825640" y="6146280"/>
              <a:ext cx="255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 flipV="1">
              <a:off x="2863800" y="6146280"/>
              <a:ext cx="381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2870280" y="623556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44600" y="5416560"/>
              <a:ext cx="4953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394160" y="5886360"/>
              <a:ext cx="5842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2730600" y="5886360"/>
              <a:ext cx="3808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371600" y="5492520"/>
              <a:ext cx="97776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binational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xt st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003480" y="58230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3003480" y="59878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3003480" y="615312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3397320" y="5753160"/>
              <a:ext cx="571320" cy="482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3327480" y="5797440"/>
              <a:ext cx="7239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3968640" y="58356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968640" y="600084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3968640" y="615312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0" name=""/>
          <p:cNvGrpSpPr/>
          <p:nvPr/>
        </p:nvGrpSpPr>
        <p:grpSpPr>
          <a:xfrm>
            <a:off x="5168880" y="5270400"/>
            <a:ext cx="3670200" cy="1860480"/>
            <a:chOff x="5168880" y="5270400"/>
            <a:chExt cx="3670200" cy="1860480"/>
          </a:xfrm>
        </p:grpSpPr>
        <p:sp>
          <p:nvSpPr>
            <p:cNvPr id="1811" name=""/>
            <p:cNvSpPr/>
            <p:nvPr/>
          </p:nvSpPr>
          <p:spPr>
            <a:xfrm>
              <a:off x="6140520" y="5270400"/>
              <a:ext cx="990360" cy="97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721480" y="5352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721480" y="549252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721480" y="567036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721480" y="58356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721480" y="6000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721480" y="616572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7130880" y="5352840"/>
              <a:ext cx="105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7130880" y="5492520"/>
              <a:ext cx="105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7130880" y="5670360"/>
              <a:ext cx="105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7130880" y="583560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130880" y="600084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7130880" y="616572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7537320" y="5753160"/>
              <a:ext cx="254160" cy="495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7791480" y="61657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7861320" y="61722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5708520" y="6406920"/>
              <a:ext cx="21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V="1">
              <a:off x="5715000" y="615924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791480" y="60008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7937640" y="60069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 flipH="1">
              <a:off x="5644800" y="6470640"/>
              <a:ext cx="229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V="1">
              <a:off x="5651640" y="599436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657760" y="600084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7791480" y="5835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8026560" y="5842080"/>
              <a:ext cx="0" cy="72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 flipH="1">
              <a:off x="5543640" y="6572160"/>
              <a:ext cx="248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 flipV="1">
              <a:off x="5549760" y="5829120"/>
              <a:ext cx="0" cy="74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5556240" y="58356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 flipV="1">
              <a:off x="7626240" y="6171840"/>
              <a:ext cx="1296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 flipH="1" flipV="1">
              <a:off x="7651440" y="6171840"/>
              <a:ext cx="5076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7658280" y="624816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5168880" y="5429160"/>
              <a:ext cx="520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8242200" y="5429160"/>
              <a:ext cx="5968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311880" y="6597720"/>
              <a:ext cx="1460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te feedb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7505640" y="5873760"/>
              <a:ext cx="419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146640" y="5746680"/>
              <a:ext cx="9907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binational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xt st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546960" y="5270400"/>
              <a:ext cx="583920" cy="49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489720" y="5340240"/>
              <a:ext cx="7491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arison of Mealy and Moore machin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ealy machines tend to have less stat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fferent outputs on arcs (n^2) rather than states (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oore machines are safer to us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s change at clock edge (always one cycle lat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Mealy machines, input change can cause output change as soon as logic is done – a big problem when two machines are interconnected –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ynchronous feedb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ealy machines react faster to input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ct in same cycle – don't need to wait for cl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Moore machines, more logic may be necessary to decode state in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s – more gate delays aft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 - Finite State Machi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A7F2-5061-480B-9593-E352CCD5EDB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1" name="" descr=""/>
          <p:cNvPicPr/>
          <p:nvPr/>
        </p:nvPicPr>
        <p:blipFill>
          <a:blip r:embed="rId1"/>
          <a:stretch/>
        </p:blipFill>
        <p:spPr>
          <a:xfrm>
            <a:off x="1263600" y="2978280"/>
            <a:ext cx="3416400" cy="736560"/>
          </a:xfrm>
          <a:prstGeom prst="rect">
            <a:avLst/>
          </a:prstGeom>
          <a:ln w="0">
            <a:noFill/>
          </a:ln>
        </p:spPr>
      </p:pic>
      <p:pic>
        <p:nvPicPr>
          <p:cNvPr id="1852" name="" descr=""/>
          <p:cNvPicPr/>
          <p:nvPr/>
        </p:nvPicPr>
        <p:blipFill>
          <a:blip r:embed="rId2"/>
          <a:stretch/>
        </p:blipFill>
        <p:spPr>
          <a:xfrm>
            <a:off x="4756320" y="4281480"/>
            <a:ext cx="3657600" cy="1397160"/>
          </a:xfrm>
          <a:prstGeom prst="rect">
            <a:avLst/>
          </a:prstGeom>
          <a:ln w="0">
            <a:noFill/>
          </a:ln>
        </p:spPr>
      </p:pic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ealy and Moore exampl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ecognize A,B = 0,1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aly or Moor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 - Finite State Machi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6CF7-3E60-45CA-A601-20B94EE157A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2616120" y="4578480"/>
            <a:ext cx="4280040" cy="1504800"/>
            <a:chOff x="2616120" y="4578480"/>
            <a:chExt cx="4280040" cy="1504800"/>
          </a:xfrm>
        </p:grpSpPr>
        <p:sp>
          <p:nvSpPr>
            <p:cNvPr id="184" name=""/>
            <p:cNvSpPr/>
            <p:nvPr/>
          </p:nvSpPr>
          <p:spPr>
            <a:xfrm>
              <a:off x="6407280" y="4578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78480" y="4578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64080" y="54928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92880" y="54928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749680" y="4578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06880" y="4800600"/>
              <a:ext cx="135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35680" y="4800600"/>
              <a:ext cx="135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899320" y="4997520"/>
              <a:ext cx="59688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4108320" y="571500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3105000" y="4984920"/>
              <a:ext cx="59688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070520" y="4984920"/>
              <a:ext cx="583920" cy="58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4933800" y="4984560"/>
              <a:ext cx="63504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16120" y="5245200"/>
              <a:ext cx="889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=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32320" y="5676840"/>
              <a:ext cx="888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=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94440" y="4991040"/>
              <a:ext cx="888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=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06840" y="4991040"/>
              <a:ext cx="888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=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45000" y="553716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59400" y="462276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473800" y="553716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88200" y="462276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30600" y="46483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nite state machine representation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ates: determined by possible values in sequential storage element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ransitions: change of stat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lock: controls when state can change by controlling storage elements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equential logic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quences through a series of 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sed on sequence of values on input signa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 period defines elements of seque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 - Finite State Machi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50D4-D929-4CA8-A478-4AEB5527DC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5" name="" descr=""/>
          <p:cNvPicPr/>
          <p:nvPr/>
        </p:nvPicPr>
        <p:blipFill>
          <a:blip r:embed="rId1"/>
          <a:stretch/>
        </p:blipFill>
        <p:spPr>
          <a:xfrm>
            <a:off x="977760" y="4392720"/>
            <a:ext cx="5753160" cy="2019240"/>
          </a:xfrm>
          <a:prstGeom prst="rect">
            <a:avLst/>
          </a:prstGeom>
          <a:ln w="0">
            <a:noFill/>
          </a:ln>
        </p:spPr>
      </p:pic>
      <p:pic>
        <p:nvPicPr>
          <p:cNvPr id="1856" name="" descr=""/>
          <p:cNvPicPr/>
          <p:nvPr/>
        </p:nvPicPr>
        <p:blipFill>
          <a:blip r:embed="rId2"/>
          <a:stretch/>
        </p:blipFill>
        <p:spPr>
          <a:xfrm>
            <a:off x="3887640" y="2008080"/>
            <a:ext cx="4953240" cy="2070360"/>
          </a:xfrm>
          <a:prstGeom prst="rect">
            <a:avLst/>
          </a:prstGeom>
          <a:ln w="0">
            <a:noFill/>
          </a:ln>
        </p:spPr>
      </p:pic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ealy and Moore examples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ecognize A,B = 1,0 then 0,1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aly or Moor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 - Finite State Machi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E906-415A-4CE3-B699-E8224418371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gistered Mealy machine (really Moore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ynchronous (or registered) Mealy machin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istered state AND outp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voids ‘glitchy’ outp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sy to implement in PL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oore machine with no output decoding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s computed on transition to next state rather than after ente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iew outputs as expanded state v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1" name=""/>
          <p:cNvSpPr/>
          <p:nvPr/>
        </p:nvSpPr>
        <p:spPr>
          <a:xfrm>
            <a:off x="1828800" y="4834080"/>
            <a:ext cx="927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824520" y="4529160"/>
            <a:ext cx="1320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3429000" y="5977080"/>
            <a:ext cx="1397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3581280" y="4376880"/>
            <a:ext cx="1600200" cy="533160"/>
          </a:xfrm>
          <a:prstGeom prst="roundRect">
            <a:avLst>
              <a:gd name="adj" fmla="val 4791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3581280" y="4986360"/>
            <a:ext cx="1600200" cy="533520"/>
          </a:xfrm>
          <a:prstGeom prst="roundRect">
            <a:avLst>
              <a:gd name="adj" fmla="val 4791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xt st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6" name=""/>
          <p:cNvCxnSpPr>
            <a:stCxn id="1865" idx="3"/>
            <a:endCxn id="1867" idx="0"/>
          </p:cNvCxnSpPr>
          <p:nvPr/>
        </p:nvCxnSpPr>
        <p:spPr>
          <a:xfrm flipV="1">
            <a:off x="5181120" y="5250600"/>
            <a:ext cx="654840" cy="25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8" name=""/>
          <p:cNvCxnSpPr>
            <a:stCxn id="1865" idx="1"/>
            <a:endCxn id="1864" idx="1"/>
          </p:cNvCxnSpPr>
          <p:nvPr/>
        </p:nvCxnSpPr>
        <p:spPr>
          <a:xfrm flipH="1" rot="10800000">
            <a:off x="3580200" y="4642560"/>
            <a:ext cx="2520" cy="610560"/>
          </a:xfrm>
          <a:prstGeom prst="bentConnector3">
            <a:avLst>
              <a:gd name="adj1" fmla="val -144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9" name=""/>
          <p:cNvCxnSpPr>
            <a:stCxn id="1867" idx="2"/>
            <a:endCxn id="1865" idx="1"/>
          </p:cNvCxnSpPr>
          <p:nvPr/>
        </p:nvCxnSpPr>
        <p:spPr>
          <a:xfrm flipH="1">
            <a:off x="3581280" y="5250960"/>
            <a:ext cx="2588040" cy="2520"/>
          </a:xfrm>
          <a:prstGeom prst="bentConnector5">
            <a:avLst>
              <a:gd name="adj1" fmla="val -16012"/>
              <a:gd name="adj2" fmla="val 59600000"/>
              <a:gd name="adj3" fmla="val 10884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0" name=""/>
          <p:cNvCxnSpPr>
            <a:endCxn id="1864" idx="1"/>
          </p:cNvCxnSpPr>
          <p:nvPr/>
        </p:nvCxnSpPr>
        <p:spPr>
          <a:xfrm flipV="1">
            <a:off x="2743200" y="4642560"/>
            <a:ext cx="838800" cy="305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1" name=""/>
          <p:cNvCxnSpPr>
            <a:endCxn id="1865" idx="1"/>
          </p:cNvCxnSpPr>
          <p:nvPr/>
        </p:nvCxnSpPr>
        <p:spPr>
          <a:xfrm>
            <a:off x="2743200" y="4947840"/>
            <a:ext cx="838800" cy="305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2" name=""/>
          <p:cNvCxnSpPr>
            <a:stCxn id="1864" idx="3"/>
            <a:endCxn id="1873" idx="0"/>
          </p:cNvCxnSpPr>
          <p:nvPr/>
        </p:nvCxnSpPr>
        <p:spPr>
          <a:xfrm flipV="1">
            <a:off x="5181480" y="4641480"/>
            <a:ext cx="65952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4" name=""/>
          <p:cNvCxnSpPr/>
          <p:nvPr/>
        </p:nvCxnSpPr>
        <p:spPr>
          <a:xfrm>
            <a:off x="6175440" y="4647960"/>
            <a:ext cx="5590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875" name=""/>
          <p:cNvGrpSpPr/>
          <p:nvPr/>
        </p:nvGrpSpPr>
        <p:grpSpPr>
          <a:xfrm>
            <a:off x="5842080" y="4362120"/>
            <a:ext cx="333000" cy="561960"/>
            <a:chOff x="5842080" y="4362120"/>
            <a:chExt cx="333000" cy="561960"/>
          </a:xfrm>
        </p:grpSpPr>
        <p:sp>
          <p:nvSpPr>
            <p:cNvPr id="1873" name=""/>
            <p:cNvSpPr/>
            <p:nvPr/>
          </p:nvSpPr>
          <p:spPr>
            <a:xfrm rot="16200000">
              <a:off x="5727600" y="4476600"/>
              <a:ext cx="561960" cy="33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V="1">
              <a:off x="5925240" y="4844160"/>
              <a:ext cx="8316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 flipV="1">
              <a:off x="6008760" y="4844160"/>
              <a:ext cx="8280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5837400" y="4971600"/>
            <a:ext cx="333000" cy="561960"/>
            <a:chOff x="5837400" y="4971600"/>
            <a:chExt cx="333000" cy="561960"/>
          </a:xfrm>
        </p:grpSpPr>
        <p:sp>
          <p:nvSpPr>
            <p:cNvPr id="1867" name=""/>
            <p:cNvSpPr/>
            <p:nvPr/>
          </p:nvSpPr>
          <p:spPr>
            <a:xfrm rot="16200000">
              <a:off x="5722920" y="5086080"/>
              <a:ext cx="561960" cy="33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 flipV="1">
              <a:off x="5920560" y="5453640"/>
              <a:ext cx="8316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 flipV="1">
              <a:off x="6004080" y="5453640"/>
              <a:ext cx="8280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 - Finite State Machi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4D7A-A6FF-48A6-98B9-814F8BB5B96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ardware Description Languages and Sequential Logic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lip-flop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presentation of clocks - timing of state chang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ynchronous vs. synchrono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SM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uctural view (FFs separate from combinational logi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havioral view (synthesis of sequencers – not in this cours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Data-paths = data computation (e.g., ALUs, comparators) + register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 of arithmetic/logical operat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 of storage ele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 - Finite State Machi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348B-9231-43F8-9924-7D8E2F12AF1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xample: reduce-1-string-by-1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emove one 1 from every string of 1s on the inpu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1885" name=""/>
          <p:cNvGrpSpPr/>
          <p:nvPr/>
        </p:nvGrpSpPr>
        <p:grpSpPr>
          <a:xfrm>
            <a:off x="1600200" y="2971080"/>
            <a:ext cx="2176200" cy="3201480"/>
            <a:chOff x="1600200" y="2971080"/>
            <a:chExt cx="2176200" cy="3201480"/>
          </a:xfrm>
        </p:grpSpPr>
        <p:sp>
          <p:nvSpPr>
            <p:cNvPr id="1886" name=""/>
            <p:cNvSpPr/>
            <p:nvPr/>
          </p:nvSpPr>
          <p:spPr>
            <a:xfrm>
              <a:off x="2601720" y="385740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600200" y="4867200"/>
              <a:ext cx="6094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861920" y="421452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152520" y="3840120"/>
              <a:ext cx="6098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166920" y="509724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601720" y="490680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235240" y="32004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ero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235240" y="426708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e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235240" y="533376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wo1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95" name=""/>
            <p:cNvCxnSpPr>
              <a:stCxn id="1892" idx="4"/>
              <a:endCxn id="1893" idx="0"/>
            </p:cNvCxnSpPr>
            <p:nvPr/>
          </p:nvCxnSpPr>
          <p:spPr>
            <a:xfrm>
              <a:off x="2539440" y="38098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96" name=""/>
            <p:cNvCxnSpPr>
              <a:stCxn id="1893" idx="4"/>
              <a:endCxn id="1894" idx="0"/>
            </p:cNvCxnSpPr>
            <p:nvPr/>
          </p:nvCxnSpPr>
          <p:spPr>
            <a:xfrm>
              <a:off x="2539440" y="487656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97" name=""/>
            <p:cNvCxnSpPr>
              <a:stCxn id="1893" idx="2"/>
              <a:endCxn id="1892" idx="2"/>
            </p:cNvCxnSpPr>
            <p:nvPr/>
          </p:nvCxnSpPr>
          <p:spPr>
            <a:xfrm flipH="1" rot="10800000">
              <a:off x="2234880" y="3504240"/>
              <a:ext cx="2160" cy="1067760"/>
            </a:xfrm>
            <a:prstGeom prst="curvedConnector5">
              <a:avLst>
                <a:gd name="adj1" fmla="val -14400000"/>
                <a:gd name="adj2" fmla="val 49983"/>
                <a:gd name="adj3" fmla="val -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98" name=""/>
            <p:cNvCxnSpPr>
              <a:stCxn id="1894" idx="2"/>
              <a:endCxn id="1892" idx="2"/>
            </p:cNvCxnSpPr>
            <p:nvPr/>
          </p:nvCxnSpPr>
          <p:spPr>
            <a:xfrm flipH="1" rot="10800000">
              <a:off x="2234880" y="3504240"/>
              <a:ext cx="2160" cy="2134440"/>
            </a:xfrm>
            <a:prstGeom prst="curvedConnector5">
              <a:avLst>
                <a:gd name="adj1" fmla="val -31700000"/>
                <a:gd name="adj2" fmla="val 50000"/>
                <a:gd name="adj3" fmla="val -31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99" name=""/>
            <p:cNvCxnSpPr>
              <a:stCxn id="1892" idx="5"/>
              <a:endCxn id="1892" idx="7"/>
            </p:cNvCxnSpPr>
            <p:nvPr/>
          </p:nvCxnSpPr>
          <p:spPr>
            <a:xfrm flipH="1" flipV="1" rot="5400000">
              <a:off x="2540520" y="3503880"/>
              <a:ext cx="432360" cy="2160"/>
            </a:xfrm>
            <a:prstGeom prst="curvedConnector5">
              <a:avLst>
                <a:gd name="adj1" fmla="val -73500"/>
                <a:gd name="adj2" fmla="val 14580000"/>
                <a:gd name="adj3" fmla="val -735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00" name=""/>
            <p:cNvCxnSpPr>
              <a:stCxn id="1894" idx="5"/>
              <a:endCxn id="1894" idx="7"/>
            </p:cNvCxnSpPr>
            <p:nvPr/>
          </p:nvCxnSpPr>
          <p:spPr>
            <a:xfrm flipH="1" flipV="1" rot="5400000">
              <a:off x="2540160" y="5637600"/>
              <a:ext cx="432720" cy="2160"/>
            </a:xfrm>
            <a:prstGeom prst="curvedConnector5">
              <a:avLst>
                <a:gd name="adj1" fmla="val -73522"/>
                <a:gd name="adj2" fmla="val 14080000"/>
                <a:gd name="adj3" fmla="val -7352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901" name=""/>
          <p:cNvGrpSpPr/>
          <p:nvPr/>
        </p:nvGrpSpPr>
        <p:grpSpPr>
          <a:xfrm>
            <a:off x="5257800" y="3351600"/>
            <a:ext cx="2133360" cy="2134800"/>
            <a:chOff x="5257800" y="3351600"/>
            <a:chExt cx="2133360" cy="2134800"/>
          </a:xfrm>
        </p:grpSpPr>
        <p:sp>
          <p:nvSpPr>
            <p:cNvPr id="1902" name=""/>
            <p:cNvSpPr/>
            <p:nvPr/>
          </p:nvSpPr>
          <p:spPr>
            <a:xfrm>
              <a:off x="6259320" y="423864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257800" y="426708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781680" y="342900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781680" y="502920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892840" y="35812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ero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5892840" y="464832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e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08" name=""/>
            <p:cNvCxnSpPr>
              <a:stCxn id="1906" idx="4"/>
              <a:endCxn id="1907" idx="0"/>
            </p:cNvCxnSpPr>
            <p:nvPr/>
          </p:nvCxnSpPr>
          <p:spPr>
            <a:xfrm>
              <a:off x="6197040" y="419112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09" name=""/>
            <p:cNvCxnSpPr>
              <a:stCxn id="1907" idx="2"/>
              <a:endCxn id="1906" idx="2"/>
            </p:cNvCxnSpPr>
            <p:nvPr/>
          </p:nvCxnSpPr>
          <p:spPr>
            <a:xfrm flipH="1" rot="10800000">
              <a:off x="5892480" y="3885480"/>
              <a:ext cx="2160" cy="106740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10" name=""/>
            <p:cNvCxnSpPr>
              <a:stCxn id="1907" idx="4"/>
              <a:endCxn id="1907" idx="6"/>
            </p:cNvCxnSpPr>
            <p:nvPr/>
          </p:nvCxnSpPr>
          <p:spPr>
            <a:xfrm flipH="1" flipV="1" rot="5400000">
              <a:off x="6196320" y="4952160"/>
              <a:ext cx="305640" cy="305640"/>
            </a:xfrm>
            <a:prstGeom prst="curvedConnector5">
              <a:avLst>
                <a:gd name="adj1" fmla="val -75000"/>
                <a:gd name="adj2" fmla="val 87500"/>
                <a:gd name="adj3" fmla="val -75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11" name=""/>
            <p:cNvCxnSpPr>
              <a:stCxn id="1906" idx="6"/>
              <a:endCxn id="1906" idx="0"/>
            </p:cNvCxnSpPr>
            <p:nvPr/>
          </p:nvCxnSpPr>
          <p:spPr>
            <a:xfrm flipH="1" flipV="1">
              <a:off x="6196680" y="3580560"/>
              <a:ext cx="305640" cy="305640"/>
            </a:xfrm>
            <a:prstGeom prst="curvedConnector5">
              <a:avLst>
                <a:gd name="adj1" fmla="val -75000"/>
                <a:gd name="adj2" fmla="val 87500"/>
                <a:gd name="adj3" fmla="val -75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912" name=""/>
          <p:cNvSpPr/>
          <p:nvPr/>
        </p:nvSpPr>
        <p:spPr>
          <a:xfrm>
            <a:off x="2094480" y="251460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5807160" y="251460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a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 - Finite State Machi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43DD-8734-4CEA-A5CE-36EE07E2D8F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"/>
          <p:cNvSpPr/>
          <p:nvPr/>
        </p:nvSpPr>
        <p:spPr>
          <a:xfrm>
            <a:off x="914400" y="2133720"/>
            <a:ext cx="73915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`define zero  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`define one1  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`define two1s 2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reduce (clk, reset, in, out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 clk, reset, in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[2:1] state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state variabl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[2:1] next_state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if (reset) state = `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lse       state = next_state;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3581280" y="2286000"/>
            <a:ext cx="2997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 assig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flipH="1">
            <a:off x="2812680" y="245124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erilog FSM - Reduce 1s exampl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oore machin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1919" name=""/>
          <p:cNvGrpSpPr/>
          <p:nvPr/>
        </p:nvGrpSpPr>
        <p:grpSpPr>
          <a:xfrm>
            <a:off x="6553080" y="3047400"/>
            <a:ext cx="2176200" cy="3201480"/>
            <a:chOff x="6553080" y="3047400"/>
            <a:chExt cx="2176200" cy="3201480"/>
          </a:xfrm>
        </p:grpSpPr>
        <p:sp>
          <p:nvSpPr>
            <p:cNvPr id="1920" name=""/>
            <p:cNvSpPr/>
            <p:nvPr/>
          </p:nvSpPr>
          <p:spPr>
            <a:xfrm>
              <a:off x="7554600" y="393372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6553080" y="4943520"/>
              <a:ext cx="6094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814800" y="429084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8105400" y="3916440"/>
              <a:ext cx="6098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8119800" y="517356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554600" y="498312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7188120" y="327672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ero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188120" y="43434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e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7188120" y="54100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wo1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29" name=""/>
            <p:cNvCxnSpPr>
              <a:stCxn id="1926" idx="4"/>
              <a:endCxn id="1927" idx="0"/>
            </p:cNvCxnSpPr>
            <p:nvPr/>
          </p:nvCxnSpPr>
          <p:spPr>
            <a:xfrm>
              <a:off x="7492320" y="388620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0" name=""/>
            <p:cNvCxnSpPr>
              <a:stCxn id="1927" idx="4"/>
              <a:endCxn id="1928" idx="0"/>
            </p:cNvCxnSpPr>
            <p:nvPr/>
          </p:nvCxnSpPr>
          <p:spPr>
            <a:xfrm>
              <a:off x="7492320" y="49528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1" name=""/>
            <p:cNvCxnSpPr>
              <a:stCxn id="1927" idx="2"/>
              <a:endCxn id="1926" idx="2"/>
            </p:cNvCxnSpPr>
            <p:nvPr/>
          </p:nvCxnSpPr>
          <p:spPr>
            <a:xfrm flipH="1" rot="10800000">
              <a:off x="7187760" y="3580560"/>
              <a:ext cx="2160" cy="1067760"/>
            </a:xfrm>
            <a:prstGeom prst="curvedConnector5">
              <a:avLst>
                <a:gd name="adj1" fmla="val -14400000"/>
                <a:gd name="adj2" fmla="val 49983"/>
                <a:gd name="adj3" fmla="val -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2" name=""/>
            <p:cNvCxnSpPr>
              <a:stCxn id="1928" idx="2"/>
              <a:endCxn id="1926" idx="2"/>
            </p:cNvCxnSpPr>
            <p:nvPr/>
          </p:nvCxnSpPr>
          <p:spPr>
            <a:xfrm flipH="1" rot="10800000">
              <a:off x="7187760" y="3580560"/>
              <a:ext cx="2160" cy="2134440"/>
            </a:xfrm>
            <a:prstGeom prst="curvedConnector5">
              <a:avLst>
                <a:gd name="adj1" fmla="val -31700000"/>
                <a:gd name="adj2" fmla="val 50000"/>
                <a:gd name="adj3" fmla="val -31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3" name=""/>
            <p:cNvCxnSpPr>
              <a:stCxn id="1926" idx="5"/>
              <a:endCxn id="1926" idx="7"/>
            </p:cNvCxnSpPr>
            <p:nvPr/>
          </p:nvCxnSpPr>
          <p:spPr>
            <a:xfrm flipH="1" flipV="1" rot="5400000">
              <a:off x="7493400" y="3580200"/>
              <a:ext cx="432360" cy="2160"/>
            </a:xfrm>
            <a:prstGeom prst="curvedConnector5">
              <a:avLst>
                <a:gd name="adj1" fmla="val -73500"/>
                <a:gd name="adj2" fmla="val 14580000"/>
                <a:gd name="adj3" fmla="val -735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4" name=""/>
            <p:cNvCxnSpPr>
              <a:stCxn id="1928" idx="5"/>
              <a:endCxn id="1928" idx="7"/>
            </p:cNvCxnSpPr>
            <p:nvPr/>
          </p:nvCxnSpPr>
          <p:spPr>
            <a:xfrm flipH="1" flipV="1" rot="5400000">
              <a:off x="7493040" y="5713920"/>
              <a:ext cx="432720" cy="2160"/>
            </a:xfrm>
            <a:prstGeom prst="curvedConnector5">
              <a:avLst>
                <a:gd name="adj1" fmla="val -73522"/>
                <a:gd name="adj2" fmla="val 14080000"/>
                <a:gd name="adj3" fmla="val -7352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 - Finite State Machi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6083-B8FD-4AFA-900D-D6B123B9A01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"/>
          <p:cNvSpPr/>
          <p:nvPr/>
        </p:nvSpPr>
        <p:spPr>
          <a:xfrm>
            <a:off x="406440" y="1460520"/>
            <a:ext cx="84708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in or st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`zero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last input was a zer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next_state = `one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next_state = `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`one1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we've seen one 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next_state = `two1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next_state = `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`two1s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we've seen at least 2 on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next_state = `two1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next_state = `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 flipH="1" flipV="1">
            <a:off x="2895120" y="1599840"/>
            <a:ext cx="2406600" cy="260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5486400" y="1600200"/>
            <a:ext cx="27687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ucial to includ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 signals that ar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 to state determ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oore Verilog FSM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9" name=""/>
          <p:cNvSpPr/>
          <p:nvPr/>
        </p:nvSpPr>
        <p:spPr>
          <a:xfrm>
            <a:off x="6248520" y="3200400"/>
            <a:ext cx="276840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e that outpu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ends only on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4952880" y="4572000"/>
            <a:ext cx="3962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`zero: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`one1: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`two1s: out = 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cas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 flipH="1">
            <a:off x="6324480" y="3809880"/>
            <a:ext cx="763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 - Finite State Machi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5F83-8D70-4E1C-AE49-E576ED7AFB9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"/>
          <p:cNvSpPr/>
          <p:nvPr/>
        </p:nvSpPr>
        <p:spPr>
          <a:xfrm>
            <a:off x="8508960" y="6946920"/>
            <a:ext cx="241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533520" y="1486080"/>
            <a:ext cx="8458200" cy="54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2565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reduce (clk, reset, in, out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 clk, reset, in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state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state variabl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next_state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if (reset) state = `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lse       state = next_state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in or 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`zero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last input was a zer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next_state = `on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next_state = `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`one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we've seen one 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if (in)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xt_state = `one; out = 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 else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xt_state = `zero;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ca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ealy Verilog FSM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945" name=""/>
          <p:cNvGrpSpPr/>
          <p:nvPr/>
        </p:nvGrpSpPr>
        <p:grpSpPr>
          <a:xfrm>
            <a:off x="6324480" y="2894400"/>
            <a:ext cx="2133360" cy="2134800"/>
            <a:chOff x="6324480" y="2894400"/>
            <a:chExt cx="2133360" cy="2134800"/>
          </a:xfrm>
        </p:grpSpPr>
        <p:sp>
          <p:nvSpPr>
            <p:cNvPr id="1946" name=""/>
            <p:cNvSpPr/>
            <p:nvPr/>
          </p:nvSpPr>
          <p:spPr>
            <a:xfrm>
              <a:off x="7326000" y="378144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324480" y="380988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848360" y="297180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848360" y="457200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959520" y="31240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zero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6959520" y="419112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ne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52" name=""/>
            <p:cNvCxnSpPr>
              <a:stCxn id="1950" idx="4"/>
              <a:endCxn id="1951" idx="0"/>
            </p:cNvCxnSpPr>
            <p:nvPr/>
          </p:nvCxnSpPr>
          <p:spPr>
            <a:xfrm>
              <a:off x="7263720" y="373392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53" name=""/>
            <p:cNvCxnSpPr>
              <a:stCxn id="1951" idx="2"/>
              <a:endCxn id="1950" idx="2"/>
            </p:cNvCxnSpPr>
            <p:nvPr/>
          </p:nvCxnSpPr>
          <p:spPr>
            <a:xfrm flipH="1" rot="10800000">
              <a:off x="6959160" y="3428280"/>
              <a:ext cx="2160" cy="106740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54" name=""/>
            <p:cNvCxnSpPr>
              <a:stCxn id="1951" idx="4"/>
              <a:endCxn id="1951" idx="6"/>
            </p:cNvCxnSpPr>
            <p:nvPr/>
          </p:nvCxnSpPr>
          <p:spPr>
            <a:xfrm flipH="1" flipV="1" rot="5400000">
              <a:off x="7263000" y="4494960"/>
              <a:ext cx="305640" cy="305640"/>
            </a:xfrm>
            <a:prstGeom prst="curvedConnector5">
              <a:avLst>
                <a:gd name="adj1" fmla="val -75000"/>
                <a:gd name="adj2" fmla="val 87500"/>
                <a:gd name="adj3" fmla="val -75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55" name=""/>
            <p:cNvCxnSpPr>
              <a:stCxn id="1950" idx="6"/>
              <a:endCxn id="1950" idx="0"/>
            </p:cNvCxnSpPr>
            <p:nvPr/>
          </p:nvCxnSpPr>
          <p:spPr>
            <a:xfrm flipH="1" flipV="1">
              <a:off x="7263360" y="3123360"/>
              <a:ext cx="305640" cy="305640"/>
            </a:xfrm>
            <a:prstGeom prst="curvedConnector5">
              <a:avLst>
                <a:gd name="adj1" fmla="val -75000"/>
                <a:gd name="adj2" fmla="val 87500"/>
                <a:gd name="adj3" fmla="val -75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 - Finite State Machi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5808-E8E9-47FE-93F2-EE95369868E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"/>
          <p:cNvSpPr/>
          <p:nvPr/>
        </p:nvSpPr>
        <p:spPr>
          <a:xfrm>
            <a:off x="1854360" y="1523880"/>
            <a:ext cx="72896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533520" y="1600200"/>
            <a:ext cx="81788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reduce (clk, reset, in, out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 clk, reset, in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state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state variables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if (reset) state = `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ls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`zero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last input was a zer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state = `on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state = `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`one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we've seen one 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if (in)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e = `one; out = 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 else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e = `zero;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ca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ynchronous Mealy Machin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 - Finite State Machi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6024-788F-4377-BA3C-CF060D807D1E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quential logic implementation summar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odels for representing sequential circuit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straction of sequential ele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nite state machines and their state diagra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s/outp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aly, Moore, and synchronous Mealy machi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inite state machine design procedur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riving state diagra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riving state transition ta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termining next state and output fun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lementing combinational log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ardware description languag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 - Finite State Machi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83C2-CAA5-4CE7-9104-948379A5692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xample finite state machine diagram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mbination lock from introduction to cours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 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 self-transitions + 1 reset to state S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 transitions + 4 rese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838080" y="2643840"/>
            <a:ext cx="7162920" cy="2971080"/>
            <a:chOff x="838080" y="2643840"/>
            <a:chExt cx="7162920" cy="2971080"/>
          </a:xfrm>
        </p:grpSpPr>
        <p:sp>
          <p:nvSpPr>
            <p:cNvPr id="210" name=""/>
            <p:cNvSpPr/>
            <p:nvPr/>
          </p:nvSpPr>
          <p:spPr>
            <a:xfrm>
              <a:off x="1957320" y="427032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06600" y="4602240"/>
              <a:ext cx="43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38080" y="4452840"/>
              <a:ext cx="71280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81800" y="4227480"/>
              <a:ext cx="6523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537000" y="4270320"/>
              <a:ext cx="67464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113440" y="427032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92760" y="4270320"/>
              <a:ext cx="67644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0240" y="3144960"/>
              <a:ext cx="561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94040" y="4398840"/>
              <a:ext cx="690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82840" y="457344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314880" y="3633840"/>
              <a:ext cx="15015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59280" y="3710160"/>
              <a:ext cx="1503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004080" y="3786120"/>
              <a:ext cx="15015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38640" y="5276880"/>
              <a:ext cx="8002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60760" y="527688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81080" y="527688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427120" y="4233960"/>
              <a:ext cx="6526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006800" y="4233960"/>
              <a:ext cx="6494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50120" y="4233960"/>
              <a:ext cx="6508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01080" y="2879640"/>
              <a:ext cx="7999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73360" y="4398840"/>
              <a:ext cx="68760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60720" y="4573440"/>
              <a:ext cx="15019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49800" y="4398840"/>
              <a:ext cx="690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38960" y="457344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840360" y="4498920"/>
              <a:ext cx="4636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92760" y="2916360"/>
              <a:ext cx="67644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6" name=""/>
            <p:cNvCxnSpPr>
              <a:stCxn id="210" idx="7"/>
              <a:endCxn id="235" idx="2"/>
            </p:cNvCxnSpPr>
            <p:nvPr/>
          </p:nvCxnSpPr>
          <p:spPr>
            <a:xfrm flipH="1" flipV="1" rot="5400000">
              <a:off x="4055400" y="1733040"/>
              <a:ext cx="1116720" cy="415836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7" name=""/>
            <p:cNvCxnSpPr>
              <a:stCxn id="214" idx="7"/>
              <a:endCxn id="235" idx="2"/>
            </p:cNvCxnSpPr>
            <p:nvPr/>
          </p:nvCxnSpPr>
          <p:spPr>
            <a:xfrm flipH="1" flipV="1" rot="5400000">
              <a:off x="4844520" y="2522160"/>
              <a:ext cx="1116720" cy="25801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8" name=""/>
            <p:cNvCxnSpPr>
              <a:stCxn id="215" idx="7"/>
              <a:endCxn id="235" idx="2"/>
            </p:cNvCxnSpPr>
            <p:nvPr/>
          </p:nvCxnSpPr>
          <p:spPr>
            <a:xfrm flipH="1" flipV="1" rot="5400000">
              <a:off x="5633640" y="3311280"/>
              <a:ext cx="1116720" cy="10022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9" name=""/>
            <p:cNvCxnSpPr>
              <a:stCxn id="210" idx="6"/>
              <a:endCxn id="214" idx="2"/>
            </p:cNvCxnSpPr>
            <p:nvPr/>
          </p:nvCxnSpPr>
          <p:spPr>
            <a:xfrm>
              <a:off x="2634840" y="4609800"/>
              <a:ext cx="90252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0" name=""/>
            <p:cNvCxnSpPr>
              <a:stCxn id="214" idx="6"/>
              <a:endCxn id="215" idx="2"/>
            </p:cNvCxnSpPr>
            <p:nvPr/>
          </p:nvCxnSpPr>
          <p:spPr>
            <a:xfrm>
              <a:off x="4211280" y="4609800"/>
              <a:ext cx="90252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1" name=""/>
            <p:cNvCxnSpPr>
              <a:stCxn id="215" idx="6"/>
              <a:endCxn id="216" idx="2"/>
            </p:cNvCxnSpPr>
            <p:nvPr/>
          </p:nvCxnSpPr>
          <p:spPr>
            <a:xfrm>
              <a:off x="5791320" y="4609800"/>
              <a:ext cx="90216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2" name=""/>
            <p:cNvCxnSpPr>
              <a:stCxn id="210" idx="3"/>
              <a:endCxn id="210" idx="5"/>
            </p:cNvCxnSpPr>
            <p:nvPr/>
          </p:nvCxnSpPr>
          <p:spPr>
            <a:xfrm flipH="1" rot="16200000">
              <a:off x="2294280" y="4609800"/>
              <a:ext cx="2520" cy="478440"/>
            </a:xfrm>
            <a:prstGeom prst="curvedConnector5">
              <a:avLst>
                <a:gd name="adj1" fmla="val 20700000"/>
                <a:gd name="adj2" fmla="val 50000"/>
                <a:gd name="adj3" fmla="val 20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3" name=""/>
            <p:cNvCxnSpPr>
              <a:stCxn id="214" idx="3"/>
              <a:endCxn id="214" idx="5"/>
            </p:cNvCxnSpPr>
            <p:nvPr/>
          </p:nvCxnSpPr>
          <p:spPr>
            <a:xfrm flipH="1" rot="16200000">
              <a:off x="3873240" y="4609440"/>
              <a:ext cx="2520" cy="478800"/>
            </a:xfrm>
            <a:prstGeom prst="curvedConnector5">
              <a:avLst>
                <a:gd name="adj1" fmla="val 20700000"/>
                <a:gd name="adj2" fmla="val 49962"/>
                <a:gd name="adj3" fmla="val 20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4" name=""/>
            <p:cNvCxnSpPr>
              <a:stCxn id="215" idx="3"/>
              <a:endCxn id="215" idx="5"/>
            </p:cNvCxnSpPr>
            <p:nvPr/>
          </p:nvCxnSpPr>
          <p:spPr>
            <a:xfrm flipH="1" rot="16200000">
              <a:off x="5450400" y="4609800"/>
              <a:ext cx="2520" cy="478440"/>
            </a:xfrm>
            <a:prstGeom prst="curvedConnector5">
              <a:avLst>
                <a:gd name="adj1" fmla="val 20700000"/>
                <a:gd name="adj2" fmla="val 50000"/>
                <a:gd name="adj3" fmla="val 20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5" name=""/>
            <p:cNvCxnSpPr>
              <a:stCxn id="216" idx="3"/>
              <a:endCxn id="216" idx="5"/>
            </p:cNvCxnSpPr>
            <p:nvPr/>
          </p:nvCxnSpPr>
          <p:spPr>
            <a:xfrm flipH="1" rot="16200000">
              <a:off x="7030080" y="4608720"/>
              <a:ext cx="2520" cy="480240"/>
            </a:xfrm>
            <a:prstGeom prst="curvedConnector5">
              <a:avLst>
                <a:gd name="adj1" fmla="val 20700000"/>
                <a:gd name="adj2" fmla="val 49962"/>
                <a:gd name="adj3" fmla="val 20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5" idx="7"/>
              <a:endCxn id="235" idx="1"/>
            </p:cNvCxnSpPr>
            <p:nvPr/>
          </p:nvCxnSpPr>
          <p:spPr>
            <a:xfrm rot="5400000">
              <a:off x="7029720" y="2775600"/>
              <a:ext cx="2160" cy="480240"/>
            </a:xfrm>
            <a:prstGeom prst="curvedConnector5">
              <a:avLst>
                <a:gd name="adj1" fmla="val -20600000"/>
                <a:gd name="adj2" fmla="val 49962"/>
                <a:gd name="adj3" fmla="val -20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 - Finite State Machi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404B-5966-4EB4-ADB7-711D80A52B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n any sequential system be represented with a state diagram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hift register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 value show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 transition ar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 values show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hin state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824120" y="3703680"/>
            <a:ext cx="5790960" cy="2438280"/>
            <a:chOff x="1824120" y="3703680"/>
            <a:chExt cx="5790960" cy="2438280"/>
          </a:xfrm>
        </p:grpSpPr>
        <p:grpSp>
          <p:nvGrpSpPr>
            <p:cNvPr id="250" name=""/>
            <p:cNvGrpSpPr/>
            <p:nvPr/>
          </p:nvGrpSpPr>
          <p:grpSpPr>
            <a:xfrm>
              <a:off x="2738520" y="3703680"/>
              <a:ext cx="609480" cy="609480"/>
              <a:chOff x="2738520" y="3703680"/>
              <a:chExt cx="609480" cy="609480"/>
            </a:xfrm>
          </p:grpSpPr>
          <p:sp>
            <p:nvSpPr>
              <p:cNvPr id="251" name=""/>
              <p:cNvSpPr/>
              <p:nvPr/>
            </p:nvSpPr>
            <p:spPr>
              <a:xfrm>
                <a:off x="2738520" y="37036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793600" y="3840120"/>
                <a:ext cx="528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6091200" y="3703680"/>
              <a:ext cx="609480" cy="609480"/>
              <a:chOff x="6091200" y="3703680"/>
              <a:chExt cx="609480" cy="609480"/>
            </a:xfrm>
          </p:grpSpPr>
          <p:sp>
            <p:nvSpPr>
              <p:cNvPr id="254" name=""/>
              <p:cNvSpPr/>
              <p:nvPr/>
            </p:nvSpPr>
            <p:spPr>
              <a:xfrm>
                <a:off x="6091200" y="37036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133680" y="3824280"/>
                <a:ext cx="528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7005600" y="4618080"/>
              <a:ext cx="609480" cy="609480"/>
              <a:chOff x="7005600" y="4618080"/>
              <a:chExt cx="609480" cy="609480"/>
            </a:xfrm>
          </p:grpSpPr>
          <p:sp>
            <p:nvSpPr>
              <p:cNvPr id="257" name=""/>
              <p:cNvSpPr/>
              <p:nvPr/>
            </p:nvSpPr>
            <p:spPr>
              <a:xfrm>
                <a:off x="7005600" y="46180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60680" y="4741920"/>
                <a:ext cx="528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6091200" y="5532480"/>
              <a:ext cx="609480" cy="609480"/>
              <a:chOff x="6091200" y="5532480"/>
              <a:chExt cx="609480" cy="609480"/>
            </a:xfrm>
          </p:grpSpPr>
          <p:sp>
            <p:nvSpPr>
              <p:cNvPr id="260" name=""/>
              <p:cNvSpPr/>
              <p:nvPr/>
            </p:nvSpPr>
            <p:spPr>
              <a:xfrm>
                <a:off x="6091200" y="55324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146280" y="5656320"/>
                <a:ext cx="528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5176800" y="4618080"/>
              <a:ext cx="609480" cy="609480"/>
              <a:chOff x="5176800" y="4618080"/>
              <a:chExt cx="609480" cy="609480"/>
            </a:xfrm>
          </p:grpSpPr>
          <p:sp>
            <p:nvSpPr>
              <p:cNvPr id="263" name=""/>
              <p:cNvSpPr/>
              <p:nvPr/>
            </p:nvSpPr>
            <p:spPr>
              <a:xfrm>
                <a:off x="5176800" y="46180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216040" y="4738680"/>
                <a:ext cx="528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3652920" y="4618080"/>
              <a:ext cx="609480" cy="609480"/>
              <a:chOff x="3652920" y="4618080"/>
              <a:chExt cx="609480" cy="609480"/>
            </a:xfrm>
          </p:grpSpPr>
          <p:sp>
            <p:nvSpPr>
              <p:cNvPr id="266" name=""/>
              <p:cNvSpPr/>
              <p:nvPr/>
            </p:nvSpPr>
            <p:spPr>
              <a:xfrm>
                <a:off x="3652920" y="46180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692160" y="4738680"/>
                <a:ext cx="528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824120" y="4618080"/>
              <a:ext cx="609480" cy="609480"/>
              <a:chOff x="1824120" y="4618080"/>
              <a:chExt cx="609480" cy="609480"/>
            </a:xfrm>
          </p:grpSpPr>
          <p:sp>
            <p:nvSpPr>
              <p:cNvPr id="269" name=""/>
              <p:cNvSpPr/>
              <p:nvPr/>
            </p:nvSpPr>
            <p:spPr>
              <a:xfrm>
                <a:off x="1824120" y="46180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66600" y="4757760"/>
                <a:ext cx="528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2738520" y="5532480"/>
              <a:ext cx="609480" cy="609480"/>
              <a:chOff x="2738520" y="5532480"/>
              <a:chExt cx="609480" cy="609480"/>
            </a:xfrm>
          </p:grpSpPr>
          <p:sp>
            <p:nvSpPr>
              <p:cNvPr id="272" name=""/>
              <p:cNvSpPr/>
              <p:nvPr/>
            </p:nvSpPr>
            <p:spPr>
              <a:xfrm>
                <a:off x="2738520" y="55324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793600" y="5653080"/>
                <a:ext cx="528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3348000" y="3720960"/>
            <a:ext cx="2743560" cy="337320"/>
            <a:chOff x="3348000" y="3720960"/>
            <a:chExt cx="2743560" cy="337320"/>
          </a:xfrm>
        </p:grpSpPr>
        <p:cxnSp>
          <p:nvCxnSpPr>
            <p:cNvPr id="275" name=""/>
            <p:cNvCxnSpPr>
              <a:stCxn id="251" idx="6"/>
              <a:endCxn id="254" idx="2"/>
            </p:cNvCxnSpPr>
            <p:nvPr/>
          </p:nvCxnSpPr>
          <p:spPr>
            <a:xfrm>
              <a:off x="3348000" y="4007880"/>
              <a:ext cx="27439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"/>
            <p:cNvSpPr/>
            <p:nvPr/>
          </p:nvSpPr>
          <p:spPr>
            <a:xfrm>
              <a:off x="4598280" y="37209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4173480" y="4347000"/>
            <a:ext cx="1092600" cy="361800"/>
            <a:chOff x="4173480" y="4347000"/>
            <a:chExt cx="1092600" cy="361800"/>
          </a:xfrm>
        </p:grpSpPr>
        <p:cxnSp>
          <p:nvCxnSpPr>
            <p:cNvPr id="278" name=""/>
            <p:cNvCxnSpPr>
              <a:stCxn id="266" idx="7"/>
              <a:endCxn id="263" idx="1"/>
            </p:cNvCxnSpPr>
            <p:nvPr/>
          </p:nvCxnSpPr>
          <p:spPr>
            <a:xfrm flipH="1" rot="16200000">
              <a:off x="4718880" y="4161240"/>
              <a:ext cx="2160" cy="1092960"/>
            </a:xfrm>
            <a:prstGeom prst="curvedConnector5">
              <a:avLst>
                <a:gd name="adj1" fmla="val -20000000"/>
                <a:gd name="adj2" fmla="val 49983"/>
                <a:gd name="adj3" fmla="val -200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9" name=""/>
            <p:cNvSpPr/>
            <p:nvPr/>
          </p:nvSpPr>
          <p:spPr>
            <a:xfrm>
              <a:off x="4608000" y="43498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2796480" y="4312440"/>
            <a:ext cx="296640" cy="1219680"/>
            <a:chOff x="2796480" y="4312440"/>
            <a:chExt cx="296640" cy="1219680"/>
          </a:xfrm>
        </p:grpSpPr>
        <p:cxnSp>
          <p:nvCxnSpPr>
            <p:cNvPr id="281" name=""/>
            <p:cNvCxnSpPr>
              <a:stCxn id="272" idx="0"/>
              <a:endCxn id="251" idx="4"/>
            </p:cNvCxnSpPr>
            <p:nvPr/>
          </p:nvCxnSpPr>
          <p:spPr>
            <a:xfrm flipV="1">
              <a:off x="3042720" y="4312440"/>
              <a:ext cx="1080" cy="1220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"/>
            <p:cNvSpPr/>
            <p:nvPr/>
          </p:nvSpPr>
          <p:spPr>
            <a:xfrm>
              <a:off x="2796480" y="4756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2344320" y="4219560"/>
            <a:ext cx="483120" cy="487080"/>
            <a:chOff x="2344320" y="4219560"/>
            <a:chExt cx="483120" cy="487080"/>
          </a:xfrm>
        </p:grpSpPr>
        <p:cxnSp>
          <p:nvCxnSpPr>
            <p:cNvPr id="284" name=""/>
            <p:cNvCxnSpPr>
              <a:stCxn id="269" idx="7"/>
              <a:endCxn id="251" idx="3"/>
            </p:cNvCxnSpPr>
            <p:nvPr/>
          </p:nvCxnSpPr>
          <p:spPr>
            <a:xfrm flipV="1">
              <a:off x="2344320" y="4223520"/>
              <a:ext cx="48348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5" name=""/>
            <p:cNvSpPr/>
            <p:nvPr/>
          </p:nvSpPr>
          <p:spPr>
            <a:xfrm>
              <a:off x="2356920" y="42195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258360" y="5138280"/>
            <a:ext cx="483120" cy="514080"/>
            <a:chOff x="3258360" y="5138280"/>
            <a:chExt cx="483120" cy="514080"/>
          </a:xfrm>
        </p:grpSpPr>
        <p:cxnSp>
          <p:nvCxnSpPr>
            <p:cNvPr id="287" name=""/>
            <p:cNvCxnSpPr>
              <a:stCxn id="266" idx="3"/>
              <a:endCxn id="272" idx="7"/>
            </p:cNvCxnSpPr>
            <p:nvPr/>
          </p:nvCxnSpPr>
          <p:spPr>
            <a:xfrm flipH="1">
              <a:off x="3258360" y="5138280"/>
              <a:ext cx="48348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8" name=""/>
            <p:cNvSpPr/>
            <p:nvPr/>
          </p:nvSpPr>
          <p:spPr>
            <a:xfrm>
              <a:off x="3434760" y="53150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258720" y="4186080"/>
            <a:ext cx="483120" cy="520560"/>
            <a:chOff x="3258720" y="4186080"/>
            <a:chExt cx="483120" cy="520560"/>
          </a:xfrm>
        </p:grpSpPr>
        <p:cxnSp>
          <p:nvCxnSpPr>
            <p:cNvPr id="290" name=""/>
            <p:cNvCxnSpPr>
              <a:stCxn id="251" idx="5"/>
              <a:endCxn id="266" idx="1"/>
            </p:cNvCxnSpPr>
            <p:nvPr/>
          </p:nvCxnSpPr>
          <p:spPr>
            <a:xfrm>
              <a:off x="3258720" y="4223520"/>
              <a:ext cx="48348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1" name=""/>
            <p:cNvSpPr/>
            <p:nvPr/>
          </p:nvSpPr>
          <p:spPr>
            <a:xfrm>
              <a:off x="3421800" y="41860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2343960" y="5137920"/>
            <a:ext cx="483120" cy="492120"/>
            <a:chOff x="2343960" y="5137920"/>
            <a:chExt cx="483120" cy="492120"/>
          </a:xfrm>
        </p:grpSpPr>
        <p:cxnSp>
          <p:nvCxnSpPr>
            <p:cNvPr id="293" name=""/>
            <p:cNvCxnSpPr>
              <a:stCxn id="272" idx="1"/>
              <a:endCxn id="269" idx="5"/>
            </p:cNvCxnSpPr>
            <p:nvPr/>
          </p:nvCxnSpPr>
          <p:spPr>
            <a:xfrm flipH="1" flipV="1">
              <a:off x="2343960" y="5137920"/>
              <a:ext cx="48348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4" name=""/>
            <p:cNvSpPr/>
            <p:nvPr/>
          </p:nvSpPr>
          <p:spPr>
            <a:xfrm>
              <a:off x="2358360" y="5292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3347640" y="4186080"/>
            <a:ext cx="4963320" cy="1939320"/>
            <a:chOff x="3347640" y="4186080"/>
            <a:chExt cx="4963320" cy="1939320"/>
          </a:xfrm>
        </p:grpSpPr>
        <p:grpSp>
          <p:nvGrpSpPr>
            <p:cNvPr id="296" name=""/>
            <p:cNvGrpSpPr/>
            <p:nvPr/>
          </p:nvGrpSpPr>
          <p:grpSpPr>
            <a:xfrm>
              <a:off x="4173120" y="5138280"/>
              <a:ext cx="1092600" cy="432000"/>
              <a:chOff x="4173120" y="5138280"/>
              <a:chExt cx="1092600" cy="432000"/>
            </a:xfrm>
          </p:grpSpPr>
          <p:cxnSp>
            <p:nvCxnSpPr>
              <p:cNvPr id="297" name=""/>
              <p:cNvCxnSpPr>
                <a:stCxn id="263" idx="3"/>
                <a:endCxn id="266" idx="5"/>
              </p:cNvCxnSpPr>
              <p:nvPr/>
            </p:nvCxnSpPr>
            <p:spPr>
              <a:xfrm rot="5400000">
                <a:off x="4718160" y="4593240"/>
                <a:ext cx="2520" cy="1092960"/>
              </a:xfrm>
              <a:prstGeom prst="curvedConnector5">
                <a:avLst>
                  <a:gd name="adj1" fmla="val 20000000"/>
                  <a:gd name="adj2" fmla="val 49983"/>
                  <a:gd name="adj3" fmla="val 200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98" name=""/>
              <p:cNvSpPr/>
              <p:nvPr/>
            </p:nvSpPr>
            <p:spPr>
              <a:xfrm>
                <a:off x="4608000" y="5157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5695200" y="4223520"/>
              <a:ext cx="484920" cy="483120"/>
              <a:chOff x="5695200" y="4223520"/>
              <a:chExt cx="484920" cy="483120"/>
            </a:xfrm>
          </p:grpSpPr>
          <p:cxnSp>
            <p:nvCxnSpPr>
              <p:cNvPr id="300" name=""/>
              <p:cNvCxnSpPr>
                <a:stCxn id="263" idx="7"/>
                <a:endCxn id="254" idx="3"/>
              </p:cNvCxnSpPr>
              <p:nvPr/>
            </p:nvCxnSpPr>
            <p:spPr>
              <a:xfrm flipV="1">
                <a:off x="5697000" y="4223520"/>
                <a:ext cx="483480" cy="483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01" name=""/>
              <p:cNvSpPr/>
              <p:nvPr/>
            </p:nvSpPr>
            <p:spPr>
              <a:xfrm>
                <a:off x="5695200" y="42721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7525080" y="4388760"/>
              <a:ext cx="785880" cy="1067040"/>
              <a:chOff x="7525080" y="4388760"/>
              <a:chExt cx="785880" cy="1067040"/>
            </a:xfrm>
          </p:grpSpPr>
          <p:cxnSp>
            <p:nvCxnSpPr>
              <p:cNvPr id="303" name=""/>
              <p:cNvCxnSpPr>
                <a:stCxn id="257" idx="5"/>
                <a:endCxn id="257" idx="7"/>
              </p:cNvCxnSpPr>
              <p:nvPr/>
            </p:nvCxnSpPr>
            <p:spPr>
              <a:xfrm flipH="1" flipV="1" rot="5400000">
                <a:off x="7310160" y="4921200"/>
                <a:ext cx="432360" cy="2520"/>
              </a:xfrm>
              <a:prstGeom prst="curvedConnector5">
                <a:avLst>
                  <a:gd name="adj1" fmla="val -73500"/>
                  <a:gd name="adj2" fmla="val 18183333"/>
                  <a:gd name="adj3" fmla="val -735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04" name=""/>
              <p:cNvSpPr/>
              <p:nvPr/>
            </p:nvSpPr>
            <p:spPr>
              <a:xfrm>
                <a:off x="7851240" y="4719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5696640" y="5137920"/>
              <a:ext cx="483120" cy="483120"/>
              <a:chOff x="5696640" y="5137920"/>
              <a:chExt cx="483120" cy="483120"/>
            </a:xfrm>
          </p:grpSpPr>
          <p:cxnSp>
            <p:nvCxnSpPr>
              <p:cNvPr id="306" name=""/>
              <p:cNvCxnSpPr>
                <a:stCxn id="260" idx="1"/>
                <a:endCxn id="263" idx="5"/>
              </p:cNvCxnSpPr>
              <p:nvPr/>
            </p:nvCxnSpPr>
            <p:spPr>
              <a:xfrm flipH="1" flipV="1">
                <a:off x="5696640" y="5137920"/>
                <a:ext cx="483480" cy="483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07" name=""/>
              <p:cNvSpPr/>
              <p:nvPr/>
            </p:nvSpPr>
            <p:spPr>
              <a:xfrm>
                <a:off x="5726880" y="5275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3347640" y="5788080"/>
              <a:ext cx="2743560" cy="337320"/>
              <a:chOff x="3347640" y="5788080"/>
              <a:chExt cx="2743560" cy="337320"/>
            </a:xfrm>
          </p:grpSpPr>
          <p:cxnSp>
            <p:nvCxnSpPr>
              <p:cNvPr id="309" name=""/>
              <p:cNvCxnSpPr>
                <a:stCxn id="260" idx="2"/>
                <a:endCxn id="272" idx="6"/>
              </p:cNvCxnSpPr>
              <p:nvPr/>
            </p:nvCxnSpPr>
            <p:spPr>
              <a:xfrm flipH="1">
                <a:off x="3347640" y="5837040"/>
                <a:ext cx="2743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10" name=""/>
              <p:cNvSpPr/>
              <p:nvPr/>
            </p:nvSpPr>
            <p:spPr>
              <a:xfrm>
                <a:off x="4628520" y="578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6611040" y="5138280"/>
              <a:ext cx="547560" cy="483120"/>
              <a:chOff x="6611040" y="5138280"/>
              <a:chExt cx="547560" cy="483120"/>
            </a:xfrm>
          </p:grpSpPr>
          <p:cxnSp>
            <p:nvCxnSpPr>
              <p:cNvPr id="312" name=""/>
              <p:cNvCxnSpPr>
                <a:stCxn id="257" idx="3"/>
                <a:endCxn id="260" idx="7"/>
              </p:cNvCxnSpPr>
              <p:nvPr/>
            </p:nvCxnSpPr>
            <p:spPr>
              <a:xfrm flipH="1">
                <a:off x="6611040" y="5138280"/>
                <a:ext cx="483480" cy="483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13" name=""/>
              <p:cNvSpPr/>
              <p:nvPr/>
            </p:nvSpPr>
            <p:spPr>
              <a:xfrm>
                <a:off x="6861960" y="5281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6611400" y="4186080"/>
              <a:ext cx="501120" cy="520560"/>
              <a:chOff x="6611400" y="4186080"/>
              <a:chExt cx="501120" cy="520560"/>
            </a:xfrm>
          </p:grpSpPr>
          <p:cxnSp>
            <p:nvCxnSpPr>
              <p:cNvPr id="315" name=""/>
              <p:cNvCxnSpPr>
                <a:stCxn id="254" idx="5"/>
                <a:endCxn id="257" idx="1"/>
              </p:cNvCxnSpPr>
              <p:nvPr/>
            </p:nvCxnSpPr>
            <p:spPr>
              <a:xfrm>
                <a:off x="6611400" y="4223520"/>
                <a:ext cx="483480" cy="483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16" name=""/>
              <p:cNvSpPr/>
              <p:nvPr/>
            </p:nvSpPr>
            <p:spPr>
              <a:xfrm>
                <a:off x="6815880" y="4186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6360480" y="4312800"/>
              <a:ext cx="296640" cy="1219680"/>
              <a:chOff x="6360480" y="4312800"/>
              <a:chExt cx="296640" cy="1219680"/>
            </a:xfrm>
          </p:grpSpPr>
          <p:cxnSp>
            <p:nvCxnSpPr>
              <p:cNvPr id="318" name=""/>
              <p:cNvCxnSpPr>
                <a:stCxn id="254" idx="4"/>
                <a:endCxn id="260" idx="0"/>
              </p:cNvCxnSpPr>
              <p:nvPr/>
            </p:nvCxnSpPr>
            <p:spPr>
              <a:xfrm>
                <a:off x="6395760" y="4312800"/>
                <a:ext cx="1080" cy="12200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19" name=""/>
              <p:cNvSpPr/>
              <p:nvPr/>
            </p:nvSpPr>
            <p:spPr>
              <a:xfrm>
                <a:off x="6360480" y="47498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0" name=""/>
          <p:cNvGrpSpPr/>
          <p:nvPr/>
        </p:nvGrpSpPr>
        <p:grpSpPr>
          <a:xfrm>
            <a:off x="1214640" y="4388760"/>
            <a:ext cx="700200" cy="1067040"/>
            <a:chOff x="1214640" y="4388760"/>
            <a:chExt cx="700200" cy="1067040"/>
          </a:xfrm>
        </p:grpSpPr>
        <p:cxnSp>
          <p:nvCxnSpPr>
            <p:cNvPr id="321" name=""/>
            <p:cNvCxnSpPr>
              <a:stCxn id="269" idx="3"/>
              <a:endCxn id="269" idx="1"/>
            </p:cNvCxnSpPr>
            <p:nvPr/>
          </p:nvCxnSpPr>
          <p:spPr>
            <a:xfrm flipH="1" flipV="1" rot="5400000">
              <a:off x="1697760" y="4921560"/>
              <a:ext cx="432360" cy="2160"/>
            </a:xfrm>
            <a:prstGeom prst="curvedConnector5">
              <a:avLst>
                <a:gd name="adj1" fmla="val -73500"/>
                <a:gd name="adj2" fmla="val -19400000"/>
                <a:gd name="adj3" fmla="val -735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22" name=""/>
            <p:cNvSpPr/>
            <p:nvPr/>
          </p:nvSpPr>
          <p:spPr>
            <a:xfrm>
              <a:off x="1277280" y="47721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3522600" y="1843200"/>
            <a:ext cx="5461200" cy="1422360"/>
            <a:chOff x="3522600" y="1843200"/>
            <a:chExt cx="5461200" cy="1422360"/>
          </a:xfrm>
        </p:grpSpPr>
        <p:sp>
          <p:nvSpPr>
            <p:cNvPr id="324" name=""/>
            <p:cNvSpPr/>
            <p:nvPr/>
          </p:nvSpPr>
          <p:spPr>
            <a:xfrm>
              <a:off x="4761000" y="2395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4951440" y="278928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5014800" y="278928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780080" y="251640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046480" y="251640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68880" y="239580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6259320" y="2789280"/>
              <a:ext cx="511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6310080" y="278928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87960" y="251640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342120" y="251640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64520" y="2395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7554960" y="278928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 flipV="1">
              <a:off x="7618320" y="278928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83600" y="251640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650000" y="251640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633920" y="2656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113360" y="265608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522600" y="2541960"/>
              <a:ext cx="533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281560" y="2656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929200" y="26560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08640" y="265608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656320" y="2643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75400" y="2656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68920" y="2052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668920" y="1843200"/>
              <a:ext cx="723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589800" y="2656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237440" y="2656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716520" y="265608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51600" y="2643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70680" y="26560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964200" y="2052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964200" y="1843200"/>
              <a:ext cx="711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85080" y="2656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012160" y="265608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272440" y="2052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272440" y="1843200"/>
              <a:ext cx="711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21280" y="29419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995720" y="30625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316560" y="29419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303960" y="3062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624800" y="29419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13360" y="3075120"/>
              <a:ext cx="90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27760" y="307512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323040" y="307512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98920" y="292284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 - Finite State Machi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0929-F669-49E0-BAC3-BB4020E75B6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"/>
          <p:cNvGrpSpPr/>
          <p:nvPr/>
        </p:nvGrpSpPr>
        <p:grpSpPr>
          <a:xfrm>
            <a:off x="1684440" y="3862440"/>
            <a:ext cx="5994360" cy="2305080"/>
            <a:chOff x="1684440" y="3862440"/>
            <a:chExt cx="5994360" cy="2305080"/>
          </a:xfrm>
        </p:grpSpPr>
        <p:sp>
          <p:nvSpPr>
            <p:cNvPr id="370" name=""/>
            <p:cNvSpPr/>
            <p:nvPr/>
          </p:nvSpPr>
          <p:spPr>
            <a:xfrm>
              <a:off x="6275520" y="38624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189920" y="47768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446720" y="38624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446720" y="56912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617920" y="38624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75120" y="408456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 flipV="1">
              <a:off x="6656400" y="4230720"/>
              <a:ext cx="59688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2071800" y="4242960"/>
              <a:ext cx="58428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27640" y="39067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70840" y="48211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27640" y="57355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256440" y="39067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598840" y="393228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275520" y="56912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703520" y="47768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617920" y="56912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03920" y="5913360"/>
              <a:ext cx="134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684440" y="48211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256440" y="57355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598840" y="576108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903920" y="407196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087720" y="5913360"/>
              <a:ext cx="134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65520" y="4871880"/>
              <a:ext cx="2044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-bit up-cou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2059200" y="5169960"/>
              <a:ext cx="59688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6669360" y="5169960"/>
              <a:ext cx="58392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unters are simple finite state machin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unter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eed through well-defined sequence of states in response to ena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any types of counters: binary, BCD, Gray-cod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-bit up-counter: 000, 001, 010, 011, 100, 101, 110, 111, 000,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-bit down-counter:  111, 110, 101, 100, 011, 010, 001, 000, 111,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 - Finite State Machi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C44B-317C-4CA1-B2BD-F788BC9A79F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ow do we turn a state diagram into logic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unter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flip-flops to hold st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ic to compute next st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 signal controls when flip-flop memory can chan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ait long enough for combinational logic to compute new va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n't wait too long as that is low perform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3382920" y="3708360"/>
            <a:ext cx="5203800" cy="2930400"/>
            <a:chOff x="3382920" y="3708360"/>
            <a:chExt cx="5203800" cy="2930400"/>
          </a:xfrm>
        </p:grpSpPr>
        <p:sp>
          <p:nvSpPr>
            <p:cNvPr id="400" name=""/>
            <p:cNvSpPr/>
            <p:nvPr/>
          </p:nvSpPr>
          <p:spPr>
            <a:xfrm>
              <a:off x="4545000" y="419400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4735440" y="4587480"/>
              <a:ext cx="637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 flipV="1">
              <a:off x="4798800" y="458748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564080" y="4314600"/>
              <a:ext cx="254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30840" y="431460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853240" y="41940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043680" y="458748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6094440" y="458748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872320" y="431460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126120" y="4314600"/>
              <a:ext cx="254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148520" y="41940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7338960" y="4587480"/>
              <a:ext cx="637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7402320" y="458748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167600" y="4314600"/>
              <a:ext cx="254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434360" y="431460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417920" y="4454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367160" y="44542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065920" y="44542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738760" y="445428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199120" y="44416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211720" y="38512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59600" y="3708360"/>
              <a:ext cx="7236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373800" y="4454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47000" y="4454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507360" y="444168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519960" y="38512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567480" y="370836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69080" y="4454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815240" y="44416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827840" y="38512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875720" y="370836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805280" y="47401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80080" y="48607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100920" y="47401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087960" y="48607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408800" y="47401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897360" y="487332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811760" y="487332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107040" y="4873320"/>
              <a:ext cx="129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382920" y="4721040"/>
              <a:ext cx="507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600880" y="5491080"/>
              <a:ext cx="29124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587200" y="5491080"/>
              <a:ext cx="29088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5668920" y="55018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5796000" y="55018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600880" y="542736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9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9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600880" y="5021280"/>
              <a:ext cx="29124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587200" y="5021280"/>
              <a:ext cx="29088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87200" y="5427360"/>
              <a:ext cx="29088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96160" y="5491080"/>
              <a:ext cx="30420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882480" y="5491080"/>
              <a:ext cx="30384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6977160" y="55018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7104240" y="55018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96160" y="5427360"/>
              <a:ext cx="2790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09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09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896160" y="5021280"/>
              <a:ext cx="30420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882480" y="5021280"/>
              <a:ext cx="3038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82480" y="5427360"/>
              <a:ext cx="3038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6748560" y="59212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7066080" y="590832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6741720" y="62323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762960" y="5789520"/>
              <a:ext cx="3171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5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56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756480" y="5783040"/>
              <a:ext cx="3301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69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69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748920" y="5789520"/>
              <a:ext cx="3168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742800" y="5783040"/>
              <a:ext cx="3290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229280" y="5491080"/>
              <a:ext cx="29124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215600" y="5491080"/>
              <a:ext cx="29088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4297320" y="55018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4424400" y="55018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229280" y="542736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9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9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229280" y="5021280"/>
              <a:ext cx="29124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215600" y="5021280"/>
              <a:ext cx="29088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215600" y="5427360"/>
              <a:ext cx="29088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732640" y="4905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837480" y="62388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796000" y="55404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519960" y="446076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507360" y="564804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519960" y="566712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802480" y="5661000"/>
              <a:ext cx="71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526080" y="64864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837480" y="63658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040520" y="4905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104240" y="55404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827840" y="446076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110360" y="5661000"/>
              <a:ext cx="71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977160" y="55404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900840" y="56671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907320" y="566100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297320" y="55404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297320" y="5667120"/>
              <a:ext cx="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81680" y="6118200"/>
              <a:ext cx="469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1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977160" y="62388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668920" y="55404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24400" y="55404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218200" y="66135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656320" y="6600600"/>
              <a:ext cx="38160" cy="38160"/>
            </a:xfrm>
            <a:prstGeom prst="rect">
              <a:avLst/>
            </a:prstGeom>
            <a:solidFill>
              <a:srgbClr val="d500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675400" y="661356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77160" y="636588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668920" y="5667120"/>
              <a:ext cx="0" cy="9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211720" y="446076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199120" y="56480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211720" y="5667120"/>
              <a:ext cx="0" cy="9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430880" y="566100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361040" y="4905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732640" y="446076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040520" y="446076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361040" y="446076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 - Finite State Machi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5D8E-25CA-4122-8528-45B9BA4616B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SM design procedu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art with counter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ple because output is just st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ple because no choice of next state based on inpu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ate diagram to state transition tabl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bular form of state diagra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ke a truth-ta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ate encoding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cide on representation of 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counters it is simple: just its va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mplementa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ip-flop for each state b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binational logic based on enco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I - Finite State Machi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50DD-FB22-4E97-9E7D-42B77BC4463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2:03:47Z</dcterms:created>
  <dc:creator>Gaetano Borriello</dc:creator>
  <dc:description/>
  <dc:language>en-US</dc:language>
  <cp:lastModifiedBy>Gaetano Borriello</cp:lastModifiedBy>
  <cp:lastPrinted>2000-05-11T19:00:15Z</cp:lastPrinted>
  <dcterms:modified xsi:type="dcterms:W3CDTF">2000-11-13T07:10:29Z</dcterms:modified>
  <cp:revision>24</cp:revision>
  <dc:subject/>
  <dc:title>Sequential logic imple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