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8BF-45F2-45E6-91F3-38F9139F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91E-E52B-4F16-8DB1-CE037357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EB3-A163-472B-9300-D9834446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743-D617-444D-913F-4F4FE504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ACA1-4BBE-4F95-AA3C-8813670D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3C5C-7EBA-4991-8367-0C7F446A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6DA2-AA5C-4051-93BE-1E0A77E9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7E6A-5256-4CD1-91D6-A4FB91C1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1C6E-CF12-4FAE-BE8E-85ACE954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CBE-6B21-4E52-A5E8-C92EF47B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810C-F637-45BB-A6EA-2CBFCFE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27B-AF4C-40B5-A10F-6F9C07EA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D7B9-18C4-4A85-A198-CE3D2223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B250-EDE8-4F1A-A0DC-9EB4481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BB99-1A0E-4A55-A9AD-1FA5F2E7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2835-F065-4093-92C2-A073BBD8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772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760" y="162072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772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760" y="3979080"/>
            <a:ext cx="267012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190F-161D-4C8F-886B-860A8BB4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011-2D78-454E-8FD6-FFA83FE7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981-4C69-446D-A719-79D0A8B4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C1F-E745-4774-9367-692192CB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31480"/>
            <a:ext cx="788004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BE2-3B0A-4002-B032-27D7DA03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7AD-2A5E-4422-9ACE-6FA78863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120" y="397908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AB5-B043-42F8-8FE2-6EE405D0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120" y="1620720"/>
            <a:ext cx="40467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680" y="3979080"/>
            <a:ext cx="8292960" cy="2153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74B-FAFD-48B6-8FA6-F16E72B0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58840" indent="-231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22520" indent="-23184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84400" indent="-23184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84400" indent="-23184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8120" y="6483240"/>
            <a:ext cx="19303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483240"/>
            <a:ext cx="4456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4160" y="6483240"/>
            <a:ext cx="19321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B3886E-3F83-45E4-AC1C-787DD234BEA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27000" y="1081080"/>
            <a:ext cx="834408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694800"/>
            <a:ext cx="7829640" cy="115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0360" y="6310440"/>
            <a:ext cx="195732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93920" y="6310440"/>
            <a:ext cx="288288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5640" y="6310440"/>
            <a:ext cx="1854360" cy="52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7F3FF1-4C7C-452E-BC9D-BA1B55B162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27000" y="1852560"/>
            <a:ext cx="83440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asic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ogic realiz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level logic and canonical forms, incompletely specified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-level logic, converting between ANDs and 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plific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5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formations on networks of Boolean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me behavi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rdware description languag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F41-D978-4BD8-8B97-75BF09FBC57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xioms and theorems of Boolean algebra (cont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 Morgan’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4. (X + Y + ...)’ = X’ • Y’ • ..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4D. (X • Y • ...)’ = X’ + Y’ + ...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lized de Morgan’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. f’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0,1,+,•) =  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,1,0,•,+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stablishes relationship between • and +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728-D5C3-4EF9-A1D3-5EEC5959A4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xioms and theorems of Boolean algebra (cont’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ualit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dual of a Boolean expression is derived by replac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• by +, + by •, 0 by 1, and 1 by 0, and leaving variables unchang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theorem that can be proven is thus also proven for its dual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meta-theorem (a theorem about theorem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ualit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. X + Y + ..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 • Y • ..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lized dualit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. f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0,1,+,•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1,0,•,+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fferent than deMorgan’s Law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a statement about theor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not a way to manipulate (re-write)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9BA-C5BA-483C-AE1F-1EFE24E4E7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ving theorems (rewritin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ing the axioms of Boolean algebra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prove the theorem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Y + X • Y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prove the theorem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+ X • 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80180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8884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7C9-059A-4D5E-969F-FF5702D4EB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ve the following using the laws of Boolean algebra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X • Y) + (Y • Z) + (X’ • Z) =  X • Y + X’ • 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oci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720" y="264636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608-CEEB-426A-B227-B7F55AC643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8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2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ving theorems (perfect induction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sing perfect induction (complete truth table)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de Morgan’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DED-FDE9-404F-B752-FBFDA0C94A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simple example: 1-bit binary add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puts: A, B, Carry-i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s: Sum, Carry-o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714200" y="1981080"/>
            <a:ext cx="3672000" cy="947160"/>
            <a:chOff x="4714200" y="1981080"/>
            <a:chExt cx="3672000" cy="947160"/>
          </a:xfrm>
        </p:grpSpPr>
        <p:sp>
          <p:nvSpPr>
            <p:cNvPr id="194" name=""/>
            <p:cNvSpPr/>
            <p:nvPr/>
          </p:nvSpPr>
          <p:spPr>
            <a:xfrm>
              <a:off x="5791320" y="1981080"/>
              <a:ext cx="13716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1480" y="21337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1480" y="24382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1480" y="27432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22860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2590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5120" y="1981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72600" y="22860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14200" y="25909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57280" y="2438280"/>
              <a:ext cx="62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4920" y="21016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38080" y="3733920"/>
            <a:ext cx="2666880" cy="2187360"/>
            <a:chOff x="838080" y="3733920"/>
            <a:chExt cx="2666880" cy="2187360"/>
          </a:xfrm>
        </p:grpSpPr>
        <p:sp>
          <p:nvSpPr>
            <p:cNvPr id="206" name=""/>
            <p:cNvSpPr/>
            <p:nvPr/>
          </p:nvSpPr>
          <p:spPr>
            <a:xfrm>
              <a:off x="838080" y="39402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3753000"/>
              <a:ext cx="0" cy="19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30240" y="3733920"/>
              <a:ext cx="2574720" cy="21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0" y="3940200"/>
              <a:ext cx="152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3200" y="3940200"/>
              <a:ext cx="152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C0E-9D9C-4F54-9A02-6FC32ADEB0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ly the theorems to simplify express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theorems of Boolean algebra can simplify Boolean express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full adder’s carry-out function (same rules apply to any function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57400" y="262404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611680" y="2951280"/>
            <a:ext cx="3098880" cy="3827880"/>
            <a:chOff x="5611680" y="2951280"/>
            <a:chExt cx="3098880" cy="3827880"/>
          </a:xfrm>
        </p:grpSpPr>
        <p:sp>
          <p:nvSpPr>
            <p:cNvPr id="217" name=""/>
            <p:cNvSpPr/>
            <p:nvPr/>
          </p:nvSpPr>
          <p:spPr>
            <a:xfrm>
              <a:off x="6237360" y="558792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59440" y="295128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11680" y="404820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7" idx="0"/>
              <a:endCxn id="219" idx="3"/>
            </p:cNvCxnSpPr>
            <p:nvPr/>
          </p:nvCxnSpPr>
          <p:spPr>
            <a:xfrm flipH="1" flipV="1" rot="5400000">
              <a:off x="6870600" y="479052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7" idx="0"/>
              <a:endCxn id="218" idx="3"/>
            </p:cNvCxnSpPr>
            <p:nvPr/>
          </p:nvCxnSpPr>
          <p:spPr>
            <a:xfrm flipH="1" flipV="1" rot="5400000">
              <a:off x="6495840" y="406836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6C9-F385-4E8E-9776-B98EC385CC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ll in the truth-table for a circuit that checks that a 4-bit number is divisible by 2, 3, or 5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rite down Boolean expressions for By2, By3, and By5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908-0F23-4EB8-B2C8-B5487B3628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28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00" y="1474920"/>
            <a:ext cx="891216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984-E283-4D0B-B061-C61D98DD0E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36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40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44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Boolean expressions to logic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X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+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265-424E-48C0-BB6D-B2CE4FC06D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8880" y="36957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34960" y="3511440"/>
            <a:ext cx="0" cy="10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6240" y="345924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00160" y="4759200"/>
            <a:ext cx="5461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03200" y="506412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6520" y="4861080"/>
            <a:ext cx="559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040" y="487368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3800" y="5305320"/>
            <a:ext cx="952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46880" y="4886280"/>
            <a:ext cx="83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21600" y="486108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04280" y="4759200"/>
            <a:ext cx="5461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766880" y="4664160"/>
            <a:ext cx="35568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22320" y="4702320"/>
            <a:ext cx="36828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21280" y="26100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5680" y="283212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4080" y="271764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4080" y="294624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2552760"/>
            <a:ext cx="5842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781360"/>
            <a:ext cx="5842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24560" y="2654280"/>
            <a:ext cx="571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461960" y="465120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04960" y="4638600"/>
            <a:ext cx="3938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79680" y="4638600"/>
            <a:ext cx="5716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14760" y="4987800"/>
            <a:ext cx="863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052520" y="4651200"/>
            <a:ext cx="343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530532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11840" y="5000760"/>
            <a:ext cx="762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720" y="5064120"/>
            <a:ext cx="150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10360" y="4638600"/>
            <a:ext cx="3403440" cy="685800"/>
            <a:chOff x="5310360" y="4638600"/>
            <a:chExt cx="3403440" cy="685800"/>
          </a:xfrm>
        </p:grpSpPr>
        <p:sp>
          <p:nvSpPr>
            <p:cNvPr id="114" name=""/>
            <p:cNvSpPr/>
            <p:nvPr/>
          </p:nvSpPr>
          <p:spPr>
            <a:xfrm>
              <a:off x="8078760" y="466380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10360" y="470196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61520" y="465120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02520" y="463860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9960" y="463860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05720" y="465120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sible logic functions of two variabl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re are 16 possible functions of 2 input variables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general, there are 2**(2**n) functions of n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715-C093-44A6-B8FC-D15D16202C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66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70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81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85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Boolean expressions to logic gat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XN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X = 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A4B-6FF8-4F3F-A843-947CCA28F5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423040" y="284472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52880" y="312408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27640" y="3098880"/>
            <a:ext cx="673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92880" y="281952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Boolean expressions to logic gat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re than one way to map expressions to gates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 Z = A’ • B’ • (C + D) = (A’ • (B’ • (C + D)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D1D-07B0-4363-8CF6-57D0CDEAEC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aveform view of logic fun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Just a sideways truth ta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note how edges don’t line up exact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takes time for a gate to switch its outpu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9F1-A46A-4CAB-9AED-65EC535AC4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18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22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ing different realizations of a fun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7F4-4A3F-4DCA-A0B2-BF8BEBA0D01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ich realization is best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duce number of in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: input variable (complemented or no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er literals means less transis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er inputs implies faster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n-ins (# of gate inputs) are limited in some techn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duce number of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er gates (and the packages they come in) means smaller circu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886-7BB1-414A-9829-25161DCB41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ich is the best realization? 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duce number of levels of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er level of gates implies reduced signal propagation de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delay configuration typically requires more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do we explore tradeoffs between increased circuit delay and size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mated tools to generate different solu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minimization: reduce number of gates and complex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optimization: reduction while trading off against del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546-9170-4829-B13A-DCA7110EE1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96720" y="4016520"/>
            <a:ext cx="8483760" cy="2273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all realizations equivalent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nder the same input stimuli, the three alternative implementations have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most the same waveform behavi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s are differ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itches (hazards) may ari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tions due to differences in number of gate levels and 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three implementations are functionally equival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4C6-2466-4A5F-968F-F5946E18FA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ing Boolean fun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echnology independ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level 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-level for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echnology choic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ages of a few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ular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-level programmable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-level programmable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B2F-86C4-48FB-95D4-B936ACE837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nonical for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uth table is the unique signature of a Boolean fun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ny alternative gate realizations may have the same truth ta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onical fo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forms for a Boolean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s a unique algebraic signa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5C1-998B-415A-93B1-DDA262CB02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47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m-of-products canonical for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so known as disjunctive normal for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so known as minterm expans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56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59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62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65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68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BCA-F80C-4B54-9B15-477520E9EC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st of different logic fun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fferent functions are easier or harder to implem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has a cost associated with the number of switches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(F0) and 1 (F15): require 0 switches, directly connect output to low/hig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(F3) and Y (F5): require 0 switches, output is one of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’ (F12) and Y’ (F10): require 2 switches for "inverter" or NOT-g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nor Y (F4) and X nand Y (F14): require 4 swit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or Y (F7) and X and Y (F1): require 6 swit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= Y (F9) and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 (F6): require 16 switc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s, because NOT, NOR, and NAND are the cheapest they are the functions we implement the most in pract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DB6-E763-46A3-A420-11C30D1A0C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23960" y="6045120"/>
            <a:ext cx="2628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416400" y="3594240"/>
            <a:ext cx="57657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098"/>
              </a:lnSpc>
              <a:tabLst>
                <a:tab algn="l" pos="0"/>
                <a:tab algn="l" pos="228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50720" y="2895480"/>
            <a:ext cx="2762280" cy="2527560"/>
            <a:chOff x="450720" y="2895480"/>
            <a:chExt cx="2762280" cy="2527560"/>
          </a:xfrm>
        </p:grpSpPr>
        <p:sp>
          <p:nvSpPr>
            <p:cNvPr id="473" name=""/>
            <p:cNvSpPr/>
            <p:nvPr/>
          </p:nvSpPr>
          <p:spPr>
            <a:xfrm>
              <a:off x="546120" y="2895480"/>
              <a:ext cx="266688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0720" y="317484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03240" y="2940120"/>
              <a:ext cx="0" cy="23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 flipV="1">
            <a:off x="2355840" y="536580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17920" y="3048120"/>
            <a:ext cx="55627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m-of-products canonical form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duct term (or minterm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ed product of literals – input combination for which output is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variable appears exactly once, in true or inverted form (but not bot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A0B-CF1E-451F-A717-9349E9514E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81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duct-of-sums canonical for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so known as conjunctive normal for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so known as maxterm expans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489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492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495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11E-29F8-4C5E-B027-0D5EE61BA8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87360" y="3086280"/>
            <a:ext cx="3308400" cy="2527200"/>
            <a:chOff x="387360" y="3086280"/>
            <a:chExt cx="3308400" cy="2527200"/>
          </a:xfrm>
        </p:grpSpPr>
        <p:sp>
          <p:nvSpPr>
            <p:cNvPr id="498" name=""/>
            <p:cNvSpPr/>
            <p:nvPr/>
          </p:nvSpPr>
          <p:spPr>
            <a:xfrm>
              <a:off x="387360" y="337824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76520" y="315612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3840" y="308628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96880" y="604512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08360" y="3149640"/>
            <a:ext cx="543564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266920" y="5505480"/>
            <a:ext cx="800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duct-of-sums canonical form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um term (or maxterm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ed sum of literals – input combination for which output is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variable appears exactly once, in true or inverted form (but not bot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850-930B-4869-B688-723D82B674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-o-P, P-o-S, and de Morgan’s theor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um-of-produc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pply de Morgan’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duct-of-su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pply de Morgan’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6C1-3659-4BBA-8527-C0BF51EBCE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 alternative two-level implemen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F = AB + 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755-8C5D-43DC-925E-EDB9B29BACA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aveforms for the four alternativ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aveforms are essentially identica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 for timing hazards (glitch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s almost identical (modeled as a delay per level, not type of gate or number of inputs to ga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256-796B-4241-AB58-C5BFE0D5FD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pping between canonical for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interm to maxterm convers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maxterms whose indices do not appear in minterm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1,3,5,6,7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0,2,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xterm to minterm convers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minterms whose indices do not appear in maxterm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0,2,4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1,3,5,6,7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interm expansion of F to minterm expansion of F’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minterms whose indices do not app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1,3,5,6,7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’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0,2,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xterm expansion of F to maxterm expansion of F’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maxterms whose indices do not app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0,2,4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’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1,3,5,6,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8E2-0FA7-4CA9-947C-2D3B1E6607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457200" y="29084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66920" y="267336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9640" y="2666880"/>
            <a:ext cx="35053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362320" y="2895480"/>
            <a:ext cx="4572000" cy="2210040"/>
            <a:chOff x="2362320" y="2895480"/>
            <a:chExt cx="4572000" cy="2210040"/>
          </a:xfrm>
        </p:grpSpPr>
        <p:sp>
          <p:nvSpPr>
            <p:cNvPr id="865" name=""/>
            <p:cNvSpPr/>
            <p:nvPr/>
          </p:nvSpPr>
          <p:spPr>
            <a:xfrm>
              <a:off x="2362320" y="487692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952880" y="312408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62320" y="289548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514600" y="327672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514600" y="327672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3962520" y="5073480"/>
            <a:ext cx="4565520" cy="1270080"/>
            <a:chOff x="3962520" y="5073480"/>
            <a:chExt cx="4565520" cy="1270080"/>
          </a:xfrm>
        </p:grpSpPr>
        <p:sp>
          <p:nvSpPr>
            <p:cNvPr id="871" name=""/>
            <p:cNvSpPr/>
            <p:nvPr/>
          </p:nvSpPr>
          <p:spPr>
            <a:xfrm>
              <a:off x="5340240" y="5181480"/>
              <a:ext cx="31878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962520" y="5581800"/>
              <a:ext cx="128268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62520" y="5073480"/>
              <a:ext cx="128268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completeley specified fun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binary coded decimal increment by 1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D digits encode the decimal digits 0 – 9 in the bit patterns 0000 – 10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0">
              <a:spcBef>
                <a:spcPts val="224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362320" y="4048200"/>
            <a:ext cx="5133960" cy="2352600"/>
            <a:chOff x="2362320" y="4048200"/>
            <a:chExt cx="5133960" cy="2352600"/>
          </a:xfrm>
        </p:grpSpPr>
        <p:sp>
          <p:nvSpPr>
            <p:cNvPr id="877" name=""/>
            <p:cNvSpPr/>
            <p:nvPr/>
          </p:nvSpPr>
          <p:spPr>
            <a:xfrm>
              <a:off x="2362320" y="510552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2514600" y="419112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876920" y="404820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362320" y="3581280"/>
            <a:ext cx="3764160" cy="1295640"/>
            <a:chOff x="2362320" y="3581280"/>
            <a:chExt cx="3764160" cy="1295640"/>
          </a:xfrm>
        </p:grpSpPr>
        <p:sp>
          <p:nvSpPr>
            <p:cNvPr id="881" name=""/>
            <p:cNvSpPr/>
            <p:nvPr/>
          </p:nvSpPr>
          <p:spPr>
            <a:xfrm>
              <a:off x="2362320" y="441972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514600" y="373392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860720" y="358128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C82-A6E0-46FD-AFA6-19E9DBC01B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tation for incompletely specified fun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on’t cares and canonical fo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far, only represented on-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so represent don’t-care-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two of the three sets (on-set, off-set, dc-se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onical representations of the BCD increment by 1 function: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m0 + m2 + m4 + m6 + m8 + d10 + d11 + d12 + d13 + d14 + d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[ m(0,2,4,6,8) + d(10,11,12,13,14,15) 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M1 • M3 • M5 • M7 • M9 • D10 • D11 • D12 • D13 • D14 • D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[ M(1,3,5,7,9) • D(10,11,12,13,14,15)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0">
              <a:spcBef>
                <a:spcPts val="224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C58-B6DC-4D19-ABA3-FF1980F25C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mplification of two-level combination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ding a minimal sum of products or product of sums realiz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gebraic simplific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uter-aided design tool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4160" indent="-3441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nd methods still releva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4840" indent="-2854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0F9-C419-4482-AEC7-FB1B447EC7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4883040" y="3327480"/>
            <a:ext cx="2063880" cy="939600"/>
            <a:chOff x="4883040" y="3327480"/>
            <a:chExt cx="2063880" cy="939600"/>
          </a:xfrm>
        </p:grpSpPr>
        <p:sp>
          <p:nvSpPr>
            <p:cNvPr id="125" name=""/>
            <p:cNvSpPr/>
            <p:nvPr/>
          </p:nvSpPr>
          <p:spPr>
            <a:xfrm>
              <a:off x="4883040" y="35557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3371760"/>
              <a:ext cx="0" cy="77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52880" y="3327480"/>
              <a:ext cx="199404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2574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 nand 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343240" y="3327480"/>
            <a:ext cx="1974600" cy="939600"/>
            <a:chOff x="2343240" y="3327480"/>
            <a:chExt cx="1974600" cy="939600"/>
          </a:xfrm>
        </p:grpSpPr>
        <p:sp>
          <p:nvSpPr>
            <p:cNvPr id="129" name=""/>
            <p:cNvSpPr/>
            <p:nvPr/>
          </p:nvSpPr>
          <p:spPr>
            <a:xfrm>
              <a:off x="2343240" y="3555720"/>
              <a:ext cx="186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51160" y="337176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13080" y="3327480"/>
              <a:ext cx="19047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193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 nor 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362320" y="502920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imal set of fun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 we implement all logic functions from NOT, NOR, and NAND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, implementing         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same as implementing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fact, we can do it with only NOR or only NAN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ut lets not move too fast . . .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EAB-C8B3-4630-B946-019EA32C81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889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895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01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uniting theor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Key tool to simplification: A (B’ + B) = A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ssence of simplification of two-level log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A96-7D75-4814-9F05-00E343D76D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"/>
          <p:cNvGrpSpPr/>
          <p:nvPr/>
        </p:nvGrpSpPr>
        <p:grpSpPr>
          <a:xfrm>
            <a:off x="6019920" y="1600200"/>
            <a:ext cx="2469600" cy="2273040"/>
            <a:chOff x="6019920" y="1600200"/>
            <a:chExt cx="2469600" cy="2273040"/>
          </a:xfrm>
        </p:grpSpPr>
        <p:sp>
          <p:nvSpPr>
            <p:cNvPr id="910" name=""/>
            <p:cNvSpPr/>
            <p:nvPr/>
          </p:nvSpPr>
          <p:spPr>
            <a:xfrm>
              <a:off x="668628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8628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8016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90984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0300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90948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90264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58476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58476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68628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8628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8016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0984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90300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90948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0264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94728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4080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2324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0380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53120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2472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7700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3156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2508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8628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8628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68016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90948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90264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0984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0300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8476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2132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991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9584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49584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9584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2296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2296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2296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22296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22908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9740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2908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9740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2908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9740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9584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9584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0080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0080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0080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40692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8784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0692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8784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2132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9916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49304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32132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49916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9304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2464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49584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9584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3252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3252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3252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3864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1992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3864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1992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950080" y="4343400"/>
            <a:ext cx="2539800" cy="2273040"/>
            <a:chOff x="5950080" y="4343400"/>
            <a:chExt cx="2539800" cy="2273040"/>
          </a:xfrm>
        </p:grpSpPr>
        <p:sp>
          <p:nvSpPr>
            <p:cNvPr id="984" name=""/>
            <p:cNvSpPr/>
            <p:nvPr/>
          </p:nvSpPr>
          <p:spPr>
            <a:xfrm>
              <a:off x="652140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7528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1380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52176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7368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67368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52176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7564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01344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2140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7368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3552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657180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6880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5008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0732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1344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1528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50916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51492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50880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3552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657180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58440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67700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7700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7052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1172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89264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1208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89300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49916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30872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49304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9916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30872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48324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8324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38784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38784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8784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39432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37524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39432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37524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48324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48324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8324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21000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21000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1000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1000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1648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18480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1648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18480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1648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8480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8324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8324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1956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1956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1956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2604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0696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02604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0696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0872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49916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49304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32464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7216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s of two-leve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um-of-produc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gates to form product terms (minterm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gate to form su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duct-of-su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gates to form sum terms (maxterm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gates to form produ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774-AE02-4E47-A65D-D341AA9F08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059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5194440" y="1828440"/>
            <a:ext cx="3079440" cy="3606840"/>
            <a:chOff x="5194440" y="1828440"/>
            <a:chExt cx="3079440" cy="3606840"/>
          </a:xfrm>
        </p:grpSpPr>
        <p:grpSp>
          <p:nvGrpSpPr>
            <p:cNvPr id="1133" name=""/>
            <p:cNvGrpSpPr/>
            <p:nvPr/>
          </p:nvGrpSpPr>
          <p:grpSpPr>
            <a:xfrm>
              <a:off x="5194440" y="2717640"/>
              <a:ext cx="3079440" cy="2717640"/>
              <a:chOff x="5194440" y="2717640"/>
              <a:chExt cx="3079440" cy="2717640"/>
            </a:xfrm>
          </p:grpSpPr>
          <p:sp>
            <p:nvSpPr>
              <p:cNvPr id="1134" name=""/>
              <p:cNvSpPr/>
              <p:nvPr/>
            </p:nvSpPr>
            <p:spPr>
              <a:xfrm>
                <a:off x="5987880" y="299052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987880" y="35240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981760" y="2997000"/>
                <a:ext cx="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86680" y="3017520"/>
                <a:ext cx="469440" cy="52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67600" y="2998440"/>
                <a:ext cx="507600" cy="5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286320" y="2990160"/>
                <a:ext cx="46980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267240" y="2984400"/>
                <a:ext cx="507960" cy="54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794640" y="3231720"/>
                <a:ext cx="5076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775560" y="3225600"/>
                <a:ext cx="88920" cy="88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73760" y="3441240"/>
                <a:ext cx="88920" cy="88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73760" y="3225600"/>
                <a:ext cx="88920" cy="88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987880" y="440028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987880" y="386676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5981760" y="3860280"/>
                <a:ext cx="0" cy="54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286320" y="3866400"/>
                <a:ext cx="46980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267240" y="3860640"/>
                <a:ext cx="507960" cy="5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86680" y="3893760"/>
                <a:ext cx="469440" cy="52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267600" y="3874680"/>
                <a:ext cx="507600" cy="5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794640" y="4108320"/>
                <a:ext cx="507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775560" y="4101840"/>
                <a:ext cx="889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73760" y="3987360"/>
                <a:ext cx="88920" cy="88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987880" y="527652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987880" y="474300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5981760" y="4736520"/>
                <a:ext cx="0" cy="54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286320" y="4743360"/>
                <a:ext cx="469800" cy="52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267240" y="4724280"/>
                <a:ext cx="507960" cy="55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286680" y="4770000"/>
                <a:ext cx="46944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267600" y="4750920"/>
                <a:ext cx="507600" cy="5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794640" y="4984560"/>
                <a:ext cx="507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775560" y="4965480"/>
                <a:ext cx="88920" cy="88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413400" y="3891960"/>
                <a:ext cx="162540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407280" y="3872880"/>
                <a:ext cx="163764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502320" y="3919320"/>
                <a:ext cx="1536480" cy="4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496200" y="3900240"/>
                <a:ext cx="1548720" cy="50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125120" y="3919320"/>
                <a:ext cx="202320" cy="4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106040" y="3900240"/>
                <a:ext cx="240480" cy="50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124760" y="3930120"/>
                <a:ext cx="2026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105680" y="3924000"/>
                <a:ext cx="2408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194600" y="387324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257960" y="4101840"/>
                <a:ext cx="889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7181640" y="4133520"/>
                <a:ext cx="5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7206840" y="4349520"/>
                <a:ext cx="5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080120" y="413352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864480" y="413352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72240" y="489564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72240" y="424800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772240" y="325728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35640" y="490176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35640" y="4254120"/>
                <a:ext cx="0" cy="63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435640" y="3263760"/>
                <a:ext cx="0" cy="9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435640" y="27176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41760" y="325728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10080" y="3231720"/>
                <a:ext cx="5076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441760" y="424800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10080" y="4222440"/>
                <a:ext cx="50760" cy="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441760" y="489564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10080" y="4883040"/>
                <a:ext cx="50760" cy="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72240" y="511164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72240" y="347328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651640" y="5117760"/>
                <a:ext cx="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51640" y="3479400"/>
                <a:ext cx="0" cy="162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51640" y="2717640"/>
                <a:ext cx="0" cy="74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657760" y="3473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626080" y="3460320"/>
                <a:ext cx="6336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657760" y="5111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626080" y="5098680"/>
                <a:ext cx="63360" cy="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080120" y="391752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864480" y="325728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074000" y="3263760"/>
                <a:ext cx="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080120" y="434952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864480" y="500976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74000" y="4355640"/>
                <a:ext cx="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772240" y="401940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772240" y="304128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207040" y="4025520"/>
                <a:ext cx="0" cy="140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207040" y="3047760"/>
                <a:ext cx="0" cy="9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207040" y="2717640"/>
                <a:ext cx="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213160" y="3041280"/>
                <a:ext cx="54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194440" y="3016080"/>
                <a:ext cx="5076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213160" y="4019400"/>
                <a:ext cx="54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194440" y="4006440"/>
                <a:ext cx="50760" cy="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070840" y="413352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194600" y="430488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080120" y="434952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 flipV="1">
              <a:off x="6400800" y="182844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5638320" y="1828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5880" y="22096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7238880" y="2209320"/>
              <a:ext cx="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o-level logic using NAND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place minterm AND gates with NAND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lace compensating inversion at inputs of OR g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8D3-5F2E-4996-9581-924BA376D5B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"/>
          <p:cNvGrpSpPr/>
          <p:nvPr/>
        </p:nvGrpSpPr>
        <p:grpSpPr>
          <a:xfrm>
            <a:off x="527040" y="3714840"/>
            <a:ext cx="2470320" cy="2273040"/>
            <a:chOff x="527040" y="3714840"/>
            <a:chExt cx="2470320" cy="2273040"/>
          </a:xfrm>
        </p:grpSpPr>
        <p:sp>
          <p:nvSpPr>
            <p:cNvPr id="1225" name=""/>
            <p:cNvSpPr/>
            <p:nvPr/>
          </p:nvSpPr>
          <p:spPr>
            <a:xfrm>
              <a:off x="1193760" y="3936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193760" y="4394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187640" y="39434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416960" y="396396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410120" y="39448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416600" y="39366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09760" y="39434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092240" y="43243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092240" y="41464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193760" y="54100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93760" y="5854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187640" y="541656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416960" y="543708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410120" y="54180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416600" y="541044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409760" y="539100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454400" y="472608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447920" y="470700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30360" y="469872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23880" y="467964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38320" y="469872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031840" y="467964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197080" y="4902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38680" y="472608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32200" y="470700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93760" y="51181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193760" y="4673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1187640" y="4667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416600" y="467316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409760" y="46670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416960" y="47005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410120" y="46814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92240" y="47815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828800" y="49021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00664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015920" y="41655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015920" y="49910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015920" y="5537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440" y="55436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0440" y="4997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0440" y="41720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30440" y="37148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36560" y="4165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4880" y="41400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6560" y="49910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4880" y="49784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6560" y="5537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4880" y="5524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01592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01592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908280" y="57214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908280" y="434988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908280" y="371484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14400" y="4343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82720" y="433080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14400" y="5715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2720" y="571500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82880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006640" y="4724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000520" y="41720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5638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00664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000520" y="5086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015920" y="3987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15920" y="48006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0000" y="480708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40000" y="3994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40000" y="3714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46120" y="3987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27040" y="3962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6120" y="4800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" y="4788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832120" y="49021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3270240" y="3714840"/>
            <a:ext cx="2571840" cy="2273040"/>
            <a:chOff x="3270240" y="3714840"/>
            <a:chExt cx="2571840" cy="2273040"/>
          </a:xfrm>
        </p:grpSpPr>
        <p:sp>
          <p:nvSpPr>
            <p:cNvPr id="1299" name=""/>
            <p:cNvSpPr/>
            <p:nvPr/>
          </p:nvSpPr>
          <p:spPr>
            <a:xfrm>
              <a:off x="3936960" y="3936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36960" y="4394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930840" y="39434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85000" y="396396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65920" y="39448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84640" y="39366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65560" y="394344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603680" y="414000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597560" y="41464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35440" y="43243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35440" y="41464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936960" y="51181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936960" y="4673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3930840" y="4667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184640" y="467316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65560" y="466704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85000" y="47005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65920" y="46814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603680" y="487692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97560" y="487044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35440" y="47815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36960" y="5854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36960" y="54100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3930840" y="54039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84640" y="541044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65560" y="539100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85000" y="543708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65920" y="541800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03680" y="561348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97560" y="559440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286520" y="469872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280040" y="467964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363200" y="472608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356720" y="470700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884120" y="472608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864680" y="47070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883760" y="472464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864320" y="4730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940280" y="46800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991040" y="487044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4927320" y="49021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4952880" y="5079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85136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673520" y="49021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759120" y="5537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59120" y="49910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59120" y="41655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473640" y="55436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473640" y="4997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473640" y="41720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473640" y="37148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479760" y="4165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8080" y="41400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479760" y="49910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48080" y="49784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479760" y="5537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448080" y="5524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5912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75912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651480" y="57214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651480" y="434988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51480" y="371484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57600" y="4343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625920" y="433080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57600" y="5715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625920" y="571500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851360" y="4724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67352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845240" y="41720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85136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673520" y="5638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45240" y="5086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759120" y="48006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759120" y="3987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283200" y="480708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83200" y="3994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283200" y="3714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289320" y="3987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270240" y="3962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289320" y="4800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270240" y="4788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676840" y="49021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940280" y="504828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85136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013440" y="3714840"/>
            <a:ext cx="2673360" cy="2273040"/>
            <a:chOff x="6013440" y="3714840"/>
            <a:chExt cx="2673360" cy="2273040"/>
          </a:xfrm>
        </p:grpSpPr>
        <p:sp>
          <p:nvSpPr>
            <p:cNvPr id="1384" name=""/>
            <p:cNvSpPr/>
            <p:nvPr/>
          </p:nvSpPr>
          <p:spPr>
            <a:xfrm>
              <a:off x="6680160" y="3949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80160" y="4381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74040" y="3956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28560" y="39639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22080" y="39574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28200" y="39495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21720" y="39304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359840" y="41400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340760" y="41338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59124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591240" y="41338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80160" y="51181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80160" y="4673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6674040" y="4667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28200" y="46735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21720" y="46670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28560" y="47005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22080" y="46814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59840" y="487692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40760" y="487044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591240" y="47689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80160" y="58420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80160" y="54100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6674040" y="540396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28200" y="541008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21720" y="539100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28560" y="542448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22080" y="54180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359840" y="560052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340760" y="559440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85360" y="467352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785360" y="511812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778880" y="46800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033040" y="47005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014320" y="46814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032680" y="467352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013960" y="46670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452080" y="48769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433000" y="487044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9456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16720" y="4889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02320" y="5537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02320" y="49910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02320" y="4165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216840" y="55436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216840" y="4997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216840" y="41720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216840" y="37148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22960" y="4165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03880" y="41400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222960" y="49910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203880" y="49658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222960" y="5537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203880" y="55116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0232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50232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407280" y="57214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407280" y="434988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407280" y="371484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413760" y="4343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381720" y="43308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413760" y="5715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81720" y="57024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94560" y="47116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41672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588440" y="41720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945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416720" y="56260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588440" y="5086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502320" y="4800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502320" y="3987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039000" y="480708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39000" y="3994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039000" y="3714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45120" y="39877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13440" y="3962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045120" y="48006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13440" y="4788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50896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5549760" y="182880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8058240" y="1847880"/>
            <a:ext cx="0" cy="271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o-level logic using NAND gat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 gate with inverted inputs is a NAND g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Morgan’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’ + B’ = (A • B)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wo-level NAND-NAND network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rted inputs are not cou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a typical circuit, inversion is done once and signal distrib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BBF-40EE-4EB5-84FF-8B2B1E7B85C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7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468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555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7" name=""/>
          <p:cNvSpPr/>
          <p:nvPr/>
        </p:nvSpPr>
        <p:spPr>
          <a:xfrm flipV="1">
            <a:off x="6477120" y="182844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5410080" y="1828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086600" y="22096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o-level logic using NOR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place maxterm OR gates with NOR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lace compensating inversion at inputs of AND g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B98-8F63-4BC4-B7BD-D3568D036E3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634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6" name=""/>
          <p:cNvSpPr/>
          <p:nvPr/>
        </p:nvSpPr>
        <p:spPr>
          <a:xfrm flipV="1">
            <a:off x="8312040" y="1828440"/>
            <a:ext cx="0" cy="287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5663880" y="1835280"/>
            <a:ext cx="265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709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1798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o-level logic using NOR gat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 gate with inverted inputs is a NOR gat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Morgan’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’ • B’ = (A + B)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wo-level NOR-NOR network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rted inputs are not cou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a typical circuit, inversion is done once and signal distribu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1F8-34A2-48CA-B72A-2A290372BC0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/>
          <p:nvPr/>
        </p:nvSpPr>
        <p:spPr>
          <a:xfrm>
            <a:off x="3365640" y="477504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65640" y="529596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352680" y="478800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594240" y="4776840"/>
            <a:ext cx="431280" cy="54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593880" y="4762440"/>
            <a:ext cx="43164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025880" y="49910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263760" y="4889520"/>
            <a:ext cx="637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263760" y="5105520"/>
            <a:ext cx="637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940320" y="4827600"/>
            <a:ext cx="20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43440" y="4827600"/>
            <a:ext cx="139608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19400" y="4800600"/>
            <a:ext cx="132012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939960" y="4800600"/>
            <a:ext cx="20268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104840" y="49528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104840" y="51688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086280" y="492768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914400" y="4952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086280" y="514368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914400" y="5168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114800" y="50418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752480" y="50673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82400" y="5740560"/>
            <a:ext cx="12826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82760" y="5754600"/>
            <a:ext cx="1282320" cy="49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054080" y="5754600"/>
            <a:ext cx="1267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091880" y="5753160"/>
            <a:ext cx="889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092240" y="584208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092240" y="6058080"/>
            <a:ext cx="76320" cy="8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365640" y="57150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365640" y="622296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352680" y="572760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594240" y="5716440"/>
            <a:ext cx="431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593880" y="5689440"/>
            <a:ext cx="43164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025880" y="593100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778040" y="5994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187800" y="5854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927000" y="58802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187800" y="6070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27000" y="6095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114800" y="59691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219320" y="4915080"/>
            <a:ext cx="698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56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181160" y="5842080"/>
            <a:ext cx="939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146320" y="504180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197080" y="598176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390840" y="5816520"/>
            <a:ext cx="939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479760" y="4889520"/>
            <a:ext cx="698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565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448240" y="478800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44824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5435640" y="47746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651640" y="4789440"/>
            <a:ext cx="40608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651280" y="4762440"/>
            <a:ext cx="40644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985440" y="4749840"/>
            <a:ext cx="123120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985440" y="4776840"/>
            <a:ext cx="123120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544160" y="4776840"/>
            <a:ext cx="1137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569000" y="4775040"/>
            <a:ext cx="889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8229600" y="4978440"/>
            <a:ext cx="633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569360" y="486396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569360" y="509256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473800" y="571500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473800" y="624852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460840" y="572760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677560" y="5716440"/>
            <a:ext cx="405360" cy="55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677200" y="5689800"/>
            <a:ext cx="40572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372280" y="5829480"/>
            <a:ext cx="633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372280" y="6045120"/>
            <a:ext cx="633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921360" y="5676480"/>
            <a:ext cx="1244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21720" y="5703840"/>
            <a:ext cx="124416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480800" y="5703840"/>
            <a:ext cx="12600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518600" y="5702040"/>
            <a:ext cx="8820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543800" y="584208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543800" y="607068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8166240" y="5905440"/>
            <a:ext cx="633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083280" y="5054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8305920" y="50292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108840" y="5981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365960" y="5842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404120" y="4915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20704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270400" y="4940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365960" y="6070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404120" y="5130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207040" y="6095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270400" y="5168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8267760" y="59562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683480" y="4876920"/>
            <a:ext cx="9270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511960" y="5829480"/>
            <a:ext cx="939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489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413400" y="505476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6464160" y="599436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632720" y="5791320"/>
            <a:ext cx="939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489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511960" y="4902120"/>
            <a:ext cx="92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o-level logic using NAND and NOR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AND-NAND and NOR-NOR network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Morgan’s law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+ B)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A’ • B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• B)’  =   A’ + B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ten differentl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 + 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• B’)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• B)   =  (A’ + B’)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other words ––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is the same as NAND with complemented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is the same as NOR with complemented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ND is the same as OR with complemented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 is the same as AND with complemented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F66-2081-4BB2-AC02-5B823424401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0" name=""/>
          <p:cNvGrpSpPr/>
          <p:nvPr/>
        </p:nvGrpSpPr>
        <p:grpSpPr>
          <a:xfrm>
            <a:off x="838080" y="4470480"/>
            <a:ext cx="3340080" cy="1625400"/>
            <a:chOff x="838080" y="4470480"/>
            <a:chExt cx="3340080" cy="1625400"/>
          </a:xfrm>
        </p:grpSpPr>
        <p:sp>
          <p:nvSpPr>
            <p:cNvPr id="1981" name=""/>
            <p:cNvSpPr/>
            <p:nvPr/>
          </p:nvSpPr>
          <p:spPr>
            <a:xfrm>
              <a:off x="1562040" y="46101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562040" y="51181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1549440" y="4597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803960" y="461160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803600" y="461160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803600" y="459720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803240" y="458424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562040" y="54608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562040" y="59691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1549440" y="54482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803960" y="546264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803600" y="546264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803600" y="544860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803240" y="543564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807280" y="505620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159280" y="505620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247840" y="502884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6920" y="502884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84400" y="5181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984400" y="5397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781360" y="5181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273400" y="486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476440" y="4863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768760" y="48769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781360" y="539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273400" y="571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476440" y="5715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768760" y="54100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359000" y="4749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054080" y="4749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359000" y="4965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054080" y="496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359000" y="560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054080" y="560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359000" y="5816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54080" y="5816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695760" y="528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898800" y="528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38080" y="447048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63640" y="490212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63640" y="534672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63640" y="574056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4317840" y="4470480"/>
            <a:ext cx="4292640" cy="1625400"/>
            <a:chOff x="4317840" y="4470480"/>
            <a:chExt cx="4292640" cy="1625400"/>
          </a:xfrm>
        </p:grpSpPr>
        <p:sp>
          <p:nvSpPr>
            <p:cNvPr id="2024" name=""/>
            <p:cNvSpPr/>
            <p:nvPr/>
          </p:nvSpPr>
          <p:spPr>
            <a:xfrm>
              <a:off x="5626080" y="46101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626080" y="51181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613480" y="462276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880600" y="461160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880600" y="461160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880240" y="459720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880240" y="458424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350040" y="482616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337440" y="48132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26080" y="54608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626080" y="59691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613480" y="54738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880600" y="546264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880600" y="546264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880240" y="544860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880240" y="543564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50040" y="56768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337440" y="566424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75240" y="504180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362280" y="502884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375600" y="505620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362640" y="505620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997680" y="505620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997680" y="505620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035480" y="505440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035480" y="505476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035840" y="51436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035840" y="5130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035840" y="535932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035840" y="534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423040" y="4749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18120" y="4749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423040" y="4965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118120" y="496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423040" y="560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118120" y="560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5816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118120" y="5816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438960" y="486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845400" y="5181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642000" y="486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832440" y="48769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438960" y="571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845400" y="539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642000" y="571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832440" y="54100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759800" y="528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962840" y="528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317840" y="511812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876920" y="447048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902120" y="490212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902120" y="534672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902120" y="574056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356680" y="511812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651640" y="47116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651640" y="557532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112160" y="51436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version between for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vert from networks of ANDs and ORs to networks of NANDs and NO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ce appropriate inversions ("bubbles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ach introduced "bubble" must be matched by a corresponding "bubble"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ervation of inver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not alter logic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AND/OR to NAND/NAN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083" name=""/>
          <p:cNvGrpSpPr/>
          <p:nvPr/>
        </p:nvGrpSpPr>
        <p:grpSpPr>
          <a:xfrm>
            <a:off x="6324480" y="3492360"/>
            <a:ext cx="2210040" cy="1613160"/>
            <a:chOff x="6324480" y="3492360"/>
            <a:chExt cx="2210040" cy="1613160"/>
          </a:xfrm>
        </p:grpSpPr>
        <p:sp>
          <p:nvSpPr>
            <p:cNvPr id="2084" name=""/>
            <p:cNvSpPr/>
            <p:nvPr/>
          </p:nvSpPr>
          <p:spPr>
            <a:xfrm>
              <a:off x="7080120" y="3600360"/>
              <a:ext cx="2793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7080120" y="3790440"/>
              <a:ext cx="27936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067520" y="36003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372440" y="37656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994520" y="3600360"/>
              <a:ext cx="2793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7994520" y="3790440"/>
              <a:ext cx="27936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981920" y="36003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880400" y="376560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880400" y="376560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877080" y="380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86560" y="380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689960" y="380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299440" y="380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43880" y="3492360"/>
              <a:ext cx="1790640" cy="62244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6324480" y="411444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7086600" y="4114800"/>
              <a:ext cx="14479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11D-07B5-4962-AE57-C5F9745E87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version between form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verify equivalence of two fo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104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148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919-6144-4EA6-887F-026508480C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211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276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version between form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map AND/OR network to NOR/NOR network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361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20F-C1B0-4108-B3B6-6BCC53EDD79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 algebraic struc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292480"/>
                <a:tab algn="l" pos="52624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 algebraic structure consists of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2292480"/>
                <a:tab algn="l" pos="52624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et of element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2292480"/>
                <a:tab algn="l" pos="52624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nary operations { + , •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2292480"/>
                <a:tab algn="l" pos="52624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a unary operation { ’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2292480"/>
                <a:tab algn="l" pos="52624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h that the following axioms hol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2292480"/>
                <a:tab algn="l" pos="52624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the set B contains at least two elemen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closur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   is in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   is in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commutativity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 = b + 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 = b •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associativity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(b + c) = (a + b) + 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(b • c) = (a • b) •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identity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0 = 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1 =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distributivity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(b • c) = (a + b) • (a +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(b + c) = (a • b) + (a •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complementarity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a’ = 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a’ = 0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DF2-1CB3-4F1D-B3FE-33DF51977F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version between form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verify equivalence of two fo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408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452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654-EB40-4F27-88D3-7A2D340E12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"/>
          <p:cNvSpPr/>
          <p:nvPr/>
        </p:nvSpPr>
        <p:spPr>
          <a:xfrm>
            <a:off x="1803600" y="478944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790640" y="478944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879560" y="477504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866960" y="4762800"/>
            <a:ext cx="13204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400120" y="477504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2387160" y="4762800"/>
            <a:ext cx="2034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2565360" y="5003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400480" y="478944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87520" y="4789440"/>
            <a:ext cx="2030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2413080" y="537372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816200" y="537372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892160" y="5346360"/>
            <a:ext cx="13078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12720" y="5346360"/>
            <a:ext cx="19044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565360" y="54864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565360" y="56894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343400" y="496584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343400" y="5435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330800" y="4978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559400" y="4967280"/>
            <a:ext cx="4060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546800" y="496728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559040" y="4952880"/>
            <a:ext cx="4064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546440" y="4939920"/>
            <a:ext cx="431640" cy="48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664600" y="5081760"/>
            <a:ext cx="2023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067720" y="5081760"/>
            <a:ext cx="13960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143680" y="505476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664240" y="505476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829480" y="51944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829480" y="5397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152960" y="500364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225960" y="5003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403440" y="50036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225960" y="5587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152960" y="519444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403440" y="5587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581280" y="5207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594240" y="519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651640" y="51944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991040" y="5194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181480" y="5194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6489720" y="52959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578640" y="52959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387520" y="4800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197080" y="4800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387520" y="50036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197080" y="5003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387520" y="51944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197080" y="5194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387520" y="5486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197080" y="54864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387520" y="56894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197080" y="5689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152960" y="539748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197080" y="5981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387520" y="598176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4140360" y="54100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5651640" y="5397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2197080" y="61722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387520" y="617220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638680" y="54100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930320" y="4686480"/>
            <a:ext cx="33012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807240" y="515628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-leve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x = A D F  +  A E F  +  B D F  +  B E F  +  C D F  +  C E F  +  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d sum-of-products form – already simpl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 x 3-input AND gates + 1 x 7-input OR gate (that may not even exist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 wires (19 literals plus 6 internal wir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x = (A + B + C) (D + E) F  +  G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tored form – not written as two-level S-o-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x 3-input OR gate, 2 x 2-input OR gates, 1 x 3-input AND g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 wires (7 literals plus 3 internal wir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A55-AE84-4064-8C6A-9010E87E3E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580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586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7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588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9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660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1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662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0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2751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2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2753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version of multi-level logic to NAND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 = A (B + C D) + B C’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8BE-BD71-45AA-8AC9-AF6014FCBCB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2839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2845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2846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7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2919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0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2921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1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052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3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054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version of multi-level logic to N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 = A (B + C D) + B C’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0">
              <a:spcBef>
                <a:spcPts val="788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EC0-8C62-40C0-9532-98DF3767DF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0" name=""/>
          <p:cNvGrpSpPr/>
          <p:nvPr/>
        </p:nvGrpSpPr>
        <p:grpSpPr>
          <a:xfrm>
            <a:off x="495360" y="2501640"/>
            <a:ext cx="3962520" cy="1508400"/>
            <a:chOff x="495360" y="2501640"/>
            <a:chExt cx="3962520" cy="1508400"/>
          </a:xfrm>
        </p:grpSpPr>
        <p:sp>
          <p:nvSpPr>
            <p:cNvPr id="3171" name=""/>
            <p:cNvSpPr/>
            <p:nvPr/>
          </p:nvSpPr>
          <p:spPr>
            <a:xfrm>
              <a:off x="2470320" y="252108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470320" y="2930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2463840" y="251424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673720" y="2529000"/>
              <a:ext cx="39312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673360" y="2501640"/>
              <a:ext cx="3934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542960" y="2863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54296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1536840" y="2857680"/>
              <a:ext cx="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747080" y="2871720"/>
              <a:ext cx="39240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746720" y="2857680"/>
              <a:ext cx="392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711880" y="2886120"/>
              <a:ext cx="126936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774880" y="2870640"/>
              <a:ext cx="1206360" cy="40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257280" y="2870640"/>
              <a:ext cx="190440" cy="40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409920" y="3075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257640" y="2886120"/>
              <a:ext cx="1900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232080" y="290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067200" y="2719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3225960" y="2725560"/>
              <a:ext cx="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994200" y="30751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305080" y="2639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378080" y="2639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181160" y="2548080"/>
              <a:ext cx="2538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232080" y="30751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139840" y="30751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292480" y="3054240"/>
              <a:ext cx="37800" cy="39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305080" y="2811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305080" y="30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298600" y="2817720"/>
              <a:ext cx="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197080" y="315432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378080" y="29829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181160" y="290340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378080" y="3154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181160" y="307512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232080" y="3246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225960" y="3252960"/>
              <a:ext cx="0" cy="15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378080" y="3417840"/>
              <a:ext cx="184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181160" y="333864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178160" y="2955960"/>
              <a:ext cx="279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95360" y="2692440"/>
              <a:ext cx="482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295280" y="3549600"/>
              <a:ext cx="1828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1" name=""/>
          <p:cNvGrpSpPr/>
          <p:nvPr/>
        </p:nvGrpSpPr>
        <p:grpSpPr>
          <a:xfrm>
            <a:off x="4826160" y="2501640"/>
            <a:ext cx="3936960" cy="1495800"/>
            <a:chOff x="4826160" y="2501640"/>
            <a:chExt cx="3936960" cy="1495800"/>
          </a:xfrm>
        </p:grpSpPr>
        <p:sp>
          <p:nvSpPr>
            <p:cNvPr id="3212" name=""/>
            <p:cNvSpPr/>
            <p:nvPr/>
          </p:nvSpPr>
          <p:spPr>
            <a:xfrm>
              <a:off x="6114960" y="39974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114960" y="2521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114960" y="2930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V="1">
              <a:off x="6108840" y="251424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319080" y="2529000"/>
              <a:ext cx="39240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318720" y="2501640"/>
              <a:ext cx="39276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175360" y="28638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175360" y="3286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5168880" y="2857680"/>
              <a:ext cx="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378760" y="2871720"/>
              <a:ext cx="39312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378400" y="2857680"/>
              <a:ext cx="39348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6344280" y="2886120"/>
              <a:ext cx="12816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420240" y="2870640"/>
              <a:ext cx="1205640" cy="40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890040" y="2870640"/>
              <a:ext cx="189720" cy="40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042320" y="3075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890400" y="2886120"/>
              <a:ext cx="1893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937120" y="2639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010120" y="2639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826160" y="2548080"/>
              <a:ext cx="2538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877080" y="3075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772240" y="3075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924520" y="3054240"/>
              <a:ext cx="38160" cy="39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5937120" y="2811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937120" y="3075120"/>
              <a:ext cx="9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931000" y="2817720"/>
              <a:ext cx="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842080" y="315432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877080" y="2903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6699240" y="2719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6870600" y="2725560"/>
              <a:ext cx="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010120" y="29829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826160" y="290340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010120" y="3154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826160" y="307512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6877080" y="3246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870600" y="3252960"/>
              <a:ext cx="0" cy="15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010120" y="3417840"/>
              <a:ext cx="185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826160" y="333864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639200" y="3075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6940440" y="2870280"/>
              <a:ext cx="7632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6991200" y="3041640"/>
              <a:ext cx="763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6940440" y="3213000"/>
              <a:ext cx="763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6851520" y="2870280"/>
              <a:ext cx="7632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902280" y="3041640"/>
              <a:ext cx="763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6851520" y="3213000"/>
              <a:ext cx="763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848720" y="2955960"/>
              <a:ext cx="279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267760" y="2692440"/>
              <a:ext cx="4953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902120" y="3510000"/>
              <a:ext cx="34164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 double bubbles at inpu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457200" y="4161960"/>
            <a:ext cx="4229280" cy="2010240"/>
            <a:chOff x="457200" y="4161960"/>
            <a:chExt cx="4229280" cy="2010240"/>
          </a:xfrm>
        </p:grpSpPr>
        <p:sp>
          <p:nvSpPr>
            <p:cNvPr id="3260" name=""/>
            <p:cNvSpPr/>
            <p:nvPr/>
          </p:nvSpPr>
          <p:spPr>
            <a:xfrm>
              <a:off x="3054600" y="4559400"/>
              <a:ext cx="12060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562560" y="4572000"/>
              <a:ext cx="19008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054240" y="4519800"/>
              <a:ext cx="120636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562200" y="4545360"/>
              <a:ext cx="1904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664080" y="4689360"/>
              <a:ext cx="633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575160" y="4518000"/>
              <a:ext cx="759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575160" y="4873680"/>
              <a:ext cx="75960" cy="6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558880" y="4168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558880" y="45766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552760" y="417528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75240" y="4176720"/>
              <a:ext cx="39312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774880" y="4161960"/>
              <a:ext cx="393480" cy="43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168720" y="4346640"/>
              <a:ext cx="7596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542960" y="4511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542960" y="4933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536840" y="4518000"/>
              <a:ext cx="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759320" y="4519440"/>
              <a:ext cx="393120" cy="43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1758960" y="4505400"/>
              <a:ext cx="39348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152800" y="4689360"/>
              <a:ext cx="7596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248000" y="472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409920" y="4551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232080" y="4379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3403440" y="438624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3409920" y="48942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3403440" y="490068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1378080" y="5065560"/>
              <a:ext cx="20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1104840" y="4986360"/>
              <a:ext cx="3175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394000" y="42879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378080" y="42879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1181160" y="4195800"/>
              <a:ext cx="2538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394000" y="44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486240" y="4722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216160" y="472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368440" y="4716360"/>
              <a:ext cx="381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387520" y="4465800"/>
              <a:ext cx="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394000" y="472284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286000" y="4815000"/>
              <a:ext cx="3175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378080" y="4630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181160" y="455148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378080" y="4815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181160" y="472284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286000" y="4444920"/>
              <a:ext cx="203040" cy="19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 flipH="1">
              <a:off x="2234880" y="4444920"/>
              <a:ext cx="304920" cy="19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4406760" y="4591080"/>
              <a:ext cx="279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457200" y="4498920"/>
              <a:ext cx="4827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257480" y="5513400"/>
              <a:ext cx="22096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istribute 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me mismat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4660920" y="3978720"/>
            <a:ext cx="4140360" cy="2074320"/>
            <a:chOff x="4660920" y="3978720"/>
            <a:chExt cx="4140360" cy="2074320"/>
          </a:xfrm>
        </p:grpSpPr>
        <p:sp>
          <p:nvSpPr>
            <p:cNvPr id="3307" name=""/>
            <p:cNvSpPr/>
            <p:nvPr/>
          </p:nvSpPr>
          <p:spPr>
            <a:xfrm flipV="1">
              <a:off x="5772240" y="4544640"/>
              <a:ext cx="15228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H="1" flipV="1">
              <a:off x="5924160" y="4544640"/>
              <a:ext cx="19044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772240" y="48150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911920" y="4491000"/>
              <a:ext cx="63360" cy="6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598440" y="4822920"/>
              <a:ext cx="120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106400" y="4835520"/>
              <a:ext cx="18936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6598080" y="4783320"/>
              <a:ext cx="12056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106040" y="47955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207200" y="4952880"/>
              <a:ext cx="763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130880" y="4781520"/>
              <a:ext cx="637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130880" y="5124600"/>
              <a:ext cx="63720" cy="7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114960" y="440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108840" y="400356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6331320" y="4005360"/>
              <a:ext cx="39312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330960" y="3978720"/>
              <a:ext cx="39348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724800" y="4175280"/>
              <a:ext cx="63360" cy="6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099040" y="4775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099040" y="5197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092560" y="4781520"/>
              <a:ext cx="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315760" y="4782960"/>
              <a:ext cx="392400" cy="43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315400" y="4768920"/>
              <a:ext cx="392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708520" y="4952880"/>
              <a:ext cx="63720" cy="7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937120" y="428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931000" y="4294080"/>
              <a:ext cx="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953400" y="51577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946920" y="516420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921200" y="5329080"/>
              <a:ext cx="20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660920" y="5249880"/>
              <a:ext cx="3175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804080" y="4986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953400" y="4815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788160" y="4195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946920" y="4202280"/>
              <a:ext cx="0" cy="60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937120" y="4116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921200" y="41162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4737240" y="4024440"/>
              <a:ext cx="2538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7042320" y="4986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931000" y="48211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924520" y="4965840"/>
              <a:ext cx="38160" cy="39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772240" y="4986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937120" y="4986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676840" y="427356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921200" y="4894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737240" y="481500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921200" y="50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737240" y="4986360"/>
              <a:ext cx="241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962840" y="4854600"/>
              <a:ext cx="279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803920" y="5025960"/>
              <a:ext cx="3682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305920" y="4656240"/>
              <a:ext cx="4953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711680" y="5592600"/>
              <a:ext cx="38610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sert inverters to fix mismat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version between for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E22-3E5B-4569-8FB2-7D38AAF6E29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8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359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360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2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379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380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2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0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401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446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D-OR-invert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OI function:  three stages of logic —  AND, OR, Inver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ates "packaged" as a single circuit b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E7C-E7BD-4B19-A325-2435092AC5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1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492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493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5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version to AOI for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l procedure to place in AOI for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e the complement of the function in sum-of-products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grouping the 0s in the Karnaugh m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 XOR implementation   ––   A xor B = A’ B  +  A B’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 form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9C8-F934-45E2-AB5D-5B3E01295AD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H="1" flipV="1">
            <a:off x="2590920" y="5486040"/>
            <a:ext cx="1218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 flipV="1">
            <a:off x="38098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3809880" y="5486040"/>
            <a:ext cx="22860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3809880" y="5486040"/>
            <a:ext cx="40388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s of using AOI g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 B C’ + A C’ + A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’ = A’ B’ + A’ C + B’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ed by 2-input 3-stack AOI g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 = (A + B) (A + C’) (B + C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’ = (B’ + C) (A’ + C) (A’ + B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ed by 2-input 3-stack OAI gat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4-bit equality fun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FDC-900A-4F2D-82D1-3067C0B4E56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1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532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s of using AOI gat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 AOI implementation of 4-bit equality fun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E02-BFF8-474A-A627-961254A9B8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mmary for multi-leve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dvantag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s may be sma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s have smaller fan-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s may be fa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sadvantag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difficult to des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for optimization are not as good as for two-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is is more compl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5B2-467D-406E-A44D-3BEA690C01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olean algebr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oolean algebra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 {0, 1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is logical OR, • is logical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logical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l algebraic axioms hol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CF0-450F-4943-A376-BB852F3A8D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e behavior of combinational networ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avefo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ulation tools are used to create these wavefo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ome te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 delay – typical/nominal delay – max del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8840" indent="-231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eful designers design for the wors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6C8-BB77-4677-81D5-3CC7AA4FB70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6" name="" descr=""/>
          <p:cNvPicPr/>
          <p:nvPr/>
        </p:nvPicPr>
        <p:blipFill>
          <a:blip r:embed="rId1"/>
          <a:stretch/>
        </p:blipFill>
        <p:spPr>
          <a:xfrm>
            <a:off x="156204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3657" name=""/>
          <p:cNvSpPr/>
          <p:nvPr/>
        </p:nvSpPr>
        <p:spPr>
          <a:xfrm>
            <a:off x="3695760" y="5867280"/>
            <a:ext cx="303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2876400" y="4921200"/>
            <a:ext cx="171468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304920" y="5740560"/>
            <a:ext cx="31366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380988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 flipH="1">
            <a:off x="2419200" y="5105520"/>
            <a:ext cx="40032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2" name=""/>
          <p:cNvGrpSpPr/>
          <p:nvPr/>
        </p:nvGrpSpPr>
        <p:grpSpPr>
          <a:xfrm>
            <a:off x="4444920" y="2565360"/>
            <a:ext cx="4470480" cy="635040"/>
            <a:chOff x="4444920" y="2565360"/>
            <a:chExt cx="4470480" cy="635040"/>
          </a:xfrm>
        </p:grpSpPr>
        <p:sp>
          <p:nvSpPr>
            <p:cNvPr id="3663" name=""/>
            <p:cNvSpPr/>
            <p:nvPr/>
          </p:nvSpPr>
          <p:spPr>
            <a:xfrm>
              <a:off x="8331120" y="27813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444920" y="256536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435640" y="256536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222960" y="256536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7023240" y="256536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550280" y="26668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7550280" y="3149640"/>
              <a:ext cx="49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7543800" y="26733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7810560" y="268128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7791480" y="26748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810200" y="2667240"/>
              <a:ext cx="43164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7791120" y="2648160"/>
              <a:ext cx="4698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7400" y="260964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 flipV="1">
              <a:off x="6737400" y="280008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730920" y="2609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41960" y="277488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937120" y="260964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V="1">
              <a:off x="5937120" y="280008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931000" y="2609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242040" y="277488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124240" y="260964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5124240" y="280008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118120" y="2609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5429160" y="277488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143840" y="28065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346880" y="28065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921200" y="28065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7346880" y="30099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340400" y="30160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921200" y="3200400"/>
              <a:ext cx="241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4914720" y="281304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616280" y="2806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889520" y="278136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8261280" y="29080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6343560" y="28065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6546960" y="28065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530680" y="280656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734080" y="28065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mentary changes in outpu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 be useful — pulse shaping circui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n be a problem — incorrect circuit operation (glitches/hazard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xample: pulse shaping circui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’ • A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s matter in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A9F-F726-475D-9EB0-FB79D13C8E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3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3704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5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3716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scillatory behavi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other pulse shaping circui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8A5-D0E2-48F3-9303-344188991F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scribe hardware at varying levels of abstrac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ructural descrip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xtual replacement for schema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erarchical composition of modules from primiti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ehavioral/functional descrip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cribe what module does, not h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thesis generates circuit for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mulation semantic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B24-A7E2-41DA-8E04-867FD4AF68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bel (circa 1983) - developed by Data-I/O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SP (circa 1977) - research project at CMU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ilog (circa 1985) - developed by Gateway (absorbed by Cadence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HDL (circa 1987) - DoD sponsored standard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DFC-722A-4A33-AB8B-59C0A1C82A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rilo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upports structural and behavioral descrip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ructura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icit structure of the circ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each logic gate instantiated and connected to oth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ehaviora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 describes input/output behavior of circ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structural implementations could have same behav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different implementation of one Boolean fun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e’ll only be using behavioral Verilog in DesignWork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2400" indent="-2887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y on schematic when we want structural descri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3D7-BA36-489E-A9E5-EDA2A206F28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ructural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714-9DBC-4BA4-AFB1-308481870253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mple behavioral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inuous assignm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90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1AD-3290-4B7A-9A01-C39178BBA1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mple behavioral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ways block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95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DA2-E055-4AA2-9D51-F72F1E1774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stimulus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iving a simul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9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FE6-6D5F-4933-A753-09D4BAB82532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7440" y="60199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271764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11560" y="25336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73120" y="248904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431784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11560" y="4133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3120" y="408924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00880" y="46101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7880" y="271764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26160" y="25336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87720" y="248904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83360" y="25336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68760" y="4133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25960" y="4133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11760" y="4133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97560" y="4133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5410080"/>
            <a:ext cx="2629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394320" y="48574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gic functions and Boolean algebr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y logic function that can be expressed as a truth table can be written as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 expression in Boolean algebra using the operators: ’, +, and •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433-D4EA-470A-B3EB-9A7908EEC3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lete Simulation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stantiate stimulus component and device to test in a schematic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3805" name=""/>
          <p:cNvGrpSpPr/>
          <p:nvPr/>
        </p:nvGrpSpPr>
        <p:grpSpPr>
          <a:xfrm>
            <a:off x="1905120" y="2895480"/>
            <a:ext cx="5410080" cy="1408320"/>
            <a:chOff x="1905120" y="2895480"/>
            <a:chExt cx="5410080" cy="1408320"/>
          </a:xfrm>
        </p:grpSpPr>
        <p:pic>
          <p:nvPicPr>
            <p:cNvPr id="3806" name="" descr=""/>
            <p:cNvPicPr/>
            <p:nvPr/>
          </p:nvPicPr>
          <p:blipFill>
            <a:blip r:embed="rId1"/>
            <a:stretch/>
          </p:blipFill>
          <p:spPr>
            <a:xfrm>
              <a:off x="1905120" y="2895480"/>
              <a:ext cx="54100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7" name=""/>
            <p:cNvSpPr/>
            <p:nvPr/>
          </p:nvSpPr>
          <p:spPr>
            <a:xfrm>
              <a:off x="4349520" y="3214800"/>
              <a:ext cx="300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349880" y="3505320"/>
              <a:ext cx="298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027400" y="3048120"/>
              <a:ext cx="308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029200" y="3773520"/>
              <a:ext cx="311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029200" y="3486240"/>
              <a:ext cx="3049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826320" y="3125880"/>
              <a:ext cx="311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32F-DF4C-4778-925D-6DCB039B77F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A, B, Equal, Alarger, Blarge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rator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C01-3696-4EBA-87A5-E1BC4438DC2B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Complex Behavioral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BA2-BD86-4807-A418-A51A9D162220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dware Description Languages vs. Programming Languag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gram struct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erarchy of modules (only leaves can be HDL in DesignWork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0560" indent="-3405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signm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0560" indent="-3405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ata structur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0560" indent="-3405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rallelis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7280" indent="-282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931-402F-4EF0-A293-3D82C06904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dware Description Languages and Combination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dules - specification of inputs, outputs, bidirectional, and internal signal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inuous assignment - a gate’s output is a function of its inputs at all times (doesn’t need to wait to be "called"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pagation delay- concept of time and delay in input affecting gate outp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osition - connecting modules together with wir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erarchy - modules encapsulate functional block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pecification of don’t care conditions (accomplished by setting output to “x”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E9C-16E1-443F-A925-5BF09B50AB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logic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Logic functions, truth tables, and switches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xioms and theorems of Boolean algebra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Gate logic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anonical forms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implification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-level simplif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Later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50960" indent="-289080">
              <a:lnSpc>
                <a:spcPct val="95000"/>
              </a:lnSpc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27E-E5D1-48DC-8B86-4D18EF1C08C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78800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xioms and theorems of Boolean algebr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dent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  X + 0 =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D.   X • 1 = X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u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  X + 1 =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D.   X • 0 = 0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dempotenc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  X + X =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.   X • X = X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volution: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4.   (X’)’ = X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lementarit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  X + X’ = 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D.   X • X’ = 0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mutativit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  X + Y = Y +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D.   X • Y = Y • X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ssociativit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  (X + Y) + Z = X + (Y + Z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D.   (X • Y) • Z = X • (Y • Z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37B-764E-42FD-9EF0-C1DACE9482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xioms and theorems of Boolean algebra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stributivit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.   X • (Y + Z) = (X • Y) + (X • Z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D.   X + (Y • Z) = (X + Y) • (X + Z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niting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   X • Y + X • Y’ =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D.   (X + Y) • (X + Y’) = X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bsorp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. X + X • Y =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D.  X • (X + Y) = 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. (X + Y’) • Y =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D. (X • Y’) + Y = X + 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actoring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. (X + Y) • (X’ + Z) 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D. X • Y + X’ • Z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X • Z + X’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(X + Z) • (X’ + Y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7760" indent="-3477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censu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. (X • Y) + (Y • Z) + (X’ • Z) 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D. (X + Y) • (Y + Z) • (X’ + Z)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X • Y + X’ • Z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(X + Y) • (X’ + Z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I - Combinational Log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3C6-0FE7-4DDB-B00A-0F322BB1F9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Administrator</cp:lastModifiedBy>
  <cp:lastPrinted>2000-09-30T01:10:40Z</cp:lastPrinted>
  <dcterms:modified xsi:type="dcterms:W3CDTF">2000-10-11T14:39:48Z</dcterms:modified>
  <cp:revision>35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