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269413" cy="6948488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B642-973B-4813-B05E-7893C98C1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680" y="3979080"/>
            <a:ext cx="82929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C265-00D6-43BF-BE06-EA8DDE1F5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312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680" y="397908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3120" y="397908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D919-1515-4A5C-8185-BB64CB049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7720" y="162072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1760" y="162072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680" y="397908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7720" y="397908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1760" y="397908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BBFB-9790-47D9-A16D-DD271A4B8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AD0F4-0255-4305-928C-34F970CCE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88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C3C52-B27F-4F34-9040-89A946286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0B161-91CB-4822-B07D-FBECAD7CE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40467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13120" y="1620720"/>
            <a:ext cx="40467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62945-48F2-45C3-BA26-D641E05FC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A4468-F942-484E-838A-A0E9BC1AD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12560" y="231480"/>
            <a:ext cx="788004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9AFC3-E493-4666-BB96-3EB60F418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3120" y="1620720"/>
            <a:ext cx="40467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3680" y="397908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97F64-33C6-49C4-84E0-0C4F1BBE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88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128E-2EE9-4448-B350-D45431238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40467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312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13120" y="397908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68461-A855-4548-A323-2DBEE993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312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3680" y="3979080"/>
            <a:ext cx="82929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8233A-153C-4042-A2BA-EA395E97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680" y="3979080"/>
            <a:ext cx="82929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99989-5766-4478-BC29-FF2DD1EE7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312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3680" y="397908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13120" y="397908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43C60-C852-4A2C-B78E-5D437BB6B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7720" y="162072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1760" y="162072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3680" y="397908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7720" y="397908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1760" y="397908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BFFD4-2EF8-46BB-A21D-5428D70FB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F348-3620-4D77-8267-4285D7C0B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40467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3120" y="1620720"/>
            <a:ext cx="40467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06BE-323B-4C1D-A27D-8ADDE694F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80DE-2B5D-4593-99BB-257E74871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12560" y="231480"/>
            <a:ext cx="788004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0B1B-0C42-4362-92F5-3860799B3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3120" y="1620720"/>
            <a:ext cx="40467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680" y="397908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4CC9-863F-49C9-9E3D-D284D804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40467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312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3120" y="397908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3A0E-624F-408F-82E1-A7AF8CFB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312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680" y="3979080"/>
            <a:ext cx="82929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1DD4-8341-49D9-ABE6-BA6FD9C1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lick to edit the outline text format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econd Outline Level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2" marL="1158840" indent="-23184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hird Outline Level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3" marL="1622520" indent="-231840">
              <a:spcBef>
                <a:spcPts val="788"/>
              </a:spcBef>
              <a:buClr>
                <a:srgbClr val="ffcc00"/>
              </a:buClr>
              <a:buFont typeface="Tahoma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Fourth Outline Level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4" marL="2084400" indent="-231840">
              <a:spcBef>
                <a:spcPts val="788"/>
              </a:spcBef>
              <a:buClr>
                <a:srgbClr val="ffcc00"/>
              </a:buClr>
              <a:buFont typeface="Tahoma"/>
              <a:buChar char="–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Fifth Outline Level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5" marL="2084400" indent="-231840">
              <a:spcBef>
                <a:spcPts val="788"/>
              </a:spcBef>
              <a:buClr>
                <a:srgbClr val="000000"/>
              </a:buClr>
              <a:buFont typeface="Tahoma"/>
              <a:buChar char="–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ixth Outline Level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6" marL="2084400" indent="-231840">
              <a:spcBef>
                <a:spcPts val="788"/>
              </a:spcBef>
              <a:buClr>
                <a:srgbClr val="000000"/>
              </a:buClr>
              <a:buFont typeface="Tahoma"/>
              <a:buChar char="–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eventh Outline Level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8120" y="6483240"/>
            <a:ext cx="193032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4d4d4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8440" y="6483240"/>
            <a:ext cx="44560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4d4d4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4160" y="6483240"/>
            <a:ext cx="193212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4d4d4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59BFAE0-04B4-4CEF-A5A6-FE5B23798A54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27000" y="1081080"/>
            <a:ext cx="8344080" cy="38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694800"/>
            <a:ext cx="7829640" cy="1157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20360" y="6310440"/>
            <a:ext cx="1957320" cy="520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93920" y="6310440"/>
            <a:ext cx="2882880" cy="520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95640" y="6310440"/>
            <a:ext cx="1854360" cy="520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CAFC517-26BA-43F2-A4EE-A8B51672C0B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27000" y="1852560"/>
            <a:ext cx="8344080" cy="38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819520" y="1841400"/>
            <a:ext cx="4647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quential logic exampl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Basic design approach: a 4-step design proces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Hardware description languages and finite state machine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Implementation examples and case studie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nite-string pattern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ex coun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ffic light controll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or combination lo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X - Sequential Logic 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1079-96E4-46DB-84F5-F8ABD99A4E3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mplex counter (state diagram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Deriving state diagram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e state for each output combination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d appropriate arcs for the mode contro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228600" y="3505320"/>
            <a:ext cx="8140680" cy="1396800"/>
            <a:chOff x="228600" y="3505320"/>
            <a:chExt cx="8140680" cy="1396800"/>
          </a:xfrm>
        </p:grpSpPr>
        <p:sp>
          <p:nvSpPr>
            <p:cNvPr id="241" name=""/>
            <p:cNvSpPr/>
            <p:nvPr/>
          </p:nvSpPr>
          <p:spPr>
            <a:xfrm>
              <a:off x="1447920" y="4419720"/>
              <a:ext cx="520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00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62320" y="4419720"/>
              <a:ext cx="520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001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76720" y="4419720"/>
              <a:ext cx="520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01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1120" y="4419720"/>
              <a:ext cx="520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011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105520" y="4419720"/>
              <a:ext cx="520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10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019920" y="4419720"/>
              <a:ext cx="520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101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934320" y="4419720"/>
              <a:ext cx="520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11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848720" y="4419720"/>
              <a:ext cx="520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7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111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228600" y="3505320"/>
              <a:ext cx="8076960" cy="1371600"/>
              <a:chOff x="228600" y="3505320"/>
              <a:chExt cx="8076960" cy="1371600"/>
            </a:xfrm>
          </p:grpSpPr>
          <p:sp>
            <p:nvSpPr>
              <p:cNvPr id="250" name=""/>
              <p:cNvSpPr/>
              <p:nvPr/>
            </p:nvSpPr>
            <p:spPr>
              <a:xfrm>
                <a:off x="228600" y="4343400"/>
                <a:ext cx="97776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2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ese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647960" y="3505320"/>
                <a:ext cx="55908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105160" y="441972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019560" y="441972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933960" y="441972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848360" y="441972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447560" y="441972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361960" y="441972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276360" y="441972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190760" y="441972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60" name=""/>
              <p:cNvCxnSpPr>
                <a:stCxn id="256" idx="6"/>
                <a:endCxn id="257" idx="2"/>
              </p:cNvCxnSpPr>
              <p:nvPr/>
            </p:nvCxnSpPr>
            <p:spPr>
              <a:xfrm>
                <a:off x="1904760" y="4647960"/>
                <a:ext cx="457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61" name=""/>
              <p:cNvCxnSpPr>
                <a:stCxn id="257" idx="6"/>
                <a:endCxn id="258" idx="2"/>
              </p:cNvCxnSpPr>
              <p:nvPr/>
            </p:nvCxnSpPr>
            <p:spPr>
              <a:xfrm>
                <a:off x="2819160" y="4647960"/>
                <a:ext cx="457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62" name=""/>
              <p:cNvCxnSpPr>
                <a:stCxn id="258" idx="6"/>
                <a:endCxn id="259" idx="2"/>
              </p:cNvCxnSpPr>
              <p:nvPr/>
            </p:nvCxnSpPr>
            <p:spPr>
              <a:xfrm>
                <a:off x="3733560" y="4647960"/>
                <a:ext cx="457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63" name=""/>
              <p:cNvCxnSpPr>
                <a:stCxn id="259" idx="6"/>
                <a:endCxn id="252" idx="2"/>
              </p:cNvCxnSpPr>
              <p:nvPr/>
            </p:nvCxnSpPr>
            <p:spPr>
              <a:xfrm>
                <a:off x="4647960" y="4647960"/>
                <a:ext cx="457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64" name=""/>
              <p:cNvCxnSpPr>
                <a:stCxn id="252" idx="6"/>
                <a:endCxn id="253" idx="2"/>
              </p:cNvCxnSpPr>
              <p:nvPr/>
            </p:nvCxnSpPr>
            <p:spPr>
              <a:xfrm>
                <a:off x="5562360" y="4647960"/>
                <a:ext cx="457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65" name=""/>
              <p:cNvCxnSpPr>
                <a:stCxn id="253" idx="6"/>
                <a:endCxn id="254" idx="2"/>
              </p:cNvCxnSpPr>
              <p:nvPr/>
            </p:nvCxnSpPr>
            <p:spPr>
              <a:xfrm>
                <a:off x="6476760" y="4647960"/>
                <a:ext cx="457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66" name=""/>
              <p:cNvCxnSpPr>
                <a:stCxn id="254" idx="6"/>
                <a:endCxn id="255" idx="2"/>
              </p:cNvCxnSpPr>
              <p:nvPr/>
            </p:nvCxnSpPr>
            <p:spPr>
              <a:xfrm>
                <a:off x="7391160" y="4647960"/>
                <a:ext cx="457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67" name=""/>
              <p:cNvCxnSpPr/>
              <p:nvPr/>
            </p:nvCxnSpPr>
            <p:spPr>
              <a:xfrm>
                <a:off x="990360" y="4647960"/>
                <a:ext cx="457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68" name=""/>
              <p:cNvCxnSpPr>
                <a:stCxn id="255" idx="0"/>
                <a:endCxn id="256" idx="0"/>
              </p:cNvCxnSpPr>
              <p:nvPr/>
            </p:nvCxnSpPr>
            <p:spPr>
              <a:xfrm rot="5400000">
                <a:off x="4875120" y="1220040"/>
                <a:ext cx="2160" cy="6401520"/>
              </a:xfrm>
              <a:prstGeom prst="curvedConnector5">
                <a:avLst>
                  <a:gd name="adj1" fmla="val -38400000"/>
                  <a:gd name="adj2" fmla="val 49997"/>
                  <a:gd name="adj3" fmla="val -3840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69" name=""/>
              <p:cNvSpPr/>
              <p:nvPr/>
            </p:nvSpPr>
            <p:spPr>
              <a:xfrm>
                <a:off x="4572000" y="4343400"/>
                <a:ext cx="55872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486400" y="4343400"/>
                <a:ext cx="55872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375240" y="4343400"/>
                <a:ext cx="55872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289640" y="4343400"/>
                <a:ext cx="55872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632040" y="4343400"/>
                <a:ext cx="55872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743200" y="4343400"/>
                <a:ext cx="55872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828800" y="4343400"/>
                <a:ext cx="55872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6" name=""/>
          <p:cNvGrpSpPr/>
          <p:nvPr/>
        </p:nvGrpSpPr>
        <p:grpSpPr>
          <a:xfrm>
            <a:off x="1675800" y="4648320"/>
            <a:ext cx="6401520" cy="1015920"/>
            <a:chOff x="1675800" y="4648320"/>
            <a:chExt cx="6401520" cy="1015920"/>
          </a:xfrm>
        </p:grpSpPr>
        <p:sp>
          <p:nvSpPr>
            <p:cNvPr id="277" name=""/>
            <p:cNvSpPr/>
            <p:nvPr/>
          </p:nvSpPr>
          <p:spPr>
            <a:xfrm>
              <a:off x="3733920" y="464832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162920" y="485136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1675800" y="4809240"/>
              <a:ext cx="6401520" cy="523080"/>
              <a:chOff x="1675800" y="4809240"/>
              <a:chExt cx="6401520" cy="523080"/>
            </a:xfrm>
          </p:grpSpPr>
          <p:cxnSp>
            <p:nvCxnSpPr>
              <p:cNvPr id="280" name=""/>
              <p:cNvCxnSpPr>
                <a:stCxn id="256" idx="5"/>
                <a:endCxn id="257" idx="3"/>
              </p:cNvCxnSpPr>
              <p:nvPr/>
            </p:nvCxnSpPr>
            <p:spPr>
              <a:xfrm flipH="1" rot="16200000">
                <a:off x="2131920" y="4515120"/>
                <a:ext cx="2160" cy="591120"/>
              </a:xfrm>
              <a:prstGeom prst="curvedConnector5">
                <a:avLst>
                  <a:gd name="adj1" fmla="val 11280000"/>
                  <a:gd name="adj2" fmla="val 49969"/>
                  <a:gd name="adj3" fmla="val 1128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81" name=""/>
              <p:cNvCxnSpPr>
                <a:stCxn id="257" idx="5"/>
                <a:endCxn id="259" idx="4"/>
              </p:cNvCxnSpPr>
              <p:nvPr/>
            </p:nvCxnSpPr>
            <p:spPr>
              <a:xfrm flipH="1" rot="16200000">
                <a:off x="3552840" y="4009320"/>
                <a:ext cx="67320" cy="1667520"/>
              </a:xfrm>
              <a:prstGeom prst="curvedConnector5">
                <a:avLst>
                  <a:gd name="adj1" fmla="val 580645"/>
                  <a:gd name="adj2" fmla="val 49989"/>
                  <a:gd name="adj3" fmla="val 580645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82" name=""/>
              <p:cNvCxnSpPr>
                <a:stCxn id="259" idx="3"/>
                <a:endCxn id="258" idx="5"/>
              </p:cNvCxnSpPr>
              <p:nvPr/>
            </p:nvCxnSpPr>
            <p:spPr>
              <a:xfrm rot="5400000">
                <a:off x="3961080" y="4515480"/>
                <a:ext cx="2160" cy="591120"/>
              </a:xfrm>
              <a:prstGeom prst="curvedConnector5">
                <a:avLst>
                  <a:gd name="adj1" fmla="val 11280000"/>
                  <a:gd name="adj2" fmla="val 49969"/>
                  <a:gd name="adj3" fmla="val 1128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83" name=""/>
              <p:cNvCxnSpPr>
                <a:stCxn id="252" idx="3"/>
                <a:endCxn id="256" idx="4"/>
              </p:cNvCxnSpPr>
              <p:nvPr/>
            </p:nvCxnSpPr>
            <p:spPr>
              <a:xfrm rot="5400000">
                <a:off x="3390480" y="3094920"/>
                <a:ext cx="67320" cy="3496680"/>
              </a:xfrm>
              <a:prstGeom prst="curvedConnector5">
                <a:avLst>
                  <a:gd name="adj1" fmla="val 780645"/>
                  <a:gd name="adj2" fmla="val 50000"/>
                  <a:gd name="adj3" fmla="val 780645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84" name=""/>
              <p:cNvCxnSpPr>
                <a:stCxn id="258" idx="4"/>
                <a:endCxn id="254" idx="3"/>
              </p:cNvCxnSpPr>
              <p:nvPr/>
            </p:nvCxnSpPr>
            <p:spPr>
              <a:xfrm flipH="1" flipV="1" rot="5400000">
                <a:off x="5218920" y="3094560"/>
                <a:ext cx="67320" cy="3496680"/>
              </a:xfrm>
              <a:prstGeom prst="curvedConnector5">
                <a:avLst>
                  <a:gd name="adj1" fmla="val -625806"/>
                  <a:gd name="adj2" fmla="val 50000"/>
                  <a:gd name="adj3" fmla="val -625806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85" name=""/>
              <p:cNvCxnSpPr>
                <a:stCxn id="254" idx="5"/>
                <a:endCxn id="255" idx="3"/>
              </p:cNvCxnSpPr>
              <p:nvPr/>
            </p:nvCxnSpPr>
            <p:spPr>
              <a:xfrm flipH="1" rot="16200000">
                <a:off x="7618320" y="4515120"/>
                <a:ext cx="2160" cy="591120"/>
              </a:xfrm>
              <a:prstGeom prst="curvedConnector5">
                <a:avLst>
                  <a:gd name="adj1" fmla="val 7680000"/>
                  <a:gd name="adj2" fmla="val 49969"/>
                  <a:gd name="adj3" fmla="val 768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86" name=""/>
              <p:cNvCxnSpPr>
                <a:stCxn id="255" idx="4"/>
                <a:endCxn id="253" idx="5"/>
              </p:cNvCxnSpPr>
              <p:nvPr/>
            </p:nvCxnSpPr>
            <p:spPr>
              <a:xfrm flipV="1" rot="16200000">
                <a:off x="7210080" y="4008960"/>
                <a:ext cx="67320" cy="1667520"/>
              </a:xfrm>
              <a:prstGeom prst="curvedConnector5">
                <a:avLst>
                  <a:gd name="adj1" fmla="val -625806"/>
                  <a:gd name="adj2" fmla="val 49989"/>
                  <a:gd name="adj3" fmla="val -625806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87" name=""/>
              <p:cNvCxnSpPr>
                <a:stCxn id="253" idx="3"/>
                <a:endCxn id="252" idx="5"/>
              </p:cNvCxnSpPr>
              <p:nvPr/>
            </p:nvCxnSpPr>
            <p:spPr>
              <a:xfrm rot="5400000">
                <a:off x="5789880" y="4515480"/>
                <a:ext cx="2160" cy="591120"/>
              </a:xfrm>
              <a:prstGeom prst="curvedConnector5">
                <a:avLst>
                  <a:gd name="adj1" fmla="val 12480000"/>
                  <a:gd name="adj2" fmla="val 49969"/>
                  <a:gd name="adj3" fmla="val 1248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288" name=""/>
            <p:cNvSpPr/>
            <p:nvPr/>
          </p:nvSpPr>
          <p:spPr>
            <a:xfrm>
              <a:off x="6756480" y="523224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334120" y="49276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029200" y="525780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971800" y="525780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895480" y="4800600"/>
              <a:ext cx="5590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108160" y="485136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X - Sequential Logic 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D370-03D6-4E21-93BF-BB05D05879D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mplex counter (state encoding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Verilog description including state encoding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96" name=""/>
          <p:cNvSpPr/>
          <p:nvPr/>
        </p:nvSpPr>
        <p:spPr>
          <a:xfrm>
            <a:off x="380880" y="2438280"/>
            <a:ext cx="4419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odule string (clk, M, rst, Z0, Z1, Z2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put clk, X, rs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utput Z0, Z1, Z2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g state[0:2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ine S0 = [0,0,0]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ine S1 = [0,0,1]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ine S2 = [0,1,0]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ine S3 = [0,1,1]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ine S4 = [1,0,0]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ine S5 = [1,0,1]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ine S6 = [1,1,0]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ine S7 = [1,1,1]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ssign Z0 = state[0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ssign Z1 = state[1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ssign Z2 = state[2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648320" y="2438280"/>
            <a:ext cx="4267080" cy="37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ways @(posedge clk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f rst state = ‘S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(st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‘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0: state = ‘S1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‘S1: if (M) state = ‘S3 else state = ‘S2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‘S2: if (M) state = ‘S6 else state = ‘S3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‘S3: if (M) state = ‘S2 else state = ‘S4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‘S4: if (M) state = ‘S0 else state = ‘S5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‘S5: if (M) state = ‘S4 else state = ‘S6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‘S5: if (M) state = ‘S7 else state = ‘S7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‘S5: if (M) state = ‘S5 else state = ‘S0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end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495680" y="2362320"/>
            <a:ext cx="0" cy="411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X - Sequential Logic 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6537-6676-4EE9-A265-EA3953BBAD1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"/>
          <p:cNvGrpSpPr/>
          <p:nvPr/>
        </p:nvGrpSpPr>
        <p:grpSpPr>
          <a:xfrm>
            <a:off x="4419720" y="1752480"/>
            <a:ext cx="2044440" cy="1562040"/>
            <a:chOff x="4419720" y="1752480"/>
            <a:chExt cx="2044440" cy="1562040"/>
          </a:xfrm>
        </p:grpSpPr>
        <p:grpSp>
          <p:nvGrpSpPr>
            <p:cNvPr id="300" name=""/>
            <p:cNvGrpSpPr/>
            <p:nvPr/>
          </p:nvGrpSpPr>
          <p:grpSpPr>
            <a:xfrm>
              <a:off x="4476600" y="2197080"/>
              <a:ext cx="609840" cy="685800"/>
              <a:chOff x="4476600" y="2197080"/>
              <a:chExt cx="609840" cy="685800"/>
            </a:xfrm>
          </p:grpSpPr>
          <p:sp>
            <p:nvSpPr>
              <p:cNvPr id="301" name=""/>
              <p:cNvSpPr/>
              <p:nvPr/>
            </p:nvSpPr>
            <p:spPr>
              <a:xfrm>
                <a:off x="4476600" y="2197080"/>
                <a:ext cx="609840" cy="685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>
                <a:off x="4920840" y="2717640"/>
                <a:ext cx="12708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 flipV="1">
              <a:off x="5315040" y="1752480"/>
              <a:ext cx="57132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473800" y="2724120"/>
              <a:ext cx="9903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S/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>
              <a:off x="5314680" y="2692440"/>
              <a:ext cx="60948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946760" y="23112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016600" y="239400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19720" y="1847880"/>
              <a:ext cx="761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S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6591240" y="1727280"/>
            <a:ext cx="2438280" cy="2387520"/>
            <a:chOff x="6591240" y="1727280"/>
            <a:chExt cx="2438280" cy="2387520"/>
          </a:xfrm>
        </p:grpSpPr>
        <p:sp>
          <p:nvSpPr>
            <p:cNvPr id="310" name=""/>
            <p:cNvSpPr/>
            <p:nvPr/>
          </p:nvSpPr>
          <p:spPr>
            <a:xfrm>
              <a:off x="8115120" y="3663720"/>
              <a:ext cx="9144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/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 flipV="1">
              <a:off x="6990840" y="2641680"/>
              <a:ext cx="26676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622920" y="226044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591240" y="2343240"/>
              <a:ext cx="5461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 flipV="1">
              <a:off x="7562520" y="3238560"/>
              <a:ext cx="26676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194600" y="28573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213680" y="2940120"/>
              <a:ext cx="4442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 flipV="1">
              <a:off x="8133840" y="3835440"/>
              <a:ext cx="26676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765920" y="34542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734240" y="3537000"/>
              <a:ext cx="5461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7016760" y="1727280"/>
              <a:ext cx="57132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6400800" y="4572000"/>
            <a:ext cx="18288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400800" y="5943600"/>
            <a:ext cx="18288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699240" y="4680000"/>
            <a:ext cx="1219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ligh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991200" y="5950080"/>
            <a:ext cx="6350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i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851520" y="54990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854840" y="54990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677000" y="54990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829640" y="5607000"/>
            <a:ext cx="635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029360" y="5607000"/>
            <a:ext cx="6606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216480" y="5518080"/>
            <a:ext cx="6606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2200" y="466740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242200" y="480708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242200" y="494676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242200" y="50864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242200" y="522612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242200" y="536580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943600" y="493380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943600" y="507348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8581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raffic light controller as two communicating FSM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Without separate timer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0 would require 7 st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1 would require 3 st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2 would require 7 st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would require 3 st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1 and S3 have simple trans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0 and S2 would require many more ar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58840" indent="-231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 could change in any of seven st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By factoring out timer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reatly reduce number of st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58840" indent="-231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 instead of 2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unter only requires seven or eight st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58840" indent="-231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2 total instead of 2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X - Sequential Logic 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84D7-527A-4CC6-89D4-4BA24C19A4C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533520" y="2209680"/>
            <a:ext cx="83311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FSM(HR, HY, HG, FR, FY, FG, ST, TS, TL, C, reset, Clk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R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Y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G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R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Y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G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S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L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se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k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 [6:1]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te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800600" y="2959200"/>
            <a:ext cx="4089240" cy="31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`define highwaygreen   6'b00110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`define highwayyellow  6'b01010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`define farmroadgreen  6'b10000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`define farmroadyellow 6'b100010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ssign HR = state[6]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ssign HY = state[5]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ssign HG = state[4]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ssign FR = state[3]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ssign FY = state[2]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ssign FG = state[1];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533680" y="5518080"/>
            <a:ext cx="971640" cy="488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3504960" y="3416400"/>
            <a:ext cx="1447560" cy="2590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3504960" y="5016600"/>
            <a:ext cx="1447560" cy="990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1600" y="6006960"/>
            <a:ext cx="26416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pecify state bits and code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 each state as well a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nections to out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raffic light controller FSM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296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pecification of inputs, outputs, and state element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X - Sequential Logic 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608B-9BDB-491D-8788-0A91E66BC2C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1854360" y="1523880"/>
            <a:ext cx="728964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09480" y="1600200"/>
            <a:ext cx="8178840" cy="49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itial begin state = `highwaygreen; ST = 0;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lways @(posedge Clk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if (reset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begin state = `highwaygreen; ST = 1;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els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ST = 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case (stat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`highwaygreen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if (TL &amp; C) begin state = `highwayyellow; ST = 1;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`highwayyellow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if (TS) begin state = `farmroadgreen; ST = 1;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`farmroadgreen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if (TL | !C) begin state = `farmroadyellow; ST = 1;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`farmroadyellow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if (TS) begin state = `highwaygreen; ST = 1;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endcas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raffic light controller FSM (cont’d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2" name=""/>
          <p:cNvSpPr/>
          <p:nvPr/>
        </p:nvSpPr>
        <p:spPr>
          <a:xfrm>
            <a:off x="6585120" y="2071800"/>
            <a:ext cx="1631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se state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iggerred b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ck e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 flipV="1">
            <a:off x="3200040" y="2209320"/>
            <a:ext cx="34290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3123720" y="2514600"/>
            <a:ext cx="350532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X - Sequential Logic Case Studi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DA13-7A67-4BA2-A4D7-17BE4DE9531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1752480" y="2209680"/>
            <a:ext cx="603252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Timer(TS, TL, ST, Clk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S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L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S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Clk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teger   value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ssign TS = (value &gt;=  4); //  5 cycles after res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ssign TL = (value &gt;= 14); // 15 cycles after reset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lways @(posedge ST) value = 0; // async res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lways @(posedge Clk) value = value + 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imer for traffic light controller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nother FSM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X - Sequential Logic 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3A4D-9BE7-4B45-8654-67F287AB456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143000" y="2666880"/>
            <a:ext cx="694692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main(HR, HY, HG, FR, FY, FG, reset, C, Clk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output HR, HY, HG, FR, FY, FG;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input  reset, C, Clk;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Timer part1(TS, TL, ST, Clk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FSM   part2(HR, HY, HG, FR, FY, FG, ST, TS, TL, C, reset, Clk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mplete traffic light controller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ying it all together (FSM + timer)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ructural Verilog not supported by DesignWorks (which uses schemati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"/>
          <p:cNvSpPr/>
          <p:nvPr/>
        </p:nvSpPr>
        <p:spPr>
          <a:xfrm>
            <a:off x="6400800" y="4572000"/>
            <a:ext cx="18288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400800" y="5943600"/>
            <a:ext cx="18288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699240" y="4680000"/>
            <a:ext cx="1219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ligh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991200" y="5950080"/>
            <a:ext cx="6350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i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851520" y="54990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854840" y="54990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677000" y="54990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829640" y="5607000"/>
            <a:ext cx="635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029360" y="5607000"/>
            <a:ext cx="6606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216480" y="5518080"/>
            <a:ext cx="6606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242200" y="466740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242200" y="480708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242200" y="494676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242200" y="50864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242200" y="522612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242200" y="536580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943600" y="493380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943600" y="507348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X - Sequential Logic 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0E00-1BE7-46E8-8871-4A231C1E5A5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4997520" y="5346720"/>
            <a:ext cx="37465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chines advance in lock st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l inputs/outputs: X = 0, Y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5111640" y="2666880"/>
            <a:ext cx="3200400" cy="2209680"/>
            <a:chOff x="5111640" y="2666880"/>
            <a:chExt cx="3200400" cy="2209680"/>
          </a:xfrm>
        </p:grpSpPr>
        <p:sp>
          <p:nvSpPr>
            <p:cNvPr id="381" name=""/>
            <p:cNvSpPr/>
            <p:nvPr/>
          </p:nvSpPr>
          <p:spPr>
            <a:xfrm>
              <a:off x="6311520" y="306072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6305400" y="2787480"/>
              <a:ext cx="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6026040" y="2787480"/>
              <a:ext cx="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032160" y="27939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895800" y="306072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6889320" y="2787480"/>
              <a:ext cx="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6609960" y="2787480"/>
              <a:ext cx="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616440" y="27939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467480" y="306072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7461000" y="2787480"/>
              <a:ext cx="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7181640" y="2787480"/>
              <a:ext cx="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187760" y="27939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038800" y="306072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8032320" y="2787480"/>
              <a:ext cx="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7765920" y="2787480"/>
              <a:ext cx="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772040" y="279396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5879520" y="30607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026040" y="266688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609960" y="2666880"/>
              <a:ext cx="0" cy="2184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181640" y="2666880"/>
              <a:ext cx="0" cy="2184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765920" y="2666880"/>
              <a:ext cx="0" cy="2184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312040" y="2666880"/>
              <a:ext cx="0" cy="2184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111640" y="2768400"/>
              <a:ext cx="660240" cy="207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br>
                <a:rPr sz="1600"/>
              </a:b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SM1</a:t>
              </a:r>
              <a:br>
                <a:rPr sz="1600"/>
              </a:b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600"/>
              </a:b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SM2</a:t>
              </a:r>
              <a:br>
                <a:rPr sz="1600"/>
              </a:b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032160" y="39114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6737040" y="36003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743520" y="3606840"/>
              <a:ext cx="11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905600" y="361296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911720" y="391140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032160" y="473688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7333920" y="4464000"/>
              <a:ext cx="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340400" y="4470480"/>
              <a:ext cx="965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762600" y="3200400"/>
              <a:ext cx="291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333920" y="3200400"/>
              <a:ext cx="2793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880040" y="3200400"/>
              <a:ext cx="291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762600" y="4089240"/>
              <a:ext cx="304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321320" y="4089240"/>
              <a:ext cx="2919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892640" y="4089240"/>
              <a:ext cx="3049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1066680" y="2438280"/>
            <a:ext cx="3035160" cy="1251000"/>
            <a:chOff x="1066680" y="2438280"/>
            <a:chExt cx="3035160" cy="1251000"/>
          </a:xfrm>
        </p:grpSpPr>
        <p:sp>
          <p:nvSpPr>
            <p:cNvPr id="419" name=""/>
            <p:cNvSpPr/>
            <p:nvPr/>
          </p:nvSpPr>
          <p:spPr>
            <a:xfrm>
              <a:off x="1066680" y="2495520"/>
              <a:ext cx="990360" cy="119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225440" y="2946240"/>
              <a:ext cx="6728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SM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098520" y="2495520"/>
              <a:ext cx="1003320" cy="1181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257280" y="2946240"/>
              <a:ext cx="7491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SM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419200" y="243828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419200" y="318744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057040" y="2692440"/>
              <a:ext cx="102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2044440" y="3441600"/>
              <a:ext cx="1054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539640" y="4114800"/>
            <a:ext cx="1981080" cy="2215800"/>
            <a:chOff x="539640" y="4114800"/>
            <a:chExt cx="1981080" cy="2215800"/>
          </a:xfrm>
        </p:grpSpPr>
        <p:grpSp>
          <p:nvGrpSpPr>
            <p:cNvPr id="428" name=""/>
            <p:cNvGrpSpPr/>
            <p:nvPr/>
          </p:nvGrpSpPr>
          <p:grpSpPr>
            <a:xfrm>
              <a:off x="647280" y="4425840"/>
              <a:ext cx="609840" cy="685800"/>
              <a:chOff x="647280" y="4425840"/>
              <a:chExt cx="609840" cy="685800"/>
            </a:xfrm>
          </p:grpSpPr>
          <p:sp>
            <p:nvSpPr>
              <p:cNvPr id="429" name=""/>
              <p:cNvSpPr/>
              <p:nvPr/>
            </p:nvSpPr>
            <p:spPr>
              <a:xfrm>
                <a:off x="647280" y="4425840"/>
                <a:ext cx="609840" cy="685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>
                <a:off x="1091520" y="4946400"/>
                <a:ext cx="12708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1" name=""/>
            <p:cNvSpPr/>
            <p:nvPr/>
          </p:nvSpPr>
          <p:spPr>
            <a:xfrm flipV="1">
              <a:off x="1485720" y="4171320"/>
              <a:ext cx="38088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365120" y="5054400"/>
              <a:ext cx="9903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==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1339560" y="498420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117440" y="45403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174320" y="4470480"/>
              <a:ext cx="3304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39640" y="4114800"/>
              <a:ext cx="7617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=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 flipV="1">
              <a:off x="1472760" y="5924160"/>
              <a:ext cx="39384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104480" y="55180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174320" y="5460840"/>
              <a:ext cx="3304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758600" y="4241880"/>
              <a:ext cx="7621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=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2660760" y="4102200"/>
            <a:ext cx="1993320" cy="2260080"/>
            <a:chOff x="2660760" y="4102200"/>
            <a:chExt cx="1993320" cy="2260080"/>
          </a:xfrm>
        </p:grpSpPr>
        <p:grpSp>
          <p:nvGrpSpPr>
            <p:cNvPr id="442" name=""/>
            <p:cNvGrpSpPr/>
            <p:nvPr/>
          </p:nvGrpSpPr>
          <p:grpSpPr>
            <a:xfrm>
              <a:off x="2857320" y="4413240"/>
              <a:ext cx="609120" cy="685440"/>
              <a:chOff x="2857320" y="4413240"/>
              <a:chExt cx="609120" cy="685440"/>
            </a:xfrm>
          </p:grpSpPr>
          <p:sp>
            <p:nvSpPr>
              <p:cNvPr id="443" name=""/>
              <p:cNvSpPr/>
              <p:nvPr/>
            </p:nvSpPr>
            <p:spPr>
              <a:xfrm>
                <a:off x="2857320" y="4413240"/>
                <a:ext cx="609120" cy="6854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>
                <a:off x="3301200" y="4933440"/>
                <a:ext cx="12672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5" name=""/>
            <p:cNvSpPr/>
            <p:nvPr/>
          </p:nvSpPr>
          <p:spPr>
            <a:xfrm flipV="1">
              <a:off x="3695400" y="4159080"/>
              <a:ext cx="380520" cy="40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574800" y="5041800"/>
              <a:ext cx="977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=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3549240" y="4971960"/>
              <a:ext cx="0" cy="54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327120" y="4527360"/>
              <a:ext cx="456840" cy="45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384360" y="4457520"/>
              <a:ext cx="329760" cy="5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749320" y="4102200"/>
              <a:ext cx="7617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 flipV="1">
              <a:off x="3682800" y="5911560"/>
              <a:ext cx="393120" cy="40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892320" y="4279680"/>
              <a:ext cx="7617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2857320" y="5391000"/>
              <a:ext cx="609120" cy="685440"/>
              <a:chOff x="2857320" y="5391000"/>
              <a:chExt cx="609120" cy="685440"/>
            </a:xfrm>
          </p:grpSpPr>
          <p:sp>
            <p:nvSpPr>
              <p:cNvPr id="454" name=""/>
              <p:cNvSpPr/>
              <p:nvPr/>
            </p:nvSpPr>
            <p:spPr>
              <a:xfrm>
                <a:off x="2857320" y="5391000"/>
                <a:ext cx="609120" cy="6854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H="1">
                <a:off x="3301200" y="5911560"/>
                <a:ext cx="126720" cy="11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6" name=""/>
            <p:cNvSpPr/>
            <p:nvPr/>
          </p:nvSpPr>
          <p:spPr>
            <a:xfrm>
              <a:off x="3327120" y="5505480"/>
              <a:ext cx="456840" cy="45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384360" y="5435640"/>
              <a:ext cx="329760" cy="5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660760" y="6019560"/>
              <a:ext cx="977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=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892320" y="5803920"/>
              <a:ext cx="7617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mmunicating finite state machin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One machine's output is another machine's input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X - Sequential Logic 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C4A8-4D1D-4104-AFB9-784F5F04EB2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2298600" y="3429000"/>
            <a:ext cx="1917720" cy="97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292480" y="3422520"/>
            <a:ext cx="1930320" cy="9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324160" y="5372280"/>
            <a:ext cx="190512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305080" y="5365800"/>
            <a:ext cx="1942920" cy="1003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619440" y="44132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2800080" y="472428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410080" y="5791320"/>
            <a:ext cx="11559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"puppet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800600" y="3581280"/>
            <a:ext cx="36450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"puppeteer who pulls the strings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743200" y="3772080"/>
            <a:ext cx="1015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755800" y="5715000"/>
            <a:ext cx="1016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ta-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536840" y="4483080"/>
            <a:ext cx="10159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u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fo an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051440" y="4483080"/>
            <a:ext cx="12319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gnal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857680" y="4711680"/>
            <a:ext cx="8380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2540160" y="4400280"/>
            <a:ext cx="0" cy="965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2806560" y="440028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102200" y="4413240"/>
            <a:ext cx="0" cy="939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ata-path and contro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Digital hardware systems = data-path + control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tapath: registers, counters, combinational functional units (e.g., ALU)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unication (e.g., buss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rol: FSM generating sequences of control signals that instru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tapath what to do nex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3733920" y="3733920"/>
            <a:ext cx="12952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H="1" flipV="1">
            <a:off x="3886200" y="5867280"/>
            <a:ext cx="144792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X - Sequential Logic 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12A5-8240-4E13-95B2-9CAA2015314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igital combinational lock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Door combination lock: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nch in 3 values in sequence and the door opens; if there is an error the lock must be reset; once the door opens the lock must be rese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puts: sequence of input values, r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s: door open/clo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: must remember combination or always have it availab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 questions: how do you set the internal combination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58840" indent="-231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ored in registers (how loaded?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58840" indent="-231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rdwired via switches set by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X - Sequential Logic 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71CE-90C9-4128-B6C9-808BA4C1F0D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eneral FSM design procedur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(1) Determine inputs and output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(2) Determine possible states of machine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 minimiz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(3) Encode states and outputs into a binary code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 assignment or state encod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 encod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sibly input encoding (if under our contro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(4) Realize logic to implement functions for states and output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binational logic implementation and optimiz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oices made in steps 2 and 3 can have large effect on resulting log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X - Sequential Logic 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466E-68C2-463D-BEC2-5C301183F85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mplementation in softwar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5" name=""/>
          <p:cNvSpPr/>
          <p:nvPr/>
        </p:nvSpPr>
        <p:spPr>
          <a:xfrm>
            <a:off x="457200" y="1523880"/>
            <a:ext cx="817884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18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combination_lock ( 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v1, v2, v3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error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ic integer c[3] = 3, 4, 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!new_value( 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1 = read_value(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v1 != c[1]) then error =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!new_value( 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2 = read_value(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v2 != c[2]) then error =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!new_value( 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3 = read_value(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v2 != c[3]) then error =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error == 1) then return(0); else return (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X - Sequential Logic Case Studi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8CE9-3CE0-4ADD-95A5-04054536302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"/>
          <p:cNvGrpSpPr/>
          <p:nvPr/>
        </p:nvGrpSpPr>
        <p:grpSpPr>
          <a:xfrm>
            <a:off x="2577960" y="3772080"/>
            <a:ext cx="3721320" cy="2476080"/>
            <a:chOff x="2577960" y="3772080"/>
            <a:chExt cx="3721320" cy="2476080"/>
          </a:xfrm>
        </p:grpSpPr>
        <p:sp>
          <p:nvSpPr>
            <p:cNvPr id="487" name=""/>
            <p:cNvSpPr/>
            <p:nvPr/>
          </p:nvSpPr>
          <p:spPr>
            <a:xfrm>
              <a:off x="3956040" y="4540320"/>
              <a:ext cx="18288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521240" y="408312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549760" y="408312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978440" y="408312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749840" y="408312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207040" y="408312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435640" y="3772080"/>
              <a:ext cx="8636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254480" y="3772080"/>
              <a:ext cx="12319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076640" y="5842080"/>
              <a:ext cx="16765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pen/clo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889520" y="545472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178160" y="408312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809880" y="3772080"/>
              <a:ext cx="8510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956040" y="5111640"/>
              <a:ext cx="10152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3943080" y="5226120"/>
              <a:ext cx="12708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3485880" y="521964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577960" y="5041800"/>
              <a:ext cx="8510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etermining details of the specificatio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How many bits per input value?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How many values in sequence?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How do we know a new input value is entered?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What are the states and state transitions of the system?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X - Sequential Logic 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6C75-6B9A-424B-B81F-8A0649E40DA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igital combination lock state diagram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tates: 5 state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present point in execution of machi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ach state has outpu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ransitions: 6 from state to state, 5 self transitions, 1 global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nges of state occur when clock says its o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sed on value of inpu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Inputs: reset, new, results of comparison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Output: open/closed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507" name=""/>
          <p:cNvSpPr/>
          <p:nvPr/>
        </p:nvSpPr>
        <p:spPr>
          <a:xfrm>
            <a:off x="4203720" y="5302080"/>
            <a:ext cx="56520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794200" y="5302080"/>
            <a:ext cx="56376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637000" y="5302080"/>
            <a:ext cx="56484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962440" y="5491080"/>
            <a:ext cx="15033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1==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amp;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541760" y="5491080"/>
            <a:ext cx="15033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2==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amp;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121440" y="5491080"/>
            <a:ext cx="15015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3==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amp;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863880" y="4475160"/>
            <a:ext cx="15051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1!=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amp;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330880" y="4587840"/>
            <a:ext cx="15033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2!=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amp;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572160" y="4587840"/>
            <a:ext cx="15019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3!=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amp;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568600" y="5108400"/>
            <a:ext cx="6778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117880" y="5440320"/>
            <a:ext cx="438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246480" y="5440320"/>
            <a:ext cx="888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3246480" y="4080960"/>
            <a:ext cx="4044960" cy="1365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4822920" y="4080960"/>
            <a:ext cx="2468520" cy="1365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6402240" y="4080960"/>
            <a:ext cx="889200" cy="1365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361280" y="3949560"/>
            <a:ext cx="5634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447920" y="5291280"/>
            <a:ext cx="7142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718240" y="6080040"/>
            <a:ext cx="8031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141800" y="6080040"/>
            <a:ext cx="799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562120" y="6080040"/>
            <a:ext cx="8035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914560" y="4978440"/>
            <a:ext cx="6494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491000" y="4978440"/>
            <a:ext cx="6526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70680" y="4978440"/>
            <a:ext cx="6508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761240" y="4978440"/>
            <a:ext cx="6526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684920" y="3622680"/>
            <a:ext cx="801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148280" y="5108400"/>
            <a:ext cx="67464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822920" y="5440320"/>
            <a:ext cx="888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724360" y="5108400"/>
            <a:ext cx="6778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402240" y="5440320"/>
            <a:ext cx="889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304040" y="5108400"/>
            <a:ext cx="67464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423200" y="5302080"/>
            <a:ext cx="46368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304040" y="3754440"/>
            <a:ext cx="674640" cy="676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7748640" y="3428640"/>
            <a:ext cx="0" cy="351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7521480" y="3428640"/>
            <a:ext cx="0" cy="35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527960" y="3435480"/>
            <a:ext cx="21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2" name=""/>
          <p:cNvCxnSpPr>
            <a:stCxn id="516" idx="3"/>
            <a:endCxn id="516" idx="5"/>
          </p:cNvCxnSpPr>
          <p:nvPr/>
        </p:nvCxnSpPr>
        <p:spPr>
          <a:xfrm flipH="1" rot="16200000">
            <a:off x="2905920" y="5448240"/>
            <a:ext cx="2160" cy="478440"/>
          </a:xfrm>
          <a:prstGeom prst="curvedConnector5">
            <a:avLst>
              <a:gd name="adj1" fmla="val 20700000"/>
              <a:gd name="adj2" fmla="val 50000"/>
              <a:gd name="adj3" fmla="val 207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3" name=""/>
          <p:cNvCxnSpPr>
            <a:stCxn id="532" idx="3"/>
            <a:endCxn id="532" idx="5"/>
          </p:cNvCxnSpPr>
          <p:nvPr/>
        </p:nvCxnSpPr>
        <p:spPr>
          <a:xfrm flipH="1" rot="16200000">
            <a:off x="4483800" y="5448240"/>
            <a:ext cx="2160" cy="478440"/>
          </a:xfrm>
          <a:prstGeom prst="curvedConnector5">
            <a:avLst>
              <a:gd name="adj1" fmla="val 20700000"/>
              <a:gd name="adj2" fmla="val 50000"/>
              <a:gd name="adj3" fmla="val 207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34" idx="3"/>
            <a:endCxn id="534" idx="5"/>
          </p:cNvCxnSpPr>
          <p:nvPr/>
        </p:nvCxnSpPr>
        <p:spPr>
          <a:xfrm flipH="1" rot="16200000">
            <a:off x="6062760" y="5447880"/>
            <a:ext cx="2160" cy="478800"/>
          </a:xfrm>
          <a:prstGeom prst="curvedConnector5">
            <a:avLst>
              <a:gd name="adj1" fmla="val 20700000"/>
              <a:gd name="adj2" fmla="val 49962"/>
              <a:gd name="adj3" fmla="val 207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5" name=""/>
          <p:cNvCxnSpPr>
            <a:stCxn id="536" idx="3"/>
            <a:endCxn id="536" idx="5"/>
          </p:cNvCxnSpPr>
          <p:nvPr/>
        </p:nvCxnSpPr>
        <p:spPr>
          <a:xfrm flipH="1" rot="16200000">
            <a:off x="7639920" y="5448240"/>
            <a:ext cx="2160" cy="478440"/>
          </a:xfrm>
          <a:prstGeom prst="curvedConnector5">
            <a:avLst>
              <a:gd name="adj1" fmla="val 20700000"/>
              <a:gd name="adj2" fmla="val 50000"/>
              <a:gd name="adj3" fmla="val 207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X - Sequential Logic 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71C3-F228-41A3-9B53-0810924915F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"/>
          <p:cNvGrpSpPr/>
          <p:nvPr/>
        </p:nvGrpSpPr>
        <p:grpSpPr>
          <a:xfrm>
            <a:off x="1511280" y="4305240"/>
            <a:ext cx="7632720" cy="2476440"/>
            <a:chOff x="1511280" y="4305240"/>
            <a:chExt cx="7632720" cy="2476440"/>
          </a:xfrm>
        </p:grpSpPr>
        <p:sp>
          <p:nvSpPr>
            <p:cNvPr id="547" name=""/>
            <p:cNvSpPr/>
            <p:nvPr/>
          </p:nvSpPr>
          <p:spPr>
            <a:xfrm>
              <a:off x="6013440" y="5073480"/>
              <a:ext cx="18288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607160" y="46162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213680" y="4317840"/>
              <a:ext cx="8636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121440" y="6375240"/>
              <a:ext cx="15494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pen/clos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921360" y="59878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235560" y="46162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854680" y="4305240"/>
              <a:ext cx="8510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914560" y="443880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600360" y="443880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286160" y="443880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130560" y="5734080"/>
              <a:ext cx="1371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914560" y="5099040"/>
              <a:ext cx="18288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946240" y="4381560"/>
              <a:ext cx="4194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454560" y="4381560"/>
              <a:ext cx="736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140360" y="4381560"/>
              <a:ext cx="736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137040" y="466740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822840" y="466740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508640" y="466740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822840" y="532764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327480" y="5715000"/>
              <a:ext cx="10285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mpar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511280" y="5638680"/>
              <a:ext cx="977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686480" y="5791320"/>
              <a:ext cx="977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qu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352680" y="5079960"/>
              <a:ext cx="9907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ultiplex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489720" y="5359320"/>
              <a:ext cx="8636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rol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991040" y="4724280"/>
              <a:ext cx="8636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ux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4730760" y="5207040"/>
              <a:ext cx="1270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 flipV="1">
              <a:off x="7714800" y="5746320"/>
              <a:ext cx="12708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7728120" y="563256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842240" y="57531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8292960" y="5575320"/>
              <a:ext cx="8510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o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514760" y="5842080"/>
              <a:ext cx="149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495520" y="5842080"/>
              <a:ext cx="63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3079800" y="4743000"/>
              <a:ext cx="10152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3778200" y="4743000"/>
              <a:ext cx="10152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4464000" y="4743000"/>
              <a:ext cx="10152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2698920" y="5771880"/>
              <a:ext cx="10152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603520" y="584208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793960" y="467352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505320" y="4673520"/>
              <a:ext cx="3553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165560" y="4686480"/>
              <a:ext cx="3556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3778200" y="5378040"/>
              <a:ext cx="10152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479760" y="532116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1822320" y="3206880"/>
            <a:ext cx="6553440" cy="3314520"/>
            <a:chOff x="1822320" y="3206880"/>
            <a:chExt cx="6553440" cy="3314520"/>
          </a:xfrm>
        </p:grpSpPr>
        <p:sp>
          <p:nvSpPr>
            <p:cNvPr id="590" name=""/>
            <p:cNvSpPr/>
            <p:nvPr/>
          </p:nvSpPr>
          <p:spPr>
            <a:xfrm>
              <a:off x="1822320" y="3206880"/>
              <a:ext cx="4216680" cy="109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442120" y="4083120"/>
              <a:ext cx="2933640" cy="243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2063880" y="1835280"/>
            <a:ext cx="3238200" cy="4660920"/>
            <a:chOff x="2063880" y="1835280"/>
            <a:chExt cx="3238200" cy="4660920"/>
          </a:xfrm>
        </p:grpSpPr>
        <p:sp>
          <p:nvSpPr>
            <p:cNvPr id="593" name=""/>
            <p:cNvSpPr/>
            <p:nvPr/>
          </p:nvSpPr>
          <p:spPr>
            <a:xfrm>
              <a:off x="2063880" y="1835280"/>
              <a:ext cx="1066680" cy="236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368440" y="4057560"/>
              <a:ext cx="2933640" cy="2438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ata-path and control structur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Data-path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orage registers for combination val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plex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ara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ontrol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nite-state machine controll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rol for data-path (which value to compar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X - Sequential Logic 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CDBA-271D-4532-9B55-63135135664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tate table for combination lock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Finite-state machine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fine state diagram to take internal structure into accou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 table ready for encod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1752480" y="3276720"/>
            <a:ext cx="5854680" cy="2255400"/>
            <a:chOff x="1752480" y="3276720"/>
            <a:chExt cx="5854680" cy="2255400"/>
          </a:xfrm>
        </p:grpSpPr>
        <p:sp>
          <p:nvSpPr>
            <p:cNvPr id="600" name=""/>
            <p:cNvSpPr/>
            <p:nvPr/>
          </p:nvSpPr>
          <p:spPr>
            <a:xfrm>
              <a:off x="1896840" y="3452760"/>
              <a:ext cx="5710320" cy="20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/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752480" y="3929040"/>
              <a:ext cx="551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563720" y="3708360"/>
              <a:ext cx="0" cy="156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647960" y="3276720"/>
              <a:ext cx="789120" cy="58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X - Sequential Logic 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E056-28B3-47D7-B582-B128856BF29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4" name=""/>
          <p:cNvGrpSpPr/>
          <p:nvPr/>
        </p:nvGrpSpPr>
        <p:grpSpPr>
          <a:xfrm>
            <a:off x="399960" y="4610160"/>
            <a:ext cx="5937120" cy="2273400"/>
            <a:chOff x="399960" y="4610160"/>
            <a:chExt cx="5937120" cy="2273400"/>
          </a:xfrm>
        </p:grpSpPr>
        <p:sp>
          <p:nvSpPr>
            <p:cNvPr id="605" name=""/>
            <p:cNvSpPr/>
            <p:nvPr/>
          </p:nvSpPr>
          <p:spPr>
            <a:xfrm>
              <a:off x="545760" y="4775400"/>
              <a:ext cx="579132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/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99960" y="5258160"/>
              <a:ext cx="558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250800" y="5035680"/>
              <a:ext cx="0" cy="158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301920" y="4610160"/>
              <a:ext cx="7999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5257800" y="5499000"/>
            <a:ext cx="3695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x is identical to last 3 bits of st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pen/closed is identical to first bit of st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erefore, we do not even need to implement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Fs to hold state, just use outpu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5784840" y="3124080"/>
            <a:ext cx="3181320" cy="1841400"/>
            <a:chOff x="5784840" y="3124080"/>
            <a:chExt cx="3181320" cy="1841400"/>
          </a:xfrm>
        </p:grpSpPr>
        <p:sp>
          <p:nvSpPr>
            <p:cNvPr id="611" name=""/>
            <p:cNvSpPr/>
            <p:nvPr/>
          </p:nvSpPr>
          <p:spPr>
            <a:xfrm>
              <a:off x="6712200" y="3676320"/>
              <a:ext cx="1320840" cy="660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861320" y="33462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569360" y="3136680"/>
              <a:ext cx="6350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782040" y="4622760"/>
              <a:ext cx="11174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/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365960" y="433692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870960" y="33462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604200" y="3124080"/>
              <a:ext cx="59688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905800" y="4165560"/>
              <a:ext cx="7110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934320" y="3835080"/>
              <a:ext cx="8636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ntrol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969160" y="3390840"/>
              <a:ext cx="69840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ntr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5784840" y="37717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 flipV="1">
              <a:off x="7943760" y="4171320"/>
              <a:ext cx="8892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V="1">
              <a:off x="7956720" y="4082400"/>
              <a:ext cx="633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033040" y="4178160"/>
              <a:ext cx="31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356680" y="4038480"/>
              <a:ext cx="60948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810400" y="422892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ncodings for combination lock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Encode state table</a:t>
            </a:r>
            <a:endParaRPr b="0" lang="en-US" sz="16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e can be: S1, S2, S3, OPEN, or ER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58840" indent="-231840">
              <a:spcBef>
                <a:spcPts val="2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eds at least 3 bits to encode: 000, 001, 010, 011, 10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58840" indent="-231840">
              <a:spcBef>
                <a:spcPts val="2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d as many as 5: 00001, 00010, 00100, 01000, 1000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58840" indent="-231840">
              <a:spcBef>
                <a:spcPts val="2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oose 4 bits: 0001, 0010, 0100, 1000, 000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 mux can be: C1, C2, or C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58840" indent="-231840">
              <a:spcBef>
                <a:spcPts val="2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eds 2 to 3 bits to encod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58840" indent="-231840">
              <a:spcBef>
                <a:spcPts val="2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oose 3 bits: 001, 010, 10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 open/closed can be: open or clos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58840" indent="-231840">
              <a:spcBef>
                <a:spcPts val="2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eds 1 or 2 bits to encod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58840" indent="-231840">
              <a:spcBef>
                <a:spcPts val="2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oose 1 bit: 1, 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X - Sequential Logic 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4B90-E6DA-472A-AE36-ECCDB0666AB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9" name=""/>
          <p:cNvGrpSpPr/>
          <p:nvPr/>
        </p:nvGrpSpPr>
        <p:grpSpPr>
          <a:xfrm>
            <a:off x="228600" y="3759120"/>
            <a:ext cx="4502160" cy="1866960"/>
            <a:chOff x="228600" y="3759120"/>
            <a:chExt cx="4502160" cy="1866960"/>
          </a:xfrm>
        </p:grpSpPr>
        <p:sp>
          <p:nvSpPr>
            <p:cNvPr id="630" name=""/>
            <p:cNvSpPr/>
            <p:nvPr/>
          </p:nvSpPr>
          <p:spPr>
            <a:xfrm>
              <a:off x="1631880" y="381636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317680" y="381636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03480" y="381636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47880" y="5111640"/>
              <a:ext cx="1371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631880" y="4476600"/>
              <a:ext cx="18288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63560" y="3759120"/>
              <a:ext cx="4190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171520" y="3759120"/>
              <a:ext cx="7369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857320" y="3759120"/>
              <a:ext cx="7369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54000" y="404496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539800" y="404496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225600" y="404496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539800" y="470520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044800" y="5092560"/>
              <a:ext cx="10285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mpa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403440" y="5168880"/>
              <a:ext cx="9781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070000" y="4457520"/>
              <a:ext cx="9907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ltiplex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708360" y="4102200"/>
              <a:ext cx="8636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3448080" y="4584600"/>
              <a:ext cx="1270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232080" y="5219640"/>
              <a:ext cx="149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212840" y="5219640"/>
              <a:ext cx="63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1797120" y="412128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2495520" y="412128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V="1">
              <a:off x="3181320" y="412128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1415880" y="5149440"/>
              <a:ext cx="10188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320840" y="521964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11280" y="4051440"/>
              <a:ext cx="3556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222640" y="4051440"/>
              <a:ext cx="3553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882880" y="406404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>
              <a:off x="2495520" y="4755600"/>
              <a:ext cx="10152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197080" y="469908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28600" y="5016600"/>
              <a:ext cx="977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5410080" y="2743200"/>
            <a:ext cx="3657600" cy="4051440"/>
            <a:chOff x="5410080" y="2743200"/>
            <a:chExt cx="3657600" cy="4051440"/>
          </a:xfrm>
        </p:grpSpPr>
        <p:sp>
          <p:nvSpPr>
            <p:cNvPr id="661" name=""/>
            <p:cNvSpPr/>
            <p:nvPr/>
          </p:nvSpPr>
          <p:spPr>
            <a:xfrm>
              <a:off x="6324480" y="2743200"/>
              <a:ext cx="4701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1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807240" y="2743200"/>
              <a:ext cx="736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2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454880" y="2743200"/>
              <a:ext cx="736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3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8204040" y="3187800"/>
              <a:ext cx="8636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410080" y="2743200"/>
              <a:ext cx="9781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524560" y="6388200"/>
              <a:ext cx="977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743520" y="367668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438960" y="36766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445080" y="36702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438960" y="3835440"/>
              <a:ext cx="3042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432480" y="3828960"/>
              <a:ext cx="3171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453000" y="3835440"/>
              <a:ext cx="30492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446880" y="3828960"/>
              <a:ext cx="3171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378560" y="367668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074000" y="36766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080120" y="36702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074000" y="3835440"/>
              <a:ext cx="3042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067520" y="3828960"/>
              <a:ext cx="3171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088040" y="3835440"/>
              <a:ext cx="30492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081920" y="3828960"/>
              <a:ext cx="3171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8013600" y="367668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709040" y="36766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715160" y="36702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709040" y="3835440"/>
              <a:ext cx="3042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702560" y="3828960"/>
              <a:ext cx="3171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723080" y="3835440"/>
              <a:ext cx="30492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716960" y="3828960"/>
              <a:ext cx="3171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086600" y="3861000"/>
              <a:ext cx="279000" cy="93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080120" y="385452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101000" y="3911400"/>
              <a:ext cx="279000" cy="88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094520" y="3904920"/>
              <a:ext cx="291960" cy="90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101000" y="4267800"/>
              <a:ext cx="279000" cy="12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094520" y="426096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226280" y="437508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111800" y="4267800"/>
              <a:ext cx="253800" cy="12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105680" y="426096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172200" y="589896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867280" y="5898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873760" y="589284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>
              <a:off x="5758920" y="5892840"/>
              <a:ext cx="52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867640" y="6057360"/>
              <a:ext cx="304200" cy="27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861160" y="6051240"/>
              <a:ext cx="3171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881680" y="6057360"/>
              <a:ext cx="304200" cy="27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875200" y="6051240"/>
              <a:ext cx="3171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037280" y="4673520"/>
              <a:ext cx="27900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031160" y="4667040"/>
              <a:ext cx="291240" cy="92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023240" y="4673520"/>
              <a:ext cx="27900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017120" y="4667040"/>
              <a:ext cx="291240" cy="92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048440" y="5067000"/>
              <a:ext cx="253800" cy="12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042320" y="506088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037280" y="5067000"/>
              <a:ext cx="279000" cy="12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031160" y="5060880"/>
              <a:ext cx="2912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43840" y="5594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048440" y="5004360"/>
              <a:ext cx="253800" cy="12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042320" y="499752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037280" y="5004360"/>
              <a:ext cx="279000" cy="12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031160" y="4997520"/>
              <a:ext cx="2912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226280" y="5073480"/>
              <a:ext cx="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099200" y="5073480"/>
              <a:ext cx="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654600" y="35496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654600" y="3295440"/>
              <a:ext cx="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642000" y="327672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645160" y="328932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661080" y="3289320"/>
              <a:ext cx="157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527880" y="35496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527880" y="304164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289640" y="35496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289640" y="34225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277040" y="340344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645160" y="3416400"/>
              <a:ext cx="163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296120" y="3416400"/>
              <a:ext cx="93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162920" y="35496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162920" y="304164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924680" y="35496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912080" y="3530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645160" y="3543120"/>
              <a:ext cx="227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931160" y="35431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797600" y="35496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797600" y="304164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861320" y="41212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353360" y="42480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359480" y="4241880"/>
              <a:ext cx="49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226280" y="41212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226280" y="42480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591240" y="41212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99200" y="42480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597720" y="4241880"/>
              <a:ext cx="49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162920" y="56451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210360" y="57722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216480" y="5765760"/>
              <a:ext cx="93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083280" y="57722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956200" y="57722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829120" y="57722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019920" y="63435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226280" y="48196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226280" y="4946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099200" y="4946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892840" y="3041640"/>
              <a:ext cx="0" cy="18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898960" y="4940280"/>
              <a:ext cx="11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81975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ata-path implementation for combination lock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Multiplexer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asy to implement as combinational logic when few inpu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gic can easily get too big for most PL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X - Sequential Logic 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09D0-9484-404B-9C4F-BB875AB501E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"/>
          <p:cNvGrpSpPr/>
          <p:nvPr/>
        </p:nvGrpSpPr>
        <p:grpSpPr>
          <a:xfrm>
            <a:off x="380880" y="4343400"/>
            <a:ext cx="4502160" cy="1866960"/>
            <a:chOff x="380880" y="4343400"/>
            <a:chExt cx="4502160" cy="1866960"/>
          </a:xfrm>
        </p:grpSpPr>
        <p:sp>
          <p:nvSpPr>
            <p:cNvPr id="763" name=""/>
            <p:cNvSpPr/>
            <p:nvPr/>
          </p:nvSpPr>
          <p:spPr>
            <a:xfrm>
              <a:off x="1784160" y="440064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469960" y="440064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155760" y="440064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000160" y="5695920"/>
              <a:ext cx="1371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784160" y="5060880"/>
              <a:ext cx="18288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815840" y="4343400"/>
              <a:ext cx="4190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323800" y="4343400"/>
              <a:ext cx="7369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009600" y="4343400"/>
              <a:ext cx="7369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006280" y="462924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692080" y="462924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377880" y="462924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692080" y="528948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197080" y="5676840"/>
              <a:ext cx="10285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mpa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555720" y="5753160"/>
              <a:ext cx="9781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222280" y="5041800"/>
              <a:ext cx="9907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ltiplex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860640" y="4686480"/>
              <a:ext cx="8636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3600360" y="5168880"/>
              <a:ext cx="1270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384360" y="5803920"/>
              <a:ext cx="149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365120" y="5803920"/>
              <a:ext cx="63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>
              <a:off x="1949400" y="470556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V="1">
              <a:off x="2647800" y="470556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333600" y="470556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>
              <a:off x="1568160" y="5733720"/>
              <a:ext cx="10188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473120" y="580392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663560" y="4635720"/>
              <a:ext cx="3556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374920" y="4635720"/>
              <a:ext cx="3553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035160" y="464832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V="1">
              <a:off x="2647800" y="5339880"/>
              <a:ext cx="10152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349360" y="528336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80880" y="5600880"/>
              <a:ext cx="977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5359320" y="2730600"/>
            <a:ext cx="3695760" cy="3009960"/>
            <a:chOff x="5359320" y="2730600"/>
            <a:chExt cx="3695760" cy="3009960"/>
          </a:xfrm>
        </p:grpSpPr>
        <p:sp>
          <p:nvSpPr>
            <p:cNvPr id="794" name=""/>
            <p:cNvSpPr/>
            <p:nvPr/>
          </p:nvSpPr>
          <p:spPr>
            <a:xfrm>
              <a:off x="6273720" y="2730600"/>
              <a:ext cx="4701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1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756480" y="2730600"/>
              <a:ext cx="736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2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404120" y="2730600"/>
              <a:ext cx="736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3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8191440" y="3149640"/>
              <a:ext cx="8636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359320" y="2730600"/>
              <a:ext cx="9781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511960" y="5334120"/>
              <a:ext cx="977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848200" y="48006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>
              <a:off x="5670360" y="4800600"/>
              <a:ext cx="787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842080" y="4965840"/>
              <a:ext cx="3042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856120" y="4965840"/>
              <a:ext cx="30492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326280" y="3708360"/>
              <a:ext cx="27900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319800" y="3701880"/>
              <a:ext cx="291960" cy="92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311880" y="3708360"/>
              <a:ext cx="27900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305400" y="3701880"/>
              <a:ext cx="291960" cy="92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337080" y="4101840"/>
              <a:ext cx="253800" cy="12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330960" y="409572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326280" y="4101840"/>
              <a:ext cx="279000" cy="12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319800" y="409572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432480" y="462924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337080" y="4039200"/>
              <a:ext cx="253800" cy="12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330960" y="403236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326280" y="4039200"/>
              <a:ext cx="279000" cy="12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319800" y="403236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515280" y="4108680"/>
              <a:ext cx="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388200" y="4108680"/>
              <a:ext cx="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>
              <a:off x="6508800" y="367668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 flipV="1">
              <a:off x="6381720" y="3664080"/>
              <a:ext cx="1396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394320" y="367020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622920" y="370224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7143840" y="367668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 flipV="1">
              <a:off x="7016760" y="3664080"/>
              <a:ext cx="1396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029360" y="367020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257960" y="370224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7728120" y="367668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 flipV="1">
              <a:off x="7601040" y="3664080"/>
              <a:ext cx="1396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613640" y="367020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842240" y="370224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587920" y="4178520"/>
              <a:ext cx="24156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676840" y="43624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683320" y="442584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5632200" y="4438800"/>
              <a:ext cx="8892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645160" y="4476960"/>
              <a:ext cx="6336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5632200" y="4514760"/>
              <a:ext cx="8892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645160" y="4552920"/>
              <a:ext cx="6336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5632200" y="4591080"/>
              <a:ext cx="8892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45160" y="4629240"/>
              <a:ext cx="2556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676840" y="4654440"/>
              <a:ext cx="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734240" y="35370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734240" y="302904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451560" y="46800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184800" y="46800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058080" y="46800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31000" y="46800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994360" y="4807080"/>
              <a:ext cx="0" cy="55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515280" y="385452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502320" y="3962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149960" y="385452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137360" y="3962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734240" y="385452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515280" y="39816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521400" y="3975120"/>
              <a:ext cx="62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156440" y="3975120"/>
              <a:ext cx="57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388200" y="39816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873760" y="3975120"/>
              <a:ext cx="50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867280" y="3029040"/>
              <a:ext cx="0" cy="9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686640" y="372132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619600" y="327672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756480" y="326412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775560" y="3276720"/>
              <a:ext cx="146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769080" y="3282840"/>
              <a:ext cx="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515280" y="35370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515280" y="302904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321680" y="372132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619600" y="3403800"/>
              <a:ext cx="177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391520" y="339084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410600" y="340380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404120" y="340992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149960" y="35370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149960" y="302904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893000" y="372132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619600" y="3530520"/>
              <a:ext cx="236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975440" y="35179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994520" y="353052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988400" y="353700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676840" y="46800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981760" y="47880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045120" y="47880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172200" y="47880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918040" y="47880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3" name=""/>
          <p:cNvSpPr/>
          <p:nvPr/>
        </p:nvSpPr>
        <p:spPr>
          <a:xfrm>
            <a:off x="7245360" y="3841920"/>
            <a:ext cx="520560" cy="111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140520" y="4883040"/>
            <a:ext cx="412560" cy="1060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121440" y="4178160"/>
            <a:ext cx="6732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597560" y="5867280"/>
            <a:ext cx="44956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-collector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zero whenever one connection is zero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e otherwise – wired AN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819840" y="4991040"/>
            <a:ext cx="20955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i-state dri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can disconnec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m outpu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ata-path implementation (cont’d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ri-state logic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tilize a third output state: “no connection” or “float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nect outputs together as long as only one is “enabled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-collector gates ca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ly output 0, not 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96920" indent="-231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n be used to impleme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gical AND with only wir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X - Sequential Logic 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DDA2-C9D6-4CBB-A5E6-A215EB3FF2F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"/>
          <p:cNvSpPr/>
          <p:nvPr/>
        </p:nvSpPr>
        <p:spPr>
          <a:xfrm>
            <a:off x="6400800" y="35053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1" name=""/>
          <p:cNvGrpSpPr/>
          <p:nvPr/>
        </p:nvGrpSpPr>
        <p:grpSpPr>
          <a:xfrm>
            <a:off x="2114640" y="5308560"/>
            <a:ext cx="1606320" cy="1523880"/>
            <a:chOff x="2114640" y="5308560"/>
            <a:chExt cx="1606320" cy="1523880"/>
          </a:xfrm>
        </p:grpSpPr>
        <p:sp>
          <p:nvSpPr>
            <p:cNvPr id="892" name=""/>
            <p:cNvSpPr/>
            <p:nvPr/>
          </p:nvSpPr>
          <p:spPr>
            <a:xfrm>
              <a:off x="2114640" y="5625720"/>
              <a:ext cx="149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162240" y="5365440"/>
              <a:ext cx="0" cy="113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184480" y="5308560"/>
              <a:ext cx="153648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102888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5" name=""/>
          <p:cNvSpPr/>
          <p:nvPr/>
        </p:nvSpPr>
        <p:spPr>
          <a:xfrm>
            <a:off x="393840" y="5562720"/>
            <a:ext cx="148572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n-inve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i-stat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1"/>
          <a:srcRect l="3168" t="0" r="0" b="0"/>
          <a:stretch/>
        </p:blipFill>
        <p:spPr>
          <a:xfrm>
            <a:off x="4267080" y="5207040"/>
            <a:ext cx="4660920" cy="1434960"/>
          </a:xfrm>
          <a:prstGeom prst="rect">
            <a:avLst/>
          </a:prstGeom>
          <a:ln w="0">
            <a:noFill/>
          </a:ln>
        </p:spPr>
      </p:pic>
      <p:sp>
        <p:nvSpPr>
          <p:cNvPr id="897" name=""/>
          <p:cNvSpPr/>
          <p:nvPr/>
        </p:nvSpPr>
        <p:spPr>
          <a:xfrm>
            <a:off x="8331120" y="5194440"/>
            <a:ext cx="7239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038480" y="5626080"/>
            <a:ext cx="622440" cy="97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8292960" y="5105520"/>
            <a:ext cx="8128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4254480" y="5562720"/>
            <a:ext cx="52056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ri-state gat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The third value</a:t>
            </a:r>
            <a:endParaRPr b="0" lang="en-US" sz="16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 values: “0”, “1”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n't care: “X” (must be 0 or 1 in real circuit!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ird value or state: “Z” — high impedance, infinite R, no connec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Tri-state gates</a:t>
            </a:r>
            <a:endParaRPr b="0" lang="en-US" sz="16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dditional input – output enable (O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 values are 0, 1, and Z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n OE is high, the gate functions normal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n OE is low, the gate is disconnected from wire at outpu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lows more than one gate to be connected to the same output wi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58840" indent="-231840">
              <a:spcBef>
                <a:spcPts val="2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s long as only one has its output enabled at any one time (otherwise, sparks could fl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3" name=""/>
          <p:cNvSpPr/>
          <p:nvPr/>
        </p:nvSpPr>
        <p:spPr>
          <a:xfrm rot="5400000">
            <a:off x="7200720" y="3162240"/>
            <a:ext cx="609480" cy="685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V="1">
            <a:off x="7467480" y="2971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019200" y="3352680"/>
            <a:ext cx="37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8468280" y="335268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477200" y="28954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X - Sequential Logic 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C41E-8C53-4244-9191-380EAFEE994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5295960" y="4343400"/>
            <a:ext cx="3263760" cy="18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n Select is high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1 is connected to 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n Select is low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0 is connected to 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is is essentially a 2:1 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9" name=""/>
          <p:cNvGrpSpPr/>
          <p:nvPr/>
        </p:nvGrpSpPr>
        <p:grpSpPr>
          <a:xfrm>
            <a:off x="901800" y="3816360"/>
            <a:ext cx="4254480" cy="3193560"/>
            <a:chOff x="901800" y="3816360"/>
            <a:chExt cx="4254480" cy="3193560"/>
          </a:xfrm>
        </p:grpSpPr>
        <p:sp>
          <p:nvSpPr>
            <p:cNvPr id="910" name=""/>
            <p:cNvSpPr/>
            <p:nvPr/>
          </p:nvSpPr>
          <p:spPr>
            <a:xfrm>
              <a:off x="3079800" y="3816360"/>
              <a:ext cx="291960" cy="19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V="1">
              <a:off x="3079800" y="4006440"/>
              <a:ext cx="291960" cy="22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073320" y="3816360"/>
              <a:ext cx="0" cy="40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470320" y="4844880"/>
              <a:ext cx="291960" cy="19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V="1">
              <a:off x="2470320" y="5034960"/>
              <a:ext cx="29196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463840" y="4844880"/>
              <a:ext cx="0" cy="39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876400" y="4012920"/>
              <a:ext cx="1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063880" y="4012920"/>
              <a:ext cx="79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266920" y="504180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063880" y="504180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774880" y="50418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409920" y="401292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657600" y="4000320"/>
              <a:ext cx="50760" cy="50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689280" y="401292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079800" y="5041800"/>
              <a:ext cx="59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683160" y="4019400"/>
              <a:ext cx="0" cy="101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892680" y="4012920"/>
              <a:ext cx="59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>
              <a:off x="3238560" y="4120560"/>
              <a:ext cx="0" cy="18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V="1">
              <a:off x="2641680" y="5136840"/>
              <a:ext cx="0" cy="124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V="1">
              <a:off x="2641680" y="6368400"/>
              <a:ext cx="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139840" y="654012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629080" y="6514920"/>
              <a:ext cx="37800" cy="50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755800" y="4216320"/>
              <a:ext cx="53352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158920" y="5232240"/>
              <a:ext cx="50796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4" name=""/>
            <p:cNvGrpSpPr/>
            <p:nvPr/>
          </p:nvGrpSpPr>
          <p:grpSpPr>
            <a:xfrm>
              <a:off x="3054240" y="5987880"/>
              <a:ext cx="406440" cy="392400"/>
              <a:chOff x="3054240" y="5987880"/>
              <a:chExt cx="406440" cy="392400"/>
            </a:xfrm>
          </p:grpSpPr>
          <p:sp>
            <p:nvSpPr>
              <p:cNvPr id="935" name=""/>
              <p:cNvSpPr/>
              <p:nvPr/>
            </p:nvSpPr>
            <p:spPr>
              <a:xfrm flipV="1">
                <a:off x="3054240" y="6063120"/>
                <a:ext cx="190440" cy="317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flipH="1" flipV="1">
                <a:off x="3244680" y="6063120"/>
                <a:ext cx="216000" cy="317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3054240" y="6374880"/>
                <a:ext cx="393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219480" y="5987880"/>
                <a:ext cx="76320" cy="75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9" name=""/>
            <p:cNvSpPr/>
            <p:nvPr/>
          </p:nvSpPr>
          <p:spPr>
            <a:xfrm flipV="1">
              <a:off x="3251160" y="639432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597560" y="3822480"/>
              <a:ext cx="558720" cy="65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901800" y="3848040"/>
              <a:ext cx="1104840" cy="65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952560" y="4889160"/>
              <a:ext cx="110484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965160" y="6349680"/>
              <a:ext cx="110484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l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ri-state and multiplexing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When using tri-state logic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1) make sure never more than one "driver" for a wire at any one tim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pulling high and low at the same time can severely damage circuit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2) make sure to only use value on wire when its being driven (using a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loating value may cause failur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Using tri-state gates to implement an economical multiplexer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X - Sequential Logic 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9992-8769-4117-8AD9-C91B51554AD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inite string pattern recognizer (step 1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Finite string pattern recognizer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e input (X) and one output (Z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 is asserted whenever the input sequence …010… has bee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served, as long as the sequence 100 has never been se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tep 1: understanding the problem statement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ample input/output behavior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:   0 0 1 0 1 0 1 0 0 1 0 …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:   0 0 0 1 0 1 0 1 0 0 0 …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:   1 1 0 1 1 0 1 0 0 1 0 …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:   0 0 0 0 0 0 0 1 0 0 0 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X - Sequential Logic 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A351-7033-480F-B9F5-4B52B7924B1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"/>
          <p:cNvSpPr/>
          <p:nvPr/>
        </p:nvSpPr>
        <p:spPr>
          <a:xfrm>
            <a:off x="3943440" y="562608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3943440" y="593100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flipV="1">
            <a:off x="3936960" y="561960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115160" y="5640480"/>
            <a:ext cx="2786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108680" y="5634000"/>
            <a:ext cx="2916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114800" y="5651640"/>
            <a:ext cx="27900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4108320" y="5645520"/>
            <a:ext cx="291960" cy="29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406760" y="5765760"/>
            <a:ext cx="38160" cy="38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400640" y="5759280"/>
            <a:ext cx="50760" cy="5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V="1">
            <a:off x="4394160" y="564480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V="1">
            <a:off x="4635360" y="558144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V="1">
            <a:off x="4641840" y="5568480"/>
            <a:ext cx="2556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H="1" flipV="1">
            <a:off x="4590720" y="5530680"/>
            <a:ext cx="88920" cy="5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flipV="1">
            <a:off x="4603680" y="5492520"/>
            <a:ext cx="6372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H="1" flipV="1">
            <a:off x="4590720" y="5454360"/>
            <a:ext cx="8892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V="1">
            <a:off x="4603680" y="5416200"/>
            <a:ext cx="6372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H="1" flipV="1">
            <a:off x="4590720" y="5378040"/>
            <a:ext cx="8892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V="1">
            <a:off x="4603680" y="5352840"/>
            <a:ext cx="25560" cy="3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flipV="1">
            <a:off x="4635360" y="5327640"/>
            <a:ext cx="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5" name="" descr=""/>
          <p:cNvPicPr/>
          <p:nvPr/>
        </p:nvPicPr>
        <p:blipFill>
          <a:blip r:embed="rId1"/>
          <a:stretch/>
        </p:blipFill>
        <p:spPr>
          <a:xfrm>
            <a:off x="4521240" y="4863960"/>
            <a:ext cx="482400" cy="152640"/>
          </a:xfrm>
          <a:prstGeom prst="rect">
            <a:avLst/>
          </a:prstGeom>
          <a:ln w="0">
            <a:noFill/>
          </a:ln>
        </p:spPr>
      </p:pic>
      <p:sp>
        <p:nvSpPr>
          <p:cNvPr id="966" name=""/>
          <p:cNvSpPr/>
          <p:nvPr/>
        </p:nvSpPr>
        <p:spPr>
          <a:xfrm flipV="1">
            <a:off x="4635360" y="5086440"/>
            <a:ext cx="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7" name=""/>
          <p:cNvGrpSpPr/>
          <p:nvPr/>
        </p:nvGrpSpPr>
        <p:grpSpPr>
          <a:xfrm>
            <a:off x="4578480" y="5009760"/>
            <a:ext cx="114120" cy="75960"/>
            <a:chOff x="4578480" y="5009760"/>
            <a:chExt cx="114120" cy="75960"/>
          </a:xfrm>
        </p:grpSpPr>
        <p:sp>
          <p:nvSpPr>
            <p:cNvPr id="968" name=""/>
            <p:cNvSpPr/>
            <p:nvPr/>
          </p:nvSpPr>
          <p:spPr>
            <a:xfrm>
              <a:off x="4578480" y="50799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V="1">
              <a:off x="4578480" y="5009760"/>
              <a:ext cx="5040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641840" y="5022720"/>
              <a:ext cx="5040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1" name=""/>
          <p:cNvSpPr/>
          <p:nvPr/>
        </p:nvSpPr>
        <p:spPr>
          <a:xfrm>
            <a:off x="4635360" y="5137200"/>
            <a:ext cx="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943440" y="619776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943440" y="650232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flipV="1">
            <a:off x="3936960" y="619128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115160" y="6211800"/>
            <a:ext cx="2786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4108680" y="6205680"/>
            <a:ext cx="2916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114800" y="6222960"/>
            <a:ext cx="27900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108320" y="6216480"/>
            <a:ext cx="29196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406760" y="6337440"/>
            <a:ext cx="38160" cy="37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400640" y="6330960"/>
            <a:ext cx="50760" cy="5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flipV="1">
            <a:off x="4394160" y="621612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816360" y="57150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3435480" y="571500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4" name="" descr=""/>
          <p:cNvPicPr/>
          <p:nvPr/>
        </p:nvPicPr>
        <p:blipFill>
          <a:blip r:embed="rId2"/>
          <a:stretch/>
        </p:blipFill>
        <p:spPr>
          <a:xfrm>
            <a:off x="3454560" y="5575320"/>
            <a:ext cx="482400" cy="152280"/>
          </a:xfrm>
          <a:prstGeom prst="rect">
            <a:avLst/>
          </a:prstGeom>
          <a:ln w="0">
            <a:noFill/>
          </a:ln>
        </p:spPr>
      </p:pic>
      <p:sp>
        <p:nvSpPr>
          <p:cNvPr id="985" name=""/>
          <p:cNvSpPr/>
          <p:nvPr/>
        </p:nvSpPr>
        <p:spPr>
          <a:xfrm>
            <a:off x="3816360" y="58420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435480" y="584208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7" name="" descr=""/>
          <p:cNvPicPr/>
          <p:nvPr/>
        </p:nvPicPr>
        <p:blipFill>
          <a:blip r:embed="rId3"/>
          <a:stretch/>
        </p:blipFill>
        <p:spPr>
          <a:xfrm>
            <a:off x="3454560" y="5829480"/>
            <a:ext cx="482400" cy="152280"/>
          </a:xfrm>
          <a:prstGeom prst="rect">
            <a:avLst/>
          </a:prstGeom>
          <a:ln w="0">
            <a:noFill/>
          </a:ln>
        </p:spPr>
      </p:pic>
      <p:sp>
        <p:nvSpPr>
          <p:cNvPr id="988" name=""/>
          <p:cNvSpPr/>
          <p:nvPr/>
        </p:nvSpPr>
        <p:spPr>
          <a:xfrm>
            <a:off x="4635360" y="521352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4635360" y="51498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816360" y="62866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435480" y="628668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2" name="" descr=""/>
          <p:cNvPicPr/>
          <p:nvPr/>
        </p:nvPicPr>
        <p:blipFill>
          <a:blip r:embed="rId4"/>
          <a:stretch/>
        </p:blipFill>
        <p:spPr>
          <a:xfrm>
            <a:off x="3454560" y="6146640"/>
            <a:ext cx="482400" cy="152640"/>
          </a:xfrm>
          <a:prstGeom prst="rect">
            <a:avLst/>
          </a:prstGeom>
          <a:ln w="0">
            <a:noFill/>
          </a:ln>
        </p:spPr>
      </p:pic>
      <p:sp>
        <p:nvSpPr>
          <p:cNvPr id="993" name=""/>
          <p:cNvSpPr/>
          <p:nvPr/>
        </p:nvSpPr>
        <p:spPr>
          <a:xfrm>
            <a:off x="3816360" y="64134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435480" y="641340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5" name="" descr=""/>
          <p:cNvPicPr/>
          <p:nvPr/>
        </p:nvPicPr>
        <p:blipFill>
          <a:blip r:embed="rId5"/>
          <a:stretch/>
        </p:blipFill>
        <p:spPr>
          <a:xfrm>
            <a:off x="3454560" y="6400800"/>
            <a:ext cx="482400" cy="152280"/>
          </a:xfrm>
          <a:prstGeom prst="rect">
            <a:avLst/>
          </a:prstGeom>
          <a:ln w="0">
            <a:noFill/>
          </a:ln>
        </p:spPr>
      </p:pic>
      <p:sp>
        <p:nvSpPr>
          <p:cNvPr id="996" name=""/>
          <p:cNvSpPr/>
          <p:nvPr/>
        </p:nvSpPr>
        <p:spPr>
          <a:xfrm>
            <a:off x="4451400" y="63500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451400" y="57783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4635360" y="565776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4622760" y="576576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4578480" y="5778360"/>
            <a:ext cx="5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4622760" y="576576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4641840" y="5778360"/>
            <a:ext cx="241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4635360" y="578484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578480" y="6350040"/>
            <a:ext cx="5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5" name="" descr=""/>
          <p:cNvPicPr/>
          <p:nvPr/>
        </p:nvPicPr>
        <p:blipFill>
          <a:blip r:embed="rId6"/>
          <a:stretch/>
        </p:blipFill>
        <p:spPr>
          <a:xfrm>
            <a:off x="4724280" y="5892840"/>
            <a:ext cx="482760" cy="152280"/>
          </a:xfrm>
          <a:prstGeom prst="rect">
            <a:avLst/>
          </a:prstGeom>
          <a:ln w="0">
            <a:noFill/>
          </a:ln>
        </p:spPr>
      </p:pic>
      <p:sp>
        <p:nvSpPr>
          <p:cNvPr id="1006" name=""/>
          <p:cNvSpPr/>
          <p:nvPr/>
        </p:nvSpPr>
        <p:spPr>
          <a:xfrm>
            <a:off x="1181160" y="5753160"/>
            <a:ext cx="19303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-collecto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AND g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5245200" y="5600880"/>
            <a:ext cx="29080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th ouputs wired toge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ing "wired-AND"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 form (AB)'(CD)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pen-collector gates and wired-AND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5280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Open collector: another way to connect gate outputs to the same wire</a:t>
            </a:r>
            <a:endParaRPr b="0" lang="en-US" sz="16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ate only has the ability to pull its output lo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t cannot actively drive the wire high (default – pulled high through resistor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Wired-AND can be implemented with open collector logic</a:t>
            </a:r>
            <a:endParaRPr b="0" lang="en-US" sz="16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f A and B are "1", output is actively pulled lo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f C and D are "1", output is actively pulled lo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f one gate output is low and the other high, then low wi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f both gate outputs are "1", the wire value "floats", pulled high by resisto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58840" indent="-231840">
              <a:spcBef>
                <a:spcPts val="2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w to high transition usually slower than it would have been with a gate pulling hig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ence, the two NAND functions are ANDed togeth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X - Sequential Logic 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FFAB-8CD4-46A3-BAD6-D386E3E5625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0" name=""/>
          <p:cNvGrpSpPr/>
          <p:nvPr/>
        </p:nvGrpSpPr>
        <p:grpSpPr>
          <a:xfrm>
            <a:off x="3232080" y="3733920"/>
            <a:ext cx="5149800" cy="2869560"/>
            <a:chOff x="3232080" y="3733920"/>
            <a:chExt cx="5149800" cy="2869560"/>
          </a:xfrm>
        </p:grpSpPr>
        <p:sp>
          <p:nvSpPr>
            <p:cNvPr id="1011" name=""/>
            <p:cNvSpPr/>
            <p:nvPr/>
          </p:nvSpPr>
          <p:spPr>
            <a:xfrm>
              <a:off x="5283000" y="4793760"/>
              <a:ext cx="457200" cy="228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968800" y="4793760"/>
              <a:ext cx="457200" cy="228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654600" y="4793760"/>
              <a:ext cx="457200" cy="228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499000" y="6089400"/>
              <a:ext cx="1371600" cy="228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283000" y="5454360"/>
              <a:ext cx="1828800" cy="228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314680" y="4736880"/>
              <a:ext cx="41940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823000" y="4736880"/>
              <a:ext cx="7365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508800" y="4736880"/>
              <a:ext cx="7365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505480" y="502236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191280" y="502236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877080" y="502236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191280" y="568296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695920" y="6070320"/>
              <a:ext cx="102852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mpar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3232080" y="5994000"/>
              <a:ext cx="9777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7054920" y="614664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qu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721120" y="5435280"/>
              <a:ext cx="990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ultiplex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359480" y="5079600"/>
              <a:ext cx="8636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ux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H="1">
              <a:off x="7099200" y="5562360"/>
              <a:ext cx="1270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6883200" y="6197400"/>
              <a:ext cx="149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267080" y="6197400"/>
              <a:ext cx="123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V="1">
              <a:off x="5448240" y="509868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V="1">
              <a:off x="6146640" y="509868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V="1">
              <a:off x="6832440" y="509868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V="1">
              <a:off x="4521240" y="6127200"/>
              <a:ext cx="101520" cy="12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425840" y="6197400"/>
              <a:ext cx="3556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162400" y="5028840"/>
              <a:ext cx="3556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873760" y="5028840"/>
              <a:ext cx="3553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534000" y="5041440"/>
              <a:ext cx="3556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 flipV="1">
              <a:off x="6146640" y="573372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848200" y="5676480"/>
              <a:ext cx="3556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 flipV="1">
              <a:off x="4921200" y="4438440"/>
              <a:ext cx="0" cy="176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927320" y="4444560"/>
              <a:ext cx="1943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505480" y="4451040"/>
              <a:ext cx="0" cy="34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191280" y="4451040"/>
              <a:ext cx="0" cy="34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877080" y="4451040"/>
              <a:ext cx="0" cy="34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790960" y="49017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6476760" y="49017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105160" y="49017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V="1">
              <a:off x="6470640" y="4019400"/>
              <a:ext cx="0" cy="88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V="1">
              <a:off x="5784840" y="4019400"/>
              <a:ext cx="0" cy="88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V="1">
              <a:off x="5099040" y="4019400"/>
              <a:ext cx="0" cy="88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768920" y="3733920"/>
              <a:ext cx="7365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d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454720" y="3733920"/>
              <a:ext cx="7365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d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127560" y="3733920"/>
              <a:ext cx="7365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d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igital combination lock (new data-path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Decrease number of input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Remove 3 code digits as input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 code regist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ke them loadable from val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ed 3 load signal inputs (net gain in input (4*3)–3=9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58840" indent="-231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uld be done with 2 signals and decod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d1, ld2, ld3, load non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X - Sequential Logic 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2CA3-1C50-4802-B223-9CC6BEE841B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ction summary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FSM design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derstanding the proble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nerating state diagra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unicating state machin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Four case studie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derstand I/O behavi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aw diagra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umerate states for the "goal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pand with error condi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use states whenever possib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X - Sequential Logic 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6353-822B-4E87-B6BD-7AA3CE8922E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inite string pattern recognizer (step 2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tep 2: draw state diagram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the strings that must be recognized, i.e., 010 and 1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Moore implemen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5486400" y="3251160"/>
            <a:ext cx="905040" cy="3098880"/>
            <a:chOff x="5486400" y="3251160"/>
            <a:chExt cx="905040" cy="3098880"/>
          </a:xfrm>
        </p:grpSpPr>
        <p:sp>
          <p:nvSpPr>
            <p:cNvPr id="93" name=""/>
            <p:cNvSpPr/>
            <p:nvPr/>
          </p:nvSpPr>
          <p:spPr>
            <a:xfrm>
              <a:off x="5715000" y="3657600"/>
              <a:ext cx="3430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15000" y="4699080"/>
              <a:ext cx="3430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791320" y="325116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486400" y="416556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15000" y="5791320"/>
              <a:ext cx="3430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486400" y="525780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638680" y="3657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638680" y="4724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638680" y="5791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2" name=""/>
            <p:cNvCxnSpPr>
              <a:stCxn id="103" idx="3"/>
              <a:endCxn id="99" idx="7"/>
            </p:cNvCxnSpPr>
            <p:nvPr/>
          </p:nvCxnSpPr>
          <p:spPr>
            <a:xfrm flipH="1">
              <a:off x="6029280" y="3285720"/>
              <a:ext cx="362520" cy="438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4" name=""/>
            <p:cNvCxnSpPr>
              <a:stCxn id="100" idx="4"/>
              <a:endCxn id="101" idx="0"/>
            </p:cNvCxnSpPr>
            <p:nvPr/>
          </p:nvCxnSpPr>
          <p:spPr>
            <a:xfrm>
              <a:off x="5866920" y="5181480"/>
              <a:ext cx="1080" cy="610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5" name=""/>
            <p:cNvCxnSpPr>
              <a:stCxn id="99" idx="4"/>
              <a:endCxn id="100" idx="0"/>
            </p:cNvCxnSpPr>
            <p:nvPr/>
          </p:nvCxnSpPr>
          <p:spPr>
            <a:xfrm>
              <a:off x="5866920" y="4114440"/>
              <a:ext cx="1080" cy="61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06" name=""/>
          <p:cNvGrpSpPr/>
          <p:nvPr/>
        </p:nvGrpSpPr>
        <p:grpSpPr>
          <a:xfrm>
            <a:off x="6705720" y="3251160"/>
            <a:ext cx="1955520" cy="3225240"/>
            <a:chOff x="6705720" y="3251160"/>
            <a:chExt cx="1955520" cy="3225240"/>
          </a:xfrm>
        </p:grpSpPr>
        <p:sp>
          <p:nvSpPr>
            <p:cNvPr id="107" name=""/>
            <p:cNvSpPr/>
            <p:nvPr/>
          </p:nvSpPr>
          <p:spPr>
            <a:xfrm>
              <a:off x="7086600" y="3657600"/>
              <a:ext cx="3430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705720" y="325116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924680" y="5791320"/>
              <a:ext cx="736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or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86600" y="4724280"/>
              <a:ext cx="34308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58000" y="419112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58000" y="525780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86600" y="5791320"/>
              <a:ext cx="3430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10280" y="3657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10280" y="4724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10280" y="5791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7" name=""/>
            <p:cNvCxnSpPr>
              <a:stCxn id="103" idx="5"/>
              <a:endCxn id="114" idx="1"/>
            </p:cNvCxnSpPr>
            <p:nvPr/>
          </p:nvCxnSpPr>
          <p:spPr>
            <a:xfrm>
              <a:off x="6715080" y="3285720"/>
              <a:ext cx="362520" cy="438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8" name=""/>
            <p:cNvCxnSpPr>
              <a:stCxn id="114" idx="4"/>
              <a:endCxn id="115" idx="0"/>
            </p:cNvCxnSpPr>
            <p:nvPr/>
          </p:nvCxnSpPr>
          <p:spPr>
            <a:xfrm>
              <a:off x="7238520" y="4114440"/>
              <a:ext cx="1080" cy="61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9" name=""/>
            <p:cNvCxnSpPr>
              <a:stCxn id="115" idx="4"/>
              <a:endCxn id="116" idx="0"/>
            </p:cNvCxnSpPr>
            <p:nvPr/>
          </p:nvCxnSpPr>
          <p:spPr>
            <a:xfrm>
              <a:off x="7238520" y="5181480"/>
              <a:ext cx="1080" cy="610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0" name=""/>
            <p:cNvCxnSpPr>
              <a:stCxn id="116" idx="5"/>
              <a:endCxn id="116" idx="7"/>
            </p:cNvCxnSpPr>
            <p:nvPr/>
          </p:nvCxnSpPr>
          <p:spPr>
            <a:xfrm flipH="1" flipV="1" rot="5400000">
              <a:off x="7238880" y="6018120"/>
              <a:ext cx="324360" cy="2520"/>
            </a:xfrm>
            <a:prstGeom prst="curvedConnector5">
              <a:avLst>
                <a:gd name="adj1" fmla="val -91111"/>
                <a:gd name="adj2" fmla="val 17083333"/>
                <a:gd name="adj3" fmla="val -9111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21" name=""/>
          <p:cNvGrpSpPr/>
          <p:nvPr/>
        </p:nvGrpSpPr>
        <p:grpSpPr>
          <a:xfrm>
            <a:off x="4952880" y="2819520"/>
            <a:ext cx="1828800" cy="609480"/>
            <a:chOff x="4952880" y="2819520"/>
            <a:chExt cx="1828800" cy="609480"/>
          </a:xfrm>
        </p:grpSpPr>
        <p:sp>
          <p:nvSpPr>
            <p:cNvPr id="122" name=""/>
            <p:cNvSpPr/>
            <p:nvPr/>
          </p:nvSpPr>
          <p:spPr>
            <a:xfrm>
              <a:off x="6400800" y="2870280"/>
              <a:ext cx="3430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952880" y="2819520"/>
              <a:ext cx="9781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2448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10080" y="31240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X - Sequential Logic 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8A24-4A2D-474F-8837-8B8D4848E2B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04528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inite string pattern recognizer (step 2, cont’d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Exit conditions from state S3: have recognized …010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f next input is 0 then have …0100 = ...100 (state S6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f next input is 1 then have …0101 = …01 (state S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Exit conditions from S1: recognizes</a:t>
            </a: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trings of form …0 (no 1 seen)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op back to S1 if input is 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Exit conditions from S4: recognizes</a:t>
            </a: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trings of form …1 (no 0 seen)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op back to S4 if input is 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5105520" y="2895480"/>
            <a:ext cx="3809880" cy="3657240"/>
            <a:chOff x="5105520" y="2895480"/>
            <a:chExt cx="3809880" cy="3657240"/>
          </a:xfrm>
        </p:grpSpPr>
        <p:sp>
          <p:nvSpPr>
            <p:cNvPr id="128" name=""/>
            <p:cNvSpPr/>
            <p:nvPr/>
          </p:nvSpPr>
          <p:spPr>
            <a:xfrm>
              <a:off x="6108840" y="533412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05520" y="5029200"/>
              <a:ext cx="850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05520" y="6095880"/>
              <a:ext cx="850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477120" y="6095880"/>
              <a:ext cx="850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40760" y="3733920"/>
              <a:ext cx="3427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969160" y="3733920"/>
              <a:ext cx="3427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654960" y="2946240"/>
              <a:ext cx="3427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969160" y="4775040"/>
              <a:ext cx="3427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959520" y="33274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45120" y="33274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740560" y="42418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207040" y="2895480"/>
              <a:ext cx="977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178840" y="5867280"/>
              <a:ext cx="736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or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969160" y="5867280"/>
              <a:ext cx="3427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575320" y="533412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40760" y="4800600"/>
              <a:ext cx="3427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112160" y="42670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112160" y="533412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40760" y="5867280"/>
              <a:ext cx="3427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6444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264440" y="4800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264440" y="5867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9284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892840" y="4800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92840" y="5867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578640" y="297180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4" name=""/>
            <p:cNvCxnSpPr>
              <a:stCxn id="153" idx="3"/>
              <a:endCxn id="150" idx="7"/>
            </p:cNvCxnSpPr>
            <p:nvPr/>
          </p:nvCxnSpPr>
          <p:spPr>
            <a:xfrm flipH="1">
              <a:off x="6282720" y="3362040"/>
              <a:ext cx="362520" cy="438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5" name=""/>
            <p:cNvCxnSpPr>
              <a:stCxn id="153" idx="5"/>
              <a:endCxn id="147" idx="1"/>
            </p:cNvCxnSpPr>
            <p:nvPr/>
          </p:nvCxnSpPr>
          <p:spPr>
            <a:xfrm>
              <a:off x="6968880" y="3362040"/>
              <a:ext cx="362520" cy="438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6" name=""/>
            <p:cNvCxnSpPr>
              <a:stCxn id="147" idx="4"/>
              <a:endCxn id="148" idx="0"/>
            </p:cNvCxnSpPr>
            <p:nvPr/>
          </p:nvCxnSpPr>
          <p:spPr>
            <a:xfrm>
              <a:off x="7492680" y="4190760"/>
              <a:ext cx="1080" cy="61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7" name=""/>
            <p:cNvCxnSpPr>
              <a:stCxn id="148" idx="4"/>
              <a:endCxn id="149" idx="0"/>
            </p:cNvCxnSpPr>
            <p:nvPr/>
          </p:nvCxnSpPr>
          <p:spPr>
            <a:xfrm>
              <a:off x="7492680" y="5257440"/>
              <a:ext cx="1080" cy="61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8" name=""/>
            <p:cNvCxnSpPr>
              <a:stCxn id="151" idx="3"/>
              <a:endCxn id="152" idx="1"/>
            </p:cNvCxnSpPr>
            <p:nvPr/>
          </p:nvCxnSpPr>
          <p:spPr>
            <a:xfrm>
              <a:off x="5959080" y="5191200"/>
              <a:ext cx="1080" cy="743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0" idx="4"/>
              <a:endCxn id="151" idx="0"/>
            </p:cNvCxnSpPr>
            <p:nvPr/>
          </p:nvCxnSpPr>
          <p:spPr>
            <a:xfrm>
              <a:off x="6121080" y="4190760"/>
              <a:ext cx="1080" cy="61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49" idx="5"/>
              <a:endCxn id="149" idx="7"/>
            </p:cNvCxnSpPr>
            <p:nvPr/>
          </p:nvCxnSpPr>
          <p:spPr>
            <a:xfrm flipH="1" flipV="1" rot="5400000">
              <a:off x="7493760" y="6094800"/>
              <a:ext cx="324360" cy="2160"/>
            </a:xfrm>
            <a:prstGeom prst="curvedConnector5">
              <a:avLst>
                <a:gd name="adj1" fmla="val -91111"/>
                <a:gd name="adj2" fmla="val 17080000"/>
                <a:gd name="adj3" fmla="val -9111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1" name=""/>
            <p:cNvSpPr/>
            <p:nvPr/>
          </p:nvSpPr>
          <p:spPr>
            <a:xfrm>
              <a:off x="5664240" y="32004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2" name=""/>
            <p:cNvCxnSpPr>
              <a:stCxn id="152" idx="6"/>
              <a:endCxn id="149" idx="2"/>
            </p:cNvCxnSpPr>
            <p:nvPr/>
          </p:nvCxnSpPr>
          <p:spPr>
            <a:xfrm>
              <a:off x="6350040" y="6095520"/>
              <a:ext cx="9151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3" name=""/>
            <p:cNvCxnSpPr>
              <a:stCxn id="152" idx="7"/>
              <a:endCxn id="151" idx="5"/>
            </p:cNvCxnSpPr>
            <p:nvPr/>
          </p:nvCxnSpPr>
          <p:spPr>
            <a:xfrm flipV="1">
              <a:off x="6283080" y="5190840"/>
              <a:ext cx="1080" cy="743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64" name=""/>
          <p:cNvGrpSpPr/>
          <p:nvPr/>
        </p:nvGrpSpPr>
        <p:grpSpPr>
          <a:xfrm>
            <a:off x="4572000" y="3504600"/>
            <a:ext cx="4419720" cy="924840"/>
            <a:chOff x="4572000" y="3504600"/>
            <a:chExt cx="4419720" cy="924840"/>
          </a:xfrm>
        </p:grpSpPr>
        <p:sp>
          <p:nvSpPr>
            <p:cNvPr id="165" name=""/>
            <p:cNvSpPr/>
            <p:nvPr/>
          </p:nvSpPr>
          <p:spPr>
            <a:xfrm>
              <a:off x="6553080" y="3962520"/>
              <a:ext cx="7495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324480" y="3962520"/>
              <a:ext cx="7495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55160" y="3733920"/>
              <a:ext cx="736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8" name=""/>
            <p:cNvCxnSpPr/>
            <p:nvPr/>
          </p:nvCxnSpPr>
          <p:spPr>
            <a:xfrm flipH="1" flipV="1" rot="5400000">
              <a:off x="7493760" y="3961080"/>
              <a:ext cx="324360" cy="2160"/>
            </a:xfrm>
            <a:prstGeom prst="curvedConnector5">
              <a:avLst>
                <a:gd name="adj1" fmla="val -91111"/>
                <a:gd name="adj2" fmla="val 17080000"/>
                <a:gd name="adj3" fmla="val -9111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/>
            <p:nvPr/>
          </p:nvCxnSpPr>
          <p:spPr>
            <a:xfrm flipH="1" flipV="1" rot="5400000">
              <a:off x="5781960" y="3970800"/>
              <a:ext cx="324720" cy="2160"/>
            </a:xfrm>
            <a:prstGeom prst="curvedConnector5">
              <a:avLst>
                <a:gd name="adj1" fmla="val -91120"/>
                <a:gd name="adj2" fmla="val -17740000"/>
                <a:gd name="adj3" fmla="val -9112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0" name=""/>
            <p:cNvSpPr/>
            <p:nvPr/>
          </p:nvSpPr>
          <p:spPr>
            <a:xfrm>
              <a:off x="4572000" y="3733920"/>
              <a:ext cx="736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X - Sequential Logic 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2D2C-392E-4AE6-8078-F66642F8016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81975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inite string pattern recognizer (step 2, cont’d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9000"/>
          </a:bodyPr>
          <a:p>
            <a:pPr marL="344160" indent="-3441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2 and S5 still have incomplete transition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43400" indent="-285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2 = …01; If next input is 1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n string could be prefix of (01)1(00)        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4 handles just this ca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400" indent="-285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5 = …10; If next input is 1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n string could be prefix of (10)1(0)        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2 handles just this ca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4160" indent="-3441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Reuse states as much as possible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43400" indent="-285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ok for same mea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400" indent="-285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 minimization leads t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maller number of bits t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present st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4160" indent="-3441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Once all states have a complete</a:t>
            </a: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et of transitions we have a</a:t>
            </a: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final state diagram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5168880" y="2895480"/>
            <a:ext cx="3809880" cy="3657240"/>
            <a:chOff x="5168880" y="2895480"/>
            <a:chExt cx="3809880" cy="3657240"/>
          </a:xfrm>
        </p:grpSpPr>
        <p:sp>
          <p:nvSpPr>
            <p:cNvPr id="174" name=""/>
            <p:cNvSpPr/>
            <p:nvPr/>
          </p:nvSpPr>
          <p:spPr>
            <a:xfrm>
              <a:off x="6172200" y="533412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168880" y="5029200"/>
              <a:ext cx="8510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168880" y="6095880"/>
              <a:ext cx="8510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540480" y="6095880"/>
              <a:ext cx="8510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404120" y="3733920"/>
              <a:ext cx="3427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032520" y="3733920"/>
              <a:ext cx="3427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718320" y="2946240"/>
              <a:ext cx="3427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32520" y="4775040"/>
              <a:ext cx="3427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023240" y="33274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108840" y="33274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803920" y="42418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270400" y="2895480"/>
              <a:ext cx="9781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242200" y="5867280"/>
              <a:ext cx="736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or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032520" y="5867280"/>
              <a:ext cx="3427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38680" y="5334120"/>
              <a:ext cx="5590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404120" y="4800600"/>
              <a:ext cx="3427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175520" y="42670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175520" y="533412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404120" y="5867280"/>
              <a:ext cx="3427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3278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27800" y="4800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27800" y="5867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9562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956200" y="4800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956200" y="5867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642000" y="297180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0" name=""/>
            <p:cNvCxnSpPr>
              <a:stCxn id="199" idx="3"/>
              <a:endCxn id="196" idx="7"/>
            </p:cNvCxnSpPr>
            <p:nvPr/>
          </p:nvCxnSpPr>
          <p:spPr>
            <a:xfrm flipH="1">
              <a:off x="6346080" y="3362040"/>
              <a:ext cx="362520" cy="438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1" name=""/>
            <p:cNvCxnSpPr>
              <a:stCxn id="199" idx="5"/>
              <a:endCxn id="193" idx="1"/>
            </p:cNvCxnSpPr>
            <p:nvPr/>
          </p:nvCxnSpPr>
          <p:spPr>
            <a:xfrm>
              <a:off x="7032240" y="3362040"/>
              <a:ext cx="362520" cy="438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2" name=""/>
            <p:cNvCxnSpPr>
              <a:stCxn id="193" idx="4"/>
              <a:endCxn id="194" idx="0"/>
            </p:cNvCxnSpPr>
            <p:nvPr/>
          </p:nvCxnSpPr>
          <p:spPr>
            <a:xfrm>
              <a:off x="7556040" y="4190760"/>
              <a:ext cx="1080" cy="61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3" name=""/>
            <p:cNvCxnSpPr>
              <a:stCxn id="194" idx="4"/>
              <a:endCxn id="195" idx="0"/>
            </p:cNvCxnSpPr>
            <p:nvPr/>
          </p:nvCxnSpPr>
          <p:spPr>
            <a:xfrm>
              <a:off x="7556040" y="5257440"/>
              <a:ext cx="1080" cy="61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4" name=""/>
            <p:cNvCxnSpPr>
              <a:stCxn id="197" idx="3"/>
              <a:endCxn id="198" idx="1"/>
            </p:cNvCxnSpPr>
            <p:nvPr/>
          </p:nvCxnSpPr>
          <p:spPr>
            <a:xfrm>
              <a:off x="6022440" y="5191200"/>
              <a:ext cx="1080" cy="743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5" name=""/>
            <p:cNvCxnSpPr>
              <a:stCxn id="196" idx="4"/>
              <a:endCxn id="197" idx="0"/>
            </p:cNvCxnSpPr>
            <p:nvPr/>
          </p:nvCxnSpPr>
          <p:spPr>
            <a:xfrm>
              <a:off x="6184440" y="4190760"/>
              <a:ext cx="1080" cy="61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6" name=""/>
            <p:cNvCxnSpPr>
              <a:stCxn id="195" idx="5"/>
              <a:endCxn id="195" idx="7"/>
            </p:cNvCxnSpPr>
            <p:nvPr/>
          </p:nvCxnSpPr>
          <p:spPr>
            <a:xfrm flipH="1" flipV="1" rot="5400000">
              <a:off x="7557120" y="6094800"/>
              <a:ext cx="324360" cy="2160"/>
            </a:xfrm>
            <a:prstGeom prst="curvedConnector5">
              <a:avLst>
                <a:gd name="adj1" fmla="val -91111"/>
                <a:gd name="adj2" fmla="val 17080000"/>
                <a:gd name="adj3" fmla="val -9111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07" name=""/>
            <p:cNvSpPr/>
            <p:nvPr/>
          </p:nvSpPr>
          <p:spPr>
            <a:xfrm>
              <a:off x="5727600" y="32004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8" name=""/>
            <p:cNvCxnSpPr>
              <a:stCxn id="198" idx="6"/>
              <a:endCxn id="195" idx="2"/>
            </p:cNvCxnSpPr>
            <p:nvPr/>
          </p:nvCxnSpPr>
          <p:spPr>
            <a:xfrm>
              <a:off x="6413400" y="6095520"/>
              <a:ext cx="9151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stCxn id="198" idx="7"/>
              <a:endCxn id="197" idx="5"/>
            </p:cNvCxnSpPr>
            <p:nvPr/>
          </p:nvCxnSpPr>
          <p:spPr>
            <a:xfrm flipV="1">
              <a:off x="6346440" y="5190840"/>
              <a:ext cx="1080" cy="743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10" name=""/>
          <p:cNvGrpSpPr/>
          <p:nvPr/>
        </p:nvGrpSpPr>
        <p:grpSpPr>
          <a:xfrm>
            <a:off x="4635360" y="3504600"/>
            <a:ext cx="4419720" cy="924840"/>
            <a:chOff x="4635360" y="3504600"/>
            <a:chExt cx="4419720" cy="924840"/>
          </a:xfrm>
        </p:grpSpPr>
        <p:sp>
          <p:nvSpPr>
            <p:cNvPr id="211" name=""/>
            <p:cNvSpPr/>
            <p:nvPr/>
          </p:nvSpPr>
          <p:spPr>
            <a:xfrm>
              <a:off x="6616440" y="3962520"/>
              <a:ext cx="7495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87840" y="3962520"/>
              <a:ext cx="7495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318520" y="3733920"/>
              <a:ext cx="736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4" name=""/>
            <p:cNvCxnSpPr/>
            <p:nvPr/>
          </p:nvCxnSpPr>
          <p:spPr>
            <a:xfrm flipH="1" flipV="1" rot="5400000">
              <a:off x="7557120" y="3961080"/>
              <a:ext cx="324360" cy="2160"/>
            </a:xfrm>
            <a:prstGeom prst="curvedConnector5">
              <a:avLst>
                <a:gd name="adj1" fmla="val -91111"/>
                <a:gd name="adj2" fmla="val 17080000"/>
                <a:gd name="adj3" fmla="val -9111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5" name=""/>
            <p:cNvCxnSpPr/>
            <p:nvPr/>
          </p:nvCxnSpPr>
          <p:spPr>
            <a:xfrm flipH="1" flipV="1" rot="5400000">
              <a:off x="5845320" y="3970800"/>
              <a:ext cx="324720" cy="2160"/>
            </a:xfrm>
            <a:prstGeom prst="curvedConnector5">
              <a:avLst>
                <a:gd name="adj1" fmla="val -91120"/>
                <a:gd name="adj2" fmla="val -17740000"/>
                <a:gd name="adj3" fmla="val -9112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6" name=""/>
            <p:cNvSpPr/>
            <p:nvPr/>
          </p:nvSpPr>
          <p:spPr>
            <a:xfrm>
              <a:off x="4635360" y="3733920"/>
              <a:ext cx="736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324480" y="4123800"/>
            <a:ext cx="2222640" cy="1311840"/>
            <a:chOff x="6324480" y="4123800"/>
            <a:chExt cx="2222640" cy="1311840"/>
          </a:xfrm>
        </p:grpSpPr>
        <p:sp>
          <p:nvSpPr>
            <p:cNvPr id="218" name=""/>
            <p:cNvSpPr/>
            <p:nvPr/>
          </p:nvSpPr>
          <p:spPr>
            <a:xfrm>
              <a:off x="7696080" y="5029200"/>
              <a:ext cx="8510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324480" y="4343400"/>
              <a:ext cx="5590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705720" y="47242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1" name=""/>
            <p:cNvCxnSpPr>
              <a:stCxn id="197" idx="7"/>
              <a:endCxn id="193" idx="3"/>
            </p:cNvCxnSpPr>
            <p:nvPr/>
          </p:nvCxnSpPr>
          <p:spPr>
            <a:xfrm flipV="1">
              <a:off x="6346800" y="4123800"/>
              <a:ext cx="1048320" cy="743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2" name=""/>
            <p:cNvCxnSpPr>
              <a:stCxn id="194" idx="2"/>
              <a:endCxn id="197" idx="6"/>
            </p:cNvCxnSpPr>
            <p:nvPr/>
          </p:nvCxnSpPr>
          <p:spPr>
            <a:xfrm flipH="1">
              <a:off x="6413040" y="5028840"/>
              <a:ext cx="9151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X - Sequential Logic 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ACE0-4038-480E-8F73-6537F5EEA35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28600" y="2514600"/>
            <a:ext cx="4419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odule string (clk, X, rst, Q0, Q1, Q2, Z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put clk, X, rs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utput Q0, Q1, Q2, Z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g state[0:2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ine S0 [0,0,0] //reset st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‘define S1 [0,0,1] //strings ending in   ...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‘define S2 [0,1,0] //strings ending in  ...0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‘define S3 [0,1,1] //strings ending in ...01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‘define S4 [1,0,0] //strings ending in   ...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‘define S5 [1,0,1] //strings ending in  ...1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‘define S6 [1,1,0] //strings ending in ...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ssign Q0 = state[0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ssign Q1 = state[1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ssign Q2 = state[2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ssign Z = (state == ‘S3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749840" y="2514600"/>
            <a:ext cx="4546440" cy="37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ways @(posedge clk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f rst state = ‘S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(st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‘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0: if (X) state = ‘S4 else state = ‘S1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‘S1: if (X) state = ‘S2 else state = ‘S1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‘S2: if (X) state = ‘S4 else state = ‘S3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‘S3: if (X) state = ‘S2 else state = ‘S6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‘S4: if (X) state = ‘S4 else state = ‘S5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‘S5: if (X) state = ‘S2 else state = ‘S6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‘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6: state = ‘S6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default: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$display (“invalid state reached”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ate = 3’bxxx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inite string pattern recognizer (step 3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Verilog description including state assignment (or state encoding)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4724280" y="2438280"/>
            <a:ext cx="0" cy="411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X - Sequential Logic 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EC11-B4D4-4E64-B123-7785A924D7A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inite string pattern recognizer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322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Review of proces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derstanding proble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58840" indent="-231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ite down sample inputs and outputs to understand specifi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rive a state diagram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58840" indent="-231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ite down sequences of states and transitions for sequences to be recogn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nimize number of state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58840" indent="-231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d missing transitions;  reuse states as much as possib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 assignment or encoding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58840" indent="-231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code states with unique patter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mulate realization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58840" indent="-231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erify I/O behavior of your state diagram to ensure it matches specifi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X - Sequential Logic 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3F19-03A0-4DBA-817A-D36267BC474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1676160" y="4343400"/>
            <a:ext cx="5949720" cy="1955880"/>
            <a:chOff x="1676160" y="4343400"/>
            <a:chExt cx="5949720" cy="1955880"/>
          </a:xfrm>
        </p:grpSpPr>
        <p:sp>
          <p:nvSpPr>
            <p:cNvPr id="231" name=""/>
            <p:cNvSpPr/>
            <p:nvPr/>
          </p:nvSpPr>
          <p:spPr>
            <a:xfrm>
              <a:off x="1733400" y="4343400"/>
              <a:ext cx="1625040" cy="19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ode Input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663720" y="4343400"/>
              <a:ext cx="1599840" cy="19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urren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13160" y="4343400"/>
              <a:ext cx="2412720" cy="19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1676160" y="4572000"/>
              <a:ext cx="534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429160" y="4362480"/>
              <a:ext cx="0" cy="180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mplex counter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 synchronous 3-bit counter has a mode control M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en M = 0, the counter counts up in the binary seque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en M = 1, the counter advances through the Gray code sequence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inary:   000, 001, 010, 011, 100, 101, 110, 11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ray:     000, 001, 011, 010, 110, 111, 101, 10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Valid I/O behavior (partial)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X - Sequential Logic 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8CCA-E86C-4204-A057-0519C3C8EC4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2:25:01Z</dcterms:created>
  <dc:creator>Gaetano Borriello</dc:creator>
  <dc:description/>
  <dc:language>en-US</dc:language>
  <cp:lastModifiedBy>Administrator</cp:lastModifiedBy>
  <cp:lastPrinted>2000-05-11T19:02:48Z</cp:lastPrinted>
  <dcterms:modified xsi:type="dcterms:W3CDTF">2000-11-22T21:32:32Z</dcterms:modified>
  <cp:revision>23</cp:revision>
  <dc:subject/>
  <dc:title>Sequential logic examp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www.cs.washington.edu/education/courses/370/00sp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WINNT\Profiles\gaetano\Desktop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