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269413" cy="6948488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9B4E-511E-4279-B843-6D3350B9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0EE-D291-40A4-BE56-4F9C4B76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297-B6EF-4D23-B6C8-868C6289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772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76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68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772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76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D63-3D97-401E-A275-E608C43F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29C2-3282-4729-81D2-D2E3DC80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4C8B-28AC-4CA5-B885-B59EEFE6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08ED-13DE-4736-BAB9-263A45D4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A037-7BDE-47E7-ACCE-84BCB281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B4FF-0DB1-4AA9-9C1F-C6AFD158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12560" y="231480"/>
            <a:ext cx="78800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64A2-E43B-4D96-9354-773B97E0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7D38-ED95-4CBB-B2A9-E0E89E38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A93B-AB26-4C32-ACE3-7108A15D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4BF5-522B-4E5C-A2EC-0A4BC556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EEB9-4B99-4D94-B063-BC22F9C0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D586-0C66-429C-8BFF-2E3FD3BF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5BC2-22D5-4504-BF02-9E6EBF38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772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176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68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772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176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819A-D9FB-485B-9211-64A417D8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2E8E-56B1-441A-8862-1D905E3D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D99-E219-4B2F-858A-E75CEE72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C59C-E127-4AFC-9ABF-D793EC79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231480"/>
            <a:ext cx="78800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C746-2BC4-4A75-97FD-A31821E5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CE4A-879D-4E18-9BEA-493643EC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6F42-3E54-4E60-B095-769D3AB7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316-8E7E-493A-A3DA-38A35298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outline text forma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cond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2" marL="1158840" indent="-23184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ird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3" marL="1622520" indent="-231840">
              <a:spcBef>
                <a:spcPts val="788"/>
              </a:spcBef>
              <a:buClr>
                <a:srgbClr val="ffcc00"/>
              </a:buClr>
              <a:buFont typeface="Tahoma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our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4" marL="2084400" indent="-231840">
              <a:spcBef>
                <a:spcPts val="788"/>
              </a:spcBef>
              <a:buClr>
                <a:srgbClr val="ffcc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f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5" marL="2084400" indent="-231840">
              <a:spcBef>
                <a:spcPts val="788"/>
              </a:spcBef>
              <a:buClr>
                <a:srgbClr val="0000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x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6" marL="2084400" indent="-231840">
              <a:spcBef>
                <a:spcPts val="788"/>
              </a:spcBef>
              <a:buClr>
                <a:srgbClr val="0000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ven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8120" y="6483240"/>
            <a:ext cx="19303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8440" y="6483240"/>
            <a:ext cx="44560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4160" y="6483240"/>
            <a:ext cx="19321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21F7D46-C77F-4CB7-952B-BBFED02D08C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27000" y="1081080"/>
            <a:ext cx="834408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694800"/>
            <a:ext cx="7829640" cy="1157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20360" y="6310440"/>
            <a:ext cx="195732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93920" y="6310440"/>
            <a:ext cx="288288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95640" y="6310440"/>
            <a:ext cx="185436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35B5B46-D906-4B39-9CA5-0E8C26EDC1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27000" y="1852560"/>
            <a:ext cx="8344080" cy="3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binational logic optimiz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lternate representations of Boolean function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b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arnaugh ma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mplific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-level simpl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loiting don’t ca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gorithm for simpl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7A0-0875-4ECE-9A2A-352427BB15A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Karnaugh map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umbering scheme based on Gray–cod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00, 01, 11,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a single bit changes in code for adjacent map ce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841320" y="3038400"/>
            <a:ext cx="2387520" cy="1828800"/>
            <a:chOff x="841320" y="3038400"/>
            <a:chExt cx="2387520" cy="1828800"/>
          </a:xfrm>
        </p:grpSpPr>
        <p:sp>
          <p:nvSpPr>
            <p:cNvPr id="396" name=""/>
            <p:cNvSpPr/>
            <p:nvPr/>
          </p:nvSpPr>
          <p:spPr>
            <a:xfrm>
              <a:off x="1332000" y="3751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03200" y="32842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60400" y="32842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50920" y="3132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47880" y="33098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5360" y="3614400"/>
              <a:ext cx="55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25360" y="40464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998640" y="3233160"/>
              <a:ext cx="304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41360" y="3749400"/>
              <a:ext cx="825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12920" y="32828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70120" y="32828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22640" y="3543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70120" y="3546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212920" y="3993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12920" y="3267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55720" y="4562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069920" y="40287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41320" y="407952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62160" y="453672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19360" y="3038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08240" y="3543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55720" y="3546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298520" y="3993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108080" y="4943520"/>
            <a:ext cx="2114640" cy="1457280"/>
            <a:chOff x="1108080" y="4943520"/>
            <a:chExt cx="2114640" cy="1457280"/>
          </a:xfrm>
        </p:grpSpPr>
        <p:sp>
          <p:nvSpPr>
            <p:cNvPr id="420" name=""/>
            <p:cNvSpPr/>
            <p:nvPr/>
          </p:nvSpPr>
          <p:spPr>
            <a:xfrm>
              <a:off x="1341720" y="5380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51080" y="53784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32000" y="5172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79840" y="5175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2222640" y="5622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232000" y="5172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765440" y="608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317600" y="5629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08080" y="57088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71880" y="60706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38440" y="4943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17600" y="5172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65440" y="5175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1308240" y="5622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286160" y="3502080"/>
            <a:ext cx="2691000" cy="2365200"/>
            <a:chOff x="4286160" y="3502080"/>
            <a:chExt cx="2691000" cy="2365200"/>
          </a:xfrm>
        </p:grpSpPr>
        <p:sp>
          <p:nvSpPr>
            <p:cNvPr id="435" name=""/>
            <p:cNvSpPr/>
            <p:nvPr/>
          </p:nvSpPr>
          <p:spPr>
            <a:xfrm>
              <a:off x="4527720" y="3917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37080" y="3916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10080" y="373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579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5400720" y="418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10080" y="3730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7720" y="416736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92880" y="4456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816520" y="3502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95680" y="373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435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486320" y="418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19440" y="4856040"/>
              <a:ext cx="825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29160" y="4854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10080" y="4648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57920" y="4651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5400720" y="509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435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463716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286160" y="5175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49960" y="5537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95680" y="4648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43520" y="4651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4486320" y="509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6577560" y="5603760"/>
            <a:ext cx="18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3 = 1101= ABC’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D41A-C3BF-4AB7-B24D-4D142E0AE0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715000" y="4191120"/>
            <a:ext cx="762120" cy="761760"/>
            <a:chOff x="5715000" y="4191120"/>
            <a:chExt cx="762120" cy="761760"/>
          </a:xfrm>
        </p:grpSpPr>
        <p:sp>
          <p:nvSpPr>
            <p:cNvPr id="461" name=""/>
            <p:cNvSpPr/>
            <p:nvPr/>
          </p:nvSpPr>
          <p:spPr>
            <a:xfrm flipV="1">
              <a:off x="5715000" y="4627080"/>
              <a:ext cx="324000" cy="32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91320" y="49528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5715000" y="419112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jacencies in Karnaugh map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rap from first to last colum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rap top row to bottom row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676520" y="3657600"/>
            <a:ext cx="2114280" cy="1457280"/>
            <a:chOff x="1676520" y="3657600"/>
            <a:chExt cx="2114280" cy="1457280"/>
          </a:xfrm>
        </p:grpSpPr>
        <p:sp>
          <p:nvSpPr>
            <p:cNvPr id="467" name=""/>
            <p:cNvSpPr/>
            <p:nvPr/>
          </p:nvSpPr>
          <p:spPr>
            <a:xfrm>
              <a:off x="1981080" y="39625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95480" y="39625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00440" y="3886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47920" y="3889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2790720" y="433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00440" y="3886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33520" y="4800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86040" y="4343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76520" y="4422600"/>
              <a:ext cx="5839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39960" y="47847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06880" y="36576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886040" y="3886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33520" y="3889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1876320" y="433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5991120" y="495612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483160" y="439416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53160" y="4495680"/>
            <a:ext cx="558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219640" y="490212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50532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6760" y="44863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6534000" y="456264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5695920" y="4627440"/>
            <a:ext cx="3240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695920" y="372384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6534000" y="372384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72240" y="495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19600" y="486720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58040" y="486720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5695920" y="41907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16200000">
            <a:off x="5618160" y="48654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5617800" y="40273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458040" y="40291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72240" y="41054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534000" y="4181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153120" y="45626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00840" y="4486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38920" y="4486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6076800" y="3800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16200000">
            <a:off x="5999040" y="448452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16200000">
            <a:off x="5999040" y="364572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38920" y="364824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53120" y="3724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915240" y="3800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67560" y="48769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34040" y="4317840"/>
            <a:ext cx="72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43680" y="3962520"/>
            <a:ext cx="723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524560" y="35053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210360" y="3809880"/>
            <a:ext cx="72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828440" y="3809520"/>
            <a:ext cx="609840" cy="610200"/>
            <a:chOff x="1828440" y="3809520"/>
            <a:chExt cx="609840" cy="610200"/>
          </a:xfrm>
        </p:grpSpPr>
        <p:sp>
          <p:nvSpPr>
            <p:cNvPr id="515" name=""/>
            <p:cNvSpPr/>
            <p:nvPr/>
          </p:nvSpPr>
          <p:spPr>
            <a:xfrm>
              <a:off x="2133720" y="4114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4114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2133720" y="38095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1828440" y="4114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A7FF-A28F-4A05-854A-A61EEF8AFB4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7477200" y="5195880"/>
            <a:ext cx="14698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tain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the func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overing 0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subcu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Karnaugh map exampl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 =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(A,B,C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0,4,6,7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685880" y="2470320"/>
            <a:ext cx="5440320" cy="2435040"/>
            <a:chOff x="1685880" y="2470320"/>
            <a:chExt cx="5440320" cy="2435040"/>
          </a:xfrm>
        </p:grpSpPr>
        <p:sp>
          <p:nvSpPr>
            <p:cNvPr id="523" name=""/>
            <p:cNvSpPr/>
            <p:nvPr/>
          </p:nvSpPr>
          <p:spPr>
            <a:xfrm>
              <a:off x="1685880" y="2470320"/>
              <a:ext cx="3260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4890960" y="3448080"/>
              <a:ext cx="2235240" cy="1457280"/>
              <a:chOff x="4890960" y="3448080"/>
              <a:chExt cx="2235240" cy="1457280"/>
            </a:xfrm>
          </p:grpSpPr>
          <p:sp>
            <p:nvSpPr>
              <p:cNvPr id="525" name=""/>
              <p:cNvSpPr/>
              <p:nvPr/>
            </p:nvSpPr>
            <p:spPr>
              <a:xfrm>
                <a:off x="5370480" y="37530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300720" y="37530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126120" y="36766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73600" y="36799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6116400" y="41274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126120" y="36766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59200" y="45910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211720" y="41338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890960" y="42134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65640" y="45752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532560" y="34480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211720" y="36766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659200" y="36799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5202000" y="41274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9" name=""/>
          <p:cNvGrpSpPr/>
          <p:nvPr/>
        </p:nvGrpSpPr>
        <p:grpSpPr>
          <a:xfrm>
            <a:off x="1322280" y="1647720"/>
            <a:ext cx="5634000" cy="1176480"/>
            <a:chOff x="1322280" y="1647720"/>
            <a:chExt cx="5634000" cy="1176480"/>
          </a:xfrm>
        </p:grpSpPr>
        <p:sp>
          <p:nvSpPr>
            <p:cNvPr id="540" name=""/>
            <p:cNvSpPr/>
            <p:nvPr/>
          </p:nvSpPr>
          <p:spPr>
            <a:xfrm>
              <a:off x="1322280" y="1787400"/>
              <a:ext cx="443700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784840" y="1647720"/>
              <a:ext cx="1171440" cy="1176480"/>
              <a:chOff x="5784840" y="1647720"/>
              <a:chExt cx="1171440" cy="1176480"/>
            </a:xfrm>
          </p:grpSpPr>
          <p:sp>
            <p:nvSpPr>
              <p:cNvPr id="542" name=""/>
              <p:cNvSpPr/>
              <p:nvPr/>
            </p:nvSpPr>
            <p:spPr>
              <a:xfrm>
                <a:off x="6130800" y="19526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956200" y="18763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403680" y="18795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5946480" y="23274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6413400" y="1844640"/>
                <a:ext cx="45720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946480" y="2317680"/>
                <a:ext cx="0" cy="50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784840" y="2413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362640" y="1647720"/>
                <a:ext cx="58392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0" name=""/>
          <p:cNvGrpSpPr/>
          <p:nvPr/>
        </p:nvGrpSpPr>
        <p:grpSpPr>
          <a:xfrm>
            <a:off x="1701720" y="3297240"/>
            <a:ext cx="2156040" cy="2727360"/>
            <a:chOff x="1701720" y="3297240"/>
            <a:chExt cx="2156040" cy="2727360"/>
          </a:xfrm>
        </p:grpSpPr>
        <p:sp>
          <p:nvSpPr>
            <p:cNvPr id="551" name=""/>
            <p:cNvSpPr/>
            <p:nvPr/>
          </p:nvSpPr>
          <p:spPr>
            <a:xfrm>
              <a:off x="2050920" y="3297240"/>
              <a:ext cx="711360" cy="12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1701720" y="4567320"/>
              <a:ext cx="2156040" cy="1457280"/>
              <a:chOff x="1701720" y="4567320"/>
              <a:chExt cx="2156040" cy="1457280"/>
            </a:xfrm>
          </p:grpSpPr>
          <p:sp>
            <p:nvSpPr>
              <p:cNvPr id="553" name=""/>
              <p:cNvSpPr/>
              <p:nvPr/>
            </p:nvSpPr>
            <p:spPr>
              <a:xfrm>
                <a:off x="2101680" y="4871880"/>
                <a:ext cx="82584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32280" y="487188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857680" y="47959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305160" y="47991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2847960" y="52466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857680" y="47959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390760" y="57103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943280" y="5253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701720" y="5348160"/>
                <a:ext cx="58428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797200" y="56944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263760" y="45673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943280" y="47959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390760" y="47991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1933560" y="52466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6021360" y="1954080"/>
            <a:ext cx="1631880" cy="577800"/>
            <a:chOff x="6021360" y="1954080"/>
            <a:chExt cx="1631880" cy="577800"/>
          </a:xfrm>
        </p:grpSpPr>
        <p:sp>
          <p:nvSpPr>
            <p:cNvPr id="568" name=""/>
            <p:cNvSpPr/>
            <p:nvPr/>
          </p:nvSpPr>
          <p:spPr>
            <a:xfrm>
              <a:off x="7283520" y="216360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021360" y="195408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6205680" y="3622680"/>
            <a:ext cx="1515240" cy="857160"/>
            <a:chOff x="6205680" y="3622680"/>
            <a:chExt cx="1515240" cy="857160"/>
          </a:xfrm>
        </p:grpSpPr>
        <p:sp>
          <p:nvSpPr>
            <p:cNvPr id="571" name=""/>
            <p:cNvSpPr/>
            <p:nvPr/>
          </p:nvSpPr>
          <p:spPr>
            <a:xfrm>
              <a:off x="7244640" y="362268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05680" y="3720960"/>
              <a:ext cx="30636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2890800" y="5310360"/>
            <a:ext cx="1534680" cy="628560"/>
            <a:chOff x="2890800" y="5310360"/>
            <a:chExt cx="1534680" cy="628560"/>
          </a:xfrm>
        </p:grpSpPr>
        <p:sp>
          <p:nvSpPr>
            <p:cNvPr id="574" name=""/>
            <p:cNvSpPr/>
            <p:nvPr/>
          </p:nvSpPr>
          <p:spPr>
            <a:xfrm>
              <a:off x="3953520" y="55706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890800" y="53103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116680" y="5472000"/>
            <a:ext cx="677520" cy="533520"/>
            <a:chOff x="5116680" y="5472000"/>
            <a:chExt cx="677520" cy="533520"/>
          </a:xfrm>
        </p:grpSpPr>
        <p:sp>
          <p:nvSpPr>
            <p:cNvPr id="577" name=""/>
            <p:cNvSpPr/>
            <p:nvPr/>
          </p:nvSpPr>
          <p:spPr>
            <a:xfrm>
              <a:off x="5116680" y="5505480"/>
              <a:ext cx="66168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5165640" y="5472000"/>
              <a:ext cx="6285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159600" y="3622680"/>
            <a:ext cx="2253240" cy="873000"/>
            <a:chOff x="6159600" y="3622680"/>
            <a:chExt cx="2253240" cy="873000"/>
          </a:xfrm>
        </p:grpSpPr>
        <p:sp>
          <p:nvSpPr>
            <p:cNvPr id="580" name=""/>
            <p:cNvSpPr/>
            <p:nvPr/>
          </p:nvSpPr>
          <p:spPr>
            <a:xfrm>
              <a:off x="6159600" y="418932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549200" y="36226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AC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5713560" y="3622680"/>
            <a:ext cx="3458880" cy="880920"/>
            <a:chOff x="5713560" y="3622680"/>
            <a:chExt cx="3458880" cy="880920"/>
          </a:xfrm>
        </p:grpSpPr>
        <p:sp>
          <p:nvSpPr>
            <p:cNvPr id="583" name=""/>
            <p:cNvSpPr/>
            <p:nvPr/>
          </p:nvSpPr>
          <p:spPr>
            <a:xfrm>
              <a:off x="5713560" y="419724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05920" y="36226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C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454040" y="4762440"/>
            <a:ext cx="3637080" cy="1176480"/>
            <a:chOff x="1454040" y="4762440"/>
            <a:chExt cx="3637080" cy="1176480"/>
          </a:xfrm>
        </p:grpSpPr>
        <p:sp>
          <p:nvSpPr>
            <p:cNvPr id="586" name=""/>
            <p:cNvSpPr/>
            <p:nvPr/>
          </p:nvSpPr>
          <p:spPr>
            <a:xfrm>
              <a:off x="3379680" y="488160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14520" y="485604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454040" y="476244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849840" y="478476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346640" y="557064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’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371760" y="4873680"/>
            <a:ext cx="2395800" cy="1065240"/>
            <a:chOff x="3371760" y="4873680"/>
            <a:chExt cx="2395800" cy="1065240"/>
          </a:xfrm>
        </p:grpSpPr>
        <p:sp>
          <p:nvSpPr>
            <p:cNvPr id="592" name=""/>
            <p:cNvSpPr/>
            <p:nvPr/>
          </p:nvSpPr>
          <p:spPr>
            <a:xfrm>
              <a:off x="3371760" y="4873680"/>
              <a:ext cx="30636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60880" y="557064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A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8BAF-2A0A-4766-A6AA-E434F4505D1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3592440" y="3510000"/>
            <a:ext cx="32004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A,B,C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0,4,5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71760" y="5187960"/>
            <a:ext cx="320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'(A,B,C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(1,2,3,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363840" y="4879800"/>
            <a:ext cx="4889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' simply replace 1's with 0's and vice 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448080" y="1936800"/>
            <a:ext cx="1485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(A,B,C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e Karnaugh map exampl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958680" y="1495440"/>
            <a:ext cx="2155680" cy="1457280"/>
            <a:chOff x="958680" y="1495440"/>
            <a:chExt cx="2155680" cy="1457280"/>
          </a:xfrm>
        </p:grpSpPr>
        <p:sp>
          <p:nvSpPr>
            <p:cNvPr id="600" name=""/>
            <p:cNvSpPr/>
            <p:nvPr/>
          </p:nvSpPr>
          <p:spPr>
            <a:xfrm>
              <a:off x="1358640" y="18003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288880" y="18003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14280" y="1724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62120" y="1727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2104920" y="21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14280" y="17240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647720" y="2638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199880" y="21812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958680" y="2260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053800" y="2622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520720" y="1495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199880" y="1724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647720" y="1727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190520" y="21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957240" y="3116160"/>
            <a:ext cx="2155680" cy="1457280"/>
            <a:chOff x="957240" y="3116160"/>
            <a:chExt cx="2155680" cy="1457280"/>
          </a:xfrm>
        </p:grpSpPr>
        <p:sp>
          <p:nvSpPr>
            <p:cNvPr id="615" name=""/>
            <p:cNvSpPr/>
            <p:nvPr/>
          </p:nvSpPr>
          <p:spPr>
            <a:xfrm>
              <a:off x="1357200" y="34210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287440" y="34210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12840" y="33447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60680" y="3348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2103480" y="3795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12840" y="33447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646280" y="42591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98440" y="38019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957240" y="3881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052360" y="4243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519280" y="3116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98440" y="33447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646280" y="3348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1189080" y="3795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957240" y="4738680"/>
            <a:ext cx="2155680" cy="1457280"/>
            <a:chOff x="957240" y="4738680"/>
            <a:chExt cx="2155680" cy="1457280"/>
          </a:xfrm>
        </p:grpSpPr>
        <p:sp>
          <p:nvSpPr>
            <p:cNvPr id="630" name=""/>
            <p:cNvSpPr/>
            <p:nvPr/>
          </p:nvSpPr>
          <p:spPr>
            <a:xfrm>
              <a:off x="1357200" y="5043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87440" y="5043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12840" y="4967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60680" y="497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2103480" y="541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112840" y="49672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46280" y="5881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198440" y="5424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57240" y="5504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52360" y="58658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19280" y="47386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98440" y="4967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646280" y="497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1189080" y="541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2163600" y="1776240"/>
            <a:ext cx="3024360" cy="790920"/>
            <a:chOff x="2163600" y="1776240"/>
            <a:chExt cx="3024360" cy="790920"/>
          </a:xfrm>
        </p:grpSpPr>
        <p:sp>
          <p:nvSpPr>
            <p:cNvPr id="645" name=""/>
            <p:cNvSpPr/>
            <p:nvPr/>
          </p:nvSpPr>
          <p:spPr>
            <a:xfrm>
              <a:off x="4705200" y="1935000"/>
              <a:ext cx="482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63600" y="1776240"/>
              <a:ext cx="822600" cy="790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11360" y="3308400"/>
            <a:ext cx="6751440" cy="853920"/>
            <a:chOff x="711360" y="3308400"/>
            <a:chExt cx="6751440" cy="853920"/>
          </a:xfrm>
        </p:grpSpPr>
        <p:sp>
          <p:nvSpPr>
            <p:cNvPr id="648" name=""/>
            <p:cNvSpPr/>
            <p:nvPr/>
          </p:nvSpPr>
          <p:spPr>
            <a:xfrm>
              <a:off x="6058080" y="3586320"/>
              <a:ext cx="1404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AC + B’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147760" y="38559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37000" y="34275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71480" y="340200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1360" y="330840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106800" y="333072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249200" y="5019840"/>
            <a:ext cx="6148440" cy="798480"/>
            <a:chOff x="1249200" y="5019840"/>
            <a:chExt cx="6148440" cy="798480"/>
          </a:xfrm>
        </p:grpSpPr>
        <p:sp>
          <p:nvSpPr>
            <p:cNvPr id="655" name=""/>
            <p:cNvSpPr/>
            <p:nvPr/>
          </p:nvSpPr>
          <p:spPr>
            <a:xfrm>
              <a:off x="5992920" y="5264280"/>
              <a:ext cx="1404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BC’ + A’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711440" y="5019840"/>
              <a:ext cx="806400" cy="355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249200" y="5462640"/>
              <a:ext cx="80676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E1C4-CBC1-4689-AB86-C9B8A21BCB3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1243080" y="2179800"/>
            <a:ext cx="6611760" cy="2646360"/>
            <a:chOff x="1243080" y="2179800"/>
            <a:chExt cx="6611760" cy="2646360"/>
          </a:xfrm>
        </p:grpSpPr>
        <p:sp>
          <p:nvSpPr>
            <p:cNvPr id="659" name=""/>
            <p:cNvSpPr/>
            <p:nvPr/>
          </p:nvSpPr>
          <p:spPr>
            <a:xfrm rot="21085200">
              <a:off x="4299120" y="3056040"/>
              <a:ext cx="3516120" cy="7920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1243080" y="2179800"/>
              <a:ext cx="1727280" cy="2646360"/>
              <a:chOff x="1243080" y="2179800"/>
              <a:chExt cx="1727280" cy="2646360"/>
            </a:xfrm>
          </p:grpSpPr>
          <p:sp>
            <p:nvSpPr>
              <p:cNvPr id="661" name=""/>
              <p:cNvSpPr/>
              <p:nvPr/>
            </p:nvSpPr>
            <p:spPr>
              <a:xfrm>
                <a:off x="1243080" y="4068720"/>
                <a:ext cx="1727280" cy="7574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423440" y="21798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3" name=""/>
          <p:cNvGrpSpPr/>
          <p:nvPr/>
        </p:nvGrpSpPr>
        <p:grpSpPr>
          <a:xfrm>
            <a:off x="966600" y="2179800"/>
            <a:ext cx="5459760" cy="2962440"/>
            <a:chOff x="966600" y="2179800"/>
            <a:chExt cx="5459760" cy="2962440"/>
          </a:xfrm>
        </p:grpSpPr>
        <p:sp>
          <p:nvSpPr>
            <p:cNvPr id="664" name=""/>
            <p:cNvSpPr/>
            <p:nvPr/>
          </p:nvSpPr>
          <p:spPr>
            <a:xfrm flipV="1" rot="5400000">
              <a:off x="4952160" y="3077640"/>
              <a:ext cx="1049400" cy="1898640"/>
            </a:xfrm>
            <a:prstGeom prst="parallelogram">
              <a:avLst>
                <a:gd name="adj" fmla="val 21481"/>
              </a:avLst>
            </a:prstGeom>
            <a:solidFill>
              <a:srgbClr val="00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966600" y="2179800"/>
              <a:ext cx="2392920" cy="2962440"/>
              <a:chOff x="966600" y="2179800"/>
              <a:chExt cx="2392920" cy="2962440"/>
            </a:xfrm>
          </p:grpSpPr>
          <p:sp>
            <p:nvSpPr>
              <p:cNvPr id="666" name=""/>
              <p:cNvSpPr/>
              <p:nvPr/>
            </p:nvSpPr>
            <p:spPr>
              <a:xfrm>
                <a:off x="2592000" y="2179800"/>
                <a:ext cx="76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+ B’D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7" name=""/>
              <p:cNvGrpSpPr/>
              <p:nvPr/>
            </p:nvGrpSpPr>
            <p:grpSpPr>
              <a:xfrm>
                <a:off x="973440" y="2866680"/>
                <a:ext cx="547560" cy="598320"/>
                <a:chOff x="973440" y="2866680"/>
                <a:chExt cx="547560" cy="598320"/>
              </a:xfrm>
            </p:grpSpPr>
            <p:sp>
              <p:nvSpPr>
                <p:cNvPr id="668" name=""/>
                <p:cNvSpPr/>
                <p:nvPr/>
              </p:nvSpPr>
              <p:spPr>
                <a:xfrm flipH="1">
                  <a:off x="1097280" y="298116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H="1">
                  <a:off x="984240" y="291744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H="1" rot="5400000">
                  <a:off x="1166040" y="267372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2701800" y="2865240"/>
                <a:ext cx="547560" cy="598320"/>
                <a:chOff x="2701800" y="2865240"/>
                <a:chExt cx="547560" cy="59832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2706480" y="297972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3076560" y="291600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rot="16200000">
                  <a:off x="2894760" y="267228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966600" y="4543920"/>
                <a:ext cx="547560" cy="598320"/>
                <a:chOff x="966600" y="4543920"/>
                <a:chExt cx="547560" cy="598320"/>
              </a:xfrm>
            </p:grpSpPr>
            <p:sp>
              <p:nvSpPr>
                <p:cNvPr id="676" name=""/>
                <p:cNvSpPr/>
                <p:nvPr/>
              </p:nvSpPr>
              <p:spPr>
                <a:xfrm flipH="1" flipV="1">
                  <a:off x="1090440" y="457560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H="1" flipV="1">
                  <a:off x="977400" y="454356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H="1" flipV="1" rot="16200000">
                  <a:off x="1159200" y="478728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2695680" y="4541400"/>
                <a:ext cx="547560" cy="598680"/>
                <a:chOff x="2695680" y="4541400"/>
                <a:chExt cx="547560" cy="598680"/>
              </a:xfrm>
            </p:grpSpPr>
            <p:sp>
              <p:nvSpPr>
                <p:cNvPr id="680" name=""/>
                <p:cNvSpPr/>
                <p:nvPr/>
              </p:nvSpPr>
              <p:spPr>
                <a:xfrm flipV="1">
                  <a:off x="2700360" y="4573440"/>
                  <a:ext cx="419040" cy="45216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2160"/>
                    <a:gd name="textAreaBottom" fmla="*/ 432000 h 452160"/>
                  </a:gdLst>
                  <a:ahLst/>
                  <a:rect l="textAreaLeft" t="textAreaTop" r="textAreaRight" b="textAreaBottom"/>
                  <a:pathLst>
                    <a:path w="21600" h="23306">
                      <a:moveTo>
                        <a:pt x="3600" y="0"/>
                      </a:moveTo>
                      <a:arcTo wR="3600" hR="3600" stAng="16200000" swAng="-5400000"/>
                      <a:lnTo>
                        <a:pt x="0" y="19706"/>
                      </a:lnTo>
                      <a:arcTo wR="3600" hR="3600" stAng="10800000" swAng="-5400000"/>
                      <a:lnTo>
                        <a:pt x="18000" y="233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V="1">
                  <a:off x="3070440" y="4541400"/>
                  <a:ext cx="161640" cy="547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flipV="1" rot="5400000">
                  <a:off x="2888280" y="4785120"/>
                  <a:ext cx="16200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83" name=""/>
          <p:cNvSpPr/>
          <p:nvPr/>
        </p:nvSpPr>
        <p:spPr>
          <a:xfrm>
            <a:off x="3657600" y="5245200"/>
            <a:ext cx="51055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smallest number of the largest possi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ubes to cover the ON-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wer terms with fewer inputs per 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Karnaugh map: 4-variable examp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(A,B,C,D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0,2,3,5,6,7,8,10,11,14,15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3102120" y="3808440"/>
            <a:ext cx="583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525760" y="285444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058840" y="488952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936960" y="2835360"/>
            <a:ext cx="4622760" cy="2057400"/>
            <a:chOff x="3936960" y="2835360"/>
            <a:chExt cx="4622760" cy="2057400"/>
          </a:xfrm>
        </p:grpSpPr>
        <p:sp>
          <p:nvSpPr>
            <p:cNvPr id="690" name=""/>
            <p:cNvSpPr/>
            <p:nvPr/>
          </p:nvSpPr>
          <p:spPr>
            <a:xfrm>
              <a:off x="5029200" y="4257720"/>
              <a:ext cx="634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851360" y="45626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17840" y="3952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97200" y="41054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36960" y="456264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746840" y="283536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045120" y="4384800"/>
              <a:ext cx="939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790960" y="298764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5359320" y="433368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5740200" y="395244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4901760" y="395280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4520880" y="433404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5359320" y="349524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5740200" y="311436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4901760" y="311472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4520880" y="349560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5359320" y="4181040"/>
              <a:ext cx="38088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4520880" y="423720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4520880" y="334332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5359320" y="334332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597200" y="4562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44920" y="4486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283000" y="4486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4520880" y="3800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16200000">
              <a:off x="4443120" y="448452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16200000">
              <a:off x="4443120" y="36457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83000" y="3648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97200" y="37242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359320" y="3800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978080" y="41814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25800" y="4105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663880" y="41054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902120" y="34192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16200000">
              <a:off x="4824360" y="4103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16200000">
              <a:off x="4824360" y="3265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663880" y="326700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978080" y="33433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740200" y="34196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7264080" y="395244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426000" y="400860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6426000" y="311472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7264080" y="311472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502320" y="4334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49680" y="4257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188120" y="4257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6426000" y="35715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16200000">
              <a:off x="6347880" y="42559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6200000">
              <a:off x="6348240" y="3417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188120" y="3419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502320" y="34956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64080" y="35719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83200" y="3952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730920" y="387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69000" y="387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6806880" y="31906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16200000">
              <a:off x="6729120" y="3874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6200000">
              <a:off x="6729120" y="30362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569000" y="30384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883200" y="31147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45320" y="3191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925920" y="3083040"/>
            <a:ext cx="2188800" cy="1842840"/>
            <a:chOff x="925920" y="3083040"/>
            <a:chExt cx="2188800" cy="1842840"/>
          </a:xfrm>
        </p:grpSpPr>
        <p:sp>
          <p:nvSpPr>
            <p:cNvPr id="751" name=""/>
            <p:cNvSpPr/>
            <p:nvPr/>
          </p:nvSpPr>
          <p:spPr>
            <a:xfrm>
              <a:off x="1379520" y="31748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289240" y="31734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119320" y="3083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567160" y="3086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109960" y="35337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119320" y="30830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036960" y="35193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04920" y="3083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652760" y="3086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1195560" y="35337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371600" y="41133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81320" y="41115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19320" y="400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567160" y="4003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2109960" y="445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652760" y="49150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204920" y="398952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204920" y="400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652760" y="4003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1195560" y="445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925920" y="42926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1695600" y="2179800"/>
            <a:ext cx="4260600" cy="2226960"/>
            <a:chOff x="1695600" y="2179800"/>
            <a:chExt cx="4260600" cy="2226960"/>
          </a:xfrm>
        </p:grpSpPr>
        <p:grpSp>
          <p:nvGrpSpPr>
            <p:cNvPr id="773" name=""/>
            <p:cNvGrpSpPr/>
            <p:nvPr/>
          </p:nvGrpSpPr>
          <p:grpSpPr>
            <a:xfrm>
              <a:off x="1695600" y="2179800"/>
              <a:ext cx="888480" cy="2226960"/>
              <a:chOff x="1695600" y="2179800"/>
              <a:chExt cx="888480" cy="2226960"/>
            </a:xfrm>
          </p:grpSpPr>
          <p:sp>
            <p:nvSpPr>
              <p:cNvPr id="774" name=""/>
              <p:cNvSpPr/>
              <p:nvPr/>
            </p:nvSpPr>
            <p:spPr>
              <a:xfrm>
                <a:off x="1710000" y="2179800"/>
                <a:ext cx="87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+ A’B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695600" y="3583080"/>
                <a:ext cx="371160" cy="823680"/>
              </a:xfrm>
              <a:custGeom>
                <a:avLst/>
                <a:gdLst>
                  <a:gd name="textAreaLeft" fmla="*/ 18000 w 371160"/>
                  <a:gd name="textAreaRight" fmla="*/ 353160 w 371160"/>
                  <a:gd name="textAreaTop" fmla="*/ 18000 h 823680"/>
                  <a:gd name="textAreaBottom" fmla="*/ 805680 h 823680"/>
                </a:gdLst>
                <a:ahLst/>
                <a:rect l="textAreaLeft" t="textAreaTop" r="textAreaRight" b="textAreaBottom"/>
                <a:pathLst>
                  <a:path w="21600" h="47909">
                    <a:moveTo>
                      <a:pt x="3600" y="0"/>
                    </a:moveTo>
                    <a:arcTo wR="3600" hR="3600" stAng="16200000" swAng="-5400000"/>
                    <a:lnTo>
                      <a:pt x="0" y="44309"/>
                    </a:lnTo>
                    <a:arcTo wR="3600" hR="3600" stAng="10800000" swAng="-5400000"/>
                    <a:lnTo>
                      <a:pt x="18000" y="4790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5521320" y="3084480"/>
              <a:ext cx="434880" cy="12574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EDF-09AC-410B-8A02-7D31CDFFB44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"/>
          <p:cNvGrpSpPr/>
          <p:nvPr/>
        </p:nvGrpSpPr>
        <p:grpSpPr>
          <a:xfrm>
            <a:off x="1023840" y="2270160"/>
            <a:ext cx="2849760" cy="2273400"/>
            <a:chOff x="1023840" y="2270160"/>
            <a:chExt cx="2849760" cy="2273400"/>
          </a:xfrm>
        </p:grpSpPr>
        <p:grpSp>
          <p:nvGrpSpPr>
            <p:cNvPr id="778" name=""/>
            <p:cNvGrpSpPr/>
            <p:nvPr/>
          </p:nvGrpSpPr>
          <p:grpSpPr>
            <a:xfrm>
              <a:off x="2954160" y="4116240"/>
              <a:ext cx="919440" cy="419400"/>
              <a:chOff x="2954160" y="4116240"/>
              <a:chExt cx="919440" cy="419400"/>
            </a:xfrm>
          </p:grpSpPr>
          <p:sp>
            <p:nvSpPr>
              <p:cNvPr id="779" name=""/>
              <p:cNvSpPr/>
              <p:nvPr/>
            </p:nvSpPr>
            <p:spPr>
              <a:xfrm>
                <a:off x="2954160" y="4149720"/>
                <a:ext cx="75888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406680" y="4116240"/>
                <a:ext cx="46692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2478240" y="2270160"/>
              <a:ext cx="91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’C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1023840" y="4124160"/>
              <a:ext cx="919440" cy="419400"/>
              <a:chOff x="1023840" y="4124160"/>
              <a:chExt cx="919440" cy="419400"/>
            </a:xfrm>
          </p:grpSpPr>
          <p:sp>
            <p:nvSpPr>
              <p:cNvPr id="783" name=""/>
              <p:cNvSpPr/>
              <p:nvPr/>
            </p:nvSpPr>
            <p:spPr>
              <a:xfrm flipH="1">
                <a:off x="1184400" y="4157640"/>
                <a:ext cx="75888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1023480" y="4124160"/>
                <a:ext cx="46692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Karnaugh maps: don’t car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(A,B,C,D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1,3,5,7,9) + d(6,12,13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out don't ca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692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249920" y="3417840"/>
            <a:ext cx="2760120" cy="2365560"/>
            <a:chOff x="1249920" y="3417840"/>
            <a:chExt cx="2760120" cy="2365560"/>
          </a:xfrm>
        </p:grpSpPr>
        <p:sp>
          <p:nvSpPr>
            <p:cNvPr id="788" name=""/>
            <p:cNvSpPr/>
            <p:nvPr/>
          </p:nvSpPr>
          <p:spPr>
            <a:xfrm>
              <a:off x="1703520" y="3738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3240" y="3737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443320" y="36464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91160" y="3649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433960" y="40975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443320" y="3646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60960" y="408312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426120" y="43722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49760" y="341784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528920" y="36464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976760" y="3649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1519560" y="40975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95600" y="4676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05320" y="4675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443320" y="45640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91160" y="45673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433960" y="5015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976760" y="5478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28920" y="455292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382840" y="54532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528920" y="45640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976760" y="45673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1519560" y="5015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249920" y="48564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1581120" y="2270160"/>
            <a:ext cx="973800" cy="2685960"/>
            <a:chOff x="1581120" y="2270160"/>
            <a:chExt cx="973800" cy="2685960"/>
          </a:xfrm>
        </p:grpSpPr>
        <p:sp>
          <p:nvSpPr>
            <p:cNvPr id="813" name=""/>
            <p:cNvSpPr/>
            <p:nvPr/>
          </p:nvSpPr>
          <p:spPr>
            <a:xfrm>
              <a:off x="2020680" y="2270160"/>
              <a:ext cx="53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81120" y="4148280"/>
              <a:ext cx="792360" cy="807840"/>
            </a:xfrm>
            <a:custGeom>
              <a:avLst/>
              <a:gdLst>
                <a:gd name="textAreaLeft" fmla="*/ 38520 w 792360"/>
                <a:gd name="textAreaRight" fmla="*/ 753840 w 792360"/>
                <a:gd name="textAreaTop" fmla="*/ 38520 h 807840"/>
                <a:gd name="textAreaBottom" fmla="*/ 769320 h 80784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ADC4-CA8F-4349-B0A1-6EB41C3043D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Karnaugh maps: don’t care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(A,B,C,D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1,3,5,7,9) + d(6,12,13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 = A'D + B'C'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out don't ca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don't ca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"/>
          <p:cNvSpPr/>
          <p:nvPr/>
        </p:nvSpPr>
        <p:spPr>
          <a:xfrm>
            <a:off x="4881600" y="4756320"/>
            <a:ext cx="341640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't ca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eated 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or 0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which is mo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959400" y="3321000"/>
            <a:ext cx="2760120" cy="2365560"/>
            <a:chOff x="959400" y="3321000"/>
            <a:chExt cx="2760120" cy="2365560"/>
          </a:xfrm>
        </p:grpSpPr>
        <p:sp>
          <p:nvSpPr>
            <p:cNvPr id="819" name=""/>
            <p:cNvSpPr/>
            <p:nvPr/>
          </p:nvSpPr>
          <p:spPr>
            <a:xfrm>
              <a:off x="1413000" y="3641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322720" y="3640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152800" y="3549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600640" y="3552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143440" y="400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152800" y="3549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70440" y="398628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35600" y="427536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59240" y="332100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238400" y="3549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686240" y="3552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1229040" y="400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405080" y="4579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314800" y="4578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152800" y="4467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600640" y="4470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2143440" y="4918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686240" y="5381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238400" y="445608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092320" y="5356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38400" y="4467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86240" y="4470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1229040" y="4918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959400" y="475956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1290600" y="2284560"/>
            <a:ext cx="864000" cy="2590560"/>
            <a:chOff x="1290600" y="2284560"/>
            <a:chExt cx="864000" cy="2590560"/>
          </a:xfrm>
        </p:grpSpPr>
        <p:sp>
          <p:nvSpPr>
            <p:cNvPr id="844" name=""/>
            <p:cNvSpPr/>
            <p:nvPr/>
          </p:nvSpPr>
          <p:spPr>
            <a:xfrm>
              <a:off x="1290600" y="4051440"/>
              <a:ext cx="808200" cy="823680"/>
            </a:xfrm>
            <a:custGeom>
              <a:avLst/>
              <a:gdLst>
                <a:gd name="textAreaLeft" fmla="*/ 39240 w 808200"/>
                <a:gd name="textAreaRight" fmla="*/ 768960 w 808200"/>
                <a:gd name="textAreaTop" fmla="*/ 39240 h 823680"/>
                <a:gd name="textAreaBottom" fmla="*/ 784440 h 823680"/>
              </a:gdLst>
              <a:ahLst/>
              <a:rect l="textAreaLeft" t="textAreaTop" r="textAreaRight" b="textAreaBottom"/>
              <a:pathLst>
                <a:path w="21600" h="22014">
                  <a:moveTo>
                    <a:pt x="3600" y="0"/>
                  </a:moveTo>
                  <a:arcTo wR="3600" hR="3600" stAng="16200000" swAng="-5400000"/>
                  <a:lnTo>
                    <a:pt x="0" y="18414"/>
                  </a:lnTo>
                  <a:arcTo wR="3600" hR="3600" stAng="10800000" swAng="-5400000"/>
                  <a:lnTo>
                    <a:pt x="18000" y="220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608120" y="228456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1355760" y="2273400"/>
            <a:ext cx="7343640" cy="2374920"/>
            <a:chOff x="1355760" y="2273400"/>
            <a:chExt cx="7343640" cy="2374920"/>
          </a:xfrm>
        </p:grpSpPr>
        <p:sp>
          <p:nvSpPr>
            <p:cNvPr id="847" name=""/>
            <p:cNvSpPr/>
            <p:nvPr/>
          </p:nvSpPr>
          <p:spPr>
            <a:xfrm>
              <a:off x="5016600" y="3454560"/>
              <a:ext cx="3682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y using don't care as a "1"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2-cube can be formed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ther than a 1-cube to co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3156120" y="3600000"/>
              <a:ext cx="176508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355760" y="4116240"/>
              <a:ext cx="1630440" cy="290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013480" y="2273400"/>
              <a:ext cx="73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C'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6A2-2320-4C62-9836-5D481AC34F5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 the function F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0, 2, 7, 8, 14, 15) + d(3, 6, 9, 12, 13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1287360" y="2754360"/>
            <a:ext cx="1742760" cy="1752480"/>
            <a:chOff x="1287360" y="2754360"/>
            <a:chExt cx="1742760" cy="1752480"/>
          </a:xfrm>
        </p:grpSpPr>
        <p:sp>
          <p:nvSpPr>
            <p:cNvPr id="854" name=""/>
            <p:cNvSpPr/>
            <p:nvPr/>
          </p:nvSpPr>
          <p:spPr>
            <a:xfrm>
              <a:off x="1295280" y="27558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204640" y="27543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287360" y="36939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196720" y="36925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842040" y="2435400"/>
            <a:ext cx="2760120" cy="2364840"/>
            <a:chOff x="842040" y="2435400"/>
            <a:chExt cx="2760120" cy="2364840"/>
          </a:xfrm>
        </p:grpSpPr>
        <p:sp>
          <p:nvSpPr>
            <p:cNvPr id="859" name=""/>
            <p:cNvSpPr/>
            <p:nvPr/>
          </p:nvSpPr>
          <p:spPr>
            <a:xfrm>
              <a:off x="2035440" y="26636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482920" y="26668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2025720" y="3114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035440" y="2663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52720" y="3100320"/>
              <a:ext cx="0" cy="90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017880" y="338940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441520" y="2435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121040" y="26636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568520" y="26668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1111320" y="3114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035440" y="35812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482920" y="35845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2025720" y="4032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568520" y="4495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121040" y="3570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974960" y="44704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121040" y="35812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568520" y="35845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1111320" y="4032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42040" y="38736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2095560" y="2757600"/>
            <a:ext cx="797040" cy="766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627200" y="3662280"/>
            <a:ext cx="797040" cy="766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071800" y="2733840"/>
            <a:ext cx="295200" cy="1652400"/>
          </a:xfrm>
          <a:custGeom>
            <a:avLst/>
            <a:gdLst>
              <a:gd name="textAreaLeft" fmla="*/ 14400 w 295200"/>
              <a:gd name="textAreaRight" fmla="*/ 280800 w 295200"/>
              <a:gd name="textAreaTop" fmla="*/ 14400 h 1652400"/>
              <a:gd name="textAreaBottom" fmla="*/ 1638000 h 1652400"/>
            </a:gdLst>
            <a:ahLst/>
            <a:rect l="textAreaLeft" t="textAreaTop" r="textAreaRight" b="textAreaBottom"/>
            <a:pathLst>
              <a:path w="21600" h="120786">
                <a:moveTo>
                  <a:pt x="3600" y="0"/>
                </a:moveTo>
                <a:arcTo wR="3600" hR="3600" stAng="16200000" swAng="-5400000"/>
                <a:lnTo>
                  <a:pt x="0" y="117186"/>
                </a:lnTo>
                <a:arcTo wR="3600" hR="3600" stAng="10800000" swAng="-5400000"/>
                <a:lnTo>
                  <a:pt x="18000" y="120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190520" y="3683160"/>
            <a:ext cx="797040" cy="766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174680" y="2575800"/>
            <a:ext cx="328680" cy="2016360"/>
            <a:chOff x="1174680" y="2575800"/>
            <a:chExt cx="328680" cy="2016360"/>
          </a:xfrm>
        </p:grpSpPr>
        <p:sp>
          <p:nvSpPr>
            <p:cNvPr id="884" name=""/>
            <p:cNvSpPr/>
            <p:nvPr/>
          </p:nvSpPr>
          <p:spPr>
            <a:xfrm rot="16200000">
              <a:off x="1085760" y="4179240"/>
              <a:ext cx="501480" cy="32400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 rot="5400000">
              <a:off x="1090800" y="2664360"/>
              <a:ext cx="501480" cy="32364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1760 h 323640"/>
                <a:gd name="textAreaBottom" fmla="*/ 28188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1031760" y="2724120"/>
            <a:ext cx="2035080" cy="339840"/>
            <a:chOff x="1031760" y="2724120"/>
            <a:chExt cx="2035080" cy="339840"/>
          </a:xfrm>
        </p:grpSpPr>
        <p:sp>
          <p:nvSpPr>
            <p:cNvPr id="887" name=""/>
            <p:cNvSpPr/>
            <p:nvPr/>
          </p:nvSpPr>
          <p:spPr>
            <a:xfrm rot="10800000">
              <a:off x="2565000" y="2739960"/>
              <a:ext cx="501840" cy="324000"/>
            </a:xfrm>
            <a:custGeom>
              <a:avLst/>
              <a:gdLst>
                <a:gd name="textAreaLeft" fmla="*/ 0 w 501840"/>
                <a:gd name="textAreaRight" fmla="*/ 352080 w 50184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031760" y="2724120"/>
              <a:ext cx="501480" cy="32400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666600" y="26686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215960" y="26701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215960" y="29480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A’C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211640" y="322596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C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207680" y="350208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ahoma"/>
              </a:rPr>
              <a:t>AB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229640" y="3780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ahoma"/>
              </a:rPr>
              <a:t>A’B’D’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201560" y="40561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B’C’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32440" y="2714760"/>
            <a:ext cx="69192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37120" y="3530520"/>
            <a:ext cx="69192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41800" y="2975040"/>
            <a:ext cx="6922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936040" y="2124000"/>
            <a:ext cx="2760120" cy="2365560"/>
            <a:chOff x="5936040" y="2124000"/>
            <a:chExt cx="2760120" cy="2365560"/>
          </a:xfrm>
        </p:grpSpPr>
        <p:grpSp>
          <p:nvGrpSpPr>
            <p:cNvPr id="900" name=""/>
            <p:cNvGrpSpPr/>
            <p:nvPr/>
          </p:nvGrpSpPr>
          <p:grpSpPr>
            <a:xfrm>
              <a:off x="6381720" y="2443320"/>
              <a:ext cx="1742760" cy="1752480"/>
              <a:chOff x="6381720" y="2443320"/>
              <a:chExt cx="1742760" cy="1752480"/>
            </a:xfrm>
          </p:grpSpPr>
          <p:sp>
            <p:nvSpPr>
              <p:cNvPr id="901" name=""/>
              <p:cNvSpPr/>
              <p:nvPr/>
            </p:nvSpPr>
            <p:spPr>
              <a:xfrm>
                <a:off x="6389640" y="24447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299000" y="24433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381720" y="33829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291080" y="338148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5936040" y="2124000"/>
              <a:ext cx="2760120" cy="2365560"/>
              <a:chOff x="5936040" y="2124000"/>
              <a:chExt cx="2760120" cy="2365560"/>
            </a:xfrm>
          </p:grpSpPr>
          <p:sp>
            <p:nvSpPr>
              <p:cNvPr id="906" name=""/>
              <p:cNvSpPr/>
              <p:nvPr/>
            </p:nvSpPr>
            <p:spPr>
              <a:xfrm>
                <a:off x="7129440" y="23526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576920" y="23558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>
                <a:off x="7119720" y="28036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129440" y="23526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046720" y="27892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111880" y="307836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535520" y="2124000"/>
                <a:ext cx="58428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215040" y="23526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662520" y="23558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6205320" y="28036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129440" y="3270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576920" y="3273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>
                <a:off x="7119720" y="37213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662520" y="41846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215040" y="32590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068960" y="41594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215040" y="3270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662520" y="3273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6205320" y="37213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936040" y="356256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>
              <a:off x="6721560" y="3351240"/>
              <a:ext cx="79668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6269040" y="2264760"/>
              <a:ext cx="328680" cy="2016360"/>
              <a:chOff x="6269040" y="2264760"/>
              <a:chExt cx="328680" cy="2016360"/>
            </a:xfrm>
          </p:grpSpPr>
          <p:sp>
            <p:nvSpPr>
              <p:cNvPr id="928" name=""/>
              <p:cNvSpPr/>
              <p:nvPr/>
            </p:nvSpPr>
            <p:spPr>
              <a:xfrm rot="16200000">
                <a:off x="6180120" y="3868200"/>
                <a:ext cx="501480" cy="32400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2120 h 324000"/>
                  <a:gd name="textAreaBottom" fmla="*/ 281880 h 3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V="1" rot="5400000">
                <a:off x="6185160" y="2353320"/>
                <a:ext cx="501480" cy="32364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6126120" y="2413080"/>
              <a:ext cx="2035080" cy="338760"/>
              <a:chOff x="6126120" y="2413080"/>
              <a:chExt cx="2035080" cy="338760"/>
            </a:xfrm>
          </p:grpSpPr>
          <p:sp>
            <p:nvSpPr>
              <p:cNvPr id="931" name=""/>
              <p:cNvSpPr/>
              <p:nvPr/>
            </p:nvSpPr>
            <p:spPr>
              <a:xfrm rot="10800000">
                <a:off x="7659360" y="2428200"/>
                <a:ext cx="501840" cy="323640"/>
              </a:xfrm>
              <a:custGeom>
                <a:avLst/>
                <a:gdLst>
                  <a:gd name="textAreaLeft" fmla="*/ 0 w 501840"/>
                  <a:gd name="textAreaRight" fmla="*/ 352080 w 50184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126120" y="2413080"/>
                <a:ext cx="501480" cy="32364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3" name=""/>
          <p:cNvGrpSpPr/>
          <p:nvPr/>
        </p:nvGrpSpPr>
        <p:grpSpPr>
          <a:xfrm>
            <a:off x="5964840" y="4324320"/>
            <a:ext cx="2760120" cy="2365560"/>
            <a:chOff x="5964840" y="4324320"/>
            <a:chExt cx="2760120" cy="2365560"/>
          </a:xfrm>
        </p:grpSpPr>
        <p:grpSp>
          <p:nvGrpSpPr>
            <p:cNvPr id="934" name=""/>
            <p:cNvGrpSpPr/>
            <p:nvPr/>
          </p:nvGrpSpPr>
          <p:grpSpPr>
            <a:xfrm>
              <a:off x="6410160" y="4643280"/>
              <a:ext cx="1742760" cy="1752480"/>
              <a:chOff x="6410160" y="4643280"/>
              <a:chExt cx="1742760" cy="1752480"/>
            </a:xfrm>
          </p:grpSpPr>
          <p:sp>
            <p:nvSpPr>
              <p:cNvPr id="935" name=""/>
              <p:cNvSpPr/>
              <p:nvPr/>
            </p:nvSpPr>
            <p:spPr>
              <a:xfrm>
                <a:off x="6418080" y="46447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327440" y="46432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410160" y="558288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19520" y="55814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5964840" y="4324320"/>
              <a:ext cx="2760120" cy="2365560"/>
              <a:chOff x="5964840" y="4324320"/>
              <a:chExt cx="2760120" cy="2365560"/>
            </a:xfrm>
          </p:grpSpPr>
          <p:sp>
            <p:nvSpPr>
              <p:cNvPr id="940" name=""/>
              <p:cNvSpPr/>
              <p:nvPr/>
            </p:nvSpPr>
            <p:spPr>
              <a:xfrm>
                <a:off x="7158240" y="45529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605720" y="45561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H="1">
                <a:off x="7148520" y="50040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158240" y="45529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075520" y="498960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140680" y="52786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64320" y="4324320"/>
                <a:ext cx="58428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243840" y="45529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691320" y="45561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>
                <a:off x="6234120" y="50040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158240" y="547056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05720" y="5473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>
                <a:off x="7148520" y="59216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691320" y="638496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243840" y="545940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097760" y="635976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243840" y="547056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691320" y="5473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H="1">
                <a:off x="6234120" y="59216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964840" y="576288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>
              <a:off x="7194600" y="4622760"/>
              <a:ext cx="295200" cy="165276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1652760"/>
                <a:gd name="textAreaBottom" fmla="*/ 1638360 h 1652760"/>
              </a:gdLst>
              <a:ahLst/>
              <a:rect l="textAreaLeft" t="textAreaTop" r="textAreaRight" b="textAreaBottom"/>
              <a:pathLst>
                <a:path w="21600" h="120813">
                  <a:moveTo>
                    <a:pt x="3600" y="0"/>
                  </a:moveTo>
                  <a:arcTo wR="3600" hR="3600" stAng="16200000" swAng="-5400000"/>
                  <a:lnTo>
                    <a:pt x="0" y="117213"/>
                  </a:lnTo>
                  <a:arcTo wR="3600" hR="3600" stAng="10800000" swAng="-5400000"/>
                  <a:lnTo>
                    <a:pt x="18000" y="120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313320" y="557208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6154560" y="4613400"/>
              <a:ext cx="2035080" cy="338760"/>
              <a:chOff x="6154560" y="4613400"/>
              <a:chExt cx="2035080" cy="338760"/>
            </a:xfrm>
          </p:grpSpPr>
          <p:sp>
            <p:nvSpPr>
              <p:cNvPr id="963" name=""/>
              <p:cNvSpPr/>
              <p:nvPr/>
            </p:nvSpPr>
            <p:spPr>
              <a:xfrm rot="10800000">
                <a:off x="7687800" y="4628520"/>
                <a:ext cx="501840" cy="323640"/>
              </a:xfrm>
              <a:custGeom>
                <a:avLst/>
                <a:gdLst>
                  <a:gd name="textAreaLeft" fmla="*/ 0 w 501840"/>
                  <a:gd name="textAreaRight" fmla="*/ 352080 w 50184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154560" y="4613400"/>
                <a:ext cx="501480" cy="32364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5" name=""/>
          <p:cNvGrpSpPr/>
          <p:nvPr/>
        </p:nvGrpSpPr>
        <p:grpSpPr>
          <a:xfrm>
            <a:off x="2286720" y="3406680"/>
            <a:ext cx="3686760" cy="1962360"/>
            <a:chOff x="2286720" y="3406680"/>
            <a:chExt cx="3686760" cy="1962360"/>
          </a:xfrm>
        </p:grpSpPr>
        <p:sp>
          <p:nvSpPr>
            <p:cNvPr id="966" name=""/>
            <p:cNvSpPr/>
            <p:nvPr/>
          </p:nvSpPr>
          <p:spPr>
            <a:xfrm>
              <a:off x="2286720" y="5000760"/>
              <a:ext cx="260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 = 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BC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 </a:t>
              </a:r>
              <a:r>
                <a:rPr b="1" lang="en-US" sz="1800" spc="-1" strike="noStrike">
                  <a:solidFill>
                    <a:srgbClr val="996633"/>
                  </a:solidFill>
                  <a:latin typeface="Tahoma"/>
                </a:rPr>
                <a:t>A’B’D’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+ </a:t>
              </a:r>
              <a:r>
                <a:rPr b="1" lang="en-US" sz="1800" spc="-1" strike="noStrike">
                  <a:solidFill>
                    <a:srgbClr val="ff6600"/>
                  </a:solidFill>
                  <a:latin typeface="Tahoma"/>
                </a:rPr>
                <a:t>B’C’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5073120" y="3406680"/>
              <a:ext cx="900360" cy="154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2274120" y="5432400"/>
            <a:ext cx="3704400" cy="428760"/>
            <a:chOff x="2274120" y="5432400"/>
            <a:chExt cx="3704400" cy="428760"/>
          </a:xfrm>
        </p:grpSpPr>
        <p:sp>
          <p:nvSpPr>
            <p:cNvPr id="969" name=""/>
            <p:cNvSpPr/>
            <p:nvPr/>
          </p:nvSpPr>
          <p:spPr>
            <a:xfrm>
              <a:off x="2274120" y="5492880"/>
              <a:ext cx="23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 = </a:t>
              </a: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A’C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ff00ff"/>
                  </a:solidFill>
                  <a:latin typeface="Tahoma"/>
                </a:rPr>
                <a:t>AB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ff6600"/>
                  </a:solidFill>
                  <a:latin typeface="Tahoma"/>
                </a:rPr>
                <a:t>B’C’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4799160" y="5432400"/>
              <a:ext cx="117936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49120" y="2093760"/>
            <a:ext cx="8804520" cy="45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6884-08D5-488C-914F-5914B7CC93F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4495680" y="5638680"/>
            <a:ext cx="4191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'll need a 4-variable Karnaugh ma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of the 3 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sign example: two-bit comparat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1816200" y="3485880"/>
            <a:ext cx="1765080" cy="1187640"/>
            <a:chOff x="1816200" y="3485880"/>
            <a:chExt cx="1765080" cy="1187640"/>
          </a:xfrm>
        </p:grpSpPr>
        <p:sp>
          <p:nvSpPr>
            <p:cNvPr id="975" name=""/>
            <p:cNvSpPr/>
            <p:nvPr/>
          </p:nvSpPr>
          <p:spPr>
            <a:xfrm>
              <a:off x="1816200" y="4305240"/>
              <a:ext cx="17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ock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 flipV="1">
              <a:off x="2368080" y="3485880"/>
              <a:ext cx="298440" cy="78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599400" y="2286000"/>
            <a:ext cx="3832920" cy="1099440"/>
            <a:chOff x="599400" y="2286000"/>
            <a:chExt cx="3832920" cy="1099440"/>
          </a:xfrm>
        </p:grpSpPr>
        <p:sp>
          <p:nvSpPr>
            <p:cNvPr id="978" name=""/>
            <p:cNvSpPr/>
            <p:nvPr/>
          </p:nvSpPr>
          <p:spPr>
            <a:xfrm>
              <a:off x="2057400" y="2362320"/>
              <a:ext cx="3556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971800" y="2362320"/>
              <a:ext cx="14605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&lt; C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= C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&gt; C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990720" y="2298600"/>
              <a:ext cx="1904760" cy="1066680"/>
              <a:chOff x="990720" y="2298600"/>
              <a:chExt cx="1904760" cy="1066680"/>
            </a:xfrm>
          </p:grpSpPr>
          <p:sp>
            <p:nvSpPr>
              <p:cNvPr id="981" name=""/>
              <p:cNvSpPr/>
              <p:nvPr/>
            </p:nvSpPr>
            <p:spPr>
              <a:xfrm>
                <a:off x="1523880" y="2298600"/>
                <a:ext cx="838440" cy="1066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990720" y="24508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990720" y="26794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990720" y="29844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990720" y="32130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362320" y="25272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362320" y="283176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362320" y="31366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9" name=""/>
            <p:cNvSpPr/>
            <p:nvPr/>
          </p:nvSpPr>
          <p:spPr>
            <a:xfrm>
              <a:off x="1522080" y="22860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519920" y="251460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2800" y="28195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1000" y="304812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99400" y="23623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99400" y="29401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5124600" y="1625760"/>
            <a:ext cx="3105000" cy="3784320"/>
            <a:chOff x="5124600" y="1625760"/>
            <a:chExt cx="3105000" cy="3784320"/>
          </a:xfrm>
        </p:grpSpPr>
        <p:sp>
          <p:nvSpPr>
            <p:cNvPr id="996" name=""/>
            <p:cNvSpPr/>
            <p:nvPr/>
          </p:nvSpPr>
          <p:spPr>
            <a:xfrm>
              <a:off x="5124600" y="1841400"/>
              <a:ext cx="27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515280" y="16315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124600" y="2666880"/>
              <a:ext cx="27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149800" y="3479400"/>
              <a:ext cx="271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137200" y="4292280"/>
              <a:ext cx="27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130720" y="1625760"/>
              <a:ext cx="3098880" cy="37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1803240" y="3777840"/>
            <a:ext cx="2990880" cy="1327680"/>
            <a:chOff x="1803240" y="3777840"/>
            <a:chExt cx="2990880" cy="1327680"/>
          </a:xfrm>
        </p:grpSpPr>
        <p:sp>
          <p:nvSpPr>
            <p:cNvPr id="1003" name=""/>
            <p:cNvSpPr/>
            <p:nvPr/>
          </p:nvSpPr>
          <p:spPr>
            <a:xfrm flipV="1">
              <a:off x="3200400" y="3777840"/>
              <a:ext cx="1593720" cy="11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803240" y="4521240"/>
              <a:ext cx="1765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ut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12A7-1567-417D-9ADD-92422C9572A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"/>
          <p:cNvGrpSpPr/>
          <p:nvPr/>
        </p:nvGrpSpPr>
        <p:grpSpPr>
          <a:xfrm>
            <a:off x="457200" y="2514600"/>
            <a:ext cx="6908760" cy="2895480"/>
            <a:chOff x="457200" y="2514600"/>
            <a:chExt cx="6908760" cy="2895480"/>
          </a:xfrm>
        </p:grpSpPr>
        <p:grpSp>
          <p:nvGrpSpPr>
            <p:cNvPr id="1006" name=""/>
            <p:cNvGrpSpPr/>
            <p:nvPr/>
          </p:nvGrpSpPr>
          <p:grpSpPr>
            <a:xfrm>
              <a:off x="2387520" y="2895480"/>
              <a:ext cx="918720" cy="419400"/>
              <a:chOff x="2387520" y="2895480"/>
              <a:chExt cx="918720" cy="419400"/>
            </a:xfrm>
          </p:grpSpPr>
          <p:sp>
            <p:nvSpPr>
              <p:cNvPr id="1007" name=""/>
              <p:cNvSpPr/>
              <p:nvPr/>
            </p:nvSpPr>
            <p:spPr>
              <a:xfrm>
                <a:off x="2387520" y="2928960"/>
                <a:ext cx="75852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839680" y="2895480"/>
                <a:ext cx="46656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457200" y="2903400"/>
              <a:ext cx="918720" cy="419400"/>
              <a:chOff x="457200" y="2903400"/>
              <a:chExt cx="918720" cy="419400"/>
            </a:xfrm>
          </p:grpSpPr>
          <p:sp>
            <p:nvSpPr>
              <p:cNvPr id="1010" name=""/>
              <p:cNvSpPr/>
              <p:nvPr/>
            </p:nvSpPr>
            <p:spPr>
              <a:xfrm flipH="1">
                <a:off x="617040" y="2936880"/>
                <a:ext cx="75852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457200" y="2903400"/>
                <a:ext cx="46656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2" name=""/>
            <p:cNvSpPr/>
            <p:nvPr/>
          </p:nvSpPr>
          <p:spPr>
            <a:xfrm>
              <a:off x="1473120" y="4876920"/>
              <a:ext cx="5892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 B' D  +  A' C  +  B' C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990720" y="29718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66680" y="2514600"/>
              <a:ext cx="304920" cy="7621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2120"/>
                <a:gd name="textAreaBottom" fmla="*/ 747360 h 76212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473120" y="1494000"/>
            <a:ext cx="6908760" cy="4678200"/>
            <a:chOff x="1473120" y="1494000"/>
            <a:chExt cx="6908760" cy="4678200"/>
          </a:xfrm>
        </p:grpSpPr>
        <p:grpSp>
          <p:nvGrpSpPr>
            <p:cNvPr id="1016" name=""/>
            <p:cNvGrpSpPr/>
            <p:nvPr/>
          </p:nvGrpSpPr>
          <p:grpSpPr>
            <a:xfrm>
              <a:off x="7543800" y="1494000"/>
              <a:ext cx="426960" cy="2849040"/>
              <a:chOff x="7543800" y="1494000"/>
              <a:chExt cx="426960" cy="2849040"/>
            </a:xfrm>
          </p:grpSpPr>
          <p:grpSp>
            <p:nvGrpSpPr>
              <p:cNvPr id="1017" name=""/>
              <p:cNvGrpSpPr/>
              <p:nvPr/>
            </p:nvGrpSpPr>
            <p:grpSpPr>
              <a:xfrm>
                <a:off x="7543800" y="1494000"/>
                <a:ext cx="419040" cy="918720"/>
                <a:chOff x="7543800" y="1494000"/>
                <a:chExt cx="419040" cy="918720"/>
              </a:xfrm>
            </p:grpSpPr>
            <p:sp>
              <p:nvSpPr>
                <p:cNvPr id="1018" name=""/>
                <p:cNvSpPr/>
                <p:nvPr/>
              </p:nvSpPr>
              <p:spPr>
                <a:xfrm rot="16200000">
                  <a:off x="7375320" y="1855800"/>
                  <a:ext cx="758520" cy="355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rot="16200000">
                  <a:off x="7520040" y="1517760"/>
                  <a:ext cx="466560" cy="41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7551720" y="3424320"/>
                <a:ext cx="419040" cy="918720"/>
                <a:chOff x="7551720" y="3424320"/>
                <a:chExt cx="419040" cy="918720"/>
              </a:xfrm>
            </p:grpSpPr>
            <p:sp>
              <p:nvSpPr>
                <p:cNvPr id="1021" name=""/>
                <p:cNvSpPr/>
                <p:nvPr/>
              </p:nvSpPr>
              <p:spPr>
                <a:xfrm flipH="1" rot="16200000">
                  <a:off x="7382880" y="3625920"/>
                  <a:ext cx="758520" cy="355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H="1" rot="16200000">
                  <a:off x="7527960" y="3900240"/>
                  <a:ext cx="466560" cy="41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3" name=""/>
            <p:cNvSpPr/>
            <p:nvPr/>
          </p:nvSpPr>
          <p:spPr>
            <a:xfrm>
              <a:off x="1473120" y="5638680"/>
              <a:ext cx="5892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 C' D'  +  A C'  +  A B D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620120" y="20574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6200000">
              <a:off x="7315200" y="1828440"/>
              <a:ext cx="304920" cy="7621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2120"/>
                <a:gd name="textAreaBottom" fmla="*/ 747360 h 76212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533520" y="486396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09880" y="4152960"/>
            <a:ext cx="1828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990720" y="4152960"/>
            <a:ext cx="17780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629400" y="4152960"/>
            <a:ext cx="1828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sign example: two-bit comparator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684720" y="1749600"/>
            <a:ext cx="2760120" cy="2364840"/>
            <a:chOff x="684720" y="1749600"/>
            <a:chExt cx="2760120" cy="2364840"/>
          </a:xfrm>
        </p:grpSpPr>
        <p:sp>
          <p:nvSpPr>
            <p:cNvPr id="1032" name=""/>
            <p:cNvSpPr/>
            <p:nvPr/>
          </p:nvSpPr>
          <p:spPr>
            <a:xfrm>
              <a:off x="1138320" y="20700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048040" y="20685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87812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32596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186876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878120" y="1977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795760" y="24145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860920" y="270360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284560" y="174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6372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41156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95436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130400" y="30081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040120" y="3006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87812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32596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186876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41156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963720" y="28843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817640" y="37846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6372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41156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95436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84720" y="318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3504240" y="1749600"/>
            <a:ext cx="2760120" cy="2364840"/>
            <a:chOff x="3504240" y="1749600"/>
            <a:chExt cx="2760120" cy="2364840"/>
          </a:xfrm>
        </p:grpSpPr>
        <p:sp>
          <p:nvSpPr>
            <p:cNvPr id="1057" name=""/>
            <p:cNvSpPr/>
            <p:nvPr/>
          </p:nvSpPr>
          <p:spPr>
            <a:xfrm>
              <a:off x="3957840" y="20700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867560" y="20685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9764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14548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468828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97640" y="1977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615280" y="24145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680440" y="270360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104080" y="174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78324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23108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377388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949920" y="30081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859640" y="3006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9764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14548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468828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23108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783240" y="28843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37160" y="37846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78324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23108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377388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504240" y="318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6777000" y="207000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686720" y="206856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516800" y="19782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96464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7507440" y="2428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516800" y="19782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8434440" y="2414520"/>
            <a:ext cx="0" cy="90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499600" y="2703600"/>
            <a:ext cx="583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923240" y="174960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602400" y="19782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5024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6593040" y="2428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769080" y="300816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678800" y="300672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516800" y="289548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964640" y="2898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>
            <a:off x="7507440" y="334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05024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602400" y="2884320"/>
            <a:ext cx="0" cy="92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456320" y="378468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02400" y="289548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050240" y="2898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6593040" y="334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323400" y="31878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400800" y="5257800"/>
            <a:ext cx="264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(A xnor C) • (B xnor 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752480" y="6095880"/>
            <a:ext cx="5892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T and GT are similar (flip A/C and B/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1473120" y="2057400"/>
            <a:ext cx="4927680" cy="3657600"/>
            <a:chOff x="1473120" y="2057400"/>
            <a:chExt cx="4927680" cy="3657600"/>
          </a:xfrm>
        </p:grpSpPr>
        <p:sp>
          <p:nvSpPr>
            <p:cNvPr id="1108" name=""/>
            <p:cNvSpPr/>
            <p:nvPr/>
          </p:nvSpPr>
          <p:spPr>
            <a:xfrm>
              <a:off x="1473120" y="5257800"/>
              <a:ext cx="492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 B' C' D'  +  A' B C' D  +  A B C D  +  A B' C 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809880" y="20574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267080" y="25146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724280" y="29718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181480" y="34290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0511-837C-476C-881D-C8FB9F39B26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mplification of two-level combinational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nding a minimal sum of products or product of sums realiz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loit don't care information in the pro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lgebraic simplific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an algorithmic/systematic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 do you know when the minimum realization has been fou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puter-aided design tool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cise solutions require very long computation times, especially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s with many inputs (&gt; 1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uristic methods employed – "educated guesses" to reduce amount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utation and yield good if not best solu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and methods still relevan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understand automatic tools and their strengths and weaknes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ility to check results (on small exampl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E7BE-2C77-4ADE-B370-BC502CFA77A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5562720" y="2514600"/>
            <a:ext cx="2489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 alter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ations of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d without 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72280" y="5130720"/>
            <a:ext cx="3098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NOR is implemented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 least 3 simple 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736560" y="1670040"/>
            <a:ext cx="3987720" cy="4578120"/>
            <a:chOff x="736560" y="1670040"/>
            <a:chExt cx="3987720" cy="4578120"/>
          </a:xfrm>
        </p:grpSpPr>
        <p:sp>
          <p:nvSpPr>
            <p:cNvPr id="1116" name=""/>
            <p:cNvSpPr/>
            <p:nvPr/>
          </p:nvSpPr>
          <p:spPr>
            <a:xfrm>
              <a:off x="2508120" y="26733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08120" y="2977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2502000" y="2666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502000" y="25779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667240" y="26874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660760" y="2681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666880" y="2673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60400" y="2666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883600" y="3652560"/>
              <a:ext cx="8877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877120" y="3646440"/>
              <a:ext cx="90072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289680" y="3652560"/>
              <a:ext cx="756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283560" y="3646440"/>
              <a:ext cx="878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883240" y="3638520"/>
              <a:ext cx="8881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876760" y="3632400"/>
              <a:ext cx="9010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289320" y="3638520"/>
              <a:ext cx="759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283200" y="3632400"/>
              <a:ext cx="8820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333600" y="371448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333600" y="384156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3327480" y="39114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327480" y="35305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333600" y="5594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333600" y="5898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3327480" y="5587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492720" y="56084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486240" y="5602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492360" y="5594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485880" y="5587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108160" y="5352840"/>
              <a:ext cx="91404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101680" y="5346360"/>
              <a:ext cx="9270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108520" y="5367240"/>
              <a:ext cx="9136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02040" y="5360760"/>
              <a:ext cx="9266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02360" y="536724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495880" y="536076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502360" y="535284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495520" y="534636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029040" y="54734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439000" y="536724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432520" y="536076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439000" y="535284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432160" y="534636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508120" y="5429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508120" y="55562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217800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06388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205056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6540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179712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682640" y="226044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166968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784160" y="24508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141588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30176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1289160" y="22539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40328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103500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92088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90756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02240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08120" y="3308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508120" y="3612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2502000" y="3301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502000" y="32130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67240" y="33224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660760" y="3316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308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660400" y="3301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508120" y="3943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508120" y="4248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2502000" y="3936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502000" y="3848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667240" y="39574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660760" y="3951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666880" y="39434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660400" y="39369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508120" y="45781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508120" y="4883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2502000" y="457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502000" y="448308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667240" y="45925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660760" y="45860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666880" y="45784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660400" y="4572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08160" y="5860800"/>
              <a:ext cx="91404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101680" y="5854320"/>
              <a:ext cx="9270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108520" y="5875200"/>
              <a:ext cx="9136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102040" y="5868720"/>
              <a:ext cx="9266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502360" y="587520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495880" y="586872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502360" y="586080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495520" y="58543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29040" y="59814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439000" y="587520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432520" y="586872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439000" y="586080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432160" y="58543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508120" y="5937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508120" y="60642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952720" y="2825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206880" y="3587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079800" y="2825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200400" y="283212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952720" y="4095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206880" y="3841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079800" y="3841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073320" y="38480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952720" y="4730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206880" y="3968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00400" y="397512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079800" y="4730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778200" y="3778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77820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04148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381040" y="3905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381040" y="4539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381040" y="5429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5716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83808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5104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51040" y="2133360"/>
              <a:ext cx="0" cy="176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38080" y="38923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51040" y="391140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38080" y="45273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51040" y="454644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38080" y="541656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51040" y="543564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57160" y="390528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857160" y="45399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857160" y="54291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80324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381040" y="4159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381040" y="4794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381040" y="5556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61928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60020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61280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612800" y="2133360"/>
              <a:ext cx="0" cy="20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600200" y="4146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612800" y="416556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600200" y="4781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12800" y="480060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00200" y="5543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612800" y="5562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619280" y="4159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619280" y="4794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619280" y="555624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6880" y="5682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079800" y="54925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200400" y="54990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04148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028520" y="2622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381040" y="2635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381040" y="3270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041480" y="264132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028520" y="3257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041480" y="327636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047600" y="2635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047600" y="32702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80324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81040" y="28890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381040" y="3524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803240" y="264132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790640" y="28764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803240" y="289548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790640" y="3511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803240" y="3530520"/>
              <a:ext cx="0" cy="27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809720" y="28890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809720" y="352404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06880" y="3714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952720" y="34606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073320" y="346680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079800" y="3714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42236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381040" y="2762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381040" y="4667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422360" y="26413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409760" y="27493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422360" y="2768400"/>
              <a:ext cx="0" cy="18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409760" y="4654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422360" y="4673520"/>
              <a:ext cx="0" cy="157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428840" y="276228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428840" y="466704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18448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81040" y="301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81040" y="4921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184480" y="26413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171520" y="3003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84480" y="302256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71520" y="4908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184480" y="4927320"/>
              <a:ext cx="0" cy="13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190600" y="3016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19060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42236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381040" y="3396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381040" y="40320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381040" y="5937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23804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219320" y="21142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23192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231920" y="213336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219320" y="33843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231920" y="340344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219320" y="40194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231920" y="403848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219320" y="592452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231920" y="5943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238040" y="339696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238040" y="403200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238040" y="593712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18448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381040" y="3651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381040" y="4286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381040" y="6064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00016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98108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99404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994040" y="2133360"/>
              <a:ext cx="0" cy="15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981080" y="3638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994040" y="365760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981080" y="427356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994040" y="4292640"/>
              <a:ext cx="0" cy="17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981080" y="6051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994040" y="60703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000160" y="36511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000160" y="4286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000160" y="60642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206880" y="5810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079800" y="6000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200400" y="58165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36560" y="1670040"/>
              <a:ext cx="1739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962520" y="3638520"/>
              <a:ext cx="761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924360" y="5619600"/>
              <a:ext cx="761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6039000" y="4070160"/>
            <a:ext cx="1765080" cy="826560"/>
            <a:chOff x="6039000" y="4070160"/>
            <a:chExt cx="1765080" cy="826560"/>
          </a:xfrm>
        </p:grpSpPr>
        <p:sp>
          <p:nvSpPr>
            <p:cNvPr id="1348" name=""/>
            <p:cNvSpPr/>
            <p:nvPr/>
          </p:nvSpPr>
          <p:spPr>
            <a:xfrm>
              <a:off x="6483240" y="4076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483240" y="4381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6477120" y="407016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642360" y="4091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635880" y="4084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642000" y="40770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635520" y="4083120"/>
              <a:ext cx="29196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58080" y="4597560"/>
              <a:ext cx="862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051600" y="4591440"/>
              <a:ext cx="8758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058440" y="4611600"/>
              <a:ext cx="8625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051960" y="4605480"/>
              <a:ext cx="87552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451920" y="4611600"/>
              <a:ext cx="756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445800" y="4605480"/>
              <a:ext cx="878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476760" y="4610880"/>
              <a:ext cx="50760" cy="25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471000" y="4604040"/>
              <a:ext cx="626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483240" y="467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483240" y="4800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934320" y="472428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927840" y="47181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144200" y="4351320"/>
              <a:ext cx="1389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737760" y="4351320"/>
              <a:ext cx="9518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787800" y="4336920"/>
              <a:ext cx="9018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143840" y="43369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245360" y="44197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245360" y="4546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565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37440" y="41529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56520" y="46735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039000" y="4165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50040" y="4172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356520" y="4292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3565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229440" y="4292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039000" y="48006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210360" y="478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22944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22960" y="429912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118280" y="45464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991200" y="4737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112160" y="455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927840" y="4229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118280" y="44197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112160" y="42354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054920" y="42292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689960" y="4483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sign example: two-bit comparator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043A-FB08-4118-A60E-1B889889A5A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/>
          <p:nvPr/>
        </p:nvSpPr>
        <p:spPr>
          <a:xfrm>
            <a:off x="1701720" y="4597560"/>
            <a:ext cx="1765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334120" y="5587920"/>
            <a:ext cx="22352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variable K-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of th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794120" y="1994040"/>
            <a:ext cx="321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197760" y="1784520"/>
            <a:ext cx="0" cy="35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794120" y="2819520"/>
            <a:ext cx="321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844880" y="363204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844880" y="4457880"/>
            <a:ext cx="314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800600" y="1778040"/>
            <a:ext cx="327672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sign example: 2x2-bit multipli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1143000" y="2654280"/>
            <a:ext cx="2590920" cy="1359000"/>
            <a:chOff x="1143000" y="2654280"/>
            <a:chExt cx="2590920" cy="1359000"/>
          </a:xfrm>
        </p:grpSpPr>
        <p:sp>
          <p:nvSpPr>
            <p:cNvPr id="1404" name=""/>
            <p:cNvSpPr/>
            <p:nvPr/>
          </p:nvSpPr>
          <p:spPr>
            <a:xfrm>
              <a:off x="3429000" y="271764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81440" y="2654280"/>
              <a:ext cx="83808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19520" y="2882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19520" y="318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819520" y="34923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819520" y="3784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143000" y="271764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447920" y="2882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447920" y="318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447920" y="34923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447920" y="3784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FE9-0AD1-4DB4-9D16-F429FE7395F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2616120" y="162576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749840" y="160020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641680" y="4140360"/>
            <a:ext cx="1701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749840" y="414036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sign example: 2x2-bit multiplier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420" name=""/>
          <p:cNvGrpSpPr/>
          <p:nvPr/>
        </p:nvGrpSpPr>
        <p:grpSpPr>
          <a:xfrm>
            <a:off x="6026040" y="1447920"/>
            <a:ext cx="2828880" cy="2365200"/>
            <a:chOff x="6026040" y="1447920"/>
            <a:chExt cx="2828880" cy="2365200"/>
          </a:xfrm>
        </p:grpSpPr>
        <p:sp>
          <p:nvSpPr>
            <p:cNvPr id="1421" name=""/>
            <p:cNvSpPr/>
            <p:nvPr/>
          </p:nvSpPr>
          <p:spPr>
            <a:xfrm>
              <a:off x="6548400" y="1768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458120" y="1766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2882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7360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72788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288200" y="167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205840" y="21128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8271000" y="240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694640" y="1447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3738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8216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63644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540480" y="2706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450200" y="2705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2882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7360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72788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821640" y="3508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373800" y="25830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227720" y="3483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3738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8216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63644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026040" y="2886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6010200" y="3962520"/>
            <a:ext cx="2828880" cy="2365200"/>
            <a:chOff x="6010200" y="3962520"/>
            <a:chExt cx="2828880" cy="2365200"/>
          </a:xfrm>
        </p:grpSpPr>
        <p:sp>
          <p:nvSpPr>
            <p:cNvPr id="1446" name=""/>
            <p:cNvSpPr/>
            <p:nvPr/>
          </p:nvSpPr>
          <p:spPr>
            <a:xfrm>
              <a:off x="6532560" y="4282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442280" y="4281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27236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7198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72626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27236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190000" y="46274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255160" y="49165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678800" y="3962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35796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8054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63482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524640" y="52214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434360" y="5219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27236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7198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72626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805440" y="602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357960" y="50976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211880" y="5997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35796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8054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63482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010200" y="5400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523800" y="3962520"/>
            <a:ext cx="2844720" cy="2365200"/>
            <a:chOff x="523800" y="3962520"/>
            <a:chExt cx="2844720" cy="2365200"/>
          </a:xfrm>
        </p:grpSpPr>
        <p:sp>
          <p:nvSpPr>
            <p:cNvPr id="1471" name=""/>
            <p:cNvSpPr/>
            <p:nvPr/>
          </p:nvSpPr>
          <p:spPr>
            <a:xfrm>
              <a:off x="1062000" y="4282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971720" y="4281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80180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2496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17924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80180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719440" y="46274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784600" y="49165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208240" y="3962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88740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3352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8780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054080" y="52214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963800" y="5219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80180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2496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17924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335240" y="602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887400" y="50976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741320" y="5997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8740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3352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8780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23800" y="5400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5" name=""/>
          <p:cNvGrpSpPr/>
          <p:nvPr/>
        </p:nvGrpSpPr>
        <p:grpSpPr>
          <a:xfrm>
            <a:off x="523800" y="1447920"/>
            <a:ext cx="2844720" cy="2365200"/>
            <a:chOff x="523800" y="1447920"/>
            <a:chExt cx="2844720" cy="2365200"/>
          </a:xfrm>
        </p:grpSpPr>
        <p:sp>
          <p:nvSpPr>
            <p:cNvPr id="1496" name=""/>
            <p:cNvSpPr/>
            <p:nvPr/>
          </p:nvSpPr>
          <p:spPr>
            <a:xfrm>
              <a:off x="1062000" y="1768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971720" y="1766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8018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2496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17924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801800" y="167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719440" y="21128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784600" y="240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208240" y="1447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874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3352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8780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054080" y="2706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963800" y="2705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8018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2496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17924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335240" y="3508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87400" y="25830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741320" y="3483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874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3352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8780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23800" y="2886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0" name=""/>
          <p:cNvSpPr/>
          <p:nvPr/>
        </p:nvSpPr>
        <p:spPr>
          <a:xfrm>
            <a:off x="2771640" y="2898720"/>
            <a:ext cx="1905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8 = A2A1B2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873080" y="2682720"/>
            <a:ext cx="30492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893960" y="4708440"/>
            <a:ext cx="728640" cy="289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403280" y="5638680"/>
            <a:ext cx="76212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317680" y="4724280"/>
            <a:ext cx="316080" cy="762120"/>
          </a:xfrm>
          <a:custGeom>
            <a:avLst/>
            <a:gdLst>
              <a:gd name="textAreaLeft" fmla="*/ 15120 w 316080"/>
              <a:gd name="textAreaRight" fmla="*/ 300960 w 316080"/>
              <a:gd name="textAreaTop" fmla="*/ 15120 h 762120"/>
              <a:gd name="textAreaBottom" fmla="*/ 747000 h 762120"/>
            </a:gdLst>
            <a:ahLst/>
            <a:rect l="textAreaLeft" t="textAreaTop" r="textAreaRight" b="textAreaBottom"/>
            <a:pathLst>
              <a:path w="21600" h="52046">
                <a:moveTo>
                  <a:pt x="3600" y="0"/>
                </a:moveTo>
                <a:arcTo wR="3600" hR="3600" stAng="16200000" swAng="-5400000"/>
                <a:lnTo>
                  <a:pt x="0" y="48446"/>
                </a:lnTo>
                <a:arcTo wR="3600" hR="3600" stAng="10800000" swAng="-5400000"/>
                <a:lnTo>
                  <a:pt x="18000" y="52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415880" y="5181480"/>
            <a:ext cx="304920" cy="7621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762120"/>
              <a:gd name="textAreaBottom" fmla="*/ 747360 h 762120"/>
            </a:gdLst>
            <a:ahLst/>
            <a:rect l="textAreaLeft" t="textAreaTop" r="textAreaRight" b="textAreaBottom"/>
            <a:pathLst>
              <a:path w="21600" h="53949">
                <a:moveTo>
                  <a:pt x="3600" y="0"/>
                </a:moveTo>
                <a:arcTo wR="3600" hR="3600" stAng="16200000" swAng="-5400000"/>
                <a:lnTo>
                  <a:pt x="0" y="50349"/>
                </a:lnTo>
                <a:arcTo wR="3600" hR="3600" stAng="10800000" swAng="-5400000"/>
                <a:lnTo>
                  <a:pt x="18000" y="53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869160" y="4708440"/>
            <a:ext cx="789120" cy="789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7" name=""/>
          <p:cNvGrpSpPr/>
          <p:nvPr/>
        </p:nvGrpSpPr>
        <p:grpSpPr>
          <a:xfrm>
            <a:off x="7350120" y="2685960"/>
            <a:ext cx="761760" cy="761760"/>
            <a:chOff x="7350120" y="2685960"/>
            <a:chExt cx="761760" cy="761760"/>
          </a:xfrm>
        </p:grpSpPr>
        <p:sp>
          <p:nvSpPr>
            <p:cNvPr id="1528" name=""/>
            <p:cNvSpPr/>
            <p:nvPr/>
          </p:nvSpPr>
          <p:spPr>
            <a:xfrm rot="16200000">
              <a:off x="7578720" y="2914560"/>
              <a:ext cx="761760" cy="3045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rot="16200000">
              <a:off x="7578720" y="2901960"/>
              <a:ext cx="304560" cy="76176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761760"/>
                <a:gd name="textAreaBottom" fmla="*/ 747000 h 761760"/>
              </a:gdLst>
              <a:ahLst/>
              <a:rect l="textAreaLeft" t="textAreaTop" r="textAreaRight" b="textAreaBottom"/>
              <a:pathLst>
                <a:path w="21600" h="53987">
                  <a:moveTo>
                    <a:pt x="3600" y="0"/>
                  </a:moveTo>
                  <a:arcTo wR="3600" hR="3600" stAng="16200000" swAng="-5400000"/>
                  <a:lnTo>
                    <a:pt x="0" y="50387"/>
                  </a:lnTo>
                  <a:arcTo wR="3600" hR="3600" stAng="10800000" swAng="-5400000"/>
                  <a:lnTo>
                    <a:pt x="18000" y="539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0" name=""/>
          <p:cNvSpPr/>
          <p:nvPr/>
        </p:nvSpPr>
        <p:spPr>
          <a:xfrm>
            <a:off x="4543560" y="2063880"/>
            <a:ext cx="17398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2B2B1'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A1'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717640" y="5369040"/>
            <a:ext cx="1702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2'A1B2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1B2B1'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B2'B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A1'B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648320" y="4546440"/>
            <a:ext cx="1650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1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 flipV="1">
            <a:off x="1726920" y="5472000"/>
            <a:ext cx="1662120" cy="16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H="1" flipV="1">
            <a:off x="2163240" y="5811840"/>
            <a:ext cx="1047960" cy="15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H="1" flipV="1">
            <a:off x="2163240" y="5003640"/>
            <a:ext cx="1047960" cy="111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H="1" flipV="1">
            <a:off x="2501640" y="5487840"/>
            <a:ext cx="709560" cy="889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278400" y="2260440"/>
            <a:ext cx="1067040" cy="98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278400" y="2517840"/>
            <a:ext cx="1533600" cy="43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D15B-A975-4711-9410-671C774A511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4626000" y="2114640"/>
            <a:ext cx="363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435720" y="1905120"/>
            <a:ext cx="0" cy="330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08440" y="1898640"/>
            <a:ext cx="377208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241280" y="4807080"/>
            <a:ext cx="1765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873680" y="5556240"/>
            <a:ext cx="3225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variable K-map for each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4 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965160" y="2808360"/>
            <a:ext cx="2590920" cy="1359000"/>
            <a:chOff x="965160" y="2808360"/>
            <a:chExt cx="2590920" cy="1359000"/>
          </a:xfrm>
        </p:grpSpPr>
        <p:sp>
          <p:nvSpPr>
            <p:cNvPr id="1545" name=""/>
            <p:cNvSpPr/>
            <p:nvPr/>
          </p:nvSpPr>
          <p:spPr>
            <a:xfrm>
              <a:off x="3251160" y="287172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803600" y="2808360"/>
              <a:ext cx="83808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641680" y="3036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641680" y="3341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641680" y="3646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641680" y="3938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965160" y="287172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270080" y="3036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270080" y="3341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270080" y="3646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270080" y="3938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sign example: BCD increment by 1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5DA-544D-4DAC-A6DE-9226BED6608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7" name=""/>
          <p:cNvGrpSpPr/>
          <p:nvPr/>
        </p:nvGrpSpPr>
        <p:grpSpPr>
          <a:xfrm>
            <a:off x="693720" y="1580040"/>
            <a:ext cx="8070840" cy="4828680"/>
            <a:chOff x="693720" y="1580040"/>
            <a:chExt cx="8070840" cy="4828680"/>
          </a:xfrm>
        </p:grpSpPr>
        <p:grpSp>
          <p:nvGrpSpPr>
            <p:cNvPr id="1558" name=""/>
            <p:cNvGrpSpPr/>
            <p:nvPr/>
          </p:nvGrpSpPr>
          <p:grpSpPr>
            <a:xfrm>
              <a:off x="6428880" y="2722680"/>
              <a:ext cx="662040" cy="450720"/>
              <a:chOff x="6428880" y="2722680"/>
              <a:chExt cx="662040" cy="450720"/>
            </a:xfrm>
          </p:grpSpPr>
          <p:sp>
            <p:nvSpPr>
              <p:cNvPr id="1559" name=""/>
              <p:cNvSpPr/>
              <p:nvPr/>
            </p:nvSpPr>
            <p:spPr>
              <a:xfrm flipH="1">
                <a:off x="6525720" y="2754360"/>
                <a:ext cx="565200" cy="3708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>
                <a:off x="6428880" y="272268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1555920" y="1580040"/>
              <a:ext cx="917640" cy="2334960"/>
              <a:chOff x="1555920" y="1580040"/>
              <a:chExt cx="917640" cy="2334960"/>
            </a:xfrm>
          </p:grpSpPr>
          <p:grpSp>
            <p:nvGrpSpPr>
              <p:cNvPr id="1562" name=""/>
              <p:cNvGrpSpPr/>
              <p:nvPr/>
            </p:nvGrpSpPr>
            <p:grpSpPr>
              <a:xfrm>
                <a:off x="1568880" y="1580040"/>
                <a:ext cx="904680" cy="661320"/>
                <a:chOff x="1568880" y="1580040"/>
                <a:chExt cx="904680" cy="661320"/>
              </a:xfrm>
            </p:grpSpPr>
            <p:sp>
              <p:nvSpPr>
                <p:cNvPr id="1563" name=""/>
                <p:cNvSpPr/>
                <p:nvPr/>
              </p:nvSpPr>
              <p:spPr>
                <a:xfrm rot="16200000">
                  <a:off x="1722600" y="1586520"/>
                  <a:ext cx="564840" cy="744480"/>
                </a:xfrm>
                <a:custGeom>
                  <a:avLst/>
                  <a:gdLst>
                    <a:gd name="textAreaLeft" fmla="*/ 27360 w 564840"/>
                    <a:gd name="textAreaRight" fmla="*/ 537480 w 564840"/>
                    <a:gd name="textAreaTop" fmla="*/ 27360 h 744480"/>
                    <a:gd name="textAreaBottom" fmla="*/ 717120 h 744480"/>
                  </a:gdLst>
                  <a:ahLst/>
                  <a:rect l="textAreaLeft" t="textAreaTop" r="textAreaRight" b="textAreaBottom"/>
                  <a:pathLst>
                    <a:path w="21600" h="28465">
                      <a:moveTo>
                        <a:pt x="3600" y="0"/>
                      </a:moveTo>
                      <a:arcTo wR="3600" hR="3600" stAng="16200000" swAng="-5400000"/>
                      <a:lnTo>
                        <a:pt x="0" y="24865"/>
                      </a:lnTo>
                      <a:arcTo wR="3600" hR="3600" stAng="10800000" swAng="-5400000"/>
                      <a:lnTo>
                        <a:pt x="18000" y="2846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rot="16200000">
                  <a:off x="1916640" y="1232280"/>
                  <a:ext cx="209160" cy="90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5" name=""/>
              <p:cNvGrpSpPr/>
              <p:nvPr/>
            </p:nvGrpSpPr>
            <p:grpSpPr>
              <a:xfrm>
                <a:off x="1555920" y="3252960"/>
                <a:ext cx="904680" cy="662040"/>
                <a:chOff x="1555920" y="3252960"/>
                <a:chExt cx="904680" cy="662040"/>
              </a:xfrm>
            </p:grpSpPr>
            <p:sp>
              <p:nvSpPr>
                <p:cNvPr id="1566" name=""/>
                <p:cNvSpPr/>
                <p:nvPr/>
              </p:nvSpPr>
              <p:spPr>
                <a:xfrm flipH="1" rot="16200000">
                  <a:off x="1709640" y="3163320"/>
                  <a:ext cx="565200" cy="7444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744480"/>
                    <a:gd name="textAreaBottom" fmla="*/ 717120 h 744480"/>
                  </a:gdLst>
                  <a:ahLst/>
                  <a:rect l="textAreaLeft" t="textAreaTop" r="textAreaRight" b="textAreaBottom"/>
                  <a:pathLst>
                    <a:path w="21600" h="28447">
                      <a:moveTo>
                        <a:pt x="3600" y="0"/>
                      </a:moveTo>
                      <a:arcTo wR="3600" hR="3600" stAng="16200000" swAng="-5400000"/>
                      <a:lnTo>
                        <a:pt x="0" y="24847"/>
                      </a:lnTo>
                      <a:arcTo wR="3600" hR="3600" stAng="10800000" swAng="-5400000"/>
                      <a:lnTo>
                        <a:pt x="18000" y="2844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flipH="1" rot="16200000">
                  <a:off x="1902960" y="3357720"/>
                  <a:ext cx="209520" cy="90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8" name=""/>
            <p:cNvGrpSpPr/>
            <p:nvPr/>
          </p:nvGrpSpPr>
          <p:grpSpPr>
            <a:xfrm>
              <a:off x="8102520" y="2728800"/>
              <a:ext cx="662040" cy="451080"/>
              <a:chOff x="8102520" y="2728800"/>
              <a:chExt cx="662040" cy="451080"/>
            </a:xfrm>
          </p:grpSpPr>
          <p:sp>
            <p:nvSpPr>
              <p:cNvPr id="1569" name=""/>
              <p:cNvSpPr/>
              <p:nvPr/>
            </p:nvSpPr>
            <p:spPr>
              <a:xfrm>
                <a:off x="8102520" y="2760840"/>
                <a:ext cx="565200" cy="371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8555040" y="272880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1" name=""/>
            <p:cNvGrpSpPr/>
            <p:nvPr/>
          </p:nvGrpSpPr>
          <p:grpSpPr>
            <a:xfrm>
              <a:off x="7151760" y="3228840"/>
              <a:ext cx="887400" cy="646200"/>
              <a:chOff x="7151760" y="3228840"/>
              <a:chExt cx="887400" cy="646200"/>
            </a:xfrm>
          </p:grpSpPr>
          <p:sp>
            <p:nvSpPr>
              <p:cNvPr id="1572" name=""/>
              <p:cNvSpPr/>
              <p:nvPr/>
            </p:nvSpPr>
            <p:spPr>
              <a:xfrm>
                <a:off x="7183440" y="3228840"/>
                <a:ext cx="822240" cy="5810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151760" y="3697200"/>
                <a:ext cx="8874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4" name=""/>
            <p:cNvGrpSpPr/>
            <p:nvPr/>
          </p:nvGrpSpPr>
          <p:grpSpPr>
            <a:xfrm>
              <a:off x="6708600" y="3994200"/>
              <a:ext cx="1808280" cy="693360"/>
              <a:chOff x="6708600" y="3994200"/>
              <a:chExt cx="1808280" cy="693360"/>
            </a:xfrm>
          </p:grpSpPr>
          <p:sp>
            <p:nvSpPr>
              <p:cNvPr id="1575" name=""/>
              <p:cNvSpPr/>
              <p:nvPr/>
            </p:nvSpPr>
            <p:spPr>
              <a:xfrm flipV="1">
                <a:off x="6740640" y="4155480"/>
                <a:ext cx="1726920" cy="531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6708600" y="3994200"/>
                <a:ext cx="180828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7" name=""/>
            <p:cNvGrpSpPr/>
            <p:nvPr/>
          </p:nvGrpSpPr>
          <p:grpSpPr>
            <a:xfrm>
              <a:off x="6715080" y="5699160"/>
              <a:ext cx="1808280" cy="709560"/>
              <a:chOff x="6715080" y="5699160"/>
              <a:chExt cx="1808280" cy="709560"/>
            </a:xfrm>
          </p:grpSpPr>
          <p:sp>
            <p:nvSpPr>
              <p:cNvPr id="1578" name=""/>
              <p:cNvSpPr/>
              <p:nvPr/>
            </p:nvSpPr>
            <p:spPr>
              <a:xfrm>
                <a:off x="6746760" y="5699160"/>
                <a:ext cx="1727280" cy="531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715080" y="6167520"/>
                <a:ext cx="180828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0" name=""/>
            <p:cNvSpPr/>
            <p:nvPr/>
          </p:nvSpPr>
          <p:spPr>
            <a:xfrm>
              <a:off x="3117960" y="2646360"/>
              <a:ext cx="324324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8 = I4 I2 I1 + I8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4 = I4 I2' + I4 I1' + I4’ I2 I1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2 = I8’ I2’ I1 + I2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1 =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162080" y="2776680"/>
              <a:ext cx="758880" cy="355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93720" y="4778280"/>
              <a:ext cx="824040" cy="355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93720" y="5699160"/>
              <a:ext cx="1711440" cy="3538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199280" y="1873080"/>
              <a:ext cx="790560" cy="806760"/>
            </a:xfrm>
            <a:custGeom>
              <a:avLst/>
              <a:gdLst>
                <a:gd name="textAreaLeft" fmla="*/ 38520 w 790560"/>
                <a:gd name="textAreaRight" fmla="*/ 752040 w 790560"/>
                <a:gd name="textAreaTop" fmla="*/ 38520 h 806760"/>
                <a:gd name="textAreaBottom" fmla="*/ 768240 h 806760"/>
              </a:gdLst>
              <a:ahLst/>
              <a:rect l="textAreaLeft" t="textAreaTop" r="textAreaRight" b="textAreaBottom"/>
              <a:pathLst>
                <a:path w="21600" h="22042">
                  <a:moveTo>
                    <a:pt x="3600" y="0"/>
                  </a:moveTo>
                  <a:arcTo wR="3600" hR="3600" stAng="16200000" swAng="-5400000"/>
                  <a:lnTo>
                    <a:pt x="0" y="18442"/>
                  </a:lnTo>
                  <a:arcTo wR="3600" hR="3600" stAng="10800000" swAng="-5400000"/>
                  <a:lnTo>
                    <a:pt x="18000" y="220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5" name=""/>
            <p:cNvGrpSpPr/>
            <p:nvPr/>
          </p:nvGrpSpPr>
          <p:grpSpPr>
            <a:xfrm>
              <a:off x="7145280" y="1587960"/>
              <a:ext cx="887400" cy="645480"/>
              <a:chOff x="7145280" y="1587960"/>
              <a:chExt cx="887400" cy="645480"/>
            </a:xfrm>
          </p:grpSpPr>
          <p:sp>
            <p:nvSpPr>
              <p:cNvPr id="1586" name=""/>
              <p:cNvSpPr/>
              <p:nvPr/>
            </p:nvSpPr>
            <p:spPr>
              <a:xfrm flipV="1">
                <a:off x="7176960" y="1652400"/>
                <a:ext cx="822240" cy="58068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V="1">
                <a:off x="7145280" y="1587600"/>
                <a:ext cx="887400" cy="17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8" name=""/>
          <p:cNvSpPr/>
          <p:nvPr/>
        </p:nvSpPr>
        <p:spPr>
          <a:xfrm>
            <a:off x="2571840" y="1739880"/>
            <a:ext cx="635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305400" y="1749600"/>
            <a:ext cx="584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2581200" y="4184640"/>
            <a:ext cx="584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305400" y="4197240"/>
            <a:ext cx="55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sign example: BCD increment by 1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593" name=""/>
          <p:cNvGrpSpPr/>
          <p:nvPr/>
        </p:nvGrpSpPr>
        <p:grpSpPr>
          <a:xfrm>
            <a:off x="290520" y="1589040"/>
            <a:ext cx="2835000" cy="2365200"/>
            <a:chOff x="290520" y="1589040"/>
            <a:chExt cx="2835000" cy="2365200"/>
          </a:xfrm>
        </p:grpSpPr>
        <p:sp>
          <p:nvSpPr>
            <p:cNvPr id="1594" name=""/>
            <p:cNvSpPr/>
            <p:nvPr/>
          </p:nvSpPr>
          <p:spPr>
            <a:xfrm>
              <a:off x="819000" y="1909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728720" y="1908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55880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00664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154944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558800" y="1817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476440" y="22539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541600" y="25430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965240" y="1589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4440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09224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63504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11080" y="28479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720800" y="2846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55880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00664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154944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09224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44400" y="2724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498320" y="3624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4440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09224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63504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90520" y="30272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8" name=""/>
          <p:cNvGrpSpPr/>
          <p:nvPr/>
        </p:nvGrpSpPr>
        <p:grpSpPr>
          <a:xfrm>
            <a:off x="290520" y="4054320"/>
            <a:ext cx="2835000" cy="2365200"/>
            <a:chOff x="290520" y="4054320"/>
            <a:chExt cx="2835000" cy="2365200"/>
          </a:xfrm>
        </p:grpSpPr>
        <p:sp>
          <p:nvSpPr>
            <p:cNvPr id="1619" name=""/>
            <p:cNvSpPr/>
            <p:nvPr/>
          </p:nvSpPr>
          <p:spPr>
            <a:xfrm>
              <a:off x="819000" y="43747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728720" y="4373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55880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00664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154944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558800" y="4282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476440" y="47192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541600" y="5008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965240" y="4054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4440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09224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63504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11080" y="53132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720800" y="5311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55880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00664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154944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092240" y="6114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4400" y="51894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498320" y="6089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4440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09224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H="1">
              <a:off x="63504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90520" y="54925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6338880" y="1589040"/>
            <a:ext cx="2835000" cy="2365200"/>
            <a:chOff x="6338880" y="1589040"/>
            <a:chExt cx="2835000" cy="2365200"/>
          </a:xfrm>
        </p:grpSpPr>
        <p:sp>
          <p:nvSpPr>
            <p:cNvPr id="1644" name=""/>
            <p:cNvSpPr/>
            <p:nvPr/>
          </p:nvSpPr>
          <p:spPr>
            <a:xfrm>
              <a:off x="6867360" y="1909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777080" y="1908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60716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5500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759780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607160" y="1817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8524800" y="22539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8589960" y="25430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8013600" y="1589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69276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14060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668340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859440" y="28479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769160" y="2846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60716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805500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759780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14060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692760" y="2724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46680" y="3624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69276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14060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668340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338880" y="30272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6340680" y="4054320"/>
            <a:ext cx="2835000" cy="2365200"/>
            <a:chOff x="6340680" y="4054320"/>
            <a:chExt cx="2835000" cy="2365200"/>
          </a:xfrm>
        </p:grpSpPr>
        <p:sp>
          <p:nvSpPr>
            <p:cNvPr id="1669" name=""/>
            <p:cNvSpPr/>
            <p:nvPr/>
          </p:nvSpPr>
          <p:spPr>
            <a:xfrm>
              <a:off x="6869160" y="43747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778880" y="4373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0896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05680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759960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608960" y="4282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526600" y="47192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591760" y="5008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015400" y="4054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69456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14240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>
              <a:off x="668520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861240" y="53132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770960" y="5311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60896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805680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759960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142400" y="6114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694560" y="51894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548480" y="6089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69456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14240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668520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340680" y="54925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659-AB61-4F1D-B90B-B095D552BC4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finition of terms for two-level simplific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35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7000"/>
          </a:bodyPr>
          <a:p>
            <a:pPr marL="337320" indent="-33732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mplican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29720" indent="-279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element of ON-set or DC-set or any group of these elements that can be combined to form a subcu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7320" indent="-33732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ime implican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29720" indent="-279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icant that can't be combined with another to form a larger subcu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7320" indent="-33732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ssential prime implican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29720" indent="-279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e implicant is essential if it alone covers an element of ON-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9720" indent="-279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l participate in ALL possible covers of the ON-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9720" indent="-279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C-set used to form prime implicants but not to make implicant essent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7320" indent="-33732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bjective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29720" indent="-279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w implicant into prime implic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minimize literals per ter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9720" indent="-279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ver the ON-set with as few prime implicants as poss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minimize number of product term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B3B-B973-4A4B-9CC1-5BD9C0F4685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5" name=""/>
          <p:cNvGrpSpPr/>
          <p:nvPr/>
        </p:nvGrpSpPr>
        <p:grpSpPr>
          <a:xfrm>
            <a:off x="747360" y="1839960"/>
            <a:ext cx="2335680" cy="1711440"/>
            <a:chOff x="747360" y="1839960"/>
            <a:chExt cx="2335680" cy="1711440"/>
          </a:xfrm>
        </p:grpSpPr>
        <p:grpSp>
          <p:nvGrpSpPr>
            <p:cNvPr id="1696" name=""/>
            <p:cNvGrpSpPr/>
            <p:nvPr/>
          </p:nvGrpSpPr>
          <p:grpSpPr>
            <a:xfrm>
              <a:off x="747360" y="2705040"/>
              <a:ext cx="662040" cy="451080"/>
              <a:chOff x="747360" y="2705040"/>
              <a:chExt cx="662040" cy="451080"/>
            </a:xfrm>
          </p:grpSpPr>
          <p:sp>
            <p:nvSpPr>
              <p:cNvPr id="1697" name=""/>
              <p:cNvSpPr/>
              <p:nvPr/>
            </p:nvSpPr>
            <p:spPr>
              <a:xfrm flipH="1">
                <a:off x="844200" y="2737080"/>
                <a:ext cx="565200" cy="371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>
                <a:off x="747360" y="270504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9" name=""/>
            <p:cNvGrpSpPr/>
            <p:nvPr/>
          </p:nvGrpSpPr>
          <p:grpSpPr>
            <a:xfrm>
              <a:off x="2421000" y="2711520"/>
              <a:ext cx="662040" cy="450720"/>
              <a:chOff x="2421000" y="2711520"/>
              <a:chExt cx="662040" cy="450720"/>
            </a:xfrm>
          </p:grpSpPr>
          <p:sp>
            <p:nvSpPr>
              <p:cNvPr id="1700" name=""/>
              <p:cNvSpPr/>
              <p:nvPr/>
            </p:nvSpPr>
            <p:spPr>
              <a:xfrm>
                <a:off x="2421000" y="2743200"/>
                <a:ext cx="565200" cy="3708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873520" y="271152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1065240" y="1839960"/>
              <a:ext cx="1711440" cy="1711440"/>
              <a:chOff x="1065240" y="1839960"/>
              <a:chExt cx="1711440" cy="1711440"/>
            </a:xfrm>
          </p:grpSpPr>
          <p:sp>
            <p:nvSpPr>
              <p:cNvPr id="1703" name=""/>
              <p:cNvSpPr/>
              <p:nvPr/>
            </p:nvSpPr>
            <p:spPr>
              <a:xfrm>
                <a:off x="1986120" y="2744640"/>
                <a:ext cx="790560" cy="806760"/>
              </a:xfrm>
              <a:custGeom>
                <a:avLst/>
                <a:gdLst>
                  <a:gd name="textAreaLeft" fmla="*/ 38520 w 790560"/>
                  <a:gd name="textAreaRight" fmla="*/ 752040 w 790560"/>
                  <a:gd name="textAreaTop" fmla="*/ 38520 h 806760"/>
                  <a:gd name="textAreaBottom" fmla="*/ 768240 h 806760"/>
                </a:gdLst>
                <a:ahLst/>
                <a:rect l="textAreaLeft" t="textAreaTop" r="textAreaRight" b="textAreaBottom"/>
                <a:pathLst>
                  <a:path w="21600" h="22042">
                    <a:moveTo>
                      <a:pt x="3600" y="0"/>
                    </a:moveTo>
                    <a:arcTo wR="3600" hR="3600" stAng="16200000" swAng="-5400000"/>
                    <a:lnTo>
                      <a:pt x="0" y="18442"/>
                    </a:lnTo>
                    <a:arcTo wR="3600" hR="3600" stAng="10800000" swAng="-5400000"/>
                    <a:lnTo>
                      <a:pt x="18000" y="220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1986120" y="1839960"/>
                <a:ext cx="322200" cy="1695240"/>
              </a:xfrm>
              <a:custGeom>
                <a:avLst/>
                <a:gdLst>
                  <a:gd name="textAreaLeft" fmla="*/ 15480 w 322200"/>
                  <a:gd name="textAreaRight" fmla="*/ 306720 w 322200"/>
                  <a:gd name="textAreaTop" fmla="*/ 15480 h 1695240"/>
                  <a:gd name="textAreaBottom" fmla="*/ 1679760 h 1695240"/>
                </a:gdLst>
                <a:ahLst/>
                <a:rect l="textAreaLeft" t="textAreaTop" r="textAreaRight" b="textAreaBottom"/>
                <a:pathLst>
                  <a:path w="21600" h="113545">
                    <a:moveTo>
                      <a:pt x="3600" y="0"/>
                    </a:moveTo>
                    <a:arcTo wR="3600" hR="3600" stAng="16200000" swAng="-5400000"/>
                    <a:lnTo>
                      <a:pt x="0" y="109945"/>
                    </a:lnTo>
                    <a:arcTo wR="3600" hR="3600" stAng="10800000" swAng="-5400000"/>
                    <a:lnTo>
                      <a:pt x="18000" y="1135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1065240" y="2292480"/>
                <a:ext cx="774720" cy="3222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1517760" y="1859040"/>
                <a:ext cx="758880" cy="7412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114560" y="2340000"/>
                <a:ext cx="257040" cy="758880"/>
              </a:xfrm>
              <a:custGeom>
                <a:avLst/>
                <a:gdLst>
                  <a:gd name="textAreaLeft" fmla="*/ 12240 w 257040"/>
                  <a:gd name="textAreaRight" fmla="*/ 244800 w 257040"/>
                  <a:gd name="textAreaTop" fmla="*/ 12240 h 758880"/>
                  <a:gd name="textAreaBottom" fmla="*/ 746640 h 758880"/>
                </a:gdLst>
                <a:ahLst/>
                <a:rect l="textAreaLeft" t="textAreaTop" r="textAreaRight" b="textAreaBottom"/>
                <a:pathLst>
                  <a:path w="21600" h="63712">
                    <a:moveTo>
                      <a:pt x="3600" y="0"/>
                    </a:moveTo>
                    <a:arcTo wR="3600" hR="3600" stAng="16200000" swAng="-5400000"/>
                    <a:lnTo>
                      <a:pt x="0" y="60112"/>
                    </a:lnTo>
                    <a:arcTo wR="3600" hR="3600" stAng="10800000" swAng="-5400000"/>
                    <a:lnTo>
                      <a:pt x="18000" y="6371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8" name=""/>
          <p:cNvGrpSpPr/>
          <p:nvPr/>
        </p:nvGrpSpPr>
        <p:grpSpPr>
          <a:xfrm>
            <a:off x="713160" y="1557360"/>
            <a:ext cx="2775960" cy="2365200"/>
            <a:chOff x="713160" y="1557360"/>
            <a:chExt cx="2775960" cy="2365200"/>
          </a:xfrm>
        </p:grpSpPr>
        <p:sp>
          <p:nvSpPr>
            <p:cNvPr id="1709" name=""/>
            <p:cNvSpPr/>
            <p:nvPr/>
          </p:nvSpPr>
          <p:spPr>
            <a:xfrm>
              <a:off x="1182240" y="187812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091960" y="1876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922040" y="1785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369880" y="1789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1912680" y="2236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922040" y="17859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839680" y="222264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904840" y="2511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328480" y="1557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007640" y="1785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455480" y="1789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998280" y="2236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174320" y="2816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084040" y="2814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922040" y="2703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369880" y="2706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H="1">
              <a:off x="1912680" y="315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455480" y="36180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007640" y="269244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861920" y="3592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007640" y="2703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455480" y="2706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H="1">
              <a:off x="998280" y="315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13160" y="299556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1012680" y="4368960"/>
            <a:ext cx="4908600" cy="696600"/>
            <a:chOff x="1012680" y="4368960"/>
            <a:chExt cx="4908600" cy="696600"/>
          </a:xfrm>
        </p:grpSpPr>
        <p:sp>
          <p:nvSpPr>
            <p:cNvPr id="1734" name=""/>
            <p:cNvSpPr/>
            <p:nvPr/>
          </p:nvSpPr>
          <p:spPr>
            <a:xfrm>
              <a:off x="1012680" y="4368960"/>
              <a:ext cx="447048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spcBef>
                  <a:spcPts val="11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 prime implicant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D, AB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, ACD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C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803840" y="4908600"/>
              <a:ext cx="11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ples to illustrate ter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37" name=""/>
          <p:cNvGrpSpPr/>
          <p:nvPr/>
        </p:nvGrpSpPr>
        <p:grpSpPr>
          <a:xfrm>
            <a:off x="6003000" y="4130640"/>
            <a:ext cx="2775960" cy="2365200"/>
            <a:chOff x="6003000" y="4130640"/>
            <a:chExt cx="2775960" cy="2365200"/>
          </a:xfrm>
        </p:grpSpPr>
        <p:sp>
          <p:nvSpPr>
            <p:cNvPr id="1738" name=""/>
            <p:cNvSpPr/>
            <p:nvPr/>
          </p:nvSpPr>
          <p:spPr>
            <a:xfrm>
              <a:off x="6472080" y="445140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381800" y="4449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211880" y="4359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659720" y="4362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7202520" y="4809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211880" y="43592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129520" y="47959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194680" y="50846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618320" y="41306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297480" y="4359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745320" y="4362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>
              <a:off x="6288120" y="4809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464160" y="53895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373880" y="5387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211880" y="52768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659720" y="5280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>
              <a:off x="7202520" y="5727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745320" y="61912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297480" y="526572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151760" y="6165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297480" y="52768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745320" y="5280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6288120" y="5727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003000" y="55688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3223800" y="1717560"/>
            <a:ext cx="5447160" cy="841320"/>
            <a:chOff x="3223800" y="1717560"/>
            <a:chExt cx="5447160" cy="841320"/>
          </a:xfrm>
        </p:grpSpPr>
        <p:sp>
          <p:nvSpPr>
            <p:cNvPr id="1763" name=""/>
            <p:cNvSpPr/>
            <p:nvPr/>
          </p:nvSpPr>
          <p:spPr>
            <a:xfrm>
              <a:off x="4200480" y="1717560"/>
              <a:ext cx="44704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spcBef>
                  <a:spcPts val="11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 prime implicant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, B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, AC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, AB, B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3223800" y="2257560"/>
              <a:ext cx="1312920" cy="30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5" name=""/>
          <p:cNvSpPr/>
          <p:nvPr/>
        </p:nvSpPr>
        <p:spPr>
          <a:xfrm>
            <a:off x="4202280" y="3222720"/>
            <a:ext cx="36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over: AC + BC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6" name=""/>
          <p:cNvGrpSpPr/>
          <p:nvPr/>
        </p:nvGrpSpPr>
        <p:grpSpPr>
          <a:xfrm>
            <a:off x="6073560" y="2371320"/>
            <a:ext cx="1532160" cy="605160"/>
            <a:chOff x="6073560" y="2371320"/>
            <a:chExt cx="1532160" cy="605160"/>
          </a:xfrm>
        </p:grpSpPr>
        <p:sp>
          <p:nvSpPr>
            <p:cNvPr id="1767" name=""/>
            <p:cNvSpPr/>
            <p:nvPr/>
          </p:nvSpPr>
          <p:spPr>
            <a:xfrm flipH="1" flipV="1">
              <a:off x="6073560" y="2371320"/>
              <a:ext cx="43020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475680" y="260820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s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9" name=""/>
          <p:cNvGrpSpPr/>
          <p:nvPr/>
        </p:nvGrpSpPr>
        <p:grpSpPr>
          <a:xfrm>
            <a:off x="6343560" y="4406760"/>
            <a:ext cx="1727280" cy="1727280"/>
            <a:chOff x="6343560" y="4406760"/>
            <a:chExt cx="1727280" cy="1727280"/>
          </a:xfrm>
        </p:grpSpPr>
        <p:sp>
          <p:nvSpPr>
            <p:cNvPr id="1770" name=""/>
            <p:cNvSpPr/>
            <p:nvPr/>
          </p:nvSpPr>
          <p:spPr>
            <a:xfrm>
              <a:off x="7280280" y="4406760"/>
              <a:ext cx="338040" cy="808200"/>
            </a:xfrm>
            <a:custGeom>
              <a:avLst/>
              <a:gdLst>
                <a:gd name="textAreaLeft" fmla="*/ 16200 w 338040"/>
                <a:gd name="textAreaRight" fmla="*/ 321840 w 338040"/>
                <a:gd name="textAreaTop" fmla="*/ 16200 h 808200"/>
                <a:gd name="textAreaBottom" fmla="*/ 792000 h 808200"/>
              </a:gdLst>
              <a:ahLst/>
              <a:rect l="textAreaLeft" t="textAreaTop" r="textAreaRight" b="textAreaBottom"/>
              <a:pathLst>
                <a:path w="21600" h="51610">
                  <a:moveTo>
                    <a:pt x="3600" y="0"/>
                  </a:moveTo>
                  <a:arcTo wR="3600" hR="3600" stAng="16200000" swAng="-5400000"/>
                  <a:lnTo>
                    <a:pt x="0" y="48010"/>
                  </a:lnTo>
                  <a:arcTo wR="3600" hR="3600" stAng="10800000" swAng="-5400000"/>
                  <a:lnTo>
                    <a:pt x="18000" y="5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343560" y="4859280"/>
              <a:ext cx="82404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796080" y="5327640"/>
              <a:ext cx="355680" cy="80640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806400"/>
                <a:gd name="textAreaBottom" fmla="*/ 789120 h 806400"/>
              </a:gdLst>
              <a:ahLst/>
              <a:rect l="textAreaLeft" t="textAreaTop" r="textAreaRight" b="textAreaBottom"/>
              <a:pathLst>
                <a:path w="21600" h="48944">
                  <a:moveTo>
                    <a:pt x="3600" y="0"/>
                  </a:moveTo>
                  <a:arcTo wR="3600" hR="3600" stAng="16200000" swAng="-5400000"/>
                  <a:lnTo>
                    <a:pt x="0" y="45344"/>
                  </a:lnTo>
                  <a:arcTo wR="3600" hR="3600" stAng="10800000" swAng="-5400000"/>
                  <a:lnTo>
                    <a:pt x="18000" y="489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280280" y="5343480"/>
              <a:ext cx="79056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11920" y="4924440"/>
              <a:ext cx="758880" cy="725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5" name=""/>
          <p:cNvSpPr/>
          <p:nvPr/>
        </p:nvSpPr>
        <p:spPr>
          <a:xfrm>
            <a:off x="781200" y="590076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over: 4 essential implic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6" name=""/>
          <p:cNvGrpSpPr/>
          <p:nvPr/>
        </p:nvGrpSpPr>
        <p:grpSpPr>
          <a:xfrm>
            <a:off x="1051200" y="5035680"/>
            <a:ext cx="3168360" cy="682560"/>
            <a:chOff x="1051200" y="5035680"/>
            <a:chExt cx="3168360" cy="682560"/>
          </a:xfrm>
        </p:grpSpPr>
        <p:grpSp>
          <p:nvGrpSpPr>
            <p:cNvPr id="1777" name=""/>
            <p:cNvGrpSpPr/>
            <p:nvPr/>
          </p:nvGrpSpPr>
          <p:grpSpPr>
            <a:xfrm>
              <a:off x="2219400" y="5035680"/>
              <a:ext cx="2000160" cy="419040"/>
              <a:chOff x="2219400" y="5035680"/>
              <a:chExt cx="2000160" cy="419040"/>
            </a:xfrm>
          </p:grpSpPr>
          <p:sp>
            <p:nvSpPr>
              <p:cNvPr id="1778" name=""/>
              <p:cNvSpPr/>
              <p:nvPr/>
            </p:nvSpPr>
            <p:spPr>
              <a:xfrm flipV="1">
                <a:off x="2219400" y="5047920"/>
                <a:ext cx="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V="1">
                <a:off x="2225520" y="5047920"/>
                <a:ext cx="62244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V="1">
                <a:off x="2225520" y="5047920"/>
                <a:ext cx="128268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>
                <a:off x="2238480" y="5035680"/>
                <a:ext cx="1981080" cy="41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2" name=""/>
            <p:cNvSpPr/>
            <p:nvPr/>
          </p:nvSpPr>
          <p:spPr>
            <a:xfrm>
              <a:off x="1051200" y="534996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s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948-000F-487F-9B87-0F0611D870D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lgorithm for two-level simplific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5183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lgorithm: minimum sum-of-products expression from a Karnaugh map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ep 1: choose an element of the ON-s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ep 2: find "maximal" groupings of 1s and Xs adjacent to that ele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6920" indent="-231840">
              <a:lnSpc>
                <a:spcPct val="95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ider top/bottom row, left/right column, and corner adjacenc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6920" indent="-231840">
              <a:lnSpc>
                <a:spcPct val="95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forms prime implicants  (number of elements always a power of 2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peat Steps 1 and 2 to find all prime implica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ep 3: revisit the 1s in the K-ma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6920" indent="-231840">
              <a:lnSpc>
                <a:spcPct val="95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covered by single prime implicant, it is essential, and participates in final co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6920" indent="-231840">
              <a:lnSpc>
                <a:spcPct val="95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s covered by essential prime implicant do not need to be revisit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ep 4: if there remain 1s not covered by essential prime implica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6920" indent="-231840">
              <a:lnSpc>
                <a:spcPct val="95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the smallest number of prime implicants that cover the remaining 1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090-2900-4F4E-92CD-81F3637BC22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5" name=""/>
          <p:cNvGrpSpPr/>
          <p:nvPr/>
        </p:nvGrpSpPr>
        <p:grpSpPr>
          <a:xfrm>
            <a:off x="474840" y="3968640"/>
            <a:ext cx="2795400" cy="2598840"/>
            <a:chOff x="474840" y="3968640"/>
            <a:chExt cx="2795400" cy="2598840"/>
          </a:xfrm>
        </p:grpSpPr>
        <p:sp>
          <p:nvSpPr>
            <p:cNvPr id="1786" name=""/>
            <p:cNvSpPr/>
            <p:nvPr/>
          </p:nvSpPr>
          <p:spPr>
            <a:xfrm>
              <a:off x="2146320" y="4202280"/>
              <a:ext cx="474480" cy="450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273320" y="4272120"/>
              <a:ext cx="355320" cy="1726920"/>
            </a:xfrm>
            <a:custGeom>
              <a:avLst/>
              <a:gdLst>
                <a:gd name="textAreaLeft" fmla="*/ 17280 w 355320"/>
                <a:gd name="textAreaRight" fmla="*/ 338040 w 355320"/>
                <a:gd name="textAreaTop" fmla="*/ 17280 h 1726920"/>
                <a:gd name="textAreaBottom" fmla="*/ 1709640 h 1726920"/>
              </a:gdLst>
              <a:ahLst/>
              <a:rect l="textAreaLeft" t="textAreaTop" r="textAreaRight" b="textAreaBottom"/>
              <a:pathLst>
                <a:path w="21600" h="104896">
                  <a:moveTo>
                    <a:pt x="3600" y="0"/>
                  </a:moveTo>
                  <a:arcTo wR="3600" hR="3600" stAng="16200000" swAng="-5400000"/>
                  <a:lnTo>
                    <a:pt x="0" y="101296"/>
                  </a:lnTo>
                  <a:arcTo wR="3600" hR="3600" stAng="10800000" swAng="-5400000"/>
                  <a:lnTo>
                    <a:pt x="18000" y="104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852480" y="4303800"/>
              <a:ext cx="71136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312920" y="4713120"/>
              <a:ext cx="774720" cy="808200"/>
            </a:xfrm>
            <a:custGeom>
              <a:avLst/>
              <a:gdLst>
                <a:gd name="textAreaLeft" fmla="*/ 37800 w 774720"/>
                <a:gd name="textAreaRight" fmla="*/ 736920 w 774720"/>
                <a:gd name="textAreaTop" fmla="*/ 37800 h 808200"/>
                <a:gd name="textAreaBottom" fmla="*/ 770400 h 808200"/>
              </a:gdLst>
              <a:ahLst/>
              <a:rect l="textAreaLeft" t="textAreaTop" r="textAreaRight" b="textAreaBottom"/>
              <a:pathLst>
                <a:path w="21600" h="22533">
                  <a:moveTo>
                    <a:pt x="3600" y="0"/>
                  </a:moveTo>
                  <a:arcTo wR="3600" hR="3600" stAng="16200000" swAng="-5400000"/>
                  <a:lnTo>
                    <a:pt x="0" y="18933"/>
                  </a:lnTo>
                  <a:arcTo wR="3600" hR="3600" stAng="10800000" swAng="-5400000"/>
                  <a:lnTo>
                    <a:pt x="18000" y="22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781280" y="4745160"/>
              <a:ext cx="758880" cy="33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1" name=""/>
            <p:cNvGrpSpPr/>
            <p:nvPr/>
          </p:nvGrpSpPr>
          <p:grpSpPr>
            <a:xfrm>
              <a:off x="494280" y="3968640"/>
              <a:ext cx="2775960" cy="2365200"/>
              <a:chOff x="494280" y="3968640"/>
              <a:chExt cx="2775960" cy="2365200"/>
            </a:xfrm>
          </p:grpSpPr>
          <p:sp>
            <p:nvSpPr>
              <p:cNvPr id="1792" name=""/>
              <p:cNvSpPr/>
              <p:nvPr/>
            </p:nvSpPr>
            <p:spPr>
              <a:xfrm>
                <a:off x="963360" y="428940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873080" y="42876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1703160" y="4197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151000" y="4200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>
                <a:off x="1693800" y="4647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1703160" y="41972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2620800" y="463392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685960" y="49226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2109600" y="39686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88760" y="4197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236600" y="4200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>
                <a:off x="779400" y="4647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955440" y="52275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865160" y="52257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703160" y="51148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151000" y="511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H="1">
                <a:off x="1693800" y="5565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236600" y="60292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88760" y="510372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643040" y="60037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88760" y="51148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1236600" y="511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>
                <a:off x="779400" y="5565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94280" y="540684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6" name=""/>
            <p:cNvSpPr/>
            <p:nvPr/>
          </p:nvSpPr>
          <p:spPr>
            <a:xfrm>
              <a:off x="474840" y="6237360"/>
              <a:ext cx="234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Tahoma"/>
                </a:rPr>
                <a:t>   </a:t>
              </a:r>
              <a:r>
                <a:rPr b="1" lang="en-US" sz="1400" spc="-1" strike="noStrike">
                  <a:solidFill>
                    <a:srgbClr val="009900"/>
                  </a:solidFill>
                  <a:latin typeface="Tahoma"/>
                </a:rPr>
                <a:t>3 primes around AB'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2674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lgorithm for two-level simplification (exampl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818" name=""/>
          <p:cNvGrpSpPr/>
          <p:nvPr/>
        </p:nvGrpSpPr>
        <p:grpSpPr>
          <a:xfrm>
            <a:off x="513360" y="1440000"/>
            <a:ext cx="2775960" cy="2365200"/>
            <a:chOff x="513360" y="1440000"/>
            <a:chExt cx="2775960" cy="2365200"/>
          </a:xfrm>
        </p:grpSpPr>
        <p:sp>
          <p:nvSpPr>
            <p:cNvPr id="1819" name=""/>
            <p:cNvSpPr/>
            <p:nvPr/>
          </p:nvSpPr>
          <p:spPr>
            <a:xfrm>
              <a:off x="982440" y="176076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892160" y="17589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22240" y="1668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170080" y="1671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>
              <a:off x="1712880" y="2119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722240" y="1668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639880" y="210528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705040" y="2394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128680" y="1440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807840" y="1668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255680" y="1671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798480" y="2119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974520" y="2698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884240" y="26971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722240" y="2586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170080" y="25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1712880" y="3036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255680" y="3500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807840" y="257508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662120" y="3475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807840" y="2586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255680" y="25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798480" y="3036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13360" y="28782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3" name=""/>
          <p:cNvGrpSpPr/>
          <p:nvPr/>
        </p:nvGrpSpPr>
        <p:grpSpPr>
          <a:xfrm>
            <a:off x="3209760" y="1438200"/>
            <a:ext cx="2955960" cy="2579760"/>
            <a:chOff x="3209760" y="1438200"/>
            <a:chExt cx="2955960" cy="2579760"/>
          </a:xfrm>
        </p:grpSpPr>
        <p:sp>
          <p:nvSpPr>
            <p:cNvPr id="1844" name=""/>
            <p:cNvSpPr/>
            <p:nvPr/>
          </p:nvSpPr>
          <p:spPr>
            <a:xfrm>
              <a:off x="3209760" y="3687840"/>
              <a:ext cx="2895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2 primes around A'B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127400" y="1673280"/>
              <a:ext cx="468360" cy="436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6" name=""/>
            <p:cNvGrpSpPr/>
            <p:nvPr/>
          </p:nvGrpSpPr>
          <p:grpSpPr>
            <a:xfrm>
              <a:off x="3389760" y="1438200"/>
              <a:ext cx="2775960" cy="2365200"/>
              <a:chOff x="3389760" y="1438200"/>
              <a:chExt cx="2775960" cy="2365200"/>
            </a:xfrm>
          </p:grpSpPr>
          <p:sp>
            <p:nvSpPr>
              <p:cNvPr id="1847" name=""/>
              <p:cNvSpPr/>
              <p:nvPr/>
            </p:nvSpPr>
            <p:spPr>
              <a:xfrm>
                <a:off x="3858840" y="17589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768560" y="1757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59864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04648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458928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598640" y="1666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516280" y="21034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5581440" y="2392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005080" y="1438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8424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13208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H="1">
                <a:off x="367488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850920" y="26971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760640" y="2695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59864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04648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>
                <a:off x="458928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132080" y="34988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3684240" y="25732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538520" y="3473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368424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413208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H="1">
                <a:off x="367488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3389760" y="28764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1" name=""/>
          <p:cNvGrpSpPr/>
          <p:nvPr/>
        </p:nvGrpSpPr>
        <p:grpSpPr>
          <a:xfrm>
            <a:off x="3755880" y="1724040"/>
            <a:ext cx="776520" cy="1727280"/>
            <a:chOff x="3755880" y="1724040"/>
            <a:chExt cx="776520" cy="1727280"/>
          </a:xfrm>
        </p:grpSpPr>
        <p:sp>
          <p:nvSpPr>
            <p:cNvPr id="1872" name=""/>
            <p:cNvSpPr/>
            <p:nvPr/>
          </p:nvSpPr>
          <p:spPr>
            <a:xfrm>
              <a:off x="4176720" y="172404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755880" y="1755720"/>
              <a:ext cx="71136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4" name=""/>
          <p:cNvGrpSpPr/>
          <p:nvPr/>
        </p:nvGrpSpPr>
        <p:grpSpPr>
          <a:xfrm>
            <a:off x="6266520" y="1438200"/>
            <a:ext cx="2775960" cy="2579760"/>
            <a:chOff x="6266520" y="1438200"/>
            <a:chExt cx="2775960" cy="2579760"/>
          </a:xfrm>
        </p:grpSpPr>
        <p:sp>
          <p:nvSpPr>
            <p:cNvPr id="1875" name=""/>
            <p:cNvSpPr/>
            <p:nvPr/>
          </p:nvSpPr>
          <p:spPr>
            <a:xfrm>
              <a:off x="6380280" y="3687840"/>
              <a:ext cx="2260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2 primes around AB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480440" y="2116080"/>
              <a:ext cx="446040" cy="469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7" name=""/>
            <p:cNvGrpSpPr/>
            <p:nvPr/>
          </p:nvGrpSpPr>
          <p:grpSpPr>
            <a:xfrm>
              <a:off x="6266520" y="1438200"/>
              <a:ext cx="2775960" cy="2365200"/>
              <a:chOff x="6266520" y="1438200"/>
              <a:chExt cx="2775960" cy="2365200"/>
            </a:xfrm>
          </p:grpSpPr>
          <p:sp>
            <p:nvSpPr>
              <p:cNvPr id="1878" name=""/>
              <p:cNvSpPr/>
              <p:nvPr/>
            </p:nvSpPr>
            <p:spPr>
              <a:xfrm>
                <a:off x="6735600" y="17589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645320" y="1757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47540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92324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>
                <a:off x="746604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475400" y="1666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8393040" y="21034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8458200" y="2392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881840" y="1438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56100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00884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H="1">
                <a:off x="655164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727680" y="26971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7637400" y="2695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47540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92324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>
                <a:off x="746604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7008840" y="34988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561000" y="25732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415280" y="3473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56100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00884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H="1">
                <a:off x="655164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6266520" y="28764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2" name=""/>
            <p:cNvSpPr/>
            <p:nvPr/>
          </p:nvSpPr>
          <p:spPr>
            <a:xfrm>
              <a:off x="7045200" y="174132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624720" y="1773360"/>
              <a:ext cx="71100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4" name=""/>
          <p:cNvGrpSpPr/>
          <p:nvPr/>
        </p:nvGrpSpPr>
        <p:grpSpPr>
          <a:xfrm>
            <a:off x="7085160" y="2182680"/>
            <a:ext cx="1226880" cy="808200"/>
            <a:chOff x="7085160" y="2182680"/>
            <a:chExt cx="1226880" cy="808200"/>
          </a:xfrm>
        </p:grpSpPr>
        <p:sp>
          <p:nvSpPr>
            <p:cNvPr id="1905" name=""/>
            <p:cNvSpPr/>
            <p:nvPr/>
          </p:nvSpPr>
          <p:spPr>
            <a:xfrm>
              <a:off x="7085160" y="2182680"/>
              <a:ext cx="774720" cy="808200"/>
            </a:xfrm>
            <a:custGeom>
              <a:avLst/>
              <a:gdLst>
                <a:gd name="textAreaLeft" fmla="*/ 37800 w 774720"/>
                <a:gd name="textAreaRight" fmla="*/ 736920 w 774720"/>
                <a:gd name="textAreaTop" fmla="*/ 37800 h 808200"/>
                <a:gd name="textAreaBottom" fmla="*/ 770400 h 808200"/>
              </a:gdLst>
              <a:ahLst/>
              <a:rect l="textAreaLeft" t="textAreaTop" r="textAreaRight" b="textAreaBottom"/>
              <a:pathLst>
                <a:path w="21600" h="22533">
                  <a:moveTo>
                    <a:pt x="3600" y="0"/>
                  </a:moveTo>
                  <a:arcTo wR="3600" hR="3600" stAng="16200000" swAng="-5400000"/>
                  <a:lnTo>
                    <a:pt x="0" y="18933"/>
                  </a:lnTo>
                  <a:arcTo wR="3600" hR="3600" stAng="10800000" swAng="-5400000"/>
                  <a:lnTo>
                    <a:pt x="18000" y="22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553160" y="2214720"/>
              <a:ext cx="758880" cy="33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7" name=""/>
          <p:cNvGrpSpPr/>
          <p:nvPr/>
        </p:nvGrpSpPr>
        <p:grpSpPr>
          <a:xfrm>
            <a:off x="6231600" y="3957120"/>
            <a:ext cx="2775960" cy="2610360"/>
            <a:chOff x="6231600" y="3957120"/>
            <a:chExt cx="2775960" cy="2610360"/>
          </a:xfrm>
        </p:grpSpPr>
        <p:sp>
          <p:nvSpPr>
            <p:cNvPr id="1908" name=""/>
            <p:cNvSpPr/>
            <p:nvPr/>
          </p:nvSpPr>
          <p:spPr>
            <a:xfrm>
              <a:off x="6365880" y="6237360"/>
              <a:ext cx="2209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inimum cover (3 prim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020000" y="427500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rot="16200000">
              <a:off x="7842240" y="4151160"/>
              <a:ext cx="56520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 rot="16200000">
              <a:off x="7835760" y="5727600"/>
              <a:ext cx="56520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H="1" rot="16200000">
              <a:off x="8020440" y="5962320"/>
              <a:ext cx="209520" cy="45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rot="16200000">
              <a:off x="8027640" y="3836520"/>
              <a:ext cx="20988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4" name=""/>
            <p:cNvGrpSpPr/>
            <p:nvPr/>
          </p:nvGrpSpPr>
          <p:grpSpPr>
            <a:xfrm>
              <a:off x="6231600" y="3965400"/>
              <a:ext cx="2775960" cy="2365200"/>
              <a:chOff x="6231600" y="3965400"/>
              <a:chExt cx="2775960" cy="2365200"/>
            </a:xfrm>
          </p:grpSpPr>
          <p:sp>
            <p:nvSpPr>
              <p:cNvPr id="1915" name=""/>
              <p:cNvSpPr/>
              <p:nvPr/>
            </p:nvSpPr>
            <p:spPr>
              <a:xfrm>
                <a:off x="6700680" y="42861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610400" y="42843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440480" y="4194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888320" y="4197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7431120" y="4644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440480" y="41940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8358120" y="46306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8423280" y="49194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846920" y="39654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6526080" y="4194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6973920" y="4197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H="1">
                <a:off x="6516720" y="4644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692760" y="5224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7602480" y="52225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440480" y="51116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888320" y="5114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H="1">
                <a:off x="7431120" y="5562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973920" y="60260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526080" y="51004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380360" y="60004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526080" y="51116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973920" y="5114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H="1">
                <a:off x="6516720" y="5562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231600" y="54036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9" name=""/>
          <p:cNvSpPr/>
          <p:nvPr/>
        </p:nvSpPr>
        <p:spPr>
          <a:xfrm>
            <a:off x="7499520" y="4735440"/>
            <a:ext cx="758520" cy="339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0" name=""/>
          <p:cNvGrpSpPr/>
          <p:nvPr/>
        </p:nvGrpSpPr>
        <p:grpSpPr>
          <a:xfrm>
            <a:off x="3362760" y="3957120"/>
            <a:ext cx="2775960" cy="2610360"/>
            <a:chOff x="3362760" y="3957120"/>
            <a:chExt cx="2775960" cy="2610360"/>
          </a:xfrm>
        </p:grpSpPr>
        <p:grpSp>
          <p:nvGrpSpPr>
            <p:cNvPr id="1941" name=""/>
            <p:cNvGrpSpPr/>
            <p:nvPr/>
          </p:nvGrpSpPr>
          <p:grpSpPr>
            <a:xfrm>
              <a:off x="3362760" y="3957120"/>
              <a:ext cx="2775960" cy="2373840"/>
              <a:chOff x="3362760" y="3957120"/>
              <a:chExt cx="2775960" cy="2373840"/>
            </a:xfrm>
          </p:grpSpPr>
          <p:sp>
            <p:nvSpPr>
              <p:cNvPr id="1942" name=""/>
              <p:cNvSpPr/>
              <p:nvPr/>
            </p:nvSpPr>
            <p:spPr>
              <a:xfrm>
                <a:off x="4151160" y="4275000"/>
                <a:ext cx="355680" cy="1727280"/>
              </a:xfrm>
              <a:custGeom>
                <a:avLst/>
                <a:gdLst>
                  <a:gd name="textAreaLeft" fmla="*/ 17280 w 355680"/>
                  <a:gd name="textAreaRight" fmla="*/ 338400 w 355680"/>
                  <a:gd name="textAreaTop" fmla="*/ 17280 h 1727280"/>
                  <a:gd name="textAreaBottom" fmla="*/ 1710000 h 1727280"/>
                </a:gdLst>
                <a:ahLst/>
                <a:rect l="textAreaLeft" t="textAreaTop" r="textAreaRight" b="textAreaBottom"/>
                <a:pathLst>
                  <a:path w="21600" h="104811">
                    <a:moveTo>
                      <a:pt x="3600" y="0"/>
                    </a:moveTo>
                    <a:arcTo wR="3600" hR="3600" stAng="16200000" swAng="-5400000"/>
                    <a:lnTo>
                      <a:pt x="0" y="101211"/>
                    </a:lnTo>
                    <a:arcTo wR="3600" hR="3600" stAng="10800000" swAng="-5400000"/>
                    <a:lnTo>
                      <a:pt x="18000" y="1048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rot="16200000">
                <a:off x="4973760" y="415116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flipH="1" rot="16200000">
                <a:off x="4967280" y="572760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H="1" rot="16200000">
                <a:off x="5153040" y="596268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rot="16200000">
                <a:off x="5159160" y="3836520"/>
                <a:ext cx="20988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7" name=""/>
              <p:cNvGrpSpPr/>
              <p:nvPr/>
            </p:nvGrpSpPr>
            <p:grpSpPr>
              <a:xfrm>
                <a:off x="3362760" y="3965760"/>
                <a:ext cx="2775960" cy="2365200"/>
                <a:chOff x="3362760" y="3965760"/>
                <a:chExt cx="2775960" cy="2365200"/>
              </a:xfrm>
            </p:grpSpPr>
            <p:sp>
              <p:nvSpPr>
                <p:cNvPr id="1948" name=""/>
                <p:cNvSpPr/>
                <p:nvPr/>
              </p:nvSpPr>
              <p:spPr>
                <a:xfrm>
                  <a:off x="3831840" y="4286520"/>
                  <a:ext cx="825840" cy="81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4741560" y="428472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4571640" y="419436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5019480" y="419760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 flipH="1">
                  <a:off x="4562280" y="464508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4571640" y="419436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5489280" y="4631040"/>
                  <a:ext cx="0" cy="90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5554440" y="491976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4978080" y="396576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3657240" y="419436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4105080" y="419760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 flipH="1">
                  <a:off x="3647880" y="464508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3823920" y="522468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4733640" y="522288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4571640" y="511200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5019480" y="5115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 flipH="1">
                  <a:off x="4562280" y="556272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4105080" y="602640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3657240" y="5100840"/>
                  <a:ext cx="0" cy="925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4511520" y="600084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3657240" y="511200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4105080" y="5115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 flipH="1">
                  <a:off x="3647880" y="556272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3362760" y="54039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72" name=""/>
            <p:cNvSpPr/>
            <p:nvPr/>
          </p:nvSpPr>
          <p:spPr>
            <a:xfrm>
              <a:off x="3687840" y="6237360"/>
              <a:ext cx="1816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 essential pr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494280" y="3954600"/>
            <a:ext cx="2775960" cy="2382480"/>
            <a:chOff x="494280" y="3954600"/>
            <a:chExt cx="2775960" cy="2382480"/>
          </a:xfrm>
        </p:grpSpPr>
        <p:grpSp>
          <p:nvGrpSpPr>
            <p:cNvPr id="1974" name=""/>
            <p:cNvGrpSpPr/>
            <p:nvPr/>
          </p:nvGrpSpPr>
          <p:grpSpPr>
            <a:xfrm>
              <a:off x="531720" y="3954600"/>
              <a:ext cx="2335320" cy="2334960"/>
              <a:chOff x="531720" y="3954600"/>
              <a:chExt cx="2335320" cy="2334960"/>
            </a:xfrm>
          </p:grpSpPr>
          <p:sp>
            <p:nvSpPr>
              <p:cNvPr id="1975" name=""/>
              <p:cNvSpPr/>
              <p:nvPr/>
            </p:nvSpPr>
            <p:spPr>
              <a:xfrm>
                <a:off x="2241720" y="4267080"/>
                <a:ext cx="247320" cy="781200"/>
              </a:xfrm>
              <a:custGeom>
                <a:avLst/>
                <a:gdLst>
                  <a:gd name="textAreaLeft" fmla="*/ 11880 w 247320"/>
                  <a:gd name="textAreaRight" fmla="*/ 235440 w 247320"/>
                  <a:gd name="textAreaTop" fmla="*/ 11880 h 781200"/>
                  <a:gd name="textAreaBottom" fmla="*/ 769320 h 781200"/>
                </a:gdLst>
                <a:ahLst/>
                <a:rect l="textAreaLeft" t="textAreaTop" r="textAreaRight" b="textAreaBottom"/>
                <a:pathLst>
                  <a:path w="21600" h="68159">
                    <a:moveTo>
                      <a:pt x="3600" y="0"/>
                    </a:moveTo>
                    <a:arcTo wR="3600" hR="3600" stAng="16200000" swAng="-5400000"/>
                    <a:lnTo>
                      <a:pt x="0" y="64559"/>
                    </a:lnTo>
                    <a:arcTo wR="3600" hR="3600" stAng="10800000" swAng="-5400000"/>
                    <a:lnTo>
                      <a:pt x="18000" y="6815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H="1">
                <a:off x="628560" y="424188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H="1">
                <a:off x="531720" y="421020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205000" y="424800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657520" y="421632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rot="16200000">
                <a:off x="2095560" y="4147560"/>
                <a:ext cx="56484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H="1" rot="16200000">
                <a:off x="2089080" y="572436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rot="16200000">
                <a:off x="2281320" y="383400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H="1" rot="16200000">
                <a:off x="2274840" y="595944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4" name=""/>
            <p:cNvGrpSpPr/>
            <p:nvPr/>
          </p:nvGrpSpPr>
          <p:grpSpPr>
            <a:xfrm>
              <a:off x="494280" y="3971880"/>
              <a:ext cx="2775960" cy="2365200"/>
              <a:chOff x="494280" y="3971880"/>
              <a:chExt cx="2775960" cy="2365200"/>
            </a:xfrm>
          </p:grpSpPr>
          <p:sp>
            <p:nvSpPr>
              <p:cNvPr id="1985" name=""/>
              <p:cNvSpPr/>
              <p:nvPr/>
            </p:nvSpPr>
            <p:spPr>
              <a:xfrm>
                <a:off x="963360" y="429264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873080" y="42908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703160" y="42004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151000" y="42037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H="1">
                <a:off x="1693800" y="4651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703160" y="42004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620800" y="463716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685960" y="49258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109600" y="39718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88760" y="42004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236600" y="42037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H="1">
                <a:off x="779400" y="4651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955440" y="52308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865160" y="52290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03160" y="51181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151000" y="51213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H="1">
                <a:off x="1693800" y="556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236600" y="60325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788760" y="510696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643040" y="600696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88760" y="51181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236600" y="51213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H="1">
                <a:off x="779400" y="556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494280" y="541008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297-C001-4106-A8A1-5C662EE4DBF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1397520" y="2133720"/>
            <a:ext cx="2775960" cy="2365200"/>
            <a:chOff x="1397520" y="2133720"/>
            <a:chExt cx="2775960" cy="2365200"/>
          </a:xfrm>
        </p:grpSpPr>
        <p:sp>
          <p:nvSpPr>
            <p:cNvPr id="2011" name=""/>
            <p:cNvSpPr/>
            <p:nvPr/>
          </p:nvSpPr>
          <p:spPr>
            <a:xfrm>
              <a:off x="1866600" y="245448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776320" y="24526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606400" y="2362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054240" y="2365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>
              <a:off x="2597040" y="2813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606400" y="2362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524040" y="27990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589200" y="3087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012840" y="2133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692000" y="2362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139840" y="2365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H="1">
              <a:off x="1682640" y="2813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858680" y="3392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768400" y="33908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606400" y="3279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054240" y="328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597040" y="373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139840" y="4194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692000" y="326880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546280" y="4168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692000" y="3279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139840" y="328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H="1">
              <a:off x="1682640" y="373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397520" y="3571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5" name=""/>
          <p:cNvGrpSpPr/>
          <p:nvPr/>
        </p:nvGrpSpPr>
        <p:grpSpPr>
          <a:xfrm>
            <a:off x="2165400" y="3100320"/>
            <a:ext cx="3400200" cy="1011240"/>
            <a:chOff x="2165400" y="3100320"/>
            <a:chExt cx="3400200" cy="1011240"/>
          </a:xfrm>
        </p:grpSpPr>
        <p:sp>
          <p:nvSpPr>
            <p:cNvPr id="2036" name=""/>
            <p:cNvSpPr/>
            <p:nvPr/>
          </p:nvSpPr>
          <p:spPr>
            <a:xfrm>
              <a:off x="2165400" y="334476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084640" y="3100320"/>
              <a:ext cx="4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B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2189160" y="2911320"/>
            <a:ext cx="4258080" cy="766800"/>
            <a:chOff x="2189160" y="2911320"/>
            <a:chExt cx="4258080" cy="766800"/>
          </a:xfrm>
        </p:grpSpPr>
        <p:sp>
          <p:nvSpPr>
            <p:cNvPr id="2039" name=""/>
            <p:cNvSpPr/>
            <p:nvPr/>
          </p:nvSpPr>
          <p:spPr>
            <a:xfrm>
              <a:off x="2189160" y="291132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883840" y="3100320"/>
              <a:ext cx="5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B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1" name=""/>
          <p:cNvGrpSpPr/>
          <p:nvPr/>
        </p:nvGrpSpPr>
        <p:grpSpPr>
          <a:xfrm>
            <a:off x="2692440" y="2454120"/>
            <a:ext cx="4557600" cy="1652760"/>
            <a:chOff x="2692440" y="2454120"/>
            <a:chExt cx="4557600" cy="1652760"/>
          </a:xfrm>
        </p:grpSpPr>
        <p:sp>
          <p:nvSpPr>
            <p:cNvPr id="2042" name=""/>
            <p:cNvSpPr/>
            <p:nvPr/>
          </p:nvSpPr>
          <p:spPr>
            <a:xfrm>
              <a:off x="2692440" y="2454120"/>
              <a:ext cx="295200" cy="165276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1652760"/>
                <a:gd name="textAreaBottom" fmla="*/ 1638360 h 1652760"/>
              </a:gdLst>
              <a:ahLst/>
              <a:rect l="textAreaLeft" t="textAreaTop" r="textAreaRight" b="textAreaBottom"/>
              <a:pathLst>
                <a:path w="21600" h="120813">
                  <a:moveTo>
                    <a:pt x="3600" y="0"/>
                  </a:moveTo>
                  <a:arcTo wR="3600" hR="3600" stAng="16200000" swAng="-5400000"/>
                  <a:lnTo>
                    <a:pt x="0" y="117213"/>
                  </a:lnTo>
                  <a:arcTo wR="3600" hR="3600" stAng="10800000" swAng="-5400000"/>
                  <a:lnTo>
                    <a:pt x="18000" y="120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697440" y="3100320"/>
              <a:ext cx="5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ahoma"/>
                </a:rPr>
                <a:t>AB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4" name=""/>
          <p:cNvGrpSpPr/>
          <p:nvPr/>
        </p:nvGrpSpPr>
        <p:grpSpPr>
          <a:xfrm>
            <a:off x="2651040" y="2871720"/>
            <a:ext cx="5559480" cy="596880"/>
            <a:chOff x="2651040" y="2871720"/>
            <a:chExt cx="5559480" cy="596880"/>
          </a:xfrm>
        </p:grpSpPr>
        <p:sp>
          <p:nvSpPr>
            <p:cNvPr id="2045" name=""/>
            <p:cNvSpPr/>
            <p:nvPr/>
          </p:nvSpPr>
          <p:spPr>
            <a:xfrm>
              <a:off x="7505640" y="31003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AC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651040" y="2871720"/>
              <a:ext cx="79704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7" name=""/>
          <p:cNvGrpSpPr/>
          <p:nvPr/>
        </p:nvGrpSpPr>
        <p:grpSpPr>
          <a:xfrm>
            <a:off x="1746360" y="3100320"/>
            <a:ext cx="3017160" cy="1019160"/>
            <a:chOff x="1746360" y="3100320"/>
            <a:chExt cx="3017160" cy="1019160"/>
          </a:xfrm>
        </p:grpSpPr>
        <p:sp>
          <p:nvSpPr>
            <p:cNvPr id="2048" name=""/>
            <p:cNvSpPr/>
            <p:nvPr/>
          </p:nvSpPr>
          <p:spPr>
            <a:xfrm>
              <a:off x="4217040" y="310032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33"/>
                  </a:solidFill>
                  <a:latin typeface="Tahoma"/>
                </a:rPr>
                <a:t>C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746360" y="3781440"/>
              <a:ext cx="171108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0" name=""/>
          <p:cNvSpPr/>
          <p:nvPr/>
        </p:nvSpPr>
        <p:spPr>
          <a:xfrm>
            <a:off x="6058440" y="47577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126760" y="475776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ahoma"/>
              </a:rPr>
              <a:t>C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6904080" y="47577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6053760" y="5396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5121720" y="539604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ahoma"/>
              </a:rPr>
              <a:t>C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899040" y="5396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1328760" y="2035080"/>
            <a:ext cx="7297560" cy="395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List all prime implicants for the following K-map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ich are essential prime implicants?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at is the minimum cover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1406880" y="2143080"/>
            <a:ext cx="2775960" cy="2365200"/>
            <a:chOff x="1406880" y="2143080"/>
            <a:chExt cx="2775960" cy="2365200"/>
          </a:xfrm>
        </p:grpSpPr>
        <p:sp>
          <p:nvSpPr>
            <p:cNvPr id="2059" name=""/>
            <p:cNvSpPr/>
            <p:nvPr/>
          </p:nvSpPr>
          <p:spPr>
            <a:xfrm>
              <a:off x="1875960" y="246384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785680" y="2462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615760" y="2371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063600" y="2374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2606400" y="2822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615760" y="2371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533400" y="280836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598560" y="3097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022200" y="2143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701360" y="2371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2149200" y="2374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>
              <a:off x="1692000" y="2822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868040" y="3402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777760" y="34002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615760" y="3289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063600" y="3292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flipH="1">
              <a:off x="2606400" y="3740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149200" y="4203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701360" y="327816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555640" y="4178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701360" y="3289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149200" y="3292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H="1">
              <a:off x="1692000" y="3740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406880" y="358128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41F-C737-474C-868D-FF165E3EA75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066680" y="4495680"/>
            <a:ext cx="1524240" cy="990720"/>
            <a:chOff x="1066680" y="4495680"/>
            <a:chExt cx="1524240" cy="990720"/>
          </a:xfrm>
        </p:grpSpPr>
        <p:sp>
          <p:nvSpPr>
            <p:cNvPr id="88" name=""/>
            <p:cNvSpPr/>
            <p:nvPr/>
          </p:nvSpPr>
          <p:spPr>
            <a:xfrm>
              <a:off x="1066680" y="51814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6680" y="44956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308240" y="415296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63600" y="444492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417204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676520" y="4317840"/>
            <a:ext cx="6464160" cy="1168560"/>
            <a:chOff x="1676520" y="4317840"/>
            <a:chExt cx="6464160" cy="1168560"/>
          </a:xfrm>
        </p:grpSpPr>
        <p:sp>
          <p:nvSpPr>
            <p:cNvPr id="94" name=""/>
            <p:cNvSpPr/>
            <p:nvPr/>
          </p:nvSpPr>
          <p:spPr>
            <a:xfrm>
              <a:off x="16765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765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81080" y="4495680"/>
              <a:ext cx="1403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981080" y="4629240"/>
              <a:ext cx="140364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9000" y="4317840"/>
              <a:ext cx="4711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has the same value in both on-set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B rem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219320" y="4495680"/>
            <a:ext cx="6705360" cy="1803600"/>
            <a:chOff x="1219320" y="4495680"/>
            <a:chExt cx="6705360" cy="1803600"/>
          </a:xfrm>
        </p:grpSpPr>
        <p:sp>
          <p:nvSpPr>
            <p:cNvPr id="100" name=""/>
            <p:cNvSpPr/>
            <p:nvPr/>
          </p:nvSpPr>
          <p:spPr>
            <a:xfrm>
              <a:off x="12193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193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880" y="4800600"/>
              <a:ext cx="1873440" cy="11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3880" y="5486400"/>
              <a:ext cx="186084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41600" y="5638680"/>
              <a:ext cx="44830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has a different value in the two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A is elimin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743200" y="3657600"/>
            <a:ext cx="341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A'B'+AB' = (A'+A)B' =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uniting theore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Key tool to simplification: A (B' + B) = A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ssence of simplification of two-level logi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d two element subsets of the ON-set where only one variable changes its value – this single varying variable can be eliminated and a single product term used to represent both el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990-4F58-4340-948F-4941BE2EFF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binational logic optimization summar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lternate representations of Boolean function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b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arnaugh ma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mplific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-level simpl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Later (in CSE 467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mation of simpl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mization of multi-level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rification/equival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A6A-AACD-446E-9717-8C50DAA102F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673200" y="2971800"/>
            <a:ext cx="2705040" cy="787320"/>
            <a:chOff x="673200" y="2971800"/>
            <a:chExt cx="2705040" cy="787320"/>
          </a:xfrm>
        </p:grpSpPr>
        <p:grpSp>
          <p:nvGrpSpPr>
            <p:cNvPr id="109" name=""/>
            <p:cNvGrpSpPr/>
            <p:nvPr/>
          </p:nvGrpSpPr>
          <p:grpSpPr>
            <a:xfrm>
              <a:off x="1981080" y="3276720"/>
              <a:ext cx="990720" cy="152280"/>
              <a:chOff x="1981080" y="3276720"/>
              <a:chExt cx="990720" cy="152280"/>
            </a:xfrm>
          </p:grpSpPr>
          <p:sp>
            <p:nvSpPr>
              <p:cNvPr id="110" name=""/>
              <p:cNvSpPr/>
              <p:nvPr/>
            </p:nvSpPr>
            <p:spPr>
              <a:xfrm>
                <a:off x="2133720" y="33526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81080" y="3276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819520" y="3276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73200" y="316224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62320" y="34290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29718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19520" y="297180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olean cub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isual technique for indentifying when the uniting theorem can be applied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 input variables = n-dimensional "cube"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622760" y="2666880"/>
            <a:ext cx="2933640" cy="1371600"/>
            <a:chOff x="4622760" y="2666880"/>
            <a:chExt cx="2933640" cy="1371600"/>
          </a:xfrm>
        </p:grpSpPr>
        <p:sp>
          <p:nvSpPr>
            <p:cNvPr id="120" name=""/>
            <p:cNvSpPr/>
            <p:nvPr/>
          </p:nvSpPr>
          <p:spPr>
            <a:xfrm>
              <a:off x="6400800" y="3137040"/>
              <a:ext cx="1155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4120" y="370836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26160" y="30988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19920" y="266688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22760" y="3543480"/>
              <a:ext cx="787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2760" y="271764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3505320"/>
              <a:ext cx="685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952880" y="2743200"/>
              <a:ext cx="990720" cy="990720"/>
              <a:chOff x="4952880" y="2743200"/>
              <a:chExt cx="990720" cy="99072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4952880" y="3581280"/>
                <a:ext cx="990720" cy="152640"/>
                <a:chOff x="4952880" y="3581280"/>
                <a:chExt cx="990720" cy="1526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105520" y="365760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952880" y="3581280"/>
                  <a:ext cx="15264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791320" y="3581280"/>
                  <a:ext cx="15228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952880" y="2743560"/>
                <a:ext cx="152280" cy="990360"/>
                <a:chOff x="4952880" y="2743560"/>
                <a:chExt cx="152280" cy="990360"/>
              </a:xfrm>
            </p:grpSpPr>
            <p:sp>
              <p:nvSpPr>
                <p:cNvPr id="133" name=""/>
                <p:cNvSpPr/>
                <p:nvPr/>
              </p:nvSpPr>
              <p:spPr>
                <a:xfrm flipV="1">
                  <a:off x="5028840" y="289584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16200000">
                  <a:off x="4952880" y="35816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16200000">
                  <a:off x="4952880" y="27435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5791320" y="27432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05520" y="281952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867280" y="28954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647640" y="4191120"/>
            <a:ext cx="3403800" cy="1780920"/>
            <a:chOff x="647640" y="4191120"/>
            <a:chExt cx="3403800" cy="1780920"/>
          </a:xfrm>
        </p:grpSpPr>
        <p:sp>
          <p:nvSpPr>
            <p:cNvPr id="140" name=""/>
            <p:cNvSpPr/>
            <p:nvPr/>
          </p:nvSpPr>
          <p:spPr>
            <a:xfrm>
              <a:off x="647640" y="502920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19400" y="5641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11440" y="507996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5181480"/>
              <a:ext cx="55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47920" y="558792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38560" y="419112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44680" y="517212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47880" y="4334040"/>
              <a:ext cx="1371240" cy="1371600"/>
              <a:chOff x="1847880" y="4334040"/>
              <a:chExt cx="1371240" cy="1371600"/>
            </a:xfrm>
          </p:grpSpPr>
          <p:sp>
            <p:nvSpPr>
              <p:cNvPr id="148" name=""/>
              <p:cNvSpPr/>
              <p:nvPr/>
            </p:nvSpPr>
            <p:spPr>
              <a:xfrm flipV="1">
                <a:off x="2762280" y="524844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1924200" y="5303880"/>
                <a:ext cx="324000" cy="32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1924200" y="4410360"/>
                <a:ext cx="38088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2762280" y="441036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1847880" y="4714920"/>
                <a:ext cx="990720" cy="990720"/>
                <a:chOff x="1847880" y="4714920"/>
                <a:chExt cx="990720" cy="99072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1847880" y="5553000"/>
                  <a:ext cx="990720" cy="152640"/>
                  <a:chOff x="1847880" y="5553000"/>
                  <a:chExt cx="990720" cy="15264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2000520" y="562932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847880" y="5553000"/>
                    <a:ext cx="15264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686320" y="5553000"/>
                    <a:ext cx="1522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1847880" y="4715280"/>
                  <a:ext cx="152280" cy="990360"/>
                  <a:chOff x="1847880" y="4715280"/>
                  <a:chExt cx="152280" cy="99036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flipV="1">
                    <a:off x="1923840" y="486756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6200000">
                    <a:off x="1847880" y="555336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16200000">
                    <a:off x="1847880" y="471528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" name=""/>
                <p:cNvSpPr/>
                <p:nvPr/>
              </p:nvSpPr>
              <p:spPr>
                <a:xfrm>
                  <a:off x="2686320" y="47149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000520" y="479124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762280" y="486720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229120" y="4334040"/>
                <a:ext cx="990000" cy="990720"/>
                <a:chOff x="2229120" y="4334040"/>
                <a:chExt cx="990000" cy="99072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2229120" y="5172120"/>
                  <a:ext cx="990000" cy="152640"/>
                  <a:chOff x="2229120" y="5172120"/>
                  <a:chExt cx="990000" cy="1526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2381400" y="524844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2229120" y="5172120"/>
                    <a:ext cx="1522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3067200" y="5172120"/>
                    <a:ext cx="15192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2229120" y="4334400"/>
                  <a:ext cx="152280" cy="990360"/>
                  <a:chOff x="2229120" y="4334400"/>
                  <a:chExt cx="152280" cy="9903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flipV="1">
                    <a:off x="2305080" y="448668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16200000">
                    <a:off x="2229120" y="517248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16200000">
                    <a:off x="2229120" y="43344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" name=""/>
                <p:cNvSpPr/>
                <p:nvPr/>
              </p:nvSpPr>
              <p:spPr>
                <a:xfrm>
                  <a:off x="3067200" y="433404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381400" y="4410360"/>
                  <a:ext cx="68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143160" y="448632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6" name=""/>
          <p:cNvGrpSpPr/>
          <p:nvPr/>
        </p:nvGrpSpPr>
        <p:grpSpPr>
          <a:xfrm>
            <a:off x="3809880" y="4191120"/>
            <a:ext cx="5308560" cy="2057400"/>
            <a:chOff x="3809880" y="4191120"/>
            <a:chExt cx="5308560" cy="2057400"/>
          </a:xfrm>
        </p:grpSpPr>
        <p:sp>
          <p:nvSpPr>
            <p:cNvPr id="177" name=""/>
            <p:cNvSpPr/>
            <p:nvPr/>
          </p:nvSpPr>
          <p:spPr>
            <a:xfrm>
              <a:off x="7962840" y="494028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02120" y="561348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24280" y="591804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91120" y="530856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70480" y="5460840"/>
              <a:ext cx="5587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9880" y="591804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0120" y="419112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18040" y="574056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64240" y="4343400"/>
              <a:ext cx="939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317840" y="4394160"/>
              <a:ext cx="3276360" cy="1600200"/>
              <a:chOff x="4317840" y="4394160"/>
              <a:chExt cx="3276360" cy="1600200"/>
            </a:xfrm>
          </p:grpSpPr>
          <p:sp>
            <p:nvSpPr>
              <p:cNvPr id="187" name=""/>
              <p:cNvSpPr/>
              <p:nvPr/>
            </p:nvSpPr>
            <p:spPr>
              <a:xfrm flipV="1">
                <a:off x="5232240" y="568908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5613120" y="530820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4775040" y="530856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4393800" y="5689440"/>
                <a:ext cx="19047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5232240" y="485100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5613120" y="446976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4775040" y="447012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4393800" y="4851360"/>
                <a:ext cx="19047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4317840" y="4622760"/>
                <a:ext cx="1371240" cy="1371600"/>
                <a:chOff x="4317840" y="4622760"/>
                <a:chExt cx="1371240" cy="1371600"/>
              </a:xfrm>
            </p:grpSpPr>
            <p:sp>
              <p:nvSpPr>
                <p:cNvPr id="196" name=""/>
                <p:cNvSpPr/>
                <p:nvPr/>
              </p:nvSpPr>
              <p:spPr>
                <a:xfrm flipV="1">
                  <a:off x="5232240" y="553716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4394160" y="5592600"/>
                  <a:ext cx="324000" cy="32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4394160" y="4699080"/>
                  <a:ext cx="38088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5232240" y="469908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4317840" y="5003640"/>
                  <a:ext cx="990720" cy="990720"/>
                  <a:chOff x="4317840" y="5003640"/>
                  <a:chExt cx="990720" cy="990720"/>
                </a:xfrm>
              </p:grpSpPr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4317840" y="5841720"/>
                    <a:ext cx="990720" cy="152640"/>
                    <a:chOff x="4317840" y="5841720"/>
                    <a:chExt cx="990720" cy="1526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4470480" y="5918040"/>
                      <a:ext cx="68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317840" y="5841720"/>
                      <a:ext cx="15264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5156280" y="584172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4317840" y="5004000"/>
                    <a:ext cx="152280" cy="990360"/>
                    <a:chOff x="4317840" y="5004000"/>
                    <a:chExt cx="152280" cy="990360"/>
                  </a:xfrm>
                </p:grpSpPr>
                <p:sp>
                  <p:nvSpPr>
                    <p:cNvPr id="206" name=""/>
                    <p:cNvSpPr/>
                    <p:nvPr/>
                  </p:nvSpPr>
                  <p:spPr>
                    <a:xfrm flipV="1">
                      <a:off x="4393800" y="515628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 rot="16200000">
                      <a:off x="4317840" y="584208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 rot="16200000">
                      <a:off x="4317840" y="500400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9" name=""/>
                  <p:cNvSpPr/>
                  <p:nvPr/>
                </p:nvSpPr>
                <p:spPr>
                  <a:xfrm>
                    <a:off x="5156280" y="500364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4470480" y="507996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5232240" y="515592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4699080" y="4622760"/>
                  <a:ext cx="990000" cy="990720"/>
                  <a:chOff x="4699080" y="4622760"/>
                  <a:chExt cx="990000" cy="990720"/>
                </a:xfrm>
              </p:grpSpPr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4699080" y="5460840"/>
                    <a:ext cx="990000" cy="152640"/>
                    <a:chOff x="4699080" y="5460840"/>
                    <a:chExt cx="990000" cy="15264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851360" y="5537160"/>
                      <a:ext cx="68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699080" y="546084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5537160" y="5460840"/>
                      <a:ext cx="15192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4699080" y="4623120"/>
                    <a:ext cx="152280" cy="990360"/>
                    <a:chOff x="4699080" y="4623120"/>
                    <a:chExt cx="152280" cy="990360"/>
                  </a:xfrm>
                </p:grpSpPr>
                <p:sp>
                  <p:nvSpPr>
                    <p:cNvPr id="218" name=""/>
                    <p:cNvSpPr/>
                    <p:nvPr/>
                  </p:nvSpPr>
                  <p:spPr>
                    <a:xfrm flipV="1">
                      <a:off x="4775040" y="477540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rot="16200000">
                      <a:off x="4699080" y="546120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 rot="16200000">
                      <a:off x="4699080" y="462312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1" name=""/>
                  <p:cNvSpPr/>
                  <p:nvPr/>
                </p:nvSpPr>
                <p:spPr>
                  <a:xfrm>
                    <a:off x="5537160" y="4622760"/>
                    <a:ext cx="15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4851360" y="469908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5613120" y="477504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4" name=""/>
              <p:cNvGrpSpPr/>
              <p:nvPr/>
            </p:nvGrpSpPr>
            <p:grpSpPr>
              <a:xfrm>
                <a:off x="6222960" y="4394160"/>
                <a:ext cx="1371240" cy="1371600"/>
                <a:chOff x="6222960" y="4394160"/>
                <a:chExt cx="1371240" cy="137160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7137360" y="530856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6299280" y="5364000"/>
                  <a:ext cx="324000" cy="32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6299280" y="4470480"/>
                  <a:ext cx="38088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>
                  <a:off x="7137360" y="447048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" name=""/>
                <p:cNvGrpSpPr/>
                <p:nvPr/>
              </p:nvGrpSpPr>
              <p:grpSpPr>
                <a:xfrm>
                  <a:off x="6222960" y="4775040"/>
                  <a:ext cx="990720" cy="990720"/>
                  <a:chOff x="6222960" y="4775040"/>
                  <a:chExt cx="990720" cy="990720"/>
                </a:xfrm>
              </p:grpSpPr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6222960" y="5613120"/>
                    <a:ext cx="990720" cy="152640"/>
                    <a:chOff x="6222960" y="5613120"/>
                    <a:chExt cx="990720" cy="15264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6375600" y="5689440"/>
                      <a:ext cx="68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222960" y="5613120"/>
                      <a:ext cx="15264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7061400" y="561312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6222960" y="4775400"/>
                    <a:ext cx="152280" cy="990360"/>
                    <a:chOff x="6222960" y="4775400"/>
                    <a:chExt cx="152280" cy="990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V="1">
                      <a:off x="6298920" y="492768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rot="16200000">
                      <a:off x="6222960" y="561348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 rot="16200000">
                      <a:off x="6222960" y="477540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8" name=""/>
                  <p:cNvSpPr/>
                  <p:nvPr/>
                </p:nvSpPr>
                <p:spPr>
                  <a:xfrm>
                    <a:off x="7061400" y="477504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6375600" y="485136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137360" y="492732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6604200" y="4394160"/>
                  <a:ext cx="990000" cy="990720"/>
                  <a:chOff x="6604200" y="4394160"/>
                  <a:chExt cx="990000" cy="990720"/>
                </a:xfrm>
              </p:grpSpPr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6604200" y="5232240"/>
                    <a:ext cx="990000" cy="152640"/>
                    <a:chOff x="6604200" y="5232240"/>
                    <a:chExt cx="990000" cy="1526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6756480" y="5308560"/>
                      <a:ext cx="68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6604200" y="523224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7442280" y="5232240"/>
                      <a:ext cx="15192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6604200" y="4394520"/>
                    <a:ext cx="152280" cy="990360"/>
                    <a:chOff x="6604200" y="4394520"/>
                    <a:chExt cx="152280" cy="9903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flipV="1">
                      <a:off x="6680160" y="454680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6200000">
                      <a:off x="6604200" y="523260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 rot="16200000">
                      <a:off x="6604200" y="439452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0" name=""/>
                  <p:cNvSpPr/>
                  <p:nvPr/>
                </p:nvSpPr>
                <p:spPr>
                  <a:xfrm>
                    <a:off x="7442280" y="4394160"/>
                    <a:ext cx="15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756480" y="447048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7518240" y="454644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2CC-34CC-4035-8A8E-6B80EAFCB1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028880" y="287028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84240" y="316224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54360" y="28893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30600" y="5435640"/>
            <a:ext cx="22730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-set = solid 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set = empty 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C-set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d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073320" y="2577960"/>
            <a:ext cx="5689800" cy="2832120"/>
            <a:chOff x="3073320" y="2577960"/>
            <a:chExt cx="5689800" cy="2832120"/>
          </a:xfrm>
        </p:grpSpPr>
        <p:sp>
          <p:nvSpPr>
            <p:cNvPr id="258" name=""/>
            <p:cNvSpPr/>
            <p:nvPr/>
          </p:nvSpPr>
          <p:spPr>
            <a:xfrm>
              <a:off x="3073320" y="3886200"/>
              <a:ext cx="1295640" cy="317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24560" y="2577960"/>
              <a:ext cx="316224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 faces of size 0 (nodes)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bine into a face of size 1(li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62720" y="4800600"/>
              <a:ext cx="3200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varies within face, B does no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is face represents the literal 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4387680" y="2762280"/>
              <a:ext cx="110520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4362120" y="4172040"/>
              <a:ext cx="11811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pping truth tables onto Boolean cub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Uniting theorem combines two "faces" of a cube into a larger "face"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ample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895480" y="3048120"/>
            <a:ext cx="2082960" cy="1371600"/>
            <a:chOff x="2895480" y="3048120"/>
            <a:chExt cx="2082960" cy="1371600"/>
          </a:xfrm>
        </p:grpSpPr>
        <p:sp>
          <p:nvSpPr>
            <p:cNvPr id="266" name=""/>
            <p:cNvSpPr/>
            <p:nvPr/>
          </p:nvSpPr>
          <p:spPr>
            <a:xfrm>
              <a:off x="3606840" y="408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98880" y="3480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92640" y="304812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95480" y="3924720"/>
              <a:ext cx="787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95480" y="309888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92640" y="3886560"/>
              <a:ext cx="685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78240" y="40388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25960" y="39625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64040" y="39625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301920" y="3276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3224160" y="39603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3224160" y="3122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64040" y="3124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78240" y="32007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40360" y="32767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657600" y="2717640"/>
            <a:ext cx="6858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F2BE-8238-443A-9443-8553B2B8FE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638680" y="2438280"/>
            <a:ext cx="381240" cy="129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20880" y="26924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89040" y="245736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39960" y="2425680"/>
            <a:ext cx="25398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52880" y="167652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'+A)B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53080" y="2209680"/>
            <a:ext cx="182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(Cin'+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29400" y="373392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(B+B')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5791320"/>
            <a:ext cx="2870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BCin+AB+A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29200" y="198108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5911920" y="3714480"/>
            <a:ext cx="698400" cy="12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67080" y="4419720"/>
            <a:ext cx="40006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on-set is completely covered b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mbination (OR) of the subcub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lower dimensionality - note that “111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covered three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ree variable examp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inary full-adder carry-out logi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114800" y="2438280"/>
            <a:ext cx="2603520" cy="1781280"/>
            <a:chOff x="4114800" y="2438280"/>
            <a:chExt cx="2603520" cy="1781280"/>
          </a:xfrm>
        </p:grpSpPr>
        <p:sp>
          <p:nvSpPr>
            <p:cNvPr id="296" name=""/>
            <p:cNvSpPr/>
            <p:nvPr/>
          </p:nvSpPr>
          <p:spPr>
            <a:xfrm>
              <a:off x="4886280" y="3889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78320" y="33274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48320" y="342900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14800" y="383544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05440" y="243828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11920" y="341964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429160" y="349524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4591080" y="355140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4591080" y="265752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429160" y="265752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67400" y="38768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14760" y="38005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53200" y="380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591080" y="3114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6200000">
              <a:off x="4513320" y="3798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4512960" y="29606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53200" y="2962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67400" y="30384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429160" y="31147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48280" y="34956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96000" y="3419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34080" y="3419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4971960" y="2733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4894200" y="34178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4894200" y="25790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34080" y="25812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48280" y="26575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10400" y="27338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 rot="16200000">
            <a:off x="5181480" y="1980720"/>
            <a:ext cx="381240" cy="129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2751600">
            <a:off x="5470200" y="2246040"/>
            <a:ext cx="30456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019560" y="2362320"/>
            <a:ext cx="53316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878-4634-4437-99CF-DCCF271E1F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216320" y="2495520"/>
            <a:ext cx="46483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(A,B,C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4,5,6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-set forms a squ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.e., a cube of dimens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n expression in one variable      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.e., 3 dimensions  –  2 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35400" y="4165560"/>
            <a:ext cx="3936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is asserted (true) and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and C v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08480" y="4957920"/>
            <a:ext cx="327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subcube represent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51240" y="4780080"/>
            <a:ext cx="3403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2477880" y="4037040"/>
            <a:ext cx="1773000" cy="744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igher dimensional cub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ub-cubes of higher dimension than 2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838080" y="3193920"/>
            <a:ext cx="2679840" cy="1781280"/>
            <a:chOff x="838080" y="3193920"/>
            <a:chExt cx="2679840" cy="1781280"/>
          </a:xfrm>
        </p:grpSpPr>
        <p:sp>
          <p:nvSpPr>
            <p:cNvPr id="335" name=""/>
            <p:cNvSpPr/>
            <p:nvPr/>
          </p:nvSpPr>
          <p:spPr>
            <a:xfrm flipV="1" rot="5400000">
              <a:off x="1814400" y="3835800"/>
              <a:ext cx="1209960" cy="381240"/>
            </a:xfrm>
            <a:prstGeom prst="parallelogram">
              <a:avLst>
                <a:gd name="adj" fmla="val 97872"/>
              </a:avLst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85880" y="4645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7920" y="4083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47920" y="41846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14400" y="459108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05040" y="319392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11520" y="417528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228760" y="425088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1390680" y="430704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1390680" y="341316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2228760" y="341316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67000" y="4632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14360" y="4556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52800" y="45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390680" y="3870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6200000">
              <a:off x="1312560" y="4554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6200000">
              <a:off x="1312920" y="3715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52800" y="3718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67000" y="3794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28760" y="3870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47880" y="42512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9560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3368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1771560" y="3489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1693800" y="41727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00000">
              <a:off x="1693800" y="3334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33680" y="333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47880" y="34131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0000" y="3489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62320" y="45655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28800" y="400680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8080" y="36511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19320" y="31939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05120" y="349884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677E-E9E1-4E03-8296-32F1FAA01C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-dimensional cubes in a n-dimensional Boolean spac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 a 3-cube (three variables)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0-cube, i.e., a single node, yields a term in 3 liter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1-cube, i.e., a line of two nodes, yields a term in 2 liter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2-cube, i.e., a plane of four nodes, yields a term in 1 liter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3-cube, i.e., a cube of eight nodes, yields a constant term "1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 general,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m-subcube within an n-cube (m &lt; n) yields a term with n – m liter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EF2-2718-49C6-898A-0035DF9938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5086440" y="4578480"/>
            <a:ext cx="1415880" cy="1726920"/>
            <a:chOff x="5086440" y="4578480"/>
            <a:chExt cx="1415880" cy="1726920"/>
          </a:xfrm>
        </p:grpSpPr>
        <p:sp>
          <p:nvSpPr>
            <p:cNvPr id="372" name=""/>
            <p:cNvSpPr/>
            <p:nvPr/>
          </p:nvSpPr>
          <p:spPr>
            <a:xfrm>
              <a:off x="5130720" y="4578480"/>
              <a:ext cx="137160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86440" y="4870440"/>
              <a:ext cx="133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56200" y="4597560"/>
              <a:ext cx="0" cy="166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Karnaugh map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lat map of Boolean cub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–around at ed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 to draw and visualize for more than 4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rtually impossible for more than 6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lternative to truth-tables to help visualize adjacenci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uide to applying the uniting theor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-set elements with only one variable changing value are adjacent unlike the situation in a linear truth-t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575080" y="4707000"/>
            <a:ext cx="1371600" cy="1431360"/>
            <a:chOff x="2575080" y="4707000"/>
            <a:chExt cx="1371600" cy="1431360"/>
          </a:xfrm>
        </p:grpSpPr>
        <p:sp>
          <p:nvSpPr>
            <p:cNvPr id="378" name=""/>
            <p:cNvSpPr/>
            <p:nvPr/>
          </p:nvSpPr>
          <p:spPr>
            <a:xfrm>
              <a:off x="2959200" y="5325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30760" y="485928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87960" y="485928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78120" y="4707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75080" y="48844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52920" y="518940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52920" y="56210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30760" y="517680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30760" y="563400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87960" y="563400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87960" y="517680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30760" y="51130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87960" y="5113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930760" y="5570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2625480" y="4808160"/>
              <a:ext cx="304920" cy="30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V - Combinational Logic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C33D-136E-40A1-A620-BD5E36285B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1:29Z</dcterms:created>
  <dc:creator>Gaetano Borriello</dc:creator>
  <dc:description/>
  <dc:language>en-US</dc:language>
  <cp:lastModifiedBy>Gaetano Borriello</cp:lastModifiedBy>
  <cp:lastPrinted>2000-04-03T18:09:31Z</cp:lastPrinted>
  <dcterms:modified xsi:type="dcterms:W3CDTF">2000-10-25T16:27:13Z</dcterms:modified>
  <cp:revision>32</cp:revision>
  <dc:subject/>
  <dc:title>Combination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