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E98-0FC0-4E36-A49C-A1EAFC02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B25-77EB-4A11-9663-45F55FD1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582-D708-4327-828F-D12FD279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C88-619D-4288-9063-C61AE565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6E6D-715D-4E0F-815F-1D02F3C6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915B-31DF-4245-86F8-789145BC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F193-8695-4C9F-AF37-98DF568C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29F7-2454-49BE-AEBC-EEC2F0AC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C6AC-CCFE-4DDD-BC3A-D87F04F0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8BCF-F5BF-4F04-8CCB-BFF453F7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E642-AFD2-4246-A073-0E7A9973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781-B16A-4196-976F-3377AC96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E5D6-2126-459E-A863-42F3B6A6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E862-F8E0-46D4-9996-0DA7DF14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8F89-D42B-479E-8320-6C8F6CAC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B688-6746-4310-B9CE-80688546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2793-DBD8-4E4D-8341-70B04BB0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5A9-0093-4F1D-A2F7-3F029E70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272-60B2-44F3-91D1-255C1701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F4F-0BBE-416D-AEF5-90003635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25A4-FC98-43DC-A978-0482BBD4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4BE-FB99-49CB-A9CB-B9A5103B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B9A-A57C-4CD9-9AA0-4A36B90F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B9E-0316-4406-8AA2-561C616C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outline text forma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con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2" marL="1158840" indent="-2318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ir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3" marL="1622520" indent="-231840">
              <a:spcBef>
                <a:spcPts val="788"/>
              </a:spcBef>
              <a:buClr>
                <a:srgbClr val="ffcc00"/>
              </a:buClr>
              <a:buFont typeface="Tahoma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ur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4" marL="2084400" indent="-231840">
              <a:spcBef>
                <a:spcPts val="788"/>
              </a:spcBef>
              <a:buClr>
                <a:srgbClr val="ffcc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f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5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x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6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ven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8120" y="6483240"/>
            <a:ext cx="19303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8440" y="6483240"/>
            <a:ext cx="44560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4160" y="6483240"/>
            <a:ext cx="19321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1D7D922-0128-4B72-AEF5-528149C399F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27000" y="1081080"/>
            <a:ext cx="83440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694800"/>
            <a:ext cx="7829640" cy="115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20360" y="6310440"/>
            <a:ext cx="195732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93920" y="6310440"/>
            <a:ext cx="288288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95640" y="6310440"/>
            <a:ext cx="185436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283753D-7072-497A-B607-848DF2BD5D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27000" y="1852560"/>
            <a:ext cx="834408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binational logic design case studi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l design procedur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se studi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D to 7-segment display contro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al function un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ss line contro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endar sub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rithmetic circui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er represen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ition/subtra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ithmetic/logic un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4EF-650C-4D0A-9A81-2480B5C9038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3886200" y="1863720"/>
            <a:ext cx="4686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implementation technolog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-variable K-map to discrete g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or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575320" y="3260880"/>
            <a:ext cx="40644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4032000" y="4714920"/>
            <a:ext cx="1816200" cy="469800"/>
            <a:chOff x="4032000" y="4714920"/>
            <a:chExt cx="1816200" cy="469800"/>
          </a:xfrm>
        </p:grpSpPr>
        <p:sp>
          <p:nvSpPr>
            <p:cNvPr id="728" name=""/>
            <p:cNvSpPr/>
            <p:nvPr/>
          </p:nvSpPr>
          <p:spPr>
            <a:xfrm>
              <a:off x="4044960" y="4714920"/>
              <a:ext cx="184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4032000" y="4803840"/>
              <a:ext cx="1816200" cy="305640"/>
              <a:chOff x="4032000" y="4803840"/>
              <a:chExt cx="1816200" cy="30564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4032000" y="4803840"/>
                <a:ext cx="914760" cy="305640"/>
                <a:chOff x="4032000" y="4803840"/>
                <a:chExt cx="914760" cy="30564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4038480" y="4810320"/>
                  <a:ext cx="85068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032000" y="4803840"/>
                  <a:ext cx="8636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38840" y="4824360"/>
                  <a:ext cx="85032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032360" y="4818240"/>
                  <a:ext cx="8632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420440" y="4824360"/>
                  <a:ext cx="7488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413960" y="4818240"/>
                  <a:ext cx="878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445280" y="4823280"/>
                  <a:ext cx="5004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439160" y="4816440"/>
                  <a:ext cx="626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451400" y="488628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451400" y="501336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902120" y="49370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896000" y="4930560"/>
                  <a:ext cx="50760" cy="50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3" name=""/>
              <p:cNvSpPr/>
              <p:nvPr/>
            </p:nvSpPr>
            <p:spPr>
              <a:xfrm>
                <a:off x="4336920" y="48862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336920" y="50133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959360" y="495000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16600" y="4950000"/>
                <a:ext cx="19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226120" y="4950000"/>
                <a:ext cx="62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"/>
          <p:cNvGrpSpPr/>
          <p:nvPr/>
        </p:nvGrpSpPr>
        <p:grpSpPr>
          <a:xfrm>
            <a:off x="5200560" y="3559320"/>
            <a:ext cx="647640" cy="1409400"/>
            <a:chOff x="5200560" y="3559320"/>
            <a:chExt cx="647640" cy="1409400"/>
          </a:xfrm>
        </p:grpSpPr>
        <p:grpSp>
          <p:nvGrpSpPr>
            <p:cNvPr id="749" name=""/>
            <p:cNvGrpSpPr/>
            <p:nvPr/>
          </p:nvGrpSpPr>
          <p:grpSpPr>
            <a:xfrm>
              <a:off x="5346720" y="3559320"/>
              <a:ext cx="247680" cy="253800"/>
              <a:chOff x="5346720" y="3559320"/>
              <a:chExt cx="247680" cy="253800"/>
            </a:xfrm>
          </p:grpSpPr>
          <p:sp>
            <p:nvSpPr>
              <p:cNvPr id="750" name=""/>
              <p:cNvSpPr/>
              <p:nvPr/>
            </p:nvSpPr>
            <p:spPr>
              <a:xfrm>
                <a:off x="5353200" y="355932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5353200" y="367344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346720" y="35593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543640" y="366084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5226120" y="3679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00560" y="49309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19640" y="3673440"/>
              <a:ext cx="0" cy="127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07000" y="3679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020120" y="4105440"/>
            <a:ext cx="2056320" cy="475920"/>
            <a:chOff x="4020120" y="4105440"/>
            <a:chExt cx="2056320" cy="475920"/>
          </a:xfrm>
        </p:grpSpPr>
        <p:sp>
          <p:nvSpPr>
            <p:cNvPr id="759" name=""/>
            <p:cNvSpPr/>
            <p:nvPr/>
          </p:nvSpPr>
          <p:spPr>
            <a:xfrm>
              <a:off x="4038480" y="4105440"/>
              <a:ext cx="2034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4020120" y="4168800"/>
              <a:ext cx="2056320" cy="406440"/>
              <a:chOff x="4020120" y="4168800"/>
              <a:chExt cx="2056320" cy="406440"/>
            </a:xfrm>
          </p:grpSpPr>
          <p:sp>
            <p:nvSpPr>
              <p:cNvPr id="761" name=""/>
              <p:cNvSpPr/>
              <p:nvPr/>
            </p:nvSpPr>
            <p:spPr>
              <a:xfrm flipH="1">
                <a:off x="5784480" y="41878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5784840" y="444168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3" name=""/>
              <p:cNvGrpSpPr/>
              <p:nvPr/>
            </p:nvGrpSpPr>
            <p:grpSpPr>
              <a:xfrm>
                <a:off x="4020120" y="4168800"/>
                <a:ext cx="938880" cy="305640"/>
                <a:chOff x="4020120" y="4168800"/>
                <a:chExt cx="938880" cy="30564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4324320" y="4183200"/>
                  <a:ext cx="164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323960" y="4168800"/>
                  <a:ext cx="1652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438800" y="425124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438800" y="437832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413600" y="4183200"/>
                  <a:ext cx="13896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020120" y="4183200"/>
                  <a:ext cx="938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070160" y="4168800"/>
                  <a:ext cx="8888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413240" y="4168800"/>
                  <a:ext cx="13932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" name=""/>
              <p:cNvSpPr/>
              <p:nvPr/>
            </p:nvSpPr>
            <p:spPr>
              <a:xfrm>
                <a:off x="4324320" y="425124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324320" y="437832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71960" y="43149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73480" y="4295880"/>
                <a:ext cx="38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353200" y="444168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086440" y="4187880"/>
                <a:ext cx="76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92560" y="4194000"/>
                <a:ext cx="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86440" y="4441680"/>
                <a:ext cx="25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" name=""/>
              <p:cNvGrpSpPr/>
              <p:nvPr/>
            </p:nvGrpSpPr>
            <p:grpSpPr>
              <a:xfrm>
                <a:off x="5473800" y="4321080"/>
                <a:ext cx="374400" cy="254160"/>
                <a:chOff x="5473800" y="4321080"/>
                <a:chExt cx="374400" cy="25416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479920" y="4321080"/>
                  <a:ext cx="17784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V="1">
                  <a:off x="5479920" y="4435560"/>
                  <a:ext cx="17784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473800" y="4321080"/>
                  <a:ext cx="0" cy="24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670720" y="4422600"/>
                  <a:ext cx="50760" cy="511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734080" y="4441680"/>
                  <a:ext cx="11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6" name=""/>
          <p:cNvGrpSpPr/>
          <p:nvPr/>
        </p:nvGrpSpPr>
        <p:grpSpPr>
          <a:xfrm>
            <a:off x="4038480" y="3679920"/>
            <a:ext cx="1809720" cy="457200"/>
            <a:chOff x="4038480" y="3679920"/>
            <a:chExt cx="1809720" cy="457200"/>
          </a:xfrm>
        </p:grpSpPr>
        <p:sp>
          <p:nvSpPr>
            <p:cNvPr id="787" name=""/>
            <p:cNvSpPr/>
            <p:nvPr/>
          </p:nvSpPr>
          <p:spPr>
            <a:xfrm>
              <a:off x="4038480" y="3679920"/>
              <a:ext cx="20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" name=""/>
            <p:cNvGrpSpPr/>
            <p:nvPr/>
          </p:nvGrpSpPr>
          <p:grpSpPr>
            <a:xfrm>
              <a:off x="4330800" y="3775680"/>
              <a:ext cx="1517400" cy="330840"/>
              <a:chOff x="4330800" y="3775680"/>
              <a:chExt cx="1517400" cy="330840"/>
            </a:xfrm>
          </p:grpSpPr>
          <p:grpSp>
            <p:nvGrpSpPr>
              <p:cNvPr id="789" name=""/>
              <p:cNvGrpSpPr/>
              <p:nvPr/>
            </p:nvGrpSpPr>
            <p:grpSpPr>
              <a:xfrm>
                <a:off x="4451400" y="3775680"/>
                <a:ext cx="520200" cy="330840"/>
                <a:chOff x="4451400" y="3775680"/>
                <a:chExt cx="520200" cy="33084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4457520" y="378144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4457520" y="408636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451400" y="3787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629600" y="3795840"/>
                  <a:ext cx="2779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623120" y="3789360"/>
                  <a:ext cx="290880" cy="31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629240" y="3781800"/>
                  <a:ext cx="2782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622760" y="3775680"/>
                  <a:ext cx="291240" cy="31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933800" y="39211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914720" y="3915000"/>
                  <a:ext cx="5040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"/>
              <p:cNvSpPr/>
              <p:nvPr/>
            </p:nvSpPr>
            <p:spPr>
              <a:xfrm>
                <a:off x="4330800" y="387036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330800" y="399744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978440" y="393372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353200" y="3933720"/>
                <a:ext cx="49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029200" y="3933720"/>
                <a:ext cx="31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4" name=""/>
          <p:cNvGrpSpPr/>
          <p:nvPr/>
        </p:nvGrpSpPr>
        <p:grpSpPr>
          <a:xfrm>
            <a:off x="5327640" y="3914640"/>
            <a:ext cx="520560" cy="914400"/>
            <a:chOff x="5327640" y="3914640"/>
            <a:chExt cx="520560" cy="914400"/>
          </a:xfrm>
        </p:grpSpPr>
        <p:grpSp>
          <p:nvGrpSpPr>
            <p:cNvPr id="805" name=""/>
            <p:cNvGrpSpPr/>
            <p:nvPr/>
          </p:nvGrpSpPr>
          <p:grpSpPr>
            <a:xfrm>
              <a:off x="5473800" y="4575240"/>
              <a:ext cx="247680" cy="253800"/>
              <a:chOff x="5473800" y="4575240"/>
              <a:chExt cx="247680" cy="253800"/>
            </a:xfrm>
          </p:grpSpPr>
          <p:sp>
            <p:nvSpPr>
              <p:cNvPr id="806" name=""/>
              <p:cNvSpPr/>
              <p:nvPr/>
            </p:nvSpPr>
            <p:spPr>
              <a:xfrm>
                <a:off x="5479920" y="457524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5479920" y="468936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473800" y="457524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670720" y="46767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5340240" y="4689360"/>
              <a:ext cx="1335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327640" y="39146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46720" y="39402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734080" y="4695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alize the proble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17680" y="1447920"/>
            <a:ext cx="2682720" cy="5423760"/>
            <a:chOff x="517680" y="1447920"/>
            <a:chExt cx="2682720" cy="5423760"/>
          </a:xfrm>
        </p:grpSpPr>
        <p:sp>
          <p:nvSpPr>
            <p:cNvPr id="816" name=""/>
            <p:cNvSpPr/>
            <p:nvPr/>
          </p:nvSpPr>
          <p:spPr>
            <a:xfrm>
              <a:off x="517680" y="1447920"/>
              <a:ext cx="2546280" cy="54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160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3520" y="163188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14760" y="1447920"/>
              <a:ext cx="0" cy="510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33520" y="22417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3520" y="28512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3520" y="34765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520" y="40705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520" y="46800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33520" y="528948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3520" y="591516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5778360" y="3178080"/>
            <a:ext cx="2381400" cy="3292560"/>
            <a:chOff x="5778360" y="3178080"/>
            <a:chExt cx="2381400" cy="3292560"/>
          </a:xfrm>
        </p:grpSpPr>
        <p:sp>
          <p:nvSpPr>
            <p:cNvPr id="827" name=""/>
            <p:cNvSpPr/>
            <p:nvPr/>
          </p:nvSpPr>
          <p:spPr>
            <a:xfrm>
              <a:off x="710892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1563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6135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37280" y="3260880"/>
              <a:ext cx="26676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8480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070680" y="4124160"/>
              <a:ext cx="13208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616800" y="5267160"/>
              <a:ext cx="7617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4844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37320" y="3946680"/>
              <a:ext cx="622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76800" y="3178080"/>
              <a:ext cx="1320840" cy="233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404120" y="4314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5784480" y="34257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784480" y="3679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784480" y="3933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261120" y="5527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18320" y="55278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5784840" y="46958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784840" y="4950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784840" y="52038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01080" y="55148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5778360" y="41878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778360" y="4441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DBF-CEE2-4495-A950-79308A25691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duction line contr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ods of varying length (+/-10%) travel on conveyor bel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chanical arm pushes rods within spec (+/-5%) to one s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arm pushes rods too long to other s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ds that are too short stay on be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light barriers (light source + photocell) as sens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combinational logic to activate the a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nderstanding the proble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 are three sens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 are two arm control sign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e sensor reads "1" when tripped, "0" otherwi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sensors A, B,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664-C809-47A1-83DF-783045F9FF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457280" y="3228480"/>
            <a:ext cx="1438200" cy="3276720"/>
            <a:chOff x="1457280" y="3228480"/>
            <a:chExt cx="1438200" cy="3276720"/>
          </a:xfrm>
        </p:grpSpPr>
        <p:sp>
          <p:nvSpPr>
            <p:cNvPr id="852" name=""/>
            <p:cNvSpPr/>
            <p:nvPr/>
          </p:nvSpPr>
          <p:spPr>
            <a:xfrm rot="16200000">
              <a:off x="2062080" y="26236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16200000">
              <a:off x="2066760" y="56764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76520" y="33429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076560" y="3228480"/>
            <a:ext cx="1438200" cy="3276720"/>
            <a:chOff x="3076560" y="3228480"/>
            <a:chExt cx="1438200" cy="3276720"/>
          </a:xfrm>
        </p:grpSpPr>
        <p:sp>
          <p:nvSpPr>
            <p:cNvPr id="856" name=""/>
            <p:cNvSpPr/>
            <p:nvPr/>
          </p:nvSpPr>
          <p:spPr>
            <a:xfrm rot="16200000">
              <a:off x="3681360" y="26236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16200000">
              <a:off x="3686040" y="56764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295800" y="33429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4667400" y="3228480"/>
            <a:ext cx="1438200" cy="3276720"/>
            <a:chOff x="4667400" y="3228480"/>
            <a:chExt cx="1438200" cy="3276720"/>
          </a:xfrm>
        </p:grpSpPr>
        <p:sp>
          <p:nvSpPr>
            <p:cNvPr id="860" name=""/>
            <p:cNvSpPr/>
            <p:nvPr/>
          </p:nvSpPr>
          <p:spPr>
            <a:xfrm rot="16200000">
              <a:off x="5272200" y="26236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16200000">
              <a:off x="5276880" y="56764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6640" y="33429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ketch of proble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osition of sensor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to B distance = specification – 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to C distance = specification + 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0">
              <a:spcBef>
                <a:spcPts val="224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429000" y="3206520"/>
            <a:ext cx="914400" cy="2749680"/>
            <a:chOff x="3429000" y="3206520"/>
            <a:chExt cx="914400" cy="2749680"/>
          </a:xfrm>
        </p:grpSpPr>
        <p:sp>
          <p:nvSpPr>
            <p:cNvPr id="866" name=""/>
            <p:cNvSpPr/>
            <p:nvPr/>
          </p:nvSpPr>
          <p:spPr>
            <a:xfrm flipV="1">
              <a:off x="3886200" y="320652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29000" y="3556080"/>
              <a:ext cx="914400" cy="24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619440" y="4616280"/>
              <a:ext cx="49536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ithi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029200" y="3206520"/>
            <a:ext cx="927000" cy="2762640"/>
            <a:chOff x="5029200" y="3206520"/>
            <a:chExt cx="927000" cy="2762640"/>
          </a:xfrm>
        </p:grpSpPr>
        <p:sp>
          <p:nvSpPr>
            <p:cNvPr id="870" name=""/>
            <p:cNvSpPr/>
            <p:nvPr/>
          </p:nvSpPr>
          <p:spPr>
            <a:xfrm>
              <a:off x="5029200" y="5727600"/>
              <a:ext cx="927000" cy="241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5486400" y="320652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029200" y="3556080"/>
              <a:ext cx="914400" cy="217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41960" y="4603680"/>
              <a:ext cx="44460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1828800" y="3206520"/>
            <a:ext cx="914400" cy="2978280"/>
            <a:chOff x="1828800" y="3206520"/>
            <a:chExt cx="914400" cy="2978280"/>
          </a:xfrm>
        </p:grpSpPr>
        <p:sp>
          <p:nvSpPr>
            <p:cNvPr id="875" name=""/>
            <p:cNvSpPr/>
            <p:nvPr/>
          </p:nvSpPr>
          <p:spPr>
            <a:xfrm flipV="1">
              <a:off x="2286000" y="320652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828800" y="3556080"/>
              <a:ext cx="914400" cy="262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9880" y="4616280"/>
              <a:ext cx="41904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43200" y="5956200"/>
              <a:ext cx="888840" cy="222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219320" y="3517920"/>
            <a:ext cx="6473880" cy="2882880"/>
            <a:chOff x="1219320" y="3517920"/>
            <a:chExt cx="6473880" cy="2882880"/>
          </a:xfrm>
        </p:grpSpPr>
        <p:sp>
          <p:nvSpPr>
            <p:cNvPr id="880" name=""/>
            <p:cNvSpPr/>
            <p:nvPr/>
          </p:nvSpPr>
          <p:spPr>
            <a:xfrm>
              <a:off x="1219320" y="35179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219320" y="575316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219320" y="607068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61280" y="3924360"/>
              <a:ext cx="546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 5%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83360" y="467352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511280" y="3556080"/>
              <a:ext cx="6121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11280" y="5842080"/>
              <a:ext cx="6121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511280" y="6070680"/>
              <a:ext cx="6121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00800" y="3568680"/>
              <a:ext cx="0" cy="226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86600" y="3568680"/>
              <a:ext cx="0" cy="248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E15-4E23-4ECF-8A55-F4EF2F40A1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4272120" y="2882880"/>
            <a:ext cx="454644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implementation now straightforwar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st use three 3-input AND gate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short" = AB'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nly first sensor tripped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in spec" = A B 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irst two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long" = A B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ll three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93880" y="3289320"/>
            <a:ext cx="2768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39920" y="303516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969840" y="2946240"/>
            <a:ext cx="287028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sh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n't ca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spe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alize the proble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ruth tabl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 don't ca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39C-B474-487B-88F1-0CAC16F6DF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4410000" y="2558880"/>
            <a:ext cx="4638600" cy="375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1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2: if (leap_year_flag =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n return (2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else return (28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3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4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5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6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7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8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9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0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1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endar subsyste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etermine number of days in a month (to control watch display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d in controlling the display of a wrist-watch LCD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: month, leap year fl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: number of day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se software implementation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o help understand the proble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398-C4D0-41BA-8B29-297BF3D43C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1447920" y="3657600"/>
            <a:ext cx="2120760" cy="2476440"/>
            <a:chOff x="1447920" y="3657600"/>
            <a:chExt cx="2120760" cy="2476440"/>
          </a:xfrm>
        </p:grpSpPr>
        <p:sp>
          <p:nvSpPr>
            <p:cNvPr id="900" name=""/>
            <p:cNvSpPr/>
            <p:nvPr/>
          </p:nvSpPr>
          <p:spPr>
            <a:xfrm>
              <a:off x="1568520" y="4425840"/>
              <a:ext cx="148572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7906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81952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2478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192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4764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1337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4764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195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05040" y="367020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00200" y="3657600"/>
              <a:ext cx="1066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4479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8032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337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4764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7906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105520" y="1905120"/>
            <a:ext cx="3879720" cy="4051080"/>
            <a:chOff x="5105520" y="1905120"/>
            <a:chExt cx="3879720" cy="4051080"/>
          </a:xfrm>
        </p:grpSpPr>
        <p:sp>
          <p:nvSpPr>
            <p:cNvPr id="917" name=""/>
            <p:cNvSpPr/>
            <p:nvPr/>
          </p:nvSpPr>
          <p:spPr>
            <a:xfrm>
              <a:off x="5137200" y="1905120"/>
              <a:ext cx="384804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60020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05520" y="238752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585120" y="216540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alize the proble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ncoding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nary number for month: 4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wires for 28, 29, 30, and 3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-hot – only one true at any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lock diagram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D38-421C-4F53-B2FA-B969936F06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"/>
          <p:cNvGrpSpPr/>
          <p:nvPr/>
        </p:nvGrpSpPr>
        <p:grpSpPr>
          <a:xfrm>
            <a:off x="4959360" y="1511280"/>
            <a:ext cx="3879720" cy="4051440"/>
            <a:chOff x="4959360" y="1511280"/>
            <a:chExt cx="3879720" cy="4051440"/>
          </a:xfrm>
        </p:grpSpPr>
        <p:sp>
          <p:nvSpPr>
            <p:cNvPr id="923" name=""/>
            <p:cNvSpPr/>
            <p:nvPr/>
          </p:nvSpPr>
          <p:spPr>
            <a:xfrm>
              <a:off x="4991040" y="1511280"/>
              <a:ext cx="384804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60020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959360" y="199404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8960" y="177156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94168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oose implementation targ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d perform mapp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iscrete gat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8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9 =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n translate to S-o-P or P-o-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768320" y="218772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753200" y="2776680"/>
            <a:ext cx="23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85600" y="335268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 m1’ + m8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785240" y="3927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1 + m8 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CDF-064B-4EA8-A3F9-24C547E7E5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ap year fla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Determine value of leap year flag given the year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years after 1582 (Gregorian calendar reformation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 years are all the years divisible by 4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cept that years divisible by 100 are not leap years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t years divisible by 400 are leap year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ncoding the year: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nary – easy for divisible by 4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t difficult for 100 and 400 (not powers of 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D – easy for 100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t more difficult for 4, what about 400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Parts: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truct a circuit that determines if the year is divisible by 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truct a circuit that determines if the year is divisible by 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truct a circuit that determines if the year is divisible by 4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bine the results of the previous three steps to yield the leap year fla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520-3F03-49B8-8D0F-1A3BC9DB96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tivity: divisible-by-4 circui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992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BCD coded year 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M8 YM4 YM2 YM1 – YH8 YH4 YH2 YH1 – YT8 YT4 YT2 YT1 – YO8 YO4 YO2 YO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nly need to look at low-order two digits of the year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ll years ending in 00, 04, 08, 12, 16, 20, etc. are divisible by 4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tens digit is even, then divisible by 4 if ones digit is 0, 4, or 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tens digit is odd, then divisible by 4 if the ones digit is 2 or 6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ranslates into the following Boolean express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where YT1 is the year's tens digit low-order bi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O8 is the high-order bit of year's ones digit, etc.)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T1’ (YO8’ YO4’ YO2’ YO1’ + YO8’ YO4 YO2’ YO1’ + YO8 YO4’ YO2’ YO1’ )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 YT1 (YO8’ YO4’ YO2 YO1’ + YO8’ YO4 YO2 YO1’ )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Digits with values of 10 to 15 will never occur, simplify further to yield: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T1’ YO2’ YO1’ + YT1 YO2 YO1’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339840" y="6637320"/>
            <a:ext cx="8642160" cy="39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96D-6FA3-42D8-87B3-702D4FF284C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visible-by-100 and divisible-by-400 circui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ivisible-by-100 just requires checking that all bits of two low-order digits are all 0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YT8’ YT4’ YT2’ YT1’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8’ YO4’ YO2’ YO1’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ivisible-by-400 combines the divisible-by-4 (applied to the thousands and hundreds digits) and divisible-by-100 circuit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YM1’ YH2’ YH1’ + YM1 YH2 YH1’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YT8’ YT4’ YT2’ YT1’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•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8’ YO4’ YO2’ YO1’ 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047-44A9-4D2A-AA0A-C8B628B9FD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788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neral design procedure for combinationa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1.  Understand the proble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the circuit supposed to d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down inputs (data, control) and out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 block diagram or other pi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2.  Formulate the problem using a suitable design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uth table or waveform diagram are typic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require encoding of symbolic inputs and out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3.  Choose implementation targe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M, PAL, PL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, decoder and OR-g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rete 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4.  Follow implementation procedur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s for two-level, multi-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tools and hardware description language (e.g., Verilo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2125-6E2A-4807-AB35-AFE59724F8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bining to determine leap year fla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abel results of previous three circuits: D4, D100, and D40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p_year_fla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D4 (D10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400’ ) ’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D4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100’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4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40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D4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100’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4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1A8-AC2A-49DD-8DD9-4F02AF9485E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1430280" y="2389320"/>
            <a:ext cx="5310360" cy="4144680"/>
          </a:xfrm>
          <a:custGeom>
            <a:avLst/>
            <a:gdLst/>
            <a:ahLst/>
            <a:rect l="l" t="t" r="r" b="b"/>
            <a:pathLst>
              <a:path w="3345" h="2611">
                <a:moveTo>
                  <a:pt x="9" y="2611"/>
                </a:moveTo>
                <a:lnTo>
                  <a:pt x="1134" y="2611"/>
                </a:lnTo>
                <a:lnTo>
                  <a:pt x="1134" y="1644"/>
                </a:lnTo>
                <a:lnTo>
                  <a:pt x="2592" y="1635"/>
                </a:lnTo>
                <a:lnTo>
                  <a:pt x="2601" y="1468"/>
                </a:lnTo>
                <a:lnTo>
                  <a:pt x="3159" y="1468"/>
                </a:lnTo>
                <a:lnTo>
                  <a:pt x="3345" y="1468"/>
                </a:lnTo>
                <a:lnTo>
                  <a:pt x="3345" y="0"/>
                </a:lnTo>
                <a:lnTo>
                  <a:pt x="0" y="0"/>
                </a:lnTo>
                <a:lnTo>
                  <a:pt x="9" y="2611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44680" y="4025880"/>
            <a:ext cx="2508120" cy="25081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33880" y="5005440"/>
            <a:ext cx="2522520" cy="154764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214800" y="2478240"/>
            <a:ext cx="2536560" cy="154764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lementation of leap year fla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534960" y="1473120"/>
            <a:ext cx="8186760" cy="523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6EA-FD42-4D81-A887-B4329DF60D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metic circui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cellent examples of combinational logic desig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me vs. space trade-off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ing things fast may require more logic and thus more sp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carry lookahead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rithmetic and logic uni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l-purpose building blo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itical components of processor datapath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d within most computer instru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45A-7446-40C2-AD1D-C5BED2D304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umber sys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presentation of positive numbers is the same in most systems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ajor differences are in how negative numbers are represented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presentation of negative numbers come in three major schem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 and magnitu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s compl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 compl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ssumpti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'll assume a 4 bit machine wor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different values can be represente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ly half are positive, half are ne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02E-B18F-4F53-AAE3-15764772E0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"/>
          <p:cNvGrpSpPr/>
          <p:nvPr/>
        </p:nvGrpSpPr>
        <p:grpSpPr>
          <a:xfrm>
            <a:off x="5435640" y="3241800"/>
            <a:ext cx="3378240" cy="3263760"/>
            <a:chOff x="5435640" y="3241800"/>
            <a:chExt cx="3378240" cy="3263760"/>
          </a:xfrm>
        </p:grpSpPr>
        <p:grpSp>
          <p:nvGrpSpPr>
            <p:cNvPr id="952" name=""/>
            <p:cNvGrpSpPr/>
            <p:nvPr/>
          </p:nvGrpSpPr>
          <p:grpSpPr>
            <a:xfrm>
              <a:off x="5791320" y="3476880"/>
              <a:ext cx="2882880" cy="2717640"/>
              <a:chOff x="5791320" y="3476880"/>
              <a:chExt cx="2882880" cy="2717640"/>
            </a:xfrm>
          </p:grpSpPr>
          <p:sp>
            <p:nvSpPr>
              <p:cNvPr id="953" name=""/>
              <p:cNvSpPr/>
              <p:nvPr/>
            </p:nvSpPr>
            <p:spPr>
              <a:xfrm>
                <a:off x="5797440" y="347688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162920" y="357192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175520" y="588348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001000" y="452448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42080" y="493092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566040" y="3584880"/>
                <a:ext cx="558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184800" y="380052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918040" y="415620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791320" y="4524480"/>
                <a:ext cx="583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943600" y="528660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159600" y="560412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540480" y="588348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607160" y="564228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861320" y="532476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962840" y="4969080"/>
                <a:ext cx="660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823160" y="415620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543800" y="382608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7429680" y="324180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988400" y="354672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344080" y="397836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470800" y="4448160"/>
              <a:ext cx="330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483760" y="49816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344080" y="541368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026560" y="581976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78560" y="6201000"/>
              <a:ext cx="330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527880" y="6137280"/>
              <a:ext cx="3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31000" y="5870880"/>
              <a:ext cx="495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575320" y="537552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35640" y="493092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35640" y="4422960"/>
              <a:ext cx="44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638680" y="3940200"/>
              <a:ext cx="393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931000" y="3584880"/>
              <a:ext cx="444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578640" y="3241800"/>
              <a:ext cx="482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6515280" y="1971720"/>
            <a:ext cx="15746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gn and magnitud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ne bit dedicate to sign (positive or negative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: 0 = positive (or zero), 1 = ne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st represent the absolute value or magnitud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ee low order bits: 0 (000) thru 7 (11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ange for n bi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/– 2n–1 –1  (two representations for 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umbersome addition/subtraction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st compare magnitud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determine sign of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4B4-7993-4D14-8B76-28D98D2E29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2193840" y="2898720"/>
            <a:ext cx="506736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   –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   =  –7 in 1s complement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292560" y="3711600"/>
            <a:ext cx="71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43320" y="4473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359080" y="284796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371680" y="3610080"/>
            <a:ext cx="292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s compl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f N is a positive number, then the negative of N ( its 1s complement or N' ) is N' = (2n– 1) – 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1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rtcut: simply compute bit-wise complement ( 0111 -&gt; 1000 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4B2-8254-4B3E-B2FF-4B0A31ACFAC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"/>
          <p:cNvGrpSpPr/>
          <p:nvPr/>
        </p:nvGrpSpPr>
        <p:grpSpPr>
          <a:xfrm>
            <a:off x="4583160" y="2933640"/>
            <a:ext cx="3556080" cy="3556080"/>
            <a:chOff x="4583160" y="2933640"/>
            <a:chExt cx="3556080" cy="3556080"/>
          </a:xfrm>
        </p:grpSpPr>
        <p:grpSp>
          <p:nvGrpSpPr>
            <p:cNvPr id="997" name=""/>
            <p:cNvGrpSpPr/>
            <p:nvPr/>
          </p:nvGrpSpPr>
          <p:grpSpPr>
            <a:xfrm>
              <a:off x="5002200" y="3295440"/>
              <a:ext cx="2882880" cy="2718000"/>
              <a:chOff x="5002200" y="3295440"/>
              <a:chExt cx="2882880" cy="2718000"/>
            </a:xfrm>
          </p:grpSpPr>
          <p:sp>
            <p:nvSpPr>
              <p:cNvPr id="998" name=""/>
              <p:cNvSpPr/>
              <p:nvPr/>
            </p:nvSpPr>
            <p:spPr>
              <a:xfrm>
                <a:off x="5008680" y="329544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373800" y="33908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386400" y="57024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211880" y="43434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052960" y="4749840"/>
                <a:ext cx="609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6920" y="340344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396040" y="361944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129280" y="397512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002200" y="43434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154480" y="5105520"/>
                <a:ext cx="597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370480" y="542268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751720" y="570240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818400" y="546084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072200" y="514332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174080" y="478800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034400" y="3975120"/>
                <a:ext cx="634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754680" y="36450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6691320" y="293364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250040" y="32637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18320" y="37209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758000" y="42163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783560" y="47880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618320" y="52578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288200" y="57024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627960" y="6108480"/>
              <a:ext cx="3553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738760" y="6121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116680" y="575316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722840" y="520704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83160" y="47242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83160" y="4203720"/>
              <a:ext cx="39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799160" y="36702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16680" y="330192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89520" y="29336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2208240" y="4444920"/>
            <a:ext cx="1574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011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s complement (cont'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ubtraction implemented by 1s complement and then addi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wo representations of 0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es some complexities in add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gh-order bit can act as sign bi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801A-12A9-4A54-977C-65CF7E0143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1654200" y="4124160"/>
            <a:ext cx="1536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778280" y="3032280"/>
            <a:ext cx="3556080" cy="3530520"/>
            <a:chOff x="4778280" y="3032280"/>
            <a:chExt cx="3556080" cy="3530520"/>
          </a:xfrm>
        </p:grpSpPr>
        <p:sp>
          <p:nvSpPr>
            <p:cNvPr id="1036" name=""/>
            <p:cNvSpPr/>
            <p:nvPr/>
          </p:nvSpPr>
          <p:spPr>
            <a:xfrm>
              <a:off x="6886800" y="3032280"/>
              <a:ext cx="355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445520" y="334980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813800" y="3819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953480" y="431496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978680" y="48862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13800" y="53434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483680" y="578808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823080" y="61945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34240" y="6207120"/>
              <a:ext cx="495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311800" y="583884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18320" y="529272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803840" y="482292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778280" y="430200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994280" y="376884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11800" y="340056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972400" y="303228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2" name=""/>
            <p:cNvGrpSpPr/>
            <p:nvPr/>
          </p:nvGrpSpPr>
          <p:grpSpPr>
            <a:xfrm>
              <a:off x="5184720" y="3381480"/>
              <a:ext cx="2882880" cy="2717640"/>
              <a:chOff x="5184720" y="3381480"/>
              <a:chExt cx="2882880" cy="2717640"/>
            </a:xfrm>
          </p:grpSpPr>
          <p:sp>
            <p:nvSpPr>
              <p:cNvPr id="1053" name=""/>
              <p:cNvSpPr/>
              <p:nvPr/>
            </p:nvSpPr>
            <p:spPr>
              <a:xfrm>
                <a:off x="5191200" y="338148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556320" y="347652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569280" y="5788080"/>
                <a:ext cx="533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394760" y="4429080"/>
                <a:ext cx="672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235480" y="483552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959440" y="3489480"/>
                <a:ext cx="559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578560" y="370512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11800" y="406080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184720" y="44290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337360" y="51912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553000" y="550872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934240" y="5788080"/>
                <a:ext cx="571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000920" y="554688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255080" y="5229360"/>
                <a:ext cx="672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356600" y="4873680"/>
                <a:ext cx="660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216920" y="406080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937560" y="3730680"/>
                <a:ext cx="546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s compl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1s complement with negative numbers shifted one position clockwis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ne representation for 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more negative number than positiv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-order bit can act as sign b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8A4-16A6-4987-9FCE-4EEBBB1F82E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5376960" y="2462040"/>
            <a:ext cx="29718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1  = repr. of –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992920" y="32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504040" y="236052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364000" y="3790800"/>
            <a:ext cx="2959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  = repr. of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992920" y="4540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504040" y="368928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373640" y="2919240"/>
            <a:ext cx="106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398840" y="4260960"/>
            <a:ext cx="1041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s complement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f N is a positive number, then the negative of N ( its 2s complement or N* ) is N* = 2n – 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2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2s complement of –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rtcut: 2s complement = bit-wise complement +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111 -&gt; 1000 + 1 -&gt; 1001  (representation of -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01 -&gt; 0110 + 1 -&gt; 0111  (representation of 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596-1E85-48DD-AB2C-30DA893C71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2509920" y="2925720"/>
            <a:ext cx="635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706840" y="36622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00280" y="29257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494160" y="37004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68840" y="291312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(–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8276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621400" y="291312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7420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535120" y="4970520"/>
            <a:ext cx="5968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630520" y="57196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233880" y="4970520"/>
            <a:ext cx="939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417840" y="571968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948200" y="4983120"/>
            <a:ext cx="647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068800" y="5719680"/>
            <a:ext cx="47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862600" y="49831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56120" y="57578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s complement addition and subtrac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mple addition and subtrac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 scheme makes 2s complement the virtually unanimous choice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er number systems in compu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70D-C5A5-4830-AD4E-2140CAFFFA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95480" y="5213520"/>
            <a:ext cx="1828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D to 7–seg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4560" y="59817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83160" y="59817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11760" y="59817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59817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83080" y="47242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54480" y="47242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25880" y="47242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7280" y="47242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68680" y="47242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40080" y="47242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11480" y="47242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89360" y="5181480"/>
            <a:ext cx="182880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89360" y="2895480"/>
            <a:ext cx="1828800" cy="180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4476600"/>
            <a:ext cx="19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0  c1  c2  c3  c4  c5  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74840" y="6292800"/>
            <a:ext cx="125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  B   C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CD to 7-segment display controll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nderstanding the proble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is a 4 bit bcd digit (A, B, C, 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is the control signals for the display (7 outputs C0 – C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lock diagra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467480" y="3848040"/>
            <a:ext cx="381240" cy="685800"/>
            <a:chOff x="7467480" y="3848040"/>
            <a:chExt cx="381240" cy="685800"/>
          </a:xfrm>
        </p:grpSpPr>
        <p:sp>
          <p:nvSpPr>
            <p:cNvPr id="106" name=""/>
            <p:cNvSpPr/>
            <p:nvPr/>
          </p:nvSpPr>
          <p:spPr>
            <a:xfrm>
              <a:off x="7467480" y="3886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67480" y="41911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00000">
              <a:off x="7619400" y="403848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2400" y="3886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41911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7619400" y="373356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7619760" y="434340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858000" y="3848040"/>
            <a:ext cx="380880" cy="685800"/>
            <a:chOff x="6858000" y="3848040"/>
            <a:chExt cx="380880" cy="685800"/>
          </a:xfrm>
        </p:grpSpPr>
        <p:sp>
          <p:nvSpPr>
            <p:cNvPr id="114" name=""/>
            <p:cNvSpPr/>
            <p:nvPr/>
          </p:nvSpPr>
          <p:spPr>
            <a:xfrm>
              <a:off x="6858000" y="3886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41911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7009920" y="403848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2920" y="388620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419112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7009920" y="373356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7010280" y="434340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48520" y="3848040"/>
            <a:ext cx="380880" cy="685800"/>
            <a:chOff x="6248520" y="3848040"/>
            <a:chExt cx="380880" cy="685800"/>
          </a:xfrm>
        </p:grpSpPr>
        <p:sp>
          <p:nvSpPr>
            <p:cNvPr id="122" name=""/>
            <p:cNvSpPr/>
            <p:nvPr/>
          </p:nvSpPr>
          <p:spPr>
            <a:xfrm>
              <a:off x="6248520" y="388620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48520" y="419112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6400800" y="403884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3080" y="3886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41911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6400800" y="37339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6400800" y="434340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8077320" y="3848040"/>
            <a:ext cx="380880" cy="685800"/>
            <a:chOff x="8077320" y="3848040"/>
            <a:chExt cx="380880" cy="685800"/>
          </a:xfrm>
        </p:grpSpPr>
        <p:sp>
          <p:nvSpPr>
            <p:cNvPr id="130" name=""/>
            <p:cNvSpPr/>
            <p:nvPr/>
          </p:nvSpPr>
          <p:spPr>
            <a:xfrm>
              <a:off x="8077320" y="388620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7320" y="419112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8229600" y="403884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1880" y="3886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1880" y="41911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8229600" y="37339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8229600" y="434340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38680" y="3848040"/>
            <a:ext cx="381240" cy="685800"/>
            <a:chOff x="5638680" y="3848040"/>
            <a:chExt cx="381240" cy="685800"/>
          </a:xfrm>
        </p:grpSpPr>
        <p:sp>
          <p:nvSpPr>
            <p:cNvPr id="138" name=""/>
            <p:cNvSpPr/>
            <p:nvPr/>
          </p:nvSpPr>
          <p:spPr>
            <a:xfrm>
              <a:off x="5638680" y="3886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41911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5790600" y="403848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43600" y="3886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41911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5400000">
              <a:off x="5790600" y="373356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5790960" y="434340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467480" y="4762440"/>
            <a:ext cx="381240" cy="685800"/>
            <a:chOff x="7467480" y="4762440"/>
            <a:chExt cx="381240" cy="685800"/>
          </a:xfrm>
        </p:grpSpPr>
        <p:sp>
          <p:nvSpPr>
            <p:cNvPr id="146" name=""/>
            <p:cNvSpPr/>
            <p:nvPr/>
          </p:nvSpPr>
          <p:spPr>
            <a:xfrm>
              <a:off x="7467480" y="4800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67480" y="51055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7619400" y="495288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72400" y="4800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51055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7619400" y="464796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7619760" y="525780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858000" y="4762440"/>
            <a:ext cx="380880" cy="685800"/>
            <a:chOff x="6858000" y="4762440"/>
            <a:chExt cx="380880" cy="685800"/>
          </a:xfrm>
        </p:grpSpPr>
        <p:sp>
          <p:nvSpPr>
            <p:cNvPr id="154" name=""/>
            <p:cNvSpPr/>
            <p:nvPr/>
          </p:nvSpPr>
          <p:spPr>
            <a:xfrm>
              <a:off x="6858000" y="4800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0" y="51055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7009920" y="495288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920" y="480060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920" y="510552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7009920" y="464796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7010280" y="525780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248520" y="4762440"/>
            <a:ext cx="380880" cy="685800"/>
            <a:chOff x="6248520" y="4762440"/>
            <a:chExt cx="380880" cy="685800"/>
          </a:xfrm>
        </p:grpSpPr>
        <p:sp>
          <p:nvSpPr>
            <p:cNvPr id="162" name=""/>
            <p:cNvSpPr/>
            <p:nvPr/>
          </p:nvSpPr>
          <p:spPr>
            <a:xfrm>
              <a:off x="6248520" y="480060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48520" y="510552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6400800" y="495324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53080" y="4800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51055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6400800" y="46483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6400800" y="525780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077320" y="4762440"/>
            <a:ext cx="380880" cy="685800"/>
            <a:chOff x="8077320" y="4762440"/>
            <a:chExt cx="380880" cy="685800"/>
          </a:xfrm>
        </p:grpSpPr>
        <p:sp>
          <p:nvSpPr>
            <p:cNvPr id="170" name=""/>
            <p:cNvSpPr/>
            <p:nvPr/>
          </p:nvSpPr>
          <p:spPr>
            <a:xfrm>
              <a:off x="8077320" y="480060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77320" y="510552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8229600" y="495324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81880" y="4800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1880" y="51055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8229600" y="46483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8229600" y="525780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638680" y="4762440"/>
            <a:ext cx="381240" cy="685800"/>
            <a:chOff x="5638680" y="4762440"/>
            <a:chExt cx="381240" cy="685800"/>
          </a:xfrm>
        </p:grpSpPr>
        <p:sp>
          <p:nvSpPr>
            <p:cNvPr id="178" name=""/>
            <p:cNvSpPr/>
            <p:nvPr/>
          </p:nvSpPr>
          <p:spPr>
            <a:xfrm>
              <a:off x="5638680" y="4800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38680" y="51055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5790600" y="495288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43600" y="4800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510552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5790600" y="464796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5790960" y="525780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854440" y="3022560"/>
            <a:ext cx="1904400" cy="1508040"/>
            <a:chOff x="2854440" y="3022560"/>
            <a:chExt cx="1904400" cy="1508040"/>
          </a:xfrm>
        </p:grpSpPr>
        <p:sp>
          <p:nvSpPr>
            <p:cNvPr id="186" name=""/>
            <p:cNvSpPr/>
            <p:nvPr/>
          </p:nvSpPr>
          <p:spPr>
            <a:xfrm>
              <a:off x="4162320" y="3267000"/>
              <a:ext cx="596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54440" y="3270240"/>
              <a:ext cx="596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62320" y="3803760"/>
              <a:ext cx="596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54440" y="3787560"/>
              <a:ext cx="596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2520" y="3676680"/>
              <a:ext cx="596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92520" y="3143160"/>
              <a:ext cx="596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92520" y="4226040"/>
              <a:ext cx="596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448080" y="3022560"/>
              <a:ext cx="676800" cy="1218960"/>
              <a:chOff x="3448080" y="3022560"/>
              <a:chExt cx="676800" cy="1218960"/>
            </a:xfrm>
          </p:grpSpPr>
          <p:sp>
            <p:nvSpPr>
              <p:cNvPr id="194" name=""/>
              <p:cNvSpPr/>
              <p:nvPr/>
            </p:nvSpPr>
            <p:spPr>
              <a:xfrm>
                <a:off x="3448080" y="30902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48080" y="363240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5400000">
                <a:off x="3718800" y="3361320"/>
                <a:ext cx="135360" cy="541440"/>
              </a:xfrm>
              <a:prstGeom prst="upDownArrow">
                <a:avLst>
                  <a:gd name="adj1" fmla="val 100000"/>
                  <a:gd name="adj2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89520" y="30902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89520" y="363240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5400000">
                <a:off x="3718800" y="2819520"/>
                <a:ext cx="135360" cy="541440"/>
              </a:xfrm>
              <a:prstGeom prst="upDownArrow">
                <a:avLst>
                  <a:gd name="adj1" fmla="val 100000"/>
                  <a:gd name="adj2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400000">
                <a:off x="3718800" y="3903120"/>
                <a:ext cx="135000" cy="541440"/>
              </a:xfrm>
              <a:prstGeom prst="upDownArrow">
                <a:avLst>
                  <a:gd name="adj1" fmla="val 100000"/>
                  <a:gd name="adj2" fmla="val 501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008-BE5E-4ED3-A947-7449B42F33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y can the carry-out be ignored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8000"/>
          </a:bodyPr>
          <a:p>
            <a:pPr marL="340560" indent="-3405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n't ignore it completel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37280" indent="-282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ed to check for overflow (see next two slid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0560" indent="-3405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there is no overflow, carry-out may be true but can be ignore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– M + N when N &gt; 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*  +  N  =  (2n –  M)  +  N  =  2n +  (N – M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gnoring carry-out is just like subtracting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– M + – N where N +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2n–1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(– M) + (– N) = M* +  N* = (2n– M) + (2n– N)   = 2n – (M + N)  + 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gnoring the carry, it is just the 2s complement representation for – (M + N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F6F-D43E-4CC1-9D4E-95395722C6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368280" y="6273720"/>
            <a:ext cx="1168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+ 3 = –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480440" y="6273720"/>
            <a:ext cx="14605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– 2 = +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5079960" y="2832120"/>
            <a:ext cx="3556080" cy="3530520"/>
            <a:chOff x="5079960" y="2832120"/>
            <a:chExt cx="3556080" cy="3530520"/>
          </a:xfrm>
        </p:grpSpPr>
        <p:sp>
          <p:nvSpPr>
            <p:cNvPr id="1105" name=""/>
            <p:cNvSpPr/>
            <p:nvPr/>
          </p:nvSpPr>
          <p:spPr>
            <a:xfrm>
              <a:off x="7188120" y="28321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746840" y="31496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115480" y="36194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255160" y="41148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280360" y="46864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15480" y="514368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785000" y="558828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124760" y="599436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235560" y="600732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613480" y="563904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219640" y="5092920"/>
              <a:ext cx="381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05520" y="4622760"/>
              <a:ext cx="393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079960" y="410220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95960" y="356868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613480" y="320040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273720" y="283212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5486400" y="3181320"/>
              <a:ext cx="2882880" cy="2718000"/>
              <a:chOff x="5486400" y="3181320"/>
              <a:chExt cx="2882880" cy="2718000"/>
            </a:xfrm>
          </p:grpSpPr>
          <p:sp>
            <p:nvSpPr>
              <p:cNvPr id="1122" name=""/>
              <p:cNvSpPr/>
              <p:nvPr/>
            </p:nvSpPr>
            <p:spPr>
              <a:xfrm>
                <a:off x="5492880" y="318132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858000" y="327672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70600" y="558828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696080" y="422928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537160" y="463572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261120" y="328932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880240" y="350532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613480" y="386100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486400" y="422928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638680" y="499104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54680" y="530856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235560" y="558828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302600" y="534672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556400" y="50292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658280" y="467388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518240" y="386100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238880" y="353088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9" name=""/>
          <p:cNvSpPr/>
          <p:nvPr/>
        </p:nvSpPr>
        <p:spPr>
          <a:xfrm flipH="1">
            <a:off x="6781320" y="5460840"/>
            <a:ext cx="25560" cy="781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851040" y="2832120"/>
            <a:ext cx="3555720" cy="3530520"/>
            <a:chOff x="851040" y="2832120"/>
            <a:chExt cx="3555720" cy="3530520"/>
          </a:xfrm>
        </p:grpSpPr>
        <p:sp>
          <p:nvSpPr>
            <p:cNvPr id="1141" name=""/>
            <p:cNvSpPr/>
            <p:nvPr/>
          </p:nvSpPr>
          <p:spPr>
            <a:xfrm>
              <a:off x="2959200" y="28321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17920" y="31496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886200" y="3619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025880" y="41148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51440" y="468648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86200" y="51436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56080" y="558828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895480" y="599436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006640" y="600732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384200" y="5639040"/>
              <a:ext cx="482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990720" y="509292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76240" y="462276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51040" y="4102200"/>
              <a:ext cx="43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066680" y="3568680"/>
              <a:ext cx="419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384200" y="3200400"/>
              <a:ext cx="381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044800" y="2832120"/>
              <a:ext cx="482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1257480" y="3181320"/>
              <a:ext cx="2882880" cy="2718000"/>
              <a:chOff x="1257480" y="3181320"/>
              <a:chExt cx="2882880" cy="2718000"/>
            </a:xfrm>
          </p:grpSpPr>
          <p:sp>
            <p:nvSpPr>
              <p:cNvPr id="1158" name=""/>
              <p:cNvSpPr/>
              <p:nvPr/>
            </p:nvSpPr>
            <p:spPr>
              <a:xfrm>
                <a:off x="1263600" y="318132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629080" y="327672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641680" y="558828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467160" y="422928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308240" y="463572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031840" y="3289320"/>
                <a:ext cx="559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650960" y="350532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384200" y="38610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257480" y="4229280"/>
                <a:ext cx="583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409760" y="499104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625760" y="530856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006640" y="558828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073320" y="534672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327480" y="50292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429000" y="467388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289320" y="386100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009960" y="353088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5" name=""/>
          <p:cNvSpPr/>
          <p:nvPr/>
        </p:nvSpPr>
        <p:spPr>
          <a:xfrm flipH="1">
            <a:off x="2552760" y="5410080"/>
            <a:ext cx="25200" cy="80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verflow in 2s complement addition/subtrac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verflow conditi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 two positive numbers to get a negativ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 two negative numbers to get a positiv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85A-B1B3-4CEB-B868-A0488053113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1054080" y="2508120"/>
            <a:ext cx="8762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641680" y="2000160"/>
            <a:ext cx="1155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0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749840" y="2558880"/>
            <a:ext cx="888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426360" y="2050920"/>
            <a:ext cx="10540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1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264280" y="330840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600200" y="5010120"/>
            <a:ext cx="2919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603520" y="4451400"/>
            <a:ext cx="10540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0 0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504800" y="57340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13200" y="5086440"/>
            <a:ext cx="9273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426360" y="4552920"/>
            <a:ext cx="1117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460520" y="362592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56280" y="3676680"/>
            <a:ext cx="114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460520" y="615312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219640" y="620388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verflow condi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verflow when carry into sign bit position is not equal to carry-ou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B73-6129-4503-978B-331769DE53A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"/>
          <p:cNvGrpSpPr/>
          <p:nvPr/>
        </p:nvGrpSpPr>
        <p:grpSpPr>
          <a:xfrm>
            <a:off x="1325520" y="4233960"/>
            <a:ext cx="2253960" cy="1778040"/>
            <a:chOff x="1325520" y="4233960"/>
            <a:chExt cx="2253960" cy="1778040"/>
          </a:xfrm>
        </p:grpSpPr>
        <p:sp>
          <p:nvSpPr>
            <p:cNvPr id="1195" name=""/>
            <p:cNvSpPr/>
            <p:nvPr/>
          </p:nvSpPr>
          <p:spPr>
            <a:xfrm>
              <a:off x="1357200" y="4233960"/>
              <a:ext cx="222228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325520" y="4564080"/>
              <a:ext cx="218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182680" y="4291200"/>
              <a:ext cx="0" cy="13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5864400" y="3772080"/>
            <a:ext cx="2876400" cy="2895480"/>
            <a:chOff x="5864400" y="3772080"/>
            <a:chExt cx="2876400" cy="2895480"/>
          </a:xfrm>
        </p:grpSpPr>
        <p:sp>
          <p:nvSpPr>
            <p:cNvPr id="1199" name=""/>
            <p:cNvSpPr/>
            <p:nvPr/>
          </p:nvSpPr>
          <p:spPr>
            <a:xfrm>
              <a:off x="5896080" y="3772080"/>
              <a:ext cx="28447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608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864400" y="4102200"/>
              <a:ext cx="270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05840" y="3816360"/>
              <a:ext cx="0" cy="25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ircuits for binary addi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lf adder (add 2 1-bit numbers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m = Ai' Bi + Ai Bi' = Ai xor B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Ai B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ull adder (carry-in to cascade for multi-bit adders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m = Ci xor A xor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B Ci  +  A Ci  +  A B = Ci (A + B) + A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07F-B4F9-42BB-8E7E-8098138FAF5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4506840" y="4282920"/>
            <a:ext cx="4114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ut = A B + Cin (A xor B) = A B + B Cin + A C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4855320" y="1455840"/>
            <a:ext cx="3206160" cy="939600"/>
            <a:chOff x="4855320" y="1455840"/>
            <a:chExt cx="3206160" cy="939600"/>
          </a:xfrm>
        </p:grpSpPr>
        <p:sp>
          <p:nvSpPr>
            <p:cNvPr id="1206" name=""/>
            <p:cNvSpPr/>
            <p:nvPr/>
          </p:nvSpPr>
          <p:spPr>
            <a:xfrm>
              <a:off x="5337720" y="150156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337360" y="147456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515200" y="160812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15200" y="18111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477400" y="1501560"/>
              <a:ext cx="20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855320" y="1501560"/>
              <a:ext cx="1459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930560" y="1474560"/>
              <a:ext cx="1384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477040" y="147456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518520" y="1895400"/>
              <a:ext cx="2534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18160" y="1881000"/>
              <a:ext cx="25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696000" y="201456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96000" y="221760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58560" y="18954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23520" y="189540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9480" y="1881000"/>
              <a:ext cx="1396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658200" y="188100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337360" y="1608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064120" y="145584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337360" y="1811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064120" y="167148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518520" y="201456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315120" y="1709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512040" y="17161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18520" y="22176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337360" y="221760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924440" y="2090520"/>
              <a:ext cx="432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508880" y="2116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699320" y="2116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820280" y="1963800"/>
              <a:ext cx="241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4474080" y="2598840"/>
            <a:ext cx="4476240" cy="1434960"/>
            <a:chOff x="4474080" y="2598840"/>
            <a:chExt cx="4476240" cy="1434960"/>
          </a:xfrm>
        </p:grpSpPr>
        <p:sp>
          <p:nvSpPr>
            <p:cNvPr id="1236" name=""/>
            <p:cNvSpPr/>
            <p:nvPr/>
          </p:nvSpPr>
          <p:spPr>
            <a:xfrm>
              <a:off x="5096160" y="263196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474080" y="2631960"/>
              <a:ext cx="1472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0040" y="2617920"/>
              <a:ext cx="13964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095800" y="2617920"/>
              <a:ext cx="215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261040" y="27385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261040" y="29415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340680" y="27003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40680" y="31827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6334200" y="269388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581880" y="270828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81520" y="26809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340680" y="35132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40680" y="39956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6334200" y="35067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581880" y="352116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81520" y="3494880"/>
              <a:ext cx="44460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369560" y="312732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734520" y="312732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23440" y="3112920"/>
              <a:ext cx="138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369200" y="3112920"/>
              <a:ext cx="21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521480" y="3246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521480" y="3449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149880" y="3652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058000" y="365292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97360" y="351324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058000" y="273852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797360" y="259884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149880" y="3855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058000" y="385596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797360" y="372888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058000" y="29415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810320" y="2814480"/>
              <a:ext cx="241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149880" y="3043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143760" y="304956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58000" y="324648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83240" y="3106800"/>
              <a:ext cx="482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946840" y="28400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49880" y="28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331040" y="3246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39080" y="2941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229520" y="2941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324920" y="294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31040" y="3449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039080" y="37544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324920" y="34560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229520" y="37544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220240" y="3348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429760" y="3220920"/>
              <a:ext cx="52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1130400" y="5460840"/>
            <a:ext cx="7200360" cy="1226880"/>
            <a:chOff x="1130400" y="5460840"/>
            <a:chExt cx="7200360" cy="1226880"/>
          </a:xfrm>
        </p:grpSpPr>
        <p:sp>
          <p:nvSpPr>
            <p:cNvPr id="1285" name=""/>
            <p:cNvSpPr/>
            <p:nvPr/>
          </p:nvSpPr>
          <p:spPr>
            <a:xfrm>
              <a:off x="1295280" y="5562360"/>
              <a:ext cx="266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282680" y="5892480"/>
              <a:ext cx="26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238560" y="5460840"/>
              <a:ext cx="736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305240" y="60386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1530000" y="6375240"/>
              <a:ext cx="276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130400" y="624816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5460840"/>
              <a:ext cx="1155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 xor 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2" name=""/>
            <p:cNvGrpSpPr/>
            <p:nvPr/>
          </p:nvGrpSpPr>
          <p:grpSpPr>
            <a:xfrm>
              <a:off x="4946400" y="5581440"/>
              <a:ext cx="1059840" cy="704880"/>
              <a:chOff x="4946400" y="5581440"/>
              <a:chExt cx="1059840" cy="704880"/>
            </a:xfrm>
          </p:grpSpPr>
          <p:sp>
            <p:nvSpPr>
              <p:cNvPr id="1293" name=""/>
              <p:cNvSpPr/>
              <p:nvPr/>
            </p:nvSpPr>
            <p:spPr>
              <a:xfrm>
                <a:off x="4946400" y="558144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206680" y="567648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320800" y="558756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498640" y="603216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7" name=""/>
            <p:cNvSpPr/>
            <p:nvPr/>
          </p:nvSpPr>
          <p:spPr>
            <a:xfrm>
              <a:off x="3232080" y="614664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956200" y="5918040"/>
              <a:ext cx="1269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 (A xor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013440" y="614664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263760" y="5918040"/>
              <a:ext cx="41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924360" y="61527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930480" y="6527520"/>
              <a:ext cx="253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86320" y="61527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92800" y="633708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505640" y="5549400"/>
              <a:ext cx="82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07160" y="6324120"/>
              <a:ext cx="647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293520" y="6217920"/>
              <a:ext cx="21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658480" y="6217920"/>
              <a:ext cx="1471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47400" y="6203520"/>
              <a:ext cx="1382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293160" y="6203520"/>
              <a:ext cx="214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445080" y="633708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000480" y="56894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130880" y="6438600"/>
              <a:ext cx="54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244680" y="5702040"/>
              <a:ext cx="168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311360" y="603216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542960" y="5702040"/>
              <a:ext cx="63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55560" y="603216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8" name=""/>
            <p:cNvGrpSpPr/>
            <p:nvPr/>
          </p:nvGrpSpPr>
          <p:grpSpPr>
            <a:xfrm>
              <a:off x="2178000" y="5581440"/>
              <a:ext cx="1059840" cy="704880"/>
              <a:chOff x="2178000" y="5581440"/>
              <a:chExt cx="1059840" cy="704880"/>
            </a:xfrm>
          </p:grpSpPr>
          <p:sp>
            <p:nvSpPr>
              <p:cNvPr id="1319" name=""/>
              <p:cNvSpPr/>
              <p:nvPr/>
            </p:nvSpPr>
            <p:spPr>
              <a:xfrm>
                <a:off x="2178000" y="558144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437920" y="567648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552400" y="558756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729880" y="603216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ull adder implementa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ndard approach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 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XORs, 2 ANDs, 2 OR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ternative implem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 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lf adder is an XOR gate and AND g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XORs, 2 ANDs, 1 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"/>
          <p:cNvSpPr/>
          <p:nvPr/>
        </p:nvSpPr>
        <p:spPr>
          <a:xfrm>
            <a:off x="2905200" y="1857240"/>
            <a:ext cx="1728720" cy="61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5DD-8036-488D-89B8-F67CBCF06E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"/>
          <p:cNvGrpSpPr/>
          <p:nvPr/>
        </p:nvGrpSpPr>
        <p:grpSpPr>
          <a:xfrm>
            <a:off x="447840" y="2822400"/>
            <a:ext cx="8483400" cy="3975120"/>
            <a:chOff x="447840" y="2822400"/>
            <a:chExt cx="8483400" cy="3975120"/>
          </a:xfrm>
        </p:grpSpPr>
        <p:sp>
          <p:nvSpPr>
            <p:cNvPr id="1327" name=""/>
            <p:cNvSpPr/>
            <p:nvPr/>
          </p:nvSpPr>
          <p:spPr>
            <a:xfrm>
              <a:off x="6073920" y="443520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43720" y="442260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972040" y="476568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137280" y="510840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188040" y="476568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686040" y="349560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927600" y="349560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712280" y="4651200"/>
              <a:ext cx="1218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btr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023160" y="282240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65880" y="282240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94480" y="282240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835680" y="34830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9" name=""/>
            <p:cNvGrpSpPr/>
            <p:nvPr/>
          </p:nvGrpSpPr>
          <p:grpSpPr>
            <a:xfrm>
              <a:off x="1317960" y="5076720"/>
              <a:ext cx="381960" cy="1574640"/>
              <a:chOff x="1317960" y="5076720"/>
              <a:chExt cx="381960" cy="1574640"/>
            </a:xfrm>
          </p:grpSpPr>
          <p:sp>
            <p:nvSpPr>
              <p:cNvPr id="1340" name=""/>
              <p:cNvSpPr/>
              <p:nvPr/>
            </p:nvSpPr>
            <p:spPr>
              <a:xfrm>
                <a:off x="1317960" y="5534640"/>
                <a:ext cx="36756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319400" y="5534640"/>
                <a:ext cx="38052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590840" y="569880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413000" y="569880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343520" y="5673600"/>
                <a:ext cx="34200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17960" y="5076720"/>
                <a:ext cx="367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19400" y="5153040"/>
                <a:ext cx="380520" cy="133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319400" y="5673600"/>
                <a:ext cx="38052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590840" y="553392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413000" y="553392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501920" y="6486480"/>
                <a:ext cx="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1" name=""/>
            <p:cNvSpPr/>
            <p:nvPr/>
          </p:nvSpPr>
          <p:spPr>
            <a:xfrm>
              <a:off x="1413000" y="492444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96960" y="5527440"/>
              <a:ext cx="140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47840" y="6200640"/>
              <a:ext cx="10033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978520" y="4454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435720" y="3539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200640" y="308268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657840" y="39970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429240" y="5368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5508360" y="49053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6880320" y="490536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543720" y="3082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772320" y="3082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6879960" y="37623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343640" y="3768480"/>
              <a:ext cx="0" cy="11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702320" y="443520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172120" y="442260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600440" y="476568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765680" y="510840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816440" y="476568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651560" y="282240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994280" y="282240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22880" y="282240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64080" y="34830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606920" y="4454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64120" y="3539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829040" y="308268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286240" y="39970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057640" y="5368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4136760" y="49053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172120" y="3082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00720" y="3082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5508360" y="37623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972040" y="37684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3210120" y="4219560"/>
              <a:ext cx="41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330720" y="443520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800520" y="442260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228840" y="476568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94080" y="510840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44840" y="476568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279960" y="282240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622680" y="282240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851280" y="282240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92480" y="34830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235320" y="4454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692520" y="3539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457440" y="308268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914640" y="39970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686040" y="5368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2765160" y="49053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800520" y="3082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029120" y="3082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4136760" y="37623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600440" y="37684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057640" y="350820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299200" y="350820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429240" y="350820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670800" y="350820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301840" y="354636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43040" y="354636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946160" y="446076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416320" y="446076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844640" y="480348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009880" y="514656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060640" y="4803480"/>
              <a:ext cx="71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895400" y="286056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38480" y="2860560"/>
              <a:ext cx="393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467080" y="286056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708280" y="343188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863720" y="4454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0920" y="3539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085840" y="308268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543040" y="39970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314440" y="5368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1393560" y="49053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428920" y="3082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657520" y="3082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2765160" y="37623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228840" y="37684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124000" y="575604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495600" y="576900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867200" y="576900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251760" y="576900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013200" y="4911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er/subtrac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se an adder to do subtraction thanks to 2s complement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– B  =   A + (– B)   =   A + B' +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signal selects B or 2s complement of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270-9976-4F47-88DE-DA2E39FB9C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6" name=""/>
          <p:cNvGrpSpPr/>
          <p:nvPr/>
        </p:nvGrpSpPr>
        <p:grpSpPr>
          <a:xfrm>
            <a:off x="368280" y="2911320"/>
            <a:ext cx="4559400" cy="2600640"/>
            <a:chOff x="368280" y="2911320"/>
            <a:chExt cx="4559400" cy="2600640"/>
          </a:xfrm>
        </p:grpSpPr>
        <p:sp>
          <p:nvSpPr>
            <p:cNvPr id="1437" name=""/>
            <p:cNvSpPr/>
            <p:nvPr/>
          </p:nvSpPr>
          <p:spPr>
            <a:xfrm>
              <a:off x="1302120" y="303048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30440" y="3030480"/>
              <a:ext cx="1345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06400" y="302904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301760" y="302904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352520" y="31240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52520" y="33019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432160" y="30988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32160" y="35434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2425680" y="3092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648520" y="3106800"/>
              <a:ext cx="4183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48160" y="309240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432160" y="38354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32160" y="42670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2425680" y="3828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648520" y="384336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48160" y="3816720"/>
              <a:ext cx="4186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359520" y="348768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787840" y="3487680"/>
              <a:ext cx="1345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863800" y="3473280"/>
              <a:ext cx="1269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359160" y="347328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511440" y="359424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511440" y="377208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254320" y="3962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263600" y="396252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977760" y="383544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263600" y="3137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977760" y="300996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254320" y="41403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263600" y="414036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977760" y="401328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263600" y="33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977760" y="320040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273400" y="3403440"/>
              <a:ext cx="14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247840" y="3381480"/>
              <a:ext cx="0" cy="18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282680" y="3594240"/>
              <a:ext cx="996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11360" y="3467160"/>
              <a:ext cx="533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76480" y="3225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54320" y="3225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292560" y="3594240"/>
              <a:ext cx="250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086280" y="3314880"/>
              <a:ext cx="23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314880" y="3292560"/>
              <a:ext cx="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333600" y="377208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054240" y="40514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27480" y="377820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232080" y="40514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33880" y="3683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317840" y="35305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68280" y="2946240"/>
              <a:ext cx="5335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68280" y="377208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68280" y="3492360"/>
              <a:ext cx="48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044800" y="299736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124080" y="4127400"/>
              <a:ext cx="44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124080" y="2911320"/>
              <a:ext cx="609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292640" y="370836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33520" y="4699080"/>
              <a:ext cx="9903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959200" y="4775040"/>
              <a:ext cx="18669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gate del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compute 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1143000" y="3632040"/>
              <a:ext cx="419040" cy="10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4000680" y="3936960"/>
              <a:ext cx="520560" cy="85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5" name=""/>
          <p:cNvGrpSpPr/>
          <p:nvPr/>
        </p:nvGrpSpPr>
        <p:grpSpPr>
          <a:xfrm>
            <a:off x="4997520" y="2481120"/>
            <a:ext cx="4054320" cy="4023000"/>
            <a:chOff x="4997520" y="2481120"/>
            <a:chExt cx="4054320" cy="4023000"/>
          </a:xfrm>
        </p:grpSpPr>
        <p:sp>
          <p:nvSpPr>
            <p:cNvPr id="1496" name=""/>
            <p:cNvSpPr/>
            <p:nvPr/>
          </p:nvSpPr>
          <p:spPr>
            <a:xfrm>
              <a:off x="7489800" y="2712960"/>
              <a:ext cx="9525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997520" y="32083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97520" y="34243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724360" y="2481120"/>
              <a:ext cx="432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562800" y="321804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587920" y="41101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587920" y="4338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550200" y="345924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147080" y="4145040"/>
              <a:ext cx="927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159600" y="5024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159600" y="52531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134120" y="4373640"/>
              <a:ext cx="1028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705800" y="505944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718320" y="5925960"/>
              <a:ext cx="317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718320" y="6154560"/>
              <a:ext cx="317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718400" y="528804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264520" y="597384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64520" y="621504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705640" y="307512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362560" y="3297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62560" y="3525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927760" y="27320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162840" y="3297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162840" y="3525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499080" y="35323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276960" y="398952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934240" y="42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934240" y="44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34160" y="42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734160" y="44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070760" y="44467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848640" y="490392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505560" y="51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505560" y="53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305840" y="51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305840" y="53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642080" y="53611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419960" y="581832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077240" y="60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077240" y="62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877160" y="60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77160" y="62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ipple-carry add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ritical dela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ropagation of carry from low to high order st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490-1B1C-4039-BC84-CD410CCA7A1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" descr=""/>
          <p:cNvPicPr/>
          <p:nvPr/>
        </p:nvPicPr>
        <p:blipFill>
          <a:blip r:embed="rId1"/>
          <a:stretch/>
        </p:blipFill>
        <p:spPr>
          <a:xfrm>
            <a:off x="1152360" y="3575160"/>
            <a:ext cx="7048800" cy="2882880"/>
          </a:xfrm>
          <a:prstGeom prst="rect">
            <a:avLst/>
          </a:prstGeom>
          <a:ln w="0">
            <a:noFill/>
          </a:ln>
        </p:spPr>
      </p:pic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ipple-carry adder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ritical dela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ropagation of carry from low to high order st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11 + 0001 is the worst case add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ry must propagate through all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1EC-0883-454B-ADE9-3A8FC6AF1AC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rry-lookahead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rry generate:  Gi = Ai Bi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11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st generate carry when A = B =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rry propagate:  Pi = Ai xor Bi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11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ry-in will equal carry-out he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um and Cout can be re-expressed in terms of generate/propagate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11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Ai xor Bi xor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Pi xor 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11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+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Ai Bi + Ai Ci + Bi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Ai Bi + Ci (Ai +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Ai Bi + Ci (Ai xor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Gi + Ci P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456-015D-46A1-B4B8-5C32B1DDD7A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rry-lookahead logic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6288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-express the carry logic as follows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1 = G0 + P0 C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2 = G1 + P1 C1 = G1 + P1 G0 + P1 P0 C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3 = G2 + P2 C2 = G2 + P2 G1 + P2 P1 G0 + P2 P1 P0 C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4 = G3 + P3 C3 = G3 + P3 G2 + P3 P2 G1 + P3 P2 P1 G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+ P3 P2 P1 P0 C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ach of the carry equations can be implemented with two-level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inputs are now directly derived from data inputs and not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mediate car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allows computation of all sum outputs to proceed in parall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460-BD58-4DD8-B554-825EBE58490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59480" y="2583000"/>
            <a:ext cx="384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24600" y="229716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91160" y="2278080"/>
            <a:ext cx="389880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alize the proble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ruth tabl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 don't ca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hoose implementation targe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ROM, we are d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n't cares imply PAL/PL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be attrac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llow implementation procedur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ation using K-ma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41E-8FA7-4D5F-A781-5675D77B5E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"/>
          <p:cNvSpPr/>
          <p:nvPr/>
        </p:nvSpPr>
        <p:spPr>
          <a:xfrm>
            <a:off x="6230880" y="63025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861840" y="3873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61840" y="42292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855720" y="3866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027440" y="388152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27080" y="387972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509840" y="3970440"/>
            <a:ext cx="1519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065240" y="3970440"/>
            <a:ext cx="104112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128960" y="3956400"/>
            <a:ext cx="9774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509480" y="3956400"/>
            <a:ext cx="15228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623960" y="40384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23960" y="4191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861840" y="4813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61840" y="5168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55720" y="481968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027440" y="48211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27080" y="481968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861840" y="52578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861840" y="5600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855720" y="52513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027440" y="52657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027080" y="5238720"/>
            <a:ext cx="3171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052640" y="5278320"/>
            <a:ext cx="102816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103400" y="5263920"/>
            <a:ext cx="977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496880" y="5263920"/>
            <a:ext cx="1522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617840" y="5435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497240" y="5278320"/>
            <a:ext cx="1519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678120" y="4025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678120" y="436896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3672000" y="4019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672000" y="3905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843720" y="4033800"/>
            <a:ext cx="3168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43360" y="400716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678120" y="4597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678120" y="4952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672000" y="46036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43720" y="460548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843360" y="45907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678120" y="510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678120" y="546084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3672000" y="5098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843720" y="51134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43360" y="50994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148640" y="5062680"/>
            <a:ext cx="9770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592520" y="5062680"/>
            <a:ext cx="10152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48280" y="5036040"/>
            <a:ext cx="97740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592160" y="5036040"/>
            <a:ext cx="10188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643280" y="514368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643280" y="529596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V="1">
            <a:off x="4637160" y="53654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637160" y="4933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688080" y="40892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688080" y="444492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853680" y="409716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853320" y="408276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681960" y="390528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688080" y="4813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688080" y="51688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6681960" y="48067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681960" y="470520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3680" y="48211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853320" y="481968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688080" y="5397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688080" y="57531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681960" y="540396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3680" y="5405400"/>
            <a:ext cx="31680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3320" y="539136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688080" y="58420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88080" y="61977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6681960" y="5835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853680" y="585000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853320" y="583596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209000" y="5695560"/>
            <a:ext cx="101556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209360" y="5722920"/>
            <a:ext cx="10152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641360" y="5722920"/>
            <a:ext cx="151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641000" y="5695560"/>
            <a:ext cx="15156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710480" y="55180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7710480" y="6026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716960" y="586728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54840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237360" y="38736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53844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290760" y="38606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22160" y="4851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23720" y="474984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2216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23720" y="387360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54840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237360" y="40258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53844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290760" y="40132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2216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23720" y="490212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221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23720" y="402588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34460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48428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54840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237360" y="468648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53844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290760" y="452124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2216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423720" y="527040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842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77800" y="4197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22160" y="433080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23720" y="424188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20937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241720" y="4064040"/>
            <a:ext cx="752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548400" y="4927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237360" y="485784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548400" y="42670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237360" y="418140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53844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290760" y="467352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538440" y="42670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290760" y="415296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2216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23720" y="505476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2160" y="5511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23720" y="541008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4842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344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477800" y="4997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344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48428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5484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237360" y="534672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538440" y="5219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290760" y="510552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484280" y="55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77800" y="55818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22160" y="586728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23720" y="576576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09376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241720" y="5384880"/>
            <a:ext cx="811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 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548400" y="55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237360" y="55022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548400" y="5067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237360" y="501012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548400" y="4406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237360" y="43178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3844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290760" y="52578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538440" y="4927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290760" y="48132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538440" y="4406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290760" y="43052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503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1608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300560" y="41911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497480" y="4197240"/>
            <a:ext cx="0" cy="7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50360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16088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300560" y="477504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357800" y="4781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36392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50360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1608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300560" y="529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548400" y="5943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237360" y="587376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503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497480" y="5442120"/>
            <a:ext cx="0" cy="26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538440" y="571500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290760" y="56134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126040" y="5219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275440" y="5156280"/>
            <a:ext cx="809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548400" y="60832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237360" y="60260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548400" y="5715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237360" y="564192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548400" y="5219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237360" y="51814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548400" y="45594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237360" y="448956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589880" y="5575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170840" y="42670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310520" y="42670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583400" y="427356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89880" y="6006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170840" y="600696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310520" y="60069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7170840" y="49910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589880" y="5715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1052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450200" y="5715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443720" y="499752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170840" y="557532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589880" y="5867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310520" y="58672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304040" y="55818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589880" y="61596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583400" y="6165720"/>
            <a:ext cx="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548400" y="637524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8211960" y="58672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8375760" y="5803920"/>
            <a:ext cx="69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885960" y="2070000"/>
            <a:ext cx="4660920" cy="1315440"/>
            <a:chOff x="885960" y="2070000"/>
            <a:chExt cx="4660920" cy="1315440"/>
          </a:xfrm>
        </p:grpSpPr>
        <p:sp>
          <p:nvSpPr>
            <p:cNvPr id="1745" name=""/>
            <p:cNvSpPr/>
            <p:nvPr/>
          </p:nvSpPr>
          <p:spPr>
            <a:xfrm>
              <a:off x="2492640" y="2522520"/>
              <a:ext cx="2282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492280" y="2495160"/>
              <a:ext cx="22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657520" y="260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657520" y="2768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20080" y="2522520"/>
              <a:ext cx="18936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061000" y="2522520"/>
              <a:ext cx="129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136960" y="2495160"/>
              <a:ext cx="121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619720" y="2495160"/>
              <a:ext cx="189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451880" y="2103480"/>
              <a:ext cx="21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451520" y="2102040"/>
              <a:ext cx="21492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603440" y="2197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03440" y="2361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565280" y="2103480"/>
              <a:ext cx="2030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019160" y="2103480"/>
              <a:ext cx="129528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83240" y="2102040"/>
              <a:ext cx="12312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564920" y="2102040"/>
              <a:ext cx="2034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793880" y="2971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793880" y="33652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1787760" y="29649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010240" y="2979720"/>
              <a:ext cx="39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09880" y="2977920"/>
              <a:ext cx="393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327400" y="2286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479680" y="2266920"/>
              <a:ext cx="2556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492640" y="2603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486160" y="22921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492640" y="2286000"/>
              <a:ext cx="10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552840" y="2158920"/>
              <a:ext cx="1994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492640" y="27684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184400" y="27684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85960" y="2654280"/>
              <a:ext cx="380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368880" y="2679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540240" y="2565360"/>
              <a:ext cx="1866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i @ 2 gate del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451160" y="236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425600" y="2355840"/>
              <a:ext cx="38160" cy="25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629000" y="3098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451160" y="3098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444680" y="2368440"/>
              <a:ext cx="0" cy="7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184400" y="23619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85960" y="2247840"/>
              <a:ext cx="406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45116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6290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184400" y="2197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260720" y="2190600"/>
              <a:ext cx="25200" cy="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7332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273320" y="326376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266840" y="2203200"/>
              <a:ext cx="0" cy="10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85960" y="2070000"/>
              <a:ext cx="698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403720" y="317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581200" y="317484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565800" y="3047760"/>
              <a:ext cx="19555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6338880" y="2778120"/>
            <a:ext cx="25527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easingly comple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for car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837560" y="3268800"/>
            <a:ext cx="270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rry-lookahead implement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dder with propagate and generate outpu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49D-B9CD-4B3C-97E6-B85767EA80D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9" name=""/>
          <p:cNvGrpSpPr/>
          <p:nvPr/>
        </p:nvGrpSpPr>
        <p:grpSpPr>
          <a:xfrm>
            <a:off x="888840" y="2654280"/>
            <a:ext cx="3911760" cy="4019400"/>
            <a:chOff x="888840" y="2654280"/>
            <a:chExt cx="3911760" cy="4019400"/>
          </a:xfrm>
        </p:grpSpPr>
        <p:sp>
          <p:nvSpPr>
            <p:cNvPr id="1800" name=""/>
            <p:cNvSpPr/>
            <p:nvPr/>
          </p:nvSpPr>
          <p:spPr>
            <a:xfrm>
              <a:off x="888840" y="337824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88840" y="359424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536840" y="265428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311560" y="33400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447920" y="428004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447920" y="450864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298600" y="358128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895480" y="4267080"/>
              <a:ext cx="927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019240" y="519444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19240" y="542304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882880" y="4495680"/>
              <a:ext cx="1028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454560" y="518148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577960" y="60958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77960" y="63244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467160" y="541008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013280" y="60958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013280" y="633744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517760" y="324468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174680" y="34671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74680" y="3695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739880" y="29019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974960" y="34671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974960" y="3695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311560" y="3701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089080" y="415908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746360" y="4381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46360" y="46101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546280" y="4381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546280" y="46101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88288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660760" y="507348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317680" y="5295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317680" y="552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117960" y="5295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117960" y="552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454560" y="5530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232080" y="598788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889360" y="6210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889360" y="643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689280" y="6210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689280" y="643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5338800" y="2637000"/>
            <a:ext cx="3209760" cy="3962160"/>
            <a:chOff x="5338800" y="2637000"/>
            <a:chExt cx="3209760" cy="3962160"/>
          </a:xfrm>
        </p:grpSpPr>
        <p:sp>
          <p:nvSpPr>
            <p:cNvPr id="1842" name=""/>
            <p:cNvSpPr/>
            <p:nvPr/>
          </p:nvSpPr>
          <p:spPr>
            <a:xfrm>
              <a:off x="6033960" y="2979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037200" y="32083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948280" y="263700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608960" y="299232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062760" y="3906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062760" y="4122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541840" y="356400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621560" y="3906720"/>
              <a:ext cx="927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062760" y="4808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049800" y="5049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338800" y="4465800"/>
              <a:ext cx="1028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608960" y="482112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062760" y="57229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068880" y="59641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529240" y="539280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596360" y="573552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757920" y="285588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415200" y="30780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415200" y="33066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980400" y="27417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215120" y="30780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757920" y="377028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415200" y="39924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415200" y="42210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215120" y="39924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757920" y="468468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415200" y="49068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415200" y="51354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215120" y="49068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757920" y="559908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415200" y="58212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415200" y="60498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215120" y="58212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6401880" y="273528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980400" y="36561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6401880" y="364968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980400" y="45705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6401880" y="456408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980400" y="54849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6401880" y="547848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504040" y="631980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6401880" y="639288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608960" y="631980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rry-lookahead implementation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rry-lookahead logic generates individual carri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ms computed much more quickly in parall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ever, cost of carry logic increases with more st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07B-FB63-4659-8596-9ABEEDCB2B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7" name=""/>
          <p:cNvGrpSpPr/>
          <p:nvPr/>
        </p:nvGrpSpPr>
        <p:grpSpPr>
          <a:xfrm>
            <a:off x="361800" y="2838240"/>
            <a:ext cx="8642520" cy="3657960"/>
            <a:chOff x="361800" y="2838240"/>
            <a:chExt cx="8642520" cy="3657960"/>
          </a:xfrm>
        </p:grpSpPr>
        <p:sp>
          <p:nvSpPr>
            <p:cNvPr id="1888" name=""/>
            <p:cNvSpPr/>
            <p:nvPr/>
          </p:nvSpPr>
          <p:spPr>
            <a:xfrm>
              <a:off x="3822840" y="5524560"/>
              <a:ext cx="1714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okahead Carry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8458200" y="539748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531200" y="513072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975440" y="5130720"/>
              <a:ext cx="419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4738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931000" y="5130720"/>
              <a:ext cx="342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403440" y="5130720"/>
              <a:ext cx="343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873600" y="5130720"/>
              <a:ext cx="355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320840" y="513072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739880" y="5130720"/>
              <a:ext cx="482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463840" y="514368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5720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566040" y="5130720"/>
              <a:ext cx="444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912080" y="5460840"/>
              <a:ext cx="4953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286680" y="5854680"/>
              <a:ext cx="520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730920" y="58546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51040" y="547380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128080" y="4635360"/>
              <a:ext cx="4190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670880" y="4635360"/>
              <a:ext cx="4824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743880" y="48006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045120" y="4635360"/>
              <a:ext cx="533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58792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699080" y="480060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000680" y="4635360"/>
              <a:ext cx="457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54348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641680" y="478800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955880" y="46227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498680" y="4635360"/>
              <a:ext cx="3808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57200" y="557532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97680" y="605808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527880" y="605808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394840" y="55753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69800" y="54100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51040" y="3301920"/>
              <a:ext cx="79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447920" y="330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324160" y="3467160"/>
              <a:ext cx="533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98400" y="4406760"/>
              <a:ext cx="7621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895480" y="3301920"/>
              <a:ext cx="66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632040" y="3301920"/>
              <a:ext cx="648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394160" y="34671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2641680" y="4406760"/>
              <a:ext cx="9525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940280" y="330192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753160" y="330192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438960" y="3467160"/>
              <a:ext cx="469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800600" y="4406760"/>
              <a:ext cx="7239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915080" y="4572000"/>
              <a:ext cx="495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844720" y="455940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851040" y="45720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023240" y="330192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797960" y="33019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8521560" y="3467160"/>
              <a:ext cx="330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946920" y="4406760"/>
              <a:ext cx="6094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508960" y="363204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035840" y="457200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2" name=""/>
            <p:cNvGrpSpPr/>
            <p:nvPr/>
          </p:nvGrpSpPr>
          <p:grpSpPr>
            <a:xfrm>
              <a:off x="7023240" y="2838240"/>
              <a:ext cx="1822320" cy="1612800"/>
              <a:chOff x="7023240" y="2838240"/>
              <a:chExt cx="1822320" cy="1612800"/>
            </a:xfrm>
          </p:grpSpPr>
          <p:sp>
            <p:nvSpPr>
              <p:cNvPr id="1943" name=""/>
              <p:cNvSpPr/>
              <p:nvPr/>
            </p:nvSpPr>
            <p:spPr>
              <a:xfrm flipV="1">
                <a:off x="71690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V="1">
                <a:off x="80834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71564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0358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9502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0232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6201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80517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0293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84009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flipV="1">
                <a:off x="72518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81662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7251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81662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7709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2896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4940280" y="2838240"/>
              <a:ext cx="1822320" cy="1612800"/>
              <a:chOff x="4940280" y="2838240"/>
              <a:chExt cx="1822320" cy="1612800"/>
            </a:xfrm>
          </p:grpSpPr>
          <p:sp>
            <p:nvSpPr>
              <p:cNvPr id="1960" name=""/>
              <p:cNvSpPr/>
              <p:nvPr/>
            </p:nvSpPr>
            <p:spPr>
              <a:xfrm flipV="1">
                <a:off x="50864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V="1">
                <a:off x="60008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5073480" y="4070520"/>
                <a:ext cx="19080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95288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86728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9402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553716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969160" y="3797280"/>
                <a:ext cx="2664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9467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318360" y="3645000"/>
                <a:ext cx="44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51688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60832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51688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6083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5626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52070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6" name=""/>
            <p:cNvGrpSpPr/>
            <p:nvPr/>
          </p:nvGrpSpPr>
          <p:grpSpPr>
            <a:xfrm>
              <a:off x="2895480" y="2838240"/>
              <a:ext cx="1822680" cy="1612800"/>
              <a:chOff x="2895480" y="2838240"/>
              <a:chExt cx="1822680" cy="1612800"/>
            </a:xfrm>
          </p:grpSpPr>
          <p:sp>
            <p:nvSpPr>
              <p:cNvPr id="1977" name=""/>
              <p:cNvSpPr/>
              <p:nvPr/>
            </p:nvSpPr>
            <p:spPr>
              <a:xfrm flipV="1">
                <a:off x="30416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39560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30290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9084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8228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954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492360" y="3797280"/>
                <a:ext cx="2415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9243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9019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2735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V="1">
                <a:off x="31240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40384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3124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40384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V="1">
                <a:off x="3581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1622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3" name=""/>
            <p:cNvGrpSpPr/>
            <p:nvPr/>
          </p:nvGrpSpPr>
          <p:grpSpPr>
            <a:xfrm>
              <a:off x="851040" y="2838240"/>
              <a:ext cx="1822320" cy="1612800"/>
              <a:chOff x="851040" y="2838240"/>
              <a:chExt cx="1822320" cy="1612800"/>
            </a:xfrm>
          </p:grpSpPr>
          <p:sp>
            <p:nvSpPr>
              <p:cNvPr id="1994" name=""/>
              <p:cNvSpPr/>
              <p:nvPr/>
            </p:nvSpPr>
            <p:spPr>
              <a:xfrm flipV="1">
                <a:off x="9968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19112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V="1">
                <a:off x="9842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8636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780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8510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4479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8795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8571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2287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V="1">
                <a:off x="10796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19940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10796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1994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1536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1174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0" name=""/>
            <p:cNvSpPr/>
            <p:nvPr/>
          </p:nvSpPr>
          <p:spPr>
            <a:xfrm>
              <a:off x="81662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709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083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6260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0384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581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994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5368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47372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678168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26798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57160" y="5137200"/>
              <a:ext cx="7543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40096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H="1">
              <a:off x="361800" y="558792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566040" y="6051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023240" y="6051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rry-lookahead ad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ith cascaded carry-lookahead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rry-lookahead add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four-bit adders with internal carry looka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level carry lookahead unit extends lookahead to 16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28" name=""/>
          <p:cNvGrpSpPr/>
          <p:nvPr/>
        </p:nvGrpSpPr>
        <p:grpSpPr>
          <a:xfrm>
            <a:off x="5490000" y="1563840"/>
            <a:ext cx="3595320" cy="2181240"/>
            <a:chOff x="5490000" y="1563840"/>
            <a:chExt cx="3595320" cy="2181240"/>
          </a:xfrm>
        </p:grpSpPr>
        <p:sp>
          <p:nvSpPr>
            <p:cNvPr id="2029" name=""/>
            <p:cNvSpPr/>
            <p:nvPr/>
          </p:nvSpPr>
          <p:spPr>
            <a:xfrm>
              <a:off x="5490000" y="1563840"/>
              <a:ext cx="3547080" cy="3070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G = G3 + P3 G2 + P3 P2 G1 + P3 P2 P1 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>
              <a:off x="8186760" y="1871640"/>
              <a:ext cx="898560" cy="187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1" name=""/>
          <p:cNvGrpSpPr/>
          <p:nvPr/>
        </p:nvGrpSpPr>
        <p:grpSpPr>
          <a:xfrm>
            <a:off x="6341760" y="1920960"/>
            <a:ext cx="1460880" cy="1838160"/>
            <a:chOff x="6341760" y="1920960"/>
            <a:chExt cx="1460880" cy="1838160"/>
          </a:xfrm>
        </p:grpSpPr>
        <p:sp>
          <p:nvSpPr>
            <p:cNvPr id="2032" name=""/>
            <p:cNvSpPr/>
            <p:nvPr/>
          </p:nvSpPr>
          <p:spPr>
            <a:xfrm>
              <a:off x="6341760" y="1920960"/>
              <a:ext cx="1460880" cy="3070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P = P3 P2 P1 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>
              <a:off x="7662960" y="2251080"/>
              <a:ext cx="131760" cy="150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6873840" y="5390640"/>
            <a:ext cx="2085840" cy="1101240"/>
            <a:chOff x="6873840" y="5390640"/>
            <a:chExt cx="2085840" cy="1101240"/>
          </a:xfrm>
        </p:grpSpPr>
        <p:sp>
          <p:nvSpPr>
            <p:cNvPr id="2035" name=""/>
            <p:cNvSpPr/>
            <p:nvPr/>
          </p:nvSpPr>
          <p:spPr>
            <a:xfrm>
              <a:off x="7474320" y="6184800"/>
              <a:ext cx="1485360" cy="3070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1 = G0 +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 flipV="1">
              <a:off x="6873840" y="5390640"/>
              <a:ext cx="581040" cy="79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7" name=""/>
          <p:cNvGrpSpPr/>
          <p:nvPr/>
        </p:nvGrpSpPr>
        <p:grpSpPr>
          <a:xfrm>
            <a:off x="3747240" y="5297400"/>
            <a:ext cx="2422440" cy="1270800"/>
            <a:chOff x="3747240" y="5297400"/>
            <a:chExt cx="2422440" cy="1270800"/>
          </a:xfrm>
        </p:grpSpPr>
        <p:sp>
          <p:nvSpPr>
            <p:cNvPr id="2038" name=""/>
            <p:cNvSpPr/>
            <p:nvPr/>
          </p:nvSpPr>
          <p:spPr>
            <a:xfrm>
              <a:off x="3747240" y="6261120"/>
              <a:ext cx="2422440" cy="3070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2 = G1 + P1 G0 + P1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V="1">
              <a:off x="4618080" y="5297400"/>
              <a:ext cx="100080" cy="95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A04-6FEA-489C-9178-9FC26541950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0" name=""/>
          <p:cNvGrpSpPr/>
          <p:nvPr/>
        </p:nvGrpSpPr>
        <p:grpSpPr>
          <a:xfrm>
            <a:off x="1689120" y="3273480"/>
            <a:ext cx="6089760" cy="3321000"/>
            <a:chOff x="1689120" y="3273480"/>
            <a:chExt cx="6089760" cy="3321000"/>
          </a:xfrm>
        </p:grpSpPr>
        <p:sp>
          <p:nvSpPr>
            <p:cNvPr id="2041" name=""/>
            <p:cNvSpPr/>
            <p:nvPr/>
          </p:nvSpPr>
          <p:spPr>
            <a:xfrm>
              <a:off x="5905440" y="543888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: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404120" y="540072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978440" y="543888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403440" y="334332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003640" y="338148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641680" y="3368520"/>
              <a:ext cx="35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003640" y="433368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666880" y="430848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689120" y="5451480"/>
              <a:ext cx="723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v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432320" y="538776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229280" y="538776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000680" y="538776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797280" y="538776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568680" y="538776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352680" y="538776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137040" y="538776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933640" y="538776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423040" y="4511520"/>
              <a:ext cx="5968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423040" y="3432240"/>
              <a:ext cx="5968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705040" y="538776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502000" y="538776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492880" y="533088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349880" y="533088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892680" y="533088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435480" y="533088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2978280" y="533088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521080" y="533088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572000" y="60166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114800" y="60166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715000" y="60166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172200" y="60166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629400" y="60166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086600" y="60166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657600" y="60166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200400" y="60166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743200" y="60166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4793760" y="566748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7308720" y="56674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978280" y="430200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314880" y="498780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772080" y="498780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229280" y="498780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686480" y="498780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4794120" y="463860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978280" y="327348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086280" y="395928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543480" y="395928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000680" y="395928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457880" y="395928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>
              <a:off x="4794120" y="3610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321000" y="4416480"/>
              <a:ext cx="1028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378240" y="4384440"/>
              <a:ext cx="977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857680" y="46450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629080" y="361620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2622600" y="361008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850840" y="4638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425680" y="628956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895480" y="628956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352680" y="627696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809880" y="628956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254480" y="628956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410080" y="628956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867280" y="628956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324480" y="627696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769080" y="628956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rry-select add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dundant hardware to make carry calculation go fast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e two high-order sums in parallel while waiting for carry-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assuming carry-in is 0 and another assuming carry-in is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 correct result once carry-in is finally compu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FE99-5D9A-4650-8500-D636E506EA5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"/>
          <p:cNvSpPr/>
          <p:nvPr/>
        </p:nvSpPr>
        <p:spPr>
          <a:xfrm>
            <a:off x="925560" y="6051600"/>
            <a:ext cx="7657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and arithmetic opera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all operations appear useful, but "fall out" of internal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19040" y="1863720"/>
            <a:ext cx="36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623960" y="1863720"/>
            <a:ext cx="3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2703600" y="186372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 = A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 = not A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 = Ai xor B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 = Ai xnor 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802040" y="18637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Ai transferred to 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 of Ai transferred to 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ute XOR of Ai, B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ute XNOR of Ai, 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351080" y="2130480"/>
            <a:ext cx="726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773280" y="1596960"/>
            <a:ext cx="285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 = 0, logical bitwise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73280" y="3193920"/>
            <a:ext cx="30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 = 1, C0 = 0, arithmetic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370160" y="3473280"/>
            <a:ext cx="25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712880" y="3473280"/>
            <a:ext cx="25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563920" y="3473280"/>
            <a:ext cx="1574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not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A plus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(not A) plus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840200" y="3473280"/>
            <a:ext cx="2946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A passed to 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 of A passed to 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 of A and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 of B and complement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760320" y="4606920"/>
            <a:ext cx="309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 = 1, C0 = 1, arithmetic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1370160" y="4886280"/>
            <a:ext cx="25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712880" y="4886280"/>
            <a:ext cx="25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2347920" y="4886280"/>
            <a:ext cx="210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A plu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(not A) plu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A plus B plu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(not A) plus B plus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865760" y="4886280"/>
            <a:ext cx="224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ement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s complement of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ement sum of A and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minu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metic logic unit design specific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360-CB71-483C-B9CA-F8CB56BA0D0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6" name=""/>
          <p:cNvGrpSpPr/>
          <p:nvPr/>
        </p:nvGrpSpPr>
        <p:grpSpPr>
          <a:xfrm>
            <a:off x="3968640" y="1397160"/>
            <a:ext cx="3403800" cy="5295600"/>
            <a:chOff x="3968640" y="1397160"/>
            <a:chExt cx="3403800" cy="5295600"/>
          </a:xfrm>
        </p:grpSpPr>
        <p:sp>
          <p:nvSpPr>
            <p:cNvPr id="2127" name=""/>
            <p:cNvSpPr/>
            <p:nvPr/>
          </p:nvSpPr>
          <p:spPr>
            <a:xfrm>
              <a:off x="4006800" y="1397160"/>
              <a:ext cx="228600" cy="37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362480" y="139716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768920" y="139716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200560" y="1397160"/>
              <a:ext cx="2923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607000" y="139716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013440" y="139716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546960" y="1397160"/>
              <a:ext cx="2667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762600" y="1397160"/>
              <a:ext cx="60984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+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968640" y="1542960"/>
              <a:ext cx="332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025880" y="3235320"/>
              <a:ext cx="332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013280" y="4896000"/>
              <a:ext cx="331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000680" y="6616800"/>
              <a:ext cx="32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407280" y="1434960"/>
              <a:ext cx="0" cy="5207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518080" y="1403280"/>
              <a:ext cx="0" cy="525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5133960" y="1409760"/>
              <a:ext cx="15840" cy="520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metic logic unit design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ample ALU – truth tabl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384-EFF7-4B62-A86E-CF72C25B9E9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"/>
          <p:cNvSpPr/>
          <p:nvPr/>
        </p:nvSpPr>
        <p:spPr>
          <a:xfrm>
            <a:off x="4092480" y="5038560"/>
            <a:ext cx="1117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5" name=""/>
          <p:cNvGrpSpPr/>
          <p:nvPr/>
        </p:nvGrpSpPr>
        <p:grpSpPr>
          <a:xfrm>
            <a:off x="138600" y="2473200"/>
            <a:ext cx="8894160" cy="2506680"/>
            <a:chOff x="138600" y="2473200"/>
            <a:chExt cx="8894160" cy="2506680"/>
          </a:xfrm>
        </p:grpSpPr>
        <p:sp>
          <p:nvSpPr>
            <p:cNvPr id="2146" name=""/>
            <p:cNvSpPr/>
            <p:nvPr/>
          </p:nvSpPr>
          <p:spPr>
            <a:xfrm>
              <a:off x="740160" y="2549520"/>
              <a:ext cx="20880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38600" y="2549520"/>
              <a:ext cx="14277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26800" y="2529000"/>
              <a:ext cx="13395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39800" y="2529000"/>
              <a:ext cx="2091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96760" y="26449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96760" y="283860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96760" y="33847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96760" y="3843360"/>
              <a:ext cx="4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88840" y="339408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125720" y="339552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25360" y="3375360"/>
              <a:ext cx="44100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04880" y="4294080"/>
              <a:ext cx="2440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04880" y="4276440"/>
              <a:ext cx="24408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79480" y="4389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79480" y="4583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43480" y="429408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44440" y="4294080"/>
              <a:ext cx="1428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98080" y="4276440"/>
              <a:ext cx="13748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43120" y="4276440"/>
              <a:ext cx="2120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259080" y="26971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259080" y="315612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3251160" y="268740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488040" y="270828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487680" y="268740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259080" y="32781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259080" y="37368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3251160" y="326988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488040" y="328932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487680" y="325116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259080" y="38433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259080" y="43196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251160" y="385128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488040" y="385452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87680" y="3835080"/>
              <a:ext cx="44100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543480" y="3306600"/>
              <a:ext cx="14248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613320" y="32875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158000" y="3287520"/>
              <a:ext cx="212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316400" y="3508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158360" y="330660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556320" y="262728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556320" y="3102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546960" y="263520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785280" y="263844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84920" y="261612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556320" y="320832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556320" y="3684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46960" y="3218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785280" y="321948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784920" y="3200760"/>
              <a:ext cx="44100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556320" y="378936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556320" y="42656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546960" y="379872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785280" y="3800520"/>
              <a:ext cx="4406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784920" y="377964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556320" y="437184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556320" y="48308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546960" y="4379760"/>
              <a:ext cx="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785280" y="438300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784920" y="436212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121880" y="353700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737840" y="3537000"/>
              <a:ext cx="12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121880" y="35161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737480" y="3516120"/>
              <a:ext cx="123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807320" y="363204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07320" y="38257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7799400" y="39398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799400" y="3357720"/>
              <a:ext cx="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3440" y="26449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68280" y="2473200"/>
              <a:ext cx="49356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03440" y="28386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362640" y="42130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891040" y="413064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566720" y="2749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735200" y="25560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362640" y="26798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068880" y="2629080"/>
              <a:ext cx="3891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065400" y="3895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805120" y="3844800"/>
              <a:ext cx="3873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03440" y="3419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09680" y="3336840"/>
              <a:ext cx="4744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03440" y="36133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03440" y="38084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362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891040" y="354816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065400" y="3595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611440" y="35132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065400" y="30146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611440" y="29322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566720" y="36133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735200" y="34196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03440" y="43894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09680" y="4275000"/>
              <a:ext cx="4744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03440" y="458316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362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891040" y="390528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362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891040" y="337032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065400" y="4282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611440" y="42321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065400" y="3402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611440" y="33195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673280" y="449568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822320" y="4300560"/>
              <a:ext cx="546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362640" y="3243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084720" y="319248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36264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068880" y="282240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06540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805120" y="403848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065400" y="28209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805120" y="273852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122720" y="3314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929040" y="29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114800" y="293544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92904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12272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92904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122720" y="3701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14800" y="3710160"/>
              <a:ext cx="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005440" y="3508200"/>
              <a:ext cx="15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154480" y="3314880"/>
              <a:ext cx="4762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362640" y="44067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923080" y="4340160"/>
              <a:ext cx="5112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362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916600" y="3759120"/>
              <a:ext cx="528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362640" y="3049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964120" y="298440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36264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818320" y="4486320"/>
              <a:ext cx="5810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362640" y="47941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477280" y="37368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645400" y="3543480"/>
              <a:ext cx="3873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613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22628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605720" y="2882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41996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22628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613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41996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410600" y="34466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22628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613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410600" y="383364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41996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613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22628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605720" y="402732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41996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metic logic unit design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ample ALU – multi-level discrete gate logic implem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87F-E692-480A-838F-B17543A6450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6" name=""/>
          <p:cNvGrpSpPr/>
          <p:nvPr/>
        </p:nvGrpSpPr>
        <p:grpSpPr>
          <a:xfrm>
            <a:off x="179280" y="1724760"/>
            <a:ext cx="3384360" cy="5021640"/>
            <a:chOff x="179280" y="1724760"/>
            <a:chExt cx="3384360" cy="5021640"/>
          </a:xfrm>
        </p:grpSpPr>
        <p:sp>
          <p:nvSpPr>
            <p:cNvPr id="2297" name=""/>
            <p:cNvSpPr/>
            <p:nvPr/>
          </p:nvSpPr>
          <p:spPr>
            <a:xfrm>
              <a:off x="96012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2848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34960" y="24033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21640" y="2625840"/>
              <a:ext cx="41940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3640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487520" y="2156400"/>
              <a:ext cx="3805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488960" y="2156400"/>
              <a:ext cx="4057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76040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59516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512720" y="227016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487520" y="1724760"/>
              <a:ext cx="380520" cy="12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488960" y="1812960"/>
              <a:ext cx="405720" cy="119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488960" y="2270160"/>
              <a:ext cx="4057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90340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50956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16040" y="24033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49084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51748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007720" y="3438360"/>
              <a:ext cx="3682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009520" y="3438360"/>
              <a:ext cx="3934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26836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10312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020680" y="3565440"/>
              <a:ext cx="35532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007720" y="3019680"/>
              <a:ext cx="36828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009520" y="3083040"/>
              <a:ext cx="393480" cy="12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009520" y="3565440"/>
              <a:ext cx="39348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184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983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04480" y="47401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79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06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29060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8715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77680" y="47401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52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79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919160" y="5445000"/>
              <a:ext cx="38052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920600" y="5445000"/>
              <a:ext cx="39348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19204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01456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944360" y="5559840"/>
              <a:ext cx="35532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919160" y="5000760"/>
              <a:ext cx="38052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920600" y="5090040"/>
              <a:ext cx="393480" cy="12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920600" y="5559840"/>
              <a:ext cx="39348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85720" y="564840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34600" y="5089680"/>
              <a:ext cx="40644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61960" y="5178240"/>
              <a:ext cx="380520" cy="12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61960" y="5648400"/>
              <a:ext cx="3805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3340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5556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3340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3340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20440" y="1971720"/>
              <a:ext cx="4064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5556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5556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63240" y="1971720"/>
              <a:ext cx="32004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84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176040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76040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59516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59516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265040" y="1971720"/>
              <a:ext cx="4572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0188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788920" y="1971720"/>
              <a:ext cx="3812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63664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63664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357280" y="198396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10312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671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903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96800" y="334296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665000" y="3349440"/>
              <a:ext cx="38160" cy="24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677960" y="3342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10312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90320" y="3349440"/>
              <a:ext cx="0" cy="12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67148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71296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706480" y="3184200"/>
              <a:ext cx="1260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26836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2544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71296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274840" y="33429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26836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5440" y="3184200"/>
              <a:ext cx="0" cy="13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31560" y="3178080"/>
              <a:ext cx="23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5556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014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014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07880" y="5616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192040" y="43146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19204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1635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192040" y="44924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198520" y="4555800"/>
              <a:ext cx="12600" cy="37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192040" y="4568400"/>
              <a:ext cx="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170000" y="456228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99828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44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01456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44480" y="318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50600" y="4308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979200" y="4302000"/>
              <a:ext cx="38160" cy="3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1004760" y="4308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760400" y="4314600"/>
              <a:ext cx="0" cy="111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766880" y="54385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998280" y="431460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103120" y="63082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103120" y="6473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79440" y="6416280"/>
              <a:ext cx="317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0872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3340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39520" y="56163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0872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44480" y="63846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69680" y="6416280"/>
              <a:ext cx="622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557360" y="254304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052360" y="3838320"/>
              <a:ext cx="304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976400" y="583236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79240" y="2568240"/>
              <a:ext cx="22860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1981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49120" y="4905000"/>
              <a:ext cx="97776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04800" y="5921280"/>
              <a:ext cx="3175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80188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8" name=""/>
          <p:cNvSpPr/>
          <p:nvPr/>
        </p:nvSpPr>
        <p:spPr>
          <a:xfrm>
            <a:off x="2654280" y="32004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2654280" y="36576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641680" y="5143680"/>
            <a:ext cx="412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551400" y="2054160"/>
            <a:ext cx="546552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-level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0 to complement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1 to block B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make B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Bi for operations with just A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pass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M to block C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make C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Ci for logical operation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pass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her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0 (logical operations, Ci is igno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S0 xor A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S1'S0' ( Ai ) + S1'S0 ( Ai' ) 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S1 S0' ( Ai Bi' + Ai' Bi ) + S1 S0 ( Ai' Bi' + Ai B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1 (arithmetic oper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 ( S0 xor Ai ) xor Ci )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i+1 = Ci (S0 xor Ai) + S1 Bi ( (S0 xor Ai) xor Ci ) =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a full adder with inputs S0 xor Ai, S1 Bi, and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ts val="1500"/>
              </a:lnSpc>
              <a:tabLst>
                <a:tab algn="l" pos="0"/>
                <a:tab algn="l" pos="45720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metic logic unit design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ample ALU – clever multi-level implem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AD2-A2A2-4BA5-9CCB-8293BB84C7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mmary for examples of combinationa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77120" cy="5127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binational logic design proces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alize problem: encodings, truth-table, equ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ose implementation technology (ROM, PAL, PLA, discrete gat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 by following the design procedure for that technolog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inary number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tive numbers the s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ce is in how negative numbers are represen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 complement easiest to handle: one representation for zero, slightly complicated complementation, simple add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ircuits for binary addi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ic half-adder and full-ad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ry lookahead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ry-sel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U Desig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ication, implem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57A-3D9D-4FB9-B3E1-881AF32097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0" y="4419720"/>
            <a:ext cx="342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3800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lementation as minimized sum-of-produc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15 unique product terms when minimized individuall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2286000"/>
            <a:ext cx="1676520" cy="1701720"/>
            <a:chOff x="380880" y="2286000"/>
            <a:chExt cx="1676520" cy="1701720"/>
          </a:xfrm>
        </p:grpSpPr>
        <p:sp>
          <p:nvSpPr>
            <p:cNvPr id="210" name=""/>
            <p:cNvSpPr/>
            <p:nvPr/>
          </p:nvSpPr>
          <p:spPr>
            <a:xfrm>
              <a:off x="685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18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8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54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44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8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14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09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14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9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39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880" y="3225600"/>
              <a:ext cx="230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23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18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8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4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09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23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057400" y="2286000"/>
            <a:ext cx="1676520" cy="1701720"/>
            <a:chOff x="2057400" y="2286000"/>
            <a:chExt cx="1676520" cy="1701720"/>
          </a:xfrm>
        </p:grpSpPr>
        <p:sp>
          <p:nvSpPr>
            <p:cNvPr id="230" name=""/>
            <p:cNvSpPr/>
            <p:nvPr/>
          </p:nvSpPr>
          <p:spPr>
            <a:xfrm>
              <a:off x="236232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9548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548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0532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3052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2104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9536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9092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28564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9092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8600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1612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7400" y="3225600"/>
              <a:ext cx="230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0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9548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9536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9092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28564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00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057400" y="4038480"/>
            <a:ext cx="1676520" cy="1701720"/>
            <a:chOff x="2057400" y="4038480"/>
            <a:chExt cx="1676520" cy="1701720"/>
          </a:xfrm>
        </p:grpSpPr>
        <p:sp>
          <p:nvSpPr>
            <p:cNvPr id="250" name=""/>
            <p:cNvSpPr/>
            <p:nvPr/>
          </p:nvSpPr>
          <p:spPr>
            <a:xfrm>
              <a:off x="236232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9548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0532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3052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2104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9536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9092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28564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092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8600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1612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978080"/>
              <a:ext cx="230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00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9548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9536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9092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28564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00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809880" y="2286000"/>
            <a:ext cx="1676520" cy="1701720"/>
            <a:chOff x="3809880" y="2286000"/>
            <a:chExt cx="1676520" cy="1701720"/>
          </a:xfrm>
        </p:grpSpPr>
        <p:sp>
          <p:nvSpPr>
            <p:cNvPr id="270" name=""/>
            <p:cNvSpPr/>
            <p:nvPr/>
          </p:nvSpPr>
          <p:spPr>
            <a:xfrm>
              <a:off x="4114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47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7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7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83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73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47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038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3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38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68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09880" y="3225600"/>
              <a:ext cx="230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52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47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47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43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038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52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562720" y="2286000"/>
            <a:ext cx="1675800" cy="1701720"/>
            <a:chOff x="5562720" y="2286000"/>
            <a:chExt cx="1675800" cy="1701720"/>
          </a:xfrm>
        </p:grpSpPr>
        <p:sp>
          <p:nvSpPr>
            <p:cNvPr id="290" name=""/>
            <p:cNvSpPr/>
            <p:nvPr/>
          </p:nvSpPr>
          <p:spPr>
            <a:xfrm>
              <a:off x="5867280" y="253980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00440" y="253980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0440" y="2539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1028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35480" y="299700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6000" y="228600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00320" y="253980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95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790960" y="2844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5880" y="375912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9096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21080" y="375912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62720" y="3225600"/>
              <a:ext cx="229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0536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00440" y="314964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00320" y="314964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5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5790960" y="3454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0536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238880" y="2286000"/>
            <a:ext cx="1676520" cy="1701720"/>
            <a:chOff x="7238880" y="2286000"/>
            <a:chExt cx="1676520" cy="1701720"/>
          </a:xfrm>
        </p:grpSpPr>
        <p:sp>
          <p:nvSpPr>
            <p:cNvPr id="310" name=""/>
            <p:cNvSpPr/>
            <p:nvPr/>
          </p:nvSpPr>
          <p:spPr>
            <a:xfrm>
              <a:off x="7543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76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76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686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12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02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76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72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467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72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67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97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38880" y="3225600"/>
              <a:ext cx="230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381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76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76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772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467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81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80880" y="4038480"/>
            <a:ext cx="1676520" cy="1701720"/>
            <a:chOff x="380880" y="4038480"/>
            <a:chExt cx="1676520" cy="1701720"/>
          </a:xfrm>
        </p:grpSpPr>
        <p:sp>
          <p:nvSpPr>
            <p:cNvPr id="330" name=""/>
            <p:cNvSpPr/>
            <p:nvPr/>
          </p:nvSpPr>
          <p:spPr>
            <a:xfrm>
              <a:off x="68580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896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896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2880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5400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4452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884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14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0912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1440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48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3960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0880" y="4978080"/>
              <a:ext cx="230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2388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1896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884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14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0912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388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4E4-47DA-4F39-9D57-9BEEFB78EC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724280" y="4889520"/>
            <a:ext cx="39117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B C' D + C D + B' D' + B C D' +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B' D + C' D' + C D + B'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' D + B C' D + C' D' + C D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 C' D + B' D +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B C' D + C' D' + A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B' C + B C' + B C D' +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4889520"/>
            <a:ext cx="28702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43000" y="3276720"/>
            <a:ext cx="660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6058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lementation as minimized S-o-P (cont'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n do bett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 unique product terms (instead of 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terms among out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output not necessarily in minimized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791320" y="3048120"/>
            <a:ext cx="1675800" cy="1701720"/>
            <a:chOff x="5791320" y="3048120"/>
            <a:chExt cx="1675800" cy="1701720"/>
          </a:xfrm>
        </p:grpSpPr>
        <p:sp>
          <p:nvSpPr>
            <p:cNvPr id="355" name=""/>
            <p:cNvSpPr/>
            <p:nvPr/>
          </p:nvSpPr>
          <p:spPr>
            <a:xfrm>
              <a:off x="6095880" y="330192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29040" y="330192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33019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3888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64080" y="375912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54600" y="304812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8920" y="330192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44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6019560" y="360684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24480" y="452124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956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49680" y="452124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91320" y="3987720"/>
              <a:ext cx="229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3396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29040" y="391176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28920" y="391176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3244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019560" y="42163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3396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6400800" y="365760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5880" y="396252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335268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00800" y="426708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10280" y="3657600"/>
            <a:ext cx="228600" cy="533520"/>
          </a:xfrm>
          <a:custGeom>
            <a:avLst/>
            <a:gdLst>
              <a:gd name="textAreaLeft" fmla="*/ 66960 w 228600"/>
              <a:gd name="textAreaRight" fmla="*/ 228960 w 2286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6019200" y="3657600"/>
            <a:ext cx="228600" cy="533520"/>
          </a:xfrm>
          <a:custGeom>
            <a:avLst/>
            <a:gdLst>
              <a:gd name="textAreaLeft" fmla="*/ 66600 w 228600"/>
              <a:gd name="textAreaRight" fmla="*/ 228600 w 2286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295280" y="3048120"/>
            <a:ext cx="1676520" cy="1701720"/>
            <a:chOff x="1295280" y="3048120"/>
            <a:chExt cx="1676520" cy="1701720"/>
          </a:xfrm>
        </p:grpSpPr>
        <p:sp>
          <p:nvSpPr>
            <p:cNvPr id="381" name=""/>
            <p:cNvSpPr/>
            <p:nvPr/>
          </p:nvSpPr>
          <p:spPr>
            <a:xfrm>
              <a:off x="1600200" y="330192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33360" y="330192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33360" y="33019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68400" y="375912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58920" y="304812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33240" y="330192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2880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523520" y="360684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28800" y="45212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2388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54000" y="452124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5280" y="3987720"/>
              <a:ext cx="230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382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33360" y="391176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33240" y="391176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2880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1523520" y="42163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382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854360" y="3352680"/>
            <a:ext cx="533160" cy="114300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90">
                <a:moveTo>
                  <a:pt x="3600" y="0"/>
                </a:moveTo>
                <a:arcTo wR="3600" hR="3600" stAng="16200000" swAng="-5400000"/>
                <a:lnTo>
                  <a:pt x="0" y="42690"/>
                </a:lnTo>
                <a:arcTo wR="3600" hR="3600" stAng="10800000" swAng="-5400000"/>
                <a:lnTo>
                  <a:pt x="18000" y="462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1854000" y="304776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854000" y="335268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38680" y="3276720"/>
            <a:ext cx="660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85A-31CE-4685-A505-700CD78848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1996920" y="1301760"/>
            <a:ext cx="6054840" cy="5137200"/>
            <a:chOff x="1996920" y="1301760"/>
            <a:chExt cx="6054840" cy="5137200"/>
          </a:xfrm>
        </p:grpSpPr>
        <p:sp>
          <p:nvSpPr>
            <p:cNvPr id="405" name=""/>
            <p:cNvSpPr/>
            <p:nvPr/>
          </p:nvSpPr>
          <p:spPr>
            <a:xfrm>
              <a:off x="6781680" y="2057400"/>
              <a:ext cx="127008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149640" y="203832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22560" y="196200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30600" y="196200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65360" y="203832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46320" y="196200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73400" y="203832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22520" y="31114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22520" y="3416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416400" y="3105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75160" y="31194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74800" y="3105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13120" y="32637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67120" y="32637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3079800" y="1860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65320" y="1860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2952360" y="1854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30560" y="197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86280" y="1733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22520" y="2006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22520" y="2311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416400" y="2000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75160" y="2014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74800" y="2000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13120" y="215892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67120" y="215892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22520" y="23749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22520" y="2679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416400" y="2368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75160" y="2382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74800" y="2368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13120" y="25272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67120" y="25272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22520" y="2743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22520" y="3048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416400" y="27367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75160" y="27511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74800" y="27367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13120" y="28954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67120" y="28954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787120" y="186048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73360" y="1860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660400" y="1854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38600" y="197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93960" y="1733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857680" y="2038320"/>
              <a:ext cx="0" cy="355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2495520" y="1860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81400" y="1860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368080" y="1854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46280" y="197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02000" y="1733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38280" y="196200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2203560" y="1860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89080" y="1860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076120" y="1854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54320" y="197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09680" y="1733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2520" y="34671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22520" y="3772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3416400" y="3460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75160" y="34750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74800" y="34606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013120" y="36194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67120" y="361944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22520" y="3822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2520" y="4127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416400" y="3816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75160" y="3830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74800" y="3816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013120" y="397512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67120" y="397512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22520" y="41781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2520" y="4483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3416400" y="4172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75160" y="41860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74800" y="4172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013120" y="43308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67120" y="43308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22520" y="4533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2520" y="4838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416400" y="452736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75160" y="4541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74800" y="452808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13120" y="46864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67120" y="468648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22520" y="48895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22520" y="5194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416400" y="4883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75160" y="4897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74800" y="4883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13120" y="50418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67120" y="504180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22520" y="5245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22520" y="5549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3416400" y="52387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75160" y="52531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74800" y="52387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13120" y="53974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67120" y="53974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114800" y="196200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968640" y="5036040"/>
              <a:ext cx="306360" cy="1065960"/>
              <a:chOff x="3968640" y="5036040"/>
              <a:chExt cx="306360" cy="1065960"/>
            </a:xfrm>
          </p:grpSpPr>
          <p:sp>
            <p:nvSpPr>
              <p:cNvPr id="506" name=""/>
              <p:cNvSpPr/>
              <p:nvPr/>
            </p:nvSpPr>
            <p:spPr>
              <a:xfrm>
                <a:off x="3994200" y="5442480"/>
                <a:ext cx="26640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968640" y="503604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83040" y="508680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83040" y="544248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114800" y="598788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4470480" y="196200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4324680" y="5036040"/>
              <a:ext cx="305280" cy="1065960"/>
              <a:chOff x="4324680" y="5036040"/>
              <a:chExt cx="305280" cy="1065960"/>
            </a:xfrm>
          </p:grpSpPr>
          <p:sp>
            <p:nvSpPr>
              <p:cNvPr id="513" name=""/>
              <p:cNvSpPr/>
              <p:nvPr/>
            </p:nvSpPr>
            <p:spPr>
              <a:xfrm>
                <a:off x="4349880" y="544248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324680" y="503604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38720" y="508680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38720" y="544248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470480" y="598788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4826160" y="196200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4680360" y="5036040"/>
              <a:ext cx="305280" cy="1065960"/>
              <a:chOff x="4680360" y="5036040"/>
              <a:chExt cx="305280" cy="1065960"/>
            </a:xfrm>
          </p:grpSpPr>
          <p:sp>
            <p:nvSpPr>
              <p:cNvPr id="520" name=""/>
              <p:cNvSpPr/>
              <p:nvPr/>
            </p:nvSpPr>
            <p:spPr>
              <a:xfrm>
                <a:off x="4705560" y="544248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80360" y="503604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94400" y="508680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94400" y="544248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826160" y="598788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5194440" y="196200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5048640" y="5036040"/>
              <a:ext cx="305280" cy="1065960"/>
              <a:chOff x="5048640" y="5036040"/>
              <a:chExt cx="305280" cy="1065960"/>
            </a:xfrm>
          </p:grpSpPr>
          <p:sp>
            <p:nvSpPr>
              <p:cNvPr id="527" name=""/>
              <p:cNvSpPr/>
              <p:nvPr/>
            </p:nvSpPr>
            <p:spPr>
              <a:xfrm>
                <a:off x="5073840" y="544248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48640" y="503604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62680" y="508680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62680" y="544248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194440" y="598788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5562720" y="196200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416920" y="5036040"/>
              <a:ext cx="305280" cy="1065960"/>
              <a:chOff x="5416920" y="5036040"/>
              <a:chExt cx="305280" cy="1065960"/>
            </a:xfrm>
          </p:grpSpPr>
          <p:sp>
            <p:nvSpPr>
              <p:cNvPr id="534" name=""/>
              <p:cNvSpPr/>
              <p:nvPr/>
            </p:nvSpPr>
            <p:spPr>
              <a:xfrm>
                <a:off x="5442120" y="544248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16920" y="503604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30960" y="508680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30960" y="544248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562720" y="598788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5918040" y="196200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771880" y="5036040"/>
              <a:ext cx="306360" cy="1065960"/>
              <a:chOff x="5771880" y="5036040"/>
              <a:chExt cx="306360" cy="1065960"/>
            </a:xfrm>
          </p:grpSpPr>
          <p:sp>
            <p:nvSpPr>
              <p:cNvPr id="541" name=""/>
              <p:cNvSpPr/>
              <p:nvPr/>
            </p:nvSpPr>
            <p:spPr>
              <a:xfrm>
                <a:off x="5797800" y="544248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771880" y="503604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86280" y="508680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86280" y="544248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918040" y="598788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6273720" y="196200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6127560" y="5036040"/>
              <a:ext cx="306360" cy="1065960"/>
              <a:chOff x="6127560" y="5036040"/>
              <a:chExt cx="306360" cy="1065960"/>
            </a:xfrm>
          </p:grpSpPr>
          <p:sp>
            <p:nvSpPr>
              <p:cNvPr id="548" name=""/>
              <p:cNvSpPr/>
              <p:nvPr/>
            </p:nvSpPr>
            <p:spPr>
              <a:xfrm>
                <a:off x="6153480" y="544248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127560" y="503604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41960" y="508680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41960" y="544248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273720" y="598788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6642000" y="196200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6495840" y="5036040"/>
              <a:ext cx="306360" cy="1065960"/>
              <a:chOff x="6495840" y="5036040"/>
              <a:chExt cx="306360" cy="1065960"/>
            </a:xfrm>
          </p:grpSpPr>
          <p:sp>
            <p:nvSpPr>
              <p:cNvPr id="555" name=""/>
              <p:cNvSpPr/>
              <p:nvPr/>
            </p:nvSpPr>
            <p:spPr>
              <a:xfrm>
                <a:off x="6521760" y="544248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95840" y="503604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510240" y="508680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10240" y="544248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642000" y="598788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1996920" y="1301760"/>
              <a:ext cx="1409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35440" y="5956200"/>
              <a:ext cx="3060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393840"/>
                  <a:tab algn="l" pos="800280"/>
                  <a:tab algn="l" pos="1193760"/>
                  <a:tab algn="l" pos="1600200"/>
                  <a:tab algn="l" pos="199404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  C1  C2  C3  C4  C5  C6  C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A implement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361960" y="2082960"/>
            <a:ext cx="574920" cy="152280"/>
            <a:chOff x="2361960" y="2082960"/>
            <a:chExt cx="574920" cy="152280"/>
          </a:xfrm>
        </p:grpSpPr>
        <p:grpSp>
          <p:nvGrpSpPr>
            <p:cNvPr id="564" name=""/>
            <p:cNvGrpSpPr/>
            <p:nvPr/>
          </p:nvGrpSpPr>
          <p:grpSpPr>
            <a:xfrm>
              <a:off x="2361960" y="2082960"/>
              <a:ext cx="152640" cy="152280"/>
              <a:chOff x="2361960" y="2082960"/>
              <a:chExt cx="152640" cy="152280"/>
            </a:xfrm>
          </p:grpSpPr>
          <p:sp>
            <p:nvSpPr>
              <p:cNvPr id="565" name=""/>
              <p:cNvSpPr/>
              <p:nvPr/>
            </p:nvSpPr>
            <p:spPr>
              <a:xfrm>
                <a:off x="2362320" y="20829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2361960" y="20829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2784240" y="2082960"/>
              <a:ext cx="152640" cy="152280"/>
              <a:chOff x="2784240" y="2082960"/>
              <a:chExt cx="152640" cy="152280"/>
            </a:xfrm>
          </p:grpSpPr>
          <p:sp>
            <p:nvSpPr>
              <p:cNvPr id="568" name=""/>
              <p:cNvSpPr/>
              <p:nvPr/>
            </p:nvSpPr>
            <p:spPr>
              <a:xfrm>
                <a:off x="2784600" y="20829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2784240" y="20829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0" name=""/>
          <p:cNvGrpSpPr/>
          <p:nvPr/>
        </p:nvGrpSpPr>
        <p:grpSpPr>
          <a:xfrm>
            <a:off x="2488680" y="2444760"/>
            <a:ext cx="324360" cy="152280"/>
            <a:chOff x="2488680" y="2444760"/>
            <a:chExt cx="324360" cy="152280"/>
          </a:xfrm>
        </p:grpSpPr>
        <p:grpSp>
          <p:nvGrpSpPr>
            <p:cNvPr id="571" name=""/>
            <p:cNvGrpSpPr/>
            <p:nvPr/>
          </p:nvGrpSpPr>
          <p:grpSpPr>
            <a:xfrm>
              <a:off x="2660400" y="2444760"/>
              <a:ext cx="152640" cy="152280"/>
              <a:chOff x="2660400" y="2444760"/>
              <a:chExt cx="15264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2660760" y="2444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2660400" y="2444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2488680" y="2444760"/>
              <a:ext cx="152640" cy="152280"/>
              <a:chOff x="2488680" y="2444760"/>
              <a:chExt cx="152640" cy="152280"/>
            </a:xfrm>
          </p:grpSpPr>
          <p:sp>
            <p:nvSpPr>
              <p:cNvPr id="575" name=""/>
              <p:cNvSpPr/>
              <p:nvPr/>
            </p:nvSpPr>
            <p:spPr>
              <a:xfrm>
                <a:off x="2489040" y="2444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2488680" y="2444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7" name=""/>
          <p:cNvGrpSpPr/>
          <p:nvPr/>
        </p:nvGrpSpPr>
        <p:grpSpPr>
          <a:xfrm>
            <a:off x="2488680" y="2816280"/>
            <a:ext cx="609840" cy="152280"/>
            <a:chOff x="2488680" y="2816280"/>
            <a:chExt cx="609840" cy="152280"/>
          </a:xfrm>
        </p:grpSpPr>
        <p:grpSp>
          <p:nvGrpSpPr>
            <p:cNvPr id="578" name=""/>
            <p:cNvGrpSpPr/>
            <p:nvPr/>
          </p:nvGrpSpPr>
          <p:grpSpPr>
            <a:xfrm>
              <a:off x="2945880" y="2816280"/>
              <a:ext cx="152640" cy="152280"/>
              <a:chOff x="2945880" y="2816280"/>
              <a:chExt cx="152640" cy="152280"/>
            </a:xfrm>
          </p:grpSpPr>
          <p:sp>
            <p:nvSpPr>
              <p:cNvPr id="579" name=""/>
              <p:cNvSpPr/>
              <p:nvPr/>
            </p:nvSpPr>
            <p:spPr>
              <a:xfrm>
                <a:off x="2946240" y="2816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945880" y="2816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488680" y="2816280"/>
              <a:ext cx="152640" cy="152280"/>
              <a:chOff x="2488680" y="2816280"/>
              <a:chExt cx="152640" cy="152280"/>
            </a:xfrm>
          </p:grpSpPr>
          <p:sp>
            <p:nvSpPr>
              <p:cNvPr id="582" name=""/>
              <p:cNvSpPr/>
              <p:nvPr/>
            </p:nvSpPr>
            <p:spPr>
              <a:xfrm>
                <a:off x="2489040" y="2816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488680" y="2816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2364840" y="3187800"/>
            <a:ext cx="733680" cy="152280"/>
            <a:chOff x="2364840" y="3187800"/>
            <a:chExt cx="733680" cy="152280"/>
          </a:xfrm>
        </p:grpSpPr>
        <p:grpSp>
          <p:nvGrpSpPr>
            <p:cNvPr id="585" name=""/>
            <p:cNvGrpSpPr/>
            <p:nvPr/>
          </p:nvGrpSpPr>
          <p:grpSpPr>
            <a:xfrm>
              <a:off x="2364840" y="3187800"/>
              <a:ext cx="152640" cy="152280"/>
              <a:chOff x="2364840" y="3187800"/>
              <a:chExt cx="152640" cy="152280"/>
            </a:xfrm>
          </p:grpSpPr>
          <p:sp>
            <p:nvSpPr>
              <p:cNvPr id="586" name=""/>
              <p:cNvSpPr/>
              <p:nvPr/>
            </p:nvSpPr>
            <p:spPr>
              <a:xfrm>
                <a:off x="2365200" y="3187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364840" y="3187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784240" y="3187800"/>
              <a:ext cx="152640" cy="152280"/>
              <a:chOff x="2784240" y="3187800"/>
              <a:chExt cx="152640" cy="152280"/>
            </a:xfrm>
          </p:grpSpPr>
          <p:sp>
            <p:nvSpPr>
              <p:cNvPr id="589" name=""/>
              <p:cNvSpPr/>
              <p:nvPr/>
            </p:nvSpPr>
            <p:spPr>
              <a:xfrm>
                <a:off x="2784600" y="3187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2784240" y="3187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945880" y="3187800"/>
              <a:ext cx="152640" cy="152280"/>
              <a:chOff x="2945880" y="3187800"/>
              <a:chExt cx="152640" cy="152280"/>
            </a:xfrm>
          </p:grpSpPr>
          <p:sp>
            <p:nvSpPr>
              <p:cNvPr id="592" name=""/>
              <p:cNvSpPr/>
              <p:nvPr/>
            </p:nvSpPr>
            <p:spPr>
              <a:xfrm>
                <a:off x="2946240" y="3187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2945880" y="3187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"/>
          <p:cNvGrpSpPr/>
          <p:nvPr/>
        </p:nvGrpSpPr>
        <p:grpSpPr>
          <a:xfrm>
            <a:off x="2069640" y="3540240"/>
            <a:ext cx="1162440" cy="1571400"/>
            <a:chOff x="2069640" y="3540240"/>
            <a:chExt cx="1162440" cy="1571400"/>
          </a:xfrm>
        </p:grpSpPr>
        <p:grpSp>
          <p:nvGrpSpPr>
            <p:cNvPr id="595" name=""/>
            <p:cNvGrpSpPr/>
            <p:nvPr/>
          </p:nvGrpSpPr>
          <p:grpSpPr>
            <a:xfrm>
              <a:off x="2784240" y="3540240"/>
              <a:ext cx="152640" cy="152280"/>
              <a:chOff x="2784240" y="3540240"/>
              <a:chExt cx="152640" cy="152280"/>
            </a:xfrm>
          </p:grpSpPr>
          <p:sp>
            <p:nvSpPr>
              <p:cNvPr id="596" name=""/>
              <p:cNvSpPr/>
              <p:nvPr/>
            </p:nvSpPr>
            <p:spPr>
              <a:xfrm>
                <a:off x="2784600" y="3540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2784240" y="3540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3079440" y="3540240"/>
              <a:ext cx="152640" cy="152280"/>
              <a:chOff x="3079440" y="3540240"/>
              <a:chExt cx="152640" cy="152280"/>
            </a:xfrm>
          </p:grpSpPr>
          <p:sp>
            <p:nvSpPr>
              <p:cNvPr id="599" name=""/>
              <p:cNvSpPr/>
              <p:nvPr/>
            </p:nvSpPr>
            <p:spPr>
              <a:xfrm>
                <a:off x="3079800" y="3540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3079440" y="3540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2945880" y="3892680"/>
              <a:ext cx="152640" cy="152280"/>
              <a:chOff x="2945880" y="3892680"/>
              <a:chExt cx="152640" cy="152280"/>
            </a:xfrm>
          </p:grpSpPr>
          <p:sp>
            <p:nvSpPr>
              <p:cNvPr id="602" name=""/>
              <p:cNvSpPr/>
              <p:nvPr/>
            </p:nvSpPr>
            <p:spPr>
              <a:xfrm>
                <a:off x="2946240" y="3892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2945880" y="3892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2660400" y="3892680"/>
              <a:ext cx="152640" cy="152280"/>
              <a:chOff x="2660400" y="3892680"/>
              <a:chExt cx="152640" cy="152280"/>
            </a:xfrm>
          </p:grpSpPr>
          <p:sp>
            <p:nvSpPr>
              <p:cNvPr id="605" name=""/>
              <p:cNvSpPr/>
              <p:nvPr/>
            </p:nvSpPr>
            <p:spPr>
              <a:xfrm>
                <a:off x="2660760" y="3892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660400" y="3892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2488680" y="4254480"/>
              <a:ext cx="152640" cy="152280"/>
              <a:chOff x="2488680" y="4254480"/>
              <a:chExt cx="152640" cy="152280"/>
            </a:xfrm>
          </p:grpSpPr>
          <p:sp>
            <p:nvSpPr>
              <p:cNvPr id="608" name=""/>
              <p:cNvSpPr/>
              <p:nvPr/>
            </p:nvSpPr>
            <p:spPr>
              <a:xfrm>
                <a:off x="2489040" y="4254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2488680" y="4254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3079440" y="4254480"/>
              <a:ext cx="152640" cy="152280"/>
              <a:chOff x="3079440" y="4254480"/>
              <a:chExt cx="152640" cy="152280"/>
            </a:xfrm>
          </p:grpSpPr>
          <p:sp>
            <p:nvSpPr>
              <p:cNvPr id="611" name=""/>
              <p:cNvSpPr/>
              <p:nvPr/>
            </p:nvSpPr>
            <p:spPr>
              <a:xfrm>
                <a:off x="3079800" y="4254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3079440" y="4254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2069640" y="4606920"/>
              <a:ext cx="152640" cy="152280"/>
              <a:chOff x="2069640" y="4606920"/>
              <a:chExt cx="152640" cy="152280"/>
            </a:xfrm>
          </p:grpSpPr>
          <p:sp>
            <p:nvSpPr>
              <p:cNvPr id="614" name=""/>
              <p:cNvSpPr/>
              <p:nvPr/>
            </p:nvSpPr>
            <p:spPr>
              <a:xfrm>
                <a:off x="2070000" y="46069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2069640" y="46069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2364840" y="4959360"/>
              <a:ext cx="152640" cy="152280"/>
              <a:chOff x="2364840" y="4959360"/>
              <a:chExt cx="152640" cy="152280"/>
            </a:xfrm>
          </p:grpSpPr>
          <p:sp>
            <p:nvSpPr>
              <p:cNvPr id="617" name=""/>
              <p:cNvSpPr/>
              <p:nvPr/>
            </p:nvSpPr>
            <p:spPr>
              <a:xfrm>
                <a:off x="236520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236484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2660400" y="4959360"/>
              <a:ext cx="152640" cy="152280"/>
              <a:chOff x="2660400" y="4959360"/>
              <a:chExt cx="152640" cy="152280"/>
            </a:xfrm>
          </p:grpSpPr>
          <p:sp>
            <p:nvSpPr>
              <p:cNvPr id="620" name=""/>
              <p:cNvSpPr/>
              <p:nvPr/>
            </p:nvSpPr>
            <p:spPr>
              <a:xfrm>
                <a:off x="266076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266040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3079440" y="4959360"/>
              <a:ext cx="152640" cy="152280"/>
              <a:chOff x="3079440" y="4959360"/>
              <a:chExt cx="152640" cy="152280"/>
            </a:xfrm>
          </p:grpSpPr>
          <p:sp>
            <p:nvSpPr>
              <p:cNvPr id="623" name=""/>
              <p:cNvSpPr/>
              <p:nvPr/>
            </p:nvSpPr>
            <p:spPr>
              <a:xfrm>
                <a:off x="307980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307944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5" name=""/>
          <p:cNvGrpSpPr/>
          <p:nvPr/>
        </p:nvGrpSpPr>
        <p:grpSpPr>
          <a:xfrm>
            <a:off x="4041360" y="3187800"/>
            <a:ext cx="152640" cy="1923840"/>
            <a:chOff x="4041360" y="3187800"/>
            <a:chExt cx="152640" cy="1923840"/>
          </a:xfrm>
        </p:grpSpPr>
        <p:grpSp>
          <p:nvGrpSpPr>
            <p:cNvPr id="626" name=""/>
            <p:cNvGrpSpPr/>
            <p:nvPr/>
          </p:nvGrpSpPr>
          <p:grpSpPr>
            <a:xfrm>
              <a:off x="4041360" y="3187800"/>
              <a:ext cx="152640" cy="152280"/>
              <a:chOff x="4041360" y="3187800"/>
              <a:chExt cx="152640" cy="152280"/>
            </a:xfrm>
          </p:grpSpPr>
          <p:sp>
            <p:nvSpPr>
              <p:cNvPr id="627" name=""/>
              <p:cNvSpPr/>
              <p:nvPr/>
            </p:nvSpPr>
            <p:spPr>
              <a:xfrm>
                <a:off x="4041720" y="3187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4041360" y="3187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4041360" y="3892680"/>
              <a:ext cx="152640" cy="152280"/>
              <a:chOff x="4041360" y="3892680"/>
              <a:chExt cx="152640" cy="152280"/>
            </a:xfrm>
          </p:grpSpPr>
          <p:sp>
            <p:nvSpPr>
              <p:cNvPr id="630" name=""/>
              <p:cNvSpPr/>
              <p:nvPr/>
            </p:nvSpPr>
            <p:spPr>
              <a:xfrm>
                <a:off x="4041720" y="3892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041360" y="3892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4041360" y="4254480"/>
              <a:ext cx="152640" cy="152280"/>
              <a:chOff x="4041360" y="4254480"/>
              <a:chExt cx="152640" cy="152280"/>
            </a:xfrm>
          </p:grpSpPr>
          <p:sp>
            <p:nvSpPr>
              <p:cNvPr id="633" name=""/>
              <p:cNvSpPr/>
              <p:nvPr/>
            </p:nvSpPr>
            <p:spPr>
              <a:xfrm>
                <a:off x="4041720" y="4254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4041360" y="4254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4041360" y="4959360"/>
              <a:ext cx="152640" cy="152280"/>
              <a:chOff x="4041360" y="4959360"/>
              <a:chExt cx="152640" cy="152280"/>
            </a:xfrm>
          </p:grpSpPr>
          <p:sp>
            <p:nvSpPr>
              <p:cNvPr id="636" name=""/>
              <p:cNvSpPr/>
              <p:nvPr/>
            </p:nvSpPr>
            <p:spPr>
              <a:xfrm>
                <a:off x="404172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404136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8" name=""/>
          <p:cNvGrpSpPr/>
          <p:nvPr/>
        </p:nvGrpSpPr>
        <p:grpSpPr>
          <a:xfrm>
            <a:off x="4393800" y="2816280"/>
            <a:ext cx="152640" cy="1590480"/>
            <a:chOff x="4393800" y="2816280"/>
            <a:chExt cx="152640" cy="1590480"/>
          </a:xfrm>
        </p:grpSpPr>
        <p:grpSp>
          <p:nvGrpSpPr>
            <p:cNvPr id="639" name=""/>
            <p:cNvGrpSpPr/>
            <p:nvPr/>
          </p:nvGrpSpPr>
          <p:grpSpPr>
            <a:xfrm>
              <a:off x="4393800" y="2816280"/>
              <a:ext cx="152640" cy="152280"/>
              <a:chOff x="4393800" y="2816280"/>
              <a:chExt cx="152640" cy="152280"/>
            </a:xfrm>
          </p:grpSpPr>
          <p:sp>
            <p:nvSpPr>
              <p:cNvPr id="640" name=""/>
              <p:cNvSpPr/>
              <p:nvPr/>
            </p:nvSpPr>
            <p:spPr>
              <a:xfrm>
                <a:off x="4394160" y="2816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4393800" y="2816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393800" y="3540240"/>
              <a:ext cx="152640" cy="152280"/>
              <a:chOff x="4393800" y="3540240"/>
              <a:chExt cx="152640" cy="152280"/>
            </a:xfrm>
          </p:grpSpPr>
          <p:sp>
            <p:nvSpPr>
              <p:cNvPr id="643" name=""/>
              <p:cNvSpPr/>
              <p:nvPr/>
            </p:nvSpPr>
            <p:spPr>
              <a:xfrm>
                <a:off x="4394160" y="3540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4393800" y="3540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4393800" y="3892680"/>
              <a:ext cx="152640" cy="152280"/>
              <a:chOff x="4393800" y="3892680"/>
              <a:chExt cx="152640" cy="152280"/>
            </a:xfrm>
          </p:grpSpPr>
          <p:sp>
            <p:nvSpPr>
              <p:cNvPr id="646" name=""/>
              <p:cNvSpPr/>
              <p:nvPr/>
            </p:nvSpPr>
            <p:spPr>
              <a:xfrm>
                <a:off x="4394160" y="3892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4393800" y="3892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4393800" y="4254480"/>
              <a:ext cx="152640" cy="152280"/>
              <a:chOff x="4393800" y="4254480"/>
              <a:chExt cx="152640" cy="152280"/>
            </a:xfrm>
          </p:grpSpPr>
          <p:sp>
            <p:nvSpPr>
              <p:cNvPr id="649" name=""/>
              <p:cNvSpPr/>
              <p:nvPr/>
            </p:nvSpPr>
            <p:spPr>
              <a:xfrm>
                <a:off x="4394160" y="4254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4393800" y="4254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1" name=""/>
          <p:cNvGrpSpPr/>
          <p:nvPr/>
        </p:nvGrpSpPr>
        <p:grpSpPr>
          <a:xfrm>
            <a:off x="4755960" y="2816280"/>
            <a:ext cx="152640" cy="2295360"/>
            <a:chOff x="4755960" y="2816280"/>
            <a:chExt cx="152640" cy="2295360"/>
          </a:xfrm>
        </p:grpSpPr>
        <p:grpSp>
          <p:nvGrpSpPr>
            <p:cNvPr id="652" name=""/>
            <p:cNvGrpSpPr/>
            <p:nvPr/>
          </p:nvGrpSpPr>
          <p:grpSpPr>
            <a:xfrm>
              <a:off x="4755960" y="2816280"/>
              <a:ext cx="152640" cy="152280"/>
              <a:chOff x="4755960" y="2816280"/>
              <a:chExt cx="152640" cy="152280"/>
            </a:xfrm>
          </p:grpSpPr>
          <p:sp>
            <p:nvSpPr>
              <p:cNvPr id="653" name=""/>
              <p:cNvSpPr/>
              <p:nvPr/>
            </p:nvSpPr>
            <p:spPr>
              <a:xfrm>
                <a:off x="4756320" y="2816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4755960" y="2816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4755960" y="3187800"/>
              <a:ext cx="152640" cy="152280"/>
              <a:chOff x="4755960" y="3187800"/>
              <a:chExt cx="152640" cy="152280"/>
            </a:xfrm>
          </p:grpSpPr>
          <p:sp>
            <p:nvSpPr>
              <p:cNvPr id="656" name=""/>
              <p:cNvSpPr/>
              <p:nvPr/>
            </p:nvSpPr>
            <p:spPr>
              <a:xfrm>
                <a:off x="4756320" y="3187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4755960" y="3187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4755960" y="3540240"/>
              <a:ext cx="152640" cy="152280"/>
              <a:chOff x="4755960" y="3540240"/>
              <a:chExt cx="152640" cy="152280"/>
            </a:xfrm>
          </p:grpSpPr>
          <p:sp>
            <p:nvSpPr>
              <p:cNvPr id="659" name=""/>
              <p:cNvSpPr/>
              <p:nvPr/>
            </p:nvSpPr>
            <p:spPr>
              <a:xfrm>
                <a:off x="4756320" y="3540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4755960" y="3540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4755960" y="3892680"/>
              <a:ext cx="152640" cy="152280"/>
              <a:chOff x="4755960" y="3892680"/>
              <a:chExt cx="152640" cy="152280"/>
            </a:xfrm>
          </p:grpSpPr>
          <p:sp>
            <p:nvSpPr>
              <p:cNvPr id="662" name=""/>
              <p:cNvSpPr/>
              <p:nvPr/>
            </p:nvSpPr>
            <p:spPr>
              <a:xfrm>
                <a:off x="4756320" y="3892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4755960" y="3892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4755960" y="4959360"/>
              <a:ext cx="152640" cy="152280"/>
              <a:chOff x="4755960" y="4959360"/>
              <a:chExt cx="152640" cy="152280"/>
            </a:xfrm>
          </p:grpSpPr>
          <p:sp>
            <p:nvSpPr>
              <p:cNvPr id="665" name=""/>
              <p:cNvSpPr/>
              <p:nvPr/>
            </p:nvSpPr>
            <p:spPr>
              <a:xfrm>
                <a:off x="475632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475596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"/>
          <p:cNvGrpSpPr/>
          <p:nvPr/>
        </p:nvGrpSpPr>
        <p:grpSpPr>
          <a:xfrm>
            <a:off x="5117760" y="2082960"/>
            <a:ext cx="1238400" cy="3028680"/>
            <a:chOff x="5117760" y="2082960"/>
            <a:chExt cx="1238400" cy="3028680"/>
          </a:xfrm>
        </p:grpSpPr>
        <p:grpSp>
          <p:nvGrpSpPr>
            <p:cNvPr id="668" name=""/>
            <p:cNvGrpSpPr/>
            <p:nvPr/>
          </p:nvGrpSpPr>
          <p:grpSpPr>
            <a:xfrm>
              <a:off x="5117760" y="3187800"/>
              <a:ext cx="152640" cy="152280"/>
              <a:chOff x="5117760" y="3187800"/>
              <a:chExt cx="152640" cy="152280"/>
            </a:xfrm>
          </p:grpSpPr>
          <p:sp>
            <p:nvSpPr>
              <p:cNvPr id="669" name=""/>
              <p:cNvSpPr/>
              <p:nvPr/>
            </p:nvSpPr>
            <p:spPr>
              <a:xfrm>
                <a:off x="5118120" y="3187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5117760" y="3187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5117760" y="2816280"/>
              <a:ext cx="152640" cy="152280"/>
              <a:chOff x="5117760" y="2816280"/>
              <a:chExt cx="152640" cy="152280"/>
            </a:xfrm>
          </p:grpSpPr>
          <p:sp>
            <p:nvSpPr>
              <p:cNvPr id="672" name=""/>
              <p:cNvSpPr/>
              <p:nvPr/>
            </p:nvSpPr>
            <p:spPr>
              <a:xfrm>
                <a:off x="5118120" y="2816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5117760" y="2816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5117760" y="4254480"/>
              <a:ext cx="152640" cy="152280"/>
              <a:chOff x="5117760" y="4254480"/>
              <a:chExt cx="152640" cy="152280"/>
            </a:xfrm>
          </p:grpSpPr>
          <p:sp>
            <p:nvSpPr>
              <p:cNvPr id="675" name=""/>
              <p:cNvSpPr/>
              <p:nvPr/>
            </p:nvSpPr>
            <p:spPr>
              <a:xfrm>
                <a:off x="5118120" y="4254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5117760" y="4254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5117760" y="4959360"/>
              <a:ext cx="152640" cy="152280"/>
              <a:chOff x="5117760" y="4959360"/>
              <a:chExt cx="152640" cy="152280"/>
            </a:xfrm>
          </p:grpSpPr>
          <p:sp>
            <p:nvSpPr>
              <p:cNvPr id="678" name=""/>
              <p:cNvSpPr/>
              <p:nvPr/>
            </p:nvSpPr>
            <p:spPr>
              <a:xfrm>
                <a:off x="511812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511776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5489280" y="4254480"/>
              <a:ext cx="152640" cy="152280"/>
              <a:chOff x="5489280" y="4254480"/>
              <a:chExt cx="152640" cy="152280"/>
            </a:xfrm>
          </p:grpSpPr>
          <p:sp>
            <p:nvSpPr>
              <p:cNvPr id="681" name=""/>
              <p:cNvSpPr/>
              <p:nvPr/>
            </p:nvSpPr>
            <p:spPr>
              <a:xfrm>
                <a:off x="5489640" y="4254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5489280" y="4254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5489280" y="4959360"/>
              <a:ext cx="152640" cy="152280"/>
              <a:chOff x="5489280" y="4959360"/>
              <a:chExt cx="152640" cy="152280"/>
            </a:xfrm>
          </p:grpSpPr>
          <p:sp>
            <p:nvSpPr>
              <p:cNvPr id="684" name=""/>
              <p:cNvSpPr/>
              <p:nvPr/>
            </p:nvSpPr>
            <p:spPr>
              <a:xfrm>
                <a:off x="548964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548928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5841720" y="4959360"/>
              <a:ext cx="152640" cy="152280"/>
              <a:chOff x="5841720" y="4959360"/>
              <a:chExt cx="152640" cy="152280"/>
            </a:xfrm>
          </p:grpSpPr>
          <p:sp>
            <p:nvSpPr>
              <p:cNvPr id="687" name=""/>
              <p:cNvSpPr/>
              <p:nvPr/>
            </p:nvSpPr>
            <p:spPr>
              <a:xfrm>
                <a:off x="584208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84172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5841720" y="3187800"/>
              <a:ext cx="152640" cy="152280"/>
              <a:chOff x="5841720" y="3187800"/>
              <a:chExt cx="152640" cy="152280"/>
            </a:xfrm>
          </p:grpSpPr>
          <p:sp>
            <p:nvSpPr>
              <p:cNvPr id="690" name=""/>
              <p:cNvSpPr/>
              <p:nvPr/>
            </p:nvSpPr>
            <p:spPr>
              <a:xfrm>
                <a:off x="5842080" y="3187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5841720" y="3187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841720" y="3540240"/>
              <a:ext cx="152640" cy="152280"/>
              <a:chOff x="5841720" y="3540240"/>
              <a:chExt cx="152640" cy="152280"/>
            </a:xfrm>
          </p:grpSpPr>
          <p:sp>
            <p:nvSpPr>
              <p:cNvPr id="693" name=""/>
              <p:cNvSpPr/>
              <p:nvPr/>
            </p:nvSpPr>
            <p:spPr>
              <a:xfrm>
                <a:off x="5842080" y="3540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5841720" y="3540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5841720" y="4606920"/>
              <a:ext cx="152640" cy="152280"/>
              <a:chOff x="5841720" y="4606920"/>
              <a:chExt cx="152640" cy="152280"/>
            </a:xfrm>
          </p:grpSpPr>
          <p:sp>
            <p:nvSpPr>
              <p:cNvPr id="696" name=""/>
              <p:cNvSpPr/>
              <p:nvPr/>
            </p:nvSpPr>
            <p:spPr>
              <a:xfrm>
                <a:off x="5842080" y="46069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5841720" y="46069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6203520" y="2444760"/>
              <a:ext cx="152640" cy="152280"/>
              <a:chOff x="6203520" y="2444760"/>
              <a:chExt cx="152640" cy="152280"/>
            </a:xfrm>
          </p:grpSpPr>
          <p:sp>
            <p:nvSpPr>
              <p:cNvPr id="699" name=""/>
              <p:cNvSpPr/>
              <p:nvPr/>
            </p:nvSpPr>
            <p:spPr>
              <a:xfrm>
                <a:off x="6203880" y="2444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6203520" y="2444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6203520" y="2082960"/>
              <a:ext cx="152640" cy="152280"/>
              <a:chOff x="6203520" y="2082960"/>
              <a:chExt cx="152640" cy="152280"/>
            </a:xfrm>
          </p:grpSpPr>
          <p:sp>
            <p:nvSpPr>
              <p:cNvPr id="702" name=""/>
              <p:cNvSpPr/>
              <p:nvPr/>
            </p:nvSpPr>
            <p:spPr>
              <a:xfrm>
                <a:off x="6203880" y="20829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6203520" y="20829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6203520" y="4959360"/>
              <a:ext cx="152640" cy="152280"/>
              <a:chOff x="6203520" y="4959360"/>
              <a:chExt cx="152640" cy="152280"/>
            </a:xfrm>
          </p:grpSpPr>
          <p:sp>
            <p:nvSpPr>
              <p:cNvPr id="705" name=""/>
              <p:cNvSpPr/>
              <p:nvPr/>
            </p:nvSpPr>
            <p:spPr>
              <a:xfrm>
                <a:off x="620388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6203520" y="4959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6203520" y="4606920"/>
              <a:ext cx="152640" cy="152280"/>
              <a:chOff x="6203520" y="4606920"/>
              <a:chExt cx="152640" cy="152280"/>
            </a:xfrm>
          </p:grpSpPr>
          <p:sp>
            <p:nvSpPr>
              <p:cNvPr id="708" name=""/>
              <p:cNvSpPr/>
              <p:nvPr/>
            </p:nvSpPr>
            <p:spPr>
              <a:xfrm>
                <a:off x="6203880" y="46069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6203520" y="46069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DA3-A65B-4441-81DD-F77B8A4C12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600200" y="4981680"/>
            <a:ext cx="396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0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1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'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D + A' C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B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C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+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372280" y="5445000"/>
            <a:ext cx="1409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C' +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625760" y="2895480"/>
            <a:ext cx="36320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 C D + B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 = C D + B C D'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6706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L implementation/Discrete gate implement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imit of 4 product terms per outpu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omposition of functions with larger number of te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 not share terms in PAL any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lthough there are some with some shared terms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ecompose into multi-level logic (hopefully with CAD support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d common sub-expressions among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>
            <a:off x="4791240" y="3854520"/>
            <a:ext cx="39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need another input and anoth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572000" y="3962160"/>
            <a:ext cx="380880" cy="75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428640" y="4038480"/>
            <a:ext cx="1523880" cy="152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016-389F-413B-B55F-AA8825A284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838080" y="3543480"/>
            <a:ext cx="46022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•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n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00280" y="3848040"/>
            <a:ext cx="458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117880" y="3594240"/>
            <a:ext cx="0" cy="255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479760" y="358128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15000" y="4267080"/>
            <a:ext cx="306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control inputs: C0, C1, C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data inputs: A,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output: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gical function uni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ulti-purpose function block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control inputs to specify operation to perform on oper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data inputs for oper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output of the same bit-width as oper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V - Combinational Logic 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34C-B3A1-4D81-ADC5-2E88EC490F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47:20Z</dcterms:created>
  <dc:creator>Gaetano Borriello</dc:creator>
  <dc:description/>
  <dc:language>en-US</dc:language>
  <cp:lastModifiedBy>Administrator</cp:lastModifiedBy>
  <cp:lastPrinted>2000-04-21T18:43:25Z</cp:lastPrinted>
  <dcterms:modified xsi:type="dcterms:W3CDTF">2000-10-28T23:30:11Z</dcterms:modified>
  <cp:revision>28</cp:revision>
  <dc:subject/>
  <dc:title>Combination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