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269413" cy="6948488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13B-E7AE-4197-915B-D0E871E8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F25-0B3B-4A6F-845A-26AFC0E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C18-E674-4F25-A1AC-B032BAD8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62C-11D5-4CEE-9F27-2C90CFD8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4E9E-0962-4378-82B1-B4B2D068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2B35-B21A-4891-8B65-AC0BF102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9B87-BC31-4C1D-B846-72401673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8D7C-A089-4529-812E-FAA7DA9C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037B-DD4C-4BF9-86D9-3F516FC1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5018-92D9-4984-BB28-044F481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377-BE42-4B2B-8C11-A69B58E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58B-E8BA-4ED8-93F1-F5C6271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55F4-E91E-4886-8180-F26C49D3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0A1B-7049-42FB-AC7D-806F112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7777-A5D5-4D47-858B-4236942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71EF-9635-4CFC-945A-D4B4A180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CD34-59F8-41AF-A8AA-559F1FD0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E97-F85C-4FCE-A0BD-8A6C43F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843-AFE0-44A0-B69B-8AF45FD0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CE1-6D69-4BD4-8AF9-C867AB97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601-789C-4816-8A7C-B57BEB46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525-CE90-4813-9E12-14E652A9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EDD-0F4F-40AE-8D66-8BD357E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130-B37D-4097-9766-C0C1712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AAB4DA-329D-404D-9026-2BB65BC959B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5D311F7-3340-48C0-8D3F-C0B64AE42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logic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-state machin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ous Mea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em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logic gates and 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(PAL with F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sign proced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E90-B84A-4529-AF66-9BFEAF03B8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vending machin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ne-hot encodin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F44-0983-4ABA-84A6-9D0815C3A4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quivalent Mealy and Moore state diagra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88000"/>
          </a:bodyPr>
          <a:p>
            <a:pPr marL="306000" indent="-30600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or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662040" indent="-2538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561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5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6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"/>
            <p:cNvCxnSpPr>
              <a:stCxn id="561" idx="4"/>
              <a:endCxn id="563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63" idx="4"/>
              <a:endCxn id="562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4" name=""/>
            <p:cNvCxnSpPr>
              <a:stCxn id="562" idx="4"/>
              <a:endCxn id="564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5" name=""/>
            <p:cNvCxnSpPr>
              <a:stCxn id="563" idx="2"/>
              <a:endCxn id="564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6" name=""/>
            <p:cNvCxnSpPr>
              <a:stCxn id="563" idx="5"/>
              <a:endCxn id="563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61" idx="5"/>
              <a:endCxn id="561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64" idx="3"/>
              <a:endCxn id="561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9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0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1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2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588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9" name=""/>
            <p:cNvCxnSpPr>
              <a:stCxn id="588" idx="4"/>
              <a:endCxn id="590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0" name=""/>
            <p:cNvCxnSpPr>
              <a:stCxn id="590" idx="4"/>
              <a:endCxn id="589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1" name=""/>
            <p:cNvCxnSpPr>
              <a:stCxn id="589" idx="4"/>
              <a:endCxn id="591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2" name=""/>
            <p:cNvCxnSpPr>
              <a:stCxn id="590" idx="2"/>
              <a:endCxn id="591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3" name=""/>
            <p:cNvCxnSpPr>
              <a:stCxn id="590" idx="5"/>
              <a:endCxn id="590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4" name=""/>
            <p:cNvCxnSpPr>
              <a:stCxn id="588" idx="5"/>
              <a:endCxn id="588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5" name=""/>
            <p:cNvCxnSpPr>
              <a:stCxn id="591" idx="3"/>
              <a:endCxn id="588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6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7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8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9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530600" y="1600200"/>
            <a:ext cx="474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al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6AE-601B-472A-A305-51404017E1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nding machine example (Moore PLD mappin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915200" y="1800360"/>
            <a:ext cx="7067160" cy="4657320"/>
            <a:chOff x="1915200" y="1800360"/>
            <a:chExt cx="7067160" cy="4657320"/>
          </a:xfrm>
        </p:grpSpPr>
        <p:grpSp>
          <p:nvGrpSpPr>
            <p:cNvPr id="618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0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899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904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907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912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915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918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921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924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927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930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933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946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952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958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964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970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976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983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989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1014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362800" y="2371680"/>
              <a:ext cx="42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54880" y="3827520"/>
              <a:ext cx="42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343000" y="5272560"/>
              <a:ext cx="6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950240" y="59112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955640" y="445788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973280" y="301572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8400" y="18003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37040" y="314784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39200" y="45925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15200" y="60580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DAA-46EB-4433-AB5C-AE22533B3B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Mealy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091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5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6" name=""/>
            <p:cNvSpPr/>
            <p:nvPr/>
          </p:nvSpPr>
          <p:spPr>
            <a:xfrm>
              <a:off x="1961280" y="140508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2" name=""/>
            <p:cNvCxnSpPr>
              <a:stCxn id="1091" idx="4"/>
              <a:endCxn id="1093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3" name=""/>
            <p:cNvCxnSpPr>
              <a:stCxn id="1093" idx="4"/>
              <a:endCxn id="1092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4" name=""/>
            <p:cNvCxnSpPr>
              <a:stCxn id="1092" idx="4"/>
              <a:endCxn id="1094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5" name=""/>
            <p:cNvCxnSpPr>
              <a:stCxn id="1093" idx="2"/>
              <a:endCxn id="1094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6" name=""/>
            <p:cNvCxnSpPr>
              <a:stCxn id="1093" idx="5"/>
              <a:endCxn id="1093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7" name=""/>
            <p:cNvCxnSpPr>
              <a:stCxn id="1091" idx="5"/>
              <a:endCxn id="1091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8" name=""/>
            <p:cNvCxnSpPr>
              <a:stCxn id="1094" idx="3"/>
              <a:endCxn id="1091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9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0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1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2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118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’(Q0’N + Q0N’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’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’(Q1Q0 + Q1N + Q1D + Q0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126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127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900-E40D-4E90-8209-F75BCAD6EE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Mealy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8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reset’(Q0’N + Q0N’ + Q1N + Q1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reset’(Q1 + D + Q0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reset’(Q1Q0 + Q1N + Q1D + Q0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E92-B030-40E7-A2CA-A2692FB93B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nding machine: Moore to synch. Meal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61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creates a combinational delay after Q1 and Q0 change in Moore implem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can be corrected by retiming, i.e., move flip-flops and logic through each other to improve dela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reset'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 now looks like a synchronous Mealy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common for programmable devices to have FF at end of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192240" y="420696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4562640" y="4202280"/>
            <a:ext cx="4424040" cy="24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DC1-813A-4CD1-A901-0BE7DB2974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nding machine: Mealy to synch. Meal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4846680" y="4129200"/>
            <a:ext cx="4424400" cy="248256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0" y="2770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167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168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169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5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197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198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63680" y="1986120"/>
            <a:ext cx="8292960" cy="13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reset'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27" name=""/>
          <p:cNvSpPr/>
          <p:nvPr/>
        </p:nvSpPr>
        <p:spPr>
          <a:xfrm>
            <a:off x="457200" y="1487520"/>
            <a:ext cx="829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reset’(Q1Q0 + Q1N + Q1D + Q0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C64-DE70-447C-AFBA-EEC29D3FD4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nding machine (synch. Mealy PLD mappin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1743120" y="1814400"/>
            <a:ext cx="7269840" cy="4657680"/>
            <a:chOff x="1743120" y="1814400"/>
            <a:chExt cx="7269840" cy="4657680"/>
          </a:xfrm>
        </p:grpSpPr>
        <p:sp>
          <p:nvSpPr>
            <p:cNvPr id="1233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0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6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8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2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9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1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0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375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6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8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5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2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5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1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0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6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515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523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528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531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534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537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540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543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546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549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552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1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562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568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574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580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586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592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7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8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599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605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630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5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93400" y="2386080"/>
              <a:ext cx="42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385480" y="3841560"/>
              <a:ext cx="42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373600" y="5286240"/>
              <a:ext cx="6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989480" y="592596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986240" y="447192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03520" y="303048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119000" y="18144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66920" y="316224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69080" y="46069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45080" y="607212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702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705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708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711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6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717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9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720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723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726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729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732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735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738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741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747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753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C64-C63A-47EB-B5ED-22DEABC4A9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traffic light controll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 busy highway is intersected by a little used farmroa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tectors C sense the presence of cars waiting on the farmroa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no car on farmroad, light remain green in highway dir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vehicle on farmroad, highway lights go from Green to Yellow to Red, allowing the farmroad lights to become 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stay green only as long as a farmroad car is detected but never longer than a set inter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hese are met, farm lights transition from Green to Yellow to Red, allowing highway to return to 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 if farmroad vehicles are waiting, highway gets at least a set interval as 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sume you have an interval timer that generates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hort time pulse (TS)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long time pulse (TL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response to a set (ST) sig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S is to be used for timing yellow lights and TL for green ligh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D96-37F4-4DF3-99EB-176C5D6AAF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traffic light controller (cont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way/farm road interse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7F8-B6CC-4A77-BF6D-F7B7B94ED6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86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89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92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95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98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101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118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121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124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130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148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154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180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186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using PA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mable logic building block for sequentia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ro-cell: FF +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2AA-CC7B-42FA-8348-1CBD71848C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traffic light controller (cont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inputs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description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outputs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ng time interval exp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612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tat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FF8-2FA4-4995-985C-7AE4CE67CC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traffic light controller (cont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78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5" name=""/>
            <p:cNvCxnSpPr>
              <a:stCxn id="1791" idx="3"/>
              <a:endCxn id="179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6" name=""/>
            <p:cNvCxnSpPr>
              <a:stCxn id="1794" idx="5"/>
              <a:endCxn id="179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7" name=""/>
            <p:cNvCxnSpPr>
              <a:stCxn id="1792" idx="7"/>
              <a:endCxn id="179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8" name=""/>
            <p:cNvCxnSpPr>
              <a:stCxn id="1793" idx="1"/>
              <a:endCxn id="179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9" name=""/>
            <p:cNvCxnSpPr>
              <a:stCxn id="1791" idx="6"/>
              <a:endCxn id="179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0" name=""/>
            <p:cNvCxnSpPr>
              <a:stCxn id="1794" idx="0"/>
              <a:endCxn id="179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1" name=""/>
            <p:cNvCxnSpPr>
              <a:stCxn id="1793" idx="4"/>
              <a:endCxn id="179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0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0E2-4D1E-4EFB-8162-A9DC97F70F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80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943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7600"/>
                <a:tab algn="l" pos="5029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829480" y="184140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traffic light controller (cont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e state table with symbolic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sider state assignmen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A89-54AA-4906-A54B-6C55C2D233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gic for different state assign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612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33720" indent="-333720">
              <a:lnSpc>
                <a:spcPct val="90000"/>
              </a:lnSpc>
              <a:spcBef>
                <a:spcPts val="612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33720" indent="-333720">
              <a:lnSpc>
                <a:spcPct val="90000"/>
              </a:lnSpc>
              <a:spcBef>
                <a:spcPts val="612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0 = PS3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62D-1D2A-418B-86A3-FA8AD6BF07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logic implementation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dels for representing sequential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te state machines and their state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, Moore, and synchronous Mealy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 state machine design proced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riving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riving state 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igning codes to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ing next state and output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ing combination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ementation technolog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logic + 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L with FFs (programmable logic devices – PL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630-A2D8-454A-BD3B-BFE321DE0D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rison of Mealy and Moore mach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aly machines tend to have less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outputs on arcs (n^2) rather than states 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ore machines are safer to us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Mealy machines, input change can cause output change as soon as logic is done – a big problem when two machines are interconnected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nchronous feed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aly machines react faster to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Moore machines, more logic may be necessary to decode state in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– more gate delays aft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53E-8535-42A4-ADFD-3FD79231E9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rison of Mealy and Moore machin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o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al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ynchronous Meal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229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271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310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5B9-5540-46C7-8C89-3BB08020FC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vending mach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lease item after 15 cents are deposite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ngle coin slot for dimes, nickel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 chang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2ED-990C-4D91-8121-DC27BE10D1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vending machin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uitable abstract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ulate typical input sequenc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 state diagram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373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4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5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377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" name=""/>
            <p:cNvCxnSpPr>
              <a:stCxn id="373" idx="5"/>
              <a:endCxn id="377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9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381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2" name=""/>
            <p:cNvCxnSpPr>
              <a:stCxn id="377" idx="5"/>
              <a:endCxn id="381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385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7" idx="4"/>
              <a:endCxn id="385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387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73" idx="3"/>
              <a:endCxn id="387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1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393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4" name=""/>
            <p:cNvCxnSpPr>
              <a:stCxn id="387" idx="3"/>
              <a:endCxn id="393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397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8" name=""/>
            <p:cNvCxnSpPr>
              <a:stCxn id="377" idx="4"/>
              <a:endCxn id="397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9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401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2" name=""/>
            <p:cNvCxnSpPr>
              <a:endCxn id="401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405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6" name=""/>
            <p:cNvCxnSpPr>
              <a:endCxn id="405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7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751-C05D-45D2-BDC9-DD382F7A96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vending machin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Minimize number of states - reuse states whenever possible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411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416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7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8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420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2" name=""/>
            <p:cNvCxnSpPr>
              <a:stCxn id="416" idx="4"/>
              <a:endCxn id="420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3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424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5" name=""/>
            <p:cNvCxnSpPr>
              <a:stCxn id="420" idx="4"/>
              <a:endCxn id="426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7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428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9" name=""/>
            <p:cNvCxnSpPr>
              <a:stCxn id="426" idx="4"/>
              <a:endCxn id="430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1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426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6" idx="6"/>
              <a:endCxn id="426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430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436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20" idx="2"/>
                <a:endCxn id="430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E7A-853A-432A-BFBE-68BE064C3A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439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vending machin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iquely encode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4D5-D666-44F7-97FD-6A643E59ED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Moore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pping to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451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452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455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462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489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516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I - Sequential Logi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FB8-2A45-42F4-A4F0-2FBAA6B4B2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Administrator</cp:lastModifiedBy>
  <cp:lastPrinted>2000-05-11T19:00:15Z</cp:lastPrinted>
  <dcterms:modified xsi:type="dcterms:W3CDTF">2000-11-22T21:31:04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