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B8D-0ED7-469C-ACB2-F2E89DD3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BE5-C2CE-483D-B835-99CDEA7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A2D-DE23-4FEB-93DA-0FBB7FC5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1EB-0E90-4879-B2C0-2B69042C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9EE3-0BF3-4A94-AC89-0AFBD211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A4B2-5B57-4859-A07D-606B79DA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3F21-280E-49C5-8AFF-9D34823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88A2-2B08-4AD7-9FC5-8765A997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A077-08E6-412E-B8C5-E7541112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48A-D5A4-4C10-9AE8-A7634527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E953-37C4-4A62-999B-1D57D88E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AD3-9EC7-4928-A8E3-22A7C5C6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1D21-3993-48BB-8FB6-9937A3EF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0D68-FD77-4BD4-9C83-85CD7D65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A6F3-BE65-4D7A-907C-B5B31FE3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4F6B-01F0-45E4-B397-BB92A747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B24E-D9CE-446E-8294-7784D945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F59-F9D4-47CE-B5C6-04932DF1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682-F46C-4CE7-A582-95DCB59A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A1E-A5D4-49B0-B743-A4FD99C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7E4-4BEB-4681-9A60-60E05FD7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A74-0C8D-47C9-BED7-C7BDCFC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57C-325D-4986-8412-C0C665C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501-2E42-433C-8815-4DEE9DB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031F-2E9A-464F-945A-226E4B015E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E407-4CCE-4D15-A684-F4EA39219C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c1302"/>
                </a:solidFill>
                <a:latin typeface="Arial"/>
              </a:rPr>
              <a:t>Unifying Logical and Statistical AI</a:t>
            </a:r>
            <a:endParaRPr b="1" lang="en-US" sz="5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2373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dro Domi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. of Computer Science &amp;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int work with Stanley Kok, Daniel Lowd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ifung Poon, Matt Richardson, Parag Singla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c Sumner, and Jue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4" idx="6"/>
            <a:endCxn id="201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3" idx="6"/>
            <a:endCxn id="202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80880" y="30481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functions defined over cl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419720" y="3657600"/>
          <a:ext cx="3962160" cy="248904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,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033560" y="3733920"/>
                <a:ext cx="29829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43000" y="5105520"/>
                <a:ext cx="2629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8954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-linear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49840" y="360360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60360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73840" y="4495680"/>
            <a:ext cx="21103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eat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36160" y="4495680"/>
            <a:ext cx="108144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43400" y="4038480"/>
            <a:ext cx="15228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952880" y="4038480"/>
            <a:ext cx="15264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914400" y="5029200"/>
                <a:ext cx="66531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oking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ancer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¬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moking</m:t>
                              </m:r>
                              <m:r>
                                <m:t xml:space="preserve"> </m:t>
                              </m:r>
                              <m:r>
                                <m:t xml:space="preserve">∨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ancer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14400" y="5791320"/>
                <a:ext cx="1227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7" idx="6"/>
            <a:endCxn id="224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6" idx="6"/>
            <a:endCxn id="225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905120" y="3276720"/>
                <a:ext cx="3809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irst-Order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s, variables, functions, predicates</a:t>
            </a:r>
            <a:br>
              <a:rPr sz="3000"/>
            </a:b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E.g.: Anna, x, MotherOf(x), Friends(x,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nding: Replace all variables by constants</a:t>
            </a:r>
            <a:br>
              <a:rPr sz="3000"/>
            </a:b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E.g.: Friends (Anna, Bo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model, interpretation)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of truth values to all ground pred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gical KB is a set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rd constrai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set of possible wor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make the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constrai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world violates a formula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becomes less probable, not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each formula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igh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Higher weight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Stronger constrai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82480" y="5334120"/>
                <a:ext cx="79790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ights of formulas it satisfies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fini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7c1302"/>
                </a:solidFill>
                <a:latin typeface="Arial"/>
              </a:rPr>
              <a:t>Markov Logic Network (ML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set of pairs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(F, w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formula in first-order log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real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gether with a set of constant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defines a Markov network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node for each grounding of each predicate in the M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eature for each grounding of each formula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MLN, with the corresponding weight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6201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79640" y="1482840"/>
                <a:ext cx="4789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moking  causes  canc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iends  have  similar  smoking  habi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89" idx="3"/>
            <a:endCxn id="288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2" idx="5"/>
            <a:endCxn id="295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307" idx="0"/>
            <a:endCxn id="305" idx="4"/>
          </p:cNvCxnSpPr>
          <p:nvPr/>
        </p:nvCxnSpPr>
        <p:spPr>
          <a:xfrm flipH="1" flipV="1">
            <a:off x="3428640" y="4571280"/>
            <a:ext cx="9532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5" idx="6"/>
            <a:endCxn id="308" idx="2"/>
          </p:cNvCxnSpPr>
          <p:nvPr/>
        </p:nvCxnSpPr>
        <p:spPr>
          <a:xfrm>
            <a:off x="411480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8" idx="4"/>
            <a:endCxn id="307" idx="0"/>
          </p:cNvCxnSpPr>
          <p:nvPr/>
        </p:nvCxnSpPr>
        <p:spPr>
          <a:xfrm flipH="1">
            <a:off x="4381200" y="4571640"/>
            <a:ext cx="8769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5" idx="3"/>
            <a:endCxn id="304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06" idx="6"/>
            <a:endCxn id="305" idx="2"/>
          </p:cNvCxnSpPr>
          <p:nvPr/>
        </p:nvCxnSpPr>
        <p:spPr>
          <a:xfrm>
            <a:off x="2133360" y="430488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14" idx="4"/>
            <a:endCxn id="305" idx="0"/>
          </p:cNvCxnSpPr>
          <p:nvPr/>
        </p:nvCxnSpPr>
        <p:spPr>
          <a:xfrm flipH="1">
            <a:off x="3428640" y="3504960"/>
            <a:ext cx="95328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08" idx="0"/>
            <a:endCxn id="314" idx="4"/>
          </p:cNvCxnSpPr>
          <p:nvPr/>
        </p:nvCxnSpPr>
        <p:spPr>
          <a:xfrm flipH="1" flipV="1">
            <a:off x="4381200" y="3504600"/>
            <a:ext cx="87696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08" idx="5"/>
            <a:endCxn id="317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8" idx="2"/>
            <a:endCxn id="308" idx="6"/>
          </p:cNvCxnSpPr>
          <p:nvPr/>
        </p:nvCxnSpPr>
        <p:spPr>
          <a:xfrm flipH="1">
            <a:off x="594324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Logic Network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LN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ground Markov n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a worl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yp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ariables and constants greatly reduce size of ground Markov 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s, existential quantifier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inite and continuous dom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78440" y="282744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82744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97880" y="3733920"/>
            <a:ext cx="208440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1280" y="3733920"/>
            <a:ext cx="405072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191120" y="3276720"/>
            <a:ext cx="53316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5181480" y="3262320"/>
            <a:ext cx="152640" cy="4716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057400" y="2438280"/>
                <a:ext cx="39164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lation to Statistical Model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-linear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nenti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entropy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bbs dis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ltzmann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c reg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den Markov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al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ed by making all predicates zero-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ov logic allows objects to be interdepend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on-i.i.d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lation to First-Order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inite weights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iable KB, positive weight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ying assignments = Modes of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 allows contradictions between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029200" y="4191120"/>
            <a:ext cx="1905120" cy="6094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4191120"/>
            <a:ext cx="14479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438280" y="2971800"/>
                <a:ext cx="32799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3202200" y="419112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05160" y="4191120"/>
            <a:ext cx="174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419720" y="3657600"/>
            <a:ext cx="380880" cy="53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410080" y="3581280"/>
            <a:ext cx="457200" cy="6098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I: The First 100 Yea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23880" y="1676160"/>
            <a:ext cx="0" cy="37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54100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286000"/>
            <a:ext cx="5257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17524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6120" y="188280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523880" y="5029200"/>
            <a:ext cx="5181840" cy="380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9800" y="44197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28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92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60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523880" y="2819520"/>
                <a:ext cx="568188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209680" y="2971800"/>
                <a:ext cx="42814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just the weighted MaxSAT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weighted SAT solve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, MaxWalkS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autz et al., 1997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ly faster than logical inference (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09680" y="2743200"/>
                <a:ext cx="42800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WalkSAT Algorithm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1488960"/>
            <a:ext cx="7102440" cy="448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andom truth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fl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lauses satisfi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 unsatisfied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a random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ax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atisfied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MaxWalkSAT Algorithm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3640" y="1488960"/>
            <a:ext cx="7102440" cy="448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andom truth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fl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∑ weights(sat. clauses) &gt;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 unsatisfied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a random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ax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∑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ights(sat. claus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ure, b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But … Memory Explos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ta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 highest clause arity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nd network requir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(n  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mory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lu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it sparseness; ground clauses lazily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zySAT algorith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Singla &amp; Domingos,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6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puting Probabiliti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mu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MLN,C) =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CMC: Sample worlds, check formula 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mula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Formula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MLN,C) =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Formula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njunction of ground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construct min subset of network necessary to answer query (generalization of KBM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apply MCMC (or oth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also do lifted infer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raz et al,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round Network Construc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57040" y="1676520"/>
            <a:ext cx="6543720" cy="420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ery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nt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t in evidenc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neighbors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to queue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eue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CMC: Gibbs Sampl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9120" y="1981080"/>
            <a:ext cx="7743960" cy="283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ndom truth assig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um-sampl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ariabl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cording to P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ighb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new value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action of states in which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But … Insufficient for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Problem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istic dependencies break MCMC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ar-deterministic ones make it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ow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lu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 MCMC and WalkSAT</a:t>
            </a:r>
            <a:br>
              <a:rPr sz="3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C-SAT algorithm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on &amp; Domingos,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I: The First 100 Yea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23880" y="1676160"/>
            <a:ext cx="0" cy="37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54100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286000"/>
            <a:ext cx="5257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0" y="17524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6120" y="188280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523880" y="5181120"/>
            <a:ext cx="266724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9800" y="35053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28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92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60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3962520"/>
            <a:ext cx="2514600" cy="1218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a relationa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d world assumption (if not: 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parameters (weigh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imin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structure (form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410080" y="3429000"/>
            <a:ext cx="160020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91120" y="3429000"/>
            <a:ext cx="91440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enerative Weight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e 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gradient ascent or L-BF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local max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inference at each step (slow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33360" y="449568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49400" y="502920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95680" y="3962160"/>
            <a:ext cx="152640" cy="53316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6248160" y="3962160"/>
            <a:ext cx="609480" cy="10666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676520" y="3276720"/>
                <a:ext cx="52671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seudo-Likelihood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lihood of each variable given its neighbors in the data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esag, 197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require inference at each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ent estim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ely used in vision, spatial statistic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PL parameters may not work well fo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inference ch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482840" y="1828800"/>
                <a:ext cx="60246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≡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eighbor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486400" y="3048120"/>
            <a:ext cx="19810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3048120"/>
            <a:ext cx="12189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22400"/>
            <a:ext cx="7620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iscriminative Weight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e conditional likelihood of quer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given evidenc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ximate expected counts by counts in MAP st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80720" y="411480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96760" y="464832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343400" y="3657600"/>
            <a:ext cx="15228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6172200" y="3657600"/>
            <a:ext cx="533520" cy="99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14400" y="2895480"/>
                <a:ext cx="64753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46440" y="3581280"/>
            <a:ext cx="6973200" cy="2630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terbi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Voted Perceptr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ginally proposed for training HMMs discriminative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Collins, 200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s network is linear 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8168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8168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91320" y="4038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40384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4038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0552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1500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46440" y="3581280"/>
            <a:ext cx="6973200" cy="2630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cc3300"/>
                </a:solidFill>
                <a:latin typeface="Arial"/>
              </a:rPr>
              <a:t>MAP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MaxWalkSAT(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Voted Perceptron for ML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MMs are special case of ML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ace Viterbi by MaxWalk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can now be arbitrar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480060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426708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934320" y="426708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42670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373392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629400" y="480060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480060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1320" y="43434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3962520"/>
            <a:ext cx="3049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162920" y="44197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477120" y="3962520"/>
            <a:ext cx="2286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81680" y="3962520"/>
            <a:ext cx="2286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781680" y="449532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6476760" y="449532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095880" y="4495320"/>
            <a:ext cx="3049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4495680"/>
            <a:ext cx="3049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ructure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izes feature induction in Markov n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inductive logic programming approach can be used, but . .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 is to induce any clauses, not just Ho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ion function should be likelih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learning weights for each candi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ns out not to be bottlen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 is counting clause grou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: Subsamp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ructure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itial stat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it clauses or hand-coded 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erator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dd/remove literal, flip 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ion func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udo-likelihood + Structure pr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r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ok &amp; Domingos, 20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st-fir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ok &amp; Domingos, 20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om-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ihalkova &amp; Mooney, 20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I: The First 100 Yea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523880" y="1676160"/>
            <a:ext cx="0" cy="37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54100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286000"/>
            <a:ext cx="5257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0" y="17524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6120" y="188280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523880" y="5181120"/>
            <a:ext cx="266724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6280" y="9907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28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92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60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191120" y="4571640"/>
            <a:ext cx="129528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486400" y="1905120"/>
            <a:ext cx="1295280" cy="2666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Alchemy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-source software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first-order logic synt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ive &amp; discriminative weight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ghted satisfiability and MC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languag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79400" y="5334120"/>
            <a:ext cx="523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alchemy.cs.washington.e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914400" y="762120"/>
          <a:ext cx="7391520" cy="5333760"/>
        </p:xfrm>
        <a:graphic>
          <a:graphicData uri="http://schemas.openxmlformats.org/drawingml/2006/table">
            <a:tbl>
              <a:tblPr/>
              <a:tblGrid>
                <a:gridCol w="2057400"/>
                <a:gridCol w="2210040"/>
                <a:gridCol w="1600200"/>
                <a:gridCol w="1523880"/>
              </a:tblGrid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hem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-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 Logic + Markov ne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 clau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s ne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re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heck- ing, MC-S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em prov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bbs sampl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structu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on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pplicatio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extraction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ty re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pred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iv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m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network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ot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stic Cy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44920" y="5257800"/>
            <a:ext cx="70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Markov logic approach won LLL-2005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competition [Riedel &amp; Klein,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formation Extrac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81480" y="5486400"/>
            <a:ext cx="2210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5486400"/>
            <a:ext cx="12193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egmenta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228600"/>
            <a:ext cx="30456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34120" y="685800"/>
            <a:ext cx="3045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34120" y="11430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17160" y="1522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17520" y="6094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02400" y="11066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81480" y="5486400"/>
            <a:ext cx="2210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5486400"/>
            <a:ext cx="12193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/>
            <a:ahLst/>
            <a:rect l="l" t="t" r="r" b="b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81480" y="5486400"/>
            <a:ext cx="2210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5486400"/>
            <a:ext cx="12193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/>
            <a:ahLst/>
            <a:rect l="l" t="t" r="r" b="b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8357600">
            <a:off x="7048440" y="4304880"/>
            <a:ext cx="1371600" cy="1447920"/>
          </a:xfrm>
          <a:custGeom>
            <a:avLst/>
            <a:gdLst>
              <a:gd name="textAreaLeft" fmla="*/ 3337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6586"/>
                </a:moveTo>
                <a:lnTo>
                  <a:pt x="5258" y="11571"/>
                </a:lnTo>
                <a:lnTo>
                  <a:pt x="5258" y="14652"/>
                </a:lnTo>
                <a:lnTo>
                  <a:pt x="14652" y="14652"/>
                </a:lnTo>
                <a:lnTo>
                  <a:pt x="14652" y="5258"/>
                </a:lnTo>
                <a:lnTo>
                  <a:pt x="11571" y="5258"/>
                </a:lnTo>
                <a:lnTo>
                  <a:pt x="16586" y="0"/>
                </a:lnTo>
                <a:lnTo>
                  <a:pt x="21600" y="5258"/>
                </a:lnTo>
                <a:lnTo>
                  <a:pt x="18519" y="5258"/>
                </a:lnTo>
                <a:lnTo>
                  <a:pt x="18519" y="18519"/>
                </a:lnTo>
                <a:lnTo>
                  <a:pt x="5258" y="18519"/>
                </a:lnTo>
                <a:lnTo>
                  <a:pt x="5258" y="21600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8357600">
            <a:off x="6819840" y="2018880"/>
            <a:ext cx="1371600" cy="1447920"/>
          </a:xfrm>
          <a:custGeom>
            <a:avLst/>
            <a:gdLst>
              <a:gd name="textAreaLeft" fmla="*/ 3337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6586"/>
                </a:moveTo>
                <a:lnTo>
                  <a:pt x="5258" y="11571"/>
                </a:lnTo>
                <a:lnTo>
                  <a:pt x="5258" y="14652"/>
                </a:lnTo>
                <a:lnTo>
                  <a:pt x="14652" y="14652"/>
                </a:lnTo>
                <a:lnTo>
                  <a:pt x="14652" y="5258"/>
                </a:lnTo>
                <a:lnTo>
                  <a:pt x="11571" y="5258"/>
                </a:lnTo>
                <a:lnTo>
                  <a:pt x="16586" y="0"/>
                </a:lnTo>
                <a:lnTo>
                  <a:pt x="21600" y="5258"/>
                </a:lnTo>
                <a:lnTo>
                  <a:pt x="18519" y="5258"/>
                </a:lnTo>
                <a:lnTo>
                  <a:pt x="18519" y="18519"/>
                </a:lnTo>
                <a:lnTo>
                  <a:pt x="5258" y="18519"/>
                </a:lnTo>
                <a:lnTo>
                  <a:pt x="5258" y="21600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ate of the Ar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M (or CRF) to assign each token to a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ity re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stic regression to predict same field/c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ive clo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chemy implementation: Seven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5438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Logical and Statistical AI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1295280"/>
          <a:ext cx="7620120" cy="5029200"/>
        </p:xfrm>
        <a:graphic>
          <a:graphicData uri="http://schemas.openxmlformats.org/drawingml/2006/table">
            <a:tbl>
              <a:tblPr/>
              <a:tblGrid>
                <a:gridCol w="2622600"/>
                <a:gridCol w="2406600"/>
                <a:gridCol w="25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repres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order 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al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 reaso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iabilit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ov chain Monte Car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e lear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ve logic progra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al net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al pl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ov decision proc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e clause gramm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 context-free gramm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457200" y="1981080"/>
            <a:ext cx="64008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937200" y="2438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457200" y="3505320"/>
            <a:ext cx="5181480" cy="457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76160" y="35053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5715000" y="3733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57200" y="3809880"/>
            <a:ext cx="5791320" cy="10670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9440" y="4114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75240" y="4343400"/>
            <a:ext cx="489240" cy="3240"/>
          </a:xfrm>
          <a:custGeom>
            <a:avLst/>
            <a:gdLst/>
            <a:ahLst/>
            <a:rect l="l" t="t" r="r" b="b"/>
            <a:pathLst>
              <a:path w="308" h="2">
                <a:moveTo>
                  <a:pt x="308" y="0"/>
                </a:moveTo>
                <a:lnTo>
                  <a:pt x="0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457200" y="1981080"/>
            <a:ext cx="518148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57200" y="2286000"/>
            <a:ext cx="594360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57200" y="2590920"/>
            <a:ext cx="777240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457200" y="3276720"/>
            <a:ext cx="7772400" cy="761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57200" y="3886200"/>
            <a:ext cx="57913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457200" y="4191120"/>
            <a:ext cx="7467480" cy="10666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We Need to Unify the Two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al world is complex and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c handles complex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handles uncertai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57200" y="2286000"/>
            <a:ext cx="85345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5320" y="1981080"/>
            <a:ext cx="85626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^ !Token(“.”,i,c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696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sults: Segmentation on Cor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-914400" y="1501920"/>
          <a:ext cx="10287000" cy="54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14400" y="1501920"/>
                    <a:ext cx="102870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sults: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tching Venues on Cor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-762120" y="1503360"/>
          <a:ext cx="1013472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1503360"/>
                    <a:ext cx="101347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Interface Layer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Network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76920" y="3456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946840" y="50292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60840" y="457200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1440" y="16653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157800" y="20462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atabas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90400" y="35053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08200" y="5181480"/>
            <a:ext cx="233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24600" y="4343400"/>
            <a:ext cx="235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15680" y="158904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803480" y="251460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616800" y="189396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ogramming System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731400" y="3505320"/>
            <a:ext cx="45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Level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584160" y="44197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97680" y="4724280"/>
            <a:ext cx="20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252320" y="192096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84760" y="350532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-Order Log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ogress to Dat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stic log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Nilsson, 1986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stics and belief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Halpern, 199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-based model construction</a:t>
            </a:r>
            <a:br>
              <a:rPr sz="26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Wellman et al., 199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chastic logic program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Muggleton, 1996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stic relational model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Friedman et al., 1999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al Markov network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Taskar et al., 200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c1302"/>
                </a:solidFill>
                <a:latin typeface="Arial"/>
              </a:rPr>
              <a:t>This talk: Markov log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Richardson &amp; Domingos, 2004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85120" y="3505320"/>
            <a:ext cx="38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al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86200" y="3505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5360" y="3505320"/>
            <a:ext cx="63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chemy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hemy.cs.washingt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yntax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eighted first-order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emantic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mplates for Markov ne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Inferenc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alkSAT, MCMC, KB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Learning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oted perceptron, pseudo-likelihood, inductive logic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ftwa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che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Application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formation extraction, link predictio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7:43:43Z</dcterms:created>
  <dc:creator>Pedro Domingos</dc:creator>
  <dc:description/>
  <dc:language>en-US</dc:language>
  <cp:lastModifiedBy>Pedro Domingos</cp:lastModifiedBy>
  <dcterms:modified xsi:type="dcterms:W3CDTF">2007-10-18T18:16:58Z</dcterms:modified>
  <cp:revision>1574</cp:revision>
  <dc:subject/>
  <dc:title>Learning, Logic, and Probability: A Unified View</dc:title>
</cp:coreProperties>
</file>