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5FED-D167-4E7F-A69E-08C6BACE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A8FA-96C8-40FB-AA27-8AE57859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25D-F31C-48F0-B127-5C3A3F1B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3D99-8FD3-422F-AC98-6973B14E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1D07-8BEA-4C2B-ABE9-41D0A6BE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548C-6B56-4FCB-A347-7729A5B1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419B-23D4-4E5A-AE50-BA72A440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ADCD-1C7E-4A33-9F18-62D05B38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74E5-C651-4E40-B07A-16D77EB5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56C2-35A7-41B6-8894-87B67DEF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295B-FD23-432F-BE3D-8BBA1761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8DD6-3846-4B0F-8A97-CEF60642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0A31-4D26-4E1D-B76B-8279E212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61AB-FD40-4A59-BF7C-174F2201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60DE-5AA2-46E6-8D0D-8B6A4966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EE2C-7D46-4BF7-8CE7-15A15CFE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5B11-CC4B-4B93-89F7-61A8B29D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A3C-7A0A-48B4-BF2E-982C7E20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8FA3-A04D-4A78-8826-51EC8239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A26-6579-4ABD-BD0C-4DF3669D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271F-A2D5-4B80-A7A4-31ABF23E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B3B4-D1AC-4EAD-BE32-84D6867F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7DC-7213-4830-A94C-723B86A7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F66-A938-463B-9D34-03508DFF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DE5A-B077-405E-828C-66DCADEC99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C2AD-CCE9-41E7-BC7A-4A9F6664EE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c1302"/>
                </a:solidFill>
                <a:latin typeface="Arial"/>
              </a:rPr>
              <a:t>Unifying Logical and Statistical AI</a:t>
            </a:r>
            <a:endParaRPr b="1" lang="en-US" sz="5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9240" y="3049560"/>
            <a:ext cx="623736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dro Domin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t. of Computer Science &amp; E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Wash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oint work with Stanley Kok, Daniel Lowd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ifung Poon, Matt Richardson, Parag Singla,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rc Sumner, and Jue W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rkov Network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direc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raphical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13716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22860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22860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13716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204" idx="6"/>
            <a:endCxn id="201" idx="2"/>
          </p:cNvCxnSpPr>
          <p:nvPr/>
        </p:nvCxnSpPr>
        <p:spPr>
          <a:xfrm>
            <a:off x="3200400" y="16761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6" name=""/>
          <p:cNvCxnSpPr/>
          <p:nvPr/>
        </p:nvCxnSpPr>
        <p:spPr>
          <a:xfrm>
            <a:off x="5638320" y="1905120"/>
            <a:ext cx="384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"/>
          <p:cNvCxnSpPr/>
          <p:nvPr/>
        </p:nvCxnSpPr>
        <p:spPr>
          <a:xfrm flipH="1">
            <a:off x="4114080" y="1904760"/>
            <a:ext cx="26892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3" idx="6"/>
            <a:endCxn id="202" idx="2"/>
          </p:cNvCxnSpPr>
          <p:nvPr/>
        </p:nvCxnSpPr>
        <p:spPr>
          <a:xfrm>
            <a:off x="4572000" y="25905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380880" y="30481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ential functions defined over cl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419720" y="3657600"/>
          <a:ext cx="3962160" cy="2489040"/>
        </p:xfrm>
        <a:graphic>
          <a:graphicData uri="http://schemas.openxmlformats.org/drawingml/2006/table">
            <a:tbl>
              <a:tblPr/>
              <a:tblGrid>
                <a:gridCol w="1320840"/>
                <a:gridCol w="1320480"/>
                <a:gridCol w="13208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,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033560" y="3733920"/>
                <a:ext cx="298296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c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143000" y="5105520"/>
                <a:ext cx="26290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</m:sub>
                      <m:sup/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rkov Network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direct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raphical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8954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-linear mode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49840" y="3603600"/>
            <a:ext cx="736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3603600"/>
            <a:ext cx="2541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73840" y="4495680"/>
            <a:ext cx="211032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of Featu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36160" y="4495680"/>
            <a:ext cx="108144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343400" y="4038480"/>
            <a:ext cx="152280" cy="457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952880" y="4038480"/>
            <a:ext cx="152640" cy="4572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914400" y="5029200"/>
                <a:ext cx="66531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moking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ancer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¬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moking</m:t>
                              </m:r>
                              <m:r>
                                <m:t xml:space="preserve"> </m:t>
                              </m:r>
                              <m:r>
                                <m:t xml:space="preserve">∨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ancer</m:t>
                              </m:r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914400" y="5791320"/>
                <a:ext cx="12272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4038480" y="13716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22860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22860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1371600"/>
            <a:ext cx="1828800" cy="6094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7" idx="6"/>
            <a:endCxn id="224" idx="2"/>
          </p:cNvCxnSpPr>
          <p:nvPr/>
        </p:nvCxnSpPr>
        <p:spPr>
          <a:xfrm>
            <a:off x="3200400" y="16761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/>
          <p:nvPr/>
        </p:nvCxnSpPr>
        <p:spPr>
          <a:xfrm>
            <a:off x="5638320" y="1905120"/>
            <a:ext cx="384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/>
          <p:nvPr/>
        </p:nvCxnSpPr>
        <p:spPr>
          <a:xfrm flipH="1">
            <a:off x="4114080" y="1904760"/>
            <a:ext cx="26892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226" idx="6"/>
            <a:endCxn id="225" idx="2"/>
          </p:cNvCxnSpPr>
          <p:nvPr/>
        </p:nvCxnSpPr>
        <p:spPr>
          <a:xfrm>
            <a:off x="4572000" y="2590560"/>
            <a:ext cx="838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905120" y="3276720"/>
                <a:ext cx="38098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irst-Order Logic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38188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ants, variables, functions, predicates</a:t>
            </a:r>
            <a:br>
              <a:rPr sz="3000"/>
            </a:b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E.g.: Anna, x, MotherOf(x), Friends(x,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nding: Replace all variables by constants</a:t>
            </a:r>
            <a:br>
              <a:rPr sz="3000"/>
            </a:b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E.g.: Friends (Anna, Bo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l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model, interpretation)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ignment of truth values to all ground predic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rkov Logic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ogical KB is a set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ard constrai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set of possible wor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’s make the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ft constrai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world violates a formula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becomes less probable, not impos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 each formula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igh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Higher weight 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Stronger constrain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82480" y="5334120"/>
                <a:ext cx="797904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world</m:t>
                    </m:r>
                    <m:r>
                      <m:t xml:space="preserve">)</m:t>
                    </m:r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eights of formulas it satisfies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efini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000" spc="-1" strike="noStrike">
                <a:solidFill>
                  <a:srgbClr val="7c1302"/>
                </a:solidFill>
                <a:latin typeface="Arial"/>
              </a:rPr>
              <a:t>Markov Logic Network (MLN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set of pairs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(F, w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formula in first-order log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real nu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gether with a set of constants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defines a Markov network w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node for each grounding of each predicate in the ML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feature for each grounding of each formula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the MLN, with the corresponding weight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6201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979640" y="1482840"/>
                <a:ext cx="47894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moking  causes  canc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riends  have  similar  smoking  habit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295280" y="1371600"/>
            <a:ext cx="655344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533880" y="240192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327320" y="1371600"/>
            <a:ext cx="65530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3880" y="240192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327320" y="1371600"/>
            <a:ext cx="65530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880" y="240192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327320" y="1371600"/>
            <a:ext cx="65530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89" idx="3"/>
            <a:endCxn id="288" idx="7"/>
          </p:cNvCxnSpPr>
          <p:nvPr/>
        </p:nvCxnSpPr>
        <p:spPr>
          <a:xfrm flipH="1">
            <a:off x="2693160" y="4494240"/>
            <a:ext cx="25164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2" idx="5"/>
            <a:endCxn id="295" idx="1"/>
          </p:cNvCxnSpPr>
          <p:nvPr/>
        </p:nvCxnSpPr>
        <p:spPr>
          <a:xfrm>
            <a:off x="5742000" y="4494240"/>
            <a:ext cx="32760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98" name=""/>
          <p:cNvSpPr/>
          <p:nvPr/>
        </p:nvSpPr>
        <p:spPr>
          <a:xfrm>
            <a:off x="533880" y="240192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327320" y="1371600"/>
            <a:ext cx="655308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5438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Arial"/>
              </a:rPr>
              <a:t>Example: Friends &amp; Smokers</a:t>
            </a:r>
            <a:endParaRPr b="1" lang="en-US" sz="3500" spc="-1" strike="noStrike">
              <a:solidFill>
                <a:srgbClr val="7c130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327320" y="1447920"/>
                <a:ext cx="60958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mok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Canc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riend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⇔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mokes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09480" y="1371600"/>
            <a:ext cx="6858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749160" y="1438200"/>
                <a:ext cx="4255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15238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7432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4038480"/>
            <a:ext cx="16002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505320" y="5334120"/>
            <a:ext cx="1752480" cy="53316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0" y="403848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es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"/>
          <p:cNvCxnSpPr>
            <a:stCxn id="307" idx="0"/>
            <a:endCxn id="305" idx="4"/>
          </p:cNvCxnSpPr>
          <p:nvPr/>
        </p:nvCxnSpPr>
        <p:spPr>
          <a:xfrm flipH="1" flipV="1">
            <a:off x="3428640" y="4571280"/>
            <a:ext cx="9532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305" idx="6"/>
            <a:endCxn id="308" idx="2"/>
          </p:cNvCxnSpPr>
          <p:nvPr/>
        </p:nvCxnSpPr>
        <p:spPr>
          <a:xfrm>
            <a:off x="4114800" y="4304880"/>
            <a:ext cx="457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1" name=""/>
          <p:cNvCxnSpPr>
            <a:stCxn id="308" idx="4"/>
            <a:endCxn id="307" idx="0"/>
          </p:cNvCxnSpPr>
          <p:nvPr/>
        </p:nvCxnSpPr>
        <p:spPr>
          <a:xfrm flipH="1">
            <a:off x="4381200" y="4571640"/>
            <a:ext cx="87696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5" idx="3"/>
            <a:endCxn id="304" idx="7"/>
          </p:cNvCxnSpPr>
          <p:nvPr/>
        </p:nvCxnSpPr>
        <p:spPr>
          <a:xfrm flipH="1">
            <a:off x="2693160" y="4494240"/>
            <a:ext cx="25164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06" idx="6"/>
            <a:endCxn id="305" idx="2"/>
          </p:cNvCxnSpPr>
          <p:nvPr/>
        </p:nvCxnSpPr>
        <p:spPr>
          <a:xfrm>
            <a:off x="2133360" y="4304880"/>
            <a:ext cx="610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3543480" y="2971800"/>
            <a:ext cx="167616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A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"/>
          <p:cNvCxnSpPr>
            <a:stCxn id="314" idx="4"/>
            <a:endCxn id="305" idx="0"/>
          </p:cNvCxnSpPr>
          <p:nvPr/>
        </p:nvCxnSpPr>
        <p:spPr>
          <a:xfrm flipH="1">
            <a:off x="3428640" y="3504960"/>
            <a:ext cx="953280" cy="533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16" name=""/>
          <p:cNvCxnSpPr>
            <a:stCxn id="308" idx="0"/>
            <a:endCxn id="314" idx="4"/>
          </p:cNvCxnSpPr>
          <p:nvPr/>
        </p:nvCxnSpPr>
        <p:spPr>
          <a:xfrm flipH="1" flipV="1">
            <a:off x="4381200" y="3504600"/>
            <a:ext cx="876960" cy="533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17" name=""/>
          <p:cNvSpPr/>
          <p:nvPr/>
        </p:nvSpPr>
        <p:spPr>
          <a:xfrm>
            <a:off x="5867280" y="5029200"/>
            <a:ext cx="13716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00800" y="4038480"/>
            <a:ext cx="1600200" cy="5335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(B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"/>
          <p:cNvCxnSpPr>
            <a:stCxn id="308" idx="5"/>
            <a:endCxn id="317" idx="1"/>
          </p:cNvCxnSpPr>
          <p:nvPr/>
        </p:nvCxnSpPr>
        <p:spPr>
          <a:xfrm>
            <a:off x="5742000" y="4494240"/>
            <a:ext cx="327600" cy="613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8" idx="2"/>
            <a:endCxn id="308" idx="6"/>
          </p:cNvCxnSpPr>
          <p:nvPr/>
        </p:nvCxnSpPr>
        <p:spPr>
          <a:xfrm flipH="1">
            <a:off x="5943240" y="4304880"/>
            <a:ext cx="457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533880" y="240192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t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rkov Logic Network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LN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empl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ground Markov n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ability of a world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yp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ariables and constants greatly reduce size of ground Markov 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ctions, existential quantifier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inite and continuous dom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78440" y="2827440"/>
            <a:ext cx="73656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2827440"/>
            <a:ext cx="2541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97880" y="3733920"/>
            <a:ext cx="208440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61280" y="3733920"/>
            <a:ext cx="405072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formu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191120" y="3276720"/>
            <a:ext cx="533160" cy="457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5181480" y="3262320"/>
            <a:ext cx="152640" cy="4716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057400" y="2438280"/>
                <a:ext cx="391644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Relation to Statistical Model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 cas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ov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ov random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yesian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-linear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onential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. entropy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bbs distrib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ltzmann mach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stic regre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dden Markov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tional random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tained by making all predicates zero-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ov logic allows objects to be interdependent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non-i.i.d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Relation to First-Order Logic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45820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inite weights 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-order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isfiable KB, positive weights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isfying assignments = Modes of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 allows contradictions between formul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029200" y="4191120"/>
            <a:ext cx="1905120" cy="6094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24080" y="4191120"/>
            <a:ext cx="1447920" cy="609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P/MPE Infer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nd most likely state of world given 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438280" y="2971800"/>
                <a:ext cx="32799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3202200" y="4191120"/>
            <a:ext cx="1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05160" y="4191120"/>
            <a:ext cx="1748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419720" y="3657600"/>
            <a:ext cx="380880" cy="533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5410080" y="3581280"/>
            <a:ext cx="457200" cy="60984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I: The First 100 Year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523880" y="1676160"/>
            <a:ext cx="0" cy="3733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5410080"/>
            <a:ext cx="5486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2286000"/>
            <a:ext cx="5257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0" y="17524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36120" y="1882800"/>
            <a:ext cx="19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523880" y="5029200"/>
            <a:ext cx="5181840" cy="3808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9800" y="4419720"/>
            <a:ext cx="19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ti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28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792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360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P/MPE Infer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nd most likely state of world given 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523880" y="2819520"/>
                <a:ext cx="568188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</m:lim>
                    </m:limLow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P/MPE Infer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nd most likely state of world given 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2209680" y="2971800"/>
                <a:ext cx="42814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y</m:t>
                        </m:r>
                      </m:lim>
                    </m:limLow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P/MPE Infer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ind most likely state of world given ev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just the weighted MaxSAT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weighted SAT solver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e.g., MaxWalkS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Kautz et al., 1997]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tentially faster than logical inference (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209680" y="2743200"/>
                <a:ext cx="428004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y</m:t>
                        </m:r>
                      </m:lim>
                    </m:limLow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he WalkSAT Algorithm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3640" y="1488960"/>
            <a:ext cx="7102440" cy="448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-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andom truth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-fli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lauses satisfi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dom unsatisfied cl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a random variabl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variabl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maxim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atisfied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he MaxWalkSAT Algorithm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3640" y="1488960"/>
            <a:ext cx="7102440" cy="448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-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andom truth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x-fli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Arial"/>
              </a:rPr>
              <a:t>∑ weights(sat. clauses) &gt; thresh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dom unsatisfied cl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a random variabl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variabl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maxim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∑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ights(sat. claus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ilure, be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But … Memory Explos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Problem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sta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the highest clause arity i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und network requir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(n  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emory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Solution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oit sparseness; ground clauses lazily</a:t>
            </a:r>
            <a:br>
              <a:rPr sz="3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LazySAT algorith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Singla &amp; Domingos, 200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3266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omputing Probabiliti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ormul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MLN,C) =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CMC: Sample worlds, check formula hol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ormula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Formula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MLN,C) =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Formula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Conjunction of ground at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construct min subset of network necessary to answer query (generalization of KBM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 apply MCMC (or oth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also do lifted infer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Braz et al, 200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Ground Network Construc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57040" y="1676520"/>
            <a:ext cx="6543720" cy="420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ue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query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nt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ueu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ot in evidenc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neighbors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to queue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queue =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CMC: Gibbs Sampling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9120" y="1981080"/>
            <a:ext cx="7743960" cy="283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andom truth assig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um-sampl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 eac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ariable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x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ccording to P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eighb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 new value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action of states in which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But … Insufficient for Logic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Problem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erministic dependencies break MCMC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ar-deterministic ones make it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very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low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Solution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e MCMC and WalkSAT</a:t>
            </a:r>
            <a:br>
              <a:rPr sz="3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C-SAT algorithm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Poon &amp; Domingos, 200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I: The First 100 Year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523880" y="1676160"/>
            <a:ext cx="0" cy="3733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5410080"/>
            <a:ext cx="5486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2286000"/>
            <a:ext cx="5257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3200" y="17524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36120" y="1882800"/>
            <a:ext cx="19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523880" y="5181120"/>
            <a:ext cx="266724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9800" y="3505320"/>
            <a:ext cx="19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ti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28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792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60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191120" y="3962520"/>
            <a:ext cx="2514600" cy="12189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Learning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a relationa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osed world assumption (if not: E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parameters (weight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tiv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riminativ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structure (formula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410080" y="3429000"/>
            <a:ext cx="1600200" cy="504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91120" y="3429000"/>
            <a:ext cx="914400" cy="504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Generative Weight Learning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ximize likelih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gradient ascent or L-BF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local max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s inference at each step (slow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233360" y="4495680"/>
            <a:ext cx="427716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claus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749400" y="5029200"/>
            <a:ext cx="515052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no. true groundings according to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495680" y="3962160"/>
            <a:ext cx="152640" cy="53316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6248160" y="3962160"/>
            <a:ext cx="609480" cy="10666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676520" y="3276720"/>
                <a:ext cx="52671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Pseudo-Likelihood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kelihood of each variable given its neighbors in the data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Besag, 197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not require inference at each st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ent estim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dely used in vision, spatial statistics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PL parameters may not work well for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 inference cha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1482840" y="1828800"/>
                <a:ext cx="60246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L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≡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neighbor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486400" y="3048120"/>
            <a:ext cx="198108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3048120"/>
            <a:ext cx="121896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22400"/>
            <a:ext cx="7620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iscriminative Weight Learning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ximize conditional likelihood of query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given evidenc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roximate expected counts by counts in MAP stat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iv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080720" y="4114800"/>
            <a:ext cx="4277160" cy="368280"/>
          </a:xfrm>
          <a:prstGeom prst="rect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 of true groundings of claus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596760" y="4648320"/>
            <a:ext cx="5150520" cy="3682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no. true groundings according to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343400" y="3657600"/>
            <a:ext cx="152280" cy="4572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6172200" y="3657600"/>
            <a:ext cx="533520" cy="9907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914400" y="2895480"/>
                <a:ext cx="6475320" cy="9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46440" y="3581280"/>
            <a:ext cx="6973200" cy="2630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MAP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iterbi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coun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coun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Voted Perceptr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iginally proposed for training HMMs discriminative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Collins, 200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umes network is linear ch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952880" y="396252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562720" y="396252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72200" y="396252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81680" y="396252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52880" y="449568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62720" y="449568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72200" y="449568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81680" y="449568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91320" y="40384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181480" y="40384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00800" y="40384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05520" y="4191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715000" y="4191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324480" y="4191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191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946440" y="3581280"/>
            <a:ext cx="6973200" cy="2630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0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cc3300"/>
                </a:solidFill>
                <a:latin typeface="Arial"/>
              </a:rPr>
              <a:t>MAP</a:t>
            </a:r>
            <a:r>
              <a:rPr b="0" i="1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 MaxWalkSAT(</a:t>
            </a:r>
            <a:r>
              <a:rPr b="0" i="1" lang="en-US" sz="3000" spc="-1" strike="noStrike">
                <a:solidFill>
                  <a:srgbClr val="cc33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coun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– coun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∑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Voted Perceptron for MLN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MMs are special case of ML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lace Viterbi by MaxWalkS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can now be arbitrary 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943600" y="480060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324480" y="426708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67280" y="380988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934320" y="4267080"/>
            <a:ext cx="228600" cy="2286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562720" y="426708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29400" y="373392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629400" y="480060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91520" y="4800600"/>
            <a:ext cx="228600" cy="228600"/>
          </a:xfrm>
          <a:prstGeom prst="ellipse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791320" y="43434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95880" y="3962520"/>
            <a:ext cx="30492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162920" y="441972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6477120" y="3962520"/>
            <a:ext cx="2286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781680" y="3962520"/>
            <a:ext cx="2286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781680" y="449532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6476760" y="4495320"/>
            <a:ext cx="2286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095880" y="4495320"/>
            <a:ext cx="30492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15000" y="4495680"/>
            <a:ext cx="30492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tructure Learning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izes feature induction in Markov n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inductive logic programming approach can be used, but . .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 is to induce any clauses, not just Ho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tion function should be likelih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s learning weights for each candi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rns out not to be bottlene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tleneck is counting clause grou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tion: Subsamp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tructure Learning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itial stat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nit clauses or hand-coded 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perator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dd/remove literal, flip 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aluation function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eudo-likelihood + Structure pri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arc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a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Kok &amp; Domingos, 200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st-fir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Kok &amp; Domingos, 200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tom-u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Mihalkova &amp; Mooney, 2007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I: The First 100 Year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523880" y="1676160"/>
            <a:ext cx="0" cy="3733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5410080"/>
            <a:ext cx="5486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2286000"/>
            <a:ext cx="525780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3200" y="17524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36120" y="1882800"/>
            <a:ext cx="19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523880" y="5181120"/>
            <a:ext cx="2667240" cy="2286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26280" y="990720"/>
            <a:ext cx="198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ti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928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792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36080" y="54864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191120" y="4571640"/>
            <a:ext cx="1295280" cy="6094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486400" y="1905120"/>
            <a:ext cx="1295280" cy="26668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1302"/>
                </a:solidFill>
                <a:latin typeface="Arial"/>
              </a:rPr>
              <a:t>Alchemy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-source software includ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 first-order logic synta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tive &amp; discriminative weight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ure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ghted satisfiability and MCM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ming language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679400" y="5334120"/>
            <a:ext cx="523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alchemy.cs.washington.e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914400" y="762120"/>
          <a:ext cx="7391520" cy="5333760"/>
        </p:xfrm>
        <a:graphic>
          <a:graphicData uri="http://schemas.openxmlformats.org/drawingml/2006/table">
            <a:tbl>
              <a:tblPr/>
              <a:tblGrid>
                <a:gridCol w="2057400"/>
                <a:gridCol w="2210040"/>
                <a:gridCol w="1600200"/>
                <a:gridCol w="1523880"/>
              </a:tblGrid>
              <a:tr h="77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hem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lo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-a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O. Logic + Markov ne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n claus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es ne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ere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check- ing, MC-SA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orem prov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bbs sampl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s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structur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ertain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on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pplication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extraction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ity re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 pred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ective class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 m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language proces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ational bi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network analy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bot mapp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ty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ilistic Cy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44920" y="5257800"/>
            <a:ext cx="705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Markov logic approach won LLL-2005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ion competition [Riedel &amp; Klein, 200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Information Extrac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050840" y="20988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752480"/>
            <a:ext cx="794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 Singla and Pedro Domingos, “Memory-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ional Domains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AAI-06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a, P., &amp; Domingos, P. (2006). Memory-effi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onal domains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p. 500-505). Boston, MA: AAAI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Poon &amp; P. Domingos, Sound and Efficient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stic and Deterministic Dependencies”,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. AAAI-06, Boston, M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 Hoifung (2006). Efficent inference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5791320"/>
            <a:ext cx="65530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181480" y="5486400"/>
            <a:ext cx="221004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5486400"/>
            <a:ext cx="2057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5486400"/>
            <a:ext cx="12193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876920"/>
            <a:ext cx="16765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4572000"/>
            <a:ext cx="5715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505320" y="4267080"/>
            <a:ext cx="3429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426708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4267080"/>
            <a:ext cx="9907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" y="3352680"/>
            <a:ext cx="6553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495680" y="3048120"/>
            <a:ext cx="221004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" y="3048120"/>
            <a:ext cx="350532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0" y="27432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133720" y="2743200"/>
            <a:ext cx="16002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2743200"/>
            <a:ext cx="11430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495680" y="21337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2133720"/>
            <a:ext cx="36576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876920" y="18288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1828800"/>
            <a:ext cx="1981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82880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egmenta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050840" y="20988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1752480"/>
            <a:ext cx="794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 Singla and Pedro Domingos, “Memory-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ional Domains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AAI-06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a, P., &amp; Domingos, P. (2006). Memory-effi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onal domains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p. 500-505). Boston, MA: AAAI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Poon &amp; P. Domingos, Sound and Efficient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stic and Deterministic Dependencies”,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. AAAI-06, Boston, M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 Hoifung (2006). Efficent inference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334120" y="228600"/>
            <a:ext cx="30456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334120" y="685800"/>
            <a:ext cx="30456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334120" y="114300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17160" y="1522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717520" y="6094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702400" y="11066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685800" y="5791320"/>
            <a:ext cx="65530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81480" y="5486400"/>
            <a:ext cx="221004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5486400"/>
            <a:ext cx="2057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5486400"/>
            <a:ext cx="12193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5800" y="4876920"/>
            <a:ext cx="16765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4572000"/>
            <a:ext cx="5715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505320" y="4267080"/>
            <a:ext cx="3429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05120" y="426708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4267080"/>
            <a:ext cx="9907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3352680"/>
            <a:ext cx="6553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495680" y="3048120"/>
            <a:ext cx="221004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3048120"/>
            <a:ext cx="350532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0" y="27432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743200"/>
            <a:ext cx="16002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2743200"/>
            <a:ext cx="11430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495680" y="21337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133720"/>
            <a:ext cx="36576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876920" y="18288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666880" y="1828800"/>
            <a:ext cx="1981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182880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Entity Resolu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050840" y="20988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1752480"/>
            <a:ext cx="794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 Singla and Pedro Domingos, “Memory-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ional Domains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AAI-06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a, P., &amp; Domingos, P. (2006). Memory-effi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onal domains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p. 500-505). Boston, MA: AAAI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Poon &amp; P. Domingos, Sound and Efficient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stic and Deterministic Dependencies”,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. AAAI-06, Boston, M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 Hoifung (2006). Efficent inference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65530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640080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620120" y="4343400"/>
            <a:ext cx="927000" cy="1143000"/>
          </a:xfrm>
          <a:custGeom>
            <a:avLst/>
            <a:gdLst/>
            <a:ahLst/>
            <a:rect l="l" t="t" r="r" b="b"/>
            <a:pathLst>
              <a:path w="584" h="720">
                <a:moveTo>
                  <a:pt x="0" y="0"/>
                </a:moveTo>
                <a:cubicBezTo>
                  <a:pt x="284" y="156"/>
                  <a:pt x="568" y="312"/>
                  <a:pt x="576" y="432"/>
                </a:cubicBezTo>
                <a:cubicBezTo>
                  <a:pt x="584" y="552"/>
                  <a:pt x="136" y="672"/>
                  <a:pt x="48" y="72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1295280" y="1981080"/>
            <a:ext cx="7632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590560" y="1981080"/>
            <a:ext cx="99036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2209320" y="2895480"/>
            <a:ext cx="381240" cy="15242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362320" y="1981080"/>
            <a:ext cx="1371600" cy="2362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4419720"/>
            <a:ext cx="75960" cy="12189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3885840" y="4572000"/>
            <a:ext cx="228600" cy="10666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2286000"/>
            <a:ext cx="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572000" y="2286000"/>
            <a:ext cx="457200" cy="1219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2209680" y="3505320"/>
            <a:ext cx="2286000" cy="14475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4647960" y="2286000"/>
            <a:ext cx="609480" cy="35812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4419360" y="3505320"/>
            <a:ext cx="152280" cy="23619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057400" y="5029200"/>
            <a:ext cx="2286000" cy="9907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057400" y="2286000"/>
            <a:ext cx="2819520" cy="26668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685800" y="5791320"/>
            <a:ext cx="655308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181480" y="5486400"/>
            <a:ext cx="221004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819520" y="5486400"/>
            <a:ext cx="2057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5486400"/>
            <a:ext cx="12193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4876920"/>
            <a:ext cx="16765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4572000"/>
            <a:ext cx="5715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05320" y="4267080"/>
            <a:ext cx="3429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05120" y="426708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85800" y="4267080"/>
            <a:ext cx="99072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3352680"/>
            <a:ext cx="655308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495680" y="3048120"/>
            <a:ext cx="221004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3048120"/>
            <a:ext cx="350532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0" y="27432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2743200"/>
            <a:ext cx="16002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2743200"/>
            <a:ext cx="114300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21337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" y="2133720"/>
            <a:ext cx="36576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876920" y="1828800"/>
            <a:ext cx="19810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666880" y="1828800"/>
            <a:ext cx="1981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85800" y="1828800"/>
            <a:ext cx="15238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Entity Resolu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050840" y="2098800"/>
            <a:ext cx="18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1752480"/>
            <a:ext cx="7940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g Singla and Pedro Domingos, “Memory-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ional Domains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AAI-06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a, P., &amp; Domingos, P. (2006). Memory-effi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ence in relatonal domains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p. 500-505). Boston, MA: AAAI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Poon &amp; P. Domingos, Sound and Efficient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stic and Deterministic Dependencies”,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. AAAI-06, Boston, MA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 Hoifung (2006). Efficent inference. In Proceeding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nty-First National Conference on Artificial Intellig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65530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" y="6400800"/>
            <a:ext cx="1295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20120" y="4343400"/>
            <a:ext cx="927000" cy="1143000"/>
          </a:xfrm>
          <a:custGeom>
            <a:avLst/>
            <a:gdLst/>
            <a:ahLst/>
            <a:rect l="l" t="t" r="r" b="b"/>
            <a:pathLst>
              <a:path w="584" h="720">
                <a:moveTo>
                  <a:pt x="0" y="0"/>
                </a:moveTo>
                <a:cubicBezTo>
                  <a:pt x="284" y="156"/>
                  <a:pt x="568" y="312"/>
                  <a:pt x="576" y="432"/>
                </a:cubicBezTo>
                <a:cubicBezTo>
                  <a:pt x="584" y="552"/>
                  <a:pt x="136" y="672"/>
                  <a:pt x="48" y="72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295280" y="1981080"/>
            <a:ext cx="7632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590560" y="1981080"/>
            <a:ext cx="99036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2209320" y="2895480"/>
            <a:ext cx="381240" cy="15242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2362320" y="1981080"/>
            <a:ext cx="1371600" cy="2362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219320" y="4419720"/>
            <a:ext cx="75960" cy="12189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3885840" y="4572000"/>
            <a:ext cx="228600" cy="10666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981080" y="2286000"/>
            <a:ext cx="0" cy="91440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572000" y="2286000"/>
            <a:ext cx="457200" cy="1219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2209680" y="3505320"/>
            <a:ext cx="2286000" cy="14475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4647960" y="2286000"/>
            <a:ext cx="609480" cy="35812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419360" y="3505320"/>
            <a:ext cx="152280" cy="236196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057400" y="5029200"/>
            <a:ext cx="2286000" cy="9907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2057400" y="2286000"/>
            <a:ext cx="2819520" cy="26668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18357600">
            <a:off x="7048440" y="4304880"/>
            <a:ext cx="1371600" cy="1447920"/>
          </a:xfrm>
          <a:custGeom>
            <a:avLst/>
            <a:gdLst>
              <a:gd name="textAreaLeft" fmla="*/ 333720 w 1371600"/>
              <a:gd name="textAreaRight" fmla="*/ 1176120 w 1371600"/>
              <a:gd name="textAreaTop" fmla="*/ 982080 h 1447920"/>
              <a:gd name="textAreaBottom" fmla="*/ 12416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6586"/>
                </a:moveTo>
                <a:lnTo>
                  <a:pt x="5258" y="11571"/>
                </a:lnTo>
                <a:lnTo>
                  <a:pt x="5258" y="14652"/>
                </a:lnTo>
                <a:lnTo>
                  <a:pt x="14652" y="14652"/>
                </a:lnTo>
                <a:lnTo>
                  <a:pt x="14652" y="5258"/>
                </a:lnTo>
                <a:lnTo>
                  <a:pt x="11571" y="5258"/>
                </a:lnTo>
                <a:lnTo>
                  <a:pt x="16586" y="0"/>
                </a:lnTo>
                <a:lnTo>
                  <a:pt x="21600" y="5258"/>
                </a:lnTo>
                <a:lnTo>
                  <a:pt x="18519" y="5258"/>
                </a:lnTo>
                <a:lnTo>
                  <a:pt x="18519" y="18519"/>
                </a:lnTo>
                <a:lnTo>
                  <a:pt x="5258" y="18519"/>
                </a:lnTo>
                <a:lnTo>
                  <a:pt x="5258" y="21600"/>
                </a:lnTo>
                <a:close/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18357600">
            <a:off x="6819840" y="2018880"/>
            <a:ext cx="1371600" cy="1447920"/>
          </a:xfrm>
          <a:custGeom>
            <a:avLst/>
            <a:gdLst>
              <a:gd name="textAreaLeft" fmla="*/ 333720 w 1371600"/>
              <a:gd name="textAreaRight" fmla="*/ 1176120 w 1371600"/>
              <a:gd name="textAreaTop" fmla="*/ 982080 h 1447920"/>
              <a:gd name="textAreaBottom" fmla="*/ 12416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6586"/>
                </a:moveTo>
                <a:lnTo>
                  <a:pt x="5258" y="11571"/>
                </a:lnTo>
                <a:lnTo>
                  <a:pt x="5258" y="14652"/>
                </a:lnTo>
                <a:lnTo>
                  <a:pt x="14652" y="14652"/>
                </a:lnTo>
                <a:lnTo>
                  <a:pt x="14652" y="5258"/>
                </a:lnTo>
                <a:lnTo>
                  <a:pt x="11571" y="5258"/>
                </a:lnTo>
                <a:lnTo>
                  <a:pt x="16586" y="0"/>
                </a:lnTo>
                <a:lnTo>
                  <a:pt x="21600" y="5258"/>
                </a:lnTo>
                <a:lnTo>
                  <a:pt x="18519" y="5258"/>
                </a:lnTo>
                <a:lnTo>
                  <a:pt x="18519" y="18519"/>
                </a:lnTo>
                <a:lnTo>
                  <a:pt x="5258" y="18519"/>
                </a:lnTo>
                <a:lnTo>
                  <a:pt x="5258" y="21600"/>
                </a:lnTo>
                <a:close/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tate of the Ar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MM (or CRF) to assign each token to a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ity re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istic regression to predict same field/ci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itive clos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chemy implementation: Seven formul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ypes and Predicat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35320" y="1981080"/>
            <a:ext cx="6276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 = {Parag, Singla, and, Pedro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eld = {Author, Title, Ven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tation = {C1, C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= {0, 1, 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token, posi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position, field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ield, 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5438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Logical and Statistical AI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" y="1295280"/>
          <a:ext cx="7620120" cy="5029200"/>
        </p:xfrm>
        <a:graphic>
          <a:graphicData uri="http://schemas.openxmlformats.org/drawingml/2006/table">
            <a:tbl>
              <a:tblPr/>
              <a:tblGrid>
                <a:gridCol w="2622600"/>
                <a:gridCol w="2406600"/>
                <a:gridCol w="2590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al appro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cal appro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 repres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-order log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al mode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ed reaso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iability te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ov chain Monte Car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ine lear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ctive logic programm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ral networ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cal plan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ov decision proc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al langu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e clause gramm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. context-free gramm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457200" y="1981080"/>
            <a:ext cx="6400800" cy="1371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ypes and Predicat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5320" y="1981080"/>
            <a:ext cx="6276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 = {Parag, Singla, and, Pedro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eld = {Author, Title, Venue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tation = {C1, C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= {0, 1, 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token, posi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position, field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ield, 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937200" y="24382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457200" y="3505320"/>
            <a:ext cx="5181480" cy="4572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ypes and Predicat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76160" y="35053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5715000" y="37339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5320" y="1981080"/>
            <a:ext cx="6276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 = {Parag, Singla, and, Pedro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eld = {Author, Title, Ven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tation = {C1, C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= {0, 1, 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token, posi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position, field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ield, 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457200" y="3809880"/>
            <a:ext cx="5791320" cy="10670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35320" y="1981080"/>
            <a:ext cx="6276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 = {Parag, Singla, and, Pedro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eld = {Author, Title, Venu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tation = {C1, C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tion = {0, 1, 2, 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token, posi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position, field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ield, 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itation, ci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ypes and Predicat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9440" y="4114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375240" y="4343400"/>
            <a:ext cx="489240" cy="3240"/>
          </a:xfrm>
          <a:custGeom>
            <a:avLst/>
            <a:gdLst/>
            <a:ahLst/>
            <a:rect l="l" t="t" r="r" b="b"/>
            <a:pathLst>
              <a:path w="308" h="2">
                <a:moveTo>
                  <a:pt x="308" y="0"/>
                </a:moveTo>
                <a:lnTo>
                  <a:pt x="0" y="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535320" y="1981080"/>
            <a:ext cx="7648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457200" y="1981080"/>
            <a:ext cx="518148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35320" y="1981080"/>
            <a:ext cx="7648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57200" y="2286000"/>
            <a:ext cx="594360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5320" y="1981080"/>
            <a:ext cx="7648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457200" y="2590920"/>
            <a:ext cx="777240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5320" y="1981080"/>
            <a:ext cx="7648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457200" y="3276720"/>
            <a:ext cx="7772400" cy="7617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35320" y="1981080"/>
            <a:ext cx="7648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457200" y="3886200"/>
            <a:ext cx="579132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35320" y="1981080"/>
            <a:ext cx="7648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457200" y="4191120"/>
            <a:ext cx="7467480" cy="10666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35320" y="1981080"/>
            <a:ext cx="76482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We Need to Unify the Two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al world is complex and uncert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ic handles complex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ability handles uncertain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457200" y="2286000"/>
            <a:ext cx="8534520" cy="457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35320" y="1981080"/>
            <a:ext cx="856260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=&gt; InField(i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Field(i,+f,c)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^ !Token(“.”,i,c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&lt;=&gt; InField(i+1,+f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!= f’ =&gt; (!InField(i,+f,c) v !InField(i,+f’,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(+t,i,c) ^ InField(i,+f,c) ^ Token(+t,i’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 InField(i’,+f,c’) =&gt; SameField(+f,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+f,c,c’) &lt;=&gt; SameCit(c,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Field(f,c,c’) ^ SameField(f,c’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&gt; SameField(f,c,c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meCit(c,c’) ^ SameCit(c’,c”) =&gt; SameCit(c,c”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69644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Results: Segmentation on Cora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-914400" y="1501920"/>
          <a:ext cx="10287000" cy="54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14400" y="1501920"/>
                    <a:ext cx="102870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Results:</a:t>
            </a:r>
            <a:br>
              <a:rPr sz="3900"/>
            </a:b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tching Venues on Cora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-762120" y="1503360"/>
          <a:ext cx="10134720" cy="53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2120" y="1503360"/>
                    <a:ext cx="1013472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Discu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The Interface Layer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Networking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876920" y="345600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946840" y="5029200"/>
            <a:ext cx="152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60840" y="4572000"/>
            <a:ext cx="18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71440" y="166536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157800" y="20462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atabas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90400" y="350532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ion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508200" y="5181480"/>
            <a:ext cx="233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024600" y="4343400"/>
            <a:ext cx="235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15680" y="1589040"/>
            <a:ext cx="9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803480" y="2514600"/>
            <a:ext cx="11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616800" y="1893960"/>
            <a:ext cx="9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Programming System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731400" y="3505320"/>
            <a:ext cx="45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Level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584160" y="44197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97680" y="4724280"/>
            <a:ext cx="20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252320" y="192096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84760" y="350532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-Order Log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Progress to Dat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ilistic logi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Nilsson, 1986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stics and belief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Halpern, 1990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-based model construction</a:t>
            </a:r>
            <a:br>
              <a:rPr sz="26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Wellman et al., 1992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chastic logic program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Muggleton, 1996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ilistic relational model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Friedman et al., 1999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onal Markov network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Taskar et al., 2002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c1302"/>
                </a:solidFill>
                <a:latin typeface="Arial"/>
              </a:rPr>
              <a:t>This talk: Markov logi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Richardson &amp; Domingos, 2004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85120" y="3505320"/>
            <a:ext cx="38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phical Mode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5000" y="35053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fac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886200" y="350532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ov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rtificial Intelligenc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09480" y="3429000"/>
            <a:ext cx="7848720" cy="76212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65360" y="3505320"/>
            <a:ext cx="635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chemy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hemy.cs.washington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89760" y="20574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688680" y="495288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81400" y="43434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956480" y="5562720"/>
            <a:ext cx="168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480000" y="487692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955760" y="20574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175800" y="129528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557400" y="2133720"/>
            <a:ext cx="21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-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507840" y="26668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975760" y="152388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rkov Logic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00100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Syntax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eighted first-order formul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Semantic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emplates for Markov ne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Inferenc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alkSAT, MCMC, KBM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Learning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oted perceptron, pseudo-likelihood, inductive logic program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Software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lche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c1302"/>
                </a:solidFill>
                <a:latin typeface="Arial"/>
              </a:rPr>
              <a:t>Applications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formation extraction, link prediction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07:43:43Z</dcterms:created>
  <dc:creator>Pedro Domingos</dc:creator>
  <dc:description/>
  <dc:language>en-US</dc:language>
  <cp:lastModifiedBy>Pedro Domingos</cp:lastModifiedBy>
  <dcterms:modified xsi:type="dcterms:W3CDTF">2007-10-18T18:16:58Z</dcterms:modified>
  <cp:revision>1574</cp:revision>
  <dc:subject/>
  <dc:title>Learning, Logic, and Probability: A Unified View</dc:title>
</cp:coreProperties>
</file>