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86b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86b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311120" y="1446120"/>
            <a:ext cx="6616800" cy="0"/>
          </a:xfrm>
          <a:prstGeom prst="line">
            <a:avLst/>
          </a:prstGeom>
          <a:ln w="12600">
            <a:solidFill>
              <a:srgbClr val="d59e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1417680"/>
            <a:ext cx="6782040" cy="0"/>
          </a:xfrm>
          <a:prstGeom prst="line">
            <a:avLst/>
          </a:prstGeom>
          <a:ln w="12600">
            <a:solidFill>
              <a:srgbClr val="d59e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27280" y="6613560"/>
            <a:ext cx="20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rtin Tompa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ret Codes</a:t>
            </a:r>
            <a:r>
              <a:rPr b="1" lang="en-US" sz="2800" spc="-1" strike="noStrike">
                <a:solidFill>
                  <a:srgbClr val="886b24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forgeable Signatures</a:t>
            </a:r>
            <a:r>
              <a:rPr b="1" lang="en-US" sz="2800" spc="-1" strike="noStrike">
                <a:solidFill>
                  <a:srgbClr val="886b24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886b2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in Flipping on the Phone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Martin Tompa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Computer Science &amp; Engineering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University of Washington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Receiver’s Set-Up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oose 500-digit prime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each 2 more than a multiple of 3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, q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pq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1/3) (2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- 1)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- 1) + 1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s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/3) (2 </a:t>
            </a:r>
            <a:r>
              <a:rPr b="0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10 + 1) = 2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Receiver’s Set-Up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oose 500-digit prime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each 2 more than a multiple of 3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, q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pq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1/3) (2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- 1)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- 1) + 1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s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/3) (2 </a:t>
            </a:r>
            <a:r>
              <a:rPr b="0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fc0128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10 + 1) = 2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Publish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Keep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secret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Encrypting a Message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Break the message into chunk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   I      C   H   R   I   S 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Encrypting a Message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Break the message into chunk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   I      C   H   R   I   S 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Encrypting a Message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Break the message into chunk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   I      C   H   R   I   S 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ranslate each chunk into an integ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0 </a:t>
            </a:r>
            <a:r>
              <a:rPr b="0" i="1" lang="en-US" sz="2400" spc="-1" strike="noStrike" u="sng">
                <a:solidFill>
                  <a:srgbClr val="886b24"/>
                </a:solidFill>
                <a:uFillTx/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M &lt; 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) by any convenient metho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8    9     3    8   18    9   19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7339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536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733920"/>
            <a:ext cx="38088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733920"/>
            <a:ext cx="4572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Encrypting a Message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Break the message into chunk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   I      C   H   R   I   S 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ranslate each chunk into an integ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0 </a:t>
            </a:r>
            <a:r>
              <a:rPr b="0" i="1" lang="en-US" sz="2400" spc="-1" strike="noStrike" u="sng">
                <a:solidFill>
                  <a:srgbClr val="886b24"/>
                </a:solidFill>
                <a:uFillTx/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M &lt; 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) by any convenient metho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8    9     3    8   18    9   19   …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ivid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. 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(M)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is the remainder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M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8,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2000" spc="-1" strike="noStrike" baseline="30000">
                <a:solidFill>
                  <a:srgbClr val="fc012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= 512 =  9×55  + 1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8) = 1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7339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6536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733920"/>
            <a:ext cx="38088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4572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133720"/>
            <a:ext cx="30456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133720"/>
            <a:ext cx="30492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733920"/>
            <a:ext cx="228600" cy="304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Decrypting a Cyphertext C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ivid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. 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is the remainder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7,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 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,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 s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7</a:t>
            </a:r>
            <a:r>
              <a:rPr b="1" lang="en-US" sz="2000" spc="-1" strike="noStrike" baseline="30000">
                <a:solidFill>
                  <a:srgbClr val="fc0128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= 1,667,711,322,168,688,287,513,535,727,415,473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= 30,322,024,039,430,696,136,609,740,498,463 × 55 + 8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7) = 8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Decrypting a Cyphertext C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ivid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. 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is the remainder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7,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 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,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  s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7</a:t>
            </a:r>
            <a:r>
              <a:rPr b="1" lang="en-US" sz="2000" spc="-1" strike="noStrike" baseline="30000">
                <a:solidFill>
                  <a:srgbClr val="fc0128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= 1,667,711,322,168,688,287,513,535,727,415,473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= 30,322,024,039,430,696,136,609,740,498,463 × 55 + 8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7) = 8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ranslat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into letter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Does It Work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6b24"/>
                </a:solidFill>
                <a:latin typeface="Arial"/>
              </a:rPr>
              <a:t>Euler’s Theorem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1736):  Suppose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re distinct primes,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pq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0 </a:t>
            </a:r>
            <a:r>
              <a:rPr b="0" i="1" lang="en-US" sz="2400" spc="-1" strike="noStrike" u="sng">
                <a:solidFill>
                  <a:srgbClr val="886b24"/>
                </a:solidFill>
                <a:uFillTx/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&lt; n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&gt; 0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)(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)+1</a:t>
            </a:r>
            <a:r>
              <a:rPr b="1" lang="en-US" sz="2400" spc="-1" strike="noStrike" baseline="30000">
                <a:solidFill>
                  <a:srgbClr val="886b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s divided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the remainder i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Does It Work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6b24"/>
                </a:solidFill>
                <a:latin typeface="Arial"/>
              </a:rPr>
              <a:t>Euler’s Theorem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1736):  Suppose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re distinct primes,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pq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0 </a:t>
            </a:r>
            <a:r>
              <a:rPr b="0" i="1" lang="en-US" sz="2400" spc="-1" strike="noStrike" u="sng">
                <a:solidFill>
                  <a:srgbClr val="886b24"/>
                </a:solidFill>
                <a:uFillTx/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&lt; n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&gt; 0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)(</a:t>
            </a:r>
            <a:r>
              <a:rPr b="1" i="1" lang="en-US" sz="2400" spc="-1" strike="noStrike" baseline="30000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)+1</a:t>
            </a:r>
            <a:r>
              <a:rPr b="1" lang="en-US" sz="2400" spc="-1" strike="noStrike" baseline="30000">
                <a:solidFill>
                  <a:srgbClr val="886b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s divided b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the remainder i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(1/3)(2(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1)(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1)+1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          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= M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 2(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1)(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1)+1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ret Codes</a:t>
            </a: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Unforgeable Signatures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Coin Flipping on the Phone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Leonhard Euler 1707-1783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pic>
        <p:nvPicPr>
          <p:cNvPr id="173" name="Euler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414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Is It Secure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Is It Secure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Is It Secure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All the cryptanalyst has i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Is It Secure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All the cryptanalyst has i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hard is it to factor a 1000-digit numb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With the grade school method,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oing 1,000,000,000 steps per second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t would take …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y Is It Secure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(C)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To fi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, you seem to ne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All the cryptanalyst has i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hard is it to factor a 1000-digit numb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With the grade school method,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oing 1,000,000,000 steps per second 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t would take …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483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year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State of the Art in Factoring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77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Inventors encrypt a challenge using “RSA129,” a 129-digit numb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81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Pomerance invents Quadratic Sieve factoring metho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94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Using Quadratic Sieve, RSA129 is factored over 8 months using 1000 computers on the Internet around the worl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1999:  Using a new method, RSA140 is factored.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State of the Art in Factoring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77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Inventors encrypt a challenge using “RSA129,” a 129-digit numbe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q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81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Pomerance invents Quadratic Sieve factoring metho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94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:  Using Quadratic Sieve, RSA129 is factored over 8 months using 1000 computers on the Internet around the worl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1999:  Using a new method, RSA140 is factored.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Using Quadratic Sieve, a 250-digit number would tak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800,000,000 months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nstead of 8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Secret Codes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nforgeable Signatures</a:t>
            </a: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886b2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Coin Flipping on the Phone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Signed Messages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A sends a </a:t>
            </a:r>
            <a:r>
              <a:rPr b="0" lang="en-US" sz="2400" spc="-1" strike="noStrike">
                <a:solidFill>
                  <a:srgbClr val="f17a0d"/>
                </a:solidFill>
                <a:latin typeface="Arial"/>
              </a:rPr>
              <a:t>secret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message to 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D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312408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2040" y="2771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at Is a Cryptosystem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743200"/>
            <a:ext cx="17528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88240" y="2362320"/>
            <a:ext cx="141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35640" y="2362320"/>
            <a:ext cx="14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6720" y="2362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74320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2743200"/>
            <a:ext cx="15238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82880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684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78560" y="181764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76760" y="1676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Signed Messages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A sends a </a:t>
            </a:r>
            <a:r>
              <a:rPr b="0" lang="en-US" sz="2400" spc="-1" strike="noStrike">
                <a:solidFill>
                  <a:srgbClr val="f17a0d"/>
                </a:solidFill>
                <a:latin typeface="Arial"/>
              </a:rPr>
              <a:t>secret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message to 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D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A sends a </a:t>
            </a:r>
            <a:r>
              <a:rPr b="0" lang="en-US" sz="2400" spc="-1" strike="noStrike">
                <a:solidFill>
                  <a:srgbClr val="f17a0d"/>
                </a:solidFill>
                <a:latin typeface="Arial"/>
              </a:rPr>
              <a:t>signed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message to 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D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12408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2040" y="2771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410080"/>
            <a:ext cx="190512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6080" y="505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Signed </a:t>
            </a:r>
            <a:r>
              <a:rPr b="0" i="1" lang="en-US" sz="3200" spc="-1" strike="noStrike">
                <a:solidFill>
                  <a:srgbClr val="a07e2a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Secret Messages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A sends a secret message to B ..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C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M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M = D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ow A sends a sign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ret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message to B ..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C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M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12408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040" y="2771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5410080"/>
            <a:ext cx="190512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6080" y="5057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Secret Codes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Unforgeable Signatures,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6b24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886b2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in Flipping on the Phone</a:t>
            </a: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Flipping a Coin Over the Phone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oose random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Guess if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s even or odd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eck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B wins if the guess about 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was right, or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6b24"/>
                </a:solidFill>
                <a:latin typeface="Courier New"/>
              </a:rPr>
              <a:t>=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E</a:t>
            </a:r>
            <a:r>
              <a:rPr b="1" i="1" lang="en-US" sz="2400" spc="-1" strike="noStrike" baseline="-25000">
                <a:solidFill>
                  <a:srgbClr val="886b24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1096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03848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4600" y="3733920"/>
            <a:ext cx="90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6b2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886b24"/>
                </a:solidFill>
                <a:latin typeface="Arial"/>
              </a:rPr>
              <a:t>ev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86b24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886b24"/>
                </a:solidFill>
                <a:latin typeface="Arial"/>
              </a:rPr>
              <a:t>od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4952880"/>
            <a:ext cx="1904760" cy="0"/>
          </a:xfrm>
          <a:prstGeom prst="line">
            <a:avLst/>
          </a:prstGeom>
          <a:ln w="12600">
            <a:solidFill>
              <a:srgbClr val="886b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10960" y="464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58000" y="6019920"/>
            <a:ext cx="76320" cy="228600"/>
          </a:xfrm>
          <a:prstGeom prst="line">
            <a:avLst/>
          </a:prstGeom>
          <a:ln w="28440">
            <a:solidFill>
              <a:srgbClr val="886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at Is a Cryptosystem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581280"/>
            <a:ext cx="1828800" cy="862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anal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d gu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743200"/>
            <a:ext cx="17528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88240" y="2362320"/>
            <a:ext cx="141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35640" y="2362320"/>
            <a:ext cx="14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6720" y="2362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74320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743200"/>
            <a:ext cx="15238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743200"/>
            <a:ext cx="45720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cubicBezTo>
                  <a:pt x="12" y="96"/>
                  <a:pt x="24" y="192"/>
                  <a:pt x="48" y="240"/>
                </a:cubicBezTo>
                <a:cubicBezTo>
                  <a:pt x="72" y="288"/>
                  <a:pt x="112" y="304"/>
                  <a:pt x="144" y="288"/>
                </a:cubicBezTo>
                <a:cubicBezTo>
                  <a:pt x="176" y="272"/>
                  <a:pt x="208" y="176"/>
                  <a:pt x="240" y="144"/>
                </a:cubicBezTo>
                <a:cubicBezTo>
                  <a:pt x="272" y="112"/>
                  <a:pt x="304" y="88"/>
                  <a:pt x="336" y="96"/>
                </a:cubicBezTo>
                <a:cubicBezTo>
                  <a:pt x="368" y="104"/>
                  <a:pt x="400" y="120"/>
                  <a:pt x="432" y="192"/>
                </a:cubicBezTo>
                <a:cubicBezTo>
                  <a:pt x="464" y="264"/>
                  <a:pt x="512" y="472"/>
                  <a:pt x="528" y="528"/>
                </a:cubicBezTo>
              </a:path>
            </a:pathLst>
          </a:custGeom>
          <a:noFill/>
          <a:ln w="28440">
            <a:solidFill>
              <a:srgbClr val="fc012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182880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684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78560" y="181764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76760" y="1676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at Is a Cryptosystem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81280"/>
            <a:ext cx="1828800" cy="862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anal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d gu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743200"/>
            <a:ext cx="17528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8240" y="2362320"/>
            <a:ext cx="141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35640" y="2362320"/>
            <a:ext cx="14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6720" y="2362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74320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2743200"/>
            <a:ext cx="15238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64960" y="4876920"/>
            <a:ext cx="427716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C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Encryption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Plaintext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Cy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Clea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82880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684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181764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76760" y="1676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743200"/>
            <a:ext cx="45720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cubicBezTo>
                  <a:pt x="12" y="96"/>
                  <a:pt x="24" y="192"/>
                  <a:pt x="48" y="240"/>
                </a:cubicBezTo>
                <a:cubicBezTo>
                  <a:pt x="72" y="288"/>
                  <a:pt x="112" y="304"/>
                  <a:pt x="144" y="288"/>
                </a:cubicBezTo>
                <a:cubicBezTo>
                  <a:pt x="176" y="272"/>
                  <a:pt x="208" y="176"/>
                  <a:pt x="240" y="144"/>
                </a:cubicBezTo>
                <a:cubicBezTo>
                  <a:pt x="272" y="112"/>
                  <a:pt x="304" y="88"/>
                  <a:pt x="336" y="96"/>
                </a:cubicBezTo>
                <a:cubicBezTo>
                  <a:pt x="368" y="104"/>
                  <a:pt x="400" y="120"/>
                  <a:pt x="432" y="192"/>
                </a:cubicBezTo>
                <a:cubicBezTo>
                  <a:pt x="464" y="264"/>
                  <a:pt x="512" y="472"/>
                  <a:pt x="528" y="528"/>
                </a:cubicBezTo>
              </a:path>
            </a:pathLst>
          </a:custGeom>
          <a:noFill/>
          <a:ln w="28440">
            <a:solidFill>
              <a:srgbClr val="fc0128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What Is a </a:t>
            </a:r>
            <a:r>
              <a:rPr b="0" lang="en-US" sz="3200" spc="-1" strike="noStrike">
                <a:solidFill>
                  <a:srgbClr val="f17a0d"/>
                </a:solidFill>
                <a:latin typeface="Arial"/>
              </a:rPr>
              <a:t>Public Key</a:t>
            </a: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Cryptosystem?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286000"/>
            <a:ext cx="13716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581280"/>
            <a:ext cx="1828800" cy="862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anal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ad gu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743200"/>
            <a:ext cx="17528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88240" y="2362320"/>
            <a:ext cx="141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35640" y="2362320"/>
            <a:ext cx="14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6720" y="23623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74320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743200"/>
            <a:ext cx="15238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74240" y="4800600"/>
            <a:ext cx="6869520" cy="13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17a0d"/>
                </a:solidFill>
                <a:uFillTx/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f17a0d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17a0d"/>
                </a:solidFill>
                <a:uFillTx/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f17a0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pher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17a0d"/>
                </a:solidFill>
                <a:latin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82880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6840" y="16876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78560" y="1817640"/>
            <a:ext cx="0" cy="4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6760" y="167652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962160" y="2514600"/>
            <a:ext cx="15228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90960" y="1828800"/>
            <a:ext cx="15228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086240" y="2514600"/>
            <a:ext cx="15228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14240" y="1752480"/>
            <a:ext cx="15228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880" y="1828800"/>
            <a:ext cx="15264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19160" y="1828800"/>
            <a:ext cx="152280" cy="304920"/>
          </a:xfrm>
          <a:prstGeom prst="line">
            <a:avLst/>
          </a:prstGeom>
          <a:ln w="38160">
            <a:solidFill>
              <a:srgbClr val="f17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743200"/>
            <a:ext cx="45720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cubicBezTo>
                  <a:pt x="12" y="96"/>
                  <a:pt x="24" y="192"/>
                  <a:pt x="48" y="240"/>
                </a:cubicBezTo>
                <a:cubicBezTo>
                  <a:pt x="72" y="288"/>
                  <a:pt x="112" y="304"/>
                  <a:pt x="144" y="288"/>
                </a:cubicBezTo>
                <a:cubicBezTo>
                  <a:pt x="176" y="272"/>
                  <a:pt x="208" y="176"/>
                  <a:pt x="240" y="144"/>
                </a:cubicBezTo>
                <a:cubicBezTo>
                  <a:pt x="272" y="112"/>
                  <a:pt x="304" y="88"/>
                  <a:pt x="336" y="96"/>
                </a:cubicBezTo>
                <a:cubicBezTo>
                  <a:pt x="368" y="104"/>
                  <a:pt x="400" y="120"/>
                  <a:pt x="432" y="192"/>
                </a:cubicBezTo>
                <a:cubicBezTo>
                  <a:pt x="464" y="264"/>
                  <a:pt x="512" y="472"/>
                  <a:pt x="528" y="528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SA</a:t>
            </a: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 Public Key Cryptosystem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nvented 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ivest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amir,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dleman in 1977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Has proven resistant to all cryptanalytic attacks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Receiver’s Set-Up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oose 500-digit prime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each 2 more than a multiple of 3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, q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7e2a"/>
                </a:solidFill>
                <a:latin typeface="Arial"/>
              </a:rPr>
              <a:t>Receiver’s Set-Up</a:t>
            </a:r>
            <a:endParaRPr b="0" lang="en-US" sz="3200" spc="-1" strike="noStrike">
              <a:solidFill>
                <a:srgbClr val="a07e2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Choose 500-digit primes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 (each 2 more than a multiple of 3)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, q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bd7a"/>
              </a:buClr>
              <a:buSzPct val="80000"/>
              <a:buFont typeface="ZapfDingba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b24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886b24"/>
                </a:solidFill>
                <a:latin typeface="Arial"/>
              </a:rPr>
              <a:t> = pq.</a:t>
            </a:r>
            <a:endParaRPr b="0" lang="en-US" sz="2400" spc="-1" strike="noStrike">
              <a:solidFill>
                <a:srgbClr val="886b24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n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886b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6T08:54:28Z</dcterms:created>
  <dc:creator>Snyder</dc:creator>
  <dc:description/>
  <dc:language>en-US</dc:language>
  <cp:lastModifiedBy>Martin Tompa</cp:lastModifiedBy>
  <cp:lastPrinted>1999-12-03T20:57:41Z</cp:lastPrinted>
  <dcterms:modified xsi:type="dcterms:W3CDTF">1999-12-04T00:49:46Z</dcterms:modified>
  <cp:revision>153</cp:revision>
  <dc:subject/>
  <dc:title>Principles of ZPL</dc:title>
</cp:coreProperties>
</file>